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CD1-76AB-42DB-B1F4-A2AAFB00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9BF-6936-4A3F-87E9-B0A61967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3FB-340E-4851-9B3D-73B01E7A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AA2-B516-4637-A904-1D463BDF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BFED-5D42-4052-9DDF-185C51E7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7074-EF99-4F44-93F4-EBA1D75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20A7-816E-46B8-A841-5C954A6B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3A33-12BE-4CF8-92CE-C6FBBE96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847-477C-40AF-8166-A7B46BDC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906F-14C7-49D0-AC00-8351AF49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5E7C-02F9-4F39-B287-3FED67F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AF4-518B-4E32-A8CA-9233D4BA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DA3-706E-4C1C-82DF-6D32632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7B75-6D7B-48CD-BD86-95F069B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144-F73E-4F09-9941-9B79DAE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E469-63E0-47BB-8DA9-E62B1954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E230-380E-43F6-9DBC-924393FC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0AD-5177-47D4-A496-78B15350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906-A008-47DB-9D3D-F542D9FE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B78-9178-47C6-9835-A5ED2E61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1F1-F418-4273-8165-19596868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358-342C-49E3-99AD-241B7F9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334-EA7E-47BC-932B-0866E53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EC2-C179-4CAE-8DF2-AF60B31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8FA-B40D-45B4-9330-8B3D868895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FA48-8CF8-4D6B-8E3F-865A6D035E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 rtl="1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 rtl="1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99640" y="404640"/>
            <a:ext cx="720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391040" y="3079080"/>
            <a:ext cx="63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Analysis of fruit juices –</a:t>
            </a:r>
            <a:r>
              <a:rPr b="1" lang="en-GB" sz="4000" spc="-1" strike="noStrike">
                <a:solidFill>
                  <a:srgbClr val="cc0000"/>
                </a:solidFill>
                <a:latin typeface="Verdan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Method</a:t>
            </a: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rtl="1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0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sample into a graduated flask &amp; add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10% NaOH solution &amp;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2 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NaCl. Add sufficient water to bring the vol. up to about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50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let it stand for 30 min. with frequent shak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drops of ph.ph (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the color will chan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drops of HCL until the color change (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or disappea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then add excess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3 ml HC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into a separatory funn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25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chloro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 it sand for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30mi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ith frequent shak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fer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12.5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chloroform layer (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low lay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into a conical flask &amp; evaporate off the chloroform on a steam b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50ml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50%ethanol solu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trate with 0.05M NaOH using phenolphthalein(ph.ph) as indicat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culate the amount of sodium benzoate in the s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ml of 0.05M NaOH =0.0072 sodium benzo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titre ml of NaOH =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t of sodium benzoate(x) = ml * 0.0072</a:t>
            </a:r>
            <a:r>
              <a:rPr b="0" lang="ar-AE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sodium benzoate= wt sodium benzoate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/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t of sample *1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ormal range not exceed 0.13%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Verdana"/>
              </a:rPr>
              <a:t>Determination of total solid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nants of pulp &amp; other solids are easily determined gravimetricall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fter evaporation of water from a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know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eight of samp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olid present in juce includ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uga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organic acid &amp; pectin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ight a dry dis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 15ml of juice &amp; w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ce the dish &amp; its content on a  boiling water bath &amp; evaporate to drynes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ce the dish in an oven for 2h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t the dish in descicator to cool % weigh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907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Method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%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total soli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( wt of beaker after hea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_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t of empty beaker *1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t of sample(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8001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Objective</a:t>
            </a: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termine the acidity &amp; content of sodium benzoate &amp; total solids in samples of various fruit juic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Determination of total ac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cidity of natural fruit juices is the result mainly of their content of various organic acids.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or examp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most fruits contain the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tricarboxylic aci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itric aci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whereas grapes are rich in tartaric acid &amp; peaches, apricots &amp; plums in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malic ac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Both tartaric &amp; malic acids are dicaroxylic ac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rtaric acid  MW=150.0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alic acid    MW=134.0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tric acid    MW=192.4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cidity of fruit juice may be determined by simpl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direct titrat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0.1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odium hydroxide, using phenolphthalein (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h.p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as an indicat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Method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Verdana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ight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10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sample in conical flask &amp; add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50m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istilled wa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trate using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0.1M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OH &amp; phenolphthalein (ph.ph) as indicator</a:t>
            </a:r>
            <a:r>
              <a:rPr b="0" lang="ar-AE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ulate the total acidity of your fruit ju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citric acid= 0.1 x vol.of NaOH(ml) x 10-³ x 192.43/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Total acidity= wt of acid/wt of sample *1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0.39-1.1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Normal range for citric ac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99240" indent="0" rtl="1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c0000"/>
                </a:solidFill>
                <a:uFillTx/>
                <a:latin typeface="Verdana"/>
              </a:rPr>
              <a:t>Determination of sodium benzoa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dium benzoate (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6H5COO Na ,MW=14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) is a commonly used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reservati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ich is added to fruit juices to prevent the growth of microorganisms. When added in high conc., it affects the taste of ju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dium benzoate is usually 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permitted at a conc. Of up to 1.3g/l of juice</a:t>
            </a:r>
            <a:r>
              <a:rPr b="0" lang="en-US" sz="28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enzoate anion is not soluble in non-polar solvents because of its negative charge. However, in acid solution, benzoic acid is formed. This is neutral &amp; quite non-polar. Moreover, it is soluble in non-polar solvents, into which it may be extracted at acidic PH, 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i.e. well below the pka of the carboxyl group , which is 4.20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rtl="1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99"/>
                </a:solidFill>
                <a:latin typeface="Verdana"/>
              </a:rPr>
              <a:t>In this experiment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, benzoic  acid is extracted into chloroform, which is then removed by evaporation. After dissolving the residue in </a:t>
            </a:r>
            <a:r>
              <a:rPr b="0" lang="en-US" sz="3300" spc="-1" strike="noStrike">
                <a:solidFill>
                  <a:srgbClr val="cc0000"/>
                </a:solidFill>
                <a:latin typeface="Verdana"/>
              </a:rPr>
              <a:t>50% (v/v)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neutralized ethanol, the benzoic acid is titrated with 0.05M sodium hydroxide, using phenolphthalein as an indicator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1:14:51Z</dcterms:created>
  <dc:creator>USER 1</dc:creator>
  <dc:description/>
  <dc:language>en-US</dc:language>
  <cp:lastModifiedBy>USER 1</cp:lastModifiedBy>
  <dcterms:modified xsi:type="dcterms:W3CDTF">2009-03-28T09:34:11Z</dcterms:modified>
  <cp:revision>4</cp:revision>
  <dc:subject/>
  <dc:title>الشريحة 1</dc:title>
</cp:coreProperties>
</file>