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F43-7CDF-4D93-A6A0-1526889F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5CC-6895-4DCB-A339-958A3A85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7ED-BE36-4768-B8C3-4F23A9AE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449-15F4-4247-A579-32413232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A4FB-AB0E-45AE-ACB2-3BE20733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F89F-8BB4-427B-82DB-F3BDD479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4F55-4FF2-4BBD-BA09-56B85DCA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B79A-3C43-4EEF-A98E-545D3233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BD38-A381-4195-A59E-27B4FED8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4291-5617-47E9-9B0F-E7E0A792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E4C6-563C-4D60-86BD-C7635D2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8B5-6B8F-4691-9F82-7B1EF7D3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ED2A-706A-4837-A77E-9ECBA344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6D89-BF11-4F91-AF11-EFE47D8E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D3BC-0239-4842-A097-79920BC1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56BF-5FF4-41A8-9C2C-916869D9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4A4B-AB8C-4C9E-81FD-D394EC46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AC2-3DD7-46E7-ABFC-EEFD7F63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E2F-83A7-4FD4-929C-297A2D6C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170-DE97-49BB-854D-7B761FBF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6EA-C922-4450-82F4-7E37A08A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0D1-BCA7-46EC-91C8-BB2BA1CB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3FB-D64D-46AB-A065-8B9B302A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EA2-8789-440E-8E69-26E75046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7DE5-A7CE-41EB-B733-94DB32F834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CFE3-43EE-4A24-8D5C-D564CC732D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 rtl="1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 rtl="1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 rtl="1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899640" y="404640"/>
            <a:ext cx="720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391040" y="3079080"/>
            <a:ext cx="63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Analysis of fruit juices –</a:t>
            </a:r>
            <a:r>
              <a:rPr b="1" lang="en-GB" sz="4000" spc="-1" strike="noStrike">
                <a:solidFill>
                  <a:srgbClr val="cc0000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Method</a:t>
            </a: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rtl="1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ight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10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sample into a graduated flask &amp; add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1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10% NaOH solution &amp;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12 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NaCl. Add sufficient water to bring the vol. up to about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50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let it stand for 30 min. with frequent shak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 drops of ph.ph (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the color will chan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 drops of HCL until the color change (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or disappea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, then add excess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3 ml HC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fer into a separatory funn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25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chloro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 it sand for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30mi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with frequent shak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fer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12.5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the chloroform layer (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low lay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into a conical flask &amp; evaporate off the chloroform on a steam ba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50ml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50%ethanol solu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trate with 0.05M NaOH using phenolphthalein(ph.ph) as indicat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culate the amount of sodium benzoate in the samp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ml of 0.05M NaOH =0.0072 sodium benzo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titre ml of NaOH = 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t of sodium benzoate(x) = ml * 0.0072</a:t>
            </a:r>
            <a:r>
              <a:rPr b="0" lang="ar-AE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sodium benzoate= wt sodium benzoate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/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t of sample *10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Normal range not exceed 0.13%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Verdana"/>
              </a:rPr>
              <a:t>Determination of total solid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nants of pulp &amp; other solids are easily determined gravimetricall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fter evaporation of water from a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know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weight of samp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olid present in juce include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suga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,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organic acid &amp; pectin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ight a dry dis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d 15ml of juice &amp; we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ce the dish &amp; its content on a  boiling water bath &amp; evaporate to drynes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ce the dish in an oven for 2hr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t the dish in descicator to cool % weigh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9079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Method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%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total soli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( wt of beaker after hea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_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t of empty beaker *1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/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t of sample(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80010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6699"/>
                </a:solidFill>
                <a:uFillTx/>
                <a:latin typeface="Verdana"/>
              </a:rPr>
              <a:t>Objective</a:t>
            </a:r>
            <a:r>
              <a:rPr b="1" lang="en-US" sz="2600" spc="-1" strike="noStrike" u="sng">
                <a:solidFill>
                  <a:srgbClr val="336699"/>
                </a:solidFill>
                <a:uFillTx/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determine the acidity &amp; content of sodium benzoate &amp; total solids in samples of various fruit juic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6699"/>
                </a:solidFill>
                <a:uFillTx/>
                <a:latin typeface="Verdana"/>
              </a:rPr>
              <a:t>Determination of total acid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cidity of natural fruit juices is the result mainly of their content of various organic acids.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For examp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most fruits contain the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tricarboxylic aci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citric aci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whereas grapes are rich in tartaric acid &amp; peaches, apricots &amp; plums in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malic acid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Both tartaric &amp; malic acids are dicaroxylic acid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rtaric acid  MW=150.09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malic acid    MW=134.09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itric acid    MW=192.4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cidity of fruit juice may be determined by simple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direct titrati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0.1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odium hydroxide, using phenolphthalein (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ph.p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as an indicat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Verdana"/>
              </a:rPr>
              <a:t>Method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Verdana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ight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10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sample in conical flask &amp; add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50m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distilled wa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trate using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0.1M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OH &amp; phenolphthalein (ph.ph) as indicator</a:t>
            </a:r>
            <a:r>
              <a:rPr b="0" lang="ar-AE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ulate the total acidity of your fruit ju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citric acid= 0.1 x vol.of NaOH(ml) x 10-³ x 192.43/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otal acidity= wt of acid/wt of sample *1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0.39-1.1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Normal range for citric ac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c0000"/>
                </a:solidFill>
                <a:uFillTx/>
                <a:latin typeface="Verdana"/>
              </a:rPr>
              <a:t>Determination of sodium benzoa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dium benzoate (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C6H5COO Na ,MW=14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) is a commonly used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preservati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ich is added to fruit juices to prevent the growth of microorganisms. When added in high conc., it affects the taste of jui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dium benzoate is usually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permitted at a conc. Of up to 1.3g/l of juice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8001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enzoate anion is not soluble in non-polar solvents because of its negative charge. However, in acid solution, benzoic acid is formed. This is neutral &amp; quite non-polar. Moreover, it is soluble in non-polar solvents, into which it may be extracted at acidic PH, 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i.e. well below the pka of the carboxyl group , which is 4.20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Verdana"/>
              </a:rPr>
              <a:t>In this experimen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, benzoic  acid is extracted into chloroform, which is then removed by evaporation. After dissolving the residue in </a:t>
            </a:r>
            <a:r>
              <a:rPr b="0" lang="en-US" sz="3300" spc="-1" strike="noStrike">
                <a:solidFill>
                  <a:srgbClr val="cc0000"/>
                </a:solidFill>
                <a:latin typeface="Verdana"/>
              </a:rPr>
              <a:t>50% (v/v)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neutralized ethanol, the benzoic acid is titrated with 0.05M sodium hydroxide, using phenolphthalein as an indicator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1:14:51Z</dcterms:created>
  <dc:creator>USER 1</dc:creator>
  <dc:description/>
  <dc:language>en-US</dc:language>
  <cp:lastModifiedBy>USER 1</cp:lastModifiedBy>
  <dcterms:modified xsi:type="dcterms:W3CDTF">2009-03-28T09:34:11Z</dcterms:modified>
  <cp:revision>4</cp:revision>
  <dc:subject/>
  <dc:title>الشريحة 1</dc:title>
</cp:coreProperties>
</file>