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BB58-BF15-491E-BA2C-8B099147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230A-FBCA-4212-A0A0-C039C084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D7EE-B9BC-409D-802A-C81E321E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3291-72A5-434E-B198-80F55967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1D34-DD00-4B0A-8E71-7293AD25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8B1D-C698-4E2F-B13B-B6D34235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10F3-285A-4EBE-A648-9C1705BA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04A0-7AA1-4643-BDE5-D9DC7CC7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2EA3-7B17-4904-AAFC-7A6BF4BD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1AA9-A719-4175-B292-8E7DB9FD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8D52-4859-4CA3-99AE-CF3A4DC8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E701-8DC9-40AD-9AEA-51436C11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2026-13B2-452A-8B50-E555309D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802F-368B-4710-80DC-89C2CE53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F510-C88C-4E37-9117-87CBD41B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7E22-0842-4F06-94FB-B814EB7B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5E1A-7239-4C8A-9DED-8A2D687B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B6FE-3088-4721-A9F0-118F76B7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576-2167-4B40-8EDA-9B186E16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F285-3524-4481-86E9-9BD17A74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9955-5DD0-4D90-A04B-0BFEC5A1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D50E-B338-4E64-896F-296F0FB6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45A1-3F5E-4F3C-83ED-BA2AE0ED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0248-F874-4ADF-A197-51B1643F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FB79-06BA-4657-A457-17C2738891DE}" type="slidenum">
              <a:rPr b="1" lang="ar-SA" sz="2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0151-9541-4EAE-A532-CD44D05ECDF7}" type="slidenum">
              <a:rPr b="1" lang="ar-SA" sz="2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natomy &amp; Physiology Of Female Reproductive System</a:t>
            </a:r>
            <a:endParaRPr b="1" lang="en-US" sz="4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48960" y="949320"/>
            <a:ext cx="7550280" cy="25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estibule.</a:t>
            </a:r>
            <a:br>
              <a:rPr sz="6000"/>
            </a:br>
            <a:br>
              <a:rPr sz="6000"/>
            </a:br>
            <a:endParaRPr b="1" lang="en-US" sz="60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oval-shaped area formed between the labia minora, clitoris, and fourchet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tibule contains the external urethral meatus, vaginal introitus, and Bartholins glan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09720" y="909720"/>
            <a:ext cx="7628760" cy="179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erineum</a:t>
            </a:r>
            <a:br>
              <a:rPr sz="6000"/>
            </a:br>
            <a:endParaRPr b="1" lang="en-US" sz="60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most posterior part of the external female reproductive orga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extends from fourchette anteriorly to the anus posterior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s composed of fibrous and muscular tissues that support pelvic structu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rcRect l="17819" t="18082" r="17795" b="13889"/>
          <a:stretch/>
        </p:blipFill>
        <p:spPr>
          <a:xfrm>
            <a:off x="1763640" y="765000"/>
            <a:ext cx="6337440" cy="5040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nternal Female Structures</a:t>
            </a:r>
            <a:endParaRPr b="1" lang="en-US" sz="4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gi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er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opian tub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ar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rcRect l="6972" t="5994" r="2779" b="45497"/>
          <a:stretch/>
        </p:blipFill>
        <p:spPr>
          <a:xfrm>
            <a:off x="1403280" y="765000"/>
            <a:ext cx="7272360" cy="5759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89920" y="889920"/>
            <a:ext cx="7668360" cy="176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Fallopian tubes</a:t>
            </a:r>
            <a:br>
              <a:rPr sz="6000"/>
            </a:br>
            <a:endParaRPr b="1" lang="en-US" sz="6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wo tubes extended from the cornu of the uterus to the ova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runs in the upper free border of the broad liga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 8 to 14 cm average 10 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divided into 4 par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rcRect l="19471" t="8136" r="15272" b="54221"/>
          <a:stretch/>
        </p:blipFill>
        <p:spPr>
          <a:xfrm>
            <a:off x="1116000" y="765000"/>
            <a:ext cx="7343640" cy="5759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Interstitial part</a:t>
            </a:r>
            <a:endParaRPr b="1" lang="en-US" sz="72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runs into uterine cavity, passes through the myometrium between the fundus and body of the uterus. About 1-2cm in length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Isthmus</a:t>
            </a:r>
            <a:endParaRPr b="1" lang="en-US" sz="60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55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is the narrow part of the tube adjacent to the uteru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ight and cord like , about 2 – 3 cm in lengt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Ampulla</a:t>
            </a:r>
            <a:endParaRPr b="1" lang="en-US" sz="72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is the wider part about 5 cm in lengt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tilization occurs in the ampull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32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earning Objectives</a:t>
            </a:r>
            <a:endParaRPr b="1" lang="en-US" sz="5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the terms lis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female external reproductive orga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ain the structure of the bony pelv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ain the functions and structures of pelvic flo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 Infundibulum</a:t>
            </a:r>
            <a:endParaRPr b="1" lang="en-US" sz="60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funnel or trumpet shap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mbriae are fingerlike processes, one of these is longer than the other and adherent to the ov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mbriae become swollen almost erectile at ovul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unctions </a:t>
            </a:r>
            <a:endParaRPr b="1" lang="en-US" sz="5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ete transport (ovum pickup, ovum transport, sperm transport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maturation of gamete post ovulate oocyte maturation, sperm capicit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id environment for early embryonic develop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 of fertilized  and unfertilized ovum to the uter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07920" y="907920"/>
            <a:ext cx="7632360" cy="201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Ovaries</a:t>
            </a:r>
            <a:br>
              <a:rPr sz="6600"/>
            </a:br>
            <a:endParaRPr b="1" lang="en-US" sz="72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al solid structure, 1.5 cm in thickness, 2.5 cm in width and 3.5 cm in length respectively. Each weights about 4–8 g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ary is located on each side of the uterus, below and behind the uterine tub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Structure of the ovaries</a:t>
            </a:r>
            <a:endParaRPr b="1" lang="en-US" sz="4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te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u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lu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93440" y="107280"/>
            <a:ext cx="7992000" cy="148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varies and Relationship 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to Uterine Tube and Uterus   </a:t>
            </a:r>
            <a:endParaRPr b="1" lang="en-US" sz="40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7735320" y="6443640"/>
            <a:ext cx="10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Arial"/>
              </a:rPr>
              <a:t>Figure 28–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6972" t="5994" r="2779" b="7087"/>
          <a:stretch/>
        </p:blipFill>
        <p:spPr>
          <a:xfrm>
            <a:off x="1547640" y="1557360"/>
            <a:ext cx="61930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unction of the ovary</a:t>
            </a:r>
            <a:endParaRPr b="1" lang="en-US" sz="5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708280"/>
            <a:ext cx="8305920" cy="33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e estrogen &amp; progesteron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 of ov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98920" y="899280"/>
            <a:ext cx="7650360" cy="188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Uterus</a:t>
            </a:r>
            <a:br>
              <a:rPr sz="6600"/>
            </a:br>
            <a:endParaRPr b="1" lang="en-US" sz="6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terus is a hollow, pear shaped muscular org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terus measures about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7.5 X 5 X 2.5 c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weight about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50 – 60 g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normal position is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nteverte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rotated forward and slightly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ntiflexe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lexed forwar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terus divided into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hre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Body of the uterus</a:t>
            </a:r>
            <a:endParaRPr b="1" lang="en-US" sz="4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pper part is the corpus, or body of the ute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ndus is the part of the body or corpus above the area where the fallopian tubes enter the uteru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 about 5 c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1" lang="en-US" sz="80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Isthmus</a:t>
            </a:r>
            <a:endParaRPr b="1" lang="en-US" sz="6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arrower transition z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between the corpus of the uterus and cervi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late pregnancy, the isthmus elongates and is known as the lower uterine segm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32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</a:t>
            </a: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 </a:t>
            </a: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ervix</a:t>
            </a:r>
            <a:endParaRPr b="1" lang="en-US" sz="60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7720" y="2924280"/>
            <a:ext cx="8055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owermost position of the uterus “neck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ngth of the cervix is about 2.5 t0 3 c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637000"/>
            <a:ext cx="81266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s, is the opening in the cervix that runs between the uterus and vag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pper part of the cervix is marked by internal os and the lower cervix is marked by the external o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ayers of the uterus</a:t>
            </a:r>
            <a:endParaRPr b="1" lang="en-US" sz="5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metriu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ometriu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metriu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92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rcRect l="1723" t="12524" r="2773" b="8331"/>
          <a:stretch/>
        </p:blipFill>
        <p:spPr>
          <a:xfrm>
            <a:off x="1116000" y="549360"/>
            <a:ext cx="770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94240" y="894240"/>
            <a:ext cx="7659720" cy="18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. Perimetrium</a:t>
            </a:r>
            <a:br>
              <a:rPr sz="6600"/>
            </a:br>
            <a:endParaRPr b="1" lang="en-US" sz="6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3213000"/>
            <a:ext cx="81266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outer peritoneal layer of serous membrane that covers most of the uteru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13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7720" y="2781000"/>
            <a:ext cx="805500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ally, the perimetrium is continuous with the broad ligaments on either side of the uteru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98920" y="899280"/>
            <a:ext cx="7650360" cy="188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. Myometrium</a:t>
            </a:r>
            <a:r>
              <a:rPr b="0" lang="en-US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br>
              <a:rPr sz="6000"/>
            </a:br>
            <a:endParaRPr b="1" lang="en-US" sz="60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middle layer of thick musc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 the muscle fibers are concentrated in the upper uterus, and their number diminishes progressively toward the cervi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4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yometrium contains </a:t>
            </a:r>
            <a:r>
              <a:rPr b="1" lang="en-US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hree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s of smooth  muscle fi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ongitudinal fibers (outer layer)</a:t>
            </a:r>
            <a:endParaRPr b="1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708280"/>
            <a:ext cx="8126640" cy="33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are found mostly in the fundus and are designed to expel the fetus efficiently toward the pelvic outlet during bir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43840" y="843840"/>
            <a:ext cx="8217720" cy="113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xternal Female Structures</a:t>
            </a:r>
            <a:endParaRPr b="1" lang="en-US" sz="4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708280"/>
            <a:ext cx="8055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ively, the external female reproductive organs are called the </a:t>
            </a:r>
            <a:r>
              <a:rPr b="1" lang="en-US" sz="5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Vulv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iddle layer figure-8 fibers</a:t>
            </a:r>
            <a:endParaRPr b="1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7720" y="2637000"/>
            <a:ext cx="80550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fiber contract after birth to compress the blood vessels that pass between them to limit blood los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nner layer circular fibers</a:t>
            </a:r>
            <a:endParaRPr b="1" lang="en-US" sz="4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form constrictions where the fallopian tubes enter the uterus and surround the internal 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lar fibers prevent reflux of menstrual blood and tissue into the fallopian tub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normal implantation of the fertilized ovum by controlling its entry into the uter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retain the fetus until the appropriate time of birt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907920" y="907920"/>
            <a:ext cx="7632360" cy="201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. Endometrium</a:t>
            </a:r>
            <a:br>
              <a:rPr sz="6600"/>
            </a:br>
            <a:endParaRPr b="1" lang="en-US" sz="6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inner layer of the uter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responsive to the cyclic variations of estrogen and progesterone during the female reproductive cycle every mont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wo or three layers of the endometrium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*Compact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*The basal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*The functional or Spong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yer this layer is shed during each menstrual period and after child birth in the loc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he Function of the uterus</a:t>
            </a:r>
            <a:endParaRPr b="1" lang="en-US" sz="4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565000"/>
            <a:ext cx="81266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struation ----the uterus sloughs off the endometriu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gnancy ---the uterus support fetus and allows the fetus to gr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7720" y="2852640"/>
            <a:ext cx="80550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 and birth---the uterine muscles contract and the cervix dilates during labor to expel the fe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Vagina</a:t>
            </a:r>
            <a:endParaRPr b="1" lang="en-US" sz="6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n elastic fibro-muscular tube and membranous tissue about 8 to 10 cm lo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ing between the bladder anteriorly and the rectum posterior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12664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agina connects the uterus above with the vestibule bel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pper end is blind and called the vaginal vaul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aginal lining has multiple folds, or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ruga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muscle layer. These folds allow the vagina to stretch considerably during childbirth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xternal Female Structures</a:t>
            </a:r>
            <a:endParaRPr b="1" lang="en-US" sz="4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85520" y="2285640"/>
            <a:ext cx="80550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s Pub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ia Major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ia Mino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tor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tibu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ne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action of the vagina is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cidic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H is 4.5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protects the vagina against infe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unctions of the vagina</a:t>
            </a:r>
            <a:endParaRPr b="1" lang="en-US" sz="4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llow discharge of the menstrual fl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female organs of coit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llow passage of the fetus from the uteru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upport structures</a:t>
            </a:r>
            <a:endParaRPr b="1" lang="en-US" sz="4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bony pelvi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pport and protects the lower abdominal and internal reproductive organ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59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Muscle, Joint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ligament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 added support for internal organs of the pelvis against the downward force of gravity and the increases in intra-abdominal pre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ony Pelvis</a:t>
            </a:r>
            <a:endParaRPr b="1" lang="en-US" sz="6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ny Pelvis Is Composed of 4 bo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. Two hip bon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. Sacru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. Coccyx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94240" y="894240"/>
            <a:ext cx="7659720" cy="18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. Two hip bones.</a:t>
            </a:r>
            <a:br>
              <a:rPr sz="6000"/>
            </a:br>
            <a:endParaRPr b="1" lang="en-US" sz="60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or hip bone is composed of three bo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*Iliu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*Ischiu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*Pub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9520" y="839880"/>
            <a:ext cx="776916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*</a:t>
            </a:r>
            <a:r>
              <a:rPr b="1" i="1" lang="en-US" sz="7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lium</a:t>
            </a:r>
            <a:endParaRPr b="1" lang="en-US" sz="72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7720" y="2565000"/>
            <a:ext cx="8055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flared out pa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eater part of its inner aspect is smooth and concave, forming the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liac foss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upper border of the ilium is called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liac cr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768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6" dur="768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8" dur="76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0" dur="76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62200" y="504720"/>
            <a:ext cx="7723800" cy="138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*</a:t>
            </a:r>
            <a:r>
              <a:rPr b="1" lang="en-US" sz="8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schium</a:t>
            </a:r>
            <a:endParaRPr b="1" lang="en-US" sz="80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7720" y="2492280"/>
            <a:ext cx="8055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thick lower par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as a large prominence known as the </a:t>
            </a:r>
            <a:r>
              <a:rPr b="1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schial tuberosity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n which the body rests while sitt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768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0" dur="768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2" dur="768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4" dur="768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7720" y="2637000"/>
            <a:ext cx="80550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ehind and little above the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uberosity 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s an inward projection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he ischial spin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94240" y="894240"/>
            <a:ext cx="7659720" cy="18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. Sacrum</a:t>
            </a:r>
            <a:br>
              <a:rPr sz="6000"/>
            </a:br>
            <a:endParaRPr b="1" lang="en-US" sz="6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wedge shaped bone consisting of five vertebra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nterior surface of the sacrum is conc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pper border of the first sacral vertebra known as the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sacral promo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ons Pubis</a:t>
            </a:r>
            <a:endParaRPr b="1" lang="en-US" sz="72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550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rounded, soft fullness of subcutaneous fatty tissue, prominence over the symphysis pubis that forms the anterior border of the external reproductive orga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covered with varying amounts of pubic h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85240" y="885600"/>
            <a:ext cx="7677720" cy="169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</a:t>
            </a:r>
            <a:r>
              <a:rPr b="1" lang="en-US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. </a:t>
            </a:r>
            <a:r>
              <a:rPr b="1" lang="en-US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ccyx</a:t>
            </a:r>
            <a:r>
              <a:rPr b="1" lang="en-US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.</a:t>
            </a:r>
            <a:br>
              <a:rPr sz="5400"/>
            </a:br>
            <a:endParaRPr b="1" lang="en-US" sz="60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8080" y="2781000"/>
            <a:ext cx="79819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s of four vertebrae forming a small triangular bon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C:\Users\Jake\Pictures\nosigna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abia Majora &amp; Minora</a:t>
            </a:r>
            <a:endParaRPr b="1" lang="en-US" sz="5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bia Majora are two rounded, fleshy folds of tissue that extended from the mons pubis to the perine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protect the labia minora, urinary meatus and vaginal introit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abia Minora</a:t>
            </a:r>
            <a:endParaRPr b="1" lang="en-US" sz="6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located between the labia majora, are narr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teral and anterior aspects are usually pigmen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ner surfaces are similar to vaginal mucosa, pink  and mo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rich vascular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85240" y="885600"/>
            <a:ext cx="7677720" cy="169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litoris.</a:t>
            </a:r>
            <a:br>
              <a:rPr sz="6000"/>
            </a:br>
            <a:endParaRPr b="1" lang="en-US" sz="60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rm clitoris comes from a Greek word meaning ke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ectile org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rich vascular, highly sensitive to temperature, touch, and pressure sen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6:22:48Z</dcterms:created>
  <dc:creator>AALRAZEK</dc:creator>
  <dc:description/>
  <dc:language>en-US</dc:language>
  <cp:lastModifiedBy>Jake</cp:lastModifiedBy>
  <dcterms:modified xsi:type="dcterms:W3CDTF">2012-06-16T06:04:42Z</dcterms:modified>
  <cp:revision>171</cp:revision>
  <dc:subject/>
  <dc:title>Anatomy &amp; Physiology Of Female Reproductive System</dc:title>
</cp:coreProperties>
</file>