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0C4-ED40-4494-BDAA-4BB61E31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971-E35B-46DC-A1CD-3E66E917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A6B-3CCD-49C6-847F-2F195103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2D4-09F8-4138-B9AB-B52544CA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672-1BAB-4012-8605-38DFF85D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ADC-35C5-4C6A-9C1B-2D70FA6D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64B-E15D-4023-A6E9-0C22BB27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4DB-63E5-45CA-951E-E91D0D71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AAD-8DB1-431F-98B6-F9DFE8B3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9AE-302B-4056-9242-06A1C443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AC6-56AA-4D92-A683-6775F7F9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581-C313-43EC-8E8E-16BE00B8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6C79-F842-42C6-A4CF-9AFE46AD4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30000">
                <a:solidFill>
                  <a:srgbClr val="ff0033"/>
                </a:solidFill>
                <a:latin typeface="Times New Roman"/>
              </a:rPr>
              <a:t>ANEM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.B.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aemoglob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5±2.5, 14 ±2.5 -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/d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C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0.47 ±0.07, 0.42 ±0.05 - 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l/l (%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ematocrit, effective RBC volume -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nt - 5.5 ±1, 4.8 ± 1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x1012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CH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Hb/PCV - 30-36 -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/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b synthesis within R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Hb/RBC - 29.5 ± 2.5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Hb in 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C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PCV/RBC 85 ± 8 -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f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96080" y="3200400"/>
            <a:ext cx="1263600" cy="30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390680"/>
            <a:ext cx="7619760" cy="50036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Microcytic  Anemia (I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4305240"/>
            <a:ext cx="1905120" cy="3049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3772080"/>
            <a:ext cx="1905120" cy="30456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4572000"/>
            <a:ext cx="0" cy="1371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00280" y="1428840"/>
            <a:ext cx="7696080" cy="5038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Macrocytic Anemia (Meg.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438800"/>
            <a:ext cx="1905120" cy="30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886200"/>
            <a:ext cx="1905120" cy="304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47242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30000">
                <a:solidFill>
                  <a:srgbClr val="ffff99"/>
                </a:solidFill>
                <a:latin typeface="Times New Roman"/>
              </a:rPr>
              <a:t>ANEM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060640"/>
            <a:ext cx="5715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ptoms :  Pall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undic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pitatio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pnea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tigo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tic ulce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ssiti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phagia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assific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 Etiologic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Impaired RBC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Excessive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Blood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. Morphologic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Macroc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Microcytic hypochrom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Normochromic normoc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 Kinetic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V. Physiologic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mpaired RBC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184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Abnormal bone marr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  Aplas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  Myelophthisis : Myelofibrosis, Leukem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cer metastasis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Essential factors de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1  Deficiency anemia : Fe, Vit. B12, Folic acid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  Anemia in renal disease : Erythropoie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Stimulation factor  de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1  Anemia in chronic dise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2  Anemia in hypopitu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3  Anemia in hypothyroid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344840"/>
            <a:ext cx="0" cy="379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xcessive Destruction of RBC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molytic anem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Intracorpuscular de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 Membrane : Hereditary spherocyt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ditary ovalocytosi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 Enzyme : G-6PD deficiency, PK def.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3 Hemoglobin : Thalassemia, Hemoglobino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pat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xcessive Destruction of R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Extracorpuscular de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1 Mechanical : March hemolytic ane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HA (Microangiopathic H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 Chemical/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3 Infection 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ostridium tet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4 Antibodies : HTR, S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5 Hypersple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lood L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259092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Acute blood loss  :    Accident, GI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Chronic blood loss : Hypermeno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sitic infe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acrocytic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847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V     &gt; 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HC  &gt;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Megaloblastic dyspoi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  Vit. B12 deficiency : Pernicious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  Folic acid deficiency : Nutritional megaloblas-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 anemia, Sprue, Other malabsor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3  Inborn errors of metabolism : Orotic aciduria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4  Abnormal DNA synthesis : Chemotherap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convulsant, Oral contracep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Functions of erythroc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port of respiratory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surface area : volum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biconcave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emoglobin for exchange of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ble of glycolysis for the source of energy for cell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acrocytic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8080" y="1523880"/>
            <a:ext cx="78472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V     &gt; 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HC  &gt;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Non-Megaloblastic dyspoi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1  Increased erythropoiesis : Hemol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to hemorrh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  Increased membrane surface area : Hep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, Obstructive jaundice, Post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splen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3  Idiopathic : Hypothyroidism, Hypoplastic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las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icrocytic Hypochromic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8469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V     &lt;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HC   &lt;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Fe deficiency anemia : Chronic blood loss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dequate diet, Malabsorption, Increas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bnormal globin synthesis : Thalassemia with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Hemoglobinopat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bnormal porphyrin and heme synthesis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yridoxine responsive anemi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Other abnormal Fe metabolism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38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Normocytic Normochromic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456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V     82 - 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CHC   &gt;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Blood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Increased plasma volume : Pregnancy, Overhyd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Hemolytic anemia : depend on each 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Hypoplastic marrow : Aplastic anemia, RBC a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Infiltrate BM : Leukemia, Multiple myelom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elofibrosi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Abnormal endocrine : Hypothyroidism, Adrena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fficienc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Kidney disease / Liver disease / Cirrh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38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Kinetic Classific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8469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Insufficient erythropoi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m cells    , Hypoplastic marrow, Infiltrated 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Ineffective erythropoi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egaloblas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halass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deroblas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Uncompensated  hemolytic disease with 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592360"/>
            <a:ext cx="0" cy="303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siologic Classific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360" y="198108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RPI (Reticulocyte Production Index) &lt;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neffective erythropoie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 Hypoproliferative ane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 Maturation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RPI &gt; 3 (Effective erythropoie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1 Hemol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 Blood loss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siologic Classific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RPI (Reticulocyte Production Index) &lt;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Ineffective erythropoie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 Hypoproliferative ane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normocytic normochromic, N/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Hypoplastic anemia - Idiopathic/ Chemical/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Infectious / Drug --&gt; Maturation ar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yelophthisic anemia (Marrow infilt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fractory anemia (Dysmyelopoietic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.1 N/N  and normal RD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BM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Decrease marrow st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ndocrin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nemia of chronic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nal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1.2 Abnormal RBC morphology &amp;   RD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Oval macrocyte :- Refractory  dysmyelo-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poi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Dacrocytes/ tear drops :- Myelophthi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4040280"/>
            <a:ext cx="0" cy="3031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04920"/>
            <a:ext cx="838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hysiologic Class. of Anemia RPI &lt; 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  Maturation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.1 Microcytic, high RD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Siderblastic (Microcytic dimorphic R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Fe def. (Microcytic hypochromic R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.2 Microcytic, normal RD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Heterozygous, thalassemia syndrome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b) Anemia of chronic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.3 Macrocy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Liver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Folate d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Vit. B12 d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) Hemolytic anemia (Normocy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polychromas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04920"/>
            <a:ext cx="838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hysiologic Class. of Anemia RPI &lt; 2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siologic Classific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RPI &gt;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ffective erythropoie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1 Hemolytic ane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trinsic hereditary disord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- Extrinsic acquired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 Blood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cute blood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hronic blood loss (without treatment --&gt; micr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tic, hypochromic an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38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valu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8469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 Hemato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Hematocrit (VPRC prefer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Hemoglobin concen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RBC indices : MCV, MCH, MCH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Leukocyte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Reticulocyte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Platelet cou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ESR (Erythrocyte sedimentation r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Stained blood smear : RBC morph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Erythrocyte dis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emoglobin de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emia, Thalassaemia, sickle cell anemia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ane &amp; enzyme abnorm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6PD, eliptocytosis, stomato-ovalocyto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anti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(polycythemia) inherited / ac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(inherited / acquired hypoplas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38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valu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8469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 Urin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Appearance : Color, pH, Clarity, sp 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Test for protein, Bence Jones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Bilirubin, Uribilin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Occult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Microscopic exam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.  St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Appearance : Color,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Occult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Examination for ova, para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2db6"/>
            </a:gs>
            <a:gs pos="50000">
              <a:srgbClr val="3333cc"/>
            </a:gs>
            <a:gs pos="100000">
              <a:srgbClr val="2d2d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38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valuation of An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8469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.  Serum or 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B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Creatinine, if urea N is ab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Bilirubin : Direct, in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SI (Serum iron), TIBC (Total iron bi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  Special tests in hema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b typing / Ham acid test / Coombs’ test, G-6PD, Ferritin, Sucrose test, Autohemolysis test, Haptoglobi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14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duction in circulation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utri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fici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aem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12 &amp; folate deficiency ana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deficiency ana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urvy &amp; other element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39625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962160" cy="241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3640" y="175248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Iron anaem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deficienc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5259960" y="609588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B12 &amp; folate deficienc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Nutritional deficiency anaemia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linical ap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2400120" cy="228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" y="4102200"/>
            <a:ext cx="3200400" cy="256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867280" y="4114800"/>
            <a:ext cx="3009960" cy="2496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971800" y="2286000"/>
            <a:ext cx="3214800" cy="1724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9520" y="12193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Angula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Cheilos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3886920" y="19051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Koilonych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7316280" y="13716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Glossit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9988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Marrow iron stor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>
            <a:off x="6325920" y="41911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Plummer-Vins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syndrom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emia; Globin chain 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alassaem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globin chain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 and Beta chain synthesis de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emoglobinopat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normal globin chain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358128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20440" y="62848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Sickle cell diseas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276720" cy="2209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25720" y="316080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halassaem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emia; Globin chain 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2160" y="2536920"/>
            <a:ext cx="2787480" cy="309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5160" y="579132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X-ray appearance of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halassaemic patien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35640" y="2813040"/>
            <a:ext cx="2662200" cy="1868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4840" y="4800600"/>
            <a:ext cx="326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Hemoglobin electrophores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for the diagnosis 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halassaema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Anaemia; Membrane and enzyme de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mbrane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iptocy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to-ovalocy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out haemo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d cell enzymopat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6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lysis after oxidant 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lood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952880" y="2189160"/>
            <a:ext cx="3094200" cy="1938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792040" y="175248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lliptocytos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4473720"/>
            <a:ext cx="3124080" cy="192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 flipV="1">
            <a:off x="6705360" y="52574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5716800" y="441972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6PD deficienc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Anaemia; Reduced erythroid bone mar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57480" cy="15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rrow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rrow infil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111480" cy="180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86040" y="1371600"/>
            <a:ext cx="222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rephine biops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(Aplastic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Anemi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7080" y="412740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14760" y="609588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Marrow infiltr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105520" y="3962520"/>
            <a:ext cx="3200400" cy="2157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48320" y="60562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Normal trephin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/>
  <dc:description/>
  <dc:language>en-US</dc:language>
  <cp:lastModifiedBy>Dr.abdel-hamid</cp:lastModifiedBy>
  <dcterms:modified xsi:type="dcterms:W3CDTF">2006-10-19T04:20:26Z</dcterms:modified>
  <cp:revision>18</cp:revision>
  <dc:subject/>
  <dc:title>No Slide Title</dc:title>
</cp:coreProperties>
</file>