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757-460C-4607-B765-E7F4E81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92D-49A5-4D7D-8777-6563690A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0E0-9C4E-4945-B640-B60B0CAC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9A8-65B1-444D-B227-BD454248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77B-3A0B-447F-8D30-B4F018E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774-1026-4059-B869-8BA6281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61C-3FD5-414A-890F-1449855A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6F2-C307-420F-A258-3EB9FEC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090-8166-4CEF-85E9-D164E78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CAE-DAF2-4F36-A348-B857B7A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A9B-00AE-4EA3-90A2-79DFED1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85F-AC8C-4C32-BC3A-386B23B2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014-F864-4D81-ACF3-160D357B7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ff0033"/>
                </a:solidFill>
                <a:latin typeface="Times New Roman"/>
              </a:rPr>
              <a:t>AN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.B.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aemoglob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5±2.5, 14 ±2.5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/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0.47 ±0.07, 0.42 ±0.05 - 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l/l (%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ematocrit, effective RBC volume -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 - 5.5 ±1, 4.8 ± 1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1012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H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Hb/PCV - 30-36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/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b synthesis within R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Hb/RBC - 29.5 ± 2.5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Hb in 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CV/RBC 85 ± 8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96080" y="3200400"/>
            <a:ext cx="126360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390680"/>
            <a:ext cx="7619760" cy="5003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rocytic  Anemia (I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305240"/>
            <a:ext cx="1905120" cy="304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772080"/>
            <a:ext cx="1905120" cy="30456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572000"/>
            <a:ext cx="0" cy="1371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00280" y="1428840"/>
            <a:ext cx="7696080" cy="503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acrocytic Anemia (Meg.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438800"/>
            <a:ext cx="190512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886200"/>
            <a:ext cx="190512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724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ffff99"/>
                </a:solidFill>
                <a:latin typeface="Times New Roman"/>
              </a:rPr>
              <a:t>AN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060640"/>
            <a:ext cx="5715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toms :  Pall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undi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pit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tig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tic ulce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phagi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 Eti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Impaired RBC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xcessive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. Morph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Macroc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Microcytic hypochrom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Normochromic normoc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Kinet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. Physi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mpaired RBC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bnormal bone ma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 Ap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Myelophthisis : Myelofibrosis, Leukem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cer metastasi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ssential factors de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 Deficiency anemia : Fe, Vit. B12, Folic acid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 Anemia in renal disease : Erythropoie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Stimulation factor  de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1  Anemia in chronic dise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2  Anemia in hypopitu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3  Anemia in 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34484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cessive Destruction of RBC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molytic anem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Intracorpuscular de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Membrane : Hereditary spherocy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ditary ovalocytosi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Enzyme : G-6PD deficiency, PK def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 Hemoglobin : Thalassemia, Hemoglobino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cessive Destruction of R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xtracorpuscular de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Mechanical : March hemolytic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HA (Microangiopathic 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Chemical/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3 Infection 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ostridium te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4 Antibodies : HTR, S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5 Hypersple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lood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cute blood loss  :    Accident, GI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Chronic blood loss : Hypermeno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sitic inf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crocyt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7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gt; 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&g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Megaloblastic dys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 Vit. B12 deficiency : Pernicious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Folic acid deficiency : Nutritional megaloblas-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 anemia, Sprue, Other mal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  Inborn errors of metabolism : Orotic aciduria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  Abnormal DNA synthesis : Chemotherap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onvulsant, Oral contracep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Functions of eryth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 of respirator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urface area : volum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biconcave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emoglobin for exchange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ble of glycolysis for the source of energy for ce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crocyt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847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gt; 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&g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Non-Megaloblastic dys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 Increased erythropoiesis :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to hemorrh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 Increased membrane surface area : Hep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, Obstructive jaundice, Post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3  Idiopathic : Hypothyroidism, Hypoplastic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icrocytic Hypochrom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lt;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 &l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Fe deficiency anemia : Chronic blood loss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equate diet, Malabsorption, Increa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bnormal globin synthesis : Thalassemia with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Hemoglobin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bnormal porphyrin and heme synthesi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yridoxine responsive anemi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Other abnormal Fe metabolism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ormocytic Normochrom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456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82 - 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Increased plasma volume : Pregnancy, Over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Hemolytic anemia : depend on each 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Hypoplastic marrow : Aplastic anemia, RBC a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Infiltrate BM : Leukemia, Multiple myelom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elofibrosi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Abnormal endocrine : Hypothyroidism, Adrena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fficienc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Kidney disease / Liver disease / Cirrh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inet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8469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Insufficient erythro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m cells    , Hypoplastic marrow, Infiltrated 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Ineffective erythro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egalob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alass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derob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Uncompensated  hemolytic disease with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9236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RPI (Reticulocyte Production Index) &l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n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Hypoproliferative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Maturation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RPI &gt; 3 (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Blood loss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RPI (Reticulocyte Production Index) &l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n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Hypoproliferative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normocytic normochromic, N/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ypoplastic anemia - Idiopathic/ Chemical/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Infectious / Drug --&gt; Maturation ar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yelophthisic anemia (Marrow infilt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fractory anemia (Dysmyelopoietic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.1 N/N  and normal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B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Decrease marrow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ndocrin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nemia of chron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na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.2 Abnormal RBC morphology &amp;  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Oval macrocyte :- Refractory  dysmyelo-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poi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Dacrocytes/ tear drops :- Myelophthi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404028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920"/>
            <a:ext cx="83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ologic Class. of Anemia RPI &lt;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Maturation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1 Microcytic, high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Siderblastic (Microcytic dimorphic R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Fe def. (Microcytic hypochromic R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2 Microcytic, normal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Heterozygous, thalassemia syndrome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b) Anemia of chron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3 Macrocy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Liver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Folate d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Vit. B12 d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Hemolytic anemia (Normocy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polychromas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04920"/>
            <a:ext cx="83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ologic Class. of Anemia RPI &lt;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RPI &gt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Hemolytic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trinsic hereditary disor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- Extrinsic acquired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cute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hronic blood loss (without treatment --&gt; micr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ic, hypochromic an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Hemato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Hematocrit (VPRC prefer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Hemoglob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RBC indices : MCV, MCH, MC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Leukocy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Reticulocy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Platelet 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ESR (Erythrocyte sedimentation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Stained blood smear : RBC morp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Erythrocyt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emoglobin 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emia, Thalassaemia, sickle cell anemia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 &amp; enzyme abnorm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6PD, eliptocytosis, stomato-ovalocyt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(polycythemia) inherited /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(inherited / acquired hypopla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Urin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ppearance : Color, pH, Clarity, sp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Test for protein, Bence Jones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ilirubin, Uribilin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Occult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Microscopic exa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St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ppearance : Color,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Occult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Examination for ova, para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 Serum or 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Creatinine, if urea N is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ilirubin : Direct, in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SI (Serum iron), TIBC (Total iron bi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 Special tests in hema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 typing / Ham acid test / Coombs’ test, G-6PD, Ferritin, Sucrose test, Autohemolysis test, Haptoglob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14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uction in circulation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utr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em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2 &amp; folate deficiency an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deficiency an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urvy &amp; other element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24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3640" y="175248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ron anaem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5259960" y="609588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B12 &amp; folate 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Nutritional deficiency anaemia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linical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400120" cy="228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4102200"/>
            <a:ext cx="3200400" cy="256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3009960" cy="2496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3214800" cy="1724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9520" y="12193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Angula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Cheilo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3886920" y="1905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Koilonych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316280" y="13716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Glossit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9988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Marrow iron stor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6325920" y="41911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Plummer-Vins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syndrom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; Globin chain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alassaem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globin cha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 and Beta chain synthesis 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emoglobin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normal globin cha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20440" y="62848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ickle cell diseas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276720" cy="2209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25720" y="31608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; Globin chain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2160" y="2536920"/>
            <a:ext cx="2787480" cy="309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5160" y="57913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X-ray appearance o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ic patien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2813040"/>
            <a:ext cx="2662200" cy="186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4840" y="4800600"/>
            <a:ext cx="32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Hemoglobin electrophore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the diagnosis 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Anaemia; Membrane and enzyme de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mbrane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to-oval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haemo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 cell enzym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6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lysis after oxidant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52880" y="2189160"/>
            <a:ext cx="3094200" cy="1938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92040" y="17524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lliptocyto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473720"/>
            <a:ext cx="3124080" cy="192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6705360" y="52574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5716800" y="44197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6PD 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Anaemia; Reduced erythroid bone ma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57480" cy="15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rrow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rrow infil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111480" cy="18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040" y="1371600"/>
            <a:ext cx="22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rephine biops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Aplastic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Anem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7080" y="412740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760" y="609588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Marrow infiltr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200400" cy="215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8320" y="60562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Normal trephin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Dr.abdel-hamid</cp:lastModifiedBy>
  <dcterms:modified xsi:type="dcterms:W3CDTF">2006-10-19T04:20:26Z</dcterms:modified>
  <cp:revision>18</cp:revision>
  <dc:subject/>
  <dc:title>No Slide Title</dc:title>
</cp:coreProperties>
</file>