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3A1B0-E27E-4F9A-8196-36EDB1728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72687-5B86-4F53-AA41-A0EDCDC1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D6CC9-7E73-492E-9373-0DFF1D0FC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F60A7-60F2-40B7-933A-0B1AAC3A8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FD17-F7EB-4C11-8E1E-0C32E753F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6731-C23C-439C-94EF-6B5E5413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0780-44DA-4314-8A9F-6B1965DD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AF91-31DF-4EC1-8703-C61FA08F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85BB-01C4-41B9-892E-738B0796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2EA6C-ABB2-4480-98AA-6B7CCF97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9A99-D3A8-4A2F-AC5B-0BA140A7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1273A-148B-4C40-BB37-FF4AE324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9965-29B8-40DF-930C-946DDBB2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6841-BB46-4421-8D69-29B8E3EF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C5D22-633D-42C0-B3BE-C6E93C6D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46DE-63D3-40A0-AB68-515AB2A97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EAF05-AA71-413D-9577-B6D87019C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3B8BE-F32F-4885-AB9E-3BA29FCD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62268-A90D-4A54-8CF4-A5EC13CE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69C83-0D28-4842-9C9A-A398F224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84F5C-CE4A-4657-9FE1-0BC56C28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AF6B9-E87B-45ED-B4DD-D33684F2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48805-E700-42D5-AE16-52FE30F0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7F478-0A80-49FD-970E-50856124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4FE2-11A6-406B-B7EB-72602C6E49E0}" type="slidenum"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99A3-0EC1-477B-B86E-A82AF3F806A4}" type="slidenum"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ncbi.nlm.nih.gov/entrez/query.fcgi?db=pubmed&amp;cmd=Search&amp;term=%22Chen+LK%22%5BAuthor%5D" TargetMode="External"/><Relationship Id="rId2" Type="http://schemas.openxmlformats.org/officeDocument/2006/relationships/hyperlink" Target="http://www.ncbi.nlm.nih.gov/entrez/query.fcgi?db=pubmed&amp;cmd=Search&amp;term=%22Chang+Y%22%5BAuthor%5D" TargetMode="External"/><Relationship Id="rId3" Type="http://schemas.openxmlformats.org/officeDocument/2006/relationships/hyperlink" Target="http://www.ncbi.nlm.nih.gov/entrez/query.fcgi?db=pubmed&amp;cmd=Search&amp;term=%22Liu+CC%22%5BAuthor%5D" TargetMode="External"/><Relationship Id="rId4" Type="http://schemas.openxmlformats.org/officeDocument/2006/relationships/hyperlink" Target="http://www.ncbi.nlm.nih.gov/entrez/query.fcgi?db=pubmed&amp;cmd=Search&amp;term=%22Hou+WY%22%5BAuthor%5D" TargetMode="External"/><Relationship Id="rId5" Type="http://schemas.openxmlformats.org/officeDocument/2006/relationships/hyperlink" Target="http://www.ncbi.nlm.nih.gov/entrez/query.fcgi?db=pubmed&amp;cmd=Search&amp;term=%22Hou+WY%22%5BAuthor%5D" TargetMode="External"/><Relationship Id="rId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3840" cy="19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Anesthesia of patients with </a:t>
            </a:r>
            <a:br>
              <a:rPr sz="5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motor neuron disease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Presentation by: SC 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廖伯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                              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江毅彥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bout motor neuron diseas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ower motor neur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LMN): axons synapse directly on skeletal muscl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Upper motor neur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UMN): motor cortex →pyramidal tract →LM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LMN loss sign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laccid paralys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sciculation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ypotonia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yporeflexia, areflex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UMN loss signs: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Initially weak and flacci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Eventually spasti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Hyperton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Hyperreflex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Babinski sig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5280" y="320760"/>
            <a:ext cx="853272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myotrophic lateral sclero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myotrophy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opsy →muscle atroph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teral sclerosis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teral column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liosis →firmn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u Gehrig's diseas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932360" y="1773360"/>
            <a:ext cx="360036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040360" cy="5329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692360" y="566100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loss of anterior horn cells, the anterior (ventral) spinal motor nerve roots demonstrate atroph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pidemi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Prevelence:3 to 5 per 100,00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Western pacif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Sporadic (heavy metal?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Inherited( AD): 5 to 1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Ma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40 to 70 y/o (5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Median survival :3 to 5 yea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myotrophic lateral sclero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pper and lower motor neur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gressive weakn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clusion of alternative diagnos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lbar, cervical, thoracic, lumbosacral motor neur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 →possibl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 →prob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 →defini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340000" y="476280"/>
            <a:ext cx="36734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nical manifes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ymmetric weakness, usually one of distally limb fir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ramping with volitional movements, typically in the morn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asting and atrophy of musc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scicul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yperactivity of  muscle stretch reflex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fficulty of chewing, swallowing, dysarthria, exaggeration of emotion express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Respiratory syst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250" autoRev="1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spiratory syst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eathlessn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cturnal  hypoventilation→ morning headache, daytime hypersomnol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or coug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urrent pulmonary aspi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urrent pneumon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piratory fail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isto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53 y/o Fema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Alcohol(+), Smoking (+) 1/2 PP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General appearance: weakn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Vital sign: T/P/R=36.2/84/18, BP:120/60 mmHg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Chest: Symmetric expans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Extremities: Movable but weakn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136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thogene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t well define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D1 mutation →free radical accumul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lutamate (EAAT2, astroglial cell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GF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187280" y="836640"/>
            <a:ext cx="6769440" cy="53290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788000" y="3141720"/>
            <a:ext cx="1224000" cy="431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Discussion</a:t>
            </a:r>
            <a:br>
              <a:rPr sz="6000"/>
            </a:b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esthesia in patients with A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5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Miller's anesthesia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,2005 Anesthesia and neurosurgery, 200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30477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ponses to muscle relaxa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lbar dysfun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ung function: spiromet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gional anesthesia VS general anesthes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sponses to muscle relaxa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Predisposed to SCC-induced </a:t>
            </a:r>
            <a:r>
              <a:rPr b="0" lang="zh-TW" sz="3200" spc="-1" strike="noStrike">
                <a:solidFill>
                  <a:srgbClr val="66ff33"/>
                </a:solidFill>
                <a:latin typeface="Garamond"/>
              </a:rPr>
              <a:t>hyperkalemia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because of denervation and atrophy of skeletal musc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Patient with motor neuron disease are at risk for hyperkalemia when using SCC because of </a:t>
            </a:r>
            <a:r>
              <a:rPr b="0" lang="zh-TW" sz="3200" spc="-1" strike="noStrike">
                <a:solidFill>
                  <a:srgbClr val="66ff33"/>
                </a:solidFill>
                <a:latin typeface="Garamond"/>
              </a:rPr>
              <a:t>upregulation 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of nACh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Garamond"/>
              </a:rPr>
              <a:t>SCC is best avoid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ALS patient, in addition, </a:t>
            </a:r>
            <a:r>
              <a:rPr b="0" lang="zh-TW" sz="3200" spc="-1" strike="noStrike">
                <a:solidFill>
                  <a:srgbClr val="66ff33"/>
                </a:solidFill>
                <a:latin typeface="Garamond"/>
              </a:rPr>
              <a:t>presynaptic impairment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of neuromuscular transmission, explains their </a:t>
            </a:r>
            <a:r>
              <a:rPr b="0" lang="zh-TW" sz="3200" spc="-1" strike="noStrike">
                <a:solidFill>
                  <a:srgbClr val="66ff33"/>
                </a:solidFill>
                <a:latin typeface="Garamond"/>
              </a:rPr>
              <a:t>hypersensitivity 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to nondepolarizing neuromuscular block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Increased sensitivity to nondepolarizing muscle relaxants → either relaxants be </a:t>
            </a:r>
            <a:r>
              <a:rPr b="0" lang="zh-TW" sz="3200" spc="-1" strike="noStrike">
                <a:solidFill>
                  <a:srgbClr val="66ff33"/>
                </a:solidFill>
                <a:latin typeface="Garamond"/>
              </a:rPr>
              <a:t>avoided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altogether or</a:t>
            </a:r>
            <a:r>
              <a:rPr b="0" lang="zh-TW" sz="3200" spc="-1" strike="noStrike">
                <a:solidFill>
                  <a:srgbClr val="66ff33"/>
                </a:solidFill>
                <a:latin typeface="Garamond"/>
              </a:rPr>
              <a:t> shorter-acting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relaxants be us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lbar dysfun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In late stage of the disease, reduced respiratory muscle reserve and abnormal airway protective reflexes → increased risk for </a:t>
            </a:r>
            <a:r>
              <a:rPr b="0" lang="zh-TW" sz="2800" spc="-1" strike="noStrike">
                <a:solidFill>
                  <a:srgbClr val="66ff33"/>
                </a:solidFill>
                <a:latin typeface="Garamond"/>
              </a:rPr>
              <a:t>respiratory depression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lang="zh-TW" sz="2800" spc="-1" strike="noStrike">
                <a:solidFill>
                  <a:srgbClr val="66ff33"/>
                </a:solidFill>
                <a:latin typeface="Garamond"/>
              </a:rPr>
              <a:t>aspiration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 secondary to the use of sedative and anesthetic dru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Aspiration prophylaxis should be considered: no evide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Placement of a feeding tub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Lung function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Respiratory muscle weakness frequently develop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Pre-OP ventilatory impairment may help predict anesthetic risk → one small study: </a:t>
            </a:r>
            <a:r>
              <a:rPr b="0" lang="zh-TW" sz="3200" spc="-1" strike="noStrike">
                <a:solidFill>
                  <a:srgbClr val="66ff33"/>
                </a:solidFill>
                <a:latin typeface="Garamond"/>
              </a:rPr>
              <a:t>40%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 FVC/FEV</a:t>
            </a:r>
            <a:r>
              <a:rPr b="0" lang="zh-TW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Ventilatory support in the immediate post-OP period may be necessa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Regional VS general anesthesia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Epidural anesthesia used in ALS patients without reported untoward effe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Regional anesthesia is preferable to G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RA may facilitate progression of neurodegenerative disease: evidence is anecdot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isto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1.Breast tumor r/o ductal adenocarcinom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0" lang="zh-TW" sz="3200" spc="-1" strike="noStrike" u="sng">
                <a:solidFill>
                  <a:srgbClr val="ffffff"/>
                </a:solidFill>
                <a:uFillTx/>
                <a:latin typeface="Garamond"/>
              </a:rPr>
              <a:t>Amyotrophic lateral sclerosis(2001~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3. Gastric ulc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4. Alcoholic with chronic pancreatit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re is evidence of sympathetic hyperactivity and autonomic failure accompanied by reduced baroreflex sensitiv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Handbook For Anesthesia And Co-Existing Disease</a:t>
            </a:r>
            <a:r>
              <a:rPr b="1" lang="zh-TW" sz="4000" spc="-1" strike="noStrike">
                <a:solidFill>
                  <a:srgbClr val="e5e5ff"/>
                </a:solidFill>
                <a:latin typeface="Garamond"/>
              </a:rPr>
              <a:t>, 2002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-OP assess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istory and Examination: general details, bulbar function, respiratory fun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vestigations: to confirm diagnosis, routine works, chest radiography, LFT,ABG, tests of diaphragmatic function, videofluoroscop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e-OP manage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med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pioid: should be avoid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mall dose of benzodiazepin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phylaxis against pulmonary aspiration (i.e. an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receptor antagonis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nitor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C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p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t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uromuscular function monitor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nduction and maintenance of anesthesi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cheal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extubati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should be performed with the patient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fully awak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o ensure maximal function of the laryngeal reflex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gional anesthesia: if appropriate, better than GA,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level of bloc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not to compromise an already weak respiratory muscula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st-OP manage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ffective post-OP pain relief without the use of agents that depress respirat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st-OP ventilation may be required and weaning may be prolon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se report 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46 y/o woman with emergency operation for ile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65 y/o woman with emergency operation for gastric fistula malfun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63 y/o man scheduled for a surgery of rectal canc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49 y/o man scheduled for gastrectom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inal or/and epidural anesthesia without muscle relaxa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V propofol(3mg/kg) and sevoflurane (5%) + inhalation of 2-3% sevoflurane and single IV vecuronium 1 m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A with sevoflurane and epidural anesthesia with lidocaine + vecuroniu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se report Ⅱ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tient undergoing abdominal hysterectom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pidural anesthesia with 2% lidocaine + continuous infusion of low dose propofol for sed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pidural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morphin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rovides excellent post-OP pain relief without respiratory complic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"/>
          <p:cNvSpPr/>
          <p:nvPr/>
        </p:nvSpPr>
        <p:spPr>
          <a:xfrm>
            <a:off x="5105520" y="5791320"/>
            <a:ext cx="388620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ffcc00"/>
                </a:solidFill>
                <a:uFillTx/>
                <a:latin typeface="Verdana"/>
                <a:hlinkClick r:id="rId1"/>
              </a:rPr>
              <a:t>Chen LK</a:t>
            </a:r>
            <a:r>
              <a:rPr b="0" lang="zh-TW" sz="12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zh-TW" sz="1200" spc="-1" strike="noStrike" u="sng">
                <a:solidFill>
                  <a:srgbClr val="ffcc00"/>
                </a:solidFill>
                <a:uFillTx/>
                <a:latin typeface="Verdana"/>
                <a:hlinkClick r:id="rId2"/>
              </a:rPr>
              <a:t>Chang Y</a:t>
            </a:r>
            <a:r>
              <a:rPr b="0" lang="zh-TW" sz="12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zh-TW" sz="1200" spc="-1" strike="noStrike" u="sng">
                <a:solidFill>
                  <a:srgbClr val="ffcc00"/>
                </a:solidFill>
                <a:uFillTx/>
                <a:latin typeface="Verdana"/>
                <a:hlinkClick r:id="rId3"/>
              </a:rPr>
              <a:t>Liu CC</a:t>
            </a:r>
            <a:r>
              <a:rPr b="0" lang="zh-TW" sz="12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zh-TW" sz="1200" spc="-1" strike="noStrike" u="sng">
                <a:solidFill>
                  <a:srgbClr val="ffcc00"/>
                </a:solidFill>
                <a:uFillTx/>
                <a:latin typeface="Verdana"/>
                <a:hlinkClick r:id="rId4"/>
              </a:rPr>
              <a:t>Hou</a:t>
            </a:r>
            <a:r>
              <a:rPr b="0" lang="zh-TW" sz="1200" spc="-1" strike="noStrike" u="sng">
                <a:solidFill>
                  <a:srgbClr val="ffcc00"/>
                </a:solidFill>
                <a:uFillTx/>
                <a:latin typeface="Verdana"/>
                <a:hlinkClick r:id="rId5"/>
              </a:rPr>
              <a:t> WY</a:t>
            </a:r>
            <a:r>
              <a:rPr b="0" lang="zh-TW" sz="1200" spc="-1" strike="noStrike">
                <a:solidFill>
                  <a:srgbClr val="ffffff"/>
                </a:solidFill>
                <a:latin typeface="Verdana"/>
              </a:rPr>
              <a:t>.</a:t>
            </a:r>
            <a:br>
              <a:rPr sz="1200"/>
            </a:br>
            <a:br>
              <a:rPr sz="1200"/>
            </a:br>
            <a:r>
              <a:rPr b="0" lang="zh-TW" sz="1200" spc="-1" strike="noStrike">
                <a:solidFill>
                  <a:srgbClr val="ffffff"/>
                </a:solidFill>
                <a:latin typeface="Verdana"/>
              </a:rPr>
              <a:t>Department of Anesthesiology, National Taiwan University Hospital, Taipei, R.O.C.</a:t>
            </a:r>
            <a:r>
              <a:rPr b="0" lang="zh-TW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ase report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Ⅲ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General anaesthesia in a patient with motor neuron dise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2004 European Academy of anaesthesi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56 y/o man with pancreatic carcinoma scheduled for elective Whipple’s surge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5-h operation → 8-h after, patient recovered consciousness and ventilated with CPAP → 5-h after, extubated with normal breathing pattern → </a:t>
            </a:r>
            <a:r>
              <a:rPr b="0" lang="zh-TW" sz="2800" spc="-1" strike="noStrike">
                <a:solidFill>
                  <a:srgbClr val="66ff33"/>
                </a:solidFill>
                <a:latin typeface="Garamond"/>
              </a:rPr>
              <a:t>3-h after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zh-TW" sz="2800" spc="-1" strike="noStrike">
                <a:solidFill>
                  <a:srgbClr val="66ff33"/>
                </a:solidFill>
                <a:latin typeface="Garamond"/>
              </a:rPr>
              <a:t>secondary surgery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 → 3-h operation → 3-h after…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Without SCC: several complic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ff33"/>
                </a:solidFill>
                <a:latin typeface="Garamond"/>
              </a:rPr>
              <a:t>Low-dose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 cisatracurium: may be a good choi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Garamond"/>
              </a:rPr>
              <a:t>CN I: not perform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Garamond"/>
              </a:rPr>
              <a:t>CN II: visual field – intact; visual acuity — not perform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Garamond"/>
              </a:rPr>
              <a:t>CN III, IV &amp; VI: EOM — ful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Garamond"/>
              </a:rPr>
              <a:t>CN V: facial sensation — intac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Garamond"/>
              </a:rPr>
              <a:t>CN VII: facial palsy (-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Garamond"/>
              </a:rPr>
              <a:t>CN VIII: intac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Garamond"/>
              </a:rPr>
              <a:t>CN IX &amp; X: gag reflex ( + /+ 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ffffff"/>
                </a:solidFill>
                <a:uFillTx/>
                <a:latin typeface="Garamond"/>
              </a:rPr>
              <a:t>CN XI: decreased muscle power of SCM and trapezious musc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Garamond"/>
              </a:rPr>
              <a:t>CN XII: tongue deviation (-), no atrophy or fascicul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Garamond"/>
              </a:rPr>
              <a:t>Reflex: Babinski’s sign (-), Hoffman sign (-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major surgery, using low-dose of cisatracurium and propofol is possi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Repeate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surgery may lead to a considerable increase in respiratory complic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irometry should be performed and the use of neuromuscular monitoring when planning G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ase report Ⅳ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Use of rapacuronium in a child with spinal muscular atrop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Paediatric anaesthesia 200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18 month-old girl with SMA diagnosed at 6 m/o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Scheduled for placement of a percutaneous jejunostomy tub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opental sodium, alfentanil, lidocaine for induction, and mask ventilation with 2%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isoflura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Rapacuronium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9 mg (1 mg/kg) for emergency airway contro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in 10 min, partial recovery of the diaphragm was observed → 20 min after, TOF responses → 75 min after, operation do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versal with neostigmine 0.6 mg and glycopyrrolate 0.12 mg I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uidelines are entirely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based 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xperience with the adult form of anterior horn cell degeneration (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AL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duction with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propofo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n combination with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sevoflurane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ght have avoided laryngospasm and the use of muscle relaxa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lesser dos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might have been sufficient to break laryngospa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F : a good monitor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clus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SCC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best avoided, reported to cause rhabdomyolysis and hyperkalemia from denervated musc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 of neuromuscular monitoring when planning GA: TOF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uscle relaxants should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be avoide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ltogether or </a:t>
            </a:r>
            <a:r>
              <a:rPr b="0" lang="en-US" sz="3200" spc="-1" strike="noStrike">
                <a:solidFill>
                  <a:srgbClr val="66ff33"/>
                </a:solidFill>
                <a:latin typeface="Garamond"/>
              </a:rPr>
              <a:t>shorter-acting/low-dos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muscle relaxants be us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pirometry(2001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68360" y="1600200"/>
          <a:ext cx="8218440" cy="3629160"/>
        </p:xfrm>
        <a:graphic>
          <a:graphicData uri="http://schemas.openxmlformats.org/drawingml/2006/table">
            <a:tbl>
              <a:tblPr/>
              <a:tblGrid>
                <a:gridCol w="2054160"/>
                <a:gridCol w="2055960"/>
                <a:gridCol w="2054160"/>
                <a:gridCol w="20541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bserv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dict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%predict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VC(L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9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7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6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EV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1.0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L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9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%FEV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1.0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(%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7.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5.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C(L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8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7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2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V(L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7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7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0" y="573408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Garamond"/>
              </a:rPr>
              <a:t>Normal standard spirometry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zh-TW" sz="2400" spc="-1" strike="noStrike">
                <a:solidFill>
                  <a:srgbClr val="ffffff"/>
                </a:solidFill>
                <a:latin typeface="Garamond"/>
              </a:rPr>
              <a:t>Normal diffusion capacity</a:t>
            </a:r>
            <a:r>
              <a:rPr b="0" lang="zh-TW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pirometry(2004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600200"/>
          <a:ext cx="8229600" cy="29066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bserv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dict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%predict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VC(L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7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6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5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EV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1.0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L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8.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%FEV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1.0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(%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8.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4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0" y="48690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Garamond"/>
              </a:rPr>
              <a:t>* Normal screening spiromet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7577" t="0" r="1215" b="62787"/>
          <a:stretch/>
        </p:blipFill>
        <p:spPr>
          <a:xfrm>
            <a:off x="1042920" y="836640"/>
            <a:ext cx="6912000" cy="532764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4427640" y="1844640"/>
            <a:ext cx="57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40360" y="1773360"/>
            <a:ext cx="647640" cy="288720"/>
          </a:xfrm>
          <a:prstGeom prst="ellipse">
            <a:avLst/>
          </a:prstGeom>
          <a:noFill/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35638" r="0" b="737"/>
          <a:stretch/>
        </p:blipFill>
        <p:spPr>
          <a:xfrm>
            <a:off x="1835280" y="260280"/>
            <a:ext cx="619272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bout motor neuron diseas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Selectivity of neuronal cell death—motor neuron on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(except 1.ocular motility  2.parasympathetic neuron in sacral spinal cor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Light microscopy: sensory, coordination of movement, cognitive process remain int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Immunostaining: ubiquitin also in nonmotor systems—marker for degene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Glucose metabol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09:04:55Z</dcterms:created>
  <dc:creator>江毅彥</dc:creator>
  <dc:description/>
  <dc:language>en-US</dc:language>
  <cp:lastModifiedBy>ane_2</cp:lastModifiedBy>
  <dcterms:modified xsi:type="dcterms:W3CDTF">2005-11-30T05:23:44Z</dcterms:modified>
  <cp:revision>13</cp:revision>
  <dc:subject/>
  <dc:title>Anesthesia of patients with motor neuron disease</dc:title>
</cp:coreProperties>
</file>