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8275-516C-4738-A8CC-C559AB4E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4DBA-CC91-4DCF-AF52-542D7CF1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5812-0720-4501-A5F7-C940724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9523-8FDC-48AF-BD00-8C19C523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16A1-AEFA-4029-B371-3459E725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938-1D87-4119-9226-B28B324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7F11-7C57-403D-88E8-2737247E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A16E-14CA-4620-8485-1A9E8FC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F0AE-CCD0-4486-9506-A8514A6A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E87-CFBC-4E43-9194-53EBAA7F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EB6-DA3D-4B4C-9231-005C21D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447E-FF5B-4A31-BB83-651C410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67A9-D3EF-46C2-AC91-9335DC3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1213-8643-45D7-B648-0BE09F6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775-4632-45B2-96A0-717B818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FE97-D0C0-4B6A-8686-07F4B601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BE8E-4C84-4766-984F-FFE18523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AD20-5F4E-43A7-B23E-F07B469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83F0-616D-4702-A42A-397CD86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CA95-466A-4341-AE8A-8C7F88AE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E27C-B00F-4F0B-BF6B-2E1340AB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5B71-14A9-41F1-954B-A4391D67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8390-DA90-4115-9876-B5FD05C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CB3A-8DE3-4859-9B1B-753463BF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266-7A24-4274-B663-5EEBE328936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E0E3-C42B-4C41-BC77-1A25E81607CB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query.fcgi?db=pubmed&amp;cmd=Search&amp;term=%22Chen+LK%22%5BAuthor%5D" TargetMode="External"/><Relationship Id="rId2" Type="http://schemas.openxmlformats.org/officeDocument/2006/relationships/hyperlink" Target="http://www.ncbi.nlm.nih.gov/entrez/query.fcgi?db=pubmed&amp;cmd=Search&amp;term=%22Chang+Y%22%5BAuthor%5D" TargetMode="External"/><Relationship Id="rId3" Type="http://schemas.openxmlformats.org/officeDocument/2006/relationships/hyperlink" Target="http://www.ncbi.nlm.nih.gov/entrez/query.fcgi?db=pubmed&amp;cmd=Search&amp;term=%22Liu+CC%22%5BAuthor%5D" TargetMode="External"/><Relationship Id="rId4" Type="http://schemas.openxmlformats.org/officeDocument/2006/relationships/hyperlink" Target="http://www.ncbi.nlm.nih.gov/entrez/query.fcgi?db=pubmed&amp;cmd=Search&amp;term=%22Hou+WY%22%5BAuthor%5D" TargetMode="External"/><Relationship Id="rId5" Type="http://schemas.openxmlformats.org/officeDocument/2006/relationships/hyperlink" Target="http://www.ncbi.nlm.nih.gov/entrez/query.fcgi?db=pubmed&amp;cmd=Search&amp;term=%22Hou+WY%22%5BAuthor%5D" TargetMode="Externa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384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nesthesia of patients with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otor neuron diseas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sentation by: SC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廖伯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江毅彥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out motor neuron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ower motor neur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LMN): axons synapse directly on skeletal muscl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pper motor neur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UMN): motor cortex →pyramidal tract →LM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MN loss sign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ccid paraly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scicul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ton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reflexia, areflex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UMN loss signs: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Initially weak and flacc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Eventually spas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Hypert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Hyperreflex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Babinski 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320760"/>
            <a:ext cx="85327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yotrophic lateral scle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yotroph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psy →muscle atroph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al sclerosi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al colum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liosis →firm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u Gehrig's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0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040360" cy="532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5661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oss of anterior horn cells, the anterior (ventral) spinal motor nerve roots demonstrate atrop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velence:3 to 5 per 100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Western pacif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Sporadic (heavy metal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nherited( AD): 5 to 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0 to 70 y/o (5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Median survival :3 to 5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yotrophic lateral scle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per and lower motor neu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gressive weak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lusion of alternative diagn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bar, cervical, thoracic, lumbosacral motor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→possi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→prob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→defin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367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nical manifes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ymmetric weakness, usually one of distally limb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amping with volitional movements, typically in the mo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ing and atrophy of mus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scic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eractivity of  muscle stretch reflex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 of chewing, swallowing, dysarthria, exaggeration of emotion expres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iratory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piratory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th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cturnal  hypoventilation→ morning headache, daytime hypersomno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or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urrent pulmonary aspi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urrent pneumo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fail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53 y/o Fem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Alcohol(+), Smoking (+) 1/2 PP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General appearance: weak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Vital sign: T/P/R=36.2/84/18, BP:120/60 mmHg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Chest: Symmetric expan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Extremities: Movable but weak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hogen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well defin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D1 mutation →free radical accu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utamate (EAAT2, astroglial cel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GF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69440" cy="53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3141720"/>
            <a:ext cx="122400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iscussion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esthesia in patients with 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Miller's anesthesi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,2005 Anesthesia and neurosurgery, 20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onses to muscle relax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bar dys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ng function: spirome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ional anesthesia VS general anesthe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ponses to muscle relax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disposed to SCC-induced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hyperkalemia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because of denervation and atrophy of skeletal mus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atient with motor neuron disease are at risk for hyperkalemia when using SCC because of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upregulation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of nACh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Garamond"/>
              </a:rPr>
              <a:t>SCC is best avoi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ALS patient, in addition,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presynaptic impairment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of neuromuscular transmission, explains their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hypersensitivity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to nondepolarizing neuromuscular bloc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ncreased sensitivity to nondepolarizing muscle relaxants → either relaxants be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avoided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altogether or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 shorter-acting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relaxants be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lbar dys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In late stage of the disease, reduced respiratory muscle reserve and abnormal airway protective reflexes → increased risk for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respiratory depression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aspiration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secondary to the use of sedative and anesthetic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Aspiration prophylaxis should be considered: no evi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Placement of a feeding tu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ung fun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Respiratory muscle weakness frequently develo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-OP ventilatory impairment may help predict anesthetic risk → one small study: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40%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FVC/FEV</a:t>
            </a:r>
            <a:r>
              <a:rPr b="0" lang="zh-TW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Ventilatory support in the immediate post-OP period may be nece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gional VS general anesthesia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Epidural anesthesia used in ALS patients without reported untoward eff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Regional anesthesia is preferable to 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RA may facilitate progression of neurodegenerative disease: evidence is anecdo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1.Breast tumor r/o ductal adenocarcino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Garamond"/>
              </a:rPr>
              <a:t>Amyotrophic lateral sclerosis(2001~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3. Gastric ul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. Alcoholic with chronic pancreat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is evidence of sympathetic hyperactivity and autonomic failure accompanied by reduced baroreflex sensi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andbook For Anesthesia And Co-Existing Disease</a:t>
            </a: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, 200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OP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 and Examination: general details, bulbar function, respiratory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gations: to confirm diagnosis, routine works, chest radiography, LFT,ABG, tests of diaphragmatic function, videofluorosco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-OP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ed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oid: should be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 dose of benzodiazep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hylaxis against pulmonary aspiration (i.e. an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receptor antagoni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C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romuscular function monito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duction and maintenance of anesthes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cheal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extub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hould be performed with the patient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fully aw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ensure maximal function of the laryngeal refle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ional anesthesia: if appropriate, better than GA,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level of bloc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t to compromise an already weak respiratory muscul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-OP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ive post-OP pain relief without the use of agents that depress respira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t-OP ventilation may be required and weaning may be prolo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report 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6 y/o woman with emergency operation for ile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65 y/o woman with emergency operation for gastric fistula mal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63 y/o man scheduled for a surgery of rectal can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9 y/o man scheduled for gastrecto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nal or/and epidural anesthesia without muscle relax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V propofol(3mg/kg) and sevoflurane (5%) + inhalation of 2-3% sevoflurane and single IV vecuronium 1 m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 with sevoflurane and epidural anesthesia with lidocaine + vecuron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report 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ient undergoing abdominal hysterecto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dural anesthesia with 2% lidocaine + continuous infusion of low dose propofol for sed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dural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morphin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vides excellent post-OP pain relief without respiratory com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791320"/>
            <a:ext cx="38862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Chen LK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Chang Y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Liu CC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Hou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 WY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200"/>
            </a:br>
            <a:br>
              <a:rPr sz="1200"/>
            </a:b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Department of Anesthesiology, National Taiwan University Hospital, Taipei, R.O.C.</a:t>
            </a:r>
            <a:r>
              <a:rPr b="0" lang="zh-TW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report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General anaesthesia in a patient with motor neuron dise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2004 European Academy of anaesthesi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56 y/o man with pancreatic carcinoma scheduled for elective Whipple’s surg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5-h operation → 8-h after, patient recovered consciousness and ventilated with CPAP → 5-h after, extubated with normal breathing pattern →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3-h after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secondary surgery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→ 3-h operation → 3-h after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Without SCC: several com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Low-dose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cisatracurium: may be a good cho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: not perfo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I: visual field – intact; visual acuity — not perfo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II, IV &amp; VI: EOM — f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V: facial sensation — inta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VII: facial palsy (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VIII: inta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X &amp; X: gag reflex ( + /+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ff"/>
                </a:solidFill>
                <a:uFillTx/>
                <a:latin typeface="Garamond"/>
              </a:rPr>
              <a:t>CN XI: decreased muscle power of SCM and trapezious musc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XII: tongue deviation (-), no atrophy or fascic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Reflex: Babinski’s sign (-), Hoffman sign (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major surgery, using low-dose of cisatracurium and propofol i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Repea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urgery may lead to a considerable increase in respiratory co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ometry should be performed and the use of neuromuscular monitoring when planning 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report Ⅳ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Use of rapacuronium in a child with spinal muscular atro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aediatric anaesthesia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18 month-old girl with SMA diagnosed at 6 m/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Scheduled for placement of a percutaneous jejunostomy tu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opental sodium, alfentanil, lidocaine for induction, and mask ventilation with 2%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isoflur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Rapacuroniu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 mg (1 mg/kg) for emergency airway contr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in 10 min, partial recovery of the diaphragm was observed → 20 min after, TOF responses → 75 min after, operation d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rsal with neostigmine 0.6 mg and glycopyrrolate 0.12 mg I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uidelines are entirely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based 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xperience with the adult form of anterior horn cell degeneration (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AL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uction with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propofo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combination with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sevofluran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ght have avoided laryngospasm and the use of muscle relax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lesser d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ght have been sufficient to break laryngospa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F : a good monito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C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best avoided, reported to cause rhabdomyolysis and hyperkalemia from denervated mus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of neuromuscular monitoring when planning GA: TOF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cle relaxants should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be avoid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together or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shorter-acting/low-d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uscle relaxants be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irometry(200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600200"/>
          <a:ext cx="8218440" cy="362916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VC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6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9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7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5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C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V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7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0" y="57340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Normal standard spirometr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Normal diffusion capacity</a:t>
            </a:r>
            <a:r>
              <a:rPr b="0" lang="zh-TW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irometry(2004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2906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VC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5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8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0" y="4869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* Normal screening spirome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577" t="0" r="1215" b="62787"/>
          <a:stretch/>
        </p:blipFill>
        <p:spPr>
          <a:xfrm>
            <a:off x="1042920" y="836640"/>
            <a:ext cx="6912000" cy="53276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427640" y="1844640"/>
            <a:ext cx="57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1773360"/>
            <a:ext cx="647640" cy="288720"/>
          </a:xfrm>
          <a:prstGeom prst="ellipse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638" r="0" b="737"/>
          <a:stretch/>
        </p:blipFill>
        <p:spPr>
          <a:xfrm>
            <a:off x="1835280" y="260280"/>
            <a:ext cx="619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out motor neuron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Selectivity of neuronal cell death—motor neuron on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except 1.ocular motility  2.parasympathetic neuron in sacral spinal cor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Light microscopy: sensory, coordination of movement, cognitive process remain i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mmunostaining: ubiquitin also in nonmotor systems—marker for de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Glucose metabo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9:04:55Z</dcterms:created>
  <dc:creator>江毅彥</dc:creator>
  <dc:description/>
  <dc:language>en-US</dc:language>
  <cp:lastModifiedBy>ane_2</cp:lastModifiedBy>
  <dcterms:modified xsi:type="dcterms:W3CDTF">2005-11-30T05:23:44Z</dcterms:modified>
  <cp:revision>13</cp:revision>
  <dc:subject/>
  <dc:title>Anesthesia of patients with motor neuron disease</dc:title>
</cp:coreProperties>
</file>