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62DA2-A03E-47A6-BC7E-3B9547899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33BC4-B9EB-456C-8C21-3097A29AD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6B5FE-35FE-43B8-9039-0069CD601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AFA3A-6F9B-49DB-A291-D936010FA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B90DF-E5B6-431D-A9D3-F998BF7F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EF61E-2B83-4E50-8A8F-246AF1A4D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76826-74B1-469E-A349-C9EDEEA1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9AC0E-3FB6-403E-BE25-A2097EFAE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ACE82-89EE-498E-BB70-0EEFDF592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E6B2-4915-4B41-8C18-56FFCA53D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F80C5-74AB-42CA-9DBA-6E6214C04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1D744-D662-4F58-BB8F-5D0137FB6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7DB0-945E-4599-978E-BA54D5A002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s in Stock Mark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g</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MCAN03970_0000[1]"/>
          <p:cNvPicPr/>
          <p:nvPr/>
        </p:nvPicPr>
        <p:blipFill>
          <a:blip r:embed="rId1"/>
          <a:stretch/>
        </p:blipFill>
        <p:spPr>
          <a:xfrm>
            <a:off x="3262320" y="1693800"/>
            <a:ext cx="2617920" cy="346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ors who are very gree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right strategy an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ls can make money ...</a:t>
            </a:r>
            <a:br>
              <a:rPr sz="3200"/>
            </a:br>
            <a:r>
              <a:rPr b="0" lang="en-US" sz="3200" spc="-1" strike="noStrike">
                <a:solidFill>
                  <a:srgbClr val="000000"/>
                </a:solidFill>
                <a:latin typeface="Arial"/>
              </a:rPr>
              <a:t>Bears can make money ...</a:t>
            </a:r>
            <a:br>
              <a:rPr sz="3200"/>
            </a:br>
            <a:r>
              <a:rPr b="0" lang="en-US" sz="3200" spc="-1" strike="noStrike">
                <a:solidFill>
                  <a:srgbClr val="000000"/>
                </a:solidFill>
                <a:latin typeface="Arial"/>
              </a:rPr>
              <a:t>But hogs are investors who are too greedy and usually get slaughte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tri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MCAN00607_0000[1]"/>
          <p:cNvPicPr/>
          <p:nvPr/>
        </p:nvPicPr>
        <p:blipFill>
          <a:blip r:embed="rId1"/>
          <a:stretch/>
        </p:blipFill>
        <p:spPr>
          <a:xfrm>
            <a:off x="3284640" y="1693800"/>
            <a:ext cx="2573280" cy="34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trich</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investors who stick to their old strategies, oblivious to changes in the world around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ickens</a:t>
            </a:r>
            <a:endParaRPr b="0" lang="en-US" sz="4400" spc="-1" strike="noStrike">
              <a:solidFill>
                <a:srgbClr val="000000"/>
              </a:solidFill>
              <a:latin typeface="Arial"/>
            </a:endParaRPr>
          </a:p>
        </p:txBody>
      </p:sp>
      <p:pic>
        <p:nvPicPr>
          <p:cNvPr id="71" name="Picture 2" descr=""/>
          <p:cNvPicPr/>
          <p:nvPr/>
        </p:nvPicPr>
        <p:blipFill>
          <a:blip r:embed="rId1"/>
          <a:stretch/>
        </p:blipFill>
        <p:spPr>
          <a:xfrm>
            <a:off x="1714680" y="1947960"/>
            <a:ext cx="5715000" cy="382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icken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raid to lose an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ar overrides ambition to make prof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ither in money-market securities or off the market entir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Picture 9" descr="MCBD19771_0000[1]"/>
          <p:cNvPicPr/>
          <p:nvPr/>
        </p:nvPicPr>
        <p:blipFill>
          <a:blip r:embed="rId1"/>
          <a:stretch/>
        </p:blipFill>
        <p:spPr>
          <a:xfrm>
            <a:off x="3287880" y="2165400"/>
            <a:ext cx="2568240" cy="2527200"/>
          </a:xfrm>
          <a:prstGeom prst="rect">
            <a:avLst/>
          </a:prstGeom>
          <a:ln w="0">
            <a:noFill/>
          </a:ln>
        </p:spPr>
      </p:pic>
      <p:pic>
        <p:nvPicPr>
          <p:cNvPr id="45" name="Picture 10" descr="MCBD19771_0000[1]"/>
          <p:cNvPicPr/>
          <p:nvPr/>
        </p:nvPicPr>
        <p:blipFill>
          <a:blip r:embed="rId2"/>
          <a:stretch/>
        </p:blipFill>
        <p:spPr>
          <a:xfrm>
            <a:off x="2057400" y="2165400"/>
            <a:ext cx="510552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ors who expect the stock prices to come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ll</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MCj02307820000[1]"/>
          <p:cNvPicPr/>
          <p:nvPr/>
        </p:nvPicPr>
        <p:blipFill>
          <a:blip r:embed="rId1"/>
          <a:stretch/>
        </p:blipFill>
        <p:spPr>
          <a:xfrm>
            <a:off x="1295280" y="1744560"/>
            <a:ext cx="6324840" cy="419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l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ors who expect the prices to go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Bull and Be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l market" and "bear market" are derived from the way those animals attack a foe, because bears attack by swiping their paws downward and bulls toss their horns upwar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2209320"/>
            <a:ext cx="6400800" cy="1752840"/>
          </a:xfrm>
          <a:prstGeom prst="rect">
            <a:avLst/>
          </a:prstGeom>
          <a:noFill/>
          <a:ln w="0">
            <a:noFill/>
          </a:ln>
        </p:spPr>
        <p:txBody>
          <a:bodyPr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MYTH</a:t>
            </a:r>
            <a:endParaRPr b="0" lang="en-US" sz="9600" spc="-1" strike="noStrike">
              <a:solidFill>
                <a:srgbClr val="000000"/>
              </a:solidFill>
              <a:latin typeface="Arial"/>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5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go, "bear skin jobbers" were known for selling bear skins that they did not own; i.e., the bears had not yet been caught. This was the original source of the term "bear." This term eventually was used to describe short sellers, speculators who sold shares that they did not own, bought after a price drop, and then delivered the sha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bull and bear baiting were once popular sports, "bulls" was understood as the opposite of "bears." I.e., the bulls were those people who bought in the expectation that a stock price would rise, not 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kshmi</dc:creator>
  <dc:description/>
  <dc:language>en-US</dc:language>
  <cp:lastModifiedBy>Lakshmi</cp:lastModifiedBy>
  <dcterms:modified xsi:type="dcterms:W3CDTF">2015-04-20T15:07:3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