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CF1-6573-4706-8FD2-2FD907D1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41C-C3DF-45C8-B03C-7061502E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AC17-4B38-4D62-943E-3ADCDC0A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7D8-2261-4C51-9495-E651818B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3783-74D9-4BB4-83D6-0D8C5405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5438-4C93-498E-9FCD-F5D37FB7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07DD-3E29-46F0-9ABE-9B4C17A4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EA8A-9CF5-4D0F-BF07-269FFF99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7198-25A1-421A-9CEA-303E0598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D622-25BA-4900-91A3-3F860CA7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37F7-1046-4240-9D8A-09BB6791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C4B-E03E-439F-AA76-1C67BA43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8C3F-5E3E-40D9-8D64-0A637D90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4D06-50B4-46AB-8328-197D1A89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6931-B783-445A-96C6-7D56F414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D19D-4B7C-49CF-9A26-CB6149CA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0A86-EF98-4560-8510-79858DCA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6B1-C742-4BFA-927B-5BBFAAFA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CA1-D4BB-43FE-AE20-271DB099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110-96FA-45BE-816D-636005F4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257-85FA-44C8-9817-823EF7D0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F3FA-EEA6-4DB6-9CAE-8CFA1F8F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E40-8E5B-4F46-8B78-1A889DF1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A27-F1C1-4707-9473-1BF1F293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108A-787B-427D-BD02-D073A9C55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E31E-5262-41BF-811D-E798274CC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uman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tonomic Nervous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ympathetic Gangl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ravertebral gang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erv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do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i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ior mesent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rior mesent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5" name="FG17_05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08400" y="15652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rac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160020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nglionic (#2) axons are relatively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apse at target cell or or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transmitter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repinephrine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1" name="FG17_05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08400" y="15652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rac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160020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gain, just 2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anglionic (#1) cell body in eith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nal cord ----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raniosacra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7" name="FG17_09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65600" y="2936880"/>
            <a:ext cx="111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ni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9718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apse of preganglionic with ganglionic neurons happens in the gang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nglia are located on the target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3" name="FG17_09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10040" y="2971800"/>
            <a:ext cx="111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ni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2971800"/>
            <a:ext cx="1371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nglionic axons are relatively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apse at target cell or or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transmitter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etylcholine (A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9" name="FG17_09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10040" y="2971800"/>
            <a:ext cx="111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ni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971800"/>
            <a:ext cx="1371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es various physiological processes unconsciously, for inst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io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r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3" name="FG17_02A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616440" y="4765680"/>
            <a:ext cx="19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17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. 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472428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ympath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racolum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vertebral gang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h then 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rasympath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niosac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nglia at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ACh and 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ological Eff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rgans hav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ual inn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– increase heart rate, force of ventricle contraction, increase blood pressure by constricting smooth muscles of art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-- oppo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ological Eff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– dilation of bronchiole smooth muscle which increases di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– oppo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i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– decreases activity of organs and g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-- oppos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iological Eff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– dilation of pup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– constriction of pup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prod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– causes ejaculation in 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– sexual arousal (erection) in both s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2 Subdivisions of the A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ympathetic 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ight or fligh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rasympathetic 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st and repo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atomy of A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only 2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eganglionic neuron (#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anglionic neuron (#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angl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tructure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xon of the preganglionic neuron synapses (release of neurotransmitter)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anglionic neuron (dendrite or cell b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xon of the ganglion synapses with the target cell or org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atomy of the A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s between sympathetic and parasympathetic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of preganglionic (#1) cell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of the gang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transmitters released at synap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n target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gain, just 2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anglion (#1) cell body in gray matter of spinal cord ---- level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oracolumb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3" name="FG17_05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08400" y="15652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rac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60020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apse of preganglionic (#1) with ganglionic (#2) neurons happens in the gang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 cervical gang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 abdominal gang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transmitter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etylcholine (A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ympathetic Anatom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FG17_05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08400" y="15652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rac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160020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20:41:08Z</dcterms:created>
  <dc:creator>Ned Willams</dc:creator>
  <dc:description/>
  <dc:language>en-US</dc:language>
  <cp:lastModifiedBy>Ned Williams</cp:lastModifiedBy>
  <dcterms:modified xsi:type="dcterms:W3CDTF">2002-03-29T18:37:31Z</dcterms:modified>
  <cp:revision>20</cp:revision>
  <dc:subject/>
  <dc:title>Human Anatomy</dc:title>
</cp:coreProperties>
</file>