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1D2-E239-4393-B960-0B52AFA3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69A-649A-47B5-A3DA-853C5A8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9D9-47AF-4C64-A91E-2C7C26A6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452-094B-4EB5-A31D-E08C7510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976A-7C0B-4794-9315-F8FC0713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49FA-9CF2-4BAB-B2C7-FEAE8D18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27B-7FD1-49C6-AFCC-DEEC8E3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F528-CE29-426E-9051-2995364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BBB-7D7C-4EC4-BFDC-48715F55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B354-DBCD-40F0-8D02-24AB830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990-60BE-4644-AF16-7286569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DE6-69EB-44FB-8F5D-E44FDE4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1F01-CA88-4F80-9503-78E4D63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500-C0AF-4A6D-9599-7F76459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49C-DC19-465A-8814-2B75528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230-0220-42F3-B449-8DC2B6D6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0308-E4CD-47CA-A70B-14F2E63E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039-8759-4EB0-8CC6-C00564B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72D-9553-4BA2-8918-AF6A2F8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44B-B056-4AF7-8F6B-3D2C7C9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9DA-08F2-421F-88F2-A73FB20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979-255A-40E4-ABE1-EA22017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AED-C02F-4534-AA38-48A902A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88B-8927-4980-8992-F0A9820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4F48-EE02-410E-AAF3-0720A5A64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DC33-94FB-4A22-8143-B167F516D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uman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nomic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Gangl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raverteb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rv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do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i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mesen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ior mesen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onic (#2) axons are relatively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at target cell or or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repinephrine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gain, just 2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anglionic (#1) cell body in 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al cord ----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raniosacr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7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65600" y="293688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9718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of preganglionic with ganglionic neurons happens in the gang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a are located on the target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0040" y="297180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9718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onic axons are relatively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at target cell or or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9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0040" y="297180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9718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s various physiological processes unconsciously, for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FG17_02A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16440" y="476568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7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 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72428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ympa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racolum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verteb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 then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rasympa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niosac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glia at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ACh and 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rgans hav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ual inn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increase heart rate, force of ventricle contraction, increase blood pressure by constricting smooth muscles of art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-- oppo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ilation of bronchiole smooth muscle which increases di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oppo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ecreases activity of organs and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-- oppo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ilation of pu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constriction of pu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prod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causes ejaculation in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sexual arousal (erection) in both s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Subdivisions of the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ympathetic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ght or fligh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asympathetic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t and repo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atomy of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only 2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ganglionic neuron (#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nglionic neuron (#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ructure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xon of the preganglionic neuron synapses (release of neurotransmitter)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nglionic neuron (dendrite or cell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xon of the ganglion synapses with the target cell or or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atomy of the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between sympathetic and parasympathetic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preganglionic (#1) cell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the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s released at syn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n target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gain, just 2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anglion (#1) cell body in gray matter of spinal cord ---- level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oracolumb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of preganglionic (#1) with ganglionic (#2) neurons happens in the gang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cervical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abdominal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0:41:08Z</dcterms:created>
  <dc:creator>Ned Willams</dc:creator>
  <dc:description/>
  <dc:language>en-US</dc:language>
  <cp:lastModifiedBy>Ned Williams</cp:lastModifiedBy>
  <dcterms:modified xsi:type="dcterms:W3CDTF">2002-03-29T18:37:31Z</dcterms:modified>
  <cp:revision>20</cp:revision>
  <dc:subject/>
  <dc:title>Human Anatomy</dc:title>
</cp:coreProperties>
</file>