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A625-79FC-4837-A432-CE98BFD3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4B53-1D53-48DF-88BE-E3626013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82E3-6EA3-4BD8-8118-08BF9E49B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5B64-10A0-45DE-BDBB-23B8D101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FD6B-2DC3-4D6D-B222-6F5D5553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2AC2-7C2F-4A21-A699-DBF3A860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0AD0-641C-428C-99FA-50331A33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D891-2543-42C4-8DC4-37D77BF2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1080-2921-4393-893A-CDBE514E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160C-5A82-4F9D-9FE6-8A854527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24A0-475B-4241-82C5-48D846A2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1BBA-1E77-44FC-BCF8-3988D20C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5D1D-1678-4343-A96B-60EFB651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6783-A48C-48D7-AA2B-85BE7C62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14D1-8403-425F-B395-97239AF6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B04F-56D9-4369-8E48-2B1F0E5C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6194-A216-4A2A-9F80-9F05DB8E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DE97-A2F3-42DC-AFB9-A6B86E88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4198-A02C-4508-BFB2-D9B561F3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7771-93B1-4FA6-91B8-D539A378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9E55-D434-4DB4-B741-13FDCF33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7E6E-578A-4784-B455-B9AC8DA2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EB53-4296-4026-8DE4-4D4D1DB3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F7DA-B51A-47E0-A48B-C73ED44A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C28F-0B18-45C1-8F24-F437AAD1EEA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DC03-BFED-480E-BE66-E1931A48C9F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Anti-Anemia Drug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8288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505320" y="533520"/>
            <a:ext cx="211428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ore 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Hematopoietic Growth Factor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Colony stimulating Factor-1 (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CSF-1 or M-CS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55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cts synergistically with GM-CSF and IL-3 to stimulate monocyte/macrophage colony formation and functio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Granulocyte Colony Stimulating Factor         (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G-CS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-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ilgrast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cts </a:t>
            </a:r>
            <a:r>
              <a:rPr b="0" lang="en-US" sz="2200" spc="-1" strike="noStrike">
                <a:solidFill>
                  <a:srgbClr val="ffcc66"/>
                </a:solidFill>
                <a:latin typeface="Tahoma"/>
              </a:rPr>
              <a:t>synergistically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wit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IL-3, GM-CSF and CSF-1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o stimulate formation of megakaryocytes, granulocyte-macrophage and high proliferative potential (HPP) colon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duces release of granulocytes from marro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ore 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Hematopoietic Growth Factor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 Thrombopoietin 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(TS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ases the size and number of megakaryocy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ccff33"/>
                </a:solidFill>
                <a:latin typeface="Tahoma"/>
              </a:rPr>
              <a:t>(IL-11 also useful in stimulating productio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ases the concentration of early 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megakaryocytes cell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SACHE+cells) in bone marrow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duces an increase in megakaryocytes endomitosis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Increases platelet size and number in plasma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3276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ron Cyc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3505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cc66"/>
                </a:solidFill>
                <a:latin typeface="Tahoma"/>
              </a:rPr>
              <a:t>5 - 10%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 of ingested iron is </a:t>
            </a:r>
            <a:r>
              <a:rPr b="0" lang="en-US" sz="2100" spc="-1" strike="noStrike">
                <a:solidFill>
                  <a:srgbClr val="ffcc66"/>
                </a:solidFill>
                <a:latin typeface="Tahoma"/>
              </a:rPr>
              <a:t>absorbed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Once ingested the </a:t>
            </a:r>
            <a:r>
              <a:rPr b="0" lang="en-US" sz="2100" spc="-1" strike="noStrike">
                <a:solidFill>
                  <a:srgbClr val="ffcc66"/>
                </a:solidFill>
                <a:latin typeface="Tahoma"/>
              </a:rPr>
              <a:t>acid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 in the </a:t>
            </a:r>
            <a:r>
              <a:rPr b="0" lang="en-US" sz="2100" spc="-1" strike="noStrike">
                <a:solidFill>
                  <a:srgbClr val="ffcc66"/>
                </a:solidFill>
                <a:latin typeface="Tahoma"/>
              </a:rPr>
              <a:t>stomach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. Aids in </a:t>
            </a:r>
            <a:r>
              <a:rPr b="0" lang="en-US" sz="2200" spc="-1" strike="noStrike">
                <a:solidFill>
                  <a:srgbClr val="ffcc66"/>
                </a:solidFill>
                <a:latin typeface="Tahoma"/>
              </a:rPr>
              <a:t>ionization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f iro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2200" spc="-1" strike="noStrike">
                <a:solidFill>
                  <a:srgbClr val="ffcc66"/>
                </a:solidFill>
                <a:latin typeface="Tahoma"/>
              </a:rPr>
              <a:t>Splits chelated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food </a:t>
            </a:r>
            <a:r>
              <a:rPr b="0" lang="en-US" sz="2200" spc="-1" strike="noStrike">
                <a:solidFill>
                  <a:srgbClr val="ffcc66"/>
                </a:solidFill>
                <a:latin typeface="Tahoma"/>
              </a:rPr>
              <a:t>iron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from chelato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3. Maintains </a:t>
            </a:r>
            <a:r>
              <a:rPr b="0" lang="en-US" sz="2200" spc="-1" strike="noStrike">
                <a:solidFill>
                  <a:srgbClr val="ffcc66"/>
                </a:solidFill>
                <a:latin typeface="Tahoma"/>
              </a:rPr>
              <a:t>iron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in </a:t>
            </a:r>
            <a:r>
              <a:rPr b="0" lang="en-US" sz="2200" spc="-1" strike="noStrike">
                <a:solidFill>
                  <a:srgbClr val="ffcc66"/>
                </a:solidFill>
                <a:latin typeface="Tahoma"/>
              </a:rPr>
              <a:t>soluble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orm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4. Allows iron to remain in the absorbable form </a:t>
            </a:r>
            <a:r>
              <a:rPr b="0" lang="en-US" sz="2200" spc="-1" strike="noStrike">
                <a:solidFill>
                  <a:srgbClr val="ffcc66"/>
                </a:solidFill>
                <a:latin typeface="Tahoma"/>
              </a:rPr>
              <a:t>Fe</a:t>
            </a:r>
            <a:r>
              <a:rPr b="0" lang="en-US" sz="2200" spc="-1" strike="noStrike" baseline="30000">
                <a:solidFill>
                  <a:srgbClr val="ffcc66"/>
                </a:solidFill>
                <a:latin typeface="Tahoma"/>
              </a:rPr>
              <a:t>3+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62520" y="457200"/>
            <a:ext cx="49719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Mechanism of Iron Absorptio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914400"/>
          <a:ext cx="8458200" cy="52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14400"/>
                    <a:ext cx="8458200" cy="52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rapeutic uses of Ir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Iron Deficient Anem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Pregnan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mature Bab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od lo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okworn infes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Malabsorption Syndr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 Bleeding due 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lc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pir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cess consumption of coffe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ron Preparatio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Oral Ir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Ferrous Sulfat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Feosol) – 300 mg t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de Effects are extremely mil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usea, upper abdominal pain, constipation or diarrhea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Cheape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orm of Iron and one of the most </a:t>
            </a: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widely us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Parenter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Iron Dextr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Imferon) – IM or 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icated </a:t>
            </a: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for patients who cannot tolerate or absorb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oral ir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r where oral iron is insufficient to treat the condition  ie. Malabsorption syndrome, prolonged salicylate therapy, dialysis pati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oxicity of Iron Overdos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5000 deaths/yea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the US, usually in child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% of children presenting with iron toxicity will d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1 to 2 grams are sufficient to cause dea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high doses, Iron is absorbed through passive diffusion with no regu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ron – Clinical Effect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Early cha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Vomiting, diarrhea       Blood Volume      HR  TPR (reflex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cidosis from Iron oxidation,   Krebs cycle and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naerobic metabolism        citric acid and lactic aci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mediate cha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mprovement (short lived)      profound shock and CV Collapse       Hepatic Failure, jaundice, pulmonary edema and death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Late St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ntestinal scarring, fatty acid degeneration of liver, cirrhosis and death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952880" y="36576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1905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1752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133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19720" y="25909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952880" y="24379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1905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324480" y="1752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858000" y="1752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38862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reatment of Iron Overdos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412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xic leve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D – 200-300mgkg, plasma iron &gt; 300ug/d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2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cc66"/>
                </a:solidFill>
                <a:latin typeface="Tahoma"/>
              </a:rPr>
              <a:t>ABC’s supportive car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Bicarbonate for acidosi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cc66"/>
                </a:solidFill>
                <a:latin typeface="Tahoma"/>
              </a:rPr>
              <a:t>Fluids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for blood los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Ipecac or lavag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Chelation with </a:t>
            </a:r>
            <a:r>
              <a:rPr b="0" lang="en-US" sz="2500" spc="-1" strike="noStrike">
                <a:solidFill>
                  <a:srgbClr val="ffcc66"/>
                </a:solidFill>
                <a:latin typeface="Tahoma"/>
              </a:rPr>
              <a:t>Deferoxamin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358128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971440" y="274320"/>
            <a:ext cx="42670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Vitamin B</a:t>
            </a:r>
            <a:r>
              <a:rPr b="0" lang="en-US" sz="4000" spc="-1" strike="noStrike" baseline="-25000">
                <a:solidFill>
                  <a:srgbClr val="ffffcc"/>
                </a:solidFill>
                <a:latin typeface="Tahoma"/>
              </a:rPr>
              <a:t>12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ource: In food, especially in liver and kidneys.  GI Microorganism synthesis, Vitamin Supplements (Cyanocobalamin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ecessary for normal DNA synthesi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bsorption of B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ahoma"/>
              </a:rPr>
              <a:t>12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Intrinsic Facto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low dose): a protein made by stomach parietal cells that binds to B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12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 delivers it from the ileum via a calcium mediated event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Mass Ac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High dose): 1000mg/day, absorbed via passive diffu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23880" y="39600"/>
          <a:ext cx="186696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9600"/>
                    <a:ext cx="186696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nemi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st presenting manifestation of disease, with pain being the first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defined as: low hemoglobin, low RBC count and low RBC mas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ually presents with pallor, fatigability, weakness and pale conjunctiva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order to properly treat the anemia, you must determine the caus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ahoma"/>
              </a:rPr>
              <a:t>12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Deficienc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B</a:t>
            </a:r>
            <a:r>
              <a:rPr b="0" lang="en-US" sz="2800" spc="-1" strike="noStrike" baseline="-25000">
                <a:solidFill>
                  <a:srgbClr val="ffcc66"/>
                </a:solidFill>
                <a:latin typeface="Tahoma"/>
              </a:rPr>
              <a:t>12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 deficienc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ill cause peripheral neuropathy and a 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macrocytic anemi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a pernicious anemia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Folic Aci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dministration can correct the macrocytic anemia but will 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fail to correc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peripheral neuropath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treat the 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neuropathy, Vit B</a:t>
            </a:r>
            <a:r>
              <a:rPr b="0" lang="en-US" sz="2800" spc="-1" strike="noStrike" baseline="-25000">
                <a:solidFill>
                  <a:srgbClr val="ffcc66"/>
                </a:solidFill>
                <a:latin typeface="Tahoma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ust be utilized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echanism for Peripheral Neuropath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balamin is a cofactor for the enzyme Methylmalonyl-CoA mutase which converts 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methylmalonyl-CoA to succinyl-Co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ccinyl-CoA enters the Krebs cycles and goes into nerves to make myelin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no Vitamin 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methylmalonyl-CoA goes on to form 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abnormal fatty acid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causes subacute degeneration of the nerves.  Only 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an correct this problem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rapeutic Uses of B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ahoma"/>
              </a:rPr>
              <a:t>12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ily Requirements - 0.6-1.0mh/day; 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/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~ 1 ye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Pernicious Anem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aired GI absorption of 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strectom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Corrosive Injur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GI muco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Fish tape wor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worm siphons off 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cebo abuse with 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2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pecially in elderly patient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04960" y="2743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olic Aci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n food – yeast, egg yolk, liver and leafy vegeta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lic Acid (F.A.) is absorbed in the </a:t>
            </a: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small intestines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.A. is converted to </a:t>
            </a:r>
            <a:r>
              <a:rPr b="0" lang="en-US" sz="2400" spc="-1" strike="noStrike">
                <a:solidFill>
                  <a:srgbClr val="ccff33"/>
                </a:solidFill>
                <a:latin typeface="Tahoma"/>
              </a:rPr>
              <a:t>tetrahydrofolat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by </a:t>
            </a:r>
            <a:r>
              <a:rPr b="0" lang="en-US" sz="2400" spc="-1" strike="noStrike">
                <a:solidFill>
                  <a:srgbClr val="ccff33"/>
                </a:solidFill>
                <a:latin typeface="Tahoma"/>
              </a:rPr>
              <a:t>dihydrofolat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ff33"/>
                </a:solidFill>
                <a:latin typeface="Tahoma"/>
              </a:rPr>
              <a:t>reductase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lic Acid deficiency (F.A. Deficiency) is also called </a:t>
            </a: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Will’s Disease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ficiency may produce  megaloblastic anemia; </a:t>
            </a:r>
            <a:r>
              <a:rPr b="0" lang="en-US" sz="2400" spc="-1" strike="noStrike">
                <a:solidFill>
                  <a:srgbClr val="ccff33"/>
                </a:solidFill>
                <a:latin typeface="Tahoma"/>
              </a:rPr>
              <a:t>neural tube defect in fetu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275256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rapeutic Uses of Folic Aci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Megaloblastic Anemi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ue to inadequate dietary intake of folic aci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an be due to chronic alcoholism, pregnancy, infancy, impaired utilization: uremia, cancer or hepatic disease.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To alleviate 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anemi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at is 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associa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ith 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dihydrofolate reductase inhibito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.e</a:t>
            </a:r>
            <a:r>
              <a:rPr b="0" lang="en-US" sz="2200" spc="-1" strike="noStrike">
                <a:solidFill>
                  <a:srgbClr val="ffcc66"/>
                </a:solidFill>
                <a:latin typeface="Tahoma"/>
              </a:rPr>
              <a:t>. Methotrexate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(Cancer chemotherapy), </a:t>
            </a:r>
            <a:r>
              <a:rPr b="0" lang="en-US" sz="2200" spc="-1" strike="noStrike">
                <a:solidFill>
                  <a:srgbClr val="ffcc66"/>
                </a:solidFill>
                <a:latin typeface="Tahoma"/>
              </a:rPr>
              <a:t>Pyrimethamine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(Antimalarial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dministration of </a:t>
            </a:r>
            <a:r>
              <a:rPr b="0" lang="en-US" sz="2200" spc="-1" strike="noStrike">
                <a:solidFill>
                  <a:srgbClr val="ffcc66"/>
                </a:solidFill>
                <a:latin typeface="Tahoma"/>
              </a:rPr>
              <a:t>citrovorum factor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(methylated folic acid) alleviates the anemia.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Therapeutic Uses of Folic Acid (cont)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3. Ingestion of </a:t>
            </a:r>
            <a:r>
              <a:rPr b="0" lang="en-US" sz="2600" spc="-1" strike="noStrike">
                <a:solidFill>
                  <a:srgbClr val="ffcc66"/>
                </a:solidFill>
                <a:latin typeface="Tahoma"/>
              </a:rPr>
              <a:t>drugs that interfere with intestinal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cc66"/>
                </a:solidFill>
                <a:latin typeface="Tahoma"/>
              </a:rPr>
              <a:t>absorption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d storage of folic aci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524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Mechanism- inhibition of the conjugases that break off folic acid from its food chelators. 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524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Ex. – </a:t>
            </a:r>
            <a:r>
              <a:rPr b="0" lang="en-US" sz="2100" spc="-1" strike="noStrike">
                <a:solidFill>
                  <a:srgbClr val="ffcc66"/>
                </a:solidFill>
                <a:latin typeface="Tahoma"/>
              </a:rPr>
              <a:t>phenytoin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, progestin/estrogens (</a:t>
            </a:r>
            <a:r>
              <a:rPr b="0" lang="en-US" sz="2100" spc="-1" strike="noStrike">
                <a:solidFill>
                  <a:srgbClr val="ffcc66"/>
                </a:solidFill>
                <a:latin typeface="Tahoma"/>
              </a:rPr>
              <a:t>oral contraceptives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4. Malabsorption – Sprue, Celiac disease, partial gastrectomy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0" lang="en-US" sz="2600" spc="-1" strike="noStrike">
                <a:solidFill>
                  <a:srgbClr val="ffcc66"/>
                </a:solidFill>
                <a:latin typeface="Tahoma"/>
              </a:rPr>
              <a:t>Rheumatoid arthritis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increased folic acid demand or utilization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uses of Anemi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 Diminished production and or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lacement of red blood cell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 Excessive breakdown and loss of re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d cell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modilution while not a cause of anemia, it does cause an anemia-like effect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1. Diminished Production/Replacement of RBC’s Anemia'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icrocytic anemi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deficiency of F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BC’s appear pale and smaller, and we see more reticulocytes in circulation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an be caused by the chronic use of aspirin, which irritates the stomach     GI blood los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Normocytic anemi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deficiency of Erythropoiet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aused by compromised renal function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acrocytic Anemi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deficiency of folic acid and 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iminished cell division and release of larger cells in circulation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3048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2. Breakdown of RBC’s Anemi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eeding: can be due to an ulcer or in females blood loss due to their menstrual cy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of drugs that irritate the GI tract (aspiri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molysis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Hemolytic Anemi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can be caused b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toimmune diseas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chanical (heart valves, microvascular disease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xins (e.g., snake venom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762120" y="117360"/>
          <a:ext cx="7848360" cy="628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7360"/>
                    <a:ext cx="7848360" cy="628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Sites of action for EPO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33520" y="603360"/>
          <a:ext cx="8153280" cy="56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3360"/>
                    <a:ext cx="8153280" cy="56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rapeutic Uses of EP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emia of end stage renal dis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treat AIDS anemia caused by AZT’s suppression of bone marr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emia related to cancer chemotherap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increase RBC levels for autologous blood don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emia associated with rheumatoid 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Biological Actions of Other Hematopoietic Growth Factor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Granulocyte/Macrophage Colony Stimulating Factor (</a:t>
            </a: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GM-CS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-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argramost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ts synergistically with IL-3 to stimulate the formation and proliferation of 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colony forming cell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CFU-GEMM, BFU-E, CFU-Meg, CFU-GM, CFU-M, CFU-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ases cytotoxic 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phagocytic activit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of mature 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granulocy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Interleukin 3 </a:t>
            </a: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(IL-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ts 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synergistically with GM-CSF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o stimulate the formation of granulocytes, macrophages, eosinophils and megakaryocytes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ts 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synergistically with EP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o stimulate formation of 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BFU-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colon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duces CFU-S and leukemic blast cells into cell cyc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8:15:06Z</dcterms:created>
  <dc:creator>Superman</dc:creator>
  <dc:description/>
  <dc:language>en-US</dc:language>
  <cp:lastModifiedBy>Dr.abdel-hamid</cp:lastModifiedBy>
  <dcterms:modified xsi:type="dcterms:W3CDTF">2006-10-19T05:00:55Z</dcterms:modified>
  <cp:revision>54</cp:revision>
  <dc:subject/>
  <dc:title>Anti-Anemia Drugs</dc:title>
</cp:coreProperties>
</file>