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877-1D12-4B03-B8AE-5D316C18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5F3-88BE-41DC-A94D-179EE69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C29-3E66-4CE1-81E0-088E94B0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799-6F4B-4AB7-98D5-F57C11DF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B453-5149-4172-BB84-17D56ACA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E22-EE05-438C-A7C1-250FF92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B4BC-86C9-4459-9C13-D03B25E2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EE63-61AA-47F3-BB7A-31271D5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8105-F50F-46BC-8DE5-7F19690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0FF8-3BF2-4DA9-89B8-F539EFEA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9FDF-AF6C-46AB-8145-40D9166B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088-30E5-426B-A7E2-DA8D51E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99A6-9156-4AA5-AD82-593C482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3022-06EC-4952-87C2-573AC9C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A66-A871-4B29-8B0A-9B1DAB14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D23-85BF-42B2-92C7-FBA1DA52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252E-A6A1-43C7-A068-16474D71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17B-5618-4825-B497-20C3502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09E-843D-4A69-AAC4-AB79ACA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0DC-7C27-474E-A8DD-B9EACFC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C4C-54BE-41D8-B951-D00C099B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D51-038A-4EB1-B4FD-99FBD6E2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51D-60BF-46B5-B407-BD230EF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45B-E9DB-4979-8510-1456204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F009-32D4-455C-94F9-8FE9D63C27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2F6-6932-47AA-B19F-A51B338404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ti-Anemia Drug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88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21142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re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ematopoietic Growth Facto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lony stimulating Factor-1 (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SF-1 or M-CS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s synergistically with GM-CSF and IL-3 to stimulate monocyte/macrophage colony formation and fun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Granulocyte Colony Stimulating Factor         (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-CS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ilgras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s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ynergistically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wi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IL-3, GM-CSF and CSF-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timulate formation of megakaryocytes, granulocyte-macrophage and high proliferative potential (HPP) colon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ces release of granulocytes from mar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re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ematopoietic Growth Facto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Thrombopoietin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(TS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s the size and number of megakaryocy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cff33"/>
                </a:solidFill>
                <a:latin typeface="Tahoma"/>
              </a:rPr>
              <a:t>(IL-11 also useful in stimulating produc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s the concentration of early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megakaryocytes cel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SACHE+cells) in bone marr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s an increase in megakaryocytes endomitosi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Increases platelet size and number in plasma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ron Cy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5 - 10%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of ingested iron is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absorb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nce ingested the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acid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stomach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Aids in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onization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f ir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plits chelated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ood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ro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rom chelat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Maintains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ro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oluble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Allows iron to remain in the absorbable form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Fe</a:t>
            </a:r>
            <a:r>
              <a:rPr b="0" lang="en-US" sz="2200" spc="-1" strike="noStrike" baseline="30000">
                <a:solidFill>
                  <a:srgbClr val="ffcc66"/>
                </a:solidFill>
                <a:latin typeface="Tahoma"/>
              </a:rPr>
              <a:t>3+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4971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echanism of Iron Absorp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914400"/>
          <a:ext cx="845820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rapeutic uses of Ir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ron Deficient An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mature Bab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lo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okworn infes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alabsorption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 Bleeding due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c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pir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ss consumption of coff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ron Prepa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ral I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Ferrous Sulf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Feosol) – 300 mg t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de Effects are extremely mil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usea, upper abdominal pain, constipation or diarrhea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Cheap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m of Iron and one of the most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wid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arente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Iron Dextr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mferon) – IM or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cated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for patients who cannot tolerate or absor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oral ir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where oral iron is insufficient to treat the condition  ie. Malabsorption syndrome, prolonged salicylate therapy, dialysis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xicity of Iron Overdo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5000 deaths/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US, usually in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% of children presenting with iron toxicity will d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1 to 2 grams are sufficient to cause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high doses, Iron is absorbed through passive diffusion with no 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ron – Clinical Effec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Early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omiting, diarrhea       Blood Volume      HR  TPR (reflex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idosis from Iron oxidation,   Krebs cycle and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aerobic metabolism        citric acid and lactic ac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mprovement (short lived)      profound shock and CV Collapse       Hepatic Failure, jaundice, pulmonary edema and dea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Late S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stinal scarring, fatty acid degeneration of liver, cirrhosis and death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657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1905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1752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590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952880" y="243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05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324480" y="1752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858000" y="1752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886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atment of Iron Overdo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xic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D – 200-300mgkg, plasma iron &gt; 300ug/d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ABC’s supportive ca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icarbonate for acidosi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Fluids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for blood los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Ipecac or lavag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helation with </a:t>
            </a: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Deferoxamin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5812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4267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tamin B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ahoma"/>
              </a:rPr>
              <a:t>1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rce: In food, especially in liver and kidneys.  GI Microorganism synthesis, Vitamin Supplements (Cyanocobalami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cessary for normal DNA synthe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bsorption of 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trinsic Fac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low dose): a protein made by stomach parietal cells that binds to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2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delivers it from the ileum via a calcium mediated event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ss A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High dose): 1000mg/day, absorbed via passive dif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39600"/>
          <a:ext cx="186696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9600"/>
                    <a:ext cx="18669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em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st presenting manifestation of disease, with pain being the firs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defined as: low hemoglobin, low RBC count and low RBC mas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presents with pallor, fatigability, weakness and pale conjunctiv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properly treat the anemia, you must determine the cau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ahoma"/>
              </a:rPr>
              <a:t>1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Defici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B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deficie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cause peripheral neuropathy and a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acrocy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 pernicious anemia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olic Ac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ministration can correct the macrocytic anemia but will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ail to corr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eripheral neuropath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reat the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neuropathy, Vit B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utilize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chanism for Peripheral Neuropath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balamin is a cofactor for the enzyme Methylmalonyl-CoA mutase which converts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ethylmalonyl-CoA to succinyl-Co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inyl-CoA enters the Krebs cycles and goes into nerves to make myeli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no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thylmalonyl-CoA goes on to form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abnormal fatty aci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auses subacute degeneration of the nerves.  Only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correct this proble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rapeutic Uses of B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ahoma"/>
              </a:rPr>
              <a:t>1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ily Requirements - 0.6-1.0mh/day;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~ 1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Pernicious Ane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aired GI absorption of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strect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Corrosive Inju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GI m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Fish tape wo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worm siphons off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cebo abuse with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ecially in elderly patien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ic Ac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food – yeast, egg yolk, liver and leafy veget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ic Acid (F.A.) is absorbed in the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mall intestin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A. is converted to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tetrahydrofol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y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dihydrofol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reductas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ic Acid deficiency (F.A. Deficiency) is also called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Will’s Diseas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ciency may produce  megaloblastic anemia;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neural tube defect in fetu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27525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rapeutic Uses of Folic Aci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egaloblas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adequate dietary intake of fol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be due to chronic alcoholism, pregnancy, infancy, impaired utilization: uremia, cancer or hepatic disease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To alleviate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associ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dihydrofolate reductase inhibi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.e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. Methotrexat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Cancer chemotherapy),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Pyrimethamin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Antimalarial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ministration of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citrovorum fa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methylated folic acid) alleviates the anemia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rapeutic Uses of Folic Acid (con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3. Ingestion of </a:t>
            </a:r>
            <a:r>
              <a:rPr b="0" lang="en-US" sz="2600" spc="-1" strike="noStrike">
                <a:solidFill>
                  <a:srgbClr val="ffcc66"/>
                </a:solidFill>
                <a:latin typeface="Tahoma"/>
              </a:rPr>
              <a:t>drugs that interfere with intestina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cc66"/>
                </a:solidFill>
                <a:latin typeface="Tahoma"/>
              </a:rPr>
              <a:t>absorp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d storage of folic aci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echanism- inhibition of the conjugases that break off folic acid from its food chelators.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x. –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phenytoin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, progestin/estrogens (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oral contraceptives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. Malabsorption – Sprue, Celiac disease, partial gastrectom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600" spc="-1" strike="noStrike">
                <a:solidFill>
                  <a:srgbClr val="ffcc66"/>
                </a:solidFill>
                <a:latin typeface="Tahoma"/>
              </a:rPr>
              <a:t>Rheumatoid arthriti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increased folic acid demand or utilizatio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es of Anem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Diminished production and or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acement of red blood cel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Excessive breakdown and loss of r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cel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modilution while not a cause of anemia, it does cause an anemia-like eff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Diminished Production/Replacement of RBC’s Anemia'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icrocytic anem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deficiency of 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BC’s appear pale and smaller, and we see more reticulocytes in circulation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be caused by the chronic use of aspirin, which irritates the stomach     GI blood lo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rmocytic anem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deficiency of Erythropoie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used by compromised renal function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crocy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ficiency of folic acid and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minished cell division and release of larger cells in circulatio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048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Breakdown of RBC’s Anem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ing: can be due to an ulcer or in females blood loss due to their menstrual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drugs that irritate the GI tract (aspir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lysi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emoly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can be caused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immune disea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chanical (heart valves, microvascular diseas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xins (e.g., snake venom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117360"/>
          <a:ext cx="784836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7360"/>
                    <a:ext cx="78483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ites of action for EP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603360"/>
          <a:ext cx="8153280" cy="56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3360"/>
                    <a:ext cx="815328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rapeutic Uses of EP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mia of end stage renal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reat AIDS anemia caused by AZT’s suppression of bone ma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mia related to cancer chemo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increase RBC levels for autologous blood do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emia associated with rheumatoi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Biological Actions of Other Hematopoietic Growth Facto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Granulocyte/Macrophage Colony Stimulating Factor (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GM-CS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argramos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s synergistically with IL-3 to stimulate the formation and proliferation of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lony forming cel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CFU-GEMM, BFU-E, CFU-Meg, CFU-GM, CFU-M, CFU-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s cytotoxic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hagocytic activ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mature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granulocy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Interleukin 3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(IL-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s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synergistically with GM-CS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timulate the formation of granulocytes, macrophages, eosinophils and megakaryocyte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s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synergistically with E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timulate formation of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BFU-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lon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ces CFU-S and leukemic blast cells into cell cy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8:15:06Z</dcterms:created>
  <dc:creator>Superman</dc:creator>
  <dc:description/>
  <dc:language>en-US</dc:language>
  <cp:lastModifiedBy>Dr.abdel-hamid</cp:lastModifiedBy>
  <dcterms:modified xsi:type="dcterms:W3CDTF">2006-10-19T05:00:55Z</dcterms:modified>
  <cp:revision>54</cp:revision>
  <dc:subject/>
  <dc:title>Anti-Anemia Drugs</dc:title>
</cp:coreProperties>
</file>