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BEB-9AC1-4FC6-B044-057E038D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66320" y="368748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FAC-A274-4C5F-AFE7-2F003C4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045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911-6250-483D-90D8-0C19F5C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69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275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0663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69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5275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900-E75C-4C01-B722-A7A6ED00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06C-1FB4-425E-90E9-FC38F0F5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3D0-C0C0-40DF-88C0-46C2CAF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718-EA64-44ED-93FE-173076C7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86D-92BE-4EC1-8EBA-CEA109C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9D6-ADEE-4D8E-B609-6886FAA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FDA-BD99-4B07-AE25-86D11A5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045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BC6-E56B-4C97-93A5-3EC7D76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377-FD09-48AB-85DE-C4A4DF7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F88-FB5E-4D0E-82E8-660B367A6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3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" name="Rectangle 5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" name="Group 35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6" name="Rectangle 6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76320"/>
            <a:ext cx="8075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ecific Host Defenses:  The Immune Respon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bodies are Produced by B Lymphocyt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6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bodies are Proteins that Recognize Specific Antigen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8" name="Picture 4" descr="E:\MEDIA\1421\142134.JPG"/>
          <p:cNvPicPr/>
          <p:nvPr/>
        </p:nvPicPr>
        <p:blipFill>
          <a:blip r:embed="rId1"/>
          <a:stretch/>
        </p:blipFill>
        <p:spPr>
          <a:xfrm>
            <a:off x="0" y="1328760"/>
            <a:ext cx="9220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588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Duality of Immune System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.  Cell Mediated I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olves specialized 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recognize foreign antigens on the surface of cells, organisms, or tissue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lper T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totoxic T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 ce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l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liferation and activity of other cells of the immune system:  B cells, macrophages, neutrophils, etc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ense against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teria and viruses that are inside host cells and are inaccessible to antibodie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ngi, protozoa, and helminth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cer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planted tissue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ell Mediated Immunity is Carried Out by T Lymphocyt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1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324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 lar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ysaccharid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rom a foreign organism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b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Capsules, cell walls, toxins, viral capsids, flagella, etc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nmicrob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llen, egg white , red blood cell surface molecules, serum proteins, and surface molecules from transplanted tissue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pids and nucleic acids are only antigenic whe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bi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ith proteins or polysaccharide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ar weight of 10,000 or hig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apt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 Small foreign molecule that is not antigenic.  Must be coupled to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rri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molecule to be antigenic.  Once antibodies are formed they will recognize hapten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324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pito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part of an antigen that interacts with an antibod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y given antigen may have several epitop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epitope is recognized by a different antibody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pitopes: Antigen Regions that Interact with Antibodi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5" name="Picture 3" descr="E:\MEDIA\1421\142133.JPG"/>
          <p:cNvPicPr/>
          <p:nvPr/>
        </p:nvPicPr>
        <p:blipFill>
          <a:blip r:embed="rId1"/>
          <a:stretch/>
        </p:blipFill>
        <p:spPr>
          <a:xfrm>
            <a:off x="0" y="1230480"/>
            <a:ext cx="9144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9232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recognize and bind to a particular antigen with very hig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pecific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de in response to exposure to the antige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 virus or microbe may have several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tigenic determinant si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o which different antibodies may bin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antibody has at least two identical sites that bind antigen: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tigen binding si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lence of an antibod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Number of antigen binding sites.   Mos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ival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ong to a group of serum protein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munoglobulins (Igs)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9232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body Structu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om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A flexible Y-shaped molecule with four protein chain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identica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l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identica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eav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riable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Two sections at the end of Y’s arms.  Contain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gen binding sites (Fa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Identical on the same antibody, but vary from one antibody to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stant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tem of monomer and lower parts of Y arm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c reg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tem of monomer only.  Important because they can bind to complement or cell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tibody Structur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9" name="Picture 3" descr="E:\MEDIA\1421\142134.JPG"/>
          <p:cNvPicPr/>
          <p:nvPr/>
        </p:nvPicPr>
        <p:blipFill>
          <a:blip r:embed="rId1"/>
          <a:stretch/>
        </p:blipFill>
        <p:spPr>
          <a:xfrm>
            <a:off x="0" y="1328760"/>
            <a:ext cx="9220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807588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cc"/>
                </a:solidFill>
                <a:uFillTx/>
                <a:latin typeface="Times New Roman"/>
              </a:rPr>
              <a:t>The Immune Respon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“Free from burden”.  Ability of an organism to recognize and defend itself against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pecif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athogens or antige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mune Respon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Third line of defense.  Involves production of antibodies and generation of specialized lymphocytes against specific antige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ge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Molecules from a pathogen or foreign organism that provoke a specific immune respons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.  Ig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lood, lymph, intest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hances phagocytosis, neutralizes toxins and viruses, protects fetus and newbor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I.  Ig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ta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1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lood, lymph, B cell surface (monome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antibodies produced during an infection. Effective against microbes and agglutinating antigen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II.  Ig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-15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ecretions (tears, saliva, intestine, milk), blood and lymph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calized protection of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ucos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urfaces.  Provides immunity to infant digestive trac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V.  Ig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2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-cell surface, blood, and lymp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serum function is unknown.  On B cell surface, initiate immune respons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81532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. Ig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02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ound to mast cells and basophils throughout body.  Bloo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ergic reactions.  Possibly lysis of worm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Do B Cells Produce Antibodies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cells develop fro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m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the bone marrow of adults (liver of fetuse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ter maturation B cells migrate to lymphoid organs (lymph node or spleen)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lonal Sel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When a B cell encounters an antigen it recognizes, it is stimulated and divides into many clone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sma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which actively secrete antibodi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B cell produces antibodies that will recognize only one antigenic determinant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onal Selection of B Cells is Caused by Antigenic Stimul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7" name="Picture 3" descr="E:\MEDIA\1421\142125.JPG"/>
          <p:cNvPicPr/>
          <p:nvPr/>
        </p:nvPicPr>
        <p:blipFill>
          <a:blip r:embed="rId1"/>
          <a:stretch/>
        </p:blipFill>
        <p:spPr>
          <a:xfrm>
            <a:off x="1981080" y="1143000"/>
            <a:ext cx="525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grammed cell death (“Falling away”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body makes 100 million lymphocytes every day.  If an equivalent number doesn’t die, will develop leukemia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cells that do not encounter stimulating antigen will self-destruct and send signals to phagocytes to dispose of their remai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virus infected cells will undergo apoptosis, to help prevent spread of the infec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onal Se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onal Sel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B cells (and T cells) that encounter stimulating antigen will proliferate into a large group of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y don’t we produce antibodies against our own antigens?  We have develope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olera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onal Dele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B and T cells that react against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e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tigens appear to be destroyed during fetal development.  Process is poorly understoo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onsequences of Antigen-Antibody Bind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gen-Antibody Compl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ormed when an antibody binds to an antigen it recogniz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ffi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 measure of binding strength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 Agglutin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odies cause antigens (microbes) to clump together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gM (decavalent) is more effective that IgG (bivalent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magglutin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Agglutination of red blood cells.  Used to determine ABO blood types and to detect influenza and measles viruses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 Opsoniz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gen (microbe) is covered with antibodies that enhances its ingestion and lysis by phagocytic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mmune System is the Third Line of Defense Against Infec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3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52640"/>
            <a:ext cx="91440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equences of Antibody Bin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2" name="Picture 4" descr="E:\MEDIA\1048\17_8.BMP"/>
          <p:cNvPicPr/>
          <p:nvPr/>
        </p:nvPicPr>
        <p:blipFill>
          <a:blip r:embed="rId1"/>
          <a:stretch/>
        </p:blipFill>
        <p:spPr>
          <a:xfrm>
            <a:off x="514440" y="1308240"/>
            <a:ext cx="811512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 Neutraliz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gG inactivates viruses by binding to their surface and neutralize toxins by blocking their active sit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 Antibody-dependent cell-mediated cytotoxicity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to destroy large organisms (e.g.: worms).  Target organism is coated with antibodies and bombarded with chemicals from nonspecific immune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  Complement Activ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oth IgG and IgM trigger the complement system which results in cell lysis and inflamma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equences of Antibody Bin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5" name="Picture 3" descr="E:\MEDIA\1421\142135.JPG"/>
          <p:cNvPicPr/>
          <p:nvPr/>
        </p:nvPicPr>
        <p:blipFill>
          <a:blip r:embed="rId1"/>
          <a:stretch/>
        </p:blipFill>
        <p:spPr>
          <a:xfrm>
            <a:off x="152280" y="841320"/>
            <a:ext cx="86868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logical Memo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body Titer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mount of antibody in the seru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ttern of Antibody Levels During Infec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imary Response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niti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osure to antigen, no antibodies are found in serum for several day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adual increase in titer, first of IgM and then of IgG is observe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B cells become plasma cells, but some B cells become long liv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emory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ual decline of antibodies follow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logical Memor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ary Response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bsequent exposure to the same antigen displays a faster and more intense antibody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d antibody response is due to the existence of memory cells, which rapidly produce plasma cells upon antigen stimula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body Response After Exposure to Antige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9" name="Picture 3" descr="E:\MEDIA\1421\142126.JPG"/>
          <p:cNvPicPr/>
          <p:nvPr/>
        </p:nvPicPr>
        <p:blipFill>
          <a:blip r:embed="rId1"/>
          <a:srcRect l="0" t="0" r="0" b="5166"/>
          <a:stretch/>
        </p:blipFill>
        <p:spPr>
          <a:xfrm>
            <a:off x="304920" y="1111320"/>
            <a:ext cx="83818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gens that stimulate this response are mainly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ntracellul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constant presence of antigen to remain effectiv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like humoral immunity, cell mediated immunity is not transferred to the fetu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ytokin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messengers of immune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100 have been identifi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imulate and/or regulate immune respons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leukins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between WBC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Protect against viral infectio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emok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Attract WBCs to infected area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759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ellular Components of Immunity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s are key cellular component of immunit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s have an antigen receptor that recognizes and reacts to a specific antigen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 cell recep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 receptor only recognize antigens combined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jo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istocompatabilit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(MHC) 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f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C Class I: Found on all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C Class II: Found on phagocyt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nal selection increases number of T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 Cells Only Recognize Antigen Associated with MHC Molecules on Cell Surfac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3" name="Picture 5" descr="E:\MEDIA\1421\142128.JPG"/>
          <p:cNvPicPr/>
          <p:nvPr/>
        </p:nvPicPr>
        <p:blipFill>
          <a:blip r:embed="rId1"/>
          <a:stretch/>
        </p:blipFill>
        <p:spPr>
          <a:xfrm>
            <a:off x="457200" y="1573200"/>
            <a:ext cx="83818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120" y="759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Types of T cell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 T Helper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ntral role in immune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re CD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ze antigen on the surface of antigen presenting cells (e.g.: macrophage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ate macroph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uce formation of cytotoxic T cell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imulate B cells to produce antibodi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807588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nate or Genetic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Immunity an organism is born with.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tically determin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due to lack of receptors or other molecules required for infec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nate human immunity to canine distemper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of mice to polioviru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cquired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Immunity that an organism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evelop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uring lifetim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genetically determin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acquired naturally or artificiall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11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of immunity to measles in response to infection or vaccinatio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tral Role of Helper T Cell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6" name="Picture 3" descr="E:\MEDIA\1421\142130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T cells (Continued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 Cytotoxic T (Tc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troy target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re CD4 negative (CD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ze antigens on the surface of all cell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ill host cells that are infected with viruses or bacteria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gnize and kill cancer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gnize and destroy transplanted tissue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ease protein called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erfor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forms a pore in target cell, causing lysis of infected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g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stimulating antigen is gon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ytotoxic T Cells Lyse Infected Cell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9" name="Picture 3" descr="E:\MEDIA\1421\142131.JPG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T cells (Continued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 Delayed Hypersensitivity T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ly T helper and a few cytotoxic T cells that are involved in some allergic reactions (poison ivy) and rejection of transplanted tissu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 T Suppressor (Ts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shut down immune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Nonspecific Cellular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Activated Macrophage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imulated phagocyt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imulated by ingestion of antig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rger and more effective phagocyt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hanced ability to eliminate intracellular bacteria, virus-infected and cancerous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Natural Killer (NK) Cells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ymphocytes that destroy virus infected and tumor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specific.  Don’t require antigen stimulatio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phagocytic, but must contact cell in order to lyse it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Relationship Between Cell-Mediated and Humoral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 Antibody Produ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-Dependent Antige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body production requires assistance from T helper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macrophage cells ingest antigen and presents it to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ll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ll stimulates B cells specific for antigen to become plasma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s are mainly proteins on viruses, bacteria, foreign red blood cells, and hapten-carrier molecule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-Independent Antige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body production does not require assistance from T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s are mainly polysaccharides or lipopolysaccharides with repeating subunits (bacterial capsules)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aker immune response than for T-dependent antigen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umoral Response to T Dependent Antige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4" name="Picture 3" descr="E:\MEDIA\1421\142132.JPG"/>
          <p:cNvPicPr/>
          <p:nvPr/>
        </p:nvPicPr>
        <p:blipFill>
          <a:blip r:embed="rId1"/>
          <a:srcRect l="0" t="0" r="0" b="45000"/>
          <a:stretch/>
        </p:blipFill>
        <p:spPr>
          <a:xfrm>
            <a:off x="-42840" y="1523880"/>
            <a:ext cx="4309920" cy="464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MEDIA\1421\142132.JPG"/>
          <p:cNvPicPr/>
          <p:nvPr/>
        </p:nvPicPr>
        <p:blipFill>
          <a:blip r:embed="rId2"/>
          <a:srcRect l="0" t="54000" r="0" b="0"/>
          <a:stretch/>
        </p:blipFill>
        <p:spPr>
          <a:xfrm>
            <a:off x="4572000" y="1881360"/>
            <a:ext cx="441972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umoral Response to T Dependent Antige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Picture 5" descr="E:\MEDIA\1421\142132.JPG"/>
          <p:cNvPicPr/>
          <p:nvPr/>
        </p:nvPicPr>
        <p:blipFill>
          <a:blip r:embed="rId1"/>
          <a:stretch/>
        </p:blipFill>
        <p:spPr>
          <a:xfrm>
            <a:off x="2971800" y="685800"/>
            <a:ext cx="3225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Relationship Between Cell-Mediated and Humoral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  Antibody Dependent Cell Mediated Cytotoxic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rget cell is covered with antibodies, leaving Fc portion sticking out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tural killer and other nonspecific cells that have receptors for Fc region  are stimulated to kill targeted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rget organism is lysed by substances secreted by attacking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d to destroy large organisms that cannot be phagocytosed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struction of Large Parasites by ADC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0" name="Picture 4" descr="E:\MEDIA\1048\17_17.BMP"/>
          <p:cNvPicPr/>
          <p:nvPr/>
        </p:nvPicPr>
        <p:blipFill>
          <a:blip r:embed="rId1"/>
          <a:stretch/>
        </p:blipFill>
        <p:spPr>
          <a:xfrm>
            <a:off x="1812960" y="1143000"/>
            <a:ext cx="5654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nents of Human Immune System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0" name="Picture 3" descr="E:\MEDIA\1421\142123.JPG"/>
          <p:cNvPicPr/>
          <p:nvPr/>
        </p:nvPicPr>
        <p:blipFill>
          <a:blip r:embed="rId1"/>
          <a:stretch/>
        </p:blipFill>
        <p:spPr>
          <a:xfrm>
            <a:off x="380880" y="865080"/>
            <a:ext cx="83822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verview of the Immune Respon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Picture 4" descr="E:\MEDIA\1421\142129.JPG"/>
          <p:cNvPicPr/>
          <p:nvPr/>
        </p:nvPicPr>
        <p:blipFill>
          <a:blip r:embed="rId1"/>
          <a:srcRect l="0" t="0" r="0" b="9786"/>
          <a:stretch/>
        </p:blipFill>
        <p:spPr>
          <a:xfrm>
            <a:off x="1752480" y="609480"/>
            <a:ext cx="5677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Acquired Immu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Naturally Acquired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Obtained in the course of daily lif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.  Naturally Acquired Active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 pathogens enter body naturally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dy generates an immune response to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unity may be lifelong (chickenpox or mumps) or temporary (influenza or intestinal infection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.  Naturally Acquired Passive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ass from mother to fetus via placenta or breast feeding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lost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immune response to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unity is usuall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rt-li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weeks to month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ction until child’s immune system develop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68680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Types of Acquired Immunity 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I. Artificially Acquired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Obtained by receiving a vaccine or immune serum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 Artificially Acquired Active Immun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introduced in vaccines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muniz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 generates an immune response to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can be lifelong (oral polio vaccine) or temporary (tetanus toxoid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 Artificially Acquired Passive Immun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formed </a:t>
            </a:r>
            <a:r>
              <a:rPr b="1" i="1" lang="en-US" sz="24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tiser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are introduced into body by injection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nake antivenom injection from horses or rabbit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is short lived (half life three weeks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st immune system does not respond to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76320"/>
            <a:ext cx="860904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luid that remains after blood has clotted and cells have been remov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se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erum containing antibodies to a specific antigen(s).  Obtained from injecting an animal (horse, rabbit, goat) with antigen (snake venom, botulism or diphtheria toxin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olo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The study of reactions between antibodies and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mma Globul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raction of serum that contains most of the antibodi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um Sicknes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isease caused by multiple injections of antiserum.  Immune response to foreign proteins.  May cause fever, kidney problems, and joint pain.  Rare toda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588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Duality of Immune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Humoral (Antibody-Mediated) I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olves production of antibodies against foreign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bodies are produced by a sub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cells that are stimulated will actively secrete antibodies and are called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lasma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bodies are foun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tracellular flui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blood plasma, lymph, mucus, etc.) and the surface of B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ense against bacteria, bacterial toxins, and viruses that circulate freely in body fluids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y enter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so cause certain reactions against transplanted tissu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ultimedia Development Lab</dc:creator>
  <dc:description/>
  <dc:language>en-US</dc:language>
  <cp:lastModifiedBy>User</cp:lastModifiedBy>
  <cp:lastPrinted>1996-01-15T21:48:26Z</cp:lastPrinted>
  <dcterms:modified xsi:type="dcterms:W3CDTF">2016-03-03T10:38:31Z</dcterms:modified>
  <cp:revision>23970</cp:revision>
  <dc:subject/>
  <dc:title>PowerPoint Presentation  -  I.  Introduction to class</dc:title>
</cp:coreProperties>
</file>