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B61-890C-48A9-9E41-4F4F09E0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04560"/>
            <a:ext cx="80758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066320" y="3687480"/>
            <a:ext cx="80758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016-FFB2-412E-B005-FF7762F2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30456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04520" y="30456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68748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204520" y="368748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B51-5E4A-40F8-813C-AF92333B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304560"/>
            <a:ext cx="26002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6920" y="304560"/>
            <a:ext cx="26002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27520" y="304560"/>
            <a:ext cx="26002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066320" y="3687480"/>
            <a:ext cx="26002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796920" y="3687480"/>
            <a:ext cx="26002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527520" y="3687480"/>
            <a:ext cx="26002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B53-9790-446D-8E96-CDFE4E41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807588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1BD-144B-484F-AEF7-E3A92D45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04560"/>
            <a:ext cx="80758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709-43A7-41D1-813F-C283F7ED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304560"/>
            <a:ext cx="39409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04520" y="304560"/>
            <a:ext cx="39409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F0A-6938-4D19-B01D-410DAA59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CFA-FA50-4383-B6B4-3872CFAB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ECD-998C-4DDA-B58F-4A51D0CF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30456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4520" y="304560"/>
            <a:ext cx="39409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320" y="368748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6935-2E40-4844-A8B7-6657A4D7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304560"/>
            <a:ext cx="39409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04520" y="30456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204520" y="368748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044-7EFE-40F2-A08C-CEA3346D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30456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04520" y="304560"/>
            <a:ext cx="394092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66320" y="3687480"/>
            <a:ext cx="8075880" cy="30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F9E-2F3F-4888-A161-5A77AEE3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9420-3FEE-4A05-975E-DF543507E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3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" name="Rectangle 5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" name="Group 35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6" name="Rectangle 6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7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" name="PlaceHolder 4"/>
          <p:cNvSpPr>
            <a:spLocks noGrp="1"/>
          </p:cNvSpPr>
          <p:nvPr>
            <p:ph type="body"/>
          </p:nvPr>
        </p:nvSpPr>
        <p:spPr>
          <a:xfrm>
            <a:off x="1066320" y="304560"/>
            <a:ext cx="80758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62120" y="76320"/>
            <a:ext cx="8075520" cy="67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pecific Host Defenses:  The Immune Respon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ntibodies are Produced by B Lymphocyt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96" name="Picture 3" descr="E:\MEDIA\1421\142127.JPG"/>
          <p:cNvPicPr/>
          <p:nvPr/>
        </p:nvPicPr>
        <p:blipFill>
          <a:blip r:embed="rId1"/>
          <a:stretch/>
        </p:blipFill>
        <p:spPr>
          <a:xfrm>
            <a:off x="2852640" y="685800"/>
            <a:ext cx="3471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tibodies are Proteins that Recognize Specific Antigen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98" name="Picture 4" descr="E:\MEDIA\1421\142134.JPG"/>
          <p:cNvPicPr/>
          <p:nvPr/>
        </p:nvPicPr>
        <p:blipFill>
          <a:blip r:embed="rId1"/>
          <a:stretch/>
        </p:blipFill>
        <p:spPr>
          <a:xfrm>
            <a:off x="0" y="1328760"/>
            <a:ext cx="92203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807588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Duality of Immune System (Continued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.  Cell Mediated Immun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volves specialized set of lymphocytes calle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 cel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at recognize foreign antigens on the surface of cells, organisms, or tissues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elper T cells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ytotoxic T cells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 cell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gul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roliferation and activity of other cells of the immune system:  B cells, macrophages, neutrophils, etc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ense against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cteria and viruses that are inside host cells and are inaccessible to antibodies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ungi, protozoa, and helminths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ncer cells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nsplanted tissue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ell Mediated Immunity is Carried Out by T Lymphocyte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1" name="Picture 3" descr="E:\MEDIA\1421\142127.JPG"/>
          <p:cNvPicPr/>
          <p:nvPr/>
        </p:nvPicPr>
        <p:blipFill>
          <a:blip r:embed="rId1"/>
          <a:stretch/>
        </p:blipFill>
        <p:spPr>
          <a:xfrm>
            <a:off x="2852640" y="685800"/>
            <a:ext cx="3471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18960" y="0"/>
            <a:ext cx="792324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Antige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t ar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tei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r lar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lysaccharid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rom a foreign organism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icrob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Capsules, cell walls, toxins, viral capsids, flagella, etc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nmicrob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Pollen, egg white , red blood cell surface molecules, serum proteins, and surface molecules from transplanted tissue.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pids and nucleic acids are only antigenic whe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bin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ith proteins or polysaccharide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lecular weight of 10,000 or higher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apt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 Small foreign molecule that is not antigenic.  Must be coupled to 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arri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molecule to be antigenic.  Once antibodies are formed they will recognize hapten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18960" y="0"/>
            <a:ext cx="792324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Antige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pitop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mall part of an antigen that interacts with an antibody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y given antigen may have several epitope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ch epitope is recognized by a different antibody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pitopes: Antigen Regions that Interact with Antibodi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5" name="Picture 3" descr="E:\MEDIA\1421\142133.JPG"/>
          <p:cNvPicPr/>
          <p:nvPr/>
        </p:nvPicPr>
        <p:blipFill>
          <a:blip r:embed="rId1"/>
          <a:stretch/>
        </p:blipFill>
        <p:spPr>
          <a:xfrm>
            <a:off x="0" y="1230480"/>
            <a:ext cx="9144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8960" y="304560"/>
            <a:ext cx="792324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Antibod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tein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at recognize and bind to a particular antigen with very high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pecific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de in response to exposure to the antige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e virus or microbe may have several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ntigenic determinant sit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to which different antibodies may bind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ch antibody has at least two identical sites that bind antigen: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ntigen binding sit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alence of an antibod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Number of antigen binding sites.   Most ar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ival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long to a group of serum proteins calle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mmunoglobulins (Igs)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18960" y="304560"/>
            <a:ext cx="792324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Antibody Structu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om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A flexible Y-shaped molecule with four protein chain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identical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ligh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in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identical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heav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in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ariable Reg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Two sections at the end of Y’s arms.  Contain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tigen binding sites (Fab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Identical on the same antibody, but vary from one antibody to another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stant Reg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Stem of monomer and lower parts of Y arm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c reg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Stem of monomer only.  Important because they can bind to complement or cell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tibody Structur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9" name="Picture 3" descr="E:\MEDIA\1421\142134.JPG"/>
          <p:cNvPicPr/>
          <p:nvPr/>
        </p:nvPicPr>
        <p:blipFill>
          <a:blip r:embed="rId1"/>
          <a:stretch/>
        </p:blipFill>
        <p:spPr>
          <a:xfrm>
            <a:off x="0" y="1328760"/>
            <a:ext cx="92203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066320" y="76320"/>
            <a:ext cx="8075880" cy="67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cc"/>
                </a:solidFill>
                <a:uFillTx/>
                <a:latin typeface="Times New Roman"/>
              </a:rPr>
              <a:t>The Immune Respon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mun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 “Free from burden”.  Ability of an organism to recognize and defend itself against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pecifi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athogens or antigen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mune Respon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 Third line of defense.  Involves production of antibodies and generation of specialized lymphocytes against specific antigen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ntige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 Molecules from a pathogen or foreign organism that provoke a specific immune response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90360" y="304560"/>
            <a:ext cx="83818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mmunoglobulin Class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.  Ig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uctur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nom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centage serum antibodie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c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lood, lymph, intest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lf-life in serum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3 day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plement Fixa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acental Transfer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nown Function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hances phagocytosis, neutralizes toxins and viruses, protects fetus and newbor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360" y="304560"/>
            <a:ext cx="83818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mmunoglobulin Class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I.  Ig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uctur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ntam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centage serum antibodie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-10%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c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lood, lymph, B cell surface (monome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lf-life in serum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 day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plement Fixa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acental Transfer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nown Function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rst antibodies produced during an infection. Effective against microbes and agglutinating antigens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304560"/>
            <a:ext cx="83818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mmunoglobulin Class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II.  Ig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uctur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m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centage serum antibodie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-15%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c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ecretions (tears, saliva, intestine, milk), blood and lymph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lf-life in serum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 day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plement Fixa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acental Transfer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nown Function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calized protection of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ucos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urfaces.  Provides immunity to infant digestive trac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90360" y="304560"/>
            <a:ext cx="83818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mmunoglobulin Class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V.  Ig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uctur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nom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centage serum antibodie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2%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c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-cell surface, blood, and lymp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lf-life in serum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 day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plement Fixa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acental Transfer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nown Function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serum function is unknown.  On B cell surface, initiate immune response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90720" y="304560"/>
            <a:ext cx="81532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mmunoglobulin Class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. Ig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uctur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nom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centage serum antibodie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002%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c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ound to mast cells and basophils throughout body.  Blood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lf-life in serum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day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plement Fixa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acental Transfer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nown Function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ergic reactions.  Possibly lysis of worm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Do B Cells Produce Antibodies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 cells develop from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em cell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n the bone marrow of adults (liver of fetuses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ter maturation B cells migrate to lymphoid organs (lymph node or spleen)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lonal Selec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When a B cell encounters an antigen it recognizes, it is stimulated and divides into many clones calle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asma cell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which actively secrete antibodie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ch B cell produces antibodies that will recognize only one antigenic determinant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onal Selection of B Cells is Caused by Antigenic Stimulatio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17" name="Picture 3" descr="E:\MEDIA\1421\142125.JPG"/>
          <p:cNvPicPr/>
          <p:nvPr/>
        </p:nvPicPr>
        <p:blipFill>
          <a:blip r:embed="rId1"/>
          <a:stretch/>
        </p:blipFill>
        <p:spPr>
          <a:xfrm>
            <a:off x="1981080" y="1143000"/>
            <a:ext cx="525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umoral Immunity (Continued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opto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grammed cell death (“Falling away”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an body makes 100 million lymphocytes every day.  If an equivalent number doesn’t die, will develop leukemia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 cells that do not encounter stimulating antigen will self-destruct and send signals to phagocytes to dispose of their remain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y virus infected cells will undergo apoptosis, to help prevent spread of the infection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umoral Immunity (Continued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onal Selec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onal Selec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B cells (and T cells) that encounter stimulating antigen will proliferate into a large group of cell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y don’t we produce antibodies against our own antigens?  We have develope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olera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them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onal Dele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B and T cells that react against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el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ntigens appear to be destroyed during fetal development.  Process is poorly understoo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Consequences of Antigen-Antibody Bind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tigen-Antibody Comple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Formed when an antibody binds to an antigen it recognize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ffin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A measure of binding strength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 Agglutina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tibodies cause antigens (microbes) to clump together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gM (decavalent) is more effective that IgG (bivalent)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magglutin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Agglutination of red blood cells.  Used to determine ABO blood types and to detect influenza and measles viruses.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 Opsoniza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tigen (microbe) is covered with antibodies that enhances its ingestion and lysis by phagocytic cell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mmune System is the Third Line of Defense Against Infectio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83" name="Picture 3" descr="E:\MEDIA\1421\142122.JPG"/>
          <p:cNvPicPr/>
          <p:nvPr/>
        </p:nvPicPr>
        <p:blipFill>
          <a:blip r:embed="rId1"/>
          <a:srcRect l="1612" t="0" r="1612" b="0"/>
          <a:stretch/>
        </p:blipFill>
        <p:spPr>
          <a:xfrm>
            <a:off x="0" y="1952640"/>
            <a:ext cx="91440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sequences of Antibody Binding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22" name="Picture 4" descr="E:\MEDIA\1048\17_8.BMP"/>
          <p:cNvPicPr/>
          <p:nvPr/>
        </p:nvPicPr>
        <p:blipFill>
          <a:blip r:embed="rId1"/>
          <a:stretch/>
        </p:blipFill>
        <p:spPr>
          <a:xfrm>
            <a:off x="514440" y="1308240"/>
            <a:ext cx="811512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umoral Immunity (Continued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  Neutraliza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gG inactivates viruses by binding to their surface and neutralize toxins by blocking their active site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.  Antibody-dependent cell-mediated cytotoxicity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d to destroy large organisms (e.g.: worms).  Target organism is coated with antibodies and bombarded with chemicals from nonspecific immune cell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.  Complement Activ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oth IgG and IgM trigger the complement system which results in cell lysis and inflammation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sequences of Antibody Binding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25" name="Picture 3" descr="E:\MEDIA\1421\142135.JPG"/>
          <p:cNvPicPr/>
          <p:nvPr/>
        </p:nvPicPr>
        <p:blipFill>
          <a:blip r:embed="rId1"/>
          <a:stretch/>
        </p:blipFill>
        <p:spPr>
          <a:xfrm>
            <a:off x="152280" y="841320"/>
            <a:ext cx="86868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440" y="15228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mmunological Memor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tibody Titer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amount of antibody in the serum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ttern of Antibody Levels During Infectio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imary Response: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ter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niti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xposure to antigen, no antibodies are found in serum for several days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gradual increase in titer, first of IgM and then of IgG is observed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t B cells become plasma cells, but some B cells become long liv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emory cell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dual decline of antibodies follow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440" y="15228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mmunological Memory (Continued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ondary Response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bsequent exposure to the same antigen displays a faster and more intense antibody response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creased antibody response is due to the existence of memory cells, which rapidly produce plasma cells upon antigen stimulation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ntibody Response After Exposure to Antige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29" name="Picture 3" descr="E:\MEDIA\1421\142126.JPG"/>
          <p:cNvPicPr/>
          <p:nvPr/>
        </p:nvPicPr>
        <p:blipFill>
          <a:blip r:embed="rId1"/>
          <a:srcRect l="0" t="0" r="0" b="5166"/>
          <a:stretch/>
        </p:blipFill>
        <p:spPr>
          <a:xfrm>
            <a:off x="304920" y="1111320"/>
            <a:ext cx="838188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 Cells and Cell Mediated Immuni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tigens that stimulate this response are mainly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ntracellula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quires constant presence of antigen to remain effective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like humoral immunity, cell mediated immunity is not transferred to the fetu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ytokine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messengers of immune cell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 100 have been identifie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imulate and/or regulate immune response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leukins: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cation between WBC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fer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Protect against viral infection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emokin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Attract WBCs to infected area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09120" y="759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T Cells and Cell Mediated Immuni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ellular Components of Immunity: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 cells are key cellular component of immunity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 cells have an antigen receptor that recognizes and reacts to a specific antigen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 cell recep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 cell receptor only recognize antigens combined with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jor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histocompatability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(MHC) protein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rfa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cell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HC Class I: Found on all cell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HC Class II: Found on phagocyte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onal selection increases number of T cell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 Cells Only Recognize Antigen Associated with MHC Molecules on Cell Surfac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33" name="Picture 5" descr="E:\MEDIA\1421\142128.JPG"/>
          <p:cNvPicPr/>
          <p:nvPr/>
        </p:nvPicPr>
        <p:blipFill>
          <a:blip r:embed="rId1"/>
          <a:stretch/>
        </p:blipFill>
        <p:spPr>
          <a:xfrm>
            <a:off x="457200" y="1573200"/>
            <a:ext cx="83818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9120" y="75960"/>
            <a:ext cx="853452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T Cells and Cell Mediated Immuni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Types of T cell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 T Helper (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) Cell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ntral role in immune response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are CD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gnize antigen on the surface of antigen presenting cells (e.g.: macrophage)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vate macrophag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uce formation of cytotoxic T cell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imulate B cells to produce antibodie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066320" y="76320"/>
            <a:ext cx="8075880" cy="67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nate or Genetic Immun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 Immunity an organism is born with.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etically determine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be due to lack of receptors or other molecules required for infection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nate human immunity to canine distemper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munity of mice to polioviru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cquired Immun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Immunity that an organism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develop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uring lifetim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genetically determine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be acquired naturally or artificially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1199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ment of immunity to measles in response to infection or vaccination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entral Role of Helper T Cell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36" name="Picture 3" descr="E:\MEDIA\1421\142130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15228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Types of T cells (Continued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 Cytotoxic T (Tc) Cell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stroy target cell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are CD4 negative (CD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gnize antigens on the surface of all cells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ill host cells that are infected with viruses or bacteria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cognize and kill cancer cells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cognize and destroy transplanted tissue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ease protein called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erfori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ich forms a pore in target cell, causing lysis of infected cell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derg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poptos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n stimulating antigen is gone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ytotoxic T Cells Lyse Infected Cell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39" name="Picture 3" descr="E:\MEDIA\1421\142131.JPG"/>
          <p:cNvPicPr/>
          <p:nvPr/>
        </p:nvPicPr>
        <p:blipFill>
          <a:blip r:embed="rId1"/>
          <a:stretch/>
        </p:blipFill>
        <p:spPr>
          <a:xfrm>
            <a:off x="0" y="2011320"/>
            <a:ext cx="91440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15228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Types of T cells (Continued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  Delayed Hypersensitivity T (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) Cell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tly T helper and a few cytotoxic T cells that are involved in some allergic reactions (poison ivy) and rejection of transplanted tissue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.  T Suppressor (Ts) Cell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y shut down immune response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Nonspecific Cellular Compon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Activated Macrophage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imulated phagocyte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imulated by ingestion of antige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rger and more effective phagocyte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hanced ability to eliminate intracellular bacteria, virus-infected and cancerous cell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Natural Killer (NK) Cells: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ymphocytes that destroy virus infected and tumor cell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 specific.  Don’t require antigen stimulation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 phagocytic, but must contact cell in order to lyse it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80758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Relationship Between Cell-Mediated and Humoral Immuni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  Antibody Produ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-Dependent Antige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tibody production requires assistance from T helper cells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macrophage cells ingest antigen and presents it to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ell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ell stimulates B cells specific for antigen to become plasma cells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tigens are mainly proteins on viruses, bacteria, foreign red blood cells, and hapten-carrier molecules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-Independent Antigens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tibody production does not require assistance from T cells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tigens are mainly polysaccharides or lipopolysaccharides with repeating subunits (bacterial capsules)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aker immune response than for T-dependent antigens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umoral Response to T Dependent Antigen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4" name="Picture 3" descr="E:\MEDIA\1421\142132.JPG"/>
          <p:cNvPicPr/>
          <p:nvPr/>
        </p:nvPicPr>
        <p:blipFill>
          <a:blip r:embed="rId1"/>
          <a:srcRect l="0" t="0" r="0" b="45000"/>
          <a:stretch/>
        </p:blipFill>
        <p:spPr>
          <a:xfrm>
            <a:off x="-42840" y="1523880"/>
            <a:ext cx="4309920" cy="4648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E:\MEDIA\1421\142132.JPG"/>
          <p:cNvPicPr/>
          <p:nvPr/>
        </p:nvPicPr>
        <p:blipFill>
          <a:blip r:embed="rId2"/>
          <a:srcRect l="0" t="54000" r="0" b="0"/>
          <a:stretch/>
        </p:blipFill>
        <p:spPr>
          <a:xfrm>
            <a:off x="4572000" y="1881360"/>
            <a:ext cx="441972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umoral Response to T Dependent Antigen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Picture 5" descr="E:\MEDIA\1421\142132.JPG"/>
          <p:cNvPicPr/>
          <p:nvPr/>
        </p:nvPicPr>
        <p:blipFill>
          <a:blip r:embed="rId1"/>
          <a:stretch/>
        </p:blipFill>
        <p:spPr>
          <a:xfrm>
            <a:off x="2971800" y="685800"/>
            <a:ext cx="32259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8075880" cy="64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Relationship Between Cell-Mediated and Humoral Immuni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  Antibody Dependent Cell Mediated Cytotoxic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arget cell is covered with antibodies, leaving Fc portion sticking outward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tural killer and other nonspecific cells that have receptors for Fc region  are stimulated to kill targeted cell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arget organism is lysed by substances secreted by attacking cell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sed to destroy large organisms that cannot be phagocytosed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struction of Large Parasites by ADCC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0" name="Picture 4" descr="E:\MEDIA\1048\17_17.BMP"/>
          <p:cNvPicPr/>
          <p:nvPr/>
        </p:nvPicPr>
        <p:blipFill>
          <a:blip r:embed="rId1"/>
          <a:stretch/>
        </p:blipFill>
        <p:spPr>
          <a:xfrm>
            <a:off x="1812960" y="1143000"/>
            <a:ext cx="5654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onents of Human Immune System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90" name="Picture 3" descr="E:\MEDIA\1421\142123.JPG"/>
          <p:cNvPicPr/>
          <p:nvPr/>
        </p:nvPicPr>
        <p:blipFill>
          <a:blip r:embed="rId1"/>
          <a:stretch/>
        </p:blipFill>
        <p:spPr>
          <a:xfrm>
            <a:off x="380880" y="865080"/>
            <a:ext cx="83822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verview of the Immune Respons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2" name="Picture 4" descr="E:\MEDIA\1421\142129.JPG"/>
          <p:cNvPicPr/>
          <p:nvPr/>
        </p:nvPicPr>
        <p:blipFill>
          <a:blip r:embed="rId1"/>
          <a:srcRect l="0" t="0" r="0" b="9786"/>
          <a:stretch/>
        </p:blipFill>
        <p:spPr>
          <a:xfrm>
            <a:off x="1752480" y="609480"/>
            <a:ext cx="5677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61048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Types of Acquired Immun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.  Naturally Acquired Immun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 Obtained in the course of daily lif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.  Naturally Acquired Active Immun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cccc"/>
                </a:solidFill>
                <a:latin typeface="Times New Roman"/>
              </a:rPr>
              <a:t>Antige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r pathogens enter body naturally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dy generates an immune response to antigen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munity may be lifelong (chickenpox or mumps) or temporary (influenza or intestinal infections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.  Naturally Acquired Passive Immun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cc"/>
                </a:solidFill>
                <a:latin typeface="Times New Roman"/>
              </a:rPr>
              <a:t>Antibodi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ass from mother to fetus via placenta or breast feeding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lostru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 immune response to antigen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munity is usuall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hort-liv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weeks to months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ection until child’s immune system develop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68680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Types of Acquired Immunity 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I. Artificially Acquired Immun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Obtained by receiving a vaccine or immune serum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  Artificially Acquired Active Immun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cc"/>
                </a:solidFill>
                <a:latin typeface="Times New Roman"/>
              </a:rPr>
              <a:t>Antige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re introduced in vaccines 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muniz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dy generates an immune response to antigen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munity can be lifelong (oral polio vaccine) or temporary (tetanus toxoid)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  Artificially Acquired Passive Immun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formed </a:t>
            </a:r>
            <a:r>
              <a:rPr b="1" i="1" lang="en-US" sz="2400" spc="-1" strike="noStrike">
                <a:solidFill>
                  <a:srgbClr val="00cccc"/>
                </a:solidFill>
                <a:latin typeface="Times New Roman"/>
              </a:rPr>
              <a:t>antibodi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tiseru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are introduced into body by injection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nake antivenom injection from horses or rabbits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munity is short lived (half life three weeks)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st immune system does not respond to antigen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76320"/>
            <a:ext cx="8609040" cy="67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ru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Fluid that remains after blood has clotted and cells have been remove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tiseru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Serum containing antibodies to a specific antigen(s).  Obtained from injecting an animal (horse, rabbit, goat) with antigen (snake venom, botulism or diphtheria toxin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rolog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The study of reactions between antibodies and antigen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mma Globuli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Fraction of serum that contains most of the antibodie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rum Sicknes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Disease caused by multiple injections of antiserum.  Immune response to foreign proteins.  May cause fever, kidney problems, and joint pain.  Rare today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807588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Times New Roman"/>
              </a:rPr>
              <a:t>Duality of Immune Syste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.  Humoral (Antibody-Mediated) Immun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volves production of antibodies against foreign antigen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ibodies are produced by a subset of lymphocytes calle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 cel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cells that are stimulated will actively secrete antibodies and are called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lasma cel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ibodies are foun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xtracellular flui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blood plasma, lymph, mucus, etc.) and the surface of B cell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ense against bacteria, bacterial toxins, and viruses that circulate freely in body fluids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efo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y enter cell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so cause certain reactions against transplanted tissue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ultimedia Development Lab</dc:creator>
  <dc:description/>
  <dc:language>en-US</dc:language>
  <cp:lastModifiedBy>User</cp:lastModifiedBy>
  <cp:lastPrinted>1996-01-15T21:48:26Z</cp:lastPrinted>
  <dcterms:modified xsi:type="dcterms:W3CDTF">2016-03-03T10:38:31Z</dcterms:modified>
  <cp:revision>23970</cp:revision>
  <dc:subject/>
  <dc:title>PowerPoint Presentation  -  I.  Introduction to class</dc:title>
</cp:coreProperties>
</file>