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052012-D447-4E2D-BA49-6105F0F709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2E9BDB-B069-49D8-BBDA-3F4E7ACE0B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EC32AC-4641-4882-8396-DEB596B8D1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72A493-15B1-4A93-AD39-C5B2AB81C3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6C99B0-69C4-440C-996B-19F65F7E0B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162A50-FF82-4775-95FD-512FAD62E5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6F9B4A-77A6-4211-B39E-46783461FD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E984AC-5518-48EA-8EDD-5E4C0DFB55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9E46C5-A431-4006-82BF-85E6EF4E2D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C0F598-BA82-4998-94CB-CB2A643874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BEF54E-37B3-4F92-8003-76E82CDA4F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22668D-B127-4EBF-BC33-73034BC0E9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16D785-77AA-4A59-8BF9-E67241C287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CF6196-7EB8-4D8E-AC61-C71B1810A0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411EC0-5409-4AAB-A12D-5F3185A7F7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F78F62-BB18-4609-A782-2788F611D1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DB16FF-4E77-4085-B3F9-FF7CF3C59F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2C2C6E-56B7-4F57-AF0A-1187128310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0AB5D9-9BA6-45EB-B6D7-D7396C9FD8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6BCECF-6F4A-4761-8A9C-53431DE00BB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AEA30C-572C-486A-8005-C7819D028E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19AA24-316F-4012-B84B-F08200B883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967-E540-4ED6-9119-45169559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F8A-C81B-487D-9372-E4CCADF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EFB-52C3-4451-8FE2-B1C416F9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35D-3BD4-448B-B8DB-CA4B9C7E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890-2067-4F73-8957-103B53C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68F-E651-4727-8A01-5CBBB6F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74F-77D7-4FD5-B847-5777B77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B28-A7BE-4D8C-86E2-E65EA2C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570-A3EA-4EA4-BA81-061F254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F29-1571-4329-98A7-BA9DAC2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430-9AE6-4D0B-9FBF-DF59F3F6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E7F-D9DF-4E9A-8D1A-D14B51E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A935-6B78-4C33-AD3B-5DD90DA3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7239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ti-inflammatory Dru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92920" y="23623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Lab 4 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1526400" y="137160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teroids (SA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668240" y="20574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taining steroid moiety in their sturc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800px-Cortisol"/>
          <p:cNvPicPr/>
          <p:nvPr/>
        </p:nvPicPr>
        <p:blipFill>
          <a:blip r:embed="rId1"/>
          <a:stretch/>
        </p:blipFill>
        <p:spPr>
          <a:xfrm>
            <a:off x="2895480" y="34290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1981080" y="25909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780280" y="251460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Glucocorticoids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(G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810240" y="60958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2936160" y="11192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Glucocorticoids  (G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5400000">
            <a:off x="4527000" y="-27288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362320" y="28195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7620120" y="27432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754280" y="31240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936480" y="307332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ynthetic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981080" y="390204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400080" y="3886200"/>
            <a:ext cx="230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tametha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din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6400800" y="3962520"/>
            <a:ext cx="152280" cy="761760"/>
          </a:xfrm>
          <a:custGeom>
            <a:avLst/>
            <a:gdLst>
              <a:gd name="textAreaLeft" fmla="*/ 44640 w 152280"/>
              <a:gd name="textAreaRight" fmla="*/ 152640 w 15228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248160" y="4343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42000" y="40384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uor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ucocortico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7162920" y="51055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553080" y="57150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nis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7608600" y="5181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ver enz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936160" y="11192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Glucocorticoids  (G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221840" y="189540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chanism of Ac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363320" y="2743200"/>
            <a:ext cx="7473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ct by indirect inhibition of the enzyme phospholipase A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activate synthesi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chidonic acid with subs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prostagland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induce synthesis of a protein “lipocortin-1” which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hibitory effect on  phospholipase 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144440" y="2743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63520" y="4191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figure2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83080"/>
          </a:xfrm>
          <a:prstGeom prst="rect">
            <a:avLst/>
          </a:prstGeom>
          <a:ln w="0">
            <a:noFill/>
          </a:ln>
        </p:spPr>
      </p:pic>
      <p:sp>
        <p:nvSpPr>
          <p:cNvPr id="105" name="Line 7"/>
          <p:cNvSpPr/>
          <p:nvPr/>
        </p:nvSpPr>
        <p:spPr>
          <a:xfrm flipH="1">
            <a:off x="5486400" y="365760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165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181480" y="1523880"/>
            <a:ext cx="236232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201280" y="1600200"/>
            <a:ext cx="2375280" cy="459720"/>
          </a:xfrm>
          <a:prstGeom prst="rect">
            <a:avLst/>
          </a:prstGeom>
          <a:noFill/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hospholipase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902000">
            <a:off x="7238520" y="1143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3333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781680" y="457200"/>
            <a:ext cx="1981440" cy="609480"/>
          </a:xfrm>
          <a:prstGeom prst="ellipse">
            <a:avLst/>
          </a:prstGeom>
          <a:noFill/>
          <a:ln cap="sq"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857640" y="5335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C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46520" y="1965240"/>
            <a:ext cx="819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unosup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glycemia due to increased gluconeogensis, insulin resistanc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ired glucose tolerance ("steroid diabetes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roid-induced osteoporosis: reduced bone density (osteoporo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eoporosis , higher fracture risk, slower fracture repai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stribution of body fat: moon face, buffalo hump and truncal obes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nal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cle breakdown (proteolysis), weakness; reduced muscle mass and rep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vulation, irregularity of menstrual peri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failure, pubertal de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lasma amino acids, increased urea form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ma due to increased cranial pres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Moon-face-after-cortisone-9835"/>
          <p:cNvPicPr/>
          <p:nvPr/>
        </p:nvPicPr>
        <p:blipFill>
          <a:blip r:embed="rId1"/>
          <a:stretch/>
        </p:blipFill>
        <p:spPr>
          <a:xfrm>
            <a:off x="1752480" y="2666880"/>
            <a:ext cx="240840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uffalo"/>
          <p:cNvPicPr/>
          <p:nvPr/>
        </p:nvPicPr>
        <p:blipFill>
          <a:blip r:embed="rId2"/>
          <a:stretch/>
        </p:blipFill>
        <p:spPr>
          <a:xfrm>
            <a:off x="4419720" y="2590920"/>
            <a:ext cx="4209840" cy="2913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057760" y="5715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n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927760" y="56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709960" y="57150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 h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234440" y="15238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Non-Steroidal Anti-inflammator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9440" y="2286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A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98320" y="3308400"/>
            <a:ext cx="63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on’t contain steroid mo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lso have analgesic and antipyret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2009160" y="167652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chanism of Ac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2120" y="2806560"/>
            <a:ext cx="793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AIDs inhibit synthesis of PGs which are the mai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a role in the inflammal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 synthesis of PGs through inhibition of cyclooxy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which are responsible for production of P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figure2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83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 rot="1902000">
            <a:off x="7238520" y="1143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3333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781680" y="457200"/>
            <a:ext cx="1981440" cy="609480"/>
          </a:xfrm>
          <a:prstGeom prst="ellipse">
            <a:avLst/>
          </a:prstGeom>
          <a:noFill/>
          <a:ln cap="sq"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57640" y="5335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C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181480" y="1523880"/>
            <a:ext cx="236232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01280" y="1600200"/>
            <a:ext cx="2375280" cy="459720"/>
          </a:xfrm>
          <a:prstGeom prst="rect">
            <a:avLst/>
          </a:prstGeom>
          <a:noFill/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hospholipase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1800" y="144792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Cyclooxygenese (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X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 ) Isoform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5400000">
            <a:off x="4387320" y="3132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222640" y="31240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748044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912720" y="3352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602360" y="342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48560" y="4052880"/>
            <a:ext cx="32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stit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ny tissues ( blood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mach and kidne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753160" y="4038480"/>
            <a:ext cx="305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nflammator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02360" y="5791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743200" y="594360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333600" y="579132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cently been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cc00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lammation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biological response of vascular tissues to harmful stimuli, such as pathogens, damaged cells, or irri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may ends with either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sad"/>
          <p:cNvPicPr/>
          <p:nvPr/>
        </p:nvPicPr>
        <p:blipFill>
          <a:blip r:embed="rId1"/>
          <a:stretch/>
        </p:blipFill>
        <p:spPr>
          <a:xfrm>
            <a:off x="6781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mile"/>
          <p:cNvPicPr/>
          <p:nvPr/>
        </p:nvPicPr>
        <p:blipFill>
          <a:blip r:embed="rId2"/>
          <a:stretch/>
        </p:blipFill>
        <p:spPr>
          <a:xfrm>
            <a:off x="2438280" y="4876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54" name="Line 12"/>
          <p:cNvSpPr/>
          <p:nvPr/>
        </p:nvSpPr>
        <p:spPr>
          <a:xfrm>
            <a:off x="4876920" y="4876920"/>
            <a:ext cx="0" cy="1600200"/>
          </a:xfrm>
          <a:prstGeom prst="line">
            <a:avLst/>
          </a:prstGeom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621440" y="5730840"/>
            <a:ext cx="24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h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366160" y="573084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de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34440" y="15238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Non-Steroidal Anti-inflammator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51520" y="22096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A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 rot="5400000">
            <a:off x="4387320" y="71712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222640" y="38098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7480440" y="37339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524960" y="4206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n-sel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X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120" y="41911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lective CO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599120" y="5105520"/>
            <a:ext cx="14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pi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bupro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clofen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eloxi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326280" y="5105520"/>
            <a:ext cx="139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elecox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ofecox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70800" y="1946160"/>
            <a:ext cx="722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wanted effects, owing largely to inhibtion of C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ticularly in the elderly and inclu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spepsia, nausea and vomiting , ulceration and gas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in chronic users, with risk of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versible renal insu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algesic-associated nephropathy ( irreversibl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ver disorders, in high doses, e.g. acetamino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1600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eb"/>
                </a:solidFill>
                <a:latin typeface="Arial"/>
              </a:rPr>
              <a:t>Measurement the activity of </a:t>
            </a:r>
            <a:br>
              <a:rPr sz="4400"/>
            </a:br>
            <a:r>
              <a:rPr b="0" lang="en-US" sz="4400" spc="-1" strike="noStrike">
                <a:solidFill>
                  <a:srgbClr val="99ffeb"/>
                </a:solidFill>
                <a:latin typeface="Arial"/>
              </a:rPr>
              <a:t>anti-inflammatory dru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672560" y="3048120"/>
            <a:ext cx="49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-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 Method :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w Oedem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549440" y="3995640"/>
            <a:ext cx="7305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incipl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on a chemical infl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jecting an irritant ( formalin )  i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’s p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488960" y="5443560"/>
            <a:ext cx="7742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Objective :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the anti-inflammatory activity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lofenac and hydrocortisone 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dos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1128240" y="1000080"/>
            <a:ext cx="81147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cedure 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select 5 r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inject  each rat 1 ml urethane for anesth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select one as control and inject the rest of them intra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1 &gt;&gt;&gt;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2 &gt;&gt;&gt; 40 mg/kg diclofen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3 &gt;&gt;&gt; 80 mg/kg diclof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4 &gt;&gt;&gt; 20 mg/kg hydrocortis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5 &gt;&gt;&gt; 40 mg/kg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after 1 hr , inject 0.1 ml formalin in each rat ( 2 to 5 )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paws &gt;&gt;&gt; to induce inflam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after 1 hr , take the reading using the plythysmometer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paw ( right and left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calculate the inflammation and response % for each dru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838080"/>
          <a:ext cx="8229600" cy="3840120"/>
        </p:xfrm>
        <a:graphic>
          <a:graphicData uri="http://schemas.openxmlformats.org/drawingml/2006/table">
            <a:tbl>
              <a:tblPr/>
              <a:tblGrid>
                <a:gridCol w="2200320"/>
                <a:gridCol w="1414440"/>
                <a:gridCol w="1322280"/>
                <a:gridCol w="1646280"/>
                <a:gridCol w="16462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v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v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hydr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hydr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1232640" y="388620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mmation = RP - 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636480" y="4800600"/>
            <a:ext cx="77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% =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73200" y="4572000"/>
            <a:ext cx="12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 - 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64880" y="519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371960" y="5943600"/>
            <a:ext cx="76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%  &gt;&gt;&gt;&gt;    Anti-inflammatory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Up Arrow 9"/>
          <p:cNvSpPr/>
          <p:nvPr/>
        </p:nvSpPr>
        <p:spPr>
          <a:xfrm>
            <a:off x="1066680" y="59436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Up Arrow 10"/>
          <p:cNvSpPr/>
          <p:nvPr/>
        </p:nvSpPr>
        <p:spPr>
          <a:xfrm>
            <a:off x="4343400" y="59436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Sign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Redness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vasodilatation by effects of releasing of histamine, bradykinin and prostagland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Hotness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ncreased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Sign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Swelling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ncreased vascular permeability by the released mediators and increased the exudate in the inflamme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ain: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rritation of nerve ending by inflammation and the pressure of the swelling on the nerve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lammatory medi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5-HT (serotoni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radykini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Prostaglandin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(eg PGE2 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leukin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stance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itrous oxid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248520" y="3048120"/>
            <a:ext cx="2743200" cy="1371600"/>
          </a:xfrm>
          <a:prstGeom prst="leftArrowCallout">
            <a:avLst>
              <a:gd name="adj1" fmla="val 15048"/>
              <a:gd name="adj2" fmla="val 11977"/>
              <a:gd name="adj3" fmla="val 46648"/>
              <a:gd name="adj4" fmla="val 6667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93080" y="3147840"/>
            <a:ext cx="189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flamm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Phases of Infla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luid phase (vascular phase):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vasodilatation leads to increased permeability of the vascular bed to plasma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fluid will help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dilution of the irri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increase conc.  of antibodies from blood to inflam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supply nutrients to the immun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ellular phase (exudative phas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s migration of tissue macrophages and polymorphonuclear leukocytes (PMNL)  to the inflamed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ibrous phase (proliferative phas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connective tissue (fibrous) containing fibroblast and capillaries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95120" y="7617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Phase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assification of the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75720" y="2235240"/>
            <a:ext cx="6077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n – immunologica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chemical irritants such as form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591560" y="3683160"/>
            <a:ext cx="631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munologica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infections such as bacterial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Anti-inflammatory Dru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 rot="5400000">
            <a:off x="4298400" y="79344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133720" y="38862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91520" y="38098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524960" y="42926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tero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12960" y="42814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n-stero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888920" y="491796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018840" y="4952880"/>
            <a:ext cx="22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cetamino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5:58:28Z</dcterms:created>
  <dc:creator>Mastour</dc:creator>
  <dc:description/>
  <dc:language>en-US</dc:language>
  <cp:lastModifiedBy>MTL</cp:lastModifiedBy>
  <dcterms:modified xsi:type="dcterms:W3CDTF">2015-02-02T09:35:38Z</dcterms:modified>
  <cp:revision>28</cp:revision>
  <dc:subject/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