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948488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48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3936600" y="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3660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FCD3564-593A-4193-B15E-D473A12016A6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93696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2E05EC6-F9E4-4C72-8F7C-10CB66BC399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93696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73E106D-FF59-4A2D-896A-6714A729F515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93696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EF4DEF6-9795-48C1-8E9E-EBCC0AD4F39A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93696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825E371-E12F-4CB3-877B-BA65A9F14DA4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93696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A0CAFBB-E40A-4302-827D-BB115868F9A4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93696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FB58B91-6C2B-465D-B397-696EC5E5AFA7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93696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EABC5AD-4021-4D56-80F3-54DED317A6B9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93696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824A2F8-900B-412A-8222-860B0F1C19E3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93696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E1D5263-8665-4469-8880-060736E4501F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93696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0B5CC21-22D1-4774-8F37-7BD475A274A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93696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F2689FD-64FE-4FCF-AA40-5098839190B8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93696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BA287DC-D16B-4998-BA6A-ACCA49D06194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93696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A95B778-2352-4EE2-8411-9FDB2319D71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93696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AF98A56-88C8-487D-82C8-FDEBB7D0BFB0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93696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885D376-B153-4A00-A7B0-0EC3EA6D1280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93696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E0D135E-5680-4D26-9167-8695D53CC562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93696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38F8267-B449-4A1C-AEFA-1524A311A0B8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93696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605B635-69C0-4AC9-9241-A4651AFCB0C6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93696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E00C807-D62C-44D0-A61A-7923BAA6E1A6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93696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D4711B6-8601-4797-9A58-FA095299747C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93696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F8548A7-04B7-4F64-AF20-5BB027405098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7CB7-C3A7-4179-BFC1-E903A5A23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CB8C-A660-4B1F-B239-596E0C42F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3A6C-FF27-494D-A3FA-A0417BD76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4DC0-E557-4498-B16A-753E88912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E390-63B1-44B6-B5C0-8B57DEDD9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2342-7906-41A4-AE22-FA770E9E4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0E81-BB05-4AF6-8122-A7A050DCC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1007-CB5F-41C8-8E76-3431B3961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CDD5-3C93-4623-99B0-EABF373BD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2D10-D129-4F7E-84F5-1127F1AD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9BCE-B761-4AF7-9C7E-1F3F668AF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C987-3548-4419-8DA4-2C90530E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FECEF-B660-4E2B-9A86-E86B8222B3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520" y="761760"/>
            <a:ext cx="723924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Anti-inflammatory Drug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4192920" y="2362320"/>
            <a:ext cx="168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# Lab 4 #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98108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7"/>
          <p:cNvSpPr/>
          <p:nvPr/>
        </p:nvSpPr>
        <p:spPr>
          <a:xfrm>
            <a:off x="1526400" y="1371600"/>
            <a:ext cx="273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Steroids (SAI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1668240" y="2057400"/>
            <a:ext cx="563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Containing steroid moiety in their sturc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9" descr="800px-Cortisol"/>
          <p:cNvPicPr/>
          <p:nvPr/>
        </p:nvPicPr>
        <p:blipFill>
          <a:blip r:embed="rId1"/>
          <a:stretch/>
        </p:blipFill>
        <p:spPr>
          <a:xfrm>
            <a:off x="2895480" y="3429000"/>
            <a:ext cx="3276720" cy="245736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10"/>
          <p:cNvSpPr/>
          <p:nvPr/>
        </p:nvSpPr>
        <p:spPr>
          <a:xfrm>
            <a:off x="1981080" y="2590920"/>
            <a:ext cx="685800" cy="38088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2780280" y="2514600"/>
            <a:ext cx="301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Glucocorticoids</a:t>
            </a: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  (G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3810240" y="609588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tis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6"/>
          <p:cNvSpPr/>
          <p:nvPr/>
        </p:nvSpPr>
        <p:spPr>
          <a:xfrm>
            <a:off x="2936160" y="1119240"/>
            <a:ext cx="413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Trebuchet MS"/>
              </a:rPr>
              <a:t>Glucocorticoids  (G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7"/>
          <p:cNvSpPr/>
          <p:nvPr/>
        </p:nvSpPr>
        <p:spPr>
          <a:xfrm rot="5400000">
            <a:off x="4527000" y="-272880"/>
            <a:ext cx="914400" cy="5270760"/>
          </a:xfrm>
          <a:custGeom>
            <a:avLst/>
            <a:gdLst>
              <a:gd name="textAreaLeft" fmla="*/ 584280 w 914400"/>
              <a:gd name="textAreaRight" fmla="*/ 914760 w 914400"/>
              <a:gd name="textAreaTop" fmla="*/ 137160 h 5270760"/>
              <a:gd name="textAreaBottom" fmla="*/ 5133600 h 5270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>
            <a:off x="2362320" y="2819520"/>
            <a:ext cx="0" cy="3045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9"/>
          <p:cNvSpPr/>
          <p:nvPr/>
        </p:nvSpPr>
        <p:spPr>
          <a:xfrm>
            <a:off x="7620120" y="2743200"/>
            <a:ext cx="0" cy="3049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1754280" y="3124080"/>
            <a:ext cx="136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Natu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6936480" y="3073320"/>
            <a:ext cx="16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Synthetic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1981080" y="3902040"/>
            <a:ext cx="225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Cortis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Hydrocortis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3"/>
          <p:cNvSpPr/>
          <p:nvPr/>
        </p:nvSpPr>
        <p:spPr>
          <a:xfrm>
            <a:off x="6400080" y="3886200"/>
            <a:ext cx="2307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Betamethas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xamethas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redins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4"/>
          <p:cNvSpPr/>
          <p:nvPr/>
        </p:nvSpPr>
        <p:spPr>
          <a:xfrm>
            <a:off x="6400800" y="3962520"/>
            <a:ext cx="152280" cy="761760"/>
          </a:xfrm>
          <a:custGeom>
            <a:avLst/>
            <a:gdLst>
              <a:gd name="textAreaLeft" fmla="*/ 44640 w 152280"/>
              <a:gd name="textAreaRight" fmla="*/ 152640 w 152280"/>
              <a:gd name="textAreaTop" fmla="*/ 31680 h 761760"/>
              <a:gd name="textAreaBottom" fmla="*/ 73008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5"/>
          <p:cNvSpPr/>
          <p:nvPr/>
        </p:nvSpPr>
        <p:spPr>
          <a:xfrm flipH="1">
            <a:off x="6248160" y="4343400"/>
            <a:ext cx="15228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6"/>
          <p:cNvSpPr/>
          <p:nvPr/>
        </p:nvSpPr>
        <p:spPr>
          <a:xfrm>
            <a:off x="4842000" y="4038480"/>
            <a:ext cx="1479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uorin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lucocorticoi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7"/>
          <p:cNvSpPr/>
          <p:nvPr/>
        </p:nvSpPr>
        <p:spPr>
          <a:xfrm>
            <a:off x="7162920" y="5105520"/>
            <a:ext cx="380880" cy="457200"/>
          </a:xfrm>
          <a:prstGeom prst="upArrow">
            <a:avLst>
              <a:gd name="adj1" fmla="val 50000"/>
              <a:gd name="adj2" fmla="val 30009"/>
            </a:avLst>
          </a:pr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8"/>
          <p:cNvSpPr/>
          <p:nvPr/>
        </p:nvSpPr>
        <p:spPr>
          <a:xfrm>
            <a:off x="6553080" y="5715000"/>
            <a:ext cx="17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nisol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9"/>
          <p:cNvSpPr/>
          <p:nvPr/>
        </p:nvSpPr>
        <p:spPr>
          <a:xfrm>
            <a:off x="7608600" y="5181480"/>
            <a:ext cx="138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ver enzy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6"/>
          <p:cNvSpPr/>
          <p:nvPr/>
        </p:nvSpPr>
        <p:spPr>
          <a:xfrm>
            <a:off x="2936160" y="1119240"/>
            <a:ext cx="413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Trebuchet MS"/>
              </a:rPr>
              <a:t>Glucocorticoids  (G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1221840" y="1895400"/>
            <a:ext cx="362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Times New Roman"/>
              </a:rPr>
              <a:t>Mechanism of Action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1363320" y="2743200"/>
            <a:ext cx="747324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y act by indirect inhibition of the enzyme phospholipase A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ich activate synthesis o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achidonic acid with subsequ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ion of prostaglandi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induce synthesis of a protein “lipocortin-1” which h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hibitory effect on  phospholipase A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1144440" y="27432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163520" y="41911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6" descr="figure2"/>
          <p:cNvPicPr/>
          <p:nvPr/>
        </p:nvPicPr>
        <p:blipFill>
          <a:blip r:embed="rId1"/>
          <a:stretch/>
        </p:blipFill>
        <p:spPr>
          <a:xfrm>
            <a:off x="380880" y="304920"/>
            <a:ext cx="8534520" cy="6283080"/>
          </a:xfrm>
          <a:prstGeom prst="rect">
            <a:avLst/>
          </a:prstGeom>
          <a:ln w="0">
            <a:noFill/>
          </a:ln>
        </p:spPr>
      </p:pic>
      <p:sp>
        <p:nvSpPr>
          <p:cNvPr id="105" name="Line 7"/>
          <p:cNvSpPr/>
          <p:nvPr/>
        </p:nvSpPr>
        <p:spPr>
          <a:xfrm flipH="1">
            <a:off x="5486400" y="3657600"/>
            <a:ext cx="53352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5165640" y="156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4"/>
          <p:cNvSpPr/>
          <p:nvPr/>
        </p:nvSpPr>
        <p:spPr>
          <a:xfrm>
            <a:off x="5181480" y="1523880"/>
            <a:ext cx="2362320" cy="5335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3"/>
          <p:cNvSpPr/>
          <p:nvPr/>
        </p:nvSpPr>
        <p:spPr>
          <a:xfrm>
            <a:off x="5201280" y="1600200"/>
            <a:ext cx="2375280" cy="459720"/>
          </a:xfrm>
          <a:prstGeom prst="rect">
            <a:avLst/>
          </a:prstGeom>
          <a:noFill/>
          <a:ln cap="sq"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phospholipase A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5"/>
          <p:cNvSpPr/>
          <p:nvPr/>
        </p:nvSpPr>
        <p:spPr>
          <a:xfrm rot="1902000">
            <a:off x="7238520" y="1143000"/>
            <a:ext cx="304920" cy="380880"/>
          </a:xfrm>
          <a:prstGeom prst="downArrow">
            <a:avLst>
              <a:gd name="adj1" fmla="val 50000"/>
              <a:gd name="adj2" fmla="val 31228"/>
            </a:avLst>
          </a:prstGeom>
          <a:solidFill>
            <a:srgbClr val="3333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6"/>
          <p:cNvSpPr/>
          <p:nvPr/>
        </p:nvSpPr>
        <p:spPr>
          <a:xfrm>
            <a:off x="6781680" y="457200"/>
            <a:ext cx="1981440" cy="609480"/>
          </a:xfrm>
          <a:prstGeom prst="ellipse">
            <a:avLst/>
          </a:prstGeom>
          <a:noFill/>
          <a:ln cap="sq"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7"/>
          <p:cNvSpPr/>
          <p:nvPr/>
        </p:nvSpPr>
        <p:spPr>
          <a:xfrm>
            <a:off x="6857640" y="53352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GC inhib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8960" y="99072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99"/>
                </a:solidFill>
                <a:uFillTx/>
                <a:latin typeface="Arial"/>
              </a:rPr>
              <a:t>Side Effects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1046520" y="1965240"/>
            <a:ext cx="81939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munosuppres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yperglycemia due to increased gluconeogensis, insulin resistance,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aired glucose tolerance ("steroid diabetes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roid-induced osteoporosis: reduced bone density (osteoporosi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teoporosis , higher fracture risk, slower fracture repair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istribution of body fat: moon face, buffalo hump and truncal obes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renal insu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cle breakdown (proteolysis), weakness; reduced muscle mass and repa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ovulation, irregularity of menstrual perio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wth failure, pubertal del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reased plasma amino acids, increased urea formation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aucoma due to increased cranial pressu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Moon-face-after-cortisone-9835"/>
          <p:cNvPicPr/>
          <p:nvPr/>
        </p:nvPicPr>
        <p:blipFill>
          <a:blip r:embed="rId1"/>
          <a:stretch/>
        </p:blipFill>
        <p:spPr>
          <a:xfrm>
            <a:off x="1752480" y="2666880"/>
            <a:ext cx="2408400" cy="28195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8960" y="99072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Side Effects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buffalo"/>
          <p:cNvPicPr/>
          <p:nvPr/>
        </p:nvPicPr>
        <p:blipFill>
          <a:blip r:embed="rId2"/>
          <a:stretch/>
        </p:blipFill>
        <p:spPr>
          <a:xfrm>
            <a:off x="4419720" y="2590920"/>
            <a:ext cx="4209840" cy="29131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7"/>
          <p:cNvSpPr/>
          <p:nvPr/>
        </p:nvSpPr>
        <p:spPr>
          <a:xfrm>
            <a:off x="2057760" y="5715000"/>
            <a:ext cx="14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on 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5927760" y="560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5709960" y="57150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ffalo hu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1234440" y="1523880"/>
            <a:ext cx="767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Trebuchet MS"/>
              </a:rPr>
              <a:t>Non-Steroidal Anti-inflammatory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89440" y="228600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NAS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1498320" y="3308400"/>
            <a:ext cx="631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don’t contain steroid mo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also have analgesic and antipyretic 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5"/>
          <p:cNvSpPr/>
          <p:nvPr/>
        </p:nvSpPr>
        <p:spPr>
          <a:xfrm>
            <a:off x="2009160" y="1676520"/>
            <a:ext cx="362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Times New Roman"/>
              </a:rPr>
              <a:t>Mechanism of Action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212120" y="2806560"/>
            <a:ext cx="7935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SAIDs inhibit synthesis of PGs which are the main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ying a role in the inflammal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ibit synthesis of PGs through inhibition of cyclooxygen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zymes which are responsible for production of PG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figure2"/>
          <p:cNvPicPr/>
          <p:nvPr/>
        </p:nvPicPr>
        <p:blipFill>
          <a:blip r:embed="rId1"/>
          <a:stretch/>
        </p:blipFill>
        <p:spPr>
          <a:xfrm>
            <a:off x="380880" y="304920"/>
            <a:ext cx="8534520" cy="628308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5"/>
          <p:cNvSpPr/>
          <p:nvPr/>
        </p:nvSpPr>
        <p:spPr>
          <a:xfrm rot="1902000">
            <a:off x="7238520" y="1143000"/>
            <a:ext cx="304920" cy="380880"/>
          </a:xfrm>
          <a:prstGeom prst="downArrow">
            <a:avLst>
              <a:gd name="adj1" fmla="val 50000"/>
              <a:gd name="adj2" fmla="val 31228"/>
            </a:avLst>
          </a:prstGeom>
          <a:solidFill>
            <a:srgbClr val="3333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6"/>
          <p:cNvSpPr/>
          <p:nvPr/>
        </p:nvSpPr>
        <p:spPr>
          <a:xfrm>
            <a:off x="6781680" y="457200"/>
            <a:ext cx="1981440" cy="609480"/>
          </a:xfrm>
          <a:prstGeom prst="ellipse">
            <a:avLst/>
          </a:prstGeom>
          <a:noFill/>
          <a:ln cap="sq"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6857640" y="53352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GC inhib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5181480" y="1523880"/>
            <a:ext cx="2362320" cy="5335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5201280" y="1600200"/>
            <a:ext cx="2375280" cy="459720"/>
          </a:xfrm>
          <a:prstGeom prst="rect">
            <a:avLst/>
          </a:prstGeom>
          <a:noFill/>
          <a:ln cap="sq"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phospholipase A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4"/>
          <p:cNvSpPr/>
          <p:nvPr/>
        </p:nvSpPr>
        <p:spPr>
          <a:xfrm>
            <a:off x="1351800" y="1447920"/>
            <a:ext cx="528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Times New Roman"/>
              </a:rPr>
              <a:t>Cyclooxygenese ( 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Times New Roman"/>
              </a:rPr>
              <a:t>COX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Times New Roman"/>
              </a:rPr>
              <a:t> ) Isoform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5"/>
          <p:cNvSpPr/>
          <p:nvPr/>
        </p:nvSpPr>
        <p:spPr>
          <a:xfrm rot="5400000">
            <a:off x="4387320" y="31320"/>
            <a:ext cx="914400" cy="5270760"/>
          </a:xfrm>
          <a:custGeom>
            <a:avLst/>
            <a:gdLst>
              <a:gd name="textAreaLeft" fmla="*/ 584280 w 914400"/>
              <a:gd name="textAreaRight" fmla="*/ 914760 w 914400"/>
              <a:gd name="textAreaTop" fmla="*/ 137160 h 5270760"/>
              <a:gd name="textAreaBottom" fmla="*/ 5133600 h 5270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6"/>
          <p:cNvSpPr/>
          <p:nvPr/>
        </p:nvSpPr>
        <p:spPr>
          <a:xfrm>
            <a:off x="2222640" y="3124080"/>
            <a:ext cx="0" cy="3049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7"/>
          <p:cNvSpPr/>
          <p:nvPr/>
        </p:nvSpPr>
        <p:spPr>
          <a:xfrm>
            <a:off x="7480440" y="3048120"/>
            <a:ext cx="0" cy="3045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6912720" y="335268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COX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1602360" y="34290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COX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1348560" y="4052880"/>
            <a:ext cx="3246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Constitu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Many tissues ( blood vess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mach and kidney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1"/>
          <p:cNvSpPr/>
          <p:nvPr/>
        </p:nvSpPr>
        <p:spPr>
          <a:xfrm>
            <a:off x="5753160" y="4038480"/>
            <a:ext cx="3054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induc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 inflammatory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medi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2"/>
          <p:cNvSpPr/>
          <p:nvPr/>
        </p:nvSpPr>
        <p:spPr>
          <a:xfrm>
            <a:off x="1602360" y="57913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COX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3"/>
          <p:cNvSpPr/>
          <p:nvPr/>
        </p:nvSpPr>
        <p:spPr>
          <a:xfrm>
            <a:off x="2743200" y="594360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4"/>
          <p:cNvSpPr/>
          <p:nvPr/>
        </p:nvSpPr>
        <p:spPr>
          <a:xfrm>
            <a:off x="3333600" y="5791320"/>
            <a:ext cx="354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 recently been descri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99072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cccc00"/>
                </a:solidFill>
                <a:uFillTx/>
                <a:latin typeface="Arial"/>
              </a:rPr>
              <a:t> </a:t>
            </a:r>
            <a:r>
              <a:rPr b="1" i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Inflammation: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 is a biological response of vascular tissues to harmful stimuli, such as pathogens, damaged cells, or irrita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lammation may ends with either 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0" descr="sad"/>
          <p:cNvPicPr/>
          <p:nvPr/>
        </p:nvPicPr>
        <p:blipFill>
          <a:blip r:embed="rId1"/>
          <a:stretch/>
        </p:blipFill>
        <p:spPr>
          <a:xfrm>
            <a:off x="6781680" y="48769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smile"/>
          <p:cNvPicPr/>
          <p:nvPr/>
        </p:nvPicPr>
        <p:blipFill>
          <a:blip r:embed="rId2"/>
          <a:stretch/>
        </p:blipFill>
        <p:spPr>
          <a:xfrm>
            <a:off x="2438280" y="4876920"/>
            <a:ext cx="590760" cy="590400"/>
          </a:xfrm>
          <a:prstGeom prst="rect">
            <a:avLst/>
          </a:prstGeom>
          <a:ln w="0">
            <a:noFill/>
          </a:ln>
        </p:spPr>
      </p:pic>
      <p:sp>
        <p:nvSpPr>
          <p:cNvPr id="54" name="Line 12"/>
          <p:cNvSpPr/>
          <p:nvPr/>
        </p:nvSpPr>
        <p:spPr>
          <a:xfrm>
            <a:off x="4876920" y="4876920"/>
            <a:ext cx="0" cy="1600200"/>
          </a:xfrm>
          <a:prstGeom prst="line">
            <a:avLst/>
          </a:prstGeom>
          <a:ln cap="sq"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1621440" y="5730840"/>
            <a:ext cx="241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 heal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5"/>
          <p:cNvSpPr/>
          <p:nvPr/>
        </p:nvSpPr>
        <p:spPr>
          <a:xfrm>
            <a:off x="5366160" y="5730840"/>
            <a:ext cx="299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manent destr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issu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4"/>
          <p:cNvSpPr/>
          <p:nvPr/>
        </p:nvSpPr>
        <p:spPr>
          <a:xfrm>
            <a:off x="1234440" y="1523880"/>
            <a:ext cx="767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Trebuchet MS"/>
              </a:rPr>
              <a:t>Non-Steroidal Anti-inflammatory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4151520" y="220968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NAS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6"/>
          <p:cNvSpPr/>
          <p:nvPr/>
        </p:nvSpPr>
        <p:spPr>
          <a:xfrm rot="5400000">
            <a:off x="4387320" y="717120"/>
            <a:ext cx="914400" cy="5270760"/>
          </a:xfrm>
          <a:custGeom>
            <a:avLst/>
            <a:gdLst>
              <a:gd name="textAreaLeft" fmla="*/ 584280 w 914400"/>
              <a:gd name="textAreaRight" fmla="*/ 914760 w 914400"/>
              <a:gd name="textAreaTop" fmla="*/ 137160 h 5270760"/>
              <a:gd name="textAreaBottom" fmla="*/ 5133600 h 5270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7"/>
          <p:cNvSpPr/>
          <p:nvPr/>
        </p:nvSpPr>
        <p:spPr>
          <a:xfrm>
            <a:off x="2222640" y="3809880"/>
            <a:ext cx="0" cy="3049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8"/>
          <p:cNvSpPr/>
          <p:nvPr/>
        </p:nvSpPr>
        <p:spPr>
          <a:xfrm>
            <a:off x="7480440" y="3733920"/>
            <a:ext cx="0" cy="3045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1524960" y="4206960"/>
            <a:ext cx="22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Non-selec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COX inhib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6324120" y="4191120"/>
            <a:ext cx="224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selective COX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inhib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1"/>
          <p:cNvSpPr/>
          <p:nvPr/>
        </p:nvSpPr>
        <p:spPr>
          <a:xfrm>
            <a:off x="1599120" y="5105520"/>
            <a:ext cx="1488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Aspir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Ibupro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Diclofen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Meloxic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2"/>
          <p:cNvSpPr/>
          <p:nvPr/>
        </p:nvSpPr>
        <p:spPr>
          <a:xfrm>
            <a:off x="6326280" y="5105520"/>
            <a:ext cx="139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Celecox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Rofecox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8960" y="99072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Side Effects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1270800" y="1946160"/>
            <a:ext cx="7227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Unwanted effects, owing largely to inhibtion of COX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articularly in the elderly and includ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espepsia, nausea and vomiting , ulceration and gastr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mage in chronic users, with risk of hemorrh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versible renal insufficien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Analgesic-associated nephropathy ( irreversible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Liver disorders, in high doses, e.g. acetaminoph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3520" y="16002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eb"/>
                </a:solidFill>
                <a:latin typeface="Arial"/>
              </a:rPr>
              <a:t>Measurement the activity of </a:t>
            </a:r>
            <a:br>
              <a:rPr sz="4400"/>
            </a:br>
            <a:r>
              <a:rPr b="0" lang="en-US" sz="4400" spc="-1" strike="noStrike">
                <a:solidFill>
                  <a:srgbClr val="99ffeb"/>
                </a:solidFill>
                <a:latin typeface="Arial"/>
              </a:rPr>
              <a:t>anti-inflammatory drug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3"/>
          <p:cNvSpPr/>
          <p:nvPr/>
        </p:nvSpPr>
        <p:spPr>
          <a:xfrm>
            <a:off x="1672560" y="3048120"/>
            <a:ext cx="495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-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Times New Roman"/>
              </a:rPr>
              <a:t> Method :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w Oedema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4"/>
          <p:cNvSpPr/>
          <p:nvPr/>
        </p:nvSpPr>
        <p:spPr>
          <a:xfrm>
            <a:off x="1549440" y="3995640"/>
            <a:ext cx="73054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Times New Roman"/>
              </a:rPr>
              <a:t>Principle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 :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uction a chemical inflam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injecting an irritant ( formalin )  in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’s p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5"/>
          <p:cNvSpPr/>
          <p:nvPr/>
        </p:nvSpPr>
        <p:spPr>
          <a:xfrm>
            <a:off x="1488960" y="5443560"/>
            <a:ext cx="7742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Times New Roman"/>
              </a:rPr>
              <a:t>Objective :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e the anti-inflammatory activity of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clofenac and hydrocortisone  wi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doses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1128240" y="1000080"/>
            <a:ext cx="811476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Times New Roman"/>
              </a:rPr>
              <a:t>Procedure :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- select 5 ra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 inject  each rat 1 ml urethane for anesthes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- select one as control and inject the rest of them intraperiton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 1 &gt;&gt;&gt;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 2 &gt;&gt;&gt; 40 mg/kg diclofena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 3 &gt;&gt;&gt; 80 mg/kg diclofen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 4 &gt;&gt;&gt; 20 mg/kg hydrocortis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 5 &gt;&gt;&gt; 40 mg/kg hydrocortis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- after 1 hr , inject 0.1 ml formalin in each rat ( 2 to 5 ) i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ir paws &gt;&gt;&gt; to induce inflam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- after 1 hr , take the reading using the plythysmometer of 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 paw ( right and left 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- calculate the inflammation and response % for each dru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57200" y="838080"/>
          <a:ext cx="8229600" cy="3840120"/>
        </p:xfrm>
        <a:graphic>
          <a:graphicData uri="http://schemas.openxmlformats.org/drawingml/2006/table">
            <a:tbl>
              <a:tblPr/>
              <a:tblGrid>
                <a:gridCol w="2200320"/>
                <a:gridCol w="1414440"/>
                <a:gridCol w="1322280"/>
                <a:gridCol w="1646280"/>
                <a:gridCol w="164628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flamm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ponse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cff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/kg vol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ff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/kg vol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cff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/kg hydro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ff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/kg hydro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cff"/>
                    </a:solidFill>
                  </a:tcPr>
                </a:tc>
              </a:tr>
            </a:tbl>
          </a:graphicData>
        </a:graphic>
      </p:graphicFrame>
      <p:sp>
        <p:nvSpPr>
          <p:cNvPr id="160" name="TextBox 3"/>
          <p:cNvSpPr/>
          <p:nvPr/>
        </p:nvSpPr>
        <p:spPr>
          <a:xfrm>
            <a:off x="1232640" y="3886200"/>
            <a:ext cx="36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ammation = RP - 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4"/>
          <p:cNvSpPr/>
          <p:nvPr/>
        </p:nvSpPr>
        <p:spPr>
          <a:xfrm>
            <a:off x="636480" y="4800600"/>
            <a:ext cx="779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% =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ـــــــــــــــــــــــــــــــــــــــ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  10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6"/>
          <p:cNvSpPr/>
          <p:nvPr/>
        </p:nvSpPr>
        <p:spPr>
          <a:xfrm>
            <a:off x="4273200" y="4572000"/>
            <a:ext cx="12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  -   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7"/>
          <p:cNvSpPr/>
          <p:nvPr/>
        </p:nvSpPr>
        <p:spPr>
          <a:xfrm>
            <a:off x="4664880" y="5191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8"/>
          <p:cNvSpPr/>
          <p:nvPr/>
        </p:nvSpPr>
        <p:spPr>
          <a:xfrm>
            <a:off x="1371960" y="5943600"/>
            <a:ext cx="76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ponse %  &gt;&gt;&gt;&gt;    Anti-inflammatory activ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Up Arrow 9"/>
          <p:cNvSpPr/>
          <p:nvPr/>
        </p:nvSpPr>
        <p:spPr>
          <a:xfrm>
            <a:off x="1066680" y="5943600"/>
            <a:ext cx="228600" cy="380880"/>
          </a:xfrm>
          <a:prstGeom prst="upArrow">
            <a:avLst>
              <a:gd name="adj1" fmla="val 50000"/>
              <a:gd name="adj2" fmla="val 49984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Up Arrow 10"/>
          <p:cNvSpPr/>
          <p:nvPr/>
        </p:nvSpPr>
        <p:spPr>
          <a:xfrm>
            <a:off x="4343400" y="5943600"/>
            <a:ext cx="228600" cy="380880"/>
          </a:xfrm>
          <a:prstGeom prst="upArrow">
            <a:avLst>
              <a:gd name="adj1" fmla="val 50000"/>
              <a:gd name="adj2" fmla="val 49984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76212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Arial"/>
              </a:rPr>
              <a:t>Signs of inflam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Redness: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ue to vasodilatation by effects of releasing of histamine, bradykinin and prostagland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Hotness: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ue to increased blood f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76212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Arial"/>
              </a:rPr>
              <a:t>Signs of inflam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Swelling: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ue to increased vascular permeability by the released mediators and increased the exudate in the inflammed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Pain: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ue to irritation of nerve ending by inflammation and the pressure of the swelling on the nerve en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371600" y="1219320"/>
            <a:ext cx="632448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Inflammatory media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histamin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5-HT (serotonin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Bradykinin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726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9999"/>
                </a:solidFill>
                <a:latin typeface="Arial"/>
              </a:rPr>
              <a:t>Prostaglandins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(eg PGE2 )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Interleukin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Substance P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Nitrous oxide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5"/>
          <p:cNvSpPr/>
          <p:nvPr/>
        </p:nvSpPr>
        <p:spPr>
          <a:xfrm>
            <a:off x="6248520" y="3048120"/>
            <a:ext cx="2743200" cy="1371600"/>
          </a:xfrm>
          <a:prstGeom prst="leftArrowCallout">
            <a:avLst>
              <a:gd name="adj1" fmla="val 15048"/>
              <a:gd name="adj2" fmla="val 11977"/>
              <a:gd name="adj3" fmla="val 46648"/>
              <a:gd name="adj4" fmla="val 66673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7093080" y="3147840"/>
            <a:ext cx="1895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nflamma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edia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95120" y="761760"/>
            <a:ext cx="4876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ff"/>
                </a:solidFill>
                <a:latin typeface="Arial"/>
              </a:rPr>
              <a:t>Phases of Inflam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Fluid phase (vascular phase):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creased vasodilatation leads to increased permeability of the vascular bed to plasma prote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creasing fluid will help 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- dilution of the irri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- increase conc.  of antibodies from blood to inflamed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- supply nutrients to the immune ce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219320" y="1676520"/>
            <a:ext cx="761976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Cellular phase (exudative phase)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olves migration of tissue macrophages and polymorphonuclear leukocytes (PMNL)  to the inflamed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Fibrous phase (proliferative phase)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new connective tissue (fibrous) containing fibroblast and capillaries is form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2895120" y="761760"/>
            <a:ext cx="4876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Arial"/>
              </a:rPr>
              <a:t>Phases of Inflam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83772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assification of the Inflam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1575720" y="2235240"/>
            <a:ext cx="60771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Non – immunological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uced by chemical irritants such as forma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1591560" y="3683160"/>
            <a:ext cx="63133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Immunological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uced by infections such as bacterial inf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99840" y="16002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ffff"/>
                </a:solidFill>
                <a:latin typeface="Arial"/>
              </a:rPr>
              <a:t>Anti-inflammatory Drug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6"/>
          <p:cNvSpPr/>
          <p:nvPr/>
        </p:nvSpPr>
        <p:spPr>
          <a:xfrm rot="5400000">
            <a:off x="4298400" y="793440"/>
            <a:ext cx="914400" cy="5270760"/>
          </a:xfrm>
          <a:custGeom>
            <a:avLst/>
            <a:gdLst>
              <a:gd name="textAreaLeft" fmla="*/ 584280 w 914400"/>
              <a:gd name="textAreaRight" fmla="*/ 914760 w 914400"/>
              <a:gd name="textAreaTop" fmla="*/ 137160 h 5270760"/>
              <a:gd name="textAreaBottom" fmla="*/ 5133600 h 5270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7"/>
          <p:cNvSpPr/>
          <p:nvPr/>
        </p:nvSpPr>
        <p:spPr>
          <a:xfrm>
            <a:off x="2133720" y="3886200"/>
            <a:ext cx="0" cy="3049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8"/>
          <p:cNvSpPr/>
          <p:nvPr/>
        </p:nvSpPr>
        <p:spPr>
          <a:xfrm>
            <a:off x="7391520" y="3809880"/>
            <a:ext cx="0" cy="3049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1524960" y="4292640"/>
            <a:ext cx="156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Steroid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6312960" y="4281480"/>
            <a:ext cx="22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Non-steroid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1"/>
          <p:cNvSpPr/>
          <p:nvPr/>
        </p:nvSpPr>
        <p:spPr>
          <a:xfrm>
            <a:off x="1888920" y="4917960"/>
            <a:ext cx="225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Cortis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Hydrocortis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2"/>
          <p:cNvSpPr/>
          <p:nvPr/>
        </p:nvSpPr>
        <p:spPr>
          <a:xfrm>
            <a:off x="6018840" y="4952880"/>
            <a:ext cx="229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Acetaminop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Aspir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5T15:58:28Z</dcterms:created>
  <dc:creator>Mastour</dc:creator>
  <dc:description/>
  <dc:language>en-US</dc:language>
  <cp:lastModifiedBy>MTL</cp:lastModifiedBy>
  <dcterms:modified xsi:type="dcterms:W3CDTF">2015-02-02T09:35:38Z</dcterms:modified>
  <cp:revision>28</cp:revision>
  <dc:subject/>
  <dc:title>Project Overvie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84561033</vt:lpwstr>
  </property>
</Properties>
</file>