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93C10-1AD5-4EF2-9EFE-DB9EE6A67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E29FE-1605-4BBC-8B56-5F2C65946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F4D7CEA-A323-44D8-80D8-C7DA8860A4F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30E5BAF-3602-4F23-A3F5-1E7D8BF44A0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A0C0A25-8A6D-42C7-930B-E201137E345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1474D35-B330-4E43-B29F-3F513838C6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40229DF-5175-4294-8430-B64102B75D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147142E-6060-47CC-BF90-C0B87189F03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E30503D-AFA0-46D7-B4E3-8E127EC9FCE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CE93846-678D-4402-9C23-AA163F390F9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A18CE3E-C1EE-430E-AB60-EF492FDE916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FA49D5D-F559-4019-8642-98E752C71A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34F44-535B-42B2-9AFA-09DA15F98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BDC6AA2-0FBB-42A2-A819-2B71BC5CB9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3DC2F9C-202A-46DF-BAD8-E541C528F9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376EEB0-DD32-4134-BD6A-550FAC062A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DE7C0CB-2EB0-46C4-959E-9AFBB011C1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B5556BA-6C82-4319-BDE6-1AF4173077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535A19E-2BA7-4F48-BED2-E399304A5E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84EA126-0F94-46A5-9188-5E8A9E6A20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AAEECCE-DC37-40EE-87D8-9AA5239581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2586368-25F5-4370-B967-8676E89E7C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570C35B-A2F8-42A2-AB9A-C7FDE4227A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B5048-BC1D-417A-B1FF-EAC70D333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DE19522-0BAE-4876-8E6E-FAA2F22C03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03FBFC-7EDB-4EFD-90EA-A672784457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043B1C-BEA2-4C28-A78F-122CA78E08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21E088-B907-41D8-BAD7-3EEE6962A3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A2932D-8887-40C6-86B3-6EF91123E6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63C529-C2D7-49E8-9D26-BA4F288648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9C3289-4397-4CB8-B90D-C13A8017FB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D953E2-198F-4991-AEBE-3F5B5BCE83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33B579-CFA0-4C9D-B915-38C83BF2AB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CB4BCA-D87D-496B-8217-2D01880D21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B526B-3E40-485F-B034-3FFB291D2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55B2D4-98E8-462F-B59D-31B11D39DD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274B11-3F12-4202-9A25-F1E7D50A6C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41D16A-E29E-4F3A-BC14-E93E077C28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0E573A9-9EE7-4BAA-98F3-D1DC2BC62A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42125E3-3EDC-4CAB-8F59-B647B01CA2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4029DFC-1B2E-421A-ABBF-950065CD37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42FEA8A-2785-4201-A868-322EF91BEE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E9BC8ED-0C0F-4405-BBE5-AD5CA1286B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5FB4A69-9BF5-4132-8FD8-44C450DD25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1A5CF77-AFF4-4E02-AFF6-91E3B00DA9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3B13E-E2CD-4529-947F-43A916B4F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2FAF06A-3DC7-4F5B-BB4F-113F4C80F6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DDDB371-7473-4408-95CD-39245DA5B5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B2D8D6B-4A90-4463-84CD-B033707C98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77C1FEF-8280-40CE-B4B3-18D8723080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46A752E-969B-441E-AD4E-26121EC2D5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A677A-25DA-47D1-A300-9AD6E012E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4C7BE-581D-491B-AC8B-72E739AAC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F94AF-71C5-43D1-847A-5CC3771AE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5A467-A163-423F-A1FB-DDA732D86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23831-DA23-40B2-B64F-F297645AD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E5385-90BC-4906-ABA2-6DFE44C19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906E5-6216-4B94-B34A-76518AE81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1A446-1791-4EA4-A730-D3CA2DBD6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F8C83-C082-42E0-AFEC-091237456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261AC-8908-4561-A2A2-EAAAEFFEC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5B35C-FFC5-40C2-891C-185F11D01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D952D-96F5-4555-955D-B727508215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4ADFC-FDE6-4FCE-BC7F-C4C9CB8C1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A4A1B-9416-4851-9387-1E38F673B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2880F-2E81-4428-9C70-4F8AAD775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06FDE-E01C-493C-B220-AE73C99A69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4AE6C-9D84-4074-95B7-E8FDBF8FB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89D1D-B84C-417E-AE13-420AFDF0A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9EA1B-4E4A-4C4A-8572-346A4A378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2F6D0-33D7-42BF-B8D1-E6AB1D701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E04AD-235D-4A26-99B0-BDE3DA551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359F4-EE47-405F-91A0-349E71E07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5B5B92-D6F1-40B7-BFB8-13414395B4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C145FD-CC48-486B-BB54-F059DEEB03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F064920-668D-489C-BCE8-7A01E047258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923F48C-0A7F-4366-8BB9-76C0BE540A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945E59A-E763-4645-8328-D0CF465B229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C4B17-01ED-4F3E-8B61-7072D79D9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CF8F83C-2ABA-426D-B32C-B50C6E8B869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49A9EE9-BA02-4931-B48D-B8E1EDD10C2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FE961D7-91BB-4562-90F9-B8066D6243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4AD660B-96A1-475D-89FA-22605785E4D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47983A7-4BA9-4737-BD5E-C6BC4939B1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95DCE83-00BB-4B77-959B-CD56E26806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89F1D4F-E14A-4751-90E1-587E12995D3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891BFAD-551E-4ED9-88AA-E7AF3E33F21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86DB06B-C8D2-47C1-928A-D20BF016F43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713A40-5239-433C-A6CF-C3A863B0E9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7229C-FD7F-40E6-9522-FC2FF331C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9288D-5159-4E6B-963F-A398E7ECD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C9801-9D88-4D1F-8DB1-9FADACD3C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471B80-67A0-412B-9E5F-B667E50A1F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D58FD2-3C8E-4EAD-B1BF-6B3EDE4AE7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5C672E-BAB6-446B-AE45-C819F87708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6E2D0-4071-428E-8BE7-EE59F4E88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67D94A-C612-45C7-B7CD-5A727531F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A1A04-4787-4CCB-B462-148008036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E9F95-FEF0-4C5A-9036-2BE2DF10C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94846B-7710-4E9A-974F-45B72F17DF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1C18B-80EF-438B-B138-E20144BED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AF8545-C569-467D-988E-070F518151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7C6A5E-9B94-4DAC-AD23-7CA96492EB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CA454A-1C4A-42B9-8D94-D0BA25844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10F7B-C6C5-42E0-AC20-5125B28A45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95B8B7-F46B-4B1E-ACF7-3A88026774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7C7FB-CF24-470E-B9DB-B28F581CE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F37413-7853-47E3-B8E3-9624C615C3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0C06C-1430-4112-A1D7-404926782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1DFA2-85F5-4B9E-A2CD-429E15EC37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E7C32-0386-4D90-A1E7-D343341BB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C4027-3605-4287-A9A9-A5F3A745C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165FD3-1E4B-464F-AA6C-2011DBB166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0F1063-5572-4D74-B4EA-A209565A73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36B658-C7D5-496E-9268-E4F99F7610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039A90-48E3-456C-85E3-27D322156F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2F4E58-0785-4FBF-8CA1-319A1046E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1CE9E8-F4B4-48A5-B7A6-2E6F3B4048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996077-33A4-45A8-A3B7-DDEEABD8F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879B2-B0B8-44BB-894C-F50FA04984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1EB6E3-647B-4104-8E63-E2B4B11A49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5D946-5105-43C2-A714-4F553976C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AD3E-6AE9-4322-9023-1BD75F562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C1AE9C-EF77-44A5-8CBF-05AACD5BA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90D7D7-B0C9-4A4B-90D8-F73CF8D4B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8F9DEC-B883-45BF-9744-AD3F945E62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DC654C-E36A-4D8F-9175-4466707DF4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2211C5-EB7C-42CB-800F-61676C038A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B4F74D-A643-4367-9007-32E95CA9EA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83F110-422F-4F02-9885-A7571AE209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08F32B-CBF5-48E3-845B-3F6C7C61B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E5001-C944-48A0-9931-03D3803FD7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E4A7CF-4E65-4B04-899D-D350D5EA7A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01BB4-F3A2-45E4-A99C-DE8DAA327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02F22B-F095-40CA-8DDE-DC1E03D40A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CA54E2-E808-4AB8-A93C-E6B28A840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4185C-041D-4A1C-A54C-D06DD66478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B8AC5-A5D0-4E80-B075-C832AB8579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0B580D-7224-4A42-9349-ED2D360A2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BCF5B2-ABF0-408F-8303-809F5FD60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DB1692-9F16-48AD-B757-355C9D4804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2D29EC8-1A87-4E60-A2CA-FE263E82899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244AE6C-2AA3-4C38-AA42-ADB869D9A9C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B09B190-7FDC-4351-8BE3-96AFDDB6FC2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3E32-D40B-4BAA-B1F5-202100782326}"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28D2-F012-487B-B6FA-E3A4DA576598}"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CA84-3397-4AF1-851A-31227E7583B4}"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B1D1-C154-4D41-B585-843466C0C79F}"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CA4C-32EE-4188-8C20-D54026D48846}"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B05D-580B-4E68-8440-C2976C6A700F}"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C95D-A26B-40C6-8137-90B0AA5D2840}"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B6C5-582A-46CF-9446-4B6B52094DC1}"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6A3F-84CC-40C7-8006-1722F82767D6}"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391D-FCCD-495A-B003-2424EABE62D4}"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E9E8-50D9-4D57-9E60-27B9909BB25A}" type="slidenum">
              <a:rPr b="0" lang="ar-SA" sz="1600" spc="-1" strike="noStrike">
                <a:solidFill>
                  <a:srgbClr val="ffffff"/>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9E21-6594-4263-9B9C-DD3A85DFC947}" type="slidenum">
              <a:rPr b="0" lang="ar-SA" sz="1600" spc="-1" strike="noStrike">
                <a:solidFill>
                  <a:srgbClr val="7b9899"/>
                </a:solidFill>
                <a:latin typeface="Times New Roman"/>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250920" y="1557360"/>
            <a:ext cx="8229600" cy="4525920"/>
          </a:xfrm>
          <a:prstGeom prst="rect">
            <a:avLst/>
          </a:prstGeom>
          <a:noFill/>
          <a:ln w="0">
            <a:noFill/>
          </a:ln>
        </p:spPr>
        <p:txBody>
          <a:bodyPr anchor="t">
            <a:normAutofit fontScale="99000"/>
          </a:bodyPr>
          <a:p>
            <a:pPr marL="270000" indent="-27000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e use chemicals to mask or prevent unpleasant body odors and sweat. There are two kinds of sweat- eccrine and apocrine. </a:t>
            </a:r>
            <a:r>
              <a:rPr b="1" lang="en-US" sz="3600" spc="-1" strike="noStrike">
                <a:solidFill>
                  <a:srgbClr val="000000"/>
                </a:solidFill>
                <a:latin typeface="Georgia"/>
              </a:rPr>
              <a:t>Eccrine sweat</a:t>
            </a:r>
            <a:r>
              <a:rPr b="0" lang="en-US" sz="3600" spc="-1" strike="noStrike">
                <a:solidFill>
                  <a:srgbClr val="000000"/>
                </a:solidFill>
                <a:latin typeface="Georgia"/>
              </a:rPr>
              <a:t>, produced in eccrine sweat glands (see Figure 4.3) on almost all parts of the skin, is the cooling mechanism of your body. </a:t>
            </a:r>
            <a:endParaRPr b="0" lang="en-US" sz="3600" spc="-1" strike="noStrike">
              <a:solidFill>
                <a:srgbClr val="000000"/>
              </a:solidFill>
              <a:latin typeface="Georgia"/>
            </a:endParaRPr>
          </a:p>
        </p:txBody>
      </p:sp>
      <p:sp>
        <p:nvSpPr>
          <p:cNvPr id="607" name="Rectangle 1"/>
          <p:cNvSpPr/>
          <p:nvPr/>
        </p:nvSpPr>
        <p:spPr>
          <a:xfrm>
            <a:off x="2411280" y="260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SimSun"/>
              </a:rPr>
              <a:t>ANTIPERSPIRANTS AND DEODORANTS</a:t>
            </a:r>
            <a:r>
              <a:rPr b="1" lang="en-US" sz="3600" spc="-1" strike="noStrike">
                <a:solidFill>
                  <a:srgbClr val="000000"/>
                </a:solidFill>
                <a:latin typeface="Arial"/>
                <a:ea typeface="SimSu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flow of perspiration is reduced or, for some glands, prevented altogether. In addition, aluminum chlorohydrates kill bacteria in the apocrine sweat that does reach the skin. This pore-clogging action cannot be used by everyone. Because sebum glands open up in the same places the apocrine glands do, both can get obstructed. For certain susceptible people, rashes (sort of an underarm acne) can develop.</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250920" y="1700280"/>
            <a:ext cx="8229600" cy="4525920"/>
          </a:xfrm>
          <a:prstGeom prst="rect">
            <a:avLst/>
          </a:prstGeom>
          <a:noFill/>
          <a:ln w="0">
            <a:noFill/>
          </a:ln>
        </p:spPr>
        <p:txBody>
          <a:bodyPr anchor="t">
            <a:normAutofit/>
          </a:bodyPr>
          <a:p>
            <a:pPr marL="272880" indent="-2728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1" lang="en-US" sz="3200" spc="-1" strike="noStrike">
                <a:solidFill>
                  <a:srgbClr val="000000"/>
                </a:solidFill>
                <a:latin typeface="Georgia"/>
              </a:rPr>
              <a:t>Deodorants</a:t>
            </a:r>
            <a:r>
              <a:rPr b="0" lang="en-US" sz="3200" spc="-1" strike="noStrike">
                <a:solidFill>
                  <a:srgbClr val="000000"/>
                </a:solidFill>
                <a:latin typeface="Georgia"/>
              </a:rPr>
              <a:t>, which have ingredients to kill bacteria and absorb, decompose (by oxidation), or mask odors, are alternatives for people who are unable to use antiperspirants. Besides providing a pleasing aroma, they include ingredients such as alcohols (which kill bacteria by dehydrating them) and various phenols (which kill bacteria by denaturing their protein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prespirant /deodorant cream</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earic acid                          14.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es wax                              2.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quid paraffin                        1.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Arial"/>
              </a:rPr>
              <a:t>Tween 80                               5.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Arial"/>
              </a:rPr>
              <a:t>Al-chlorhydrate                        12.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Arial"/>
              </a:rPr>
              <a:t>Cetrimide                                   1.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ea typeface="Arial"/>
              </a:rPr>
              <a:t>Water to                                    100</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odorant Stick</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earic acid                          3.4</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dium hydroxide                 0.6</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water                                   1.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lycerol                                  7.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trimide                                0.7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hanol                                    7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odorant Stick</a:t>
            </a: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earic acid                               7.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dium carbonate                 2.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lycerol                                  8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trimide                                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ater                                        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ocedure:</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a porcelain dish </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a:t>
            </a:r>
            <a:r>
              <a:rPr b="0" lang="en-US" sz="2700" spc="-1" strike="noStrike">
                <a:solidFill>
                  <a:srgbClr val="000000"/>
                </a:solidFill>
                <a:latin typeface="Georgia"/>
              </a:rPr>
              <a:t>	</a:t>
            </a:r>
            <a:r>
              <a:rPr b="0" lang="en-US" sz="2700" spc="-1" strike="noStrike">
                <a:solidFill>
                  <a:srgbClr val="000000"/>
                </a:solidFill>
                <a:latin typeface="Georgia"/>
              </a:rPr>
              <a:t>Dissolve  sodium carbonate  in water-glycerol mixture, and heat on water bath at 75-80 oC. </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a:t>
            </a:r>
            <a:r>
              <a:rPr b="0" lang="en-US" sz="2700" spc="-1" strike="noStrike">
                <a:solidFill>
                  <a:srgbClr val="000000"/>
                </a:solidFill>
                <a:latin typeface="Georgia"/>
              </a:rPr>
              <a:t>	</a:t>
            </a:r>
            <a:r>
              <a:rPr b="0" lang="en-US" sz="2700" spc="-1" strike="noStrike">
                <a:solidFill>
                  <a:srgbClr val="000000"/>
                </a:solidFill>
                <a:latin typeface="Georgia"/>
              </a:rPr>
              <a:t>Add  stearic acid gradually with stirring on the water bath until  complete soap formation.</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a:t>
            </a:r>
            <a:r>
              <a:rPr b="0" lang="en-US" sz="2700" spc="-1" strike="noStrike">
                <a:solidFill>
                  <a:srgbClr val="000000"/>
                </a:solidFill>
                <a:latin typeface="Georgia"/>
              </a:rPr>
              <a:t>	</a:t>
            </a:r>
            <a:r>
              <a:rPr b="0" lang="en-US" sz="2700" spc="-1" strike="noStrike">
                <a:solidFill>
                  <a:srgbClr val="000000"/>
                </a:solidFill>
                <a:latin typeface="Georgia"/>
              </a:rPr>
              <a:t>Remove from water bath and addthe perfume.</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pour in the container while hot.</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7b9899"/>
                </a:solidFill>
                <a:latin typeface="Georgia"/>
              </a:rPr>
              <a:t>. Deodorant  acceptable claims</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bsorbent that helps keep you dr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nti‐odouran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ontrols odour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Deodoran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Fights bad odour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Kills odour‐causing bact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odorant  unacceptable claims</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ntiperspirant (for products that do no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ffect perspira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ontrols perspira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ontrols swe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perspirant acceptable claim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4 hour antiperspirant effect (products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at demonstrate 20% sweat reduction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ithin a 24‐hour period)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ntiperspirant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Body responsive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 (qualified as clinical testing)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 protection (must be qualified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ith “clinically proven extra effective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tness protection”, and must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nstrate 30% or more swe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perspirant acceptable claims</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duction within a period of 24 hour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ly tested/proven/trial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Extra effective (products th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nstrate 30% or more swe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duction within a 24‐hour period)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elps keep you dr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rotects against wetnes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Reduces (or provides protec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gainst) underarm perspira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826560" y="620640"/>
            <a:ext cx="7067880" cy="749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gure 4.3 Cross section of skin.</a:t>
            </a:r>
            <a:endParaRPr b="0" lang="en-US" sz="2400" spc="-1" strike="noStrike">
              <a:solidFill>
                <a:srgbClr val="000000"/>
              </a:solidFill>
              <a:latin typeface="Georgia"/>
            </a:endParaRPr>
          </a:p>
        </p:txBody>
      </p:sp>
      <p:pic>
        <p:nvPicPr>
          <p:cNvPr id="609" name="Picture 3" descr="未标题-1"/>
          <p:cNvPicPr/>
          <p:nvPr/>
        </p:nvPicPr>
        <p:blipFill>
          <a:blip r:embed="rId1"/>
          <a:stretch/>
        </p:blipFill>
        <p:spPr>
          <a:xfrm>
            <a:off x="971640" y="1484280"/>
            <a:ext cx="7272360" cy="44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tiperspirant unacceptable claims</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nical (unqualified)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 protection (unqualified)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linical strength/effect/action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elps check, halt or stop underarm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tness, dampness or perspiration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yperhidrosis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ersistent protection (i.e., usually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gnificantly greater than 24 hours,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sed on a mechanism of action that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difies organic function)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826560" y="620640"/>
            <a:ext cx="7067880" cy="749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gure 4.3 Cross section of skin.</a:t>
            </a:r>
            <a:endParaRPr b="0" lang="en-US" sz="2400" spc="-1" strike="noStrike">
              <a:solidFill>
                <a:srgbClr val="000000"/>
              </a:solidFill>
              <a:latin typeface="Georgia"/>
            </a:endParaRPr>
          </a:p>
        </p:txBody>
      </p:sp>
      <p:pic>
        <p:nvPicPr>
          <p:cNvPr id="611" name="Picture 3" descr="未标题-1"/>
          <p:cNvPicPr/>
          <p:nvPr/>
        </p:nvPicPr>
        <p:blipFill>
          <a:blip r:embed="rId1"/>
          <a:stretch/>
        </p:blipFill>
        <p:spPr>
          <a:xfrm>
            <a:off x="971640" y="1484280"/>
            <a:ext cx="7272360" cy="44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fontScale="98000"/>
          </a:bodyPr>
          <a:p>
            <a:pPr marL="267120" indent="-26712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henever exercise or environment threatens to raise your temperature, eccrine sweat is exuded onto skin to evaporate. Evaporation, being endothermic, takes away excess heat energy so that your body temperature remains fairly constant. Besides water, eccrine sweat contains some organic compounds and salts but does not produce offensive odors.</a:t>
            </a:r>
            <a:endParaRPr b="0" lang="en-US" sz="3600" spc="-1" strike="noStrike">
              <a:solidFill>
                <a:srgbClr val="000000"/>
              </a:solidFill>
              <a:latin typeface="Georgia"/>
            </a:endParaRPr>
          </a:p>
          <a:p>
            <a:pPr marL="267120" indent="-267120">
              <a:lnSpc>
                <a:spcPct val="9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24000" y="1844640"/>
            <a:ext cx="8229600" cy="4525920"/>
          </a:xfrm>
          <a:prstGeom prst="rect">
            <a:avLst/>
          </a:prstGeom>
          <a:noFill/>
          <a:ln w="0">
            <a:noFill/>
          </a:ln>
        </p:spPr>
        <p:txBody>
          <a:bodyPr anchor="t">
            <a:normAutofit/>
          </a:bodyPr>
          <a:p>
            <a:pPr marL="272880" indent="-2728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        </a:t>
            </a:r>
            <a:r>
              <a:rPr b="1" lang="en-US" sz="3600" spc="-1" strike="noStrike">
                <a:solidFill>
                  <a:srgbClr val="000000"/>
                </a:solidFill>
                <a:latin typeface="Georgia"/>
              </a:rPr>
              <a:t>Apocrine sweat</a:t>
            </a:r>
            <a:r>
              <a:rPr b="0" lang="en-US" sz="3600" spc="-1" strike="noStrike">
                <a:solidFill>
                  <a:srgbClr val="000000"/>
                </a:solidFill>
                <a:latin typeface="Georgia"/>
              </a:rPr>
              <a:t>, however, is a different story. Apocrine glands terminate in hair follicles (see Figure 4.3) at only a few places on your body-your underarms being one of those locations..</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Your nervous system activates these glands, which secrete liquid in proportion to the stress you feel. Although mostly water, about I percent of apocrine sweat consists of fat, cellular fragments, and bacteria. When exposed to the air, bacteria begin to flourish, producing smelly 'compounds and hence body odor</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24000" y="764640"/>
            <a:ext cx="8362800" cy="5688360"/>
          </a:xfrm>
          <a:prstGeom prst="rect">
            <a:avLst/>
          </a:prstGeom>
          <a:noFill/>
          <a:ln w="0">
            <a:noFill/>
          </a:ln>
        </p:spPr>
        <p:txBody>
          <a:bodyPr anchor="t">
            <a:normAutofit fontScale="98000"/>
          </a:bodyPr>
          <a:p>
            <a:pPr marL="597240" indent="-5972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There are five ways products can combat this body odor:</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hibit the production of apocrine sweat</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event the sweat produced from reaching the open air on the skin</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ill offending bacteria in the exposed sweat</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compose foul-smelling substances the bacteria create</a:t>
            </a:r>
            <a:endParaRPr b="0" lang="en-US" sz="3200" spc="-1" strike="noStrike">
              <a:solidFill>
                <a:srgbClr val="000000"/>
              </a:solidFill>
              <a:latin typeface="Georgia"/>
            </a:endParaRPr>
          </a:p>
          <a:p>
            <a:pPr marL="597240" indent="-597240" algn="just">
              <a:lnSpc>
                <a:spcPct val="80000"/>
              </a:lnSpc>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sk odors with more pleasant fragrances.</a:t>
            </a:r>
            <a:endParaRPr b="0" lang="en-US" sz="3200" spc="-1" strike="noStrike">
              <a:solidFill>
                <a:srgbClr val="000000"/>
              </a:solidFill>
              <a:latin typeface="Georgia"/>
            </a:endParaRPr>
          </a:p>
          <a:p>
            <a:pPr marL="597240" indent="-5972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609480" indent="-6094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early, the most effective actions are at the top of the list.</a:t>
            </a:r>
            <a:endParaRPr b="0" lang="en-US" sz="3200" spc="-1" strike="noStrike">
              <a:solidFill>
                <a:srgbClr val="000000"/>
              </a:solidFill>
              <a:latin typeface="Georgia"/>
            </a:endParaRPr>
          </a:p>
          <a:p>
            <a:pPr marL="609480" indent="-6094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The federal government requires that manufacturers reveal the general action of their product. If it works by Methods 1 or 2 above, then it can be called an </a:t>
            </a:r>
            <a:r>
              <a:rPr b="0" i="1" lang="en-US" sz="3200" spc="-1" strike="noStrike">
                <a:solidFill>
                  <a:srgbClr val="000000"/>
                </a:solidFill>
                <a:latin typeface="Georgia"/>
              </a:rPr>
              <a:t>antiperspirant</a:t>
            </a:r>
            <a:r>
              <a:rPr b="0" lang="en-US" sz="3200" spc="-1" strike="noStrike">
                <a:solidFill>
                  <a:srgbClr val="000000"/>
                </a:solidFill>
                <a:latin typeface="Georgia"/>
              </a:rPr>
              <a:t>. If it works by any of the others, it must be called a </a:t>
            </a:r>
            <a:r>
              <a:rPr b="0" i="1" lang="en-US" sz="3200" spc="-1" strike="noStrike">
                <a:solidFill>
                  <a:srgbClr val="000000"/>
                </a:solidFill>
                <a:latin typeface="Georgia"/>
              </a:rPr>
              <a:t>deodorant</a:t>
            </a:r>
            <a:r>
              <a:rPr b="0" lang="en-US" sz="3200" spc="-1" strike="noStrike">
                <a:solidFill>
                  <a:srgbClr val="000000"/>
                </a:solidFill>
                <a:latin typeface="Georgia"/>
              </a:rPr>
              <a:t>. Some products with combinations of ingredients can claim to be both. </a:t>
            </a:r>
            <a:endParaRPr b="0" lang="en-US" sz="3200" spc="-1" strike="noStrike">
              <a:solidFill>
                <a:srgbClr val="000000"/>
              </a:solidFill>
              <a:latin typeface="Georgia"/>
            </a:endParaRPr>
          </a:p>
          <a:p>
            <a:pPr marL="609480" indent="-6094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250560" y="1267920"/>
            <a:ext cx="8218440" cy="5000760"/>
          </a:xfrm>
          <a:prstGeom prst="rect">
            <a:avLst/>
          </a:prstGeom>
          <a:noFill/>
          <a:ln w="0">
            <a:noFill/>
          </a:ln>
        </p:spPr>
        <p:txBody>
          <a:bodyPr anchor="t">
            <a:normAutofit/>
          </a:bodyPr>
          <a:p>
            <a:pPr marL="272880" indent="-2728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The active ingredient in most antiperspirants is one of the aluminum chlorohydrates, A1</a:t>
            </a:r>
            <a:r>
              <a:rPr b="0" lang="en-US" sz="3200" spc="-1" strike="noStrike" baseline="-25000">
                <a:solidFill>
                  <a:srgbClr val="000000"/>
                </a:solidFill>
                <a:latin typeface="Georgia"/>
              </a:rPr>
              <a:t>2</a:t>
            </a:r>
            <a:r>
              <a:rPr b="0" lang="en-US" sz="3200" spc="-1" strike="noStrike">
                <a:solidFill>
                  <a:srgbClr val="000000"/>
                </a:solidFill>
                <a:latin typeface="Georgia"/>
              </a:rPr>
              <a:t>(OH)</a:t>
            </a:r>
            <a:r>
              <a:rPr b="0" lang="en-US" sz="3200" spc="-1" strike="noStrike" baseline="-25000">
                <a:solidFill>
                  <a:srgbClr val="000000"/>
                </a:solidFill>
                <a:latin typeface="Georgia"/>
              </a:rPr>
              <a:t>5</a:t>
            </a:r>
            <a:r>
              <a:rPr b="0" lang="en-US" sz="3200" spc="-1" strike="noStrike">
                <a:solidFill>
                  <a:srgbClr val="000000"/>
                </a:solidFill>
                <a:latin typeface="Georgia"/>
              </a:rPr>
              <a:t>Cl or A1</a:t>
            </a:r>
            <a:r>
              <a:rPr b="0" lang="en-US" sz="3200" spc="-1" strike="noStrike" baseline="-25000">
                <a:solidFill>
                  <a:srgbClr val="000000"/>
                </a:solidFill>
                <a:latin typeface="Georgia"/>
              </a:rPr>
              <a:t>2</a:t>
            </a:r>
            <a:r>
              <a:rPr b="0" lang="en-US" sz="3200" spc="-1" strike="noStrike">
                <a:solidFill>
                  <a:srgbClr val="000000"/>
                </a:solidFill>
                <a:latin typeface="Georgia"/>
              </a:rPr>
              <a:t>(OH)</a:t>
            </a:r>
            <a:r>
              <a:rPr b="0" lang="en-US" sz="3200" spc="-1" strike="noStrike" baseline="-25000">
                <a:solidFill>
                  <a:srgbClr val="000000"/>
                </a:solidFill>
                <a:latin typeface="Georgia"/>
              </a:rPr>
              <a:t>4</a:t>
            </a:r>
            <a:r>
              <a:rPr b="0" lang="en-US" sz="3200" spc="-1" strike="noStrike">
                <a:solidFill>
                  <a:srgbClr val="000000"/>
                </a:solidFill>
                <a:latin typeface="Georgia"/>
              </a:rPr>
              <a:t>Cl</a:t>
            </a:r>
            <a:r>
              <a:rPr b="0" lang="en-US" sz="3200" spc="-1" strike="noStrike" baseline="-25000">
                <a:solidFill>
                  <a:srgbClr val="000000"/>
                </a:solidFill>
                <a:latin typeface="Georgia"/>
              </a:rPr>
              <a:t>2</a:t>
            </a:r>
            <a:r>
              <a:rPr b="0" lang="en-US" sz="3200" spc="-1" strike="noStrike">
                <a:solidFill>
                  <a:srgbClr val="000000"/>
                </a:solidFill>
                <a:latin typeface="Georgia"/>
              </a:rPr>
              <a:t>, or a zirconium-aluminum salt. These are water-soluble ionic compounds that produce A1</a:t>
            </a:r>
            <a:r>
              <a:rPr b="0" lang="en-US" sz="3200" spc="-1" strike="noStrike" baseline="30000">
                <a:solidFill>
                  <a:srgbClr val="000000"/>
                </a:solidFill>
                <a:latin typeface="Georgia"/>
              </a:rPr>
              <a:t>3+</a:t>
            </a:r>
            <a:r>
              <a:rPr b="0" lang="en-US" sz="3200" spc="-1" strike="noStrike">
                <a:solidFill>
                  <a:srgbClr val="000000"/>
                </a:solidFill>
                <a:latin typeface="Georgia"/>
              </a:rPr>
              <a:t> ions in solution. Aluminum ions bind to the ducts of sweat glands, shrinking the openings and forming an aluminum-keratin complex that plugs up many duct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06:10:10Z</dcterms:created>
  <dc:creator>Fuli Tian</dc:creator>
  <dc:description/>
  <dc:language>en-US</dc:language>
  <cp:lastModifiedBy>User</cp:lastModifiedBy>
  <dcterms:modified xsi:type="dcterms:W3CDTF">2016-03-20T06:36:08Z</dcterms:modified>
  <cp:revision>214</cp:revision>
  <dc:subject/>
  <dc:title>幻灯片 1</dc:title>
</cp:coreProperties>
</file>