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Basil Amarn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CCB-4848-47EE-86D5-FFB29899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EEC-B43F-400D-9720-2F321B3F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Basil Amarn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ate Placeholder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66320" y="2526840"/>
            <a:ext cx="686124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nxiety Disorder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09120" y="990360"/>
            <a:ext cx="77216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oudy Old Style"/>
              </a:rPr>
              <a:t>Mental Health Nursing-NUR 413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Goudy Old Style"/>
              </a:rPr>
              <a:t>Lecture 8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7" name="Picture 4" descr="PE06002_"/>
          <p:cNvPicPr/>
          <p:nvPr/>
        </p:nvPicPr>
        <p:blipFill>
          <a:blip r:embed="rId1"/>
          <a:stretch/>
        </p:blipFill>
        <p:spPr>
          <a:xfrm>
            <a:off x="3124080" y="3962520"/>
            <a:ext cx="2211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350640"/>
            <a:ext cx="77724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ocial Phobia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43000"/>
            <a:ext cx="82645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-23436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cessive fear of situations in which the person might do something embarrassing or be evaluated negatively by oth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blic speaking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ttending and participating in clas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eting new people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ting, drinking, or writing in public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sing public bathroom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pping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pecific Phobia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1286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arked, persistent, and excessive or unreasonable fear when in the presence of, or when anticipating, an encounter with a specific object or situat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imal type. ex: fear of spi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tural environment type. ex: fear of wat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lood injection, injury type. ex: fear of bloo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9" name="Picture 5" descr="j0153000"/>
          <p:cNvPicPr/>
          <p:nvPr/>
        </p:nvPicPr>
        <p:blipFill>
          <a:blip r:embed="rId1"/>
          <a:stretch/>
        </p:blipFill>
        <p:spPr>
          <a:xfrm>
            <a:off x="7162920" y="3408480"/>
            <a:ext cx="125712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0281051"/>
          <p:cNvPicPr/>
          <p:nvPr/>
        </p:nvPicPr>
        <p:blipFill>
          <a:blip r:embed="rId2"/>
          <a:stretch/>
        </p:blipFill>
        <p:spPr>
          <a:xfrm>
            <a:off x="7315200" y="4724280"/>
            <a:ext cx="12952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auses of 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176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aused by a combination of biological, psychological and social factors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ay develop as a result of a major stressor such as the death of a loved one, divorce and loss of a job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There also appears to be a major genetic componen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3519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reatment Modaliti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960" y="13507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dividual psycho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ognitive 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Group/family 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olytic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hypertensiv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5" name="Picture 4" descr="BD08415_"/>
          <p:cNvPicPr/>
          <p:nvPr/>
        </p:nvPicPr>
        <p:blipFill>
          <a:blip r:embed="rId1"/>
          <a:stretch/>
        </p:blipFill>
        <p:spPr>
          <a:xfrm>
            <a:off x="5715000" y="3710160"/>
            <a:ext cx="177012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is Anxiety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different types of anxiety disorder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cause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treatment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is a feeling of apprehension or fear. The source of this uneasiness is not always known or recognized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disorders are a group of psychiatric conditions that involve excessive anxiety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may be differentiated from fear in that the former is an emotional process, whereas fear is cognitive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More common in women than men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lso occurs in children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7400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nxiety Disorder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360" y="914400"/>
            <a:ext cx="812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 disorders most common type of all psychiatric illnes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provides the motivation for achievement, a necessary force for survival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y be considered abnormal if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is out of proportion to the situation that is creating i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interferes with social, occupational, or other important areas of functioning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eralized anxiety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anic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bsessive-Compulsive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ost-Traumatic Stress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cial Phobia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ecific Phobia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eneralized anxiety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eelings of constant apprehension and a general tendency to be worried about any areas of life (for example, health, work, and finances)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 constant worry affects daily functioning and can cause physical symptom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n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recurrent panic attacks, onset of which are unpredictable,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: sweating, palpitations, shortness of breath, chest pain, dizziness, feeling light-headed, abdominal pains and a fear of losing control or dying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0" name="Picture 4" descr="panic"/>
          <p:cNvPicPr/>
          <p:nvPr/>
        </p:nvPicPr>
        <p:blipFill>
          <a:blip r:embed="rId1"/>
          <a:stretch/>
        </p:blipFill>
        <p:spPr>
          <a:xfrm>
            <a:off x="6705720" y="4343400"/>
            <a:ext cx="1644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Tahoma"/>
              </a:rPr>
              <a:t>Obsessive-Compulsive Disorder (OCD)</a:t>
            </a:r>
            <a:endParaRPr b="0" lang="en-US" sz="37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4680" y="843120"/>
            <a:ext cx="8920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current obsessions (thoughts) or compulsions (actions) that are severe enough to be time-consuming or to cause marked distress or significant impairmen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eaning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Repeatedly washing their hands, showering, or constantly cleaning their hom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hecking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Individuals may check several or even hundreds of times to make sure that doors are locke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6197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st-Traumatic Stress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8120" y="13716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reaction to a serious traumatic event (such as a car accident, natural disaster, physical abuse or sexual abuse) in which the person was extremely afraid or seriously injured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User-PC</dc:creator>
  <dc:description/>
  <dc:language>en-US</dc:language>
  <cp:lastModifiedBy>User-PC</cp:lastModifiedBy>
  <cp:lastPrinted>2009-04-22T19:24:48Z</cp:lastPrinted>
  <dcterms:modified xsi:type="dcterms:W3CDTF">2016-12-15T06:01:46Z</dcterms:modified>
  <cp:revision>140</cp:revision>
  <dc:subject/>
  <dc:title>PowerPoint Presentation</dc:title>
</cp:coreProperties>
</file>