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Basil Amarne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134F-F90F-4EBB-BC77-A1553FAF5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9C71-F056-46CA-95F7-8FFFA196A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Basil Amarne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Date Placeholder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066320" y="2526840"/>
            <a:ext cx="686124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Anxiety Disorders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09120" y="990360"/>
            <a:ext cx="77216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oudy Old Style"/>
              </a:rPr>
              <a:t>Mental Health Nursing-NUR 413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Goudy Old Style"/>
              </a:rPr>
              <a:t>Lecture 8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7" name="Picture 4" descr="PE06002_"/>
          <p:cNvPicPr/>
          <p:nvPr/>
        </p:nvPicPr>
        <p:blipFill>
          <a:blip r:embed="rId1"/>
          <a:stretch/>
        </p:blipFill>
        <p:spPr>
          <a:xfrm>
            <a:off x="3124080" y="3962520"/>
            <a:ext cx="22114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350640"/>
            <a:ext cx="77724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ocial Phobia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143000"/>
            <a:ext cx="826452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9120" indent="-23436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Excessive fear of situations in which the person might do something embarrassing or be evaluated negatively by other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ublic speaking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ttending and participating in class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eting new people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ating, drinking, or writing in public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sing public bathrooms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hopping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pecific Phobia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128600"/>
            <a:ext cx="8610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Marked, persistent, and excessive or unreasonable fear when in the presence of, or when anticipating, an encounter with a specific object or situation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imal type. ex: fear of spid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atural environment type. ex: fear of wat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Blood injection, injury type. ex: fear of bloo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9" name="Picture 5" descr="j0153000"/>
          <p:cNvPicPr/>
          <p:nvPr/>
        </p:nvPicPr>
        <p:blipFill>
          <a:blip r:embed="rId1"/>
          <a:stretch/>
        </p:blipFill>
        <p:spPr>
          <a:xfrm>
            <a:off x="7162920" y="3408480"/>
            <a:ext cx="125712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j0281051"/>
          <p:cNvPicPr/>
          <p:nvPr/>
        </p:nvPicPr>
        <p:blipFill>
          <a:blip r:embed="rId2"/>
          <a:stretch/>
        </p:blipFill>
        <p:spPr>
          <a:xfrm>
            <a:off x="7315200" y="4724280"/>
            <a:ext cx="129528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auses of anxiety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0176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Caused by a combination of biological, psychological and social factors.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May develop as a result of a major stressor such as the death of a loved one, divorce and loss of a job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There also appears to be a major genetic component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3519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reatment Modalitie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960" y="135072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ndividual psychotherapy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Cognitive therapy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Group/family therapy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Psychopharmacology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tidepressa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xiolytic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tihypertensiv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5" name="Picture 4" descr="BD08415_"/>
          <p:cNvPicPr/>
          <p:nvPr/>
        </p:nvPicPr>
        <p:blipFill>
          <a:blip r:embed="rId1"/>
          <a:stretch/>
        </p:blipFill>
        <p:spPr>
          <a:xfrm>
            <a:off x="5715000" y="3710160"/>
            <a:ext cx="1770120" cy="13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hat is Anxiety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hat are the different types of anxiety disorders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hat are the causes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hat are the treatments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nxiety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00"/>
                </a:solidFill>
                <a:latin typeface="Arial"/>
              </a:rPr>
              <a:t>Anxiety is a feeling of apprehension or fear. The source of this uneasiness is not always known or recognized.</a:t>
            </a: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00"/>
                </a:solidFill>
                <a:latin typeface="Arial"/>
              </a:rPr>
              <a:t>Anxiety disorders are a group of psychiatric conditions that involve excessive anxiety.</a:t>
            </a: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>
              <a:spcBef>
                <a:spcPts val="57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00"/>
                </a:solidFill>
                <a:latin typeface="Arial"/>
              </a:rPr>
              <a:t>Anxiety may be differentiated from fear in that the former is an emotional process, whereas fear is cognitive.</a:t>
            </a: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>
              <a:spcBef>
                <a:spcPts val="57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00"/>
                </a:solidFill>
                <a:latin typeface="Arial"/>
              </a:rPr>
              <a:t>More common in women than men</a:t>
            </a: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>
              <a:spcBef>
                <a:spcPts val="57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00"/>
                </a:solidFill>
                <a:latin typeface="Arial"/>
              </a:rPr>
              <a:t>Also occurs in children</a:t>
            </a: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7400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nxiety Disorders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0360" y="914400"/>
            <a:ext cx="812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xiety disorders most common type of all psychiatric illness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05280" indent="-3052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Anxiety provides the motivation for achievement, a necessary force for survival.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ay be considered abnormal if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  <a:p>
            <a:pPr lvl="1" marL="305280" indent="-3052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Anxiety is out of proportion to the situation that is creating it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05280" indent="-3052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Anxiety interferes with social, occupational, or other important areas of functioning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ypes of Anxiety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eneralized anxiety disord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anic Disord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bsessive-Compulsive Disord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ost-Traumatic Stress Disord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ocial Phobia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ecific Phobia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Generalized anxiety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16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eelings of constant apprehension and a general tendency to be worried about any areas of life (for example, health, work, and finances)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is constant worry affects daily functioning and can cause physical symptom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anic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racterized by recurrent panic attacks, onset of which are unpredictable,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ymptoms: sweating, palpitations, shortness of breath, chest pain, dizziness, feeling light-headed, abdominal pains and a fear of losing control or dying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0" name="Picture 4" descr="panic"/>
          <p:cNvPicPr/>
          <p:nvPr/>
        </p:nvPicPr>
        <p:blipFill>
          <a:blip r:embed="rId1"/>
          <a:stretch/>
        </p:blipFill>
        <p:spPr>
          <a:xfrm>
            <a:off x="6705720" y="4343400"/>
            <a:ext cx="16444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Tahoma"/>
              </a:rPr>
              <a:t>Obsessive-Compulsive Disorder (OCD)</a:t>
            </a:r>
            <a:endParaRPr b="0" lang="en-US" sz="37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4680" y="843120"/>
            <a:ext cx="8920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Recurrent obsessions (thoughts) or compulsions (actions) that are severe enough to be time-consuming or to cause marked distress or significant impairment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eaning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. Repeatedly washing their hands, showering, or constantly cleaning their hom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hecking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. Individuals may check several or even hundreds of times to make sure that doors are locke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6197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ost-Traumatic Stress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8120" y="13716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 reaction to a serious traumatic event (such as a car accident, natural disaster, physical abuse or sexual abuse) in which the person was extremely afraid or seriously injured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User-PC</dc:creator>
  <dc:description/>
  <dc:language>en-US</dc:language>
  <cp:lastModifiedBy>User-PC</cp:lastModifiedBy>
  <cp:lastPrinted>2009-04-22T19:24:48Z</cp:lastPrinted>
  <dcterms:modified xsi:type="dcterms:W3CDTF">2016-12-15T06:01:46Z</dcterms:modified>
  <cp:revision>140</cp:revision>
  <dc:subject/>
  <dc:title>PowerPoint Presentation</dc:title>
</cp:coreProperties>
</file>