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B278B-BAD8-42B5-93FA-908A5D14F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58C5E-0541-4F09-9936-289749812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FDB4A-C6DD-45E1-A71F-7092F9C07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C879D-5127-45B7-BAB6-46DCCAAA7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F23D7-A0AA-4453-A6FE-AB1B8ADB3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A157A-D463-4C11-B759-E994DCBB8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CD0F5-A145-42FF-A5B1-6EFC883FD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EF47C-5A75-4263-897A-70A0F3185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31A2E-E4F0-405D-B813-047401C1B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B72D9-D2F2-4DAC-94B7-089321B6E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71805-57BE-4370-BA54-C012AC496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B3E10-CF97-4006-9F97-8A234AC2E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72EF0-B281-46FD-B7A9-57AFC9063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023BE-90F8-404A-971C-1AE9C9572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5956F-8D8B-4E4E-BF2D-28DD06F95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F6A1F-BF52-4280-8179-E5F7B3F73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8127A-9DA0-4B42-8C30-B144395F6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8BC50-81CA-4646-81B6-6407B072A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66D7B-3514-431E-9D11-F3A081A27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AD520-89CE-44B2-8FD0-12263A94B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F4E61-4EF6-47BB-A015-2F95997CD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B8A71-B4D0-4131-9908-F52E7D8B0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72B04-049E-4417-9515-C13B0026D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48CC5-5345-4E74-94FB-AD9311D0B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D557-5985-4527-B426-1FD166F356E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D486-29C7-477B-BE71-311094EDEA3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d Hypoplastic Anemia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ppens when the bone marrow shuts dow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lvl="3" marL="1568160" indent="-22392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b findings</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re pancytopenia with relative lymphocytosis (lymphocytes live a long time)</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rmochromic, normocytic RBCs (may be slightly macrocytic)</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ld to moderate anisocytosis and poikilocytosis</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reased reticulocyte count</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ypocellular bone marrow with &gt; 70% yellow marrow</a:t>
            </a:r>
            <a:endParaRPr b="0" lang="en-US" sz="1800" spc="-1" strike="noStrike">
              <a:solidFill>
                <a:srgbClr val="000000"/>
              </a:solidFill>
              <a:latin typeface="Tahoma"/>
            </a:endParaRPr>
          </a:p>
          <a:p>
            <a:pPr lvl="3" marL="1568160" indent="-22392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eatment – in untreated cases the prognosis is poor</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 causative agent, if known</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ltiple transfusions</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ne marrow transpla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ed disorder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orders in which there is peripheral pancytopenia, but the bone marrow is normocellular,  hypercellular, or infiltrated with abnormal cellular eleme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yelopthesic anemia – replacement of bone marrow by fibrotic, granulomatous, or neoplastic cel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ed disorder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elodysplastic syndromes – are primary, neoplastic stem cell disorders that tend to terminate in acute leukemia.  The bone marrow is usually normocellular, or hypercellular with evidence of qualitative abnormalities in one or more cell lines resulting on ineffective erythropoiesis and/or granulopoiesis and/or megakaryopoiesis.  The peripheral smear shows </a:t>
            </a:r>
            <a:r>
              <a:rPr b="0" lang="en-US" sz="2000" spc="-1" strike="noStrike">
                <a:solidFill>
                  <a:srgbClr val="ff0000"/>
                </a:solidFill>
                <a:latin typeface="Tahoma"/>
              </a:rPr>
              <a:t>dysplastic</a:t>
            </a:r>
            <a:r>
              <a:rPr b="0" lang="en-US" sz="2000" spc="-1" strike="noStrike">
                <a:solidFill>
                  <a:srgbClr val="000000"/>
                </a:solidFill>
                <a:latin typeface="Tahoma"/>
              </a:rPr>
              <a:t> (abnormality in development) cells including </a:t>
            </a:r>
            <a:r>
              <a:rPr b="0" lang="en-US" sz="2000" spc="-1" strike="noStrike">
                <a:solidFill>
                  <a:srgbClr val="ff0000"/>
                </a:solidFill>
                <a:latin typeface="Tahoma"/>
              </a:rPr>
              <a:t>nucleated RBCs, oval macrocytes, pseudo-Pelger-Huet PMNs (hyposegmented neutrophils) with hyperchromatin clumping, hypogranulated neutrophils, and giant bizarre platlets. </a:t>
            </a:r>
            <a:endParaRPr b="0" lang="en-US" sz="2000" spc="-1" strike="noStrike">
              <a:solidFill>
                <a:srgbClr val="000000"/>
              </a:solidFill>
              <a:latin typeface="Tahoma"/>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ypersplenism – why can this lead to pancytopenia?</a:t>
            </a:r>
            <a:endParaRPr b="0" lang="en-US" sz="2000" spc="-1" strike="noStrike">
              <a:solidFill>
                <a:srgbClr val="000000"/>
              </a:solidFill>
              <a:latin typeface="Tahom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e Red Cell Aplasia</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e red cell aplasia s characterized by a </a:t>
            </a:r>
            <a:r>
              <a:rPr b="0" lang="en-US" sz="2800" spc="-1" strike="noStrike">
                <a:solidFill>
                  <a:srgbClr val="ff0000"/>
                </a:solidFill>
                <a:latin typeface="Tahoma"/>
              </a:rPr>
              <a:t>selective decrease</a:t>
            </a:r>
            <a:r>
              <a:rPr b="0" lang="en-US" sz="2800" spc="-1" strike="noStrike">
                <a:solidFill>
                  <a:srgbClr val="000000"/>
                </a:solidFill>
                <a:latin typeface="Tahoma"/>
              </a:rPr>
              <a:t> in erythroid precursor cells in the bone marrow.  WBCs and platlets are unaffected.</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quired</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itory with viral or bacterial infection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ients with hemolytic anemias may suddenly halt erythropoiesi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ients with thymoma –  T-cell mediated responses against bone marrow erythroblasts or erythropoietin are sometimes produc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e Red Cell Aplasia</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genita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mond-Blackfan syndrome – occurs in young children and is progressive.  It is probably due to an intrinsic or regulatory defect in the committed erythroid stem cell.</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Other hypoproliferative anemias</a:t>
            </a:r>
            <a:endParaRPr b="0" lang="en-US" sz="32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nal disease – due to decreased erythropoiet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docrine deficiencies – may lead to decreased erythropoietin production.  For example: hypothyroidism leads to decreased demand for oxygen from tissues; decreased androgens in males; decreased pituitary fun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lastic anemia is a severe, life threatening syndrome in which production of erythrocytes, WBCs, and platlets has fail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lastic anemia may occur in all age groups and both gend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sease is characterized by </a:t>
            </a:r>
            <a:r>
              <a:rPr b="0" lang="en-US" sz="2800" spc="-1" strike="noStrike">
                <a:solidFill>
                  <a:srgbClr val="ff0000"/>
                </a:solidFill>
                <a:latin typeface="Tahoma"/>
              </a:rPr>
              <a:t>peripheral pancytopenia</a:t>
            </a:r>
            <a:r>
              <a:rPr b="0" lang="en-US" sz="2800" spc="-1" strike="noStrike">
                <a:solidFill>
                  <a:srgbClr val="000000"/>
                </a:solidFill>
                <a:latin typeface="Tahoma"/>
              </a:rPr>
              <a:t> and accompanied by a </a:t>
            </a:r>
            <a:r>
              <a:rPr b="0" lang="en-US" sz="2800" spc="-1" strike="noStrike">
                <a:solidFill>
                  <a:srgbClr val="ff0000"/>
                </a:solidFill>
                <a:latin typeface="Tahoma"/>
              </a:rPr>
              <a:t>hypocellular bone marr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ypocellular bone marrow in aplastic anemia</a:t>
            </a:r>
            <a:endParaRPr b="0" lang="en-US" sz="4400" spc="-1" strike="noStrike">
              <a:solidFill>
                <a:srgbClr val="333399"/>
              </a:solidFill>
              <a:latin typeface="Tahoma"/>
            </a:endParaRPr>
          </a:p>
        </p:txBody>
      </p:sp>
      <p:pic>
        <p:nvPicPr>
          <p:cNvPr id="104" name="" descr=""/>
          <p:cNvPicPr/>
          <p:nvPr/>
        </p:nvPicPr>
        <p:blipFill>
          <a:blip r:embed="rId1"/>
          <a:srcRect l="3415" t="9766" r="947" b="8329"/>
          <a:stretch/>
        </p:blipFill>
        <p:spPr>
          <a:xfrm>
            <a:off x="380880" y="22860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hophysiology:</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imary defect is a reduction in or depletion of hematopoietic precursor stem cells with decreased production of all cell lines.  This is what leads to the peripheral pancytopenia.</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ay be due to quantitative or qualitative damage to the pluripotential stem cell.</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rare instances it is the result of abnormal hormonal stimulation of stem cell proliferation or the result of a defective bone marrow microenvironment or from cellular or humoral immunosuppression of hematopoiesi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228600"/>
            <a:ext cx="3276720" cy="1168560"/>
          </a:xfrm>
          <a:prstGeom prst="rect">
            <a:avLst/>
          </a:prstGeom>
          <a:noFill/>
          <a:ln w="0">
            <a:noFill/>
          </a:ln>
          <a:effectLst>
            <a:outerShdw dist="53966" dir="2700000" blurRad="0" rotWithShape="0">
              <a:srgbClr val="1c1c1c"/>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0000"/>
                </a:solidFill>
                <a:latin typeface="Comic Sans MS"/>
              </a:rPr>
              <a:t>Aplastic anaemia</a:t>
            </a:r>
            <a:endParaRPr b="0" lang="en-US" sz="3600" spc="-1" strike="noStrike">
              <a:solidFill>
                <a:srgbClr val="333399"/>
              </a:solidFill>
              <a:latin typeface="Tahoma"/>
            </a:endParaRPr>
          </a:p>
        </p:txBody>
      </p:sp>
      <p:sp>
        <p:nvSpPr>
          <p:cNvPr id="108" name="PlaceHolder 2"/>
          <p:cNvSpPr>
            <a:spLocks noGrp="1"/>
          </p:cNvSpPr>
          <p:nvPr>
            <p:ph/>
          </p:nvPr>
        </p:nvSpPr>
        <p:spPr>
          <a:xfrm>
            <a:off x="4608000" y="777600"/>
            <a:ext cx="4535640" cy="6080040"/>
          </a:xfrm>
          <a:prstGeom prst="rect">
            <a:avLst/>
          </a:prstGeom>
          <a:noFill/>
          <a:ln w="0">
            <a:noFill/>
          </a:ln>
          <a:effectLst>
            <a:outerShdw dist="53966" dir="2700000" blurRad="0" rotWithShape="0">
              <a:srgbClr val="1c1c1c"/>
            </a:outerShdw>
          </a:effectLst>
        </p:spPr>
        <p:txBody>
          <a:bodyPr lIns="90360" rIns="90360" tIns="44280" bIns="442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3333cc"/>
                </a:solidFill>
                <a:latin typeface="Comic Sans MS"/>
              </a:rPr>
              <a:t>Aquired</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e4a8"/>
                </a:solidFill>
                <a:latin typeface="Comic Sans MS"/>
              </a:rPr>
              <a:t>Idiopathic</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Primary stem cell defect</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Immune mediated</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e4a8"/>
                </a:solidFill>
                <a:latin typeface="Comic Sans MS"/>
              </a:rPr>
              <a:t>Chemical egent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ff0000"/>
                </a:solidFill>
                <a:uFillTx/>
                <a:latin typeface="Comic Sans MS"/>
              </a:rPr>
              <a:t>	</a:t>
            </a:r>
            <a:r>
              <a:rPr b="0" lang="hu-HU" sz="2400" spc="-1" strike="noStrike" u="sng">
                <a:solidFill>
                  <a:srgbClr val="ff0000"/>
                </a:solidFill>
                <a:uFillTx/>
                <a:latin typeface="Comic Sans MS"/>
              </a:rPr>
              <a:t>Dose related</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Alkilating agent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Antimetabolite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mic Sans MS"/>
              </a:rPr>
              <a:t>	</a:t>
            </a:r>
            <a:r>
              <a:rPr b="0" lang="hu-HU" sz="2400" spc="-1" strike="noStrike">
                <a:solidFill>
                  <a:srgbClr val="000000"/>
                </a:solidFill>
                <a:latin typeface="Comic Sans MS"/>
              </a:rPr>
              <a:t>	</a:t>
            </a:r>
            <a:r>
              <a:rPr b="0" lang="hu-HU" sz="2400" spc="-1" strike="noStrike">
                <a:solidFill>
                  <a:srgbClr val="000000"/>
                </a:solidFill>
                <a:latin typeface="Comic Sans MS"/>
              </a:rPr>
              <a:t>Benzen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Chloramphenicol</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Inorganic arsenical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ff0000"/>
                </a:solidFill>
                <a:uFillTx/>
                <a:latin typeface="Comic Sans MS"/>
              </a:rPr>
              <a:t>	</a:t>
            </a:r>
            <a:r>
              <a:rPr b="0" lang="hu-HU" sz="2400" spc="-1" strike="noStrike" u="sng">
                <a:solidFill>
                  <a:srgbClr val="ff0000"/>
                </a:solidFill>
                <a:uFillTx/>
                <a:latin typeface="Comic Sans MS"/>
              </a:rPr>
              <a:t>Idiosyncratic</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Chloramphenicol</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Phenylbutazon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Organic arsenicals</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920"/>
            <a:ext cx="2590920" cy="1371600"/>
          </a:xfrm>
          <a:prstGeom prst="rect">
            <a:avLst/>
          </a:prstGeom>
          <a:noFill/>
          <a:ln w="0">
            <a:noFill/>
          </a:ln>
          <a:effectLst>
            <a:outerShdw dist="53966"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76681"/>
                </a:solidFill>
                <a:latin typeface="Tahoma"/>
              </a:rPr>
              <a:t>Aplastic anaemia</a:t>
            </a:r>
            <a:endParaRPr b="0" lang="en-US" sz="3600" spc="-1" strike="noStrike">
              <a:solidFill>
                <a:srgbClr val="333399"/>
              </a:solidFill>
              <a:latin typeface="Tahoma"/>
            </a:endParaRPr>
          </a:p>
        </p:txBody>
      </p:sp>
      <p:sp>
        <p:nvSpPr>
          <p:cNvPr id="110" name="PlaceHolder 2"/>
          <p:cNvSpPr>
            <a:spLocks noGrp="1"/>
          </p:cNvSpPr>
          <p:nvPr>
            <p:ph/>
          </p:nvPr>
        </p:nvSpPr>
        <p:spPr>
          <a:xfrm>
            <a:off x="5316480" y="0"/>
            <a:ext cx="3827520" cy="6858000"/>
          </a:xfrm>
          <a:prstGeom prst="rect">
            <a:avLst/>
          </a:prstGeom>
          <a:noFill/>
          <a:ln w="0">
            <a:noFill/>
          </a:ln>
          <a:effectLst>
            <a:outerShdw dist="53966" dir="2700000" blurRad="0" rotWithShape="0">
              <a:srgbClr val="1c1c1c"/>
            </a:outerShdw>
          </a:effectLst>
        </p:spPr>
        <p:txBody>
          <a:bodyPr lIns="90360" rIns="90360" tIns="44280" bIns="4428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0000"/>
                </a:solidFill>
                <a:latin typeface="Tahoma"/>
              </a:rPr>
              <a:t>Idiosyncrratic contd.</a:t>
            </a:r>
            <a:endParaRPr b="0" lang="en-US" sz="28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Methylphenylethylhydantoi</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Streptomycin</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Chlorpromazine</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Insecticide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ffff"/>
                </a:solidFill>
                <a:latin typeface="Tahoma"/>
              </a:rPr>
              <a:t>Physical agents </a:t>
            </a:r>
            <a:r>
              <a:rPr b="0" lang="hu-HU" sz="2400" spc="-1" strike="noStrike">
                <a:solidFill>
                  <a:srgbClr val="000000"/>
                </a:solidFill>
                <a:latin typeface="Tahoma"/>
              </a:rPr>
              <a:t>(irradiation)</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ffff"/>
                </a:solidFill>
                <a:latin typeface="Tahoma"/>
              </a:rPr>
              <a:t>Viral infection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Viral hepatiti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CMV</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Epstein-Barr</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Herpes-Varicella-Zooster</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ffff"/>
                </a:solidFill>
                <a:latin typeface="Tahoma"/>
              </a:rPr>
              <a:t>Miscellaneou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Other drugs and </a:t>
            </a:r>
            <a:r>
              <a:rPr b="0" lang="en-US" sz="2400" spc="-1" strike="noStrike">
                <a:solidFill>
                  <a:srgbClr val="000000"/>
                </a:solidFill>
                <a:latin typeface="Tahoma"/>
              </a:rPr>
              <a:t>ch</a:t>
            </a:r>
            <a:r>
              <a:rPr b="0" lang="hu-HU" sz="2400" spc="-1" strike="noStrike">
                <a:solidFill>
                  <a:srgbClr val="000000"/>
                </a:solidFill>
                <a:latin typeface="Tahoma"/>
              </a:rPr>
              <a:t>emical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3333cc"/>
                </a:solidFill>
                <a:latin typeface="Tahoma"/>
              </a:rPr>
              <a:t>Inherited</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Fanconi anaemia</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iology</a:t>
            </a:r>
            <a:endParaRPr b="0" lang="en-US" sz="2000" spc="-1" strike="noStrike">
              <a:solidFill>
                <a:srgbClr val="000000"/>
              </a:solidFill>
              <a:latin typeface="Tahoma"/>
            </a:endParaRPr>
          </a:p>
          <a:p>
            <a:pPr lvl="3" marL="1551960" indent="-2214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quired</a:t>
            </a:r>
            <a:endParaRPr b="0" lang="en-US" sz="1800" spc="-1" strike="noStrike">
              <a:solidFill>
                <a:srgbClr val="000000"/>
              </a:solidFill>
              <a:latin typeface="Tahoma"/>
            </a:endParaRPr>
          </a:p>
          <a:p>
            <a:pPr lvl="4" marL="1995480" indent="-221400">
              <a:lnSpc>
                <a:spcPct val="9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st cases of aplastic anemia are idiopathic and there is no history of exposure to substances known to be causative agents of the disease</a:t>
            </a:r>
            <a:endParaRPr b="0" lang="en-US" sz="1800" spc="-1" strike="noStrike">
              <a:solidFill>
                <a:srgbClr val="000000"/>
              </a:solidFill>
              <a:latin typeface="Tahoma"/>
            </a:endParaRPr>
          </a:p>
          <a:p>
            <a:pPr lvl="4" marL="1995480" indent="-221400">
              <a:lnSpc>
                <a:spcPct val="9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osure to ionizing radiation – hematopoietic cells are especially susceptible to ionizing radiation.  Whole body radiation of 300-500 rads can completely wipe out the bone marrow.  With sublethal doses, the bone marrow eventually recovers.</a:t>
            </a:r>
            <a:endParaRPr b="0" lang="en-US" sz="1800" spc="-1" strike="noStrike">
              <a:solidFill>
                <a:srgbClr val="000000"/>
              </a:solidFill>
              <a:latin typeface="Tahoma"/>
            </a:endParaRPr>
          </a:p>
          <a:p>
            <a:pPr lvl="4" marL="1995480" indent="-221400">
              <a:lnSpc>
                <a:spcPct val="9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mical agents – include chemical agents with a benzene ring, chemotherapeutic agents, and certain insecticides.</a:t>
            </a:r>
            <a:endParaRPr b="0" lang="en-US" sz="1800" spc="-1" strike="noStrike">
              <a:solidFill>
                <a:srgbClr val="000000"/>
              </a:solidFill>
              <a:latin typeface="Tahoma"/>
            </a:endParaRPr>
          </a:p>
          <a:p>
            <a:pPr lvl="4" marL="1995480" indent="-221400">
              <a:lnSpc>
                <a:spcPct val="9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iosyncratic reactions to some commonly used drugs such as chloramphenicol or quinacrin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ctions – viral and bacterial infections such as infectious mononucleosis, infectious hepatitis, cytomegalovirus infections, and miliary tuberculosis occasionally lead to aplastic anemia</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gnancy (rare)</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oxysmal nocturnal hemoglobinuria – this is a stem cell disease in which the membranes of RBCs, WBCs and platlets have an abnormality making them susceptible to complement mediated lysis.</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diseases – preleukemia and carcinom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lvl="3" marL="1584000" indent="-226080">
              <a:lnSpc>
                <a:spcPct val="8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genital disorders</a:t>
            </a:r>
            <a:endParaRPr b="0" lang="en-US" sz="20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nconi’s anemia – the disorder usually becomes symptomatic ~ 5 years of age and is associated with progressive bone marrow hypoplasia.  Congenital defects such as skin hyperpigmentation and small stature are also seen in affected individuals.</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milial aplastic anemia – a subset of Fanconi’s anemia in which the congenital defects are absent.</a:t>
            </a:r>
            <a:endParaRPr b="0" lang="en-US" sz="1800" spc="-1" strike="noStrike">
              <a:solidFill>
                <a:srgbClr val="000000"/>
              </a:solidFill>
              <a:latin typeface="Tahoma"/>
            </a:endParaRPr>
          </a:p>
          <a:p>
            <a:pPr lvl="3" marL="1584000" indent="-226080">
              <a:lnSpc>
                <a:spcPct val="8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nical manifestations</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igue</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rt palpitations</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llor</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ections</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techiae</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cosal bleed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05:07:55Z</dcterms:created>
  <dc:creator>Nancy McQueen</dc:creator>
  <dc:description/>
  <dc:language>en-US</dc:language>
  <cp:lastModifiedBy>Dr.abdel-hamid</cp:lastModifiedBy>
  <dcterms:modified xsi:type="dcterms:W3CDTF">2006-10-11T23:23:27Z</dcterms:modified>
  <cp:revision>5</cp:revision>
  <dc:subject/>
  <dc:title>Aplastic and Hypoplastic Anemias</dc:title>
</cp:coreProperties>
</file>