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AF3A-6E78-4C1F-9436-552D749751D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0416-2655-4B23-92EE-5CB455D4BD8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724F-9E06-4EF6-8D85-C2809F09D86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28E-ABA8-4076-8840-780D7875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06E-76EC-45F8-9C1D-E9A4B298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0571-D15D-4C5D-AD75-D123F7EA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D93-3336-4C9A-9801-332061A5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377-E176-4B23-9F41-7F95D25A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936-CFF1-4DDE-A938-0FBA0970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B265-A323-414F-A799-CE88E566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507-4E57-427B-8530-4C185FA7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8B3-2576-43F3-8F09-E9203EB3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DB4-6C71-4426-B19F-2FFDB7D3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3DB-6A96-4B82-8D30-B9DC88F2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95E6-04ED-4A48-9CB3-BFC91671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C3BE-DC0E-4182-A0FF-5F4AD8EAA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is PCR? :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y “Polymerase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523880" y="24382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Impact"/>
              </a:rPr>
              <a:t>It is called “polymerase” because the only enzyme used in this reaction is DNA polymer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ff0000"/>
                </a:solidFill>
                <a:uFillTx/>
                <a:latin typeface="Times New Roman"/>
              </a:rPr>
              <a:t>Detection Of Patho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0"/>
          <p:cNvGraphicFramePr/>
          <p:nvPr/>
        </p:nvGraphicFramePr>
        <p:xfrm>
          <a:off x="838080" y="1432080"/>
          <a:ext cx="862668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32080"/>
                    <a:ext cx="862668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10"/>
          <p:cNvSpPr/>
          <p:nvPr/>
        </p:nvSpPr>
        <p:spPr>
          <a:xfrm>
            <a:off x="65160" y="6019920"/>
            <a:ext cx="102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Times New Roman"/>
              </a:rPr>
              <a:t>Sensitivit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of detection of PCR-amplified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M. tuberculosi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DNA. (Kaul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1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-6120" y="6048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Times New Roman"/>
              </a:rPr>
              <a:t>Molecular Identifi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304920" y="2971800"/>
          <a:ext cx="1371600" cy="8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137160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5"/>
          <p:cNvGraphicFramePr/>
          <p:nvPr/>
        </p:nvGraphicFramePr>
        <p:xfrm>
          <a:off x="1981080" y="3224160"/>
          <a:ext cx="1308240" cy="3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224160"/>
                    <a:ext cx="130824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6"/>
          <p:cNvGraphicFramePr/>
          <p:nvPr/>
        </p:nvGraphicFramePr>
        <p:xfrm>
          <a:off x="3581280" y="2819520"/>
          <a:ext cx="2438640" cy="121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819520"/>
                    <a:ext cx="24386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7"/>
          <p:cNvGraphicFramePr/>
          <p:nvPr/>
        </p:nvGraphicFramePr>
        <p:xfrm>
          <a:off x="6172200" y="3352680"/>
          <a:ext cx="1227240" cy="18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3352680"/>
                    <a:ext cx="122724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8"/>
          <p:cNvGraphicFramePr/>
          <p:nvPr/>
        </p:nvGraphicFramePr>
        <p:xfrm>
          <a:off x="7543800" y="2514600"/>
          <a:ext cx="2666880" cy="176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2514600"/>
                    <a:ext cx="266688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9"/>
          <p:cNvSpPr/>
          <p:nvPr/>
        </p:nvSpPr>
        <p:spPr>
          <a:xfrm>
            <a:off x="152280" y="4162320"/>
            <a:ext cx="2895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blood, chorionic villus, amniotic fluid, semen, hair root, sal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505680" y="44956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68,719,476,736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7238880" y="4572000"/>
            <a:ext cx="266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Gel Analysis, Restriction Digestion, Sequen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33520" y="1828800"/>
            <a:ext cx="9372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AU" sz="3000" spc="-1" strike="noStrike" u="sng">
                <a:solidFill>
                  <a:srgbClr val="000000"/>
                </a:solidFill>
                <a:uFillTx/>
                <a:latin typeface="Times New Roman"/>
              </a:rPr>
              <a:t>speed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AU" sz="3000" spc="-1" strike="noStrike" u="sng">
                <a:solidFill>
                  <a:srgbClr val="000000"/>
                </a:solidFill>
                <a:uFillTx/>
                <a:latin typeface="Times New Roman"/>
              </a:rPr>
              <a:t>ease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 of use, </a:t>
            </a:r>
            <a:r>
              <a:rPr b="1" lang="en-AU" sz="3000" spc="-1" strike="noStrike" u="sng">
                <a:solidFill>
                  <a:srgbClr val="000000"/>
                </a:solidFill>
                <a:uFillTx/>
                <a:latin typeface="Times New Roman"/>
              </a:rPr>
              <a:t>sensitivity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AU" sz="3000" spc="-1" strike="noStrike" u="sng">
                <a:solidFill>
                  <a:srgbClr val="000000"/>
                </a:solidFill>
                <a:uFillTx/>
                <a:latin typeface="Times New Roman"/>
              </a:rPr>
              <a:t>specificity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 of PCR essential tool of molecular biolog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and made PCR the most widely used and powerfu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technique with great spectrum of research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diagnostic applicatio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1024"/>
          <p:cNvGraphicFramePr/>
          <p:nvPr/>
        </p:nvGraphicFramePr>
        <p:xfrm>
          <a:off x="0" y="0"/>
          <a:ext cx="10287000" cy="658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28700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is PCR? :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y “Chain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600200" y="22860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Impact"/>
              </a:rPr>
              <a:t>It is called “chain” because the products of the first reaction become substrates of the following one, and so 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840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at is PCR? :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he “Reaction” Com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142280" y="1676520"/>
            <a:ext cx="73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Times New Roman"/>
              </a:rPr>
              <a:t>1) Target DNA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- contains the sequence to be amplified.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136880" y="2286000"/>
            <a:ext cx="8150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Times New Roman"/>
              </a:rPr>
              <a:t>2) Pair of Primers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- oligonucleotides that define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o be ampl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144440" y="320040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Times New Roman"/>
              </a:rPr>
              <a:t>3) dNTPs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- deoxynucleotidetriphosphates: DNA building blo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143000" y="38098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Times New Roman"/>
              </a:rPr>
              <a:t>4) Thermostable DNA Polymerase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- enzyme that catalyzes the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155960" y="4724280"/>
            <a:ext cx="49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Times New Roman"/>
              </a:rPr>
              <a:t>5) Mg</a:t>
            </a:r>
            <a:r>
              <a:rPr b="1" lang="en-AU" sz="2400" spc="-1" strike="noStrike" baseline="30000">
                <a:solidFill>
                  <a:srgbClr val="3333cc"/>
                </a:solidFill>
                <a:latin typeface="Times New Roman"/>
              </a:rPr>
              <a:t>++</a:t>
            </a:r>
            <a:r>
              <a:rPr b="1" lang="en-AU" sz="2400" spc="-1" strike="noStrike">
                <a:solidFill>
                  <a:srgbClr val="3333cc"/>
                </a:solidFill>
                <a:latin typeface="Times New Roman"/>
              </a:rPr>
              <a:t> ions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- cofactor of the enzy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43000" y="53499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Times New Roman"/>
              </a:rPr>
              <a:t>6) Buffer solution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– maintains pH and ionic strength of the reaction solution suitable for the activity of the enzy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cc"/>
                </a:solidFill>
                <a:latin typeface="Times New Roman"/>
              </a:rPr>
              <a:t>The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051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2260440" cy="253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52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9144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2053"/>
          <p:cNvGraphicFramePr/>
          <p:nvPr/>
        </p:nvGraphicFramePr>
        <p:xfrm>
          <a:off x="4267080" y="3095640"/>
          <a:ext cx="96228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20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095640"/>
                    <a:ext cx="9622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2054"/>
          <p:cNvSpPr/>
          <p:nvPr/>
        </p:nvSpPr>
        <p:spPr>
          <a:xfrm>
            <a:off x="6479640" y="49528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HERMOCYC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055"/>
          <p:cNvSpPr/>
          <p:nvPr/>
        </p:nvSpPr>
        <p:spPr>
          <a:xfrm>
            <a:off x="1664640" y="48769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CR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3"/>
          <p:cNvSpPr/>
          <p:nvPr/>
        </p:nvSpPr>
        <p:spPr>
          <a:xfrm>
            <a:off x="3397320" y="9907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enature (heat to 95</a:t>
            </a:r>
            <a:r>
              <a:rPr b="1" lang="en-US" sz="2000" spc="-1" strike="noStrike" baseline="30000">
                <a:solidFill>
                  <a:srgbClr val="0033cc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397320" y="249876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Lower temperature to 56</a:t>
            </a:r>
            <a:r>
              <a:rPr b="1" lang="en-US" sz="2000" spc="-1" strike="noStrike" baseline="30000">
                <a:solidFill>
                  <a:srgbClr val="0033cc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 Anneal with pri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3397320" y="449568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ncrease temperature to 72</a:t>
            </a:r>
            <a:r>
              <a:rPr b="1" lang="en-US" sz="2000" spc="-1" strike="noStrike" baseline="30000">
                <a:solidFill>
                  <a:srgbClr val="0033cc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 DNA polymerase + dN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2048"/>
          <p:cNvGraphicFramePr/>
          <p:nvPr/>
        </p:nvGraphicFramePr>
        <p:xfrm>
          <a:off x="2084400" y="380880"/>
          <a:ext cx="581976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4400" y="380880"/>
                    <a:ext cx="58197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2049"/>
          <p:cNvGraphicFramePr/>
          <p:nvPr/>
        </p:nvGraphicFramePr>
        <p:xfrm>
          <a:off x="2084400" y="1600200"/>
          <a:ext cx="581976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4400" y="1600200"/>
                    <a:ext cx="58197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2050"/>
          <p:cNvGraphicFramePr/>
          <p:nvPr/>
        </p:nvGraphicFramePr>
        <p:xfrm>
          <a:off x="2084400" y="3352680"/>
          <a:ext cx="581184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Object 20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4400" y="3352680"/>
                    <a:ext cx="58118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2051"/>
          <p:cNvGraphicFramePr/>
          <p:nvPr/>
        </p:nvGraphicFramePr>
        <p:xfrm>
          <a:off x="2084400" y="5629320"/>
          <a:ext cx="5840280" cy="100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Object 20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84400" y="5629320"/>
                    <a:ext cx="58402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1024"/>
          <p:cNvGraphicFramePr/>
          <p:nvPr/>
        </p:nvGraphicFramePr>
        <p:xfrm>
          <a:off x="2743200" y="2374920"/>
          <a:ext cx="35812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74920"/>
                    <a:ext cx="35812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025"/>
          <p:cNvGraphicFramePr/>
          <p:nvPr/>
        </p:nvGraphicFramePr>
        <p:xfrm>
          <a:off x="7467480" y="3276720"/>
          <a:ext cx="114300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3276720"/>
                    <a:ext cx="11430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026"/>
          <p:cNvGraphicFramePr/>
          <p:nvPr/>
        </p:nvGraphicFramePr>
        <p:xfrm>
          <a:off x="3809880" y="4876920"/>
          <a:ext cx="228600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4876920"/>
                    <a:ext cx="22860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027"/>
          <p:cNvGraphicFramePr/>
          <p:nvPr/>
        </p:nvGraphicFramePr>
        <p:xfrm>
          <a:off x="914400" y="838080"/>
          <a:ext cx="1008000" cy="10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838080"/>
                    <a:ext cx="10080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028"/>
          <p:cNvGraphicFramePr/>
          <p:nvPr/>
        </p:nvGraphicFramePr>
        <p:xfrm>
          <a:off x="914400" y="228600"/>
          <a:ext cx="236232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228600"/>
                    <a:ext cx="23623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029"/>
          <p:cNvGraphicFramePr/>
          <p:nvPr/>
        </p:nvGraphicFramePr>
        <p:xfrm>
          <a:off x="838080" y="2057400"/>
          <a:ext cx="1600200" cy="13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2057400"/>
                    <a:ext cx="160020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030"/>
          <p:cNvGraphicFramePr/>
          <p:nvPr/>
        </p:nvGraphicFramePr>
        <p:xfrm>
          <a:off x="6553080" y="523800"/>
          <a:ext cx="2116080" cy="275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0" name="Object 10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53080" y="523800"/>
                    <a:ext cx="2116080" cy="27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1031"/>
          <p:cNvGraphicFramePr/>
          <p:nvPr/>
        </p:nvGraphicFramePr>
        <p:xfrm>
          <a:off x="6172200" y="4172040"/>
          <a:ext cx="3124080" cy="2349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" name="Object 10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2200" y="4172040"/>
                    <a:ext cx="3124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1032"/>
          <p:cNvGraphicFramePr/>
          <p:nvPr/>
        </p:nvGraphicFramePr>
        <p:xfrm>
          <a:off x="76320" y="4923000"/>
          <a:ext cx="3809880" cy="56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4" name="Object 103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320" y="4923000"/>
                    <a:ext cx="38098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pplications of PC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1480" y="1523520"/>
            <a:ext cx="4286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lassification of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Genoty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utage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utation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Seque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ancer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29360" y="1447560"/>
            <a:ext cx="4286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etection of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NA fingerpr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rug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Genetic m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Genetic engineering</a:t>
            </a:r>
            <a:r>
              <a:rPr b="1" lang="ru-RU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Pre-nat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0"/>
          <p:cNvGraphicFramePr/>
          <p:nvPr/>
        </p:nvGraphicFramePr>
        <p:xfrm>
          <a:off x="762120" y="1600200"/>
          <a:ext cx="382896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382896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1"/>
          <p:cNvGraphicFramePr/>
          <p:nvPr/>
        </p:nvGraphicFramePr>
        <p:xfrm>
          <a:off x="6059520" y="1676520"/>
          <a:ext cx="343548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9520" y="1676520"/>
                    <a:ext cx="34354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2"/>
          <p:cNvGraphicFramePr/>
          <p:nvPr/>
        </p:nvGraphicFramePr>
        <p:xfrm>
          <a:off x="2743200" y="3276720"/>
          <a:ext cx="4876920" cy="158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3276720"/>
                    <a:ext cx="487692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3"/>
          <p:cNvGraphicFramePr/>
          <p:nvPr/>
        </p:nvGraphicFramePr>
        <p:xfrm>
          <a:off x="4800600" y="1905120"/>
          <a:ext cx="99072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1905120"/>
                    <a:ext cx="990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4"/>
          <p:cNvGraphicFramePr/>
          <p:nvPr/>
        </p:nvGraphicFramePr>
        <p:xfrm>
          <a:off x="3124080" y="5083200"/>
          <a:ext cx="4038840" cy="169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4080" y="5083200"/>
                    <a:ext cx="4038840" cy="16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7"/>
          <p:cNvSpPr/>
          <p:nvPr/>
        </p:nvSpPr>
        <p:spPr>
          <a:xfrm>
            <a:off x="771480" y="22860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AU" sz="4000" spc="-1" strike="noStrike">
                <a:solidFill>
                  <a:srgbClr val="ff0000"/>
                </a:solidFill>
                <a:latin typeface="Times New Roman"/>
              </a:rPr>
              <a:t>OLECULAR</a:t>
            </a:r>
            <a:r>
              <a:rPr b="0" lang="en-AU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AU" sz="5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AU" sz="4000" spc="-1" strike="noStrike">
                <a:solidFill>
                  <a:srgbClr val="ff0000"/>
                </a:solidFill>
                <a:latin typeface="Times New Roman"/>
              </a:rPr>
              <a:t>DENTIFICAT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ff0000"/>
                </a:solidFill>
                <a:uFillTx/>
                <a:latin typeface="Times New Roman"/>
              </a:rPr>
              <a:t>Detection Of Patho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7148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024"/>
          <p:cNvGraphicFramePr/>
          <p:nvPr/>
        </p:nvGraphicFramePr>
        <p:xfrm>
          <a:off x="457200" y="1600200"/>
          <a:ext cx="15238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15238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025"/>
          <p:cNvGraphicFramePr/>
          <p:nvPr/>
        </p:nvGraphicFramePr>
        <p:xfrm>
          <a:off x="4419720" y="2362320"/>
          <a:ext cx="184284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18428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026"/>
          <p:cNvGraphicFramePr/>
          <p:nvPr/>
        </p:nvGraphicFramePr>
        <p:xfrm>
          <a:off x="4419720" y="4987800"/>
          <a:ext cx="1828800" cy="72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987800"/>
                    <a:ext cx="18288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27"/>
          <p:cNvGraphicFramePr/>
          <p:nvPr/>
        </p:nvGraphicFramePr>
        <p:xfrm>
          <a:off x="3200400" y="3124080"/>
          <a:ext cx="2133720" cy="18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124080"/>
                    <a:ext cx="2133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1028"/>
          <p:cNvGraphicFramePr/>
          <p:nvPr/>
        </p:nvGraphicFramePr>
        <p:xfrm>
          <a:off x="0" y="3276720"/>
          <a:ext cx="3352680" cy="14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3276720"/>
                    <a:ext cx="335268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29"/>
          <p:cNvGraphicFramePr/>
          <p:nvPr/>
        </p:nvGraphicFramePr>
        <p:xfrm>
          <a:off x="6253200" y="4952880"/>
          <a:ext cx="402732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53200" y="4952880"/>
                    <a:ext cx="4027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030"/>
          <p:cNvGraphicFramePr/>
          <p:nvPr/>
        </p:nvGraphicFramePr>
        <p:xfrm>
          <a:off x="6253200" y="2286000"/>
          <a:ext cx="4027320" cy="88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4" name="Object 10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53200" y="2286000"/>
                    <a:ext cx="40273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12"/>
          <p:cNvSpPr/>
          <p:nvPr/>
        </p:nvSpPr>
        <p:spPr>
          <a:xfrm>
            <a:off x="-6120" y="6048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Times New Roman"/>
              </a:rPr>
              <a:t>Molecular Identifi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yaz Najafov</dc:creator>
  <dc:description>To be presented on 9th National Biology Student Congress, 9-11 Ocrober 2002, Bolu / Turkey.</dc:description>
  <cp:keywords>PCR applications molecular identification cloning</cp:keywords>
  <dc:language>en-US</dc:language>
  <cp:lastModifiedBy>ihab moussa</cp:lastModifiedBy>
  <dcterms:modified xsi:type="dcterms:W3CDTF">2017-05-02T06:29:27Z</dcterms:modified>
  <cp:revision>120</cp:revision>
  <dc:subject>PCR</dc:subject>
  <dc:title>PCR and Its Applications</dc:title>
</cp:coreProperties>
</file>