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5E00-65B5-4CCC-9F00-AC26638A159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0038-6564-44CE-996B-F86E11D243C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3636-FAF3-45F3-8D1A-7AEE9B6DA4C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CEA5-7F00-442D-A1F1-4C08842A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C90-9DC8-4C7B-B48D-633E903B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47D-EA27-4EEB-B9BC-446A4507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28E-A2AF-433A-AB3E-94FADB59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97F-5FDE-4EB0-B33F-4A520C2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61B-E28F-48FB-9C79-F3F2CBF4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01F-DC3D-454E-AFA7-1B7C1F8D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1A42-2403-4517-90F7-59EECED0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EFB-99C2-4B91-939C-3E741E49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E69-0EE2-4E89-90B3-D624D0EF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FFF-43F4-4125-84BA-FCA4D85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910-AF85-4F0D-B270-3746B7C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935D-0A38-42BF-A6D5-194B9882D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PCR? 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“Polymerase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523880" y="2438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polymerase” because the only enzyme used in this reaction is DNA polymer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ff0000"/>
                </a:solidFill>
                <a:uFillTx/>
                <a:latin typeface="Times New Roman"/>
              </a:rPr>
              <a:t>Detection Of Patho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0"/>
          <p:cNvGraphicFramePr/>
          <p:nvPr/>
        </p:nvGraphicFramePr>
        <p:xfrm>
          <a:off x="838080" y="1432080"/>
          <a:ext cx="862668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32080"/>
                    <a:ext cx="862668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10"/>
          <p:cNvSpPr/>
          <p:nvPr/>
        </p:nvSpPr>
        <p:spPr>
          <a:xfrm>
            <a:off x="65160" y="6019920"/>
            <a:ext cx="102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Times New Roman"/>
              </a:rPr>
              <a:t>Sensitivit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of detection of PCR-amplified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M. tuberculosi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DNA. (Kaul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-6120" y="60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304920" y="2971800"/>
          <a:ext cx="1371600" cy="8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137160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5"/>
          <p:cNvGraphicFramePr/>
          <p:nvPr/>
        </p:nvGraphicFramePr>
        <p:xfrm>
          <a:off x="1981080" y="3224160"/>
          <a:ext cx="1308240" cy="3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224160"/>
                    <a:ext cx="130824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3581280" y="2819520"/>
          <a:ext cx="2438640" cy="121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819520"/>
                    <a:ext cx="24386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7"/>
          <p:cNvGraphicFramePr/>
          <p:nvPr/>
        </p:nvGraphicFramePr>
        <p:xfrm>
          <a:off x="6172200" y="3352680"/>
          <a:ext cx="1227240" cy="18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352680"/>
                    <a:ext cx="12272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"/>
          <p:cNvGraphicFramePr/>
          <p:nvPr/>
        </p:nvGraphicFramePr>
        <p:xfrm>
          <a:off x="7543800" y="2514600"/>
          <a:ext cx="2666880" cy="1762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514600"/>
                    <a:ext cx="26668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9"/>
          <p:cNvSpPr/>
          <p:nvPr/>
        </p:nvSpPr>
        <p:spPr>
          <a:xfrm>
            <a:off x="152280" y="4162320"/>
            <a:ext cx="289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blood, chorionic villus, amniotic fluid, semen, hair root, sal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05680" y="44956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68,719,476,736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38880" y="4572000"/>
            <a:ext cx="266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Gel Analysis, Restriction Digestion, Seque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33520" y="1828800"/>
            <a:ext cx="9372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speed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ease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of use,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sensitivity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Times New Roman"/>
              </a:rPr>
              <a:t>specificity</a:t>
            </a: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 of PCR essential tool of molecular biolog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and made PCR the most widely used and powerfu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technique with great spectrum of research and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000000"/>
                </a:solidFill>
                <a:latin typeface="Times New Roman"/>
              </a:rPr>
              <a:t>diagnostic application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Object 1024"/>
          <p:cNvGraphicFramePr/>
          <p:nvPr/>
        </p:nvGraphicFramePr>
        <p:xfrm>
          <a:off x="0" y="0"/>
          <a:ext cx="10287000" cy="65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is PCR? 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“Chain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600200" y="22860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chain” because the products of the first reaction become substrates of the following one, and so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400" y="228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is PCR? :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“Reaction” Com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142280" y="1676520"/>
            <a:ext cx="73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1) Target DNA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contains the sequence to be amplified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136880" y="2286000"/>
            <a:ext cx="8150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2) Pair of Primer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oligonucleotides that define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o be amp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144440" y="320040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3) dNTP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deoxynucleotidetriphosphates: DNA building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143000" y="38098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4) Thermostable DNA Polymerase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enzyme that catalyzes the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155960" y="472428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5) Mg</a:t>
            </a:r>
            <a:r>
              <a:rPr b="1" lang="en-AU" sz="2400" spc="-1" strike="noStrike" baseline="30000">
                <a:solidFill>
                  <a:srgbClr val="3333cc"/>
                </a:solidFill>
                <a:latin typeface="Times New Roman"/>
              </a:rPr>
              <a:t>++</a:t>
            </a: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 ions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- cofactor of the enz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43000" y="53499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Times New Roman"/>
              </a:rPr>
              <a:t>6) Buffer solution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 – maintains pH and ionic strength of the reaction solution suitable for the activity of the enzy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cc"/>
                </a:solidFill>
                <a:latin typeface="Times New Roman"/>
              </a:rPr>
              <a:t>The 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051" descr=""/>
          <p:cNvPicPr/>
          <p:nvPr/>
        </p:nvPicPr>
        <p:blipFill>
          <a:blip r:embed="rId1"/>
          <a:stretch/>
        </p:blipFill>
        <p:spPr>
          <a:xfrm>
            <a:off x="6705720" y="2209680"/>
            <a:ext cx="2260440" cy="253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52" descr=""/>
          <p:cNvPicPr/>
          <p:nvPr/>
        </p:nvPicPr>
        <p:blipFill>
          <a:blip r:embed="rId2"/>
          <a:stretch/>
        </p:blipFill>
        <p:spPr>
          <a:xfrm>
            <a:off x="1828800" y="2819520"/>
            <a:ext cx="914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2053"/>
          <p:cNvGraphicFramePr/>
          <p:nvPr/>
        </p:nvGraphicFramePr>
        <p:xfrm>
          <a:off x="4267080" y="3095640"/>
          <a:ext cx="96228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20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095640"/>
                    <a:ext cx="9622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2054"/>
          <p:cNvSpPr/>
          <p:nvPr/>
        </p:nvSpPr>
        <p:spPr>
          <a:xfrm>
            <a:off x="6479640" y="49528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RMOCYC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55"/>
          <p:cNvSpPr/>
          <p:nvPr/>
        </p:nvSpPr>
        <p:spPr>
          <a:xfrm>
            <a:off x="1664640" y="487692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CR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3"/>
          <p:cNvSpPr/>
          <p:nvPr/>
        </p:nvSpPr>
        <p:spPr>
          <a:xfrm>
            <a:off x="3397320" y="990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enature (heat to 95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397320" y="249876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ower temperature to 56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 Anneal with pri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3397320" y="449568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crease temperature to 72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 DNA polymerase + dN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048"/>
          <p:cNvGraphicFramePr/>
          <p:nvPr/>
        </p:nvGraphicFramePr>
        <p:xfrm>
          <a:off x="2084400" y="380880"/>
          <a:ext cx="58197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4400" y="380880"/>
                    <a:ext cx="58197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2049"/>
          <p:cNvGraphicFramePr/>
          <p:nvPr/>
        </p:nvGraphicFramePr>
        <p:xfrm>
          <a:off x="2084400" y="1600200"/>
          <a:ext cx="581976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4400" y="1600200"/>
                    <a:ext cx="58197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2050"/>
          <p:cNvGraphicFramePr/>
          <p:nvPr/>
        </p:nvGraphicFramePr>
        <p:xfrm>
          <a:off x="2084400" y="3352680"/>
          <a:ext cx="58118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Object 20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84400" y="3352680"/>
                    <a:ext cx="58118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2051"/>
          <p:cNvGraphicFramePr/>
          <p:nvPr/>
        </p:nvGraphicFramePr>
        <p:xfrm>
          <a:off x="2084400" y="5629320"/>
          <a:ext cx="584028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Object 20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4400" y="5629320"/>
                    <a:ext cx="58402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1024"/>
          <p:cNvGraphicFramePr/>
          <p:nvPr/>
        </p:nvGraphicFramePr>
        <p:xfrm>
          <a:off x="2743200" y="2374920"/>
          <a:ext cx="358128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374920"/>
                    <a:ext cx="3581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025"/>
          <p:cNvGraphicFramePr/>
          <p:nvPr/>
        </p:nvGraphicFramePr>
        <p:xfrm>
          <a:off x="7467480" y="3276720"/>
          <a:ext cx="114300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3276720"/>
                    <a:ext cx="11430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026"/>
          <p:cNvGraphicFramePr/>
          <p:nvPr/>
        </p:nvGraphicFramePr>
        <p:xfrm>
          <a:off x="3809880" y="4876920"/>
          <a:ext cx="228600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4876920"/>
                    <a:ext cx="228600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027"/>
          <p:cNvGraphicFramePr/>
          <p:nvPr/>
        </p:nvGraphicFramePr>
        <p:xfrm>
          <a:off x="914400" y="838080"/>
          <a:ext cx="10080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838080"/>
                    <a:ext cx="1008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1028"/>
          <p:cNvGraphicFramePr/>
          <p:nvPr/>
        </p:nvGraphicFramePr>
        <p:xfrm>
          <a:off x="914400" y="228600"/>
          <a:ext cx="236232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28600"/>
                    <a:ext cx="236232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29"/>
          <p:cNvGraphicFramePr/>
          <p:nvPr/>
        </p:nvGraphicFramePr>
        <p:xfrm>
          <a:off x="838080" y="2057400"/>
          <a:ext cx="1600200" cy="13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2057400"/>
                    <a:ext cx="160020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030"/>
          <p:cNvGraphicFramePr/>
          <p:nvPr/>
        </p:nvGraphicFramePr>
        <p:xfrm>
          <a:off x="6553080" y="523800"/>
          <a:ext cx="2116080" cy="275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0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53080" y="523800"/>
                    <a:ext cx="211608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1031"/>
          <p:cNvGraphicFramePr/>
          <p:nvPr/>
        </p:nvGraphicFramePr>
        <p:xfrm>
          <a:off x="6172200" y="4172040"/>
          <a:ext cx="3124080" cy="23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4172040"/>
                    <a:ext cx="3124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1032"/>
          <p:cNvGraphicFramePr/>
          <p:nvPr/>
        </p:nvGraphicFramePr>
        <p:xfrm>
          <a:off x="76320" y="4923000"/>
          <a:ext cx="380988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4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320" y="4923000"/>
                    <a:ext cx="38098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Applications of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1480" y="1523520"/>
            <a:ext cx="4286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lassification of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oty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t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ance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29360" y="1447560"/>
            <a:ext cx="4286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etection of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NA fingerpri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rug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m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engineering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Pre-nat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0"/>
          <p:cNvGraphicFramePr/>
          <p:nvPr/>
        </p:nvGraphicFramePr>
        <p:xfrm>
          <a:off x="762120" y="1600200"/>
          <a:ext cx="382896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82896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1"/>
          <p:cNvGraphicFramePr/>
          <p:nvPr/>
        </p:nvGraphicFramePr>
        <p:xfrm>
          <a:off x="6059520" y="1676520"/>
          <a:ext cx="343548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59520" y="1676520"/>
                    <a:ext cx="34354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2"/>
          <p:cNvGraphicFramePr/>
          <p:nvPr/>
        </p:nvGraphicFramePr>
        <p:xfrm>
          <a:off x="2743200" y="3276720"/>
          <a:ext cx="4876920" cy="15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3276720"/>
                    <a:ext cx="487692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4800600" y="1905120"/>
          <a:ext cx="99072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1905120"/>
                    <a:ext cx="9907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"/>
          <p:cNvGraphicFramePr/>
          <p:nvPr/>
        </p:nvGraphicFramePr>
        <p:xfrm>
          <a:off x="3124080" y="5083200"/>
          <a:ext cx="4038840" cy="16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4080" y="5083200"/>
                    <a:ext cx="403884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7"/>
          <p:cNvSpPr/>
          <p:nvPr/>
        </p:nvSpPr>
        <p:spPr>
          <a:xfrm>
            <a:off x="771480" y="22860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AU" sz="4000" spc="-1" strike="noStrike">
                <a:solidFill>
                  <a:srgbClr val="ff0000"/>
                </a:solidFill>
                <a:latin typeface="Times New Roman"/>
              </a:rPr>
              <a:t>OLECULAR</a:t>
            </a:r>
            <a:r>
              <a:rPr b="0" lang="en-AU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AU" sz="5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AU" sz="4000" spc="-1" strike="noStrike">
                <a:solidFill>
                  <a:srgbClr val="ff0000"/>
                </a:solidFill>
                <a:latin typeface="Times New Roman"/>
              </a:rPr>
              <a:t>DENTIFIC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ff0000"/>
                </a:solidFill>
                <a:uFillTx/>
                <a:latin typeface="Times New Roman"/>
              </a:rPr>
              <a:t>Detection Of Patho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7148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024"/>
          <p:cNvGraphicFramePr/>
          <p:nvPr/>
        </p:nvGraphicFramePr>
        <p:xfrm>
          <a:off x="457200" y="1600200"/>
          <a:ext cx="152388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15238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25"/>
          <p:cNvGraphicFramePr/>
          <p:nvPr/>
        </p:nvGraphicFramePr>
        <p:xfrm>
          <a:off x="4419720" y="2362320"/>
          <a:ext cx="184284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8428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26"/>
          <p:cNvGraphicFramePr/>
          <p:nvPr/>
        </p:nvGraphicFramePr>
        <p:xfrm>
          <a:off x="4419720" y="4987800"/>
          <a:ext cx="182880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987800"/>
                    <a:ext cx="18288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27"/>
          <p:cNvGraphicFramePr/>
          <p:nvPr/>
        </p:nvGraphicFramePr>
        <p:xfrm>
          <a:off x="3200400" y="3124080"/>
          <a:ext cx="2133720" cy="18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124080"/>
                    <a:ext cx="2133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028"/>
          <p:cNvGraphicFramePr/>
          <p:nvPr/>
        </p:nvGraphicFramePr>
        <p:xfrm>
          <a:off x="0" y="3276720"/>
          <a:ext cx="3352680" cy="14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0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3276720"/>
                    <a:ext cx="3352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029"/>
          <p:cNvGraphicFramePr/>
          <p:nvPr/>
        </p:nvGraphicFramePr>
        <p:xfrm>
          <a:off x="6253200" y="4952880"/>
          <a:ext cx="4027320" cy="914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53200" y="4952880"/>
                    <a:ext cx="4027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1030"/>
          <p:cNvGraphicFramePr/>
          <p:nvPr/>
        </p:nvGraphicFramePr>
        <p:xfrm>
          <a:off x="6253200" y="2286000"/>
          <a:ext cx="4027320" cy="88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4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53200" y="2286000"/>
                    <a:ext cx="402732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2"/>
          <p:cNvSpPr/>
          <p:nvPr/>
        </p:nvSpPr>
        <p:spPr>
          <a:xfrm>
            <a:off x="-6120" y="60480"/>
            <a:ext cx="27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Times New Roman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yaz Najafov</dc:creator>
  <dc:description>To be presented on 9th National Biology Student Congress, 9-11 Ocrober 2002, Bolu / Turkey.</dc:description>
  <cp:keywords>PCR applications molecular identification cloning</cp:keywords>
  <dc:language>en-US</dc:language>
  <cp:lastModifiedBy>ihab moussa</cp:lastModifiedBy>
  <dcterms:modified xsi:type="dcterms:W3CDTF">2017-05-02T06:29:27Z</dcterms:modified>
  <cp:revision>120</cp:revision>
  <dc:subject>PCR</dc:subject>
  <dc:title>PCR and Its Applications</dc:title>
</cp:coreProperties>
</file>