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7AE380-D8A3-4EFC-938C-C024BC27A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F39-0945-440F-BC31-5B08251F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F05-095B-45E7-9EE4-DD804A76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C46-7DF8-420B-B627-E2FC5C7C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C4C-A9F9-4603-B170-E15B675E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880A-8079-4A78-B998-AA060FAD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E684-562D-40D1-B0D8-FEA94881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481E-EDA3-44D3-9E1E-FF69EB82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C215-811C-44D5-9BA5-B025EF9B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8D44-C35C-498D-829A-5C1AA481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71A4-45C4-4C4D-9CA5-3C63BF67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CD1A-FDE6-47DD-B656-9A3D621B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764-DA54-4B24-8399-8396E689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2902-954D-40B4-BF74-4CFFD252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C74E-9DD3-4BDB-BBEE-B47EAA05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932C-ED78-4D91-9DC6-B43295FB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34AC-3714-4466-BE70-3947D4E1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58FF-70F9-4E34-B925-3BE7A15E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EF7-B152-4C56-92B1-9FA6C08A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71C-44D5-49E4-BD0C-B9D8F7B8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52A-0F1B-4E17-8F96-554F63E6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179-7F07-4CBC-8306-56271D93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55D2-8B03-4DF5-B60F-858EEA24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298-95FC-4627-9C56-8D28E420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129-9F09-43EE-B237-9B7A61F9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23AF-B3A4-4C16-A0B2-8F4DF65E371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2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6867-7DAF-4899-A890-6CC7F4FE4EA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e000f"/>
            </a:gs>
            <a:gs pos="50000">
              <a:srgbClr val="660033"/>
            </a:gs>
            <a:gs pos="100000">
              <a:srgbClr val="1e000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1f000f"/>
              </a:gs>
              <a:gs pos="50000">
                <a:srgbClr val="9c004e"/>
              </a:gs>
              <a:gs pos="100000">
                <a:srgbClr val="1f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7240" cy="1965240"/>
          </a:xfrm>
          <a:custGeom>
            <a:avLst/>
            <a:gdLst/>
            <a:ahLst/>
            <a:rect l="l" t="t" r="r" b="b"/>
            <a:pathLst>
              <a:path w="5762" h="1238">
                <a:moveTo>
                  <a:pt x="0" y="0"/>
                </a:moveTo>
                <a:lnTo>
                  <a:pt x="5761" y="0"/>
                </a:lnTo>
                <a:lnTo>
                  <a:pt x="5761" y="878"/>
                </a:lnTo>
                <a:lnTo>
                  <a:pt x="5724" y="889"/>
                </a:lnTo>
                <a:lnTo>
                  <a:pt x="5687" y="897"/>
                </a:lnTo>
                <a:lnTo>
                  <a:pt x="5650" y="902"/>
                </a:lnTo>
                <a:lnTo>
                  <a:pt x="5604" y="906"/>
                </a:lnTo>
                <a:lnTo>
                  <a:pt x="5512" y="908"/>
                </a:lnTo>
                <a:lnTo>
                  <a:pt x="5411" y="904"/>
                </a:lnTo>
                <a:lnTo>
                  <a:pt x="5291" y="895"/>
                </a:lnTo>
                <a:lnTo>
                  <a:pt x="5171" y="880"/>
                </a:lnTo>
                <a:lnTo>
                  <a:pt x="5042" y="863"/>
                </a:lnTo>
                <a:lnTo>
                  <a:pt x="4904" y="844"/>
                </a:lnTo>
                <a:lnTo>
                  <a:pt x="4609" y="805"/>
                </a:lnTo>
                <a:lnTo>
                  <a:pt x="4461" y="788"/>
                </a:lnTo>
                <a:lnTo>
                  <a:pt x="4295" y="770"/>
                </a:lnTo>
                <a:lnTo>
                  <a:pt x="4129" y="760"/>
                </a:lnTo>
                <a:lnTo>
                  <a:pt x="3954" y="753"/>
                </a:lnTo>
                <a:lnTo>
                  <a:pt x="3779" y="753"/>
                </a:lnTo>
                <a:lnTo>
                  <a:pt x="3604" y="760"/>
                </a:lnTo>
                <a:lnTo>
                  <a:pt x="3512" y="766"/>
                </a:lnTo>
                <a:lnTo>
                  <a:pt x="3411" y="777"/>
                </a:lnTo>
                <a:lnTo>
                  <a:pt x="3309" y="788"/>
                </a:lnTo>
                <a:lnTo>
                  <a:pt x="3199" y="801"/>
                </a:lnTo>
                <a:lnTo>
                  <a:pt x="2968" y="835"/>
                </a:lnTo>
                <a:lnTo>
                  <a:pt x="2719" y="874"/>
                </a:lnTo>
                <a:lnTo>
                  <a:pt x="2461" y="917"/>
                </a:lnTo>
                <a:lnTo>
                  <a:pt x="2194" y="964"/>
                </a:lnTo>
                <a:lnTo>
                  <a:pt x="1926" y="1011"/>
                </a:lnTo>
                <a:lnTo>
                  <a:pt x="1668" y="1059"/>
                </a:lnTo>
                <a:lnTo>
                  <a:pt x="1401" y="1104"/>
                </a:lnTo>
                <a:lnTo>
                  <a:pt x="1152" y="1145"/>
                </a:lnTo>
                <a:lnTo>
                  <a:pt x="903" y="1179"/>
                </a:lnTo>
                <a:lnTo>
                  <a:pt x="793" y="1194"/>
                </a:lnTo>
                <a:lnTo>
                  <a:pt x="682" y="1207"/>
                </a:lnTo>
                <a:lnTo>
                  <a:pt x="571" y="1220"/>
                </a:lnTo>
                <a:lnTo>
                  <a:pt x="470" y="1229"/>
                </a:lnTo>
                <a:lnTo>
                  <a:pt x="378" y="1233"/>
                </a:lnTo>
                <a:lnTo>
                  <a:pt x="286" y="1237"/>
                </a:lnTo>
                <a:lnTo>
                  <a:pt x="203" y="1237"/>
                </a:lnTo>
                <a:lnTo>
                  <a:pt x="129" y="1235"/>
                </a:lnTo>
                <a:lnTo>
                  <a:pt x="65" y="1229"/>
                </a:lnTo>
                <a:lnTo>
                  <a:pt x="0" y="121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346040"/>
            <a:ext cx="9147240" cy="5511960"/>
          </a:xfrm>
          <a:custGeom>
            <a:avLst/>
            <a:gdLst/>
            <a:ahLst/>
            <a:rect l="l" t="t" r="r" b="b"/>
            <a:pathLst>
              <a:path w="5762" h="3472">
                <a:moveTo>
                  <a:pt x="0" y="464"/>
                </a:moveTo>
                <a:lnTo>
                  <a:pt x="194" y="477"/>
                </a:lnTo>
                <a:lnTo>
                  <a:pt x="378" y="484"/>
                </a:lnTo>
                <a:lnTo>
                  <a:pt x="562" y="484"/>
                </a:lnTo>
                <a:lnTo>
                  <a:pt x="747" y="470"/>
                </a:lnTo>
                <a:lnTo>
                  <a:pt x="1106" y="436"/>
                </a:lnTo>
                <a:lnTo>
                  <a:pt x="1447" y="388"/>
                </a:lnTo>
                <a:lnTo>
                  <a:pt x="1779" y="325"/>
                </a:lnTo>
                <a:lnTo>
                  <a:pt x="2083" y="263"/>
                </a:lnTo>
                <a:lnTo>
                  <a:pt x="2369" y="201"/>
                </a:lnTo>
                <a:lnTo>
                  <a:pt x="2636" y="152"/>
                </a:lnTo>
                <a:lnTo>
                  <a:pt x="2645" y="152"/>
                </a:lnTo>
                <a:lnTo>
                  <a:pt x="2664" y="146"/>
                </a:lnTo>
                <a:lnTo>
                  <a:pt x="2692" y="146"/>
                </a:lnTo>
                <a:lnTo>
                  <a:pt x="2738" y="139"/>
                </a:lnTo>
                <a:lnTo>
                  <a:pt x="2839" y="125"/>
                </a:lnTo>
                <a:lnTo>
                  <a:pt x="2968" y="104"/>
                </a:lnTo>
                <a:lnTo>
                  <a:pt x="3097" y="83"/>
                </a:lnTo>
                <a:lnTo>
                  <a:pt x="3217" y="70"/>
                </a:lnTo>
                <a:lnTo>
                  <a:pt x="3309" y="56"/>
                </a:lnTo>
                <a:lnTo>
                  <a:pt x="3346" y="49"/>
                </a:lnTo>
                <a:lnTo>
                  <a:pt x="3374" y="42"/>
                </a:lnTo>
                <a:lnTo>
                  <a:pt x="3521" y="21"/>
                </a:lnTo>
                <a:lnTo>
                  <a:pt x="3669" y="7"/>
                </a:lnTo>
                <a:lnTo>
                  <a:pt x="3835" y="0"/>
                </a:lnTo>
                <a:lnTo>
                  <a:pt x="3991" y="7"/>
                </a:lnTo>
                <a:lnTo>
                  <a:pt x="4166" y="21"/>
                </a:lnTo>
                <a:lnTo>
                  <a:pt x="4332" y="35"/>
                </a:lnTo>
                <a:lnTo>
                  <a:pt x="4664" y="83"/>
                </a:lnTo>
                <a:lnTo>
                  <a:pt x="4996" y="139"/>
                </a:lnTo>
                <a:lnTo>
                  <a:pt x="5143" y="166"/>
                </a:lnTo>
                <a:lnTo>
                  <a:pt x="5291" y="187"/>
                </a:lnTo>
                <a:lnTo>
                  <a:pt x="5429" y="208"/>
                </a:lnTo>
                <a:lnTo>
                  <a:pt x="5549" y="229"/>
                </a:lnTo>
                <a:lnTo>
                  <a:pt x="5660" y="235"/>
                </a:lnTo>
                <a:lnTo>
                  <a:pt x="5761" y="242"/>
                </a:lnTo>
                <a:lnTo>
                  <a:pt x="5761" y="3471"/>
                </a:lnTo>
                <a:lnTo>
                  <a:pt x="0" y="3471"/>
                </a:lnTo>
                <a:lnTo>
                  <a:pt x="0" y="3464"/>
                </a:lnTo>
                <a:lnTo>
                  <a:pt x="0" y="3436"/>
                </a:lnTo>
                <a:lnTo>
                  <a:pt x="0" y="3395"/>
                </a:lnTo>
                <a:lnTo>
                  <a:pt x="0" y="3340"/>
                </a:lnTo>
                <a:lnTo>
                  <a:pt x="0" y="3271"/>
                </a:lnTo>
                <a:lnTo>
                  <a:pt x="0" y="3194"/>
                </a:lnTo>
                <a:lnTo>
                  <a:pt x="0" y="3105"/>
                </a:lnTo>
                <a:lnTo>
                  <a:pt x="0" y="3001"/>
                </a:lnTo>
                <a:lnTo>
                  <a:pt x="0" y="2890"/>
                </a:lnTo>
                <a:lnTo>
                  <a:pt x="0" y="2773"/>
                </a:lnTo>
                <a:lnTo>
                  <a:pt x="0" y="2517"/>
                </a:lnTo>
                <a:lnTo>
                  <a:pt x="0" y="2247"/>
                </a:lnTo>
                <a:lnTo>
                  <a:pt x="0" y="1971"/>
                </a:lnTo>
                <a:lnTo>
                  <a:pt x="0" y="1687"/>
                </a:lnTo>
                <a:lnTo>
                  <a:pt x="0" y="1418"/>
                </a:lnTo>
                <a:lnTo>
                  <a:pt x="0" y="1162"/>
                </a:lnTo>
                <a:lnTo>
                  <a:pt x="0" y="1044"/>
                </a:lnTo>
                <a:lnTo>
                  <a:pt x="0" y="934"/>
                </a:lnTo>
                <a:lnTo>
                  <a:pt x="0" y="830"/>
                </a:lnTo>
                <a:lnTo>
                  <a:pt x="0" y="740"/>
                </a:lnTo>
                <a:lnTo>
                  <a:pt x="0" y="664"/>
                </a:lnTo>
                <a:lnTo>
                  <a:pt x="0" y="595"/>
                </a:lnTo>
                <a:lnTo>
                  <a:pt x="0" y="540"/>
                </a:lnTo>
                <a:lnTo>
                  <a:pt x="0" y="498"/>
                </a:lnTo>
                <a:lnTo>
                  <a:pt x="0" y="470"/>
                </a:lnTo>
                <a:lnTo>
                  <a:pt x="0" y="464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8680"/>
            <a:ext cx="9147240" cy="815760"/>
          </a:xfrm>
          <a:custGeom>
            <a:avLst/>
            <a:gdLst/>
            <a:ahLst/>
            <a:rect l="l" t="t" r="r" b="b"/>
            <a:pathLst>
              <a:path w="5762" h="514">
                <a:moveTo>
                  <a:pt x="0" y="140"/>
                </a:moveTo>
                <a:lnTo>
                  <a:pt x="0" y="379"/>
                </a:lnTo>
                <a:lnTo>
                  <a:pt x="65" y="389"/>
                </a:lnTo>
                <a:lnTo>
                  <a:pt x="129" y="397"/>
                </a:lnTo>
                <a:lnTo>
                  <a:pt x="295" y="411"/>
                </a:lnTo>
                <a:lnTo>
                  <a:pt x="489" y="423"/>
                </a:lnTo>
                <a:lnTo>
                  <a:pt x="710" y="432"/>
                </a:lnTo>
                <a:lnTo>
                  <a:pt x="830" y="435"/>
                </a:lnTo>
                <a:lnTo>
                  <a:pt x="959" y="436"/>
                </a:lnTo>
                <a:lnTo>
                  <a:pt x="1088" y="437"/>
                </a:lnTo>
                <a:lnTo>
                  <a:pt x="1217" y="436"/>
                </a:lnTo>
                <a:lnTo>
                  <a:pt x="1355" y="435"/>
                </a:lnTo>
                <a:lnTo>
                  <a:pt x="1493" y="432"/>
                </a:lnTo>
                <a:lnTo>
                  <a:pt x="1632" y="427"/>
                </a:lnTo>
                <a:lnTo>
                  <a:pt x="1770" y="420"/>
                </a:lnTo>
                <a:lnTo>
                  <a:pt x="1844" y="415"/>
                </a:lnTo>
                <a:lnTo>
                  <a:pt x="1917" y="411"/>
                </a:lnTo>
                <a:lnTo>
                  <a:pt x="2083" y="397"/>
                </a:lnTo>
                <a:lnTo>
                  <a:pt x="2258" y="379"/>
                </a:lnTo>
                <a:lnTo>
                  <a:pt x="2433" y="360"/>
                </a:lnTo>
                <a:lnTo>
                  <a:pt x="2627" y="338"/>
                </a:lnTo>
                <a:lnTo>
                  <a:pt x="2821" y="315"/>
                </a:lnTo>
                <a:lnTo>
                  <a:pt x="3208" y="266"/>
                </a:lnTo>
                <a:lnTo>
                  <a:pt x="3401" y="243"/>
                </a:lnTo>
                <a:lnTo>
                  <a:pt x="3595" y="221"/>
                </a:lnTo>
                <a:lnTo>
                  <a:pt x="3779" y="200"/>
                </a:lnTo>
                <a:lnTo>
                  <a:pt x="3964" y="183"/>
                </a:lnTo>
                <a:lnTo>
                  <a:pt x="4129" y="169"/>
                </a:lnTo>
                <a:lnTo>
                  <a:pt x="4212" y="163"/>
                </a:lnTo>
                <a:lnTo>
                  <a:pt x="4295" y="159"/>
                </a:lnTo>
                <a:lnTo>
                  <a:pt x="4369" y="155"/>
                </a:lnTo>
                <a:lnTo>
                  <a:pt x="4443" y="153"/>
                </a:lnTo>
                <a:lnTo>
                  <a:pt x="4507" y="152"/>
                </a:lnTo>
                <a:lnTo>
                  <a:pt x="4572" y="153"/>
                </a:lnTo>
                <a:lnTo>
                  <a:pt x="4636" y="155"/>
                </a:lnTo>
                <a:lnTo>
                  <a:pt x="4692" y="160"/>
                </a:lnTo>
                <a:lnTo>
                  <a:pt x="4747" y="165"/>
                </a:lnTo>
                <a:lnTo>
                  <a:pt x="4802" y="172"/>
                </a:lnTo>
                <a:lnTo>
                  <a:pt x="4858" y="182"/>
                </a:lnTo>
                <a:lnTo>
                  <a:pt x="4913" y="192"/>
                </a:lnTo>
                <a:lnTo>
                  <a:pt x="4959" y="204"/>
                </a:lnTo>
                <a:lnTo>
                  <a:pt x="5005" y="215"/>
                </a:lnTo>
                <a:lnTo>
                  <a:pt x="5097" y="243"/>
                </a:lnTo>
                <a:lnTo>
                  <a:pt x="5190" y="274"/>
                </a:lnTo>
                <a:lnTo>
                  <a:pt x="5263" y="307"/>
                </a:lnTo>
                <a:lnTo>
                  <a:pt x="5337" y="339"/>
                </a:lnTo>
                <a:lnTo>
                  <a:pt x="5411" y="373"/>
                </a:lnTo>
                <a:lnTo>
                  <a:pt x="5475" y="404"/>
                </a:lnTo>
                <a:lnTo>
                  <a:pt x="5531" y="433"/>
                </a:lnTo>
                <a:lnTo>
                  <a:pt x="5586" y="459"/>
                </a:lnTo>
                <a:lnTo>
                  <a:pt x="5604" y="471"/>
                </a:lnTo>
                <a:lnTo>
                  <a:pt x="5632" y="481"/>
                </a:lnTo>
                <a:lnTo>
                  <a:pt x="5660" y="491"/>
                </a:lnTo>
                <a:lnTo>
                  <a:pt x="5678" y="499"/>
                </a:lnTo>
                <a:lnTo>
                  <a:pt x="5696" y="504"/>
                </a:lnTo>
                <a:lnTo>
                  <a:pt x="5724" y="509"/>
                </a:lnTo>
                <a:lnTo>
                  <a:pt x="5743" y="511"/>
                </a:lnTo>
                <a:lnTo>
                  <a:pt x="5761" y="513"/>
                </a:lnTo>
                <a:lnTo>
                  <a:pt x="5761" y="140"/>
                </a:lnTo>
                <a:lnTo>
                  <a:pt x="5678" y="109"/>
                </a:lnTo>
                <a:lnTo>
                  <a:pt x="5577" y="80"/>
                </a:lnTo>
                <a:lnTo>
                  <a:pt x="5457" y="53"/>
                </a:lnTo>
                <a:lnTo>
                  <a:pt x="5392" y="41"/>
                </a:lnTo>
                <a:lnTo>
                  <a:pt x="5319" y="30"/>
                </a:lnTo>
                <a:lnTo>
                  <a:pt x="5245" y="21"/>
                </a:lnTo>
                <a:lnTo>
                  <a:pt x="5162" y="14"/>
                </a:lnTo>
                <a:lnTo>
                  <a:pt x="5079" y="7"/>
                </a:lnTo>
                <a:lnTo>
                  <a:pt x="4987" y="2"/>
                </a:lnTo>
                <a:lnTo>
                  <a:pt x="4885" y="0"/>
                </a:lnTo>
                <a:lnTo>
                  <a:pt x="4784" y="0"/>
                </a:lnTo>
                <a:lnTo>
                  <a:pt x="4673" y="1"/>
                </a:lnTo>
                <a:lnTo>
                  <a:pt x="4563" y="6"/>
                </a:lnTo>
                <a:lnTo>
                  <a:pt x="4498" y="9"/>
                </a:lnTo>
                <a:lnTo>
                  <a:pt x="4434" y="14"/>
                </a:lnTo>
                <a:lnTo>
                  <a:pt x="4369" y="20"/>
                </a:lnTo>
                <a:lnTo>
                  <a:pt x="4305" y="27"/>
                </a:lnTo>
                <a:lnTo>
                  <a:pt x="4157" y="43"/>
                </a:lnTo>
                <a:lnTo>
                  <a:pt x="4000" y="63"/>
                </a:lnTo>
                <a:lnTo>
                  <a:pt x="3835" y="86"/>
                </a:lnTo>
                <a:lnTo>
                  <a:pt x="3669" y="110"/>
                </a:lnTo>
                <a:lnTo>
                  <a:pt x="3493" y="135"/>
                </a:lnTo>
                <a:lnTo>
                  <a:pt x="3318" y="162"/>
                </a:lnTo>
                <a:lnTo>
                  <a:pt x="3143" y="189"/>
                </a:lnTo>
                <a:lnTo>
                  <a:pt x="2968" y="214"/>
                </a:lnTo>
                <a:lnTo>
                  <a:pt x="2793" y="238"/>
                </a:lnTo>
                <a:lnTo>
                  <a:pt x="2627" y="260"/>
                </a:lnTo>
                <a:lnTo>
                  <a:pt x="2452" y="279"/>
                </a:lnTo>
                <a:lnTo>
                  <a:pt x="2295" y="295"/>
                </a:lnTo>
                <a:lnTo>
                  <a:pt x="2212" y="301"/>
                </a:lnTo>
                <a:lnTo>
                  <a:pt x="2138" y="307"/>
                </a:lnTo>
                <a:lnTo>
                  <a:pt x="2065" y="311"/>
                </a:lnTo>
                <a:lnTo>
                  <a:pt x="1991" y="314"/>
                </a:lnTo>
                <a:lnTo>
                  <a:pt x="1844" y="316"/>
                </a:lnTo>
                <a:lnTo>
                  <a:pt x="1705" y="314"/>
                </a:lnTo>
                <a:lnTo>
                  <a:pt x="1558" y="309"/>
                </a:lnTo>
                <a:lnTo>
                  <a:pt x="1420" y="301"/>
                </a:lnTo>
                <a:lnTo>
                  <a:pt x="1272" y="290"/>
                </a:lnTo>
                <a:lnTo>
                  <a:pt x="1134" y="278"/>
                </a:lnTo>
                <a:lnTo>
                  <a:pt x="996" y="264"/>
                </a:lnTo>
                <a:lnTo>
                  <a:pt x="866" y="249"/>
                </a:lnTo>
                <a:lnTo>
                  <a:pt x="608" y="216"/>
                </a:lnTo>
                <a:lnTo>
                  <a:pt x="378" y="185"/>
                </a:lnTo>
                <a:lnTo>
                  <a:pt x="277" y="171"/>
                </a:lnTo>
                <a:lnTo>
                  <a:pt x="175" y="159"/>
                </a:lnTo>
                <a:lnTo>
                  <a:pt x="83" y="148"/>
                </a:lnTo>
                <a:lnTo>
                  <a:pt x="0" y="14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e000f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452680"/>
            <a:ext cx="9147240" cy="1003320"/>
          </a:xfrm>
          <a:custGeom>
            <a:avLst/>
            <a:gdLst/>
            <a:ahLst/>
            <a:rect l="l" t="t" r="r" b="b"/>
            <a:pathLst>
              <a:path w="5762" h="632">
                <a:moveTo>
                  <a:pt x="0" y="218"/>
                </a:moveTo>
                <a:lnTo>
                  <a:pt x="0" y="375"/>
                </a:lnTo>
                <a:lnTo>
                  <a:pt x="46" y="386"/>
                </a:lnTo>
                <a:lnTo>
                  <a:pt x="101" y="400"/>
                </a:lnTo>
                <a:lnTo>
                  <a:pt x="175" y="417"/>
                </a:lnTo>
                <a:lnTo>
                  <a:pt x="249" y="431"/>
                </a:lnTo>
                <a:lnTo>
                  <a:pt x="424" y="466"/>
                </a:lnTo>
                <a:lnTo>
                  <a:pt x="618" y="505"/>
                </a:lnTo>
                <a:lnTo>
                  <a:pt x="811" y="540"/>
                </a:lnTo>
                <a:lnTo>
                  <a:pt x="996" y="571"/>
                </a:lnTo>
                <a:lnTo>
                  <a:pt x="1152" y="596"/>
                </a:lnTo>
                <a:lnTo>
                  <a:pt x="1226" y="606"/>
                </a:lnTo>
                <a:lnTo>
                  <a:pt x="1281" y="613"/>
                </a:lnTo>
                <a:lnTo>
                  <a:pt x="1327" y="620"/>
                </a:lnTo>
                <a:lnTo>
                  <a:pt x="1355" y="624"/>
                </a:lnTo>
                <a:lnTo>
                  <a:pt x="1364" y="627"/>
                </a:lnTo>
                <a:lnTo>
                  <a:pt x="1373" y="631"/>
                </a:lnTo>
                <a:lnTo>
                  <a:pt x="1364" y="631"/>
                </a:lnTo>
                <a:lnTo>
                  <a:pt x="1355" y="627"/>
                </a:lnTo>
                <a:lnTo>
                  <a:pt x="1355" y="617"/>
                </a:lnTo>
                <a:lnTo>
                  <a:pt x="1364" y="610"/>
                </a:lnTo>
                <a:lnTo>
                  <a:pt x="1383" y="603"/>
                </a:lnTo>
                <a:lnTo>
                  <a:pt x="1420" y="592"/>
                </a:lnTo>
                <a:lnTo>
                  <a:pt x="1475" y="578"/>
                </a:lnTo>
                <a:lnTo>
                  <a:pt x="1539" y="564"/>
                </a:lnTo>
                <a:lnTo>
                  <a:pt x="1632" y="550"/>
                </a:lnTo>
                <a:lnTo>
                  <a:pt x="1742" y="529"/>
                </a:lnTo>
                <a:lnTo>
                  <a:pt x="1880" y="505"/>
                </a:lnTo>
                <a:lnTo>
                  <a:pt x="2037" y="473"/>
                </a:lnTo>
                <a:lnTo>
                  <a:pt x="2212" y="438"/>
                </a:lnTo>
                <a:lnTo>
                  <a:pt x="2397" y="400"/>
                </a:lnTo>
                <a:lnTo>
                  <a:pt x="2590" y="361"/>
                </a:lnTo>
                <a:lnTo>
                  <a:pt x="3005" y="281"/>
                </a:lnTo>
                <a:lnTo>
                  <a:pt x="3429" y="203"/>
                </a:lnTo>
                <a:lnTo>
                  <a:pt x="3632" y="172"/>
                </a:lnTo>
                <a:lnTo>
                  <a:pt x="3835" y="140"/>
                </a:lnTo>
                <a:lnTo>
                  <a:pt x="4019" y="116"/>
                </a:lnTo>
                <a:lnTo>
                  <a:pt x="4194" y="98"/>
                </a:lnTo>
                <a:lnTo>
                  <a:pt x="4351" y="88"/>
                </a:lnTo>
                <a:lnTo>
                  <a:pt x="4489" y="84"/>
                </a:lnTo>
                <a:lnTo>
                  <a:pt x="4618" y="91"/>
                </a:lnTo>
                <a:lnTo>
                  <a:pt x="4738" y="105"/>
                </a:lnTo>
                <a:lnTo>
                  <a:pt x="4848" y="130"/>
                </a:lnTo>
                <a:lnTo>
                  <a:pt x="4950" y="161"/>
                </a:lnTo>
                <a:lnTo>
                  <a:pt x="5051" y="196"/>
                </a:lnTo>
                <a:lnTo>
                  <a:pt x="5143" y="235"/>
                </a:lnTo>
                <a:lnTo>
                  <a:pt x="5309" y="326"/>
                </a:lnTo>
                <a:lnTo>
                  <a:pt x="5448" y="414"/>
                </a:lnTo>
                <a:lnTo>
                  <a:pt x="5512" y="456"/>
                </a:lnTo>
                <a:lnTo>
                  <a:pt x="5567" y="491"/>
                </a:lnTo>
                <a:lnTo>
                  <a:pt x="5623" y="522"/>
                </a:lnTo>
                <a:lnTo>
                  <a:pt x="5678" y="550"/>
                </a:lnTo>
                <a:lnTo>
                  <a:pt x="5724" y="568"/>
                </a:lnTo>
                <a:lnTo>
                  <a:pt x="5761" y="575"/>
                </a:lnTo>
                <a:lnTo>
                  <a:pt x="5761" y="203"/>
                </a:lnTo>
                <a:lnTo>
                  <a:pt x="5641" y="172"/>
                </a:lnTo>
                <a:lnTo>
                  <a:pt x="5484" y="133"/>
                </a:lnTo>
                <a:lnTo>
                  <a:pt x="5300" y="98"/>
                </a:lnTo>
                <a:lnTo>
                  <a:pt x="5088" y="63"/>
                </a:lnTo>
                <a:lnTo>
                  <a:pt x="4848" y="32"/>
                </a:lnTo>
                <a:lnTo>
                  <a:pt x="4600" y="11"/>
                </a:lnTo>
                <a:lnTo>
                  <a:pt x="4461" y="4"/>
                </a:lnTo>
                <a:lnTo>
                  <a:pt x="4323" y="0"/>
                </a:lnTo>
                <a:lnTo>
                  <a:pt x="4185" y="0"/>
                </a:lnTo>
                <a:lnTo>
                  <a:pt x="4037" y="4"/>
                </a:lnTo>
                <a:lnTo>
                  <a:pt x="3881" y="14"/>
                </a:lnTo>
                <a:lnTo>
                  <a:pt x="3715" y="28"/>
                </a:lnTo>
                <a:lnTo>
                  <a:pt x="3540" y="49"/>
                </a:lnTo>
                <a:lnTo>
                  <a:pt x="3346" y="74"/>
                </a:lnTo>
                <a:lnTo>
                  <a:pt x="3152" y="102"/>
                </a:lnTo>
                <a:lnTo>
                  <a:pt x="2940" y="133"/>
                </a:lnTo>
                <a:lnTo>
                  <a:pt x="2526" y="203"/>
                </a:lnTo>
                <a:lnTo>
                  <a:pt x="2120" y="270"/>
                </a:lnTo>
                <a:lnTo>
                  <a:pt x="1917" y="302"/>
                </a:lnTo>
                <a:lnTo>
                  <a:pt x="1733" y="330"/>
                </a:lnTo>
                <a:lnTo>
                  <a:pt x="1549" y="358"/>
                </a:lnTo>
                <a:lnTo>
                  <a:pt x="1383" y="379"/>
                </a:lnTo>
                <a:lnTo>
                  <a:pt x="1235" y="393"/>
                </a:lnTo>
                <a:lnTo>
                  <a:pt x="1097" y="403"/>
                </a:lnTo>
                <a:lnTo>
                  <a:pt x="977" y="407"/>
                </a:lnTo>
                <a:lnTo>
                  <a:pt x="866" y="407"/>
                </a:lnTo>
                <a:lnTo>
                  <a:pt x="765" y="403"/>
                </a:lnTo>
                <a:lnTo>
                  <a:pt x="673" y="396"/>
                </a:lnTo>
                <a:lnTo>
                  <a:pt x="516" y="372"/>
                </a:lnTo>
                <a:lnTo>
                  <a:pt x="387" y="337"/>
                </a:lnTo>
                <a:lnTo>
                  <a:pt x="267" y="302"/>
                </a:lnTo>
                <a:lnTo>
                  <a:pt x="175" y="267"/>
                </a:lnTo>
                <a:lnTo>
                  <a:pt x="83" y="239"/>
                </a:lnTo>
                <a:lnTo>
                  <a:pt x="0" y="21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73200" y="1920960"/>
            <a:ext cx="6674040" cy="4940280"/>
          </a:xfrm>
          <a:custGeom>
            <a:avLst/>
            <a:gdLst/>
            <a:ahLst/>
            <a:rect l="l" t="t" r="r" b="b"/>
            <a:pathLst>
              <a:path w="4204" h="3112">
                <a:moveTo>
                  <a:pt x="0" y="3111"/>
                </a:moveTo>
                <a:lnTo>
                  <a:pt x="9" y="3056"/>
                </a:lnTo>
                <a:lnTo>
                  <a:pt x="27" y="2993"/>
                </a:lnTo>
                <a:lnTo>
                  <a:pt x="37" y="2924"/>
                </a:lnTo>
                <a:lnTo>
                  <a:pt x="55" y="2841"/>
                </a:lnTo>
                <a:lnTo>
                  <a:pt x="64" y="2758"/>
                </a:lnTo>
                <a:lnTo>
                  <a:pt x="83" y="2662"/>
                </a:lnTo>
                <a:lnTo>
                  <a:pt x="120" y="2454"/>
                </a:lnTo>
                <a:lnTo>
                  <a:pt x="156" y="2233"/>
                </a:lnTo>
                <a:lnTo>
                  <a:pt x="203" y="1991"/>
                </a:lnTo>
                <a:lnTo>
                  <a:pt x="258" y="1749"/>
                </a:lnTo>
                <a:lnTo>
                  <a:pt x="313" y="1493"/>
                </a:lnTo>
                <a:lnTo>
                  <a:pt x="378" y="1251"/>
                </a:lnTo>
                <a:lnTo>
                  <a:pt x="451" y="1009"/>
                </a:lnTo>
                <a:lnTo>
                  <a:pt x="525" y="781"/>
                </a:lnTo>
                <a:lnTo>
                  <a:pt x="617" y="574"/>
                </a:lnTo>
                <a:lnTo>
                  <a:pt x="663" y="477"/>
                </a:lnTo>
                <a:lnTo>
                  <a:pt x="710" y="394"/>
                </a:lnTo>
                <a:lnTo>
                  <a:pt x="765" y="311"/>
                </a:lnTo>
                <a:lnTo>
                  <a:pt x="820" y="235"/>
                </a:lnTo>
                <a:lnTo>
                  <a:pt x="875" y="173"/>
                </a:lnTo>
                <a:lnTo>
                  <a:pt x="931" y="117"/>
                </a:lnTo>
                <a:lnTo>
                  <a:pt x="995" y="76"/>
                </a:lnTo>
                <a:lnTo>
                  <a:pt x="1060" y="41"/>
                </a:lnTo>
                <a:lnTo>
                  <a:pt x="1134" y="21"/>
                </a:lnTo>
                <a:lnTo>
                  <a:pt x="1207" y="7"/>
                </a:lnTo>
                <a:lnTo>
                  <a:pt x="1290" y="0"/>
                </a:lnTo>
                <a:lnTo>
                  <a:pt x="1373" y="0"/>
                </a:lnTo>
                <a:lnTo>
                  <a:pt x="1465" y="14"/>
                </a:lnTo>
                <a:lnTo>
                  <a:pt x="1567" y="28"/>
                </a:lnTo>
                <a:lnTo>
                  <a:pt x="1770" y="83"/>
                </a:lnTo>
                <a:lnTo>
                  <a:pt x="1991" y="159"/>
                </a:lnTo>
                <a:lnTo>
                  <a:pt x="2221" y="249"/>
                </a:lnTo>
                <a:lnTo>
                  <a:pt x="2461" y="352"/>
                </a:lnTo>
                <a:lnTo>
                  <a:pt x="2701" y="470"/>
                </a:lnTo>
                <a:lnTo>
                  <a:pt x="2931" y="594"/>
                </a:lnTo>
                <a:lnTo>
                  <a:pt x="3161" y="726"/>
                </a:lnTo>
                <a:lnTo>
                  <a:pt x="3383" y="850"/>
                </a:lnTo>
                <a:lnTo>
                  <a:pt x="3585" y="975"/>
                </a:lnTo>
                <a:lnTo>
                  <a:pt x="3779" y="1085"/>
                </a:lnTo>
                <a:lnTo>
                  <a:pt x="3945" y="1189"/>
                </a:lnTo>
                <a:lnTo>
                  <a:pt x="4092" y="1272"/>
                </a:lnTo>
                <a:lnTo>
                  <a:pt x="4203" y="1334"/>
                </a:lnTo>
                <a:lnTo>
                  <a:pt x="4203" y="1777"/>
                </a:lnTo>
                <a:lnTo>
                  <a:pt x="4157" y="1756"/>
                </a:lnTo>
                <a:lnTo>
                  <a:pt x="4092" y="1721"/>
                </a:lnTo>
                <a:lnTo>
                  <a:pt x="4028" y="1687"/>
                </a:lnTo>
                <a:lnTo>
                  <a:pt x="3954" y="1645"/>
                </a:lnTo>
                <a:lnTo>
                  <a:pt x="3797" y="1542"/>
                </a:lnTo>
                <a:lnTo>
                  <a:pt x="3613" y="1417"/>
                </a:lnTo>
                <a:lnTo>
                  <a:pt x="3420" y="1279"/>
                </a:lnTo>
                <a:lnTo>
                  <a:pt x="3207" y="1134"/>
                </a:lnTo>
                <a:lnTo>
                  <a:pt x="2986" y="982"/>
                </a:lnTo>
                <a:lnTo>
                  <a:pt x="2756" y="830"/>
                </a:lnTo>
                <a:lnTo>
                  <a:pt x="2525" y="684"/>
                </a:lnTo>
                <a:lnTo>
                  <a:pt x="2304" y="546"/>
                </a:lnTo>
                <a:lnTo>
                  <a:pt x="2083" y="422"/>
                </a:lnTo>
                <a:lnTo>
                  <a:pt x="1871" y="318"/>
                </a:lnTo>
                <a:lnTo>
                  <a:pt x="1770" y="276"/>
                </a:lnTo>
                <a:lnTo>
                  <a:pt x="1668" y="242"/>
                </a:lnTo>
                <a:lnTo>
                  <a:pt x="1576" y="214"/>
                </a:lnTo>
                <a:lnTo>
                  <a:pt x="1493" y="193"/>
                </a:lnTo>
                <a:lnTo>
                  <a:pt x="1410" y="180"/>
                </a:lnTo>
                <a:lnTo>
                  <a:pt x="1336" y="173"/>
                </a:lnTo>
                <a:lnTo>
                  <a:pt x="1263" y="180"/>
                </a:lnTo>
                <a:lnTo>
                  <a:pt x="1198" y="193"/>
                </a:lnTo>
                <a:lnTo>
                  <a:pt x="1143" y="221"/>
                </a:lnTo>
                <a:lnTo>
                  <a:pt x="1087" y="256"/>
                </a:lnTo>
                <a:lnTo>
                  <a:pt x="1032" y="304"/>
                </a:lnTo>
                <a:lnTo>
                  <a:pt x="986" y="359"/>
                </a:lnTo>
                <a:lnTo>
                  <a:pt x="940" y="429"/>
                </a:lnTo>
                <a:lnTo>
                  <a:pt x="903" y="505"/>
                </a:lnTo>
                <a:lnTo>
                  <a:pt x="866" y="588"/>
                </a:lnTo>
                <a:lnTo>
                  <a:pt x="829" y="677"/>
                </a:lnTo>
                <a:lnTo>
                  <a:pt x="765" y="871"/>
                </a:lnTo>
                <a:lnTo>
                  <a:pt x="700" y="1085"/>
                </a:lnTo>
                <a:lnTo>
                  <a:pt x="654" y="1313"/>
                </a:lnTo>
                <a:lnTo>
                  <a:pt x="608" y="1555"/>
                </a:lnTo>
                <a:lnTo>
                  <a:pt x="571" y="1797"/>
                </a:lnTo>
                <a:lnTo>
                  <a:pt x="544" y="2032"/>
                </a:lnTo>
                <a:lnTo>
                  <a:pt x="507" y="2268"/>
                </a:lnTo>
                <a:lnTo>
                  <a:pt x="479" y="2482"/>
                </a:lnTo>
                <a:lnTo>
                  <a:pt x="451" y="2682"/>
                </a:lnTo>
                <a:lnTo>
                  <a:pt x="433" y="2772"/>
                </a:lnTo>
                <a:lnTo>
                  <a:pt x="415" y="2855"/>
                </a:lnTo>
                <a:lnTo>
                  <a:pt x="405" y="2931"/>
                </a:lnTo>
                <a:lnTo>
                  <a:pt x="387" y="3000"/>
                </a:lnTo>
                <a:lnTo>
                  <a:pt x="368" y="3063"/>
                </a:lnTo>
                <a:lnTo>
                  <a:pt x="350" y="3111"/>
                </a:lnTo>
                <a:lnTo>
                  <a:pt x="0" y="3111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567240"/>
            <a:ext cx="9147240" cy="2789280"/>
          </a:xfrm>
          <a:custGeom>
            <a:avLst/>
            <a:gdLst/>
            <a:ahLst/>
            <a:rect l="l" t="t" r="r" b="b"/>
            <a:pathLst>
              <a:path w="5762" h="1757">
                <a:moveTo>
                  <a:pt x="0" y="728"/>
                </a:moveTo>
                <a:lnTo>
                  <a:pt x="0" y="911"/>
                </a:lnTo>
                <a:lnTo>
                  <a:pt x="55" y="950"/>
                </a:lnTo>
                <a:lnTo>
                  <a:pt x="120" y="1003"/>
                </a:lnTo>
                <a:lnTo>
                  <a:pt x="194" y="1062"/>
                </a:lnTo>
                <a:lnTo>
                  <a:pt x="277" y="1127"/>
                </a:lnTo>
                <a:lnTo>
                  <a:pt x="461" y="1278"/>
                </a:lnTo>
                <a:lnTo>
                  <a:pt x="664" y="1429"/>
                </a:lnTo>
                <a:lnTo>
                  <a:pt x="774" y="1501"/>
                </a:lnTo>
                <a:lnTo>
                  <a:pt x="885" y="1573"/>
                </a:lnTo>
                <a:lnTo>
                  <a:pt x="1005" y="1632"/>
                </a:lnTo>
                <a:lnTo>
                  <a:pt x="1115" y="1684"/>
                </a:lnTo>
                <a:lnTo>
                  <a:pt x="1226" y="1717"/>
                </a:lnTo>
                <a:lnTo>
                  <a:pt x="1337" y="1743"/>
                </a:lnTo>
                <a:lnTo>
                  <a:pt x="1447" y="1756"/>
                </a:lnTo>
                <a:lnTo>
                  <a:pt x="1549" y="1743"/>
                </a:lnTo>
                <a:lnTo>
                  <a:pt x="1604" y="1730"/>
                </a:lnTo>
                <a:lnTo>
                  <a:pt x="1650" y="1710"/>
                </a:lnTo>
                <a:lnTo>
                  <a:pt x="1751" y="1651"/>
                </a:lnTo>
                <a:lnTo>
                  <a:pt x="1853" y="1573"/>
                </a:lnTo>
                <a:lnTo>
                  <a:pt x="1945" y="1475"/>
                </a:lnTo>
                <a:lnTo>
                  <a:pt x="2046" y="1363"/>
                </a:lnTo>
                <a:lnTo>
                  <a:pt x="2138" y="1245"/>
                </a:lnTo>
                <a:lnTo>
                  <a:pt x="2341" y="983"/>
                </a:lnTo>
                <a:lnTo>
                  <a:pt x="2443" y="859"/>
                </a:lnTo>
                <a:lnTo>
                  <a:pt x="2553" y="734"/>
                </a:lnTo>
                <a:lnTo>
                  <a:pt x="2655" y="616"/>
                </a:lnTo>
                <a:lnTo>
                  <a:pt x="2765" y="511"/>
                </a:lnTo>
                <a:lnTo>
                  <a:pt x="2885" y="420"/>
                </a:lnTo>
                <a:lnTo>
                  <a:pt x="3005" y="348"/>
                </a:lnTo>
                <a:lnTo>
                  <a:pt x="3125" y="302"/>
                </a:lnTo>
                <a:lnTo>
                  <a:pt x="3189" y="282"/>
                </a:lnTo>
                <a:lnTo>
                  <a:pt x="3254" y="276"/>
                </a:lnTo>
                <a:lnTo>
                  <a:pt x="3318" y="276"/>
                </a:lnTo>
                <a:lnTo>
                  <a:pt x="3392" y="282"/>
                </a:lnTo>
                <a:lnTo>
                  <a:pt x="3549" y="308"/>
                </a:lnTo>
                <a:lnTo>
                  <a:pt x="3705" y="354"/>
                </a:lnTo>
                <a:lnTo>
                  <a:pt x="3881" y="420"/>
                </a:lnTo>
                <a:lnTo>
                  <a:pt x="4065" y="498"/>
                </a:lnTo>
                <a:lnTo>
                  <a:pt x="4249" y="590"/>
                </a:lnTo>
                <a:lnTo>
                  <a:pt x="4434" y="695"/>
                </a:lnTo>
                <a:lnTo>
                  <a:pt x="4618" y="800"/>
                </a:lnTo>
                <a:lnTo>
                  <a:pt x="4968" y="1009"/>
                </a:lnTo>
                <a:lnTo>
                  <a:pt x="5134" y="1114"/>
                </a:lnTo>
                <a:lnTo>
                  <a:pt x="5291" y="1212"/>
                </a:lnTo>
                <a:lnTo>
                  <a:pt x="5438" y="1298"/>
                </a:lnTo>
                <a:lnTo>
                  <a:pt x="5567" y="1370"/>
                </a:lnTo>
                <a:lnTo>
                  <a:pt x="5669" y="1422"/>
                </a:lnTo>
                <a:lnTo>
                  <a:pt x="5761" y="1461"/>
                </a:lnTo>
                <a:lnTo>
                  <a:pt x="5761" y="1075"/>
                </a:lnTo>
                <a:lnTo>
                  <a:pt x="5678" y="1055"/>
                </a:lnTo>
                <a:lnTo>
                  <a:pt x="5577" y="1016"/>
                </a:lnTo>
                <a:lnTo>
                  <a:pt x="5457" y="957"/>
                </a:lnTo>
                <a:lnTo>
                  <a:pt x="5319" y="885"/>
                </a:lnTo>
                <a:lnTo>
                  <a:pt x="5171" y="800"/>
                </a:lnTo>
                <a:lnTo>
                  <a:pt x="5005" y="701"/>
                </a:lnTo>
                <a:lnTo>
                  <a:pt x="4830" y="603"/>
                </a:lnTo>
                <a:lnTo>
                  <a:pt x="4646" y="498"/>
                </a:lnTo>
                <a:lnTo>
                  <a:pt x="4461" y="400"/>
                </a:lnTo>
                <a:lnTo>
                  <a:pt x="4268" y="302"/>
                </a:lnTo>
                <a:lnTo>
                  <a:pt x="4083" y="210"/>
                </a:lnTo>
                <a:lnTo>
                  <a:pt x="3899" y="131"/>
                </a:lnTo>
                <a:lnTo>
                  <a:pt x="3724" y="72"/>
                </a:lnTo>
                <a:lnTo>
                  <a:pt x="3549" y="27"/>
                </a:lnTo>
                <a:lnTo>
                  <a:pt x="3392" y="7"/>
                </a:lnTo>
                <a:lnTo>
                  <a:pt x="3318" y="0"/>
                </a:lnTo>
                <a:lnTo>
                  <a:pt x="3245" y="7"/>
                </a:lnTo>
                <a:lnTo>
                  <a:pt x="3180" y="20"/>
                </a:lnTo>
                <a:lnTo>
                  <a:pt x="3116" y="40"/>
                </a:lnTo>
                <a:lnTo>
                  <a:pt x="3051" y="66"/>
                </a:lnTo>
                <a:lnTo>
                  <a:pt x="2996" y="92"/>
                </a:lnTo>
                <a:lnTo>
                  <a:pt x="2876" y="177"/>
                </a:lnTo>
                <a:lnTo>
                  <a:pt x="2765" y="276"/>
                </a:lnTo>
                <a:lnTo>
                  <a:pt x="2655" y="387"/>
                </a:lnTo>
                <a:lnTo>
                  <a:pt x="2553" y="518"/>
                </a:lnTo>
                <a:lnTo>
                  <a:pt x="2452" y="649"/>
                </a:lnTo>
                <a:lnTo>
                  <a:pt x="2350" y="787"/>
                </a:lnTo>
                <a:lnTo>
                  <a:pt x="2249" y="924"/>
                </a:lnTo>
                <a:lnTo>
                  <a:pt x="2157" y="1062"/>
                </a:lnTo>
                <a:lnTo>
                  <a:pt x="2056" y="1193"/>
                </a:lnTo>
                <a:lnTo>
                  <a:pt x="1963" y="1304"/>
                </a:lnTo>
                <a:lnTo>
                  <a:pt x="1871" y="1409"/>
                </a:lnTo>
                <a:lnTo>
                  <a:pt x="1770" y="1494"/>
                </a:lnTo>
                <a:lnTo>
                  <a:pt x="1678" y="1553"/>
                </a:lnTo>
                <a:lnTo>
                  <a:pt x="1622" y="1579"/>
                </a:lnTo>
                <a:lnTo>
                  <a:pt x="1576" y="1592"/>
                </a:lnTo>
                <a:lnTo>
                  <a:pt x="1475" y="1606"/>
                </a:lnTo>
                <a:lnTo>
                  <a:pt x="1364" y="1592"/>
                </a:lnTo>
                <a:lnTo>
                  <a:pt x="1254" y="1560"/>
                </a:lnTo>
                <a:lnTo>
                  <a:pt x="1134" y="1507"/>
                </a:lnTo>
                <a:lnTo>
                  <a:pt x="1023" y="1448"/>
                </a:lnTo>
                <a:lnTo>
                  <a:pt x="903" y="1376"/>
                </a:lnTo>
                <a:lnTo>
                  <a:pt x="793" y="1298"/>
                </a:lnTo>
                <a:lnTo>
                  <a:pt x="682" y="1212"/>
                </a:lnTo>
                <a:lnTo>
                  <a:pt x="470" y="1042"/>
                </a:lnTo>
                <a:lnTo>
                  <a:pt x="369" y="963"/>
                </a:lnTo>
                <a:lnTo>
                  <a:pt x="277" y="885"/>
                </a:lnTo>
                <a:lnTo>
                  <a:pt x="194" y="826"/>
                </a:lnTo>
                <a:lnTo>
                  <a:pt x="120" y="773"/>
                </a:lnTo>
                <a:lnTo>
                  <a:pt x="55" y="741"/>
                </a:lnTo>
                <a:lnTo>
                  <a:pt x="0" y="72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654360"/>
            <a:ext cx="5940360" cy="3200400"/>
          </a:xfrm>
          <a:custGeom>
            <a:avLst/>
            <a:gdLst/>
            <a:ahLst/>
            <a:rect l="l" t="t" r="r" b="b"/>
            <a:pathLst>
              <a:path w="3742" h="2016">
                <a:moveTo>
                  <a:pt x="0" y="348"/>
                </a:moveTo>
                <a:lnTo>
                  <a:pt x="0" y="446"/>
                </a:lnTo>
                <a:lnTo>
                  <a:pt x="38" y="453"/>
                </a:lnTo>
                <a:lnTo>
                  <a:pt x="94" y="453"/>
                </a:lnTo>
                <a:lnTo>
                  <a:pt x="170" y="439"/>
                </a:lnTo>
                <a:lnTo>
                  <a:pt x="264" y="418"/>
                </a:lnTo>
                <a:lnTo>
                  <a:pt x="365" y="397"/>
                </a:lnTo>
                <a:lnTo>
                  <a:pt x="478" y="362"/>
                </a:lnTo>
                <a:lnTo>
                  <a:pt x="604" y="334"/>
                </a:lnTo>
                <a:lnTo>
                  <a:pt x="736" y="299"/>
                </a:lnTo>
                <a:lnTo>
                  <a:pt x="1012" y="237"/>
                </a:lnTo>
                <a:lnTo>
                  <a:pt x="1289" y="181"/>
                </a:lnTo>
                <a:lnTo>
                  <a:pt x="1427" y="167"/>
                </a:lnTo>
                <a:lnTo>
                  <a:pt x="1566" y="153"/>
                </a:lnTo>
                <a:lnTo>
                  <a:pt x="1691" y="153"/>
                </a:lnTo>
                <a:lnTo>
                  <a:pt x="1811" y="167"/>
                </a:lnTo>
                <a:lnTo>
                  <a:pt x="1930" y="188"/>
                </a:lnTo>
                <a:lnTo>
                  <a:pt x="2056" y="216"/>
                </a:lnTo>
                <a:lnTo>
                  <a:pt x="2320" y="292"/>
                </a:lnTo>
                <a:lnTo>
                  <a:pt x="2603" y="383"/>
                </a:lnTo>
                <a:lnTo>
                  <a:pt x="2874" y="495"/>
                </a:lnTo>
                <a:lnTo>
                  <a:pt x="3006" y="558"/>
                </a:lnTo>
                <a:lnTo>
                  <a:pt x="3131" y="620"/>
                </a:lnTo>
                <a:lnTo>
                  <a:pt x="3251" y="683"/>
                </a:lnTo>
                <a:lnTo>
                  <a:pt x="3358" y="746"/>
                </a:lnTo>
                <a:lnTo>
                  <a:pt x="3458" y="809"/>
                </a:lnTo>
                <a:lnTo>
                  <a:pt x="3546" y="871"/>
                </a:lnTo>
                <a:lnTo>
                  <a:pt x="3616" y="934"/>
                </a:lnTo>
                <a:lnTo>
                  <a:pt x="3672" y="990"/>
                </a:lnTo>
                <a:lnTo>
                  <a:pt x="3710" y="1053"/>
                </a:lnTo>
                <a:lnTo>
                  <a:pt x="3735" y="1122"/>
                </a:lnTo>
                <a:lnTo>
                  <a:pt x="3741" y="1199"/>
                </a:lnTo>
                <a:lnTo>
                  <a:pt x="3735" y="1283"/>
                </a:lnTo>
                <a:lnTo>
                  <a:pt x="3716" y="1374"/>
                </a:lnTo>
                <a:lnTo>
                  <a:pt x="3685" y="1457"/>
                </a:lnTo>
                <a:lnTo>
                  <a:pt x="3653" y="1548"/>
                </a:lnTo>
                <a:lnTo>
                  <a:pt x="3609" y="1632"/>
                </a:lnTo>
                <a:lnTo>
                  <a:pt x="3572" y="1715"/>
                </a:lnTo>
                <a:lnTo>
                  <a:pt x="3528" y="1792"/>
                </a:lnTo>
                <a:lnTo>
                  <a:pt x="3484" y="1855"/>
                </a:lnTo>
                <a:lnTo>
                  <a:pt x="3446" y="1918"/>
                </a:lnTo>
                <a:lnTo>
                  <a:pt x="3408" y="1959"/>
                </a:lnTo>
                <a:lnTo>
                  <a:pt x="3383" y="1994"/>
                </a:lnTo>
                <a:lnTo>
                  <a:pt x="3364" y="2015"/>
                </a:lnTo>
                <a:lnTo>
                  <a:pt x="3358" y="2015"/>
                </a:lnTo>
                <a:lnTo>
                  <a:pt x="3697" y="767"/>
                </a:lnTo>
                <a:lnTo>
                  <a:pt x="3653" y="704"/>
                </a:lnTo>
                <a:lnTo>
                  <a:pt x="3597" y="641"/>
                </a:lnTo>
                <a:lnTo>
                  <a:pt x="3528" y="578"/>
                </a:lnTo>
                <a:lnTo>
                  <a:pt x="3452" y="516"/>
                </a:lnTo>
                <a:lnTo>
                  <a:pt x="3364" y="453"/>
                </a:lnTo>
                <a:lnTo>
                  <a:pt x="3270" y="397"/>
                </a:lnTo>
                <a:lnTo>
                  <a:pt x="3163" y="341"/>
                </a:lnTo>
                <a:lnTo>
                  <a:pt x="3056" y="286"/>
                </a:lnTo>
                <a:lnTo>
                  <a:pt x="2830" y="188"/>
                </a:lnTo>
                <a:lnTo>
                  <a:pt x="2591" y="111"/>
                </a:lnTo>
                <a:lnTo>
                  <a:pt x="2352" y="48"/>
                </a:lnTo>
                <a:lnTo>
                  <a:pt x="2113" y="7"/>
                </a:lnTo>
                <a:lnTo>
                  <a:pt x="1993" y="0"/>
                </a:lnTo>
                <a:lnTo>
                  <a:pt x="1861" y="0"/>
                </a:lnTo>
                <a:lnTo>
                  <a:pt x="1729" y="7"/>
                </a:lnTo>
                <a:lnTo>
                  <a:pt x="1585" y="20"/>
                </a:lnTo>
                <a:lnTo>
                  <a:pt x="1289" y="69"/>
                </a:lnTo>
                <a:lnTo>
                  <a:pt x="994" y="125"/>
                </a:lnTo>
                <a:lnTo>
                  <a:pt x="698" y="188"/>
                </a:lnTo>
                <a:lnTo>
                  <a:pt x="560" y="223"/>
                </a:lnTo>
                <a:lnTo>
                  <a:pt x="428" y="258"/>
                </a:lnTo>
                <a:lnTo>
                  <a:pt x="308" y="286"/>
                </a:lnTo>
                <a:lnTo>
                  <a:pt x="195" y="313"/>
                </a:lnTo>
                <a:lnTo>
                  <a:pt x="88" y="334"/>
                </a:lnTo>
                <a:lnTo>
                  <a:pt x="0" y="348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pproach to Bleeding Disord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Circulating Anticoagulant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upus anticoagulant/APA syndr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arely have associated bleed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end to thrombo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quired factor inhibi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ctor VIII most comm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ertiary care referr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Factor deficiencie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mophilia A or 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ctor VIII or IX ass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bably mild unless bleeding patient is an infant ma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nd to Hemophilia Treatment Cen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on Willebrand’s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st common genetic bleeding disor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y different typ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on Willebrand’s Disea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utosomal dominant except Type I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tients range from asymptomatic to spontaneous bleeding similar to a severe hemophili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racterized by mucocutaneous blee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on Willebrand’s Test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PT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ctor VIII activ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on Willebrand’s Fact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stocetin Cofact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on Willebrand’s Factor multim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on Willebrand’s Disea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ype 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rmal molecule in abnormally low quantit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rmal distribution of multi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ype I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normal molec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normal distribution of multimers with decrease in the largest molecular weight for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ype II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ve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on Willebrand’s Disease - 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DAVP (Stimat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.3 micrograms/kg IV in 50cc NS over 30 minu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ranasally 2 puffs for adults, 1 puff for childr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ctor VIII product containing Vw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umate 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Koate H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lphana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ryoprecipitate ONLY IF VWF/VIII PRODUCT NOT AVAILABLE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 bag/10 kg q 12 to 24 hours depending upon the blee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psilon amino caproic acid (Amica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Congenital De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ther Factor deficienc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telet def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r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telet aggregation stud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ectron microscop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leeding 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else could it be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tamin K defici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ug-induced/malabsorp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arely nutritional in an outpati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ng PT +/- aPT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or clearance of coagulation produ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iseas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ecreased synthesis of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ynthesis of abnormal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ncreased fibrinoly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rombocytopen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Liver Disease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sh frozen plas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plete 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NOT CORRECT THE P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yoprecipit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brin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tel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Evaluation of the patient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hysical Examina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aboratory Evalua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e000f"/>
            </a:gs>
            <a:gs pos="50000">
              <a:srgbClr val="660033"/>
            </a:gs>
            <a:gs pos="100000">
              <a:srgbClr val="1e000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1f000f"/>
              </a:gs>
              <a:gs pos="50000">
                <a:srgbClr val="9c004e"/>
              </a:gs>
              <a:gs pos="100000">
                <a:srgbClr val="1f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7240" cy="1965240"/>
          </a:xfrm>
          <a:custGeom>
            <a:avLst/>
            <a:gdLst/>
            <a:ahLst/>
            <a:rect l="l" t="t" r="r" b="b"/>
            <a:pathLst>
              <a:path w="5762" h="1238">
                <a:moveTo>
                  <a:pt x="0" y="0"/>
                </a:moveTo>
                <a:lnTo>
                  <a:pt x="5761" y="0"/>
                </a:lnTo>
                <a:lnTo>
                  <a:pt x="5761" y="878"/>
                </a:lnTo>
                <a:lnTo>
                  <a:pt x="5724" y="889"/>
                </a:lnTo>
                <a:lnTo>
                  <a:pt x="5687" y="897"/>
                </a:lnTo>
                <a:lnTo>
                  <a:pt x="5650" y="902"/>
                </a:lnTo>
                <a:lnTo>
                  <a:pt x="5604" y="906"/>
                </a:lnTo>
                <a:lnTo>
                  <a:pt x="5512" y="908"/>
                </a:lnTo>
                <a:lnTo>
                  <a:pt x="5411" y="904"/>
                </a:lnTo>
                <a:lnTo>
                  <a:pt x="5291" y="895"/>
                </a:lnTo>
                <a:lnTo>
                  <a:pt x="5171" y="880"/>
                </a:lnTo>
                <a:lnTo>
                  <a:pt x="5042" y="863"/>
                </a:lnTo>
                <a:lnTo>
                  <a:pt x="4904" y="844"/>
                </a:lnTo>
                <a:lnTo>
                  <a:pt x="4609" y="805"/>
                </a:lnTo>
                <a:lnTo>
                  <a:pt x="4461" y="788"/>
                </a:lnTo>
                <a:lnTo>
                  <a:pt x="4295" y="770"/>
                </a:lnTo>
                <a:lnTo>
                  <a:pt x="4129" y="760"/>
                </a:lnTo>
                <a:lnTo>
                  <a:pt x="3954" y="753"/>
                </a:lnTo>
                <a:lnTo>
                  <a:pt x="3779" y="753"/>
                </a:lnTo>
                <a:lnTo>
                  <a:pt x="3604" y="760"/>
                </a:lnTo>
                <a:lnTo>
                  <a:pt x="3512" y="766"/>
                </a:lnTo>
                <a:lnTo>
                  <a:pt x="3411" y="777"/>
                </a:lnTo>
                <a:lnTo>
                  <a:pt x="3309" y="788"/>
                </a:lnTo>
                <a:lnTo>
                  <a:pt x="3199" y="801"/>
                </a:lnTo>
                <a:lnTo>
                  <a:pt x="2968" y="835"/>
                </a:lnTo>
                <a:lnTo>
                  <a:pt x="2719" y="874"/>
                </a:lnTo>
                <a:lnTo>
                  <a:pt x="2461" y="917"/>
                </a:lnTo>
                <a:lnTo>
                  <a:pt x="2194" y="964"/>
                </a:lnTo>
                <a:lnTo>
                  <a:pt x="1926" y="1011"/>
                </a:lnTo>
                <a:lnTo>
                  <a:pt x="1668" y="1059"/>
                </a:lnTo>
                <a:lnTo>
                  <a:pt x="1401" y="1104"/>
                </a:lnTo>
                <a:lnTo>
                  <a:pt x="1152" y="1145"/>
                </a:lnTo>
                <a:lnTo>
                  <a:pt x="903" y="1179"/>
                </a:lnTo>
                <a:lnTo>
                  <a:pt x="793" y="1194"/>
                </a:lnTo>
                <a:lnTo>
                  <a:pt x="682" y="1207"/>
                </a:lnTo>
                <a:lnTo>
                  <a:pt x="571" y="1220"/>
                </a:lnTo>
                <a:lnTo>
                  <a:pt x="470" y="1229"/>
                </a:lnTo>
                <a:lnTo>
                  <a:pt x="378" y="1233"/>
                </a:lnTo>
                <a:lnTo>
                  <a:pt x="286" y="1237"/>
                </a:lnTo>
                <a:lnTo>
                  <a:pt x="203" y="1237"/>
                </a:lnTo>
                <a:lnTo>
                  <a:pt x="129" y="1235"/>
                </a:lnTo>
                <a:lnTo>
                  <a:pt x="65" y="1229"/>
                </a:lnTo>
                <a:lnTo>
                  <a:pt x="0" y="121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349280"/>
            <a:ext cx="9147240" cy="5511960"/>
          </a:xfrm>
          <a:custGeom>
            <a:avLst/>
            <a:gdLst/>
            <a:ahLst/>
            <a:rect l="l" t="t" r="r" b="b"/>
            <a:pathLst>
              <a:path w="5762" h="3472">
                <a:moveTo>
                  <a:pt x="0" y="464"/>
                </a:moveTo>
                <a:lnTo>
                  <a:pt x="194" y="477"/>
                </a:lnTo>
                <a:lnTo>
                  <a:pt x="378" y="484"/>
                </a:lnTo>
                <a:lnTo>
                  <a:pt x="562" y="484"/>
                </a:lnTo>
                <a:lnTo>
                  <a:pt x="747" y="470"/>
                </a:lnTo>
                <a:lnTo>
                  <a:pt x="1106" y="436"/>
                </a:lnTo>
                <a:lnTo>
                  <a:pt x="1447" y="388"/>
                </a:lnTo>
                <a:lnTo>
                  <a:pt x="1779" y="325"/>
                </a:lnTo>
                <a:lnTo>
                  <a:pt x="2083" y="263"/>
                </a:lnTo>
                <a:lnTo>
                  <a:pt x="2369" y="201"/>
                </a:lnTo>
                <a:lnTo>
                  <a:pt x="2636" y="152"/>
                </a:lnTo>
                <a:lnTo>
                  <a:pt x="2645" y="152"/>
                </a:lnTo>
                <a:lnTo>
                  <a:pt x="2664" y="146"/>
                </a:lnTo>
                <a:lnTo>
                  <a:pt x="2692" y="146"/>
                </a:lnTo>
                <a:lnTo>
                  <a:pt x="2738" y="139"/>
                </a:lnTo>
                <a:lnTo>
                  <a:pt x="2839" y="125"/>
                </a:lnTo>
                <a:lnTo>
                  <a:pt x="2968" y="104"/>
                </a:lnTo>
                <a:lnTo>
                  <a:pt x="3097" y="83"/>
                </a:lnTo>
                <a:lnTo>
                  <a:pt x="3217" y="70"/>
                </a:lnTo>
                <a:lnTo>
                  <a:pt x="3309" y="56"/>
                </a:lnTo>
                <a:lnTo>
                  <a:pt x="3346" y="49"/>
                </a:lnTo>
                <a:lnTo>
                  <a:pt x="3374" y="42"/>
                </a:lnTo>
                <a:lnTo>
                  <a:pt x="3521" y="21"/>
                </a:lnTo>
                <a:lnTo>
                  <a:pt x="3669" y="7"/>
                </a:lnTo>
                <a:lnTo>
                  <a:pt x="3835" y="0"/>
                </a:lnTo>
                <a:lnTo>
                  <a:pt x="3991" y="7"/>
                </a:lnTo>
                <a:lnTo>
                  <a:pt x="4166" y="21"/>
                </a:lnTo>
                <a:lnTo>
                  <a:pt x="4332" y="35"/>
                </a:lnTo>
                <a:lnTo>
                  <a:pt x="4664" y="83"/>
                </a:lnTo>
                <a:lnTo>
                  <a:pt x="4996" y="139"/>
                </a:lnTo>
                <a:lnTo>
                  <a:pt x="5143" y="166"/>
                </a:lnTo>
                <a:lnTo>
                  <a:pt x="5291" y="187"/>
                </a:lnTo>
                <a:lnTo>
                  <a:pt x="5429" y="208"/>
                </a:lnTo>
                <a:lnTo>
                  <a:pt x="5549" y="229"/>
                </a:lnTo>
                <a:lnTo>
                  <a:pt x="5660" y="235"/>
                </a:lnTo>
                <a:lnTo>
                  <a:pt x="5761" y="242"/>
                </a:lnTo>
                <a:lnTo>
                  <a:pt x="5761" y="3471"/>
                </a:lnTo>
                <a:lnTo>
                  <a:pt x="0" y="3471"/>
                </a:lnTo>
                <a:lnTo>
                  <a:pt x="0" y="3464"/>
                </a:lnTo>
                <a:lnTo>
                  <a:pt x="0" y="3436"/>
                </a:lnTo>
                <a:lnTo>
                  <a:pt x="0" y="3395"/>
                </a:lnTo>
                <a:lnTo>
                  <a:pt x="0" y="3340"/>
                </a:lnTo>
                <a:lnTo>
                  <a:pt x="0" y="3271"/>
                </a:lnTo>
                <a:lnTo>
                  <a:pt x="0" y="3194"/>
                </a:lnTo>
                <a:lnTo>
                  <a:pt x="0" y="3105"/>
                </a:lnTo>
                <a:lnTo>
                  <a:pt x="0" y="3001"/>
                </a:lnTo>
                <a:lnTo>
                  <a:pt x="0" y="2890"/>
                </a:lnTo>
                <a:lnTo>
                  <a:pt x="0" y="2773"/>
                </a:lnTo>
                <a:lnTo>
                  <a:pt x="0" y="2517"/>
                </a:lnTo>
                <a:lnTo>
                  <a:pt x="0" y="2247"/>
                </a:lnTo>
                <a:lnTo>
                  <a:pt x="0" y="1971"/>
                </a:lnTo>
                <a:lnTo>
                  <a:pt x="0" y="1687"/>
                </a:lnTo>
                <a:lnTo>
                  <a:pt x="0" y="1418"/>
                </a:lnTo>
                <a:lnTo>
                  <a:pt x="0" y="1162"/>
                </a:lnTo>
                <a:lnTo>
                  <a:pt x="0" y="1044"/>
                </a:lnTo>
                <a:lnTo>
                  <a:pt x="0" y="934"/>
                </a:lnTo>
                <a:lnTo>
                  <a:pt x="0" y="830"/>
                </a:lnTo>
                <a:lnTo>
                  <a:pt x="0" y="740"/>
                </a:lnTo>
                <a:lnTo>
                  <a:pt x="0" y="664"/>
                </a:lnTo>
                <a:lnTo>
                  <a:pt x="0" y="595"/>
                </a:lnTo>
                <a:lnTo>
                  <a:pt x="0" y="540"/>
                </a:lnTo>
                <a:lnTo>
                  <a:pt x="0" y="498"/>
                </a:lnTo>
                <a:lnTo>
                  <a:pt x="0" y="470"/>
                </a:lnTo>
                <a:lnTo>
                  <a:pt x="0" y="464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8680"/>
            <a:ext cx="9147240" cy="815760"/>
          </a:xfrm>
          <a:custGeom>
            <a:avLst/>
            <a:gdLst/>
            <a:ahLst/>
            <a:rect l="l" t="t" r="r" b="b"/>
            <a:pathLst>
              <a:path w="5762" h="514">
                <a:moveTo>
                  <a:pt x="0" y="140"/>
                </a:moveTo>
                <a:lnTo>
                  <a:pt x="0" y="379"/>
                </a:lnTo>
                <a:lnTo>
                  <a:pt x="65" y="389"/>
                </a:lnTo>
                <a:lnTo>
                  <a:pt x="129" y="397"/>
                </a:lnTo>
                <a:lnTo>
                  <a:pt x="295" y="411"/>
                </a:lnTo>
                <a:lnTo>
                  <a:pt x="489" y="423"/>
                </a:lnTo>
                <a:lnTo>
                  <a:pt x="710" y="432"/>
                </a:lnTo>
                <a:lnTo>
                  <a:pt x="830" y="435"/>
                </a:lnTo>
                <a:lnTo>
                  <a:pt x="959" y="436"/>
                </a:lnTo>
                <a:lnTo>
                  <a:pt x="1088" y="437"/>
                </a:lnTo>
                <a:lnTo>
                  <a:pt x="1217" y="436"/>
                </a:lnTo>
                <a:lnTo>
                  <a:pt x="1355" y="435"/>
                </a:lnTo>
                <a:lnTo>
                  <a:pt x="1493" y="432"/>
                </a:lnTo>
                <a:lnTo>
                  <a:pt x="1632" y="427"/>
                </a:lnTo>
                <a:lnTo>
                  <a:pt x="1770" y="420"/>
                </a:lnTo>
                <a:lnTo>
                  <a:pt x="1844" y="415"/>
                </a:lnTo>
                <a:lnTo>
                  <a:pt x="1917" y="411"/>
                </a:lnTo>
                <a:lnTo>
                  <a:pt x="2083" y="397"/>
                </a:lnTo>
                <a:lnTo>
                  <a:pt x="2258" y="379"/>
                </a:lnTo>
                <a:lnTo>
                  <a:pt x="2433" y="360"/>
                </a:lnTo>
                <a:lnTo>
                  <a:pt x="2627" y="338"/>
                </a:lnTo>
                <a:lnTo>
                  <a:pt x="2821" y="315"/>
                </a:lnTo>
                <a:lnTo>
                  <a:pt x="3208" y="266"/>
                </a:lnTo>
                <a:lnTo>
                  <a:pt x="3401" y="243"/>
                </a:lnTo>
                <a:lnTo>
                  <a:pt x="3595" y="221"/>
                </a:lnTo>
                <a:lnTo>
                  <a:pt x="3779" y="200"/>
                </a:lnTo>
                <a:lnTo>
                  <a:pt x="3964" y="183"/>
                </a:lnTo>
                <a:lnTo>
                  <a:pt x="4129" y="169"/>
                </a:lnTo>
                <a:lnTo>
                  <a:pt x="4212" y="163"/>
                </a:lnTo>
                <a:lnTo>
                  <a:pt x="4295" y="159"/>
                </a:lnTo>
                <a:lnTo>
                  <a:pt x="4369" y="155"/>
                </a:lnTo>
                <a:lnTo>
                  <a:pt x="4443" y="153"/>
                </a:lnTo>
                <a:lnTo>
                  <a:pt x="4507" y="152"/>
                </a:lnTo>
                <a:lnTo>
                  <a:pt x="4572" y="153"/>
                </a:lnTo>
                <a:lnTo>
                  <a:pt x="4636" y="155"/>
                </a:lnTo>
                <a:lnTo>
                  <a:pt x="4692" y="160"/>
                </a:lnTo>
                <a:lnTo>
                  <a:pt x="4747" y="165"/>
                </a:lnTo>
                <a:lnTo>
                  <a:pt x="4802" y="172"/>
                </a:lnTo>
                <a:lnTo>
                  <a:pt x="4858" y="182"/>
                </a:lnTo>
                <a:lnTo>
                  <a:pt x="4913" y="192"/>
                </a:lnTo>
                <a:lnTo>
                  <a:pt x="4959" y="204"/>
                </a:lnTo>
                <a:lnTo>
                  <a:pt x="5005" y="215"/>
                </a:lnTo>
                <a:lnTo>
                  <a:pt x="5097" y="243"/>
                </a:lnTo>
                <a:lnTo>
                  <a:pt x="5190" y="274"/>
                </a:lnTo>
                <a:lnTo>
                  <a:pt x="5263" y="307"/>
                </a:lnTo>
                <a:lnTo>
                  <a:pt x="5337" y="339"/>
                </a:lnTo>
                <a:lnTo>
                  <a:pt x="5411" y="373"/>
                </a:lnTo>
                <a:lnTo>
                  <a:pt x="5475" y="404"/>
                </a:lnTo>
                <a:lnTo>
                  <a:pt x="5531" y="433"/>
                </a:lnTo>
                <a:lnTo>
                  <a:pt x="5586" y="459"/>
                </a:lnTo>
                <a:lnTo>
                  <a:pt x="5604" y="471"/>
                </a:lnTo>
                <a:lnTo>
                  <a:pt x="5632" y="481"/>
                </a:lnTo>
                <a:lnTo>
                  <a:pt x="5660" y="491"/>
                </a:lnTo>
                <a:lnTo>
                  <a:pt x="5678" y="499"/>
                </a:lnTo>
                <a:lnTo>
                  <a:pt x="5696" y="504"/>
                </a:lnTo>
                <a:lnTo>
                  <a:pt x="5724" y="509"/>
                </a:lnTo>
                <a:lnTo>
                  <a:pt x="5743" y="511"/>
                </a:lnTo>
                <a:lnTo>
                  <a:pt x="5761" y="513"/>
                </a:lnTo>
                <a:lnTo>
                  <a:pt x="5761" y="140"/>
                </a:lnTo>
                <a:lnTo>
                  <a:pt x="5678" y="109"/>
                </a:lnTo>
                <a:lnTo>
                  <a:pt x="5577" y="80"/>
                </a:lnTo>
                <a:lnTo>
                  <a:pt x="5457" y="53"/>
                </a:lnTo>
                <a:lnTo>
                  <a:pt x="5392" y="41"/>
                </a:lnTo>
                <a:lnTo>
                  <a:pt x="5319" y="30"/>
                </a:lnTo>
                <a:lnTo>
                  <a:pt x="5245" y="21"/>
                </a:lnTo>
                <a:lnTo>
                  <a:pt x="5162" y="14"/>
                </a:lnTo>
                <a:lnTo>
                  <a:pt x="5079" y="7"/>
                </a:lnTo>
                <a:lnTo>
                  <a:pt x="4987" y="2"/>
                </a:lnTo>
                <a:lnTo>
                  <a:pt x="4885" y="0"/>
                </a:lnTo>
                <a:lnTo>
                  <a:pt x="4784" y="0"/>
                </a:lnTo>
                <a:lnTo>
                  <a:pt x="4673" y="1"/>
                </a:lnTo>
                <a:lnTo>
                  <a:pt x="4563" y="6"/>
                </a:lnTo>
                <a:lnTo>
                  <a:pt x="4498" y="9"/>
                </a:lnTo>
                <a:lnTo>
                  <a:pt x="4434" y="14"/>
                </a:lnTo>
                <a:lnTo>
                  <a:pt x="4369" y="20"/>
                </a:lnTo>
                <a:lnTo>
                  <a:pt x="4305" y="27"/>
                </a:lnTo>
                <a:lnTo>
                  <a:pt x="4157" y="43"/>
                </a:lnTo>
                <a:lnTo>
                  <a:pt x="4000" y="63"/>
                </a:lnTo>
                <a:lnTo>
                  <a:pt x="3835" y="86"/>
                </a:lnTo>
                <a:lnTo>
                  <a:pt x="3669" y="110"/>
                </a:lnTo>
                <a:lnTo>
                  <a:pt x="3493" y="135"/>
                </a:lnTo>
                <a:lnTo>
                  <a:pt x="3318" y="162"/>
                </a:lnTo>
                <a:lnTo>
                  <a:pt x="3143" y="189"/>
                </a:lnTo>
                <a:lnTo>
                  <a:pt x="2968" y="214"/>
                </a:lnTo>
                <a:lnTo>
                  <a:pt x="2793" y="238"/>
                </a:lnTo>
                <a:lnTo>
                  <a:pt x="2627" y="260"/>
                </a:lnTo>
                <a:lnTo>
                  <a:pt x="2452" y="279"/>
                </a:lnTo>
                <a:lnTo>
                  <a:pt x="2295" y="295"/>
                </a:lnTo>
                <a:lnTo>
                  <a:pt x="2212" y="301"/>
                </a:lnTo>
                <a:lnTo>
                  <a:pt x="2138" y="307"/>
                </a:lnTo>
                <a:lnTo>
                  <a:pt x="2065" y="311"/>
                </a:lnTo>
                <a:lnTo>
                  <a:pt x="1991" y="314"/>
                </a:lnTo>
                <a:lnTo>
                  <a:pt x="1844" y="316"/>
                </a:lnTo>
                <a:lnTo>
                  <a:pt x="1705" y="314"/>
                </a:lnTo>
                <a:lnTo>
                  <a:pt x="1558" y="309"/>
                </a:lnTo>
                <a:lnTo>
                  <a:pt x="1420" y="301"/>
                </a:lnTo>
                <a:lnTo>
                  <a:pt x="1272" y="290"/>
                </a:lnTo>
                <a:lnTo>
                  <a:pt x="1134" y="278"/>
                </a:lnTo>
                <a:lnTo>
                  <a:pt x="996" y="264"/>
                </a:lnTo>
                <a:lnTo>
                  <a:pt x="866" y="249"/>
                </a:lnTo>
                <a:lnTo>
                  <a:pt x="608" y="216"/>
                </a:lnTo>
                <a:lnTo>
                  <a:pt x="378" y="185"/>
                </a:lnTo>
                <a:lnTo>
                  <a:pt x="277" y="171"/>
                </a:lnTo>
                <a:lnTo>
                  <a:pt x="175" y="159"/>
                </a:lnTo>
                <a:lnTo>
                  <a:pt x="83" y="148"/>
                </a:lnTo>
                <a:lnTo>
                  <a:pt x="0" y="14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e000f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452680"/>
            <a:ext cx="9147240" cy="1003320"/>
          </a:xfrm>
          <a:custGeom>
            <a:avLst/>
            <a:gdLst/>
            <a:ahLst/>
            <a:rect l="l" t="t" r="r" b="b"/>
            <a:pathLst>
              <a:path w="5762" h="632">
                <a:moveTo>
                  <a:pt x="0" y="218"/>
                </a:moveTo>
                <a:lnTo>
                  <a:pt x="0" y="375"/>
                </a:lnTo>
                <a:lnTo>
                  <a:pt x="46" y="386"/>
                </a:lnTo>
                <a:lnTo>
                  <a:pt x="101" y="400"/>
                </a:lnTo>
                <a:lnTo>
                  <a:pt x="175" y="417"/>
                </a:lnTo>
                <a:lnTo>
                  <a:pt x="249" y="431"/>
                </a:lnTo>
                <a:lnTo>
                  <a:pt x="424" y="466"/>
                </a:lnTo>
                <a:lnTo>
                  <a:pt x="618" y="505"/>
                </a:lnTo>
                <a:lnTo>
                  <a:pt x="811" y="540"/>
                </a:lnTo>
                <a:lnTo>
                  <a:pt x="996" y="571"/>
                </a:lnTo>
                <a:lnTo>
                  <a:pt x="1152" y="596"/>
                </a:lnTo>
                <a:lnTo>
                  <a:pt x="1226" y="606"/>
                </a:lnTo>
                <a:lnTo>
                  <a:pt x="1281" y="613"/>
                </a:lnTo>
                <a:lnTo>
                  <a:pt x="1327" y="620"/>
                </a:lnTo>
                <a:lnTo>
                  <a:pt x="1355" y="624"/>
                </a:lnTo>
                <a:lnTo>
                  <a:pt x="1364" y="627"/>
                </a:lnTo>
                <a:lnTo>
                  <a:pt x="1373" y="631"/>
                </a:lnTo>
                <a:lnTo>
                  <a:pt x="1364" y="631"/>
                </a:lnTo>
                <a:lnTo>
                  <a:pt x="1355" y="627"/>
                </a:lnTo>
                <a:lnTo>
                  <a:pt x="1355" y="617"/>
                </a:lnTo>
                <a:lnTo>
                  <a:pt x="1364" y="610"/>
                </a:lnTo>
                <a:lnTo>
                  <a:pt x="1383" y="603"/>
                </a:lnTo>
                <a:lnTo>
                  <a:pt x="1420" y="592"/>
                </a:lnTo>
                <a:lnTo>
                  <a:pt x="1475" y="578"/>
                </a:lnTo>
                <a:lnTo>
                  <a:pt x="1539" y="564"/>
                </a:lnTo>
                <a:lnTo>
                  <a:pt x="1632" y="550"/>
                </a:lnTo>
                <a:lnTo>
                  <a:pt x="1742" y="529"/>
                </a:lnTo>
                <a:lnTo>
                  <a:pt x="1880" y="505"/>
                </a:lnTo>
                <a:lnTo>
                  <a:pt x="2037" y="473"/>
                </a:lnTo>
                <a:lnTo>
                  <a:pt x="2212" y="438"/>
                </a:lnTo>
                <a:lnTo>
                  <a:pt x="2397" y="400"/>
                </a:lnTo>
                <a:lnTo>
                  <a:pt x="2590" y="361"/>
                </a:lnTo>
                <a:lnTo>
                  <a:pt x="3005" y="281"/>
                </a:lnTo>
                <a:lnTo>
                  <a:pt x="3429" y="203"/>
                </a:lnTo>
                <a:lnTo>
                  <a:pt x="3632" y="172"/>
                </a:lnTo>
                <a:lnTo>
                  <a:pt x="3835" y="140"/>
                </a:lnTo>
                <a:lnTo>
                  <a:pt x="4019" y="116"/>
                </a:lnTo>
                <a:lnTo>
                  <a:pt x="4194" y="98"/>
                </a:lnTo>
                <a:lnTo>
                  <a:pt x="4351" y="88"/>
                </a:lnTo>
                <a:lnTo>
                  <a:pt x="4489" y="84"/>
                </a:lnTo>
                <a:lnTo>
                  <a:pt x="4618" y="91"/>
                </a:lnTo>
                <a:lnTo>
                  <a:pt x="4738" y="105"/>
                </a:lnTo>
                <a:lnTo>
                  <a:pt x="4848" y="130"/>
                </a:lnTo>
                <a:lnTo>
                  <a:pt x="4950" y="161"/>
                </a:lnTo>
                <a:lnTo>
                  <a:pt x="5051" y="196"/>
                </a:lnTo>
                <a:lnTo>
                  <a:pt x="5143" y="235"/>
                </a:lnTo>
                <a:lnTo>
                  <a:pt x="5309" y="326"/>
                </a:lnTo>
                <a:lnTo>
                  <a:pt x="5448" y="414"/>
                </a:lnTo>
                <a:lnTo>
                  <a:pt x="5512" y="456"/>
                </a:lnTo>
                <a:lnTo>
                  <a:pt x="5567" y="491"/>
                </a:lnTo>
                <a:lnTo>
                  <a:pt x="5623" y="522"/>
                </a:lnTo>
                <a:lnTo>
                  <a:pt x="5678" y="550"/>
                </a:lnTo>
                <a:lnTo>
                  <a:pt x="5724" y="568"/>
                </a:lnTo>
                <a:lnTo>
                  <a:pt x="5761" y="575"/>
                </a:lnTo>
                <a:lnTo>
                  <a:pt x="5761" y="203"/>
                </a:lnTo>
                <a:lnTo>
                  <a:pt x="5641" y="172"/>
                </a:lnTo>
                <a:lnTo>
                  <a:pt x="5484" y="133"/>
                </a:lnTo>
                <a:lnTo>
                  <a:pt x="5300" y="98"/>
                </a:lnTo>
                <a:lnTo>
                  <a:pt x="5088" y="63"/>
                </a:lnTo>
                <a:lnTo>
                  <a:pt x="4848" y="32"/>
                </a:lnTo>
                <a:lnTo>
                  <a:pt x="4600" y="11"/>
                </a:lnTo>
                <a:lnTo>
                  <a:pt x="4461" y="4"/>
                </a:lnTo>
                <a:lnTo>
                  <a:pt x="4323" y="0"/>
                </a:lnTo>
                <a:lnTo>
                  <a:pt x="4185" y="0"/>
                </a:lnTo>
                <a:lnTo>
                  <a:pt x="4037" y="4"/>
                </a:lnTo>
                <a:lnTo>
                  <a:pt x="3881" y="14"/>
                </a:lnTo>
                <a:lnTo>
                  <a:pt x="3715" y="28"/>
                </a:lnTo>
                <a:lnTo>
                  <a:pt x="3540" y="49"/>
                </a:lnTo>
                <a:lnTo>
                  <a:pt x="3346" y="74"/>
                </a:lnTo>
                <a:lnTo>
                  <a:pt x="3152" y="102"/>
                </a:lnTo>
                <a:lnTo>
                  <a:pt x="2940" y="133"/>
                </a:lnTo>
                <a:lnTo>
                  <a:pt x="2526" y="203"/>
                </a:lnTo>
                <a:lnTo>
                  <a:pt x="2120" y="270"/>
                </a:lnTo>
                <a:lnTo>
                  <a:pt x="1917" y="302"/>
                </a:lnTo>
                <a:lnTo>
                  <a:pt x="1733" y="330"/>
                </a:lnTo>
                <a:lnTo>
                  <a:pt x="1549" y="358"/>
                </a:lnTo>
                <a:lnTo>
                  <a:pt x="1383" y="379"/>
                </a:lnTo>
                <a:lnTo>
                  <a:pt x="1235" y="393"/>
                </a:lnTo>
                <a:lnTo>
                  <a:pt x="1097" y="403"/>
                </a:lnTo>
                <a:lnTo>
                  <a:pt x="977" y="407"/>
                </a:lnTo>
                <a:lnTo>
                  <a:pt x="866" y="407"/>
                </a:lnTo>
                <a:lnTo>
                  <a:pt x="765" y="403"/>
                </a:lnTo>
                <a:lnTo>
                  <a:pt x="673" y="396"/>
                </a:lnTo>
                <a:lnTo>
                  <a:pt x="516" y="372"/>
                </a:lnTo>
                <a:lnTo>
                  <a:pt x="387" y="337"/>
                </a:lnTo>
                <a:lnTo>
                  <a:pt x="267" y="302"/>
                </a:lnTo>
                <a:lnTo>
                  <a:pt x="175" y="267"/>
                </a:lnTo>
                <a:lnTo>
                  <a:pt x="83" y="239"/>
                </a:lnTo>
                <a:lnTo>
                  <a:pt x="0" y="21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73200" y="1920960"/>
            <a:ext cx="6674040" cy="4940280"/>
          </a:xfrm>
          <a:custGeom>
            <a:avLst/>
            <a:gdLst/>
            <a:ahLst/>
            <a:rect l="l" t="t" r="r" b="b"/>
            <a:pathLst>
              <a:path w="4204" h="3112">
                <a:moveTo>
                  <a:pt x="0" y="3111"/>
                </a:moveTo>
                <a:lnTo>
                  <a:pt x="9" y="3056"/>
                </a:lnTo>
                <a:lnTo>
                  <a:pt x="27" y="2993"/>
                </a:lnTo>
                <a:lnTo>
                  <a:pt x="37" y="2924"/>
                </a:lnTo>
                <a:lnTo>
                  <a:pt x="55" y="2841"/>
                </a:lnTo>
                <a:lnTo>
                  <a:pt x="64" y="2758"/>
                </a:lnTo>
                <a:lnTo>
                  <a:pt x="83" y="2662"/>
                </a:lnTo>
                <a:lnTo>
                  <a:pt x="120" y="2454"/>
                </a:lnTo>
                <a:lnTo>
                  <a:pt x="156" y="2233"/>
                </a:lnTo>
                <a:lnTo>
                  <a:pt x="203" y="1991"/>
                </a:lnTo>
                <a:lnTo>
                  <a:pt x="258" y="1749"/>
                </a:lnTo>
                <a:lnTo>
                  <a:pt x="313" y="1493"/>
                </a:lnTo>
                <a:lnTo>
                  <a:pt x="378" y="1251"/>
                </a:lnTo>
                <a:lnTo>
                  <a:pt x="451" y="1009"/>
                </a:lnTo>
                <a:lnTo>
                  <a:pt x="525" y="781"/>
                </a:lnTo>
                <a:lnTo>
                  <a:pt x="617" y="574"/>
                </a:lnTo>
                <a:lnTo>
                  <a:pt x="663" y="477"/>
                </a:lnTo>
                <a:lnTo>
                  <a:pt x="710" y="394"/>
                </a:lnTo>
                <a:lnTo>
                  <a:pt x="765" y="311"/>
                </a:lnTo>
                <a:lnTo>
                  <a:pt x="820" y="235"/>
                </a:lnTo>
                <a:lnTo>
                  <a:pt x="875" y="173"/>
                </a:lnTo>
                <a:lnTo>
                  <a:pt x="931" y="117"/>
                </a:lnTo>
                <a:lnTo>
                  <a:pt x="995" y="76"/>
                </a:lnTo>
                <a:lnTo>
                  <a:pt x="1060" y="41"/>
                </a:lnTo>
                <a:lnTo>
                  <a:pt x="1134" y="21"/>
                </a:lnTo>
                <a:lnTo>
                  <a:pt x="1207" y="7"/>
                </a:lnTo>
                <a:lnTo>
                  <a:pt x="1290" y="0"/>
                </a:lnTo>
                <a:lnTo>
                  <a:pt x="1373" y="0"/>
                </a:lnTo>
                <a:lnTo>
                  <a:pt x="1465" y="14"/>
                </a:lnTo>
                <a:lnTo>
                  <a:pt x="1567" y="28"/>
                </a:lnTo>
                <a:lnTo>
                  <a:pt x="1770" y="83"/>
                </a:lnTo>
                <a:lnTo>
                  <a:pt x="1991" y="159"/>
                </a:lnTo>
                <a:lnTo>
                  <a:pt x="2221" y="249"/>
                </a:lnTo>
                <a:lnTo>
                  <a:pt x="2461" y="352"/>
                </a:lnTo>
                <a:lnTo>
                  <a:pt x="2701" y="470"/>
                </a:lnTo>
                <a:lnTo>
                  <a:pt x="2931" y="594"/>
                </a:lnTo>
                <a:lnTo>
                  <a:pt x="3161" y="726"/>
                </a:lnTo>
                <a:lnTo>
                  <a:pt x="3383" y="850"/>
                </a:lnTo>
                <a:lnTo>
                  <a:pt x="3585" y="975"/>
                </a:lnTo>
                <a:lnTo>
                  <a:pt x="3779" y="1085"/>
                </a:lnTo>
                <a:lnTo>
                  <a:pt x="3945" y="1189"/>
                </a:lnTo>
                <a:lnTo>
                  <a:pt x="4092" y="1272"/>
                </a:lnTo>
                <a:lnTo>
                  <a:pt x="4203" y="1334"/>
                </a:lnTo>
                <a:lnTo>
                  <a:pt x="4203" y="1777"/>
                </a:lnTo>
                <a:lnTo>
                  <a:pt x="4157" y="1756"/>
                </a:lnTo>
                <a:lnTo>
                  <a:pt x="4092" y="1721"/>
                </a:lnTo>
                <a:lnTo>
                  <a:pt x="4028" y="1687"/>
                </a:lnTo>
                <a:lnTo>
                  <a:pt x="3954" y="1645"/>
                </a:lnTo>
                <a:lnTo>
                  <a:pt x="3797" y="1542"/>
                </a:lnTo>
                <a:lnTo>
                  <a:pt x="3613" y="1417"/>
                </a:lnTo>
                <a:lnTo>
                  <a:pt x="3420" y="1279"/>
                </a:lnTo>
                <a:lnTo>
                  <a:pt x="3207" y="1134"/>
                </a:lnTo>
                <a:lnTo>
                  <a:pt x="2986" y="982"/>
                </a:lnTo>
                <a:lnTo>
                  <a:pt x="2756" y="830"/>
                </a:lnTo>
                <a:lnTo>
                  <a:pt x="2525" y="684"/>
                </a:lnTo>
                <a:lnTo>
                  <a:pt x="2304" y="546"/>
                </a:lnTo>
                <a:lnTo>
                  <a:pt x="2083" y="422"/>
                </a:lnTo>
                <a:lnTo>
                  <a:pt x="1871" y="318"/>
                </a:lnTo>
                <a:lnTo>
                  <a:pt x="1770" y="276"/>
                </a:lnTo>
                <a:lnTo>
                  <a:pt x="1668" y="242"/>
                </a:lnTo>
                <a:lnTo>
                  <a:pt x="1576" y="214"/>
                </a:lnTo>
                <a:lnTo>
                  <a:pt x="1493" y="193"/>
                </a:lnTo>
                <a:lnTo>
                  <a:pt x="1410" y="180"/>
                </a:lnTo>
                <a:lnTo>
                  <a:pt x="1336" y="173"/>
                </a:lnTo>
                <a:lnTo>
                  <a:pt x="1263" y="180"/>
                </a:lnTo>
                <a:lnTo>
                  <a:pt x="1198" y="193"/>
                </a:lnTo>
                <a:lnTo>
                  <a:pt x="1143" y="221"/>
                </a:lnTo>
                <a:lnTo>
                  <a:pt x="1087" y="256"/>
                </a:lnTo>
                <a:lnTo>
                  <a:pt x="1032" y="304"/>
                </a:lnTo>
                <a:lnTo>
                  <a:pt x="986" y="359"/>
                </a:lnTo>
                <a:lnTo>
                  <a:pt x="940" y="429"/>
                </a:lnTo>
                <a:lnTo>
                  <a:pt x="903" y="505"/>
                </a:lnTo>
                <a:lnTo>
                  <a:pt x="866" y="588"/>
                </a:lnTo>
                <a:lnTo>
                  <a:pt x="829" y="677"/>
                </a:lnTo>
                <a:lnTo>
                  <a:pt x="765" y="871"/>
                </a:lnTo>
                <a:lnTo>
                  <a:pt x="700" y="1085"/>
                </a:lnTo>
                <a:lnTo>
                  <a:pt x="654" y="1313"/>
                </a:lnTo>
                <a:lnTo>
                  <a:pt x="608" y="1555"/>
                </a:lnTo>
                <a:lnTo>
                  <a:pt x="571" y="1797"/>
                </a:lnTo>
                <a:lnTo>
                  <a:pt x="544" y="2032"/>
                </a:lnTo>
                <a:lnTo>
                  <a:pt x="507" y="2268"/>
                </a:lnTo>
                <a:lnTo>
                  <a:pt x="479" y="2482"/>
                </a:lnTo>
                <a:lnTo>
                  <a:pt x="451" y="2682"/>
                </a:lnTo>
                <a:lnTo>
                  <a:pt x="433" y="2772"/>
                </a:lnTo>
                <a:lnTo>
                  <a:pt x="415" y="2855"/>
                </a:lnTo>
                <a:lnTo>
                  <a:pt x="405" y="2931"/>
                </a:lnTo>
                <a:lnTo>
                  <a:pt x="387" y="3000"/>
                </a:lnTo>
                <a:lnTo>
                  <a:pt x="368" y="3063"/>
                </a:lnTo>
                <a:lnTo>
                  <a:pt x="350" y="3111"/>
                </a:lnTo>
                <a:lnTo>
                  <a:pt x="0" y="3111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567240"/>
            <a:ext cx="9147240" cy="2789280"/>
          </a:xfrm>
          <a:custGeom>
            <a:avLst/>
            <a:gdLst/>
            <a:ahLst/>
            <a:rect l="l" t="t" r="r" b="b"/>
            <a:pathLst>
              <a:path w="5762" h="1757">
                <a:moveTo>
                  <a:pt x="0" y="728"/>
                </a:moveTo>
                <a:lnTo>
                  <a:pt x="0" y="911"/>
                </a:lnTo>
                <a:lnTo>
                  <a:pt x="55" y="950"/>
                </a:lnTo>
                <a:lnTo>
                  <a:pt x="120" y="1003"/>
                </a:lnTo>
                <a:lnTo>
                  <a:pt x="194" y="1062"/>
                </a:lnTo>
                <a:lnTo>
                  <a:pt x="277" y="1127"/>
                </a:lnTo>
                <a:lnTo>
                  <a:pt x="461" y="1278"/>
                </a:lnTo>
                <a:lnTo>
                  <a:pt x="664" y="1429"/>
                </a:lnTo>
                <a:lnTo>
                  <a:pt x="774" y="1501"/>
                </a:lnTo>
                <a:lnTo>
                  <a:pt x="885" y="1573"/>
                </a:lnTo>
                <a:lnTo>
                  <a:pt x="1005" y="1632"/>
                </a:lnTo>
                <a:lnTo>
                  <a:pt x="1115" y="1684"/>
                </a:lnTo>
                <a:lnTo>
                  <a:pt x="1226" y="1717"/>
                </a:lnTo>
                <a:lnTo>
                  <a:pt x="1337" y="1743"/>
                </a:lnTo>
                <a:lnTo>
                  <a:pt x="1447" y="1756"/>
                </a:lnTo>
                <a:lnTo>
                  <a:pt x="1549" y="1743"/>
                </a:lnTo>
                <a:lnTo>
                  <a:pt x="1604" y="1730"/>
                </a:lnTo>
                <a:lnTo>
                  <a:pt x="1650" y="1710"/>
                </a:lnTo>
                <a:lnTo>
                  <a:pt x="1751" y="1651"/>
                </a:lnTo>
                <a:lnTo>
                  <a:pt x="1853" y="1573"/>
                </a:lnTo>
                <a:lnTo>
                  <a:pt x="1945" y="1475"/>
                </a:lnTo>
                <a:lnTo>
                  <a:pt x="2046" y="1363"/>
                </a:lnTo>
                <a:lnTo>
                  <a:pt x="2138" y="1245"/>
                </a:lnTo>
                <a:lnTo>
                  <a:pt x="2341" y="983"/>
                </a:lnTo>
                <a:lnTo>
                  <a:pt x="2443" y="859"/>
                </a:lnTo>
                <a:lnTo>
                  <a:pt x="2553" y="734"/>
                </a:lnTo>
                <a:lnTo>
                  <a:pt x="2655" y="616"/>
                </a:lnTo>
                <a:lnTo>
                  <a:pt x="2765" y="511"/>
                </a:lnTo>
                <a:lnTo>
                  <a:pt x="2885" y="420"/>
                </a:lnTo>
                <a:lnTo>
                  <a:pt x="3005" y="348"/>
                </a:lnTo>
                <a:lnTo>
                  <a:pt x="3125" y="302"/>
                </a:lnTo>
                <a:lnTo>
                  <a:pt x="3189" y="282"/>
                </a:lnTo>
                <a:lnTo>
                  <a:pt x="3254" y="276"/>
                </a:lnTo>
                <a:lnTo>
                  <a:pt x="3318" y="276"/>
                </a:lnTo>
                <a:lnTo>
                  <a:pt x="3392" y="282"/>
                </a:lnTo>
                <a:lnTo>
                  <a:pt x="3549" y="308"/>
                </a:lnTo>
                <a:lnTo>
                  <a:pt x="3705" y="354"/>
                </a:lnTo>
                <a:lnTo>
                  <a:pt x="3881" y="420"/>
                </a:lnTo>
                <a:lnTo>
                  <a:pt x="4065" y="498"/>
                </a:lnTo>
                <a:lnTo>
                  <a:pt x="4249" y="590"/>
                </a:lnTo>
                <a:lnTo>
                  <a:pt x="4434" y="695"/>
                </a:lnTo>
                <a:lnTo>
                  <a:pt x="4618" y="800"/>
                </a:lnTo>
                <a:lnTo>
                  <a:pt x="4968" y="1009"/>
                </a:lnTo>
                <a:lnTo>
                  <a:pt x="5134" y="1114"/>
                </a:lnTo>
                <a:lnTo>
                  <a:pt x="5291" y="1212"/>
                </a:lnTo>
                <a:lnTo>
                  <a:pt x="5438" y="1298"/>
                </a:lnTo>
                <a:lnTo>
                  <a:pt x="5567" y="1370"/>
                </a:lnTo>
                <a:lnTo>
                  <a:pt x="5669" y="1422"/>
                </a:lnTo>
                <a:lnTo>
                  <a:pt x="5761" y="1461"/>
                </a:lnTo>
                <a:lnTo>
                  <a:pt x="5761" y="1075"/>
                </a:lnTo>
                <a:lnTo>
                  <a:pt x="5678" y="1055"/>
                </a:lnTo>
                <a:lnTo>
                  <a:pt x="5577" y="1016"/>
                </a:lnTo>
                <a:lnTo>
                  <a:pt x="5457" y="957"/>
                </a:lnTo>
                <a:lnTo>
                  <a:pt x="5319" y="885"/>
                </a:lnTo>
                <a:lnTo>
                  <a:pt x="5171" y="800"/>
                </a:lnTo>
                <a:lnTo>
                  <a:pt x="5005" y="701"/>
                </a:lnTo>
                <a:lnTo>
                  <a:pt x="4830" y="603"/>
                </a:lnTo>
                <a:lnTo>
                  <a:pt x="4646" y="498"/>
                </a:lnTo>
                <a:lnTo>
                  <a:pt x="4461" y="400"/>
                </a:lnTo>
                <a:lnTo>
                  <a:pt x="4268" y="302"/>
                </a:lnTo>
                <a:lnTo>
                  <a:pt x="4083" y="210"/>
                </a:lnTo>
                <a:lnTo>
                  <a:pt x="3899" y="131"/>
                </a:lnTo>
                <a:lnTo>
                  <a:pt x="3724" y="72"/>
                </a:lnTo>
                <a:lnTo>
                  <a:pt x="3549" y="27"/>
                </a:lnTo>
                <a:lnTo>
                  <a:pt x="3392" y="7"/>
                </a:lnTo>
                <a:lnTo>
                  <a:pt x="3318" y="0"/>
                </a:lnTo>
                <a:lnTo>
                  <a:pt x="3245" y="7"/>
                </a:lnTo>
                <a:lnTo>
                  <a:pt x="3180" y="20"/>
                </a:lnTo>
                <a:lnTo>
                  <a:pt x="3116" y="40"/>
                </a:lnTo>
                <a:lnTo>
                  <a:pt x="3051" y="66"/>
                </a:lnTo>
                <a:lnTo>
                  <a:pt x="2996" y="92"/>
                </a:lnTo>
                <a:lnTo>
                  <a:pt x="2876" y="177"/>
                </a:lnTo>
                <a:lnTo>
                  <a:pt x="2765" y="276"/>
                </a:lnTo>
                <a:lnTo>
                  <a:pt x="2655" y="387"/>
                </a:lnTo>
                <a:lnTo>
                  <a:pt x="2553" y="518"/>
                </a:lnTo>
                <a:lnTo>
                  <a:pt x="2452" y="649"/>
                </a:lnTo>
                <a:lnTo>
                  <a:pt x="2350" y="787"/>
                </a:lnTo>
                <a:lnTo>
                  <a:pt x="2249" y="924"/>
                </a:lnTo>
                <a:lnTo>
                  <a:pt x="2157" y="1062"/>
                </a:lnTo>
                <a:lnTo>
                  <a:pt x="2056" y="1193"/>
                </a:lnTo>
                <a:lnTo>
                  <a:pt x="1963" y="1304"/>
                </a:lnTo>
                <a:lnTo>
                  <a:pt x="1871" y="1409"/>
                </a:lnTo>
                <a:lnTo>
                  <a:pt x="1770" y="1494"/>
                </a:lnTo>
                <a:lnTo>
                  <a:pt x="1678" y="1553"/>
                </a:lnTo>
                <a:lnTo>
                  <a:pt x="1622" y="1579"/>
                </a:lnTo>
                <a:lnTo>
                  <a:pt x="1576" y="1592"/>
                </a:lnTo>
                <a:lnTo>
                  <a:pt x="1475" y="1606"/>
                </a:lnTo>
                <a:lnTo>
                  <a:pt x="1364" y="1592"/>
                </a:lnTo>
                <a:lnTo>
                  <a:pt x="1254" y="1560"/>
                </a:lnTo>
                <a:lnTo>
                  <a:pt x="1134" y="1507"/>
                </a:lnTo>
                <a:lnTo>
                  <a:pt x="1023" y="1448"/>
                </a:lnTo>
                <a:lnTo>
                  <a:pt x="903" y="1376"/>
                </a:lnTo>
                <a:lnTo>
                  <a:pt x="793" y="1298"/>
                </a:lnTo>
                <a:lnTo>
                  <a:pt x="682" y="1212"/>
                </a:lnTo>
                <a:lnTo>
                  <a:pt x="470" y="1042"/>
                </a:lnTo>
                <a:lnTo>
                  <a:pt x="369" y="963"/>
                </a:lnTo>
                <a:lnTo>
                  <a:pt x="277" y="885"/>
                </a:lnTo>
                <a:lnTo>
                  <a:pt x="194" y="826"/>
                </a:lnTo>
                <a:lnTo>
                  <a:pt x="120" y="773"/>
                </a:lnTo>
                <a:lnTo>
                  <a:pt x="55" y="741"/>
                </a:lnTo>
                <a:lnTo>
                  <a:pt x="0" y="72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654360"/>
            <a:ext cx="5940360" cy="3200400"/>
          </a:xfrm>
          <a:custGeom>
            <a:avLst/>
            <a:gdLst/>
            <a:ahLst/>
            <a:rect l="l" t="t" r="r" b="b"/>
            <a:pathLst>
              <a:path w="3742" h="2016">
                <a:moveTo>
                  <a:pt x="0" y="348"/>
                </a:moveTo>
                <a:lnTo>
                  <a:pt x="0" y="446"/>
                </a:lnTo>
                <a:lnTo>
                  <a:pt x="38" y="453"/>
                </a:lnTo>
                <a:lnTo>
                  <a:pt x="94" y="453"/>
                </a:lnTo>
                <a:lnTo>
                  <a:pt x="170" y="439"/>
                </a:lnTo>
                <a:lnTo>
                  <a:pt x="264" y="418"/>
                </a:lnTo>
                <a:lnTo>
                  <a:pt x="365" y="397"/>
                </a:lnTo>
                <a:lnTo>
                  <a:pt x="478" y="362"/>
                </a:lnTo>
                <a:lnTo>
                  <a:pt x="604" y="334"/>
                </a:lnTo>
                <a:lnTo>
                  <a:pt x="736" y="299"/>
                </a:lnTo>
                <a:lnTo>
                  <a:pt x="1012" y="237"/>
                </a:lnTo>
                <a:lnTo>
                  <a:pt x="1289" y="181"/>
                </a:lnTo>
                <a:lnTo>
                  <a:pt x="1427" y="167"/>
                </a:lnTo>
                <a:lnTo>
                  <a:pt x="1566" y="153"/>
                </a:lnTo>
                <a:lnTo>
                  <a:pt x="1691" y="153"/>
                </a:lnTo>
                <a:lnTo>
                  <a:pt x="1811" y="167"/>
                </a:lnTo>
                <a:lnTo>
                  <a:pt x="1930" y="188"/>
                </a:lnTo>
                <a:lnTo>
                  <a:pt x="2056" y="216"/>
                </a:lnTo>
                <a:lnTo>
                  <a:pt x="2320" y="292"/>
                </a:lnTo>
                <a:lnTo>
                  <a:pt x="2603" y="383"/>
                </a:lnTo>
                <a:lnTo>
                  <a:pt x="2874" y="495"/>
                </a:lnTo>
                <a:lnTo>
                  <a:pt x="3006" y="558"/>
                </a:lnTo>
                <a:lnTo>
                  <a:pt x="3131" y="620"/>
                </a:lnTo>
                <a:lnTo>
                  <a:pt x="3251" y="683"/>
                </a:lnTo>
                <a:lnTo>
                  <a:pt x="3358" y="746"/>
                </a:lnTo>
                <a:lnTo>
                  <a:pt x="3458" y="809"/>
                </a:lnTo>
                <a:lnTo>
                  <a:pt x="3546" y="871"/>
                </a:lnTo>
                <a:lnTo>
                  <a:pt x="3616" y="934"/>
                </a:lnTo>
                <a:lnTo>
                  <a:pt x="3672" y="990"/>
                </a:lnTo>
                <a:lnTo>
                  <a:pt x="3710" y="1053"/>
                </a:lnTo>
                <a:lnTo>
                  <a:pt x="3735" y="1122"/>
                </a:lnTo>
                <a:lnTo>
                  <a:pt x="3741" y="1199"/>
                </a:lnTo>
                <a:lnTo>
                  <a:pt x="3735" y="1283"/>
                </a:lnTo>
                <a:lnTo>
                  <a:pt x="3716" y="1374"/>
                </a:lnTo>
                <a:lnTo>
                  <a:pt x="3685" y="1457"/>
                </a:lnTo>
                <a:lnTo>
                  <a:pt x="3653" y="1548"/>
                </a:lnTo>
                <a:lnTo>
                  <a:pt x="3609" y="1632"/>
                </a:lnTo>
                <a:lnTo>
                  <a:pt x="3572" y="1715"/>
                </a:lnTo>
                <a:lnTo>
                  <a:pt x="3528" y="1792"/>
                </a:lnTo>
                <a:lnTo>
                  <a:pt x="3484" y="1855"/>
                </a:lnTo>
                <a:lnTo>
                  <a:pt x="3446" y="1918"/>
                </a:lnTo>
                <a:lnTo>
                  <a:pt x="3408" y="1959"/>
                </a:lnTo>
                <a:lnTo>
                  <a:pt x="3383" y="1994"/>
                </a:lnTo>
                <a:lnTo>
                  <a:pt x="3364" y="2015"/>
                </a:lnTo>
                <a:lnTo>
                  <a:pt x="3358" y="2015"/>
                </a:lnTo>
                <a:lnTo>
                  <a:pt x="3697" y="767"/>
                </a:lnTo>
                <a:lnTo>
                  <a:pt x="3653" y="704"/>
                </a:lnTo>
                <a:lnTo>
                  <a:pt x="3597" y="641"/>
                </a:lnTo>
                <a:lnTo>
                  <a:pt x="3528" y="578"/>
                </a:lnTo>
                <a:lnTo>
                  <a:pt x="3452" y="516"/>
                </a:lnTo>
                <a:lnTo>
                  <a:pt x="3364" y="453"/>
                </a:lnTo>
                <a:lnTo>
                  <a:pt x="3270" y="397"/>
                </a:lnTo>
                <a:lnTo>
                  <a:pt x="3163" y="341"/>
                </a:lnTo>
                <a:lnTo>
                  <a:pt x="3056" y="286"/>
                </a:lnTo>
                <a:lnTo>
                  <a:pt x="2830" y="188"/>
                </a:lnTo>
                <a:lnTo>
                  <a:pt x="2591" y="111"/>
                </a:lnTo>
                <a:lnTo>
                  <a:pt x="2352" y="48"/>
                </a:lnTo>
                <a:lnTo>
                  <a:pt x="2113" y="7"/>
                </a:lnTo>
                <a:lnTo>
                  <a:pt x="1993" y="0"/>
                </a:lnTo>
                <a:lnTo>
                  <a:pt x="1861" y="0"/>
                </a:lnTo>
                <a:lnTo>
                  <a:pt x="1729" y="7"/>
                </a:lnTo>
                <a:lnTo>
                  <a:pt x="1585" y="20"/>
                </a:lnTo>
                <a:lnTo>
                  <a:pt x="1289" y="69"/>
                </a:lnTo>
                <a:lnTo>
                  <a:pt x="994" y="125"/>
                </a:lnTo>
                <a:lnTo>
                  <a:pt x="698" y="188"/>
                </a:lnTo>
                <a:lnTo>
                  <a:pt x="560" y="223"/>
                </a:lnTo>
                <a:lnTo>
                  <a:pt x="428" y="258"/>
                </a:lnTo>
                <a:lnTo>
                  <a:pt x="308" y="286"/>
                </a:lnTo>
                <a:lnTo>
                  <a:pt x="195" y="313"/>
                </a:lnTo>
                <a:lnTo>
                  <a:pt x="88" y="334"/>
                </a:lnTo>
                <a:lnTo>
                  <a:pt x="0" y="348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sseminated Intravascular Coagul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eat the underlying ca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sseminated Intravascular Coagul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plete deficient fac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F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yoprecipit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le of hepari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e000f"/>
            </a:gs>
            <a:gs pos="50000">
              <a:srgbClr val="660033"/>
            </a:gs>
            <a:gs pos="100000">
              <a:srgbClr val="1e000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1f000f"/>
              </a:gs>
              <a:gs pos="50000">
                <a:srgbClr val="9c004e"/>
              </a:gs>
              <a:gs pos="100000">
                <a:srgbClr val="1f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7240" cy="1965240"/>
          </a:xfrm>
          <a:custGeom>
            <a:avLst/>
            <a:gdLst/>
            <a:ahLst/>
            <a:rect l="l" t="t" r="r" b="b"/>
            <a:pathLst>
              <a:path w="5762" h="1238">
                <a:moveTo>
                  <a:pt x="0" y="0"/>
                </a:moveTo>
                <a:lnTo>
                  <a:pt x="5761" y="0"/>
                </a:lnTo>
                <a:lnTo>
                  <a:pt x="5761" y="878"/>
                </a:lnTo>
                <a:lnTo>
                  <a:pt x="5724" y="889"/>
                </a:lnTo>
                <a:lnTo>
                  <a:pt x="5687" y="897"/>
                </a:lnTo>
                <a:lnTo>
                  <a:pt x="5650" y="902"/>
                </a:lnTo>
                <a:lnTo>
                  <a:pt x="5604" y="906"/>
                </a:lnTo>
                <a:lnTo>
                  <a:pt x="5512" y="908"/>
                </a:lnTo>
                <a:lnTo>
                  <a:pt x="5411" y="904"/>
                </a:lnTo>
                <a:lnTo>
                  <a:pt x="5291" y="895"/>
                </a:lnTo>
                <a:lnTo>
                  <a:pt x="5171" y="880"/>
                </a:lnTo>
                <a:lnTo>
                  <a:pt x="5042" y="863"/>
                </a:lnTo>
                <a:lnTo>
                  <a:pt x="4904" y="844"/>
                </a:lnTo>
                <a:lnTo>
                  <a:pt x="4609" y="805"/>
                </a:lnTo>
                <a:lnTo>
                  <a:pt x="4461" y="788"/>
                </a:lnTo>
                <a:lnTo>
                  <a:pt x="4295" y="770"/>
                </a:lnTo>
                <a:lnTo>
                  <a:pt x="4129" y="760"/>
                </a:lnTo>
                <a:lnTo>
                  <a:pt x="3954" y="753"/>
                </a:lnTo>
                <a:lnTo>
                  <a:pt x="3779" y="753"/>
                </a:lnTo>
                <a:lnTo>
                  <a:pt x="3604" y="760"/>
                </a:lnTo>
                <a:lnTo>
                  <a:pt x="3512" y="766"/>
                </a:lnTo>
                <a:lnTo>
                  <a:pt x="3411" y="777"/>
                </a:lnTo>
                <a:lnTo>
                  <a:pt x="3309" y="788"/>
                </a:lnTo>
                <a:lnTo>
                  <a:pt x="3199" y="801"/>
                </a:lnTo>
                <a:lnTo>
                  <a:pt x="2968" y="835"/>
                </a:lnTo>
                <a:lnTo>
                  <a:pt x="2719" y="874"/>
                </a:lnTo>
                <a:lnTo>
                  <a:pt x="2461" y="917"/>
                </a:lnTo>
                <a:lnTo>
                  <a:pt x="2194" y="964"/>
                </a:lnTo>
                <a:lnTo>
                  <a:pt x="1926" y="1011"/>
                </a:lnTo>
                <a:lnTo>
                  <a:pt x="1668" y="1059"/>
                </a:lnTo>
                <a:lnTo>
                  <a:pt x="1401" y="1104"/>
                </a:lnTo>
                <a:lnTo>
                  <a:pt x="1152" y="1145"/>
                </a:lnTo>
                <a:lnTo>
                  <a:pt x="903" y="1179"/>
                </a:lnTo>
                <a:lnTo>
                  <a:pt x="793" y="1194"/>
                </a:lnTo>
                <a:lnTo>
                  <a:pt x="682" y="1207"/>
                </a:lnTo>
                <a:lnTo>
                  <a:pt x="571" y="1220"/>
                </a:lnTo>
                <a:lnTo>
                  <a:pt x="470" y="1229"/>
                </a:lnTo>
                <a:lnTo>
                  <a:pt x="378" y="1233"/>
                </a:lnTo>
                <a:lnTo>
                  <a:pt x="286" y="1237"/>
                </a:lnTo>
                <a:lnTo>
                  <a:pt x="203" y="1237"/>
                </a:lnTo>
                <a:lnTo>
                  <a:pt x="129" y="1235"/>
                </a:lnTo>
                <a:lnTo>
                  <a:pt x="65" y="1229"/>
                </a:lnTo>
                <a:lnTo>
                  <a:pt x="0" y="121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349280"/>
            <a:ext cx="9147240" cy="5511960"/>
          </a:xfrm>
          <a:custGeom>
            <a:avLst/>
            <a:gdLst/>
            <a:ahLst/>
            <a:rect l="l" t="t" r="r" b="b"/>
            <a:pathLst>
              <a:path w="5762" h="3472">
                <a:moveTo>
                  <a:pt x="0" y="464"/>
                </a:moveTo>
                <a:lnTo>
                  <a:pt x="194" y="477"/>
                </a:lnTo>
                <a:lnTo>
                  <a:pt x="378" y="484"/>
                </a:lnTo>
                <a:lnTo>
                  <a:pt x="562" y="484"/>
                </a:lnTo>
                <a:lnTo>
                  <a:pt x="747" y="470"/>
                </a:lnTo>
                <a:lnTo>
                  <a:pt x="1106" y="436"/>
                </a:lnTo>
                <a:lnTo>
                  <a:pt x="1447" y="388"/>
                </a:lnTo>
                <a:lnTo>
                  <a:pt x="1779" y="325"/>
                </a:lnTo>
                <a:lnTo>
                  <a:pt x="2083" y="263"/>
                </a:lnTo>
                <a:lnTo>
                  <a:pt x="2369" y="201"/>
                </a:lnTo>
                <a:lnTo>
                  <a:pt x="2636" y="152"/>
                </a:lnTo>
                <a:lnTo>
                  <a:pt x="2645" y="152"/>
                </a:lnTo>
                <a:lnTo>
                  <a:pt x="2664" y="146"/>
                </a:lnTo>
                <a:lnTo>
                  <a:pt x="2692" y="146"/>
                </a:lnTo>
                <a:lnTo>
                  <a:pt x="2738" y="139"/>
                </a:lnTo>
                <a:lnTo>
                  <a:pt x="2839" y="125"/>
                </a:lnTo>
                <a:lnTo>
                  <a:pt x="2968" y="104"/>
                </a:lnTo>
                <a:lnTo>
                  <a:pt x="3097" y="83"/>
                </a:lnTo>
                <a:lnTo>
                  <a:pt x="3217" y="70"/>
                </a:lnTo>
                <a:lnTo>
                  <a:pt x="3309" y="56"/>
                </a:lnTo>
                <a:lnTo>
                  <a:pt x="3346" y="49"/>
                </a:lnTo>
                <a:lnTo>
                  <a:pt x="3374" y="42"/>
                </a:lnTo>
                <a:lnTo>
                  <a:pt x="3521" y="21"/>
                </a:lnTo>
                <a:lnTo>
                  <a:pt x="3669" y="7"/>
                </a:lnTo>
                <a:lnTo>
                  <a:pt x="3835" y="0"/>
                </a:lnTo>
                <a:lnTo>
                  <a:pt x="3991" y="7"/>
                </a:lnTo>
                <a:lnTo>
                  <a:pt x="4166" y="21"/>
                </a:lnTo>
                <a:lnTo>
                  <a:pt x="4332" y="35"/>
                </a:lnTo>
                <a:lnTo>
                  <a:pt x="4664" y="83"/>
                </a:lnTo>
                <a:lnTo>
                  <a:pt x="4996" y="139"/>
                </a:lnTo>
                <a:lnTo>
                  <a:pt x="5143" y="166"/>
                </a:lnTo>
                <a:lnTo>
                  <a:pt x="5291" y="187"/>
                </a:lnTo>
                <a:lnTo>
                  <a:pt x="5429" y="208"/>
                </a:lnTo>
                <a:lnTo>
                  <a:pt x="5549" y="229"/>
                </a:lnTo>
                <a:lnTo>
                  <a:pt x="5660" y="235"/>
                </a:lnTo>
                <a:lnTo>
                  <a:pt x="5761" y="242"/>
                </a:lnTo>
                <a:lnTo>
                  <a:pt x="5761" y="3471"/>
                </a:lnTo>
                <a:lnTo>
                  <a:pt x="0" y="3471"/>
                </a:lnTo>
                <a:lnTo>
                  <a:pt x="0" y="3464"/>
                </a:lnTo>
                <a:lnTo>
                  <a:pt x="0" y="3436"/>
                </a:lnTo>
                <a:lnTo>
                  <a:pt x="0" y="3395"/>
                </a:lnTo>
                <a:lnTo>
                  <a:pt x="0" y="3340"/>
                </a:lnTo>
                <a:lnTo>
                  <a:pt x="0" y="3271"/>
                </a:lnTo>
                <a:lnTo>
                  <a:pt x="0" y="3194"/>
                </a:lnTo>
                <a:lnTo>
                  <a:pt x="0" y="3105"/>
                </a:lnTo>
                <a:lnTo>
                  <a:pt x="0" y="3001"/>
                </a:lnTo>
                <a:lnTo>
                  <a:pt x="0" y="2890"/>
                </a:lnTo>
                <a:lnTo>
                  <a:pt x="0" y="2773"/>
                </a:lnTo>
                <a:lnTo>
                  <a:pt x="0" y="2517"/>
                </a:lnTo>
                <a:lnTo>
                  <a:pt x="0" y="2247"/>
                </a:lnTo>
                <a:lnTo>
                  <a:pt x="0" y="1971"/>
                </a:lnTo>
                <a:lnTo>
                  <a:pt x="0" y="1687"/>
                </a:lnTo>
                <a:lnTo>
                  <a:pt x="0" y="1418"/>
                </a:lnTo>
                <a:lnTo>
                  <a:pt x="0" y="1162"/>
                </a:lnTo>
                <a:lnTo>
                  <a:pt x="0" y="1044"/>
                </a:lnTo>
                <a:lnTo>
                  <a:pt x="0" y="934"/>
                </a:lnTo>
                <a:lnTo>
                  <a:pt x="0" y="830"/>
                </a:lnTo>
                <a:lnTo>
                  <a:pt x="0" y="740"/>
                </a:lnTo>
                <a:lnTo>
                  <a:pt x="0" y="664"/>
                </a:lnTo>
                <a:lnTo>
                  <a:pt x="0" y="595"/>
                </a:lnTo>
                <a:lnTo>
                  <a:pt x="0" y="540"/>
                </a:lnTo>
                <a:lnTo>
                  <a:pt x="0" y="498"/>
                </a:lnTo>
                <a:lnTo>
                  <a:pt x="0" y="470"/>
                </a:lnTo>
                <a:lnTo>
                  <a:pt x="0" y="464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28680"/>
            <a:ext cx="9147240" cy="815760"/>
          </a:xfrm>
          <a:custGeom>
            <a:avLst/>
            <a:gdLst/>
            <a:ahLst/>
            <a:rect l="l" t="t" r="r" b="b"/>
            <a:pathLst>
              <a:path w="5762" h="514">
                <a:moveTo>
                  <a:pt x="0" y="140"/>
                </a:moveTo>
                <a:lnTo>
                  <a:pt x="0" y="379"/>
                </a:lnTo>
                <a:lnTo>
                  <a:pt x="65" y="389"/>
                </a:lnTo>
                <a:lnTo>
                  <a:pt x="129" y="397"/>
                </a:lnTo>
                <a:lnTo>
                  <a:pt x="295" y="411"/>
                </a:lnTo>
                <a:lnTo>
                  <a:pt x="489" y="423"/>
                </a:lnTo>
                <a:lnTo>
                  <a:pt x="710" y="432"/>
                </a:lnTo>
                <a:lnTo>
                  <a:pt x="830" y="435"/>
                </a:lnTo>
                <a:lnTo>
                  <a:pt x="959" y="436"/>
                </a:lnTo>
                <a:lnTo>
                  <a:pt x="1088" y="437"/>
                </a:lnTo>
                <a:lnTo>
                  <a:pt x="1217" y="436"/>
                </a:lnTo>
                <a:lnTo>
                  <a:pt x="1355" y="435"/>
                </a:lnTo>
                <a:lnTo>
                  <a:pt x="1493" y="432"/>
                </a:lnTo>
                <a:lnTo>
                  <a:pt x="1632" y="427"/>
                </a:lnTo>
                <a:lnTo>
                  <a:pt x="1770" y="420"/>
                </a:lnTo>
                <a:lnTo>
                  <a:pt x="1844" y="415"/>
                </a:lnTo>
                <a:lnTo>
                  <a:pt x="1917" y="411"/>
                </a:lnTo>
                <a:lnTo>
                  <a:pt x="2083" y="397"/>
                </a:lnTo>
                <a:lnTo>
                  <a:pt x="2258" y="379"/>
                </a:lnTo>
                <a:lnTo>
                  <a:pt x="2433" y="360"/>
                </a:lnTo>
                <a:lnTo>
                  <a:pt x="2627" y="338"/>
                </a:lnTo>
                <a:lnTo>
                  <a:pt x="2821" y="315"/>
                </a:lnTo>
                <a:lnTo>
                  <a:pt x="3208" y="266"/>
                </a:lnTo>
                <a:lnTo>
                  <a:pt x="3401" y="243"/>
                </a:lnTo>
                <a:lnTo>
                  <a:pt x="3595" y="221"/>
                </a:lnTo>
                <a:lnTo>
                  <a:pt x="3779" y="200"/>
                </a:lnTo>
                <a:lnTo>
                  <a:pt x="3964" y="183"/>
                </a:lnTo>
                <a:lnTo>
                  <a:pt x="4129" y="169"/>
                </a:lnTo>
                <a:lnTo>
                  <a:pt x="4212" y="163"/>
                </a:lnTo>
                <a:lnTo>
                  <a:pt x="4295" y="159"/>
                </a:lnTo>
                <a:lnTo>
                  <a:pt x="4369" y="155"/>
                </a:lnTo>
                <a:lnTo>
                  <a:pt x="4443" y="153"/>
                </a:lnTo>
                <a:lnTo>
                  <a:pt x="4507" y="152"/>
                </a:lnTo>
                <a:lnTo>
                  <a:pt x="4572" y="153"/>
                </a:lnTo>
                <a:lnTo>
                  <a:pt x="4636" y="155"/>
                </a:lnTo>
                <a:lnTo>
                  <a:pt x="4692" y="160"/>
                </a:lnTo>
                <a:lnTo>
                  <a:pt x="4747" y="165"/>
                </a:lnTo>
                <a:lnTo>
                  <a:pt x="4802" y="172"/>
                </a:lnTo>
                <a:lnTo>
                  <a:pt x="4858" y="182"/>
                </a:lnTo>
                <a:lnTo>
                  <a:pt x="4913" y="192"/>
                </a:lnTo>
                <a:lnTo>
                  <a:pt x="4959" y="204"/>
                </a:lnTo>
                <a:lnTo>
                  <a:pt x="5005" y="215"/>
                </a:lnTo>
                <a:lnTo>
                  <a:pt x="5097" y="243"/>
                </a:lnTo>
                <a:lnTo>
                  <a:pt x="5190" y="274"/>
                </a:lnTo>
                <a:lnTo>
                  <a:pt x="5263" y="307"/>
                </a:lnTo>
                <a:lnTo>
                  <a:pt x="5337" y="339"/>
                </a:lnTo>
                <a:lnTo>
                  <a:pt x="5411" y="373"/>
                </a:lnTo>
                <a:lnTo>
                  <a:pt x="5475" y="404"/>
                </a:lnTo>
                <a:lnTo>
                  <a:pt x="5531" y="433"/>
                </a:lnTo>
                <a:lnTo>
                  <a:pt x="5586" y="459"/>
                </a:lnTo>
                <a:lnTo>
                  <a:pt x="5604" y="471"/>
                </a:lnTo>
                <a:lnTo>
                  <a:pt x="5632" y="481"/>
                </a:lnTo>
                <a:lnTo>
                  <a:pt x="5660" y="491"/>
                </a:lnTo>
                <a:lnTo>
                  <a:pt x="5678" y="499"/>
                </a:lnTo>
                <a:lnTo>
                  <a:pt x="5696" y="504"/>
                </a:lnTo>
                <a:lnTo>
                  <a:pt x="5724" y="509"/>
                </a:lnTo>
                <a:lnTo>
                  <a:pt x="5743" y="511"/>
                </a:lnTo>
                <a:lnTo>
                  <a:pt x="5761" y="513"/>
                </a:lnTo>
                <a:lnTo>
                  <a:pt x="5761" y="140"/>
                </a:lnTo>
                <a:lnTo>
                  <a:pt x="5678" y="109"/>
                </a:lnTo>
                <a:lnTo>
                  <a:pt x="5577" y="80"/>
                </a:lnTo>
                <a:lnTo>
                  <a:pt x="5457" y="53"/>
                </a:lnTo>
                <a:lnTo>
                  <a:pt x="5392" y="41"/>
                </a:lnTo>
                <a:lnTo>
                  <a:pt x="5319" y="30"/>
                </a:lnTo>
                <a:lnTo>
                  <a:pt x="5245" y="21"/>
                </a:lnTo>
                <a:lnTo>
                  <a:pt x="5162" y="14"/>
                </a:lnTo>
                <a:lnTo>
                  <a:pt x="5079" y="7"/>
                </a:lnTo>
                <a:lnTo>
                  <a:pt x="4987" y="2"/>
                </a:lnTo>
                <a:lnTo>
                  <a:pt x="4885" y="0"/>
                </a:lnTo>
                <a:lnTo>
                  <a:pt x="4784" y="0"/>
                </a:lnTo>
                <a:lnTo>
                  <a:pt x="4673" y="1"/>
                </a:lnTo>
                <a:lnTo>
                  <a:pt x="4563" y="6"/>
                </a:lnTo>
                <a:lnTo>
                  <a:pt x="4498" y="9"/>
                </a:lnTo>
                <a:lnTo>
                  <a:pt x="4434" y="14"/>
                </a:lnTo>
                <a:lnTo>
                  <a:pt x="4369" y="20"/>
                </a:lnTo>
                <a:lnTo>
                  <a:pt x="4305" y="27"/>
                </a:lnTo>
                <a:lnTo>
                  <a:pt x="4157" y="43"/>
                </a:lnTo>
                <a:lnTo>
                  <a:pt x="4000" y="63"/>
                </a:lnTo>
                <a:lnTo>
                  <a:pt x="3835" y="86"/>
                </a:lnTo>
                <a:lnTo>
                  <a:pt x="3669" y="110"/>
                </a:lnTo>
                <a:lnTo>
                  <a:pt x="3493" y="135"/>
                </a:lnTo>
                <a:lnTo>
                  <a:pt x="3318" y="162"/>
                </a:lnTo>
                <a:lnTo>
                  <a:pt x="3143" y="189"/>
                </a:lnTo>
                <a:lnTo>
                  <a:pt x="2968" y="214"/>
                </a:lnTo>
                <a:lnTo>
                  <a:pt x="2793" y="238"/>
                </a:lnTo>
                <a:lnTo>
                  <a:pt x="2627" y="260"/>
                </a:lnTo>
                <a:lnTo>
                  <a:pt x="2452" y="279"/>
                </a:lnTo>
                <a:lnTo>
                  <a:pt x="2295" y="295"/>
                </a:lnTo>
                <a:lnTo>
                  <a:pt x="2212" y="301"/>
                </a:lnTo>
                <a:lnTo>
                  <a:pt x="2138" y="307"/>
                </a:lnTo>
                <a:lnTo>
                  <a:pt x="2065" y="311"/>
                </a:lnTo>
                <a:lnTo>
                  <a:pt x="1991" y="314"/>
                </a:lnTo>
                <a:lnTo>
                  <a:pt x="1844" y="316"/>
                </a:lnTo>
                <a:lnTo>
                  <a:pt x="1705" y="314"/>
                </a:lnTo>
                <a:lnTo>
                  <a:pt x="1558" y="309"/>
                </a:lnTo>
                <a:lnTo>
                  <a:pt x="1420" y="301"/>
                </a:lnTo>
                <a:lnTo>
                  <a:pt x="1272" y="290"/>
                </a:lnTo>
                <a:lnTo>
                  <a:pt x="1134" y="278"/>
                </a:lnTo>
                <a:lnTo>
                  <a:pt x="996" y="264"/>
                </a:lnTo>
                <a:lnTo>
                  <a:pt x="866" y="249"/>
                </a:lnTo>
                <a:lnTo>
                  <a:pt x="608" y="216"/>
                </a:lnTo>
                <a:lnTo>
                  <a:pt x="378" y="185"/>
                </a:lnTo>
                <a:lnTo>
                  <a:pt x="277" y="171"/>
                </a:lnTo>
                <a:lnTo>
                  <a:pt x="175" y="159"/>
                </a:lnTo>
                <a:lnTo>
                  <a:pt x="83" y="148"/>
                </a:lnTo>
                <a:lnTo>
                  <a:pt x="0" y="14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e000f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452680"/>
            <a:ext cx="9147240" cy="1003320"/>
          </a:xfrm>
          <a:custGeom>
            <a:avLst/>
            <a:gdLst/>
            <a:ahLst/>
            <a:rect l="l" t="t" r="r" b="b"/>
            <a:pathLst>
              <a:path w="5762" h="632">
                <a:moveTo>
                  <a:pt x="0" y="218"/>
                </a:moveTo>
                <a:lnTo>
                  <a:pt x="0" y="375"/>
                </a:lnTo>
                <a:lnTo>
                  <a:pt x="46" y="386"/>
                </a:lnTo>
                <a:lnTo>
                  <a:pt x="101" y="400"/>
                </a:lnTo>
                <a:lnTo>
                  <a:pt x="175" y="417"/>
                </a:lnTo>
                <a:lnTo>
                  <a:pt x="249" y="431"/>
                </a:lnTo>
                <a:lnTo>
                  <a:pt x="424" y="466"/>
                </a:lnTo>
                <a:lnTo>
                  <a:pt x="618" y="505"/>
                </a:lnTo>
                <a:lnTo>
                  <a:pt x="811" y="540"/>
                </a:lnTo>
                <a:lnTo>
                  <a:pt x="996" y="571"/>
                </a:lnTo>
                <a:lnTo>
                  <a:pt x="1152" y="596"/>
                </a:lnTo>
                <a:lnTo>
                  <a:pt x="1226" y="606"/>
                </a:lnTo>
                <a:lnTo>
                  <a:pt x="1281" y="613"/>
                </a:lnTo>
                <a:lnTo>
                  <a:pt x="1327" y="620"/>
                </a:lnTo>
                <a:lnTo>
                  <a:pt x="1355" y="624"/>
                </a:lnTo>
                <a:lnTo>
                  <a:pt x="1364" y="627"/>
                </a:lnTo>
                <a:lnTo>
                  <a:pt x="1373" y="631"/>
                </a:lnTo>
                <a:lnTo>
                  <a:pt x="1364" y="631"/>
                </a:lnTo>
                <a:lnTo>
                  <a:pt x="1355" y="627"/>
                </a:lnTo>
                <a:lnTo>
                  <a:pt x="1355" y="617"/>
                </a:lnTo>
                <a:lnTo>
                  <a:pt x="1364" y="610"/>
                </a:lnTo>
                <a:lnTo>
                  <a:pt x="1383" y="603"/>
                </a:lnTo>
                <a:lnTo>
                  <a:pt x="1420" y="592"/>
                </a:lnTo>
                <a:lnTo>
                  <a:pt x="1475" y="578"/>
                </a:lnTo>
                <a:lnTo>
                  <a:pt x="1539" y="564"/>
                </a:lnTo>
                <a:lnTo>
                  <a:pt x="1632" y="550"/>
                </a:lnTo>
                <a:lnTo>
                  <a:pt x="1742" y="529"/>
                </a:lnTo>
                <a:lnTo>
                  <a:pt x="1880" y="505"/>
                </a:lnTo>
                <a:lnTo>
                  <a:pt x="2037" y="473"/>
                </a:lnTo>
                <a:lnTo>
                  <a:pt x="2212" y="438"/>
                </a:lnTo>
                <a:lnTo>
                  <a:pt x="2397" y="400"/>
                </a:lnTo>
                <a:lnTo>
                  <a:pt x="2590" y="361"/>
                </a:lnTo>
                <a:lnTo>
                  <a:pt x="3005" y="281"/>
                </a:lnTo>
                <a:lnTo>
                  <a:pt x="3429" y="203"/>
                </a:lnTo>
                <a:lnTo>
                  <a:pt x="3632" y="172"/>
                </a:lnTo>
                <a:lnTo>
                  <a:pt x="3835" y="140"/>
                </a:lnTo>
                <a:lnTo>
                  <a:pt x="4019" y="116"/>
                </a:lnTo>
                <a:lnTo>
                  <a:pt x="4194" y="98"/>
                </a:lnTo>
                <a:lnTo>
                  <a:pt x="4351" y="88"/>
                </a:lnTo>
                <a:lnTo>
                  <a:pt x="4489" y="84"/>
                </a:lnTo>
                <a:lnTo>
                  <a:pt x="4618" y="91"/>
                </a:lnTo>
                <a:lnTo>
                  <a:pt x="4738" y="105"/>
                </a:lnTo>
                <a:lnTo>
                  <a:pt x="4848" y="130"/>
                </a:lnTo>
                <a:lnTo>
                  <a:pt x="4950" y="161"/>
                </a:lnTo>
                <a:lnTo>
                  <a:pt x="5051" y="196"/>
                </a:lnTo>
                <a:lnTo>
                  <a:pt x="5143" y="235"/>
                </a:lnTo>
                <a:lnTo>
                  <a:pt x="5309" y="326"/>
                </a:lnTo>
                <a:lnTo>
                  <a:pt x="5448" y="414"/>
                </a:lnTo>
                <a:lnTo>
                  <a:pt x="5512" y="456"/>
                </a:lnTo>
                <a:lnTo>
                  <a:pt x="5567" y="491"/>
                </a:lnTo>
                <a:lnTo>
                  <a:pt x="5623" y="522"/>
                </a:lnTo>
                <a:lnTo>
                  <a:pt x="5678" y="550"/>
                </a:lnTo>
                <a:lnTo>
                  <a:pt x="5724" y="568"/>
                </a:lnTo>
                <a:lnTo>
                  <a:pt x="5761" y="575"/>
                </a:lnTo>
                <a:lnTo>
                  <a:pt x="5761" y="203"/>
                </a:lnTo>
                <a:lnTo>
                  <a:pt x="5641" y="172"/>
                </a:lnTo>
                <a:lnTo>
                  <a:pt x="5484" y="133"/>
                </a:lnTo>
                <a:lnTo>
                  <a:pt x="5300" y="98"/>
                </a:lnTo>
                <a:lnTo>
                  <a:pt x="5088" y="63"/>
                </a:lnTo>
                <a:lnTo>
                  <a:pt x="4848" y="32"/>
                </a:lnTo>
                <a:lnTo>
                  <a:pt x="4600" y="11"/>
                </a:lnTo>
                <a:lnTo>
                  <a:pt x="4461" y="4"/>
                </a:lnTo>
                <a:lnTo>
                  <a:pt x="4323" y="0"/>
                </a:lnTo>
                <a:lnTo>
                  <a:pt x="4185" y="0"/>
                </a:lnTo>
                <a:lnTo>
                  <a:pt x="4037" y="4"/>
                </a:lnTo>
                <a:lnTo>
                  <a:pt x="3881" y="14"/>
                </a:lnTo>
                <a:lnTo>
                  <a:pt x="3715" y="28"/>
                </a:lnTo>
                <a:lnTo>
                  <a:pt x="3540" y="49"/>
                </a:lnTo>
                <a:lnTo>
                  <a:pt x="3346" y="74"/>
                </a:lnTo>
                <a:lnTo>
                  <a:pt x="3152" y="102"/>
                </a:lnTo>
                <a:lnTo>
                  <a:pt x="2940" y="133"/>
                </a:lnTo>
                <a:lnTo>
                  <a:pt x="2526" y="203"/>
                </a:lnTo>
                <a:lnTo>
                  <a:pt x="2120" y="270"/>
                </a:lnTo>
                <a:lnTo>
                  <a:pt x="1917" y="302"/>
                </a:lnTo>
                <a:lnTo>
                  <a:pt x="1733" y="330"/>
                </a:lnTo>
                <a:lnTo>
                  <a:pt x="1549" y="358"/>
                </a:lnTo>
                <a:lnTo>
                  <a:pt x="1383" y="379"/>
                </a:lnTo>
                <a:lnTo>
                  <a:pt x="1235" y="393"/>
                </a:lnTo>
                <a:lnTo>
                  <a:pt x="1097" y="403"/>
                </a:lnTo>
                <a:lnTo>
                  <a:pt x="977" y="407"/>
                </a:lnTo>
                <a:lnTo>
                  <a:pt x="866" y="407"/>
                </a:lnTo>
                <a:lnTo>
                  <a:pt x="765" y="403"/>
                </a:lnTo>
                <a:lnTo>
                  <a:pt x="673" y="396"/>
                </a:lnTo>
                <a:lnTo>
                  <a:pt x="516" y="372"/>
                </a:lnTo>
                <a:lnTo>
                  <a:pt x="387" y="337"/>
                </a:lnTo>
                <a:lnTo>
                  <a:pt x="267" y="302"/>
                </a:lnTo>
                <a:lnTo>
                  <a:pt x="175" y="267"/>
                </a:lnTo>
                <a:lnTo>
                  <a:pt x="83" y="239"/>
                </a:lnTo>
                <a:lnTo>
                  <a:pt x="0" y="21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73200" y="1920960"/>
            <a:ext cx="6674040" cy="4940280"/>
          </a:xfrm>
          <a:custGeom>
            <a:avLst/>
            <a:gdLst/>
            <a:ahLst/>
            <a:rect l="l" t="t" r="r" b="b"/>
            <a:pathLst>
              <a:path w="4204" h="3112">
                <a:moveTo>
                  <a:pt x="0" y="3111"/>
                </a:moveTo>
                <a:lnTo>
                  <a:pt x="9" y="3056"/>
                </a:lnTo>
                <a:lnTo>
                  <a:pt x="27" y="2993"/>
                </a:lnTo>
                <a:lnTo>
                  <a:pt x="37" y="2924"/>
                </a:lnTo>
                <a:lnTo>
                  <a:pt x="55" y="2841"/>
                </a:lnTo>
                <a:lnTo>
                  <a:pt x="64" y="2758"/>
                </a:lnTo>
                <a:lnTo>
                  <a:pt x="83" y="2662"/>
                </a:lnTo>
                <a:lnTo>
                  <a:pt x="120" y="2454"/>
                </a:lnTo>
                <a:lnTo>
                  <a:pt x="156" y="2233"/>
                </a:lnTo>
                <a:lnTo>
                  <a:pt x="203" y="1991"/>
                </a:lnTo>
                <a:lnTo>
                  <a:pt x="258" y="1749"/>
                </a:lnTo>
                <a:lnTo>
                  <a:pt x="313" y="1493"/>
                </a:lnTo>
                <a:lnTo>
                  <a:pt x="378" y="1251"/>
                </a:lnTo>
                <a:lnTo>
                  <a:pt x="451" y="1009"/>
                </a:lnTo>
                <a:lnTo>
                  <a:pt x="525" y="781"/>
                </a:lnTo>
                <a:lnTo>
                  <a:pt x="617" y="574"/>
                </a:lnTo>
                <a:lnTo>
                  <a:pt x="663" y="477"/>
                </a:lnTo>
                <a:lnTo>
                  <a:pt x="710" y="394"/>
                </a:lnTo>
                <a:lnTo>
                  <a:pt x="765" y="311"/>
                </a:lnTo>
                <a:lnTo>
                  <a:pt x="820" y="235"/>
                </a:lnTo>
                <a:lnTo>
                  <a:pt x="875" y="173"/>
                </a:lnTo>
                <a:lnTo>
                  <a:pt x="931" y="117"/>
                </a:lnTo>
                <a:lnTo>
                  <a:pt x="995" y="76"/>
                </a:lnTo>
                <a:lnTo>
                  <a:pt x="1060" y="41"/>
                </a:lnTo>
                <a:lnTo>
                  <a:pt x="1134" y="21"/>
                </a:lnTo>
                <a:lnTo>
                  <a:pt x="1207" y="7"/>
                </a:lnTo>
                <a:lnTo>
                  <a:pt x="1290" y="0"/>
                </a:lnTo>
                <a:lnTo>
                  <a:pt x="1373" y="0"/>
                </a:lnTo>
                <a:lnTo>
                  <a:pt x="1465" y="14"/>
                </a:lnTo>
                <a:lnTo>
                  <a:pt x="1567" y="28"/>
                </a:lnTo>
                <a:lnTo>
                  <a:pt x="1770" y="83"/>
                </a:lnTo>
                <a:lnTo>
                  <a:pt x="1991" y="159"/>
                </a:lnTo>
                <a:lnTo>
                  <a:pt x="2221" y="249"/>
                </a:lnTo>
                <a:lnTo>
                  <a:pt x="2461" y="352"/>
                </a:lnTo>
                <a:lnTo>
                  <a:pt x="2701" y="470"/>
                </a:lnTo>
                <a:lnTo>
                  <a:pt x="2931" y="594"/>
                </a:lnTo>
                <a:lnTo>
                  <a:pt x="3161" y="726"/>
                </a:lnTo>
                <a:lnTo>
                  <a:pt x="3383" y="850"/>
                </a:lnTo>
                <a:lnTo>
                  <a:pt x="3585" y="975"/>
                </a:lnTo>
                <a:lnTo>
                  <a:pt x="3779" y="1085"/>
                </a:lnTo>
                <a:lnTo>
                  <a:pt x="3945" y="1189"/>
                </a:lnTo>
                <a:lnTo>
                  <a:pt x="4092" y="1272"/>
                </a:lnTo>
                <a:lnTo>
                  <a:pt x="4203" y="1334"/>
                </a:lnTo>
                <a:lnTo>
                  <a:pt x="4203" y="1777"/>
                </a:lnTo>
                <a:lnTo>
                  <a:pt x="4157" y="1756"/>
                </a:lnTo>
                <a:lnTo>
                  <a:pt x="4092" y="1721"/>
                </a:lnTo>
                <a:lnTo>
                  <a:pt x="4028" y="1687"/>
                </a:lnTo>
                <a:lnTo>
                  <a:pt x="3954" y="1645"/>
                </a:lnTo>
                <a:lnTo>
                  <a:pt x="3797" y="1542"/>
                </a:lnTo>
                <a:lnTo>
                  <a:pt x="3613" y="1417"/>
                </a:lnTo>
                <a:lnTo>
                  <a:pt x="3420" y="1279"/>
                </a:lnTo>
                <a:lnTo>
                  <a:pt x="3207" y="1134"/>
                </a:lnTo>
                <a:lnTo>
                  <a:pt x="2986" y="982"/>
                </a:lnTo>
                <a:lnTo>
                  <a:pt x="2756" y="830"/>
                </a:lnTo>
                <a:lnTo>
                  <a:pt x="2525" y="684"/>
                </a:lnTo>
                <a:lnTo>
                  <a:pt x="2304" y="546"/>
                </a:lnTo>
                <a:lnTo>
                  <a:pt x="2083" y="422"/>
                </a:lnTo>
                <a:lnTo>
                  <a:pt x="1871" y="318"/>
                </a:lnTo>
                <a:lnTo>
                  <a:pt x="1770" y="276"/>
                </a:lnTo>
                <a:lnTo>
                  <a:pt x="1668" y="242"/>
                </a:lnTo>
                <a:lnTo>
                  <a:pt x="1576" y="214"/>
                </a:lnTo>
                <a:lnTo>
                  <a:pt x="1493" y="193"/>
                </a:lnTo>
                <a:lnTo>
                  <a:pt x="1410" y="180"/>
                </a:lnTo>
                <a:lnTo>
                  <a:pt x="1336" y="173"/>
                </a:lnTo>
                <a:lnTo>
                  <a:pt x="1263" y="180"/>
                </a:lnTo>
                <a:lnTo>
                  <a:pt x="1198" y="193"/>
                </a:lnTo>
                <a:lnTo>
                  <a:pt x="1143" y="221"/>
                </a:lnTo>
                <a:lnTo>
                  <a:pt x="1087" y="256"/>
                </a:lnTo>
                <a:lnTo>
                  <a:pt x="1032" y="304"/>
                </a:lnTo>
                <a:lnTo>
                  <a:pt x="986" y="359"/>
                </a:lnTo>
                <a:lnTo>
                  <a:pt x="940" y="429"/>
                </a:lnTo>
                <a:lnTo>
                  <a:pt x="903" y="505"/>
                </a:lnTo>
                <a:lnTo>
                  <a:pt x="866" y="588"/>
                </a:lnTo>
                <a:lnTo>
                  <a:pt x="829" y="677"/>
                </a:lnTo>
                <a:lnTo>
                  <a:pt x="765" y="871"/>
                </a:lnTo>
                <a:lnTo>
                  <a:pt x="700" y="1085"/>
                </a:lnTo>
                <a:lnTo>
                  <a:pt x="654" y="1313"/>
                </a:lnTo>
                <a:lnTo>
                  <a:pt x="608" y="1555"/>
                </a:lnTo>
                <a:lnTo>
                  <a:pt x="571" y="1797"/>
                </a:lnTo>
                <a:lnTo>
                  <a:pt x="544" y="2032"/>
                </a:lnTo>
                <a:lnTo>
                  <a:pt x="507" y="2268"/>
                </a:lnTo>
                <a:lnTo>
                  <a:pt x="479" y="2482"/>
                </a:lnTo>
                <a:lnTo>
                  <a:pt x="451" y="2682"/>
                </a:lnTo>
                <a:lnTo>
                  <a:pt x="433" y="2772"/>
                </a:lnTo>
                <a:lnTo>
                  <a:pt x="415" y="2855"/>
                </a:lnTo>
                <a:lnTo>
                  <a:pt x="405" y="2931"/>
                </a:lnTo>
                <a:lnTo>
                  <a:pt x="387" y="3000"/>
                </a:lnTo>
                <a:lnTo>
                  <a:pt x="368" y="3063"/>
                </a:lnTo>
                <a:lnTo>
                  <a:pt x="350" y="3111"/>
                </a:lnTo>
                <a:lnTo>
                  <a:pt x="0" y="3111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567240"/>
            <a:ext cx="9147240" cy="2789280"/>
          </a:xfrm>
          <a:custGeom>
            <a:avLst/>
            <a:gdLst/>
            <a:ahLst/>
            <a:rect l="l" t="t" r="r" b="b"/>
            <a:pathLst>
              <a:path w="5762" h="1757">
                <a:moveTo>
                  <a:pt x="0" y="728"/>
                </a:moveTo>
                <a:lnTo>
                  <a:pt x="0" y="911"/>
                </a:lnTo>
                <a:lnTo>
                  <a:pt x="55" y="950"/>
                </a:lnTo>
                <a:lnTo>
                  <a:pt x="120" y="1003"/>
                </a:lnTo>
                <a:lnTo>
                  <a:pt x="194" y="1062"/>
                </a:lnTo>
                <a:lnTo>
                  <a:pt x="277" y="1127"/>
                </a:lnTo>
                <a:lnTo>
                  <a:pt x="461" y="1278"/>
                </a:lnTo>
                <a:lnTo>
                  <a:pt x="664" y="1429"/>
                </a:lnTo>
                <a:lnTo>
                  <a:pt x="774" y="1501"/>
                </a:lnTo>
                <a:lnTo>
                  <a:pt x="885" y="1573"/>
                </a:lnTo>
                <a:lnTo>
                  <a:pt x="1005" y="1632"/>
                </a:lnTo>
                <a:lnTo>
                  <a:pt x="1115" y="1684"/>
                </a:lnTo>
                <a:lnTo>
                  <a:pt x="1226" y="1717"/>
                </a:lnTo>
                <a:lnTo>
                  <a:pt x="1337" y="1743"/>
                </a:lnTo>
                <a:lnTo>
                  <a:pt x="1447" y="1756"/>
                </a:lnTo>
                <a:lnTo>
                  <a:pt x="1549" y="1743"/>
                </a:lnTo>
                <a:lnTo>
                  <a:pt x="1604" y="1730"/>
                </a:lnTo>
                <a:lnTo>
                  <a:pt x="1650" y="1710"/>
                </a:lnTo>
                <a:lnTo>
                  <a:pt x="1751" y="1651"/>
                </a:lnTo>
                <a:lnTo>
                  <a:pt x="1853" y="1573"/>
                </a:lnTo>
                <a:lnTo>
                  <a:pt x="1945" y="1475"/>
                </a:lnTo>
                <a:lnTo>
                  <a:pt x="2046" y="1363"/>
                </a:lnTo>
                <a:lnTo>
                  <a:pt x="2138" y="1245"/>
                </a:lnTo>
                <a:lnTo>
                  <a:pt x="2341" y="983"/>
                </a:lnTo>
                <a:lnTo>
                  <a:pt x="2443" y="859"/>
                </a:lnTo>
                <a:lnTo>
                  <a:pt x="2553" y="734"/>
                </a:lnTo>
                <a:lnTo>
                  <a:pt x="2655" y="616"/>
                </a:lnTo>
                <a:lnTo>
                  <a:pt x="2765" y="511"/>
                </a:lnTo>
                <a:lnTo>
                  <a:pt x="2885" y="420"/>
                </a:lnTo>
                <a:lnTo>
                  <a:pt x="3005" y="348"/>
                </a:lnTo>
                <a:lnTo>
                  <a:pt x="3125" y="302"/>
                </a:lnTo>
                <a:lnTo>
                  <a:pt x="3189" y="282"/>
                </a:lnTo>
                <a:lnTo>
                  <a:pt x="3254" y="276"/>
                </a:lnTo>
                <a:lnTo>
                  <a:pt x="3318" y="276"/>
                </a:lnTo>
                <a:lnTo>
                  <a:pt x="3392" y="282"/>
                </a:lnTo>
                <a:lnTo>
                  <a:pt x="3549" y="308"/>
                </a:lnTo>
                <a:lnTo>
                  <a:pt x="3705" y="354"/>
                </a:lnTo>
                <a:lnTo>
                  <a:pt x="3881" y="420"/>
                </a:lnTo>
                <a:lnTo>
                  <a:pt x="4065" y="498"/>
                </a:lnTo>
                <a:lnTo>
                  <a:pt x="4249" y="590"/>
                </a:lnTo>
                <a:lnTo>
                  <a:pt x="4434" y="695"/>
                </a:lnTo>
                <a:lnTo>
                  <a:pt x="4618" y="800"/>
                </a:lnTo>
                <a:lnTo>
                  <a:pt x="4968" y="1009"/>
                </a:lnTo>
                <a:lnTo>
                  <a:pt x="5134" y="1114"/>
                </a:lnTo>
                <a:lnTo>
                  <a:pt x="5291" y="1212"/>
                </a:lnTo>
                <a:lnTo>
                  <a:pt x="5438" y="1298"/>
                </a:lnTo>
                <a:lnTo>
                  <a:pt x="5567" y="1370"/>
                </a:lnTo>
                <a:lnTo>
                  <a:pt x="5669" y="1422"/>
                </a:lnTo>
                <a:lnTo>
                  <a:pt x="5761" y="1461"/>
                </a:lnTo>
                <a:lnTo>
                  <a:pt x="5761" y="1075"/>
                </a:lnTo>
                <a:lnTo>
                  <a:pt x="5678" y="1055"/>
                </a:lnTo>
                <a:lnTo>
                  <a:pt x="5577" y="1016"/>
                </a:lnTo>
                <a:lnTo>
                  <a:pt x="5457" y="957"/>
                </a:lnTo>
                <a:lnTo>
                  <a:pt x="5319" y="885"/>
                </a:lnTo>
                <a:lnTo>
                  <a:pt x="5171" y="800"/>
                </a:lnTo>
                <a:lnTo>
                  <a:pt x="5005" y="701"/>
                </a:lnTo>
                <a:lnTo>
                  <a:pt x="4830" y="603"/>
                </a:lnTo>
                <a:lnTo>
                  <a:pt x="4646" y="498"/>
                </a:lnTo>
                <a:lnTo>
                  <a:pt x="4461" y="400"/>
                </a:lnTo>
                <a:lnTo>
                  <a:pt x="4268" y="302"/>
                </a:lnTo>
                <a:lnTo>
                  <a:pt x="4083" y="210"/>
                </a:lnTo>
                <a:lnTo>
                  <a:pt x="3899" y="131"/>
                </a:lnTo>
                <a:lnTo>
                  <a:pt x="3724" y="72"/>
                </a:lnTo>
                <a:lnTo>
                  <a:pt x="3549" y="27"/>
                </a:lnTo>
                <a:lnTo>
                  <a:pt x="3392" y="7"/>
                </a:lnTo>
                <a:lnTo>
                  <a:pt x="3318" y="0"/>
                </a:lnTo>
                <a:lnTo>
                  <a:pt x="3245" y="7"/>
                </a:lnTo>
                <a:lnTo>
                  <a:pt x="3180" y="20"/>
                </a:lnTo>
                <a:lnTo>
                  <a:pt x="3116" y="40"/>
                </a:lnTo>
                <a:lnTo>
                  <a:pt x="3051" y="66"/>
                </a:lnTo>
                <a:lnTo>
                  <a:pt x="2996" y="92"/>
                </a:lnTo>
                <a:lnTo>
                  <a:pt x="2876" y="177"/>
                </a:lnTo>
                <a:lnTo>
                  <a:pt x="2765" y="276"/>
                </a:lnTo>
                <a:lnTo>
                  <a:pt x="2655" y="387"/>
                </a:lnTo>
                <a:lnTo>
                  <a:pt x="2553" y="518"/>
                </a:lnTo>
                <a:lnTo>
                  <a:pt x="2452" y="649"/>
                </a:lnTo>
                <a:lnTo>
                  <a:pt x="2350" y="787"/>
                </a:lnTo>
                <a:lnTo>
                  <a:pt x="2249" y="924"/>
                </a:lnTo>
                <a:lnTo>
                  <a:pt x="2157" y="1062"/>
                </a:lnTo>
                <a:lnTo>
                  <a:pt x="2056" y="1193"/>
                </a:lnTo>
                <a:lnTo>
                  <a:pt x="1963" y="1304"/>
                </a:lnTo>
                <a:lnTo>
                  <a:pt x="1871" y="1409"/>
                </a:lnTo>
                <a:lnTo>
                  <a:pt x="1770" y="1494"/>
                </a:lnTo>
                <a:lnTo>
                  <a:pt x="1678" y="1553"/>
                </a:lnTo>
                <a:lnTo>
                  <a:pt x="1622" y="1579"/>
                </a:lnTo>
                <a:lnTo>
                  <a:pt x="1576" y="1592"/>
                </a:lnTo>
                <a:lnTo>
                  <a:pt x="1475" y="1606"/>
                </a:lnTo>
                <a:lnTo>
                  <a:pt x="1364" y="1592"/>
                </a:lnTo>
                <a:lnTo>
                  <a:pt x="1254" y="1560"/>
                </a:lnTo>
                <a:lnTo>
                  <a:pt x="1134" y="1507"/>
                </a:lnTo>
                <a:lnTo>
                  <a:pt x="1023" y="1448"/>
                </a:lnTo>
                <a:lnTo>
                  <a:pt x="903" y="1376"/>
                </a:lnTo>
                <a:lnTo>
                  <a:pt x="793" y="1298"/>
                </a:lnTo>
                <a:lnTo>
                  <a:pt x="682" y="1212"/>
                </a:lnTo>
                <a:lnTo>
                  <a:pt x="470" y="1042"/>
                </a:lnTo>
                <a:lnTo>
                  <a:pt x="369" y="963"/>
                </a:lnTo>
                <a:lnTo>
                  <a:pt x="277" y="885"/>
                </a:lnTo>
                <a:lnTo>
                  <a:pt x="194" y="826"/>
                </a:lnTo>
                <a:lnTo>
                  <a:pt x="120" y="773"/>
                </a:lnTo>
                <a:lnTo>
                  <a:pt x="55" y="741"/>
                </a:lnTo>
                <a:lnTo>
                  <a:pt x="0" y="72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654360"/>
            <a:ext cx="5940360" cy="3200400"/>
          </a:xfrm>
          <a:custGeom>
            <a:avLst/>
            <a:gdLst/>
            <a:ahLst/>
            <a:rect l="l" t="t" r="r" b="b"/>
            <a:pathLst>
              <a:path w="3742" h="2016">
                <a:moveTo>
                  <a:pt x="0" y="348"/>
                </a:moveTo>
                <a:lnTo>
                  <a:pt x="0" y="446"/>
                </a:lnTo>
                <a:lnTo>
                  <a:pt x="38" y="453"/>
                </a:lnTo>
                <a:lnTo>
                  <a:pt x="94" y="453"/>
                </a:lnTo>
                <a:lnTo>
                  <a:pt x="170" y="439"/>
                </a:lnTo>
                <a:lnTo>
                  <a:pt x="264" y="418"/>
                </a:lnTo>
                <a:lnTo>
                  <a:pt x="365" y="397"/>
                </a:lnTo>
                <a:lnTo>
                  <a:pt x="478" y="362"/>
                </a:lnTo>
                <a:lnTo>
                  <a:pt x="604" y="334"/>
                </a:lnTo>
                <a:lnTo>
                  <a:pt x="736" y="299"/>
                </a:lnTo>
                <a:lnTo>
                  <a:pt x="1012" y="237"/>
                </a:lnTo>
                <a:lnTo>
                  <a:pt x="1289" y="181"/>
                </a:lnTo>
                <a:lnTo>
                  <a:pt x="1427" y="167"/>
                </a:lnTo>
                <a:lnTo>
                  <a:pt x="1566" y="153"/>
                </a:lnTo>
                <a:lnTo>
                  <a:pt x="1691" y="153"/>
                </a:lnTo>
                <a:lnTo>
                  <a:pt x="1811" y="167"/>
                </a:lnTo>
                <a:lnTo>
                  <a:pt x="1930" y="188"/>
                </a:lnTo>
                <a:lnTo>
                  <a:pt x="2056" y="216"/>
                </a:lnTo>
                <a:lnTo>
                  <a:pt x="2320" y="292"/>
                </a:lnTo>
                <a:lnTo>
                  <a:pt x="2603" y="383"/>
                </a:lnTo>
                <a:lnTo>
                  <a:pt x="2874" y="495"/>
                </a:lnTo>
                <a:lnTo>
                  <a:pt x="3006" y="558"/>
                </a:lnTo>
                <a:lnTo>
                  <a:pt x="3131" y="620"/>
                </a:lnTo>
                <a:lnTo>
                  <a:pt x="3251" y="683"/>
                </a:lnTo>
                <a:lnTo>
                  <a:pt x="3358" y="746"/>
                </a:lnTo>
                <a:lnTo>
                  <a:pt x="3458" y="809"/>
                </a:lnTo>
                <a:lnTo>
                  <a:pt x="3546" y="871"/>
                </a:lnTo>
                <a:lnTo>
                  <a:pt x="3616" y="934"/>
                </a:lnTo>
                <a:lnTo>
                  <a:pt x="3672" y="990"/>
                </a:lnTo>
                <a:lnTo>
                  <a:pt x="3710" y="1053"/>
                </a:lnTo>
                <a:lnTo>
                  <a:pt x="3735" y="1122"/>
                </a:lnTo>
                <a:lnTo>
                  <a:pt x="3741" y="1199"/>
                </a:lnTo>
                <a:lnTo>
                  <a:pt x="3735" y="1283"/>
                </a:lnTo>
                <a:lnTo>
                  <a:pt x="3716" y="1374"/>
                </a:lnTo>
                <a:lnTo>
                  <a:pt x="3685" y="1457"/>
                </a:lnTo>
                <a:lnTo>
                  <a:pt x="3653" y="1548"/>
                </a:lnTo>
                <a:lnTo>
                  <a:pt x="3609" y="1632"/>
                </a:lnTo>
                <a:lnTo>
                  <a:pt x="3572" y="1715"/>
                </a:lnTo>
                <a:lnTo>
                  <a:pt x="3528" y="1792"/>
                </a:lnTo>
                <a:lnTo>
                  <a:pt x="3484" y="1855"/>
                </a:lnTo>
                <a:lnTo>
                  <a:pt x="3446" y="1918"/>
                </a:lnTo>
                <a:lnTo>
                  <a:pt x="3408" y="1959"/>
                </a:lnTo>
                <a:lnTo>
                  <a:pt x="3383" y="1994"/>
                </a:lnTo>
                <a:lnTo>
                  <a:pt x="3364" y="2015"/>
                </a:lnTo>
                <a:lnTo>
                  <a:pt x="3358" y="2015"/>
                </a:lnTo>
                <a:lnTo>
                  <a:pt x="3697" y="767"/>
                </a:lnTo>
                <a:lnTo>
                  <a:pt x="3653" y="704"/>
                </a:lnTo>
                <a:lnTo>
                  <a:pt x="3597" y="641"/>
                </a:lnTo>
                <a:lnTo>
                  <a:pt x="3528" y="578"/>
                </a:lnTo>
                <a:lnTo>
                  <a:pt x="3452" y="516"/>
                </a:lnTo>
                <a:lnTo>
                  <a:pt x="3364" y="453"/>
                </a:lnTo>
                <a:lnTo>
                  <a:pt x="3270" y="397"/>
                </a:lnTo>
                <a:lnTo>
                  <a:pt x="3163" y="341"/>
                </a:lnTo>
                <a:lnTo>
                  <a:pt x="3056" y="286"/>
                </a:lnTo>
                <a:lnTo>
                  <a:pt x="2830" y="188"/>
                </a:lnTo>
                <a:lnTo>
                  <a:pt x="2591" y="111"/>
                </a:lnTo>
                <a:lnTo>
                  <a:pt x="2352" y="48"/>
                </a:lnTo>
                <a:lnTo>
                  <a:pt x="2113" y="7"/>
                </a:lnTo>
                <a:lnTo>
                  <a:pt x="1993" y="0"/>
                </a:lnTo>
                <a:lnTo>
                  <a:pt x="1861" y="0"/>
                </a:lnTo>
                <a:lnTo>
                  <a:pt x="1729" y="7"/>
                </a:lnTo>
                <a:lnTo>
                  <a:pt x="1585" y="20"/>
                </a:lnTo>
                <a:lnTo>
                  <a:pt x="1289" y="69"/>
                </a:lnTo>
                <a:lnTo>
                  <a:pt x="994" y="125"/>
                </a:lnTo>
                <a:lnTo>
                  <a:pt x="698" y="188"/>
                </a:lnTo>
                <a:lnTo>
                  <a:pt x="560" y="223"/>
                </a:lnTo>
                <a:lnTo>
                  <a:pt x="428" y="258"/>
                </a:lnTo>
                <a:lnTo>
                  <a:pt x="308" y="286"/>
                </a:lnTo>
                <a:lnTo>
                  <a:pt x="195" y="313"/>
                </a:lnTo>
                <a:lnTo>
                  <a:pt x="88" y="334"/>
                </a:lnTo>
                <a:lnTo>
                  <a:pt x="0" y="348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n’t Forget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ctor XIV defici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(insufficient sutur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rug Treatm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op causative/contributory medi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tamin K or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DAV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psilon amino caproic acid (Amica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pical procoagula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one Marrow Dise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ute leukem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elodysplas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eloproliferative disord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. ve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ysfunctional platel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ests are normal-Now wha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 purpu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nile purpu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ctor XIII defici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pha-2-antiplasmin defici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ld factor defici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yloid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scular disord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ll more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reditary hemorrhagic telangiectas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urv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hlers-Danlos syndrom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noch-Schonlein purpu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un-diagnosable fibrinolytic def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story &amp; Physical Examin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boratory te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reening te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ecific diagnostic te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agnosis-specific therap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ctor replac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e000f"/>
            </a:gs>
            <a:gs pos="50000">
              <a:srgbClr val="660033"/>
            </a:gs>
            <a:gs pos="100000">
              <a:srgbClr val="1e000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1f000f"/>
              </a:gs>
              <a:gs pos="50000">
                <a:srgbClr val="9c004e"/>
              </a:gs>
              <a:gs pos="100000">
                <a:srgbClr val="1f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7240" cy="1965240"/>
          </a:xfrm>
          <a:custGeom>
            <a:avLst/>
            <a:gdLst/>
            <a:ahLst/>
            <a:rect l="l" t="t" r="r" b="b"/>
            <a:pathLst>
              <a:path w="5762" h="1238">
                <a:moveTo>
                  <a:pt x="0" y="0"/>
                </a:moveTo>
                <a:lnTo>
                  <a:pt x="5761" y="0"/>
                </a:lnTo>
                <a:lnTo>
                  <a:pt x="5761" y="878"/>
                </a:lnTo>
                <a:lnTo>
                  <a:pt x="5724" y="889"/>
                </a:lnTo>
                <a:lnTo>
                  <a:pt x="5687" y="897"/>
                </a:lnTo>
                <a:lnTo>
                  <a:pt x="5650" y="902"/>
                </a:lnTo>
                <a:lnTo>
                  <a:pt x="5604" y="906"/>
                </a:lnTo>
                <a:lnTo>
                  <a:pt x="5512" y="908"/>
                </a:lnTo>
                <a:lnTo>
                  <a:pt x="5411" y="904"/>
                </a:lnTo>
                <a:lnTo>
                  <a:pt x="5291" y="895"/>
                </a:lnTo>
                <a:lnTo>
                  <a:pt x="5171" y="880"/>
                </a:lnTo>
                <a:lnTo>
                  <a:pt x="5042" y="863"/>
                </a:lnTo>
                <a:lnTo>
                  <a:pt x="4904" y="844"/>
                </a:lnTo>
                <a:lnTo>
                  <a:pt x="4609" y="805"/>
                </a:lnTo>
                <a:lnTo>
                  <a:pt x="4461" y="788"/>
                </a:lnTo>
                <a:lnTo>
                  <a:pt x="4295" y="770"/>
                </a:lnTo>
                <a:lnTo>
                  <a:pt x="4129" y="760"/>
                </a:lnTo>
                <a:lnTo>
                  <a:pt x="3954" y="753"/>
                </a:lnTo>
                <a:lnTo>
                  <a:pt x="3779" y="753"/>
                </a:lnTo>
                <a:lnTo>
                  <a:pt x="3604" y="760"/>
                </a:lnTo>
                <a:lnTo>
                  <a:pt x="3512" y="766"/>
                </a:lnTo>
                <a:lnTo>
                  <a:pt x="3411" y="777"/>
                </a:lnTo>
                <a:lnTo>
                  <a:pt x="3309" y="788"/>
                </a:lnTo>
                <a:lnTo>
                  <a:pt x="3199" y="801"/>
                </a:lnTo>
                <a:lnTo>
                  <a:pt x="2968" y="835"/>
                </a:lnTo>
                <a:lnTo>
                  <a:pt x="2719" y="874"/>
                </a:lnTo>
                <a:lnTo>
                  <a:pt x="2461" y="917"/>
                </a:lnTo>
                <a:lnTo>
                  <a:pt x="2194" y="964"/>
                </a:lnTo>
                <a:lnTo>
                  <a:pt x="1926" y="1011"/>
                </a:lnTo>
                <a:lnTo>
                  <a:pt x="1668" y="1059"/>
                </a:lnTo>
                <a:lnTo>
                  <a:pt x="1401" y="1104"/>
                </a:lnTo>
                <a:lnTo>
                  <a:pt x="1152" y="1145"/>
                </a:lnTo>
                <a:lnTo>
                  <a:pt x="903" y="1179"/>
                </a:lnTo>
                <a:lnTo>
                  <a:pt x="793" y="1194"/>
                </a:lnTo>
                <a:lnTo>
                  <a:pt x="682" y="1207"/>
                </a:lnTo>
                <a:lnTo>
                  <a:pt x="571" y="1220"/>
                </a:lnTo>
                <a:lnTo>
                  <a:pt x="470" y="1229"/>
                </a:lnTo>
                <a:lnTo>
                  <a:pt x="378" y="1233"/>
                </a:lnTo>
                <a:lnTo>
                  <a:pt x="286" y="1237"/>
                </a:lnTo>
                <a:lnTo>
                  <a:pt x="203" y="1237"/>
                </a:lnTo>
                <a:lnTo>
                  <a:pt x="129" y="1235"/>
                </a:lnTo>
                <a:lnTo>
                  <a:pt x="65" y="1229"/>
                </a:lnTo>
                <a:lnTo>
                  <a:pt x="0" y="121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349280"/>
            <a:ext cx="9147240" cy="5511960"/>
          </a:xfrm>
          <a:custGeom>
            <a:avLst/>
            <a:gdLst/>
            <a:ahLst/>
            <a:rect l="l" t="t" r="r" b="b"/>
            <a:pathLst>
              <a:path w="5762" h="3472">
                <a:moveTo>
                  <a:pt x="0" y="464"/>
                </a:moveTo>
                <a:lnTo>
                  <a:pt x="194" y="477"/>
                </a:lnTo>
                <a:lnTo>
                  <a:pt x="378" y="484"/>
                </a:lnTo>
                <a:lnTo>
                  <a:pt x="562" y="484"/>
                </a:lnTo>
                <a:lnTo>
                  <a:pt x="747" y="470"/>
                </a:lnTo>
                <a:lnTo>
                  <a:pt x="1106" y="436"/>
                </a:lnTo>
                <a:lnTo>
                  <a:pt x="1447" y="388"/>
                </a:lnTo>
                <a:lnTo>
                  <a:pt x="1779" y="325"/>
                </a:lnTo>
                <a:lnTo>
                  <a:pt x="2083" y="263"/>
                </a:lnTo>
                <a:lnTo>
                  <a:pt x="2369" y="201"/>
                </a:lnTo>
                <a:lnTo>
                  <a:pt x="2636" y="152"/>
                </a:lnTo>
                <a:lnTo>
                  <a:pt x="2645" y="152"/>
                </a:lnTo>
                <a:lnTo>
                  <a:pt x="2664" y="146"/>
                </a:lnTo>
                <a:lnTo>
                  <a:pt x="2692" y="146"/>
                </a:lnTo>
                <a:lnTo>
                  <a:pt x="2738" y="139"/>
                </a:lnTo>
                <a:lnTo>
                  <a:pt x="2839" y="125"/>
                </a:lnTo>
                <a:lnTo>
                  <a:pt x="2968" y="104"/>
                </a:lnTo>
                <a:lnTo>
                  <a:pt x="3097" y="83"/>
                </a:lnTo>
                <a:lnTo>
                  <a:pt x="3217" y="70"/>
                </a:lnTo>
                <a:lnTo>
                  <a:pt x="3309" y="56"/>
                </a:lnTo>
                <a:lnTo>
                  <a:pt x="3346" y="49"/>
                </a:lnTo>
                <a:lnTo>
                  <a:pt x="3374" y="42"/>
                </a:lnTo>
                <a:lnTo>
                  <a:pt x="3521" y="21"/>
                </a:lnTo>
                <a:lnTo>
                  <a:pt x="3669" y="7"/>
                </a:lnTo>
                <a:lnTo>
                  <a:pt x="3835" y="0"/>
                </a:lnTo>
                <a:lnTo>
                  <a:pt x="3991" y="7"/>
                </a:lnTo>
                <a:lnTo>
                  <a:pt x="4166" y="21"/>
                </a:lnTo>
                <a:lnTo>
                  <a:pt x="4332" y="35"/>
                </a:lnTo>
                <a:lnTo>
                  <a:pt x="4664" y="83"/>
                </a:lnTo>
                <a:lnTo>
                  <a:pt x="4996" y="139"/>
                </a:lnTo>
                <a:lnTo>
                  <a:pt x="5143" y="166"/>
                </a:lnTo>
                <a:lnTo>
                  <a:pt x="5291" y="187"/>
                </a:lnTo>
                <a:lnTo>
                  <a:pt x="5429" y="208"/>
                </a:lnTo>
                <a:lnTo>
                  <a:pt x="5549" y="229"/>
                </a:lnTo>
                <a:lnTo>
                  <a:pt x="5660" y="235"/>
                </a:lnTo>
                <a:lnTo>
                  <a:pt x="5761" y="242"/>
                </a:lnTo>
                <a:lnTo>
                  <a:pt x="5761" y="3471"/>
                </a:lnTo>
                <a:lnTo>
                  <a:pt x="0" y="3471"/>
                </a:lnTo>
                <a:lnTo>
                  <a:pt x="0" y="3464"/>
                </a:lnTo>
                <a:lnTo>
                  <a:pt x="0" y="3436"/>
                </a:lnTo>
                <a:lnTo>
                  <a:pt x="0" y="3395"/>
                </a:lnTo>
                <a:lnTo>
                  <a:pt x="0" y="3340"/>
                </a:lnTo>
                <a:lnTo>
                  <a:pt x="0" y="3271"/>
                </a:lnTo>
                <a:lnTo>
                  <a:pt x="0" y="3194"/>
                </a:lnTo>
                <a:lnTo>
                  <a:pt x="0" y="3105"/>
                </a:lnTo>
                <a:lnTo>
                  <a:pt x="0" y="3001"/>
                </a:lnTo>
                <a:lnTo>
                  <a:pt x="0" y="2890"/>
                </a:lnTo>
                <a:lnTo>
                  <a:pt x="0" y="2773"/>
                </a:lnTo>
                <a:lnTo>
                  <a:pt x="0" y="2517"/>
                </a:lnTo>
                <a:lnTo>
                  <a:pt x="0" y="2247"/>
                </a:lnTo>
                <a:lnTo>
                  <a:pt x="0" y="1971"/>
                </a:lnTo>
                <a:lnTo>
                  <a:pt x="0" y="1687"/>
                </a:lnTo>
                <a:lnTo>
                  <a:pt x="0" y="1418"/>
                </a:lnTo>
                <a:lnTo>
                  <a:pt x="0" y="1162"/>
                </a:lnTo>
                <a:lnTo>
                  <a:pt x="0" y="1044"/>
                </a:lnTo>
                <a:lnTo>
                  <a:pt x="0" y="934"/>
                </a:lnTo>
                <a:lnTo>
                  <a:pt x="0" y="830"/>
                </a:lnTo>
                <a:lnTo>
                  <a:pt x="0" y="740"/>
                </a:lnTo>
                <a:lnTo>
                  <a:pt x="0" y="664"/>
                </a:lnTo>
                <a:lnTo>
                  <a:pt x="0" y="595"/>
                </a:lnTo>
                <a:lnTo>
                  <a:pt x="0" y="540"/>
                </a:lnTo>
                <a:lnTo>
                  <a:pt x="0" y="498"/>
                </a:lnTo>
                <a:lnTo>
                  <a:pt x="0" y="470"/>
                </a:lnTo>
                <a:lnTo>
                  <a:pt x="0" y="464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8680"/>
            <a:ext cx="9147240" cy="815760"/>
          </a:xfrm>
          <a:custGeom>
            <a:avLst/>
            <a:gdLst/>
            <a:ahLst/>
            <a:rect l="l" t="t" r="r" b="b"/>
            <a:pathLst>
              <a:path w="5762" h="514">
                <a:moveTo>
                  <a:pt x="0" y="140"/>
                </a:moveTo>
                <a:lnTo>
                  <a:pt x="0" y="379"/>
                </a:lnTo>
                <a:lnTo>
                  <a:pt x="65" y="389"/>
                </a:lnTo>
                <a:lnTo>
                  <a:pt x="129" y="397"/>
                </a:lnTo>
                <a:lnTo>
                  <a:pt x="295" y="411"/>
                </a:lnTo>
                <a:lnTo>
                  <a:pt x="489" y="423"/>
                </a:lnTo>
                <a:lnTo>
                  <a:pt x="710" y="432"/>
                </a:lnTo>
                <a:lnTo>
                  <a:pt x="830" y="435"/>
                </a:lnTo>
                <a:lnTo>
                  <a:pt x="959" y="436"/>
                </a:lnTo>
                <a:lnTo>
                  <a:pt x="1088" y="437"/>
                </a:lnTo>
                <a:lnTo>
                  <a:pt x="1217" y="436"/>
                </a:lnTo>
                <a:lnTo>
                  <a:pt x="1355" y="435"/>
                </a:lnTo>
                <a:lnTo>
                  <a:pt x="1493" y="432"/>
                </a:lnTo>
                <a:lnTo>
                  <a:pt x="1632" y="427"/>
                </a:lnTo>
                <a:lnTo>
                  <a:pt x="1770" y="420"/>
                </a:lnTo>
                <a:lnTo>
                  <a:pt x="1844" y="415"/>
                </a:lnTo>
                <a:lnTo>
                  <a:pt x="1917" y="411"/>
                </a:lnTo>
                <a:lnTo>
                  <a:pt x="2083" y="397"/>
                </a:lnTo>
                <a:lnTo>
                  <a:pt x="2258" y="379"/>
                </a:lnTo>
                <a:lnTo>
                  <a:pt x="2433" y="360"/>
                </a:lnTo>
                <a:lnTo>
                  <a:pt x="2627" y="338"/>
                </a:lnTo>
                <a:lnTo>
                  <a:pt x="2821" y="315"/>
                </a:lnTo>
                <a:lnTo>
                  <a:pt x="3208" y="266"/>
                </a:lnTo>
                <a:lnTo>
                  <a:pt x="3401" y="243"/>
                </a:lnTo>
                <a:lnTo>
                  <a:pt x="3595" y="221"/>
                </a:lnTo>
                <a:lnTo>
                  <a:pt x="3779" y="200"/>
                </a:lnTo>
                <a:lnTo>
                  <a:pt x="3964" y="183"/>
                </a:lnTo>
                <a:lnTo>
                  <a:pt x="4129" y="169"/>
                </a:lnTo>
                <a:lnTo>
                  <a:pt x="4212" y="163"/>
                </a:lnTo>
                <a:lnTo>
                  <a:pt x="4295" y="159"/>
                </a:lnTo>
                <a:lnTo>
                  <a:pt x="4369" y="155"/>
                </a:lnTo>
                <a:lnTo>
                  <a:pt x="4443" y="153"/>
                </a:lnTo>
                <a:lnTo>
                  <a:pt x="4507" y="152"/>
                </a:lnTo>
                <a:lnTo>
                  <a:pt x="4572" y="153"/>
                </a:lnTo>
                <a:lnTo>
                  <a:pt x="4636" y="155"/>
                </a:lnTo>
                <a:lnTo>
                  <a:pt x="4692" y="160"/>
                </a:lnTo>
                <a:lnTo>
                  <a:pt x="4747" y="165"/>
                </a:lnTo>
                <a:lnTo>
                  <a:pt x="4802" y="172"/>
                </a:lnTo>
                <a:lnTo>
                  <a:pt x="4858" y="182"/>
                </a:lnTo>
                <a:lnTo>
                  <a:pt x="4913" y="192"/>
                </a:lnTo>
                <a:lnTo>
                  <a:pt x="4959" y="204"/>
                </a:lnTo>
                <a:lnTo>
                  <a:pt x="5005" y="215"/>
                </a:lnTo>
                <a:lnTo>
                  <a:pt x="5097" y="243"/>
                </a:lnTo>
                <a:lnTo>
                  <a:pt x="5190" y="274"/>
                </a:lnTo>
                <a:lnTo>
                  <a:pt x="5263" y="307"/>
                </a:lnTo>
                <a:lnTo>
                  <a:pt x="5337" y="339"/>
                </a:lnTo>
                <a:lnTo>
                  <a:pt x="5411" y="373"/>
                </a:lnTo>
                <a:lnTo>
                  <a:pt x="5475" y="404"/>
                </a:lnTo>
                <a:lnTo>
                  <a:pt x="5531" y="433"/>
                </a:lnTo>
                <a:lnTo>
                  <a:pt x="5586" y="459"/>
                </a:lnTo>
                <a:lnTo>
                  <a:pt x="5604" y="471"/>
                </a:lnTo>
                <a:lnTo>
                  <a:pt x="5632" y="481"/>
                </a:lnTo>
                <a:lnTo>
                  <a:pt x="5660" y="491"/>
                </a:lnTo>
                <a:lnTo>
                  <a:pt x="5678" y="499"/>
                </a:lnTo>
                <a:lnTo>
                  <a:pt x="5696" y="504"/>
                </a:lnTo>
                <a:lnTo>
                  <a:pt x="5724" y="509"/>
                </a:lnTo>
                <a:lnTo>
                  <a:pt x="5743" y="511"/>
                </a:lnTo>
                <a:lnTo>
                  <a:pt x="5761" y="513"/>
                </a:lnTo>
                <a:lnTo>
                  <a:pt x="5761" y="140"/>
                </a:lnTo>
                <a:lnTo>
                  <a:pt x="5678" y="109"/>
                </a:lnTo>
                <a:lnTo>
                  <a:pt x="5577" y="80"/>
                </a:lnTo>
                <a:lnTo>
                  <a:pt x="5457" y="53"/>
                </a:lnTo>
                <a:lnTo>
                  <a:pt x="5392" y="41"/>
                </a:lnTo>
                <a:lnTo>
                  <a:pt x="5319" y="30"/>
                </a:lnTo>
                <a:lnTo>
                  <a:pt x="5245" y="21"/>
                </a:lnTo>
                <a:lnTo>
                  <a:pt x="5162" y="14"/>
                </a:lnTo>
                <a:lnTo>
                  <a:pt x="5079" y="7"/>
                </a:lnTo>
                <a:lnTo>
                  <a:pt x="4987" y="2"/>
                </a:lnTo>
                <a:lnTo>
                  <a:pt x="4885" y="0"/>
                </a:lnTo>
                <a:lnTo>
                  <a:pt x="4784" y="0"/>
                </a:lnTo>
                <a:lnTo>
                  <a:pt x="4673" y="1"/>
                </a:lnTo>
                <a:lnTo>
                  <a:pt x="4563" y="6"/>
                </a:lnTo>
                <a:lnTo>
                  <a:pt x="4498" y="9"/>
                </a:lnTo>
                <a:lnTo>
                  <a:pt x="4434" y="14"/>
                </a:lnTo>
                <a:lnTo>
                  <a:pt x="4369" y="20"/>
                </a:lnTo>
                <a:lnTo>
                  <a:pt x="4305" y="27"/>
                </a:lnTo>
                <a:lnTo>
                  <a:pt x="4157" y="43"/>
                </a:lnTo>
                <a:lnTo>
                  <a:pt x="4000" y="63"/>
                </a:lnTo>
                <a:lnTo>
                  <a:pt x="3835" y="86"/>
                </a:lnTo>
                <a:lnTo>
                  <a:pt x="3669" y="110"/>
                </a:lnTo>
                <a:lnTo>
                  <a:pt x="3493" y="135"/>
                </a:lnTo>
                <a:lnTo>
                  <a:pt x="3318" y="162"/>
                </a:lnTo>
                <a:lnTo>
                  <a:pt x="3143" y="189"/>
                </a:lnTo>
                <a:lnTo>
                  <a:pt x="2968" y="214"/>
                </a:lnTo>
                <a:lnTo>
                  <a:pt x="2793" y="238"/>
                </a:lnTo>
                <a:lnTo>
                  <a:pt x="2627" y="260"/>
                </a:lnTo>
                <a:lnTo>
                  <a:pt x="2452" y="279"/>
                </a:lnTo>
                <a:lnTo>
                  <a:pt x="2295" y="295"/>
                </a:lnTo>
                <a:lnTo>
                  <a:pt x="2212" y="301"/>
                </a:lnTo>
                <a:lnTo>
                  <a:pt x="2138" y="307"/>
                </a:lnTo>
                <a:lnTo>
                  <a:pt x="2065" y="311"/>
                </a:lnTo>
                <a:lnTo>
                  <a:pt x="1991" y="314"/>
                </a:lnTo>
                <a:lnTo>
                  <a:pt x="1844" y="316"/>
                </a:lnTo>
                <a:lnTo>
                  <a:pt x="1705" y="314"/>
                </a:lnTo>
                <a:lnTo>
                  <a:pt x="1558" y="309"/>
                </a:lnTo>
                <a:lnTo>
                  <a:pt x="1420" y="301"/>
                </a:lnTo>
                <a:lnTo>
                  <a:pt x="1272" y="290"/>
                </a:lnTo>
                <a:lnTo>
                  <a:pt x="1134" y="278"/>
                </a:lnTo>
                <a:lnTo>
                  <a:pt x="996" y="264"/>
                </a:lnTo>
                <a:lnTo>
                  <a:pt x="866" y="249"/>
                </a:lnTo>
                <a:lnTo>
                  <a:pt x="608" y="216"/>
                </a:lnTo>
                <a:lnTo>
                  <a:pt x="378" y="185"/>
                </a:lnTo>
                <a:lnTo>
                  <a:pt x="277" y="171"/>
                </a:lnTo>
                <a:lnTo>
                  <a:pt x="175" y="159"/>
                </a:lnTo>
                <a:lnTo>
                  <a:pt x="83" y="148"/>
                </a:lnTo>
                <a:lnTo>
                  <a:pt x="0" y="14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e000f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2452680"/>
            <a:ext cx="9147240" cy="1003320"/>
          </a:xfrm>
          <a:custGeom>
            <a:avLst/>
            <a:gdLst/>
            <a:ahLst/>
            <a:rect l="l" t="t" r="r" b="b"/>
            <a:pathLst>
              <a:path w="5762" h="632">
                <a:moveTo>
                  <a:pt x="0" y="218"/>
                </a:moveTo>
                <a:lnTo>
                  <a:pt x="0" y="375"/>
                </a:lnTo>
                <a:lnTo>
                  <a:pt x="46" y="386"/>
                </a:lnTo>
                <a:lnTo>
                  <a:pt x="101" y="400"/>
                </a:lnTo>
                <a:lnTo>
                  <a:pt x="175" y="417"/>
                </a:lnTo>
                <a:lnTo>
                  <a:pt x="249" y="431"/>
                </a:lnTo>
                <a:lnTo>
                  <a:pt x="424" y="466"/>
                </a:lnTo>
                <a:lnTo>
                  <a:pt x="618" y="505"/>
                </a:lnTo>
                <a:lnTo>
                  <a:pt x="811" y="540"/>
                </a:lnTo>
                <a:lnTo>
                  <a:pt x="996" y="571"/>
                </a:lnTo>
                <a:lnTo>
                  <a:pt x="1152" y="596"/>
                </a:lnTo>
                <a:lnTo>
                  <a:pt x="1226" y="606"/>
                </a:lnTo>
                <a:lnTo>
                  <a:pt x="1281" y="613"/>
                </a:lnTo>
                <a:lnTo>
                  <a:pt x="1327" y="620"/>
                </a:lnTo>
                <a:lnTo>
                  <a:pt x="1355" y="624"/>
                </a:lnTo>
                <a:lnTo>
                  <a:pt x="1364" y="627"/>
                </a:lnTo>
                <a:lnTo>
                  <a:pt x="1373" y="631"/>
                </a:lnTo>
                <a:lnTo>
                  <a:pt x="1364" y="631"/>
                </a:lnTo>
                <a:lnTo>
                  <a:pt x="1355" y="627"/>
                </a:lnTo>
                <a:lnTo>
                  <a:pt x="1355" y="617"/>
                </a:lnTo>
                <a:lnTo>
                  <a:pt x="1364" y="610"/>
                </a:lnTo>
                <a:lnTo>
                  <a:pt x="1383" y="603"/>
                </a:lnTo>
                <a:lnTo>
                  <a:pt x="1420" y="592"/>
                </a:lnTo>
                <a:lnTo>
                  <a:pt x="1475" y="578"/>
                </a:lnTo>
                <a:lnTo>
                  <a:pt x="1539" y="564"/>
                </a:lnTo>
                <a:lnTo>
                  <a:pt x="1632" y="550"/>
                </a:lnTo>
                <a:lnTo>
                  <a:pt x="1742" y="529"/>
                </a:lnTo>
                <a:lnTo>
                  <a:pt x="1880" y="505"/>
                </a:lnTo>
                <a:lnTo>
                  <a:pt x="2037" y="473"/>
                </a:lnTo>
                <a:lnTo>
                  <a:pt x="2212" y="438"/>
                </a:lnTo>
                <a:lnTo>
                  <a:pt x="2397" y="400"/>
                </a:lnTo>
                <a:lnTo>
                  <a:pt x="2590" y="361"/>
                </a:lnTo>
                <a:lnTo>
                  <a:pt x="3005" y="281"/>
                </a:lnTo>
                <a:lnTo>
                  <a:pt x="3429" y="203"/>
                </a:lnTo>
                <a:lnTo>
                  <a:pt x="3632" y="172"/>
                </a:lnTo>
                <a:lnTo>
                  <a:pt x="3835" y="140"/>
                </a:lnTo>
                <a:lnTo>
                  <a:pt x="4019" y="116"/>
                </a:lnTo>
                <a:lnTo>
                  <a:pt x="4194" y="98"/>
                </a:lnTo>
                <a:lnTo>
                  <a:pt x="4351" y="88"/>
                </a:lnTo>
                <a:lnTo>
                  <a:pt x="4489" y="84"/>
                </a:lnTo>
                <a:lnTo>
                  <a:pt x="4618" y="91"/>
                </a:lnTo>
                <a:lnTo>
                  <a:pt x="4738" y="105"/>
                </a:lnTo>
                <a:lnTo>
                  <a:pt x="4848" y="130"/>
                </a:lnTo>
                <a:lnTo>
                  <a:pt x="4950" y="161"/>
                </a:lnTo>
                <a:lnTo>
                  <a:pt x="5051" y="196"/>
                </a:lnTo>
                <a:lnTo>
                  <a:pt x="5143" y="235"/>
                </a:lnTo>
                <a:lnTo>
                  <a:pt x="5309" y="326"/>
                </a:lnTo>
                <a:lnTo>
                  <a:pt x="5448" y="414"/>
                </a:lnTo>
                <a:lnTo>
                  <a:pt x="5512" y="456"/>
                </a:lnTo>
                <a:lnTo>
                  <a:pt x="5567" y="491"/>
                </a:lnTo>
                <a:lnTo>
                  <a:pt x="5623" y="522"/>
                </a:lnTo>
                <a:lnTo>
                  <a:pt x="5678" y="550"/>
                </a:lnTo>
                <a:lnTo>
                  <a:pt x="5724" y="568"/>
                </a:lnTo>
                <a:lnTo>
                  <a:pt x="5761" y="575"/>
                </a:lnTo>
                <a:lnTo>
                  <a:pt x="5761" y="203"/>
                </a:lnTo>
                <a:lnTo>
                  <a:pt x="5641" y="172"/>
                </a:lnTo>
                <a:lnTo>
                  <a:pt x="5484" y="133"/>
                </a:lnTo>
                <a:lnTo>
                  <a:pt x="5300" y="98"/>
                </a:lnTo>
                <a:lnTo>
                  <a:pt x="5088" y="63"/>
                </a:lnTo>
                <a:lnTo>
                  <a:pt x="4848" y="32"/>
                </a:lnTo>
                <a:lnTo>
                  <a:pt x="4600" y="11"/>
                </a:lnTo>
                <a:lnTo>
                  <a:pt x="4461" y="4"/>
                </a:lnTo>
                <a:lnTo>
                  <a:pt x="4323" y="0"/>
                </a:lnTo>
                <a:lnTo>
                  <a:pt x="4185" y="0"/>
                </a:lnTo>
                <a:lnTo>
                  <a:pt x="4037" y="4"/>
                </a:lnTo>
                <a:lnTo>
                  <a:pt x="3881" y="14"/>
                </a:lnTo>
                <a:lnTo>
                  <a:pt x="3715" y="28"/>
                </a:lnTo>
                <a:lnTo>
                  <a:pt x="3540" y="49"/>
                </a:lnTo>
                <a:lnTo>
                  <a:pt x="3346" y="74"/>
                </a:lnTo>
                <a:lnTo>
                  <a:pt x="3152" y="102"/>
                </a:lnTo>
                <a:lnTo>
                  <a:pt x="2940" y="133"/>
                </a:lnTo>
                <a:lnTo>
                  <a:pt x="2526" y="203"/>
                </a:lnTo>
                <a:lnTo>
                  <a:pt x="2120" y="270"/>
                </a:lnTo>
                <a:lnTo>
                  <a:pt x="1917" y="302"/>
                </a:lnTo>
                <a:lnTo>
                  <a:pt x="1733" y="330"/>
                </a:lnTo>
                <a:lnTo>
                  <a:pt x="1549" y="358"/>
                </a:lnTo>
                <a:lnTo>
                  <a:pt x="1383" y="379"/>
                </a:lnTo>
                <a:lnTo>
                  <a:pt x="1235" y="393"/>
                </a:lnTo>
                <a:lnTo>
                  <a:pt x="1097" y="403"/>
                </a:lnTo>
                <a:lnTo>
                  <a:pt x="977" y="407"/>
                </a:lnTo>
                <a:lnTo>
                  <a:pt x="866" y="407"/>
                </a:lnTo>
                <a:lnTo>
                  <a:pt x="765" y="403"/>
                </a:lnTo>
                <a:lnTo>
                  <a:pt x="673" y="396"/>
                </a:lnTo>
                <a:lnTo>
                  <a:pt x="516" y="372"/>
                </a:lnTo>
                <a:lnTo>
                  <a:pt x="387" y="337"/>
                </a:lnTo>
                <a:lnTo>
                  <a:pt x="267" y="302"/>
                </a:lnTo>
                <a:lnTo>
                  <a:pt x="175" y="267"/>
                </a:lnTo>
                <a:lnTo>
                  <a:pt x="83" y="239"/>
                </a:lnTo>
                <a:lnTo>
                  <a:pt x="0" y="21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73200" y="1920960"/>
            <a:ext cx="6674040" cy="4940280"/>
          </a:xfrm>
          <a:custGeom>
            <a:avLst/>
            <a:gdLst/>
            <a:ahLst/>
            <a:rect l="l" t="t" r="r" b="b"/>
            <a:pathLst>
              <a:path w="4204" h="3112">
                <a:moveTo>
                  <a:pt x="0" y="3111"/>
                </a:moveTo>
                <a:lnTo>
                  <a:pt x="9" y="3056"/>
                </a:lnTo>
                <a:lnTo>
                  <a:pt x="27" y="2993"/>
                </a:lnTo>
                <a:lnTo>
                  <a:pt x="37" y="2924"/>
                </a:lnTo>
                <a:lnTo>
                  <a:pt x="55" y="2841"/>
                </a:lnTo>
                <a:lnTo>
                  <a:pt x="64" y="2758"/>
                </a:lnTo>
                <a:lnTo>
                  <a:pt x="83" y="2662"/>
                </a:lnTo>
                <a:lnTo>
                  <a:pt x="120" y="2454"/>
                </a:lnTo>
                <a:lnTo>
                  <a:pt x="156" y="2233"/>
                </a:lnTo>
                <a:lnTo>
                  <a:pt x="203" y="1991"/>
                </a:lnTo>
                <a:lnTo>
                  <a:pt x="258" y="1749"/>
                </a:lnTo>
                <a:lnTo>
                  <a:pt x="313" y="1493"/>
                </a:lnTo>
                <a:lnTo>
                  <a:pt x="378" y="1251"/>
                </a:lnTo>
                <a:lnTo>
                  <a:pt x="451" y="1009"/>
                </a:lnTo>
                <a:lnTo>
                  <a:pt x="525" y="781"/>
                </a:lnTo>
                <a:lnTo>
                  <a:pt x="617" y="574"/>
                </a:lnTo>
                <a:lnTo>
                  <a:pt x="663" y="477"/>
                </a:lnTo>
                <a:lnTo>
                  <a:pt x="710" y="394"/>
                </a:lnTo>
                <a:lnTo>
                  <a:pt x="765" y="311"/>
                </a:lnTo>
                <a:lnTo>
                  <a:pt x="820" y="235"/>
                </a:lnTo>
                <a:lnTo>
                  <a:pt x="875" y="173"/>
                </a:lnTo>
                <a:lnTo>
                  <a:pt x="931" y="117"/>
                </a:lnTo>
                <a:lnTo>
                  <a:pt x="995" y="76"/>
                </a:lnTo>
                <a:lnTo>
                  <a:pt x="1060" y="41"/>
                </a:lnTo>
                <a:lnTo>
                  <a:pt x="1134" y="21"/>
                </a:lnTo>
                <a:lnTo>
                  <a:pt x="1207" y="7"/>
                </a:lnTo>
                <a:lnTo>
                  <a:pt x="1290" y="0"/>
                </a:lnTo>
                <a:lnTo>
                  <a:pt x="1373" y="0"/>
                </a:lnTo>
                <a:lnTo>
                  <a:pt x="1465" y="14"/>
                </a:lnTo>
                <a:lnTo>
                  <a:pt x="1567" y="28"/>
                </a:lnTo>
                <a:lnTo>
                  <a:pt x="1770" y="83"/>
                </a:lnTo>
                <a:lnTo>
                  <a:pt x="1991" y="159"/>
                </a:lnTo>
                <a:lnTo>
                  <a:pt x="2221" y="249"/>
                </a:lnTo>
                <a:lnTo>
                  <a:pt x="2461" y="352"/>
                </a:lnTo>
                <a:lnTo>
                  <a:pt x="2701" y="470"/>
                </a:lnTo>
                <a:lnTo>
                  <a:pt x="2931" y="594"/>
                </a:lnTo>
                <a:lnTo>
                  <a:pt x="3161" y="726"/>
                </a:lnTo>
                <a:lnTo>
                  <a:pt x="3383" y="850"/>
                </a:lnTo>
                <a:lnTo>
                  <a:pt x="3585" y="975"/>
                </a:lnTo>
                <a:lnTo>
                  <a:pt x="3779" y="1085"/>
                </a:lnTo>
                <a:lnTo>
                  <a:pt x="3945" y="1189"/>
                </a:lnTo>
                <a:lnTo>
                  <a:pt x="4092" y="1272"/>
                </a:lnTo>
                <a:lnTo>
                  <a:pt x="4203" y="1334"/>
                </a:lnTo>
                <a:lnTo>
                  <a:pt x="4203" y="1777"/>
                </a:lnTo>
                <a:lnTo>
                  <a:pt x="4157" y="1756"/>
                </a:lnTo>
                <a:lnTo>
                  <a:pt x="4092" y="1721"/>
                </a:lnTo>
                <a:lnTo>
                  <a:pt x="4028" y="1687"/>
                </a:lnTo>
                <a:lnTo>
                  <a:pt x="3954" y="1645"/>
                </a:lnTo>
                <a:lnTo>
                  <a:pt x="3797" y="1542"/>
                </a:lnTo>
                <a:lnTo>
                  <a:pt x="3613" y="1417"/>
                </a:lnTo>
                <a:lnTo>
                  <a:pt x="3420" y="1279"/>
                </a:lnTo>
                <a:lnTo>
                  <a:pt x="3207" y="1134"/>
                </a:lnTo>
                <a:lnTo>
                  <a:pt x="2986" y="982"/>
                </a:lnTo>
                <a:lnTo>
                  <a:pt x="2756" y="830"/>
                </a:lnTo>
                <a:lnTo>
                  <a:pt x="2525" y="684"/>
                </a:lnTo>
                <a:lnTo>
                  <a:pt x="2304" y="546"/>
                </a:lnTo>
                <a:lnTo>
                  <a:pt x="2083" y="422"/>
                </a:lnTo>
                <a:lnTo>
                  <a:pt x="1871" y="318"/>
                </a:lnTo>
                <a:lnTo>
                  <a:pt x="1770" y="276"/>
                </a:lnTo>
                <a:lnTo>
                  <a:pt x="1668" y="242"/>
                </a:lnTo>
                <a:lnTo>
                  <a:pt x="1576" y="214"/>
                </a:lnTo>
                <a:lnTo>
                  <a:pt x="1493" y="193"/>
                </a:lnTo>
                <a:lnTo>
                  <a:pt x="1410" y="180"/>
                </a:lnTo>
                <a:lnTo>
                  <a:pt x="1336" y="173"/>
                </a:lnTo>
                <a:lnTo>
                  <a:pt x="1263" y="180"/>
                </a:lnTo>
                <a:lnTo>
                  <a:pt x="1198" y="193"/>
                </a:lnTo>
                <a:lnTo>
                  <a:pt x="1143" y="221"/>
                </a:lnTo>
                <a:lnTo>
                  <a:pt x="1087" y="256"/>
                </a:lnTo>
                <a:lnTo>
                  <a:pt x="1032" y="304"/>
                </a:lnTo>
                <a:lnTo>
                  <a:pt x="986" y="359"/>
                </a:lnTo>
                <a:lnTo>
                  <a:pt x="940" y="429"/>
                </a:lnTo>
                <a:lnTo>
                  <a:pt x="903" y="505"/>
                </a:lnTo>
                <a:lnTo>
                  <a:pt x="866" y="588"/>
                </a:lnTo>
                <a:lnTo>
                  <a:pt x="829" y="677"/>
                </a:lnTo>
                <a:lnTo>
                  <a:pt x="765" y="871"/>
                </a:lnTo>
                <a:lnTo>
                  <a:pt x="700" y="1085"/>
                </a:lnTo>
                <a:lnTo>
                  <a:pt x="654" y="1313"/>
                </a:lnTo>
                <a:lnTo>
                  <a:pt x="608" y="1555"/>
                </a:lnTo>
                <a:lnTo>
                  <a:pt x="571" y="1797"/>
                </a:lnTo>
                <a:lnTo>
                  <a:pt x="544" y="2032"/>
                </a:lnTo>
                <a:lnTo>
                  <a:pt x="507" y="2268"/>
                </a:lnTo>
                <a:lnTo>
                  <a:pt x="479" y="2482"/>
                </a:lnTo>
                <a:lnTo>
                  <a:pt x="451" y="2682"/>
                </a:lnTo>
                <a:lnTo>
                  <a:pt x="433" y="2772"/>
                </a:lnTo>
                <a:lnTo>
                  <a:pt x="415" y="2855"/>
                </a:lnTo>
                <a:lnTo>
                  <a:pt x="405" y="2931"/>
                </a:lnTo>
                <a:lnTo>
                  <a:pt x="387" y="3000"/>
                </a:lnTo>
                <a:lnTo>
                  <a:pt x="368" y="3063"/>
                </a:lnTo>
                <a:lnTo>
                  <a:pt x="350" y="3111"/>
                </a:lnTo>
                <a:lnTo>
                  <a:pt x="0" y="3111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567240"/>
            <a:ext cx="9147240" cy="2789280"/>
          </a:xfrm>
          <a:custGeom>
            <a:avLst/>
            <a:gdLst/>
            <a:ahLst/>
            <a:rect l="l" t="t" r="r" b="b"/>
            <a:pathLst>
              <a:path w="5762" h="1757">
                <a:moveTo>
                  <a:pt x="0" y="728"/>
                </a:moveTo>
                <a:lnTo>
                  <a:pt x="0" y="911"/>
                </a:lnTo>
                <a:lnTo>
                  <a:pt x="55" y="950"/>
                </a:lnTo>
                <a:lnTo>
                  <a:pt x="120" y="1003"/>
                </a:lnTo>
                <a:lnTo>
                  <a:pt x="194" y="1062"/>
                </a:lnTo>
                <a:lnTo>
                  <a:pt x="277" y="1127"/>
                </a:lnTo>
                <a:lnTo>
                  <a:pt x="461" y="1278"/>
                </a:lnTo>
                <a:lnTo>
                  <a:pt x="664" y="1429"/>
                </a:lnTo>
                <a:lnTo>
                  <a:pt x="774" y="1501"/>
                </a:lnTo>
                <a:lnTo>
                  <a:pt x="885" y="1573"/>
                </a:lnTo>
                <a:lnTo>
                  <a:pt x="1005" y="1632"/>
                </a:lnTo>
                <a:lnTo>
                  <a:pt x="1115" y="1684"/>
                </a:lnTo>
                <a:lnTo>
                  <a:pt x="1226" y="1717"/>
                </a:lnTo>
                <a:lnTo>
                  <a:pt x="1337" y="1743"/>
                </a:lnTo>
                <a:lnTo>
                  <a:pt x="1447" y="1756"/>
                </a:lnTo>
                <a:lnTo>
                  <a:pt x="1549" y="1743"/>
                </a:lnTo>
                <a:lnTo>
                  <a:pt x="1604" y="1730"/>
                </a:lnTo>
                <a:lnTo>
                  <a:pt x="1650" y="1710"/>
                </a:lnTo>
                <a:lnTo>
                  <a:pt x="1751" y="1651"/>
                </a:lnTo>
                <a:lnTo>
                  <a:pt x="1853" y="1573"/>
                </a:lnTo>
                <a:lnTo>
                  <a:pt x="1945" y="1475"/>
                </a:lnTo>
                <a:lnTo>
                  <a:pt x="2046" y="1363"/>
                </a:lnTo>
                <a:lnTo>
                  <a:pt x="2138" y="1245"/>
                </a:lnTo>
                <a:lnTo>
                  <a:pt x="2341" y="983"/>
                </a:lnTo>
                <a:lnTo>
                  <a:pt x="2443" y="859"/>
                </a:lnTo>
                <a:lnTo>
                  <a:pt x="2553" y="734"/>
                </a:lnTo>
                <a:lnTo>
                  <a:pt x="2655" y="616"/>
                </a:lnTo>
                <a:lnTo>
                  <a:pt x="2765" y="511"/>
                </a:lnTo>
                <a:lnTo>
                  <a:pt x="2885" y="420"/>
                </a:lnTo>
                <a:lnTo>
                  <a:pt x="3005" y="348"/>
                </a:lnTo>
                <a:lnTo>
                  <a:pt x="3125" y="302"/>
                </a:lnTo>
                <a:lnTo>
                  <a:pt x="3189" y="282"/>
                </a:lnTo>
                <a:lnTo>
                  <a:pt x="3254" y="276"/>
                </a:lnTo>
                <a:lnTo>
                  <a:pt x="3318" y="276"/>
                </a:lnTo>
                <a:lnTo>
                  <a:pt x="3392" y="282"/>
                </a:lnTo>
                <a:lnTo>
                  <a:pt x="3549" y="308"/>
                </a:lnTo>
                <a:lnTo>
                  <a:pt x="3705" y="354"/>
                </a:lnTo>
                <a:lnTo>
                  <a:pt x="3881" y="420"/>
                </a:lnTo>
                <a:lnTo>
                  <a:pt x="4065" y="498"/>
                </a:lnTo>
                <a:lnTo>
                  <a:pt x="4249" y="590"/>
                </a:lnTo>
                <a:lnTo>
                  <a:pt x="4434" y="695"/>
                </a:lnTo>
                <a:lnTo>
                  <a:pt x="4618" y="800"/>
                </a:lnTo>
                <a:lnTo>
                  <a:pt x="4968" y="1009"/>
                </a:lnTo>
                <a:lnTo>
                  <a:pt x="5134" y="1114"/>
                </a:lnTo>
                <a:lnTo>
                  <a:pt x="5291" y="1212"/>
                </a:lnTo>
                <a:lnTo>
                  <a:pt x="5438" y="1298"/>
                </a:lnTo>
                <a:lnTo>
                  <a:pt x="5567" y="1370"/>
                </a:lnTo>
                <a:lnTo>
                  <a:pt x="5669" y="1422"/>
                </a:lnTo>
                <a:lnTo>
                  <a:pt x="5761" y="1461"/>
                </a:lnTo>
                <a:lnTo>
                  <a:pt x="5761" y="1075"/>
                </a:lnTo>
                <a:lnTo>
                  <a:pt x="5678" y="1055"/>
                </a:lnTo>
                <a:lnTo>
                  <a:pt x="5577" y="1016"/>
                </a:lnTo>
                <a:lnTo>
                  <a:pt x="5457" y="957"/>
                </a:lnTo>
                <a:lnTo>
                  <a:pt x="5319" y="885"/>
                </a:lnTo>
                <a:lnTo>
                  <a:pt x="5171" y="800"/>
                </a:lnTo>
                <a:lnTo>
                  <a:pt x="5005" y="701"/>
                </a:lnTo>
                <a:lnTo>
                  <a:pt x="4830" y="603"/>
                </a:lnTo>
                <a:lnTo>
                  <a:pt x="4646" y="498"/>
                </a:lnTo>
                <a:lnTo>
                  <a:pt x="4461" y="400"/>
                </a:lnTo>
                <a:lnTo>
                  <a:pt x="4268" y="302"/>
                </a:lnTo>
                <a:lnTo>
                  <a:pt x="4083" y="210"/>
                </a:lnTo>
                <a:lnTo>
                  <a:pt x="3899" y="131"/>
                </a:lnTo>
                <a:lnTo>
                  <a:pt x="3724" y="72"/>
                </a:lnTo>
                <a:lnTo>
                  <a:pt x="3549" y="27"/>
                </a:lnTo>
                <a:lnTo>
                  <a:pt x="3392" y="7"/>
                </a:lnTo>
                <a:lnTo>
                  <a:pt x="3318" y="0"/>
                </a:lnTo>
                <a:lnTo>
                  <a:pt x="3245" y="7"/>
                </a:lnTo>
                <a:lnTo>
                  <a:pt x="3180" y="20"/>
                </a:lnTo>
                <a:lnTo>
                  <a:pt x="3116" y="40"/>
                </a:lnTo>
                <a:lnTo>
                  <a:pt x="3051" y="66"/>
                </a:lnTo>
                <a:lnTo>
                  <a:pt x="2996" y="92"/>
                </a:lnTo>
                <a:lnTo>
                  <a:pt x="2876" y="177"/>
                </a:lnTo>
                <a:lnTo>
                  <a:pt x="2765" y="276"/>
                </a:lnTo>
                <a:lnTo>
                  <a:pt x="2655" y="387"/>
                </a:lnTo>
                <a:lnTo>
                  <a:pt x="2553" y="518"/>
                </a:lnTo>
                <a:lnTo>
                  <a:pt x="2452" y="649"/>
                </a:lnTo>
                <a:lnTo>
                  <a:pt x="2350" y="787"/>
                </a:lnTo>
                <a:lnTo>
                  <a:pt x="2249" y="924"/>
                </a:lnTo>
                <a:lnTo>
                  <a:pt x="2157" y="1062"/>
                </a:lnTo>
                <a:lnTo>
                  <a:pt x="2056" y="1193"/>
                </a:lnTo>
                <a:lnTo>
                  <a:pt x="1963" y="1304"/>
                </a:lnTo>
                <a:lnTo>
                  <a:pt x="1871" y="1409"/>
                </a:lnTo>
                <a:lnTo>
                  <a:pt x="1770" y="1494"/>
                </a:lnTo>
                <a:lnTo>
                  <a:pt x="1678" y="1553"/>
                </a:lnTo>
                <a:lnTo>
                  <a:pt x="1622" y="1579"/>
                </a:lnTo>
                <a:lnTo>
                  <a:pt x="1576" y="1592"/>
                </a:lnTo>
                <a:lnTo>
                  <a:pt x="1475" y="1606"/>
                </a:lnTo>
                <a:lnTo>
                  <a:pt x="1364" y="1592"/>
                </a:lnTo>
                <a:lnTo>
                  <a:pt x="1254" y="1560"/>
                </a:lnTo>
                <a:lnTo>
                  <a:pt x="1134" y="1507"/>
                </a:lnTo>
                <a:lnTo>
                  <a:pt x="1023" y="1448"/>
                </a:lnTo>
                <a:lnTo>
                  <a:pt x="903" y="1376"/>
                </a:lnTo>
                <a:lnTo>
                  <a:pt x="793" y="1298"/>
                </a:lnTo>
                <a:lnTo>
                  <a:pt x="682" y="1212"/>
                </a:lnTo>
                <a:lnTo>
                  <a:pt x="470" y="1042"/>
                </a:lnTo>
                <a:lnTo>
                  <a:pt x="369" y="963"/>
                </a:lnTo>
                <a:lnTo>
                  <a:pt x="277" y="885"/>
                </a:lnTo>
                <a:lnTo>
                  <a:pt x="194" y="826"/>
                </a:lnTo>
                <a:lnTo>
                  <a:pt x="120" y="773"/>
                </a:lnTo>
                <a:lnTo>
                  <a:pt x="55" y="741"/>
                </a:lnTo>
                <a:lnTo>
                  <a:pt x="0" y="72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654360"/>
            <a:ext cx="5940360" cy="3200400"/>
          </a:xfrm>
          <a:custGeom>
            <a:avLst/>
            <a:gdLst/>
            <a:ahLst/>
            <a:rect l="l" t="t" r="r" b="b"/>
            <a:pathLst>
              <a:path w="3742" h="2016">
                <a:moveTo>
                  <a:pt x="0" y="348"/>
                </a:moveTo>
                <a:lnTo>
                  <a:pt x="0" y="446"/>
                </a:lnTo>
                <a:lnTo>
                  <a:pt x="38" y="453"/>
                </a:lnTo>
                <a:lnTo>
                  <a:pt x="94" y="453"/>
                </a:lnTo>
                <a:lnTo>
                  <a:pt x="170" y="439"/>
                </a:lnTo>
                <a:lnTo>
                  <a:pt x="264" y="418"/>
                </a:lnTo>
                <a:lnTo>
                  <a:pt x="365" y="397"/>
                </a:lnTo>
                <a:lnTo>
                  <a:pt x="478" y="362"/>
                </a:lnTo>
                <a:lnTo>
                  <a:pt x="604" y="334"/>
                </a:lnTo>
                <a:lnTo>
                  <a:pt x="736" y="299"/>
                </a:lnTo>
                <a:lnTo>
                  <a:pt x="1012" y="237"/>
                </a:lnTo>
                <a:lnTo>
                  <a:pt x="1289" y="181"/>
                </a:lnTo>
                <a:lnTo>
                  <a:pt x="1427" y="167"/>
                </a:lnTo>
                <a:lnTo>
                  <a:pt x="1566" y="153"/>
                </a:lnTo>
                <a:lnTo>
                  <a:pt x="1691" y="153"/>
                </a:lnTo>
                <a:lnTo>
                  <a:pt x="1811" y="167"/>
                </a:lnTo>
                <a:lnTo>
                  <a:pt x="1930" y="188"/>
                </a:lnTo>
                <a:lnTo>
                  <a:pt x="2056" y="216"/>
                </a:lnTo>
                <a:lnTo>
                  <a:pt x="2320" y="292"/>
                </a:lnTo>
                <a:lnTo>
                  <a:pt x="2603" y="383"/>
                </a:lnTo>
                <a:lnTo>
                  <a:pt x="2874" y="495"/>
                </a:lnTo>
                <a:lnTo>
                  <a:pt x="3006" y="558"/>
                </a:lnTo>
                <a:lnTo>
                  <a:pt x="3131" y="620"/>
                </a:lnTo>
                <a:lnTo>
                  <a:pt x="3251" y="683"/>
                </a:lnTo>
                <a:lnTo>
                  <a:pt x="3358" y="746"/>
                </a:lnTo>
                <a:lnTo>
                  <a:pt x="3458" y="809"/>
                </a:lnTo>
                <a:lnTo>
                  <a:pt x="3546" y="871"/>
                </a:lnTo>
                <a:lnTo>
                  <a:pt x="3616" y="934"/>
                </a:lnTo>
                <a:lnTo>
                  <a:pt x="3672" y="990"/>
                </a:lnTo>
                <a:lnTo>
                  <a:pt x="3710" y="1053"/>
                </a:lnTo>
                <a:lnTo>
                  <a:pt x="3735" y="1122"/>
                </a:lnTo>
                <a:lnTo>
                  <a:pt x="3741" y="1199"/>
                </a:lnTo>
                <a:lnTo>
                  <a:pt x="3735" y="1283"/>
                </a:lnTo>
                <a:lnTo>
                  <a:pt x="3716" y="1374"/>
                </a:lnTo>
                <a:lnTo>
                  <a:pt x="3685" y="1457"/>
                </a:lnTo>
                <a:lnTo>
                  <a:pt x="3653" y="1548"/>
                </a:lnTo>
                <a:lnTo>
                  <a:pt x="3609" y="1632"/>
                </a:lnTo>
                <a:lnTo>
                  <a:pt x="3572" y="1715"/>
                </a:lnTo>
                <a:lnTo>
                  <a:pt x="3528" y="1792"/>
                </a:lnTo>
                <a:lnTo>
                  <a:pt x="3484" y="1855"/>
                </a:lnTo>
                <a:lnTo>
                  <a:pt x="3446" y="1918"/>
                </a:lnTo>
                <a:lnTo>
                  <a:pt x="3408" y="1959"/>
                </a:lnTo>
                <a:lnTo>
                  <a:pt x="3383" y="1994"/>
                </a:lnTo>
                <a:lnTo>
                  <a:pt x="3364" y="2015"/>
                </a:lnTo>
                <a:lnTo>
                  <a:pt x="3358" y="2015"/>
                </a:lnTo>
                <a:lnTo>
                  <a:pt x="3697" y="767"/>
                </a:lnTo>
                <a:lnTo>
                  <a:pt x="3653" y="704"/>
                </a:lnTo>
                <a:lnTo>
                  <a:pt x="3597" y="641"/>
                </a:lnTo>
                <a:lnTo>
                  <a:pt x="3528" y="578"/>
                </a:lnTo>
                <a:lnTo>
                  <a:pt x="3452" y="516"/>
                </a:lnTo>
                <a:lnTo>
                  <a:pt x="3364" y="453"/>
                </a:lnTo>
                <a:lnTo>
                  <a:pt x="3270" y="397"/>
                </a:lnTo>
                <a:lnTo>
                  <a:pt x="3163" y="341"/>
                </a:lnTo>
                <a:lnTo>
                  <a:pt x="3056" y="286"/>
                </a:lnTo>
                <a:lnTo>
                  <a:pt x="2830" y="188"/>
                </a:lnTo>
                <a:lnTo>
                  <a:pt x="2591" y="111"/>
                </a:lnTo>
                <a:lnTo>
                  <a:pt x="2352" y="48"/>
                </a:lnTo>
                <a:lnTo>
                  <a:pt x="2113" y="7"/>
                </a:lnTo>
                <a:lnTo>
                  <a:pt x="1993" y="0"/>
                </a:lnTo>
                <a:lnTo>
                  <a:pt x="1861" y="0"/>
                </a:lnTo>
                <a:lnTo>
                  <a:pt x="1729" y="7"/>
                </a:lnTo>
                <a:lnTo>
                  <a:pt x="1585" y="20"/>
                </a:lnTo>
                <a:lnTo>
                  <a:pt x="1289" y="69"/>
                </a:lnTo>
                <a:lnTo>
                  <a:pt x="994" y="125"/>
                </a:lnTo>
                <a:lnTo>
                  <a:pt x="698" y="188"/>
                </a:lnTo>
                <a:lnTo>
                  <a:pt x="560" y="223"/>
                </a:lnTo>
                <a:lnTo>
                  <a:pt x="428" y="258"/>
                </a:lnTo>
                <a:lnTo>
                  <a:pt x="308" y="286"/>
                </a:lnTo>
                <a:lnTo>
                  <a:pt x="195" y="313"/>
                </a:lnTo>
                <a:lnTo>
                  <a:pt x="88" y="334"/>
                </a:lnTo>
                <a:lnTo>
                  <a:pt x="0" y="348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Question #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patient with normal laboratories, dry IV sites, and blood gushing out a surgical drain probably h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. von Willebrand’s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undiagnosed hemophil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. mechanical blee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a bad attitu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e000f"/>
            </a:gs>
            <a:gs pos="50000">
              <a:srgbClr val="660033"/>
            </a:gs>
            <a:gs pos="100000">
              <a:srgbClr val="1e000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1f000f"/>
              </a:gs>
              <a:gs pos="50000">
                <a:srgbClr val="9c004e"/>
              </a:gs>
              <a:gs pos="100000">
                <a:srgbClr val="1f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7240" cy="1965240"/>
          </a:xfrm>
          <a:custGeom>
            <a:avLst/>
            <a:gdLst/>
            <a:ahLst/>
            <a:rect l="l" t="t" r="r" b="b"/>
            <a:pathLst>
              <a:path w="5762" h="1238">
                <a:moveTo>
                  <a:pt x="0" y="0"/>
                </a:moveTo>
                <a:lnTo>
                  <a:pt x="5761" y="0"/>
                </a:lnTo>
                <a:lnTo>
                  <a:pt x="5761" y="878"/>
                </a:lnTo>
                <a:lnTo>
                  <a:pt x="5724" y="889"/>
                </a:lnTo>
                <a:lnTo>
                  <a:pt x="5687" y="897"/>
                </a:lnTo>
                <a:lnTo>
                  <a:pt x="5650" y="902"/>
                </a:lnTo>
                <a:lnTo>
                  <a:pt x="5604" y="906"/>
                </a:lnTo>
                <a:lnTo>
                  <a:pt x="5512" y="908"/>
                </a:lnTo>
                <a:lnTo>
                  <a:pt x="5411" y="904"/>
                </a:lnTo>
                <a:lnTo>
                  <a:pt x="5291" y="895"/>
                </a:lnTo>
                <a:lnTo>
                  <a:pt x="5171" y="880"/>
                </a:lnTo>
                <a:lnTo>
                  <a:pt x="5042" y="863"/>
                </a:lnTo>
                <a:lnTo>
                  <a:pt x="4904" y="844"/>
                </a:lnTo>
                <a:lnTo>
                  <a:pt x="4609" y="805"/>
                </a:lnTo>
                <a:lnTo>
                  <a:pt x="4461" y="788"/>
                </a:lnTo>
                <a:lnTo>
                  <a:pt x="4295" y="770"/>
                </a:lnTo>
                <a:lnTo>
                  <a:pt x="4129" y="760"/>
                </a:lnTo>
                <a:lnTo>
                  <a:pt x="3954" y="753"/>
                </a:lnTo>
                <a:lnTo>
                  <a:pt x="3779" y="753"/>
                </a:lnTo>
                <a:lnTo>
                  <a:pt x="3604" y="760"/>
                </a:lnTo>
                <a:lnTo>
                  <a:pt x="3512" y="766"/>
                </a:lnTo>
                <a:lnTo>
                  <a:pt x="3411" y="777"/>
                </a:lnTo>
                <a:lnTo>
                  <a:pt x="3309" y="788"/>
                </a:lnTo>
                <a:lnTo>
                  <a:pt x="3199" y="801"/>
                </a:lnTo>
                <a:lnTo>
                  <a:pt x="2968" y="835"/>
                </a:lnTo>
                <a:lnTo>
                  <a:pt x="2719" y="874"/>
                </a:lnTo>
                <a:lnTo>
                  <a:pt x="2461" y="917"/>
                </a:lnTo>
                <a:lnTo>
                  <a:pt x="2194" y="964"/>
                </a:lnTo>
                <a:lnTo>
                  <a:pt x="1926" y="1011"/>
                </a:lnTo>
                <a:lnTo>
                  <a:pt x="1668" y="1059"/>
                </a:lnTo>
                <a:lnTo>
                  <a:pt x="1401" y="1104"/>
                </a:lnTo>
                <a:lnTo>
                  <a:pt x="1152" y="1145"/>
                </a:lnTo>
                <a:lnTo>
                  <a:pt x="903" y="1179"/>
                </a:lnTo>
                <a:lnTo>
                  <a:pt x="793" y="1194"/>
                </a:lnTo>
                <a:lnTo>
                  <a:pt x="682" y="1207"/>
                </a:lnTo>
                <a:lnTo>
                  <a:pt x="571" y="1220"/>
                </a:lnTo>
                <a:lnTo>
                  <a:pt x="470" y="1229"/>
                </a:lnTo>
                <a:lnTo>
                  <a:pt x="378" y="1233"/>
                </a:lnTo>
                <a:lnTo>
                  <a:pt x="286" y="1237"/>
                </a:lnTo>
                <a:lnTo>
                  <a:pt x="203" y="1237"/>
                </a:lnTo>
                <a:lnTo>
                  <a:pt x="129" y="1235"/>
                </a:lnTo>
                <a:lnTo>
                  <a:pt x="65" y="1229"/>
                </a:lnTo>
                <a:lnTo>
                  <a:pt x="0" y="121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349280"/>
            <a:ext cx="9147240" cy="5511960"/>
          </a:xfrm>
          <a:custGeom>
            <a:avLst/>
            <a:gdLst/>
            <a:ahLst/>
            <a:rect l="l" t="t" r="r" b="b"/>
            <a:pathLst>
              <a:path w="5762" h="3472">
                <a:moveTo>
                  <a:pt x="0" y="464"/>
                </a:moveTo>
                <a:lnTo>
                  <a:pt x="194" y="477"/>
                </a:lnTo>
                <a:lnTo>
                  <a:pt x="378" y="484"/>
                </a:lnTo>
                <a:lnTo>
                  <a:pt x="562" y="484"/>
                </a:lnTo>
                <a:lnTo>
                  <a:pt x="747" y="470"/>
                </a:lnTo>
                <a:lnTo>
                  <a:pt x="1106" y="436"/>
                </a:lnTo>
                <a:lnTo>
                  <a:pt x="1447" y="388"/>
                </a:lnTo>
                <a:lnTo>
                  <a:pt x="1779" y="325"/>
                </a:lnTo>
                <a:lnTo>
                  <a:pt x="2083" y="263"/>
                </a:lnTo>
                <a:lnTo>
                  <a:pt x="2369" y="201"/>
                </a:lnTo>
                <a:lnTo>
                  <a:pt x="2636" y="152"/>
                </a:lnTo>
                <a:lnTo>
                  <a:pt x="2645" y="152"/>
                </a:lnTo>
                <a:lnTo>
                  <a:pt x="2664" y="146"/>
                </a:lnTo>
                <a:lnTo>
                  <a:pt x="2692" y="146"/>
                </a:lnTo>
                <a:lnTo>
                  <a:pt x="2738" y="139"/>
                </a:lnTo>
                <a:lnTo>
                  <a:pt x="2839" y="125"/>
                </a:lnTo>
                <a:lnTo>
                  <a:pt x="2968" y="104"/>
                </a:lnTo>
                <a:lnTo>
                  <a:pt x="3097" y="83"/>
                </a:lnTo>
                <a:lnTo>
                  <a:pt x="3217" y="70"/>
                </a:lnTo>
                <a:lnTo>
                  <a:pt x="3309" y="56"/>
                </a:lnTo>
                <a:lnTo>
                  <a:pt x="3346" y="49"/>
                </a:lnTo>
                <a:lnTo>
                  <a:pt x="3374" y="42"/>
                </a:lnTo>
                <a:lnTo>
                  <a:pt x="3521" y="21"/>
                </a:lnTo>
                <a:lnTo>
                  <a:pt x="3669" y="7"/>
                </a:lnTo>
                <a:lnTo>
                  <a:pt x="3835" y="0"/>
                </a:lnTo>
                <a:lnTo>
                  <a:pt x="3991" y="7"/>
                </a:lnTo>
                <a:lnTo>
                  <a:pt x="4166" y="21"/>
                </a:lnTo>
                <a:lnTo>
                  <a:pt x="4332" y="35"/>
                </a:lnTo>
                <a:lnTo>
                  <a:pt x="4664" y="83"/>
                </a:lnTo>
                <a:lnTo>
                  <a:pt x="4996" y="139"/>
                </a:lnTo>
                <a:lnTo>
                  <a:pt x="5143" y="166"/>
                </a:lnTo>
                <a:lnTo>
                  <a:pt x="5291" y="187"/>
                </a:lnTo>
                <a:lnTo>
                  <a:pt x="5429" y="208"/>
                </a:lnTo>
                <a:lnTo>
                  <a:pt x="5549" y="229"/>
                </a:lnTo>
                <a:lnTo>
                  <a:pt x="5660" y="235"/>
                </a:lnTo>
                <a:lnTo>
                  <a:pt x="5761" y="242"/>
                </a:lnTo>
                <a:lnTo>
                  <a:pt x="5761" y="3471"/>
                </a:lnTo>
                <a:lnTo>
                  <a:pt x="0" y="3471"/>
                </a:lnTo>
                <a:lnTo>
                  <a:pt x="0" y="3464"/>
                </a:lnTo>
                <a:lnTo>
                  <a:pt x="0" y="3436"/>
                </a:lnTo>
                <a:lnTo>
                  <a:pt x="0" y="3395"/>
                </a:lnTo>
                <a:lnTo>
                  <a:pt x="0" y="3340"/>
                </a:lnTo>
                <a:lnTo>
                  <a:pt x="0" y="3271"/>
                </a:lnTo>
                <a:lnTo>
                  <a:pt x="0" y="3194"/>
                </a:lnTo>
                <a:lnTo>
                  <a:pt x="0" y="3105"/>
                </a:lnTo>
                <a:lnTo>
                  <a:pt x="0" y="3001"/>
                </a:lnTo>
                <a:lnTo>
                  <a:pt x="0" y="2890"/>
                </a:lnTo>
                <a:lnTo>
                  <a:pt x="0" y="2773"/>
                </a:lnTo>
                <a:lnTo>
                  <a:pt x="0" y="2517"/>
                </a:lnTo>
                <a:lnTo>
                  <a:pt x="0" y="2247"/>
                </a:lnTo>
                <a:lnTo>
                  <a:pt x="0" y="1971"/>
                </a:lnTo>
                <a:lnTo>
                  <a:pt x="0" y="1687"/>
                </a:lnTo>
                <a:lnTo>
                  <a:pt x="0" y="1418"/>
                </a:lnTo>
                <a:lnTo>
                  <a:pt x="0" y="1162"/>
                </a:lnTo>
                <a:lnTo>
                  <a:pt x="0" y="1044"/>
                </a:lnTo>
                <a:lnTo>
                  <a:pt x="0" y="934"/>
                </a:lnTo>
                <a:lnTo>
                  <a:pt x="0" y="830"/>
                </a:lnTo>
                <a:lnTo>
                  <a:pt x="0" y="740"/>
                </a:lnTo>
                <a:lnTo>
                  <a:pt x="0" y="664"/>
                </a:lnTo>
                <a:lnTo>
                  <a:pt x="0" y="595"/>
                </a:lnTo>
                <a:lnTo>
                  <a:pt x="0" y="540"/>
                </a:lnTo>
                <a:lnTo>
                  <a:pt x="0" y="498"/>
                </a:lnTo>
                <a:lnTo>
                  <a:pt x="0" y="470"/>
                </a:lnTo>
                <a:lnTo>
                  <a:pt x="0" y="464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28680"/>
            <a:ext cx="9147240" cy="815760"/>
          </a:xfrm>
          <a:custGeom>
            <a:avLst/>
            <a:gdLst/>
            <a:ahLst/>
            <a:rect l="l" t="t" r="r" b="b"/>
            <a:pathLst>
              <a:path w="5762" h="514">
                <a:moveTo>
                  <a:pt x="0" y="140"/>
                </a:moveTo>
                <a:lnTo>
                  <a:pt x="0" y="379"/>
                </a:lnTo>
                <a:lnTo>
                  <a:pt x="65" y="389"/>
                </a:lnTo>
                <a:lnTo>
                  <a:pt x="129" y="397"/>
                </a:lnTo>
                <a:lnTo>
                  <a:pt x="295" y="411"/>
                </a:lnTo>
                <a:lnTo>
                  <a:pt x="489" y="423"/>
                </a:lnTo>
                <a:lnTo>
                  <a:pt x="710" y="432"/>
                </a:lnTo>
                <a:lnTo>
                  <a:pt x="830" y="435"/>
                </a:lnTo>
                <a:lnTo>
                  <a:pt x="959" y="436"/>
                </a:lnTo>
                <a:lnTo>
                  <a:pt x="1088" y="437"/>
                </a:lnTo>
                <a:lnTo>
                  <a:pt x="1217" y="436"/>
                </a:lnTo>
                <a:lnTo>
                  <a:pt x="1355" y="435"/>
                </a:lnTo>
                <a:lnTo>
                  <a:pt x="1493" y="432"/>
                </a:lnTo>
                <a:lnTo>
                  <a:pt x="1632" y="427"/>
                </a:lnTo>
                <a:lnTo>
                  <a:pt x="1770" y="420"/>
                </a:lnTo>
                <a:lnTo>
                  <a:pt x="1844" y="415"/>
                </a:lnTo>
                <a:lnTo>
                  <a:pt x="1917" y="411"/>
                </a:lnTo>
                <a:lnTo>
                  <a:pt x="2083" y="397"/>
                </a:lnTo>
                <a:lnTo>
                  <a:pt x="2258" y="379"/>
                </a:lnTo>
                <a:lnTo>
                  <a:pt x="2433" y="360"/>
                </a:lnTo>
                <a:lnTo>
                  <a:pt x="2627" y="338"/>
                </a:lnTo>
                <a:lnTo>
                  <a:pt x="2821" y="315"/>
                </a:lnTo>
                <a:lnTo>
                  <a:pt x="3208" y="266"/>
                </a:lnTo>
                <a:lnTo>
                  <a:pt x="3401" y="243"/>
                </a:lnTo>
                <a:lnTo>
                  <a:pt x="3595" y="221"/>
                </a:lnTo>
                <a:lnTo>
                  <a:pt x="3779" y="200"/>
                </a:lnTo>
                <a:lnTo>
                  <a:pt x="3964" y="183"/>
                </a:lnTo>
                <a:lnTo>
                  <a:pt x="4129" y="169"/>
                </a:lnTo>
                <a:lnTo>
                  <a:pt x="4212" y="163"/>
                </a:lnTo>
                <a:lnTo>
                  <a:pt x="4295" y="159"/>
                </a:lnTo>
                <a:lnTo>
                  <a:pt x="4369" y="155"/>
                </a:lnTo>
                <a:lnTo>
                  <a:pt x="4443" y="153"/>
                </a:lnTo>
                <a:lnTo>
                  <a:pt x="4507" y="152"/>
                </a:lnTo>
                <a:lnTo>
                  <a:pt x="4572" y="153"/>
                </a:lnTo>
                <a:lnTo>
                  <a:pt x="4636" y="155"/>
                </a:lnTo>
                <a:lnTo>
                  <a:pt x="4692" y="160"/>
                </a:lnTo>
                <a:lnTo>
                  <a:pt x="4747" y="165"/>
                </a:lnTo>
                <a:lnTo>
                  <a:pt x="4802" y="172"/>
                </a:lnTo>
                <a:lnTo>
                  <a:pt x="4858" y="182"/>
                </a:lnTo>
                <a:lnTo>
                  <a:pt x="4913" y="192"/>
                </a:lnTo>
                <a:lnTo>
                  <a:pt x="4959" y="204"/>
                </a:lnTo>
                <a:lnTo>
                  <a:pt x="5005" y="215"/>
                </a:lnTo>
                <a:lnTo>
                  <a:pt x="5097" y="243"/>
                </a:lnTo>
                <a:lnTo>
                  <a:pt x="5190" y="274"/>
                </a:lnTo>
                <a:lnTo>
                  <a:pt x="5263" y="307"/>
                </a:lnTo>
                <a:lnTo>
                  <a:pt x="5337" y="339"/>
                </a:lnTo>
                <a:lnTo>
                  <a:pt x="5411" y="373"/>
                </a:lnTo>
                <a:lnTo>
                  <a:pt x="5475" y="404"/>
                </a:lnTo>
                <a:lnTo>
                  <a:pt x="5531" y="433"/>
                </a:lnTo>
                <a:lnTo>
                  <a:pt x="5586" y="459"/>
                </a:lnTo>
                <a:lnTo>
                  <a:pt x="5604" y="471"/>
                </a:lnTo>
                <a:lnTo>
                  <a:pt x="5632" y="481"/>
                </a:lnTo>
                <a:lnTo>
                  <a:pt x="5660" y="491"/>
                </a:lnTo>
                <a:lnTo>
                  <a:pt x="5678" y="499"/>
                </a:lnTo>
                <a:lnTo>
                  <a:pt x="5696" y="504"/>
                </a:lnTo>
                <a:lnTo>
                  <a:pt x="5724" y="509"/>
                </a:lnTo>
                <a:lnTo>
                  <a:pt x="5743" y="511"/>
                </a:lnTo>
                <a:lnTo>
                  <a:pt x="5761" y="513"/>
                </a:lnTo>
                <a:lnTo>
                  <a:pt x="5761" y="140"/>
                </a:lnTo>
                <a:lnTo>
                  <a:pt x="5678" y="109"/>
                </a:lnTo>
                <a:lnTo>
                  <a:pt x="5577" y="80"/>
                </a:lnTo>
                <a:lnTo>
                  <a:pt x="5457" y="53"/>
                </a:lnTo>
                <a:lnTo>
                  <a:pt x="5392" y="41"/>
                </a:lnTo>
                <a:lnTo>
                  <a:pt x="5319" y="30"/>
                </a:lnTo>
                <a:lnTo>
                  <a:pt x="5245" y="21"/>
                </a:lnTo>
                <a:lnTo>
                  <a:pt x="5162" y="14"/>
                </a:lnTo>
                <a:lnTo>
                  <a:pt x="5079" y="7"/>
                </a:lnTo>
                <a:lnTo>
                  <a:pt x="4987" y="2"/>
                </a:lnTo>
                <a:lnTo>
                  <a:pt x="4885" y="0"/>
                </a:lnTo>
                <a:lnTo>
                  <a:pt x="4784" y="0"/>
                </a:lnTo>
                <a:lnTo>
                  <a:pt x="4673" y="1"/>
                </a:lnTo>
                <a:lnTo>
                  <a:pt x="4563" y="6"/>
                </a:lnTo>
                <a:lnTo>
                  <a:pt x="4498" y="9"/>
                </a:lnTo>
                <a:lnTo>
                  <a:pt x="4434" y="14"/>
                </a:lnTo>
                <a:lnTo>
                  <a:pt x="4369" y="20"/>
                </a:lnTo>
                <a:lnTo>
                  <a:pt x="4305" y="27"/>
                </a:lnTo>
                <a:lnTo>
                  <a:pt x="4157" y="43"/>
                </a:lnTo>
                <a:lnTo>
                  <a:pt x="4000" y="63"/>
                </a:lnTo>
                <a:lnTo>
                  <a:pt x="3835" y="86"/>
                </a:lnTo>
                <a:lnTo>
                  <a:pt x="3669" y="110"/>
                </a:lnTo>
                <a:lnTo>
                  <a:pt x="3493" y="135"/>
                </a:lnTo>
                <a:lnTo>
                  <a:pt x="3318" y="162"/>
                </a:lnTo>
                <a:lnTo>
                  <a:pt x="3143" y="189"/>
                </a:lnTo>
                <a:lnTo>
                  <a:pt x="2968" y="214"/>
                </a:lnTo>
                <a:lnTo>
                  <a:pt x="2793" y="238"/>
                </a:lnTo>
                <a:lnTo>
                  <a:pt x="2627" y="260"/>
                </a:lnTo>
                <a:lnTo>
                  <a:pt x="2452" y="279"/>
                </a:lnTo>
                <a:lnTo>
                  <a:pt x="2295" y="295"/>
                </a:lnTo>
                <a:lnTo>
                  <a:pt x="2212" y="301"/>
                </a:lnTo>
                <a:lnTo>
                  <a:pt x="2138" y="307"/>
                </a:lnTo>
                <a:lnTo>
                  <a:pt x="2065" y="311"/>
                </a:lnTo>
                <a:lnTo>
                  <a:pt x="1991" y="314"/>
                </a:lnTo>
                <a:lnTo>
                  <a:pt x="1844" y="316"/>
                </a:lnTo>
                <a:lnTo>
                  <a:pt x="1705" y="314"/>
                </a:lnTo>
                <a:lnTo>
                  <a:pt x="1558" y="309"/>
                </a:lnTo>
                <a:lnTo>
                  <a:pt x="1420" y="301"/>
                </a:lnTo>
                <a:lnTo>
                  <a:pt x="1272" y="290"/>
                </a:lnTo>
                <a:lnTo>
                  <a:pt x="1134" y="278"/>
                </a:lnTo>
                <a:lnTo>
                  <a:pt x="996" y="264"/>
                </a:lnTo>
                <a:lnTo>
                  <a:pt x="866" y="249"/>
                </a:lnTo>
                <a:lnTo>
                  <a:pt x="608" y="216"/>
                </a:lnTo>
                <a:lnTo>
                  <a:pt x="378" y="185"/>
                </a:lnTo>
                <a:lnTo>
                  <a:pt x="277" y="171"/>
                </a:lnTo>
                <a:lnTo>
                  <a:pt x="175" y="159"/>
                </a:lnTo>
                <a:lnTo>
                  <a:pt x="83" y="148"/>
                </a:lnTo>
                <a:lnTo>
                  <a:pt x="0" y="14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e000f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452680"/>
            <a:ext cx="9147240" cy="1003320"/>
          </a:xfrm>
          <a:custGeom>
            <a:avLst/>
            <a:gdLst/>
            <a:ahLst/>
            <a:rect l="l" t="t" r="r" b="b"/>
            <a:pathLst>
              <a:path w="5762" h="632">
                <a:moveTo>
                  <a:pt x="0" y="218"/>
                </a:moveTo>
                <a:lnTo>
                  <a:pt x="0" y="375"/>
                </a:lnTo>
                <a:lnTo>
                  <a:pt x="46" y="386"/>
                </a:lnTo>
                <a:lnTo>
                  <a:pt x="101" y="400"/>
                </a:lnTo>
                <a:lnTo>
                  <a:pt x="175" y="417"/>
                </a:lnTo>
                <a:lnTo>
                  <a:pt x="249" y="431"/>
                </a:lnTo>
                <a:lnTo>
                  <a:pt x="424" y="466"/>
                </a:lnTo>
                <a:lnTo>
                  <a:pt x="618" y="505"/>
                </a:lnTo>
                <a:lnTo>
                  <a:pt x="811" y="540"/>
                </a:lnTo>
                <a:lnTo>
                  <a:pt x="996" y="571"/>
                </a:lnTo>
                <a:lnTo>
                  <a:pt x="1152" y="596"/>
                </a:lnTo>
                <a:lnTo>
                  <a:pt x="1226" y="606"/>
                </a:lnTo>
                <a:lnTo>
                  <a:pt x="1281" y="613"/>
                </a:lnTo>
                <a:lnTo>
                  <a:pt x="1327" y="620"/>
                </a:lnTo>
                <a:lnTo>
                  <a:pt x="1355" y="624"/>
                </a:lnTo>
                <a:lnTo>
                  <a:pt x="1364" y="627"/>
                </a:lnTo>
                <a:lnTo>
                  <a:pt x="1373" y="631"/>
                </a:lnTo>
                <a:lnTo>
                  <a:pt x="1364" y="631"/>
                </a:lnTo>
                <a:lnTo>
                  <a:pt x="1355" y="627"/>
                </a:lnTo>
                <a:lnTo>
                  <a:pt x="1355" y="617"/>
                </a:lnTo>
                <a:lnTo>
                  <a:pt x="1364" y="610"/>
                </a:lnTo>
                <a:lnTo>
                  <a:pt x="1383" y="603"/>
                </a:lnTo>
                <a:lnTo>
                  <a:pt x="1420" y="592"/>
                </a:lnTo>
                <a:lnTo>
                  <a:pt x="1475" y="578"/>
                </a:lnTo>
                <a:lnTo>
                  <a:pt x="1539" y="564"/>
                </a:lnTo>
                <a:lnTo>
                  <a:pt x="1632" y="550"/>
                </a:lnTo>
                <a:lnTo>
                  <a:pt x="1742" y="529"/>
                </a:lnTo>
                <a:lnTo>
                  <a:pt x="1880" y="505"/>
                </a:lnTo>
                <a:lnTo>
                  <a:pt x="2037" y="473"/>
                </a:lnTo>
                <a:lnTo>
                  <a:pt x="2212" y="438"/>
                </a:lnTo>
                <a:lnTo>
                  <a:pt x="2397" y="400"/>
                </a:lnTo>
                <a:lnTo>
                  <a:pt x="2590" y="361"/>
                </a:lnTo>
                <a:lnTo>
                  <a:pt x="3005" y="281"/>
                </a:lnTo>
                <a:lnTo>
                  <a:pt x="3429" y="203"/>
                </a:lnTo>
                <a:lnTo>
                  <a:pt x="3632" y="172"/>
                </a:lnTo>
                <a:lnTo>
                  <a:pt x="3835" y="140"/>
                </a:lnTo>
                <a:lnTo>
                  <a:pt x="4019" y="116"/>
                </a:lnTo>
                <a:lnTo>
                  <a:pt x="4194" y="98"/>
                </a:lnTo>
                <a:lnTo>
                  <a:pt x="4351" y="88"/>
                </a:lnTo>
                <a:lnTo>
                  <a:pt x="4489" y="84"/>
                </a:lnTo>
                <a:lnTo>
                  <a:pt x="4618" y="91"/>
                </a:lnTo>
                <a:lnTo>
                  <a:pt x="4738" y="105"/>
                </a:lnTo>
                <a:lnTo>
                  <a:pt x="4848" y="130"/>
                </a:lnTo>
                <a:lnTo>
                  <a:pt x="4950" y="161"/>
                </a:lnTo>
                <a:lnTo>
                  <a:pt x="5051" y="196"/>
                </a:lnTo>
                <a:lnTo>
                  <a:pt x="5143" y="235"/>
                </a:lnTo>
                <a:lnTo>
                  <a:pt x="5309" y="326"/>
                </a:lnTo>
                <a:lnTo>
                  <a:pt x="5448" y="414"/>
                </a:lnTo>
                <a:lnTo>
                  <a:pt x="5512" y="456"/>
                </a:lnTo>
                <a:lnTo>
                  <a:pt x="5567" y="491"/>
                </a:lnTo>
                <a:lnTo>
                  <a:pt x="5623" y="522"/>
                </a:lnTo>
                <a:lnTo>
                  <a:pt x="5678" y="550"/>
                </a:lnTo>
                <a:lnTo>
                  <a:pt x="5724" y="568"/>
                </a:lnTo>
                <a:lnTo>
                  <a:pt x="5761" y="575"/>
                </a:lnTo>
                <a:lnTo>
                  <a:pt x="5761" y="203"/>
                </a:lnTo>
                <a:lnTo>
                  <a:pt x="5641" y="172"/>
                </a:lnTo>
                <a:lnTo>
                  <a:pt x="5484" y="133"/>
                </a:lnTo>
                <a:lnTo>
                  <a:pt x="5300" y="98"/>
                </a:lnTo>
                <a:lnTo>
                  <a:pt x="5088" y="63"/>
                </a:lnTo>
                <a:lnTo>
                  <a:pt x="4848" y="32"/>
                </a:lnTo>
                <a:lnTo>
                  <a:pt x="4600" y="11"/>
                </a:lnTo>
                <a:lnTo>
                  <a:pt x="4461" y="4"/>
                </a:lnTo>
                <a:lnTo>
                  <a:pt x="4323" y="0"/>
                </a:lnTo>
                <a:lnTo>
                  <a:pt x="4185" y="0"/>
                </a:lnTo>
                <a:lnTo>
                  <a:pt x="4037" y="4"/>
                </a:lnTo>
                <a:lnTo>
                  <a:pt x="3881" y="14"/>
                </a:lnTo>
                <a:lnTo>
                  <a:pt x="3715" y="28"/>
                </a:lnTo>
                <a:lnTo>
                  <a:pt x="3540" y="49"/>
                </a:lnTo>
                <a:lnTo>
                  <a:pt x="3346" y="74"/>
                </a:lnTo>
                <a:lnTo>
                  <a:pt x="3152" y="102"/>
                </a:lnTo>
                <a:lnTo>
                  <a:pt x="2940" y="133"/>
                </a:lnTo>
                <a:lnTo>
                  <a:pt x="2526" y="203"/>
                </a:lnTo>
                <a:lnTo>
                  <a:pt x="2120" y="270"/>
                </a:lnTo>
                <a:lnTo>
                  <a:pt x="1917" y="302"/>
                </a:lnTo>
                <a:lnTo>
                  <a:pt x="1733" y="330"/>
                </a:lnTo>
                <a:lnTo>
                  <a:pt x="1549" y="358"/>
                </a:lnTo>
                <a:lnTo>
                  <a:pt x="1383" y="379"/>
                </a:lnTo>
                <a:lnTo>
                  <a:pt x="1235" y="393"/>
                </a:lnTo>
                <a:lnTo>
                  <a:pt x="1097" y="403"/>
                </a:lnTo>
                <a:lnTo>
                  <a:pt x="977" y="407"/>
                </a:lnTo>
                <a:lnTo>
                  <a:pt x="866" y="407"/>
                </a:lnTo>
                <a:lnTo>
                  <a:pt x="765" y="403"/>
                </a:lnTo>
                <a:lnTo>
                  <a:pt x="673" y="396"/>
                </a:lnTo>
                <a:lnTo>
                  <a:pt x="516" y="372"/>
                </a:lnTo>
                <a:lnTo>
                  <a:pt x="387" y="337"/>
                </a:lnTo>
                <a:lnTo>
                  <a:pt x="267" y="302"/>
                </a:lnTo>
                <a:lnTo>
                  <a:pt x="175" y="267"/>
                </a:lnTo>
                <a:lnTo>
                  <a:pt x="83" y="239"/>
                </a:lnTo>
                <a:lnTo>
                  <a:pt x="0" y="21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73200" y="1920960"/>
            <a:ext cx="6674040" cy="4940280"/>
          </a:xfrm>
          <a:custGeom>
            <a:avLst/>
            <a:gdLst/>
            <a:ahLst/>
            <a:rect l="l" t="t" r="r" b="b"/>
            <a:pathLst>
              <a:path w="4204" h="3112">
                <a:moveTo>
                  <a:pt x="0" y="3111"/>
                </a:moveTo>
                <a:lnTo>
                  <a:pt x="9" y="3056"/>
                </a:lnTo>
                <a:lnTo>
                  <a:pt x="27" y="2993"/>
                </a:lnTo>
                <a:lnTo>
                  <a:pt x="37" y="2924"/>
                </a:lnTo>
                <a:lnTo>
                  <a:pt x="55" y="2841"/>
                </a:lnTo>
                <a:lnTo>
                  <a:pt x="64" y="2758"/>
                </a:lnTo>
                <a:lnTo>
                  <a:pt x="83" y="2662"/>
                </a:lnTo>
                <a:lnTo>
                  <a:pt x="120" y="2454"/>
                </a:lnTo>
                <a:lnTo>
                  <a:pt x="156" y="2233"/>
                </a:lnTo>
                <a:lnTo>
                  <a:pt x="203" y="1991"/>
                </a:lnTo>
                <a:lnTo>
                  <a:pt x="258" y="1749"/>
                </a:lnTo>
                <a:lnTo>
                  <a:pt x="313" y="1493"/>
                </a:lnTo>
                <a:lnTo>
                  <a:pt x="378" y="1251"/>
                </a:lnTo>
                <a:lnTo>
                  <a:pt x="451" y="1009"/>
                </a:lnTo>
                <a:lnTo>
                  <a:pt x="525" y="781"/>
                </a:lnTo>
                <a:lnTo>
                  <a:pt x="617" y="574"/>
                </a:lnTo>
                <a:lnTo>
                  <a:pt x="663" y="477"/>
                </a:lnTo>
                <a:lnTo>
                  <a:pt x="710" y="394"/>
                </a:lnTo>
                <a:lnTo>
                  <a:pt x="765" y="311"/>
                </a:lnTo>
                <a:lnTo>
                  <a:pt x="820" y="235"/>
                </a:lnTo>
                <a:lnTo>
                  <a:pt x="875" y="173"/>
                </a:lnTo>
                <a:lnTo>
                  <a:pt x="931" y="117"/>
                </a:lnTo>
                <a:lnTo>
                  <a:pt x="995" y="76"/>
                </a:lnTo>
                <a:lnTo>
                  <a:pt x="1060" y="41"/>
                </a:lnTo>
                <a:lnTo>
                  <a:pt x="1134" y="21"/>
                </a:lnTo>
                <a:lnTo>
                  <a:pt x="1207" y="7"/>
                </a:lnTo>
                <a:lnTo>
                  <a:pt x="1290" y="0"/>
                </a:lnTo>
                <a:lnTo>
                  <a:pt x="1373" y="0"/>
                </a:lnTo>
                <a:lnTo>
                  <a:pt x="1465" y="14"/>
                </a:lnTo>
                <a:lnTo>
                  <a:pt x="1567" y="28"/>
                </a:lnTo>
                <a:lnTo>
                  <a:pt x="1770" y="83"/>
                </a:lnTo>
                <a:lnTo>
                  <a:pt x="1991" y="159"/>
                </a:lnTo>
                <a:lnTo>
                  <a:pt x="2221" y="249"/>
                </a:lnTo>
                <a:lnTo>
                  <a:pt x="2461" y="352"/>
                </a:lnTo>
                <a:lnTo>
                  <a:pt x="2701" y="470"/>
                </a:lnTo>
                <a:lnTo>
                  <a:pt x="2931" y="594"/>
                </a:lnTo>
                <a:lnTo>
                  <a:pt x="3161" y="726"/>
                </a:lnTo>
                <a:lnTo>
                  <a:pt x="3383" y="850"/>
                </a:lnTo>
                <a:lnTo>
                  <a:pt x="3585" y="975"/>
                </a:lnTo>
                <a:lnTo>
                  <a:pt x="3779" y="1085"/>
                </a:lnTo>
                <a:lnTo>
                  <a:pt x="3945" y="1189"/>
                </a:lnTo>
                <a:lnTo>
                  <a:pt x="4092" y="1272"/>
                </a:lnTo>
                <a:lnTo>
                  <a:pt x="4203" y="1334"/>
                </a:lnTo>
                <a:lnTo>
                  <a:pt x="4203" y="1777"/>
                </a:lnTo>
                <a:lnTo>
                  <a:pt x="4157" y="1756"/>
                </a:lnTo>
                <a:lnTo>
                  <a:pt x="4092" y="1721"/>
                </a:lnTo>
                <a:lnTo>
                  <a:pt x="4028" y="1687"/>
                </a:lnTo>
                <a:lnTo>
                  <a:pt x="3954" y="1645"/>
                </a:lnTo>
                <a:lnTo>
                  <a:pt x="3797" y="1542"/>
                </a:lnTo>
                <a:lnTo>
                  <a:pt x="3613" y="1417"/>
                </a:lnTo>
                <a:lnTo>
                  <a:pt x="3420" y="1279"/>
                </a:lnTo>
                <a:lnTo>
                  <a:pt x="3207" y="1134"/>
                </a:lnTo>
                <a:lnTo>
                  <a:pt x="2986" y="982"/>
                </a:lnTo>
                <a:lnTo>
                  <a:pt x="2756" y="830"/>
                </a:lnTo>
                <a:lnTo>
                  <a:pt x="2525" y="684"/>
                </a:lnTo>
                <a:lnTo>
                  <a:pt x="2304" y="546"/>
                </a:lnTo>
                <a:lnTo>
                  <a:pt x="2083" y="422"/>
                </a:lnTo>
                <a:lnTo>
                  <a:pt x="1871" y="318"/>
                </a:lnTo>
                <a:lnTo>
                  <a:pt x="1770" y="276"/>
                </a:lnTo>
                <a:lnTo>
                  <a:pt x="1668" y="242"/>
                </a:lnTo>
                <a:lnTo>
                  <a:pt x="1576" y="214"/>
                </a:lnTo>
                <a:lnTo>
                  <a:pt x="1493" y="193"/>
                </a:lnTo>
                <a:lnTo>
                  <a:pt x="1410" y="180"/>
                </a:lnTo>
                <a:lnTo>
                  <a:pt x="1336" y="173"/>
                </a:lnTo>
                <a:lnTo>
                  <a:pt x="1263" y="180"/>
                </a:lnTo>
                <a:lnTo>
                  <a:pt x="1198" y="193"/>
                </a:lnTo>
                <a:lnTo>
                  <a:pt x="1143" y="221"/>
                </a:lnTo>
                <a:lnTo>
                  <a:pt x="1087" y="256"/>
                </a:lnTo>
                <a:lnTo>
                  <a:pt x="1032" y="304"/>
                </a:lnTo>
                <a:lnTo>
                  <a:pt x="986" y="359"/>
                </a:lnTo>
                <a:lnTo>
                  <a:pt x="940" y="429"/>
                </a:lnTo>
                <a:lnTo>
                  <a:pt x="903" y="505"/>
                </a:lnTo>
                <a:lnTo>
                  <a:pt x="866" y="588"/>
                </a:lnTo>
                <a:lnTo>
                  <a:pt x="829" y="677"/>
                </a:lnTo>
                <a:lnTo>
                  <a:pt x="765" y="871"/>
                </a:lnTo>
                <a:lnTo>
                  <a:pt x="700" y="1085"/>
                </a:lnTo>
                <a:lnTo>
                  <a:pt x="654" y="1313"/>
                </a:lnTo>
                <a:lnTo>
                  <a:pt x="608" y="1555"/>
                </a:lnTo>
                <a:lnTo>
                  <a:pt x="571" y="1797"/>
                </a:lnTo>
                <a:lnTo>
                  <a:pt x="544" y="2032"/>
                </a:lnTo>
                <a:lnTo>
                  <a:pt x="507" y="2268"/>
                </a:lnTo>
                <a:lnTo>
                  <a:pt x="479" y="2482"/>
                </a:lnTo>
                <a:lnTo>
                  <a:pt x="451" y="2682"/>
                </a:lnTo>
                <a:lnTo>
                  <a:pt x="433" y="2772"/>
                </a:lnTo>
                <a:lnTo>
                  <a:pt x="415" y="2855"/>
                </a:lnTo>
                <a:lnTo>
                  <a:pt x="405" y="2931"/>
                </a:lnTo>
                <a:lnTo>
                  <a:pt x="387" y="3000"/>
                </a:lnTo>
                <a:lnTo>
                  <a:pt x="368" y="3063"/>
                </a:lnTo>
                <a:lnTo>
                  <a:pt x="350" y="3111"/>
                </a:lnTo>
                <a:lnTo>
                  <a:pt x="0" y="3111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567240"/>
            <a:ext cx="9147240" cy="2789280"/>
          </a:xfrm>
          <a:custGeom>
            <a:avLst/>
            <a:gdLst/>
            <a:ahLst/>
            <a:rect l="l" t="t" r="r" b="b"/>
            <a:pathLst>
              <a:path w="5762" h="1757">
                <a:moveTo>
                  <a:pt x="0" y="728"/>
                </a:moveTo>
                <a:lnTo>
                  <a:pt x="0" y="911"/>
                </a:lnTo>
                <a:lnTo>
                  <a:pt x="55" y="950"/>
                </a:lnTo>
                <a:lnTo>
                  <a:pt x="120" y="1003"/>
                </a:lnTo>
                <a:lnTo>
                  <a:pt x="194" y="1062"/>
                </a:lnTo>
                <a:lnTo>
                  <a:pt x="277" y="1127"/>
                </a:lnTo>
                <a:lnTo>
                  <a:pt x="461" y="1278"/>
                </a:lnTo>
                <a:lnTo>
                  <a:pt x="664" y="1429"/>
                </a:lnTo>
                <a:lnTo>
                  <a:pt x="774" y="1501"/>
                </a:lnTo>
                <a:lnTo>
                  <a:pt x="885" y="1573"/>
                </a:lnTo>
                <a:lnTo>
                  <a:pt x="1005" y="1632"/>
                </a:lnTo>
                <a:lnTo>
                  <a:pt x="1115" y="1684"/>
                </a:lnTo>
                <a:lnTo>
                  <a:pt x="1226" y="1717"/>
                </a:lnTo>
                <a:lnTo>
                  <a:pt x="1337" y="1743"/>
                </a:lnTo>
                <a:lnTo>
                  <a:pt x="1447" y="1756"/>
                </a:lnTo>
                <a:lnTo>
                  <a:pt x="1549" y="1743"/>
                </a:lnTo>
                <a:lnTo>
                  <a:pt x="1604" y="1730"/>
                </a:lnTo>
                <a:lnTo>
                  <a:pt x="1650" y="1710"/>
                </a:lnTo>
                <a:lnTo>
                  <a:pt x="1751" y="1651"/>
                </a:lnTo>
                <a:lnTo>
                  <a:pt x="1853" y="1573"/>
                </a:lnTo>
                <a:lnTo>
                  <a:pt x="1945" y="1475"/>
                </a:lnTo>
                <a:lnTo>
                  <a:pt x="2046" y="1363"/>
                </a:lnTo>
                <a:lnTo>
                  <a:pt x="2138" y="1245"/>
                </a:lnTo>
                <a:lnTo>
                  <a:pt x="2341" y="983"/>
                </a:lnTo>
                <a:lnTo>
                  <a:pt x="2443" y="859"/>
                </a:lnTo>
                <a:lnTo>
                  <a:pt x="2553" y="734"/>
                </a:lnTo>
                <a:lnTo>
                  <a:pt x="2655" y="616"/>
                </a:lnTo>
                <a:lnTo>
                  <a:pt x="2765" y="511"/>
                </a:lnTo>
                <a:lnTo>
                  <a:pt x="2885" y="420"/>
                </a:lnTo>
                <a:lnTo>
                  <a:pt x="3005" y="348"/>
                </a:lnTo>
                <a:lnTo>
                  <a:pt x="3125" y="302"/>
                </a:lnTo>
                <a:lnTo>
                  <a:pt x="3189" y="282"/>
                </a:lnTo>
                <a:lnTo>
                  <a:pt x="3254" y="276"/>
                </a:lnTo>
                <a:lnTo>
                  <a:pt x="3318" y="276"/>
                </a:lnTo>
                <a:lnTo>
                  <a:pt x="3392" y="282"/>
                </a:lnTo>
                <a:lnTo>
                  <a:pt x="3549" y="308"/>
                </a:lnTo>
                <a:lnTo>
                  <a:pt x="3705" y="354"/>
                </a:lnTo>
                <a:lnTo>
                  <a:pt x="3881" y="420"/>
                </a:lnTo>
                <a:lnTo>
                  <a:pt x="4065" y="498"/>
                </a:lnTo>
                <a:lnTo>
                  <a:pt x="4249" y="590"/>
                </a:lnTo>
                <a:lnTo>
                  <a:pt x="4434" y="695"/>
                </a:lnTo>
                <a:lnTo>
                  <a:pt x="4618" y="800"/>
                </a:lnTo>
                <a:lnTo>
                  <a:pt x="4968" y="1009"/>
                </a:lnTo>
                <a:lnTo>
                  <a:pt x="5134" y="1114"/>
                </a:lnTo>
                <a:lnTo>
                  <a:pt x="5291" y="1212"/>
                </a:lnTo>
                <a:lnTo>
                  <a:pt x="5438" y="1298"/>
                </a:lnTo>
                <a:lnTo>
                  <a:pt x="5567" y="1370"/>
                </a:lnTo>
                <a:lnTo>
                  <a:pt x="5669" y="1422"/>
                </a:lnTo>
                <a:lnTo>
                  <a:pt x="5761" y="1461"/>
                </a:lnTo>
                <a:lnTo>
                  <a:pt x="5761" y="1075"/>
                </a:lnTo>
                <a:lnTo>
                  <a:pt x="5678" y="1055"/>
                </a:lnTo>
                <a:lnTo>
                  <a:pt x="5577" y="1016"/>
                </a:lnTo>
                <a:lnTo>
                  <a:pt x="5457" y="957"/>
                </a:lnTo>
                <a:lnTo>
                  <a:pt x="5319" y="885"/>
                </a:lnTo>
                <a:lnTo>
                  <a:pt x="5171" y="800"/>
                </a:lnTo>
                <a:lnTo>
                  <a:pt x="5005" y="701"/>
                </a:lnTo>
                <a:lnTo>
                  <a:pt x="4830" y="603"/>
                </a:lnTo>
                <a:lnTo>
                  <a:pt x="4646" y="498"/>
                </a:lnTo>
                <a:lnTo>
                  <a:pt x="4461" y="400"/>
                </a:lnTo>
                <a:lnTo>
                  <a:pt x="4268" y="302"/>
                </a:lnTo>
                <a:lnTo>
                  <a:pt x="4083" y="210"/>
                </a:lnTo>
                <a:lnTo>
                  <a:pt x="3899" y="131"/>
                </a:lnTo>
                <a:lnTo>
                  <a:pt x="3724" y="72"/>
                </a:lnTo>
                <a:lnTo>
                  <a:pt x="3549" y="27"/>
                </a:lnTo>
                <a:lnTo>
                  <a:pt x="3392" y="7"/>
                </a:lnTo>
                <a:lnTo>
                  <a:pt x="3318" y="0"/>
                </a:lnTo>
                <a:lnTo>
                  <a:pt x="3245" y="7"/>
                </a:lnTo>
                <a:lnTo>
                  <a:pt x="3180" y="20"/>
                </a:lnTo>
                <a:lnTo>
                  <a:pt x="3116" y="40"/>
                </a:lnTo>
                <a:lnTo>
                  <a:pt x="3051" y="66"/>
                </a:lnTo>
                <a:lnTo>
                  <a:pt x="2996" y="92"/>
                </a:lnTo>
                <a:lnTo>
                  <a:pt x="2876" y="177"/>
                </a:lnTo>
                <a:lnTo>
                  <a:pt x="2765" y="276"/>
                </a:lnTo>
                <a:lnTo>
                  <a:pt x="2655" y="387"/>
                </a:lnTo>
                <a:lnTo>
                  <a:pt x="2553" y="518"/>
                </a:lnTo>
                <a:lnTo>
                  <a:pt x="2452" y="649"/>
                </a:lnTo>
                <a:lnTo>
                  <a:pt x="2350" y="787"/>
                </a:lnTo>
                <a:lnTo>
                  <a:pt x="2249" y="924"/>
                </a:lnTo>
                <a:lnTo>
                  <a:pt x="2157" y="1062"/>
                </a:lnTo>
                <a:lnTo>
                  <a:pt x="2056" y="1193"/>
                </a:lnTo>
                <a:lnTo>
                  <a:pt x="1963" y="1304"/>
                </a:lnTo>
                <a:lnTo>
                  <a:pt x="1871" y="1409"/>
                </a:lnTo>
                <a:lnTo>
                  <a:pt x="1770" y="1494"/>
                </a:lnTo>
                <a:lnTo>
                  <a:pt x="1678" y="1553"/>
                </a:lnTo>
                <a:lnTo>
                  <a:pt x="1622" y="1579"/>
                </a:lnTo>
                <a:lnTo>
                  <a:pt x="1576" y="1592"/>
                </a:lnTo>
                <a:lnTo>
                  <a:pt x="1475" y="1606"/>
                </a:lnTo>
                <a:lnTo>
                  <a:pt x="1364" y="1592"/>
                </a:lnTo>
                <a:lnTo>
                  <a:pt x="1254" y="1560"/>
                </a:lnTo>
                <a:lnTo>
                  <a:pt x="1134" y="1507"/>
                </a:lnTo>
                <a:lnTo>
                  <a:pt x="1023" y="1448"/>
                </a:lnTo>
                <a:lnTo>
                  <a:pt x="903" y="1376"/>
                </a:lnTo>
                <a:lnTo>
                  <a:pt x="793" y="1298"/>
                </a:lnTo>
                <a:lnTo>
                  <a:pt x="682" y="1212"/>
                </a:lnTo>
                <a:lnTo>
                  <a:pt x="470" y="1042"/>
                </a:lnTo>
                <a:lnTo>
                  <a:pt x="369" y="963"/>
                </a:lnTo>
                <a:lnTo>
                  <a:pt x="277" y="885"/>
                </a:lnTo>
                <a:lnTo>
                  <a:pt x="194" y="826"/>
                </a:lnTo>
                <a:lnTo>
                  <a:pt x="120" y="773"/>
                </a:lnTo>
                <a:lnTo>
                  <a:pt x="55" y="741"/>
                </a:lnTo>
                <a:lnTo>
                  <a:pt x="0" y="72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654360"/>
            <a:ext cx="5940360" cy="3200400"/>
          </a:xfrm>
          <a:custGeom>
            <a:avLst/>
            <a:gdLst/>
            <a:ahLst/>
            <a:rect l="l" t="t" r="r" b="b"/>
            <a:pathLst>
              <a:path w="3742" h="2016">
                <a:moveTo>
                  <a:pt x="0" y="348"/>
                </a:moveTo>
                <a:lnTo>
                  <a:pt x="0" y="446"/>
                </a:lnTo>
                <a:lnTo>
                  <a:pt x="38" y="453"/>
                </a:lnTo>
                <a:lnTo>
                  <a:pt x="94" y="453"/>
                </a:lnTo>
                <a:lnTo>
                  <a:pt x="170" y="439"/>
                </a:lnTo>
                <a:lnTo>
                  <a:pt x="264" y="418"/>
                </a:lnTo>
                <a:lnTo>
                  <a:pt x="365" y="397"/>
                </a:lnTo>
                <a:lnTo>
                  <a:pt x="478" y="362"/>
                </a:lnTo>
                <a:lnTo>
                  <a:pt x="604" y="334"/>
                </a:lnTo>
                <a:lnTo>
                  <a:pt x="736" y="299"/>
                </a:lnTo>
                <a:lnTo>
                  <a:pt x="1012" y="237"/>
                </a:lnTo>
                <a:lnTo>
                  <a:pt x="1289" y="181"/>
                </a:lnTo>
                <a:lnTo>
                  <a:pt x="1427" y="167"/>
                </a:lnTo>
                <a:lnTo>
                  <a:pt x="1566" y="153"/>
                </a:lnTo>
                <a:lnTo>
                  <a:pt x="1691" y="153"/>
                </a:lnTo>
                <a:lnTo>
                  <a:pt x="1811" y="167"/>
                </a:lnTo>
                <a:lnTo>
                  <a:pt x="1930" y="188"/>
                </a:lnTo>
                <a:lnTo>
                  <a:pt x="2056" y="216"/>
                </a:lnTo>
                <a:lnTo>
                  <a:pt x="2320" y="292"/>
                </a:lnTo>
                <a:lnTo>
                  <a:pt x="2603" y="383"/>
                </a:lnTo>
                <a:lnTo>
                  <a:pt x="2874" y="495"/>
                </a:lnTo>
                <a:lnTo>
                  <a:pt x="3006" y="558"/>
                </a:lnTo>
                <a:lnTo>
                  <a:pt x="3131" y="620"/>
                </a:lnTo>
                <a:lnTo>
                  <a:pt x="3251" y="683"/>
                </a:lnTo>
                <a:lnTo>
                  <a:pt x="3358" y="746"/>
                </a:lnTo>
                <a:lnTo>
                  <a:pt x="3458" y="809"/>
                </a:lnTo>
                <a:lnTo>
                  <a:pt x="3546" y="871"/>
                </a:lnTo>
                <a:lnTo>
                  <a:pt x="3616" y="934"/>
                </a:lnTo>
                <a:lnTo>
                  <a:pt x="3672" y="990"/>
                </a:lnTo>
                <a:lnTo>
                  <a:pt x="3710" y="1053"/>
                </a:lnTo>
                <a:lnTo>
                  <a:pt x="3735" y="1122"/>
                </a:lnTo>
                <a:lnTo>
                  <a:pt x="3741" y="1199"/>
                </a:lnTo>
                <a:lnTo>
                  <a:pt x="3735" y="1283"/>
                </a:lnTo>
                <a:lnTo>
                  <a:pt x="3716" y="1374"/>
                </a:lnTo>
                <a:lnTo>
                  <a:pt x="3685" y="1457"/>
                </a:lnTo>
                <a:lnTo>
                  <a:pt x="3653" y="1548"/>
                </a:lnTo>
                <a:lnTo>
                  <a:pt x="3609" y="1632"/>
                </a:lnTo>
                <a:lnTo>
                  <a:pt x="3572" y="1715"/>
                </a:lnTo>
                <a:lnTo>
                  <a:pt x="3528" y="1792"/>
                </a:lnTo>
                <a:lnTo>
                  <a:pt x="3484" y="1855"/>
                </a:lnTo>
                <a:lnTo>
                  <a:pt x="3446" y="1918"/>
                </a:lnTo>
                <a:lnTo>
                  <a:pt x="3408" y="1959"/>
                </a:lnTo>
                <a:lnTo>
                  <a:pt x="3383" y="1994"/>
                </a:lnTo>
                <a:lnTo>
                  <a:pt x="3364" y="2015"/>
                </a:lnTo>
                <a:lnTo>
                  <a:pt x="3358" y="2015"/>
                </a:lnTo>
                <a:lnTo>
                  <a:pt x="3697" y="767"/>
                </a:lnTo>
                <a:lnTo>
                  <a:pt x="3653" y="704"/>
                </a:lnTo>
                <a:lnTo>
                  <a:pt x="3597" y="641"/>
                </a:lnTo>
                <a:lnTo>
                  <a:pt x="3528" y="578"/>
                </a:lnTo>
                <a:lnTo>
                  <a:pt x="3452" y="516"/>
                </a:lnTo>
                <a:lnTo>
                  <a:pt x="3364" y="453"/>
                </a:lnTo>
                <a:lnTo>
                  <a:pt x="3270" y="397"/>
                </a:lnTo>
                <a:lnTo>
                  <a:pt x="3163" y="341"/>
                </a:lnTo>
                <a:lnTo>
                  <a:pt x="3056" y="286"/>
                </a:lnTo>
                <a:lnTo>
                  <a:pt x="2830" y="188"/>
                </a:lnTo>
                <a:lnTo>
                  <a:pt x="2591" y="111"/>
                </a:lnTo>
                <a:lnTo>
                  <a:pt x="2352" y="48"/>
                </a:lnTo>
                <a:lnTo>
                  <a:pt x="2113" y="7"/>
                </a:lnTo>
                <a:lnTo>
                  <a:pt x="1993" y="0"/>
                </a:lnTo>
                <a:lnTo>
                  <a:pt x="1861" y="0"/>
                </a:lnTo>
                <a:lnTo>
                  <a:pt x="1729" y="7"/>
                </a:lnTo>
                <a:lnTo>
                  <a:pt x="1585" y="20"/>
                </a:lnTo>
                <a:lnTo>
                  <a:pt x="1289" y="69"/>
                </a:lnTo>
                <a:lnTo>
                  <a:pt x="994" y="125"/>
                </a:lnTo>
                <a:lnTo>
                  <a:pt x="698" y="188"/>
                </a:lnTo>
                <a:lnTo>
                  <a:pt x="560" y="223"/>
                </a:lnTo>
                <a:lnTo>
                  <a:pt x="428" y="258"/>
                </a:lnTo>
                <a:lnTo>
                  <a:pt x="308" y="286"/>
                </a:lnTo>
                <a:lnTo>
                  <a:pt x="195" y="313"/>
                </a:lnTo>
                <a:lnTo>
                  <a:pt x="88" y="334"/>
                </a:lnTo>
                <a:lnTo>
                  <a:pt x="0" y="348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Question #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 units of FFP will completely correct the PT in a patient on warfarin in all but the largest of pati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History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 you a bleede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gical challen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cidents &amp; inju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ntal extr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nstrual his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ype of Bleed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cchymos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etechia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pistax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eep soft tissue ble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hemarthros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GI bleed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Does it sound genetic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uration of bleeding his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genital v. acquir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mily his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ine pedig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termine inherit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Medical History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nal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lignanc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tibiotic therap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or nutrition (Vit. K or 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Physical Examin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ent hemorrh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ture and ext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current illnes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techiae/ecchymo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aboratory Assessment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uided by his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reening te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T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telet cou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brin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rombin 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Specific Laboratory Tes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xing stud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tient and PNP mixed 1: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ubated 2 hours at 37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form clotting assay as usu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corrected - circulating anticoagula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rrected - factor defici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21:12:58Z</dcterms:created>
  <dc:creator>neffa</dc:creator>
  <dc:description/>
  <dc:language>en-US</dc:language>
  <cp:lastModifiedBy>Dr.abdel-hamid</cp:lastModifiedBy>
  <dcterms:modified xsi:type="dcterms:W3CDTF">2006-10-16T03:49:19Z</dcterms:modified>
  <cp:revision>7</cp:revision>
  <dc:subject/>
  <dc:title>Approach to Bleeding Disord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82753554</vt:r8>
  </property>
  <property fmtid="{D5CDD505-2E9C-101B-9397-08002B2CF9AE}" pid="3" name="_AuthorEmail">
    <vt:lpwstr>anne.neff@Vanderbilt.Edu</vt:lpwstr>
  </property>
  <property fmtid="{D5CDD505-2E9C-101B-9397-08002B2CF9AE}" pid="4" name="_AuthorEmailDisplayName">
    <vt:lpwstr>Neff, Anne</vt:lpwstr>
  </property>
  <property fmtid="{D5CDD505-2E9C-101B-9397-08002B2CF9AE}" pid="5" name="_EmailSubject">
    <vt:lpwstr>Clinical Management Course</vt:lpwstr>
  </property>
  <property fmtid="{D5CDD505-2E9C-101B-9397-08002B2CF9AE}" pid="6" name="_ReviewingToolsShownOnce">
    <vt:lpwstr/>
  </property>
</Properties>
</file>