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D148-6E38-46D8-9EBC-AEA6FF25DAF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A92B-458D-45A8-98B7-48A72CB4C610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C45E-85E4-4D5E-BC12-F47045413F2F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B8C8-E003-400B-A0E9-39F08A5329C8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441E-40DC-4DCD-8603-8267041B7DF4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243000" y="4363560"/>
            <a:ext cx="6145200" cy="44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7FE6-F170-41E8-B05D-4AADFEBD7B4B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4DED-3F07-474E-9436-BC534F86E67B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800" y="4154040"/>
            <a:ext cx="6597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B3B3-9DED-4A8C-A17C-C96C1B6AC184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3649-AB86-447C-9539-3F75B286B807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68BA-6A6E-4886-B06D-6E0276E2AD6B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46A5-D821-465D-9560-BA227CE649EA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8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6E51-E5AF-4DC7-84AE-5B5B03D62E65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C77D-EE7B-4E80-AC0B-37C127B1A995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3F52-CF2D-40F5-B493-C74776FDD859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723B-AA90-49C6-83CF-CDBCC82BECB7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6AFE-2E0F-4005-A62E-55CD9B4D4ADC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DEB2-BE82-47C7-B3EA-310DE68A1000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425C-6D17-4EA7-903D-43A18103B4AC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A158-7C15-406D-9946-07072B84D93B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68120" y="4294080"/>
            <a:ext cx="615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869A-0A43-4F3B-9A36-596A52D72547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4343400"/>
            <a:ext cx="5943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6B14-93FA-42FC-ABEA-A47D2EA6B80E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52280" y="4343400"/>
            <a:ext cx="623592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D6C7-8D7F-470F-B7EE-A392FA574549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EBF2-5D25-4D72-80DE-06F1F4ABBC64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3A90-8275-4BE9-9457-1AD4E260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306-D1A5-465F-8E21-015C2241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E75-D229-4283-8162-04699445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077-4B71-473A-AE3B-98417353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5BA-7A14-4A99-8F8C-13A23E33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748-3151-4C5A-A7AC-C0DB8A41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4F4-0E92-4568-9232-8F6A6709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7ED-9657-41FF-BE0F-FA6B5D5E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782-36A9-42E2-A680-F3F78784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39F0-A23E-4EFC-B927-8D9AFEB2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AF00-05B7-4D8E-9300-33FD0544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F80-2772-445D-BB8C-DB2FCEAE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684E-0728-4FD6-8A8B-B62ECC895B6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MAD THULTHEEN  CRITICAL CARE NURS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A0C7-738A-46BC-89E1-5A5E814C896B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10F5-F1FC-4CF3-A33B-0D15FE8591FB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ng Saud University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ge of Nu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ult Nursing (NUR 3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agement of Cardiovascular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C3F2-E2CD-46FF-A2D4-F8E659ABB82A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diac Enzym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oglob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5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Non-specific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: a heme protein found in muscle tissue; elevated with damage to skeletal or cardiac muscle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343880" indent="-191880">
              <a:lnSpc>
                <a:spcPct val="95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vates in 2 to 3 hou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43880" indent="-191880">
              <a:lnSpc>
                <a:spcPct val="95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aks 6-9 hou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43880" indent="-191880">
              <a:lnSpc>
                <a:spcPct val="95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turns to normal 12 hou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ctic Acid Dehydrogenase (LD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5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Non-specific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: enzyme elevated with damage to many body tissues. (i.e. heart, liver, skeletal muscle, brain and RBC’s); Not frequently used today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343880" indent="-191880">
              <a:lnSpc>
                <a:spcPct val="95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vates in 1 to 3 day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43880" indent="-191880">
              <a:lnSpc>
                <a:spcPct val="95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aks in 2 to 5 day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43880" indent="-191880">
              <a:lnSpc>
                <a:spcPct val="95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turns to normal 10 to 14 day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03E2-54F0-43E6-B413-4A8E3CCCCD90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diac Enzymes Cont.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oponin I / 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 contractile protein released with cardiac muscle damage; not normally present in seru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s in 4 to 6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aks in 10 to 24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s to normal in 10 to 15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itivity superior to CK-MB within the first 6 hours of eve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replaced LDH for client’s who delay seeking trea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0730-5972-42E1-BBDF-727F4B60BBBF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Serum Enzym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-Reactive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rker of acute inflammatory rea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mocyste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ence in serum suggests increased risk of cardio-vascular event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riuretic Pept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leased into bloodstream with cardiac chamber distention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C5D7-ACC3-4AA1-A654-DD77C7501EF9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ood Chemistry Analysis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poprotein (Lipid)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Cholest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&lt; 200mg/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glyce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&lt; 150 mg/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Density Lipoproteins (LD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&lt;130 mg/dl  /  “Optimal” &lt;100mg/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Density Lipoproteins (HD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: &gt; 40 mg/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 60 mg/dl cardio-prot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FEBB-AB19-4CDB-BF01-1BAC64A86A37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61760" y="380880"/>
            <a:ext cx="7086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um Electrol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, K, Ca and M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se / Hemoglobin A1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gulation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TT / aP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T  / IN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atologic Stud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B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al Function Stud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1BFC-31E9-413F-B70D-FE9A6C7EF415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nostic Testing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cardiography *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-Lead E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bedside monito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ulatory monitoring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ss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llium Sc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hocardi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diac Catheteriz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2CEF-AEBE-40DA-B63E-18577AF4A3E0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diac Stress Tests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ssing the heart to monito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sts in Determ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ronary artery disea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use of chest p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nctional capacity of hea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dysrhythmia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ffectiveness of medic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stablish goals for a physical fitness routin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7753-9A04-4B8C-A4A7-3B0C5253B660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llium S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diological exam to assess how well the coronary arteries perfuse the myocardium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ages are taken 1 to 2 minutes prior to end of stress test and again 3 hours late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ursing Consideration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 Acces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92E1-8EC0-4E40-80D1-CBB9961B8550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hocardiogram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trasound procedure of the heart combined with an electrocardiogram (EKG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diac  (size &amp; shap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tion of structures (chamber walls / valv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6CF7-BD18-4A4C-8891-50FCD565553B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hocardiogram Cont.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Echocardi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ranscutano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n-invasive / pain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ransesphoge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E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vasive / Clearer imag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BFC7-C5BF-4D88-A776-DCFA08CF93D6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essment Para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diac Out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the effectiveness of the heart’s pumping abil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 is defined as the amount of blood that leaves the heart in one minu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 = Stroke Volume (SV) X Heart Rate (H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CO: Approximately 4-8 liters/min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ac Index: CO per square meter of BS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 ÷ body surface area = CI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F057-3FEA-4D37-AD25-DA8FAFBD4162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diac Catheteriz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763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d Standard” of cardiac 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sive procedure to ass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diac chamber pressures &amp; oxygen satur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ct congenital or acquired structural def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jection f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Includ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ronary arteriography: to assess coronary artery patenc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X-ray technique called fluoroscop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ing the use of I.V. contrast / dy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D1FB-2596-415F-822C-880FDDC34944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diac Catheterization Cont.,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or to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lain procedur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PO prior to procedure (8 to 12 hours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ck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llergi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I.V. dye / shellfish / iodin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boratory te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.V. ac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modynamic monitorin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terial and venous access via catheters (sheaths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360080" indent="-194040"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moral (most common) or brach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D27B-D00E-47A2-8C74-995F4BA379C8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diac Catheterization Cont.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Procedure Nursing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Client Bedrest for 6 to 8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remity straight &amp; HOB up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30 degre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Adequate Hyd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 Fluids (if order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 Flui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t Monitoring For Complic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tal sig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nctur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l pul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9DDE-9C22-4FDD-AACF-D8C417AC0CA6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E:\Suvarna\Connection\CD\Smeltzer IRDVD\Project SRC\Beta 1\PPT images\figure_26-2.jpg"/>
          <p:cNvPicPr/>
          <p:nvPr/>
        </p:nvPicPr>
        <p:blipFill>
          <a:blip r:embed="rId1"/>
          <a:stretch/>
        </p:blipFill>
        <p:spPr>
          <a:xfrm>
            <a:off x="685800" y="1447920"/>
            <a:ext cx="7391520" cy="4800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eat Vessel and Heart Chamber Press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8C81-C076-42E9-850C-5A07CB162932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oke Volume (S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ou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blood that leaves the heart with each beat or ventricular contr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 all blood ejec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rmal Adult 70 ml / be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ction Fraction (EF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ercentag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of end-diastole blood actually ejected with each beat or ventricular contraction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rmal adult 55-70% (healthy hear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5B3C-0BF8-434C-B197-EC1D88E77A7F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roke Volum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factors regulate stroke volu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degree of stretch of the ventricle at the end of diasto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act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ce of ventricular contraction (systole); inotrop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ter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amount of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sistanc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the ventricular wall must overcome to eject blood during systo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716A-E77D-4FBA-B1D8-B48F9FF727F1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8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8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gree of ventricular stretch at end-diast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8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rank-Starling Law of the Hea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Font typeface="Wingdings 3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oad = </a:t>
            </a:r>
            <a:r>
              <a:rPr b="0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tractility (to a poi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8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s Affecting Pre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rculating volu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 positio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rial systole or “kick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dic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98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uretics (i.e. Lasi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98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E Inhibitors (i.e. Vasot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98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.V. Flu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0B9C-0E6A-4C80-BBD7-27A6083DE8B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9530-3543-4C8E-AF72-B921B8070D51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troke Volume Cont.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act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inotropic ag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 3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e of con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inotropic ag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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e of con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s that affect contract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nomic nervous system (A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31920" indent="-175680"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goxin (Lanoxi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31920" indent="-175680"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a-adrenergic blockers  (i.e. metoprolol 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31920" indent="-175680"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ium channel blockers (i.e. verapamil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6BA4-3322-4E77-A6D1-7689F0BC0468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ance to ventricular ejection during syst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s that affect after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3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igh systemic blood pressures (SVR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3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ortic valve stenos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3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igh pulmonary blood pressures (PVR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3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ulmonary valve stenos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meter of arterial vesse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E (angiotension converting enzyme) inhibito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C2CA-8EEE-40C4-9C3F-AD98124C3612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boratory Analys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um Enzym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Chemist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pid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ly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al Function Stud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gulation Stud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atologic Stud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0C32-A8AC-4896-93E2-F74356A2AE8E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1920" y="144792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eatine 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phokin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Total CK / CP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n-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enzyme elevated with damage to  heart or skeletal muscles and brain tissu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14"/>
              </a:spcBef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vates in 4 to 8 hou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14"/>
              </a:spcBef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aks in 15 to 24 hou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14"/>
              </a:spcBef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turns to normal in 3 to 4 day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ine Phosphokinase Isoenzy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PK-M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soenzyme of CPK; elevated with cardiac muscle dama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14"/>
              </a:spcBef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vates in 4 to 8 hou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14"/>
              </a:spcBef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aks in 15 to 24 hou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14"/>
              </a:spcBef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turns to normal in 3 to 4 day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diac enzy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4T20:37:50Z</dcterms:created>
  <dc:creator>Alex Imholtz</dc:creator>
  <dc:description/>
  <dc:language>en-US</dc:language>
  <cp:lastModifiedBy>Alharbi</cp:lastModifiedBy>
  <dcterms:modified xsi:type="dcterms:W3CDTF">2015-10-25T04:24:56Z</dcterms:modified>
  <cp:revision>125</cp:revision>
  <dc:subject/>
  <dc:title>Slide 1</dc:title>
</cp:coreProperties>
</file>