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857B-DA15-4E0C-B9F6-B1398BD2776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1B24-C2CC-4535-8FE3-55084DD066D0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0D67-C325-4828-8AFA-CAD2316FB75A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49DF-FEB4-48AC-A5B7-3D689C96691F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3117-2294-44A7-A336-6DE0CAB17A45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243000" y="4363560"/>
            <a:ext cx="6145200" cy="449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2C73-EDEE-4581-9BE1-9A7AA511DC4A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270C-971B-4E2E-8414-BCB2F7C87836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800" y="4154040"/>
            <a:ext cx="6597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311E-2C08-4D56-A7F8-B3BFA7E44596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D356-156B-405D-A981-E1470542C7B8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9DDB-FA13-400F-A1B6-CA838D1C230D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AEDA-00D8-4E99-8957-6B82D7CDC70C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85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EDE8-951E-456A-A548-62B17C7730EF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7626-93AF-48C7-9B9C-CB1477C5DE0E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E8B8-18F6-4002-AF85-96D7F0086FD8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E709-0548-40CA-8E7B-F18C7A26FC2C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07D7-708A-4D6F-87F6-9D5D16558046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D210-678A-424E-BC2A-E35BACF324B3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CE61-68DE-4561-B4D5-6C628F2859B9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4B7D-9625-454B-98F6-AAFE0C6CFDA6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68120" y="4294080"/>
            <a:ext cx="615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CC42-8433-49D3-A65B-B61070E56315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4343400"/>
            <a:ext cx="59436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2F30-30F3-46F3-9428-9E708B5577C3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52280" y="4343400"/>
            <a:ext cx="623592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7CDD-EB38-4BC9-AF63-75E21C77F302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475D-95EE-4AEE-BD0D-DC8C0CE161E2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D461-BCDF-41A5-94B7-204E6609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CE13-24F9-4C9C-8A49-D152E5AC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C7D5-DCE6-4E50-827F-254CFA35A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89EA-DB49-4948-9305-D45C784D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9820-5E67-4A76-B827-D5E0262E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754C-7AEF-4A39-9C19-EC02D726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6B47-D3CB-4B8E-B5D6-66D933DB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5217-7D67-4DED-B952-543F90A8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4A27-AB0F-4818-818F-24A77938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2BFF-CA1C-4CEF-A8D0-B877BD4B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EF60-AD4B-46E9-8287-9F9D3B83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02FC-A979-48E8-B620-AFF83866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0BCA-392B-48A0-8A6E-9F88F868F870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MAD THULTHEEN  CRITICAL CARE NURS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F893-D276-487F-A2E1-7869FF53FFE2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6703-1ABB-4EDD-995D-F276973392F1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ng Saud University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ege of Nu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ult Nursing (NUR 31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uagement of Cardiovascular Syst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D7B1-B17E-4641-B999-206C56F9D8E5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rdiac Enzym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5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oglob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5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"/>
              </a:rPr>
              <a:t>Non-specific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: a heme protein found in muscle tissue; elevated with damage to skeletal or cardiac muscle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3" marL="1343880" indent="-191880">
              <a:lnSpc>
                <a:spcPct val="95000"/>
              </a:lnSpc>
              <a:spcBef>
                <a:spcPts val="414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evates in 2 to 3 hou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43880" indent="-191880">
              <a:lnSpc>
                <a:spcPct val="95000"/>
              </a:lnSpc>
              <a:spcBef>
                <a:spcPts val="414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eaks 6-9 hour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43880" indent="-191880">
              <a:lnSpc>
                <a:spcPct val="95000"/>
              </a:lnSpc>
              <a:spcBef>
                <a:spcPts val="414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turns to normal 12 hou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5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ctic Acid Dehydrogenase (LD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5000"/>
              </a:lnSpc>
              <a:spcBef>
                <a:spcPts val="462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"/>
              </a:rPr>
              <a:t>Non-specific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: enzyme elevated with damage to many body tissues. (i.e. heart, liver, skeletal muscle, brain and RBC’s); Not frequently used today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3" marL="1343880" indent="-191880">
              <a:lnSpc>
                <a:spcPct val="95000"/>
              </a:lnSpc>
              <a:spcBef>
                <a:spcPts val="414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evates in 1 to 3 day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43880" indent="-191880">
              <a:lnSpc>
                <a:spcPct val="95000"/>
              </a:lnSpc>
              <a:spcBef>
                <a:spcPts val="414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eaks in 2 to 5 day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43880" indent="-191880">
              <a:lnSpc>
                <a:spcPct val="95000"/>
              </a:lnSpc>
              <a:spcBef>
                <a:spcPts val="414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turns to normal 10 to 14 day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0686-80BD-4450-9DBF-A509893C9D5F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rdiac Enzymes Cont.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oponin I / 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pecif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 contractile protein released with cardiac muscle damage; not normally present in seru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es in 4 to 6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aks in 10 to 24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s to normal in 10 to 15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itivity superior to CK-MB within the first 6 hours of even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replaced LDH for client’s who delay seeking treat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078D-C297-4110-9BAF-7889AA0D3DFB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Serum Enzym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-Reactive 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rker of acute inflammatory reac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mocyste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sence in serum suggests increased risk of cardio-vascular event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riuretic Pept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leased into bloodstream with cardiac chamber distention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82B8-BFDC-4603-9B72-EDB5AE82BD74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lood Chemistry Analysis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poprotein (Lipid) Pro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Choleste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 &lt; 200mg/d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glycer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 &lt; 150 mg/d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Density Lipoproteins (LD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 &lt;130 mg/dl  /  “Optimal” &lt;100mg/d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Density Lipoproteins (HD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: &gt; 40 mg/d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 60 mg/dl cardio-prot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59BB-FEF1-4B12-92D8-AD1C8EA0D926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61760" y="380880"/>
            <a:ext cx="7086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um Electrol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, K, Ca and M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ucose / Hemoglobin A1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agulation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TT / aPT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T  / IN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matologic Stud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B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nal Function Stud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n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E6E5-F0FC-4D32-B1B8-F32A3CD133D4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nostic Testing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cardiography *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-Lead EK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ous bedside monitor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bulatory monitoring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ss T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llium Sca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hocardi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diac Catheteriza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FDF1-4650-4078-8B37-5AB460BFAD8A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rdiac Stress Tests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ssing the heart to monitor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sts in Determ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ronary artery disea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use of chest pa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nctional capacity of hea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dysrhythmia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ffectiveness of medic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stablish goals for a physical fitness routin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8FE4-7849-4BC3-BA46-001D84D46900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520" y="17521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llium S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diological exam to assess how well the coronary arteries perfuse the myocardium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ages are taken 1 to 2 minutes prior to end of stress test and again 3 hours late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ursing Consideration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P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V Acces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1BCC-70B8-4BBB-AAFD-C460CA15EB09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chocardiogram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ltrasound procedure of the heart combined with an electrocardiogram (EKG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rdiac  (size &amp; shap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tion of structures (chamber walls / valve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4FE8-E301-4909-8857-0C6540A20B7E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chocardiogram Cont.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s of Echocardi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ranscutanoe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n-invasive / painl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ransesphoge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TE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vasive / Clearer image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062F-9BA7-46F5-A498-BECF3FE05AA6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ssessment Parame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rdiac Out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s the effectiveness of the heart’s pumping abil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 is defined as the amount of blood that leaves the heart in one minu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</a:t>
            </a: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 = Stroke Volume (SV) X Heart Rate (H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 CO: Approximately 4-8 liters/min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diac Index: CO per square meter of BS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 ÷ body surface area = CI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6242-BB7A-4EC7-BCAE-E6380A411B4C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rdiac Catheterizat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763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ld Standard” of cardiac diagno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asive procedure to ass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95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rdiac chamber pressures &amp; oxygen satur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95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tect congenital or acquired structural def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95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jection f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 Includ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95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ronary arteriography: to assess coronary artery patency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X-ray technique called fluoroscop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ing the use of I.V. contrast / dy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C1DB-B8B3-4D10-9C52-C372755C7AE1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rdiac Catheterization Cont.,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rsing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or to proced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plain procedur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PO prior to procedure (8 to 12 hours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eck 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allergie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(I.V. dye / shellfish / iodin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boratory tes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proced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.V. ac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modynamic monitoring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rterial and venous access via catheters (sheaths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360080" indent="-194040"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moral (most common) or brachi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507F-BF54-445E-98DD-F148E2376D34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rdiac Catheterization Cont.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-Procedure Nursing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 Client Bedrest for 6 to 8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remity straight &amp; HOB up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&lt;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30 degre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 Adequate Hyd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V Fluids (if order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ourage Flui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quent Monitoring For Complica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tal sig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ncture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l pul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5D8F-1330-4078-8D55-06781EFCE27A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E:\Suvarna\Connection\CD\Smeltzer IRDVD\Project SRC\Beta 1\PPT images\figure_26-2.jpg"/>
          <p:cNvPicPr/>
          <p:nvPr/>
        </p:nvPicPr>
        <p:blipFill>
          <a:blip r:embed="rId1"/>
          <a:stretch/>
        </p:blipFill>
        <p:spPr>
          <a:xfrm>
            <a:off x="685800" y="1447920"/>
            <a:ext cx="7391520" cy="48006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eat Vessel and Heart Chamber Press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A5B1-F4E4-4555-9BCC-35DEA115803F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oke Volume (SV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mou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blood that leaves the heart with each beat or ventricular contra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t all blood ejec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rmal Adult 70 ml / be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ction Fraction (EF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ercentag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of end-diastole blood actually ejected with each beat or ventricular contraction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rmal adult 55-70% (healthy hear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7247-96D4-4996-BE24-BFFF53EAD899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roke Volum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factors regulate stroke volum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lo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degree of stretch of the ventricle at the end of diastol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ract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rce of ventricular contraction (systole); inotrop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terlo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amount of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sistanc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the ventricular wall must overcome to eject blood during systol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0A3C-61B3-4EC0-935B-3E65FE6246A7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8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l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8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gree of ventricular stretch at end-diast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8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rank-Starling Law of the Hea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8000"/>
              </a:lnSpc>
              <a:spcBef>
                <a:spcPts val="451"/>
              </a:spcBef>
              <a:buClr>
                <a:srgbClr val="ffffff"/>
              </a:buClr>
              <a:buFont typeface="Wingdings 3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oad = </a:t>
            </a:r>
            <a:r>
              <a:rPr b="0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ntractility (to a poi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8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s Affecting Prelo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8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rculating volum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8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dy position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8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rial systole or “kick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8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dic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lnSpc>
                <a:spcPct val="98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iuretics (i.e. Lasi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lnSpc>
                <a:spcPct val="98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CE Inhibitors (i.e. Vasote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lnSpc>
                <a:spcPct val="98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.V. Flu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6139-E3C2-476E-982A-13CEEE6FF5FF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D64F-E96D-46D8-82A1-0B420300BE5E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troke Volume Cont.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7631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act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inotropic ag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 3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ce of con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 inotropic ag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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ce of con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s that affect contract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nomic nervous system (A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tion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31920" indent="-175680"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goxin (Lanoxin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31920" indent="-175680"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ta-adrenergic blockers  (i.e. metoprolol 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31920" indent="-175680"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ium channel blockers (i.e. verapamil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6767-1E8F-45E2-B738-17770D4A619E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28240" y="15238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fterl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stance to ventricular ejection during syst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s that affect afterlo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39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igh systemic blood pressures (SVR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39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ortic valve stenosi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39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igh pulmonary blood pressures (PVR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39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ulmonary valve stenos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meter of arterial vesse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 character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tion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E (angiotension converting enzyme) inhibito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3E71-8DE7-4DE8-BDC6-9012D8967AFF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boratory Analys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um Enzym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 Chemist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pid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lyt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nal Function Stud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agulation Stud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matologic Stud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42D8-C779-4284-9237-063AF1DFB82D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51920" y="144792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eatine 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sphokina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(Total CK / CP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n-Specif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enzyme elevated with damage to  heart or skeletal muscles and brain tissu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414"/>
              </a:spcBef>
              <a:spcAft>
                <a:spcPts val="13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evates in 4 to 8 hou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414"/>
              </a:spcBef>
              <a:spcAft>
                <a:spcPts val="13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eaks in 15 to 24 hour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414"/>
              </a:spcBef>
              <a:spcAft>
                <a:spcPts val="13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turns to normal in 3 to 4 day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ine Phosphokinase Isoenzy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CPK-M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pecif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isoenzyme of CPK; elevated with cardiac muscle damag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414"/>
              </a:spcBef>
              <a:spcAft>
                <a:spcPts val="13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evates in 4 to 8 hour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414"/>
              </a:spcBef>
              <a:spcAft>
                <a:spcPts val="13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eaks in 15 to 24 hou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414"/>
              </a:spcBef>
              <a:spcAft>
                <a:spcPts val="13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turns to normal in 3 to 4 day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rdiac enzy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4T20:37:50Z</dcterms:created>
  <dc:creator>Alex Imholtz</dc:creator>
  <dc:description/>
  <dc:language>en-US</dc:language>
  <cp:lastModifiedBy>Alharbi</cp:lastModifiedBy>
  <dcterms:modified xsi:type="dcterms:W3CDTF">2015-10-25T04:24:56Z</dcterms:modified>
  <cp:revision>125</cp:revision>
  <dc:subject/>
  <dc:title>Slide 1</dc:title>
</cp:coreProperties>
</file>