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2801600" cy="96012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61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6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38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fld id="{08183DB4-181F-4F70-842F-64456DB4218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38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GB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fld id="{27CA4BAD-E627-43CA-95E8-C6B3DEDCDE1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38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GB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fld id="{EE6F1774-D827-43FF-B406-3792673AFAE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05979-A7EC-4E02-A403-784A42CD7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1152216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39720" y="5550480"/>
            <a:ext cx="1152216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77BC5-2F06-434F-B28A-89C5E9383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543720" y="223992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39720" y="555048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543720" y="555048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116F9-5CF7-48D3-8BC3-B0D421906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370980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35280" y="2239920"/>
            <a:ext cx="370980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431200" y="2239920"/>
            <a:ext cx="370980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39720" y="5550480"/>
            <a:ext cx="370980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535280" y="5550480"/>
            <a:ext cx="370980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431200" y="5550480"/>
            <a:ext cx="370980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D6128-6DB6-49FF-B856-2BBF8001F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39720" y="2239920"/>
            <a:ext cx="11522160" cy="633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CAB26-20E5-4D63-85FE-C39AFDBF9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11522160" cy="63374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42ED7-B061-491F-ADB1-BA1DFA2DF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5622480" cy="63374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543720" y="2239920"/>
            <a:ext cx="5622480" cy="63374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0C96B-A2C2-4771-B7FD-E8ED06048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9394B-80BF-461E-8077-BA28A2715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39720" y="383760"/>
            <a:ext cx="1152216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98506-2870-463E-B8AB-8EACBC5C9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543720" y="2239920"/>
            <a:ext cx="5622480" cy="63374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39720" y="555048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9C8CD-6852-470B-89AA-7C6FF1D97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5622480" cy="63374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543720" y="223992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543720" y="555048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92972-D838-482E-A2F3-26D065E7A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543720" y="223992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39720" y="5550480"/>
            <a:ext cx="1152216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96EC1-BC3D-4153-AF49-62F5701F1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61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6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39720" y="2239920"/>
            <a:ext cx="11522160" cy="63374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marL="479520" indent="-47952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  <a:p>
            <a:pPr lvl="1" marL="1039680" indent="-398160"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  <a:p>
            <a:pPr lvl="2" marL="1598760" indent="-31932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  <a:p>
            <a:pPr lvl="3" marL="2238480" indent="-319320"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  <a:p>
            <a:pPr lvl="4" marL="2879640" indent="-318960"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  <a:p>
            <a:pPr lvl="5" marL="2879640" indent="-318960"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  <a:p>
            <a:pPr lvl="6" marL="2879640" indent="-318960"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9360" y="8899560"/>
            <a:ext cx="2987640" cy="511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lstStyle>
            <a:lvl1pPr indent="0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  <a:defRPr b="0" lang="en-US" sz="17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7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373640" y="8899560"/>
            <a:ext cx="4054320" cy="511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173880" y="8899560"/>
            <a:ext cx="2987640" cy="511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lstStyle>
            <a:lvl1pPr indent="0" algn="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  <a:defRPr b="0" lang="en-GB" sz="17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fld id="{566A1984-99F7-49F8-85E0-F69728B13889}" type="slidenum">
              <a:rPr b="0" lang="en-GB" sz="17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6" descr="the london atlas in English.png"/>
          <p:cNvPicPr/>
          <p:nvPr/>
        </p:nvPicPr>
        <p:blipFill>
          <a:blip r:embed="rId1"/>
          <a:stretch/>
        </p:blipFill>
        <p:spPr>
          <a:xfrm>
            <a:off x="444600" y="560520"/>
            <a:ext cx="11957040" cy="845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5" descr="back cover English.png"/>
          <p:cNvPicPr/>
          <p:nvPr/>
        </p:nvPicPr>
        <p:blipFill>
          <a:blip r:embed="rId1"/>
          <a:stretch/>
        </p:blipFill>
        <p:spPr>
          <a:xfrm>
            <a:off x="542880" y="628560"/>
            <a:ext cx="11758680" cy="831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7T12:16:51Z</dcterms:created>
  <dc:creator>sjalqahtani</dc:creator>
  <dc:description/>
  <dc:language>en-US</dc:language>
  <cp:lastModifiedBy>sjalqahtani</cp:lastModifiedBy>
  <dcterms:modified xsi:type="dcterms:W3CDTF">2010-04-07T12:41:27Z</dcterms:modified>
  <cp:revision>4</cp:revision>
  <dc:subject/>
  <dc:title>Slide 1</dc:title>
</cp:coreProperties>
</file>