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C0ACE3D6-48C4-4E77-8E72-CABFDD73F6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GB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37EF48F0-5380-4852-BB39-E7F5337882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GB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B3BDDC5B-9EE4-4C36-91B2-D073D753F8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B6E-4280-49F7-969F-215721B2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67D-941F-47C6-A5EF-91C4F31C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984-ECE7-476C-A840-53FCE9F8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41E3-7DD8-4F7D-AF16-5D0F69E5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34A-3897-446F-849E-751E0C18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A06-2555-4AC2-8EEE-1918F200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78F-4047-4709-AA5F-A182865B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B4A-AAA1-4109-8C4B-A20DDE0B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191-D881-46B1-8836-7CDE7518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D18-B3B7-4A73-BBBD-038FC783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315-7A72-4475-97E4-832FBD3C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6B53-1429-49CB-A718-ACDB8C2F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1039680" indent="-3981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1598760" indent="-3193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238480" indent="-31932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899560"/>
            <a:ext cx="405432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GB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9557F841-7057-4118-A54A-9B873AB8F012}" type="slidenum">
              <a:rPr b="0" lang="en-GB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the london atlas in English.png"/>
          <p:cNvPicPr/>
          <p:nvPr/>
        </p:nvPicPr>
        <p:blipFill>
          <a:blip r:embed="rId1"/>
          <a:stretch/>
        </p:blipFill>
        <p:spPr>
          <a:xfrm>
            <a:off x="444600" y="560520"/>
            <a:ext cx="11957040" cy="84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back cover English.png"/>
          <p:cNvPicPr/>
          <p:nvPr/>
        </p:nvPicPr>
        <p:blipFill>
          <a:blip r:embed="rId1"/>
          <a:stretch/>
        </p:blipFill>
        <p:spPr>
          <a:xfrm>
            <a:off x="542880" y="628560"/>
            <a:ext cx="11758680" cy="83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2:16:51Z</dcterms:created>
  <dc:creator>sjalqahtani</dc:creator>
  <dc:description/>
  <dc:language>en-US</dc:language>
  <cp:lastModifiedBy>sjalqahtani</cp:lastModifiedBy>
  <dcterms:modified xsi:type="dcterms:W3CDTF">2010-04-07T12:41:27Z</dcterms:modified>
  <cp:revision>4</cp:revision>
  <dc:subject/>
  <dc:title>Slide 1</dc:title>
</cp:coreProperties>
</file>