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29.jpeg" ContentType="image/jpeg"/>
  <Override PartName="/ppt/media/image5.png" ContentType="image/png"/>
  <Override PartName="/ppt/media/image14.png" ContentType="image/png"/>
  <Override PartName="/ppt/media/image10.jpeg" ContentType="image/jpeg"/>
  <Override PartName="/ppt/media/image12.jpeg" ContentType="image/jpeg"/>
  <Override PartName="/ppt/media/image23.png" ContentType="image/png"/>
  <Override PartName="/ppt/media/image13.jpeg" ContentType="image/jpeg"/>
  <Override PartName="/ppt/media/image40.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9.jpeg" ContentType="image/jpeg"/>
  <Override PartName="/ppt/media/image8.png" ContentType="image/pn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0EB935E-B400-48BE-8296-3E80CCD15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E2930F-FC36-410B-90FE-8871E112D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2C1BEB-A845-4362-8A07-DD7541AAF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1D76BFB-6426-4531-96C8-590C2CC90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AD380-B63A-4992-A98B-08D8E502F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0E5B2-41DF-4725-9C62-E6F06F31C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49731-07FF-4863-A9D0-76E2DB5A6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43D79-15D8-47FF-AE25-ACCE526B2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83D9C-1E96-4489-AC31-818D8A19A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3D6B4-2387-4528-9867-B4EDA95D3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9BE99-E8A7-4A00-92C2-29DEA9EBB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375A7B-DF28-42A8-B1FC-C9A49BD6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C9781-D3BD-4C81-AFAF-17BA725B2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FB7E5-44F5-4030-99EB-C621F0932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2F844-0DD4-4D6E-ADD1-7CB0F506A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3BEB5-8E0C-4750-9E23-3CF5D9DFF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17AD7-4EA6-4D54-A9EB-A655CDB03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1694AE-E551-4633-8C38-CCD9E7943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0D2AC9-CFBC-4A3D-95AB-F1D43DE95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7C7327-41DB-4FB9-873A-B33C101F0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D9BF8B-7BD9-4FB3-BEE3-E109DDDE4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559A87-B8C1-40EA-80E1-BF1F43B5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BA0D1B-12EE-4A64-9912-B0231803A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678F17-1F69-45E7-A5B3-BF3F5C6CC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F85E-3758-420D-9646-5EF2F945E5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5AEB-CF76-4C07-8BBE-9625527F2DA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images.google.ca/imgres?imgurl=http://www.ndc.com.sg/ndc/images/ndc/CrownsBridges%26Dentures/Complete%2520dentures%25202.jpg&amp;imgrefurl=http://www.ndc.com.sg/ndc/CrownsBridgesandDentures.htm&amp;h=403&amp;w=354&amp;sz=32&amp;tbnid=Hh8N2F0cz0UJ:&amp;tbnh=121&amp;tbnw=106&amp;start=15&amp;prev=/images%3Fq%3DDentures%26hl%3Den%26lr%3D%26sa%3DG"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picklesandicecream.net/nss-folder/pictures/pregnant_lady_lg.JPG"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images.google.ca/imgres?imgurl=http://www.ijam.at/volume02/newequipment01/images/UpsherLaryngoscopeImproved02.jpg&amp;imgrefurl=http://www.ijam.at/volume02/newequipment01/improved.htm&amp;h=640&amp;w=480&amp;sz=34&amp;tbnid=AlIT5N3azf0J:&amp;tbnh=135&amp;tbnw=101&amp;start=80&amp;prev=/images%3Fq%3Dlaryngoscope%26start%3D60%26hl%3Den%26lr%3D%26sa%3DN" TargetMode="External"/><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1295280"/>
            <a:ext cx="4762440" cy="4286520"/>
          </a:xfrm>
          <a:prstGeom prst="rect">
            <a:avLst/>
          </a:prstGeom>
          <a:ln w="0">
            <a:noFill/>
          </a:ln>
        </p:spPr>
      </p:pic>
      <p:pic>
        <p:nvPicPr>
          <p:cNvPr id="101" name="" descr="Figure 7"/>
          <p:cNvPicPr/>
          <p:nvPr/>
        </p:nvPicPr>
        <p:blipFill>
          <a:blip r:embed="rId2"/>
          <a:stretch/>
        </p:blipFill>
        <p:spPr>
          <a:xfrm>
            <a:off x="5638680" y="304920"/>
            <a:ext cx="3238560" cy="47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629400" y="1523880"/>
            <a:ext cx="2057400" cy="1247760"/>
          </a:xfrm>
          <a:prstGeom prst="rect">
            <a:avLst/>
          </a:prstGeom>
          <a:ln w="0">
            <a:noFill/>
          </a:ln>
        </p:spPr>
      </p:pic>
      <p:sp>
        <p:nvSpPr>
          <p:cNvPr id="128" name=""/>
          <p:cNvSpPr/>
          <p:nvPr/>
        </p:nvSpPr>
        <p:spPr>
          <a:xfrm>
            <a:off x="-471600" y="2957040"/>
            <a:ext cx="102528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tter tolerated in the semiconscious or conscious patient.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y cause nasal bleed</a:t>
            </a:r>
            <a:endParaRPr b="0" lang="en-US" sz="2800" spc="-1" strike="noStrike">
              <a:solidFill>
                <a:srgbClr val="ffffff"/>
              </a:solidFill>
              <a:latin typeface="Arial"/>
            </a:endParaRPr>
          </a:p>
        </p:txBody>
      </p:sp>
      <p:sp>
        <p:nvSpPr>
          <p:cNvPr id="129" name=""/>
          <p:cNvSpPr/>
          <p:nvPr/>
        </p:nvSpPr>
        <p:spPr>
          <a:xfrm>
            <a:off x="1991520" y="457200"/>
            <a:ext cx="464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Nasopharyngeal </a:t>
            </a:r>
            <a:r>
              <a:rPr b="0" lang="en-US" sz="3200" spc="-1" strike="noStrike">
                <a:solidFill>
                  <a:srgbClr val="d8e74b"/>
                </a:solidFill>
                <a:latin typeface="Garamond"/>
              </a:rPr>
              <a:t>Airways</a:t>
            </a:r>
            <a:endParaRPr b="0" lang="en-US" sz="3200" spc="-1" strike="noStrike">
              <a:solidFill>
                <a:srgbClr val="ffffff"/>
              </a:solidFill>
              <a:latin typeface="Arial"/>
            </a:endParaRPr>
          </a:p>
        </p:txBody>
      </p:sp>
      <p:sp>
        <p:nvSpPr>
          <p:cNvPr id="130" name=""/>
          <p:cNvSpPr/>
          <p:nvPr/>
        </p:nvSpPr>
        <p:spPr>
          <a:xfrm>
            <a:off x="838080" y="4952880"/>
            <a:ext cx="7467840" cy="1373760"/>
          </a:xfrm>
          <a:prstGeom prst="rect">
            <a:avLst/>
          </a:prstGeom>
          <a:solidFill>
            <a:srgbClr val="000066"/>
          </a:solidFill>
          <a:ln w="9360">
            <a:solidFill>
              <a:srgbClr val="d8e74b"/>
            </a:solidFill>
            <a:miter/>
          </a:ln>
        </p:spPr>
        <p:style>
          <a:lnRef idx="0"/>
          <a:fillRef idx="0"/>
          <a:effectRef idx="0"/>
          <a:fontRef idx="minor"/>
        </p:style>
        <p:txBody>
          <a:bodyPr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reme caution is indicated in patients with a suspected basilar skull fracture or facial inju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1752480" cy="2428920"/>
          </a:xfrm>
          <a:prstGeom prst="rect">
            <a:avLst/>
          </a:prstGeom>
          <a:ln w="57240">
            <a:solidFill>
              <a:srgbClr val="d8e74b"/>
            </a:solidFill>
            <a:miter/>
          </a:ln>
        </p:spPr>
      </p:pic>
      <p:pic>
        <p:nvPicPr>
          <p:cNvPr id="132" name="" descr=""/>
          <p:cNvPicPr/>
          <p:nvPr/>
        </p:nvPicPr>
        <p:blipFill>
          <a:blip r:embed="rId2"/>
          <a:stretch/>
        </p:blipFill>
        <p:spPr>
          <a:xfrm>
            <a:off x="4267080" y="1447920"/>
            <a:ext cx="4695840" cy="4429080"/>
          </a:xfrm>
          <a:prstGeom prst="rect">
            <a:avLst/>
          </a:prstGeom>
          <a:ln w="0">
            <a:noFill/>
          </a:ln>
        </p:spPr>
      </p:pic>
      <p:sp>
        <p:nvSpPr>
          <p:cNvPr id="133" name=""/>
          <p:cNvSpPr/>
          <p:nvPr/>
        </p:nvSpPr>
        <p:spPr>
          <a:xfrm>
            <a:off x="228600" y="2895480"/>
            <a:ext cx="4800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vent the tongue from obstructing the airway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vent teeth clenching.</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ay cause vomiting</a:t>
            </a:r>
            <a:endParaRPr b="0" lang="en-US" sz="2800" spc="-1" strike="noStrike">
              <a:solidFill>
                <a:srgbClr val="ffffff"/>
              </a:solidFill>
              <a:latin typeface="Arial"/>
            </a:endParaRPr>
          </a:p>
        </p:txBody>
      </p:sp>
      <p:sp>
        <p:nvSpPr>
          <p:cNvPr id="134" name=""/>
          <p:cNvSpPr/>
          <p:nvPr/>
        </p:nvSpPr>
        <p:spPr>
          <a:xfrm>
            <a:off x="3822480" y="3169440"/>
            <a:ext cx="273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
        <p:nvSpPr>
          <p:cNvPr id="135" name=""/>
          <p:cNvSpPr/>
          <p:nvPr/>
        </p:nvSpPr>
        <p:spPr>
          <a:xfrm>
            <a:off x="2379960" y="333360"/>
            <a:ext cx="312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Oropharyngeal</a:t>
            </a:r>
            <a:endParaRPr b="0" lang="en-US" sz="3200" spc="-1" strike="noStrike">
              <a:solidFill>
                <a:srgbClr val="ffffff"/>
              </a:solidFill>
              <a:latin typeface="Arial"/>
            </a:endParaRPr>
          </a:p>
        </p:txBody>
      </p:sp>
      <p:sp>
        <p:nvSpPr>
          <p:cNvPr id="136" name=""/>
          <p:cNvSpPr/>
          <p:nvPr/>
        </p:nvSpPr>
        <p:spPr>
          <a:xfrm>
            <a:off x="685800" y="5410080"/>
            <a:ext cx="8229600" cy="1373760"/>
          </a:xfrm>
          <a:prstGeom prst="rect">
            <a:avLst/>
          </a:prstGeom>
          <a:solidFill>
            <a:srgbClr val="000066"/>
          </a:solidFill>
          <a:ln w="76320">
            <a:solidFill>
              <a:srgbClr val="aa1a0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y cause airway obstruction if during its placement the tongue is pushed against the posterior pharyngeal wall</a:t>
            </a:r>
            <a:endParaRPr b="0" lang="en-US" sz="2800" spc="-1" strike="noStrike">
              <a:solidFill>
                <a:srgbClr val="ffffff"/>
              </a:solidFill>
              <a:latin typeface="Arial"/>
            </a:endParaRPr>
          </a:p>
        </p:txBody>
      </p:sp>
      <p:sp>
        <p:nvSpPr>
          <p:cNvPr id="137" name=""/>
          <p:cNvSpPr/>
          <p:nvPr/>
        </p:nvSpPr>
        <p:spPr>
          <a:xfrm>
            <a:off x="4267080" y="1905120"/>
            <a:ext cx="4648320" cy="3933360"/>
          </a:xfrm>
          <a:prstGeom prst="rect">
            <a:avLst/>
          </a:prstGeom>
          <a:solidFill>
            <a:srgbClr val="000514"/>
          </a:solidFill>
          <a:ln w="9360">
            <a:solidFill>
              <a:srgbClr val="d8e74b"/>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potentially unstable patients with oral or nasal pharyngeal airways should be observed constantly, because these devices are temporary measures and cannot substitute for tracheal intub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7"/>
                                        </p:tgtEl>
                                        <p:attrNameLst>
                                          <p:attrName>style.visibility</p:attrName>
                                        </p:attrNameLst>
                                      </p:cBhvr>
                                      <p:to>
                                        <p:strVal val="visible"/>
                                      </p:to>
                                    </p:set>
                                    <p:animEffect filter="checkerboard(across)" transition="in">
                                      <p:cBhvr additive="repl">
                                        <p:cTn id="5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38" name=""/>
          <p:cNvSpPr/>
          <p:nvPr/>
        </p:nvSpPr>
        <p:spPr>
          <a:xfrm>
            <a:off x="762120" y="2673360"/>
            <a:ext cx="7391160" cy="3486600"/>
          </a:xfrm>
          <a:prstGeom prst="rect">
            <a:avLst/>
          </a:prstGeom>
          <a:solidFill>
            <a:srgbClr val="000066"/>
          </a:solidFill>
          <a:ln w="9360">
            <a:solidFill>
              <a:srgbClr val="ff0066"/>
            </a:solidFill>
            <a:miter/>
          </a:ln>
        </p:spPr>
        <p:style>
          <a:lnRef idx="0"/>
          <a:fillRef idx="0"/>
          <a:effectRef idx="0"/>
          <a:fontRef idx="minor"/>
        </p:style>
        <p:txBody>
          <a:bodyPr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mple and effective.</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can be difficult to perform correctly </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 a tight mask seal in situations requiring positive-pressure ventilation. </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is used with an oropharyngeal or nasopharyngeal airway in plac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
          <p:cNvSpPr/>
          <p:nvPr/>
        </p:nvSpPr>
        <p:spPr>
          <a:xfrm>
            <a:off x="1267200" y="838080"/>
            <a:ext cx="110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BVM</a:t>
            </a:r>
            <a:endParaRPr b="0" lang="en-US" sz="3200" spc="-1" strike="noStrike">
              <a:solidFill>
                <a:srgbClr val="ffffff"/>
              </a:solidFill>
              <a:latin typeface="Arial"/>
            </a:endParaRPr>
          </a:p>
        </p:txBody>
      </p:sp>
      <p:pic>
        <p:nvPicPr>
          <p:cNvPr id="140" name="" descr=""/>
          <p:cNvPicPr/>
          <p:nvPr/>
        </p:nvPicPr>
        <p:blipFill>
          <a:blip r:embed="rId1"/>
          <a:stretch/>
        </p:blipFill>
        <p:spPr>
          <a:xfrm>
            <a:off x="6324480" y="304920"/>
            <a:ext cx="281952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tight mask seal is mandatory to prevent loss of tidal volume and to ensure oxygen delivery during ventilation. </a:t>
            </a: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humb and index finger provide anterior pressure while the fifth and fourth fingers lift the jaw </a:t>
            </a:r>
            <a:endParaRPr b="0" lang="en-US" sz="2400" spc="-1" strike="noStrike">
              <a:solidFill>
                <a:srgbClr val="ffffff"/>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Dentures generally should be left in place to</a:t>
            </a:r>
            <a:endParaRPr b="0" lang="en-US" sz="24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help ensure a better seal with the mask.</a:t>
            </a:r>
            <a:endParaRPr b="0" lang="en-US" sz="2400" spc="-1" strike="noStrike">
              <a:solidFill>
                <a:srgbClr val="ffffff"/>
              </a:solidFill>
              <a:latin typeface="Garamond"/>
            </a:endParaRPr>
          </a:p>
        </p:txBody>
      </p:sp>
      <p:pic>
        <p:nvPicPr>
          <p:cNvPr id="142" name="" descr=""/>
          <p:cNvPicPr/>
          <p:nvPr/>
        </p:nvPicPr>
        <p:blipFill>
          <a:blip r:embed="rId1"/>
          <a:stretch/>
        </p:blipFill>
        <p:spPr>
          <a:xfrm>
            <a:off x="5410080" y="3276720"/>
            <a:ext cx="3733920" cy="2743200"/>
          </a:xfrm>
          <a:prstGeom prst="rect">
            <a:avLst/>
          </a:prstGeom>
          <a:ln w="0">
            <a:noFill/>
          </a:ln>
        </p:spPr>
      </p:pic>
      <p:pic>
        <p:nvPicPr>
          <p:cNvPr id="143" name="" descr="">
            <a:hlinkClick r:id="rId2"/>
          </p:cNvPr>
          <p:cNvPicPr/>
          <p:nvPr/>
        </p:nvPicPr>
        <p:blipFill>
          <a:blip r:embed="rId3"/>
          <a:stretch/>
        </p:blipFill>
        <p:spPr>
          <a:xfrm rot="3470400">
            <a:off x="4871520" y="5338440"/>
            <a:ext cx="1009800" cy="1152360"/>
          </a:xfrm>
          <a:prstGeom prst="rect">
            <a:avLst/>
          </a:prstGeom>
          <a:ln w="76320">
            <a:solidFill>
              <a:srgbClr val="ff0066"/>
            </a:solidFill>
            <a:miter/>
          </a:ln>
        </p:spPr>
      </p:pic>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e74b"/>
                </a:solidFill>
                <a:latin typeface="Garamond"/>
              </a:rPr>
              <a:t>BVM</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What are the major problems encountered with BVM ventilation??</a:t>
            </a:r>
            <a:endParaRPr b="1" lang="en-US" sz="28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adequate tidal volumes</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adequate oxygen delivery</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astric distention. </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oreign material may be insufflated down the trachea if it is not cleared before ventilation. </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gurgitation and Aspiration </a:t>
            </a: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The application of firm posterior pressure on the cricoid ring helps reduce gastric inflation during BVM ventil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46"/>
                                        </p:tgtEl>
                                        <p:attrNameLst>
                                          <p:attrName>style.visibility</p:attrName>
                                        </p:attrNameLst>
                                      </p:cBhvr>
                                      <p:to>
                                        <p:strVal val="visible"/>
                                      </p:to>
                                    </p:set>
                                    <p:animEffect filter="box(in)"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63" dur="500"/>
                                        <p:tgtEl>
                                          <p:spTgt spid="14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68" dur="500"/>
                                        <p:tgtEl>
                                          <p:spTgt spid="146">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73" dur="500"/>
                                        <p:tgtEl>
                                          <p:spTgt spid="14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78" dur="500"/>
                                        <p:tgtEl>
                                          <p:spTgt spid="14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83" dur="500"/>
                                        <p:tgtEl>
                                          <p:spTgt spid="146">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46">
                                            <p:txEl>
                                              <p:pRg st="7" end="7"/>
                                            </p:txEl>
                                          </p:spTgt>
                                        </p:tgtEl>
                                        <p:attrNameLst>
                                          <p:attrName>style.visibility</p:attrName>
                                        </p:attrNameLst>
                                      </p:cBhvr>
                                      <p:to>
                                        <p:strVal val="visible"/>
                                      </p:to>
                                    </p:set>
                                    <p:animEffect filter="box(in)" transition="in">
                                      <p:cBhvr additive="repl">
                                        <p:cTn id="88"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457200" y="990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 year old f. started on ACEI on the floor, became hypoxic and started to have tongue swelling and stridor. IM epi, steroid &amp; fluid were given without any improvement.</a:t>
            </a:r>
            <a:endParaRPr b="0" lang="en-US" sz="2400" spc="-1" strike="noStrike">
              <a:solidFill>
                <a:srgbClr val="ffffff"/>
              </a:solidFill>
              <a:latin typeface="Arial"/>
            </a:endParaRPr>
          </a:p>
        </p:txBody>
      </p:sp>
      <p:pic>
        <p:nvPicPr>
          <p:cNvPr id="148" name="" descr=""/>
          <p:cNvPicPr/>
          <p:nvPr/>
        </p:nvPicPr>
        <p:blipFill>
          <a:blip r:embed="rId1"/>
          <a:stretch/>
        </p:blipFill>
        <p:spPr>
          <a:xfrm>
            <a:off x="609480" y="2971800"/>
            <a:ext cx="2295720" cy="2943360"/>
          </a:xfrm>
          <a:prstGeom prst="rect">
            <a:avLst/>
          </a:prstGeom>
          <a:ln w="0">
            <a:noFill/>
          </a:ln>
        </p:spPr>
      </p:pic>
      <p:sp>
        <p:nvSpPr>
          <p:cNvPr id="149" name=""/>
          <p:cNvSpPr/>
          <p:nvPr/>
        </p:nvSpPr>
        <p:spPr>
          <a:xfrm>
            <a:off x="3651480" y="3886200"/>
            <a:ext cx="528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8e74b"/>
                </a:solidFill>
                <a:latin typeface="Garamond"/>
              </a:rPr>
              <a:t>What do you want to 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Difficult Airway</a:t>
            </a:r>
            <a:endParaRPr b="1" lang="en-US" sz="2800" spc="-1" strike="noStrike">
              <a:solidFill>
                <a:srgbClr val="e5e5ff"/>
              </a:solidFill>
              <a:latin typeface="Garamond"/>
            </a:endParaRPr>
          </a:p>
        </p:txBody>
      </p:sp>
      <p:sp>
        <p:nvSpPr>
          <p:cNvPr id="151" name="PlaceHolder 2"/>
          <p:cNvSpPr>
            <a:spLocks noGrp="1"/>
          </p:cNvSpPr>
          <p:nvPr>
            <p:ph/>
          </p:nvPr>
        </p:nvSpPr>
        <p:spPr>
          <a:xfrm>
            <a:off x="228600" y="2057040"/>
            <a:ext cx="8229600" cy="25146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orrect position of the pati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dequate or improper equipm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usual or abnormal anatom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hologic causes </a:t>
            </a:r>
            <a:endParaRPr b="0" lang="en-US" sz="3200" spc="-1" strike="noStrike">
              <a:solidFill>
                <a:srgbClr val="ffffff"/>
              </a:solidFill>
              <a:latin typeface="Garamond"/>
            </a:endParaRPr>
          </a:p>
        </p:txBody>
      </p:sp>
      <p:sp>
        <p:nvSpPr>
          <p:cNvPr id="152" name=""/>
          <p:cNvSpPr/>
          <p:nvPr/>
        </p:nvSpPr>
        <p:spPr>
          <a:xfrm>
            <a:off x="-222840" y="1143000"/>
            <a:ext cx="27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Ca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3" name=""/>
          <p:cNvSpPr/>
          <p:nvPr/>
        </p:nvSpPr>
        <p:spPr>
          <a:xfrm>
            <a:off x="228600" y="609480"/>
            <a:ext cx="86724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9 y.o.male admitted to the ICU with septic shock received 3 L. of crystalloid, started in inotrpes.  remain hypotensive ,ECG shows new ST depression, O2 sat. went down to 85% in 100% O2.</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MH:  HTN, MI, sever RA on wheelchair on ACEI , lasix, ASA, percoce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What do you want to d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4" name="" descr=""/>
          <p:cNvPicPr/>
          <p:nvPr/>
        </p:nvPicPr>
        <p:blipFill>
          <a:blip r:embed="rId1"/>
          <a:stretch/>
        </p:blipFill>
        <p:spPr>
          <a:xfrm>
            <a:off x="4800600" y="3048120"/>
            <a:ext cx="358128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8e74b"/>
                </a:solidFill>
                <a:latin typeface="Garamond"/>
              </a:rPr>
              <a:t>Difficult Intubation??</a:t>
            </a:r>
            <a:endParaRPr b="1" lang="en-US" sz="3200" spc="-1" strike="noStrike">
              <a:solidFill>
                <a:srgbClr val="e5e5ff"/>
              </a:solidFill>
              <a:latin typeface="Garamond"/>
            </a:endParaRPr>
          </a:p>
        </p:txBody>
      </p:sp>
      <p:sp>
        <p:nvSpPr>
          <p:cNvPr id="156" name="PlaceHolder 2"/>
          <p:cNvSpPr>
            <a:spLocks noGrp="1"/>
          </p:cNvSpPr>
          <p:nvPr>
            <p:ph/>
          </p:nvPr>
        </p:nvSpPr>
        <p:spPr>
          <a:xfrm>
            <a:off x="1676160" y="2209320"/>
            <a:ext cx="6172200" cy="3124440"/>
          </a:xfrm>
          <a:prstGeom prst="rect">
            <a:avLst/>
          </a:prstGeom>
          <a:solidFill>
            <a:srgbClr val="000066"/>
          </a:solidFill>
          <a:ln w="9360">
            <a:solidFill>
              <a:srgbClr val="d8e74b"/>
            </a:solidFill>
            <a:miter/>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atomically abnormal faces</a:t>
            </a:r>
            <a:endParaRPr b="0" lang="en-US" sz="2400" spc="-1" strike="noStrike">
              <a:solidFill>
                <a:srgbClr val="ffffff"/>
              </a:solidFill>
              <a:latin typeface="Garamond"/>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Neck trauma</a:t>
            </a:r>
            <a:br>
              <a:rPr sz="2400"/>
            </a:br>
            <a:r>
              <a:rPr b="1" lang="en-US" sz="2400" spc="-1" strike="noStrike">
                <a:solidFill>
                  <a:srgbClr val="ffffff"/>
                </a:solidFill>
                <a:latin typeface="Garamond"/>
              </a:rPr>
              <a:t>Prominent incisors</a:t>
            </a:r>
            <a:br>
              <a:rPr sz="2400"/>
            </a:br>
            <a:r>
              <a:rPr b="1" lang="en-US" sz="2400" spc="-1" strike="noStrike">
                <a:solidFill>
                  <a:srgbClr val="ffffff"/>
                </a:solidFill>
                <a:latin typeface="Garamond"/>
              </a:rPr>
              <a:t>Receding mandible</a:t>
            </a:r>
            <a:br>
              <a:rPr sz="2400"/>
            </a:br>
            <a:r>
              <a:rPr b="1" lang="en-US" sz="2400" spc="-1" strike="noStrike">
                <a:solidFill>
                  <a:srgbClr val="ffffff"/>
                </a:solidFill>
                <a:latin typeface="Garamond"/>
              </a:rPr>
              <a:t>Cervical spine immobilization</a:t>
            </a:r>
            <a:br>
              <a:rPr sz="2400"/>
            </a:br>
            <a:r>
              <a:rPr b="1" lang="en-US" sz="2400" spc="-1" strike="noStrike">
                <a:solidFill>
                  <a:srgbClr val="ffffff"/>
                </a:solidFill>
                <a:latin typeface="Garamond"/>
              </a:rPr>
              <a:t>Short, thick neck</a:t>
            </a:r>
            <a:br>
              <a:rPr sz="2400"/>
            </a:br>
            <a:r>
              <a:rPr b="0" lang="en-US" sz="2400" spc="-1" strike="noStrike">
                <a:solidFill>
                  <a:srgbClr val="ffffff"/>
                </a:solidFill>
                <a:latin typeface="Garamond"/>
              </a:rPr>
              <a:t>Neck mobility </a:t>
            </a:r>
            <a:br>
              <a:rPr sz="2400"/>
            </a:br>
            <a:endParaRPr b="0" lang="en-US" sz="2400" spc="-1" strike="noStrike">
              <a:solidFill>
                <a:srgbClr val="ffffff"/>
              </a:solidFill>
              <a:latin typeface="Garamond"/>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56"/>
                                        </p:tgtEl>
                                        <p:attrNameLst>
                                          <p:attrName>style.visibility</p:attrName>
                                        </p:attrNameLst>
                                      </p:cBhvr>
                                      <p:to>
                                        <p:strVal val="visible"/>
                                      </p:to>
                                    </p:set>
                                    <p:animEffect filter="diamond(in)" transition="in">
                                      <p:cBhvr additive="repl">
                                        <p:cTn id="95" dur="2000"/>
                                        <p:tgtEl>
                                          <p:spTgt spid="156"/>
                                        </p:tgtEl>
                                      </p:cBhvr>
                                    </p:animEffect>
                                  </p:childTnLst>
                                </p:cTn>
                              </p:par>
                              <p:par>
                                <p:cTn id="96" nodeType="withEffect" fill="hold" presetClass="entr" presetID="8" presetSubtype="16">
                                  <p:stCondLst>
                                    <p:cond delay="0"/>
                                  </p:stCondLst>
                                  <p:childTnLst>
                                    <p:set>
                                      <p:cBhvr>
                                        <p:cTn id="97" dur="1" fill="hold">
                                          <p:stCondLst>
                                            <p:cond delay="0"/>
                                          </p:stCondLst>
                                        </p:cTn>
                                        <p:tgtEl>
                                          <p:spTgt spid="156">
                                            <p:txEl>
                                              <p:pRg st="1" end="1"/>
                                            </p:txEl>
                                          </p:spTgt>
                                        </p:tgtEl>
                                        <p:attrNameLst>
                                          <p:attrName>style.visibility</p:attrName>
                                        </p:attrNameLst>
                                      </p:cBhvr>
                                      <p:to>
                                        <p:strVal val="visible"/>
                                      </p:to>
                                    </p:set>
                                    <p:animEffect filter="diamond(in)" transition="in">
                                      <p:cBhvr additive="repl">
                                        <p:cTn id="98" dur="2000"/>
                                        <p:tgtEl>
                                          <p:spTgt spid="156">
                                            <p:txEl>
                                              <p:pRg st="1" end="1"/>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156">
                                            <p:txEl>
                                              <p:pRg st="2" end="2"/>
                                            </p:txEl>
                                          </p:spTgt>
                                        </p:tgtEl>
                                        <p:attrNameLst>
                                          <p:attrName>style.visibility</p:attrName>
                                        </p:attrNameLst>
                                      </p:cBhvr>
                                      <p:to>
                                        <p:strVal val="visible"/>
                                      </p:to>
                                    </p:set>
                                    <p:animEffect filter="diamond(in)" transition="in">
                                      <p:cBhvr additive="repl">
                                        <p:cTn id="101"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Difficult Airway</a:t>
            </a:r>
            <a:endParaRPr b="1" lang="en-US" sz="28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hree specific tests which when used together have </a:t>
            </a:r>
            <a:r>
              <a:rPr b="0" lang="en-US" sz="3200" spc="-1" strike="noStrike">
                <a:solidFill>
                  <a:srgbClr val="d8e74b"/>
                </a:solidFill>
                <a:latin typeface="Garamond"/>
              </a:rPr>
              <a:t>almost 100%</a:t>
            </a:r>
            <a:r>
              <a:rPr b="0" lang="en-US" sz="3200" spc="-1" strike="noStrike">
                <a:solidFill>
                  <a:srgbClr val="ffffff"/>
                </a:solidFill>
                <a:latin typeface="Garamond"/>
              </a:rPr>
              <a:t> reliability in predicting airway difficulty.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llampati te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hyromental dist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sion at the Atlantooccipital joi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9360">
            <a:solidFill>
              <a:srgbClr val="d8e74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What are the indications of intubations??</a:t>
            </a:r>
            <a:endParaRPr b="1" lang="en-US" sz="3200" spc="-1" strike="noStrike">
              <a:solidFill>
                <a:srgbClr val="e5e5ff"/>
              </a:solidFill>
              <a:latin typeface="Garamond"/>
            </a:endParaRPr>
          </a:p>
        </p:txBody>
      </p:sp>
      <p:sp>
        <p:nvSpPr>
          <p:cNvPr id="103" name="PlaceHolder 2"/>
          <p:cNvSpPr>
            <a:spLocks noGrp="1"/>
          </p:cNvSpPr>
          <p:nvPr>
            <p:ph/>
          </p:nvPr>
        </p:nvSpPr>
        <p:spPr>
          <a:xfrm>
            <a:off x="838080" y="3047760"/>
            <a:ext cx="7772400" cy="1981080"/>
          </a:xfrm>
          <a:prstGeom prst="rect">
            <a:avLst/>
          </a:prstGeom>
          <a:solidFill>
            <a:srgbClr val="000066"/>
          </a:solidFill>
          <a:ln w="0">
            <a:noFill/>
          </a:ln>
        </p:spPr>
        <p:txBody>
          <a:bodyPr lIns="90000" rIns="90000" tIns="46800" bIns="46800"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failure to maintain or protect the airway</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failure of ventilation or oxygenation</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nticipated need for intubation based on the patient's clinical course and likelihood of deterior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2" dur="500"/>
                                        <p:tgtEl>
                                          <p:spTgt spid="10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7" dur="500"/>
                                        <p:tgtEl>
                                          <p:spTgt spid="10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2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8e74b"/>
                </a:solidFill>
                <a:latin typeface="Garamond"/>
              </a:rPr>
              <a:t>Difficult Bag/Mask Ventilation </a:t>
            </a:r>
            <a:br>
              <a:rPr sz="2800"/>
            </a:br>
            <a:endParaRPr b="1" lang="en-US" sz="2800" spc="-1" strike="noStrike">
              <a:solidFill>
                <a:srgbClr val="e5e5ff"/>
              </a:solidFill>
              <a:latin typeface="Garamond"/>
            </a:endParaRPr>
          </a:p>
        </p:txBody>
      </p:sp>
      <p:sp>
        <p:nvSpPr>
          <p:cNvPr id="1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4000"/>
          </a:bodyPr>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dentulousness</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esity</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istory of snoring</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ard</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e &gt; 55 years</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atomically abnormal facies</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cial/neck trauma</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structive airways disease</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rd-trimester pregnancy</a:t>
            </a: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8e74b"/>
                </a:solidFill>
                <a:latin typeface="Garamond"/>
              </a:rPr>
              <a:t>Difficult Intubation and Difficult BMV??</a:t>
            </a:r>
            <a:endParaRPr b="1" lang="en-US" sz="28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atomically abnormal faces</a:t>
            </a:r>
            <a:br>
              <a:rPr sz="2800"/>
            </a:br>
            <a:br>
              <a:rPr sz="2800"/>
            </a:br>
            <a:r>
              <a:rPr b="1"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cial/neck trauma</a:t>
            </a:r>
            <a:br>
              <a:rPr sz="2800"/>
            </a:br>
            <a:br>
              <a:rPr sz="2800"/>
            </a:br>
            <a:r>
              <a:rPr b="1"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rbid obesity</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64" name=""/>
          <p:cNvSpPr/>
          <p:nvPr/>
        </p:nvSpPr>
        <p:spPr>
          <a:xfrm>
            <a:off x="914400" y="1568520"/>
            <a:ext cx="7620120" cy="4786560"/>
          </a:xfrm>
          <a:prstGeom prst="rect">
            <a:avLst/>
          </a:prstGeom>
          <a:solidFill>
            <a:srgbClr val="000066"/>
          </a:solidFill>
          <a:ln w="9360">
            <a:solidFill>
              <a:srgbClr val="ff0066"/>
            </a:solidFill>
            <a:miter/>
          </a:ln>
        </p:spPr>
        <p:style>
          <a:lnRef idx="0"/>
          <a:fillRef idx="0"/>
          <a:effectRef idx="0"/>
          <a:fontRef idx="minor"/>
        </p:style>
        <p:txBody>
          <a:bodyPr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pect for external markers of difficult intubation, difficult bag/mask ventilation, or both.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cervical spine mobility.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mouth opening (three fingers between the incisors).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oral access (Mallampati scale).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laryngoscopic geometry (mentum to hyoid, laryngeal prominence to floor of mandible).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aluate for obstruction. </a:t>
            </a:r>
            <a:endParaRPr b="0" lang="en-US" sz="2800" spc="-1" strike="noStrike">
              <a:solidFill>
                <a:srgbClr val="ffffff"/>
              </a:solidFill>
              <a:latin typeface="Arial"/>
            </a:endParaRPr>
          </a:p>
        </p:txBody>
      </p:sp>
      <p:sp>
        <p:nvSpPr>
          <p:cNvPr id="165" name=""/>
          <p:cNvSpPr/>
          <p:nvPr/>
        </p:nvSpPr>
        <p:spPr>
          <a:xfrm>
            <a:off x="1272960" y="461520"/>
            <a:ext cx="5956560" cy="947160"/>
          </a:xfrm>
          <a:prstGeom prst="rect">
            <a:avLst/>
          </a:prstGeom>
          <a:noFill/>
          <a:ln w="9360">
            <a:solidFill>
              <a:srgbClr val="d8e74b"/>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Evaluation of the Difficult Airwa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          </a:t>
            </a:r>
            <a:r>
              <a:rPr b="0" lang="en-US" sz="2800" spc="-1" strike="noStrike">
                <a:solidFill>
                  <a:srgbClr val="d8e74b"/>
                </a:solidFill>
                <a:latin typeface="Garamond"/>
              </a:rPr>
              <a:t>In Summ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990720" y="1295280"/>
            <a:ext cx="7086600" cy="5181840"/>
          </a:xfrm>
          <a:prstGeom prst="rect">
            <a:avLst/>
          </a:prstGeom>
          <a:ln w="0">
            <a:noFill/>
          </a:ln>
        </p:spPr>
      </p:pic>
      <p:sp>
        <p:nvSpPr>
          <p:cNvPr id="167" name=""/>
          <p:cNvSpPr/>
          <p:nvPr/>
        </p:nvSpPr>
        <p:spPr>
          <a:xfrm>
            <a:off x="2967480" y="380880"/>
            <a:ext cx="304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Difficult Airw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e74b"/>
                </a:solidFill>
                <a:latin typeface="Garamond"/>
              </a:rPr>
              <a:t>Preparation</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paration</a:t>
            </a:r>
            <a:endParaRPr b="0" lang="en-US" sz="3200" spc="-1" strike="noStrike">
              <a:solidFill>
                <a:srgbClr val="ffffff"/>
              </a:solidFill>
              <a:latin typeface="Garamond"/>
            </a:endParaRPr>
          </a:p>
        </p:txBody>
      </p:sp>
      <p:sp>
        <p:nvSpPr>
          <p:cNvPr id="170" name=""/>
          <p:cNvSpPr/>
          <p:nvPr/>
        </p:nvSpPr>
        <p:spPr>
          <a:xfrm rot="20730000">
            <a:off x="838080" y="3251880"/>
            <a:ext cx="7616880" cy="1922760"/>
          </a:xfrm>
          <a:prstGeom prst="rect">
            <a:avLst/>
          </a:prstGeom>
          <a:solidFill>
            <a:srgbClr val="000066"/>
          </a:solidFill>
          <a:ln w="76320">
            <a:solidFill>
              <a:srgbClr val="ff00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airway management, failure has ominous consequenc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ntal, physical, and equipment preparation maximiz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hances of success </a:t>
            </a:r>
            <a:endParaRPr b="0" lang="en-US" sz="2400" spc="-1" strike="noStrike">
              <a:solidFill>
                <a:srgbClr val="ffffff"/>
              </a:solidFill>
              <a:latin typeface="Arial"/>
            </a:endParaRPr>
          </a:p>
        </p:txBody>
      </p:sp>
      <p:sp>
        <p:nvSpPr>
          <p:cNvPr id="171" name=""/>
          <p:cNvSpPr/>
          <p:nvPr/>
        </p:nvSpPr>
        <p:spPr>
          <a:xfrm>
            <a:off x="798840" y="2057400"/>
            <a:ext cx="203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2" name=""/>
          <p:cNvSpPr/>
          <p:nvPr/>
        </p:nvSpPr>
        <p:spPr>
          <a:xfrm>
            <a:off x="3618720" y="52578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3" name=""/>
          <p:cNvSpPr/>
          <p:nvPr/>
        </p:nvSpPr>
        <p:spPr>
          <a:xfrm>
            <a:off x="5600160" y="43434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4" name=""/>
          <p:cNvSpPr/>
          <p:nvPr/>
        </p:nvSpPr>
        <p:spPr>
          <a:xfrm>
            <a:off x="7200360" y="41148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5" name=""/>
          <p:cNvSpPr/>
          <p:nvPr/>
        </p:nvSpPr>
        <p:spPr>
          <a:xfrm>
            <a:off x="1135080" y="2637000"/>
            <a:ext cx="173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paration</a:t>
            </a:r>
            <a:endParaRPr b="0" lang="en-US" sz="2000" spc="-1" strike="noStrike">
              <a:solidFill>
                <a:srgbClr val="ffffff"/>
              </a:solidFill>
              <a:latin typeface="Arial"/>
            </a:endParaRPr>
          </a:p>
        </p:txBody>
      </p:sp>
      <p:sp>
        <p:nvSpPr>
          <p:cNvPr id="176" name=""/>
          <p:cNvSpPr/>
          <p:nvPr/>
        </p:nvSpPr>
        <p:spPr>
          <a:xfrm>
            <a:off x="1516320" y="3094200"/>
            <a:ext cx="173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paration</a:t>
            </a:r>
            <a:endParaRPr b="0" lang="en-US" sz="2000" spc="-1" strike="noStrike">
              <a:solidFill>
                <a:srgbClr val="ffffff"/>
              </a:solidFill>
              <a:latin typeface="Arial"/>
            </a:endParaRPr>
          </a:p>
        </p:txBody>
      </p:sp>
      <p:sp>
        <p:nvSpPr>
          <p:cNvPr id="177" name=""/>
          <p:cNvSpPr/>
          <p:nvPr/>
        </p:nvSpPr>
        <p:spPr>
          <a:xfrm>
            <a:off x="2918880" y="3216240"/>
            <a:ext cx="1417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eparation</a:t>
            </a:r>
            <a:endParaRPr b="0" lang="en-US" sz="1600" spc="-1" strike="noStrike">
              <a:solidFill>
                <a:srgbClr val="ffffff"/>
              </a:solidFill>
              <a:latin typeface="Arial"/>
            </a:endParaRPr>
          </a:p>
        </p:txBody>
      </p:sp>
      <p:sp>
        <p:nvSpPr>
          <p:cNvPr id="178" name=""/>
          <p:cNvSpPr/>
          <p:nvPr/>
        </p:nvSpPr>
        <p:spPr>
          <a:xfrm>
            <a:off x="6743160" y="25146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9" name=""/>
          <p:cNvSpPr/>
          <p:nvPr/>
        </p:nvSpPr>
        <p:spPr>
          <a:xfrm>
            <a:off x="342360" y="5867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04920" y="1523880"/>
            <a:ext cx="3933720" cy="3857760"/>
          </a:xfrm>
          <a:prstGeom prst="rect">
            <a:avLst/>
          </a:prstGeom>
          <a:ln w="0">
            <a:noFill/>
          </a:ln>
        </p:spPr>
      </p:pic>
      <p:sp>
        <p:nvSpPr>
          <p:cNvPr id="181" name=""/>
          <p:cNvSpPr/>
          <p:nvPr/>
        </p:nvSpPr>
        <p:spPr>
          <a:xfrm>
            <a:off x="2891160" y="304920"/>
            <a:ext cx="304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Difficult Airway</a:t>
            </a:r>
            <a:endParaRPr b="0" lang="en-US" sz="2800" spc="-1" strike="noStrike">
              <a:solidFill>
                <a:srgbClr val="ffffff"/>
              </a:solidFill>
              <a:latin typeface="Arial"/>
            </a:endParaRPr>
          </a:p>
        </p:txBody>
      </p:sp>
      <p:sp>
        <p:nvSpPr>
          <p:cNvPr id="182" name=""/>
          <p:cNvSpPr/>
          <p:nvPr/>
        </p:nvSpPr>
        <p:spPr>
          <a:xfrm>
            <a:off x="4419720" y="1925280"/>
            <a:ext cx="4410000" cy="2653560"/>
          </a:xfrm>
          <a:prstGeom prst="rect">
            <a:avLst/>
          </a:prstGeom>
          <a:solidFill>
            <a:srgbClr val="000066"/>
          </a:solidFill>
          <a:ln w="9360">
            <a:solidFill>
              <a:srgbClr val="ff00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way Car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your self familiar to its content before you need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Preparing for Intubation </a:t>
            </a:r>
            <a:endParaRPr b="1" lang="en-US" sz="2800" spc="-1" strike="noStrike">
              <a:solidFill>
                <a:srgbClr val="e5e5ff"/>
              </a:solidFill>
              <a:latin typeface="Garamond"/>
            </a:endParaRPr>
          </a:p>
        </p:txBody>
      </p:sp>
      <p:sp>
        <p:nvSpPr>
          <p:cNvPr id="184" name="PlaceHolder 2"/>
          <p:cNvSpPr>
            <a:spLocks noGrp="1"/>
          </p:cNvSpPr>
          <p:nvPr>
            <p:ph/>
          </p:nvPr>
        </p:nvSpPr>
        <p:spPr>
          <a:xfrm>
            <a:off x="1371240" y="2361960"/>
            <a:ext cx="6629400" cy="3352680"/>
          </a:xfrm>
          <a:prstGeom prst="rect">
            <a:avLst/>
          </a:prstGeom>
          <a:solidFill>
            <a:srgbClr val="000066"/>
          </a:solid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confirm that the required intubation equipment is available and functioning</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osition the patient correctly</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ssess the patient for difficult airway</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establish intravenous (IV) access, time permitting</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draw up essential drugs</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attach the necessary monitoring devices </a:t>
            </a:r>
            <a:r>
              <a:rPr b="0" lang="en-US" sz="32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Positioning</a:t>
            </a:r>
            <a:endParaRPr b="1" lang="en-US" sz="3200" spc="-1" strike="noStrike">
              <a:solidFill>
                <a:srgbClr val="e5e5ff"/>
              </a:solidFill>
              <a:latin typeface="Garamond"/>
            </a:endParaRPr>
          </a:p>
        </p:txBody>
      </p:sp>
      <p:sp>
        <p:nvSpPr>
          <p:cNvPr id="186" name="PlaceHolder 2"/>
          <p:cNvSpPr>
            <a:spLocks noGrp="1"/>
          </p:cNvSpPr>
          <p:nvPr>
            <p:ph/>
          </p:nvPr>
        </p:nvSpPr>
        <p:spPr>
          <a:xfrm>
            <a:off x="533520" y="2361960"/>
            <a:ext cx="8229600" cy="2819160"/>
          </a:xfrm>
          <a:prstGeom prst="rect">
            <a:avLst/>
          </a:prstGeom>
          <a:solidFill>
            <a:srgbClr val="000066"/>
          </a:solid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atient should be positioned to optimally align the oral, pharyngeal, and laryngeal ax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the head extended on the neck and the neck slightly flexed relative to the tors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towel under the occiput (to raise it 7 to 10 cm) may facilitate positioning in the adul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7" name=""/>
          <p:cNvSpPr/>
          <p:nvPr/>
        </p:nvSpPr>
        <p:spPr>
          <a:xfrm>
            <a:off x="17524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
          <p:cNvPicPr/>
          <p:nvPr/>
        </p:nvPicPr>
        <p:blipFill>
          <a:blip r:embed="rId1"/>
          <a:stretch/>
        </p:blipFill>
        <p:spPr>
          <a:xfrm>
            <a:off x="155520" y="46080"/>
            <a:ext cx="2448000" cy="17906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85"/>
                                        </p:tgtEl>
                                        <p:attrNameLst>
                                          <p:attrName>style.visibility</p:attrName>
                                        </p:attrNameLst>
                                      </p:cBhvr>
                                      <p:to>
                                        <p:strVal val="visible"/>
                                      </p:to>
                                    </p:set>
                                    <p:animEffect filter="dissolve" transition="in">
                                      <p:cBhvr additive="repl">
                                        <p:cTn id="108" dur="500"/>
                                        <p:tgtEl>
                                          <p:spTgt spid="18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113" dur="500"/>
                                        <p:tgtEl>
                                          <p:spTgt spid="18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18" dur="500"/>
                                        <p:tgtEl>
                                          <p:spTgt spid="18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123"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09480" y="380880"/>
            <a:ext cx="4057920" cy="6248520"/>
          </a:xfrm>
          <a:prstGeom prst="rect">
            <a:avLst/>
          </a:prstGeom>
          <a:ln w="0">
            <a:noFill/>
          </a:ln>
        </p:spPr>
      </p:pic>
      <p:sp>
        <p:nvSpPr>
          <p:cNvPr id="190" name=""/>
          <p:cNvSpPr/>
          <p:nvPr/>
        </p:nvSpPr>
        <p:spPr>
          <a:xfrm rot="21372600">
            <a:off x="4888080" y="700200"/>
            <a:ext cx="3504960" cy="5621400"/>
          </a:xfrm>
          <a:prstGeom prst="ellipse">
            <a:avLst/>
          </a:prstGeom>
          <a:solidFill>
            <a:srgbClr val="000066"/>
          </a:solidFill>
          <a:ln w="381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oning of the hea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ck is a critical st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optimal hea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oning may b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ommon reas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intubation failu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
          <p:cNvSpPr/>
          <p:nvPr/>
        </p:nvSpPr>
        <p:spPr>
          <a:xfrm>
            <a:off x="679320" y="1320840"/>
            <a:ext cx="271440" cy="638280"/>
          </a:xfrm>
          <a:custGeom>
            <a:avLst/>
            <a:gdLst/>
            <a:ahLst/>
            <a:rect l="l" t="t" r="r" b="b"/>
            <a:pathLst>
              <a:path w="755" h="1775">
                <a:moveTo>
                  <a:pt x="2316" y="3737"/>
                </a:moveTo>
                <a:cubicBezTo>
                  <a:pt x="2328" y="3719"/>
                  <a:pt x="2341" y="3702"/>
                  <a:pt x="2352" y="3683"/>
                </a:cubicBezTo>
                <a:cubicBezTo>
                  <a:pt x="2355" y="3677"/>
                  <a:pt x="2358" y="3672"/>
                  <a:pt x="2361" y="3667"/>
                </a:cubicBezTo>
                <a:cubicBezTo>
                  <a:pt x="2358" y="3785"/>
                  <a:pt x="2338" y="3895"/>
                  <a:pt x="2313" y="4011"/>
                </a:cubicBezTo>
                <a:cubicBezTo>
                  <a:pt x="2272" y="4200"/>
                  <a:pt x="2226" y="4387"/>
                  <a:pt x="2185" y="4576"/>
                </a:cubicBezTo>
                <a:cubicBezTo>
                  <a:pt x="2148" y="4746"/>
                  <a:pt x="2100" y="4911"/>
                  <a:pt x="2054" y="5079"/>
                </a:cubicBezTo>
                <a:cubicBezTo>
                  <a:pt x="2024" y="5190"/>
                  <a:pt x="2002" y="5322"/>
                  <a:pt x="1940" y="5422"/>
                </a:cubicBezTo>
                <a:cubicBezTo>
                  <a:pt x="1935" y="5431"/>
                  <a:pt x="1930" y="5426"/>
                  <a:pt x="1925" y="5434"/>
                </a:cubicBezTo>
              </a:path>
              <a:path w="755" h="1775">
                <a:moveTo>
                  <a:pt x="1890" y="4056"/>
                </a:moveTo>
                <a:cubicBezTo>
                  <a:pt x="1893" y="4074"/>
                  <a:pt x="1889" y="4088"/>
                  <a:pt x="1897" y="4108"/>
                </a:cubicBezTo>
                <a:cubicBezTo>
                  <a:pt x="1924" y="4171"/>
                  <a:pt x="1982" y="4237"/>
                  <a:pt x="2020" y="4293"/>
                </a:cubicBezTo>
                <a:cubicBezTo>
                  <a:pt x="2102" y="4413"/>
                  <a:pt x="2188" y="4530"/>
                  <a:pt x="2261" y="4656"/>
                </a:cubicBezTo>
                <a:cubicBezTo>
                  <a:pt x="2347" y="4802"/>
                  <a:pt x="2419" y="4956"/>
                  <a:pt x="2504" y="5103"/>
                </a:cubicBezTo>
                <a:cubicBezTo>
                  <a:pt x="2550" y="5182"/>
                  <a:pt x="2596" y="5260"/>
                  <a:pt x="2642" y="53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27200" y="3083040"/>
            <a:ext cx="349200" cy="600120"/>
          </a:xfrm>
          <a:custGeom>
            <a:avLst/>
            <a:gdLst/>
            <a:ahLst/>
            <a:rect l="l" t="t" r="r" b="b"/>
            <a:pathLst>
              <a:path w="970" h="1664">
                <a:moveTo>
                  <a:pt x="2309" y="8608"/>
                </a:moveTo>
                <a:cubicBezTo>
                  <a:pt x="2295" y="8593"/>
                  <a:pt x="2280" y="8579"/>
                  <a:pt x="2266" y="8565"/>
                </a:cubicBezTo>
                <a:cubicBezTo>
                  <a:pt x="2264" y="8587"/>
                  <a:pt x="2262" y="8610"/>
                  <a:pt x="2261" y="8633"/>
                </a:cubicBezTo>
                <a:cubicBezTo>
                  <a:pt x="2250" y="8883"/>
                  <a:pt x="2263" y="9132"/>
                  <a:pt x="2264" y="9382"/>
                </a:cubicBezTo>
                <a:cubicBezTo>
                  <a:pt x="2265" y="9590"/>
                  <a:pt x="2264" y="9799"/>
                  <a:pt x="2259" y="10007"/>
                </a:cubicBezTo>
                <a:cubicBezTo>
                  <a:pt x="2258" y="10034"/>
                  <a:pt x="2249" y="10093"/>
                  <a:pt x="2264" y="10119"/>
                </a:cubicBezTo>
                <a:cubicBezTo>
                  <a:pt x="2280" y="10147"/>
                  <a:pt x="2276" y="10115"/>
                  <a:pt x="2286" y="10104"/>
                </a:cubicBezTo>
              </a:path>
              <a:path w="970" h="1664">
                <a:moveTo>
                  <a:pt x="2047" y="9115"/>
                </a:moveTo>
                <a:cubicBezTo>
                  <a:pt x="2037" y="9099"/>
                  <a:pt x="2034" y="9096"/>
                  <a:pt x="2028" y="9086"/>
                </a:cubicBezTo>
                <a:cubicBezTo>
                  <a:pt x="2036" y="9095"/>
                  <a:pt x="2026" y="9086"/>
                  <a:pt x="2035" y="9094"/>
                </a:cubicBezTo>
                <a:cubicBezTo>
                  <a:pt x="2125" y="9181"/>
                  <a:pt x="2201" y="9282"/>
                  <a:pt x="2273" y="9384"/>
                </a:cubicBezTo>
                <a:cubicBezTo>
                  <a:pt x="2358" y="9506"/>
                  <a:pt x="2450" y="9622"/>
                  <a:pt x="2546" y="9735"/>
                </a:cubicBezTo>
                <a:cubicBezTo>
                  <a:pt x="2631" y="9835"/>
                  <a:pt x="2714" y="9937"/>
                  <a:pt x="2804" y="10033"/>
                </a:cubicBezTo>
                <a:cubicBezTo>
                  <a:pt x="2865" y="10098"/>
                  <a:pt x="2926" y="10163"/>
                  <a:pt x="2988" y="102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703680" y="533520"/>
            <a:ext cx="398520" cy="452160"/>
          </a:xfrm>
          <a:custGeom>
            <a:avLst/>
            <a:gdLst/>
            <a:ahLst/>
            <a:rect l="l" t="t" r="r" b="b"/>
            <a:pathLst>
              <a:path w="1105" h="1259">
                <a:moveTo>
                  <a:pt x="10510" y="1676"/>
                </a:moveTo>
                <a:cubicBezTo>
                  <a:pt x="10481" y="1676"/>
                  <a:pt x="10448" y="1672"/>
                  <a:pt x="10419" y="1678"/>
                </a:cubicBezTo>
                <a:cubicBezTo>
                  <a:pt x="10393" y="1683"/>
                  <a:pt x="10369" y="1697"/>
                  <a:pt x="10354" y="1718"/>
                </a:cubicBezTo>
                <a:cubicBezTo>
                  <a:pt x="10324" y="1760"/>
                  <a:pt x="10314" y="1822"/>
                  <a:pt x="10307" y="1872"/>
                </a:cubicBezTo>
                <a:cubicBezTo>
                  <a:pt x="10299" y="1925"/>
                  <a:pt x="10281" y="1989"/>
                  <a:pt x="10293" y="2042"/>
                </a:cubicBezTo>
                <a:cubicBezTo>
                  <a:pt x="10298" y="2063"/>
                  <a:pt x="10314" y="2083"/>
                  <a:pt x="10338" y="2080"/>
                </a:cubicBezTo>
                <a:cubicBezTo>
                  <a:pt x="10372" y="2076"/>
                  <a:pt x="10405" y="2045"/>
                  <a:pt x="10429" y="2024"/>
                </a:cubicBezTo>
                <a:cubicBezTo>
                  <a:pt x="10461" y="1996"/>
                  <a:pt x="10487" y="1965"/>
                  <a:pt x="10510" y="1929"/>
                </a:cubicBezTo>
                <a:cubicBezTo>
                  <a:pt x="10528" y="1901"/>
                  <a:pt x="10542" y="1866"/>
                  <a:pt x="10542" y="1832"/>
                </a:cubicBezTo>
                <a:cubicBezTo>
                  <a:pt x="10542" y="1794"/>
                  <a:pt x="10515" y="1764"/>
                  <a:pt x="10488" y="1741"/>
                </a:cubicBezTo>
                <a:cubicBezTo>
                  <a:pt x="10457" y="1715"/>
                  <a:pt x="10422" y="1694"/>
                  <a:pt x="10385" y="1680"/>
                </a:cubicBezTo>
                <a:cubicBezTo>
                  <a:pt x="10364" y="1673"/>
                  <a:pt x="10358" y="1672"/>
                  <a:pt x="10345" y="1667"/>
                </a:cubicBezTo>
              </a:path>
              <a:path w="1105" h="1259">
                <a:moveTo>
                  <a:pt x="10766" y="1522"/>
                </a:moveTo>
                <a:cubicBezTo>
                  <a:pt x="10776" y="1508"/>
                  <a:pt x="10786" y="1495"/>
                  <a:pt x="10795" y="1481"/>
                </a:cubicBezTo>
                <a:cubicBezTo>
                  <a:pt x="10796" y="1500"/>
                  <a:pt x="10799" y="1528"/>
                  <a:pt x="10795" y="1553"/>
                </a:cubicBezTo>
                <a:cubicBezTo>
                  <a:pt x="10782" y="1640"/>
                  <a:pt x="10765" y="1725"/>
                  <a:pt x="10754" y="1812"/>
                </a:cubicBezTo>
                <a:cubicBezTo>
                  <a:pt x="10734" y="1971"/>
                  <a:pt x="10719" y="2130"/>
                  <a:pt x="10704" y="2289"/>
                </a:cubicBezTo>
                <a:cubicBezTo>
                  <a:pt x="10692" y="2419"/>
                  <a:pt x="10682" y="2550"/>
                  <a:pt x="10671" y="2680"/>
                </a:cubicBezTo>
              </a:path>
              <a:path w="1105" h="1259">
                <a:moveTo>
                  <a:pt x="10850" y="2187"/>
                </a:moveTo>
                <a:cubicBezTo>
                  <a:pt x="10870" y="2178"/>
                  <a:pt x="10894" y="2157"/>
                  <a:pt x="10910" y="2178"/>
                </a:cubicBezTo>
                <a:cubicBezTo>
                  <a:pt x="10942" y="2221"/>
                  <a:pt x="10945" y="2283"/>
                  <a:pt x="10958" y="2332"/>
                </a:cubicBezTo>
                <a:cubicBezTo>
                  <a:pt x="10979" y="2411"/>
                  <a:pt x="11003" y="2488"/>
                  <a:pt x="11023" y="2567"/>
                </a:cubicBezTo>
                <a:cubicBezTo>
                  <a:pt x="11038" y="2624"/>
                  <a:pt x="11052" y="2682"/>
                  <a:pt x="11066" y="2739"/>
                </a:cubicBezTo>
              </a:path>
              <a:path w="1105" h="1259">
                <a:moveTo>
                  <a:pt x="11137" y="2042"/>
                </a:moveTo>
                <a:cubicBezTo>
                  <a:pt x="11167" y="2085"/>
                  <a:pt x="11175" y="2127"/>
                  <a:pt x="11182" y="2180"/>
                </a:cubicBezTo>
                <a:cubicBezTo>
                  <a:pt x="11196" y="2283"/>
                  <a:pt x="11201" y="2385"/>
                  <a:pt x="11232" y="2485"/>
                </a:cubicBezTo>
                <a:cubicBezTo>
                  <a:pt x="11242" y="2518"/>
                  <a:pt x="11248" y="2541"/>
                  <a:pt x="11277" y="2558"/>
                </a:cubicBezTo>
                <a:cubicBezTo>
                  <a:pt x="11304" y="2547"/>
                  <a:pt x="11322" y="2532"/>
                  <a:pt x="11338" y="2506"/>
                </a:cubicBezTo>
                <a:cubicBezTo>
                  <a:pt x="11365" y="2461"/>
                  <a:pt x="11378" y="2406"/>
                  <a:pt x="11388" y="2355"/>
                </a:cubicBezTo>
                <a:cubicBezTo>
                  <a:pt x="11398" y="2304"/>
                  <a:pt x="11394" y="2252"/>
                  <a:pt x="11359" y="2210"/>
                </a:cubicBezTo>
                <a:cubicBezTo>
                  <a:pt x="11308" y="2148"/>
                  <a:pt x="11207" y="2132"/>
                  <a:pt x="11132" y="2142"/>
                </a:cubicBezTo>
                <a:cubicBezTo>
                  <a:pt x="11119" y="2145"/>
                  <a:pt x="11105" y="2148"/>
                  <a:pt x="11092" y="2151"/>
                </a:cubicBez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373560" y="1900080"/>
            <a:ext cx="2084400" cy="4962600"/>
          </a:xfrm>
          <a:custGeom>
            <a:avLst/>
            <a:gdLst/>
            <a:ahLst/>
            <a:rect l="l" t="t" r="r" b="b"/>
            <a:pathLst>
              <a:path w="5788" h="13785">
                <a:moveTo>
                  <a:pt x="10252" y="12851"/>
                </a:moveTo>
                <a:cubicBezTo>
                  <a:pt x="10230" y="12851"/>
                  <a:pt x="10198" y="12857"/>
                  <a:pt x="10182" y="12841"/>
                </a:cubicBezTo>
                <a:cubicBezTo>
                  <a:pt x="10172" y="12831"/>
                  <a:pt x="10164" y="12814"/>
                  <a:pt x="10155" y="12803"/>
                </a:cubicBezTo>
                <a:cubicBezTo>
                  <a:pt x="10145" y="12790"/>
                  <a:pt x="10132" y="12784"/>
                  <a:pt x="10121" y="12773"/>
                </a:cubicBezTo>
                <a:cubicBezTo>
                  <a:pt x="10112" y="12764"/>
                  <a:pt x="10105" y="12753"/>
                  <a:pt x="10100" y="12742"/>
                </a:cubicBezTo>
                <a:cubicBezTo>
                  <a:pt x="10098" y="12739"/>
                  <a:pt x="10097" y="12738"/>
                  <a:pt x="10098" y="12735"/>
                </a:cubicBezTo>
                <a:cubicBezTo>
                  <a:pt x="10101" y="12737"/>
                  <a:pt x="10100" y="12737"/>
                  <a:pt x="10103" y="12739"/>
                </a:cubicBezTo>
                <a:cubicBezTo>
                  <a:pt x="10124" y="12756"/>
                  <a:pt x="10144" y="12773"/>
                  <a:pt x="10164" y="12792"/>
                </a:cubicBezTo>
                <a:cubicBezTo>
                  <a:pt x="10194" y="12821"/>
                  <a:pt x="10226" y="12847"/>
                  <a:pt x="10255" y="12877"/>
                </a:cubicBezTo>
                <a:cubicBezTo>
                  <a:pt x="10291" y="12914"/>
                  <a:pt x="10324" y="12955"/>
                  <a:pt x="10354" y="12997"/>
                </a:cubicBezTo>
                <a:cubicBezTo>
                  <a:pt x="10385" y="13040"/>
                  <a:pt x="10412" y="13083"/>
                  <a:pt x="10438" y="13129"/>
                </a:cubicBezTo>
                <a:cubicBezTo>
                  <a:pt x="10464" y="13177"/>
                  <a:pt x="10492" y="13224"/>
                  <a:pt x="10515" y="13273"/>
                </a:cubicBezTo>
                <a:cubicBezTo>
                  <a:pt x="10525" y="13294"/>
                  <a:pt x="10532" y="13317"/>
                  <a:pt x="10539" y="13339"/>
                </a:cubicBezTo>
                <a:cubicBezTo>
                  <a:pt x="10541" y="13347"/>
                  <a:pt x="10546" y="13354"/>
                  <a:pt x="10548" y="13359"/>
                </a:cubicBezTo>
                <a:cubicBezTo>
                  <a:pt x="10548" y="13356"/>
                  <a:pt x="10551" y="13348"/>
                  <a:pt x="10551" y="13342"/>
                </a:cubicBezTo>
                <a:cubicBezTo>
                  <a:pt x="10552" y="13330"/>
                  <a:pt x="10552" y="13317"/>
                  <a:pt x="10553" y="13305"/>
                </a:cubicBezTo>
              </a:path>
              <a:path w="5788" h="13785">
                <a:moveTo>
                  <a:pt x="10630" y="12903"/>
                </a:moveTo>
                <a:cubicBezTo>
                  <a:pt x="10632" y="12877"/>
                  <a:pt x="10637" y="12852"/>
                  <a:pt x="10635" y="12826"/>
                </a:cubicBezTo>
                <a:cubicBezTo>
                  <a:pt x="10634" y="12806"/>
                  <a:pt x="10629" y="12799"/>
                  <a:pt x="10614" y="12787"/>
                </a:cubicBezTo>
                <a:cubicBezTo>
                  <a:pt x="10600" y="12776"/>
                  <a:pt x="10591" y="12767"/>
                  <a:pt x="10574" y="12773"/>
                </a:cubicBezTo>
                <a:cubicBezTo>
                  <a:pt x="10559" y="12778"/>
                  <a:pt x="10555" y="12814"/>
                  <a:pt x="10553" y="12825"/>
                </a:cubicBezTo>
                <a:cubicBezTo>
                  <a:pt x="10547" y="12852"/>
                  <a:pt x="10543" y="12886"/>
                  <a:pt x="10544" y="12914"/>
                </a:cubicBezTo>
                <a:cubicBezTo>
                  <a:pt x="10546" y="12949"/>
                  <a:pt x="10558" y="12989"/>
                  <a:pt x="10580" y="13018"/>
                </a:cubicBezTo>
                <a:cubicBezTo>
                  <a:pt x="10603" y="13048"/>
                  <a:pt x="10642" y="13066"/>
                  <a:pt x="10678" y="13074"/>
                </a:cubicBezTo>
                <a:cubicBezTo>
                  <a:pt x="10712" y="13082"/>
                  <a:pt x="10750" y="13080"/>
                  <a:pt x="10781" y="13061"/>
                </a:cubicBezTo>
                <a:cubicBezTo>
                  <a:pt x="10807" y="13045"/>
                  <a:pt x="10828" y="13015"/>
                  <a:pt x="10842" y="12989"/>
                </a:cubicBezTo>
                <a:cubicBezTo>
                  <a:pt x="10859" y="12959"/>
                  <a:pt x="10876" y="12919"/>
                  <a:pt x="10870" y="12884"/>
                </a:cubicBezTo>
                <a:cubicBezTo>
                  <a:pt x="10864" y="12849"/>
                  <a:pt x="10835" y="12835"/>
                  <a:pt x="10804" y="12825"/>
                </a:cubicBezTo>
                <a:cubicBezTo>
                  <a:pt x="10769" y="12814"/>
                  <a:pt x="10732" y="12813"/>
                  <a:pt x="10695" y="12816"/>
                </a:cubicBezTo>
                <a:cubicBezTo>
                  <a:pt x="10657" y="12819"/>
                  <a:pt x="10622" y="12826"/>
                  <a:pt x="10589" y="12844"/>
                </a:cubicBezTo>
                <a:cubicBezTo>
                  <a:pt x="10573" y="12853"/>
                  <a:pt x="10548" y="12864"/>
                  <a:pt x="10537" y="12880"/>
                </a:cubicBezTo>
                <a:cubicBezTo>
                  <a:pt x="10528" y="12893"/>
                  <a:pt x="10528" y="12892"/>
                  <a:pt x="10539" y="12900"/>
                </a:cubicBezTo>
                <a:cubicBezTo>
                  <a:pt x="10542" y="12901"/>
                  <a:pt x="10545" y="12901"/>
                  <a:pt x="10548" y="12902"/>
                </a:cubicBezTo>
              </a:path>
              <a:path w="5788" h="13785">
                <a:moveTo>
                  <a:pt x="11155" y="12545"/>
                </a:moveTo>
                <a:cubicBezTo>
                  <a:pt x="11169" y="12530"/>
                  <a:pt x="11184" y="12515"/>
                  <a:pt x="11198" y="12500"/>
                </a:cubicBezTo>
                <a:cubicBezTo>
                  <a:pt x="11201" y="12520"/>
                  <a:pt x="11209" y="12536"/>
                  <a:pt x="11204" y="12565"/>
                </a:cubicBezTo>
                <a:cubicBezTo>
                  <a:pt x="11189" y="12654"/>
                  <a:pt x="11153" y="12742"/>
                  <a:pt x="11128" y="12828"/>
                </a:cubicBezTo>
                <a:cubicBezTo>
                  <a:pt x="11095" y="12942"/>
                  <a:pt x="11063" y="13056"/>
                  <a:pt x="11035" y="13172"/>
                </a:cubicBezTo>
                <a:cubicBezTo>
                  <a:pt x="10998" y="13329"/>
                  <a:pt x="10965" y="13491"/>
                  <a:pt x="10915" y="13645"/>
                </a:cubicBezTo>
                <a:cubicBezTo>
                  <a:pt x="10901" y="13687"/>
                  <a:pt x="10877" y="13732"/>
                  <a:pt x="10877" y="13778"/>
                </a:cubicBezTo>
                <a:cubicBezTo>
                  <a:pt x="10878" y="13780"/>
                  <a:pt x="10880" y="13783"/>
                  <a:pt x="10881" y="13785"/>
                </a:cubicBezTo>
                <a:cubicBezTo>
                  <a:pt x="10895" y="13784"/>
                  <a:pt x="10898" y="13792"/>
                  <a:pt x="10915" y="13780"/>
                </a:cubicBezTo>
                <a:cubicBezTo>
                  <a:pt x="10931" y="13769"/>
                  <a:pt x="10941" y="13750"/>
                  <a:pt x="10954" y="13735"/>
                </a:cubicBezTo>
              </a:path>
              <a:path w="5788" h="13785">
                <a:moveTo>
                  <a:pt x="11191" y="13380"/>
                </a:moveTo>
                <a:cubicBezTo>
                  <a:pt x="11200" y="13380"/>
                  <a:pt x="11233" y="13375"/>
                  <a:pt x="11238" y="13384"/>
                </a:cubicBezTo>
                <a:cubicBezTo>
                  <a:pt x="11246" y="13397"/>
                  <a:pt x="11246" y="13421"/>
                  <a:pt x="11254" y="13436"/>
                </a:cubicBezTo>
                <a:cubicBezTo>
                  <a:pt x="11279" y="13482"/>
                  <a:pt x="11317" y="13524"/>
                  <a:pt x="11349" y="13565"/>
                </a:cubicBezTo>
                <a:cubicBezTo>
                  <a:pt x="11381" y="13607"/>
                  <a:pt x="11415" y="13647"/>
                  <a:pt x="11447" y="13690"/>
                </a:cubicBezTo>
                <a:cubicBezTo>
                  <a:pt x="11472" y="13724"/>
                  <a:pt x="11499" y="13757"/>
                  <a:pt x="11526" y="13790"/>
                </a:cubicBezTo>
                <a:cubicBezTo>
                  <a:pt x="11540" y="13807"/>
                  <a:pt x="11555" y="13825"/>
                  <a:pt x="11569" y="13842"/>
                </a:cubicBezTo>
                <a:cubicBezTo>
                  <a:pt x="11575" y="13849"/>
                  <a:pt x="11578" y="13849"/>
                  <a:pt x="11582" y="13853"/>
                </a:cubicBezTo>
                <a:cubicBezTo>
                  <a:pt x="11583" y="13837"/>
                  <a:pt x="11587" y="13823"/>
                  <a:pt x="11587" y="13807"/>
                </a:cubicBezTo>
                <a:cubicBezTo>
                  <a:pt x="11587" y="13802"/>
                  <a:pt x="11587" y="13797"/>
                  <a:pt x="11587" y="13792"/>
                </a:cubicBezTo>
              </a:path>
              <a:path w="5788" h="13785">
                <a:moveTo>
                  <a:pt x="11558" y="13375"/>
                </a:moveTo>
                <a:cubicBezTo>
                  <a:pt x="11575" y="13383"/>
                  <a:pt x="11579" y="13382"/>
                  <a:pt x="11582" y="13407"/>
                </a:cubicBezTo>
                <a:cubicBezTo>
                  <a:pt x="11587" y="13446"/>
                  <a:pt x="11572" y="13495"/>
                  <a:pt x="11589" y="13532"/>
                </a:cubicBezTo>
                <a:cubicBezTo>
                  <a:pt x="11600" y="13557"/>
                  <a:pt x="11630" y="13580"/>
                  <a:pt x="11653" y="13593"/>
                </a:cubicBezTo>
                <a:cubicBezTo>
                  <a:pt x="11680" y="13608"/>
                  <a:pt x="11716" y="13615"/>
                  <a:pt x="11747" y="13618"/>
                </a:cubicBezTo>
                <a:cubicBezTo>
                  <a:pt x="11781" y="13622"/>
                  <a:pt x="11807" y="13621"/>
                  <a:pt x="11838" y="13606"/>
                </a:cubicBezTo>
                <a:cubicBezTo>
                  <a:pt x="11866" y="13593"/>
                  <a:pt x="11884" y="13577"/>
                  <a:pt x="11899" y="13549"/>
                </a:cubicBezTo>
                <a:cubicBezTo>
                  <a:pt x="11916" y="13517"/>
                  <a:pt x="11935" y="13458"/>
                  <a:pt x="11917" y="13423"/>
                </a:cubicBezTo>
                <a:cubicBezTo>
                  <a:pt x="11902" y="13394"/>
                  <a:pt x="11866" y="13383"/>
                  <a:pt x="11836" y="13378"/>
                </a:cubicBezTo>
                <a:cubicBezTo>
                  <a:pt x="11790" y="13370"/>
                  <a:pt x="11744" y="13377"/>
                  <a:pt x="11700" y="13391"/>
                </a:cubicBezTo>
                <a:cubicBezTo>
                  <a:pt x="11668" y="13401"/>
                  <a:pt x="11635" y="13414"/>
                  <a:pt x="11610" y="13439"/>
                </a:cubicBezTo>
                <a:cubicBezTo>
                  <a:pt x="11598" y="13451"/>
                  <a:pt x="11590" y="13465"/>
                  <a:pt x="11582" y="13480"/>
                </a:cubicBezTo>
              </a:path>
              <a:path w="5788" h="13785">
                <a:moveTo>
                  <a:pt x="12542" y="13056"/>
                </a:moveTo>
                <a:cubicBezTo>
                  <a:pt x="12545" y="12949"/>
                  <a:pt x="12545" y="12892"/>
                  <a:pt x="12503" y="12790"/>
                </a:cubicBezTo>
                <a:cubicBezTo>
                  <a:pt x="12480" y="12733"/>
                  <a:pt x="12456" y="12676"/>
                  <a:pt x="12429" y="12620"/>
                </a:cubicBezTo>
                <a:cubicBezTo>
                  <a:pt x="12291" y="12332"/>
                  <a:pt x="12068" y="12140"/>
                  <a:pt x="11775" y="12015"/>
                </a:cubicBezTo>
                <a:cubicBezTo>
                  <a:pt x="11534" y="11912"/>
                  <a:pt x="11278" y="11848"/>
                  <a:pt x="11015" y="11868"/>
                </a:cubicBezTo>
                <a:cubicBezTo>
                  <a:pt x="10558" y="11903"/>
                  <a:pt x="10149" y="12156"/>
                  <a:pt x="9886" y="12527"/>
                </a:cubicBezTo>
                <a:cubicBezTo>
                  <a:pt x="9635" y="12881"/>
                  <a:pt x="9603" y="13378"/>
                  <a:pt x="9854" y="13742"/>
                </a:cubicBezTo>
                <a:cubicBezTo>
                  <a:pt x="9955" y="13889"/>
                  <a:pt x="10102" y="14008"/>
                  <a:pt x="10257" y="14093"/>
                </a:cubicBezTo>
                <a:cubicBezTo>
                  <a:pt x="10605" y="14283"/>
                  <a:pt x="10980" y="14244"/>
                  <a:pt x="11336" y="14102"/>
                </a:cubicBezTo>
                <a:cubicBezTo>
                  <a:pt x="11746" y="13938"/>
                  <a:pt x="12099" y="13704"/>
                  <a:pt x="12327" y="13319"/>
                </a:cubicBezTo>
                <a:cubicBezTo>
                  <a:pt x="12435" y="13136"/>
                  <a:pt x="12470" y="12968"/>
                  <a:pt x="12487" y="12762"/>
                </a:cubicBezTo>
              </a:path>
              <a:path w="5788" h="13785">
                <a:moveTo>
                  <a:pt x="10315" y="6823"/>
                </a:moveTo>
                <a:cubicBezTo>
                  <a:pt x="10300" y="6801"/>
                  <a:pt x="10289" y="6783"/>
                  <a:pt x="10266" y="6769"/>
                </a:cubicBezTo>
                <a:cubicBezTo>
                  <a:pt x="10251" y="6760"/>
                  <a:pt x="10237" y="6753"/>
                  <a:pt x="10220" y="6750"/>
                </a:cubicBezTo>
                <a:cubicBezTo>
                  <a:pt x="10196" y="6746"/>
                  <a:pt x="10179" y="6753"/>
                  <a:pt x="10164" y="6773"/>
                </a:cubicBezTo>
                <a:cubicBezTo>
                  <a:pt x="10141" y="6803"/>
                  <a:pt x="10127" y="6847"/>
                  <a:pt x="10109" y="6880"/>
                </a:cubicBezTo>
                <a:cubicBezTo>
                  <a:pt x="10081" y="6932"/>
                  <a:pt x="10060" y="6984"/>
                  <a:pt x="10040" y="7040"/>
                </a:cubicBezTo>
                <a:cubicBezTo>
                  <a:pt x="10017" y="7103"/>
                  <a:pt x="9992" y="7176"/>
                  <a:pt x="10010" y="7244"/>
                </a:cubicBezTo>
                <a:cubicBezTo>
                  <a:pt x="10020" y="7280"/>
                  <a:pt x="10047" y="7301"/>
                  <a:pt x="10085" y="7301"/>
                </a:cubicBezTo>
                <a:cubicBezTo>
                  <a:pt x="10134" y="7300"/>
                  <a:pt x="10177" y="7266"/>
                  <a:pt x="10214" y="7237"/>
                </a:cubicBezTo>
                <a:cubicBezTo>
                  <a:pt x="10266" y="7196"/>
                  <a:pt x="10310" y="7146"/>
                  <a:pt x="10345" y="7090"/>
                </a:cubicBezTo>
                <a:cubicBezTo>
                  <a:pt x="10378" y="7038"/>
                  <a:pt x="10401" y="6978"/>
                  <a:pt x="10406" y="6916"/>
                </a:cubicBezTo>
                <a:cubicBezTo>
                  <a:pt x="10411" y="6849"/>
                  <a:pt x="10375" y="6803"/>
                  <a:pt x="10313" y="6780"/>
                </a:cubicBezTo>
                <a:cubicBezTo>
                  <a:pt x="10252" y="6757"/>
                  <a:pt x="10173" y="6751"/>
                  <a:pt x="10109" y="6764"/>
                </a:cubicBezTo>
                <a:cubicBezTo>
                  <a:pt x="10061" y="6774"/>
                  <a:pt x="10023" y="6801"/>
                  <a:pt x="9983" y="6828"/>
                </a:cubicBezTo>
              </a:path>
              <a:path w="5788" h="13785">
                <a:moveTo>
                  <a:pt x="10827" y="6651"/>
                </a:moveTo>
                <a:cubicBezTo>
                  <a:pt x="10756" y="6835"/>
                  <a:pt x="10687" y="7022"/>
                  <a:pt x="10634" y="7212"/>
                </a:cubicBezTo>
                <a:cubicBezTo>
                  <a:pt x="10576" y="7421"/>
                  <a:pt x="10532" y="7636"/>
                  <a:pt x="10483" y="7848"/>
                </a:cubicBezTo>
                <a:cubicBezTo>
                  <a:pt x="10456" y="7967"/>
                  <a:pt x="10430" y="8086"/>
                  <a:pt x="10408" y="8206"/>
                </a:cubicBezTo>
                <a:cubicBezTo>
                  <a:pt x="10406" y="8219"/>
                  <a:pt x="10403" y="8233"/>
                  <a:pt x="10401" y="8246"/>
                </a:cubicBezTo>
              </a:path>
              <a:path w="5788" h="13785">
                <a:moveTo>
                  <a:pt x="10730" y="7674"/>
                </a:moveTo>
                <a:cubicBezTo>
                  <a:pt x="10744" y="7662"/>
                  <a:pt x="10756" y="7646"/>
                  <a:pt x="10775" y="7642"/>
                </a:cubicBezTo>
                <a:cubicBezTo>
                  <a:pt x="10802" y="7637"/>
                  <a:pt x="10821" y="7654"/>
                  <a:pt x="10838" y="7674"/>
                </a:cubicBezTo>
                <a:cubicBezTo>
                  <a:pt x="10882" y="7727"/>
                  <a:pt x="10905" y="7798"/>
                  <a:pt x="10928" y="7862"/>
                </a:cubicBezTo>
                <a:cubicBezTo>
                  <a:pt x="10954" y="7935"/>
                  <a:pt x="10979" y="8009"/>
                  <a:pt x="11008" y="8081"/>
                </a:cubicBezTo>
                <a:cubicBezTo>
                  <a:pt x="11025" y="8124"/>
                  <a:pt x="11043" y="8166"/>
                  <a:pt x="11058" y="8210"/>
                </a:cubicBezTo>
              </a:path>
              <a:path w="5788" h="13785">
                <a:moveTo>
                  <a:pt x="11103" y="7586"/>
                </a:moveTo>
                <a:cubicBezTo>
                  <a:pt x="11107" y="7577"/>
                  <a:pt x="11110" y="7568"/>
                  <a:pt x="11114" y="7560"/>
                </a:cubicBezTo>
                <a:cubicBezTo>
                  <a:pt x="11113" y="7588"/>
                  <a:pt x="11111" y="7617"/>
                  <a:pt x="11109" y="7646"/>
                </a:cubicBezTo>
                <a:cubicBezTo>
                  <a:pt x="11105" y="7711"/>
                  <a:pt x="11102" y="7767"/>
                  <a:pt x="11130" y="7827"/>
                </a:cubicBezTo>
                <a:cubicBezTo>
                  <a:pt x="11148" y="7866"/>
                  <a:pt x="11201" y="7891"/>
                  <a:pt x="11236" y="7853"/>
                </a:cubicBezTo>
                <a:cubicBezTo>
                  <a:pt x="11274" y="7812"/>
                  <a:pt x="11295" y="7748"/>
                  <a:pt x="11309" y="7696"/>
                </a:cubicBezTo>
                <a:cubicBezTo>
                  <a:pt x="11321" y="7651"/>
                  <a:pt x="11326" y="7615"/>
                  <a:pt x="11302" y="7574"/>
                </a:cubicBezTo>
                <a:cubicBezTo>
                  <a:pt x="11279" y="7534"/>
                  <a:pt x="11239" y="7521"/>
                  <a:pt x="11196" y="7515"/>
                </a:cubicBezTo>
                <a:cubicBezTo>
                  <a:pt x="11152" y="7509"/>
                  <a:pt x="11105" y="7518"/>
                  <a:pt x="11062" y="7527"/>
                </a:cubicBezTo>
                <a:cubicBezTo>
                  <a:pt x="11042" y="7531"/>
                  <a:pt x="11023" y="7539"/>
                  <a:pt x="11003" y="7545"/>
                </a:cubicBezTo>
              </a:path>
              <a:path w="5788" h="13785">
                <a:moveTo>
                  <a:pt x="15157" y="5307"/>
                </a:moveTo>
                <a:cubicBezTo>
                  <a:pt x="15127" y="5339"/>
                  <a:pt x="15082" y="5404"/>
                  <a:pt x="15042" y="5445"/>
                </a:cubicBezTo>
                <a:cubicBezTo>
                  <a:pt x="14842" y="5649"/>
                  <a:pt x="14718" y="5835"/>
                  <a:pt x="14560" y="6074"/>
                </a:cubicBezTo>
                <a:cubicBezTo>
                  <a:pt x="14341" y="6405"/>
                  <a:pt x="14112" y="6735"/>
                  <a:pt x="13888" y="7063"/>
                </a:cubicBezTo>
                <a:cubicBezTo>
                  <a:pt x="13605" y="7477"/>
                  <a:pt x="13283" y="7864"/>
                  <a:pt x="12994" y="8275"/>
                </a:cubicBezTo>
                <a:cubicBezTo>
                  <a:pt x="12622" y="8804"/>
                  <a:pt x="12274" y="9361"/>
                  <a:pt x="11888" y="9878"/>
                </a:cubicBezTo>
                <a:cubicBezTo>
                  <a:pt x="11466" y="10443"/>
                  <a:pt x="11107" y="10996"/>
                  <a:pt x="10745" y="11602"/>
                </a:cubicBezTo>
                <a:cubicBezTo>
                  <a:pt x="10471" y="12061"/>
                  <a:pt x="10203" y="12522"/>
                  <a:pt x="9913" y="12970"/>
                </a:cubicBezTo>
                <a:cubicBezTo>
                  <a:pt x="9776" y="13181"/>
                  <a:pt x="9653" y="13401"/>
                  <a:pt x="9524" y="13617"/>
                </a:cubicBezTo>
                <a:cubicBezTo>
                  <a:pt x="9476" y="13696"/>
                  <a:pt x="9425" y="13776"/>
                  <a:pt x="9376" y="13850"/>
                </a:cubicBezTo>
                <a:cubicBezTo>
                  <a:pt x="9375" y="13851"/>
                  <a:pt x="9373" y="13849"/>
                  <a:pt x="9372" y="13850"/>
                </a:cubicBezTo>
                <a:cubicBezTo>
                  <a:pt x="9376" y="13743"/>
                  <a:pt x="9368" y="12916"/>
                  <a:pt x="9415" y="12921"/>
                </a:cubicBezTo>
                <a:cubicBezTo>
                  <a:pt x="9483" y="12929"/>
                  <a:pt x="9464" y="12953"/>
                  <a:pt x="9481" y="13036"/>
                </a:cubicBezTo>
                <a:cubicBezTo>
                  <a:pt x="9509" y="13175"/>
                  <a:pt x="9309" y="13955"/>
                  <a:pt x="9426" y="14020"/>
                </a:cubicBezTo>
                <a:cubicBezTo>
                  <a:pt x="9493" y="14057"/>
                  <a:pt x="9566" y="13972"/>
                  <a:pt x="9626" y="13937"/>
                </a:cubicBezTo>
                <a:cubicBezTo>
                  <a:pt x="9691" y="13899"/>
                  <a:pt x="9743" y="13810"/>
                  <a:pt x="9802" y="13764"/>
                </a:cubicBezTo>
                <a:cubicBezTo>
                  <a:pt x="9871" y="13710"/>
                  <a:pt x="9943" y="13658"/>
                  <a:pt x="10012" y="13608"/>
                </a:cubicBezTo>
                <a:cubicBezTo>
                  <a:pt x="10016" y="13608"/>
                  <a:pt x="10018" y="13608"/>
                  <a:pt x="10021" y="13609"/>
                </a:cubicBezTo>
              </a:path>
              <a:path w="5788" h="13785">
                <a:moveTo>
                  <a:pt x="15015" y="11676"/>
                </a:moveTo>
                <a:cubicBezTo>
                  <a:pt x="15011" y="11401"/>
                  <a:pt x="14990" y="11129"/>
                  <a:pt x="14976" y="10855"/>
                </a:cubicBezTo>
                <a:cubicBezTo>
                  <a:pt x="14962" y="10589"/>
                  <a:pt x="14968" y="10360"/>
                  <a:pt x="14883" y="10104"/>
                </a:cubicBezTo>
                <a:cubicBezTo>
                  <a:pt x="14792" y="9830"/>
                  <a:pt x="14673" y="9547"/>
                  <a:pt x="14532" y="9296"/>
                </a:cubicBezTo>
                <a:cubicBezTo>
                  <a:pt x="14380" y="9025"/>
                  <a:pt x="14203" y="8768"/>
                  <a:pt x="14050" y="8497"/>
                </a:cubicBezTo>
                <a:cubicBezTo>
                  <a:pt x="13781" y="8020"/>
                  <a:pt x="13525" y="7551"/>
                  <a:pt x="13236" y="7088"/>
                </a:cubicBezTo>
                <a:cubicBezTo>
                  <a:pt x="12991" y="6695"/>
                  <a:pt x="12841" y="6227"/>
                  <a:pt x="12548" y="5866"/>
                </a:cubicBezTo>
                <a:cubicBezTo>
                  <a:pt x="12480" y="5782"/>
                  <a:pt x="12394" y="5716"/>
                  <a:pt x="12320" y="5640"/>
                </a:cubicBezTo>
                <a:cubicBezTo>
                  <a:pt x="12261" y="5580"/>
                  <a:pt x="12216" y="5477"/>
                  <a:pt x="12155" y="5429"/>
                </a:cubicBezTo>
                <a:cubicBezTo>
                  <a:pt x="12114" y="5396"/>
                  <a:pt x="12052" y="5385"/>
                  <a:pt x="12019" y="5354"/>
                </a:cubicBezTo>
                <a:cubicBezTo>
                  <a:pt x="12013" y="5348"/>
                  <a:pt x="12018" y="5331"/>
                  <a:pt x="12014" y="5328"/>
                </a:cubicBezTo>
                <a:cubicBezTo>
                  <a:pt x="12051" y="5322"/>
                  <a:pt x="12093" y="5316"/>
                  <a:pt x="12132" y="5309"/>
                </a:cubicBezTo>
                <a:cubicBezTo>
                  <a:pt x="12244" y="5288"/>
                  <a:pt x="12341" y="5281"/>
                  <a:pt x="12453" y="5289"/>
                </a:cubicBezTo>
                <a:cubicBezTo>
                  <a:pt x="12456" y="5289"/>
                  <a:pt x="12460" y="5298"/>
                  <a:pt x="12462" y="5298"/>
                </a:cubicBezTo>
                <a:cubicBezTo>
                  <a:pt x="12447" y="5304"/>
                  <a:pt x="12420" y="5334"/>
                  <a:pt x="12397" y="5341"/>
                </a:cubicBezTo>
                <a:cubicBezTo>
                  <a:pt x="12325" y="5364"/>
                  <a:pt x="12092" y="5373"/>
                  <a:pt x="12051" y="5434"/>
                </a:cubicBezTo>
                <a:cubicBezTo>
                  <a:pt x="12044" y="5444"/>
                  <a:pt x="12047" y="5446"/>
                  <a:pt x="12039" y="5466"/>
                </a:cubicBezTo>
                <a:cubicBezTo>
                  <a:pt x="11982" y="5604"/>
                  <a:pt x="12044" y="5877"/>
                  <a:pt x="12044" y="6035"/>
                </a:cubicBezTo>
                <a:cubicBezTo>
                  <a:pt x="12057" y="6016"/>
                  <a:pt x="12081" y="5993"/>
                  <a:pt x="12096" y="5970"/>
                </a:cubicBezTo>
                <a:cubicBezTo>
                  <a:pt x="12239" y="5755"/>
                  <a:pt x="12344" y="5508"/>
                  <a:pt x="12472" y="5287"/>
                </a:cubicBezTo>
                <a:cubicBezTo>
                  <a:pt x="12472" y="5285"/>
                  <a:pt x="12472" y="5285"/>
                  <a:pt x="12472" y="5284"/>
                </a:cubicBezTo>
                <a:cubicBezTo>
                  <a:pt x="12468" y="5289"/>
                  <a:pt x="12466" y="5289"/>
                  <a:pt x="12462" y="5294"/>
                </a:cubicBezTo>
                <a:cubicBezTo>
                  <a:pt x="12448" y="5311"/>
                  <a:pt x="12436" y="5328"/>
                  <a:pt x="12422" y="5345"/>
                </a:cubicBezTo>
              </a:path>
              <a:path w="5788" h="13785">
                <a:moveTo>
                  <a:pt x="15021" y="11669"/>
                </a:moveTo>
                <a:cubicBezTo>
                  <a:pt x="15027" y="11676"/>
                  <a:pt x="15033" y="11683"/>
                  <a:pt x="15039" y="11690"/>
                </a:cubicBezTo>
                <a:cubicBezTo>
                  <a:pt x="15026" y="11588"/>
                  <a:pt x="15005" y="11523"/>
                  <a:pt x="14976" y="11425"/>
                </a:cubicBezTo>
                <a:cubicBezTo>
                  <a:pt x="14905" y="11185"/>
                  <a:pt x="14817" y="10971"/>
                  <a:pt x="14718" y="10740"/>
                </a:cubicBezTo>
                <a:cubicBezTo>
                  <a:pt x="14597" y="10458"/>
                  <a:pt x="14501" y="10252"/>
                  <a:pt x="14306" y="10013"/>
                </a:cubicBezTo>
                <a:cubicBezTo>
                  <a:pt x="14023" y="9667"/>
                  <a:pt x="13834" y="9354"/>
                  <a:pt x="13401" y="9185"/>
                </a:cubicBezTo>
                <a:cubicBezTo>
                  <a:pt x="13141" y="9084"/>
                  <a:pt x="12906" y="8958"/>
                  <a:pt x="12666" y="8816"/>
                </a:cubicBezTo>
                <a:cubicBezTo>
                  <a:pt x="12379" y="8646"/>
                  <a:pt x="12159" y="8451"/>
                  <a:pt x="11829" y="8373"/>
                </a:cubicBezTo>
                <a:cubicBezTo>
                  <a:pt x="11776" y="8360"/>
                  <a:pt x="11530" y="8347"/>
                  <a:pt x="11499" y="8294"/>
                </a:cubicBezTo>
                <a:cubicBezTo>
                  <a:pt x="11473" y="8249"/>
                  <a:pt x="11496" y="8250"/>
                  <a:pt x="11510" y="8210"/>
                </a:cubicBezTo>
                <a:cubicBezTo>
                  <a:pt x="11514" y="8198"/>
                  <a:pt x="11539" y="8192"/>
                  <a:pt x="11546" y="8181"/>
                </a:cubicBezTo>
                <a:cubicBezTo>
                  <a:pt x="11610" y="8077"/>
                  <a:pt x="11736" y="7979"/>
                  <a:pt x="11833" y="7907"/>
                </a:cubicBezTo>
                <a:cubicBezTo>
                  <a:pt x="11849" y="7895"/>
                  <a:pt x="11871" y="7888"/>
                  <a:pt x="11886" y="7877"/>
                </a:cubicBezTo>
                <a:cubicBezTo>
                  <a:pt x="11864" y="7904"/>
                  <a:pt x="11848" y="7943"/>
                  <a:pt x="11820" y="7970"/>
                </a:cubicBezTo>
                <a:cubicBezTo>
                  <a:pt x="11688" y="8100"/>
                  <a:pt x="11539" y="8202"/>
                  <a:pt x="11426" y="8353"/>
                </a:cubicBezTo>
                <a:cubicBezTo>
                  <a:pt x="11385" y="8408"/>
                  <a:pt x="11247" y="8578"/>
                  <a:pt x="11254" y="8654"/>
                </a:cubicBezTo>
                <a:cubicBezTo>
                  <a:pt x="11257" y="8691"/>
                  <a:pt x="11234" y="8691"/>
                  <a:pt x="11270" y="8705"/>
                </a:cubicBezTo>
                <a:cubicBezTo>
                  <a:pt x="11300" y="8717"/>
                  <a:pt x="11351" y="8667"/>
                  <a:pt x="11376" y="8656"/>
                </a:cubicBezTo>
                <a:cubicBezTo>
                  <a:pt x="11582" y="8566"/>
                  <a:pt x="11783" y="8399"/>
                  <a:pt x="11969" y="8275"/>
                </a:cubicBezTo>
                <a:cubicBezTo>
                  <a:pt x="12033" y="8233"/>
                  <a:pt x="12075" y="8186"/>
                  <a:pt x="12127" y="8135"/>
                </a:cubicBezTo>
                <a:cubicBezTo>
                  <a:pt x="12129" y="8133"/>
                  <a:pt x="12129" y="8126"/>
                  <a:pt x="12132" y="8124"/>
                </a:cubicBezTo>
                <a:cubicBezTo>
                  <a:pt x="12108" y="8101"/>
                  <a:pt x="12081" y="8096"/>
                  <a:pt x="12057" y="8065"/>
                </a:cubicBezTo>
                <a:cubicBezTo>
                  <a:pt x="11994" y="7986"/>
                  <a:pt x="11949" y="7892"/>
                  <a:pt x="11901" y="7803"/>
                </a:cubicBezTo>
                <a:cubicBezTo>
                  <a:pt x="11900" y="7834"/>
                  <a:pt x="11900" y="7868"/>
                  <a:pt x="11899" y="7900"/>
                </a:cubicBezTo>
                <a:cubicBezTo>
                  <a:pt x="11893" y="8126"/>
                  <a:pt x="11877" y="8350"/>
                  <a:pt x="11886" y="8576"/>
                </a:cubicBezTo>
              </a:path>
              <a:path w="5788" h="13785">
                <a:moveTo>
                  <a:pt x="12682" y="18224"/>
                </a:moveTo>
                <a:cubicBezTo>
                  <a:pt x="12635" y="18244"/>
                  <a:pt x="12590" y="18261"/>
                  <a:pt x="12542" y="18278"/>
                </a:cubicBezTo>
                <a:cubicBezTo>
                  <a:pt x="12524" y="18284"/>
                  <a:pt x="12479" y="18305"/>
                  <a:pt x="12494" y="18294"/>
                </a:cubicBezTo>
                <a:cubicBezTo>
                  <a:pt x="12510" y="18283"/>
                  <a:pt x="12546" y="18275"/>
                  <a:pt x="12564" y="18267"/>
                </a:cubicBezTo>
                <a:cubicBezTo>
                  <a:pt x="12629" y="18237"/>
                  <a:pt x="12691" y="18202"/>
                  <a:pt x="12754" y="18168"/>
                </a:cubicBezTo>
                <a:cubicBezTo>
                  <a:pt x="12862" y="18110"/>
                  <a:pt x="12971" y="18049"/>
                  <a:pt x="13085" y="18002"/>
                </a:cubicBezTo>
                <a:cubicBezTo>
                  <a:pt x="13105" y="17993"/>
                  <a:pt x="13188" y="17955"/>
                  <a:pt x="13184" y="17977"/>
                </a:cubicBezTo>
                <a:cubicBezTo>
                  <a:pt x="13178" y="18008"/>
                  <a:pt x="13095" y="18058"/>
                  <a:pt x="13073" y="18075"/>
                </a:cubicBezTo>
                <a:cubicBezTo>
                  <a:pt x="12897" y="18214"/>
                  <a:pt x="12295" y="18420"/>
                  <a:pt x="12517" y="18450"/>
                </a:cubicBezTo>
                <a:cubicBezTo>
                  <a:pt x="12550" y="18454"/>
                  <a:pt x="12587" y="18429"/>
                  <a:pt x="12616" y="18417"/>
                </a:cubicBezTo>
                <a:cubicBezTo>
                  <a:pt x="12853" y="18321"/>
                  <a:pt x="13080" y="18200"/>
                  <a:pt x="13311" y="18090"/>
                </a:cubicBezTo>
                <a:cubicBezTo>
                  <a:pt x="13353" y="18070"/>
                  <a:pt x="13468" y="18006"/>
                  <a:pt x="13429" y="18032"/>
                </a:cubicBezTo>
                <a:cubicBezTo>
                  <a:pt x="13226" y="18167"/>
                  <a:pt x="12990" y="18259"/>
                  <a:pt x="12775" y="18374"/>
                </a:cubicBezTo>
                <a:cubicBezTo>
                  <a:pt x="12769" y="18377"/>
                  <a:pt x="12594" y="18465"/>
                  <a:pt x="12603" y="18480"/>
                </a:cubicBezTo>
                <a:cubicBezTo>
                  <a:pt x="12615" y="18499"/>
                  <a:pt x="12726" y="18440"/>
                  <a:pt x="12732" y="18437"/>
                </a:cubicBezTo>
                <a:cubicBezTo>
                  <a:pt x="13006" y="18312"/>
                  <a:pt x="13275" y="18172"/>
                  <a:pt x="13546" y="18041"/>
                </a:cubicBezTo>
                <a:cubicBezTo>
                  <a:pt x="13631" y="18000"/>
                  <a:pt x="13734" y="17965"/>
                  <a:pt x="13813" y="17914"/>
                </a:cubicBezTo>
                <a:cubicBezTo>
                  <a:pt x="13837" y="17899"/>
                  <a:pt x="13832" y="17896"/>
                  <a:pt x="13804" y="17909"/>
                </a:cubicBezTo>
                <a:cubicBezTo>
                  <a:pt x="13639" y="17984"/>
                  <a:pt x="13477" y="18070"/>
                  <a:pt x="13315" y="18152"/>
                </a:cubicBezTo>
                <a:cubicBezTo>
                  <a:pt x="13079" y="18272"/>
                  <a:pt x="12479" y="18284"/>
                  <a:pt x="12610" y="18514"/>
                </a:cubicBezTo>
                <a:cubicBezTo>
                  <a:pt x="12617" y="18527"/>
                  <a:pt x="13097" y="18279"/>
                  <a:pt x="13127" y="18265"/>
                </a:cubicBezTo>
                <a:cubicBezTo>
                  <a:pt x="13358" y="18157"/>
                  <a:pt x="13587" y="18046"/>
                  <a:pt x="13804" y="17912"/>
                </a:cubicBezTo>
                <a:cubicBezTo>
                  <a:pt x="13811" y="17908"/>
                  <a:pt x="13894" y="17864"/>
                  <a:pt x="13892" y="17848"/>
                </a:cubicBezTo>
                <a:cubicBezTo>
                  <a:pt x="13888" y="17823"/>
                  <a:pt x="13753" y="17892"/>
                  <a:pt x="13752" y="17892"/>
                </a:cubicBezTo>
                <a:cubicBezTo>
                  <a:pt x="13441" y="18023"/>
                  <a:pt x="13138" y="18172"/>
                  <a:pt x="12836" y="18321"/>
                </a:cubicBezTo>
                <a:cubicBezTo>
                  <a:pt x="12617" y="18429"/>
                  <a:pt x="12406" y="18549"/>
                  <a:pt x="12198" y="18676"/>
                </a:cubicBezTo>
                <a:cubicBezTo>
                  <a:pt x="12185" y="18682"/>
                  <a:pt x="12179" y="18679"/>
                  <a:pt x="12180" y="18688"/>
                </a:cubicBezTo>
                <a:cubicBezTo>
                  <a:pt x="12232" y="18655"/>
                  <a:pt x="12282" y="18620"/>
                  <a:pt x="12336" y="18589"/>
                </a:cubicBezTo>
                <a:cubicBezTo>
                  <a:pt x="12746" y="18352"/>
                  <a:pt x="13180" y="18160"/>
                  <a:pt x="13589" y="17925"/>
                </a:cubicBezTo>
                <a:cubicBezTo>
                  <a:pt x="13613" y="17911"/>
                  <a:pt x="13795" y="17824"/>
                  <a:pt x="13799" y="17787"/>
                </a:cubicBezTo>
                <a:cubicBezTo>
                  <a:pt x="13803" y="17749"/>
                  <a:pt x="13760" y="17780"/>
                  <a:pt x="13727" y="17792"/>
                </a:cubicBezTo>
                <a:cubicBezTo>
                  <a:pt x="13139" y="17998"/>
                  <a:pt x="12519" y="18355"/>
                  <a:pt x="12008" y="18708"/>
                </a:cubicBezTo>
                <a:cubicBezTo>
                  <a:pt x="11972" y="18733"/>
                  <a:pt x="11938" y="18758"/>
                  <a:pt x="11902" y="18783"/>
                </a:cubicBezTo>
                <a:cubicBezTo>
                  <a:pt x="12076" y="18674"/>
                  <a:pt x="12255" y="18578"/>
                  <a:pt x="12437" y="18484"/>
                </a:cubicBezTo>
                <a:cubicBezTo>
                  <a:pt x="12891" y="18249"/>
                  <a:pt x="13349" y="18023"/>
                  <a:pt x="13800" y="17783"/>
                </a:cubicBezTo>
                <a:cubicBezTo>
                  <a:pt x="13835" y="17764"/>
                  <a:pt x="13927" y="17709"/>
                  <a:pt x="13938" y="17701"/>
                </a:cubicBezTo>
                <a:cubicBezTo>
                  <a:pt x="13930" y="17704"/>
                  <a:pt x="13923" y="17707"/>
                  <a:pt x="13915" y="17710"/>
                </a:cubicBezTo>
                <a:cubicBezTo>
                  <a:pt x="13768" y="17790"/>
                  <a:pt x="13619" y="17866"/>
                  <a:pt x="13469" y="17941"/>
                </a:cubicBezTo>
                <a:cubicBezTo>
                  <a:pt x="13242" y="18054"/>
                  <a:pt x="13016" y="18170"/>
                  <a:pt x="12788" y="18283"/>
                </a:cubicBezTo>
                <a:cubicBezTo>
                  <a:pt x="12572" y="18390"/>
                  <a:pt x="12357" y="18500"/>
                  <a:pt x="12141" y="18607"/>
                </a:cubicBezTo>
                <a:cubicBezTo>
                  <a:pt x="12124" y="18615"/>
                  <a:pt x="12011" y="18673"/>
                  <a:pt x="12026" y="18663"/>
                </a:cubicBezTo>
                <a:cubicBezTo>
                  <a:pt x="12063" y="18646"/>
                  <a:pt x="12079" y="18638"/>
                  <a:pt x="12103" y="18622"/>
                </a:cubicBezTo>
                <a:cubicBezTo>
                  <a:pt x="12545" y="18368"/>
                  <a:pt x="13002" y="18142"/>
                  <a:pt x="13456" y="17910"/>
                </a:cubicBezTo>
                <a:cubicBezTo>
                  <a:pt x="13473" y="17902"/>
                  <a:pt x="13896" y="17679"/>
                  <a:pt x="13886" y="17663"/>
                </a:cubicBezTo>
                <a:cubicBezTo>
                  <a:pt x="13868" y="17634"/>
                  <a:pt x="13722" y="17707"/>
                  <a:pt x="13714" y="17711"/>
                </a:cubicBezTo>
                <a:cubicBezTo>
                  <a:pt x="13502" y="17806"/>
                  <a:pt x="13297" y="17919"/>
                  <a:pt x="13091" y="18027"/>
                </a:cubicBezTo>
                <a:cubicBezTo>
                  <a:pt x="12670" y="18248"/>
                  <a:pt x="12266" y="18483"/>
                  <a:pt x="11863" y="18736"/>
                </a:cubicBezTo>
                <a:cubicBezTo>
                  <a:pt x="11800" y="18776"/>
                  <a:pt x="11612" y="18826"/>
                  <a:pt x="11678" y="18860"/>
                </a:cubicBezTo>
                <a:cubicBezTo>
                  <a:pt x="11715" y="18879"/>
                  <a:pt x="11826" y="18790"/>
                  <a:pt x="11852" y="18776"/>
                </a:cubicBezTo>
                <a:cubicBezTo>
                  <a:pt x="12515" y="18415"/>
                  <a:pt x="13317" y="18125"/>
                  <a:pt x="13897" y="17663"/>
                </a:cubicBezTo>
                <a:cubicBezTo>
                  <a:pt x="13775" y="17704"/>
                  <a:pt x="13659" y="17748"/>
                  <a:pt x="13541" y="17806"/>
                </a:cubicBezTo>
                <a:cubicBezTo>
                  <a:pt x="13159" y="17994"/>
                  <a:pt x="12778" y="18192"/>
                  <a:pt x="12406" y="18400"/>
                </a:cubicBezTo>
                <a:cubicBezTo>
                  <a:pt x="12295" y="18462"/>
                  <a:pt x="11817" y="18662"/>
                  <a:pt x="11770" y="18792"/>
                </a:cubicBezTo>
                <a:cubicBezTo>
                  <a:pt x="11751" y="18845"/>
                  <a:pt x="11867" y="18735"/>
                  <a:pt x="11915" y="18704"/>
                </a:cubicBezTo>
                <a:cubicBezTo>
                  <a:pt x="12007" y="18644"/>
                  <a:pt x="12100" y="18585"/>
                  <a:pt x="12193" y="18527"/>
                </a:cubicBezTo>
                <a:cubicBezTo>
                  <a:pt x="12466" y="18374"/>
                  <a:pt x="12738" y="18220"/>
                  <a:pt x="13010" y="18064"/>
                </a:cubicBezTo>
                <a:cubicBezTo>
                  <a:pt x="13262" y="17920"/>
                  <a:pt x="13512" y="17772"/>
                  <a:pt x="13757" y="17616"/>
                </a:cubicBezTo>
                <a:cubicBezTo>
                  <a:pt x="13778" y="17603"/>
                  <a:pt x="13840" y="17573"/>
                  <a:pt x="13843" y="17550"/>
                </a:cubicBezTo>
                <a:cubicBezTo>
                  <a:pt x="13853" y="17457"/>
                  <a:pt x="13670" y="17617"/>
                  <a:pt x="13585" y="17656"/>
                </a:cubicBezTo>
                <a:cubicBezTo>
                  <a:pt x="13192" y="17835"/>
                  <a:pt x="12812" y="18044"/>
                  <a:pt x="12422" y="18229"/>
                </a:cubicBezTo>
                <a:cubicBezTo>
                  <a:pt x="12138" y="18364"/>
                  <a:pt x="11857" y="18510"/>
                  <a:pt x="11571" y="18640"/>
                </a:cubicBezTo>
                <a:cubicBezTo>
                  <a:pt x="11556" y="18647"/>
                  <a:pt x="11475" y="18689"/>
                  <a:pt x="11480" y="18676"/>
                </a:cubicBezTo>
                <a:cubicBezTo>
                  <a:pt x="11501" y="18626"/>
                  <a:pt x="11675" y="18554"/>
                  <a:pt x="11716" y="18532"/>
                </a:cubicBezTo>
                <a:cubicBezTo>
                  <a:pt x="11987" y="18383"/>
                  <a:pt x="12264" y="18245"/>
                  <a:pt x="12532" y="18090"/>
                </a:cubicBezTo>
                <a:cubicBezTo>
                  <a:pt x="12895" y="17880"/>
                  <a:pt x="13264" y="17688"/>
                  <a:pt x="13641" y="17505"/>
                </a:cubicBezTo>
                <a:cubicBezTo>
                  <a:pt x="13707" y="17473"/>
                  <a:pt x="13776" y="17432"/>
                  <a:pt x="13833" y="17396"/>
                </a:cubicBezTo>
                <a:cubicBezTo>
                  <a:pt x="13756" y="17420"/>
                  <a:pt x="13678" y="17442"/>
                  <a:pt x="13601" y="17473"/>
                </a:cubicBezTo>
                <a:cubicBezTo>
                  <a:pt x="13419" y="17547"/>
                  <a:pt x="13247" y="17637"/>
                  <a:pt x="13076" y="17735"/>
                </a:cubicBezTo>
                <a:cubicBezTo>
                  <a:pt x="12599" y="18008"/>
                  <a:pt x="12092" y="18234"/>
                  <a:pt x="11625" y="18523"/>
                </a:cubicBezTo>
                <a:cubicBezTo>
                  <a:pt x="11512" y="18593"/>
                  <a:pt x="11159" y="18724"/>
                  <a:pt x="11291" y="18740"/>
                </a:cubicBezTo>
                <a:cubicBezTo>
                  <a:pt x="11309" y="18742"/>
                  <a:pt x="11346" y="18722"/>
                  <a:pt x="11383" y="18701"/>
                </a:cubicBezTo>
                <a:cubicBezTo>
                  <a:pt x="11779" y="18477"/>
                  <a:pt x="12198" y="18297"/>
                  <a:pt x="12591" y="18066"/>
                </a:cubicBezTo>
                <a:cubicBezTo>
                  <a:pt x="12801" y="17942"/>
                  <a:pt x="13012" y="17825"/>
                  <a:pt x="13229" y="17713"/>
                </a:cubicBezTo>
                <a:cubicBezTo>
                  <a:pt x="13389" y="17630"/>
                  <a:pt x="13614" y="17556"/>
                  <a:pt x="13750" y="17434"/>
                </a:cubicBezTo>
                <a:cubicBezTo>
                  <a:pt x="13747" y="17421"/>
                  <a:pt x="13741" y="17419"/>
                  <a:pt x="13725" y="17430"/>
                </a:cubicBezTo>
                <a:cubicBezTo>
                  <a:pt x="13369" y="17572"/>
                  <a:pt x="13052" y="17784"/>
                  <a:pt x="12720" y="17975"/>
                </a:cubicBezTo>
                <a:cubicBezTo>
                  <a:pt x="12267" y="18236"/>
                  <a:pt x="11810" y="18469"/>
                  <a:pt x="11401" y="18799"/>
                </a:cubicBezTo>
                <a:cubicBezTo>
                  <a:pt x="11351" y="18839"/>
                  <a:pt x="11154" y="18961"/>
                  <a:pt x="11143" y="19036"/>
                </a:cubicBezTo>
                <a:cubicBezTo>
                  <a:pt x="11135" y="19095"/>
                  <a:pt x="11212" y="19047"/>
                  <a:pt x="11241" y="19038"/>
                </a:cubicBezTo>
                <a:cubicBezTo>
                  <a:pt x="11691" y="18905"/>
                  <a:pt x="12157" y="18566"/>
                  <a:pt x="12575" y="18353"/>
                </a:cubicBezTo>
                <a:cubicBezTo>
                  <a:pt x="12796" y="18240"/>
                  <a:pt x="13017" y="18129"/>
                  <a:pt x="13236" y="18011"/>
                </a:cubicBezTo>
                <a:cubicBezTo>
                  <a:pt x="13382" y="17932"/>
                  <a:pt x="13528" y="17852"/>
                  <a:pt x="13675" y="17776"/>
                </a:cubicBezTo>
                <a:cubicBezTo>
                  <a:pt x="13696" y="17765"/>
                  <a:pt x="13820" y="17695"/>
                  <a:pt x="13802" y="17706"/>
                </a:cubicBezTo>
                <a:cubicBezTo>
                  <a:pt x="13672" y="17789"/>
                  <a:pt x="13535" y="17863"/>
                  <a:pt x="13401" y="17939"/>
                </a:cubicBezTo>
                <a:cubicBezTo>
                  <a:pt x="12951" y="18194"/>
                  <a:pt x="12501" y="18446"/>
                  <a:pt x="12057" y="18711"/>
                </a:cubicBezTo>
                <a:cubicBezTo>
                  <a:pt x="11965" y="18766"/>
                  <a:pt x="11721" y="18963"/>
                  <a:pt x="11781" y="18874"/>
                </a:cubicBezTo>
                <a:cubicBezTo>
                  <a:pt x="11797" y="18851"/>
                  <a:pt x="11850" y="18817"/>
                  <a:pt x="11868" y="18801"/>
                </a:cubicBezTo>
                <a:cubicBezTo>
                  <a:pt x="12038" y="18681"/>
                  <a:pt x="12207" y="18566"/>
                  <a:pt x="12388" y="18462"/>
                </a:cubicBezTo>
                <a:cubicBezTo>
                  <a:pt x="12599" y="18340"/>
                  <a:pt x="12815" y="18226"/>
                  <a:pt x="13030" y="18113"/>
                </a:cubicBezTo>
                <a:cubicBezTo>
                  <a:pt x="13106" y="18073"/>
                  <a:pt x="14132" y="17579"/>
                  <a:pt x="14107" y="17493"/>
                </a:cubicBezTo>
                <a:cubicBezTo>
                  <a:pt x="14096" y="17454"/>
                  <a:pt x="14115" y="17454"/>
                  <a:pt x="14030" y="17471"/>
                </a:cubicBezTo>
                <a:cubicBezTo>
                  <a:pt x="13500" y="17577"/>
                  <a:pt x="12951" y="18011"/>
                  <a:pt x="12476" y="18254"/>
                </a:cubicBezTo>
                <a:cubicBezTo>
                  <a:pt x="12079" y="18457"/>
                  <a:pt x="11699" y="18681"/>
                  <a:pt x="11320" y="18914"/>
                </a:cubicBezTo>
                <a:cubicBezTo>
                  <a:pt x="11285" y="18935"/>
                  <a:pt x="11197" y="19013"/>
                  <a:pt x="11221" y="18980"/>
                </a:cubicBezTo>
                <a:cubicBezTo>
                  <a:pt x="11252" y="18959"/>
                  <a:pt x="11267" y="18948"/>
                  <a:pt x="11288" y="18930"/>
                </a:cubicBezTo>
                <a:cubicBezTo>
                  <a:pt x="11881" y="18536"/>
                  <a:pt x="12556" y="18276"/>
                  <a:pt x="13179" y="17932"/>
                </a:cubicBezTo>
                <a:cubicBezTo>
                  <a:pt x="13331" y="17848"/>
                  <a:pt x="13525" y="17762"/>
                  <a:pt x="13653" y="17640"/>
                </a:cubicBezTo>
                <a:cubicBezTo>
                  <a:pt x="13654" y="17635"/>
                  <a:pt x="13654" y="17629"/>
                  <a:pt x="13655" y="17624"/>
                </a:cubicBezTo>
                <a:cubicBezTo>
                  <a:pt x="13567" y="17637"/>
                  <a:pt x="13494" y="17660"/>
                  <a:pt x="13408" y="17699"/>
                </a:cubicBezTo>
                <a:cubicBezTo>
                  <a:pt x="13182" y="17802"/>
                  <a:pt x="12963" y="17927"/>
                  <a:pt x="12743" y="18043"/>
                </a:cubicBezTo>
                <a:cubicBezTo>
                  <a:pt x="12404" y="18222"/>
                  <a:pt x="11816" y="18388"/>
                  <a:pt x="11544" y="18656"/>
                </a:cubicBezTo>
                <a:cubicBezTo>
                  <a:pt x="11507" y="18692"/>
                  <a:pt x="11492" y="18689"/>
                  <a:pt x="11566" y="18674"/>
                </a:cubicBezTo>
                <a:cubicBezTo>
                  <a:pt x="12194" y="18550"/>
                  <a:pt x="12862" y="18145"/>
                  <a:pt x="13433" y="17867"/>
                </a:cubicBezTo>
                <a:cubicBezTo>
                  <a:pt x="13477" y="17846"/>
                  <a:pt x="13820" y="17717"/>
                  <a:pt x="13827" y="17654"/>
                </a:cubicBezTo>
                <a:cubicBezTo>
                  <a:pt x="13834" y="17597"/>
                  <a:pt x="13723" y="17675"/>
                  <a:pt x="13671" y="17699"/>
                </a:cubicBezTo>
                <a:cubicBezTo>
                  <a:pt x="13566" y="17753"/>
                  <a:pt x="13526" y="17773"/>
                  <a:pt x="13455" y="17814"/>
                </a:cubicBezTo>
                <a:cubicBezTo>
                  <a:pt x="13247" y="17925"/>
                  <a:pt x="13039" y="18035"/>
                  <a:pt x="12829" y="18143"/>
                </a:cubicBezTo>
                <a:cubicBezTo>
                  <a:pt x="12366" y="18382"/>
                  <a:pt x="11915" y="18636"/>
                  <a:pt x="11463" y="18894"/>
                </a:cubicBezTo>
                <a:cubicBezTo>
                  <a:pt x="11461" y="18895"/>
                  <a:pt x="11300" y="18994"/>
                  <a:pt x="11297" y="18991"/>
                </a:cubicBezTo>
                <a:cubicBezTo>
                  <a:pt x="11277" y="18972"/>
                  <a:pt x="11343" y="18961"/>
                  <a:pt x="11365" y="18944"/>
                </a:cubicBezTo>
                <a:cubicBezTo>
                  <a:pt x="11536" y="18816"/>
                  <a:pt x="11718" y="18708"/>
                  <a:pt x="11906" y="18606"/>
                </a:cubicBezTo>
                <a:cubicBezTo>
                  <a:pt x="12144" y="18476"/>
                  <a:pt x="13207" y="18143"/>
                  <a:pt x="13300" y="17876"/>
                </a:cubicBezTo>
                <a:cubicBezTo>
                  <a:pt x="13312" y="17842"/>
                  <a:pt x="13322" y="17846"/>
                  <a:pt x="13252" y="17867"/>
                </a:cubicBezTo>
                <a:cubicBezTo>
                  <a:pt x="12773" y="18011"/>
                  <a:pt x="12268" y="18320"/>
                  <a:pt x="11843" y="18577"/>
                </a:cubicBezTo>
                <a:cubicBezTo>
                  <a:pt x="11687" y="18671"/>
                  <a:pt x="11206" y="18909"/>
                  <a:pt x="11386" y="18878"/>
                </a:cubicBezTo>
                <a:cubicBezTo>
                  <a:pt x="11438" y="18869"/>
                  <a:pt x="11506" y="18809"/>
                  <a:pt x="11549" y="18785"/>
                </a:cubicBezTo>
                <a:cubicBezTo>
                  <a:pt x="12223" y="18403"/>
                  <a:pt x="12954" y="18126"/>
                  <a:pt x="13641" y="17769"/>
                </a:cubicBezTo>
                <a:cubicBezTo>
                  <a:pt x="13650" y="17764"/>
                  <a:pt x="13857" y="17665"/>
                  <a:pt x="13854" y="17649"/>
                </a:cubicBezTo>
                <a:cubicBezTo>
                  <a:pt x="13849" y="17623"/>
                  <a:pt x="13704" y="17692"/>
                  <a:pt x="13704" y="17692"/>
                </a:cubicBezTo>
                <a:cubicBezTo>
                  <a:pt x="13548" y="17756"/>
                  <a:pt x="13404" y="17844"/>
                  <a:pt x="13257" y="17928"/>
                </a:cubicBezTo>
                <a:cubicBezTo>
                  <a:pt x="12859" y="18183"/>
                  <a:pt x="12457" y="18429"/>
                  <a:pt x="12066" y="18695"/>
                </a:cubicBezTo>
                <a:cubicBezTo>
                  <a:pt x="11958" y="18769"/>
                  <a:pt x="11842" y="18837"/>
                  <a:pt x="11734" y="18908"/>
                </a:cubicBezTo>
                <a:cubicBezTo>
                  <a:pt x="11786" y="18879"/>
                  <a:pt x="11842" y="18849"/>
                  <a:pt x="11894" y="18815"/>
                </a:cubicBezTo>
                <a:cubicBezTo>
                  <a:pt x="12021" y="18731"/>
                  <a:pt x="12149" y="18647"/>
                  <a:pt x="12281" y="18572"/>
                </a:cubicBezTo>
                <a:cubicBezTo>
                  <a:pt x="12583" y="18400"/>
                  <a:pt x="12898" y="18250"/>
                  <a:pt x="13198" y="18075"/>
                </a:cubicBezTo>
                <a:cubicBezTo>
                  <a:pt x="13320" y="18004"/>
                  <a:pt x="13625" y="17868"/>
                  <a:pt x="13687" y="17724"/>
                </a:cubicBezTo>
                <a:cubicBezTo>
                  <a:pt x="13714" y="17662"/>
                  <a:pt x="13677" y="17678"/>
                  <a:pt x="13618" y="17674"/>
                </a:cubicBezTo>
                <a:cubicBezTo>
                  <a:pt x="13461" y="17663"/>
                  <a:pt x="13265" y="17793"/>
                  <a:pt x="13135" y="17862"/>
                </a:cubicBezTo>
                <a:cubicBezTo>
                  <a:pt x="12612" y="18137"/>
                  <a:pt x="12074" y="18362"/>
                  <a:pt x="11535" y="18602"/>
                </a:cubicBezTo>
                <a:cubicBezTo>
                  <a:pt x="11508" y="18614"/>
                  <a:pt x="11419" y="18663"/>
                  <a:pt x="11424" y="18647"/>
                </a:cubicBezTo>
                <a:cubicBezTo>
                  <a:pt x="11459" y="18527"/>
                  <a:pt x="12019" y="18374"/>
                  <a:pt x="12121" y="18328"/>
                </a:cubicBezTo>
                <a:cubicBezTo>
                  <a:pt x="12378" y="18212"/>
                  <a:pt x="12620" y="18074"/>
                  <a:pt x="12865" y="17935"/>
                </a:cubicBezTo>
                <a:cubicBezTo>
                  <a:pt x="13050" y="17830"/>
                  <a:pt x="13236" y="17726"/>
                  <a:pt x="13419" y="17618"/>
                </a:cubicBezTo>
                <a:cubicBezTo>
                  <a:pt x="13465" y="17591"/>
                  <a:pt x="13783" y="17438"/>
                  <a:pt x="13786" y="17366"/>
                </a:cubicBezTo>
                <a:cubicBezTo>
                  <a:pt x="13788" y="17327"/>
                  <a:pt x="13783" y="17348"/>
                  <a:pt x="13729" y="17362"/>
                </a:cubicBezTo>
                <a:cubicBezTo>
                  <a:pt x="13653" y="17398"/>
                  <a:pt x="13622" y="17412"/>
                  <a:pt x="13569" y="17437"/>
                </a:cubicBezTo>
                <a:cubicBezTo>
                  <a:pt x="13230" y="17626"/>
                  <a:pt x="12920" y="17866"/>
                  <a:pt x="12600" y="18086"/>
                </a:cubicBezTo>
                <a:cubicBezTo>
                  <a:pt x="12330" y="18271"/>
                  <a:pt x="11914" y="18435"/>
                  <a:pt x="11696" y="18681"/>
                </a:cubicBezTo>
                <a:cubicBezTo>
                  <a:pt x="11668" y="18712"/>
                  <a:pt x="11630" y="18717"/>
                  <a:pt x="11686" y="18727"/>
                </a:cubicBezTo>
                <a:cubicBezTo>
                  <a:pt x="11753" y="18739"/>
                  <a:pt x="11889" y="18654"/>
                  <a:pt x="11945" y="18629"/>
                </a:cubicBezTo>
                <a:cubicBezTo>
                  <a:pt x="12352" y="18450"/>
                  <a:pt x="12757" y="18263"/>
                  <a:pt x="13148" y="18052"/>
                </a:cubicBezTo>
                <a:cubicBezTo>
                  <a:pt x="13325" y="17956"/>
                  <a:pt x="13498" y="17855"/>
                  <a:pt x="13668" y="17747"/>
                </a:cubicBezTo>
                <a:cubicBezTo>
                  <a:pt x="13670" y="17745"/>
                  <a:pt x="13810" y="17646"/>
                  <a:pt x="13797" y="17642"/>
                </a:cubicBezTo>
                <a:cubicBezTo>
                  <a:pt x="13741" y="17624"/>
                  <a:pt x="13645" y="17684"/>
                  <a:pt x="13598" y="17706"/>
                </a:cubicBezTo>
                <a:cubicBezTo>
                  <a:pt x="13248" y="17870"/>
                  <a:pt x="12916" y="18091"/>
                  <a:pt x="12582" y="18285"/>
                </a:cubicBezTo>
                <a:cubicBezTo>
                  <a:pt x="12348" y="18421"/>
                  <a:pt x="11642" y="18629"/>
                  <a:pt x="11897" y="18719"/>
                </a:cubicBezTo>
                <a:cubicBezTo>
                  <a:pt x="11908" y="18723"/>
                  <a:pt x="11934" y="18712"/>
                  <a:pt x="11981" y="18688"/>
                </a:cubicBezTo>
                <a:cubicBezTo>
                  <a:pt x="12312" y="18520"/>
                  <a:pt x="12639" y="18342"/>
                  <a:pt x="12972" y="18176"/>
                </a:cubicBezTo>
                <a:cubicBezTo>
                  <a:pt x="13221" y="18052"/>
                  <a:pt x="13478" y="17930"/>
                  <a:pt x="13704" y="17765"/>
                </a:cubicBezTo>
                <a:cubicBezTo>
                  <a:pt x="13740" y="17739"/>
                  <a:pt x="13764" y="17708"/>
                  <a:pt x="13795" y="17679"/>
                </a:cubicBezTo>
                <a:cubicBezTo>
                  <a:pt x="13758" y="17684"/>
                  <a:pt x="13710" y="17682"/>
                  <a:pt x="13662" y="17697"/>
                </a:cubicBezTo>
                <a:cubicBezTo>
                  <a:pt x="13217" y="17834"/>
                  <a:pt x="12794" y="18140"/>
                  <a:pt x="12383" y="18358"/>
                </a:cubicBezTo>
                <a:cubicBezTo>
                  <a:pt x="12332" y="18385"/>
                  <a:pt x="12275" y="18408"/>
                  <a:pt x="12227" y="18439"/>
                </a:cubicBezTo>
                <a:cubicBezTo>
                  <a:pt x="12207" y="18452"/>
                  <a:pt x="12243" y="18432"/>
                  <a:pt x="12265" y="18423"/>
                </a:cubicBezTo>
                <a:cubicBezTo>
                  <a:pt x="12747" y="18213"/>
                  <a:pt x="14183" y="17610"/>
                  <a:pt x="13668" y="17717"/>
                </a:cubicBezTo>
                <a:cubicBezTo>
                  <a:pt x="13601" y="17731"/>
                  <a:pt x="13540" y="17767"/>
                  <a:pt x="13480" y="17799"/>
                </a:cubicBezTo>
                <a:cubicBezTo>
                  <a:pt x="13097" y="18006"/>
                  <a:pt x="12732" y="18255"/>
                  <a:pt x="12365" y="18489"/>
                </a:cubicBezTo>
                <a:cubicBezTo>
                  <a:pt x="12342" y="18503"/>
                  <a:pt x="11957" y="18724"/>
                  <a:pt x="11976" y="18760"/>
                </a:cubicBezTo>
                <a:cubicBezTo>
                  <a:pt x="11983" y="18774"/>
                  <a:pt x="12102" y="18697"/>
                  <a:pt x="12105" y="18695"/>
                </a:cubicBezTo>
                <a:cubicBezTo>
                  <a:pt x="12255" y="18613"/>
                  <a:pt x="12404" y="18531"/>
                  <a:pt x="12557" y="18455"/>
                </a:cubicBezTo>
                <a:cubicBezTo>
                  <a:pt x="12799" y="18335"/>
                  <a:pt x="13046" y="18224"/>
                  <a:pt x="13284" y="18097"/>
                </a:cubicBezTo>
                <a:cubicBezTo>
                  <a:pt x="13291" y="18093"/>
                  <a:pt x="13460" y="18013"/>
                  <a:pt x="13458" y="18000"/>
                </a:cubicBezTo>
                <a:cubicBezTo>
                  <a:pt x="13453" y="17963"/>
                  <a:pt x="13411" y="17970"/>
                  <a:pt x="13372" y="17973"/>
                </a:cubicBezTo>
                <a:cubicBezTo>
                  <a:pt x="13125" y="17994"/>
                  <a:pt x="12858" y="18162"/>
                  <a:pt x="12641" y="18272"/>
                </a:cubicBezTo>
                <a:cubicBezTo>
                  <a:pt x="12579" y="18303"/>
                  <a:pt x="12513" y="18335"/>
                  <a:pt x="12454" y="18371"/>
                </a:cubicBezTo>
                <a:cubicBezTo>
                  <a:pt x="12454" y="18373"/>
                  <a:pt x="12453" y="18376"/>
                  <a:pt x="12453" y="18378"/>
                </a:cubicBezTo>
              </a:path>
              <a:path w="5788" h="13785">
                <a:moveTo>
                  <a:pt x="12178" y="17453"/>
                </a:moveTo>
                <a:cubicBezTo>
                  <a:pt x="12177" y="17467"/>
                  <a:pt x="12174" y="17483"/>
                  <a:pt x="12173" y="17495"/>
                </a:cubicBezTo>
                <a:cubicBezTo>
                  <a:pt x="12170" y="17522"/>
                  <a:pt x="12164" y="17548"/>
                  <a:pt x="12168" y="17577"/>
                </a:cubicBezTo>
                <a:cubicBezTo>
                  <a:pt x="12172" y="17603"/>
                  <a:pt x="12179" y="17629"/>
                  <a:pt x="12187" y="17654"/>
                </a:cubicBezTo>
                <a:cubicBezTo>
                  <a:pt x="12199" y="17689"/>
                  <a:pt x="12216" y="17726"/>
                  <a:pt x="12232" y="17758"/>
                </a:cubicBezTo>
                <a:cubicBezTo>
                  <a:pt x="12235" y="17764"/>
                  <a:pt x="12239" y="17774"/>
                  <a:pt x="12241" y="17778"/>
                </a:cubicBezTo>
                <a:cubicBezTo>
                  <a:pt x="12242" y="17778"/>
                  <a:pt x="12244" y="17778"/>
                  <a:pt x="12245" y="17778"/>
                </a:cubicBezTo>
                <a:cubicBezTo>
                  <a:pt x="12250" y="17761"/>
                  <a:pt x="12264" y="17749"/>
                  <a:pt x="12266" y="17729"/>
                </a:cubicBezTo>
                <a:cubicBezTo>
                  <a:pt x="12277" y="17638"/>
                  <a:pt x="12268" y="17540"/>
                  <a:pt x="12254" y="17450"/>
                </a:cubicBezTo>
                <a:cubicBezTo>
                  <a:pt x="12235" y="17331"/>
                  <a:pt x="12206" y="17212"/>
                  <a:pt x="12184" y="17093"/>
                </a:cubicBezTo>
                <a:cubicBezTo>
                  <a:pt x="12167" y="17002"/>
                  <a:pt x="12149" y="16911"/>
                  <a:pt x="12139" y="16819"/>
                </a:cubicBezTo>
                <a:cubicBezTo>
                  <a:pt x="12122" y="16671"/>
                  <a:pt x="12069" y="16396"/>
                  <a:pt x="12127" y="16251"/>
                </a:cubicBezTo>
                <a:cubicBezTo>
                  <a:pt x="12134" y="16233"/>
                  <a:pt x="12144" y="16226"/>
                  <a:pt x="12155" y="16210"/>
                </a:cubicBezTo>
                <a:cubicBezTo>
                  <a:pt x="12161" y="16202"/>
                  <a:pt x="12172" y="16207"/>
                  <a:pt x="12178" y="16201"/>
                </a:cubicBezTo>
                <a:cubicBezTo>
                  <a:pt x="12184" y="16207"/>
                  <a:pt x="12196" y="16200"/>
                  <a:pt x="12204" y="16211"/>
                </a:cubicBezTo>
                <a:cubicBezTo>
                  <a:pt x="12261" y="16291"/>
                  <a:pt x="12300" y="16385"/>
                  <a:pt x="12352" y="16468"/>
                </a:cubicBezTo>
                <a:cubicBezTo>
                  <a:pt x="12408" y="16558"/>
                  <a:pt x="12481" y="16636"/>
                  <a:pt x="12546" y="16720"/>
                </a:cubicBezTo>
                <a:cubicBezTo>
                  <a:pt x="12589" y="16776"/>
                  <a:pt x="12631" y="16834"/>
                  <a:pt x="12673" y="16891"/>
                </a:cubicBezTo>
                <a:cubicBezTo>
                  <a:pt x="12744" y="16986"/>
                  <a:pt x="12824" y="17071"/>
                  <a:pt x="12895" y="17165"/>
                </a:cubicBezTo>
                <a:cubicBezTo>
                  <a:pt x="12917" y="17195"/>
                  <a:pt x="12995" y="17293"/>
                  <a:pt x="12983" y="17337"/>
                </a:cubicBezTo>
                <a:cubicBezTo>
                  <a:pt x="12974" y="17373"/>
                  <a:pt x="12923" y="17392"/>
                  <a:pt x="12894" y="17405"/>
                </a:cubicBezTo>
                <a:cubicBezTo>
                  <a:pt x="12607" y="17538"/>
                  <a:pt x="12220" y="17552"/>
                  <a:pt x="11913" y="17624"/>
                </a:cubicBezTo>
                <a:cubicBezTo>
                  <a:pt x="11788" y="17653"/>
                  <a:pt x="11666" y="17691"/>
                  <a:pt x="11546" y="17736"/>
                </a:cubicBezTo>
                <a:cubicBezTo>
                  <a:pt x="11469" y="17765"/>
                  <a:pt x="11393" y="17819"/>
                  <a:pt x="11313" y="17840"/>
                </a:cubicBezTo>
                <a:cubicBezTo>
                  <a:pt x="11306" y="17842"/>
                  <a:pt x="11294" y="17835"/>
                  <a:pt x="11293" y="17835"/>
                </a:cubicBezTo>
                <a:cubicBezTo>
                  <a:pt x="11359" y="17747"/>
                  <a:pt x="11436" y="17687"/>
                  <a:pt x="11526" y="17620"/>
                </a:cubicBezTo>
                <a:cubicBezTo>
                  <a:pt x="11630" y="17543"/>
                  <a:pt x="11737" y="17468"/>
                  <a:pt x="11840" y="17389"/>
                </a:cubicBezTo>
                <a:cubicBezTo>
                  <a:pt x="12105" y="17187"/>
                  <a:pt x="12359" y="16956"/>
                  <a:pt x="12557" y="16686"/>
                </a:cubicBezTo>
                <a:cubicBezTo>
                  <a:pt x="12617" y="16605"/>
                  <a:pt x="12662" y="16514"/>
                  <a:pt x="12722" y="16434"/>
                </a:cubicBezTo>
                <a:cubicBezTo>
                  <a:pt x="12732" y="16420"/>
                  <a:pt x="12744" y="16406"/>
                  <a:pt x="12756" y="16394"/>
                </a:cubicBezTo>
                <a:cubicBezTo>
                  <a:pt x="12759" y="16390"/>
                  <a:pt x="12768" y="16389"/>
                  <a:pt x="12770" y="16387"/>
                </a:cubicBezTo>
                <a:cubicBezTo>
                  <a:pt x="12770" y="16388"/>
                  <a:pt x="12764" y="16409"/>
                  <a:pt x="12761" y="16414"/>
                </a:cubicBezTo>
                <a:cubicBezTo>
                  <a:pt x="12742" y="16446"/>
                  <a:pt x="12718" y="16476"/>
                  <a:pt x="12700" y="16509"/>
                </a:cubicBezTo>
                <a:cubicBezTo>
                  <a:pt x="12620" y="16657"/>
                  <a:pt x="12553" y="16811"/>
                  <a:pt x="12487" y="16966"/>
                </a:cubicBezTo>
                <a:cubicBezTo>
                  <a:pt x="12426" y="17108"/>
                  <a:pt x="12376" y="17254"/>
                  <a:pt x="12315" y="17396"/>
                </a:cubicBezTo>
                <a:cubicBezTo>
                  <a:pt x="12224" y="17607"/>
                  <a:pt x="12099" y="17823"/>
                  <a:pt x="12032" y="18043"/>
                </a:cubicBezTo>
                <a:cubicBezTo>
                  <a:pt x="12007" y="18125"/>
                  <a:pt x="12029" y="18198"/>
                  <a:pt x="12123" y="18204"/>
                </a:cubicBezTo>
                <a:cubicBezTo>
                  <a:pt x="12167" y="18207"/>
                  <a:pt x="12207" y="18177"/>
                  <a:pt x="12243" y="18158"/>
                </a:cubicBezTo>
                <a:cubicBezTo>
                  <a:pt x="12254" y="18151"/>
                  <a:pt x="12264" y="18145"/>
                  <a:pt x="12275" y="18138"/>
                </a:cubicBezTo>
              </a:path>
              <a:path w="5788" h="13785">
                <a:moveTo>
                  <a:pt x="12218" y="16349"/>
                </a:moveTo>
                <a:cubicBezTo>
                  <a:pt x="12239" y="16390"/>
                  <a:pt x="12259" y="16430"/>
                  <a:pt x="12279" y="16471"/>
                </a:cubicBezTo>
                <a:cubicBezTo>
                  <a:pt x="12286" y="16487"/>
                  <a:pt x="12295" y="16503"/>
                  <a:pt x="12302" y="16518"/>
                </a:cubicBezTo>
                <a:cubicBezTo>
                  <a:pt x="12302" y="16519"/>
                  <a:pt x="12302" y="16519"/>
                  <a:pt x="12302" y="16520"/>
                </a:cubicBezTo>
                <a:cubicBezTo>
                  <a:pt x="12329" y="16408"/>
                  <a:pt x="12343" y="16301"/>
                  <a:pt x="12347" y="16185"/>
                </a:cubicBezTo>
                <a:cubicBezTo>
                  <a:pt x="12357" y="15891"/>
                  <a:pt x="12330" y="15603"/>
                  <a:pt x="12306" y="15310"/>
                </a:cubicBezTo>
                <a:cubicBezTo>
                  <a:pt x="12295" y="15179"/>
                  <a:pt x="12277" y="15031"/>
                  <a:pt x="12302" y="14901"/>
                </a:cubicBezTo>
                <a:cubicBezTo>
                  <a:pt x="12316" y="14827"/>
                  <a:pt x="12344" y="14763"/>
                  <a:pt x="12424" y="14756"/>
                </a:cubicBezTo>
                <a:cubicBezTo>
                  <a:pt x="12522" y="14747"/>
                  <a:pt x="12638" y="14833"/>
                  <a:pt x="12698" y="14901"/>
                </a:cubicBezTo>
                <a:cubicBezTo>
                  <a:pt x="12759" y="14970"/>
                  <a:pt x="12808" y="15052"/>
                  <a:pt x="12863" y="15126"/>
                </a:cubicBezTo>
                <a:cubicBezTo>
                  <a:pt x="12913" y="15192"/>
                  <a:pt x="12967" y="15255"/>
                  <a:pt x="13014" y="15323"/>
                </a:cubicBezTo>
                <a:cubicBezTo>
                  <a:pt x="13076" y="15412"/>
                  <a:pt x="13142" y="15509"/>
                  <a:pt x="13184" y="15609"/>
                </a:cubicBezTo>
                <a:cubicBezTo>
                  <a:pt x="13197" y="15638"/>
                  <a:pt x="13200" y="15675"/>
                  <a:pt x="13214" y="15703"/>
                </a:cubicBezTo>
                <a:cubicBezTo>
                  <a:pt x="13217" y="15708"/>
                  <a:pt x="13225" y="15711"/>
                  <a:pt x="13227" y="15715"/>
                </a:cubicBezTo>
                <a:cubicBezTo>
                  <a:pt x="13229" y="15715"/>
                  <a:pt x="13229" y="15715"/>
                  <a:pt x="13230" y="15715"/>
                </a:cubicBezTo>
                <a:cubicBezTo>
                  <a:pt x="13176" y="15705"/>
                  <a:pt x="13121" y="15694"/>
                  <a:pt x="13066" y="15688"/>
                </a:cubicBezTo>
                <a:cubicBezTo>
                  <a:pt x="12955" y="15677"/>
                  <a:pt x="12841" y="15678"/>
                  <a:pt x="12730" y="15686"/>
                </a:cubicBezTo>
                <a:cubicBezTo>
                  <a:pt x="12521" y="15702"/>
                  <a:pt x="12299" y="15764"/>
                  <a:pt x="12112" y="15860"/>
                </a:cubicBezTo>
                <a:cubicBezTo>
                  <a:pt x="11951" y="15943"/>
                  <a:pt x="11794" y="16037"/>
                  <a:pt x="11623" y="16100"/>
                </a:cubicBezTo>
                <a:cubicBezTo>
                  <a:pt x="11581" y="16115"/>
                  <a:pt x="11530" y="16141"/>
                  <a:pt x="11485" y="16143"/>
                </a:cubicBezTo>
                <a:cubicBezTo>
                  <a:pt x="11464" y="16144"/>
                  <a:pt x="11467" y="16126"/>
                  <a:pt x="11456" y="16125"/>
                </a:cubicBezTo>
                <a:cubicBezTo>
                  <a:pt x="11472" y="16076"/>
                  <a:pt x="11478" y="16040"/>
                  <a:pt x="11508" y="15995"/>
                </a:cubicBezTo>
                <a:cubicBezTo>
                  <a:pt x="11585" y="15879"/>
                  <a:pt x="11711" y="15783"/>
                  <a:pt x="11818" y="15697"/>
                </a:cubicBezTo>
                <a:cubicBezTo>
                  <a:pt x="11975" y="15570"/>
                  <a:pt x="12141" y="15456"/>
                  <a:pt x="12302" y="15335"/>
                </a:cubicBezTo>
                <a:cubicBezTo>
                  <a:pt x="12563" y="15138"/>
                  <a:pt x="12817" y="14933"/>
                  <a:pt x="13078" y="14737"/>
                </a:cubicBezTo>
                <a:cubicBezTo>
                  <a:pt x="13132" y="14696"/>
                  <a:pt x="13186" y="14655"/>
                  <a:pt x="13248" y="14627"/>
                </a:cubicBezTo>
                <a:cubicBezTo>
                  <a:pt x="13252" y="14628"/>
                  <a:pt x="13257" y="14630"/>
                  <a:pt x="13261" y="14631"/>
                </a:cubicBezTo>
                <a:cubicBezTo>
                  <a:pt x="13243" y="14680"/>
                  <a:pt x="13226" y="14723"/>
                  <a:pt x="13202" y="14771"/>
                </a:cubicBezTo>
                <a:cubicBezTo>
                  <a:pt x="12957" y="15267"/>
                  <a:pt x="12821" y="15802"/>
                  <a:pt x="12528" y="16276"/>
                </a:cubicBezTo>
                <a:cubicBezTo>
                  <a:pt x="12466" y="16376"/>
                  <a:pt x="12402" y="16474"/>
                  <a:pt x="12342" y="16575"/>
                </a:cubicBezTo>
              </a:path>
              <a:path w="5788" h="13785">
                <a:moveTo>
                  <a:pt x="12424" y="15079"/>
                </a:moveTo>
                <a:cubicBezTo>
                  <a:pt x="12449" y="15105"/>
                  <a:pt x="12478" y="15133"/>
                  <a:pt x="12501" y="15154"/>
                </a:cubicBezTo>
                <a:cubicBezTo>
                  <a:pt x="12525" y="15118"/>
                  <a:pt x="12537" y="15111"/>
                  <a:pt x="12542" y="15065"/>
                </a:cubicBezTo>
                <a:cubicBezTo>
                  <a:pt x="12555" y="14945"/>
                  <a:pt x="12508" y="14785"/>
                  <a:pt x="12492" y="14665"/>
                </a:cubicBezTo>
                <a:cubicBezTo>
                  <a:pt x="12475" y="14542"/>
                  <a:pt x="12452" y="14419"/>
                  <a:pt x="12440" y="14296"/>
                </a:cubicBezTo>
                <a:cubicBezTo>
                  <a:pt x="12428" y="14169"/>
                  <a:pt x="12412" y="14044"/>
                  <a:pt x="12406" y="13916"/>
                </a:cubicBezTo>
                <a:cubicBezTo>
                  <a:pt x="12403" y="13842"/>
                  <a:pt x="12402" y="13769"/>
                  <a:pt x="12404" y="13695"/>
                </a:cubicBezTo>
                <a:cubicBezTo>
                  <a:pt x="12406" y="13629"/>
                  <a:pt x="12402" y="13564"/>
                  <a:pt x="12431" y="13504"/>
                </a:cubicBezTo>
                <a:cubicBezTo>
                  <a:pt x="12435" y="13502"/>
                  <a:pt x="12438" y="13499"/>
                  <a:pt x="12442" y="13497"/>
                </a:cubicBezTo>
                <a:cubicBezTo>
                  <a:pt x="12474" y="13512"/>
                  <a:pt x="12497" y="13516"/>
                  <a:pt x="12528" y="13540"/>
                </a:cubicBezTo>
                <a:cubicBezTo>
                  <a:pt x="12610" y="13606"/>
                  <a:pt x="12672" y="13709"/>
                  <a:pt x="12729" y="13796"/>
                </a:cubicBezTo>
                <a:cubicBezTo>
                  <a:pt x="12809" y="13919"/>
                  <a:pt x="12870" y="14054"/>
                  <a:pt x="12938" y="14183"/>
                </a:cubicBezTo>
                <a:cubicBezTo>
                  <a:pt x="12972" y="14246"/>
                  <a:pt x="13011" y="14316"/>
                  <a:pt x="13060" y="14369"/>
                </a:cubicBezTo>
                <a:cubicBezTo>
                  <a:pt x="13081" y="14391"/>
                  <a:pt x="13104" y="14404"/>
                  <a:pt x="13127" y="14423"/>
                </a:cubicBezTo>
                <a:cubicBezTo>
                  <a:pt x="13131" y="14427"/>
                  <a:pt x="13135" y="14431"/>
                  <a:pt x="13139" y="14434"/>
                </a:cubicBezTo>
                <a:cubicBezTo>
                  <a:pt x="13126" y="14435"/>
                  <a:pt x="13108" y="14435"/>
                  <a:pt x="13094" y="14436"/>
                </a:cubicBezTo>
                <a:cubicBezTo>
                  <a:pt x="12902" y="14443"/>
                  <a:pt x="12709" y="14513"/>
                  <a:pt x="12528" y="14575"/>
                </a:cubicBezTo>
                <a:cubicBezTo>
                  <a:pt x="12271" y="14663"/>
                  <a:pt x="12021" y="14779"/>
                  <a:pt x="11754" y="14835"/>
                </a:cubicBezTo>
                <a:cubicBezTo>
                  <a:pt x="11740" y="14839"/>
                  <a:pt x="11736" y="14840"/>
                  <a:pt x="11727" y="14839"/>
                </a:cubicBezTo>
                <a:cubicBezTo>
                  <a:pt x="11746" y="14814"/>
                  <a:pt x="11769" y="14785"/>
                  <a:pt x="11797" y="14758"/>
                </a:cubicBezTo>
                <a:cubicBezTo>
                  <a:pt x="11874" y="14684"/>
                  <a:pt x="11963" y="14621"/>
                  <a:pt x="12046" y="14554"/>
                </a:cubicBezTo>
                <a:cubicBezTo>
                  <a:pt x="12155" y="14466"/>
                  <a:pt x="12260" y="14376"/>
                  <a:pt x="12361" y="14280"/>
                </a:cubicBezTo>
                <a:cubicBezTo>
                  <a:pt x="12515" y="14134"/>
                  <a:pt x="12675" y="13991"/>
                  <a:pt x="12770" y="13799"/>
                </a:cubicBezTo>
                <a:cubicBezTo>
                  <a:pt x="12780" y="13778"/>
                  <a:pt x="12791" y="13740"/>
                  <a:pt x="12808" y="13724"/>
                </a:cubicBezTo>
                <a:cubicBezTo>
                  <a:pt x="12817" y="13716"/>
                  <a:pt x="12833" y="13722"/>
                  <a:pt x="12840" y="13717"/>
                </a:cubicBezTo>
                <a:cubicBezTo>
                  <a:pt x="12843" y="13729"/>
                  <a:pt x="12855" y="13743"/>
                  <a:pt x="12858" y="13758"/>
                </a:cubicBezTo>
                <a:cubicBezTo>
                  <a:pt x="12873" y="13840"/>
                  <a:pt x="12853" y="13921"/>
                  <a:pt x="12834" y="14000"/>
                </a:cubicBezTo>
                <a:cubicBezTo>
                  <a:pt x="12757" y="14320"/>
                  <a:pt x="12674" y="14639"/>
                  <a:pt x="12576" y="14953"/>
                </a:cubicBezTo>
                <a:cubicBezTo>
                  <a:pt x="12567" y="14982"/>
                  <a:pt x="12558" y="15010"/>
                  <a:pt x="12549" y="15039"/>
                </a:cubicBez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8120" y="5189400"/>
            <a:ext cx="1128960" cy="1020960"/>
          </a:xfrm>
          <a:custGeom>
            <a:avLst/>
            <a:gdLst/>
            <a:ahLst/>
            <a:rect l="l" t="t" r="r" b="b"/>
            <a:pathLst>
              <a:path w="3136" h="2836">
                <a:moveTo>
                  <a:pt x="667" y="15204"/>
                </a:moveTo>
                <a:cubicBezTo>
                  <a:pt x="655" y="15208"/>
                  <a:pt x="636" y="15244"/>
                  <a:pt x="626" y="15244"/>
                </a:cubicBezTo>
                <a:cubicBezTo>
                  <a:pt x="615" y="15244"/>
                  <a:pt x="575" y="15220"/>
                  <a:pt x="574" y="15220"/>
                </a:cubicBezTo>
                <a:cubicBezTo>
                  <a:pt x="511" y="15238"/>
                  <a:pt x="517" y="15220"/>
                  <a:pt x="488" y="15298"/>
                </a:cubicBezTo>
                <a:cubicBezTo>
                  <a:pt x="468" y="15353"/>
                  <a:pt x="470" y="15429"/>
                  <a:pt x="468" y="15487"/>
                </a:cubicBezTo>
                <a:cubicBezTo>
                  <a:pt x="460" y="15703"/>
                  <a:pt x="458" y="15925"/>
                  <a:pt x="497" y="16138"/>
                </a:cubicBezTo>
                <a:cubicBezTo>
                  <a:pt x="550" y="16428"/>
                  <a:pt x="553" y="16712"/>
                  <a:pt x="592" y="17000"/>
                </a:cubicBezTo>
                <a:cubicBezTo>
                  <a:pt x="600" y="17061"/>
                  <a:pt x="627" y="17138"/>
                  <a:pt x="658" y="17192"/>
                </a:cubicBezTo>
                <a:cubicBezTo>
                  <a:pt x="665" y="17204"/>
                  <a:pt x="665" y="17231"/>
                  <a:pt x="673" y="17237"/>
                </a:cubicBezTo>
                <a:cubicBezTo>
                  <a:pt x="687" y="17247"/>
                  <a:pt x="682" y="17244"/>
                  <a:pt x="700" y="17249"/>
                </a:cubicBezTo>
                <a:cubicBezTo>
                  <a:pt x="751" y="17263"/>
                  <a:pt x="789" y="17222"/>
                  <a:pt x="827" y="17197"/>
                </a:cubicBezTo>
                <a:cubicBezTo>
                  <a:pt x="875" y="17165"/>
                  <a:pt x="918" y="17096"/>
                  <a:pt x="972" y="17077"/>
                </a:cubicBezTo>
                <a:cubicBezTo>
                  <a:pt x="982" y="17073"/>
                  <a:pt x="987" y="17088"/>
                  <a:pt x="997" y="17084"/>
                </a:cubicBezTo>
                <a:cubicBezTo>
                  <a:pt x="1052" y="17059"/>
                  <a:pt x="1073" y="17062"/>
                  <a:pt x="1128" y="17009"/>
                </a:cubicBezTo>
                <a:cubicBezTo>
                  <a:pt x="1345" y="16799"/>
                  <a:pt x="1524" y="16562"/>
                  <a:pt x="1750" y="16358"/>
                </a:cubicBezTo>
                <a:cubicBezTo>
                  <a:pt x="1945" y="16182"/>
                  <a:pt x="2115" y="15987"/>
                  <a:pt x="2291" y="15794"/>
                </a:cubicBezTo>
                <a:cubicBezTo>
                  <a:pt x="2301" y="15783"/>
                  <a:pt x="2314" y="15771"/>
                  <a:pt x="2322" y="15762"/>
                </a:cubicBezTo>
                <a:cubicBezTo>
                  <a:pt x="2310" y="15769"/>
                  <a:pt x="2310" y="15769"/>
                  <a:pt x="2302" y="15781"/>
                </a:cubicBezTo>
                <a:cubicBezTo>
                  <a:pt x="2305" y="15778"/>
                  <a:pt x="2300" y="15778"/>
                  <a:pt x="2304" y="15776"/>
                </a:cubicBezTo>
                <a:cubicBezTo>
                  <a:pt x="2316" y="15768"/>
                  <a:pt x="2332" y="15769"/>
                  <a:pt x="2339" y="15763"/>
                </a:cubicBezTo>
                <a:cubicBezTo>
                  <a:pt x="2355" y="15749"/>
                  <a:pt x="2371" y="15739"/>
                  <a:pt x="2386" y="15722"/>
                </a:cubicBezTo>
                <a:cubicBezTo>
                  <a:pt x="2424" y="15679"/>
                  <a:pt x="2453" y="15627"/>
                  <a:pt x="2481" y="15579"/>
                </a:cubicBezTo>
                <a:cubicBezTo>
                  <a:pt x="2512" y="15527"/>
                  <a:pt x="2540" y="15486"/>
                  <a:pt x="2578" y="15439"/>
                </a:cubicBezTo>
                <a:cubicBezTo>
                  <a:pt x="2602" y="15409"/>
                  <a:pt x="2626" y="15379"/>
                  <a:pt x="2653" y="15351"/>
                </a:cubicBezTo>
                <a:cubicBezTo>
                  <a:pt x="2677" y="15325"/>
                  <a:pt x="2705" y="15301"/>
                  <a:pt x="2728" y="15274"/>
                </a:cubicBezTo>
                <a:cubicBezTo>
                  <a:pt x="2768" y="15228"/>
                  <a:pt x="2803" y="15195"/>
                  <a:pt x="2850" y="15156"/>
                </a:cubicBezTo>
                <a:cubicBezTo>
                  <a:pt x="2875" y="15135"/>
                  <a:pt x="2907" y="15120"/>
                  <a:pt x="2929" y="15100"/>
                </a:cubicBezTo>
                <a:cubicBezTo>
                  <a:pt x="2940" y="15090"/>
                  <a:pt x="2951" y="15078"/>
                  <a:pt x="2963" y="15063"/>
                </a:cubicBezTo>
                <a:cubicBezTo>
                  <a:pt x="2976" y="15048"/>
                  <a:pt x="2985" y="15037"/>
                  <a:pt x="2999" y="15023"/>
                </a:cubicBezTo>
                <a:cubicBezTo>
                  <a:pt x="3017" y="15006"/>
                  <a:pt x="3039" y="14987"/>
                  <a:pt x="3056" y="14971"/>
                </a:cubicBezTo>
                <a:cubicBezTo>
                  <a:pt x="3084" y="14944"/>
                  <a:pt x="3110" y="14921"/>
                  <a:pt x="3135" y="14889"/>
                </a:cubicBezTo>
                <a:cubicBezTo>
                  <a:pt x="3155" y="14864"/>
                  <a:pt x="3172" y="14821"/>
                  <a:pt x="3196" y="14803"/>
                </a:cubicBezTo>
                <a:cubicBezTo>
                  <a:pt x="3199" y="14801"/>
                  <a:pt x="3201" y="14798"/>
                  <a:pt x="3203" y="14796"/>
                </a:cubicBezTo>
                <a:cubicBezTo>
                  <a:pt x="3217" y="14786"/>
                  <a:pt x="3248" y="14788"/>
                  <a:pt x="3264" y="14780"/>
                </a:cubicBezTo>
                <a:cubicBezTo>
                  <a:pt x="3273" y="14775"/>
                  <a:pt x="3296" y="14770"/>
                  <a:pt x="3304" y="14765"/>
                </a:cubicBezTo>
                <a:cubicBezTo>
                  <a:pt x="3315" y="14757"/>
                  <a:pt x="3336" y="14751"/>
                  <a:pt x="3348" y="14740"/>
                </a:cubicBezTo>
                <a:cubicBezTo>
                  <a:pt x="3398" y="14697"/>
                  <a:pt x="3436" y="14613"/>
                  <a:pt x="3472" y="14557"/>
                </a:cubicBezTo>
                <a:cubicBezTo>
                  <a:pt x="3487" y="14533"/>
                  <a:pt x="3503" y="14507"/>
                  <a:pt x="3519" y="14484"/>
                </a:cubicBezTo>
                <a:cubicBezTo>
                  <a:pt x="3529" y="14470"/>
                  <a:pt x="3527" y="14459"/>
                  <a:pt x="3542" y="14445"/>
                </a:cubicBezTo>
                <a:cubicBezTo>
                  <a:pt x="3552" y="14436"/>
                  <a:pt x="3557" y="14422"/>
                  <a:pt x="3565" y="14416"/>
                </a:cubicBezTo>
                <a:cubicBezTo>
                  <a:pt x="3574" y="14409"/>
                  <a:pt x="3595" y="14420"/>
                  <a:pt x="3603" y="14414"/>
                </a:cubicBezTo>
              </a:path>
            </a:pathLst>
          </a:custGeom>
          <a:noFill/>
          <a:ln cap="sq" w="228600">
            <a:solidFill>
              <a:srgbClr val="ff0066">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19200" y="5133960"/>
            <a:ext cx="679320" cy="668520"/>
          </a:xfrm>
          <a:custGeom>
            <a:avLst/>
            <a:gdLst/>
            <a:ahLst/>
            <a:rect l="l" t="t" r="r" b="b"/>
            <a:pathLst>
              <a:path w="1889" h="1855">
                <a:moveTo>
                  <a:pt x="1739" y="16113"/>
                </a:moveTo>
                <a:cubicBezTo>
                  <a:pt x="1744" y="16099"/>
                  <a:pt x="1763" y="16091"/>
                  <a:pt x="1764" y="16075"/>
                </a:cubicBezTo>
                <a:cubicBezTo>
                  <a:pt x="1767" y="16035"/>
                  <a:pt x="1743" y="16010"/>
                  <a:pt x="1741" y="15970"/>
                </a:cubicBezTo>
                <a:cubicBezTo>
                  <a:pt x="1740" y="15946"/>
                  <a:pt x="1749" y="15925"/>
                  <a:pt x="1748" y="15900"/>
                </a:cubicBezTo>
                <a:cubicBezTo>
                  <a:pt x="1748" y="15887"/>
                  <a:pt x="1747" y="15875"/>
                  <a:pt x="1746" y="15864"/>
                </a:cubicBezTo>
                <a:cubicBezTo>
                  <a:pt x="1745" y="15852"/>
                  <a:pt x="1741" y="15837"/>
                  <a:pt x="1739" y="15824"/>
                </a:cubicBezTo>
                <a:cubicBezTo>
                  <a:pt x="1738" y="15812"/>
                  <a:pt x="1733" y="15802"/>
                  <a:pt x="1732" y="15790"/>
                </a:cubicBezTo>
                <a:cubicBezTo>
                  <a:pt x="1730" y="15749"/>
                  <a:pt x="1754" y="15716"/>
                  <a:pt x="1757" y="15683"/>
                </a:cubicBezTo>
                <a:cubicBezTo>
                  <a:pt x="1759" y="15657"/>
                  <a:pt x="1751" y="15630"/>
                  <a:pt x="1746" y="15606"/>
                </a:cubicBezTo>
                <a:cubicBezTo>
                  <a:pt x="1743" y="15592"/>
                  <a:pt x="1733" y="15584"/>
                  <a:pt x="1730" y="15568"/>
                </a:cubicBezTo>
                <a:cubicBezTo>
                  <a:pt x="1724" y="15532"/>
                  <a:pt x="1725" y="15492"/>
                  <a:pt x="1723" y="15455"/>
                </a:cubicBezTo>
                <a:cubicBezTo>
                  <a:pt x="1718" y="15350"/>
                  <a:pt x="1703" y="15225"/>
                  <a:pt x="1732" y="15124"/>
                </a:cubicBezTo>
                <a:cubicBezTo>
                  <a:pt x="1737" y="15105"/>
                  <a:pt x="1750" y="15092"/>
                  <a:pt x="1753" y="15072"/>
                </a:cubicBezTo>
                <a:cubicBezTo>
                  <a:pt x="1761" y="15015"/>
                  <a:pt x="1739" y="14961"/>
                  <a:pt x="1737" y="14905"/>
                </a:cubicBezTo>
                <a:cubicBezTo>
                  <a:pt x="1736" y="14865"/>
                  <a:pt x="1743" y="14830"/>
                  <a:pt x="1750" y="14792"/>
                </a:cubicBezTo>
                <a:cubicBezTo>
                  <a:pt x="1758" y="14746"/>
                  <a:pt x="1776" y="14708"/>
                  <a:pt x="1789" y="14665"/>
                </a:cubicBezTo>
                <a:cubicBezTo>
                  <a:pt x="1792" y="14655"/>
                  <a:pt x="1798" y="14646"/>
                  <a:pt x="1800" y="14636"/>
                </a:cubicBezTo>
                <a:cubicBezTo>
                  <a:pt x="1803" y="14624"/>
                  <a:pt x="1800" y="14613"/>
                  <a:pt x="1802" y="14604"/>
                </a:cubicBezTo>
                <a:cubicBezTo>
                  <a:pt x="1803" y="14601"/>
                  <a:pt x="1799" y="14600"/>
                  <a:pt x="1800" y="14597"/>
                </a:cubicBezTo>
                <a:cubicBezTo>
                  <a:pt x="1819" y="14605"/>
                  <a:pt x="1839" y="14612"/>
                  <a:pt x="1859" y="14622"/>
                </a:cubicBezTo>
                <a:cubicBezTo>
                  <a:pt x="1866" y="14625"/>
                  <a:pt x="1871" y="14625"/>
                  <a:pt x="1877" y="14629"/>
                </a:cubicBezTo>
                <a:cubicBezTo>
                  <a:pt x="1889" y="14637"/>
                  <a:pt x="1893" y="14631"/>
                  <a:pt x="1904" y="14643"/>
                </a:cubicBezTo>
                <a:cubicBezTo>
                  <a:pt x="1923" y="14665"/>
                  <a:pt x="1921" y="14684"/>
                  <a:pt x="1924" y="14712"/>
                </a:cubicBezTo>
                <a:cubicBezTo>
                  <a:pt x="1928" y="14757"/>
                  <a:pt x="1914" y="14814"/>
                  <a:pt x="1904" y="14857"/>
                </a:cubicBezTo>
                <a:cubicBezTo>
                  <a:pt x="1895" y="14896"/>
                  <a:pt x="1877" y="14932"/>
                  <a:pt x="1868" y="14971"/>
                </a:cubicBezTo>
                <a:cubicBezTo>
                  <a:pt x="1860" y="15002"/>
                  <a:pt x="1851" y="15035"/>
                  <a:pt x="1866" y="15065"/>
                </a:cubicBezTo>
                <a:cubicBezTo>
                  <a:pt x="1869" y="15070"/>
                  <a:pt x="1885" y="15070"/>
                  <a:pt x="1888" y="15077"/>
                </a:cubicBezTo>
                <a:cubicBezTo>
                  <a:pt x="1903" y="15111"/>
                  <a:pt x="1923" y="15150"/>
                  <a:pt x="1929" y="15190"/>
                </a:cubicBezTo>
                <a:cubicBezTo>
                  <a:pt x="1935" y="15230"/>
                  <a:pt x="1927" y="15265"/>
                  <a:pt x="1920" y="15303"/>
                </a:cubicBezTo>
                <a:cubicBezTo>
                  <a:pt x="1915" y="15330"/>
                  <a:pt x="1911" y="15357"/>
                  <a:pt x="1906" y="15384"/>
                </a:cubicBezTo>
                <a:cubicBezTo>
                  <a:pt x="1903" y="15403"/>
                  <a:pt x="1899" y="15422"/>
                  <a:pt x="1897" y="15441"/>
                </a:cubicBezTo>
                <a:cubicBezTo>
                  <a:pt x="1891" y="15508"/>
                  <a:pt x="1904" y="15571"/>
                  <a:pt x="1908" y="15636"/>
                </a:cubicBezTo>
                <a:cubicBezTo>
                  <a:pt x="1911" y="15689"/>
                  <a:pt x="1907" y="15744"/>
                  <a:pt x="1904" y="15794"/>
                </a:cubicBezTo>
                <a:cubicBezTo>
                  <a:pt x="1903" y="15813"/>
                  <a:pt x="1900" y="15837"/>
                  <a:pt x="1900" y="15858"/>
                </a:cubicBezTo>
                <a:cubicBezTo>
                  <a:pt x="1899" y="15931"/>
                  <a:pt x="1906" y="15998"/>
                  <a:pt x="1931" y="16066"/>
                </a:cubicBezTo>
                <a:cubicBezTo>
                  <a:pt x="1934" y="16074"/>
                  <a:pt x="1940" y="16105"/>
                  <a:pt x="1947" y="16109"/>
                </a:cubicBezTo>
                <a:cubicBezTo>
                  <a:pt x="1957" y="16115"/>
                  <a:pt x="1966" y="16118"/>
                  <a:pt x="1983" y="16113"/>
                </a:cubicBezTo>
                <a:cubicBezTo>
                  <a:pt x="1998" y="16108"/>
                  <a:pt x="2005" y="16092"/>
                  <a:pt x="2015" y="16082"/>
                </a:cubicBezTo>
                <a:cubicBezTo>
                  <a:pt x="2040" y="16056"/>
                  <a:pt x="2054" y="16015"/>
                  <a:pt x="2076" y="15986"/>
                </a:cubicBezTo>
                <a:cubicBezTo>
                  <a:pt x="2088" y="15971"/>
                  <a:pt x="2102" y="15959"/>
                  <a:pt x="2114" y="15944"/>
                </a:cubicBezTo>
                <a:cubicBezTo>
                  <a:pt x="2154" y="15895"/>
                  <a:pt x="2195" y="15847"/>
                  <a:pt x="2236" y="15799"/>
                </a:cubicBezTo>
                <a:cubicBezTo>
                  <a:pt x="2275" y="15754"/>
                  <a:pt x="2307" y="15705"/>
                  <a:pt x="2345" y="15661"/>
                </a:cubicBezTo>
                <a:cubicBezTo>
                  <a:pt x="2363" y="15640"/>
                  <a:pt x="2380" y="15620"/>
                  <a:pt x="2399" y="15600"/>
                </a:cubicBezTo>
                <a:cubicBezTo>
                  <a:pt x="2420" y="15579"/>
                  <a:pt x="2441" y="15558"/>
                  <a:pt x="2463" y="15538"/>
                </a:cubicBezTo>
                <a:cubicBezTo>
                  <a:pt x="2500" y="15504"/>
                  <a:pt x="2541" y="15473"/>
                  <a:pt x="2574" y="15436"/>
                </a:cubicBezTo>
                <a:cubicBezTo>
                  <a:pt x="2599" y="15407"/>
                  <a:pt x="2623" y="15378"/>
                  <a:pt x="2649" y="15351"/>
                </a:cubicBezTo>
                <a:cubicBezTo>
                  <a:pt x="2669" y="15330"/>
                  <a:pt x="2691" y="15307"/>
                  <a:pt x="2712" y="15285"/>
                </a:cubicBezTo>
                <a:cubicBezTo>
                  <a:pt x="2737" y="15259"/>
                  <a:pt x="2766" y="15236"/>
                  <a:pt x="2789" y="15208"/>
                </a:cubicBezTo>
                <a:cubicBezTo>
                  <a:pt x="2828" y="15160"/>
                  <a:pt x="2852" y="15104"/>
                  <a:pt x="2881" y="15050"/>
                </a:cubicBezTo>
                <a:cubicBezTo>
                  <a:pt x="2936" y="14949"/>
                  <a:pt x="3002" y="14856"/>
                  <a:pt x="3053" y="14753"/>
                </a:cubicBezTo>
                <a:cubicBezTo>
                  <a:pt x="3089" y="14681"/>
                  <a:pt x="3129" y="14616"/>
                  <a:pt x="3171" y="14547"/>
                </a:cubicBezTo>
                <a:cubicBezTo>
                  <a:pt x="3185" y="14524"/>
                  <a:pt x="3198" y="14503"/>
                  <a:pt x="3214" y="14482"/>
                </a:cubicBezTo>
                <a:cubicBezTo>
                  <a:pt x="3229" y="14462"/>
                  <a:pt x="3243" y="14444"/>
                  <a:pt x="3259" y="14425"/>
                </a:cubicBezTo>
                <a:cubicBezTo>
                  <a:pt x="3285" y="14395"/>
                  <a:pt x="3316" y="14347"/>
                  <a:pt x="3348" y="14324"/>
                </a:cubicBezTo>
                <a:cubicBezTo>
                  <a:pt x="3353" y="14321"/>
                  <a:pt x="3360" y="14317"/>
                  <a:pt x="3366" y="14314"/>
                </a:cubicBezTo>
                <a:cubicBezTo>
                  <a:pt x="3390" y="14300"/>
                  <a:pt x="3419" y="14295"/>
                  <a:pt x="3443" y="14285"/>
                </a:cubicBezTo>
                <a:cubicBezTo>
                  <a:pt x="3468" y="14275"/>
                  <a:pt x="3484" y="14266"/>
                  <a:pt x="3510" y="14262"/>
                </a:cubicBezTo>
                <a:cubicBezTo>
                  <a:pt x="3526" y="14260"/>
                  <a:pt x="3546" y="14261"/>
                  <a:pt x="3560" y="14264"/>
                </a:cubicBezTo>
                <a:cubicBezTo>
                  <a:pt x="3578" y="14268"/>
                  <a:pt x="3576" y="14275"/>
                  <a:pt x="3590" y="14280"/>
                </a:cubicBezTo>
                <a:cubicBezTo>
                  <a:pt x="3598" y="14283"/>
                  <a:pt x="3600" y="14283"/>
                  <a:pt x="3607" y="14287"/>
                </a:cubicBezTo>
                <a:cubicBezTo>
                  <a:pt x="3603" y="14287"/>
                  <a:pt x="3602" y="14287"/>
                  <a:pt x="3603" y="14290"/>
                </a:cubicBezTo>
              </a:path>
            </a:pathLst>
          </a:custGeom>
          <a:noFill/>
          <a:ln cap="sq" w="228600">
            <a:solidFill>
              <a:srgbClr val="ff0066">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0"/>
                                        </p:tgtEl>
                                        <p:attrNameLst>
                                          <p:attrName>style.visibility</p:attrName>
                                        </p:attrNameLst>
                                      </p:cBhvr>
                                      <p:to>
                                        <p:strVal val="visible"/>
                                      </p:to>
                                    </p:set>
                                    <p:animEffect filter="blinds(horizontal)" transition="in">
                                      <p:cBhvr additive="repl">
                                        <p:cTn id="13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523880"/>
            <a:ext cx="8057880" cy="4876920"/>
          </a:xfrm>
          <a:prstGeom prst="rect">
            <a:avLst/>
          </a:prstGeom>
          <a:ln w="0">
            <a:noFill/>
          </a:ln>
        </p:spPr>
      </p:pic>
      <p:sp>
        <p:nvSpPr>
          <p:cNvPr id="198" name=""/>
          <p:cNvSpPr/>
          <p:nvPr/>
        </p:nvSpPr>
        <p:spPr>
          <a:xfrm>
            <a:off x="2790720" y="3919680"/>
            <a:ext cx="1346400" cy="263520"/>
          </a:xfrm>
          <a:custGeom>
            <a:avLst/>
            <a:gdLst/>
            <a:ahLst/>
            <a:rect l="l" t="t" r="r" b="b"/>
            <a:pathLst>
              <a:path w="3739" h="735">
                <a:moveTo>
                  <a:pt x="8087" y="10932"/>
                </a:moveTo>
                <a:cubicBezTo>
                  <a:pt x="8075" y="10940"/>
                  <a:pt x="8064" y="10948"/>
                  <a:pt x="8053" y="10957"/>
                </a:cubicBezTo>
              </a:path>
              <a:path w="3739" h="735">
                <a:moveTo>
                  <a:pt x="8037" y="10968"/>
                </a:moveTo>
                <a:cubicBezTo>
                  <a:pt x="8048" y="10958"/>
                  <a:pt x="8050" y="10953"/>
                  <a:pt x="8064" y="10948"/>
                </a:cubicBezTo>
                <a:cubicBezTo>
                  <a:pt x="8069" y="10946"/>
                  <a:pt x="8071" y="10948"/>
                  <a:pt x="8076" y="10945"/>
                </a:cubicBezTo>
                <a:cubicBezTo>
                  <a:pt x="8080" y="10943"/>
                  <a:pt x="8085" y="10946"/>
                  <a:pt x="8076" y="10943"/>
                </a:cubicBezTo>
                <a:cubicBezTo>
                  <a:pt x="8074" y="10942"/>
                  <a:pt x="8071" y="10944"/>
                  <a:pt x="8069" y="10943"/>
                </a:cubicBezTo>
                <a:cubicBezTo>
                  <a:pt x="8069" y="10939"/>
                  <a:pt x="8072" y="10949"/>
                  <a:pt x="8071" y="10943"/>
                </a:cubicBezTo>
                <a:cubicBezTo>
                  <a:pt x="8069" y="10926"/>
                  <a:pt x="8071" y="10921"/>
                  <a:pt x="8058" y="10912"/>
                </a:cubicBezTo>
                <a:cubicBezTo>
                  <a:pt x="8048" y="10905"/>
                  <a:pt x="8033" y="10900"/>
                  <a:pt x="8022" y="10896"/>
                </a:cubicBezTo>
                <a:cubicBezTo>
                  <a:pt x="8005" y="10890"/>
                  <a:pt x="7985" y="10887"/>
                  <a:pt x="7967" y="10886"/>
                </a:cubicBezTo>
                <a:cubicBezTo>
                  <a:pt x="7952" y="10885"/>
                  <a:pt x="7938" y="10888"/>
                  <a:pt x="7924" y="10889"/>
                </a:cubicBezTo>
                <a:cubicBezTo>
                  <a:pt x="7907" y="10891"/>
                  <a:pt x="7894" y="10891"/>
                  <a:pt x="7879" y="10900"/>
                </a:cubicBezTo>
                <a:cubicBezTo>
                  <a:pt x="7868" y="10907"/>
                  <a:pt x="7864" y="10909"/>
                  <a:pt x="7854" y="10918"/>
                </a:cubicBezTo>
                <a:cubicBezTo>
                  <a:pt x="7847" y="10924"/>
                  <a:pt x="7838" y="10930"/>
                  <a:pt x="7834" y="10939"/>
                </a:cubicBezTo>
                <a:cubicBezTo>
                  <a:pt x="7830" y="10948"/>
                  <a:pt x="7830" y="10959"/>
                  <a:pt x="7829" y="10968"/>
                </a:cubicBezTo>
                <a:cubicBezTo>
                  <a:pt x="7827" y="10994"/>
                  <a:pt x="7825" y="11028"/>
                  <a:pt x="7834" y="11052"/>
                </a:cubicBezTo>
                <a:cubicBezTo>
                  <a:pt x="7837" y="11059"/>
                  <a:pt x="7842" y="11070"/>
                  <a:pt x="7845" y="11077"/>
                </a:cubicBezTo>
                <a:cubicBezTo>
                  <a:pt x="7849" y="11084"/>
                  <a:pt x="7853" y="11090"/>
                  <a:pt x="7858" y="11097"/>
                </a:cubicBezTo>
                <a:cubicBezTo>
                  <a:pt x="7867" y="11111"/>
                  <a:pt x="7879" y="11122"/>
                  <a:pt x="7890" y="11135"/>
                </a:cubicBezTo>
                <a:cubicBezTo>
                  <a:pt x="7900" y="11148"/>
                  <a:pt x="7909" y="11159"/>
                  <a:pt x="7922" y="11169"/>
                </a:cubicBezTo>
                <a:cubicBezTo>
                  <a:pt x="7937" y="11180"/>
                  <a:pt x="7945" y="11191"/>
                  <a:pt x="7958" y="11203"/>
                </a:cubicBezTo>
                <a:cubicBezTo>
                  <a:pt x="7974" y="11217"/>
                  <a:pt x="7990" y="11219"/>
                  <a:pt x="8008" y="11228"/>
                </a:cubicBezTo>
                <a:cubicBezTo>
                  <a:pt x="8022" y="11235"/>
                  <a:pt x="8034" y="11243"/>
                  <a:pt x="8046" y="11251"/>
                </a:cubicBezTo>
                <a:cubicBezTo>
                  <a:pt x="8055" y="11257"/>
                  <a:pt x="8063" y="11262"/>
                  <a:pt x="8071" y="11269"/>
                </a:cubicBezTo>
                <a:cubicBezTo>
                  <a:pt x="8080" y="11277"/>
                  <a:pt x="8086" y="11287"/>
                  <a:pt x="8094" y="11296"/>
                </a:cubicBezTo>
                <a:cubicBezTo>
                  <a:pt x="8102" y="11305"/>
                  <a:pt x="8111" y="11320"/>
                  <a:pt x="8121" y="11325"/>
                </a:cubicBezTo>
                <a:cubicBezTo>
                  <a:pt x="8127" y="11328"/>
                  <a:pt x="8132" y="11325"/>
                  <a:pt x="8137" y="11328"/>
                </a:cubicBezTo>
                <a:cubicBezTo>
                  <a:pt x="8151" y="11337"/>
                  <a:pt x="8147" y="11342"/>
                  <a:pt x="8146" y="11357"/>
                </a:cubicBezTo>
                <a:cubicBezTo>
                  <a:pt x="8146" y="11364"/>
                  <a:pt x="8144" y="11370"/>
                  <a:pt x="8143" y="11377"/>
                </a:cubicBezTo>
                <a:cubicBezTo>
                  <a:pt x="8141" y="11403"/>
                  <a:pt x="8139" y="11405"/>
                  <a:pt x="8125" y="11425"/>
                </a:cubicBezTo>
                <a:cubicBezTo>
                  <a:pt x="8123" y="11429"/>
                  <a:pt x="8119" y="11435"/>
                  <a:pt x="8117" y="11437"/>
                </a:cubicBezTo>
                <a:cubicBezTo>
                  <a:pt x="8111" y="11444"/>
                  <a:pt x="8111" y="11446"/>
                  <a:pt x="8105" y="11454"/>
                </a:cubicBezTo>
                <a:cubicBezTo>
                  <a:pt x="8097" y="11465"/>
                  <a:pt x="8101" y="11459"/>
                  <a:pt x="8091" y="11464"/>
                </a:cubicBezTo>
                <a:cubicBezTo>
                  <a:pt x="8090" y="11464"/>
                  <a:pt x="8078" y="11468"/>
                  <a:pt x="8076" y="11468"/>
                </a:cubicBezTo>
                <a:cubicBezTo>
                  <a:pt x="8045" y="11471"/>
                  <a:pt x="7986" y="11476"/>
                  <a:pt x="7958" y="11461"/>
                </a:cubicBezTo>
                <a:cubicBezTo>
                  <a:pt x="7946" y="11455"/>
                  <a:pt x="7938" y="11447"/>
                  <a:pt x="7924" y="11443"/>
                </a:cubicBezTo>
                <a:cubicBezTo>
                  <a:pt x="7913" y="11440"/>
                  <a:pt x="7904" y="11440"/>
                  <a:pt x="7892" y="11439"/>
                </a:cubicBezTo>
                <a:cubicBezTo>
                  <a:pt x="7873" y="11438"/>
                  <a:pt x="7853" y="11438"/>
                  <a:pt x="7834" y="11437"/>
                </a:cubicBezTo>
                <a:cubicBezTo>
                  <a:pt x="7812" y="11436"/>
                  <a:pt x="7789" y="11436"/>
                  <a:pt x="7770" y="11432"/>
                </a:cubicBezTo>
                <a:cubicBezTo>
                  <a:pt x="7765" y="11431"/>
                  <a:pt x="7763" y="11433"/>
                  <a:pt x="7759" y="11430"/>
                </a:cubicBezTo>
                <a:cubicBezTo>
                  <a:pt x="7755" y="11427"/>
                  <a:pt x="7754" y="11430"/>
                  <a:pt x="7754" y="11429"/>
                </a:cubicBezTo>
                <a:cubicBezTo>
                  <a:pt x="7753" y="11426"/>
                  <a:pt x="7762" y="11432"/>
                  <a:pt x="7763" y="11429"/>
                </a:cubicBezTo>
              </a:path>
              <a:path w="3739" h="735">
                <a:moveTo>
                  <a:pt x="8476" y="11140"/>
                </a:moveTo>
                <a:cubicBezTo>
                  <a:pt x="8477" y="11156"/>
                  <a:pt x="8479" y="11172"/>
                  <a:pt x="8479" y="11188"/>
                </a:cubicBezTo>
                <a:cubicBezTo>
                  <a:pt x="8479" y="11196"/>
                  <a:pt x="8483" y="11214"/>
                  <a:pt x="8476" y="11221"/>
                </a:cubicBezTo>
                <a:cubicBezTo>
                  <a:pt x="8468" y="11229"/>
                  <a:pt x="8467" y="11222"/>
                  <a:pt x="8458" y="11224"/>
                </a:cubicBezTo>
                <a:cubicBezTo>
                  <a:pt x="8454" y="11225"/>
                  <a:pt x="8445" y="11225"/>
                  <a:pt x="8442" y="11222"/>
                </a:cubicBezTo>
                <a:cubicBezTo>
                  <a:pt x="8439" y="11218"/>
                  <a:pt x="8440" y="11211"/>
                  <a:pt x="8440" y="11206"/>
                </a:cubicBezTo>
                <a:cubicBezTo>
                  <a:pt x="8440" y="11196"/>
                  <a:pt x="8443" y="11188"/>
                  <a:pt x="8447" y="11179"/>
                </a:cubicBezTo>
                <a:cubicBezTo>
                  <a:pt x="8449" y="11174"/>
                  <a:pt x="8457" y="11166"/>
                  <a:pt x="8458" y="11162"/>
                </a:cubicBezTo>
                <a:cubicBezTo>
                  <a:pt x="8460" y="11153"/>
                  <a:pt x="8457" y="11141"/>
                  <a:pt x="8456" y="11133"/>
                </a:cubicBezTo>
                <a:cubicBezTo>
                  <a:pt x="8456" y="11133"/>
                  <a:pt x="8453" y="11140"/>
                  <a:pt x="8453" y="11144"/>
                </a:cubicBezTo>
                <a:cubicBezTo>
                  <a:pt x="8452" y="11151"/>
                  <a:pt x="8452" y="11159"/>
                  <a:pt x="8451" y="11165"/>
                </a:cubicBezTo>
                <a:cubicBezTo>
                  <a:pt x="8449" y="11183"/>
                  <a:pt x="8449" y="11202"/>
                  <a:pt x="8449" y="11221"/>
                </a:cubicBezTo>
                <a:cubicBezTo>
                  <a:pt x="8449" y="11252"/>
                  <a:pt x="8442" y="11278"/>
                  <a:pt x="8438" y="11308"/>
                </a:cubicBezTo>
                <a:cubicBezTo>
                  <a:pt x="8435" y="11333"/>
                  <a:pt x="8444" y="11362"/>
                  <a:pt x="8435" y="11386"/>
                </a:cubicBezTo>
                <a:cubicBezTo>
                  <a:pt x="8433" y="11391"/>
                  <a:pt x="8428" y="11394"/>
                  <a:pt x="8426" y="11400"/>
                </a:cubicBezTo>
                <a:cubicBezTo>
                  <a:pt x="8423" y="11409"/>
                  <a:pt x="8422" y="11415"/>
                  <a:pt x="8422" y="11425"/>
                </a:cubicBezTo>
                <a:cubicBezTo>
                  <a:pt x="8422" y="11437"/>
                  <a:pt x="8425" y="11443"/>
                  <a:pt x="8429" y="11455"/>
                </a:cubicBezTo>
                <a:cubicBezTo>
                  <a:pt x="8431" y="11462"/>
                  <a:pt x="8432" y="11470"/>
                  <a:pt x="8435" y="11477"/>
                </a:cubicBezTo>
                <a:cubicBezTo>
                  <a:pt x="8437" y="11481"/>
                  <a:pt x="8438" y="11482"/>
                  <a:pt x="8440" y="11486"/>
                </a:cubicBezTo>
                <a:cubicBezTo>
                  <a:pt x="8443" y="11495"/>
                  <a:pt x="8444" y="11505"/>
                  <a:pt x="8451" y="11511"/>
                </a:cubicBezTo>
                <a:cubicBezTo>
                  <a:pt x="8453" y="11513"/>
                  <a:pt x="8464" y="11514"/>
                  <a:pt x="8465" y="11516"/>
                </a:cubicBezTo>
                <a:cubicBezTo>
                  <a:pt x="8467" y="11518"/>
                  <a:pt x="8468" y="11523"/>
                  <a:pt x="8469" y="11524"/>
                </a:cubicBezTo>
                <a:cubicBezTo>
                  <a:pt x="8472" y="11528"/>
                  <a:pt x="8477" y="11537"/>
                  <a:pt x="8481" y="11540"/>
                </a:cubicBezTo>
                <a:cubicBezTo>
                  <a:pt x="8483" y="11541"/>
                  <a:pt x="8494" y="11546"/>
                  <a:pt x="8496" y="11547"/>
                </a:cubicBezTo>
                <a:cubicBezTo>
                  <a:pt x="8506" y="11551"/>
                  <a:pt x="8520" y="11551"/>
                  <a:pt x="8531" y="11550"/>
                </a:cubicBezTo>
                <a:cubicBezTo>
                  <a:pt x="8540" y="11549"/>
                  <a:pt x="8548" y="11547"/>
                  <a:pt x="8555" y="11543"/>
                </a:cubicBezTo>
                <a:cubicBezTo>
                  <a:pt x="8561" y="11539"/>
                  <a:pt x="8563" y="11535"/>
                  <a:pt x="8569" y="11531"/>
                </a:cubicBezTo>
                <a:cubicBezTo>
                  <a:pt x="8580" y="11524"/>
                  <a:pt x="8588" y="11525"/>
                  <a:pt x="8601" y="11522"/>
                </a:cubicBezTo>
                <a:cubicBezTo>
                  <a:pt x="8624" y="11516"/>
                  <a:pt x="8645" y="11506"/>
                  <a:pt x="8668" y="11500"/>
                </a:cubicBezTo>
                <a:cubicBezTo>
                  <a:pt x="8677" y="11498"/>
                  <a:pt x="8685" y="11496"/>
                  <a:pt x="8694" y="11495"/>
                </a:cubicBezTo>
                <a:cubicBezTo>
                  <a:pt x="8710" y="11494"/>
                  <a:pt x="8725" y="11497"/>
                  <a:pt x="8741" y="11498"/>
                </a:cubicBezTo>
                <a:cubicBezTo>
                  <a:pt x="8767" y="11499"/>
                  <a:pt x="8796" y="11500"/>
                  <a:pt x="8820" y="11495"/>
                </a:cubicBezTo>
                <a:cubicBezTo>
                  <a:pt x="8829" y="11493"/>
                  <a:pt x="8833" y="11493"/>
                  <a:pt x="8841" y="11488"/>
                </a:cubicBezTo>
                <a:cubicBezTo>
                  <a:pt x="8845" y="11486"/>
                  <a:pt x="8848" y="11483"/>
                  <a:pt x="8852" y="11481"/>
                </a:cubicBezTo>
              </a:path>
              <a:path w="3739" h="735">
                <a:moveTo>
                  <a:pt x="8397" y="11196"/>
                </a:moveTo>
                <a:cubicBezTo>
                  <a:pt x="8387" y="11209"/>
                  <a:pt x="8379" y="11223"/>
                  <a:pt x="8367" y="11235"/>
                </a:cubicBezTo>
                <a:cubicBezTo>
                  <a:pt x="8362" y="11240"/>
                  <a:pt x="8361" y="11239"/>
                  <a:pt x="8359" y="11246"/>
                </a:cubicBezTo>
                <a:cubicBezTo>
                  <a:pt x="8358" y="11250"/>
                  <a:pt x="8361" y="11257"/>
                  <a:pt x="8358" y="11260"/>
                </a:cubicBezTo>
                <a:cubicBezTo>
                  <a:pt x="8355" y="11263"/>
                  <a:pt x="8350" y="11262"/>
                  <a:pt x="8347" y="11264"/>
                </a:cubicBezTo>
                <a:cubicBezTo>
                  <a:pt x="8341" y="11268"/>
                  <a:pt x="8343" y="11272"/>
                  <a:pt x="8338" y="11276"/>
                </a:cubicBezTo>
                <a:cubicBezTo>
                  <a:pt x="8336" y="11278"/>
                  <a:pt x="8328" y="11279"/>
                  <a:pt x="8327" y="11280"/>
                </a:cubicBezTo>
                <a:cubicBezTo>
                  <a:pt x="8324" y="11283"/>
                  <a:pt x="8326" y="11286"/>
                  <a:pt x="8324" y="11289"/>
                </a:cubicBezTo>
                <a:cubicBezTo>
                  <a:pt x="8321" y="11294"/>
                  <a:pt x="8316" y="11301"/>
                  <a:pt x="8313" y="11307"/>
                </a:cubicBezTo>
                <a:cubicBezTo>
                  <a:pt x="8312" y="11310"/>
                  <a:pt x="8312" y="11311"/>
                  <a:pt x="8311" y="11314"/>
                </a:cubicBezTo>
                <a:cubicBezTo>
                  <a:pt x="8358" y="11314"/>
                  <a:pt x="8407" y="11319"/>
                  <a:pt x="8453" y="11310"/>
                </a:cubicBezTo>
                <a:cubicBezTo>
                  <a:pt x="8468" y="11307"/>
                  <a:pt x="8484" y="11304"/>
                  <a:pt x="8499" y="11301"/>
                </a:cubicBezTo>
                <a:cubicBezTo>
                  <a:pt x="8510" y="11299"/>
                  <a:pt x="8522" y="11295"/>
                  <a:pt x="8533" y="11294"/>
                </a:cubicBezTo>
                <a:cubicBezTo>
                  <a:pt x="8571" y="11289"/>
                  <a:pt x="8612" y="11294"/>
                  <a:pt x="8650" y="11294"/>
                </a:cubicBezTo>
                <a:cubicBezTo>
                  <a:pt x="8651" y="11291"/>
                  <a:pt x="8648" y="11288"/>
                  <a:pt x="8651" y="11287"/>
                </a:cubicBezTo>
                <a:cubicBezTo>
                  <a:pt x="8658" y="11284"/>
                  <a:pt x="8674" y="11287"/>
                  <a:pt x="8682" y="11285"/>
                </a:cubicBezTo>
              </a:path>
              <a:path w="3739" h="735">
                <a:moveTo>
                  <a:pt x="9144" y="11301"/>
                </a:moveTo>
                <a:cubicBezTo>
                  <a:pt x="9144" y="11335"/>
                  <a:pt x="9144" y="11368"/>
                  <a:pt x="9144" y="11402"/>
                </a:cubicBezTo>
                <a:cubicBezTo>
                  <a:pt x="9152" y="11404"/>
                  <a:pt x="9161" y="11406"/>
                  <a:pt x="9169" y="11407"/>
                </a:cubicBezTo>
                <a:cubicBezTo>
                  <a:pt x="9181" y="11409"/>
                  <a:pt x="9194" y="11410"/>
                  <a:pt x="9207" y="11409"/>
                </a:cubicBezTo>
                <a:cubicBezTo>
                  <a:pt x="9231" y="11407"/>
                  <a:pt x="9241" y="11398"/>
                  <a:pt x="9257" y="11382"/>
                </a:cubicBezTo>
                <a:cubicBezTo>
                  <a:pt x="9267" y="11372"/>
                  <a:pt x="9271" y="11365"/>
                  <a:pt x="9272" y="11351"/>
                </a:cubicBezTo>
                <a:cubicBezTo>
                  <a:pt x="9273" y="11339"/>
                  <a:pt x="9271" y="11327"/>
                  <a:pt x="9268" y="11316"/>
                </a:cubicBezTo>
                <a:cubicBezTo>
                  <a:pt x="9264" y="11303"/>
                  <a:pt x="9259" y="11291"/>
                  <a:pt x="9254" y="11278"/>
                </a:cubicBezTo>
                <a:cubicBezTo>
                  <a:pt x="9248" y="11263"/>
                  <a:pt x="9241" y="11252"/>
                  <a:pt x="9232" y="11239"/>
                </a:cubicBezTo>
                <a:cubicBezTo>
                  <a:pt x="9225" y="11228"/>
                  <a:pt x="9219" y="11224"/>
                  <a:pt x="9209" y="11217"/>
                </a:cubicBezTo>
                <a:cubicBezTo>
                  <a:pt x="9203" y="11213"/>
                  <a:pt x="9197" y="11211"/>
                  <a:pt x="9191" y="11208"/>
                </a:cubicBezTo>
                <a:cubicBezTo>
                  <a:pt x="9186" y="11206"/>
                  <a:pt x="9181" y="11200"/>
                  <a:pt x="9175" y="11199"/>
                </a:cubicBezTo>
                <a:cubicBezTo>
                  <a:pt x="9156" y="11196"/>
                  <a:pt x="9144" y="11205"/>
                  <a:pt x="9130" y="11217"/>
                </a:cubicBezTo>
                <a:cubicBezTo>
                  <a:pt x="9122" y="11224"/>
                  <a:pt x="9114" y="11234"/>
                  <a:pt x="9107" y="11242"/>
                </a:cubicBezTo>
                <a:cubicBezTo>
                  <a:pt x="9102" y="11248"/>
                  <a:pt x="9086" y="11261"/>
                  <a:pt x="9083" y="11269"/>
                </a:cubicBezTo>
                <a:cubicBezTo>
                  <a:pt x="9079" y="11279"/>
                  <a:pt x="9079" y="11297"/>
                  <a:pt x="9080" y="11308"/>
                </a:cubicBezTo>
                <a:cubicBezTo>
                  <a:pt x="9081" y="11318"/>
                  <a:pt x="9081" y="11329"/>
                  <a:pt x="9082" y="11339"/>
                </a:cubicBezTo>
                <a:cubicBezTo>
                  <a:pt x="9084" y="11355"/>
                  <a:pt x="9088" y="11370"/>
                  <a:pt x="9091" y="11386"/>
                </a:cubicBezTo>
                <a:cubicBezTo>
                  <a:pt x="9095" y="11405"/>
                  <a:pt x="9099" y="11421"/>
                  <a:pt x="9107" y="11439"/>
                </a:cubicBezTo>
                <a:cubicBezTo>
                  <a:pt x="9112" y="11451"/>
                  <a:pt x="9118" y="11464"/>
                  <a:pt x="9123" y="11477"/>
                </a:cubicBezTo>
                <a:cubicBezTo>
                  <a:pt x="9129" y="11491"/>
                  <a:pt x="9133" y="11496"/>
                  <a:pt x="9144" y="11506"/>
                </a:cubicBezTo>
                <a:cubicBezTo>
                  <a:pt x="9152" y="11513"/>
                  <a:pt x="9164" y="11516"/>
                  <a:pt x="9173" y="11520"/>
                </a:cubicBezTo>
                <a:cubicBezTo>
                  <a:pt x="9186" y="11525"/>
                  <a:pt x="9200" y="11530"/>
                  <a:pt x="9214" y="11531"/>
                </a:cubicBezTo>
                <a:cubicBezTo>
                  <a:pt x="9238" y="11533"/>
                  <a:pt x="9259" y="11533"/>
                  <a:pt x="9282" y="11538"/>
                </a:cubicBezTo>
                <a:cubicBezTo>
                  <a:pt x="9295" y="11541"/>
                  <a:pt x="9307" y="11540"/>
                  <a:pt x="9320" y="11540"/>
                </a:cubicBezTo>
                <a:cubicBezTo>
                  <a:pt x="9341" y="11540"/>
                  <a:pt x="9364" y="11541"/>
                  <a:pt x="9384" y="11534"/>
                </a:cubicBezTo>
                <a:cubicBezTo>
                  <a:pt x="9396" y="11529"/>
                  <a:pt x="9408" y="11526"/>
                  <a:pt x="9420" y="11522"/>
                </a:cubicBezTo>
                <a:cubicBezTo>
                  <a:pt x="9437" y="11516"/>
                  <a:pt x="9449" y="11504"/>
                  <a:pt x="9463" y="11495"/>
                </a:cubicBezTo>
                <a:cubicBezTo>
                  <a:pt x="9478" y="11488"/>
                  <a:pt x="9483" y="11486"/>
                  <a:pt x="9488" y="11475"/>
                </a:cubicBezTo>
              </a:path>
              <a:path w="3739" h="735">
                <a:moveTo>
                  <a:pt x="9619" y="11244"/>
                </a:moveTo>
                <a:cubicBezTo>
                  <a:pt x="9613" y="11242"/>
                  <a:pt x="9602" y="11234"/>
                  <a:pt x="9596" y="11233"/>
                </a:cubicBezTo>
                <a:cubicBezTo>
                  <a:pt x="9579" y="11229"/>
                  <a:pt x="9568" y="11231"/>
                  <a:pt x="9553" y="11224"/>
                </a:cubicBezTo>
                <a:cubicBezTo>
                  <a:pt x="9549" y="11222"/>
                  <a:pt x="9543" y="11219"/>
                  <a:pt x="9540" y="11217"/>
                </a:cubicBezTo>
                <a:cubicBezTo>
                  <a:pt x="9538" y="11217"/>
                  <a:pt x="9538" y="11216"/>
                  <a:pt x="9539" y="11213"/>
                </a:cubicBezTo>
                <a:cubicBezTo>
                  <a:pt x="9539" y="11257"/>
                  <a:pt x="9534" y="11303"/>
                  <a:pt x="9544" y="11346"/>
                </a:cubicBezTo>
                <a:cubicBezTo>
                  <a:pt x="9547" y="11359"/>
                  <a:pt x="9553" y="11374"/>
                  <a:pt x="9557" y="11387"/>
                </a:cubicBezTo>
                <a:cubicBezTo>
                  <a:pt x="9561" y="11400"/>
                  <a:pt x="9568" y="11412"/>
                  <a:pt x="9571" y="11425"/>
                </a:cubicBezTo>
                <a:cubicBezTo>
                  <a:pt x="9575" y="11442"/>
                  <a:pt x="9572" y="11457"/>
                  <a:pt x="9580" y="11473"/>
                </a:cubicBezTo>
                <a:cubicBezTo>
                  <a:pt x="9584" y="11481"/>
                  <a:pt x="9589" y="11490"/>
                  <a:pt x="9594" y="11497"/>
                </a:cubicBezTo>
                <a:cubicBezTo>
                  <a:pt x="9597" y="11501"/>
                  <a:pt x="9601" y="11501"/>
                  <a:pt x="9603" y="11506"/>
                </a:cubicBezTo>
                <a:cubicBezTo>
                  <a:pt x="9604" y="11510"/>
                  <a:pt x="9602" y="11514"/>
                  <a:pt x="9603" y="11518"/>
                </a:cubicBezTo>
                <a:cubicBezTo>
                  <a:pt x="9608" y="11513"/>
                  <a:pt x="9610" y="11521"/>
                  <a:pt x="9614" y="11511"/>
                </a:cubicBezTo>
                <a:cubicBezTo>
                  <a:pt x="9641" y="11440"/>
                  <a:pt x="9585" y="11337"/>
                  <a:pt x="9619" y="11267"/>
                </a:cubicBezTo>
                <a:cubicBezTo>
                  <a:pt x="9626" y="11253"/>
                  <a:pt x="9640" y="11241"/>
                  <a:pt x="9653" y="11233"/>
                </a:cubicBezTo>
                <a:cubicBezTo>
                  <a:pt x="9674" y="11220"/>
                  <a:pt x="9698" y="11210"/>
                  <a:pt x="9720" y="11199"/>
                </a:cubicBezTo>
                <a:cubicBezTo>
                  <a:pt x="9751" y="11183"/>
                  <a:pt x="9782" y="11167"/>
                  <a:pt x="9813" y="11149"/>
                </a:cubicBezTo>
                <a:cubicBezTo>
                  <a:pt x="9850" y="11128"/>
                  <a:pt x="9889" y="11111"/>
                  <a:pt x="9926" y="11090"/>
                </a:cubicBezTo>
                <a:cubicBezTo>
                  <a:pt x="9934" y="11085"/>
                  <a:pt x="9943" y="11081"/>
                  <a:pt x="9951" y="11076"/>
                </a:cubicBezTo>
              </a:path>
              <a:path w="3739" h="735">
                <a:moveTo>
                  <a:pt x="10078" y="11271"/>
                </a:moveTo>
                <a:cubicBezTo>
                  <a:pt x="10068" y="11260"/>
                  <a:pt x="10056" y="11250"/>
                  <a:pt x="10046" y="11239"/>
                </a:cubicBezTo>
                <a:cubicBezTo>
                  <a:pt x="10042" y="11235"/>
                  <a:pt x="10044" y="11234"/>
                  <a:pt x="10039" y="11230"/>
                </a:cubicBezTo>
                <a:cubicBezTo>
                  <a:pt x="10037" y="11229"/>
                  <a:pt x="10031" y="11227"/>
                  <a:pt x="10028" y="11224"/>
                </a:cubicBezTo>
                <a:cubicBezTo>
                  <a:pt x="10018" y="11216"/>
                  <a:pt x="10027" y="11227"/>
                  <a:pt x="10021" y="11217"/>
                </a:cubicBezTo>
                <a:cubicBezTo>
                  <a:pt x="10018" y="11213"/>
                  <a:pt x="10018" y="11210"/>
                  <a:pt x="10017" y="11205"/>
                </a:cubicBezTo>
                <a:cubicBezTo>
                  <a:pt x="10017" y="11204"/>
                  <a:pt x="10016" y="11198"/>
                  <a:pt x="10015" y="11194"/>
                </a:cubicBezTo>
                <a:cubicBezTo>
                  <a:pt x="10015" y="11192"/>
                  <a:pt x="10015" y="11191"/>
                  <a:pt x="10015" y="11190"/>
                </a:cubicBezTo>
                <a:cubicBezTo>
                  <a:pt x="10012" y="11194"/>
                  <a:pt x="10003" y="11201"/>
                  <a:pt x="10001" y="11206"/>
                </a:cubicBezTo>
                <a:cubicBezTo>
                  <a:pt x="9997" y="11215"/>
                  <a:pt x="9993" y="11230"/>
                  <a:pt x="9992" y="11240"/>
                </a:cubicBezTo>
                <a:cubicBezTo>
                  <a:pt x="9985" y="11305"/>
                  <a:pt x="9992" y="11375"/>
                  <a:pt x="9997" y="11439"/>
                </a:cubicBezTo>
                <a:cubicBezTo>
                  <a:pt x="10000" y="11483"/>
                  <a:pt x="9988" y="11535"/>
                  <a:pt x="9999" y="11577"/>
                </a:cubicBezTo>
                <a:cubicBezTo>
                  <a:pt x="10000" y="11578"/>
                  <a:pt x="10000" y="11578"/>
                  <a:pt x="10001" y="11579"/>
                </a:cubicBezTo>
                <a:cubicBezTo>
                  <a:pt x="10002" y="11574"/>
                  <a:pt x="10004" y="11572"/>
                  <a:pt x="10005" y="11565"/>
                </a:cubicBezTo>
                <a:cubicBezTo>
                  <a:pt x="10006" y="11556"/>
                  <a:pt x="10009" y="11549"/>
                  <a:pt x="10010" y="11541"/>
                </a:cubicBezTo>
                <a:cubicBezTo>
                  <a:pt x="10012" y="11529"/>
                  <a:pt x="10016" y="11526"/>
                  <a:pt x="10021" y="11516"/>
                </a:cubicBezTo>
                <a:cubicBezTo>
                  <a:pt x="10024" y="11510"/>
                  <a:pt x="10030" y="11501"/>
                  <a:pt x="10033" y="11495"/>
                </a:cubicBezTo>
                <a:cubicBezTo>
                  <a:pt x="10038" y="11484"/>
                  <a:pt x="10041" y="11472"/>
                  <a:pt x="10044" y="11459"/>
                </a:cubicBezTo>
                <a:cubicBezTo>
                  <a:pt x="10048" y="11443"/>
                  <a:pt x="10049" y="11430"/>
                  <a:pt x="10057" y="11416"/>
                </a:cubicBezTo>
                <a:cubicBezTo>
                  <a:pt x="10067" y="11397"/>
                  <a:pt x="10080" y="11378"/>
                  <a:pt x="10092" y="11360"/>
                </a:cubicBezTo>
                <a:cubicBezTo>
                  <a:pt x="10100" y="11348"/>
                  <a:pt x="10109" y="11338"/>
                  <a:pt x="10116" y="11326"/>
                </a:cubicBezTo>
                <a:cubicBezTo>
                  <a:pt x="10124" y="11312"/>
                  <a:pt x="10133" y="11299"/>
                  <a:pt x="10141" y="11285"/>
                </a:cubicBezTo>
                <a:cubicBezTo>
                  <a:pt x="10148" y="11273"/>
                  <a:pt x="10153" y="11260"/>
                  <a:pt x="10160" y="11248"/>
                </a:cubicBezTo>
                <a:cubicBezTo>
                  <a:pt x="10164" y="11240"/>
                  <a:pt x="10171" y="11236"/>
                  <a:pt x="10175" y="11230"/>
                </a:cubicBezTo>
                <a:cubicBezTo>
                  <a:pt x="10179" y="11224"/>
                  <a:pt x="10179" y="11222"/>
                  <a:pt x="10184" y="11217"/>
                </a:cubicBezTo>
                <a:cubicBezTo>
                  <a:pt x="10194" y="11207"/>
                  <a:pt x="10207" y="11203"/>
                  <a:pt x="10221" y="11199"/>
                </a:cubicBezTo>
                <a:cubicBezTo>
                  <a:pt x="10231" y="11196"/>
                  <a:pt x="10240" y="11197"/>
                  <a:pt x="10250" y="11197"/>
                </a:cubicBezTo>
                <a:cubicBezTo>
                  <a:pt x="10260" y="11197"/>
                  <a:pt x="10283" y="11193"/>
                  <a:pt x="10291" y="11199"/>
                </a:cubicBezTo>
                <a:cubicBezTo>
                  <a:pt x="10295" y="11202"/>
                  <a:pt x="10298" y="11210"/>
                  <a:pt x="10304" y="11215"/>
                </a:cubicBezTo>
                <a:cubicBezTo>
                  <a:pt x="10311" y="11221"/>
                  <a:pt x="10319" y="11222"/>
                  <a:pt x="10327" y="11226"/>
                </a:cubicBezTo>
                <a:cubicBezTo>
                  <a:pt x="10332" y="11229"/>
                  <a:pt x="10341" y="11234"/>
                  <a:pt x="10345" y="11239"/>
                </a:cubicBezTo>
                <a:cubicBezTo>
                  <a:pt x="10350" y="11245"/>
                  <a:pt x="10353" y="11255"/>
                  <a:pt x="10356" y="11262"/>
                </a:cubicBezTo>
                <a:cubicBezTo>
                  <a:pt x="10360" y="11272"/>
                  <a:pt x="10360" y="11282"/>
                  <a:pt x="10361" y="11292"/>
                </a:cubicBezTo>
                <a:cubicBezTo>
                  <a:pt x="10363" y="11303"/>
                  <a:pt x="10364" y="11315"/>
                  <a:pt x="10365" y="11326"/>
                </a:cubicBezTo>
                <a:cubicBezTo>
                  <a:pt x="10366" y="11339"/>
                  <a:pt x="10366" y="11351"/>
                  <a:pt x="10367" y="11364"/>
                </a:cubicBezTo>
                <a:cubicBezTo>
                  <a:pt x="10369" y="11397"/>
                  <a:pt x="10369" y="11431"/>
                  <a:pt x="10368" y="11464"/>
                </a:cubicBezTo>
                <a:cubicBezTo>
                  <a:pt x="10367" y="11492"/>
                  <a:pt x="10370" y="11520"/>
                  <a:pt x="10365" y="11547"/>
                </a:cubicBezTo>
                <a:cubicBezTo>
                  <a:pt x="10363" y="11557"/>
                  <a:pt x="10362" y="11565"/>
                  <a:pt x="10361" y="11575"/>
                </a:cubicBezTo>
                <a:cubicBezTo>
                  <a:pt x="10360" y="11590"/>
                  <a:pt x="10361" y="11605"/>
                  <a:pt x="10361" y="11620"/>
                </a:cubicBezTo>
              </a:path>
              <a:path w="3739" h="735">
                <a:moveTo>
                  <a:pt x="10537" y="11253"/>
                </a:moveTo>
                <a:cubicBezTo>
                  <a:pt x="10552" y="11240"/>
                  <a:pt x="10559" y="11232"/>
                  <a:pt x="10569" y="11217"/>
                </a:cubicBezTo>
                <a:cubicBezTo>
                  <a:pt x="10572" y="11212"/>
                  <a:pt x="10578" y="11208"/>
                  <a:pt x="10580" y="11203"/>
                </a:cubicBezTo>
                <a:cubicBezTo>
                  <a:pt x="10581" y="11202"/>
                  <a:pt x="10582" y="11201"/>
                  <a:pt x="10583" y="11197"/>
                </a:cubicBezTo>
                <a:cubicBezTo>
                  <a:pt x="10584" y="11191"/>
                  <a:pt x="10583" y="11182"/>
                  <a:pt x="10583" y="11176"/>
                </a:cubicBezTo>
                <a:cubicBezTo>
                  <a:pt x="10583" y="11198"/>
                  <a:pt x="10580" y="11219"/>
                  <a:pt x="10576" y="11240"/>
                </a:cubicBezTo>
                <a:cubicBezTo>
                  <a:pt x="10573" y="11257"/>
                  <a:pt x="10570" y="11275"/>
                  <a:pt x="10564" y="11292"/>
                </a:cubicBezTo>
                <a:cubicBezTo>
                  <a:pt x="10555" y="11317"/>
                  <a:pt x="10551" y="11343"/>
                  <a:pt x="10549" y="11369"/>
                </a:cubicBezTo>
                <a:cubicBezTo>
                  <a:pt x="10547" y="11398"/>
                  <a:pt x="10547" y="11430"/>
                  <a:pt x="10553" y="11457"/>
                </a:cubicBezTo>
                <a:cubicBezTo>
                  <a:pt x="10555" y="11465"/>
                  <a:pt x="10556" y="11480"/>
                  <a:pt x="10564" y="11486"/>
                </a:cubicBezTo>
                <a:cubicBezTo>
                  <a:pt x="10570" y="11491"/>
                  <a:pt x="10578" y="11494"/>
                  <a:pt x="10585" y="11497"/>
                </a:cubicBezTo>
                <a:cubicBezTo>
                  <a:pt x="10594" y="11501"/>
                  <a:pt x="10607" y="11504"/>
                  <a:pt x="10617" y="11506"/>
                </a:cubicBezTo>
                <a:cubicBezTo>
                  <a:pt x="10626" y="11508"/>
                  <a:pt x="10632" y="11510"/>
                  <a:pt x="10641" y="11513"/>
                </a:cubicBezTo>
                <a:cubicBezTo>
                  <a:pt x="10648" y="11515"/>
                  <a:pt x="10656" y="11516"/>
                  <a:pt x="10664" y="11515"/>
                </a:cubicBezTo>
                <a:cubicBezTo>
                  <a:pt x="10677" y="11513"/>
                  <a:pt x="10682" y="11507"/>
                  <a:pt x="10691" y="11500"/>
                </a:cubicBezTo>
                <a:cubicBezTo>
                  <a:pt x="10708" y="11488"/>
                  <a:pt x="10717" y="11476"/>
                  <a:pt x="10727" y="11457"/>
                </a:cubicBezTo>
                <a:cubicBezTo>
                  <a:pt x="10733" y="11446"/>
                  <a:pt x="10738" y="11434"/>
                  <a:pt x="10743" y="11423"/>
                </a:cubicBezTo>
                <a:cubicBezTo>
                  <a:pt x="10749" y="11410"/>
                  <a:pt x="10757" y="11399"/>
                  <a:pt x="10764" y="11386"/>
                </a:cubicBezTo>
                <a:cubicBezTo>
                  <a:pt x="10772" y="11370"/>
                  <a:pt x="10773" y="11352"/>
                  <a:pt x="10781" y="11335"/>
                </a:cubicBezTo>
                <a:cubicBezTo>
                  <a:pt x="10789" y="11318"/>
                  <a:pt x="10793" y="11302"/>
                  <a:pt x="10800" y="11285"/>
                </a:cubicBezTo>
                <a:cubicBezTo>
                  <a:pt x="10807" y="11269"/>
                  <a:pt x="10820" y="11259"/>
                  <a:pt x="10827" y="11244"/>
                </a:cubicBezTo>
                <a:cubicBezTo>
                  <a:pt x="10832" y="11233"/>
                  <a:pt x="10837" y="11223"/>
                  <a:pt x="10842" y="11212"/>
                </a:cubicBezTo>
                <a:cubicBezTo>
                  <a:pt x="10845" y="11205"/>
                  <a:pt x="10851" y="11196"/>
                  <a:pt x="10852" y="11188"/>
                </a:cubicBezTo>
                <a:cubicBezTo>
                  <a:pt x="10854" y="11171"/>
                  <a:pt x="10852" y="11153"/>
                  <a:pt x="10852" y="11136"/>
                </a:cubicBezTo>
                <a:cubicBezTo>
                  <a:pt x="10852" y="11190"/>
                  <a:pt x="10862" y="11254"/>
                  <a:pt x="10845" y="11305"/>
                </a:cubicBezTo>
                <a:cubicBezTo>
                  <a:pt x="10839" y="11324"/>
                  <a:pt x="10832" y="11340"/>
                  <a:pt x="10829" y="11360"/>
                </a:cubicBezTo>
                <a:cubicBezTo>
                  <a:pt x="10827" y="11379"/>
                  <a:pt x="10824" y="11395"/>
                  <a:pt x="10824" y="11414"/>
                </a:cubicBezTo>
                <a:cubicBezTo>
                  <a:pt x="10824" y="11430"/>
                  <a:pt x="10821" y="11449"/>
                  <a:pt x="10827" y="11464"/>
                </a:cubicBezTo>
                <a:cubicBezTo>
                  <a:pt x="10831" y="11474"/>
                  <a:pt x="10841" y="11478"/>
                  <a:pt x="10852" y="11481"/>
                </a:cubicBezTo>
                <a:cubicBezTo>
                  <a:pt x="10862" y="11484"/>
                  <a:pt x="10883" y="11487"/>
                  <a:pt x="10893" y="11484"/>
                </a:cubicBezTo>
                <a:cubicBezTo>
                  <a:pt x="10895" y="11482"/>
                  <a:pt x="10897" y="11481"/>
                  <a:pt x="10899" y="11479"/>
                </a:cubicBezTo>
              </a:path>
              <a:path w="3739" h="735">
                <a:moveTo>
                  <a:pt x="11105" y="11244"/>
                </a:moveTo>
                <a:cubicBezTo>
                  <a:pt x="11109" y="11231"/>
                  <a:pt x="11113" y="11219"/>
                  <a:pt x="11116" y="11206"/>
                </a:cubicBezTo>
                <a:cubicBezTo>
                  <a:pt x="11117" y="11204"/>
                  <a:pt x="11119" y="11200"/>
                  <a:pt x="11119" y="11196"/>
                </a:cubicBezTo>
                <a:cubicBezTo>
                  <a:pt x="11122" y="11168"/>
                  <a:pt x="11119" y="11138"/>
                  <a:pt x="11118" y="11111"/>
                </a:cubicBezTo>
                <a:cubicBezTo>
                  <a:pt x="11113" y="11126"/>
                  <a:pt x="11112" y="11135"/>
                  <a:pt x="11112" y="11151"/>
                </a:cubicBezTo>
                <a:cubicBezTo>
                  <a:pt x="11111" y="11209"/>
                  <a:pt x="11107" y="11263"/>
                  <a:pt x="11100" y="11321"/>
                </a:cubicBezTo>
                <a:cubicBezTo>
                  <a:pt x="11095" y="11360"/>
                  <a:pt x="11090" y="11395"/>
                  <a:pt x="11078" y="11432"/>
                </a:cubicBezTo>
                <a:cubicBezTo>
                  <a:pt x="11074" y="11445"/>
                  <a:pt x="11067" y="11455"/>
                  <a:pt x="11062" y="11468"/>
                </a:cubicBezTo>
                <a:cubicBezTo>
                  <a:pt x="11058" y="11478"/>
                  <a:pt x="11059" y="11481"/>
                  <a:pt x="11058" y="11491"/>
                </a:cubicBezTo>
                <a:cubicBezTo>
                  <a:pt x="11058" y="11493"/>
                  <a:pt x="11058" y="11494"/>
                  <a:pt x="11058" y="11495"/>
                </a:cubicBezTo>
                <a:cubicBezTo>
                  <a:pt x="11058" y="11494"/>
                  <a:pt x="11053" y="11493"/>
                  <a:pt x="11053" y="11486"/>
                </a:cubicBezTo>
                <a:cubicBezTo>
                  <a:pt x="11052" y="11468"/>
                  <a:pt x="11054" y="11450"/>
                  <a:pt x="11058" y="11432"/>
                </a:cubicBezTo>
                <a:cubicBezTo>
                  <a:pt x="11063" y="11407"/>
                  <a:pt x="11071" y="11386"/>
                  <a:pt x="11078" y="11362"/>
                </a:cubicBezTo>
                <a:cubicBezTo>
                  <a:pt x="11085" y="11338"/>
                  <a:pt x="11088" y="11313"/>
                  <a:pt x="11096" y="11289"/>
                </a:cubicBezTo>
                <a:cubicBezTo>
                  <a:pt x="11103" y="11269"/>
                  <a:pt x="11113" y="11250"/>
                  <a:pt x="11123" y="11231"/>
                </a:cubicBezTo>
                <a:cubicBezTo>
                  <a:pt x="11132" y="11214"/>
                  <a:pt x="11139" y="11195"/>
                  <a:pt x="11148" y="11179"/>
                </a:cubicBezTo>
                <a:cubicBezTo>
                  <a:pt x="11156" y="11165"/>
                  <a:pt x="11164" y="11152"/>
                  <a:pt x="11175" y="11140"/>
                </a:cubicBezTo>
                <a:cubicBezTo>
                  <a:pt x="11184" y="11130"/>
                  <a:pt x="11186" y="11119"/>
                  <a:pt x="11193" y="11110"/>
                </a:cubicBezTo>
                <a:cubicBezTo>
                  <a:pt x="11197" y="11105"/>
                  <a:pt x="11208" y="11095"/>
                  <a:pt x="11214" y="11092"/>
                </a:cubicBezTo>
                <a:cubicBezTo>
                  <a:pt x="11219" y="11089"/>
                  <a:pt x="11220" y="11087"/>
                  <a:pt x="11225" y="11086"/>
                </a:cubicBezTo>
                <a:cubicBezTo>
                  <a:pt x="11229" y="11085"/>
                  <a:pt x="11239" y="11083"/>
                  <a:pt x="11243" y="11084"/>
                </a:cubicBezTo>
                <a:cubicBezTo>
                  <a:pt x="11259" y="11087"/>
                  <a:pt x="11254" y="11088"/>
                  <a:pt x="11263" y="11101"/>
                </a:cubicBezTo>
                <a:cubicBezTo>
                  <a:pt x="11271" y="11112"/>
                  <a:pt x="11270" y="11120"/>
                  <a:pt x="11273" y="11133"/>
                </a:cubicBezTo>
                <a:cubicBezTo>
                  <a:pt x="11276" y="11148"/>
                  <a:pt x="11281" y="11163"/>
                  <a:pt x="11282" y="11179"/>
                </a:cubicBezTo>
                <a:cubicBezTo>
                  <a:pt x="11284" y="11205"/>
                  <a:pt x="11283" y="11231"/>
                  <a:pt x="11284" y="11257"/>
                </a:cubicBezTo>
                <a:cubicBezTo>
                  <a:pt x="11284" y="11268"/>
                  <a:pt x="11286" y="11283"/>
                  <a:pt x="11282" y="11294"/>
                </a:cubicBezTo>
                <a:cubicBezTo>
                  <a:pt x="11280" y="11300"/>
                  <a:pt x="11275" y="11303"/>
                  <a:pt x="11273" y="11308"/>
                </a:cubicBezTo>
                <a:cubicBezTo>
                  <a:pt x="11276" y="11299"/>
                  <a:pt x="11280" y="11289"/>
                  <a:pt x="11284" y="11280"/>
                </a:cubicBezTo>
                <a:cubicBezTo>
                  <a:pt x="11291" y="11262"/>
                  <a:pt x="11296" y="11243"/>
                  <a:pt x="11300" y="11224"/>
                </a:cubicBezTo>
                <a:cubicBezTo>
                  <a:pt x="11306" y="11197"/>
                  <a:pt x="11318" y="11170"/>
                  <a:pt x="11331" y="11145"/>
                </a:cubicBezTo>
                <a:cubicBezTo>
                  <a:pt x="11344" y="11121"/>
                  <a:pt x="11352" y="11093"/>
                  <a:pt x="11368" y="11070"/>
                </a:cubicBezTo>
                <a:cubicBezTo>
                  <a:pt x="11378" y="11056"/>
                  <a:pt x="11394" y="11041"/>
                  <a:pt x="11406" y="11029"/>
                </a:cubicBezTo>
                <a:cubicBezTo>
                  <a:pt x="11413" y="11022"/>
                  <a:pt x="11420" y="11019"/>
                  <a:pt x="11429" y="11015"/>
                </a:cubicBezTo>
                <a:cubicBezTo>
                  <a:pt x="11434" y="11013"/>
                  <a:pt x="11439" y="11009"/>
                  <a:pt x="11444" y="11009"/>
                </a:cubicBezTo>
                <a:cubicBezTo>
                  <a:pt x="11455" y="11010"/>
                  <a:pt x="11454" y="11016"/>
                  <a:pt x="11458" y="11024"/>
                </a:cubicBezTo>
                <a:cubicBezTo>
                  <a:pt x="11465" y="11039"/>
                  <a:pt x="11474" y="11063"/>
                  <a:pt x="11478" y="11079"/>
                </a:cubicBezTo>
                <a:cubicBezTo>
                  <a:pt x="11483" y="11097"/>
                  <a:pt x="11486" y="11121"/>
                  <a:pt x="11488" y="11140"/>
                </a:cubicBezTo>
                <a:cubicBezTo>
                  <a:pt x="11490" y="11162"/>
                  <a:pt x="11491" y="11184"/>
                  <a:pt x="11488" y="11206"/>
                </a:cubicBezTo>
                <a:cubicBezTo>
                  <a:pt x="11486" y="11221"/>
                  <a:pt x="11482" y="11238"/>
                  <a:pt x="11478" y="11251"/>
                </a:cubicBezTo>
                <a:cubicBezTo>
                  <a:pt x="11474" y="11264"/>
                  <a:pt x="11469" y="11278"/>
                  <a:pt x="11465" y="11292"/>
                </a:cubicBezTo>
                <a:cubicBezTo>
                  <a:pt x="11463" y="11298"/>
                  <a:pt x="11460" y="11306"/>
                  <a:pt x="11458" y="11312"/>
                </a:cubicBezTo>
                <a:cubicBezTo>
                  <a:pt x="11457" y="11315"/>
                  <a:pt x="11456" y="11320"/>
                  <a:pt x="11453" y="11323"/>
                </a:cubicBezTo>
                <a:cubicBezTo>
                  <a:pt x="11450" y="11326"/>
                  <a:pt x="11446" y="11326"/>
                  <a:pt x="11442" y="11330"/>
                </a:cubicBezTo>
                <a:cubicBezTo>
                  <a:pt x="11442" y="11331"/>
                  <a:pt x="11442" y="11331"/>
                  <a:pt x="11442" y="11332"/>
                </a:cubicBezTo>
              </a:path>
            </a:pathLst>
          </a:custGeom>
          <a:noFill/>
          <a:ln cap="rnd" w="284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827440" y="4208400"/>
            <a:ext cx="1322280" cy="533520"/>
          </a:xfrm>
          <a:custGeom>
            <a:avLst/>
            <a:gdLst/>
            <a:ahLst/>
            <a:rect l="l" t="t" r="r" b="b"/>
            <a:pathLst>
              <a:path w="3675" h="1478">
                <a:moveTo>
                  <a:pt x="11395" y="11692"/>
                </a:moveTo>
                <a:cubicBezTo>
                  <a:pt x="11396" y="11695"/>
                  <a:pt x="11449" y="11733"/>
                  <a:pt x="11447" y="11739"/>
                </a:cubicBezTo>
                <a:cubicBezTo>
                  <a:pt x="11438" y="11758"/>
                  <a:pt x="11448" y="11744"/>
                  <a:pt x="11426" y="11762"/>
                </a:cubicBezTo>
                <a:cubicBezTo>
                  <a:pt x="11409" y="11776"/>
                  <a:pt x="11355" y="11779"/>
                  <a:pt x="11333" y="11783"/>
                </a:cubicBezTo>
                <a:cubicBezTo>
                  <a:pt x="11297" y="11790"/>
                  <a:pt x="11256" y="11788"/>
                  <a:pt x="11220" y="11791"/>
                </a:cubicBezTo>
                <a:cubicBezTo>
                  <a:pt x="11140" y="11797"/>
                  <a:pt x="11060" y="11804"/>
                  <a:pt x="10980" y="11810"/>
                </a:cubicBezTo>
                <a:cubicBezTo>
                  <a:pt x="10551" y="11845"/>
                  <a:pt x="10095" y="11830"/>
                  <a:pt x="9664" y="11825"/>
                </a:cubicBezTo>
                <a:cubicBezTo>
                  <a:pt x="9167" y="11819"/>
                  <a:pt x="8667" y="11816"/>
                  <a:pt x="8171" y="11834"/>
                </a:cubicBezTo>
                <a:cubicBezTo>
                  <a:pt x="8092" y="11837"/>
                  <a:pt x="8003" y="11853"/>
                  <a:pt x="7929" y="11853"/>
                </a:cubicBezTo>
                <a:cubicBezTo>
                  <a:pt x="7900" y="11853"/>
                  <a:pt x="7888" y="11848"/>
                  <a:pt x="7859" y="11841"/>
                </a:cubicBezTo>
                <a:cubicBezTo>
                  <a:pt x="7861" y="11839"/>
                  <a:pt x="7863" y="11837"/>
                  <a:pt x="7865" y="11835"/>
                </a:cubicBezTo>
                <a:cubicBezTo>
                  <a:pt x="7880" y="11832"/>
                  <a:pt x="7897" y="11824"/>
                  <a:pt x="7913" y="11821"/>
                </a:cubicBezTo>
                <a:cubicBezTo>
                  <a:pt x="7948" y="11815"/>
                  <a:pt x="7984" y="11812"/>
                  <a:pt x="8019" y="11808"/>
                </a:cubicBezTo>
                <a:cubicBezTo>
                  <a:pt x="8053" y="11804"/>
                  <a:pt x="8085" y="11802"/>
                  <a:pt x="8119" y="11799"/>
                </a:cubicBezTo>
                <a:cubicBezTo>
                  <a:pt x="8219" y="11790"/>
                  <a:pt x="8319" y="11777"/>
                  <a:pt x="8418" y="11767"/>
                </a:cubicBezTo>
                <a:cubicBezTo>
                  <a:pt x="8495" y="11759"/>
                  <a:pt x="8574" y="11759"/>
                  <a:pt x="8651" y="11760"/>
                </a:cubicBezTo>
                <a:cubicBezTo>
                  <a:pt x="8852" y="11763"/>
                  <a:pt x="9056" y="11783"/>
                  <a:pt x="9257" y="11798"/>
                </a:cubicBezTo>
                <a:cubicBezTo>
                  <a:pt x="9683" y="11830"/>
                  <a:pt x="10117" y="11832"/>
                  <a:pt x="10544" y="11842"/>
                </a:cubicBezTo>
                <a:cubicBezTo>
                  <a:pt x="10646" y="11844"/>
                  <a:pt x="10743" y="11863"/>
                  <a:pt x="10843" y="11877"/>
                </a:cubicBezTo>
                <a:cubicBezTo>
                  <a:pt x="10847" y="11878"/>
                  <a:pt x="10850" y="11876"/>
                  <a:pt x="10854" y="11877"/>
                </a:cubicBezTo>
                <a:cubicBezTo>
                  <a:pt x="10732" y="11877"/>
                  <a:pt x="10612" y="11881"/>
                  <a:pt x="10490" y="11882"/>
                </a:cubicBezTo>
                <a:cubicBezTo>
                  <a:pt x="9781" y="11885"/>
                  <a:pt x="9072" y="11886"/>
                  <a:pt x="8363" y="11902"/>
                </a:cubicBezTo>
                <a:cubicBezTo>
                  <a:pt x="8262" y="11904"/>
                  <a:pt x="8161" y="11906"/>
                  <a:pt x="8060" y="11907"/>
                </a:cubicBezTo>
                <a:cubicBezTo>
                  <a:pt x="8109" y="11903"/>
                  <a:pt x="8159" y="11896"/>
                  <a:pt x="8209" y="11894"/>
                </a:cubicBezTo>
                <a:cubicBezTo>
                  <a:pt x="8771" y="11872"/>
                  <a:pt x="9339" y="11903"/>
                  <a:pt x="9899" y="11946"/>
                </a:cubicBezTo>
                <a:cubicBezTo>
                  <a:pt x="10442" y="11988"/>
                  <a:pt x="10987" y="12027"/>
                  <a:pt x="11528" y="12075"/>
                </a:cubicBezTo>
                <a:cubicBezTo>
                  <a:pt x="11400" y="12068"/>
                  <a:pt x="11271" y="12059"/>
                  <a:pt x="11143" y="12052"/>
                </a:cubicBezTo>
                <a:cubicBezTo>
                  <a:pt x="10333" y="12005"/>
                  <a:pt x="9513" y="12006"/>
                  <a:pt x="8703" y="12059"/>
                </a:cubicBezTo>
                <a:cubicBezTo>
                  <a:pt x="9246" y="12059"/>
                  <a:pt x="9795" y="12038"/>
                  <a:pt x="10336" y="12090"/>
                </a:cubicBezTo>
                <a:cubicBezTo>
                  <a:pt x="10410" y="12097"/>
                  <a:pt x="10509" y="12095"/>
                  <a:pt x="10576" y="12129"/>
                </a:cubicBezTo>
                <a:cubicBezTo>
                  <a:pt x="10585" y="12134"/>
                  <a:pt x="10555" y="12143"/>
                  <a:pt x="10564" y="12147"/>
                </a:cubicBezTo>
                <a:cubicBezTo>
                  <a:pt x="10499" y="12164"/>
                  <a:pt x="10436" y="12181"/>
                  <a:pt x="10368" y="12192"/>
                </a:cubicBezTo>
                <a:cubicBezTo>
                  <a:pt x="10259" y="12210"/>
                  <a:pt x="10150" y="12218"/>
                  <a:pt x="10040" y="12226"/>
                </a:cubicBezTo>
                <a:cubicBezTo>
                  <a:pt x="9652" y="12255"/>
                  <a:pt x="9262" y="12261"/>
                  <a:pt x="8874" y="12298"/>
                </a:cubicBezTo>
                <a:cubicBezTo>
                  <a:pt x="8789" y="12306"/>
                  <a:pt x="8703" y="12316"/>
                  <a:pt x="8619" y="12325"/>
                </a:cubicBezTo>
                <a:cubicBezTo>
                  <a:pt x="8648" y="12324"/>
                  <a:pt x="8679" y="12326"/>
                  <a:pt x="8709" y="12325"/>
                </a:cubicBezTo>
                <a:cubicBezTo>
                  <a:pt x="9292" y="12296"/>
                  <a:pt x="9892" y="12253"/>
                  <a:pt x="10474" y="12323"/>
                </a:cubicBezTo>
                <a:cubicBezTo>
                  <a:pt x="10585" y="12336"/>
                  <a:pt x="10684" y="12362"/>
                  <a:pt x="10784" y="12396"/>
                </a:cubicBezTo>
                <a:cubicBezTo>
                  <a:pt x="10748" y="12409"/>
                  <a:pt x="10703" y="12434"/>
                  <a:pt x="10652" y="12443"/>
                </a:cubicBezTo>
                <a:cubicBezTo>
                  <a:pt x="9998" y="12557"/>
                  <a:pt x="9325" y="12578"/>
                  <a:pt x="8664" y="12629"/>
                </a:cubicBezTo>
                <a:cubicBezTo>
                  <a:pt x="8989" y="12625"/>
                  <a:pt x="9314" y="12620"/>
                  <a:pt x="9639" y="12622"/>
                </a:cubicBezTo>
                <a:cubicBezTo>
                  <a:pt x="9884" y="12623"/>
                  <a:pt x="10300" y="12545"/>
                  <a:pt x="10530" y="12658"/>
                </a:cubicBezTo>
                <a:cubicBezTo>
                  <a:pt x="10530" y="12669"/>
                  <a:pt x="10527" y="12674"/>
                  <a:pt x="10514" y="12676"/>
                </a:cubicBezTo>
                <a:cubicBezTo>
                  <a:pt x="10430" y="12697"/>
                  <a:pt x="10347" y="12718"/>
                  <a:pt x="10261" y="12733"/>
                </a:cubicBezTo>
                <a:cubicBezTo>
                  <a:pt x="9885" y="12799"/>
                  <a:pt x="9509" y="12858"/>
                  <a:pt x="9135" y="12936"/>
                </a:cubicBezTo>
                <a:cubicBezTo>
                  <a:pt x="9067" y="12950"/>
                  <a:pt x="9000" y="12964"/>
                  <a:pt x="8933" y="12980"/>
                </a:cubicBezTo>
                <a:cubicBezTo>
                  <a:pt x="8982" y="12978"/>
                  <a:pt x="9036" y="12974"/>
                  <a:pt x="9087" y="12971"/>
                </a:cubicBezTo>
                <a:cubicBezTo>
                  <a:pt x="9403" y="12953"/>
                  <a:pt x="9726" y="12946"/>
                  <a:pt x="10040" y="12961"/>
                </a:cubicBezTo>
                <a:cubicBezTo>
                  <a:pt x="10014" y="12966"/>
                  <a:pt x="9967" y="12978"/>
                  <a:pt x="9935" y="12982"/>
                </a:cubicBezTo>
                <a:cubicBezTo>
                  <a:pt x="9575" y="13025"/>
                  <a:pt x="9211" y="13073"/>
                  <a:pt x="8849" y="13093"/>
                </a:cubicBezTo>
                <a:cubicBezTo>
                  <a:pt x="8749" y="13098"/>
                  <a:pt x="8649" y="13100"/>
                  <a:pt x="8549" y="13101"/>
                </a:cubicBezTo>
                <a:cubicBezTo>
                  <a:pt x="8603" y="13092"/>
                  <a:pt x="8654" y="13077"/>
                  <a:pt x="8709" y="13072"/>
                </a:cubicBezTo>
                <a:cubicBezTo>
                  <a:pt x="9043" y="13040"/>
                  <a:pt x="9379" y="13023"/>
                  <a:pt x="9714" y="13007"/>
                </a:cubicBezTo>
                <a:cubicBezTo>
                  <a:pt x="9817" y="13002"/>
                  <a:pt x="9919" y="12999"/>
                  <a:pt x="10022" y="12997"/>
                </a:cubicBezTo>
                <a:cubicBezTo>
                  <a:pt x="9604" y="13040"/>
                  <a:pt x="9185" y="13072"/>
                  <a:pt x="8766" y="13108"/>
                </a:cubicBezTo>
                <a:cubicBezTo>
                  <a:pt x="8704" y="13113"/>
                  <a:pt x="8642" y="13119"/>
                  <a:pt x="8580" y="13124"/>
                </a:cubicBezTo>
                <a:cubicBezTo>
                  <a:pt x="8597" y="13123"/>
                  <a:pt x="8575" y="13127"/>
                  <a:pt x="8592" y="13126"/>
                </a:cubicBezTo>
                <a:cubicBezTo>
                  <a:pt x="8688" y="13120"/>
                  <a:pt x="8785" y="13112"/>
                  <a:pt x="8881" y="13106"/>
                </a:cubicBezTo>
                <a:cubicBezTo>
                  <a:pt x="9152" y="13090"/>
                  <a:pt x="9958" y="12995"/>
                  <a:pt x="9695" y="13065"/>
                </a:cubicBezTo>
                <a:cubicBezTo>
                  <a:pt x="9677" y="13070"/>
                  <a:pt x="9668" y="13063"/>
                  <a:pt x="9650" y="13066"/>
                </a:cubicBezTo>
                <a:cubicBezTo>
                  <a:pt x="9417" y="13101"/>
                  <a:pt x="9183" y="13126"/>
                  <a:pt x="8949" y="13151"/>
                </a:cubicBezTo>
                <a:cubicBezTo>
                  <a:pt x="8891" y="13158"/>
                  <a:pt x="8732" y="13178"/>
                  <a:pt x="8789" y="13167"/>
                </a:cubicBezTo>
                <a:cubicBezTo>
                  <a:pt x="8842" y="13157"/>
                  <a:pt x="8897" y="13153"/>
                  <a:pt x="8951" y="13149"/>
                </a:cubicBezTo>
                <a:cubicBezTo>
                  <a:pt x="9175" y="13133"/>
                  <a:pt x="9400" y="13122"/>
                  <a:pt x="9625" y="13108"/>
                </a:cubicBezTo>
                <a:cubicBezTo>
                  <a:pt x="9610" y="13106"/>
                  <a:pt x="9563" y="13094"/>
                  <a:pt x="9540" y="13092"/>
                </a:cubicBezTo>
                <a:cubicBezTo>
                  <a:pt x="9251" y="13065"/>
                  <a:pt x="8956" y="13082"/>
                  <a:pt x="8669" y="13056"/>
                </a:cubicBezTo>
                <a:cubicBezTo>
                  <a:pt x="8697" y="13049"/>
                  <a:pt x="8733" y="13031"/>
                  <a:pt x="8766" y="13025"/>
                </a:cubicBezTo>
                <a:cubicBezTo>
                  <a:pt x="9069" y="12968"/>
                  <a:pt x="9385" y="12964"/>
                  <a:pt x="9691" y="12934"/>
                </a:cubicBezTo>
                <a:cubicBezTo>
                  <a:pt x="9663" y="12932"/>
                  <a:pt x="9630" y="12927"/>
                  <a:pt x="9601" y="12925"/>
                </a:cubicBezTo>
                <a:cubicBezTo>
                  <a:pt x="9221" y="12897"/>
                  <a:pt x="8811" y="12929"/>
                  <a:pt x="8438" y="12844"/>
                </a:cubicBezTo>
                <a:cubicBezTo>
                  <a:pt x="8413" y="12836"/>
                  <a:pt x="8407" y="12835"/>
                  <a:pt x="8393" y="12825"/>
                </a:cubicBezTo>
                <a:cubicBezTo>
                  <a:pt x="8411" y="12818"/>
                  <a:pt x="8447" y="12785"/>
                  <a:pt x="8485" y="12776"/>
                </a:cubicBezTo>
                <a:cubicBezTo>
                  <a:pt x="8967" y="12665"/>
                  <a:pt x="9489" y="12704"/>
                  <a:pt x="9969" y="12613"/>
                </a:cubicBezTo>
                <a:cubicBezTo>
                  <a:pt x="9688" y="12606"/>
                  <a:pt x="9404" y="12605"/>
                  <a:pt x="9123" y="12617"/>
                </a:cubicBezTo>
                <a:cubicBezTo>
                  <a:pt x="8997" y="12622"/>
                  <a:pt x="8871" y="12625"/>
                  <a:pt x="8745" y="12626"/>
                </a:cubicBezTo>
                <a:cubicBezTo>
                  <a:pt x="8776" y="12623"/>
                  <a:pt x="8821" y="12616"/>
                  <a:pt x="8854" y="12613"/>
                </a:cubicBezTo>
                <a:cubicBezTo>
                  <a:pt x="9113" y="12590"/>
                  <a:pt x="9372" y="12573"/>
                  <a:pt x="9632" y="12563"/>
                </a:cubicBezTo>
                <a:cubicBezTo>
                  <a:pt x="9790" y="12557"/>
                  <a:pt x="9952" y="12558"/>
                  <a:pt x="10109" y="12540"/>
                </a:cubicBezTo>
                <a:cubicBezTo>
                  <a:pt x="10127" y="12538"/>
                  <a:pt x="10141" y="12531"/>
                  <a:pt x="10159" y="12529"/>
                </a:cubicBezTo>
                <a:cubicBezTo>
                  <a:pt x="10054" y="12526"/>
                  <a:pt x="9948" y="12521"/>
                  <a:pt x="9843" y="12525"/>
                </a:cubicBezTo>
                <a:cubicBezTo>
                  <a:pt x="9607" y="12533"/>
                  <a:pt x="9370" y="12539"/>
                  <a:pt x="9134" y="12540"/>
                </a:cubicBezTo>
                <a:cubicBezTo>
                  <a:pt x="9023" y="12541"/>
                  <a:pt x="8909" y="12546"/>
                  <a:pt x="8800" y="12527"/>
                </a:cubicBezTo>
                <a:cubicBezTo>
                  <a:pt x="8799" y="12524"/>
                  <a:pt x="8798" y="12521"/>
                  <a:pt x="8797" y="12518"/>
                </a:cubicBezTo>
                <a:cubicBezTo>
                  <a:pt x="8845" y="12500"/>
                  <a:pt x="8891" y="12477"/>
                  <a:pt x="8945" y="12463"/>
                </a:cubicBezTo>
                <a:cubicBezTo>
                  <a:pt x="9307" y="12369"/>
                  <a:pt x="9680" y="12359"/>
                  <a:pt x="10044" y="12285"/>
                </a:cubicBezTo>
                <a:cubicBezTo>
                  <a:pt x="10069" y="12277"/>
                  <a:pt x="10075" y="12274"/>
                  <a:pt x="10091" y="12271"/>
                </a:cubicBezTo>
                <a:cubicBezTo>
                  <a:pt x="10052" y="12270"/>
                  <a:pt x="10004" y="12264"/>
                  <a:pt x="9963" y="12264"/>
                </a:cubicBezTo>
                <a:cubicBezTo>
                  <a:pt x="9516" y="12266"/>
                  <a:pt x="9065" y="12290"/>
                  <a:pt x="8621" y="12344"/>
                </a:cubicBezTo>
                <a:cubicBezTo>
                  <a:pt x="8604" y="12346"/>
                  <a:pt x="8590" y="12351"/>
                  <a:pt x="8573" y="12353"/>
                </a:cubicBezTo>
                <a:cubicBezTo>
                  <a:pt x="8674" y="12346"/>
                  <a:pt x="8775" y="12342"/>
                  <a:pt x="8876" y="12335"/>
                </a:cubicBezTo>
                <a:cubicBezTo>
                  <a:pt x="9097" y="12320"/>
                  <a:pt x="9339" y="12330"/>
                  <a:pt x="9555" y="12282"/>
                </a:cubicBezTo>
                <a:cubicBezTo>
                  <a:pt x="9577" y="12277"/>
                  <a:pt x="9601" y="12263"/>
                  <a:pt x="9621" y="12258"/>
                </a:cubicBezTo>
                <a:cubicBezTo>
                  <a:pt x="9593" y="12253"/>
                  <a:pt x="9563" y="12243"/>
                  <a:pt x="9533" y="12240"/>
                </a:cubicBezTo>
                <a:cubicBezTo>
                  <a:pt x="9391" y="12227"/>
                  <a:pt x="8979" y="12173"/>
                  <a:pt x="8861" y="12274"/>
                </a:cubicBezTo>
                <a:cubicBezTo>
                  <a:pt x="8847" y="12286"/>
                  <a:pt x="8923" y="12263"/>
                  <a:pt x="8913" y="12278"/>
                </a:cubicBezTo>
              </a:path>
              <a:path w="3675" h="1478">
                <a:moveTo>
                  <a:pt x="8847" y="12054"/>
                </a:moveTo>
                <a:cubicBezTo>
                  <a:pt x="8873" y="12067"/>
                  <a:pt x="8894" y="12075"/>
                  <a:pt x="8922" y="12081"/>
                </a:cubicBezTo>
                <a:cubicBezTo>
                  <a:pt x="8930" y="12083"/>
                  <a:pt x="8938" y="12085"/>
                  <a:pt x="8945" y="12086"/>
                </a:cubicBezTo>
                <a:cubicBezTo>
                  <a:pt x="8947" y="12086"/>
                  <a:pt x="8948" y="12086"/>
                  <a:pt x="8949" y="12086"/>
                </a:cubicBezTo>
                <a:cubicBezTo>
                  <a:pt x="8932" y="12088"/>
                  <a:pt x="8916" y="12091"/>
                  <a:pt x="8899" y="12092"/>
                </a:cubicBezTo>
                <a:cubicBezTo>
                  <a:pt x="8862" y="12095"/>
                  <a:pt x="8822" y="12097"/>
                  <a:pt x="8786" y="12104"/>
                </a:cubicBezTo>
                <a:cubicBezTo>
                  <a:pt x="8732" y="12115"/>
                  <a:pt x="8659" y="12126"/>
                  <a:pt x="8610" y="12154"/>
                </a:cubicBezTo>
                <a:cubicBezTo>
                  <a:pt x="8605" y="12157"/>
                  <a:pt x="8599" y="12166"/>
                  <a:pt x="8596" y="12169"/>
                </a:cubicBezTo>
                <a:cubicBezTo>
                  <a:pt x="8622" y="12175"/>
                  <a:pt x="8645" y="12179"/>
                  <a:pt x="8673" y="12179"/>
                </a:cubicBezTo>
                <a:cubicBezTo>
                  <a:pt x="8770" y="12181"/>
                  <a:pt x="8864" y="12175"/>
                  <a:pt x="8960" y="12163"/>
                </a:cubicBezTo>
                <a:cubicBezTo>
                  <a:pt x="9025" y="12155"/>
                  <a:pt x="9091" y="12151"/>
                  <a:pt x="9157" y="12145"/>
                </a:cubicBezTo>
                <a:cubicBezTo>
                  <a:pt x="9185" y="12143"/>
                  <a:pt x="9212" y="12142"/>
                  <a:pt x="9239" y="12138"/>
                </a:cubicBezTo>
                <a:cubicBezTo>
                  <a:pt x="9258" y="12135"/>
                  <a:pt x="9273" y="12132"/>
                  <a:pt x="9241" y="12136"/>
                </a:cubicBezTo>
                <a:cubicBezTo>
                  <a:pt x="9197" y="12142"/>
                  <a:pt x="9153" y="12148"/>
                  <a:pt x="9110" y="12156"/>
                </a:cubicBezTo>
                <a:cubicBezTo>
                  <a:pt x="9051" y="12167"/>
                  <a:pt x="8991" y="12174"/>
                  <a:pt x="8931" y="12181"/>
                </a:cubicBezTo>
                <a:cubicBezTo>
                  <a:pt x="8916" y="12183"/>
                  <a:pt x="8902" y="12185"/>
                  <a:pt x="8888" y="12188"/>
                </a:cubicBezTo>
                <a:cubicBezTo>
                  <a:pt x="8902" y="12190"/>
                  <a:pt x="8925" y="12192"/>
                  <a:pt x="8942" y="12192"/>
                </a:cubicBezTo>
                <a:cubicBezTo>
                  <a:pt x="9015" y="12192"/>
                  <a:pt x="9089" y="12187"/>
                  <a:pt x="9162" y="12187"/>
                </a:cubicBezTo>
                <a:cubicBezTo>
                  <a:pt x="9262" y="12187"/>
                  <a:pt x="9364" y="12183"/>
                  <a:pt x="9463" y="12190"/>
                </a:cubicBezTo>
                <a:cubicBezTo>
                  <a:pt x="9472" y="12192"/>
                  <a:pt x="9473" y="12192"/>
                  <a:pt x="9478" y="12192"/>
                </a:cubicBezTo>
                <a:cubicBezTo>
                  <a:pt x="9452" y="12195"/>
                  <a:pt x="9427" y="12196"/>
                  <a:pt x="9401" y="12196"/>
                </a:cubicBezTo>
                <a:cubicBezTo>
                  <a:pt x="9306" y="12196"/>
                  <a:pt x="9211" y="12197"/>
                  <a:pt x="9116" y="12197"/>
                </a:cubicBezTo>
                <a:cubicBezTo>
                  <a:pt x="9142" y="12192"/>
                  <a:pt x="9167" y="12189"/>
                  <a:pt x="9193" y="12187"/>
                </a:cubicBezTo>
                <a:cubicBezTo>
                  <a:pt x="9253" y="12183"/>
                  <a:pt x="9313" y="12177"/>
                  <a:pt x="9372" y="12169"/>
                </a:cubicBezTo>
                <a:cubicBezTo>
                  <a:pt x="9405" y="12165"/>
                  <a:pt x="9439" y="12161"/>
                  <a:pt x="9472" y="12158"/>
                </a:cubicBezTo>
                <a:cubicBezTo>
                  <a:pt x="9481" y="12158"/>
                  <a:pt x="9482" y="12158"/>
                  <a:pt x="9487" y="12158"/>
                </a:cubicBezTo>
                <a:cubicBezTo>
                  <a:pt x="9445" y="12158"/>
                  <a:pt x="9403" y="12160"/>
                  <a:pt x="9361" y="12163"/>
                </a:cubicBezTo>
                <a:cubicBezTo>
                  <a:pt x="9314" y="12166"/>
                  <a:pt x="9268" y="12172"/>
                  <a:pt x="9221" y="12174"/>
                </a:cubicBezTo>
                <a:cubicBezTo>
                  <a:pt x="9200" y="12175"/>
                  <a:pt x="9147" y="12180"/>
                  <a:pt x="9137" y="12181"/>
                </a:cubicBezTo>
                <a:cubicBezTo>
                  <a:pt x="9171" y="12182"/>
                  <a:pt x="9205" y="12184"/>
                  <a:pt x="9239" y="12183"/>
                </a:cubicBezTo>
                <a:cubicBezTo>
                  <a:pt x="9289" y="12181"/>
                  <a:pt x="9337" y="12172"/>
                  <a:pt x="9386" y="12170"/>
                </a:cubicBezTo>
                <a:cubicBezTo>
                  <a:pt x="9413" y="12169"/>
                  <a:pt x="9441" y="12169"/>
                  <a:pt x="9467" y="12161"/>
                </a:cubicBezTo>
                <a:cubicBezTo>
                  <a:pt x="9472" y="12159"/>
                  <a:pt x="9475" y="12160"/>
                  <a:pt x="9474" y="12156"/>
                </a:cubicBezTo>
                <a:cubicBezTo>
                  <a:pt x="9437" y="12156"/>
                  <a:pt x="9401" y="12158"/>
                  <a:pt x="9365" y="12163"/>
                </a:cubicBezTo>
                <a:cubicBezTo>
                  <a:pt x="9323" y="12169"/>
                  <a:pt x="9281" y="12174"/>
                  <a:pt x="9239" y="12178"/>
                </a:cubicBezTo>
                <a:cubicBezTo>
                  <a:pt x="9215" y="12180"/>
                  <a:pt x="9186" y="12180"/>
                  <a:pt x="9164" y="12188"/>
                </a:cubicBezTo>
                <a:cubicBezTo>
                  <a:pt x="9156" y="12191"/>
                  <a:pt x="9143" y="12196"/>
                  <a:pt x="9153" y="12204"/>
                </a:cubicBezTo>
                <a:cubicBezTo>
                  <a:pt x="9172" y="12218"/>
                  <a:pt x="9205" y="12212"/>
                  <a:pt x="9227" y="12213"/>
                </a:cubicBezTo>
              </a:path>
            </a:pathLst>
          </a:custGeom>
          <a:noFill/>
          <a:ln cap="rnd" w="284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462040" y="1089000"/>
            <a:ext cx="543240" cy="2657520"/>
          </a:xfrm>
          <a:custGeom>
            <a:avLst/>
            <a:gdLst/>
            <a:ahLst/>
            <a:rect l="l" t="t" r="r" b="b"/>
            <a:pathLst>
              <a:path w="1508" h="7383">
                <a:moveTo>
                  <a:pt x="8182" y="10401"/>
                </a:moveTo>
                <a:cubicBezTo>
                  <a:pt x="8196" y="10391"/>
                  <a:pt x="8184" y="10413"/>
                  <a:pt x="8196" y="10406"/>
                </a:cubicBezTo>
                <a:cubicBezTo>
                  <a:pt x="8234" y="10385"/>
                  <a:pt x="8322" y="10363"/>
                  <a:pt x="8338" y="10309"/>
                </a:cubicBezTo>
                <a:cubicBezTo>
                  <a:pt x="8357" y="10247"/>
                  <a:pt x="8320" y="10203"/>
                  <a:pt x="8316" y="10144"/>
                </a:cubicBezTo>
                <a:cubicBezTo>
                  <a:pt x="8311" y="10080"/>
                  <a:pt x="8308" y="9986"/>
                  <a:pt x="8275" y="9935"/>
                </a:cubicBezTo>
                <a:cubicBezTo>
                  <a:pt x="8220" y="9849"/>
                  <a:pt x="8110" y="9785"/>
                  <a:pt x="8044" y="9704"/>
                </a:cubicBezTo>
                <a:cubicBezTo>
                  <a:pt x="8001" y="9652"/>
                  <a:pt x="7956" y="9591"/>
                  <a:pt x="7926" y="9530"/>
                </a:cubicBezTo>
                <a:cubicBezTo>
                  <a:pt x="7820" y="9319"/>
                  <a:pt x="7829" y="9057"/>
                  <a:pt x="7748" y="8833"/>
                </a:cubicBezTo>
                <a:cubicBezTo>
                  <a:pt x="7711" y="8731"/>
                  <a:pt x="7678" y="8638"/>
                  <a:pt x="7659" y="8531"/>
                </a:cubicBezTo>
                <a:cubicBezTo>
                  <a:pt x="7633" y="8388"/>
                  <a:pt x="7623" y="8253"/>
                  <a:pt x="7580" y="8114"/>
                </a:cubicBezTo>
                <a:cubicBezTo>
                  <a:pt x="7516" y="7909"/>
                  <a:pt x="7491" y="7780"/>
                  <a:pt x="7603" y="7583"/>
                </a:cubicBezTo>
                <a:cubicBezTo>
                  <a:pt x="7698" y="7417"/>
                  <a:pt x="7886" y="7288"/>
                  <a:pt x="7886" y="7080"/>
                </a:cubicBezTo>
                <a:cubicBezTo>
                  <a:pt x="7886" y="6945"/>
                  <a:pt x="7799" y="6785"/>
                  <a:pt x="7745" y="6662"/>
                </a:cubicBezTo>
                <a:cubicBezTo>
                  <a:pt x="7695" y="6547"/>
                  <a:pt x="7636" y="6436"/>
                  <a:pt x="7582" y="6322"/>
                </a:cubicBezTo>
                <a:cubicBezTo>
                  <a:pt x="7524" y="6201"/>
                  <a:pt x="7472" y="6089"/>
                  <a:pt x="7451" y="5956"/>
                </a:cubicBezTo>
                <a:cubicBezTo>
                  <a:pt x="7409" y="5697"/>
                  <a:pt x="7534" y="5473"/>
                  <a:pt x="7551" y="5221"/>
                </a:cubicBezTo>
                <a:cubicBezTo>
                  <a:pt x="7559" y="5101"/>
                  <a:pt x="7535" y="5005"/>
                  <a:pt x="7499" y="4891"/>
                </a:cubicBezTo>
                <a:cubicBezTo>
                  <a:pt x="7454" y="4747"/>
                  <a:pt x="7392" y="4610"/>
                  <a:pt x="7306" y="4485"/>
                </a:cubicBezTo>
                <a:cubicBezTo>
                  <a:pt x="7199" y="4330"/>
                  <a:pt x="7098" y="4253"/>
                  <a:pt x="7091" y="4054"/>
                </a:cubicBezTo>
                <a:cubicBezTo>
                  <a:pt x="7088" y="3960"/>
                  <a:pt x="7155" y="3834"/>
                  <a:pt x="7132" y="3743"/>
                </a:cubicBezTo>
                <a:cubicBezTo>
                  <a:pt x="7113" y="3665"/>
                  <a:pt x="7044" y="3628"/>
                  <a:pt x="7007" y="3562"/>
                </a:cubicBezTo>
                <a:cubicBezTo>
                  <a:pt x="6982" y="3518"/>
                  <a:pt x="6947" y="3473"/>
                  <a:pt x="6944" y="3420"/>
                </a:cubicBezTo>
                <a:cubicBezTo>
                  <a:pt x="6941" y="3377"/>
                  <a:pt x="6959" y="3350"/>
                  <a:pt x="6973" y="3318"/>
                </a:cubicBezTo>
                <a:cubicBezTo>
                  <a:pt x="6982" y="3298"/>
                  <a:pt x="6995" y="3303"/>
                  <a:pt x="7005" y="3284"/>
                </a:cubicBezTo>
                <a:cubicBezTo>
                  <a:pt x="7014" y="3267"/>
                  <a:pt x="7040" y="3258"/>
                  <a:pt x="7050" y="3244"/>
                </a:cubicBezTo>
                <a:cubicBezTo>
                  <a:pt x="7047" y="3239"/>
                  <a:pt x="7028" y="3238"/>
                  <a:pt x="7025" y="3232"/>
                </a:cubicBezTo>
                <a:cubicBezTo>
                  <a:pt x="7000" y="3183"/>
                  <a:pt x="7001" y="3161"/>
                  <a:pt x="6967" y="3114"/>
                </a:cubicBezTo>
                <a:cubicBezTo>
                  <a:pt x="6954" y="3096"/>
                  <a:pt x="6933" y="3083"/>
                  <a:pt x="6921" y="3067"/>
                </a:cubicBezTo>
                <a:cubicBezTo>
                  <a:pt x="6911" y="3054"/>
                  <a:pt x="6898" y="3034"/>
                  <a:pt x="6890" y="3024"/>
                </a:cubicBezTo>
                <a:cubicBezTo>
                  <a:pt x="6890" y="3031"/>
                  <a:pt x="6890" y="3038"/>
                  <a:pt x="6890" y="3045"/>
                </a:cubicBezTo>
                <a:cubicBezTo>
                  <a:pt x="6889" y="3045"/>
                  <a:pt x="6867" y="3038"/>
                  <a:pt x="6854" y="3045"/>
                </a:cubicBezTo>
                <a:cubicBezTo>
                  <a:pt x="6846" y="3053"/>
                  <a:pt x="6844" y="3055"/>
                  <a:pt x="6840" y="3060"/>
                </a:cubicBezTo>
              </a:path>
            </a:pathLst>
          </a:custGeom>
          <a:noFill/>
          <a:ln cap="rnd" w="284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635120" y="277920"/>
            <a:ext cx="1722600" cy="879480"/>
          </a:xfrm>
          <a:custGeom>
            <a:avLst/>
            <a:gdLst/>
            <a:ahLst/>
            <a:rect l="l" t="t" r="r" b="b"/>
            <a:pathLst>
              <a:path w="4782" h="2444">
                <a:moveTo>
                  <a:pt x="4820" y="1011"/>
                </a:moveTo>
                <a:cubicBezTo>
                  <a:pt x="4812" y="975"/>
                  <a:pt x="4799" y="959"/>
                  <a:pt x="4798" y="920"/>
                </a:cubicBezTo>
                <a:cubicBezTo>
                  <a:pt x="4798" y="914"/>
                  <a:pt x="4807" y="906"/>
                  <a:pt x="4807" y="899"/>
                </a:cubicBezTo>
                <a:cubicBezTo>
                  <a:pt x="4808" y="909"/>
                  <a:pt x="4819" y="869"/>
                  <a:pt x="4818" y="879"/>
                </a:cubicBezTo>
                <a:cubicBezTo>
                  <a:pt x="4814" y="936"/>
                  <a:pt x="4801" y="997"/>
                  <a:pt x="4811" y="1054"/>
                </a:cubicBezTo>
                <a:cubicBezTo>
                  <a:pt x="4827" y="1144"/>
                  <a:pt x="4871" y="1210"/>
                  <a:pt x="4936" y="1273"/>
                </a:cubicBezTo>
                <a:cubicBezTo>
                  <a:pt x="4997" y="1332"/>
                  <a:pt x="5074" y="1369"/>
                  <a:pt x="5155" y="1393"/>
                </a:cubicBezTo>
                <a:cubicBezTo>
                  <a:pt x="5266" y="1426"/>
                  <a:pt x="5428" y="1449"/>
                  <a:pt x="5542" y="1420"/>
                </a:cubicBezTo>
                <a:cubicBezTo>
                  <a:pt x="5738" y="1371"/>
                  <a:pt x="5832" y="1129"/>
                  <a:pt x="5865" y="951"/>
                </a:cubicBezTo>
                <a:cubicBezTo>
                  <a:pt x="5876" y="891"/>
                  <a:pt x="5875" y="831"/>
                  <a:pt x="5879" y="771"/>
                </a:cubicBezTo>
                <a:cubicBezTo>
                  <a:pt x="5880" y="783"/>
                  <a:pt x="5879" y="799"/>
                  <a:pt x="5881" y="813"/>
                </a:cubicBezTo>
                <a:cubicBezTo>
                  <a:pt x="5926" y="1090"/>
                  <a:pt x="6005" y="1365"/>
                  <a:pt x="6141" y="1612"/>
                </a:cubicBezTo>
                <a:cubicBezTo>
                  <a:pt x="6256" y="1820"/>
                  <a:pt x="6385" y="2022"/>
                  <a:pt x="6494" y="2234"/>
                </a:cubicBezTo>
                <a:cubicBezTo>
                  <a:pt x="6543" y="2329"/>
                  <a:pt x="6588" y="2427"/>
                  <a:pt x="6619" y="2529"/>
                </a:cubicBezTo>
                <a:cubicBezTo>
                  <a:pt x="6677" y="2721"/>
                  <a:pt x="6669" y="2873"/>
                  <a:pt x="6524" y="3020"/>
                </a:cubicBezTo>
                <a:cubicBezTo>
                  <a:pt x="6407" y="3139"/>
                  <a:pt x="6161" y="3179"/>
                  <a:pt x="6004" y="3201"/>
                </a:cubicBezTo>
                <a:cubicBezTo>
                  <a:pt x="5661" y="3248"/>
                  <a:pt x="5304" y="3166"/>
                  <a:pt x="4992" y="3026"/>
                </a:cubicBezTo>
                <a:cubicBezTo>
                  <a:pt x="4775" y="2929"/>
                  <a:pt x="4514" y="2731"/>
                  <a:pt x="4551" y="2461"/>
                </a:cubicBezTo>
                <a:cubicBezTo>
                  <a:pt x="4582" y="2233"/>
                  <a:pt x="4831" y="2069"/>
                  <a:pt x="5013" y="1968"/>
                </a:cubicBezTo>
                <a:cubicBezTo>
                  <a:pt x="5245" y="1840"/>
                  <a:pt x="5503" y="1754"/>
                  <a:pt x="5761" y="1698"/>
                </a:cubicBezTo>
                <a:cubicBezTo>
                  <a:pt x="6088" y="1627"/>
                  <a:pt x="6437" y="1610"/>
                  <a:pt x="6770" y="1640"/>
                </a:cubicBezTo>
                <a:cubicBezTo>
                  <a:pt x="6849" y="1647"/>
                  <a:pt x="6927" y="1653"/>
                  <a:pt x="7006" y="1655"/>
                </a:cubicBezTo>
              </a:path>
              <a:path w="4782" h="2444">
                <a:moveTo>
                  <a:pt x="7526" y="1597"/>
                </a:moveTo>
                <a:cubicBezTo>
                  <a:pt x="7607" y="1546"/>
                  <a:pt x="7719" y="1514"/>
                  <a:pt x="7786" y="1445"/>
                </a:cubicBezTo>
                <a:cubicBezTo>
                  <a:pt x="7812" y="1418"/>
                  <a:pt x="7821" y="1396"/>
                  <a:pt x="7832" y="1364"/>
                </a:cubicBezTo>
                <a:cubicBezTo>
                  <a:pt x="7805" y="1350"/>
                  <a:pt x="7792" y="1340"/>
                  <a:pt x="7757" y="1338"/>
                </a:cubicBezTo>
                <a:cubicBezTo>
                  <a:pt x="7707" y="1335"/>
                  <a:pt x="7658" y="1354"/>
                  <a:pt x="7612" y="1372"/>
                </a:cubicBezTo>
                <a:cubicBezTo>
                  <a:pt x="7532" y="1405"/>
                  <a:pt x="7455" y="1452"/>
                  <a:pt x="7388" y="1508"/>
                </a:cubicBezTo>
                <a:cubicBezTo>
                  <a:pt x="7337" y="1551"/>
                  <a:pt x="7293" y="1610"/>
                  <a:pt x="7268" y="1671"/>
                </a:cubicBezTo>
                <a:cubicBezTo>
                  <a:pt x="7246" y="1724"/>
                  <a:pt x="7234" y="1787"/>
                  <a:pt x="7257" y="1841"/>
                </a:cubicBezTo>
                <a:cubicBezTo>
                  <a:pt x="7286" y="1908"/>
                  <a:pt x="7354" y="1945"/>
                  <a:pt x="7417" y="1974"/>
                </a:cubicBezTo>
                <a:cubicBezTo>
                  <a:pt x="7507" y="2015"/>
                  <a:pt x="7600" y="2030"/>
                  <a:pt x="7698" y="2040"/>
                </a:cubicBezTo>
                <a:cubicBezTo>
                  <a:pt x="7816" y="2052"/>
                  <a:pt x="7936" y="2055"/>
                  <a:pt x="8048" y="2011"/>
                </a:cubicBezTo>
                <a:cubicBezTo>
                  <a:pt x="8109" y="1987"/>
                  <a:pt x="8153" y="1945"/>
                  <a:pt x="8166" y="1879"/>
                </a:cubicBezTo>
                <a:cubicBezTo>
                  <a:pt x="8180" y="1806"/>
                  <a:pt x="8156" y="1743"/>
                  <a:pt x="8119" y="1682"/>
                </a:cubicBezTo>
                <a:cubicBezTo>
                  <a:pt x="8081" y="1619"/>
                  <a:pt x="8034" y="1555"/>
                  <a:pt x="7983" y="1501"/>
                </a:cubicBezTo>
                <a:cubicBezTo>
                  <a:pt x="7945" y="1461"/>
                  <a:pt x="7896" y="1424"/>
                  <a:pt x="7849" y="1395"/>
                </a:cubicBezTo>
                <a:cubicBezTo>
                  <a:pt x="7823" y="1381"/>
                  <a:pt x="7815" y="1377"/>
                  <a:pt x="7797" y="1370"/>
                </a:cubicBezTo>
              </a:path>
              <a:path w="4782" h="2444">
                <a:moveTo>
                  <a:pt x="8040" y="1339"/>
                </a:moveTo>
                <a:cubicBezTo>
                  <a:pt x="8067" y="1324"/>
                  <a:pt x="8093" y="1308"/>
                  <a:pt x="8121" y="1295"/>
                </a:cubicBezTo>
                <a:cubicBezTo>
                  <a:pt x="8139" y="1286"/>
                  <a:pt x="8150" y="1283"/>
                  <a:pt x="8169" y="1278"/>
                </a:cubicBezTo>
                <a:cubicBezTo>
                  <a:pt x="8172" y="1278"/>
                  <a:pt x="8174" y="1278"/>
                  <a:pt x="8177" y="1278"/>
                </a:cubicBezTo>
                <a:cubicBezTo>
                  <a:pt x="8181" y="1295"/>
                  <a:pt x="8188" y="1311"/>
                  <a:pt x="8189" y="1332"/>
                </a:cubicBezTo>
                <a:cubicBezTo>
                  <a:pt x="8191" y="1370"/>
                  <a:pt x="8187" y="1407"/>
                  <a:pt x="8187" y="1445"/>
                </a:cubicBezTo>
                <a:cubicBezTo>
                  <a:pt x="8187" y="1496"/>
                  <a:pt x="8195" y="1550"/>
                  <a:pt x="8218" y="1596"/>
                </a:cubicBezTo>
                <a:cubicBezTo>
                  <a:pt x="8245" y="1650"/>
                  <a:pt x="8292" y="1704"/>
                  <a:pt x="8332" y="1748"/>
                </a:cubicBezTo>
                <a:cubicBezTo>
                  <a:pt x="8404" y="1827"/>
                  <a:pt x="8495" y="1875"/>
                  <a:pt x="8596" y="1906"/>
                </a:cubicBezTo>
                <a:cubicBezTo>
                  <a:pt x="8676" y="1931"/>
                  <a:pt x="8761" y="1925"/>
                  <a:pt x="8818" y="1856"/>
                </a:cubicBezTo>
                <a:cubicBezTo>
                  <a:pt x="8875" y="1787"/>
                  <a:pt x="8885" y="1690"/>
                  <a:pt x="8888" y="1605"/>
                </a:cubicBezTo>
                <a:cubicBezTo>
                  <a:pt x="8890" y="1542"/>
                  <a:pt x="8889" y="1478"/>
                  <a:pt x="8879" y="1415"/>
                </a:cubicBezTo>
                <a:cubicBezTo>
                  <a:pt x="8874" y="1380"/>
                  <a:pt x="8864" y="1353"/>
                  <a:pt x="8849" y="1321"/>
                </a:cubicBezTo>
                <a:cubicBezTo>
                  <a:pt x="8847" y="1319"/>
                  <a:pt x="8845" y="1316"/>
                  <a:pt x="8843" y="1314"/>
                </a:cubicBezTo>
                <a:cubicBezTo>
                  <a:pt x="8838" y="1332"/>
                  <a:pt x="8825" y="1355"/>
                  <a:pt x="8825" y="1379"/>
                </a:cubicBezTo>
                <a:cubicBezTo>
                  <a:pt x="8825" y="1446"/>
                  <a:pt x="8849" y="1516"/>
                  <a:pt x="8872" y="1578"/>
                </a:cubicBezTo>
                <a:cubicBezTo>
                  <a:pt x="8899" y="1651"/>
                  <a:pt x="8939" y="1717"/>
                  <a:pt x="8985" y="1780"/>
                </a:cubicBezTo>
                <a:cubicBezTo>
                  <a:pt x="9034" y="1846"/>
                  <a:pt x="9087" y="1907"/>
                  <a:pt x="9143" y="1968"/>
                </a:cubicBezTo>
                <a:cubicBezTo>
                  <a:pt x="9171" y="1998"/>
                  <a:pt x="9203" y="2036"/>
                  <a:pt x="9239" y="2056"/>
                </a:cubicBezTo>
                <a:cubicBezTo>
                  <a:pt x="9270" y="2074"/>
                  <a:pt x="9293" y="2070"/>
                  <a:pt x="9325" y="2074"/>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952800" y="235080"/>
            <a:ext cx="1843200" cy="742680"/>
          </a:xfrm>
          <a:custGeom>
            <a:avLst/>
            <a:gdLst/>
            <a:ahLst/>
            <a:rect l="l" t="t" r="r" b="b"/>
            <a:pathLst>
              <a:path w="5120" h="2063">
                <a:moveTo>
                  <a:pt x="11504" y="1158"/>
                </a:moveTo>
                <a:cubicBezTo>
                  <a:pt x="11504" y="1148"/>
                  <a:pt x="11504" y="1147"/>
                  <a:pt x="11504" y="1137"/>
                </a:cubicBezTo>
                <a:cubicBezTo>
                  <a:pt x="11504" y="1139"/>
                  <a:pt x="11504" y="1140"/>
                  <a:pt x="11504" y="1142"/>
                </a:cubicBezTo>
                <a:cubicBezTo>
                  <a:pt x="11504" y="1351"/>
                  <a:pt x="11523" y="1552"/>
                  <a:pt x="11541" y="1760"/>
                </a:cubicBezTo>
                <a:cubicBezTo>
                  <a:pt x="11556" y="1930"/>
                  <a:pt x="11562" y="2107"/>
                  <a:pt x="11554" y="2278"/>
                </a:cubicBezTo>
                <a:cubicBezTo>
                  <a:pt x="11548" y="2396"/>
                  <a:pt x="11537" y="2515"/>
                  <a:pt x="11522" y="2632"/>
                </a:cubicBezTo>
                <a:cubicBezTo>
                  <a:pt x="11518" y="2660"/>
                  <a:pt x="11518" y="2688"/>
                  <a:pt x="11518" y="2715"/>
                </a:cubicBezTo>
              </a:path>
              <a:path w="5120" h="2063">
                <a:moveTo>
                  <a:pt x="11204" y="947"/>
                </a:moveTo>
                <a:cubicBezTo>
                  <a:pt x="11151" y="891"/>
                  <a:pt x="11098" y="836"/>
                  <a:pt x="11048" y="778"/>
                </a:cubicBezTo>
                <a:cubicBezTo>
                  <a:pt x="11016" y="742"/>
                  <a:pt x="11001" y="707"/>
                  <a:pt x="10980" y="667"/>
                </a:cubicBezTo>
                <a:cubicBezTo>
                  <a:pt x="11001" y="665"/>
                  <a:pt x="11022" y="650"/>
                  <a:pt x="11048" y="653"/>
                </a:cubicBezTo>
                <a:cubicBezTo>
                  <a:pt x="11249" y="676"/>
                  <a:pt x="11466" y="793"/>
                  <a:pt x="11656" y="857"/>
                </a:cubicBezTo>
                <a:cubicBezTo>
                  <a:pt x="12035" y="985"/>
                  <a:pt x="12421" y="1101"/>
                  <a:pt x="12787" y="1264"/>
                </a:cubicBezTo>
                <a:cubicBezTo>
                  <a:pt x="12911" y="1319"/>
                  <a:pt x="13057" y="1384"/>
                  <a:pt x="13160" y="1475"/>
                </a:cubicBezTo>
                <a:cubicBezTo>
                  <a:pt x="13201" y="1511"/>
                  <a:pt x="13230" y="1551"/>
                  <a:pt x="13203" y="1602"/>
                </a:cubicBezTo>
                <a:cubicBezTo>
                  <a:pt x="13157" y="1689"/>
                  <a:pt x="12958" y="1712"/>
                  <a:pt x="12877" y="1728"/>
                </a:cubicBezTo>
                <a:cubicBezTo>
                  <a:pt x="12690" y="1765"/>
                  <a:pt x="12497" y="1777"/>
                  <a:pt x="12307" y="1790"/>
                </a:cubicBezTo>
                <a:cubicBezTo>
                  <a:pt x="12029" y="1810"/>
                  <a:pt x="11751" y="1818"/>
                  <a:pt x="11473" y="1837"/>
                </a:cubicBezTo>
                <a:cubicBezTo>
                  <a:pt x="11400" y="1842"/>
                  <a:pt x="11203" y="1810"/>
                  <a:pt x="11255" y="1862"/>
                </a:cubicBezTo>
                <a:cubicBezTo>
                  <a:pt x="11270" y="1877"/>
                  <a:pt x="11378" y="1864"/>
                  <a:pt x="11393" y="1864"/>
                </a:cubicBezTo>
              </a:path>
              <a:path w="5120" h="2063">
                <a:moveTo>
                  <a:pt x="14105" y="1807"/>
                </a:moveTo>
                <a:cubicBezTo>
                  <a:pt x="14167" y="1780"/>
                  <a:pt x="14250" y="1762"/>
                  <a:pt x="14304" y="1719"/>
                </a:cubicBezTo>
                <a:cubicBezTo>
                  <a:pt x="14323" y="1704"/>
                  <a:pt x="14318" y="1698"/>
                  <a:pt x="14329" y="1681"/>
                </a:cubicBezTo>
                <a:cubicBezTo>
                  <a:pt x="14283" y="1655"/>
                  <a:pt x="14251" y="1640"/>
                  <a:pt x="14195" y="1633"/>
                </a:cubicBezTo>
                <a:cubicBezTo>
                  <a:pt x="14055" y="1615"/>
                  <a:pt x="13912" y="1614"/>
                  <a:pt x="13775" y="1651"/>
                </a:cubicBezTo>
                <a:cubicBezTo>
                  <a:pt x="13660" y="1682"/>
                  <a:pt x="13529" y="1730"/>
                  <a:pt x="13445" y="1817"/>
                </a:cubicBezTo>
                <a:cubicBezTo>
                  <a:pt x="13399" y="1865"/>
                  <a:pt x="13375" y="1921"/>
                  <a:pt x="13410" y="1982"/>
                </a:cubicBezTo>
                <a:cubicBezTo>
                  <a:pt x="13450" y="2051"/>
                  <a:pt x="13545" y="2097"/>
                  <a:pt x="13616" y="2124"/>
                </a:cubicBezTo>
                <a:cubicBezTo>
                  <a:pt x="13712" y="2161"/>
                  <a:pt x="13818" y="2175"/>
                  <a:pt x="13919" y="2186"/>
                </a:cubicBezTo>
                <a:cubicBezTo>
                  <a:pt x="14023" y="2198"/>
                  <a:pt x="14169" y="2199"/>
                  <a:pt x="14249" y="2116"/>
                </a:cubicBezTo>
                <a:cubicBezTo>
                  <a:pt x="14304" y="2058"/>
                  <a:pt x="14284" y="1960"/>
                  <a:pt x="14259" y="1894"/>
                </a:cubicBezTo>
                <a:cubicBezTo>
                  <a:pt x="14231" y="1821"/>
                  <a:pt x="14191" y="1756"/>
                  <a:pt x="14143" y="1694"/>
                </a:cubicBezTo>
                <a:cubicBezTo>
                  <a:pt x="14106" y="1646"/>
                  <a:pt x="14066" y="1602"/>
                  <a:pt x="14023" y="1559"/>
                </a:cubicBezTo>
              </a:path>
              <a:path w="5120" h="2063">
                <a:moveTo>
                  <a:pt x="15007" y="1495"/>
                </a:moveTo>
                <a:cubicBezTo>
                  <a:pt x="15045" y="1486"/>
                  <a:pt x="15100" y="1477"/>
                  <a:pt x="15122" y="1438"/>
                </a:cubicBezTo>
                <a:cubicBezTo>
                  <a:pt x="15121" y="1435"/>
                  <a:pt x="15119" y="1433"/>
                  <a:pt x="15118" y="1430"/>
                </a:cubicBezTo>
                <a:cubicBezTo>
                  <a:pt x="15087" y="1416"/>
                  <a:pt x="15060" y="1403"/>
                  <a:pt x="15023" y="1400"/>
                </a:cubicBezTo>
                <a:cubicBezTo>
                  <a:pt x="14965" y="1396"/>
                  <a:pt x="14905" y="1405"/>
                  <a:pt x="14849" y="1421"/>
                </a:cubicBezTo>
                <a:cubicBezTo>
                  <a:pt x="14799" y="1436"/>
                  <a:pt x="14734" y="1461"/>
                  <a:pt x="14695" y="1498"/>
                </a:cubicBezTo>
                <a:cubicBezTo>
                  <a:pt x="14651" y="1540"/>
                  <a:pt x="14629" y="1597"/>
                  <a:pt x="14643" y="1656"/>
                </a:cubicBezTo>
                <a:cubicBezTo>
                  <a:pt x="14658" y="1718"/>
                  <a:pt x="14710" y="1765"/>
                  <a:pt x="14752" y="1810"/>
                </a:cubicBezTo>
                <a:cubicBezTo>
                  <a:pt x="14807" y="1869"/>
                  <a:pt x="14866" y="1921"/>
                  <a:pt x="14928" y="1973"/>
                </a:cubicBezTo>
                <a:cubicBezTo>
                  <a:pt x="14980" y="2017"/>
                  <a:pt x="15077" y="2066"/>
                  <a:pt x="15102" y="2133"/>
                </a:cubicBezTo>
                <a:cubicBezTo>
                  <a:pt x="15111" y="2149"/>
                  <a:pt x="15114" y="2154"/>
                  <a:pt x="15111" y="2167"/>
                </a:cubicBezTo>
                <a:cubicBezTo>
                  <a:pt x="15076" y="2190"/>
                  <a:pt x="15059" y="2197"/>
                  <a:pt x="15014" y="2204"/>
                </a:cubicBezTo>
                <a:cubicBezTo>
                  <a:pt x="14934" y="2216"/>
                  <a:pt x="14847" y="2215"/>
                  <a:pt x="14767" y="2201"/>
                </a:cubicBezTo>
                <a:cubicBezTo>
                  <a:pt x="14713" y="2192"/>
                  <a:pt x="14649" y="2178"/>
                  <a:pt x="14600" y="2154"/>
                </a:cubicBezTo>
                <a:cubicBezTo>
                  <a:pt x="14574" y="2141"/>
                  <a:pt x="14547" y="2123"/>
                  <a:pt x="14553" y="2091"/>
                </a:cubicBezTo>
                <a:cubicBezTo>
                  <a:pt x="14569" y="2071"/>
                  <a:pt x="14576" y="2064"/>
                  <a:pt x="14591" y="2054"/>
                </a:cubicBezTo>
              </a:path>
              <a:path w="5120" h="2063">
                <a:moveTo>
                  <a:pt x="15457" y="1771"/>
                </a:moveTo>
                <a:cubicBezTo>
                  <a:pt x="15477" y="1760"/>
                  <a:pt x="15522" y="1728"/>
                  <a:pt x="15548" y="1730"/>
                </a:cubicBezTo>
                <a:cubicBezTo>
                  <a:pt x="15568" y="1732"/>
                  <a:pt x="15570" y="1755"/>
                  <a:pt x="15573" y="1771"/>
                </a:cubicBezTo>
                <a:cubicBezTo>
                  <a:pt x="15579" y="1811"/>
                  <a:pt x="15579" y="1855"/>
                  <a:pt x="15579" y="1896"/>
                </a:cubicBezTo>
                <a:cubicBezTo>
                  <a:pt x="15580" y="1983"/>
                  <a:pt x="15582" y="2070"/>
                  <a:pt x="15575" y="2156"/>
                </a:cubicBezTo>
                <a:cubicBezTo>
                  <a:pt x="15574" y="2169"/>
                  <a:pt x="15575" y="2182"/>
                  <a:pt x="15575" y="2195"/>
                </a:cubicBezTo>
                <a:cubicBezTo>
                  <a:pt x="15583" y="2179"/>
                  <a:pt x="15590" y="2161"/>
                  <a:pt x="15597" y="2143"/>
                </a:cubicBezTo>
                <a:cubicBezTo>
                  <a:pt x="15608" y="2116"/>
                  <a:pt x="15612" y="2106"/>
                  <a:pt x="15615" y="2086"/>
                </a:cubicBezTo>
              </a:path>
              <a:path w="5120" h="2063">
                <a:moveTo>
                  <a:pt x="15676" y="1402"/>
                </a:moveTo>
                <a:cubicBezTo>
                  <a:pt x="15677" y="1355"/>
                  <a:pt x="15679" y="1309"/>
                  <a:pt x="15679" y="1262"/>
                </a:cubicBezTo>
                <a:cubicBezTo>
                  <a:pt x="15679" y="1240"/>
                  <a:pt x="15678" y="1218"/>
                  <a:pt x="15677" y="1196"/>
                </a:cubicBezTo>
                <a:cubicBezTo>
                  <a:pt x="15676" y="1181"/>
                  <a:pt x="15676" y="1175"/>
                  <a:pt x="15674" y="1165"/>
                </a:cubicBezTo>
              </a:path>
              <a:path w="5120" h="2063">
                <a:moveTo>
                  <a:pt x="15932" y="866"/>
                </a:moveTo>
                <a:cubicBezTo>
                  <a:pt x="15962" y="902"/>
                  <a:pt x="15984" y="933"/>
                  <a:pt x="16002" y="977"/>
                </a:cubicBezTo>
                <a:cubicBezTo>
                  <a:pt x="16022" y="1028"/>
                  <a:pt x="16033" y="1081"/>
                  <a:pt x="16048" y="1133"/>
                </a:cubicBezTo>
                <a:cubicBezTo>
                  <a:pt x="16069" y="1204"/>
                  <a:pt x="16078" y="1270"/>
                  <a:pt x="16084" y="1344"/>
                </a:cubicBezTo>
                <a:cubicBezTo>
                  <a:pt x="16090" y="1427"/>
                  <a:pt x="16093" y="1510"/>
                  <a:pt x="16095" y="1593"/>
                </a:cubicBezTo>
                <a:cubicBezTo>
                  <a:pt x="16099" y="1746"/>
                  <a:pt x="16101" y="1901"/>
                  <a:pt x="16095" y="2054"/>
                </a:cubicBezTo>
                <a:cubicBezTo>
                  <a:pt x="16094" y="2079"/>
                  <a:pt x="16097" y="2112"/>
                  <a:pt x="16090" y="2136"/>
                </a:cubicBezTo>
                <a:cubicBezTo>
                  <a:pt x="16087" y="2145"/>
                  <a:pt x="16087" y="2134"/>
                  <a:pt x="16083" y="2142"/>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35280" y="1049400"/>
            <a:ext cx="5440320" cy="139680"/>
          </a:xfrm>
          <a:custGeom>
            <a:avLst/>
            <a:gdLst/>
            <a:ahLst/>
            <a:rect l="l" t="t" r="r" b="b"/>
            <a:pathLst>
              <a:path w="15110" h="388">
                <a:moveTo>
                  <a:pt x="7863" y="3264"/>
                </a:moveTo>
                <a:cubicBezTo>
                  <a:pt x="7777" y="3269"/>
                  <a:pt x="7691" y="3273"/>
                  <a:pt x="7605" y="3277"/>
                </a:cubicBezTo>
                <a:cubicBezTo>
                  <a:pt x="7628" y="3278"/>
                  <a:pt x="7632" y="3290"/>
                  <a:pt x="7655" y="3291"/>
                </a:cubicBezTo>
                <a:cubicBezTo>
                  <a:pt x="9333" y="3358"/>
                  <a:pt x="11037" y="3284"/>
                  <a:pt x="12714" y="3225"/>
                </a:cubicBezTo>
                <a:cubicBezTo>
                  <a:pt x="15080" y="3141"/>
                  <a:pt x="17448" y="3246"/>
                  <a:pt x="19813" y="3165"/>
                </a:cubicBezTo>
                <a:cubicBezTo>
                  <a:pt x="20673" y="3135"/>
                  <a:pt x="21671" y="3237"/>
                  <a:pt x="22514" y="3015"/>
                </a:cubicBezTo>
                <a:cubicBezTo>
                  <a:pt x="22583" y="2997"/>
                  <a:pt x="22651" y="2994"/>
                  <a:pt x="22707" y="2968"/>
                </a:cubicBezTo>
                <a:cubicBezTo>
                  <a:pt x="22713" y="2965"/>
                  <a:pt x="22699" y="2916"/>
                  <a:pt x="22702" y="2915"/>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335400" y="438120"/>
            <a:ext cx="330120" cy="276120"/>
          </a:xfrm>
          <a:custGeom>
            <a:avLst/>
            <a:gdLst/>
            <a:ahLst/>
            <a:rect l="l" t="t" r="r" b="b"/>
            <a:pathLst>
              <a:path w="920" h="766">
                <a:moveTo>
                  <a:pt x="9338" y="1431"/>
                </a:moveTo>
                <a:cubicBezTo>
                  <a:pt x="9336" y="1415"/>
                  <a:pt x="9334" y="1400"/>
                  <a:pt x="9333" y="1383"/>
                </a:cubicBezTo>
                <a:cubicBezTo>
                  <a:pt x="9331" y="1347"/>
                  <a:pt x="9348" y="1309"/>
                  <a:pt x="9345" y="1275"/>
                </a:cubicBezTo>
                <a:cubicBezTo>
                  <a:pt x="9341" y="1275"/>
                  <a:pt x="9340" y="1275"/>
                  <a:pt x="9338" y="1275"/>
                </a:cubicBezTo>
                <a:cubicBezTo>
                  <a:pt x="9338" y="1275"/>
                  <a:pt x="9334" y="1285"/>
                  <a:pt x="9333" y="1290"/>
                </a:cubicBezTo>
                <a:cubicBezTo>
                  <a:pt x="9329" y="1320"/>
                  <a:pt x="9329" y="1349"/>
                  <a:pt x="9329" y="1379"/>
                </a:cubicBezTo>
                <a:cubicBezTo>
                  <a:pt x="9329" y="1409"/>
                  <a:pt x="9328" y="1439"/>
                  <a:pt x="9325" y="1469"/>
                </a:cubicBezTo>
                <a:cubicBezTo>
                  <a:pt x="9322" y="1498"/>
                  <a:pt x="9314" y="1526"/>
                  <a:pt x="9311" y="1555"/>
                </a:cubicBezTo>
                <a:cubicBezTo>
                  <a:pt x="9308" y="1589"/>
                  <a:pt x="9312" y="1619"/>
                  <a:pt x="9316" y="1652"/>
                </a:cubicBezTo>
                <a:cubicBezTo>
                  <a:pt x="9320" y="1684"/>
                  <a:pt x="9327" y="1716"/>
                  <a:pt x="9333" y="1748"/>
                </a:cubicBezTo>
                <a:cubicBezTo>
                  <a:pt x="9338" y="1775"/>
                  <a:pt x="9339" y="1798"/>
                  <a:pt x="9333" y="1824"/>
                </a:cubicBezTo>
                <a:cubicBezTo>
                  <a:pt x="9325" y="1858"/>
                  <a:pt x="9305" y="1887"/>
                  <a:pt x="9293" y="1919"/>
                </a:cubicBezTo>
                <a:cubicBezTo>
                  <a:pt x="9287" y="1935"/>
                  <a:pt x="9281" y="1948"/>
                  <a:pt x="9273" y="1963"/>
                </a:cubicBezTo>
                <a:cubicBezTo>
                  <a:pt x="9270" y="1969"/>
                  <a:pt x="9266" y="1977"/>
                  <a:pt x="9263" y="1983"/>
                </a:cubicBezTo>
                <a:cubicBezTo>
                  <a:pt x="9263" y="1936"/>
                  <a:pt x="9271" y="1897"/>
                  <a:pt x="9281" y="1852"/>
                </a:cubicBezTo>
                <a:cubicBezTo>
                  <a:pt x="9298" y="1779"/>
                  <a:pt x="9307" y="1700"/>
                  <a:pt x="9345" y="1634"/>
                </a:cubicBezTo>
                <a:cubicBezTo>
                  <a:pt x="9432" y="1484"/>
                  <a:pt x="9583" y="1409"/>
                  <a:pt x="9738" y="1349"/>
                </a:cubicBezTo>
                <a:cubicBezTo>
                  <a:pt x="9820" y="1318"/>
                  <a:pt x="9902" y="1292"/>
                  <a:pt x="9985" y="1265"/>
                </a:cubicBezTo>
                <a:cubicBezTo>
                  <a:pt x="10031" y="1250"/>
                  <a:pt x="10077" y="1236"/>
                  <a:pt x="10125" y="1227"/>
                </a:cubicBezTo>
                <a:cubicBezTo>
                  <a:pt x="10139" y="1224"/>
                  <a:pt x="10155" y="1220"/>
                  <a:pt x="10169" y="1218"/>
                </a:cubicBezTo>
                <a:cubicBezTo>
                  <a:pt x="10173" y="1217"/>
                  <a:pt x="10176" y="1219"/>
                  <a:pt x="10180" y="1218"/>
                </a:cubicBezTo>
                <a:cubicBezTo>
                  <a:pt x="10179" y="1236"/>
                  <a:pt x="10185" y="1251"/>
                  <a:pt x="10173" y="1266"/>
                </a:cubicBezTo>
                <a:cubicBezTo>
                  <a:pt x="10171" y="1269"/>
                  <a:pt x="10167" y="1265"/>
                  <a:pt x="10164" y="1268"/>
                </a:cubicBezTo>
                <a:cubicBezTo>
                  <a:pt x="10163" y="1268"/>
                  <a:pt x="10161" y="1268"/>
                  <a:pt x="10160" y="1268"/>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746680" y="430200"/>
            <a:ext cx="1219320" cy="438120"/>
          </a:xfrm>
          <a:custGeom>
            <a:avLst/>
            <a:gdLst/>
            <a:ahLst/>
            <a:rect l="l" t="t" r="r" b="b"/>
            <a:pathLst>
              <a:path w="3388" h="1219">
                <a:moveTo>
                  <a:pt x="16064" y="1512"/>
                </a:moveTo>
                <a:cubicBezTo>
                  <a:pt x="16063" y="1515"/>
                  <a:pt x="16063" y="1518"/>
                  <a:pt x="16062" y="1521"/>
                </a:cubicBezTo>
                <a:cubicBezTo>
                  <a:pt x="16062" y="1522"/>
                  <a:pt x="16062" y="1522"/>
                  <a:pt x="16062" y="1523"/>
                </a:cubicBezTo>
                <a:cubicBezTo>
                  <a:pt x="16042" y="1523"/>
                  <a:pt x="16018" y="1519"/>
                  <a:pt x="15999" y="1526"/>
                </a:cubicBezTo>
                <a:cubicBezTo>
                  <a:pt x="15992" y="1529"/>
                  <a:pt x="15986" y="1533"/>
                  <a:pt x="15981" y="1537"/>
                </a:cubicBezTo>
                <a:cubicBezTo>
                  <a:pt x="15976" y="1541"/>
                  <a:pt x="15976" y="1542"/>
                  <a:pt x="15971" y="1544"/>
                </a:cubicBezTo>
                <a:cubicBezTo>
                  <a:pt x="15970" y="1545"/>
                  <a:pt x="15963" y="1543"/>
                  <a:pt x="15965" y="1544"/>
                </a:cubicBezTo>
                <a:cubicBezTo>
                  <a:pt x="15986" y="1551"/>
                  <a:pt x="16020" y="1542"/>
                  <a:pt x="16041" y="1539"/>
                </a:cubicBezTo>
                <a:cubicBezTo>
                  <a:pt x="16062" y="1536"/>
                  <a:pt x="16084" y="1531"/>
                  <a:pt x="16105" y="1528"/>
                </a:cubicBezTo>
                <a:cubicBezTo>
                  <a:pt x="16121" y="1525"/>
                  <a:pt x="16139" y="1521"/>
                  <a:pt x="16155" y="1519"/>
                </a:cubicBezTo>
                <a:cubicBezTo>
                  <a:pt x="16182" y="1516"/>
                  <a:pt x="16209" y="1520"/>
                  <a:pt x="16236" y="1515"/>
                </a:cubicBezTo>
                <a:cubicBezTo>
                  <a:pt x="16252" y="1512"/>
                  <a:pt x="16267" y="1512"/>
                  <a:pt x="16283" y="1512"/>
                </a:cubicBezTo>
                <a:cubicBezTo>
                  <a:pt x="16302" y="1512"/>
                  <a:pt x="16315" y="1510"/>
                  <a:pt x="16333" y="1505"/>
                </a:cubicBezTo>
                <a:cubicBezTo>
                  <a:pt x="16347" y="1501"/>
                  <a:pt x="16361" y="1498"/>
                  <a:pt x="16376" y="1497"/>
                </a:cubicBezTo>
                <a:cubicBezTo>
                  <a:pt x="16388" y="1496"/>
                  <a:pt x="16394" y="1495"/>
                  <a:pt x="16404" y="1489"/>
                </a:cubicBezTo>
                <a:cubicBezTo>
                  <a:pt x="16414" y="1484"/>
                  <a:pt x="16421" y="1484"/>
                  <a:pt x="16431" y="1480"/>
                </a:cubicBezTo>
                <a:cubicBezTo>
                  <a:pt x="16435" y="1478"/>
                  <a:pt x="16436" y="1479"/>
                  <a:pt x="16438" y="1476"/>
                </a:cubicBezTo>
                <a:cubicBezTo>
                  <a:pt x="16439" y="1474"/>
                  <a:pt x="16437" y="1471"/>
                  <a:pt x="16438" y="1469"/>
                </a:cubicBezTo>
                <a:cubicBezTo>
                  <a:pt x="16434" y="1472"/>
                  <a:pt x="16432" y="1473"/>
                  <a:pt x="16428" y="1476"/>
                </a:cubicBezTo>
                <a:cubicBezTo>
                  <a:pt x="16425" y="1479"/>
                  <a:pt x="16424" y="1480"/>
                  <a:pt x="16422" y="1481"/>
                </a:cubicBezTo>
              </a:path>
              <a:path w="3388" h="1219">
                <a:moveTo>
                  <a:pt x="16759" y="1713"/>
                </a:moveTo>
                <a:cubicBezTo>
                  <a:pt x="16757" y="1719"/>
                  <a:pt x="16756" y="1734"/>
                  <a:pt x="16752" y="1738"/>
                </a:cubicBezTo>
                <a:cubicBezTo>
                  <a:pt x="16749" y="1741"/>
                  <a:pt x="16747" y="1745"/>
                  <a:pt x="16743" y="1745"/>
                </a:cubicBezTo>
                <a:cubicBezTo>
                  <a:pt x="16737" y="1745"/>
                  <a:pt x="16741" y="1745"/>
                  <a:pt x="16736" y="1741"/>
                </a:cubicBezTo>
                <a:cubicBezTo>
                  <a:pt x="16730" y="1736"/>
                  <a:pt x="16729" y="1731"/>
                  <a:pt x="16729" y="1720"/>
                </a:cubicBezTo>
                <a:cubicBezTo>
                  <a:pt x="16729" y="1709"/>
                  <a:pt x="16728" y="1698"/>
                  <a:pt x="16727" y="1687"/>
                </a:cubicBezTo>
                <a:cubicBezTo>
                  <a:pt x="16726" y="1675"/>
                  <a:pt x="16727" y="1662"/>
                  <a:pt x="16727" y="1650"/>
                </a:cubicBezTo>
                <a:cubicBezTo>
                  <a:pt x="16727" y="1671"/>
                  <a:pt x="16729" y="1691"/>
                  <a:pt x="16729" y="1711"/>
                </a:cubicBezTo>
                <a:cubicBezTo>
                  <a:pt x="16729" y="1729"/>
                  <a:pt x="16728" y="1745"/>
                  <a:pt x="16725" y="1763"/>
                </a:cubicBezTo>
                <a:cubicBezTo>
                  <a:pt x="16722" y="1779"/>
                  <a:pt x="16719" y="1797"/>
                  <a:pt x="16718" y="1813"/>
                </a:cubicBezTo>
                <a:cubicBezTo>
                  <a:pt x="16717" y="1831"/>
                  <a:pt x="16716" y="1849"/>
                  <a:pt x="16716" y="1867"/>
                </a:cubicBezTo>
                <a:cubicBezTo>
                  <a:pt x="16716" y="1891"/>
                  <a:pt x="16717" y="1914"/>
                  <a:pt x="16718" y="1937"/>
                </a:cubicBezTo>
                <a:cubicBezTo>
                  <a:pt x="16719" y="1963"/>
                  <a:pt x="16719" y="1988"/>
                  <a:pt x="16720" y="2014"/>
                </a:cubicBezTo>
                <a:cubicBezTo>
                  <a:pt x="16721" y="2033"/>
                  <a:pt x="16717" y="2054"/>
                  <a:pt x="16722" y="2073"/>
                </a:cubicBezTo>
                <a:cubicBezTo>
                  <a:pt x="16725" y="2083"/>
                  <a:pt x="16728" y="2092"/>
                  <a:pt x="16734" y="2101"/>
                </a:cubicBezTo>
                <a:cubicBezTo>
                  <a:pt x="16738" y="2107"/>
                  <a:pt x="16742" y="2112"/>
                  <a:pt x="16745" y="2119"/>
                </a:cubicBezTo>
                <a:cubicBezTo>
                  <a:pt x="16747" y="2125"/>
                  <a:pt x="16746" y="2132"/>
                  <a:pt x="16749" y="2137"/>
                </a:cubicBezTo>
                <a:cubicBezTo>
                  <a:pt x="16754" y="2145"/>
                  <a:pt x="16762" y="2145"/>
                  <a:pt x="16768" y="2146"/>
                </a:cubicBezTo>
              </a:path>
              <a:path w="3388" h="1219">
                <a:moveTo>
                  <a:pt x="16786" y="1195"/>
                </a:moveTo>
                <a:cubicBezTo>
                  <a:pt x="16779" y="1208"/>
                  <a:pt x="16773" y="1225"/>
                  <a:pt x="16763" y="1236"/>
                </a:cubicBezTo>
                <a:cubicBezTo>
                  <a:pt x="16759" y="1240"/>
                  <a:pt x="16758" y="1241"/>
                  <a:pt x="16756" y="1245"/>
                </a:cubicBezTo>
                <a:cubicBezTo>
                  <a:pt x="16753" y="1250"/>
                  <a:pt x="16748" y="1255"/>
                  <a:pt x="16743" y="1256"/>
                </a:cubicBezTo>
                <a:cubicBezTo>
                  <a:pt x="16740" y="1257"/>
                  <a:pt x="16734" y="1258"/>
                  <a:pt x="16731" y="1259"/>
                </a:cubicBezTo>
                <a:cubicBezTo>
                  <a:pt x="16724" y="1260"/>
                  <a:pt x="16725" y="1261"/>
                  <a:pt x="16720" y="1265"/>
                </a:cubicBezTo>
                <a:cubicBezTo>
                  <a:pt x="16717" y="1268"/>
                  <a:pt x="16716" y="1270"/>
                  <a:pt x="16714" y="1272"/>
                </a:cubicBezTo>
                <a:cubicBezTo>
                  <a:pt x="16710" y="1276"/>
                  <a:pt x="16707" y="1274"/>
                  <a:pt x="16706" y="1281"/>
                </a:cubicBezTo>
                <a:cubicBezTo>
                  <a:pt x="16706" y="1282"/>
                  <a:pt x="16706" y="1283"/>
                  <a:pt x="16706" y="1284"/>
                </a:cubicBezTo>
                <a:cubicBezTo>
                  <a:pt x="16700" y="1286"/>
                  <a:pt x="16703" y="1284"/>
                  <a:pt x="16702" y="1290"/>
                </a:cubicBezTo>
                <a:cubicBezTo>
                  <a:pt x="16702" y="1291"/>
                  <a:pt x="16702" y="1292"/>
                  <a:pt x="16702" y="1293"/>
                </a:cubicBezTo>
              </a:path>
              <a:path w="3388" h="1219">
                <a:moveTo>
                  <a:pt x="17517" y="1723"/>
                </a:moveTo>
                <a:cubicBezTo>
                  <a:pt x="17536" y="1700"/>
                  <a:pt x="17551" y="1681"/>
                  <a:pt x="17560" y="1652"/>
                </a:cubicBezTo>
                <a:cubicBezTo>
                  <a:pt x="17564" y="1638"/>
                  <a:pt x="17571" y="1616"/>
                  <a:pt x="17564" y="1603"/>
                </a:cubicBezTo>
                <a:cubicBezTo>
                  <a:pt x="17559" y="1593"/>
                  <a:pt x="17550" y="1587"/>
                  <a:pt x="17539" y="1582"/>
                </a:cubicBezTo>
                <a:cubicBezTo>
                  <a:pt x="17500" y="1564"/>
                  <a:pt x="17441" y="1572"/>
                  <a:pt x="17401" y="1580"/>
                </a:cubicBezTo>
                <a:cubicBezTo>
                  <a:pt x="17380" y="1584"/>
                  <a:pt x="17364" y="1590"/>
                  <a:pt x="17345" y="1601"/>
                </a:cubicBezTo>
                <a:cubicBezTo>
                  <a:pt x="17323" y="1614"/>
                  <a:pt x="17302" y="1630"/>
                  <a:pt x="17281" y="1644"/>
                </a:cubicBezTo>
                <a:cubicBezTo>
                  <a:pt x="17248" y="1666"/>
                  <a:pt x="17220" y="1688"/>
                  <a:pt x="17193" y="1716"/>
                </a:cubicBezTo>
                <a:cubicBezTo>
                  <a:pt x="17175" y="1735"/>
                  <a:pt x="17155" y="1756"/>
                  <a:pt x="17141" y="1779"/>
                </a:cubicBezTo>
                <a:cubicBezTo>
                  <a:pt x="17130" y="1798"/>
                  <a:pt x="17126" y="1819"/>
                  <a:pt x="17121" y="1840"/>
                </a:cubicBezTo>
                <a:cubicBezTo>
                  <a:pt x="17115" y="1866"/>
                  <a:pt x="17109" y="1893"/>
                  <a:pt x="17111" y="1919"/>
                </a:cubicBezTo>
                <a:cubicBezTo>
                  <a:pt x="17114" y="1947"/>
                  <a:pt x="17124" y="1976"/>
                  <a:pt x="17139" y="1999"/>
                </a:cubicBezTo>
                <a:cubicBezTo>
                  <a:pt x="17155" y="2023"/>
                  <a:pt x="17180" y="2044"/>
                  <a:pt x="17202" y="2062"/>
                </a:cubicBezTo>
                <a:cubicBezTo>
                  <a:pt x="17238" y="2092"/>
                  <a:pt x="17270" y="2123"/>
                  <a:pt x="17308" y="2150"/>
                </a:cubicBezTo>
                <a:cubicBezTo>
                  <a:pt x="17335" y="2169"/>
                  <a:pt x="17364" y="2179"/>
                  <a:pt x="17395" y="2189"/>
                </a:cubicBezTo>
                <a:cubicBezTo>
                  <a:pt x="17429" y="2200"/>
                  <a:pt x="17458" y="2206"/>
                  <a:pt x="17494" y="2209"/>
                </a:cubicBezTo>
                <a:cubicBezTo>
                  <a:pt x="17566" y="2215"/>
                  <a:pt x="17639" y="2203"/>
                  <a:pt x="17707" y="2177"/>
                </a:cubicBezTo>
                <a:cubicBezTo>
                  <a:pt x="17756" y="2158"/>
                  <a:pt x="17800" y="2127"/>
                  <a:pt x="17840" y="2094"/>
                </a:cubicBezTo>
                <a:cubicBezTo>
                  <a:pt x="17877" y="2064"/>
                  <a:pt x="17905" y="2025"/>
                  <a:pt x="17933" y="1987"/>
                </a:cubicBezTo>
                <a:cubicBezTo>
                  <a:pt x="17955" y="1957"/>
                  <a:pt x="17968" y="1931"/>
                  <a:pt x="17971" y="1894"/>
                </a:cubicBezTo>
                <a:cubicBezTo>
                  <a:pt x="17973" y="1869"/>
                  <a:pt x="17967" y="1855"/>
                  <a:pt x="17956" y="1833"/>
                </a:cubicBezTo>
                <a:cubicBezTo>
                  <a:pt x="17943" y="1806"/>
                  <a:pt x="17927" y="1796"/>
                  <a:pt x="17903" y="1779"/>
                </a:cubicBezTo>
                <a:cubicBezTo>
                  <a:pt x="17875" y="1760"/>
                  <a:pt x="17840" y="1745"/>
                  <a:pt x="17809" y="1732"/>
                </a:cubicBezTo>
                <a:cubicBezTo>
                  <a:pt x="17778" y="1719"/>
                  <a:pt x="17748" y="1709"/>
                  <a:pt x="17716" y="1700"/>
                </a:cubicBezTo>
                <a:cubicBezTo>
                  <a:pt x="17688" y="1692"/>
                  <a:pt x="17663" y="1686"/>
                  <a:pt x="17634" y="1682"/>
                </a:cubicBezTo>
                <a:cubicBezTo>
                  <a:pt x="17594" y="1677"/>
                  <a:pt x="17554" y="1677"/>
                  <a:pt x="17514" y="1677"/>
                </a:cubicBezTo>
              </a:path>
              <a:path w="3388" h="1219">
                <a:moveTo>
                  <a:pt x="18447" y="1727"/>
                </a:moveTo>
                <a:cubicBezTo>
                  <a:pt x="18447" y="1717"/>
                  <a:pt x="18448" y="1706"/>
                  <a:pt x="18446" y="1696"/>
                </a:cubicBezTo>
                <a:cubicBezTo>
                  <a:pt x="18445" y="1690"/>
                  <a:pt x="18441" y="1681"/>
                  <a:pt x="18440" y="1675"/>
                </a:cubicBezTo>
                <a:cubicBezTo>
                  <a:pt x="18438" y="1667"/>
                  <a:pt x="18438" y="1660"/>
                  <a:pt x="18437" y="1653"/>
                </a:cubicBezTo>
                <a:cubicBezTo>
                  <a:pt x="18435" y="1643"/>
                  <a:pt x="18433" y="1636"/>
                  <a:pt x="18433" y="1625"/>
                </a:cubicBezTo>
                <a:cubicBezTo>
                  <a:pt x="18433" y="1609"/>
                  <a:pt x="18432" y="1594"/>
                  <a:pt x="18431" y="1578"/>
                </a:cubicBezTo>
                <a:cubicBezTo>
                  <a:pt x="18431" y="1569"/>
                  <a:pt x="18431" y="1545"/>
                  <a:pt x="18431" y="1542"/>
                </a:cubicBezTo>
                <a:cubicBezTo>
                  <a:pt x="18429" y="1555"/>
                  <a:pt x="18427" y="1564"/>
                  <a:pt x="18424" y="1576"/>
                </a:cubicBezTo>
                <a:cubicBezTo>
                  <a:pt x="18417" y="1609"/>
                  <a:pt x="18420" y="1645"/>
                  <a:pt x="18417" y="1678"/>
                </a:cubicBezTo>
                <a:cubicBezTo>
                  <a:pt x="18414" y="1708"/>
                  <a:pt x="18407" y="1735"/>
                  <a:pt x="18401" y="1764"/>
                </a:cubicBezTo>
                <a:cubicBezTo>
                  <a:pt x="18395" y="1798"/>
                  <a:pt x="18394" y="1833"/>
                  <a:pt x="18394" y="1867"/>
                </a:cubicBezTo>
                <a:cubicBezTo>
                  <a:pt x="18394" y="1903"/>
                  <a:pt x="18404" y="1936"/>
                  <a:pt x="18410" y="1971"/>
                </a:cubicBezTo>
                <a:cubicBezTo>
                  <a:pt x="18415" y="2001"/>
                  <a:pt x="18420" y="2032"/>
                  <a:pt x="18422" y="2062"/>
                </a:cubicBezTo>
                <a:cubicBezTo>
                  <a:pt x="18424" y="2094"/>
                  <a:pt x="18425" y="2126"/>
                  <a:pt x="18431" y="2157"/>
                </a:cubicBezTo>
                <a:cubicBezTo>
                  <a:pt x="18435" y="2181"/>
                  <a:pt x="18442" y="2204"/>
                  <a:pt x="18447" y="2227"/>
                </a:cubicBezTo>
                <a:cubicBezTo>
                  <a:pt x="18453" y="2255"/>
                  <a:pt x="18453" y="2282"/>
                  <a:pt x="18453" y="2311"/>
                </a:cubicBezTo>
                <a:cubicBezTo>
                  <a:pt x="18453" y="2327"/>
                  <a:pt x="18449" y="2350"/>
                  <a:pt x="18455" y="2365"/>
                </a:cubicBezTo>
                <a:cubicBezTo>
                  <a:pt x="18458" y="2374"/>
                  <a:pt x="18459" y="2373"/>
                  <a:pt x="18465" y="2379"/>
                </a:cubicBezTo>
                <a:cubicBezTo>
                  <a:pt x="18467" y="2381"/>
                  <a:pt x="18470" y="2379"/>
                  <a:pt x="18473" y="2381"/>
                </a:cubicBezTo>
                <a:cubicBezTo>
                  <a:pt x="18476" y="2383"/>
                  <a:pt x="18473" y="2387"/>
                  <a:pt x="18476" y="2388"/>
                </a:cubicBezTo>
                <a:cubicBezTo>
                  <a:pt x="18478" y="2389"/>
                  <a:pt x="18481" y="2387"/>
                  <a:pt x="18483" y="2388"/>
                </a:cubicBezTo>
                <a:cubicBezTo>
                  <a:pt x="18483" y="2362"/>
                  <a:pt x="18483" y="2337"/>
                  <a:pt x="18482" y="2311"/>
                </a:cubicBezTo>
              </a:path>
              <a:path w="3388" h="1219">
                <a:moveTo>
                  <a:pt x="18514" y="1849"/>
                </a:moveTo>
                <a:cubicBezTo>
                  <a:pt x="18513" y="1845"/>
                  <a:pt x="18511" y="1833"/>
                  <a:pt x="18510" y="1825"/>
                </a:cubicBezTo>
                <a:cubicBezTo>
                  <a:pt x="18509" y="1810"/>
                  <a:pt x="18507" y="1796"/>
                  <a:pt x="18512" y="1782"/>
                </a:cubicBezTo>
                <a:cubicBezTo>
                  <a:pt x="18518" y="1765"/>
                  <a:pt x="18534" y="1749"/>
                  <a:pt x="18544" y="1734"/>
                </a:cubicBezTo>
                <a:cubicBezTo>
                  <a:pt x="18554" y="1718"/>
                  <a:pt x="18565" y="1702"/>
                  <a:pt x="18575" y="1686"/>
                </a:cubicBezTo>
                <a:cubicBezTo>
                  <a:pt x="18592" y="1659"/>
                  <a:pt x="18610" y="1643"/>
                  <a:pt x="18634" y="1623"/>
                </a:cubicBezTo>
                <a:cubicBezTo>
                  <a:pt x="18667" y="1596"/>
                  <a:pt x="18707" y="1562"/>
                  <a:pt x="18747" y="1546"/>
                </a:cubicBezTo>
                <a:cubicBezTo>
                  <a:pt x="18768" y="1537"/>
                  <a:pt x="18797" y="1533"/>
                  <a:pt x="18820" y="1528"/>
                </a:cubicBezTo>
                <a:cubicBezTo>
                  <a:pt x="18869" y="1518"/>
                  <a:pt x="18923" y="1523"/>
                  <a:pt x="18973" y="1523"/>
                </a:cubicBezTo>
                <a:cubicBezTo>
                  <a:pt x="19025" y="1523"/>
                  <a:pt x="19058" y="1530"/>
                  <a:pt x="19105" y="1551"/>
                </a:cubicBezTo>
                <a:cubicBezTo>
                  <a:pt x="19128" y="1561"/>
                  <a:pt x="19150" y="1572"/>
                  <a:pt x="19172" y="1583"/>
                </a:cubicBezTo>
                <a:cubicBezTo>
                  <a:pt x="19188" y="1591"/>
                  <a:pt x="19204" y="1598"/>
                  <a:pt x="19218" y="1609"/>
                </a:cubicBezTo>
                <a:cubicBezTo>
                  <a:pt x="19233" y="1620"/>
                  <a:pt x="19242" y="1633"/>
                  <a:pt x="19254" y="1646"/>
                </a:cubicBezTo>
                <a:cubicBezTo>
                  <a:pt x="19266" y="1659"/>
                  <a:pt x="19278" y="1675"/>
                  <a:pt x="19283" y="1693"/>
                </a:cubicBezTo>
                <a:cubicBezTo>
                  <a:pt x="19294" y="1731"/>
                  <a:pt x="19291" y="1776"/>
                  <a:pt x="19292" y="1815"/>
                </a:cubicBezTo>
                <a:cubicBezTo>
                  <a:pt x="19294" y="1919"/>
                  <a:pt x="19282" y="2019"/>
                  <a:pt x="19277" y="2121"/>
                </a:cubicBezTo>
                <a:cubicBezTo>
                  <a:pt x="19274" y="2188"/>
                  <a:pt x="19271" y="2262"/>
                  <a:pt x="19281" y="2329"/>
                </a:cubicBezTo>
                <a:cubicBezTo>
                  <a:pt x="19282" y="2336"/>
                  <a:pt x="19284" y="2345"/>
                  <a:pt x="19286" y="2352"/>
                </a:cubicBezTo>
                <a:cubicBezTo>
                  <a:pt x="19290" y="2361"/>
                  <a:pt x="19290" y="2362"/>
                  <a:pt x="19295" y="2370"/>
                </a:cubicBezTo>
                <a:cubicBezTo>
                  <a:pt x="19299" y="2376"/>
                  <a:pt x="19307" y="2383"/>
                  <a:pt x="19313" y="2388"/>
                </a:cubicBezTo>
                <a:cubicBezTo>
                  <a:pt x="19315" y="2390"/>
                  <a:pt x="19318" y="2390"/>
                  <a:pt x="19320" y="2392"/>
                </a:cubicBezTo>
                <a:cubicBezTo>
                  <a:pt x="19321" y="2393"/>
                  <a:pt x="19325" y="2396"/>
                  <a:pt x="19326" y="2397"/>
                </a:cubicBezTo>
                <a:cubicBezTo>
                  <a:pt x="19327" y="2397"/>
                  <a:pt x="19334" y="2401"/>
                  <a:pt x="19335" y="2402"/>
                </a:cubicBezTo>
                <a:cubicBezTo>
                  <a:pt x="19339" y="2404"/>
                  <a:pt x="19339" y="2412"/>
                  <a:pt x="19342" y="2413"/>
                </a:cubicBezTo>
                <a:cubicBezTo>
                  <a:pt x="19345" y="2414"/>
                  <a:pt x="19348" y="2408"/>
                  <a:pt x="19351" y="2410"/>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226280" y="536400"/>
            <a:ext cx="130320" cy="355680"/>
          </a:xfrm>
          <a:custGeom>
            <a:avLst/>
            <a:gdLst/>
            <a:ahLst/>
            <a:rect l="l" t="t" r="r" b="b"/>
            <a:pathLst>
              <a:path w="361" h="991">
                <a:moveTo>
                  <a:pt x="20265" y="1560"/>
                </a:moveTo>
                <a:cubicBezTo>
                  <a:pt x="20273" y="1547"/>
                  <a:pt x="20291" y="1523"/>
                  <a:pt x="20288" y="1506"/>
                </a:cubicBezTo>
                <a:cubicBezTo>
                  <a:pt x="20286" y="1498"/>
                  <a:pt x="20282" y="1495"/>
                  <a:pt x="20274" y="1492"/>
                </a:cubicBezTo>
                <a:cubicBezTo>
                  <a:pt x="20258" y="1487"/>
                  <a:pt x="20236" y="1489"/>
                  <a:pt x="20220" y="1490"/>
                </a:cubicBezTo>
                <a:cubicBezTo>
                  <a:pt x="20198" y="1492"/>
                  <a:pt x="20178" y="1499"/>
                  <a:pt x="20159" y="1510"/>
                </a:cubicBezTo>
                <a:cubicBezTo>
                  <a:pt x="20139" y="1522"/>
                  <a:pt x="20119" y="1536"/>
                  <a:pt x="20102" y="1551"/>
                </a:cubicBezTo>
                <a:cubicBezTo>
                  <a:pt x="20089" y="1563"/>
                  <a:pt x="20080" y="1575"/>
                  <a:pt x="20075" y="1592"/>
                </a:cubicBezTo>
                <a:cubicBezTo>
                  <a:pt x="20071" y="1604"/>
                  <a:pt x="20073" y="1619"/>
                  <a:pt x="20087" y="1625"/>
                </a:cubicBezTo>
                <a:cubicBezTo>
                  <a:pt x="20103" y="1632"/>
                  <a:pt x="20126" y="1634"/>
                  <a:pt x="20143" y="1635"/>
                </a:cubicBezTo>
                <a:cubicBezTo>
                  <a:pt x="20165" y="1636"/>
                  <a:pt x="20189" y="1636"/>
                  <a:pt x="20211" y="1634"/>
                </a:cubicBezTo>
                <a:cubicBezTo>
                  <a:pt x="20222" y="1633"/>
                  <a:pt x="20230" y="1621"/>
                  <a:pt x="20236" y="1612"/>
                </a:cubicBezTo>
                <a:cubicBezTo>
                  <a:pt x="20243" y="1601"/>
                  <a:pt x="20247" y="1579"/>
                  <a:pt x="20247" y="1566"/>
                </a:cubicBezTo>
                <a:cubicBezTo>
                  <a:pt x="20247" y="1549"/>
                  <a:pt x="20234" y="1532"/>
                  <a:pt x="20227" y="1517"/>
                </a:cubicBezTo>
                <a:cubicBezTo>
                  <a:pt x="20223" y="1507"/>
                  <a:pt x="20215" y="1500"/>
                  <a:pt x="20206" y="1494"/>
                </a:cubicBezTo>
                <a:cubicBezTo>
                  <a:pt x="20203" y="1492"/>
                  <a:pt x="20200" y="1491"/>
                  <a:pt x="20197" y="1489"/>
                </a:cubicBezTo>
                <a:cubicBezTo>
                  <a:pt x="20194" y="1496"/>
                  <a:pt x="20190" y="1502"/>
                  <a:pt x="20189" y="1510"/>
                </a:cubicBezTo>
                <a:cubicBezTo>
                  <a:pt x="20187" y="1523"/>
                  <a:pt x="20180" y="1533"/>
                  <a:pt x="20177" y="1546"/>
                </a:cubicBezTo>
                <a:cubicBezTo>
                  <a:pt x="20176" y="1548"/>
                  <a:pt x="20176" y="1551"/>
                  <a:pt x="20175" y="1553"/>
                </a:cubicBezTo>
              </a:path>
              <a:path w="361" h="991">
                <a:moveTo>
                  <a:pt x="20383" y="2282"/>
                </a:moveTo>
                <a:cubicBezTo>
                  <a:pt x="20399" y="2275"/>
                  <a:pt x="20413" y="2267"/>
                  <a:pt x="20421" y="2250"/>
                </a:cubicBezTo>
                <a:cubicBezTo>
                  <a:pt x="20423" y="2246"/>
                  <a:pt x="20424" y="2242"/>
                  <a:pt x="20426" y="2238"/>
                </a:cubicBezTo>
                <a:cubicBezTo>
                  <a:pt x="20407" y="2238"/>
                  <a:pt x="20392" y="2232"/>
                  <a:pt x="20374" y="2230"/>
                </a:cubicBezTo>
                <a:cubicBezTo>
                  <a:pt x="20356" y="2228"/>
                  <a:pt x="20348" y="2231"/>
                  <a:pt x="20333" y="2238"/>
                </a:cubicBezTo>
                <a:cubicBezTo>
                  <a:pt x="20314" y="2247"/>
                  <a:pt x="20304" y="2260"/>
                  <a:pt x="20292" y="2277"/>
                </a:cubicBezTo>
                <a:cubicBezTo>
                  <a:pt x="20280" y="2294"/>
                  <a:pt x="20270" y="2311"/>
                  <a:pt x="20265" y="2331"/>
                </a:cubicBezTo>
                <a:cubicBezTo>
                  <a:pt x="20261" y="2347"/>
                  <a:pt x="20259" y="2365"/>
                  <a:pt x="20261" y="2381"/>
                </a:cubicBezTo>
                <a:cubicBezTo>
                  <a:pt x="20264" y="2398"/>
                  <a:pt x="20269" y="2419"/>
                  <a:pt x="20276" y="2435"/>
                </a:cubicBezTo>
                <a:cubicBezTo>
                  <a:pt x="20282" y="2450"/>
                  <a:pt x="20293" y="2458"/>
                  <a:pt x="20306" y="2467"/>
                </a:cubicBezTo>
                <a:cubicBezTo>
                  <a:pt x="20320" y="2477"/>
                  <a:pt x="20343" y="2484"/>
                  <a:pt x="20360" y="2479"/>
                </a:cubicBezTo>
                <a:cubicBezTo>
                  <a:pt x="20377" y="2474"/>
                  <a:pt x="20389" y="2461"/>
                  <a:pt x="20399" y="2449"/>
                </a:cubicBezTo>
                <a:cubicBezTo>
                  <a:pt x="20413" y="2432"/>
                  <a:pt x="20423" y="2410"/>
                  <a:pt x="20428" y="2388"/>
                </a:cubicBezTo>
                <a:cubicBezTo>
                  <a:pt x="20433" y="2368"/>
                  <a:pt x="20434" y="2345"/>
                  <a:pt x="20428" y="2325"/>
                </a:cubicBezTo>
                <a:cubicBezTo>
                  <a:pt x="20422" y="2306"/>
                  <a:pt x="20404" y="2287"/>
                  <a:pt x="20388" y="2275"/>
                </a:cubicBezTo>
                <a:cubicBezTo>
                  <a:pt x="20371" y="2263"/>
                  <a:pt x="20354" y="2265"/>
                  <a:pt x="20335" y="2259"/>
                </a:cubicBezTo>
                <a:cubicBezTo>
                  <a:pt x="20319" y="2254"/>
                  <a:pt x="20314" y="2257"/>
                  <a:pt x="20299" y="2261"/>
                </a:cubicBezTo>
                <a:cubicBezTo>
                  <a:pt x="20287" y="2264"/>
                  <a:pt x="20283" y="2271"/>
                  <a:pt x="20276" y="2282"/>
                </a:cubicBezTo>
                <a:cubicBezTo>
                  <a:pt x="20272" y="2288"/>
                  <a:pt x="20271" y="2292"/>
                  <a:pt x="20270" y="2299"/>
                </a:cubicBezTo>
                <a:cubicBezTo>
                  <a:pt x="20270" y="2300"/>
                  <a:pt x="20270" y="2301"/>
                  <a:pt x="20270" y="2302"/>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94560" y="682560"/>
            <a:ext cx="306360" cy="9720"/>
          </a:xfrm>
          <a:custGeom>
            <a:avLst/>
            <a:gdLst/>
            <a:ahLst/>
            <a:rect l="l" t="t" r="r" b="b"/>
            <a:pathLst>
              <a:path w="849" h="27">
                <a:moveTo>
                  <a:pt x="21152" y="1917"/>
                </a:moveTo>
                <a:cubicBezTo>
                  <a:pt x="21139" y="1917"/>
                  <a:pt x="21106" y="1917"/>
                  <a:pt x="21100" y="1917"/>
                </a:cubicBezTo>
                <a:cubicBezTo>
                  <a:pt x="21235" y="1917"/>
                  <a:pt x="21370" y="1919"/>
                  <a:pt x="21505" y="1919"/>
                </a:cubicBezTo>
                <a:cubicBezTo>
                  <a:pt x="21602" y="1919"/>
                  <a:pt x="21704" y="1928"/>
                  <a:pt x="21801" y="1919"/>
                </a:cubicBezTo>
                <a:cubicBezTo>
                  <a:pt x="21830" y="1916"/>
                  <a:pt x="21855" y="1910"/>
                  <a:pt x="21883" y="1904"/>
                </a:cubicBezTo>
                <a:cubicBezTo>
                  <a:pt x="21898" y="1901"/>
                  <a:pt x="21913" y="1896"/>
                  <a:pt x="21928" y="1894"/>
                </a:cubicBezTo>
                <a:cubicBezTo>
                  <a:pt x="21934" y="1893"/>
                  <a:pt x="21940" y="1894"/>
                  <a:pt x="21946" y="1894"/>
                </a:cubicBezTo>
                <a:cubicBezTo>
                  <a:pt x="21935" y="1894"/>
                  <a:pt x="21925" y="1894"/>
                  <a:pt x="21914" y="1894"/>
                </a:cubicBezTo>
              </a:path>
            </a:pathLst>
          </a:custGeom>
          <a:noFill/>
          <a:ln cap="rnd" w="57240">
            <a:solidFill>
              <a:srgbClr val="d8e74b"/>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08" name=""/>
          <p:cNvSpPr/>
          <p:nvPr/>
        </p:nvSpPr>
        <p:spPr>
          <a:xfrm>
            <a:off x="6465600" y="2286000"/>
            <a:ext cx="233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a02"/>
                </a:solidFill>
                <a:latin typeface="Garamond"/>
              </a:rPr>
              <a:t>Laryngoscop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2133720" y="2760840"/>
            <a:ext cx="3733560" cy="3537000"/>
          </a:xfrm>
          <a:prstGeom prst="rect">
            <a:avLst/>
          </a:prstGeom>
          <a:solidFill>
            <a:srgbClr val="000066"/>
          </a:solidFill>
          <a:ln w="57240">
            <a:solidFill>
              <a:srgbClr val="d8e74b"/>
            </a:solidFill>
            <a:miter/>
          </a:ln>
        </p:spPr>
        <p:style>
          <a:lnRef idx="0"/>
          <a:fillRef idx="0"/>
          <a:effectRef idx="0"/>
          <a:fontRef idx="minor"/>
        </p:style>
        <p:txBody>
          <a:bodyPr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tatus epilepticus</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evere multiple trauma</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ertain Overdoses</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netrating neck trauma</a:t>
            </a:r>
            <a:endParaRPr b="0" lang="en-US" sz="2400" spc="-1" strike="noStrike">
              <a:solidFill>
                <a:srgbClr val="ffffff"/>
              </a:solidFill>
              <a:latin typeface="Arial"/>
            </a:endParaRPr>
          </a:p>
        </p:txBody>
      </p:sp>
      <p:sp>
        <p:nvSpPr>
          <p:cNvPr id="105" name=""/>
          <p:cNvSpPr/>
          <p:nvPr/>
        </p:nvSpPr>
        <p:spPr>
          <a:xfrm>
            <a:off x="380880" y="1066680"/>
            <a:ext cx="775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rtain conditions indicate the need for intubation even in the absence of airway, ventilatory, or oxygenation failure.????</a:t>
            </a:r>
            <a:endParaRPr b="0" lang="en-US" sz="2800" spc="-1" strike="noStrike">
              <a:solidFill>
                <a:srgbClr val="ffffff"/>
              </a:solidFill>
              <a:latin typeface="Arial"/>
            </a:endParaRPr>
          </a:p>
        </p:txBody>
      </p:sp>
      <p:sp>
        <p:nvSpPr>
          <p:cNvPr id="106" name=""/>
          <p:cNvSpPr/>
          <p:nvPr/>
        </p:nvSpPr>
        <p:spPr>
          <a:xfrm>
            <a:off x="928440" y="228600"/>
            <a:ext cx="485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Indications of Intub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4"/>
                                        </p:tgtEl>
                                        <p:attrNameLst>
                                          <p:attrName>style.visibility</p:attrName>
                                        </p:attrNameLst>
                                      </p:cBhvr>
                                      <p:to>
                                        <p:strVal val="visible"/>
                                      </p:to>
                                    </p:set>
                                    <p:animEffect filter="blinds(horizontal)" transition="in">
                                      <p:cBhvr additive="repl">
                                        <p:cTn id="2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aryngoscope </a:t>
            </a:r>
            <a:endParaRPr b="1" lang="en-US" sz="2800" spc="-1" strike="noStrike">
              <a:solidFill>
                <a:srgbClr val="e5e5ff"/>
              </a:solidFill>
              <a:latin typeface="Garamond"/>
            </a:endParaRPr>
          </a:p>
        </p:txBody>
      </p:sp>
      <p:sp>
        <p:nvSpPr>
          <p:cNvPr id="210" name="PlaceHolder 2"/>
          <p:cNvSpPr>
            <a:spLocks noGrp="1"/>
          </p:cNvSpPr>
          <p:nvPr>
            <p:ph/>
          </p:nvPr>
        </p:nvSpPr>
        <p:spPr>
          <a:xfrm>
            <a:off x="456840" y="1981080"/>
            <a:ext cx="5334120" cy="4525920"/>
          </a:xfrm>
          <a:prstGeom prst="rect">
            <a:avLst/>
          </a:prstGeom>
          <a:solidFill>
            <a:srgbClr val="000066"/>
          </a:solidFill>
          <a:ln w="9360">
            <a:solidFill>
              <a:srgbClr val="ff0066"/>
            </a:solidFill>
            <a:miter/>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tip fits into the vallecula and indirectly lifts the epiglottis.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wider, curved blades are helpful in keeping the tongue retracted from the field of vision, </a:t>
            </a:r>
            <a:endParaRPr b="0" lang="en-US" sz="2400" spc="-1" strike="noStrike">
              <a:solidFill>
                <a:srgbClr val="ffffff"/>
              </a:solidFill>
              <a:latin typeface="Garamond"/>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more room in passing the tube in the oropharynx</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generally preferred in uncomplicated adult intubations.</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less forearm strength than the straight blade</a:t>
            </a:r>
            <a:endParaRPr b="0" lang="en-US" sz="2400" spc="-1" strike="noStrike">
              <a:solidFill>
                <a:srgbClr val="ffffff"/>
              </a:solidFill>
              <a:latin typeface="Garamond"/>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11" name=""/>
          <p:cNvSpPr/>
          <p:nvPr/>
        </p:nvSpPr>
        <p:spPr>
          <a:xfrm>
            <a:off x="-237600" y="1219320"/>
            <a:ext cx="34506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urved (MacIntosh)</a:t>
            </a:r>
            <a:endParaRPr b="0" lang="en-US" sz="2400" spc="-1" strike="noStrike">
              <a:solidFill>
                <a:srgbClr val="ffffff"/>
              </a:solidFill>
              <a:latin typeface="Arial"/>
            </a:endParaRPr>
          </a:p>
        </p:txBody>
      </p:sp>
      <p:pic>
        <p:nvPicPr>
          <p:cNvPr id="212" name="" descr=""/>
          <p:cNvPicPr/>
          <p:nvPr/>
        </p:nvPicPr>
        <p:blipFill>
          <a:blip r:embed="rId1"/>
          <a:stretch/>
        </p:blipFill>
        <p:spPr>
          <a:xfrm>
            <a:off x="6324480" y="4648320"/>
            <a:ext cx="2105280" cy="1752480"/>
          </a:xfrm>
          <a:prstGeom prst="rect">
            <a:avLst/>
          </a:prstGeom>
          <a:ln w="0">
            <a:noFill/>
          </a:ln>
        </p:spPr>
      </p:pic>
      <p:pic>
        <p:nvPicPr>
          <p:cNvPr id="213" name="" descr=""/>
          <p:cNvPicPr/>
          <p:nvPr/>
        </p:nvPicPr>
        <p:blipFill>
          <a:blip r:embed="rId2"/>
          <a:stretch/>
        </p:blipFill>
        <p:spPr>
          <a:xfrm>
            <a:off x="5934240" y="304920"/>
            <a:ext cx="320976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 </a:t>
            </a:r>
            <a:r>
              <a:rPr b="0" lang="en-US" sz="2800" spc="-1" strike="noStrike">
                <a:solidFill>
                  <a:srgbClr val="d8e74b"/>
                </a:solidFill>
                <a:latin typeface="Garamond"/>
              </a:rPr>
              <a:t>Straight (Miller) Laryngoscope </a:t>
            </a:r>
            <a:endParaRPr b="1" lang="en-US" sz="2800" spc="-1" strike="noStrike">
              <a:solidFill>
                <a:srgbClr val="e5e5ff"/>
              </a:solidFill>
              <a:latin typeface="Garamond"/>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16" name="PlaceHolder 3"/>
          <p:cNvSpPr>
            <a:spLocks noGrp="1"/>
          </p:cNvSpPr>
          <p:nvPr>
            <p:ph/>
          </p:nvPr>
        </p:nvSpPr>
        <p:spPr>
          <a:xfrm>
            <a:off x="456840" y="1599840"/>
            <a:ext cx="7620120" cy="4876920"/>
          </a:xfrm>
          <a:prstGeom prst="rect">
            <a:avLst/>
          </a:prstGeom>
          <a:solidFill>
            <a:srgbClr val="000066"/>
          </a:solidFill>
          <a:ln w="9360">
            <a:solidFill>
              <a:srgbClr val="ffcc00"/>
            </a:solidFill>
            <a:miter/>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ip  goes under the epiglottis and lifts it directly</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diatric patients</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terior larynx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ng floppy epiglottis</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larynx is fixed by scar tissue.</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less effective in  Prominent upper teeth.</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yngospasm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vanced into the esophagus.</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ight bulb at the tip that may slightly hamper vision</a:t>
            </a:r>
            <a:endParaRPr b="0" lang="en-US" sz="2400" spc="-1" strike="noStrike">
              <a:solidFill>
                <a:srgbClr val="ffffff"/>
              </a:solidFill>
              <a:latin typeface="Garamond"/>
            </a:endParaRPr>
          </a:p>
        </p:txBody>
      </p:sp>
      <p:pic>
        <p:nvPicPr>
          <p:cNvPr id="217" name="" descr=""/>
          <p:cNvPicPr/>
          <p:nvPr/>
        </p:nvPicPr>
        <p:blipFill>
          <a:blip r:embed="rId1"/>
          <a:stretch/>
        </p:blipFill>
        <p:spPr>
          <a:xfrm>
            <a:off x="6553080" y="2666880"/>
            <a:ext cx="2590920" cy="2305080"/>
          </a:xfrm>
          <a:prstGeom prst="rect">
            <a:avLst/>
          </a:prstGeom>
          <a:ln w="9360">
            <a:solidFill>
              <a:srgbClr val="d8e74b"/>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18" name=""/>
          <p:cNvSpPr/>
          <p:nvPr/>
        </p:nvSpPr>
        <p:spPr>
          <a:xfrm>
            <a:off x="304920" y="1262160"/>
            <a:ext cx="8610480" cy="4483080"/>
          </a:xfrm>
          <a:prstGeom prst="rect">
            <a:avLst/>
          </a:prstGeom>
          <a:solidFill>
            <a:srgbClr val="0000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straight blade is placed too deeply, the entire larynx may be elevated anteriorly and out of the field of vi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Gradual withdrawal of the blade should allow the laryngeal inlet to drop down into view.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blade is deep and posterior, the lack of recognizable structures indicates esophageal passage; gradual withdrawal should permit the laryngeal inlet to come into view. </a:t>
            </a:r>
            <a:endParaRPr b="0" lang="en-US" sz="2400" spc="-1" strike="noStrike">
              <a:solidFill>
                <a:srgbClr val="ffffff"/>
              </a:solidFill>
              <a:latin typeface="Arial"/>
            </a:endParaRPr>
          </a:p>
        </p:txBody>
      </p:sp>
      <p:sp>
        <p:nvSpPr>
          <p:cNvPr id="219" name=""/>
          <p:cNvSpPr/>
          <p:nvPr/>
        </p:nvSpPr>
        <p:spPr>
          <a:xfrm>
            <a:off x="1943640" y="609480"/>
            <a:ext cx="277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aryngosco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28600" y="304920"/>
            <a:ext cx="7981920" cy="5876640"/>
          </a:xfrm>
          <a:prstGeom prst="rect">
            <a:avLst/>
          </a:prstGeom>
          <a:ln w="0">
            <a:noFill/>
          </a:ln>
        </p:spPr>
      </p:pic>
      <p:sp>
        <p:nvSpPr>
          <p:cNvPr id="221" name=""/>
          <p:cNvSpPr/>
          <p:nvPr/>
        </p:nvSpPr>
        <p:spPr>
          <a:xfrm>
            <a:off x="7537320" y="2093760"/>
            <a:ext cx="1125720" cy="1630440"/>
          </a:xfrm>
          <a:custGeom>
            <a:avLst/>
            <a:gdLst/>
            <a:ahLst/>
            <a:rect l="l" t="t" r="r" b="b"/>
            <a:pathLst>
              <a:path w="3126" h="4526">
                <a:moveTo>
                  <a:pt x="21190" y="7337"/>
                </a:moveTo>
                <a:cubicBezTo>
                  <a:pt x="21178" y="7348"/>
                  <a:pt x="21158" y="7357"/>
                  <a:pt x="21147" y="7368"/>
                </a:cubicBezTo>
                <a:cubicBezTo>
                  <a:pt x="21144" y="7371"/>
                  <a:pt x="21141" y="7366"/>
                  <a:pt x="21138" y="7370"/>
                </a:cubicBezTo>
                <a:cubicBezTo>
                  <a:pt x="21127" y="7386"/>
                  <a:pt x="21126" y="7429"/>
                  <a:pt x="21125" y="7448"/>
                </a:cubicBezTo>
                <a:cubicBezTo>
                  <a:pt x="21120" y="7511"/>
                  <a:pt x="21122" y="7574"/>
                  <a:pt x="21121" y="7637"/>
                </a:cubicBezTo>
                <a:cubicBezTo>
                  <a:pt x="21120" y="7689"/>
                  <a:pt x="21118" y="7741"/>
                  <a:pt x="21116" y="7793"/>
                </a:cubicBezTo>
                <a:cubicBezTo>
                  <a:pt x="21114" y="7848"/>
                  <a:pt x="21104" y="7902"/>
                  <a:pt x="21100" y="7957"/>
                </a:cubicBezTo>
                <a:cubicBezTo>
                  <a:pt x="21095" y="8019"/>
                  <a:pt x="21088" y="8080"/>
                  <a:pt x="21084" y="8142"/>
                </a:cubicBezTo>
                <a:cubicBezTo>
                  <a:pt x="21077" y="8245"/>
                  <a:pt x="21065" y="8349"/>
                  <a:pt x="21060" y="8452"/>
                </a:cubicBezTo>
                <a:cubicBezTo>
                  <a:pt x="21057" y="8511"/>
                  <a:pt x="21058" y="8571"/>
                  <a:pt x="21048" y="8629"/>
                </a:cubicBezTo>
                <a:cubicBezTo>
                  <a:pt x="21045" y="8647"/>
                  <a:pt x="21041" y="8665"/>
                  <a:pt x="21028" y="8678"/>
                </a:cubicBezTo>
                <a:cubicBezTo>
                  <a:pt x="21025" y="8682"/>
                  <a:pt x="21023" y="8690"/>
                  <a:pt x="21019" y="8690"/>
                </a:cubicBezTo>
                <a:cubicBezTo>
                  <a:pt x="20995" y="8692"/>
                  <a:pt x="20969" y="8661"/>
                  <a:pt x="20951" y="8651"/>
                </a:cubicBezTo>
                <a:cubicBezTo>
                  <a:pt x="20946" y="8649"/>
                  <a:pt x="20942" y="8648"/>
                  <a:pt x="20937" y="8646"/>
                </a:cubicBezTo>
              </a:path>
              <a:path w="3126" h="4526">
                <a:moveTo>
                  <a:pt x="21831" y="7848"/>
                </a:moveTo>
                <a:cubicBezTo>
                  <a:pt x="21841" y="7839"/>
                  <a:pt x="21851" y="7826"/>
                  <a:pt x="21862" y="7819"/>
                </a:cubicBezTo>
                <a:cubicBezTo>
                  <a:pt x="21869" y="7814"/>
                  <a:pt x="21875" y="7812"/>
                  <a:pt x="21883" y="7810"/>
                </a:cubicBezTo>
                <a:cubicBezTo>
                  <a:pt x="21888" y="7809"/>
                  <a:pt x="21894" y="7811"/>
                  <a:pt x="21899" y="7810"/>
                </a:cubicBezTo>
                <a:cubicBezTo>
                  <a:pt x="21893" y="7817"/>
                  <a:pt x="21889" y="7820"/>
                  <a:pt x="21883" y="7827"/>
                </a:cubicBezTo>
                <a:cubicBezTo>
                  <a:pt x="21865" y="7848"/>
                  <a:pt x="21860" y="7869"/>
                  <a:pt x="21847" y="7895"/>
                </a:cubicBezTo>
                <a:cubicBezTo>
                  <a:pt x="21823" y="7942"/>
                  <a:pt x="21794" y="7993"/>
                  <a:pt x="21777" y="8043"/>
                </a:cubicBezTo>
                <a:cubicBezTo>
                  <a:pt x="21759" y="8097"/>
                  <a:pt x="21736" y="8148"/>
                  <a:pt x="21716" y="8201"/>
                </a:cubicBezTo>
                <a:cubicBezTo>
                  <a:pt x="21703" y="8235"/>
                  <a:pt x="21697" y="8269"/>
                  <a:pt x="21684" y="8301"/>
                </a:cubicBezTo>
                <a:cubicBezTo>
                  <a:pt x="21677" y="8318"/>
                  <a:pt x="21663" y="8343"/>
                  <a:pt x="21673" y="8361"/>
                </a:cubicBezTo>
                <a:cubicBezTo>
                  <a:pt x="21685" y="8383"/>
                  <a:pt x="21718" y="8388"/>
                  <a:pt x="21740" y="8393"/>
                </a:cubicBezTo>
                <a:cubicBezTo>
                  <a:pt x="21777" y="8401"/>
                  <a:pt x="21809" y="8406"/>
                  <a:pt x="21847" y="8405"/>
                </a:cubicBezTo>
                <a:cubicBezTo>
                  <a:pt x="21891" y="8404"/>
                  <a:pt x="21931" y="8385"/>
                  <a:pt x="21969" y="8364"/>
                </a:cubicBezTo>
                <a:cubicBezTo>
                  <a:pt x="22003" y="8346"/>
                  <a:pt x="22033" y="8327"/>
                  <a:pt x="22057" y="8296"/>
                </a:cubicBezTo>
                <a:cubicBezTo>
                  <a:pt x="22080" y="8267"/>
                  <a:pt x="22095" y="8231"/>
                  <a:pt x="22100" y="8194"/>
                </a:cubicBezTo>
                <a:cubicBezTo>
                  <a:pt x="22108" y="8140"/>
                  <a:pt x="22099" y="8081"/>
                  <a:pt x="22086" y="8029"/>
                </a:cubicBezTo>
                <a:cubicBezTo>
                  <a:pt x="22078" y="7998"/>
                  <a:pt x="22065" y="7967"/>
                  <a:pt x="22043" y="7943"/>
                </a:cubicBezTo>
                <a:cubicBezTo>
                  <a:pt x="22024" y="7922"/>
                  <a:pt x="21993" y="7916"/>
                  <a:pt x="21966" y="7918"/>
                </a:cubicBezTo>
                <a:cubicBezTo>
                  <a:pt x="21925" y="7921"/>
                  <a:pt x="21887" y="7933"/>
                  <a:pt x="21849" y="7948"/>
                </a:cubicBezTo>
                <a:cubicBezTo>
                  <a:pt x="21808" y="7964"/>
                  <a:pt x="21765" y="7976"/>
                  <a:pt x="21725" y="7995"/>
                </a:cubicBezTo>
                <a:cubicBezTo>
                  <a:pt x="21700" y="8007"/>
                  <a:pt x="21675" y="8023"/>
                  <a:pt x="21650" y="8036"/>
                </a:cubicBezTo>
                <a:cubicBezTo>
                  <a:pt x="21631" y="8046"/>
                  <a:pt x="21630" y="8058"/>
                  <a:pt x="21620" y="8072"/>
                </a:cubicBezTo>
                <a:cubicBezTo>
                  <a:pt x="21614" y="8079"/>
                  <a:pt x="21612" y="8081"/>
                  <a:pt x="21609" y="8086"/>
                </a:cubicBezTo>
              </a:path>
              <a:path w="3126" h="4526">
                <a:moveTo>
                  <a:pt x="22801" y="8192"/>
                </a:moveTo>
                <a:cubicBezTo>
                  <a:pt x="22825" y="8192"/>
                  <a:pt x="22848" y="8192"/>
                  <a:pt x="22872" y="8192"/>
                </a:cubicBezTo>
                <a:cubicBezTo>
                  <a:pt x="22856" y="8206"/>
                  <a:pt x="22840" y="8224"/>
                  <a:pt x="22822" y="8239"/>
                </a:cubicBezTo>
                <a:cubicBezTo>
                  <a:pt x="22586" y="8431"/>
                  <a:pt x="22349" y="8626"/>
                  <a:pt x="22105" y="8809"/>
                </a:cubicBezTo>
                <a:cubicBezTo>
                  <a:pt x="21921" y="8947"/>
                  <a:pt x="21724" y="9073"/>
                  <a:pt x="21528" y="9194"/>
                </a:cubicBezTo>
                <a:cubicBezTo>
                  <a:pt x="21437" y="9250"/>
                  <a:pt x="21350" y="9309"/>
                  <a:pt x="21265" y="9375"/>
                </a:cubicBezTo>
                <a:cubicBezTo>
                  <a:pt x="21205" y="9421"/>
                  <a:pt x="21148" y="9475"/>
                  <a:pt x="21086" y="9518"/>
                </a:cubicBezTo>
                <a:cubicBezTo>
                  <a:pt x="21068" y="9530"/>
                  <a:pt x="21043" y="9550"/>
                  <a:pt x="21025" y="9558"/>
                </a:cubicBezTo>
                <a:cubicBezTo>
                  <a:pt x="21017" y="9562"/>
                  <a:pt x="21052" y="9537"/>
                  <a:pt x="21044" y="9540"/>
                </a:cubicBezTo>
              </a:path>
              <a:path w="3126" h="4526">
                <a:moveTo>
                  <a:pt x="21892" y="9350"/>
                </a:moveTo>
                <a:cubicBezTo>
                  <a:pt x="21892" y="9411"/>
                  <a:pt x="21885" y="9470"/>
                  <a:pt x="21883" y="9531"/>
                </a:cubicBezTo>
                <a:cubicBezTo>
                  <a:pt x="21881" y="9595"/>
                  <a:pt x="21902" y="9638"/>
                  <a:pt x="21923" y="9697"/>
                </a:cubicBezTo>
                <a:cubicBezTo>
                  <a:pt x="21945" y="9761"/>
                  <a:pt x="21964" y="9827"/>
                  <a:pt x="21985" y="9891"/>
                </a:cubicBezTo>
                <a:cubicBezTo>
                  <a:pt x="22006" y="9954"/>
                  <a:pt x="22027" y="10016"/>
                  <a:pt x="22048" y="10079"/>
                </a:cubicBezTo>
                <a:cubicBezTo>
                  <a:pt x="22064" y="10128"/>
                  <a:pt x="22078" y="10177"/>
                  <a:pt x="22093" y="10226"/>
                </a:cubicBezTo>
                <a:cubicBezTo>
                  <a:pt x="22101" y="10252"/>
                  <a:pt x="22107" y="10279"/>
                  <a:pt x="22116" y="10305"/>
                </a:cubicBezTo>
                <a:cubicBezTo>
                  <a:pt x="22120" y="10318"/>
                  <a:pt x="22125" y="10325"/>
                  <a:pt x="22132" y="10335"/>
                </a:cubicBezTo>
                <a:cubicBezTo>
                  <a:pt x="22135" y="10339"/>
                  <a:pt x="22133" y="10333"/>
                  <a:pt x="22136" y="10337"/>
                </a:cubicBezTo>
              </a:path>
              <a:path w="3126" h="4526">
                <a:moveTo>
                  <a:pt x="22381" y="9425"/>
                </a:moveTo>
                <a:cubicBezTo>
                  <a:pt x="22411" y="9398"/>
                  <a:pt x="22439" y="9377"/>
                  <a:pt x="22473" y="9357"/>
                </a:cubicBezTo>
                <a:cubicBezTo>
                  <a:pt x="22474" y="9356"/>
                  <a:pt x="22475" y="9356"/>
                  <a:pt x="22476" y="9355"/>
                </a:cubicBezTo>
                <a:cubicBezTo>
                  <a:pt x="22477" y="9372"/>
                  <a:pt x="22481" y="9379"/>
                  <a:pt x="22475" y="9398"/>
                </a:cubicBezTo>
                <a:cubicBezTo>
                  <a:pt x="22463" y="9439"/>
                  <a:pt x="22449" y="9481"/>
                  <a:pt x="22437" y="9522"/>
                </a:cubicBezTo>
                <a:cubicBezTo>
                  <a:pt x="22421" y="9574"/>
                  <a:pt x="22402" y="9624"/>
                  <a:pt x="22392" y="9678"/>
                </a:cubicBezTo>
                <a:cubicBezTo>
                  <a:pt x="22385" y="9718"/>
                  <a:pt x="22380" y="9772"/>
                  <a:pt x="22403" y="9809"/>
                </a:cubicBezTo>
                <a:cubicBezTo>
                  <a:pt x="22420" y="9837"/>
                  <a:pt x="22469" y="9839"/>
                  <a:pt x="22498" y="9841"/>
                </a:cubicBezTo>
                <a:cubicBezTo>
                  <a:pt x="22588" y="9846"/>
                  <a:pt x="22666" y="9801"/>
                  <a:pt x="22697" y="9714"/>
                </a:cubicBezTo>
                <a:cubicBezTo>
                  <a:pt x="22720" y="9649"/>
                  <a:pt x="22721" y="9581"/>
                  <a:pt x="22713" y="9513"/>
                </a:cubicBezTo>
                <a:cubicBezTo>
                  <a:pt x="22703" y="9426"/>
                  <a:pt x="22672" y="9356"/>
                  <a:pt x="22627" y="9282"/>
                </a:cubicBezTo>
                <a:cubicBezTo>
                  <a:pt x="22604" y="9245"/>
                  <a:pt x="22568" y="9212"/>
                  <a:pt x="22526" y="9197"/>
                </a:cubicBezTo>
                <a:cubicBezTo>
                  <a:pt x="22454" y="9171"/>
                  <a:pt x="22386" y="9209"/>
                  <a:pt x="22328" y="9248"/>
                </a:cubicBezTo>
              </a:path>
              <a:path w="3126" h="4526">
                <a:moveTo>
                  <a:pt x="21878" y="6103"/>
                </a:moveTo>
                <a:cubicBezTo>
                  <a:pt x="21866" y="6051"/>
                  <a:pt x="21855" y="6006"/>
                  <a:pt x="21858" y="5956"/>
                </a:cubicBezTo>
                <a:cubicBezTo>
                  <a:pt x="21858" y="5952"/>
                  <a:pt x="21862" y="5963"/>
                  <a:pt x="21862" y="5959"/>
                </a:cubicBezTo>
                <a:cubicBezTo>
                  <a:pt x="21855" y="5974"/>
                  <a:pt x="21853" y="5991"/>
                  <a:pt x="21845" y="6006"/>
                </a:cubicBezTo>
                <a:cubicBezTo>
                  <a:pt x="21831" y="6033"/>
                  <a:pt x="21816" y="6062"/>
                  <a:pt x="21801" y="6088"/>
                </a:cubicBezTo>
                <a:cubicBezTo>
                  <a:pt x="21774" y="6135"/>
                  <a:pt x="21742" y="6179"/>
                  <a:pt x="21715" y="6226"/>
                </a:cubicBezTo>
                <a:cubicBezTo>
                  <a:pt x="21686" y="6276"/>
                  <a:pt x="21662" y="6324"/>
                  <a:pt x="21645" y="6380"/>
                </a:cubicBezTo>
                <a:cubicBezTo>
                  <a:pt x="21629" y="6431"/>
                  <a:pt x="21621" y="6485"/>
                  <a:pt x="21611" y="6538"/>
                </a:cubicBezTo>
                <a:cubicBezTo>
                  <a:pt x="21606" y="6565"/>
                  <a:pt x="21586" y="6620"/>
                  <a:pt x="21598" y="6647"/>
                </a:cubicBezTo>
                <a:cubicBezTo>
                  <a:pt x="21610" y="6673"/>
                  <a:pt x="21618" y="6676"/>
                  <a:pt x="21648" y="6680"/>
                </a:cubicBezTo>
                <a:cubicBezTo>
                  <a:pt x="21754" y="6695"/>
                  <a:pt x="21929" y="6516"/>
                  <a:pt x="22003" y="6465"/>
                </a:cubicBezTo>
                <a:cubicBezTo>
                  <a:pt x="22231" y="6307"/>
                  <a:pt x="22495" y="6197"/>
                  <a:pt x="22754" y="6103"/>
                </a:cubicBezTo>
                <a:cubicBezTo>
                  <a:pt x="23175" y="5950"/>
                  <a:pt x="23622" y="5889"/>
                  <a:pt x="24062" y="5818"/>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701800" y="608040"/>
            <a:ext cx="486000" cy="365040"/>
          </a:xfrm>
          <a:custGeom>
            <a:avLst/>
            <a:gdLst/>
            <a:ahLst/>
            <a:rect l="l" t="t" r="r" b="b"/>
            <a:pathLst>
              <a:path w="1349" h="1013">
                <a:moveTo>
                  <a:pt x="8141" y="1689"/>
                </a:moveTo>
                <a:cubicBezTo>
                  <a:pt x="8067" y="1828"/>
                  <a:pt x="7990" y="1966"/>
                  <a:pt x="7917" y="2106"/>
                </a:cubicBezTo>
                <a:cubicBezTo>
                  <a:pt x="7854" y="2227"/>
                  <a:pt x="7796" y="2350"/>
                  <a:pt x="7739" y="2474"/>
                </a:cubicBezTo>
                <a:cubicBezTo>
                  <a:pt x="7717" y="2522"/>
                  <a:pt x="7701" y="2574"/>
                  <a:pt x="7685" y="2624"/>
                </a:cubicBezTo>
                <a:cubicBezTo>
                  <a:pt x="7680" y="2641"/>
                  <a:pt x="7673" y="2661"/>
                  <a:pt x="7669" y="2678"/>
                </a:cubicBezTo>
                <a:cubicBezTo>
                  <a:pt x="7669" y="2683"/>
                  <a:pt x="7669" y="2684"/>
                  <a:pt x="7669" y="2687"/>
                </a:cubicBezTo>
              </a:path>
              <a:path w="1349" h="1013">
                <a:moveTo>
                  <a:pt x="7504" y="1809"/>
                </a:moveTo>
                <a:cubicBezTo>
                  <a:pt x="7531" y="1849"/>
                  <a:pt x="7557" y="1885"/>
                  <a:pt x="7591" y="1920"/>
                </a:cubicBezTo>
                <a:cubicBezTo>
                  <a:pt x="7640" y="1970"/>
                  <a:pt x="7707" y="2012"/>
                  <a:pt x="7766" y="2049"/>
                </a:cubicBezTo>
                <a:cubicBezTo>
                  <a:pt x="7882" y="2121"/>
                  <a:pt x="8009" y="2175"/>
                  <a:pt x="8130" y="2239"/>
                </a:cubicBezTo>
                <a:cubicBezTo>
                  <a:pt x="8229" y="2292"/>
                  <a:pt x="8318" y="2351"/>
                  <a:pt x="8404" y="2422"/>
                </a:cubicBezTo>
                <a:cubicBezTo>
                  <a:pt x="8470" y="2476"/>
                  <a:pt x="8530" y="2536"/>
                  <a:pt x="8598" y="2588"/>
                </a:cubicBezTo>
                <a:cubicBezTo>
                  <a:pt x="8636" y="2617"/>
                  <a:pt x="8677" y="2641"/>
                  <a:pt x="8720" y="2660"/>
                </a:cubicBezTo>
                <a:cubicBezTo>
                  <a:pt x="8747" y="2672"/>
                  <a:pt x="8772" y="2677"/>
                  <a:pt x="8800" y="2685"/>
                </a:cubicBezTo>
                <a:cubicBezTo>
                  <a:pt x="8812" y="2689"/>
                  <a:pt x="8824" y="2692"/>
                  <a:pt x="8836" y="2696"/>
                </a:cubicBezTo>
                <a:cubicBezTo>
                  <a:pt x="8841" y="2697"/>
                  <a:pt x="8847" y="2699"/>
                  <a:pt x="8852" y="2701"/>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16080" y="790560"/>
            <a:ext cx="271440" cy="431640"/>
          </a:xfrm>
          <a:custGeom>
            <a:avLst/>
            <a:gdLst/>
            <a:ahLst/>
            <a:rect l="l" t="t" r="r" b="b"/>
            <a:pathLst>
              <a:path w="754" h="1200">
                <a:moveTo>
                  <a:pt x="1259" y="2194"/>
                </a:moveTo>
                <a:cubicBezTo>
                  <a:pt x="1225" y="2344"/>
                  <a:pt x="1200" y="2495"/>
                  <a:pt x="1171" y="2646"/>
                </a:cubicBezTo>
                <a:cubicBezTo>
                  <a:pt x="1134" y="2838"/>
                  <a:pt x="1102" y="3030"/>
                  <a:pt x="1053" y="3219"/>
                </a:cubicBezTo>
                <a:cubicBezTo>
                  <a:pt x="1040" y="3267"/>
                  <a:pt x="1029" y="3315"/>
                  <a:pt x="1015" y="3363"/>
                </a:cubicBezTo>
                <a:cubicBezTo>
                  <a:pt x="1012" y="3372"/>
                  <a:pt x="1006" y="3386"/>
                  <a:pt x="1004" y="3393"/>
                </a:cubicBezTo>
              </a:path>
              <a:path w="754" h="1200">
                <a:moveTo>
                  <a:pt x="890" y="2375"/>
                </a:moveTo>
                <a:cubicBezTo>
                  <a:pt x="886" y="2371"/>
                  <a:pt x="883" y="2368"/>
                  <a:pt x="879" y="2364"/>
                </a:cubicBezTo>
                <a:cubicBezTo>
                  <a:pt x="885" y="2402"/>
                  <a:pt x="887" y="2424"/>
                  <a:pt x="915" y="2456"/>
                </a:cubicBezTo>
                <a:cubicBezTo>
                  <a:pt x="1032" y="2588"/>
                  <a:pt x="1148" y="2712"/>
                  <a:pt x="1252" y="2857"/>
                </a:cubicBezTo>
                <a:cubicBezTo>
                  <a:pt x="1359" y="3006"/>
                  <a:pt x="1471" y="3143"/>
                  <a:pt x="1610" y="3262"/>
                </a:cubicBezTo>
                <a:cubicBezTo>
                  <a:pt x="1616" y="3267"/>
                  <a:pt x="1623" y="3273"/>
                  <a:pt x="1628" y="3278"/>
                </a:cubicBezTo>
                <a:cubicBezTo>
                  <a:pt x="1629" y="3279"/>
                  <a:pt x="1631" y="3279"/>
                  <a:pt x="1632" y="3280"/>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261200" y="488880"/>
            <a:ext cx="974880" cy="273240"/>
          </a:xfrm>
          <a:custGeom>
            <a:avLst/>
            <a:gdLst/>
            <a:ahLst/>
            <a:rect l="l" t="t" r="r" b="b"/>
            <a:pathLst>
              <a:path w="2709" h="762">
                <a:moveTo>
                  <a:pt x="20474" y="1485"/>
                </a:moveTo>
                <a:cubicBezTo>
                  <a:pt x="20494" y="1466"/>
                  <a:pt x="20514" y="1445"/>
                  <a:pt x="20534" y="1429"/>
                </a:cubicBezTo>
                <a:cubicBezTo>
                  <a:pt x="20535" y="1429"/>
                  <a:pt x="20536" y="1429"/>
                  <a:pt x="20537" y="1429"/>
                </a:cubicBezTo>
                <a:cubicBezTo>
                  <a:pt x="20532" y="1437"/>
                  <a:pt x="20526" y="1446"/>
                  <a:pt x="20521" y="1454"/>
                </a:cubicBezTo>
                <a:cubicBezTo>
                  <a:pt x="20506" y="1480"/>
                  <a:pt x="20491" y="1506"/>
                  <a:pt x="20474" y="1531"/>
                </a:cubicBezTo>
                <a:cubicBezTo>
                  <a:pt x="20447" y="1572"/>
                  <a:pt x="20416" y="1611"/>
                  <a:pt x="20388" y="1651"/>
                </a:cubicBezTo>
                <a:cubicBezTo>
                  <a:pt x="20346" y="1711"/>
                  <a:pt x="20302" y="1774"/>
                  <a:pt x="20265" y="1838"/>
                </a:cubicBezTo>
                <a:cubicBezTo>
                  <a:pt x="20233" y="1893"/>
                  <a:pt x="20175" y="1985"/>
                  <a:pt x="20172" y="2051"/>
                </a:cubicBezTo>
                <a:cubicBezTo>
                  <a:pt x="20171" y="2078"/>
                  <a:pt x="20161" y="2091"/>
                  <a:pt x="20189" y="2108"/>
                </a:cubicBezTo>
                <a:cubicBezTo>
                  <a:pt x="20244" y="2141"/>
                  <a:pt x="20329" y="2098"/>
                  <a:pt x="20379" y="2080"/>
                </a:cubicBezTo>
                <a:cubicBezTo>
                  <a:pt x="20756" y="1948"/>
                  <a:pt x="21106" y="1760"/>
                  <a:pt x="21492" y="1651"/>
                </a:cubicBezTo>
                <a:cubicBezTo>
                  <a:pt x="21947" y="1522"/>
                  <a:pt x="22412" y="1442"/>
                  <a:pt x="22876" y="1356"/>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730760" y="3529080"/>
            <a:ext cx="1490760" cy="774720"/>
          </a:xfrm>
          <a:custGeom>
            <a:avLst/>
            <a:gdLst/>
            <a:ahLst/>
            <a:rect l="l" t="t" r="r" b="b"/>
            <a:pathLst>
              <a:path w="4141" h="2151">
                <a:moveTo>
                  <a:pt x="15472" y="11181"/>
                </a:moveTo>
                <a:cubicBezTo>
                  <a:pt x="15464" y="11193"/>
                  <a:pt x="15460" y="11200"/>
                  <a:pt x="15453" y="11212"/>
                </a:cubicBezTo>
                <a:cubicBezTo>
                  <a:pt x="15455" y="11210"/>
                  <a:pt x="15457" y="11211"/>
                  <a:pt x="15460" y="11208"/>
                </a:cubicBezTo>
                <a:cubicBezTo>
                  <a:pt x="15470" y="11200"/>
                  <a:pt x="15479" y="11191"/>
                  <a:pt x="15489" y="11183"/>
                </a:cubicBezTo>
                <a:cubicBezTo>
                  <a:pt x="15560" y="11127"/>
                  <a:pt x="15619" y="11058"/>
                  <a:pt x="15684" y="10995"/>
                </a:cubicBezTo>
                <a:cubicBezTo>
                  <a:pt x="15722" y="10959"/>
                  <a:pt x="15761" y="10925"/>
                  <a:pt x="15800" y="10891"/>
                </a:cubicBezTo>
                <a:cubicBezTo>
                  <a:pt x="15854" y="10843"/>
                  <a:pt x="15904" y="10790"/>
                  <a:pt x="15958" y="10742"/>
                </a:cubicBezTo>
                <a:cubicBezTo>
                  <a:pt x="16007" y="10698"/>
                  <a:pt x="16054" y="10654"/>
                  <a:pt x="16103" y="10611"/>
                </a:cubicBezTo>
                <a:cubicBezTo>
                  <a:pt x="16202" y="10523"/>
                  <a:pt x="16298" y="10429"/>
                  <a:pt x="16401" y="10346"/>
                </a:cubicBezTo>
                <a:cubicBezTo>
                  <a:pt x="16446" y="10309"/>
                  <a:pt x="16492" y="10274"/>
                  <a:pt x="16539" y="10240"/>
                </a:cubicBezTo>
                <a:cubicBezTo>
                  <a:pt x="16583" y="10208"/>
                  <a:pt x="16629" y="10182"/>
                  <a:pt x="16675" y="10153"/>
                </a:cubicBezTo>
                <a:cubicBezTo>
                  <a:pt x="16821" y="10060"/>
                  <a:pt x="16983" y="9995"/>
                  <a:pt x="17128" y="9902"/>
                </a:cubicBezTo>
                <a:cubicBezTo>
                  <a:pt x="17172" y="9874"/>
                  <a:pt x="17212" y="9844"/>
                  <a:pt x="17257" y="9818"/>
                </a:cubicBezTo>
                <a:cubicBezTo>
                  <a:pt x="17265" y="9813"/>
                  <a:pt x="17273" y="9809"/>
                  <a:pt x="17281" y="9805"/>
                </a:cubicBezTo>
                <a:cubicBezTo>
                  <a:pt x="17261" y="9824"/>
                  <a:pt x="17240" y="9842"/>
                  <a:pt x="17220" y="9861"/>
                </a:cubicBezTo>
                <a:cubicBezTo>
                  <a:pt x="17175" y="9903"/>
                  <a:pt x="17127" y="9940"/>
                  <a:pt x="17082" y="9981"/>
                </a:cubicBezTo>
                <a:cubicBezTo>
                  <a:pt x="17031" y="10027"/>
                  <a:pt x="17000" y="10073"/>
                  <a:pt x="16964" y="10131"/>
                </a:cubicBezTo>
                <a:cubicBezTo>
                  <a:pt x="16944" y="10164"/>
                  <a:pt x="16912" y="10200"/>
                  <a:pt x="16897" y="10235"/>
                </a:cubicBezTo>
                <a:cubicBezTo>
                  <a:pt x="16892" y="10247"/>
                  <a:pt x="16893" y="10265"/>
                  <a:pt x="16890" y="10273"/>
                </a:cubicBezTo>
                <a:cubicBezTo>
                  <a:pt x="16898" y="10270"/>
                  <a:pt x="16913" y="10281"/>
                  <a:pt x="16924" y="10273"/>
                </a:cubicBezTo>
                <a:cubicBezTo>
                  <a:pt x="16938" y="10263"/>
                  <a:pt x="16945" y="10251"/>
                  <a:pt x="16958" y="10237"/>
                </a:cubicBezTo>
                <a:cubicBezTo>
                  <a:pt x="16980" y="10212"/>
                  <a:pt x="16996" y="10182"/>
                  <a:pt x="17017" y="10156"/>
                </a:cubicBezTo>
                <a:cubicBezTo>
                  <a:pt x="17034" y="10137"/>
                  <a:pt x="17039" y="10131"/>
                  <a:pt x="17051" y="10119"/>
                </a:cubicBezTo>
              </a:path>
              <a:path w="4141" h="2151">
                <a:moveTo>
                  <a:pt x="17189" y="9925"/>
                </a:moveTo>
                <a:cubicBezTo>
                  <a:pt x="17204" y="9911"/>
                  <a:pt x="17219" y="9900"/>
                  <a:pt x="17234" y="9887"/>
                </a:cubicBezTo>
                <a:cubicBezTo>
                  <a:pt x="17238" y="9884"/>
                  <a:pt x="17241" y="9880"/>
                  <a:pt x="17245" y="9877"/>
                </a:cubicBezTo>
                <a:cubicBezTo>
                  <a:pt x="17241" y="9883"/>
                  <a:pt x="17235" y="9889"/>
                  <a:pt x="17231" y="9895"/>
                </a:cubicBezTo>
                <a:cubicBezTo>
                  <a:pt x="17218" y="9914"/>
                  <a:pt x="17204" y="9930"/>
                  <a:pt x="17191" y="9948"/>
                </a:cubicBezTo>
                <a:cubicBezTo>
                  <a:pt x="17169" y="9979"/>
                  <a:pt x="17150" y="10008"/>
                  <a:pt x="17132" y="10042"/>
                </a:cubicBezTo>
                <a:cubicBezTo>
                  <a:pt x="17110" y="10084"/>
                  <a:pt x="17085" y="10124"/>
                  <a:pt x="17057" y="10162"/>
                </a:cubicBezTo>
                <a:cubicBezTo>
                  <a:pt x="17037" y="10189"/>
                  <a:pt x="17024" y="10220"/>
                  <a:pt x="17005" y="10248"/>
                </a:cubicBezTo>
                <a:cubicBezTo>
                  <a:pt x="16991" y="10269"/>
                  <a:pt x="16978" y="10292"/>
                  <a:pt x="16962" y="10312"/>
                </a:cubicBezTo>
                <a:cubicBezTo>
                  <a:pt x="16954" y="10322"/>
                  <a:pt x="16944" y="10331"/>
                  <a:pt x="16937" y="10341"/>
                </a:cubicBezTo>
                <a:cubicBezTo>
                  <a:pt x="16935" y="10344"/>
                  <a:pt x="16935" y="10345"/>
                  <a:pt x="16933" y="10348"/>
                </a:cubicBezTo>
                <a:cubicBezTo>
                  <a:pt x="16945" y="10338"/>
                  <a:pt x="16948" y="10336"/>
                  <a:pt x="16958" y="10319"/>
                </a:cubicBezTo>
                <a:cubicBezTo>
                  <a:pt x="16971" y="10297"/>
                  <a:pt x="16981" y="10274"/>
                  <a:pt x="16994" y="10253"/>
                </a:cubicBezTo>
                <a:cubicBezTo>
                  <a:pt x="17011" y="10226"/>
                  <a:pt x="17027" y="10199"/>
                  <a:pt x="17041" y="10171"/>
                </a:cubicBezTo>
              </a:path>
              <a:path w="4141" h="2151">
                <a:moveTo>
                  <a:pt x="17127" y="10013"/>
                </a:moveTo>
                <a:cubicBezTo>
                  <a:pt x="17144" y="9994"/>
                  <a:pt x="17158" y="9978"/>
                  <a:pt x="17171" y="9957"/>
                </a:cubicBezTo>
                <a:cubicBezTo>
                  <a:pt x="17176" y="9949"/>
                  <a:pt x="17179" y="9945"/>
                  <a:pt x="17179" y="9936"/>
                </a:cubicBezTo>
                <a:cubicBezTo>
                  <a:pt x="17179" y="9911"/>
                  <a:pt x="17159" y="9903"/>
                  <a:pt x="17139" y="9893"/>
                </a:cubicBezTo>
                <a:cubicBezTo>
                  <a:pt x="17119" y="9884"/>
                  <a:pt x="17098" y="9875"/>
                  <a:pt x="17076" y="9873"/>
                </a:cubicBezTo>
                <a:cubicBezTo>
                  <a:pt x="17048" y="9870"/>
                  <a:pt x="17020" y="9871"/>
                  <a:pt x="16992" y="9873"/>
                </a:cubicBezTo>
                <a:cubicBezTo>
                  <a:pt x="16956" y="9876"/>
                  <a:pt x="16919" y="9878"/>
                  <a:pt x="16883" y="9882"/>
                </a:cubicBezTo>
                <a:cubicBezTo>
                  <a:pt x="16848" y="9886"/>
                  <a:pt x="16813" y="9887"/>
                  <a:pt x="16777" y="9887"/>
                </a:cubicBezTo>
                <a:cubicBezTo>
                  <a:pt x="16755" y="9887"/>
                  <a:pt x="16732" y="9885"/>
                  <a:pt x="16711" y="9889"/>
                </a:cubicBezTo>
                <a:cubicBezTo>
                  <a:pt x="16710" y="9890"/>
                  <a:pt x="16710" y="9890"/>
                  <a:pt x="16709" y="9891"/>
                </a:cubicBezTo>
                <a:cubicBezTo>
                  <a:pt x="16725" y="9896"/>
                  <a:pt x="16738" y="9899"/>
                  <a:pt x="16756" y="9900"/>
                </a:cubicBezTo>
                <a:cubicBezTo>
                  <a:pt x="16781" y="9901"/>
                  <a:pt x="16804" y="9899"/>
                  <a:pt x="16829" y="9893"/>
                </a:cubicBezTo>
                <a:cubicBezTo>
                  <a:pt x="16875" y="9882"/>
                  <a:pt x="16919" y="9864"/>
                  <a:pt x="16965" y="9853"/>
                </a:cubicBezTo>
                <a:cubicBezTo>
                  <a:pt x="17028" y="9838"/>
                  <a:pt x="17096" y="9828"/>
                  <a:pt x="17161" y="9839"/>
                </a:cubicBezTo>
                <a:cubicBezTo>
                  <a:pt x="17184" y="9843"/>
                  <a:pt x="17209" y="9849"/>
                  <a:pt x="17231" y="9859"/>
                </a:cubicBezTo>
                <a:cubicBezTo>
                  <a:pt x="17237" y="9862"/>
                  <a:pt x="17244" y="9866"/>
                  <a:pt x="17250" y="9869"/>
                </a:cubicBezTo>
                <a:cubicBezTo>
                  <a:pt x="17243" y="9873"/>
                  <a:pt x="17244" y="9876"/>
                  <a:pt x="17236" y="9877"/>
                </a:cubicBezTo>
                <a:cubicBezTo>
                  <a:pt x="17209" y="9882"/>
                  <a:pt x="17182" y="9886"/>
                  <a:pt x="17155" y="9891"/>
                </a:cubicBezTo>
                <a:cubicBezTo>
                  <a:pt x="17107" y="9900"/>
                  <a:pt x="17060" y="9906"/>
                  <a:pt x="17012" y="9911"/>
                </a:cubicBezTo>
                <a:cubicBezTo>
                  <a:pt x="16951" y="9918"/>
                  <a:pt x="16892" y="9920"/>
                  <a:pt x="16831" y="9923"/>
                </a:cubicBezTo>
                <a:cubicBezTo>
                  <a:pt x="16749" y="9928"/>
                  <a:pt x="16667" y="9929"/>
                  <a:pt x="16585" y="9927"/>
                </a:cubicBezTo>
                <a:cubicBezTo>
                  <a:pt x="16568" y="9926"/>
                  <a:pt x="16551" y="9927"/>
                  <a:pt x="16535" y="9929"/>
                </a:cubicBezTo>
                <a:cubicBezTo>
                  <a:pt x="16533" y="9929"/>
                  <a:pt x="16532" y="9930"/>
                  <a:pt x="16530" y="9930"/>
                </a:cubicBezTo>
                <a:cubicBezTo>
                  <a:pt x="16542" y="9934"/>
                  <a:pt x="16546" y="9936"/>
                  <a:pt x="16559" y="9936"/>
                </a:cubicBezTo>
                <a:cubicBezTo>
                  <a:pt x="16594" y="9935"/>
                  <a:pt x="16628" y="9925"/>
                  <a:pt x="16662" y="9918"/>
                </a:cubicBezTo>
                <a:cubicBezTo>
                  <a:pt x="16708" y="9908"/>
                  <a:pt x="16754" y="9898"/>
                  <a:pt x="16800" y="9887"/>
                </a:cubicBezTo>
                <a:cubicBezTo>
                  <a:pt x="16850" y="9875"/>
                  <a:pt x="16901" y="9863"/>
                  <a:pt x="16951" y="9852"/>
                </a:cubicBezTo>
                <a:cubicBezTo>
                  <a:pt x="16989" y="9843"/>
                  <a:pt x="17000" y="9841"/>
                  <a:pt x="17025" y="9834"/>
                </a:cubicBezTo>
              </a:path>
              <a:path w="4141" h="2151">
                <a:moveTo>
                  <a:pt x="15451" y="11215"/>
                </a:moveTo>
                <a:cubicBezTo>
                  <a:pt x="15445" y="11216"/>
                  <a:pt x="15426" y="11222"/>
                  <a:pt x="15426" y="11222"/>
                </a:cubicBezTo>
                <a:cubicBezTo>
                  <a:pt x="15422" y="11222"/>
                  <a:pt x="15423" y="11222"/>
                  <a:pt x="15419" y="11222"/>
                </a:cubicBezTo>
                <a:cubicBezTo>
                  <a:pt x="15393" y="11224"/>
                  <a:pt x="15371" y="11225"/>
                  <a:pt x="15345" y="11231"/>
                </a:cubicBezTo>
                <a:cubicBezTo>
                  <a:pt x="15272" y="11247"/>
                  <a:pt x="15201" y="11260"/>
                  <a:pt x="15128" y="11274"/>
                </a:cubicBezTo>
                <a:cubicBezTo>
                  <a:pt x="15066" y="11286"/>
                  <a:pt x="15006" y="11304"/>
                  <a:pt x="14944" y="11316"/>
                </a:cubicBezTo>
                <a:cubicBezTo>
                  <a:pt x="14827" y="11339"/>
                  <a:pt x="14712" y="11363"/>
                  <a:pt x="14593" y="11378"/>
                </a:cubicBezTo>
                <a:cubicBezTo>
                  <a:pt x="14435" y="11399"/>
                  <a:pt x="14277" y="11423"/>
                  <a:pt x="14119" y="11446"/>
                </a:cubicBezTo>
                <a:cubicBezTo>
                  <a:pt x="14042" y="11457"/>
                  <a:pt x="13965" y="11463"/>
                  <a:pt x="13888" y="11473"/>
                </a:cubicBezTo>
                <a:cubicBezTo>
                  <a:pt x="13817" y="11482"/>
                  <a:pt x="13746" y="11497"/>
                  <a:pt x="13675" y="11502"/>
                </a:cubicBezTo>
                <a:cubicBezTo>
                  <a:pt x="13599" y="11508"/>
                  <a:pt x="13523" y="11508"/>
                  <a:pt x="13447" y="11513"/>
                </a:cubicBezTo>
                <a:cubicBezTo>
                  <a:pt x="13423" y="11515"/>
                  <a:pt x="13321" y="11519"/>
                  <a:pt x="13317" y="11515"/>
                </a:cubicBezTo>
                <a:cubicBezTo>
                  <a:pt x="13327" y="11515"/>
                  <a:pt x="13332" y="11514"/>
                  <a:pt x="13338" y="11509"/>
                </a:cubicBezTo>
              </a:path>
              <a:path w="4141" h="2151">
                <a:moveTo>
                  <a:pt x="13252" y="11518"/>
                </a:moveTo>
                <a:cubicBezTo>
                  <a:pt x="13239" y="11535"/>
                  <a:pt x="13228" y="11548"/>
                  <a:pt x="13220" y="11568"/>
                </a:cubicBezTo>
                <a:cubicBezTo>
                  <a:pt x="13218" y="11573"/>
                  <a:pt x="13218" y="11578"/>
                  <a:pt x="13216" y="11583"/>
                </a:cubicBezTo>
                <a:cubicBezTo>
                  <a:pt x="13218" y="11562"/>
                  <a:pt x="13222" y="11547"/>
                  <a:pt x="13229" y="11527"/>
                </a:cubicBezTo>
                <a:cubicBezTo>
                  <a:pt x="13242" y="11489"/>
                  <a:pt x="13267" y="11444"/>
                  <a:pt x="13291" y="11412"/>
                </a:cubicBezTo>
                <a:cubicBezTo>
                  <a:pt x="13334" y="11354"/>
                  <a:pt x="13397" y="11303"/>
                  <a:pt x="13453" y="11258"/>
                </a:cubicBezTo>
                <a:cubicBezTo>
                  <a:pt x="13522" y="11202"/>
                  <a:pt x="13600" y="11159"/>
                  <a:pt x="13682" y="11124"/>
                </a:cubicBezTo>
                <a:cubicBezTo>
                  <a:pt x="13718" y="11108"/>
                  <a:pt x="13757" y="11098"/>
                  <a:pt x="13790" y="11076"/>
                </a:cubicBezTo>
                <a:cubicBezTo>
                  <a:pt x="13796" y="11072"/>
                  <a:pt x="13802" y="11067"/>
                  <a:pt x="13808" y="11063"/>
                </a:cubicBezTo>
                <a:cubicBezTo>
                  <a:pt x="13808" y="11062"/>
                  <a:pt x="13809" y="11062"/>
                  <a:pt x="13809" y="11061"/>
                </a:cubicBezTo>
                <a:cubicBezTo>
                  <a:pt x="13804" y="11079"/>
                  <a:pt x="13805" y="11083"/>
                  <a:pt x="13793" y="11101"/>
                </a:cubicBezTo>
                <a:cubicBezTo>
                  <a:pt x="13788" y="11107"/>
                  <a:pt x="13784" y="11113"/>
                  <a:pt x="13779" y="11119"/>
                </a:cubicBezTo>
              </a:path>
              <a:path w="4141" h="2151">
                <a:moveTo>
                  <a:pt x="13290" y="11543"/>
                </a:moveTo>
                <a:cubicBezTo>
                  <a:pt x="13264" y="11568"/>
                  <a:pt x="13234" y="11587"/>
                  <a:pt x="13207" y="11611"/>
                </a:cubicBezTo>
                <a:cubicBezTo>
                  <a:pt x="13194" y="11623"/>
                  <a:pt x="13183" y="11637"/>
                  <a:pt x="13170" y="11649"/>
                </a:cubicBezTo>
                <a:cubicBezTo>
                  <a:pt x="13164" y="11655"/>
                  <a:pt x="13158" y="11660"/>
                  <a:pt x="13150" y="11665"/>
                </a:cubicBezTo>
                <a:cubicBezTo>
                  <a:pt x="13147" y="11667"/>
                  <a:pt x="13144" y="11666"/>
                  <a:pt x="13141" y="11667"/>
                </a:cubicBezTo>
                <a:cubicBezTo>
                  <a:pt x="13145" y="11673"/>
                  <a:pt x="13150" y="11684"/>
                  <a:pt x="13155" y="11690"/>
                </a:cubicBezTo>
                <a:cubicBezTo>
                  <a:pt x="13171" y="11709"/>
                  <a:pt x="13183" y="11730"/>
                  <a:pt x="13200" y="11748"/>
                </a:cubicBezTo>
                <a:cubicBezTo>
                  <a:pt x="13243" y="11796"/>
                  <a:pt x="13299" y="11844"/>
                  <a:pt x="13354" y="11877"/>
                </a:cubicBezTo>
                <a:cubicBezTo>
                  <a:pt x="13398" y="11904"/>
                  <a:pt x="13449" y="11922"/>
                  <a:pt x="13499" y="11934"/>
                </a:cubicBezTo>
                <a:cubicBezTo>
                  <a:pt x="13534" y="11943"/>
                  <a:pt x="13569" y="11951"/>
                  <a:pt x="13605" y="11954"/>
                </a:cubicBezTo>
                <a:cubicBezTo>
                  <a:pt x="13647" y="11957"/>
                  <a:pt x="13706" y="11965"/>
                  <a:pt x="13748" y="11954"/>
                </a:cubicBezTo>
                <a:cubicBezTo>
                  <a:pt x="13765" y="11950"/>
                  <a:pt x="13786" y="11938"/>
                  <a:pt x="13802" y="11930"/>
                </a:cubicBezTo>
                <a:cubicBezTo>
                  <a:pt x="13806" y="11927"/>
                  <a:pt x="13811" y="11924"/>
                  <a:pt x="13815" y="11921"/>
                </a:cubicBezTo>
              </a:path>
              <a:path w="4141" h="2151">
                <a:moveTo>
                  <a:pt x="14632" y="11009"/>
                </a:moveTo>
                <a:cubicBezTo>
                  <a:pt x="14651" y="10977"/>
                  <a:pt x="14664" y="10944"/>
                  <a:pt x="14677" y="10909"/>
                </a:cubicBezTo>
                <a:cubicBezTo>
                  <a:pt x="14678" y="10906"/>
                  <a:pt x="14679" y="10903"/>
                  <a:pt x="14680" y="10900"/>
                </a:cubicBezTo>
                <a:cubicBezTo>
                  <a:pt x="14680" y="10912"/>
                  <a:pt x="14683" y="10917"/>
                  <a:pt x="14682" y="10929"/>
                </a:cubicBezTo>
                <a:cubicBezTo>
                  <a:pt x="14680" y="10968"/>
                  <a:pt x="14672" y="11006"/>
                  <a:pt x="14661" y="11043"/>
                </a:cubicBezTo>
                <a:cubicBezTo>
                  <a:pt x="14641" y="11107"/>
                  <a:pt x="14618" y="11168"/>
                  <a:pt x="14594" y="11230"/>
                </a:cubicBezTo>
                <a:cubicBezTo>
                  <a:pt x="14535" y="11381"/>
                  <a:pt x="14459" y="11515"/>
                  <a:pt x="14369" y="11649"/>
                </a:cubicBezTo>
                <a:cubicBezTo>
                  <a:pt x="14348" y="11681"/>
                  <a:pt x="14333" y="11714"/>
                  <a:pt x="14315" y="11748"/>
                </a:cubicBezTo>
                <a:cubicBezTo>
                  <a:pt x="14304" y="11768"/>
                  <a:pt x="14291" y="11787"/>
                  <a:pt x="14282" y="11808"/>
                </a:cubicBezTo>
                <a:cubicBezTo>
                  <a:pt x="14279" y="11816"/>
                  <a:pt x="14275" y="11826"/>
                  <a:pt x="14275" y="11834"/>
                </a:cubicBezTo>
                <a:cubicBezTo>
                  <a:pt x="14275" y="11835"/>
                  <a:pt x="14282" y="11840"/>
                  <a:pt x="14282" y="11842"/>
                </a:cubicBezTo>
              </a:path>
              <a:path w="4141" h="2151">
                <a:moveTo>
                  <a:pt x="14397" y="11099"/>
                </a:moveTo>
                <a:cubicBezTo>
                  <a:pt x="14374" y="11093"/>
                  <a:pt x="14372" y="11101"/>
                  <a:pt x="14354" y="11084"/>
                </a:cubicBezTo>
                <a:cubicBezTo>
                  <a:pt x="14343" y="11073"/>
                  <a:pt x="14338" y="11059"/>
                  <a:pt x="14325" y="11049"/>
                </a:cubicBezTo>
                <a:cubicBezTo>
                  <a:pt x="14314" y="11040"/>
                  <a:pt x="14307" y="11040"/>
                  <a:pt x="14295" y="11036"/>
                </a:cubicBezTo>
                <a:cubicBezTo>
                  <a:pt x="14285" y="11032"/>
                  <a:pt x="14274" y="11033"/>
                  <a:pt x="14265" y="11027"/>
                </a:cubicBezTo>
                <a:cubicBezTo>
                  <a:pt x="14251" y="11018"/>
                  <a:pt x="14248" y="11005"/>
                  <a:pt x="14231" y="11000"/>
                </a:cubicBezTo>
                <a:cubicBezTo>
                  <a:pt x="14225" y="10998"/>
                  <a:pt x="14220" y="11001"/>
                  <a:pt x="14216" y="11000"/>
                </a:cubicBezTo>
                <a:cubicBezTo>
                  <a:pt x="14205" y="10998"/>
                  <a:pt x="14193" y="11002"/>
                  <a:pt x="14184" y="11002"/>
                </a:cubicBezTo>
                <a:cubicBezTo>
                  <a:pt x="14192" y="11015"/>
                  <a:pt x="14203" y="11029"/>
                  <a:pt x="14213" y="11043"/>
                </a:cubicBezTo>
                <a:cubicBezTo>
                  <a:pt x="14231" y="11068"/>
                  <a:pt x="14241" y="11093"/>
                  <a:pt x="14257" y="11119"/>
                </a:cubicBezTo>
                <a:cubicBezTo>
                  <a:pt x="14289" y="11172"/>
                  <a:pt x="14315" y="11228"/>
                  <a:pt x="14347" y="11280"/>
                </a:cubicBezTo>
                <a:cubicBezTo>
                  <a:pt x="14379" y="11332"/>
                  <a:pt x="14415" y="11384"/>
                  <a:pt x="14453" y="11432"/>
                </a:cubicBezTo>
                <a:cubicBezTo>
                  <a:pt x="14495" y="11485"/>
                  <a:pt x="14546" y="11526"/>
                  <a:pt x="14598" y="11568"/>
                </a:cubicBezTo>
                <a:cubicBezTo>
                  <a:pt x="14666" y="11622"/>
                  <a:pt x="14741" y="11668"/>
                  <a:pt x="14806" y="11724"/>
                </a:cubicBezTo>
                <a:cubicBezTo>
                  <a:pt x="14838" y="11752"/>
                  <a:pt x="14869" y="11780"/>
                  <a:pt x="14904" y="11805"/>
                </a:cubicBezTo>
                <a:cubicBezTo>
                  <a:pt x="14913" y="11811"/>
                  <a:pt x="14928" y="11817"/>
                  <a:pt x="14935" y="11825"/>
                </a:cubicBezTo>
                <a:cubicBezTo>
                  <a:pt x="14939" y="11829"/>
                  <a:pt x="14944" y="11831"/>
                  <a:pt x="14944" y="11832"/>
                </a:cubicBezTo>
                <a:cubicBezTo>
                  <a:pt x="14935" y="11834"/>
                  <a:pt x="14932" y="11835"/>
                  <a:pt x="14926" y="11837"/>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63680" y="3192480"/>
            <a:ext cx="1751040" cy="1189080"/>
          </a:xfrm>
          <a:custGeom>
            <a:avLst/>
            <a:gdLst/>
            <a:ahLst/>
            <a:rect l="l" t="t" r="r" b="b"/>
            <a:pathLst>
              <a:path w="4865" h="3300">
                <a:moveTo>
                  <a:pt x="4630" y="10701"/>
                </a:moveTo>
                <a:cubicBezTo>
                  <a:pt x="4608" y="10722"/>
                  <a:pt x="4588" y="10745"/>
                  <a:pt x="4564" y="10764"/>
                </a:cubicBezTo>
                <a:cubicBezTo>
                  <a:pt x="4560" y="10767"/>
                  <a:pt x="4560" y="10764"/>
                  <a:pt x="4556" y="10767"/>
                </a:cubicBezTo>
                <a:cubicBezTo>
                  <a:pt x="4565" y="10752"/>
                  <a:pt x="4578" y="10733"/>
                  <a:pt x="4587" y="10717"/>
                </a:cubicBezTo>
                <a:cubicBezTo>
                  <a:pt x="4620" y="10658"/>
                  <a:pt x="4652" y="10598"/>
                  <a:pt x="4694" y="10545"/>
                </a:cubicBezTo>
                <a:cubicBezTo>
                  <a:pt x="4758" y="10464"/>
                  <a:pt x="4835" y="10391"/>
                  <a:pt x="4908" y="10319"/>
                </a:cubicBezTo>
                <a:cubicBezTo>
                  <a:pt x="5117" y="10112"/>
                  <a:pt x="5334" y="9907"/>
                  <a:pt x="5513" y="9672"/>
                </a:cubicBezTo>
                <a:cubicBezTo>
                  <a:pt x="5614" y="9540"/>
                  <a:pt x="5703" y="9401"/>
                  <a:pt x="5806" y="9271"/>
                </a:cubicBezTo>
                <a:cubicBezTo>
                  <a:pt x="5870" y="9191"/>
                  <a:pt x="5937" y="9111"/>
                  <a:pt x="6004" y="9034"/>
                </a:cubicBezTo>
                <a:cubicBezTo>
                  <a:pt x="6036" y="8997"/>
                  <a:pt x="6071" y="8957"/>
                  <a:pt x="6112" y="8929"/>
                </a:cubicBezTo>
                <a:cubicBezTo>
                  <a:pt x="6120" y="8923"/>
                  <a:pt x="6127" y="8918"/>
                  <a:pt x="6135" y="8913"/>
                </a:cubicBezTo>
                <a:cubicBezTo>
                  <a:pt x="6139" y="8914"/>
                  <a:pt x="6141" y="8914"/>
                  <a:pt x="6144" y="8914"/>
                </a:cubicBezTo>
                <a:cubicBezTo>
                  <a:pt x="6143" y="8922"/>
                  <a:pt x="6148" y="8929"/>
                  <a:pt x="6146" y="8941"/>
                </a:cubicBezTo>
                <a:cubicBezTo>
                  <a:pt x="6143" y="8959"/>
                  <a:pt x="6138" y="8978"/>
                  <a:pt x="6135" y="8997"/>
                </a:cubicBezTo>
              </a:path>
              <a:path w="4865" h="3300">
                <a:moveTo>
                  <a:pt x="6116" y="9038"/>
                </a:moveTo>
                <a:cubicBezTo>
                  <a:pt x="6116" y="9019"/>
                  <a:pt x="6116" y="9001"/>
                  <a:pt x="6116" y="8982"/>
                </a:cubicBezTo>
                <a:cubicBezTo>
                  <a:pt x="6112" y="9007"/>
                  <a:pt x="6104" y="9031"/>
                  <a:pt x="6099" y="9056"/>
                </a:cubicBezTo>
                <a:cubicBezTo>
                  <a:pt x="6089" y="9109"/>
                  <a:pt x="6086" y="9162"/>
                  <a:pt x="6073" y="9214"/>
                </a:cubicBezTo>
                <a:cubicBezTo>
                  <a:pt x="6053" y="9298"/>
                  <a:pt x="6018" y="9377"/>
                  <a:pt x="5992" y="9459"/>
                </a:cubicBezTo>
                <a:cubicBezTo>
                  <a:pt x="5985" y="9481"/>
                  <a:pt x="5982" y="9513"/>
                  <a:pt x="5969" y="9533"/>
                </a:cubicBezTo>
                <a:cubicBezTo>
                  <a:pt x="5964" y="9541"/>
                  <a:pt x="5956" y="9539"/>
                  <a:pt x="5949" y="9545"/>
                </a:cubicBezTo>
                <a:cubicBezTo>
                  <a:pt x="5948" y="9523"/>
                  <a:pt x="5950" y="9509"/>
                  <a:pt x="5954" y="9486"/>
                </a:cubicBezTo>
                <a:cubicBezTo>
                  <a:pt x="5962" y="9440"/>
                  <a:pt x="5974" y="9399"/>
                  <a:pt x="5987" y="9355"/>
                </a:cubicBezTo>
                <a:cubicBezTo>
                  <a:pt x="5997" y="9321"/>
                  <a:pt x="6004" y="9284"/>
                  <a:pt x="6010" y="9249"/>
                </a:cubicBezTo>
                <a:cubicBezTo>
                  <a:pt x="6016" y="9208"/>
                  <a:pt x="6021" y="9167"/>
                  <a:pt x="6026" y="9126"/>
                </a:cubicBezTo>
                <a:cubicBezTo>
                  <a:pt x="6030" y="9097"/>
                  <a:pt x="6040" y="9071"/>
                  <a:pt x="6042" y="9042"/>
                </a:cubicBezTo>
                <a:cubicBezTo>
                  <a:pt x="6045" y="9001"/>
                  <a:pt x="6055" y="8922"/>
                  <a:pt x="6038" y="8884"/>
                </a:cubicBezTo>
                <a:cubicBezTo>
                  <a:pt x="6035" y="8878"/>
                  <a:pt x="6034" y="8873"/>
                  <a:pt x="6028" y="8870"/>
                </a:cubicBezTo>
                <a:cubicBezTo>
                  <a:pt x="6004" y="8857"/>
                  <a:pt x="5956" y="8883"/>
                  <a:pt x="5936" y="8891"/>
                </a:cubicBezTo>
                <a:cubicBezTo>
                  <a:pt x="5899" y="8907"/>
                  <a:pt x="5861" y="8921"/>
                  <a:pt x="5825" y="8939"/>
                </a:cubicBezTo>
                <a:cubicBezTo>
                  <a:pt x="5767" y="8968"/>
                  <a:pt x="5710" y="8999"/>
                  <a:pt x="5653" y="9029"/>
                </a:cubicBezTo>
                <a:cubicBezTo>
                  <a:pt x="5614" y="9049"/>
                  <a:pt x="5574" y="9071"/>
                  <a:pt x="5537" y="9095"/>
                </a:cubicBezTo>
                <a:cubicBezTo>
                  <a:pt x="5526" y="9102"/>
                  <a:pt x="5517" y="9108"/>
                  <a:pt x="5508" y="9117"/>
                </a:cubicBezTo>
                <a:cubicBezTo>
                  <a:pt x="5506" y="9119"/>
                  <a:pt x="5506" y="9122"/>
                  <a:pt x="5504" y="9124"/>
                </a:cubicBezTo>
                <a:cubicBezTo>
                  <a:pt x="5534" y="9123"/>
                  <a:pt x="5561" y="9118"/>
                  <a:pt x="5590" y="9111"/>
                </a:cubicBezTo>
              </a:path>
              <a:path w="4865" h="3300">
                <a:moveTo>
                  <a:pt x="5659" y="9124"/>
                </a:moveTo>
                <a:cubicBezTo>
                  <a:pt x="5663" y="9115"/>
                  <a:pt x="5667" y="9106"/>
                  <a:pt x="5669" y="9097"/>
                </a:cubicBezTo>
                <a:cubicBezTo>
                  <a:pt x="5669" y="9095"/>
                  <a:pt x="5669" y="9094"/>
                  <a:pt x="5669" y="9092"/>
                </a:cubicBezTo>
                <a:cubicBezTo>
                  <a:pt x="5662" y="9092"/>
                  <a:pt x="5640" y="9088"/>
                  <a:pt x="5635" y="9095"/>
                </a:cubicBezTo>
                <a:cubicBezTo>
                  <a:pt x="5629" y="9104"/>
                  <a:pt x="5639" y="9133"/>
                  <a:pt x="5641" y="9142"/>
                </a:cubicBezTo>
                <a:cubicBezTo>
                  <a:pt x="5646" y="9169"/>
                  <a:pt x="5657" y="9194"/>
                  <a:pt x="5671" y="9217"/>
                </a:cubicBezTo>
                <a:cubicBezTo>
                  <a:pt x="5693" y="9251"/>
                  <a:pt x="5721" y="9275"/>
                  <a:pt x="5755" y="9296"/>
                </a:cubicBezTo>
                <a:cubicBezTo>
                  <a:pt x="5791" y="9318"/>
                  <a:pt x="5834" y="9327"/>
                  <a:pt x="5870" y="9348"/>
                </a:cubicBezTo>
                <a:cubicBezTo>
                  <a:pt x="5892" y="9361"/>
                  <a:pt x="5915" y="9377"/>
                  <a:pt x="5933" y="9395"/>
                </a:cubicBezTo>
                <a:cubicBezTo>
                  <a:pt x="5945" y="9407"/>
                  <a:pt x="5959" y="9419"/>
                  <a:pt x="5969" y="9432"/>
                </a:cubicBezTo>
                <a:cubicBezTo>
                  <a:pt x="5976" y="9441"/>
                  <a:pt x="5981" y="9446"/>
                  <a:pt x="5990" y="9454"/>
                </a:cubicBezTo>
                <a:cubicBezTo>
                  <a:pt x="5992" y="9456"/>
                  <a:pt x="5992" y="9456"/>
                  <a:pt x="5994" y="9457"/>
                </a:cubicBezTo>
                <a:cubicBezTo>
                  <a:pt x="5993" y="9450"/>
                  <a:pt x="5993" y="9443"/>
                  <a:pt x="5992" y="9436"/>
                </a:cubicBezTo>
                <a:cubicBezTo>
                  <a:pt x="5991" y="9434"/>
                  <a:pt x="5991" y="9432"/>
                  <a:pt x="5990" y="9430"/>
                </a:cubicBezTo>
              </a:path>
              <a:path w="4865" h="3300">
                <a:moveTo>
                  <a:pt x="5904" y="9387"/>
                </a:moveTo>
                <a:cubicBezTo>
                  <a:pt x="5892" y="9375"/>
                  <a:pt x="5880" y="9363"/>
                  <a:pt x="5868" y="9352"/>
                </a:cubicBezTo>
                <a:cubicBezTo>
                  <a:pt x="5865" y="9350"/>
                  <a:pt x="5863" y="9348"/>
                  <a:pt x="5861" y="9346"/>
                </a:cubicBezTo>
                <a:cubicBezTo>
                  <a:pt x="5865" y="9359"/>
                  <a:pt x="5870" y="9373"/>
                  <a:pt x="5874" y="9386"/>
                </a:cubicBezTo>
                <a:cubicBezTo>
                  <a:pt x="5882" y="9413"/>
                  <a:pt x="5890" y="9431"/>
                  <a:pt x="5904" y="9454"/>
                </a:cubicBezTo>
                <a:cubicBezTo>
                  <a:pt x="5908" y="9461"/>
                  <a:pt x="5913" y="9472"/>
                  <a:pt x="5917" y="9477"/>
                </a:cubicBezTo>
                <a:cubicBezTo>
                  <a:pt x="5918" y="9477"/>
                  <a:pt x="5919" y="9477"/>
                  <a:pt x="5920" y="9477"/>
                </a:cubicBezTo>
                <a:cubicBezTo>
                  <a:pt x="5920" y="9458"/>
                  <a:pt x="5920" y="9439"/>
                  <a:pt x="5917" y="9420"/>
                </a:cubicBezTo>
                <a:cubicBezTo>
                  <a:pt x="5913" y="9397"/>
                  <a:pt x="5900" y="9374"/>
                  <a:pt x="5890" y="9353"/>
                </a:cubicBezTo>
                <a:cubicBezTo>
                  <a:pt x="5878" y="9328"/>
                  <a:pt x="5868" y="9304"/>
                  <a:pt x="5859" y="9278"/>
                </a:cubicBezTo>
                <a:cubicBezTo>
                  <a:pt x="5851" y="9257"/>
                  <a:pt x="5845" y="9235"/>
                  <a:pt x="5838" y="9214"/>
                </a:cubicBezTo>
                <a:cubicBezTo>
                  <a:pt x="5835" y="9205"/>
                  <a:pt x="5835" y="9193"/>
                  <a:pt x="5831" y="9185"/>
                </a:cubicBezTo>
                <a:cubicBezTo>
                  <a:pt x="5829" y="9180"/>
                  <a:pt x="5829" y="9179"/>
                  <a:pt x="5825" y="9178"/>
                </a:cubicBezTo>
                <a:cubicBezTo>
                  <a:pt x="5819" y="9184"/>
                  <a:pt x="5811" y="9192"/>
                  <a:pt x="5804" y="9199"/>
                </a:cubicBezTo>
                <a:cubicBezTo>
                  <a:pt x="5790" y="9212"/>
                  <a:pt x="5778" y="9228"/>
                  <a:pt x="5764" y="9240"/>
                </a:cubicBezTo>
                <a:cubicBezTo>
                  <a:pt x="5762" y="9242"/>
                  <a:pt x="5761" y="9243"/>
                  <a:pt x="5759" y="9242"/>
                </a:cubicBezTo>
                <a:cubicBezTo>
                  <a:pt x="5764" y="9232"/>
                  <a:pt x="5769" y="9222"/>
                  <a:pt x="5775" y="9212"/>
                </a:cubicBezTo>
                <a:cubicBezTo>
                  <a:pt x="5785" y="9196"/>
                  <a:pt x="5804" y="9186"/>
                  <a:pt x="5816" y="9171"/>
                </a:cubicBezTo>
                <a:cubicBezTo>
                  <a:pt x="5825" y="9161"/>
                  <a:pt x="5835" y="9150"/>
                  <a:pt x="5840" y="9137"/>
                </a:cubicBezTo>
                <a:cubicBezTo>
                  <a:pt x="5843" y="9129"/>
                  <a:pt x="5843" y="9121"/>
                  <a:pt x="5841" y="9113"/>
                </a:cubicBezTo>
                <a:cubicBezTo>
                  <a:pt x="5839" y="9111"/>
                  <a:pt x="5838" y="9110"/>
                  <a:pt x="5836" y="9108"/>
                </a:cubicBezTo>
                <a:cubicBezTo>
                  <a:pt x="5818" y="9112"/>
                  <a:pt x="5811" y="9113"/>
                  <a:pt x="5797" y="9126"/>
                </a:cubicBezTo>
                <a:cubicBezTo>
                  <a:pt x="5782" y="9140"/>
                  <a:pt x="5768" y="9154"/>
                  <a:pt x="5752" y="9167"/>
                </a:cubicBezTo>
                <a:cubicBezTo>
                  <a:pt x="5745" y="9173"/>
                  <a:pt x="5737" y="9178"/>
                  <a:pt x="5730" y="9185"/>
                </a:cubicBezTo>
                <a:cubicBezTo>
                  <a:pt x="5735" y="9181"/>
                  <a:pt x="5738" y="9180"/>
                  <a:pt x="5743" y="9176"/>
                </a:cubicBezTo>
                <a:cubicBezTo>
                  <a:pt x="5754" y="9167"/>
                  <a:pt x="5764" y="9157"/>
                  <a:pt x="5773" y="9147"/>
                </a:cubicBezTo>
                <a:cubicBezTo>
                  <a:pt x="5781" y="9138"/>
                  <a:pt x="5787" y="9129"/>
                  <a:pt x="5793" y="9119"/>
                </a:cubicBezTo>
                <a:cubicBezTo>
                  <a:pt x="5794" y="9117"/>
                  <a:pt x="5796" y="9114"/>
                  <a:pt x="5797" y="9113"/>
                </a:cubicBezTo>
                <a:cubicBezTo>
                  <a:pt x="5792" y="9113"/>
                  <a:pt x="5789" y="9110"/>
                  <a:pt x="5784" y="9111"/>
                </a:cubicBezTo>
                <a:cubicBezTo>
                  <a:pt x="5774" y="9113"/>
                  <a:pt x="5769" y="9118"/>
                  <a:pt x="5762" y="9126"/>
                </a:cubicBezTo>
                <a:cubicBezTo>
                  <a:pt x="5752" y="9137"/>
                  <a:pt x="5747" y="9151"/>
                  <a:pt x="5739" y="9162"/>
                </a:cubicBezTo>
                <a:cubicBezTo>
                  <a:pt x="5735" y="9167"/>
                  <a:pt x="5731" y="9171"/>
                  <a:pt x="5727" y="9176"/>
                </a:cubicBezTo>
                <a:cubicBezTo>
                  <a:pt x="5729" y="9169"/>
                  <a:pt x="5728" y="9169"/>
                  <a:pt x="5732" y="9162"/>
                </a:cubicBezTo>
                <a:cubicBezTo>
                  <a:pt x="5740" y="9149"/>
                  <a:pt x="5748" y="9142"/>
                  <a:pt x="5762" y="9135"/>
                </a:cubicBezTo>
                <a:cubicBezTo>
                  <a:pt x="5778" y="9127"/>
                  <a:pt x="5792" y="9118"/>
                  <a:pt x="5807" y="9110"/>
                </a:cubicBezTo>
                <a:cubicBezTo>
                  <a:pt x="5813" y="9106"/>
                  <a:pt x="5820" y="9103"/>
                  <a:pt x="5827" y="9101"/>
                </a:cubicBezTo>
                <a:cubicBezTo>
                  <a:pt x="5829" y="9101"/>
                  <a:pt x="5830" y="9101"/>
                  <a:pt x="5831" y="9102"/>
                </a:cubicBezTo>
                <a:cubicBezTo>
                  <a:pt x="5825" y="9114"/>
                  <a:pt x="5821" y="9126"/>
                  <a:pt x="5814" y="9138"/>
                </a:cubicBezTo>
                <a:cubicBezTo>
                  <a:pt x="5802" y="9160"/>
                  <a:pt x="5786" y="9184"/>
                  <a:pt x="5770" y="9203"/>
                </a:cubicBezTo>
                <a:cubicBezTo>
                  <a:pt x="5760" y="9215"/>
                  <a:pt x="5750" y="9225"/>
                  <a:pt x="5741" y="9237"/>
                </a:cubicBezTo>
                <a:cubicBezTo>
                  <a:pt x="5737" y="9243"/>
                  <a:pt x="5732" y="9245"/>
                  <a:pt x="5728" y="9249"/>
                </a:cubicBezTo>
                <a:cubicBezTo>
                  <a:pt x="5741" y="9245"/>
                  <a:pt x="5751" y="9241"/>
                  <a:pt x="5762" y="9232"/>
                </a:cubicBezTo>
                <a:cubicBezTo>
                  <a:pt x="5779" y="9219"/>
                  <a:pt x="5797" y="9205"/>
                  <a:pt x="5814" y="9192"/>
                </a:cubicBezTo>
                <a:cubicBezTo>
                  <a:pt x="5826" y="9183"/>
                  <a:pt x="5841" y="9178"/>
                  <a:pt x="5854" y="9171"/>
                </a:cubicBezTo>
                <a:cubicBezTo>
                  <a:pt x="5857" y="9169"/>
                  <a:pt x="5867" y="9163"/>
                  <a:pt x="5870" y="9162"/>
                </a:cubicBezTo>
                <a:cubicBezTo>
                  <a:pt x="5871" y="9162"/>
                  <a:pt x="5873" y="9162"/>
                  <a:pt x="5874" y="9162"/>
                </a:cubicBezTo>
                <a:cubicBezTo>
                  <a:pt x="5870" y="9165"/>
                  <a:pt x="5866" y="9169"/>
                  <a:pt x="5861" y="9174"/>
                </a:cubicBezTo>
                <a:cubicBezTo>
                  <a:pt x="5852" y="9185"/>
                  <a:pt x="5841" y="9193"/>
                  <a:pt x="5831" y="9203"/>
                </a:cubicBezTo>
                <a:cubicBezTo>
                  <a:pt x="5824" y="9210"/>
                  <a:pt x="5817" y="9218"/>
                  <a:pt x="5811" y="9226"/>
                </a:cubicBezTo>
                <a:cubicBezTo>
                  <a:pt x="5809" y="9228"/>
                  <a:pt x="5806" y="9234"/>
                  <a:pt x="5804" y="9235"/>
                </a:cubicBezTo>
                <a:cubicBezTo>
                  <a:pt x="5801" y="9235"/>
                  <a:pt x="5800" y="9235"/>
                  <a:pt x="5798" y="9235"/>
                </a:cubicBezTo>
                <a:cubicBezTo>
                  <a:pt x="5802" y="9232"/>
                  <a:pt x="5806" y="9228"/>
                  <a:pt x="5811" y="9224"/>
                </a:cubicBezTo>
                <a:cubicBezTo>
                  <a:pt x="5815" y="9221"/>
                  <a:pt x="5822" y="9213"/>
                  <a:pt x="5827" y="9214"/>
                </a:cubicBezTo>
                <a:cubicBezTo>
                  <a:pt x="5833" y="9215"/>
                  <a:pt x="5828" y="9214"/>
                  <a:pt x="5831" y="9219"/>
                </a:cubicBezTo>
                <a:cubicBezTo>
                  <a:pt x="5833" y="9223"/>
                  <a:pt x="5832" y="9228"/>
                  <a:pt x="5834" y="9230"/>
                </a:cubicBezTo>
                <a:cubicBezTo>
                  <a:pt x="5835" y="9230"/>
                  <a:pt x="5835" y="9230"/>
                  <a:pt x="5836" y="9230"/>
                </a:cubicBezTo>
                <a:cubicBezTo>
                  <a:pt x="5842" y="9224"/>
                  <a:pt x="5844" y="9221"/>
                  <a:pt x="5849" y="9214"/>
                </a:cubicBezTo>
                <a:cubicBezTo>
                  <a:pt x="5857" y="9201"/>
                  <a:pt x="5862" y="9189"/>
                  <a:pt x="5865" y="9174"/>
                </a:cubicBezTo>
                <a:cubicBezTo>
                  <a:pt x="5867" y="9161"/>
                  <a:pt x="5868" y="9145"/>
                  <a:pt x="5863" y="9133"/>
                </a:cubicBezTo>
                <a:cubicBezTo>
                  <a:pt x="5858" y="9120"/>
                  <a:pt x="5853" y="9109"/>
                  <a:pt x="5849" y="9095"/>
                </a:cubicBezTo>
                <a:cubicBezTo>
                  <a:pt x="5845" y="9080"/>
                  <a:pt x="5842" y="9067"/>
                  <a:pt x="5841" y="9052"/>
                </a:cubicBezTo>
                <a:cubicBezTo>
                  <a:pt x="5840" y="9041"/>
                  <a:pt x="5842" y="9035"/>
                  <a:pt x="5845" y="9025"/>
                </a:cubicBezTo>
                <a:cubicBezTo>
                  <a:pt x="5846" y="9022"/>
                  <a:pt x="5848" y="9019"/>
                  <a:pt x="5849" y="9018"/>
                </a:cubicBezTo>
                <a:cubicBezTo>
                  <a:pt x="5849" y="9018"/>
                  <a:pt x="5850" y="9018"/>
                  <a:pt x="5850" y="9018"/>
                </a:cubicBezTo>
                <a:cubicBezTo>
                  <a:pt x="5850" y="9019"/>
                  <a:pt x="5854" y="9022"/>
                  <a:pt x="5854" y="9027"/>
                </a:cubicBezTo>
                <a:cubicBezTo>
                  <a:pt x="5853" y="9038"/>
                  <a:pt x="5848" y="9051"/>
                  <a:pt x="5845" y="9061"/>
                </a:cubicBezTo>
                <a:cubicBezTo>
                  <a:pt x="5841" y="9075"/>
                  <a:pt x="5833" y="9087"/>
                  <a:pt x="5829" y="9101"/>
                </a:cubicBezTo>
                <a:cubicBezTo>
                  <a:pt x="5826" y="9110"/>
                  <a:pt x="5824" y="9121"/>
                  <a:pt x="5825" y="9131"/>
                </a:cubicBezTo>
                <a:cubicBezTo>
                  <a:pt x="5826" y="9132"/>
                  <a:pt x="5826" y="9134"/>
                  <a:pt x="5827" y="9135"/>
                </a:cubicBezTo>
                <a:cubicBezTo>
                  <a:pt x="5842" y="9137"/>
                  <a:pt x="5845" y="9141"/>
                  <a:pt x="5861" y="9133"/>
                </a:cubicBezTo>
                <a:cubicBezTo>
                  <a:pt x="5878" y="9124"/>
                  <a:pt x="5897" y="9107"/>
                  <a:pt x="5911" y="9094"/>
                </a:cubicBezTo>
                <a:cubicBezTo>
                  <a:pt x="5926" y="9081"/>
                  <a:pt x="5940" y="9066"/>
                  <a:pt x="5954" y="9051"/>
                </a:cubicBezTo>
              </a:path>
              <a:path w="4865" h="3300">
                <a:moveTo>
                  <a:pt x="3822" y="11394"/>
                </a:moveTo>
                <a:cubicBezTo>
                  <a:pt x="3830" y="11386"/>
                  <a:pt x="3839" y="11379"/>
                  <a:pt x="3847" y="11371"/>
                </a:cubicBezTo>
                <a:cubicBezTo>
                  <a:pt x="3853" y="11364"/>
                  <a:pt x="3857" y="11357"/>
                  <a:pt x="3863" y="11353"/>
                </a:cubicBezTo>
                <a:cubicBezTo>
                  <a:pt x="3870" y="11349"/>
                  <a:pt x="3880" y="11350"/>
                  <a:pt x="3886" y="11348"/>
                </a:cubicBezTo>
                <a:cubicBezTo>
                  <a:pt x="3885" y="11348"/>
                  <a:pt x="3874" y="11351"/>
                  <a:pt x="3870" y="11351"/>
                </a:cubicBezTo>
                <a:cubicBezTo>
                  <a:pt x="3824" y="11352"/>
                  <a:pt x="3782" y="11360"/>
                  <a:pt x="3736" y="11364"/>
                </a:cubicBezTo>
                <a:cubicBezTo>
                  <a:pt x="3668" y="11369"/>
                  <a:pt x="3599" y="11367"/>
                  <a:pt x="3531" y="11371"/>
                </a:cubicBezTo>
                <a:cubicBezTo>
                  <a:pt x="3475" y="11374"/>
                  <a:pt x="3419" y="11373"/>
                  <a:pt x="3363" y="11375"/>
                </a:cubicBezTo>
                <a:cubicBezTo>
                  <a:pt x="3114" y="11385"/>
                  <a:pt x="2864" y="11374"/>
                  <a:pt x="2615" y="11386"/>
                </a:cubicBezTo>
                <a:cubicBezTo>
                  <a:pt x="2579" y="11388"/>
                  <a:pt x="2542" y="11389"/>
                  <a:pt x="2506" y="11389"/>
                </a:cubicBezTo>
                <a:cubicBezTo>
                  <a:pt x="2448" y="11389"/>
                  <a:pt x="2391" y="11390"/>
                  <a:pt x="2334" y="11382"/>
                </a:cubicBezTo>
                <a:cubicBezTo>
                  <a:pt x="2323" y="11380"/>
                  <a:pt x="2311" y="11377"/>
                  <a:pt x="2300" y="11375"/>
                </a:cubicBezTo>
                <a:cubicBezTo>
                  <a:pt x="2290" y="11373"/>
                  <a:pt x="2278" y="11366"/>
                  <a:pt x="2264" y="11368"/>
                </a:cubicBezTo>
                <a:cubicBezTo>
                  <a:pt x="2255" y="11369"/>
                  <a:pt x="2248" y="11369"/>
                  <a:pt x="2241" y="11371"/>
                </a:cubicBezTo>
                <a:cubicBezTo>
                  <a:pt x="2235" y="11373"/>
                  <a:pt x="2235" y="11381"/>
                  <a:pt x="2230" y="11384"/>
                </a:cubicBezTo>
                <a:cubicBezTo>
                  <a:pt x="2224" y="11387"/>
                  <a:pt x="2219" y="11386"/>
                  <a:pt x="2214" y="11389"/>
                </a:cubicBezTo>
                <a:cubicBezTo>
                  <a:pt x="2212" y="11390"/>
                  <a:pt x="2210" y="11395"/>
                  <a:pt x="2209" y="11396"/>
                </a:cubicBezTo>
              </a:path>
              <a:path w="4865" h="3300">
                <a:moveTo>
                  <a:pt x="2279" y="11448"/>
                </a:moveTo>
                <a:cubicBezTo>
                  <a:pt x="2283" y="11453"/>
                  <a:pt x="2286" y="11459"/>
                  <a:pt x="2291" y="11463"/>
                </a:cubicBezTo>
                <a:cubicBezTo>
                  <a:pt x="2294" y="11466"/>
                  <a:pt x="2295" y="11466"/>
                  <a:pt x="2298" y="11468"/>
                </a:cubicBezTo>
                <a:cubicBezTo>
                  <a:pt x="2299" y="11469"/>
                  <a:pt x="2302" y="11468"/>
                  <a:pt x="2304" y="11470"/>
                </a:cubicBezTo>
                <a:cubicBezTo>
                  <a:pt x="2299" y="11470"/>
                  <a:pt x="2298" y="11473"/>
                  <a:pt x="2293" y="11473"/>
                </a:cubicBezTo>
                <a:cubicBezTo>
                  <a:pt x="2233" y="11474"/>
                  <a:pt x="2174" y="11475"/>
                  <a:pt x="2115" y="11482"/>
                </a:cubicBezTo>
                <a:cubicBezTo>
                  <a:pt x="2089" y="11485"/>
                  <a:pt x="2064" y="11488"/>
                  <a:pt x="2038" y="11488"/>
                </a:cubicBezTo>
                <a:cubicBezTo>
                  <a:pt x="2012" y="11488"/>
                  <a:pt x="1986" y="11486"/>
                  <a:pt x="1960" y="11486"/>
                </a:cubicBezTo>
                <a:cubicBezTo>
                  <a:pt x="1802" y="11483"/>
                  <a:pt x="1643" y="11484"/>
                  <a:pt x="1485" y="11484"/>
                </a:cubicBezTo>
                <a:cubicBezTo>
                  <a:pt x="1419" y="11484"/>
                  <a:pt x="1352" y="11484"/>
                  <a:pt x="1286" y="11484"/>
                </a:cubicBezTo>
                <a:cubicBezTo>
                  <a:pt x="1286" y="11449"/>
                  <a:pt x="1278" y="11403"/>
                  <a:pt x="1295" y="11371"/>
                </a:cubicBezTo>
                <a:cubicBezTo>
                  <a:pt x="1312" y="11339"/>
                  <a:pt x="1345" y="11317"/>
                  <a:pt x="1377" y="11300"/>
                </a:cubicBezTo>
                <a:cubicBezTo>
                  <a:pt x="1425" y="11274"/>
                  <a:pt x="1473" y="11249"/>
                  <a:pt x="1520" y="11221"/>
                </a:cubicBezTo>
                <a:cubicBezTo>
                  <a:pt x="1537" y="11211"/>
                  <a:pt x="1555" y="11200"/>
                  <a:pt x="1572" y="11190"/>
                </a:cubicBezTo>
                <a:cubicBezTo>
                  <a:pt x="1577" y="11187"/>
                  <a:pt x="1581" y="11185"/>
                  <a:pt x="1585" y="11183"/>
                </a:cubicBezTo>
                <a:cubicBezTo>
                  <a:pt x="1578" y="11200"/>
                  <a:pt x="1578" y="11212"/>
                  <a:pt x="1565" y="11230"/>
                </a:cubicBezTo>
                <a:cubicBezTo>
                  <a:pt x="1539" y="11267"/>
                  <a:pt x="1499" y="11299"/>
                  <a:pt x="1468" y="11332"/>
                </a:cubicBezTo>
                <a:cubicBezTo>
                  <a:pt x="1436" y="11366"/>
                  <a:pt x="1401" y="11395"/>
                  <a:pt x="1370" y="11429"/>
                </a:cubicBezTo>
                <a:cubicBezTo>
                  <a:pt x="1358" y="11442"/>
                  <a:pt x="1346" y="11454"/>
                  <a:pt x="1338" y="11470"/>
                </a:cubicBezTo>
                <a:cubicBezTo>
                  <a:pt x="1331" y="11483"/>
                  <a:pt x="1332" y="11495"/>
                  <a:pt x="1330" y="11509"/>
                </a:cubicBezTo>
                <a:cubicBezTo>
                  <a:pt x="1326" y="11542"/>
                  <a:pt x="1324" y="11590"/>
                  <a:pt x="1345" y="11615"/>
                </a:cubicBezTo>
                <a:cubicBezTo>
                  <a:pt x="1368" y="11642"/>
                  <a:pt x="1410" y="11659"/>
                  <a:pt x="1442" y="11674"/>
                </a:cubicBezTo>
                <a:cubicBezTo>
                  <a:pt x="1479" y="11692"/>
                  <a:pt x="1517" y="11707"/>
                  <a:pt x="1556" y="11719"/>
                </a:cubicBezTo>
                <a:cubicBezTo>
                  <a:pt x="1579" y="11726"/>
                  <a:pt x="1602" y="11730"/>
                  <a:pt x="1626" y="11731"/>
                </a:cubicBezTo>
                <a:cubicBezTo>
                  <a:pt x="1644" y="11732"/>
                  <a:pt x="1661" y="11729"/>
                  <a:pt x="1678" y="11737"/>
                </a:cubicBezTo>
                <a:cubicBezTo>
                  <a:pt x="1705" y="11749"/>
                  <a:pt x="1721" y="11775"/>
                  <a:pt x="1750" y="11782"/>
                </a:cubicBezTo>
                <a:cubicBezTo>
                  <a:pt x="1775" y="11788"/>
                  <a:pt x="1801" y="11785"/>
                  <a:pt x="1827" y="11785"/>
                </a:cubicBezTo>
                <a:cubicBezTo>
                  <a:pt x="1835" y="11785"/>
                  <a:pt x="1844" y="11785"/>
                  <a:pt x="1852" y="11785"/>
                </a:cubicBezTo>
              </a:path>
              <a:path w="4865" h="3300">
                <a:moveTo>
                  <a:pt x="2465" y="10989"/>
                </a:moveTo>
                <a:cubicBezTo>
                  <a:pt x="2472" y="10986"/>
                  <a:pt x="2479" y="10982"/>
                  <a:pt x="2486" y="10979"/>
                </a:cubicBezTo>
                <a:cubicBezTo>
                  <a:pt x="2484" y="10981"/>
                  <a:pt x="2488" y="10977"/>
                  <a:pt x="2486" y="10979"/>
                </a:cubicBezTo>
                <a:cubicBezTo>
                  <a:pt x="2473" y="10989"/>
                  <a:pt x="2469" y="10992"/>
                  <a:pt x="2460" y="11009"/>
                </a:cubicBezTo>
                <a:cubicBezTo>
                  <a:pt x="2431" y="11062"/>
                  <a:pt x="2403" y="11116"/>
                  <a:pt x="2375" y="11169"/>
                </a:cubicBezTo>
                <a:cubicBezTo>
                  <a:pt x="2332" y="11251"/>
                  <a:pt x="2294" y="11337"/>
                  <a:pt x="2253" y="11420"/>
                </a:cubicBezTo>
                <a:cubicBezTo>
                  <a:pt x="2210" y="11507"/>
                  <a:pt x="2168" y="11593"/>
                  <a:pt x="2133" y="11683"/>
                </a:cubicBezTo>
                <a:cubicBezTo>
                  <a:pt x="2106" y="11753"/>
                  <a:pt x="2086" y="11824"/>
                  <a:pt x="2076" y="11898"/>
                </a:cubicBezTo>
                <a:cubicBezTo>
                  <a:pt x="2069" y="11949"/>
                  <a:pt x="2062" y="12006"/>
                  <a:pt x="2065" y="12058"/>
                </a:cubicBezTo>
                <a:cubicBezTo>
                  <a:pt x="2067" y="12085"/>
                  <a:pt x="2071" y="12114"/>
                  <a:pt x="2078" y="12140"/>
                </a:cubicBezTo>
                <a:cubicBezTo>
                  <a:pt x="2081" y="12149"/>
                  <a:pt x="2083" y="12160"/>
                  <a:pt x="2085" y="12167"/>
                </a:cubicBezTo>
                <a:cubicBezTo>
                  <a:pt x="2085" y="12168"/>
                  <a:pt x="2085" y="12168"/>
                  <a:pt x="2085" y="12169"/>
                </a:cubicBezTo>
                <a:cubicBezTo>
                  <a:pt x="2092" y="12155"/>
                  <a:pt x="2098" y="12140"/>
                  <a:pt x="2105" y="12126"/>
                </a:cubicBezTo>
              </a:path>
              <a:path w="4865" h="3300">
                <a:moveTo>
                  <a:pt x="2028" y="10989"/>
                </a:moveTo>
                <a:cubicBezTo>
                  <a:pt x="2012" y="10971"/>
                  <a:pt x="1998" y="10957"/>
                  <a:pt x="1985" y="10936"/>
                </a:cubicBezTo>
                <a:cubicBezTo>
                  <a:pt x="1979" y="10926"/>
                  <a:pt x="1974" y="10916"/>
                  <a:pt x="1968" y="10905"/>
                </a:cubicBezTo>
                <a:cubicBezTo>
                  <a:pt x="1965" y="10900"/>
                  <a:pt x="1963" y="10894"/>
                  <a:pt x="1960" y="10889"/>
                </a:cubicBezTo>
                <a:cubicBezTo>
                  <a:pt x="1971" y="10901"/>
                  <a:pt x="1984" y="10914"/>
                  <a:pt x="1995" y="10927"/>
                </a:cubicBezTo>
                <a:cubicBezTo>
                  <a:pt x="2029" y="10968"/>
                  <a:pt x="2056" y="11014"/>
                  <a:pt x="2081" y="11061"/>
                </a:cubicBezTo>
                <a:cubicBezTo>
                  <a:pt x="2163" y="11212"/>
                  <a:pt x="2220" y="11376"/>
                  <a:pt x="2302" y="11527"/>
                </a:cubicBezTo>
                <a:cubicBezTo>
                  <a:pt x="2360" y="11633"/>
                  <a:pt x="2420" y="11742"/>
                  <a:pt x="2510" y="11825"/>
                </a:cubicBezTo>
                <a:cubicBezTo>
                  <a:pt x="2568" y="11879"/>
                  <a:pt x="2633" y="11934"/>
                  <a:pt x="2696" y="11982"/>
                </a:cubicBezTo>
                <a:cubicBezTo>
                  <a:pt x="2720" y="12001"/>
                  <a:pt x="2747" y="12016"/>
                  <a:pt x="2770" y="12036"/>
                </a:cubicBezTo>
                <a:cubicBezTo>
                  <a:pt x="2776" y="12041"/>
                  <a:pt x="2781" y="12047"/>
                  <a:pt x="2786" y="12052"/>
                </a:cubicBezTo>
                <a:cubicBezTo>
                  <a:pt x="2786" y="12053"/>
                  <a:pt x="2787" y="12053"/>
                  <a:pt x="2787" y="12054"/>
                </a:cubicBezTo>
                <a:cubicBezTo>
                  <a:pt x="2774" y="12050"/>
                  <a:pt x="2760" y="12046"/>
                  <a:pt x="2746" y="12041"/>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776240" y="3193920"/>
            <a:ext cx="436680" cy="462240"/>
          </a:xfrm>
          <a:custGeom>
            <a:avLst/>
            <a:gdLst/>
            <a:ahLst/>
            <a:rect l="l" t="t" r="r" b="b"/>
            <a:pathLst>
              <a:path w="1209" h="1281">
                <a:moveTo>
                  <a:pt x="5721" y="9074"/>
                </a:moveTo>
                <a:cubicBezTo>
                  <a:pt x="5678" y="9124"/>
                  <a:pt x="5641" y="9163"/>
                  <a:pt x="5583" y="9197"/>
                </a:cubicBezTo>
                <a:cubicBezTo>
                  <a:pt x="5514" y="9238"/>
                  <a:pt x="5437" y="9267"/>
                  <a:pt x="5365" y="9303"/>
                </a:cubicBezTo>
                <a:cubicBezTo>
                  <a:pt x="5314" y="9329"/>
                  <a:pt x="5259" y="9367"/>
                  <a:pt x="5203" y="9380"/>
                </a:cubicBezTo>
                <a:cubicBezTo>
                  <a:pt x="5193" y="9382"/>
                  <a:pt x="5178" y="9386"/>
                  <a:pt x="5169" y="9386"/>
                </a:cubicBezTo>
                <a:cubicBezTo>
                  <a:pt x="5158" y="9386"/>
                  <a:pt x="5177" y="9375"/>
                  <a:pt x="5176" y="9375"/>
                </a:cubicBezTo>
                <a:cubicBezTo>
                  <a:pt x="5230" y="9332"/>
                  <a:pt x="5284" y="9308"/>
                  <a:pt x="5345" y="9276"/>
                </a:cubicBezTo>
                <a:cubicBezTo>
                  <a:pt x="5403" y="9246"/>
                  <a:pt x="5462" y="9216"/>
                  <a:pt x="5519" y="9185"/>
                </a:cubicBezTo>
                <a:cubicBezTo>
                  <a:pt x="5582" y="9150"/>
                  <a:pt x="5649" y="9122"/>
                  <a:pt x="5711" y="9085"/>
                </a:cubicBezTo>
                <a:cubicBezTo>
                  <a:pt x="5750" y="9062"/>
                  <a:pt x="5787" y="9039"/>
                  <a:pt x="5827" y="9018"/>
                </a:cubicBezTo>
                <a:cubicBezTo>
                  <a:pt x="5846" y="9008"/>
                  <a:pt x="5865" y="9000"/>
                  <a:pt x="5884" y="8991"/>
                </a:cubicBezTo>
                <a:cubicBezTo>
                  <a:pt x="5902" y="8987"/>
                  <a:pt x="5956" y="8975"/>
                  <a:pt x="5938" y="8979"/>
                </a:cubicBezTo>
                <a:cubicBezTo>
                  <a:pt x="5915" y="8984"/>
                  <a:pt x="5895" y="8989"/>
                  <a:pt x="5872" y="8997"/>
                </a:cubicBezTo>
                <a:cubicBezTo>
                  <a:pt x="5829" y="9012"/>
                  <a:pt x="5788" y="9028"/>
                  <a:pt x="5746" y="9045"/>
                </a:cubicBezTo>
                <a:cubicBezTo>
                  <a:pt x="5645" y="9086"/>
                  <a:pt x="5541" y="9117"/>
                  <a:pt x="5440" y="9158"/>
                </a:cubicBezTo>
                <a:cubicBezTo>
                  <a:pt x="5385" y="9180"/>
                  <a:pt x="5332" y="9205"/>
                  <a:pt x="5280" y="9233"/>
                </a:cubicBezTo>
                <a:cubicBezTo>
                  <a:pt x="5274" y="9237"/>
                  <a:pt x="5268" y="9240"/>
                  <a:pt x="5262" y="9244"/>
                </a:cubicBezTo>
                <a:cubicBezTo>
                  <a:pt x="5249" y="9250"/>
                  <a:pt x="5215" y="9274"/>
                  <a:pt x="5225" y="9264"/>
                </a:cubicBezTo>
                <a:cubicBezTo>
                  <a:pt x="5229" y="9259"/>
                  <a:pt x="5226" y="9256"/>
                  <a:pt x="5232" y="9253"/>
                </a:cubicBezTo>
                <a:cubicBezTo>
                  <a:pt x="5297" y="9223"/>
                  <a:pt x="5368" y="9205"/>
                  <a:pt x="5435" y="9181"/>
                </a:cubicBezTo>
                <a:cubicBezTo>
                  <a:pt x="5573" y="9132"/>
                  <a:pt x="5707" y="9071"/>
                  <a:pt x="5841" y="9011"/>
                </a:cubicBezTo>
                <a:cubicBezTo>
                  <a:pt x="5874" y="8996"/>
                  <a:pt x="5903" y="8983"/>
                  <a:pt x="5940" y="8979"/>
                </a:cubicBezTo>
                <a:cubicBezTo>
                  <a:pt x="5950" y="8978"/>
                  <a:pt x="5959" y="8980"/>
                  <a:pt x="5969" y="8979"/>
                </a:cubicBezTo>
                <a:cubicBezTo>
                  <a:pt x="5967" y="8992"/>
                  <a:pt x="5971" y="9004"/>
                  <a:pt x="5967" y="9018"/>
                </a:cubicBezTo>
                <a:cubicBezTo>
                  <a:pt x="5958" y="9048"/>
                  <a:pt x="5936" y="9071"/>
                  <a:pt x="5917" y="9094"/>
                </a:cubicBezTo>
                <a:cubicBezTo>
                  <a:pt x="5875" y="9147"/>
                  <a:pt x="5824" y="9193"/>
                  <a:pt x="5779" y="9244"/>
                </a:cubicBezTo>
                <a:cubicBezTo>
                  <a:pt x="5729" y="9301"/>
                  <a:pt x="5686" y="9361"/>
                  <a:pt x="5644" y="9423"/>
                </a:cubicBezTo>
                <a:cubicBezTo>
                  <a:pt x="5631" y="9443"/>
                  <a:pt x="5618" y="9460"/>
                  <a:pt x="5607" y="9481"/>
                </a:cubicBezTo>
                <a:cubicBezTo>
                  <a:pt x="5606" y="9483"/>
                  <a:pt x="5608" y="9484"/>
                  <a:pt x="5607" y="9486"/>
                </a:cubicBezTo>
                <a:cubicBezTo>
                  <a:pt x="5620" y="9479"/>
                  <a:pt x="5631" y="9481"/>
                  <a:pt x="5646" y="9470"/>
                </a:cubicBezTo>
                <a:cubicBezTo>
                  <a:pt x="5702" y="9430"/>
                  <a:pt x="5750" y="9369"/>
                  <a:pt x="5793" y="9316"/>
                </a:cubicBezTo>
                <a:cubicBezTo>
                  <a:pt x="5813" y="9291"/>
                  <a:pt x="5831" y="9267"/>
                  <a:pt x="5854" y="9244"/>
                </a:cubicBezTo>
                <a:cubicBezTo>
                  <a:pt x="5886" y="9212"/>
                  <a:pt x="5927" y="9185"/>
                  <a:pt x="5969" y="9171"/>
                </a:cubicBezTo>
                <a:cubicBezTo>
                  <a:pt x="5977" y="9168"/>
                  <a:pt x="5981" y="9173"/>
                  <a:pt x="5987" y="9171"/>
                </a:cubicBezTo>
                <a:cubicBezTo>
                  <a:pt x="5988" y="9179"/>
                  <a:pt x="5982" y="9184"/>
                  <a:pt x="5983" y="9192"/>
                </a:cubicBezTo>
                <a:cubicBezTo>
                  <a:pt x="5984" y="9198"/>
                  <a:pt x="5990" y="9200"/>
                  <a:pt x="5990" y="9206"/>
                </a:cubicBezTo>
                <a:cubicBezTo>
                  <a:pt x="5991" y="9246"/>
                  <a:pt x="5982" y="9280"/>
                  <a:pt x="5972" y="9319"/>
                </a:cubicBezTo>
                <a:cubicBezTo>
                  <a:pt x="5912" y="9556"/>
                  <a:pt x="5887" y="9798"/>
                  <a:pt x="5807" y="10031"/>
                </a:cubicBezTo>
                <a:cubicBezTo>
                  <a:pt x="5794" y="10070"/>
                  <a:pt x="5776" y="10108"/>
                  <a:pt x="5764" y="10147"/>
                </a:cubicBezTo>
                <a:cubicBezTo>
                  <a:pt x="5764" y="10150"/>
                  <a:pt x="5764" y="10151"/>
                  <a:pt x="5764" y="10153"/>
                </a:cubicBezTo>
                <a:cubicBezTo>
                  <a:pt x="5769" y="10123"/>
                  <a:pt x="5772" y="10093"/>
                  <a:pt x="5780" y="10063"/>
                </a:cubicBezTo>
                <a:cubicBezTo>
                  <a:pt x="5797" y="10002"/>
                  <a:pt x="5823" y="9946"/>
                  <a:pt x="5843" y="9886"/>
                </a:cubicBezTo>
                <a:cubicBezTo>
                  <a:pt x="5858" y="9840"/>
                  <a:pt x="5873" y="9792"/>
                  <a:pt x="5888" y="9746"/>
                </a:cubicBezTo>
                <a:cubicBezTo>
                  <a:pt x="5911" y="9675"/>
                  <a:pt x="5924" y="9600"/>
                  <a:pt x="5947" y="9531"/>
                </a:cubicBezTo>
                <a:cubicBezTo>
                  <a:pt x="5951" y="9519"/>
                  <a:pt x="5957" y="9502"/>
                  <a:pt x="5963" y="9491"/>
                </a:cubicBezTo>
                <a:cubicBezTo>
                  <a:pt x="5967" y="9488"/>
                  <a:pt x="5968" y="9488"/>
                  <a:pt x="5970" y="9486"/>
                </a:cubicBezTo>
                <a:cubicBezTo>
                  <a:pt x="5971" y="9490"/>
                  <a:pt x="5979" y="9506"/>
                  <a:pt x="5979" y="9518"/>
                </a:cubicBezTo>
                <a:cubicBezTo>
                  <a:pt x="5979" y="9615"/>
                  <a:pt x="5955" y="9709"/>
                  <a:pt x="5929" y="9801"/>
                </a:cubicBezTo>
                <a:cubicBezTo>
                  <a:pt x="5918" y="9841"/>
                  <a:pt x="5908" y="9885"/>
                  <a:pt x="5892" y="9923"/>
                </a:cubicBezTo>
                <a:cubicBezTo>
                  <a:pt x="5888" y="9934"/>
                  <a:pt x="5881" y="9946"/>
                  <a:pt x="5877" y="9955"/>
                </a:cubicBezTo>
                <a:cubicBezTo>
                  <a:pt x="5876" y="9955"/>
                  <a:pt x="5876" y="9954"/>
                  <a:pt x="5875" y="9954"/>
                </a:cubicBezTo>
                <a:cubicBezTo>
                  <a:pt x="5873" y="9918"/>
                  <a:pt x="5869" y="9887"/>
                  <a:pt x="5875" y="9850"/>
                </a:cubicBezTo>
                <a:cubicBezTo>
                  <a:pt x="5883" y="9805"/>
                  <a:pt x="5895" y="9727"/>
                  <a:pt x="5915" y="9687"/>
                </a:cubicBezTo>
                <a:cubicBezTo>
                  <a:pt x="5919" y="9678"/>
                  <a:pt x="5925" y="9680"/>
                  <a:pt x="5927" y="9676"/>
                </a:cubicBezTo>
                <a:cubicBezTo>
                  <a:pt x="5928" y="9674"/>
                  <a:pt x="5938" y="9669"/>
                  <a:pt x="5940" y="9665"/>
                </a:cubicBezTo>
                <a:cubicBezTo>
                  <a:pt x="5948" y="9652"/>
                  <a:pt x="5954" y="9632"/>
                  <a:pt x="5961" y="9617"/>
                </a:cubicBezTo>
                <a:cubicBezTo>
                  <a:pt x="5978" y="9578"/>
                  <a:pt x="5986" y="9527"/>
                  <a:pt x="5985" y="9486"/>
                </a:cubicBezTo>
                <a:cubicBezTo>
                  <a:pt x="5985" y="9472"/>
                  <a:pt x="5983" y="9460"/>
                  <a:pt x="5981" y="9447"/>
                </a:cubicBezTo>
                <a:cubicBezTo>
                  <a:pt x="5981" y="9445"/>
                  <a:pt x="5979" y="9450"/>
                  <a:pt x="5979" y="9448"/>
                </a:cubicBezTo>
                <a:cubicBezTo>
                  <a:pt x="5978" y="9442"/>
                  <a:pt x="5980" y="9451"/>
                  <a:pt x="5979" y="9445"/>
                </a:cubicBezTo>
                <a:cubicBezTo>
                  <a:pt x="5975" y="9417"/>
                  <a:pt x="5973" y="9390"/>
                  <a:pt x="5972" y="9362"/>
                </a:cubicBezTo>
                <a:cubicBezTo>
                  <a:pt x="5970" y="9329"/>
                  <a:pt x="5970" y="9294"/>
                  <a:pt x="5963" y="9262"/>
                </a:cubicBezTo>
                <a:cubicBezTo>
                  <a:pt x="5958" y="9238"/>
                  <a:pt x="5946" y="9214"/>
                  <a:pt x="5940" y="9190"/>
                </a:cubicBezTo>
                <a:cubicBezTo>
                  <a:pt x="5932" y="9159"/>
                  <a:pt x="5922" y="9131"/>
                  <a:pt x="5913" y="9101"/>
                </a:cubicBezTo>
                <a:cubicBezTo>
                  <a:pt x="5905" y="9075"/>
                  <a:pt x="5901" y="9049"/>
                  <a:pt x="5893" y="9024"/>
                </a:cubicBezTo>
                <a:cubicBezTo>
                  <a:pt x="5889" y="9012"/>
                  <a:pt x="5890" y="9004"/>
                  <a:pt x="5884" y="8993"/>
                </a:cubicBezTo>
                <a:cubicBezTo>
                  <a:pt x="5880" y="8985"/>
                  <a:pt x="5872" y="8982"/>
                  <a:pt x="5868" y="8975"/>
                </a:cubicBezTo>
                <a:cubicBezTo>
                  <a:pt x="5853" y="8975"/>
                  <a:pt x="5836" y="8971"/>
                  <a:pt x="5820" y="8973"/>
                </a:cubicBezTo>
                <a:cubicBezTo>
                  <a:pt x="5789" y="8977"/>
                  <a:pt x="5770" y="8981"/>
                  <a:pt x="5741" y="8995"/>
                </a:cubicBezTo>
                <a:cubicBezTo>
                  <a:pt x="5703" y="9013"/>
                  <a:pt x="5665" y="9037"/>
                  <a:pt x="5630" y="9059"/>
                </a:cubicBezTo>
                <a:cubicBezTo>
                  <a:pt x="5477" y="9155"/>
                  <a:pt x="5325" y="9269"/>
                  <a:pt x="5162" y="9348"/>
                </a:cubicBezTo>
                <a:cubicBezTo>
                  <a:pt x="5129" y="9364"/>
                  <a:pt x="5095" y="9370"/>
                  <a:pt x="5060" y="9378"/>
                </a:cubicBezTo>
                <a:cubicBezTo>
                  <a:pt x="5065" y="9374"/>
                  <a:pt x="5059" y="9370"/>
                  <a:pt x="5064" y="9366"/>
                </a:cubicBezTo>
                <a:cubicBezTo>
                  <a:pt x="5089" y="9348"/>
                  <a:pt x="5117" y="9333"/>
                  <a:pt x="5144" y="9318"/>
                </a:cubicBezTo>
                <a:cubicBezTo>
                  <a:pt x="5268" y="9247"/>
                  <a:pt x="5400" y="9198"/>
                  <a:pt x="5530" y="9140"/>
                </a:cubicBezTo>
                <a:cubicBezTo>
                  <a:pt x="5580" y="9118"/>
                  <a:pt x="5636" y="9093"/>
                  <a:pt x="5682" y="9067"/>
                </a:cubicBezTo>
                <a:cubicBezTo>
                  <a:pt x="5688" y="9064"/>
                  <a:pt x="5694" y="9057"/>
                  <a:pt x="5700" y="9054"/>
                </a:cubicBezTo>
                <a:cubicBezTo>
                  <a:pt x="5608" y="9062"/>
                  <a:pt x="5521" y="9087"/>
                  <a:pt x="5431" y="9110"/>
                </a:cubicBezTo>
                <a:cubicBezTo>
                  <a:pt x="5369" y="9126"/>
                  <a:pt x="5308" y="9145"/>
                  <a:pt x="5248" y="9167"/>
                </a:cubicBezTo>
                <a:cubicBezTo>
                  <a:pt x="5167" y="9196"/>
                  <a:pt x="5095" y="9243"/>
                  <a:pt x="5013" y="9269"/>
                </a:cubicBezTo>
                <a:cubicBezTo>
                  <a:pt x="5010" y="9271"/>
                  <a:pt x="5009" y="9272"/>
                  <a:pt x="5008" y="9269"/>
                </a:cubicBezTo>
                <a:cubicBezTo>
                  <a:pt x="5026" y="9259"/>
                  <a:pt x="5044" y="9248"/>
                  <a:pt x="5062" y="9239"/>
                </a:cubicBezTo>
                <a:cubicBezTo>
                  <a:pt x="5105" y="9218"/>
                  <a:pt x="5148" y="9197"/>
                  <a:pt x="5193" y="9181"/>
                </a:cubicBezTo>
                <a:cubicBezTo>
                  <a:pt x="5302" y="9142"/>
                  <a:pt x="5412" y="9105"/>
                  <a:pt x="5522" y="9067"/>
                </a:cubicBezTo>
                <a:cubicBezTo>
                  <a:pt x="5561" y="9054"/>
                  <a:pt x="5604" y="9046"/>
                  <a:pt x="5641" y="9029"/>
                </a:cubicBezTo>
                <a:cubicBezTo>
                  <a:pt x="5645" y="9027"/>
                  <a:pt x="5635" y="9027"/>
                  <a:pt x="5639" y="9025"/>
                </a:cubicBezTo>
                <a:cubicBezTo>
                  <a:pt x="5523" y="9034"/>
                  <a:pt x="5416" y="9061"/>
                  <a:pt x="5307" y="9101"/>
                </a:cubicBezTo>
                <a:cubicBezTo>
                  <a:pt x="5193" y="9142"/>
                  <a:pt x="5083" y="9193"/>
                  <a:pt x="4969" y="9232"/>
                </a:cubicBezTo>
                <a:cubicBezTo>
                  <a:pt x="4958" y="9236"/>
                  <a:pt x="4947" y="9239"/>
                  <a:pt x="4936" y="9242"/>
                </a:cubicBezTo>
                <a:cubicBezTo>
                  <a:pt x="4988" y="9208"/>
                  <a:pt x="5038" y="9176"/>
                  <a:pt x="5098" y="9156"/>
                </a:cubicBezTo>
                <a:cubicBezTo>
                  <a:pt x="5163" y="9134"/>
                  <a:pt x="5229" y="9111"/>
                  <a:pt x="5295" y="9092"/>
                </a:cubicBezTo>
                <a:cubicBezTo>
                  <a:pt x="5356" y="9074"/>
                  <a:pt x="5416" y="9052"/>
                  <a:pt x="5476" y="9031"/>
                </a:cubicBezTo>
                <a:cubicBezTo>
                  <a:pt x="5494" y="9025"/>
                  <a:pt x="5512" y="9017"/>
                  <a:pt x="5530" y="9011"/>
                </a:cubicBezTo>
                <a:cubicBezTo>
                  <a:pt x="5535" y="9011"/>
                  <a:pt x="5537" y="9011"/>
                  <a:pt x="5531" y="9011"/>
                </a:cubicBezTo>
                <a:cubicBezTo>
                  <a:pt x="5514" y="9019"/>
                  <a:pt x="5498" y="9028"/>
                  <a:pt x="5481" y="9036"/>
                </a:cubicBezTo>
                <a:cubicBezTo>
                  <a:pt x="5449" y="9050"/>
                  <a:pt x="5416" y="9066"/>
                  <a:pt x="5383" y="9076"/>
                </a:cubicBezTo>
                <a:cubicBezTo>
                  <a:pt x="5343" y="9088"/>
                  <a:pt x="5302" y="9099"/>
                  <a:pt x="5262" y="9110"/>
                </a:cubicBezTo>
                <a:cubicBezTo>
                  <a:pt x="5235" y="9117"/>
                  <a:pt x="5207" y="9122"/>
                  <a:pt x="5180" y="9131"/>
                </a:cubicBezTo>
                <a:cubicBezTo>
                  <a:pt x="5173" y="9133"/>
                  <a:pt x="5166" y="9138"/>
                  <a:pt x="5159" y="9140"/>
                </a:cubicBezTo>
                <a:cubicBezTo>
                  <a:pt x="5166" y="9138"/>
                  <a:pt x="5152" y="9139"/>
                  <a:pt x="5159" y="9137"/>
                </a:cubicBezTo>
                <a:cubicBezTo>
                  <a:pt x="5188" y="9129"/>
                  <a:pt x="5216" y="9123"/>
                  <a:pt x="5245" y="9115"/>
                </a:cubicBezTo>
                <a:cubicBezTo>
                  <a:pt x="5328" y="9092"/>
                  <a:pt x="5411" y="9069"/>
                  <a:pt x="5497" y="9056"/>
                </a:cubicBezTo>
                <a:cubicBezTo>
                  <a:pt x="5520" y="9052"/>
                  <a:pt x="5549" y="9054"/>
                  <a:pt x="5571" y="9045"/>
                </a:cubicBezTo>
                <a:cubicBezTo>
                  <a:pt x="5575" y="9043"/>
                  <a:pt x="5594" y="9039"/>
                  <a:pt x="5596" y="9031"/>
                </a:cubicBezTo>
                <a:cubicBezTo>
                  <a:pt x="5597" y="9028"/>
                  <a:pt x="5577" y="9028"/>
                  <a:pt x="5576" y="9029"/>
                </a:cubicBezTo>
                <a:cubicBezTo>
                  <a:pt x="5563" y="9037"/>
                  <a:pt x="5553" y="9048"/>
                  <a:pt x="5540" y="9056"/>
                </a:cubicBezTo>
                <a:cubicBezTo>
                  <a:pt x="5545" y="9055"/>
                  <a:pt x="5539" y="9064"/>
                  <a:pt x="5544" y="9063"/>
                </a:cubicBezTo>
                <a:cubicBezTo>
                  <a:pt x="5570" y="9057"/>
                  <a:pt x="5595" y="9048"/>
                  <a:pt x="5621" y="9040"/>
                </a:cubicBezTo>
                <a:cubicBezTo>
                  <a:pt x="5704" y="9015"/>
                  <a:pt x="5790" y="8987"/>
                  <a:pt x="5872" y="8963"/>
                </a:cubicBezTo>
                <a:cubicBezTo>
                  <a:pt x="5885" y="8959"/>
                  <a:pt x="5893" y="8960"/>
                  <a:pt x="5906" y="8956"/>
                </a:cubicBezTo>
                <a:cubicBezTo>
                  <a:pt x="5881" y="8970"/>
                  <a:pt x="5857" y="8985"/>
                  <a:pt x="5832" y="9000"/>
                </a:cubicBezTo>
                <a:cubicBezTo>
                  <a:pt x="5808" y="9015"/>
                  <a:pt x="5787" y="9032"/>
                  <a:pt x="5764" y="9049"/>
                </a:cubicBezTo>
                <a:cubicBezTo>
                  <a:pt x="5737" y="9069"/>
                  <a:pt x="5710" y="9088"/>
                  <a:pt x="5682" y="9108"/>
                </a:cubicBezTo>
                <a:cubicBezTo>
                  <a:pt x="5599" y="9167"/>
                  <a:pt x="5513" y="9228"/>
                  <a:pt x="5424" y="9275"/>
                </a:cubicBezTo>
                <a:cubicBezTo>
                  <a:pt x="5399" y="9288"/>
                  <a:pt x="5371" y="9302"/>
                  <a:pt x="5345" y="9314"/>
                </a:cubicBezTo>
                <a:cubicBezTo>
                  <a:pt x="5340" y="9316"/>
                  <a:pt x="5345" y="9319"/>
                  <a:pt x="5340" y="9319"/>
                </a:cubicBezTo>
                <a:cubicBezTo>
                  <a:pt x="5330" y="9319"/>
                  <a:pt x="5357" y="9308"/>
                  <a:pt x="5365" y="9303"/>
                </a:cubicBezTo>
                <a:cubicBezTo>
                  <a:pt x="5395" y="9283"/>
                  <a:pt x="5428" y="9264"/>
                  <a:pt x="5458" y="9244"/>
                </a:cubicBezTo>
                <a:cubicBezTo>
                  <a:pt x="5513" y="9206"/>
                  <a:pt x="5568" y="9167"/>
                  <a:pt x="5623" y="9129"/>
                </a:cubicBezTo>
                <a:cubicBezTo>
                  <a:pt x="5647" y="9112"/>
                  <a:pt x="5674" y="9098"/>
                  <a:pt x="5698" y="9081"/>
                </a:cubicBezTo>
                <a:cubicBezTo>
                  <a:pt x="5709" y="9074"/>
                  <a:pt x="5718" y="9066"/>
                  <a:pt x="5728" y="9058"/>
                </a:cubicBezTo>
                <a:cubicBezTo>
                  <a:pt x="5731" y="9055"/>
                  <a:pt x="5732" y="9055"/>
                  <a:pt x="5732" y="9052"/>
                </a:cubicBezTo>
                <a:cubicBezTo>
                  <a:pt x="5705" y="9054"/>
                  <a:pt x="5679" y="9055"/>
                  <a:pt x="5653" y="9059"/>
                </a:cubicBezTo>
                <a:cubicBezTo>
                  <a:pt x="5614" y="9065"/>
                  <a:pt x="5575" y="9073"/>
                  <a:pt x="5537" y="9083"/>
                </a:cubicBezTo>
                <a:cubicBezTo>
                  <a:pt x="5427" y="9113"/>
                  <a:pt x="5328" y="9169"/>
                  <a:pt x="5216" y="9194"/>
                </a:cubicBezTo>
                <a:cubicBezTo>
                  <a:pt x="5185" y="9201"/>
                  <a:pt x="5152" y="9206"/>
                  <a:pt x="5121" y="9212"/>
                </a:cubicBezTo>
                <a:cubicBezTo>
                  <a:pt x="5115" y="9213"/>
                  <a:pt x="5116" y="9213"/>
                  <a:pt x="5110" y="9214"/>
                </a:cubicBezTo>
                <a:cubicBezTo>
                  <a:pt x="5144" y="9211"/>
                  <a:pt x="5175" y="9207"/>
                  <a:pt x="5209" y="9201"/>
                </a:cubicBezTo>
                <a:cubicBezTo>
                  <a:pt x="5271" y="9189"/>
                  <a:pt x="5332" y="9172"/>
                  <a:pt x="5393" y="9154"/>
                </a:cubicBezTo>
                <a:cubicBezTo>
                  <a:pt x="5460" y="9134"/>
                  <a:pt x="5526" y="9112"/>
                  <a:pt x="5592" y="9090"/>
                </a:cubicBezTo>
                <a:cubicBezTo>
                  <a:pt x="5624" y="9080"/>
                  <a:pt x="5656" y="9066"/>
                  <a:pt x="5685" y="9052"/>
                </a:cubicBezTo>
                <a:cubicBezTo>
                  <a:pt x="5686" y="9051"/>
                  <a:pt x="5686" y="9050"/>
                  <a:pt x="5687" y="9049"/>
                </a:cubicBezTo>
                <a:cubicBezTo>
                  <a:pt x="5683" y="9050"/>
                  <a:pt x="5691" y="9046"/>
                  <a:pt x="5687" y="9047"/>
                </a:cubicBezTo>
                <a:cubicBezTo>
                  <a:pt x="5672" y="9051"/>
                  <a:pt x="5657" y="9054"/>
                  <a:pt x="5641" y="9061"/>
                </a:cubicBezTo>
                <a:cubicBezTo>
                  <a:pt x="5611" y="9074"/>
                  <a:pt x="5583" y="9089"/>
                  <a:pt x="5553" y="9101"/>
                </a:cubicBezTo>
                <a:cubicBezTo>
                  <a:pt x="5515" y="9116"/>
                  <a:pt x="5475" y="9130"/>
                  <a:pt x="5435" y="9142"/>
                </a:cubicBezTo>
                <a:cubicBezTo>
                  <a:pt x="5410" y="9150"/>
                  <a:pt x="5382" y="9160"/>
                  <a:pt x="5356" y="9162"/>
                </a:cubicBezTo>
                <a:cubicBezTo>
                  <a:pt x="5352" y="9162"/>
                  <a:pt x="5353" y="9158"/>
                  <a:pt x="5349" y="9158"/>
                </a:cubicBezTo>
                <a:cubicBezTo>
                  <a:pt x="5365" y="9149"/>
                  <a:pt x="5380" y="9137"/>
                  <a:pt x="5397" y="9129"/>
                </a:cubicBezTo>
                <a:cubicBezTo>
                  <a:pt x="5455" y="9100"/>
                  <a:pt x="5518" y="9076"/>
                  <a:pt x="5578" y="9052"/>
                </a:cubicBezTo>
                <a:cubicBezTo>
                  <a:pt x="5614" y="9037"/>
                  <a:pt x="5650" y="9024"/>
                  <a:pt x="5687" y="9011"/>
                </a:cubicBezTo>
                <a:cubicBezTo>
                  <a:pt x="5724" y="8998"/>
                  <a:pt x="5763" y="8988"/>
                  <a:pt x="5800" y="8975"/>
                </a:cubicBezTo>
                <a:cubicBezTo>
                  <a:pt x="5894" y="8943"/>
                  <a:pt x="5990" y="8910"/>
                  <a:pt x="6085" y="8884"/>
                </a:cubicBezTo>
                <a:cubicBezTo>
                  <a:pt x="6102" y="8879"/>
                  <a:pt x="6120" y="8877"/>
                  <a:pt x="6137" y="8873"/>
                </a:cubicBezTo>
                <a:cubicBezTo>
                  <a:pt x="6139" y="8873"/>
                  <a:pt x="6142" y="8873"/>
                  <a:pt x="6144" y="8873"/>
                </a:cubicBezTo>
                <a:cubicBezTo>
                  <a:pt x="6141" y="8878"/>
                  <a:pt x="6139" y="8886"/>
                  <a:pt x="6135" y="8893"/>
                </a:cubicBezTo>
                <a:cubicBezTo>
                  <a:pt x="6121" y="8917"/>
                  <a:pt x="6103" y="8937"/>
                  <a:pt x="6090" y="8961"/>
                </a:cubicBezTo>
                <a:cubicBezTo>
                  <a:pt x="6065" y="9007"/>
                  <a:pt x="6052" y="9056"/>
                  <a:pt x="6037" y="9106"/>
                </a:cubicBezTo>
                <a:cubicBezTo>
                  <a:pt x="6022" y="9156"/>
                  <a:pt x="6006" y="9206"/>
                  <a:pt x="5995" y="9257"/>
                </a:cubicBezTo>
                <a:cubicBezTo>
                  <a:pt x="5982" y="9316"/>
                  <a:pt x="5971" y="9375"/>
                  <a:pt x="5958" y="9434"/>
                </a:cubicBezTo>
                <a:cubicBezTo>
                  <a:pt x="5947" y="9484"/>
                  <a:pt x="5937" y="9532"/>
                  <a:pt x="5931" y="9583"/>
                </a:cubicBezTo>
                <a:cubicBezTo>
                  <a:pt x="5925" y="9639"/>
                  <a:pt x="5923" y="9695"/>
                  <a:pt x="5920" y="9751"/>
                </a:cubicBezTo>
                <a:cubicBezTo>
                  <a:pt x="5916" y="9823"/>
                  <a:pt x="5910" y="9893"/>
                  <a:pt x="5902" y="9964"/>
                </a:cubicBezTo>
                <a:cubicBezTo>
                  <a:pt x="5900" y="9982"/>
                  <a:pt x="5896" y="10003"/>
                  <a:pt x="5897" y="10022"/>
                </a:cubicBezTo>
                <a:cubicBezTo>
                  <a:pt x="5897" y="10033"/>
                  <a:pt x="5891" y="10027"/>
                  <a:pt x="5897" y="10038"/>
                </a:cubicBezTo>
                <a:cubicBezTo>
                  <a:pt x="5904" y="10050"/>
                  <a:pt x="5902" y="10028"/>
                  <a:pt x="5904" y="10029"/>
                </a:cubicBezTo>
                <a:cubicBezTo>
                  <a:pt x="5908" y="10031"/>
                  <a:pt x="5906" y="10018"/>
                  <a:pt x="5911" y="10018"/>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4805280" y="3092400"/>
            <a:ext cx="3865680" cy="1773360"/>
          </a:xfrm>
          <a:custGeom>
            <a:avLst/>
            <a:gdLst/>
            <a:ahLst/>
            <a:rect l="l" t="t" r="r" b="b"/>
            <a:pathLst>
              <a:path w="10740" h="4926">
                <a:moveTo>
                  <a:pt x="13347" y="8678"/>
                </a:moveTo>
                <a:cubicBezTo>
                  <a:pt x="13596" y="8651"/>
                  <a:pt x="13843" y="8609"/>
                  <a:pt x="14094" y="8595"/>
                </a:cubicBezTo>
                <a:cubicBezTo>
                  <a:pt x="14645" y="8564"/>
                  <a:pt x="15238" y="8551"/>
                  <a:pt x="15784" y="8628"/>
                </a:cubicBezTo>
                <a:cubicBezTo>
                  <a:pt x="16773" y="8768"/>
                  <a:pt x="17819" y="8827"/>
                  <a:pt x="18763" y="9171"/>
                </a:cubicBezTo>
                <a:cubicBezTo>
                  <a:pt x="19086" y="9289"/>
                  <a:pt x="19359" y="9466"/>
                  <a:pt x="19661" y="9624"/>
                </a:cubicBezTo>
                <a:cubicBezTo>
                  <a:pt x="20438" y="10032"/>
                  <a:pt x="21266" y="10339"/>
                  <a:pt x="21967" y="10877"/>
                </a:cubicBezTo>
                <a:cubicBezTo>
                  <a:pt x="22154" y="11021"/>
                  <a:pt x="22329" y="11166"/>
                  <a:pt x="22485" y="11343"/>
                </a:cubicBezTo>
                <a:cubicBezTo>
                  <a:pt x="22677" y="11561"/>
                  <a:pt x="22856" y="11789"/>
                  <a:pt x="23046" y="12006"/>
                </a:cubicBezTo>
                <a:cubicBezTo>
                  <a:pt x="23294" y="12290"/>
                  <a:pt x="23516" y="12564"/>
                  <a:pt x="23727" y="12878"/>
                </a:cubicBezTo>
                <a:cubicBezTo>
                  <a:pt x="23861" y="13077"/>
                  <a:pt x="23976" y="13287"/>
                  <a:pt x="24084" y="13500"/>
                </a:cubicBezTo>
                <a:cubicBezTo>
                  <a:pt x="24085" y="13504"/>
                  <a:pt x="24085" y="13509"/>
                  <a:pt x="24086" y="13513"/>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6080" y="3033720"/>
            <a:ext cx="4695840" cy="1635120"/>
          </a:xfrm>
          <a:custGeom>
            <a:avLst/>
            <a:gdLst/>
            <a:ahLst/>
            <a:rect l="l" t="t" r="r" b="b"/>
            <a:pathLst>
              <a:path w="13046" h="4546">
                <a:moveTo>
                  <a:pt x="13171" y="8622"/>
                </a:moveTo>
                <a:cubicBezTo>
                  <a:pt x="12886" y="8562"/>
                  <a:pt x="12604" y="8517"/>
                  <a:pt x="12311" y="8488"/>
                </a:cubicBezTo>
                <a:cubicBezTo>
                  <a:pt x="11396" y="8397"/>
                  <a:pt x="10459" y="8408"/>
                  <a:pt x="9542" y="8459"/>
                </a:cubicBezTo>
                <a:cubicBezTo>
                  <a:pt x="8757" y="8502"/>
                  <a:pt x="7953" y="8598"/>
                  <a:pt x="7173" y="8692"/>
                </a:cubicBezTo>
                <a:cubicBezTo>
                  <a:pt x="6197" y="8809"/>
                  <a:pt x="5228" y="8939"/>
                  <a:pt x="4289" y="9235"/>
                </a:cubicBezTo>
                <a:cubicBezTo>
                  <a:pt x="3770" y="9398"/>
                  <a:pt x="3293" y="9655"/>
                  <a:pt x="2789" y="9853"/>
                </a:cubicBezTo>
                <a:cubicBezTo>
                  <a:pt x="2374" y="10016"/>
                  <a:pt x="1964" y="10211"/>
                  <a:pt x="1560" y="10400"/>
                </a:cubicBezTo>
                <a:cubicBezTo>
                  <a:pt x="1394" y="10478"/>
                  <a:pt x="1243" y="10574"/>
                  <a:pt x="1089" y="10667"/>
                </a:cubicBezTo>
                <a:cubicBezTo>
                  <a:pt x="1010" y="10715"/>
                  <a:pt x="830" y="10769"/>
                  <a:pt x="775" y="10817"/>
                </a:cubicBezTo>
                <a:cubicBezTo>
                  <a:pt x="738" y="10850"/>
                  <a:pt x="689" y="10870"/>
                  <a:pt x="664" y="10902"/>
                </a:cubicBezTo>
                <a:cubicBezTo>
                  <a:pt x="576" y="11016"/>
                  <a:pt x="525" y="11233"/>
                  <a:pt x="481" y="11366"/>
                </a:cubicBezTo>
                <a:cubicBezTo>
                  <a:pt x="309" y="11884"/>
                  <a:pt x="215" y="12427"/>
                  <a:pt x="126" y="12964"/>
                </a:cubicBezTo>
                <a:cubicBezTo>
                  <a:pt x="126" y="12967"/>
                  <a:pt x="126" y="12968"/>
                  <a:pt x="126" y="12970"/>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04920" y="5454360"/>
            <a:ext cx="8839080" cy="1191240"/>
          </a:xfrm>
          <a:prstGeom prst="rect">
            <a:avLst/>
          </a:prstGeom>
          <a:solidFill>
            <a:srgbClr val="000066"/>
          </a:solidFill>
          <a:ln w="76320">
            <a:solidFill>
              <a:srgbClr val="0000ff"/>
            </a:solidFill>
            <a:prstDash val="lgDash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Placing the blade in the middle of the tongue and failing to move the tongue to the left are two common errors preventing visualization of the vocal co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600200" y="1600200"/>
            <a:ext cx="6248520" cy="4267080"/>
          </a:xfrm>
          <a:prstGeom prst="rect">
            <a:avLst/>
          </a:prstGeom>
          <a:ln w="0">
            <a:noFill/>
          </a:ln>
        </p:spPr>
      </p:pic>
      <p:sp>
        <p:nvSpPr>
          <p:cNvPr id="232" name=""/>
          <p:cNvSpPr/>
          <p:nvPr/>
        </p:nvSpPr>
        <p:spPr>
          <a:xfrm>
            <a:off x="969480" y="456480"/>
            <a:ext cx="4958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Laryngoscopic View Grad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752120"/>
            <a:ext cx="7696080" cy="3124440"/>
          </a:xfrm>
          <a:prstGeom prst="rect">
            <a:avLst/>
          </a:prstGeom>
          <a:solidFill>
            <a:srgbClr val="000066"/>
          </a:solidFill>
          <a:ln w="57240">
            <a:solidFill>
              <a:srgbClr val="0000ff"/>
            </a:solidFill>
            <a:miter/>
          </a:ln>
        </p:spPr>
        <p:txBody>
          <a:bodyPr lIns="90000" rIns="90000" tIns="46800" bIns="46800" anchor="t">
            <a:normAutofit fontScale="73000"/>
          </a:bodyPr>
          <a:p>
            <a:pPr marL="250200" indent="-250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URP" </a:t>
            </a:r>
            <a:endParaRPr b="0" lang="en-US" sz="2400" spc="-1" strike="noStrike">
              <a:solidFill>
                <a:srgbClr val="ffffff"/>
              </a:solidFill>
              <a:latin typeface="Garamond"/>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50200" indent="-250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ternal laryngeal manipulation, also called bimanual laryngoscopy </a:t>
            </a:r>
            <a:endParaRPr b="0" lang="en-US" sz="2400" spc="-1" strike="noStrike">
              <a:solidFill>
                <a:srgbClr val="ffffff"/>
              </a:solidFill>
              <a:latin typeface="Garamond"/>
            </a:endParaRPr>
          </a:p>
          <a:p>
            <a:pPr marL="25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places the right hand on the patient's thyroid cartilage to determine the best position of the larynx from the intubator's perspective</a:t>
            </a:r>
            <a:endParaRPr b="0" lang="en-US" sz="2400" spc="-1" strike="noStrike">
              <a:solidFill>
                <a:srgbClr val="ffffff"/>
              </a:solidFill>
              <a:latin typeface="Garamond"/>
            </a:endParaRPr>
          </a:p>
          <a:p>
            <a:pPr marL="25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50200" indent="-250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d8e74b"/>
                </a:solidFill>
                <a:uFillTx/>
                <a:latin typeface="Garamond"/>
              </a:rPr>
              <a:t>Levitan RM, Mickler T, Hollander JE: Bimanual laryngoscopy: A videographic study of external laryngeal manipulation by novice intubators. Ann Emerg Med 40:38, 2002. </a:t>
            </a:r>
            <a:endParaRPr b="0" lang="en-US" sz="1800" spc="-1" strike="noStrike">
              <a:solidFill>
                <a:srgbClr val="ffffff"/>
              </a:solidFill>
              <a:latin typeface="Garamond"/>
            </a:endParaRPr>
          </a:p>
        </p:txBody>
      </p:sp>
      <p:sp>
        <p:nvSpPr>
          <p:cNvPr id="2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aryngoscop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Laryngoscopy </a:t>
            </a:r>
            <a:r>
              <a:rPr b="1" lang="en-US" sz="3600" spc="-1" strike="noStrike">
                <a:solidFill>
                  <a:srgbClr val="e5e5ff"/>
                </a:solidFill>
                <a:latin typeface="Garamond"/>
              </a:rPr>
              <a:t>bougie tube </a:t>
            </a:r>
            <a:endParaRPr b="1" lang="en-US" sz="3600" spc="-1" strike="noStrike">
              <a:solidFill>
                <a:srgbClr val="e5e5ff"/>
              </a:solidFill>
              <a:latin typeface="Garamond"/>
            </a:endParaRPr>
          </a:p>
        </p:txBody>
      </p:sp>
      <p:sp>
        <p:nvSpPr>
          <p:cNvPr id="236"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vocal cords are still not seen, a bougie tube introducer may be used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a long, semirigid introducer that is placed, using the laryngoscope, through the laryngeal inlet and into the trache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racheal tube is then passed over the introducer and the introducer is withdrawn.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37" name="" descr=""/>
          <p:cNvPicPr/>
          <p:nvPr/>
        </p:nvPicPr>
        <p:blipFill>
          <a:blip r:embed="rId1"/>
          <a:stretch/>
        </p:blipFill>
        <p:spPr>
          <a:xfrm>
            <a:off x="6553080" y="4724280"/>
            <a:ext cx="1857600" cy="1571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Laryngoscopy </a:t>
            </a:r>
            <a:r>
              <a:rPr b="1" lang="en-US" sz="3600" spc="-1" strike="noStrike">
                <a:solidFill>
                  <a:srgbClr val="e5e5ff"/>
                </a:solidFill>
                <a:latin typeface="Garamond"/>
              </a:rPr>
              <a:t>bougie tube</a:t>
            </a:r>
            <a:endParaRPr b="1" lang="en-US" sz="3600" spc="-1" strike="noStrike">
              <a:solidFill>
                <a:srgbClr val="e5e5ff"/>
              </a:solidFill>
              <a:latin typeface="Garamond"/>
            </a:endParaRPr>
          </a:p>
        </p:txBody>
      </p:sp>
      <p:sp>
        <p:nvSpPr>
          <p:cNvPr id="239" name="PlaceHolder 2"/>
          <p:cNvSpPr>
            <a:spLocks noGrp="1"/>
          </p:cNvSpPr>
          <p:nvPr>
            <p:ph/>
          </p:nvPr>
        </p:nvSpPr>
        <p:spPr>
          <a:xfrm>
            <a:off x="457200" y="1599840"/>
            <a:ext cx="8229600" cy="2438280"/>
          </a:xfrm>
          <a:prstGeom prst="rect">
            <a:avLst/>
          </a:prstGeom>
          <a:solidFill>
            <a:srgbClr val="000066"/>
          </a:solid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urved or "coude tip" bougie is best suited for aiding in difficult intubations.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urved tip provides tactile feedback as it passes along the tracheal rings.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40" name=""/>
          <p:cNvSpPr/>
          <p:nvPr/>
        </p:nvSpPr>
        <p:spPr>
          <a:xfrm>
            <a:off x="1143000" y="4572000"/>
            <a:ext cx="65530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resistance is met in passing the tracheal tube, rotate the tube 90° counterclockwise and advance the tube.</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Crash Airway</a:t>
            </a:r>
            <a:r>
              <a:rPr b="1" lang="en-US" sz="4400" spc="-1" strike="noStrike">
                <a:solidFill>
                  <a:srgbClr val="e5e5ff"/>
                </a:solidFill>
                <a:latin typeface="Garamond"/>
              </a:rPr>
              <a:t> </a:t>
            </a:r>
            <a:br>
              <a:rPr sz="4400"/>
            </a:br>
            <a:endParaRPr b="1" lang="en-US" sz="4400" spc="-1" strike="noStrike">
              <a:solidFill>
                <a:srgbClr val="e5e5ff"/>
              </a:solidFill>
              <a:latin typeface="Garamond"/>
            </a:endParaRPr>
          </a:p>
        </p:txBody>
      </p:sp>
      <p:sp>
        <p:nvSpPr>
          <p:cNvPr id="242" name=""/>
          <p:cNvSpPr/>
          <p:nvPr/>
        </p:nvSpPr>
        <p:spPr>
          <a:xfrm>
            <a:off x="308880" y="1370880"/>
            <a:ext cx="6646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unresponsive to direct laryngoscopy </a:t>
            </a:r>
            <a:endParaRPr b="0" lang="en-US" sz="2800" spc="-1" strike="noStrike">
              <a:solidFill>
                <a:srgbClr val="ffffff"/>
              </a:solidFill>
              <a:latin typeface="Arial"/>
            </a:endParaRPr>
          </a:p>
        </p:txBody>
      </p:sp>
      <p:pic>
        <p:nvPicPr>
          <p:cNvPr id="243" name="" descr=""/>
          <p:cNvPicPr/>
          <p:nvPr/>
        </p:nvPicPr>
        <p:blipFill>
          <a:blip r:embed="rId1"/>
          <a:stretch/>
        </p:blipFill>
        <p:spPr>
          <a:xfrm>
            <a:off x="1905120" y="3352680"/>
            <a:ext cx="5181480" cy="3505320"/>
          </a:xfrm>
          <a:prstGeom prst="rect">
            <a:avLst/>
          </a:prstGeom>
          <a:ln w="0">
            <a:noFill/>
          </a:ln>
        </p:spPr>
      </p:pic>
      <p:sp>
        <p:nvSpPr>
          <p:cNvPr id="244" name=""/>
          <p:cNvSpPr/>
          <p:nvPr/>
        </p:nvSpPr>
        <p:spPr>
          <a:xfrm>
            <a:off x="5943600" y="1981080"/>
            <a:ext cx="0" cy="2438640"/>
          </a:xfrm>
          <a:prstGeom prst="line">
            <a:avLst/>
          </a:prstGeom>
          <a:ln w="76320">
            <a:solidFill>
              <a:srgbClr val="aa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TT</a:t>
            </a: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8229600" cy="4525920"/>
          </a:xfrm>
          <a:prstGeom prst="rect">
            <a:avLst/>
          </a:prstGeom>
          <a:solidFill>
            <a:srgbClr val="000066"/>
          </a:solidFill>
          <a:ln w="76320">
            <a:solidFill>
              <a:srgbClr val="ffcc00"/>
            </a:solidFill>
            <a:miter/>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T tube cuff should be checked for leaks by inflating the balloon before attempting intubation</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lexible stylet down the tube to increase its stiffness and enhance control of the tip of the tube.</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ube is then bent in a gradual curve with a more acute angling in the distal one-third to more easily access the anterior larynx.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ip and cuff of the tube are lubricated with viscous lidocaine or a water-soluble ge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7" name=""/>
          <p:cNvSpPr/>
          <p:nvPr/>
        </p:nvSpPr>
        <p:spPr>
          <a:xfrm>
            <a:off x="380880" y="609480"/>
            <a:ext cx="7620120" cy="17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8e74b"/>
                </a:solidFill>
                <a:latin typeface="Times New Roman"/>
              </a:rPr>
              <a:t>ESTABLISHMENT OF AIRWAY PATENC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Common Obstructing Agents</a:t>
            </a:r>
            <a:endParaRPr b="0" lang="en-US" sz="2800" spc="-1" strike="noStrike">
              <a:solidFill>
                <a:srgbClr val="ffffff"/>
              </a:solidFill>
              <a:latin typeface="Arial"/>
            </a:endParaRPr>
          </a:p>
        </p:txBody>
      </p:sp>
      <p:sp>
        <p:nvSpPr>
          <p:cNvPr id="108" name=""/>
          <p:cNvSpPr/>
          <p:nvPr/>
        </p:nvSpPr>
        <p:spPr>
          <a:xfrm>
            <a:off x="1447920" y="274320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The tongu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entur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Swollen or distorted tissu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Blo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Vom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TT</a:t>
            </a:r>
            <a:endParaRPr b="1" lang="en-US" sz="2800" spc="-1" strike="noStrike">
              <a:solidFill>
                <a:srgbClr val="e5e5ff"/>
              </a:solidFill>
              <a:latin typeface="Garamond"/>
            </a:endParaRPr>
          </a:p>
        </p:txBody>
      </p:sp>
      <p:sp>
        <p:nvSpPr>
          <p:cNvPr id="248"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ult men generally accept a 7.5 to 9.0 mm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omen can usually be intubated with a 7.0 to 8.0 mm tube.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most circumstances, tubes smaller than these should not be used because airway resistance increases as tube size decreas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emergency intubations, particularly if a difficult intubation is anticipated, many clinicians choose a smaller tube and change to a larger tube later.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TT</a:t>
            </a:r>
            <a:endParaRPr b="1" lang="en-US" sz="2800" spc="-1" strike="noStrike">
              <a:solidFill>
                <a:srgbClr val="e5e5ff"/>
              </a:solidFill>
              <a:latin typeface="Garamond"/>
            </a:endParaRPr>
          </a:p>
        </p:txBody>
      </p:sp>
      <p:sp>
        <p:nvSpPr>
          <p:cNvPr id="250" name="PlaceHolder 2"/>
          <p:cNvSpPr>
            <a:spLocks noGrp="1"/>
          </p:cNvSpPr>
          <p:nvPr>
            <p:ph/>
          </p:nvPr>
        </p:nvSpPr>
        <p:spPr>
          <a:xfrm>
            <a:off x="609480" y="1600200"/>
            <a:ext cx="8229600" cy="4525920"/>
          </a:xfrm>
          <a:prstGeom prst="rect">
            <a:avLst/>
          </a:prstGeom>
          <a:solidFill>
            <a:srgbClr val="000066"/>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ff pressure should be measured and maintained at 20 to 25 mm Hg. </a:t>
            </a: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illary blood flow is compromised in the tracheal mucosa when the cuff pressure exceeds 30 mm Hg.</a:t>
            </a: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 emergency situations, the balloon may simply be inflated with 10 mL of air and adjusted when the patient's condition has stabilized.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TT</a:t>
            </a:r>
            <a:endParaRPr b="1" lang="en-US" sz="4400" spc="-1" strike="noStrike">
              <a:solidFill>
                <a:srgbClr val="e5e5ff"/>
              </a:solidFill>
              <a:latin typeface="Garamond"/>
            </a:endParaRPr>
          </a:p>
        </p:txBody>
      </p:sp>
      <p:sp>
        <p:nvSpPr>
          <p:cNvPr id="252" name="PlaceHolder 2"/>
          <p:cNvSpPr>
            <a:spLocks noGrp="1"/>
          </p:cNvSpPr>
          <p:nvPr>
            <p:ph/>
          </p:nvPr>
        </p:nvSpPr>
        <p:spPr>
          <a:xfrm>
            <a:off x="609480" y="1600200"/>
            <a:ext cx="8229600" cy="4525920"/>
          </a:xfrm>
          <a:prstGeom prst="rect">
            <a:avLst/>
          </a:prstGeom>
          <a:solidFill>
            <a:srgbClr val="000066"/>
          </a:solidFill>
          <a:ln w="9360">
            <a:solidFill>
              <a:srgbClr val="0000ff"/>
            </a:solidFill>
            <a:miter/>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ube should be introduced from the right side of the patient's mouth, advanced toward the patient's larynx at an angle, not parallel with or down the slot of the laryngoscope blade.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way, the clinician's view of the larynx is not obstructed by the hand or the tube until the last possible moment before the tube enters the larynx.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patient is not chemically paralyzed, the tube should be passed during inspiration, when the vocal cords are maximally op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9 y. o. 36 week pregnant lady admitted with multiple trauma after mva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CS is 8, O 2 sat is 85% SBP is 6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Any special consideration in intubation of this p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Obstetric Patients </a:t>
            </a:r>
            <a:endParaRPr b="1" lang="en-US" sz="2800" spc="-1" strike="noStrike">
              <a:solidFill>
                <a:srgbClr val="e5e5ff"/>
              </a:solidFill>
              <a:latin typeface="Garamond"/>
            </a:endParaRPr>
          </a:p>
        </p:txBody>
      </p:sp>
      <p:sp>
        <p:nvSpPr>
          <p:cNvPr id="256"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nctional residual capacity is significantly reduced causing the rapid desaturation seen in the preintubation period.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otension in the supine position as a result of compression of the vena cava by the gravid uterus.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gorgement of oropharyngeal and nasal mucosa leads to easily provoked bleeding with manipulatio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57" name="" descr="">
            <a:hlinkClick r:id="rId1"/>
          </p:cNvPr>
          <p:cNvPicPr/>
          <p:nvPr/>
        </p:nvPicPr>
        <p:blipFill>
          <a:blip r:embed="rId2"/>
          <a:stretch/>
        </p:blipFill>
        <p:spPr>
          <a:xfrm>
            <a:off x="6705720" y="4648320"/>
            <a:ext cx="1562040" cy="2209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Obstetric Patients</a:t>
            </a:r>
            <a:endParaRPr b="1" lang="en-US" sz="3200" spc="-1" strike="noStrike">
              <a:solidFill>
                <a:srgbClr val="e5e5ff"/>
              </a:solidFill>
              <a:latin typeface="Garamond"/>
            </a:endParaRPr>
          </a:p>
        </p:txBody>
      </p:sp>
      <p:sp>
        <p:nvSpPr>
          <p:cNvPr id="25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eneralized edema including the airway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smaller ET tubes (6.0 to 7.0)</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vanced gestation has been shown to correlate with higher maternal Mallampati scor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piration during emergency airway procedures.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0 year old male in CHF, awake, hypoxic 84% and difficult to ventilate.</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teeth</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 a beard</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want to pre oxygenate him for intubation ???</a:t>
            </a:r>
            <a:endParaRPr b="0" lang="en-US" sz="2400" spc="-1" strike="noStrike">
              <a:solidFill>
                <a:srgbClr val="ffffff"/>
              </a:solidFill>
              <a:latin typeface="Garamond"/>
            </a:endParaRPr>
          </a:p>
        </p:txBody>
      </p:sp>
      <p:sp>
        <p:nvSpPr>
          <p:cNvPr id="262" name=""/>
          <p:cNvSpPr/>
          <p:nvPr/>
        </p:nvSpPr>
        <p:spPr>
          <a:xfrm>
            <a:off x="4419720" y="5181480"/>
            <a:ext cx="846000" cy="371520"/>
          </a:xfrm>
          <a:custGeom>
            <a:avLst/>
            <a:gdLst/>
            <a:ahLst/>
            <a:rect l="l" t="t" r="r" b="b"/>
            <a:pathLst>
              <a:path w="533" h="234">
                <a:moveTo>
                  <a:pt x="72" y="56"/>
                </a:moveTo>
                <a:cubicBezTo>
                  <a:pt x="90" y="0"/>
                  <a:pt x="211" y="32"/>
                  <a:pt x="243" y="34"/>
                </a:cubicBezTo>
                <a:cubicBezTo>
                  <a:pt x="250" y="37"/>
                  <a:pt x="259" y="37"/>
                  <a:pt x="264" y="42"/>
                </a:cubicBezTo>
                <a:cubicBezTo>
                  <a:pt x="269" y="47"/>
                  <a:pt x="265" y="59"/>
                  <a:pt x="271" y="63"/>
                </a:cubicBezTo>
                <a:cubicBezTo>
                  <a:pt x="281" y="70"/>
                  <a:pt x="295" y="68"/>
                  <a:pt x="307" y="70"/>
                </a:cubicBezTo>
                <a:cubicBezTo>
                  <a:pt x="333" y="68"/>
                  <a:pt x="360" y="71"/>
                  <a:pt x="385" y="63"/>
                </a:cubicBezTo>
                <a:cubicBezTo>
                  <a:pt x="393" y="61"/>
                  <a:pt x="393" y="48"/>
                  <a:pt x="399" y="42"/>
                </a:cubicBezTo>
                <a:cubicBezTo>
                  <a:pt x="414" y="26"/>
                  <a:pt x="423" y="26"/>
                  <a:pt x="442" y="20"/>
                </a:cubicBezTo>
                <a:cubicBezTo>
                  <a:pt x="461" y="22"/>
                  <a:pt x="481" y="21"/>
                  <a:pt x="499" y="27"/>
                </a:cubicBezTo>
                <a:cubicBezTo>
                  <a:pt x="525" y="35"/>
                  <a:pt x="525" y="106"/>
                  <a:pt x="527" y="120"/>
                </a:cubicBezTo>
                <a:cubicBezTo>
                  <a:pt x="525" y="153"/>
                  <a:pt x="533" y="189"/>
                  <a:pt x="520" y="219"/>
                </a:cubicBezTo>
                <a:cubicBezTo>
                  <a:pt x="514" y="233"/>
                  <a:pt x="477" y="234"/>
                  <a:pt x="477" y="234"/>
                </a:cubicBezTo>
                <a:cubicBezTo>
                  <a:pt x="444" y="231"/>
                  <a:pt x="411" y="231"/>
                  <a:pt x="378" y="226"/>
                </a:cubicBezTo>
                <a:cubicBezTo>
                  <a:pt x="363" y="224"/>
                  <a:pt x="335" y="212"/>
                  <a:pt x="335" y="212"/>
                </a:cubicBezTo>
                <a:cubicBezTo>
                  <a:pt x="279" y="156"/>
                  <a:pt x="238" y="187"/>
                  <a:pt x="143" y="191"/>
                </a:cubicBezTo>
                <a:cubicBezTo>
                  <a:pt x="117" y="200"/>
                  <a:pt x="91" y="203"/>
                  <a:pt x="65" y="212"/>
                </a:cubicBezTo>
                <a:cubicBezTo>
                  <a:pt x="6" y="202"/>
                  <a:pt x="21" y="208"/>
                  <a:pt x="8" y="155"/>
                </a:cubicBezTo>
                <a:cubicBezTo>
                  <a:pt x="13" y="109"/>
                  <a:pt x="0" y="70"/>
                  <a:pt x="44" y="56"/>
                </a:cubicBezTo>
                <a:cubicBezTo>
                  <a:pt x="69" y="39"/>
                  <a:pt x="61" y="34"/>
                  <a:pt x="72" y="56"/>
                </a:cubicBezTo>
                <a:close/>
              </a:path>
            </a:pathLst>
          </a:custGeom>
          <a:noFill/>
          <a:ln w="936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343400" y="5334120"/>
            <a:ext cx="533520" cy="457200"/>
          </a:xfrm>
          <a:custGeom>
            <a:avLst/>
            <a:gdLst/>
            <a:ahLst/>
            <a:rect l="l" t="t" r="r" b="b"/>
            <a:pathLst>
              <a:path w="185" h="120">
                <a:moveTo>
                  <a:pt x="40" y="70"/>
                </a:moveTo>
                <a:cubicBezTo>
                  <a:pt x="69" y="60"/>
                  <a:pt x="87" y="32"/>
                  <a:pt x="104" y="6"/>
                </a:cubicBezTo>
                <a:cubicBezTo>
                  <a:pt x="128" y="8"/>
                  <a:pt x="155" y="0"/>
                  <a:pt x="175" y="13"/>
                </a:cubicBezTo>
                <a:cubicBezTo>
                  <a:pt x="185" y="20"/>
                  <a:pt x="174" y="38"/>
                  <a:pt x="168" y="49"/>
                </a:cubicBezTo>
                <a:cubicBezTo>
                  <a:pt x="161" y="62"/>
                  <a:pt x="146" y="70"/>
                  <a:pt x="132" y="77"/>
                </a:cubicBezTo>
                <a:cubicBezTo>
                  <a:pt x="119" y="84"/>
                  <a:pt x="90" y="91"/>
                  <a:pt x="90" y="91"/>
                </a:cubicBezTo>
                <a:cubicBezTo>
                  <a:pt x="83" y="96"/>
                  <a:pt x="76" y="102"/>
                  <a:pt x="68" y="106"/>
                </a:cubicBezTo>
                <a:cubicBezTo>
                  <a:pt x="55" y="112"/>
                  <a:pt x="26" y="120"/>
                  <a:pt x="26" y="120"/>
                </a:cubicBezTo>
                <a:cubicBezTo>
                  <a:pt x="0" y="95"/>
                  <a:pt x="7" y="111"/>
                  <a:pt x="40" y="70"/>
                </a:cubicBezTo>
                <a:close/>
              </a:path>
            </a:pathLst>
          </a:custGeom>
          <a:solidFill>
            <a:srgbClr val="aa1a02"/>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4876920" y="4724280"/>
            <a:ext cx="75960" cy="15264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419720" y="4724280"/>
            <a:ext cx="75960" cy="15264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86200" y="4267080"/>
            <a:ext cx="1682640" cy="1735200"/>
          </a:xfrm>
          <a:custGeom>
            <a:avLst/>
            <a:gdLst/>
            <a:ahLst/>
            <a:rect l="l" t="t" r="r" b="b"/>
            <a:pathLst>
              <a:path w="1060" h="1093">
                <a:moveTo>
                  <a:pt x="178" y="76"/>
                </a:moveTo>
                <a:cubicBezTo>
                  <a:pt x="275" y="44"/>
                  <a:pt x="116" y="99"/>
                  <a:pt x="220" y="55"/>
                </a:cubicBezTo>
                <a:cubicBezTo>
                  <a:pt x="286" y="27"/>
                  <a:pt x="386" y="29"/>
                  <a:pt x="448" y="26"/>
                </a:cubicBezTo>
                <a:cubicBezTo>
                  <a:pt x="525" y="0"/>
                  <a:pt x="589" y="15"/>
                  <a:pt x="676" y="19"/>
                </a:cubicBezTo>
                <a:cubicBezTo>
                  <a:pt x="683" y="21"/>
                  <a:pt x="690" y="23"/>
                  <a:pt x="697" y="26"/>
                </a:cubicBezTo>
                <a:cubicBezTo>
                  <a:pt x="705" y="30"/>
                  <a:pt x="710" y="38"/>
                  <a:pt x="718" y="41"/>
                </a:cubicBezTo>
                <a:cubicBezTo>
                  <a:pt x="730" y="46"/>
                  <a:pt x="782" y="54"/>
                  <a:pt x="789" y="55"/>
                </a:cubicBezTo>
                <a:cubicBezTo>
                  <a:pt x="822" y="71"/>
                  <a:pt x="849" y="94"/>
                  <a:pt x="875" y="119"/>
                </a:cubicBezTo>
                <a:cubicBezTo>
                  <a:pt x="888" y="157"/>
                  <a:pt x="910" y="198"/>
                  <a:pt x="939" y="225"/>
                </a:cubicBezTo>
                <a:cubicBezTo>
                  <a:pt x="955" y="276"/>
                  <a:pt x="933" y="216"/>
                  <a:pt x="967" y="268"/>
                </a:cubicBezTo>
                <a:cubicBezTo>
                  <a:pt x="976" y="281"/>
                  <a:pt x="979" y="298"/>
                  <a:pt x="988" y="311"/>
                </a:cubicBezTo>
                <a:cubicBezTo>
                  <a:pt x="995" y="337"/>
                  <a:pt x="1009" y="357"/>
                  <a:pt x="1017" y="382"/>
                </a:cubicBezTo>
                <a:cubicBezTo>
                  <a:pt x="1019" y="451"/>
                  <a:pt x="1024" y="519"/>
                  <a:pt x="1024" y="588"/>
                </a:cubicBezTo>
                <a:cubicBezTo>
                  <a:pt x="1024" y="646"/>
                  <a:pt x="1060" y="841"/>
                  <a:pt x="981" y="915"/>
                </a:cubicBezTo>
                <a:cubicBezTo>
                  <a:pt x="969" y="953"/>
                  <a:pt x="930" y="972"/>
                  <a:pt x="903" y="1001"/>
                </a:cubicBezTo>
                <a:cubicBezTo>
                  <a:pt x="901" y="1008"/>
                  <a:pt x="902" y="1018"/>
                  <a:pt x="896" y="1022"/>
                </a:cubicBezTo>
                <a:cubicBezTo>
                  <a:pt x="884" y="1031"/>
                  <a:pt x="853" y="1036"/>
                  <a:pt x="853" y="1036"/>
                </a:cubicBezTo>
                <a:cubicBezTo>
                  <a:pt x="805" y="1084"/>
                  <a:pt x="718" y="1085"/>
                  <a:pt x="654" y="1093"/>
                </a:cubicBezTo>
                <a:cubicBezTo>
                  <a:pt x="566" y="1088"/>
                  <a:pt x="478" y="1087"/>
                  <a:pt x="391" y="1079"/>
                </a:cubicBezTo>
                <a:cubicBezTo>
                  <a:pt x="376" y="1078"/>
                  <a:pt x="348" y="1065"/>
                  <a:pt x="348" y="1065"/>
                </a:cubicBezTo>
                <a:cubicBezTo>
                  <a:pt x="322" y="1038"/>
                  <a:pt x="284" y="1025"/>
                  <a:pt x="249" y="1008"/>
                </a:cubicBezTo>
                <a:cubicBezTo>
                  <a:pt x="244" y="1003"/>
                  <a:pt x="238" y="999"/>
                  <a:pt x="235" y="993"/>
                </a:cubicBezTo>
                <a:cubicBezTo>
                  <a:pt x="231" y="987"/>
                  <a:pt x="232" y="978"/>
                  <a:pt x="228" y="972"/>
                </a:cubicBezTo>
                <a:cubicBezTo>
                  <a:pt x="215" y="955"/>
                  <a:pt x="168" y="904"/>
                  <a:pt x="149" y="887"/>
                </a:cubicBezTo>
                <a:cubicBezTo>
                  <a:pt x="140" y="860"/>
                  <a:pt x="110" y="832"/>
                  <a:pt x="85" y="816"/>
                </a:cubicBezTo>
                <a:cubicBezTo>
                  <a:pt x="69" y="791"/>
                  <a:pt x="64" y="773"/>
                  <a:pt x="43" y="752"/>
                </a:cubicBezTo>
                <a:cubicBezTo>
                  <a:pt x="32" y="695"/>
                  <a:pt x="42" y="736"/>
                  <a:pt x="28" y="695"/>
                </a:cubicBezTo>
                <a:cubicBezTo>
                  <a:pt x="23" y="681"/>
                  <a:pt x="14" y="652"/>
                  <a:pt x="14" y="652"/>
                </a:cubicBezTo>
                <a:cubicBezTo>
                  <a:pt x="0" y="520"/>
                  <a:pt x="4" y="584"/>
                  <a:pt x="14" y="361"/>
                </a:cubicBezTo>
                <a:cubicBezTo>
                  <a:pt x="16" y="312"/>
                  <a:pt x="23" y="262"/>
                  <a:pt x="57" y="225"/>
                </a:cubicBezTo>
                <a:cubicBezTo>
                  <a:pt x="76" y="148"/>
                  <a:pt x="50" y="240"/>
                  <a:pt x="78" y="176"/>
                </a:cubicBezTo>
                <a:cubicBezTo>
                  <a:pt x="92" y="143"/>
                  <a:pt x="93" y="97"/>
                  <a:pt x="135" y="83"/>
                </a:cubicBezTo>
                <a:cubicBezTo>
                  <a:pt x="149" y="78"/>
                  <a:pt x="164" y="78"/>
                  <a:pt x="178" y="76"/>
                </a:cubicBezTo>
                <a:close/>
              </a:path>
            </a:pathLst>
          </a:custGeom>
          <a:gradFill rotWithShape="0">
            <a:gsLst>
              <a:gs pos="0">
                <a:srgbClr val="996600">
                  <a:alpha val="40000"/>
                </a:srgbClr>
              </a:gs>
              <a:gs pos="100000">
                <a:srgbClr val="462f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657600" y="4678200"/>
            <a:ext cx="271440" cy="560520"/>
          </a:xfrm>
          <a:custGeom>
            <a:avLst/>
            <a:gdLst/>
            <a:ahLst/>
            <a:rect l="l" t="t" r="r" b="b"/>
            <a:pathLst>
              <a:path w="171" h="353">
                <a:moveTo>
                  <a:pt x="171" y="18"/>
                </a:moveTo>
                <a:cubicBezTo>
                  <a:pt x="103" y="23"/>
                  <a:pt x="84" y="27"/>
                  <a:pt x="28" y="40"/>
                </a:cubicBezTo>
                <a:cubicBezTo>
                  <a:pt x="0" y="83"/>
                  <a:pt x="3" y="68"/>
                  <a:pt x="21" y="153"/>
                </a:cubicBezTo>
                <a:cubicBezTo>
                  <a:pt x="27" y="182"/>
                  <a:pt x="100" y="196"/>
                  <a:pt x="100" y="196"/>
                </a:cubicBezTo>
                <a:cubicBezTo>
                  <a:pt x="154" y="232"/>
                  <a:pt x="142" y="292"/>
                  <a:pt x="142" y="353"/>
                </a:cubicBezTo>
                <a:cubicBezTo>
                  <a:pt x="144" y="258"/>
                  <a:pt x="145" y="163"/>
                  <a:pt x="149" y="68"/>
                </a:cubicBezTo>
                <a:cubicBezTo>
                  <a:pt x="149" y="62"/>
                  <a:pt x="153" y="0"/>
                  <a:pt x="171" y="18"/>
                </a:cubicBezTo>
                <a:close/>
              </a:path>
            </a:pathLst>
          </a:custGeom>
          <a:gradFill rotWithShape="0">
            <a:gsLst>
              <a:gs pos="0">
                <a:srgbClr val="996600">
                  <a:alpha val="75294"/>
                </a:srgbClr>
              </a:gs>
              <a:gs pos="100000">
                <a:srgbClr val="462f00">
                  <a:alpha val="22352"/>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a:off x="5486400" y="4800600"/>
            <a:ext cx="262080" cy="560520"/>
          </a:xfrm>
          <a:custGeom>
            <a:avLst/>
            <a:gdLst/>
            <a:ahLst/>
            <a:rect l="l" t="t" r="r" b="b"/>
            <a:pathLst>
              <a:path w="171" h="353">
                <a:moveTo>
                  <a:pt x="171" y="18"/>
                </a:moveTo>
                <a:cubicBezTo>
                  <a:pt x="103" y="23"/>
                  <a:pt x="84" y="27"/>
                  <a:pt x="28" y="40"/>
                </a:cubicBezTo>
                <a:cubicBezTo>
                  <a:pt x="0" y="83"/>
                  <a:pt x="3" y="68"/>
                  <a:pt x="21" y="153"/>
                </a:cubicBezTo>
                <a:cubicBezTo>
                  <a:pt x="27" y="182"/>
                  <a:pt x="100" y="196"/>
                  <a:pt x="100" y="196"/>
                </a:cubicBezTo>
                <a:cubicBezTo>
                  <a:pt x="154" y="232"/>
                  <a:pt x="142" y="292"/>
                  <a:pt x="142" y="353"/>
                </a:cubicBezTo>
                <a:cubicBezTo>
                  <a:pt x="144" y="258"/>
                  <a:pt x="145" y="163"/>
                  <a:pt x="149" y="68"/>
                </a:cubicBezTo>
                <a:cubicBezTo>
                  <a:pt x="149" y="62"/>
                  <a:pt x="153" y="0"/>
                  <a:pt x="171" y="18"/>
                </a:cubicBezTo>
                <a:close/>
              </a:path>
            </a:pathLst>
          </a:custGeom>
          <a:gradFill rotWithShape="0">
            <a:gsLst>
              <a:gs pos="0">
                <a:srgbClr val="996600">
                  <a:alpha val="75294"/>
                </a:srgbClr>
              </a:gs>
              <a:gs pos="100000">
                <a:srgbClr val="462f00">
                  <a:alpha val="22352"/>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886200" y="3581280"/>
            <a:ext cx="1631880" cy="1760760"/>
          </a:xfrm>
          <a:custGeom>
            <a:avLst/>
            <a:gdLst/>
            <a:ahLst/>
            <a:rect l="l" t="t" r="r" b="b"/>
            <a:pathLst>
              <a:path w="1028" h="485">
                <a:moveTo>
                  <a:pt x="21" y="196"/>
                </a:moveTo>
                <a:cubicBezTo>
                  <a:pt x="67" y="202"/>
                  <a:pt x="92" y="195"/>
                  <a:pt x="106" y="238"/>
                </a:cubicBezTo>
                <a:cubicBezTo>
                  <a:pt x="109" y="269"/>
                  <a:pt x="103" y="302"/>
                  <a:pt x="114" y="331"/>
                </a:cubicBezTo>
                <a:cubicBezTo>
                  <a:pt x="117" y="339"/>
                  <a:pt x="130" y="323"/>
                  <a:pt x="135" y="316"/>
                </a:cubicBezTo>
                <a:cubicBezTo>
                  <a:pt x="145" y="304"/>
                  <a:pt x="147" y="287"/>
                  <a:pt x="156" y="274"/>
                </a:cubicBezTo>
                <a:cubicBezTo>
                  <a:pt x="158" y="267"/>
                  <a:pt x="163" y="244"/>
                  <a:pt x="163" y="252"/>
                </a:cubicBezTo>
                <a:cubicBezTo>
                  <a:pt x="163" y="262"/>
                  <a:pt x="159" y="271"/>
                  <a:pt x="156" y="281"/>
                </a:cubicBezTo>
                <a:cubicBezTo>
                  <a:pt x="154" y="288"/>
                  <a:pt x="142" y="299"/>
                  <a:pt x="149" y="302"/>
                </a:cubicBezTo>
                <a:cubicBezTo>
                  <a:pt x="160" y="307"/>
                  <a:pt x="173" y="297"/>
                  <a:pt x="185" y="295"/>
                </a:cubicBezTo>
                <a:cubicBezTo>
                  <a:pt x="206" y="281"/>
                  <a:pt x="228" y="266"/>
                  <a:pt x="249" y="252"/>
                </a:cubicBezTo>
                <a:cubicBezTo>
                  <a:pt x="256" y="247"/>
                  <a:pt x="263" y="243"/>
                  <a:pt x="270" y="238"/>
                </a:cubicBezTo>
                <a:cubicBezTo>
                  <a:pt x="277" y="233"/>
                  <a:pt x="297" y="218"/>
                  <a:pt x="291" y="224"/>
                </a:cubicBezTo>
                <a:cubicBezTo>
                  <a:pt x="266" y="249"/>
                  <a:pt x="245" y="248"/>
                  <a:pt x="213" y="260"/>
                </a:cubicBezTo>
                <a:cubicBezTo>
                  <a:pt x="218" y="255"/>
                  <a:pt x="222" y="250"/>
                  <a:pt x="227" y="245"/>
                </a:cubicBezTo>
                <a:cubicBezTo>
                  <a:pt x="232" y="240"/>
                  <a:pt x="249" y="231"/>
                  <a:pt x="242" y="231"/>
                </a:cubicBezTo>
                <a:cubicBezTo>
                  <a:pt x="227" y="231"/>
                  <a:pt x="213" y="240"/>
                  <a:pt x="199" y="245"/>
                </a:cubicBezTo>
                <a:cubicBezTo>
                  <a:pt x="192" y="247"/>
                  <a:pt x="178" y="252"/>
                  <a:pt x="178" y="252"/>
                </a:cubicBezTo>
                <a:cubicBezTo>
                  <a:pt x="195" y="259"/>
                  <a:pt x="212" y="257"/>
                  <a:pt x="192" y="281"/>
                </a:cubicBezTo>
                <a:cubicBezTo>
                  <a:pt x="186" y="288"/>
                  <a:pt x="162" y="291"/>
                  <a:pt x="170" y="295"/>
                </a:cubicBezTo>
                <a:cubicBezTo>
                  <a:pt x="181" y="300"/>
                  <a:pt x="206" y="276"/>
                  <a:pt x="206" y="288"/>
                </a:cubicBezTo>
                <a:cubicBezTo>
                  <a:pt x="206" y="301"/>
                  <a:pt x="182" y="297"/>
                  <a:pt x="170" y="302"/>
                </a:cubicBezTo>
                <a:cubicBezTo>
                  <a:pt x="198" y="262"/>
                  <a:pt x="169" y="297"/>
                  <a:pt x="220" y="260"/>
                </a:cubicBezTo>
                <a:cubicBezTo>
                  <a:pt x="226" y="256"/>
                  <a:pt x="239" y="250"/>
                  <a:pt x="234" y="245"/>
                </a:cubicBezTo>
                <a:cubicBezTo>
                  <a:pt x="229" y="239"/>
                  <a:pt x="220" y="250"/>
                  <a:pt x="213" y="252"/>
                </a:cubicBezTo>
                <a:cubicBezTo>
                  <a:pt x="192" y="260"/>
                  <a:pt x="149" y="274"/>
                  <a:pt x="149" y="274"/>
                </a:cubicBezTo>
                <a:cubicBezTo>
                  <a:pt x="214" y="295"/>
                  <a:pt x="199" y="281"/>
                  <a:pt x="263" y="260"/>
                </a:cubicBezTo>
                <a:cubicBezTo>
                  <a:pt x="268" y="267"/>
                  <a:pt x="270" y="276"/>
                  <a:pt x="277" y="281"/>
                </a:cubicBezTo>
                <a:cubicBezTo>
                  <a:pt x="283" y="286"/>
                  <a:pt x="305" y="288"/>
                  <a:pt x="298" y="288"/>
                </a:cubicBezTo>
                <a:cubicBezTo>
                  <a:pt x="288" y="288"/>
                  <a:pt x="279" y="283"/>
                  <a:pt x="270" y="281"/>
                </a:cubicBezTo>
                <a:cubicBezTo>
                  <a:pt x="275" y="273"/>
                  <a:pt x="313" y="203"/>
                  <a:pt x="277" y="260"/>
                </a:cubicBezTo>
                <a:cubicBezTo>
                  <a:pt x="316" y="286"/>
                  <a:pt x="333" y="268"/>
                  <a:pt x="362" y="238"/>
                </a:cubicBezTo>
                <a:cubicBezTo>
                  <a:pt x="385" y="178"/>
                  <a:pt x="321" y="260"/>
                  <a:pt x="306" y="260"/>
                </a:cubicBezTo>
                <a:cubicBezTo>
                  <a:pt x="299" y="260"/>
                  <a:pt x="315" y="249"/>
                  <a:pt x="320" y="245"/>
                </a:cubicBezTo>
                <a:cubicBezTo>
                  <a:pt x="326" y="240"/>
                  <a:pt x="334" y="236"/>
                  <a:pt x="341" y="231"/>
                </a:cubicBezTo>
                <a:cubicBezTo>
                  <a:pt x="353" y="268"/>
                  <a:pt x="338" y="245"/>
                  <a:pt x="377" y="245"/>
                </a:cubicBezTo>
                <a:cubicBezTo>
                  <a:pt x="387" y="245"/>
                  <a:pt x="396" y="250"/>
                  <a:pt x="405" y="252"/>
                </a:cubicBezTo>
                <a:cubicBezTo>
                  <a:pt x="398" y="255"/>
                  <a:pt x="390" y="256"/>
                  <a:pt x="384" y="260"/>
                </a:cubicBezTo>
                <a:cubicBezTo>
                  <a:pt x="374" y="266"/>
                  <a:pt x="367" y="281"/>
                  <a:pt x="355" y="281"/>
                </a:cubicBezTo>
                <a:cubicBezTo>
                  <a:pt x="348" y="281"/>
                  <a:pt x="357" y="265"/>
                  <a:pt x="362" y="260"/>
                </a:cubicBezTo>
                <a:cubicBezTo>
                  <a:pt x="368" y="254"/>
                  <a:pt x="377" y="255"/>
                  <a:pt x="384" y="252"/>
                </a:cubicBezTo>
                <a:cubicBezTo>
                  <a:pt x="398" y="238"/>
                  <a:pt x="412" y="224"/>
                  <a:pt x="426" y="210"/>
                </a:cubicBezTo>
                <a:cubicBezTo>
                  <a:pt x="431" y="205"/>
                  <a:pt x="441" y="196"/>
                  <a:pt x="441" y="196"/>
                </a:cubicBezTo>
                <a:cubicBezTo>
                  <a:pt x="443" y="208"/>
                  <a:pt x="451" y="220"/>
                  <a:pt x="448" y="231"/>
                </a:cubicBezTo>
                <a:cubicBezTo>
                  <a:pt x="443" y="248"/>
                  <a:pt x="396" y="246"/>
                  <a:pt x="412" y="260"/>
                </a:cubicBezTo>
                <a:cubicBezTo>
                  <a:pt x="418" y="265"/>
                  <a:pt x="426" y="254"/>
                  <a:pt x="434" y="252"/>
                </a:cubicBezTo>
                <a:cubicBezTo>
                  <a:pt x="448" y="249"/>
                  <a:pt x="462" y="247"/>
                  <a:pt x="476" y="245"/>
                </a:cubicBezTo>
                <a:cubicBezTo>
                  <a:pt x="469" y="243"/>
                  <a:pt x="455" y="245"/>
                  <a:pt x="455" y="238"/>
                </a:cubicBezTo>
                <a:cubicBezTo>
                  <a:pt x="455" y="228"/>
                  <a:pt x="466" y="217"/>
                  <a:pt x="476" y="217"/>
                </a:cubicBezTo>
                <a:cubicBezTo>
                  <a:pt x="483" y="217"/>
                  <a:pt x="473" y="232"/>
                  <a:pt x="469" y="238"/>
                </a:cubicBezTo>
                <a:cubicBezTo>
                  <a:pt x="461" y="251"/>
                  <a:pt x="446" y="260"/>
                  <a:pt x="441" y="274"/>
                </a:cubicBezTo>
                <a:cubicBezTo>
                  <a:pt x="438" y="282"/>
                  <a:pt x="456" y="265"/>
                  <a:pt x="462" y="260"/>
                </a:cubicBezTo>
                <a:cubicBezTo>
                  <a:pt x="480" y="245"/>
                  <a:pt x="519" y="217"/>
                  <a:pt x="519" y="217"/>
                </a:cubicBezTo>
                <a:cubicBezTo>
                  <a:pt x="532" y="198"/>
                  <a:pt x="582" y="92"/>
                  <a:pt x="547" y="160"/>
                </a:cubicBezTo>
                <a:cubicBezTo>
                  <a:pt x="541" y="171"/>
                  <a:pt x="537" y="184"/>
                  <a:pt x="533" y="196"/>
                </a:cubicBezTo>
                <a:cubicBezTo>
                  <a:pt x="530" y="207"/>
                  <a:pt x="528" y="219"/>
                  <a:pt x="526" y="231"/>
                </a:cubicBezTo>
                <a:cubicBezTo>
                  <a:pt x="521" y="271"/>
                  <a:pt x="489" y="385"/>
                  <a:pt x="512" y="352"/>
                </a:cubicBezTo>
                <a:cubicBezTo>
                  <a:pt x="551" y="296"/>
                  <a:pt x="532" y="316"/>
                  <a:pt x="562" y="288"/>
                </a:cubicBezTo>
                <a:cubicBezTo>
                  <a:pt x="555" y="281"/>
                  <a:pt x="534" y="266"/>
                  <a:pt x="540" y="252"/>
                </a:cubicBezTo>
                <a:cubicBezTo>
                  <a:pt x="543" y="244"/>
                  <a:pt x="555" y="244"/>
                  <a:pt x="562" y="238"/>
                </a:cubicBezTo>
                <a:cubicBezTo>
                  <a:pt x="583" y="220"/>
                  <a:pt x="606" y="201"/>
                  <a:pt x="626" y="181"/>
                </a:cubicBezTo>
                <a:cubicBezTo>
                  <a:pt x="623" y="188"/>
                  <a:pt x="618" y="203"/>
                  <a:pt x="618" y="203"/>
                </a:cubicBezTo>
                <a:cubicBezTo>
                  <a:pt x="616" y="215"/>
                  <a:pt x="602" y="230"/>
                  <a:pt x="611" y="238"/>
                </a:cubicBezTo>
                <a:cubicBezTo>
                  <a:pt x="619" y="245"/>
                  <a:pt x="632" y="231"/>
                  <a:pt x="640" y="224"/>
                </a:cubicBezTo>
                <a:cubicBezTo>
                  <a:pt x="645" y="219"/>
                  <a:pt x="647" y="196"/>
                  <a:pt x="647" y="203"/>
                </a:cubicBezTo>
                <a:cubicBezTo>
                  <a:pt x="647" y="236"/>
                  <a:pt x="637" y="239"/>
                  <a:pt x="626" y="267"/>
                </a:cubicBezTo>
                <a:cubicBezTo>
                  <a:pt x="623" y="276"/>
                  <a:pt x="609" y="291"/>
                  <a:pt x="618" y="295"/>
                </a:cubicBezTo>
                <a:cubicBezTo>
                  <a:pt x="627" y="300"/>
                  <a:pt x="633" y="281"/>
                  <a:pt x="640" y="274"/>
                </a:cubicBezTo>
                <a:cubicBezTo>
                  <a:pt x="652" y="238"/>
                  <a:pt x="671" y="228"/>
                  <a:pt x="697" y="203"/>
                </a:cubicBezTo>
                <a:cubicBezTo>
                  <a:pt x="711" y="288"/>
                  <a:pt x="689" y="224"/>
                  <a:pt x="739" y="210"/>
                </a:cubicBezTo>
                <a:cubicBezTo>
                  <a:pt x="747" y="208"/>
                  <a:pt x="749" y="224"/>
                  <a:pt x="754" y="231"/>
                </a:cubicBezTo>
                <a:cubicBezTo>
                  <a:pt x="751" y="241"/>
                  <a:pt x="742" y="251"/>
                  <a:pt x="746" y="260"/>
                </a:cubicBezTo>
                <a:cubicBezTo>
                  <a:pt x="749" y="266"/>
                  <a:pt x="755" y="248"/>
                  <a:pt x="761" y="245"/>
                </a:cubicBezTo>
                <a:cubicBezTo>
                  <a:pt x="774" y="238"/>
                  <a:pt x="803" y="231"/>
                  <a:pt x="803" y="231"/>
                </a:cubicBezTo>
                <a:cubicBezTo>
                  <a:pt x="805" y="241"/>
                  <a:pt x="811" y="250"/>
                  <a:pt x="810" y="260"/>
                </a:cubicBezTo>
                <a:cubicBezTo>
                  <a:pt x="809" y="275"/>
                  <a:pt x="792" y="288"/>
                  <a:pt x="796" y="302"/>
                </a:cubicBezTo>
                <a:cubicBezTo>
                  <a:pt x="798" y="310"/>
                  <a:pt x="811" y="293"/>
                  <a:pt x="818" y="288"/>
                </a:cubicBezTo>
                <a:cubicBezTo>
                  <a:pt x="828" y="281"/>
                  <a:pt x="837" y="274"/>
                  <a:pt x="846" y="267"/>
                </a:cubicBezTo>
                <a:cubicBezTo>
                  <a:pt x="851" y="253"/>
                  <a:pt x="869" y="212"/>
                  <a:pt x="860" y="224"/>
                </a:cubicBezTo>
                <a:cubicBezTo>
                  <a:pt x="853" y="233"/>
                  <a:pt x="846" y="242"/>
                  <a:pt x="839" y="252"/>
                </a:cubicBezTo>
                <a:cubicBezTo>
                  <a:pt x="834" y="259"/>
                  <a:pt x="819" y="281"/>
                  <a:pt x="825" y="274"/>
                </a:cubicBezTo>
                <a:cubicBezTo>
                  <a:pt x="890" y="197"/>
                  <a:pt x="848" y="227"/>
                  <a:pt x="896" y="196"/>
                </a:cubicBezTo>
                <a:cubicBezTo>
                  <a:pt x="898" y="224"/>
                  <a:pt x="900" y="253"/>
                  <a:pt x="903" y="281"/>
                </a:cubicBezTo>
                <a:cubicBezTo>
                  <a:pt x="905" y="295"/>
                  <a:pt x="901" y="312"/>
                  <a:pt x="910" y="324"/>
                </a:cubicBezTo>
                <a:cubicBezTo>
                  <a:pt x="914" y="329"/>
                  <a:pt x="919" y="314"/>
                  <a:pt x="924" y="309"/>
                </a:cubicBezTo>
                <a:cubicBezTo>
                  <a:pt x="933" y="337"/>
                  <a:pt x="929" y="417"/>
                  <a:pt x="931" y="444"/>
                </a:cubicBezTo>
                <a:cubicBezTo>
                  <a:pt x="936" y="401"/>
                  <a:pt x="929" y="393"/>
                  <a:pt x="953" y="366"/>
                </a:cubicBezTo>
                <a:cubicBezTo>
                  <a:pt x="966" y="351"/>
                  <a:pt x="995" y="324"/>
                  <a:pt x="995" y="324"/>
                </a:cubicBezTo>
                <a:cubicBezTo>
                  <a:pt x="997" y="331"/>
                  <a:pt x="995" y="343"/>
                  <a:pt x="1002" y="345"/>
                </a:cubicBezTo>
                <a:cubicBezTo>
                  <a:pt x="1009" y="347"/>
                  <a:pt x="1015" y="324"/>
                  <a:pt x="1017" y="331"/>
                </a:cubicBezTo>
                <a:cubicBezTo>
                  <a:pt x="1026" y="372"/>
                  <a:pt x="1003" y="397"/>
                  <a:pt x="974" y="416"/>
                </a:cubicBezTo>
                <a:cubicBezTo>
                  <a:pt x="955" y="445"/>
                  <a:pt x="935" y="485"/>
                  <a:pt x="960" y="409"/>
                </a:cubicBezTo>
                <a:cubicBezTo>
                  <a:pt x="962" y="392"/>
                  <a:pt x="962" y="375"/>
                  <a:pt x="967" y="359"/>
                </a:cubicBezTo>
                <a:cubicBezTo>
                  <a:pt x="969" y="351"/>
                  <a:pt x="979" y="330"/>
                  <a:pt x="981" y="338"/>
                </a:cubicBezTo>
                <a:cubicBezTo>
                  <a:pt x="984" y="351"/>
                  <a:pt x="963" y="432"/>
                  <a:pt x="981" y="359"/>
                </a:cubicBezTo>
                <a:cubicBezTo>
                  <a:pt x="980" y="354"/>
                  <a:pt x="981" y="225"/>
                  <a:pt x="960" y="288"/>
                </a:cubicBezTo>
                <a:cubicBezTo>
                  <a:pt x="958" y="269"/>
                  <a:pt x="960" y="249"/>
                  <a:pt x="953" y="231"/>
                </a:cubicBezTo>
                <a:cubicBezTo>
                  <a:pt x="950" y="224"/>
                  <a:pt x="953" y="252"/>
                  <a:pt x="946" y="252"/>
                </a:cubicBezTo>
                <a:cubicBezTo>
                  <a:pt x="939" y="252"/>
                  <a:pt x="941" y="238"/>
                  <a:pt x="938" y="231"/>
                </a:cubicBezTo>
                <a:cubicBezTo>
                  <a:pt x="940" y="223"/>
                  <a:pt x="953" y="108"/>
                  <a:pt x="931" y="174"/>
                </a:cubicBezTo>
                <a:cubicBezTo>
                  <a:pt x="929" y="188"/>
                  <a:pt x="926" y="203"/>
                  <a:pt x="924" y="217"/>
                </a:cubicBezTo>
                <a:cubicBezTo>
                  <a:pt x="915" y="281"/>
                  <a:pt x="928" y="291"/>
                  <a:pt x="903" y="252"/>
                </a:cubicBezTo>
                <a:cubicBezTo>
                  <a:pt x="921" y="199"/>
                  <a:pt x="895" y="254"/>
                  <a:pt x="931" y="245"/>
                </a:cubicBezTo>
                <a:cubicBezTo>
                  <a:pt x="938" y="243"/>
                  <a:pt x="936" y="231"/>
                  <a:pt x="938" y="224"/>
                </a:cubicBezTo>
                <a:cubicBezTo>
                  <a:pt x="944" y="255"/>
                  <a:pt x="944" y="286"/>
                  <a:pt x="953" y="316"/>
                </a:cubicBezTo>
                <a:cubicBezTo>
                  <a:pt x="955" y="324"/>
                  <a:pt x="971" y="330"/>
                  <a:pt x="967" y="338"/>
                </a:cubicBezTo>
                <a:cubicBezTo>
                  <a:pt x="964" y="345"/>
                  <a:pt x="953" y="333"/>
                  <a:pt x="946" y="331"/>
                </a:cubicBezTo>
                <a:cubicBezTo>
                  <a:pt x="934" y="298"/>
                  <a:pt x="928" y="264"/>
                  <a:pt x="917" y="231"/>
                </a:cubicBezTo>
                <a:cubicBezTo>
                  <a:pt x="910" y="188"/>
                  <a:pt x="898" y="161"/>
                  <a:pt x="867" y="132"/>
                </a:cubicBezTo>
                <a:cubicBezTo>
                  <a:pt x="869" y="151"/>
                  <a:pt x="869" y="170"/>
                  <a:pt x="874" y="188"/>
                </a:cubicBezTo>
                <a:cubicBezTo>
                  <a:pt x="877" y="199"/>
                  <a:pt x="883" y="226"/>
                  <a:pt x="889" y="217"/>
                </a:cubicBezTo>
                <a:cubicBezTo>
                  <a:pt x="900" y="199"/>
                  <a:pt x="894" y="174"/>
                  <a:pt x="896" y="153"/>
                </a:cubicBezTo>
                <a:cubicBezTo>
                  <a:pt x="933" y="178"/>
                  <a:pt x="918" y="199"/>
                  <a:pt x="931" y="238"/>
                </a:cubicBezTo>
                <a:cubicBezTo>
                  <a:pt x="929" y="221"/>
                  <a:pt x="927" y="205"/>
                  <a:pt x="924" y="188"/>
                </a:cubicBezTo>
                <a:cubicBezTo>
                  <a:pt x="922" y="179"/>
                  <a:pt x="926" y="163"/>
                  <a:pt x="917" y="160"/>
                </a:cubicBezTo>
                <a:cubicBezTo>
                  <a:pt x="909" y="157"/>
                  <a:pt x="908" y="174"/>
                  <a:pt x="903" y="181"/>
                </a:cubicBezTo>
                <a:cubicBezTo>
                  <a:pt x="893" y="174"/>
                  <a:pt x="883" y="168"/>
                  <a:pt x="874" y="160"/>
                </a:cubicBezTo>
                <a:cubicBezTo>
                  <a:pt x="868" y="154"/>
                  <a:pt x="868" y="139"/>
                  <a:pt x="860" y="139"/>
                </a:cubicBezTo>
                <a:cubicBezTo>
                  <a:pt x="850" y="139"/>
                  <a:pt x="846" y="153"/>
                  <a:pt x="839" y="160"/>
                </a:cubicBezTo>
                <a:cubicBezTo>
                  <a:pt x="824" y="298"/>
                  <a:pt x="822" y="171"/>
                  <a:pt x="818" y="132"/>
                </a:cubicBezTo>
                <a:cubicBezTo>
                  <a:pt x="813" y="141"/>
                  <a:pt x="807" y="150"/>
                  <a:pt x="803" y="160"/>
                </a:cubicBezTo>
                <a:cubicBezTo>
                  <a:pt x="800" y="167"/>
                  <a:pt x="803" y="181"/>
                  <a:pt x="796" y="181"/>
                </a:cubicBezTo>
                <a:cubicBezTo>
                  <a:pt x="789" y="181"/>
                  <a:pt x="792" y="167"/>
                  <a:pt x="789" y="160"/>
                </a:cubicBezTo>
                <a:cubicBezTo>
                  <a:pt x="785" y="152"/>
                  <a:pt x="780" y="146"/>
                  <a:pt x="775" y="139"/>
                </a:cubicBezTo>
                <a:cubicBezTo>
                  <a:pt x="768" y="144"/>
                  <a:pt x="758" y="146"/>
                  <a:pt x="754" y="153"/>
                </a:cubicBezTo>
                <a:cubicBezTo>
                  <a:pt x="748" y="163"/>
                  <a:pt x="758" y="188"/>
                  <a:pt x="746" y="188"/>
                </a:cubicBezTo>
                <a:cubicBezTo>
                  <a:pt x="733" y="188"/>
                  <a:pt x="740" y="163"/>
                  <a:pt x="732" y="153"/>
                </a:cubicBezTo>
                <a:cubicBezTo>
                  <a:pt x="727" y="147"/>
                  <a:pt x="718" y="148"/>
                  <a:pt x="711" y="146"/>
                </a:cubicBezTo>
                <a:cubicBezTo>
                  <a:pt x="709" y="127"/>
                  <a:pt x="711" y="107"/>
                  <a:pt x="704" y="89"/>
                </a:cubicBezTo>
                <a:cubicBezTo>
                  <a:pt x="701" y="82"/>
                  <a:pt x="700" y="103"/>
                  <a:pt x="697" y="110"/>
                </a:cubicBezTo>
                <a:cubicBezTo>
                  <a:pt x="691" y="123"/>
                  <a:pt x="682" y="134"/>
                  <a:pt x="675" y="146"/>
                </a:cubicBezTo>
                <a:cubicBezTo>
                  <a:pt x="670" y="155"/>
                  <a:pt x="666" y="165"/>
                  <a:pt x="661" y="174"/>
                </a:cubicBezTo>
                <a:cubicBezTo>
                  <a:pt x="656" y="165"/>
                  <a:pt x="652" y="155"/>
                  <a:pt x="647" y="146"/>
                </a:cubicBezTo>
                <a:cubicBezTo>
                  <a:pt x="643" y="138"/>
                  <a:pt x="642" y="124"/>
                  <a:pt x="633" y="124"/>
                </a:cubicBezTo>
                <a:cubicBezTo>
                  <a:pt x="624" y="124"/>
                  <a:pt x="623" y="139"/>
                  <a:pt x="618" y="146"/>
                </a:cubicBezTo>
                <a:cubicBezTo>
                  <a:pt x="616" y="158"/>
                  <a:pt x="615" y="170"/>
                  <a:pt x="611" y="181"/>
                </a:cubicBezTo>
                <a:cubicBezTo>
                  <a:pt x="608" y="189"/>
                  <a:pt x="598" y="212"/>
                  <a:pt x="597" y="203"/>
                </a:cubicBezTo>
                <a:cubicBezTo>
                  <a:pt x="588" y="147"/>
                  <a:pt x="627" y="116"/>
                  <a:pt x="583" y="160"/>
                </a:cubicBezTo>
                <a:cubicBezTo>
                  <a:pt x="588" y="146"/>
                  <a:pt x="601" y="132"/>
                  <a:pt x="597" y="117"/>
                </a:cubicBezTo>
                <a:cubicBezTo>
                  <a:pt x="595" y="109"/>
                  <a:pt x="581" y="125"/>
                  <a:pt x="576" y="132"/>
                </a:cubicBezTo>
                <a:cubicBezTo>
                  <a:pt x="571" y="140"/>
                  <a:pt x="574" y="152"/>
                  <a:pt x="569" y="160"/>
                </a:cubicBezTo>
                <a:cubicBezTo>
                  <a:pt x="564" y="167"/>
                  <a:pt x="554" y="169"/>
                  <a:pt x="547" y="174"/>
                </a:cubicBezTo>
                <a:cubicBezTo>
                  <a:pt x="532" y="112"/>
                  <a:pt x="553" y="166"/>
                  <a:pt x="519" y="174"/>
                </a:cubicBezTo>
                <a:cubicBezTo>
                  <a:pt x="512" y="176"/>
                  <a:pt x="514" y="160"/>
                  <a:pt x="512" y="153"/>
                </a:cubicBezTo>
                <a:cubicBezTo>
                  <a:pt x="509" y="143"/>
                  <a:pt x="507" y="134"/>
                  <a:pt x="505" y="124"/>
                </a:cubicBezTo>
                <a:cubicBezTo>
                  <a:pt x="468" y="149"/>
                  <a:pt x="493" y="156"/>
                  <a:pt x="448" y="167"/>
                </a:cubicBezTo>
                <a:cubicBezTo>
                  <a:pt x="453" y="153"/>
                  <a:pt x="456" y="138"/>
                  <a:pt x="462" y="124"/>
                </a:cubicBezTo>
                <a:cubicBezTo>
                  <a:pt x="481" y="78"/>
                  <a:pt x="499" y="71"/>
                  <a:pt x="462" y="96"/>
                </a:cubicBezTo>
                <a:cubicBezTo>
                  <a:pt x="447" y="123"/>
                  <a:pt x="422" y="190"/>
                  <a:pt x="391" y="210"/>
                </a:cubicBezTo>
                <a:cubicBezTo>
                  <a:pt x="389" y="200"/>
                  <a:pt x="383" y="191"/>
                  <a:pt x="384" y="181"/>
                </a:cubicBezTo>
                <a:cubicBezTo>
                  <a:pt x="385" y="166"/>
                  <a:pt x="410" y="131"/>
                  <a:pt x="398" y="139"/>
                </a:cubicBezTo>
                <a:cubicBezTo>
                  <a:pt x="377" y="153"/>
                  <a:pt x="365" y="166"/>
                  <a:pt x="341" y="174"/>
                </a:cubicBezTo>
                <a:cubicBezTo>
                  <a:pt x="328" y="188"/>
                  <a:pt x="313" y="216"/>
                  <a:pt x="313" y="174"/>
                </a:cubicBezTo>
                <a:cubicBezTo>
                  <a:pt x="313" y="167"/>
                  <a:pt x="327" y="156"/>
                  <a:pt x="320" y="153"/>
                </a:cubicBezTo>
                <a:cubicBezTo>
                  <a:pt x="312" y="149"/>
                  <a:pt x="305" y="162"/>
                  <a:pt x="298" y="167"/>
                </a:cubicBezTo>
                <a:cubicBezTo>
                  <a:pt x="259" y="248"/>
                  <a:pt x="306" y="167"/>
                  <a:pt x="277" y="167"/>
                </a:cubicBezTo>
                <a:cubicBezTo>
                  <a:pt x="266" y="167"/>
                  <a:pt x="263" y="207"/>
                  <a:pt x="263" y="196"/>
                </a:cubicBezTo>
                <a:cubicBezTo>
                  <a:pt x="263" y="179"/>
                  <a:pt x="289" y="159"/>
                  <a:pt x="277" y="146"/>
                </a:cubicBezTo>
                <a:cubicBezTo>
                  <a:pt x="267" y="135"/>
                  <a:pt x="252" y="163"/>
                  <a:pt x="242" y="174"/>
                </a:cubicBezTo>
                <a:cubicBezTo>
                  <a:pt x="232" y="184"/>
                  <a:pt x="170" y="262"/>
                  <a:pt x="149" y="288"/>
                </a:cubicBezTo>
                <a:cubicBezTo>
                  <a:pt x="142" y="296"/>
                  <a:pt x="157" y="269"/>
                  <a:pt x="163" y="260"/>
                </a:cubicBezTo>
                <a:cubicBezTo>
                  <a:pt x="167" y="254"/>
                  <a:pt x="173" y="250"/>
                  <a:pt x="178" y="245"/>
                </a:cubicBezTo>
                <a:cubicBezTo>
                  <a:pt x="190" y="186"/>
                  <a:pt x="177" y="232"/>
                  <a:pt x="206" y="167"/>
                </a:cubicBezTo>
                <a:cubicBezTo>
                  <a:pt x="209" y="160"/>
                  <a:pt x="210" y="153"/>
                  <a:pt x="213" y="146"/>
                </a:cubicBezTo>
                <a:cubicBezTo>
                  <a:pt x="217" y="138"/>
                  <a:pt x="233" y="118"/>
                  <a:pt x="227" y="124"/>
                </a:cubicBezTo>
                <a:cubicBezTo>
                  <a:pt x="202" y="149"/>
                  <a:pt x="199" y="170"/>
                  <a:pt x="163" y="181"/>
                </a:cubicBezTo>
                <a:cubicBezTo>
                  <a:pt x="136" y="210"/>
                  <a:pt x="120" y="259"/>
                  <a:pt x="106" y="295"/>
                </a:cubicBezTo>
                <a:cubicBezTo>
                  <a:pt x="102" y="305"/>
                  <a:pt x="115" y="276"/>
                  <a:pt x="121" y="267"/>
                </a:cubicBezTo>
                <a:cubicBezTo>
                  <a:pt x="129" y="254"/>
                  <a:pt x="140" y="243"/>
                  <a:pt x="149" y="231"/>
                </a:cubicBezTo>
                <a:cubicBezTo>
                  <a:pt x="178" y="190"/>
                  <a:pt x="174" y="197"/>
                  <a:pt x="192" y="160"/>
                </a:cubicBezTo>
                <a:cubicBezTo>
                  <a:pt x="184" y="199"/>
                  <a:pt x="184" y="211"/>
                  <a:pt x="156" y="238"/>
                </a:cubicBezTo>
                <a:cubicBezTo>
                  <a:pt x="165" y="165"/>
                  <a:pt x="175" y="178"/>
                  <a:pt x="199" y="117"/>
                </a:cubicBezTo>
                <a:cubicBezTo>
                  <a:pt x="184" y="71"/>
                  <a:pt x="170" y="110"/>
                  <a:pt x="156" y="132"/>
                </a:cubicBezTo>
                <a:cubicBezTo>
                  <a:pt x="117" y="104"/>
                  <a:pt x="148" y="116"/>
                  <a:pt x="106" y="160"/>
                </a:cubicBezTo>
                <a:cubicBezTo>
                  <a:pt x="101" y="165"/>
                  <a:pt x="119" y="134"/>
                  <a:pt x="114" y="139"/>
                </a:cubicBezTo>
                <a:cubicBezTo>
                  <a:pt x="96" y="157"/>
                  <a:pt x="86" y="182"/>
                  <a:pt x="71" y="203"/>
                </a:cubicBezTo>
                <a:cubicBezTo>
                  <a:pt x="44" y="174"/>
                  <a:pt x="36" y="202"/>
                  <a:pt x="0" y="188"/>
                </a:cubicBezTo>
                <a:cubicBezTo>
                  <a:pt x="38" y="163"/>
                  <a:pt x="68" y="129"/>
                  <a:pt x="106" y="103"/>
                </a:cubicBezTo>
                <a:cubicBezTo>
                  <a:pt x="118" y="94"/>
                  <a:pt x="135" y="94"/>
                  <a:pt x="149" y="89"/>
                </a:cubicBezTo>
                <a:cubicBezTo>
                  <a:pt x="156" y="87"/>
                  <a:pt x="170" y="82"/>
                  <a:pt x="170" y="82"/>
                </a:cubicBezTo>
                <a:cubicBezTo>
                  <a:pt x="186" y="105"/>
                  <a:pt x="196" y="112"/>
                  <a:pt x="192" y="146"/>
                </a:cubicBezTo>
                <a:cubicBezTo>
                  <a:pt x="191" y="154"/>
                  <a:pt x="170" y="167"/>
                  <a:pt x="178" y="167"/>
                </a:cubicBezTo>
                <a:cubicBezTo>
                  <a:pt x="188" y="167"/>
                  <a:pt x="192" y="153"/>
                  <a:pt x="199" y="146"/>
                </a:cubicBezTo>
                <a:cubicBezTo>
                  <a:pt x="212" y="91"/>
                  <a:pt x="210" y="104"/>
                  <a:pt x="249" y="68"/>
                </a:cubicBezTo>
                <a:cubicBezTo>
                  <a:pt x="244" y="87"/>
                  <a:pt x="240" y="106"/>
                  <a:pt x="234" y="124"/>
                </a:cubicBezTo>
                <a:cubicBezTo>
                  <a:pt x="228" y="143"/>
                  <a:pt x="211" y="161"/>
                  <a:pt x="213" y="181"/>
                </a:cubicBezTo>
                <a:cubicBezTo>
                  <a:pt x="214" y="196"/>
                  <a:pt x="232" y="205"/>
                  <a:pt x="242" y="217"/>
                </a:cubicBezTo>
                <a:cubicBezTo>
                  <a:pt x="277" y="194"/>
                  <a:pt x="260" y="209"/>
                  <a:pt x="291" y="160"/>
                </a:cubicBezTo>
                <a:cubicBezTo>
                  <a:pt x="296" y="153"/>
                  <a:pt x="277" y="181"/>
                  <a:pt x="277" y="181"/>
                </a:cubicBezTo>
                <a:cubicBezTo>
                  <a:pt x="286" y="155"/>
                  <a:pt x="297" y="133"/>
                  <a:pt x="313" y="110"/>
                </a:cubicBezTo>
                <a:cubicBezTo>
                  <a:pt x="315" y="117"/>
                  <a:pt x="312" y="132"/>
                  <a:pt x="320" y="132"/>
                </a:cubicBezTo>
                <a:cubicBezTo>
                  <a:pt x="328" y="132"/>
                  <a:pt x="322" y="116"/>
                  <a:pt x="327" y="110"/>
                </a:cubicBezTo>
                <a:cubicBezTo>
                  <a:pt x="339" y="95"/>
                  <a:pt x="360" y="93"/>
                  <a:pt x="377" y="89"/>
                </a:cubicBezTo>
                <a:cubicBezTo>
                  <a:pt x="375" y="110"/>
                  <a:pt x="374" y="132"/>
                  <a:pt x="370" y="153"/>
                </a:cubicBezTo>
                <a:cubicBezTo>
                  <a:pt x="370" y="154"/>
                  <a:pt x="353" y="195"/>
                  <a:pt x="355" y="196"/>
                </a:cubicBezTo>
                <a:cubicBezTo>
                  <a:pt x="360" y="201"/>
                  <a:pt x="366" y="187"/>
                  <a:pt x="370" y="181"/>
                </a:cubicBezTo>
                <a:cubicBezTo>
                  <a:pt x="376" y="172"/>
                  <a:pt x="379" y="162"/>
                  <a:pt x="384" y="153"/>
                </a:cubicBezTo>
                <a:cubicBezTo>
                  <a:pt x="398" y="129"/>
                  <a:pt x="411" y="117"/>
                  <a:pt x="434" y="103"/>
                </a:cubicBezTo>
                <a:cubicBezTo>
                  <a:pt x="439" y="113"/>
                  <a:pt x="445" y="122"/>
                  <a:pt x="448" y="132"/>
                </a:cubicBezTo>
                <a:cubicBezTo>
                  <a:pt x="452" y="148"/>
                  <a:pt x="442" y="170"/>
                  <a:pt x="455" y="181"/>
                </a:cubicBezTo>
                <a:cubicBezTo>
                  <a:pt x="465" y="189"/>
                  <a:pt x="478" y="172"/>
                  <a:pt x="490" y="167"/>
                </a:cubicBezTo>
                <a:cubicBezTo>
                  <a:pt x="520" y="129"/>
                  <a:pt x="557" y="95"/>
                  <a:pt x="597" y="68"/>
                </a:cubicBezTo>
                <a:cubicBezTo>
                  <a:pt x="616" y="55"/>
                  <a:pt x="640" y="53"/>
                  <a:pt x="661" y="46"/>
                </a:cubicBezTo>
                <a:cubicBezTo>
                  <a:pt x="668" y="44"/>
                  <a:pt x="682" y="39"/>
                  <a:pt x="682" y="39"/>
                </a:cubicBezTo>
                <a:cubicBezTo>
                  <a:pt x="734" y="87"/>
                  <a:pt x="646" y="0"/>
                  <a:pt x="704" y="89"/>
                </a:cubicBezTo>
                <a:cubicBezTo>
                  <a:pt x="708" y="96"/>
                  <a:pt x="768" y="105"/>
                  <a:pt x="782" y="110"/>
                </a:cubicBezTo>
                <a:cubicBezTo>
                  <a:pt x="884" y="93"/>
                  <a:pt x="931" y="103"/>
                  <a:pt x="1010" y="153"/>
                </a:cubicBezTo>
                <a:cubicBezTo>
                  <a:pt x="1028" y="206"/>
                  <a:pt x="979" y="169"/>
                  <a:pt x="953" y="160"/>
                </a:cubicBezTo>
                <a:cubicBezTo>
                  <a:pt x="938" y="139"/>
                  <a:pt x="917" y="118"/>
                  <a:pt x="896" y="103"/>
                </a:cubicBezTo>
                <a:cubicBezTo>
                  <a:pt x="846" y="68"/>
                  <a:pt x="887" y="109"/>
                  <a:pt x="846" y="75"/>
                </a:cubicBezTo>
                <a:cubicBezTo>
                  <a:pt x="825" y="58"/>
                  <a:pt x="816" y="41"/>
                  <a:pt x="789" y="32"/>
                </a:cubicBezTo>
                <a:cubicBezTo>
                  <a:pt x="577" y="53"/>
                  <a:pt x="638" y="47"/>
                  <a:pt x="263" y="53"/>
                </a:cubicBezTo>
                <a:cubicBezTo>
                  <a:pt x="173" y="59"/>
                  <a:pt x="151" y="38"/>
                  <a:pt x="106" y="96"/>
                </a:cubicBezTo>
                <a:cubicBezTo>
                  <a:pt x="95" y="141"/>
                  <a:pt x="86" y="131"/>
                  <a:pt x="57" y="160"/>
                </a:cubicBezTo>
              </a:path>
            </a:pathLst>
          </a:custGeom>
          <a:solidFill>
            <a:srgbClr val="000514"/>
          </a:solidFill>
          <a:ln w="936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3808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INTERMEDIATE AIRWAYS </a:t>
            </a:r>
            <a:endParaRPr b="1" lang="en-US" sz="3200" spc="-1" strike="noStrike">
              <a:solidFill>
                <a:srgbClr val="e5e5ff"/>
              </a:solidFill>
              <a:latin typeface="Garamond"/>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ventilation across the larynx but do not involve complete airway contro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INTERMEDIATE AIRWAYS</a:t>
            </a:r>
            <a:endParaRPr b="1" lang="en-US" sz="2800" spc="-1" strike="noStrike">
              <a:solidFill>
                <a:srgbClr val="e5e5ff"/>
              </a:solidFill>
              <a:latin typeface="Garamond"/>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ophageal obturator airway (EO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ophageal gastric tube airway (EG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 (LM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ophageal-tracheal Combitube (ETC) airway (Sheridan Catheter Corp., Argyle, NY).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INTERMEDIATE AIRWAYS</a:t>
            </a:r>
            <a:endParaRPr b="1" lang="en-US" sz="3200" spc="-1" strike="noStrike">
              <a:solidFill>
                <a:srgbClr val="e5e5ff"/>
              </a:solidFill>
              <a:latin typeface="Garamond"/>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OA and EGTA), are designed to occlude only the esophagu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MA) seals the larynx at the hypopharynx level,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TC) offers the versatility of use whether placed into the esophagus or the trachea.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990720" y="3657600"/>
            <a:ext cx="6858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ial airway obstruction in the patient with a decreased level of consciousness is commonly due to posterior displacement of the tongu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
          <p:cNvSpPr/>
          <p:nvPr/>
        </p:nvSpPr>
        <p:spPr>
          <a:xfrm>
            <a:off x="899280" y="609480"/>
            <a:ext cx="699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ESTABLISHMENT OF AIRWAY PATENCY</a:t>
            </a:r>
            <a:endParaRPr b="0" lang="en-US" sz="2800" spc="-1" strike="noStrike">
              <a:solidFill>
                <a:srgbClr val="ffffff"/>
              </a:solidFill>
              <a:latin typeface="Arial"/>
            </a:endParaRPr>
          </a:p>
        </p:txBody>
      </p:sp>
      <p:sp>
        <p:nvSpPr>
          <p:cNvPr id="111" name=""/>
          <p:cNvSpPr/>
          <p:nvPr/>
        </p:nvSpPr>
        <p:spPr>
          <a:xfrm>
            <a:off x="4479840" y="60278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762120" y="2895480"/>
            <a:ext cx="7543800" cy="0"/>
          </a:xfrm>
          <a:prstGeom prst="line">
            <a:avLst/>
          </a:prstGeom>
          <a:ln w="7632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sophageal Obturator Airway  </a:t>
            </a:r>
            <a:br>
              <a:rPr sz="2800"/>
            </a:br>
            <a:endParaRPr b="1" lang="en-US" sz="2800" spc="-1" strike="noStrike">
              <a:solidFill>
                <a:srgbClr val="e5e5ff"/>
              </a:solidFill>
              <a:latin typeface="Garamond"/>
            </a:endParaRPr>
          </a:p>
        </p:txBody>
      </p:sp>
      <p:sp>
        <p:nvSpPr>
          <p:cNvPr id="277"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tect the airway by occluding the esophagus to reduce gastric distention and regurgitation.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ntilation from the EOA exits the airway through numerous ports in its hypopharyngeal portion.</a:t>
            </a:r>
            <a:endParaRPr b="0" lang="en-US" sz="2400" spc="-1" strike="noStrike">
              <a:solidFill>
                <a:srgbClr val="ffffff"/>
              </a:solidFill>
              <a:latin typeface="Garamond"/>
            </a:endParaRPr>
          </a:p>
        </p:txBody>
      </p:sp>
      <p:pic>
        <p:nvPicPr>
          <p:cNvPr id="278" name="" descr=""/>
          <p:cNvPicPr/>
          <p:nvPr/>
        </p:nvPicPr>
        <p:blipFill>
          <a:blip r:embed="rId1"/>
          <a:stretch/>
        </p:blipFill>
        <p:spPr>
          <a:xfrm>
            <a:off x="6019920" y="2286000"/>
            <a:ext cx="2895480" cy="3429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As a precaution against pressure-related complications, it is recommended that these devices be left in place for no longer than 2 hours. It must be recognized that the EOA is </a:t>
            </a:r>
            <a:r>
              <a:rPr b="1" i="1" lang="en-US" sz="2800" spc="-1" strike="noStrike">
                <a:solidFill>
                  <a:srgbClr val="d8e74b"/>
                </a:solidFill>
                <a:latin typeface="Garamond"/>
              </a:rPr>
              <a:t>temporary</a:t>
            </a:r>
            <a:r>
              <a:rPr b="1" lang="en-US" sz="2800" spc="-1" strike="noStrike">
                <a:solidFill>
                  <a:srgbClr val="d8e74b"/>
                </a:solidFill>
                <a:latin typeface="Garamond"/>
              </a:rPr>
              <a:t> form of airway control, most suitable for use in out-of-hospital settings.</a:t>
            </a:r>
            <a:endParaRPr b="1" lang="en-US" sz="2800" spc="-1" strike="noStrike">
              <a:solidFill>
                <a:srgbClr val="e5e5ff"/>
              </a:solidFill>
              <a:latin typeface="Garamond"/>
            </a:endParaRPr>
          </a:p>
        </p:txBody>
      </p:sp>
      <p:sp>
        <p:nvSpPr>
          <p:cNvPr id="280"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sophageal Obturator Airway 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sophageal Obturator Airway</a:t>
            </a:r>
            <a:endParaRPr b="1" lang="en-US" sz="2800" spc="-1" strike="noStrike">
              <a:solidFill>
                <a:srgbClr val="e5e5ff"/>
              </a:solidFill>
              <a:latin typeface="Garamond"/>
            </a:endParaRPr>
          </a:p>
        </p:txBody>
      </p:sp>
      <p:sp>
        <p:nvSpPr>
          <p:cNvPr id="28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cated when neither BVM ventilation nor tracheal intubation can be performed safely, effectively, and rapidl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not be used in the awake patient with an intact gag reflex</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3" name="" descr=""/>
          <p:cNvPicPr/>
          <p:nvPr/>
        </p:nvPicPr>
        <p:blipFill>
          <a:blip r:embed="rId1"/>
          <a:stretch/>
        </p:blipFill>
        <p:spPr>
          <a:xfrm>
            <a:off x="533520" y="3290760"/>
            <a:ext cx="8057880" cy="3186360"/>
          </a:xfrm>
          <a:prstGeom prst="rect">
            <a:avLst/>
          </a:prstGeom>
          <a:ln w="76320">
            <a:solidFill>
              <a:srgbClr val="d8e74b"/>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Placement of EOA/EGTA</a:t>
            </a:r>
            <a:endParaRPr b="1" lang="en-US" sz="32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head is in the neutral position.</a:t>
            </a:r>
            <a:endParaRPr b="0" lang="en-US" sz="2800" spc="-1" strike="noStrike">
              <a:solidFill>
                <a:srgbClr val="ffffff"/>
              </a:solidFill>
              <a:latin typeface="Garamond"/>
            </a:endParaRPr>
          </a:p>
          <a:p>
            <a:pPr marL="560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asps and pulls the jaw forward</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ert the assembled airway with the mask attached. </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ip is directed into the patient's posterior pharynx with gentle, steady pressure</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vance down the esophagus until the mask rests flush against the face of the patient. </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ntilated with a tight mask seal on the face, and auscultate the lungs are. </a:t>
            </a:r>
            <a:endParaRPr b="0" lang="en-US" sz="2800" spc="-1" strike="noStrike">
              <a:solidFill>
                <a:srgbClr val="ffffff"/>
              </a:solidFill>
              <a:latin typeface="Garamond"/>
            </a:endParaRPr>
          </a:p>
          <a:p>
            <a:pPr marL="560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86" name=""/>
          <p:cNvSpPr/>
          <p:nvPr/>
        </p:nvSpPr>
        <p:spPr>
          <a:xfrm>
            <a:off x="2133720" y="4495680"/>
            <a:ext cx="5790960" cy="1339560"/>
          </a:xfrm>
          <a:prstGeom prst="rect">
            <a:avLst/>
          </a:prstGeom>
          <a:solidFill>
            <a:srgbClr val="000514"/>
          </a:solid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effective ventilation, the mask seal must be tight. </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eath sounds should be audible bilaterally.</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287" name="" descr=""/>
          <p:cNvPicPr/>
          <p:nvPr/>
        </p:nvPicPr>
        <p:blipFill>
          <a:blip r:embed="rId1"/>
          <a:stretch/>
        </p:blipFill>
        <p:spPr>
          <a:xfrm>
            <a:off x="5886360" y="1219320"/>
            <a:ext cx="3257640" cy="1433520"/>
          </a:xfrm>
          <a:prstGeom prst="rect">
            <a:avLst/>
          </a:prstGeom>
          <a:ln w="76320">
            <a:solidFill>
              <a:srgbClr val="d8e74b"/>
            </a:solidFill>
            <a:miter/>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86"/>
                                        </p:tgtEl>
                                        <p:attrNameLst>
                                          <p:attrName>style.visibility</p:attrName>
                                        </p:attrNameLst>
                                      </p:cBhvr>
                                      <p:to>
                                        <p:strVal val="visible"/>
                                      </p:to>
                                    </p:set>
                                    <p:animEffect filter="blinds(horizontal)"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Placement of EOA/EGTA</a:t>
            </a:r>
            <a:endParaRPr b="1" lang="en-US" sz="3600" spc="-1" strike="noStrike">
              <a:solidFill>
                <a:srgbClr val="e5e5ff"/>
              </a:solidFill>
              <a:latin typeface="Garamond"/>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uff should lie in the esophagus just distal to the carina of the trache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scuer postpones inflation of the balloon until proper position is confirmed.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intubation will result in the absence of breath sound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ssibility of bronchial or tracheal intubation requires removal and replacement of the airwa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satisfactorily placed, the esophageal balloon is inflated with 20 to 25 mL of ai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Placement of EOA/EGTA</a:t>
            </a:r>
            <a:endParaRPr b="1" lang="en-US" sz="3600" spc="-1" strike="noStrike">
              <a:solidFill>
                <a:srgbClr val="e5e5ff"/>
              </a:solidFill>
              <a:latin typeface="Garamond"/>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lication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carbi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recognized tracheal intubation may occur in 2.9% to 5% of patients with up to a 100% mortality due to airway occlusion.</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Esophageal injury may also occur, ranging from small lacerations in 8.5% of patients to esophageal ruptur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Placement of EOA/EGTA</a:t>
            </a:r>
            <a:endParaRPr b="1" lang="en-US" sz="3600" spc="-1" strike="noStrike">
              <a:solidFill>
                <a:srgbClr val="e5e5ff"/>
              </a:solidFill>
              <a:latin typeface="Garamond"/>
            </a:endParaRPr>
          </a:p>
        </p:txBody>
      </p:sp>
      <p:sp>
        <p:nvSpPr>
          <p:cNvPr id="293" name=""/>
          <p:cNvSpPr/>
          <p:nvPr/>
        </p:nvSpPr>
        <p:spPr>
          <a:xfrm>
            <a:off x="1066680" y="2286000"/>
            <a:ext cx="7620120" cy="32461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Tracheal intubation should be performed before removal of the EOA</a:t>
            </a:r>
            <a:r>
              <a:rPr b="0" lang="en-US" sz="2400" spc="-1" strike="noStrike">
                <a:solidFill>
                  <a:srgbClr val="ffffff"/>
                </a:solidFill>
                <a:latin typeface="Garamond"/>
              </a:rPr>
              <a:t>, because vomiting often occurs following deflation of the balloon and EOA removal. </a:t>
            </a:r>
            <a:endParaRPr b="0" lang="en-US" sz="2400" spc="-1" strike="noStrike">
              <a:solidFill>
                <a:srgbClr val="ffffff"/>
              </a:solidFill>
              <a:latin typeface="Arial"/>
            </a:endParaRPr>
          </a:p>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f the EOA cuff has been overinflated, it may partially occlude the trachea and make intubation difficult. In such cases, the balloon is partially deflated to facilitate tracheal intub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sophageal Obturator Airway</a:t>
            </a:r>
            <a:br>
              <a:rPr sz="2800"/>
            </a:br>
            <a:r>
              <a:rPr b="1" lang="en-US" sz="2800" spc="-1" strike="noStrike">
                <a:solidFill>
                  <a:srgbClr val="d8e74b"/>
                </a:solidFill>
                <a:latin typeface="Garamond"/>
              </a:rPr>
              <a:t>Contraindication</a:t>
            </a:r>
            <a:endParaRPr b="1" lang="en-US" sz="2800" spc="-1" strike="noStrike">
              <a:solidFill>
                <a:srgbClr val="e5e5ff"/>
              </a:solidFill>
              <a:latin typeface="Garamond"/>
            </a:endParaRPr>
          </a:p>
        </p:txBody>
      </p:sp>
      <p:sp>
        <p:nvSpPr>
          <p:cNvPr id="295" name="PlaceHolder 2"/>
          <p:cNvSpPr>
            <a:spLocks noGrp="1"/>
          </p:cNvSpPr>
          <p:nvPr>
            <p:ph/>
          </p:nvPr>
        </p:nvSpPr>
        <p:spPr>
          <a:xfrm>
            <a:off x="609480" y="2666880"/>
            <a:ext cx="8229600" cy="27432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tive oropharyngeal bleed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spected esophageal injur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ustic inges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istory of esophageal disease.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Laryngeal-Mask Airway</a:t>
            </a:r>
            <a:endParaRPr b="1" lang="en-US" sz="3200" spc="-1" strike="noStrike">
              <a:solidFill>
                <a:srgbClr val="e5e5ff"/>
              </a:solidFill>
              <a:latin typeface="Garamond"/>
            </a:endParaRPr>
          </a:p>
        </p:txBody>
      </p:sp>
      <p:sp>
        <p:nvSpPr>
          <p:cNvPr id="297" name="PlaceHolder 2"/>
          <p:cNvSpPr>
            <a:spLocks noGrp="1"/>
          </p:cNvSpPr>
          <p:nvPr>
            <p:ph/>
          </p:nvPr>
        </p:nvSpPr>
        <p:spPr>
          <a:xfrm>
            <a:off x="3962160" y="762120"/>
            <a:ext cx="47242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in difficult intubations and for rescue ventilatio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emporary adjunc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ask is intended to reside in the hypopharynx rather than on the face. </a:t>
            </a:r>
            <a:endParaRPr b="0" lang="en-US" sz="2800" spc="-1" strike="noStrike">
              <a:solidFill>
                <a:srgbClr val="ffffff"/>
              </a:solidFill>
              <a:latin typeface="Garamond"/>
            </a:endParaRPr>
          </a:p>
        </p:txBody>
      </p:sp>
      <p:pic>
        <p:nvPicPr>
          <p:cNvPr id="298" name="" descr=""/>
          <p:cNvPicPr/>
          <p:nvPr/>
        </p:nvPicPr>
        <p:blipFill>
          <a:blip r:embed="rId1"/>
          <a:stretch/>
        </p:blipFill>
        <p:spPr>
          <a:xfrm>
            <a:off x="228600" y="1523880"/>
            <a:ext cx="3619440" cy="2857680"/>
          </a:xfrm>
          <a:prstGeom prst="rect">
            <a:avLst/>
          </a:prstGeom>
          <a:ln w="0">
            <a:noFill/>
          </a:ln>
        </p:spPr>
      </p:pic>
      <p:sp>
        <p:nvSpPr>
          <p:cNvPr id="299" name=""/>
          <p:cNvSpPr/>
          <p:nvPr/>
        </p:nvSpPr>
        <p:spPr>
          <a:xfrm>
            <a:off x="1219320" y="4724280"/>
            <a:ext cx="6476760" cy="1847880"/>
          </a:xfrm>
          <a:prstGeom prst="rect">
            <a:avLst/>
          </a:prstGeom>
          <a:solidFill>
            <a:srgbClr val="000066"/>
          </a:solidFill>
          <a:ln w="9360">
            <a:solidFill>
              <a:srgbClr val="d8e74b"/>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variation, the Proseal LMA, has a parallel drainage tube attached to the airway tube that is designed to reduce gastric insufflation and allow gastric drainage by a nasogastric tube, potentially decreasing the risk of aspi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Laryngeal-Mask Airway</a:t>
            </a:r>
            <a:endParaRPr b="1" lang="en-US" sz="3200" spc="-1" strike="noStrike">
              <a:solidFill>
                <a:srgbClr val="e5e5ff"/>
              </a:solidFill>
              <a:latin typeface="Garamond"/>
            </a:endParaRPr>
          </a:p>
        </p:txBody>
      </p:sp>
      <p:sp>
        <p:nvSpPr>
          <p:cNvPr id="301"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Indication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patients requiring an airway who cannot be endotracheally intubated or cannot be ventilated with a BVM.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visualization of the larynx.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Contraindications</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nability to open the patient's mouth</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omi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for high pulmonary inflation pressu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457200" y="1143000"/>
            <a:ext cx="8001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Adequacy of current ventilation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Potential for hypoxia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Airway patency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Need for neuromuscular blockade (muscle tone, teeth clenching, severe obstructive pulmonary disease, or asthma)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Cervical spine stability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Safety of technique and skill of the operator </a:t>
            </a:r>
            <a:endParaRPr b="0" lang="en-US" sz="2400" spc="-1" strike="noStrike">
              <a:solidFill>
                <a:srgbClr val="ffffff"/>
              </a:solidFill>
              <a:latin typeface="Arial"/>
            </a:endParaRPr>
          </a:p>
        </p:txBody>
      </p:sp>
      <p:sp>
        <p:nvSpPr>
          <p:cNvPr id="114" name=""/>
          <p:cNvSpPr/>
          <p:nvPr/>
        </p:nvSpPr>
        <p:spPr>
          <a:xfrm>
            <a:off x="1184760" y="380160"/>
            <a:ext cx="6104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Qs  before an airway manag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12949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Placement of LMA</a:t>
            </a:r>
            <a:br>
              <a:rPr sz="3200"/>
            </a:br>
            <a:endParaRPr b="1" lang="en-US" sz="3200" spc="-1" strike="noStrike">
              <a:solidFill>
                <a:srgbClr val="e5e5ff"/>
              </a:solidFill>
              <a:latin typeface="Garamond"/>
            </a:endParaRPr>
          </a:p>
        </p:txBody>
      </p:sp>
      <p:sp>
        <p:nvSpPr>
          <p:cNvPr id="303" name="PlaceHolder 2"/>
          <p:cNvSpPr>
            <a:spLocks noGrp="1"/>
          </p:cNvSpPr>
          <p:nvPr>
            <p:ph/>
          </p:nvPr>
        </p:nvSpPr>
        <p:spPr>
          <a:xfrm>
            <a:off x="685800" y="3809880"/>
            <a:ext cx="8229600" cy="2743200"/>
          </a:xfrm>
          <a:prstGeom prst="rect">
            <a:avLst/>
          </a:prstGeom>
          <a:solidFill>
            <a:srgbClr val="000066"/>
          </a:solidFill>
          <a:ln w="0">
            <a:noFill/>
          </a:ln>
        </p:spPr>
        <p:txBody>
          <a:bodyPr lIns="90000" rIns="90000" tIns="46800" bIns="46800" anchor="t">
            <a:normAutofit fontScale="90000"/>
          </a:bodyPr>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ed for possible air leaks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f the patient has a gag reflex, deep oropharyngeal topical anesthesia or conscious sedation must be administered.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eck and head are held in the neutral position, as would be necessary with cervical spine immobilization.</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sterior surface of the mask is lubricated and the mask is oriented so its opening faces the tongue. </a:t>
            </a:r>
            <a:endParaRPr b="0" lang="en-US" sz="2400" spc="-1" strike="noStrike">
              <a:solidFill>
                <a:srgbClr val="ffffff"/>
              </a:solidFill>
              <a:latin typeface="Garamond"/>
            </a:endParaRPr>
          </a:p>
        </p:txBody>
      </p:sp>
      <p:pic>
        <p:nvPicPr>
          <p:cNvPr id="304" name="" descr=""/>
          <p:cNvPicPr/>
          <p:nvPr/>
        </p:nvPicPr>
        <p:blipFill>
          <a:blip r:embed="rId1"/>
          <a:stretch/>
        </p:blipFill>
        <p:spPr>
          <a:xfrm>
            <a:off x="6095880" y="0"/>
            <a:ext cx="3048120" cy="26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5" name=""/>
          <p:cNvSpPr/>
          <p:nvPr/>
        </p:nvSpPr>
        <p:spPr>
          <a:xfrm>
            <a:off x="228600" y="1981080"/>
            <a:ext cx="8458200" cy="458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the index finger of the dominant hand placed on the proximal aspect of the mask, the mask is inserted into the mouth, firmly against the hard palate.</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one smooth motion, the mask is advanced until resistance is encountered. With the tip of the mask thus seated in the upper esophageal sphincter, the cuff is inflated. The lungs are auscultated to confirm correct placement.</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 for ILMA placement is similar to LMA placement.</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306" name="" descr=""/>
          <p:cNvPicPr/>
          <p:nvPr/>
        </p:nvPicPr>
        <p:blipFill>
          <a:blip r:embed="rId1"/>
          <a:stretch/>
        </p:blipFill>
        <p:spPr>
          <a:xfrm>
            <a:off x="1523880" y="2057400"/>
            <a:ext cx="5791320" cy="3762360"/>
          </a:xfrm>
          <a:prstGeom prst="rect">
            <a:avLst/>
          </a:prstGeom>
          <a:ln w="76320">
            <a:solidFill>
              <a:srgbClr val="d8e74b"/>
            </a:solidFill>
            <a:miter/>
          </a:ln>
        </p:spPr>
      </p:pic>
      <p:sp>
        <p:nvSpPr>
          <p:cNvPr id="307" name=""/>
          <p:cNvSpPr/>
          <p:nvPr/>
        </p:nvSpPr>
        <p:spPr>
          <a:xfrm>
            <a:off x="838080" y="533520"/>
            <a:ext cx="6324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Placement of LMA</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306"/>
                                        </p:tgtEl>
                                        <p:attrNameLst>
                                          <p:attrName>style.visibility</p:attrName>
                                        </p:attrNameLst>
                                      </p:cBhvr>
                                      <p:to>
                                        <p:strVal val="visible"/>
                                      </p:to>
                                    </p:set>
                                    <p:animEffect filter="box(in)" transition="in">
                                      <p:cBhvr additive="repl">
                                        <p:cTn id="14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Intubating LMA </a:t>
            </a:r>
            <a:endParaRPr b="1" lang="en-US" sz="3200" spc="-1" strike="noStrike">
              <a:solidFill>
                <a:srgbClr val="e5e5ff"/>
              </a:solidFill>
              <a:latin typeface="Garamond"/>
            </a:endParaRPr>
          </a:p>
        </p:txBody>
      </p:sp>
      <p:sp>
        <p:nvSpPr>
          <p:cNvPr id="309" name="PlaceHolder 2"/>
          <p:cNvSpPr>
            <a:spLocks noGrp="1"/>
          </p:cNvSpPr>
          <p:nvPr>
            <p:ph/>
          </p:nvPr>
        </p:nvSpPr>
        <p:spPr>
          <a:xfrm>
            <a:off x="2514600" y="2971800"/>
            <a:ext cx="6400800" cy="3200400"/>
          </a:xfrm>
          <a:prstGeom prst="rect">
            <a:avLst/>
          </a:prstGeom>
          <a:solidFill>
            <a:srgbClr val="000066"/>
          </a:solid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ilitate blind tracheal intubation while allowing continuous positive-pressure ventilation.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sertion of the ILMA is easier than the standard LMA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LMA allows for passage of a larger tracheal tube (up to 8-0).</a:t>
            </a:r>
            <a:endParaRPr b="0" lang="en-US" sz="2400" spc="-1" strike="noStrike">
              <a:solidFill>
                <a:srgbClr val="ffffff"/>
              </a:solidFill>
              <a:latin typeface="Garamond"/>
            </a:endParaRPr>
          </a:p>
        </p:txBody>
      </p:sp>
      <p:pic>
        <p:nvPicPr>
          <p:cNvPr id="310" name="" descr=""/>
          <p:cNvPicPr/>
          <p:nvPr/>
        </p:nvPicPr>
        <p:blipFill>
          <a:blip r:embed="rId1"/>
          <a:stretch/>
        </p:blipFill>
        <p:spPr>
          <a:xfrm>
            <a:off x="0" y="0"/>
            <a:ext cx="2381400" cy="3571920"/>
          </a:xfrm>
          <a:prstGeom prst="rect">
            <a:avLst/>
          </a:prstGeom>
          <a:ln w="76320">
            <a:solidFill>
              <a:srgbClr val="e5e5ff"/>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52280" y="3200400"/>
            <a:ext cx="3162600" cy="2608200"/>
          </a:xfrm>
          <a:prstGeom prst="rect">
            <a:avLst/>
          </a:prstGeom>
          <a:ln w="76320">
            <a:solidFill>
              <a:srgbClr val="d8e74b"/>
            </a:solidFill>
            <a:miter/>
          </a:ln>
        </p:spPr>
      </p:pic>
      <p:sp>
        <p:nvSpPr>
          <p:cNvPr id="312" name=""/>
          <p:cNvSpPr/>
          <p:nvPr/>
        </p:nvSpPr>
        <p:spPr>
          <a:xfrm>
            <a:off x="152280" y="317160"/>
            <a:ext cx="8763120" cy="3020040"/>
          </a:xfrm>
          <a:prstGeom prst="rect">
            <a:avLst/>
          </a:prstGeom>
          <a:solidFill>
            <a:srgbClr val="000066"/>
          </a:solid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dotracheal tube down the lumen of the LMA</a:t>
            </a:r>
            <a:endParaRPr b="0" lang="en-US" sz="2400" spc="-1" strike="noStrike">
              <a:solidFill>
                <a:srgbClr val="ffffff"/>
              </a:solidFill>
              <a:latin typeface="Arial"/>
            </a:endParaRPr>
          </a:p>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tube exchanger or bougie passed blindly down the lumen of the LMA and into the trachea.</a:t>
            </a:r>
            <a:endParaRPr b="0" lang="en-US" sz="2400" spc="-1" strike="noStrike">
              <a:solidFill>
                <a:srgbClr val="ffffff"/>
              </a:solidFill>
              <a:latin typeface="Arial"/>
            </a:endParaRPr>
          </a:p>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tubation with an LMA in place is via a fiberoptic scope.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505320" y="3124080"/>
            <a:ext cx="541008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If the LMA must be removed after a tracheal tube has been successfully placed through it, pass a tracheal tube exchanger down the tube, remove the tracheal tube/LMA combination, and replace it with a tracheal tube.</a:t>
            </a:r>
            <a:r>
              <a:rPr b="0" lang="en-US" sz="3200" spc="-1" strike="noStrike">
                <a:solidFill>
                  <a:srgbClr val="ffffcc"/>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Laryngeal-Mask Airway</a:t>
            </a:r>
            <a:endParaRPr b="1" lang="en-US" sz="3200" spc="-1" strike="noStrike">
              <a:solidFill>
                <a:srgbClr val="e5e5ff"/>
              </a:solidFill>
              <a:latin typeface="Garamond"/>
            </a:endParaRPr>
          </a:p>
        </p:txBody>
      </p:sp>
      <p:sp>
        <p:nvSpPr>
          <p:cNvPr id="315" name=""/>
          <p:cNvSpPr/>
          <p:nvPr/>
        </p:nvSpPr>
        <p:spPr>
          <a:xfrm>
            <a:off x="304920" y="1676520"/>
            <a:ext cx="8534160" cy="4800600"/>
          </a:xfrm>
          <a:prstGeom prst="ellipse">
            <a:avLst/>
          </a:prstGeom>
          <a:solidFill>
            <a:srgbClr val="000066"/>
          </a:solidFill>
          <a:ln w="76320">
            <a:solidFill>
              <a:srgbClr val="0000cc"/>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Garamond"/>
              </a:rPr>
              <a:t>Complications</a:t>
            </a: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piration is always a possibility</a:t>
            </a: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yngospasm can occur if adequate anesthesia is not achieved. </a:t>
            </a: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ignificant air leak around the cuff may occur when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igh airway pressures exist,leading to poor ventilation. </a:t>
            </a:r>
            <a:endParaRPr b="0" lang="en-US" sz="2400" spc="-1" strike="noStrike">
              <a:solidFill>
                <a:srgbClr val="ffffff"/>
              </a:solidFill>
              <a:latin typeface="Arial"/>
            </a:endParaRPr>
          </a:p>
          <a:p>
            <a:pPr marL="343080" indent="-343080" algn="ct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Esophageal-Tracheal Combitube</a:t>
            </a:r>
            <a:br>
              <a:rPr sz="3200"/>
            </a:br>
            <a:endParaRPr b="1" lang="en-US" sz="3200" spc="-1" strike="noStrike">
              <a:solidFill>
                <a:srgbClr val="e5e5ff"/>
              </a:solidFill>
              <a:latin typeface="Garamond"/>
            </a:endParaRPr>
          </a:p>
        </p:txBody>
      </p:sp>
      <p:sp>
        <p:nvSpPr>
          <p:cNvPr id="317" name="PlaceHolder 2"/>
          <p:cNvSpPr>
            <a:spLocks noGrp="1"/>
          </p:cNvSpPr>
          <p:nvPr>
            <p:ph/>
          </p:nvPr>
        </p:nvSpPr>
        <p:spPr>
          <a:xfrm>
            <a:off x="2819160" y="1828800"/>
            <a:ext cx="6019560" cy="3657600"/>
          </a:xfrm>
          <a:prstGeom prst="rect">
            <a:avLst/>
          </a:prstGeom>
          <a:solidFill>
            <a:srgbClr val="000066"/>
          </a:solidFill>
          <a:ln w="0">
            <a:noFill/>
          </a:ln>
        </p:spPr>
        <p:txBody>
          <a:bodyPr lIns="90000" rIns="90000" tIns="46800" bIns="46800" anchor="t">
            <a:normAutofit fontScale="82000"/>
          </a:bodyPr>
          <a:p>
            <a:pPr marL="281160" indent="-281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 two lumina running parallel to each other. One is perforated at the level of the pharynx and occluded at the distal end, similar to the EOA. The second lumen is open at the distal end, resembling an endotracheal tube. </a:t>
            </a:r>
            <a:endParaRPr b="0" lang="en-US" sz="2400" spc="-1" strike="noStrike">
              <a:solidFill>
                <a:srgbClr val="ffffff"/>
              </a:solidFill>
              <a:latin typeface="Garamond"/>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1160" indent="-281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 two balloons: a proximal pharyngeal balloon that occludes the oropharynx by filling the space between the base of the tongue and the soft palate and a smaller, distal cuff that serves as a seal in either the esophagus or trachea </a:t>
            </a:r>
            <a:endParaRPr b="0" lang="en-US" sz="2400" spc="-1" strike="noStrike">
              <a:solidFill>
                <a:srgbClr val="ffffff"/>
              </a:solidFill>
              <a:latin typeface="Garamond"/>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endParaRPr b="0" lang="en-US" sz="2400" spc="-1" strike="noStrike">
              <a:solidFill>
                <a:srgbClr val="ffffff"/>
              </a:solidFill>
              <a:latin typeface="Garamond"/>
            </a:endParaRPr>
          </a:p>
        </p:txBody>
      </p:sp>
      <p:pic>
        <p:nvPicPr>
          <p:cNvPr id="318" name="" descr=""/>
          <p:cNvPicPr/>
          <p:nvPr/>
        </p:nvPicPr>
        <p:blipFill>
          <a:blip r:embed="rId1"/>
          <a:stretch/>
        </p:blipFill>
        <p:spPr>
          <a:xfrm>
            <a:off x="609480" y="1371600"/>
            <a:ext cx="2028960" cy="411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20" name=""/>
          <p:cNvSpPr txBox="1"/>
          <p:nvPr/>
        </p:nvSpPr>
        <p:spPr>
          <a:xfrm>
            <a:off x="1662120" y="2262960"/>
            <a:ext cx="5819760" cy="3200400"/>
          </a:xfrm>
          <a:prstGeom prst="rect">
            <a:avLst/>
          </a:prstGeom>
          <a:solidFill>
            <a:srgbClr val="000066"/>
          </a:solidFill>
          <a:ln w="57240">
            <a:solidFill>
              <a:srgbClr val="0000ff"/>
            </a:solidFill>
            <a:miter/>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TC is superior to the EOA because no face mask seal is necessary and the risk of complications is lower.</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TC should be used in an unresponsive person who requires an airway when tracheal intubation is not successful or practical. </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act gag reflex</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younger than 16 years or shorter than 5 feet tall. </a:t>
            </a:r>
            <a:endParaRPr b="0" lang="en-US" sz="2000" spc="-1" strike="noStrike">
              <a:solidFill>
                <a:srgbClr val="ffffff"/>
              </a:solidFill>
              <a:latin typeface="Garamond"/>
            </a:endParaRPr>
          </a:p>
        </p:txBody>
      </p:sp>
      <p:sp>
        <p:nvSpPr>
          <p:cNvPr id="321" name=""/>
          <p:cNvSpPr/>
          <p:nvPr/>
        </p:nvSpPr>
        <p:spPr>
          <a:xfrm>
            <a:off x="16560" y="1752480"/>
            <a:ext cx="19227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Garamond"/>
              </a:rPr>
              <a:t>Indications</a:t>
            </a:r>
            <a:endParaRPr b="0" lang="en-US" sz="2400" spc="-1" strike="noStrike">
              <a:solidFill>
                <a:srgbClr val="ffffff"/>
              </a:solidFill>
              <a:latin typeface="Arial"/>
            </a:endParaRPr>
          </a:p>
        </p:txBody>
      </p:sp>
      <p:sp>
        <p:nvSpPr>
          <p:cNvPr id="322" name=""/>
          <p:cNvSpPr/>
          <p:nvPr/>
        </p:nvSpPr>
        <p:spPr>
          <a:xfrm>
            <a:off x="-240840" y="3962520"/>
            <a:ext cx="32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d8e74b"/>
                </a:solidFill>
                <a:latin typeface="Garamond"/>
              </a:rPr>
              <a:t>Contraindications</a:t>
            </a:r>
            <a:endParaRPr b="0" lang="en-US" sz="2400" spc="-1" strike="noStrike">
              <a:solidFill>
                <a:srgbClr val="ffffff"/>
              </a:solidFill>
              <a:latin typeface="Arial"/>
            </a:endParaRPr>
          </a:p>
        </p:txBody>
      </p:sp>
      <p:sp>
        <p:nvSpPr>
          <p:cNvPr id="323" name=""/>
          <p:cNvSpPr/>
          <p:nvPr/>
        </p:nvSpPr>
        <p:spPr>
          <a:xfrm>
            <a:off x="247680" y="5486400"/>
            <a:ext cx="88963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contraindicated in suspected caustic poisonings or proximal esophageal disor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25" name="PlaceHolder 2"/>
          <p:cNvSpPr>
            <a:spLocks noGrp="1"/>
          </p:cNvSpPr>
          <p:nvPr>
            <p:ph/>
          </p:nvPr>
        </p:nvSpPr>
        <p:spPr>
          <a:xfrm>
            <a:off x="457200" y="3094200"/>
            <a:ext cx="8229600" cy="792000"/>
          </a:xfrm>
          <a:prstGeom prst="rect">
            <a:avLst/>
          </a:prstGeom>
          <a:noFill/>
          <a:ln w="0">
            <a:noFill/>
          </a:ln>
        </p:spPr>
        <p:txBody>
          <a:bodyPr lIns="90000" rIns="90000" tIns="46800" bIns="46800" anchor="t">
            <a:normAutofit fontScale="61000"/>
          </a:bodyPr>
          <a:p>
            <a:pPr marL="209160" indent="-209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evice is held in the dominant hand and gently advanced caudally into the pharynx </a:t>
            </a:r>
            <a:endParaRPr b="0" lang="en-US" sz="2400" spc="-1" strike="noStrike">
              <a:solidFill>
                <a:srgbClr val="ffffff"/>
              </a:solidFill>
              <a:latin typeface="Garamond"/>
            </a:endParaRPr>
          </a:p>
          <a:p>
            <a:pPr marL="209160" indent="-209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ube is passed blindly along the tongue to a depth that positions the printed rings on the proximal end of the tube between the patient's teeth or alveolar ridge.</a:t>
            </a:r>
            <a:endParaRPr b="0" lang="en-US" sz="2400" spc="-1" strike="noStrike">
              <a:solidFill>
                <a:srgbClr val="ffffff"/>
              </a:solidFill>
              <a:latin typeface="Garamond"/>
            </a:endParaRPr>
          </a:p>
          <a:p>
            <a:pPr marL="209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6" name="" descr=""/>
          <p:cNvPicPr/>
          <p:nvPr/>
        </p:nvPicPr>
        <p:blipFill>
          <a:blip r:embed="rId1"/>
          <a:stretch/>
        </p:blipFill>
        <p:spPr>
          <a:xfrm>
            <a:off x="0" y="284040"/>
            <a:ext cx="2971800" cy="20782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28" name="PlaceHolder 2"/>
          <p:cNvSpPr>
            <a:spLocks noGrp="1"/>
          </p:cNvSpPr>
          <p:nvPr>
            <p:ph/>
          </p:nvPr>
        </p:nvSpPr>
        <p:spPr>
          <a:xfrm>
            <a:off x="533520" y="2666880"/>
            <a:ext cx="8229600" cy="277344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resistance is met in the hypopharynx, the tube should be removed and bent between the balloons for several seconds to facilitate insertion.</a:t>
            </a: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260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fter insertion, the pharyngeal balloon is filled with 100 mL of air, and the distal cuff is subsequently filled with 10 to 15 mL of air.</a:t>
            </a: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260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ne must remember to first inflate the oropharyngeal balloon before inflating the distal balloon. Although unlikely, esophageal injury is theoretically possible with overinflation of the distal balloon.</a:t>
            </a: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9" name="" descr=""/>
          <p:cNvPicPr/>
          <p:nvPr/>
        </p:nvPicPr>
        <p:blipFill>
          <a:blip r:embed="rId1"/>
          <a:stretch/>
        </p:blipFill>
        <p:spPr>
          <a:xfrm>
            <a:off x="0" y="152280"/>
            <a:ext cx="2971800" cy="20782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31" name="PlaceHolder 2"/>
          <p:cNvSpPr>
            <a:spLocks noGrp="1"/>
          </p:cNvSpPr>
          <p:nvPr>
            <p:ph/>
          </p:nvPr>
        </p:nvSpPr>
        <p:spPr>
          <a:xfrm>
            <a:off x="457200" y="1599840"/>
            <a:ext cx="8229600" cy="3809880"/>
          </a:xfrm>
          <a:prstGeom prst="rect">
            <a:avLst/>
          </a:prstGeom>
          <a:solidFill>
            <a:srgbClr val="000066"/>
          </a:solid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arge pharyngeal balloon serves to securely seat the ETC in the oropharynx and to create a closed system in the case of esophageal placemen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ntilation is begun through the longer (blue plastic) connector associated with the esophageal lume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st rise and good breath sounds without gastric insufflation confirm effective placement in the esophagus.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15" name=""/>
          <p:cNvSpPr/>
          <p:nvPr/>
        </p:nvSpPr>
        <p:spPr>
          <a:xfrm>
            <a:off x="2514600" y="609480"/>
            <a:ext cx="373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Times New Roman"/>
              </a:rPr>
              <a:t>Airway Maneuve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762120" y="3962520"/>
            <a:ext cx="586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ck-lift </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tilt method</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w-thrust method</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n-lift method.</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457200" y="1981080"/>
            <a:ext cx="739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lax musculature</a:t>
            </a:r>
            <a:r>
              <a:rPr b="0" lang="en-US" sz="2800" spc="-1" strike="noStrike">
                <a:solidFill>
                  <a:srgbClr val="ffffff"/>
                </a:solidFill>
                <a:latin typeface="Garamond"/>
              </a:rPr>
              <a:t> and </a:t>
            </a:r>
            <a:r>
              <a:rPr b="0" i="1" lang="en-US" sz="2800" spc="-1" strike="noStrike">
                <a:solidFill>
                  <a:srgbClr val="ffffff"/>
                </a:solidFill>
                <a:latin typeface="Garamond"/>
              </a:rPr>
              <a:t>tongue occlusion</a:t>
            </a:r>
            <a:r>
              <a:rPr b="0" lang="en-US" sz="2800" spc="-1" strike="noStrike">
                <a:solidFill>
                  <a:srgbClr val="ffffff"/>
                </a:solidFill>
                <a:latin typeface="Garamond"/>
              </a:rPr>
              <a:t> of the posterior pharynx may be overcome by a variety of A/W maneuvers</a:t>
            </a:r>
            <a:endParaRPr b="0" lang="en-US" sz="2800" spc="-1" strike="noStrike">
              <a:solidFill>
                <a:srgbClr val="ffffff"/>
              </a:solidFill>
              <a:latin typeface="Arial"/>
            </a:endParaRPr>
          </a:p>
        </p:txBody>
      </p:sp>
      <p:sp>
        <p:nvSpPr>
          <p:cNvPr id="118" name=""/>
          <p:cNvSpPr/>
          <p:nvPr/>
        </p:nvSpPr>
        <p:spPr>
          <a:xfrm>
            <a:off x="3886200" y="3657600"/>
            <a:ext cx="4648320" cy="25146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jaw-thrust or chin-lif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euver should be performe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n every unconscious pati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18"/>
                                        </p:tgtEl>
                                        <p:attrNameLst>
                                          <p:attrName>style.visibility</p:attrName>
                                        </p:attrNameLst>
                                      </p:cBhvr>
                                      <p:to>
                                        <p:strVal val="visible"/>
                                      </p:to>
                                    </p:set>
                                    <p:animEffect filter="blinds(horizontal)" transition="in">
                                      <p:cBhvr additive="repl">
                                        <p:cTn id="3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33"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stric insufflation without breath sounds and chest rise indicate a tracheal positioning of the tube and require changing the ventilation to the shorter (clear plastic) tracheal lumen. </a:t>
            </a:r>
            <a:endParaRPr b="0" lang="en-US" sz="2800" spc="-1" strike="noStrike">
              <a:solidFill>
                <a:srgbClr val="ffffff"/>
              </a:solidFill>
              <a:latin typeface="Garamond"/>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scultation of breath sounds over the lateral lung fields confirms endotracheal placement of the Combitube. </a:t>
            </a:r>
            <a:endParaRPr b="0" lang="en-US" sz="2800" spc="-1" strike="noStrike">
              <a:solidFill>
                <a:srgbClr val="ffffff"/>
              </a:solidFill>
              <a:latin typeface="Garamond"/>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tube is in the esophageal position, gastric suctioning can be accomplished by passing a catheter through the open lumen into the stomach while the patient is being ventilated via the other port.</a:t>
            </a:r>
            <a:endParaRPr b="0" lang="en-US" sz="2800" spc="-1" strike="noStrike">
              <a:solidFill>
                <a:srgbClr val="ffffff"/>
              </a:solidFill>
              <a:latin typeface="Garamond"/>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35" name="PlaceHolder 2"/>
          <p:cNvSpPr>
            <a:spLocks noGrp="1"/>
          </p:cNvSpPr>
          <p:nvPr>
            <p:ph/>
          </p:nvPr>
        </p:nvSpPr>
        <p:spPr>
          <a:xfrm>
            <a:off x="990720" y="1905120"/>
            <a:ext cx="7696080" cy="2590560"/>
          </a:xfrm>
          <a:prstGeom prst="rect">
            <a:avLst/>
          </a:prstGeom>
          <a:solidFill>
            <a:srgbClr val="000066"/>
          </a:solid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ttach an aspirating device to the tracheal or clear plastic shorter tube. The inability to easily aspirate air confirms esophageal placement, necessitating ventilation via the longer blue esophageal tube.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2 detector devices also may be useful.</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Bullard Laryngoscope </a:t>
            </a:r>
            <a:endParaRPr b="1" lang="en-US" sz="2800" spc="-1" strike="noStrike">
              <a:solidFill>
                <a:srgbClr val="e5e5ff"/>
              </a:solidFill>
              <a:latin typeface="Garamond"/>
            </a:endParaRPr>
          </a:p>
        </p:txBody>
      </p:sp>
      <p:sp>
        <p:nvSpPr>
          <p:cNvPr id="337" name="PlaceHolder 2"/>
          <p:cNvSpPr>
            <a:spLocks noGrp="1"/>
          </p:cNvSpPr>
          <p:nvPr>
            <p:ph/>
          </p:nvPr>
        </p:nvSpPr>
        <p:spPr>
          <a:xfrm>
            <a:off x="3200400" y="2437920"/>
            <a:ext cx="5486400" cy="358164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manipulation of the neck is necessar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ervical spine injur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und to cause less head extension and cervical spine extension than the conventional laryngoscope</a:t>
            </a:r>
            <a:endParaRPr b="0" lang="en-US" sz="2400" spc="-1" strike="noStrike">
              <a:solidFill>
                <a:srgbClr val="ffffff"/>
              </a:solidFill>
              <a:latin typeface="Garamond"/>
            </a:endParaRPr>
          </a:p>
        </p:txBody>
      </p:sp>
      <p:pic>
        <p:nvPicPr>
          <p:cNvPr id="338" name="" descr=""/>
          <p:cNvPicPr/>
          <p:nvPr/>
        </p:nvPicPr>
        <p:blipFill>
          <a:blip r:embed="rId1"/>
          <a:stretch/>
        </p:blipFill>
        <p:spPr>
          <a:xfrm>
            <a:off x="380880" y="4038480"/>
            <a:ext cx="2476800" cy="2533680"/>
          </a:xfrm>
          <a:prstGeom prst="rect">
            <a:avLst/>
          </a:prstGeom>
          <a:ln w="76320">
            <a:solidFill>
              <a:srgbClr val="d8e74b"/>
            </a:solidFill>
            <a:miter/>
          </a:ln>
        </p:spPr>
      </p:pic>
      <p:sp>
        <p:nvSpPr>
          <p:cNvPr id="339" name=""/>
          <p:cNvSpPr/>
          <p:nvPr/>
        </p:nvSpPr>
        <p:spPr>
          <a:xfrm>
            <a:off x="6108840" y="2946240"/>
            <a:ext cx="1141200" cy="390600"/>
          </a:xfrm>
          <a:custGeom>
            <a:avLst/>
            <a:gdLst/>
            <a:ahLst/>
            <a:rect l="l" t="t" r="r" b="b"/>
            <a:pathLst>
              <a:path w="3168" h="1085">
                <a:moveTo>
                  <a:pt x="17213" y="8762"/>
                </a:moveTo>
                <a:cubicBezTo>
                  <a:pt x="17225" y="8740"/>
                  <a:pt x="17244" y="8721"/>
                  <a:pt x="17250" y="8697"/>
                </a:cubicBezTo>
                <a:cubicBezTo>
                  <a:pt x="17255" y="8679"/>
                  <a:pt x="17248" y="8659"/>
                  <a:pt x="17250" y="8644"/>
                </a:cubicBezTo>
                <a:cubicBezTo>
                  <a:pt x="17227" y="8657"/>
                  <a:pt x="17216" y="8655"/>
                  <a:pt x="17193" y="8680"/>
                </a:cubicBezTo>
                <a:cubicBezTo>
                  <a:pt x="17176" y="8698"/>
                  <a:pt x="17160" y="8721"/>
                  <a:pt x="17145" y="8742"/>
                </a:cubicBezTo>
                <a:cubicBezTo>
                  <a:pt x="17115" y="8785"/>
                  <a:pt x="17087" y="8830"/>
                  <a:pt x="17085" y="8884"/>
                </a:cubicBezTo>
                <a:cubicBezTo>
                  <a:pt x="17083" y="8943"/>
                  <a:pt x="17106" y="8956"/>
                  <a:pt x="17161" y="8964"/>
                </a:cubicBezTo>
                <a:cubicBezTo>
                  <a:pt x="17235" y="8974"/>
                  <a:pt x="17315" y="8946"/>
                  <a:pt x="17385" y="8927"/>
                </a:cubicBezTo>
                <a:cubicBezTo>
                  <a:pt x="17742" y="8828"/>
                  <a:pt x="18104" y="8737"/>
                  <a:pt x="18467" y="8662"/>
                </a:cubicBezTo>
                <a:cubicBezTo>
                  <a:pt x="18871" y="8579"/>
                  <a:pt x="19278" y="8510"/>
                  <a:pt x="19686" y="8450"/>
                </a:cubicBezTo>
              </a:path>
              <a:path w="3168" h="1085">
                <a:moveTo>
                  <a:pt x="17361" y="8732"/>
                </a:moveTo>
                <a:cubicBezTo>
                  <a:pt x="17355" y="8703"/>
                  <a:pt x="17350" y="8672"/>
                  <a:pt x="17344" y="8644"/>
                </a:cubicBezTo>
                <a:cubicBezTo>
                  <a:pt x="17342" y="8633"/>
                  <a:pt x="17341" y="8625"/>
                  <a:pt x="17338" y="8615"/>
                </a:cubicBezTo>
                <a:cubicBezTo>
                  <a:pt x="17334" y="8598"/>
                  <a:pt x="17326" y="8583"/>
                  <a:pt x="17322" y="8565"/>
                </a:cubicBezTo>
                <a:cubicBezTo>
                  <a:pt x="17320" y="8559"/>
                  <a:pt x="17319" y="8551"/>
                  <a:pt x="17317" y="8545"/>
                </a:cubicBezTo>
                <a:cubicBezTo>
                  <a:pt x="17302" y="8553"/>
                  <a:pt x="17276" y="8557"/>
                  <a:pt x="17263" y="8567"/>
                </a:cubicBezTo>
                <a:cubicBezTo>
                  <a:pt x="17248" y="8579"/>
                  <a:pt x="17235" y="8595"/>
                  <a:pt x="17222" y="8608"/>
                </a:cubicBezTo>
                <a:cubicBezTo>
                  <a:pt x="17200" y="8630"/>
                  <a:pt x="17174" y="8654"/>
                  <a:pt x="17155" y="8678"/>
                </a:cubicBezTo>
                <a:cubicBezTo>
                  <a:pt x="17129" y="8712"/>
                  <a:pt x="17094" y="8749"/>
                  <a:pt x="17073" y="8785"/>
                </a:cubicBezTo>
                <a:cubicBezTo>
                  <a:pt x="17064" y="8800"/>
                  <a:pt x="17026" y="8871"/>
                  <a:pt x="17035" y="8889"/>
                </a:cubicBezTo>
                <a:cubicBezTo>
                  <a:pt x="17039" y="8897"/>
                  <a:pt x="17044" y="8906"/>
                  <a:pt x="17051" y="8911"/>
                </a:cubicBezTo>
                <a:cubicBezTo>
                  <a:pt x="17072" y="8926"/>
                  <a:pt x="17196" y="8930"/>
                  <a:pt x="17225" y="8934"/>
                </a:cubicBezTo>
                <a:cubicBezTo>
                  <a:pt x="17243" y="8937"/>
                  <a:pt x="17266" y="8940"/>
                  <a:pt x="17284" y="8938"/>
                </a:cubicBezTo>
                <a:cubicBezTo>
                  <a:pt x="17308" y="8936"/>
                  <a:pt x="17331" y="8926"/>
                  <a:pt x="17354" y="8920"/>
                </a:cubicBezTo>
                <a:cubicBezTo>
                  <a:pt x="17410" y="8905"/>
                  <a:pt x="17468" y="8888"/>
                  <a:pt x="17523" y="8871"/>
                </a:cubicBezTo>
                <a:cubicBezTo>
                  <a:pt x="17538" y="8866"/>
                  <a:pt x="17552" y="8861"/>
                  <a:pt x="17568" y="8857"/>
                </a:cubicBezTo>
                <a:cubicBezTo>
                  <a:pt x="17588" y="8852"/>
                  <a:pt x="17607" y="8847"/>
                  <a:pt x="17627" y="8843"/>
                </a:cubicBezTo>
                <a:cubicBezTo>
                  <a:pt x="17661" y="8835"/>
                  <a:pt x="17692" y="8827"/>
                  <a:pt x="17725" y="8818"/>
                </a:cubicBezTo>
                <a:cubicBezTo>
                  <a:pt x="17822" y="8792"/>
                  <a:pt x="17922" y="8778"/>
                  <a:pt x="18019" y="8757"/>
                </a:cubicBezTo>
                <a:cubicBezTo>
                  <a:pt x="18080" y="8744"/>
                  <a:pt x="18142" y="8731"/>
                  <a:pt x="18204" y="8721"/>
                </a:cubicBezTo>
                <a:cubicBezTo>
                  <a:pt x="18241" y="8715"/>
                  <a:pt x="18277" y="8708"/>
                  <a:pt x="18313" y="8699"/>
                </a:cubicBezTo>
                <a:cubicBezTo>
                  <a:pt x="18376" y="8684"/>
                  <a:pt x="18439" y="8663"/>
                  <a:pt x="18501" y="8649"/>
                </a:cubicBezTo>
                <a:cubicBezTo>
                  <a:pt x="18553" y="8637"/>
                  <a:pt x="18602" y="8621"/>
                  <a:pt x="18654" y="8608"/>
                </a:cubicBezTo>
                <a:cubicBezTo>
                  <a:pt x="18708" y="8595"/>
                  <a:pt x="18763" y="8590"/>
                  <a:pt x="18818" y="8585"/>
                </a:cubicBezTo>
                <a:cubicBezTo>
                  <a:pt x="18879" y="8579"/>
                  <a:pt x="18940" y="8573"/>
                  <a:pt x="19001" y="8565"/>
                </a:cubicBezTo>
                <a:cubicBezTo>
                  <a:pt x="19026" y="8562"/>
                  <a:pt x="19053" y="8560"/>
                  <a:pt x="19077" y="8552"/>
                </a:cubicBezTo>
                <a:cubicBezTo>
                  <a:pt x="19104" y="8543"/>
                  <a:pt x="19129" y="8532"/>
                  <a:pt x="19154" y="8522"/>
                </a:cubicBezTo>
                <a:cubicBezTo>
                  <a:pt x="19193" y="8507"/>
                  <a:pt x="19231" y="8490"/>
                  <a:pt x="19270" y="8475"/>
                </a:cubicBezTo>
                <a:cubicBezTo>
                  <a:pt x="19283" y="8470"/>
                  <a:pt x="19300" y="8461"/>
                  <a:pt x="19313" y="8457"/>
                </a:cubicBezTo>
                <a:cubicBezTo>
                  <a:pt x="19351" y="8445"/>
                  <a:pt x="19389" y="8441"/>
                  <a:pt x="19428" y="8434"/>
                </a:cubicBezTo>
                <a:cubicBezTo>
                  <a:pt x="19485" y="8424"/>
                  <a:pt x="19537" y="8414"/>
                  <a:pt x="19591" y="8398"/>
                </a:cubicBezTo>
                <a:cubicBezTo>
                  <a:pt x="19618" y="8390"/>
                  <a:pt x="19644" y="8381"/>
                  <a:pt x="19670" y="8373"/>
                </a:cubicBezTo>
                <a:cubicBezTo>
                  <a:pt x="19699" y="8364"/>
                  <a:pt x="19728" y="8356"/>
                  <a:pt x="19758" y="8348"/>
                </a:cubicBezTo>
                <a:cubicBezTo>
                  <a:pt x="19783" y="8341"/>
                  <a:pt x="19807" y="8337"/>
                  <a:pt x="19831" y="8330"/>
                </a:cubicBezTo>
                <a:cubicBezTo>
                  <a:pt x="19842" y="8327"/>
                  <a:pt x="19850" y="8324"/>
                  <a:pt x="19860" y="8321"/>
                </a:cubicBezTo>
                <a:cubicBezTo>
                  <a:pt x="19895" y="8312"/>
                  <a:pt x="19930" y="8309"/>
                  <a:pt x="19965" y="8301"/>
                </a:cubicBezTo>
                <a:cubicBezTo>
                  <a:pt x="19989" y="8296"/>
                  <a:pt x="20012" y="8287"/>
                  <a:pt x="20035" y="8280"/>
                </a:cubicBezTo>
                <a:cubicBezTo>
                  <a:pt x="20048" y="8276"/>
                  <a:pt x="20065" y="8274"/>
                  <a:pt x="20075" y="8271"/>
                </a:cubicBezTo>
                <a:cubicBezTo>
                  <a:pt x="20084" y="8268"/>
                  <a:pt x="20105" y="8258"/>
                  <a:pt x="20112" y="8257"/>
                </a:cubicBezTo>
                <a:cubicBezTo>
                  <a:pt x="20116" y="8256"/>
                  <a:pt x="20120" y="8251"/>
                  <a:pt x="20123" y="8251"/>
                </a:cubicBezTo>
                <a:cubicBezTo>
                  <a:pt x="20127" y="8251"/>
                  <a:pt x="20132" y="8253"/>
                  <a:pt x="20136" y="8253"/>
                </a:cubicBezTo>
                <a:cubicBezTo>
                  <a:pt x="20136" y="8255"/>
                  <a:pt x="20136" y="8258"/>
                  <a:pt x="20136" y="8260"/>
                </a:cubicBezTo>
              </a:path>
              <a:path w="3168" h="1085">
                <a:moveTo>
                  <a:pt x="17225" y="8819"/>
                </a:moveTo>
                <a:cubicBezTo>
                  <a:pt x="17234" y="8809"/>
                  <a:pt x="17189" y="8858"/>
                  <a:pt x="17198" y="8848"/>
                </a:cubicBezTo>
                <a:cubicBezTo>
                  <a:pt x="17207" y="8839"/>
                  <a:pt x="17222" y="8827"/>
                  <a:pt x="17231" y="8816"/>
                </a:cubicBezTo>
                <a:cubicBezTo>
                  <a:pt x="17258" y="8780"/>
                  <a:pt x="17283" y="8744"/>
                  <a:pt x="17309" y="8708"/>
                </a:cubicBezTo>
                <a:cubicBezTo>
                  <a:pt x="17342" y="8662"/>
                  <a:pt x="17378" y="8617"/>
                  <a:pt x="17412" y="8572"/>
                </a:cubicBezTo>
                <a:cubicBezTo>
                  <a:pt x="17466" y="8500"/>
                  <a:pt x="17524" y="8430"/>
                  <a:pt x="17577" y="8357"/>
                </a:cubicBezTo>
                <a:cubicBezTo>
                  <a:pt x="17612" y="8309"/>
                  <a:pt x="17627" y="8268"/>
                  <a:pt x="17643" y="8215"/>
                </a:cubicBezTo>
                <a:cubicBezTo>
                  <a:pt x="17641" y="8214"/>
                  <a:pt x="17640" y="8214"/>
                  <a:pt x="17639" y="8214"/>
                </a:cubicBezTo>
                <a:cubicBezTo>
                  <a:pt x="17632" y="8221"/>
                  <a:pt x="17618" y="8224"/>
                  <a:pt x="17611" y="8233"/>
                </a:cubicBezTo>
                <a:cubicBezTo>
                  <a:pt x="17598" y="8249"/>
                  <a:pt x="17587" y="8265"/>
                  <a:pt x="17575" y="8282"/>
                </a:cubicBezTo>
                <a:cubicBezTo>
                  <a:pt x="17513" y="8365"/>
                  <a:pt x="17461" y="8454"/>
                  <a:pt x="17403" y="8540"/>
                </a:cubicBezTo>
                <a:cubicBezTo>
                  <a:pt x="17378" y="8577"/>
                  <a:pt x="17350" y="8611"/>
                  <a:pt x="17324" y="8646"/>
                </a:cubicBezTo>
                <a:cubicBezTo>
                  <a:pt x="17286" y="8697"/>
                  <a:pt x="17245" y="8732"/>
                  <a:pt x="17202" y="8776"/>
                </a:cubicBezTo>
                <a:cubicBezTo>
                  <a:pt x="17199" y="8779"/>
                  <a:pt x="17192" y="8784"/>
                  <a:pt x="17189" y="8787"/>
                </a:cubicBezTo>
                <a:cubicBezTo>
                  <a:pt x="17192" y="8787"/>
                  <a:pt x="17194" y="8787"/>
                  <a:pt x="17197" y="8785"/>
                </a:cubicBezTo>
                <a:cubicBezTo>
                  <a:pt x="17236" y="8754"/>
                  <a:pt x="17264" y="8734"/>
                  <a:pt x="17297" y="8689"/>
                </a:cubicBezTo>
                <a:cubicBezTo>
                  <a:pt x="17346" y="8622"/>
                  <a:pt x="17392" y="8551"/>
                  <a:pt x="17440" y="8482"/>
                </a:cubicBezTo>
                <a:cubicBezTo>
                  <a:pt x="17491" y="8408"/>
                  <a:pt x="17541" y="8328"/>
                  <a:pt x="17582" y="8248"/>
                </a:cubicBezTo>
                <a:cubicBezTo>
                  <a:pt x="17591" y="8230"/>
                  <a:pt x="17598" y="8208"/>
                  <a:pt x="17607" y="8190"/>
                </a:cubicBezTo>
                <a:cubicBezTo>
                  <a:pt x="17605" y="8194"/>
                  <a:pt x="17613" y="8186"/>
                  <a:pt x="17611" y="8190"/>
                </a:cubicBezTo>
                <a:cubicBezTo>
                  <a:pt x="17528" y="8335"/>
                  <a:pt x="17450" y="8484"/>
                  <a:pt x="17367" y="8629"/>
                </a:cubicBezTo>
                <a:cubicBezTo>
                  <a:pt x="17345" y="8668"/>
                  <a:pt x="17320" y="8703"/>
                  <a:pt x="17295" y="8739"/>
                </a:cubicBezTo>
                <a:cubicBezTo>
                  <a:pt x="17290" y="8746"/>
                  <a:pt x="17289" y="8744"/>
                  <a:pt x="17284" y="8751"/>
                </a:cubicBezTo>
                <a:cubicBezTo>
                  <a:pt x="17286" y="8745"/>
                  <a:pt x="17287" y="8743"/>
                  <a:pt x="17292" y="8742"/>
                </a:cubicBezTo>
                <a:cubicBezTo>
                  <a:pt x="17304" y="8726"/>
                  <a:pt x="17319" y="8711"/>
                  <a:pt x="17331" y="8694"/>
                </a:cubicBezTo>
                <a:cubicBezTo>
                  <a:pt x="17413" y="8573"/>
                  <a:pt x="17478" y="8440"/>
                  <a:pt x="17542" y="8310"/>
                </a:cubicBezTo>
                <a:cubicBezTo>
                  <a:pt x="17549" y="8296"/>
                  <a:pt x="17557" y="8281"/>
                  <a:pt x="17564" y="8267"/>
                </a:cubicBezTo>
                <a:cubicBezTo>
                  <a:pt x="17559" y="8274"/>
                  <a:pt x="17556" y="8271"/>
                  <a:pt x="17551" y="8278"/>
                </a:cubicBezTo>
                <a:cubicBezTo>
                  <a:pt x="17532" y="8304"/>
                  <a:pt x="17514" y="8330"/>
                  <a:pt x="17494" y="8355"/>
                </a:cubicBezTo>
                <a:cubicBezTo>
                  <a:pt x="17457" y="8401"/>
                  <a:pt x="17422" y="8447"/>
                  <a:pt x="17388" y="8495"/>
                </a:cubicBezTo>
                <a:cubicBezTo>
                  <a:pt x="17361" y="8533"/>
                  <a:pt x="17335" y="8572"/>
                  <a:pt x="17306" y="8608"/>
                </a:cubicBezTo>
                <a:cubicBezTo>
                  <a:pt x="17287" y="8631"/>
                  <a:pt x="17266" y="8655"/>
                  <a:pt x="17247" y="8678"/>
                </a:cubicBezTo>
                <a:cubicBezTo>
                  <a:pt x="17242" y="8684"/>
                  <a:pt x="17227" y="8701"/>
                  <a:pt x="17225" y="8703"/>
                </a:cubicBezTo>
                <a:cubicBezTo>
                  <a:pt x="17335" y="8581"/>
                  <a:pt x="17421" y="8447"/>
                  <a:pt x="17482" y="8296"/>
                </a:cubicBezTo>
                <a:cubicBezTo>
                  <a:pt x="17483" y="8293"/>
                  <a:pt x="17483" y="8293"/>
                  <a:pt x="17483" y="8291"/>
                </a:cubicBezTo>
                <a:cubicBezTo>
                  <a:pt x="17469" y="8311"/>
                  <a:pt x="17454" y="8331"/>
                  <a:pt x="17439" y="8352"/>
                </a:cubicBezTo>
                <a:cubicBezTo>
                  <a:pt x="17411" y="8392"/>
                  <a:pt x="17387" y="8434"/>
                  <a:pt x="17360" y="8475"/>
                </a:cubicBezTo>
                <a:cubicBezTo>
                  <a:pt x="17300" y="8565"/>
                  <a:pt x="17231" y="8649"/>
                  <a:pt x="17168" y="8737"/>
                </a:cubicBezTo>
                <a:cubicBezTo>
                  <a:pt x="17172" y="8731"/>
                  <a:pt x="17157" y="8752"/>
                  <a:pt x="17161" y="8746"/>
                </a:cubicBezTo>
                <a:cubicBezTo>
                  <a:pt x="17287" y="8585"/>
                  <a:pt x="17404" y="8439"/>
                  <a:pt x="17490" y="8255"/>
                </a:cubicBezTo>
                <a:cubicBezTo>
                  <a:pt x="17493" y="8252"/>
                  <a:pt x="17494" y="8252"/>
                  <a:pt x="17494" y="8249"/>
                </a:cubicBezTo>
                <a:cubicBezTo>
                  <a:pt x="17482" y="8269"/>
                  <a:pt x="17467" y="8289"/>
                  <a:pt x="17455" y="8310"/>
                </a:cubicBezTo>
                <a:cubicBezTo>
                  <a:pt x="17390" y="8420"/>
                  <a:pt x="17331" y="8534"/>
                  <a:pt x="17261" y="8642"/>
                </a:cubicBezTo>
                <a:cubicBezTo>
                  <a:pt x="17230" y="8690"/>
                  <a:pt x="17193" y="8734"/>
                  <a:pt x="17163" y="8782"/>
                </a:cubicBezTo>
                <a:cubicBezTo>
                  <a:pt x="17113" y="8862"/>
                  <a:pt x="17082" y="8955"/>
                  <a:pt x="17075" y="9047"/>
                </a:cubicBezTo>
                <a:cubicBezTo>
                  <a:pt x="17075" y="9052"/>
                  <a:pt x="17080" y="9054"/>
                  <a:pt x="17080" y="9059"/>
                </a:cubicBezTo>
                <a:cubicBezTo>
                  <a:pt x="17087" y="9058"/>
                  <a:pt x="17094" y="9067"/>
                  <a:pt x="17105" y="9065"/>
                </a:cubicBezTo>
                <a:cubicBezTo>
                  <a:pt x="17124" y="9061"/>
                  <a:pt x="17143" y="9057"/>
                  <a:pt x="17163" y="9051"/>
                </a:cubicBezTo>
                <a:cubicBezTo>
                  <a:pt x="17171" y="9048"/>
                  <a:pt x="17181" y="9040"/>
                  <a:pt x="17186" y="9038"/>
                </a:cubicBezTo>
                <a:cubicBezTo>
                  <a:pt x="17187" y="9038"/>
                  <a:pt x="17195" y="9035"/>
                  <a:pt x="17198" y="9034"/>
                </a:cubicBezTo>
                <a:cubicBezTo>
                  <a:pt x="17242" y="9018"/>
                  <a:pt x="17279" y="9003"/>
                  <a:pt x="17326" y="8995"/>
                </a:cubicBezTo>
                <a:cubicBezTo>
                  <a:pt x="17417" y="8980"/>
                  <a:pt x="17490" y="8944"/>
                  <a:pt x="17578" y="8913"/>
                </a:cubicBezTo>
                <a:cubicBezTo>
                  <a:pt x="17660" y="8884"/>
                  <a:pt x="17745" y="8862"/>
                  <a:pt x="17829" y="8841"/>
                </a:cubicBezTo>
                <a:cubicBezTo>
                  <a:pt x="17853" y="8835"/>
                  <a:pt x="17879" y="8831"/>
                  <a:pt x="17903" y="8823"/>
                </a:cubicBezTo>
                <a:cubicBezTo>
                  <a:pt x="17916" y="8818"/>
                  <a:pt x="17939" y="8803"/>
                  <a:pt x="17944" y="8801"/>
                </a:cubicBezTo>
                <a:cubicBezTo>
                  <a:pt x="17932" y="8803"/>
                  <a:pt x="17917" y="8797"/>
                  <a:pt x="17903" y="8800"/>
                </a:cubicBezTo>
                <a:cubicBezTo>
                  <a:pt x="17768" y="8827"/>
                  <a:pt x="17594" y="8894"/>
                  <a:pt x="17482" y="8975"/>
                </a:cubicBezTo>
                <a:cubicBezTo>
                  <a:pt x="17475" y="8980"/>
                  <a:pt x="17464" y="8998"/>
                  <a:pt x="17462" y="8999"/>
                </a:cubicBezTo>
                <a:cubicBezTo>
                  <a:pt x="17537" y="8981"/>
                  <a:pt x="17612" y="8953"/>
                  <a:pt x="17688" y="8929"/>
                </a:cubicBezTo>
                <a:cubicBezTo>
                  <a:pt x="17910" y="8859"/>
                  <a:pt x="18141" y="8812"/>
                  <a:pt x="18365" y="8748"/>
                </a:cubicBezTo>
                <a:cubicBezTo>
                  <a:pt x="18431" y="8729"/>
                  <a:pt x="18494" y="8702"/>
                  <a:pt x="18560" y="8683"/>
                </a:cubicBezTo>
                <a:cubicBezTo>
                  <a:pt x="18688" y="8645"/>
                  <a:pt x="18824" y="8620"/>
                  <a:pt x="18955" y="8594"/>
                </a:cubicBezTo>
                <a:cubicBezTo>
                  <a:pt x="19075" y="8571"/>
                  <a:pt x="19194" y="8544"/>
                  <a:pt x="19313" y="8518"/>
                </a:cubicBezTo>
                <a:cubicBezTo>
                  <a:pt x="19333" y="8514"/>
                  <a:pt x="19352" y="8510"/>
                  <a:pt x="19372" y="8506"/>
                </a:cubicBezTo>
                <a:cubicBezTo>
                  <a:pt x="19385" y="8501"/>
                  <a:pt x="19431" y="8484"/>
                  <a:pt x="19431" y="8484"/>
                </a:cubicBezTo>
                <a:cubicBezTo>
                  <a:pt x="19407" y="8490"/>
                  <a:pt x="19381" y="8496"/>
                  <a:pt x="19358" y="8506"/>
                </a:cubicBezTo>
                <a:cubicBezTo>
                  <a:pt x="19318" y="8523"/>
                  <a:pt x="19279" y="8542"/>
                  <a:pt x="19238" y="8559"/>
                </a:cubicBezTo>
                <a:cubicBezTo>
                  <a:pt x="19155" y="8593"/>
                  <a:pt x="19073" y="8625"/>
                  <a:pt x="18996" y="8671"/>
                </a:cubicBezTo>
                <a:cubicBezTo>
                  <a:pt x="18984" y="8678"/>
                  <a:pt x="18971" y="8689"/>
                  <a:pt x="18960" y="8696"/>
                </a:cubicBezTo>
                <a:cubicBezTo>
                  <a:pt x="19051" y="8691"/>
                  <a:pt x="19117" y="8675"/>
                  <a:pt x="19202" y="8638"/>
                </a:cubicBezTo>
                <a:cubicBezTo>
                  <a:pt x="19325" y="8584"/>
                  <a:pt x="19449" y="8538"/>
                  <a:pt x="19577" y="8497"/>
                </a:cubicBezTo>
                <a:cubicBezTo>
                  <a:pt x="19666" y="8469"/>
                  <a:pt x="19754" y="8437"/>
                  <a:pt x="19844" y="8413"/>
                </a:cubicBezTo>
                <a:cubicBezTo>
                  <a:pt x="19884" y="8402"/>
                  <a:pt x="19924" y="8396"/>
                  <a:pt x="19965" y="8389"/>
                </a:cubicBezTo>
                <a:cubicBezTo>
                  <a:pt x="19960" y="8391"/>
                  <a:pt x="19950" y="8397"/>
                  <a:pt x="19944" y="8400"/>
                </a:cubicBezTo>
                <a:cubicBezTo>
                  <a:pt x="19911" y="8416"/>
                  <a:pt x="19881" y="8436"/>
                  <a:pt x="19849" y="8454"/>
                </a:cubicBezTo>
                <a:cubicBezTo>
                  <a:pt x="19763" y="8502"/>
                  <a:pt x="19674" y="8542"/>
                  <a:pt x="19582" y="8577"/>
                </a:cubicBezTo>
                <a:cubicBezTo>
                  <a:pt x="19591" y="8573"/>
                  <a:pt x="19546" y="8592"/>
                  <a:pt x="19555" y="8588"/>
                </a:cubicBezTo>
                <a:cubicBezTo>
                  <a:pt x="19575" y="8579"/>
                  <a:pt x="19594" y="8570"/>
                  <a:pt x="19614" y="8561"/>
                </a:cubicBezTo>
                <a:cubicBezTo>
                  <a:pt x="19657" y="8541"/>
                  <a:pt x="19700" y="8523"/>
                  <a:pt x="19743" y="8502"/>
                </a:cubicBezTo>
                <a:cubicBezTo>
                  <a:pt x="19852" y="8450"/>
                  <a:pt x="19964" y="8402"/>
                  <a:pt x="20073" y="8350"/>
                </a:cubicBezTo>
                <a:cubicBezTo>
                  <a:pt x="20067" y="8352"/>
                  <a:pt x="20084" y="8341"/>
                  <a:pt x="20078" y="8343"/>
                </a:cubicBezTo>
                <a:cubicBezTo>
                  <a:pt x="20060" y="8350"/>
                  <a:pt x="20039" y="8355"/>
                  <a:pt x="20021" y="8364"/>
                </a:cubicBezTo>
                <a:cubicBezTo>
                  <a:pt x="19992" y="8379"/>
                  <a:pt x="19969" y="8400"/>
                  <a:pt x="19939" y="8411"/>
                </a:cubicBezTo>
                <a:cubicBezTo>
                  <a:pt x="19901" y="8424"/>
                  <a:pt x="19859" y="8428"/>
                  <a:pt x="19820" y="8438"/>
                </a:cubicBezTo>
                <a:cubicBezTo>
                  <a:pt x="19654" y="8481"/>
                  <a:pt x="19499" y="8557"/>
                  <a:pt x="19335" y="8606"/>
                </a:cubicBezTo>
                <a:cubicBezTo>
                  <a:pt x="18997" y="8708"/>
                  <a:pt x="18652" y="8784"/>
                  <a:pt x="18311" y="8875"/>
                </a:cubicBezTo>
                <a:cubicBezTo>
                  <a:pt x="18133" y="8922"/>
                  <a:pt x="17949" y="8960"/>
                  <a:pt x="17775" y="9020"/>
                </a:cubicBezTo>
                <a:cubicBezTo>
                  <a:pt x="17775" y="9021"/>
                  <a:pt x="17774" y="9023"/>
                  <a:pt x="17774" y="9024"/>
                </a:cubicBezTo>
                <a:cubicBezTo>
                  <a:pt x="17810" y="9018"/>
                  <a:pt x="17842" y="9017"/>
                  <a:pt x="17878" y="9006"/>
                </a:cubicBezTo>
                <a:cubicBezTo>
                  <a:pt x="18030" y="8961"/>
                  <a:pt x="18177" y="8901"/>
                  <a:pt x="18326" y="8846"/>
                </a:cubicBezTo>
                <a:cubicBezTo>
                  <a:pt x="18568" y="8757"/>
                  <a:pt x="18805" y="8666"/>
                  <a:pt x="19053" y="8594"/>
                </a:cubicBezTo>
                <a:cubicBezTo>
                  <a:pt x="19150" y="8566"/>
                  <a:pt x="19250" y="8542"/>
                  <a:pt x="19347" y="8513"/>
                </a:cubicBezTo>
                <a:cubicBezTo>
                  <a:pt x="19349" y="8512"/>
                  <a:pt x="19352" y="8510"/>
                  <a:pt x="19354" y="8509"/>
                </a:cubicBezTo>
                <a:cubicBezTo>
                  <a:pt x="19331" y="8516"/>
                  <a:pt x="19307" y="8523"/>
                  <a:pt x="19284" y="8531"/>
                </a:cubicBezTo>
                <a:cubicBezTo>
                  <a:pt x="19224" y="8552"/>
                  <a:pt x="19164" y="8568"/>
                  <a:pt x="19103" y="8585"/>
                </a:cubicBezTo>
                <a:cubicBezTo>
                  <a:pt x="19001" y="8613"/>
                  <a:pt x="18898" y="8637"/>
                  <a:pt x="18795" y="8660"/>
                </a:cubicBezTo>
                <a:cubicBezTo>
                  <a:pt x="18475" y="8731"/>
                  <a:pt x="18155" y="8806"/>
                  <a:pt x="17838" y="8889"/>
                </a:cubicBezTo>
                <a:cubicBezTo>
                  <a:pt x="17749" y="8912"/>
                  <a:pt x="17659" y="8939"/>
                  <a:pt x="17577" y="8972"/>
                </a:cubicBezTo>
                <a:cubicBezTo>
                  <a:pt x="17605" y="8971"/>
                  <a:pt x="17629" y="8979"/>
                  <a:pt x="17659" y="8975"/>
                </a:cubicBezTo>
                <a:cubicBezTo>
                  <a:pt x="17803" y="8957"/>
                  <a:pt x="17951" y="8914"/>
                  <a:pt x="18091" y="8877"/>
                </a:cubicBezTo>
                <a:cubicBezTo>
                  <a:pt x="18307" y="8820"/>
                  <a:pt x="18545" y="8774"/>
                  <a:pt x="18752" y="8689"/>
                </a:cubicBezTo>
                <a:cubicBezTo>
                  <a:pt x="18767" y="8683"/>
                  <a:pt x="18783" y="8678"/>
                  <a:pt x="18797" y="8671"/>
                </a:cubicBezTo>
                <a:cubicBezTo>
                  <a:pt x="18784" y="8671"/>
                  <a:pt x="18779" y="8671"/>
                  <a:pt x="18770" y="8674"/>
                </a:cubicBezTo>
                <a:cubicBezTo>
                  <a:pt x="18638" y="8704"/>
                  <a:pt x="18509" y="8750"/>
                  <a:pt x="18378" y="8785"/>
                </a:cubicBezTo>
                <a:cubicBezTo>
                  <a:pt x="18130" y="8852"/>
                  <a:pt x="17884" y="8923"/>
                  <a:pt x="17639" y="9002"/>
                </a:cubicBezTo>
                <a:cubicBezTo>
                  <a:pt x="17606" y="9013"/>
                  <a:pt x="17521" y="9056"/>
                  <a:pt x="17548" y="9034"/>
                </a:cubicBezTo>
                <a:cubicBezTo>
                  <a:pt x="17572" y="9014"/>
                  <a:pt x="17627" y="9000"/>
                  <a:pt x="17657" y="8982"/>
                </a:cubicBezTo>
                <a:cubicBezTo>
                  <a:pt x="17672" y="8973"/>
                  <a:pt x="17678" y="8966"/>
                  <a:pt x="17693" y="8957"/>
                </a:cubicBezTo>
                <a:cubicBezTo>
                  <a:pt x="17688" y="8960"/>
                  <a:pt x="17685" y="8961"/>
                  <a:pt x="17682" y="8964"/>
                </a:cubicBezTo>
                <a:cubicBezTo>
                  <a:pt x="17585" y="9024"/>
                  <a:pt x="17484" y="9071"/>
                  <a:pt x="17379" y="9115"/>
                </a:cubicBezTo>
                <a:cubicBezTo>
                  <a:pt x="17379" y="9115"/>
                  <a:pt x="17378" y="9115"/>
                  <a:pt x="17378" y="9115"/>
                </a:cubicBezTo>
                <a:cubicBezTo>
                  <a:pt x="17396" y="9103"/>
                  <a:pt x="17422" y="9085"/>
                  <a:pt x="17446" y="9072"/>
                </a:cubicBezTo>
                <a:cubicBezTo>
                  <a:pt x="17456" y="9067"/>
                  <a:pt x="17533" y="9024"/>
                  <a:pt x="17525" y="9022"/>
                </a:cubicBezTo>
                <a:cubicBezTo>
                  <a:pt x="17483" y="9013"/>
                  <a:pt x="17426" y="9046"/>
                  <a:pt x="17390" y="9063"/>
                </a:cubicBezTo>
                <a:cubicBezTo>
                  <a:pt x="17382" y="9067"/>
                  <a:pt x="17281" y="9118"/>
                  <a:pt x="17284" y="9126"/>
                </a:cubicBezTo>
                <a:cubicBezTo>
                  <a:pt x="17285" y="9128"/>
                  <a:pt x="17268" y="9131"/>
                  <a:pt x="17284" y="9135"/>
                </a:cubicBezTo>
                <a:cubicBezTo>
                  <a:pt x="17297" y="9138"/>
                  <a:pt x="17325" y="9125"/>
                  <a:pt x="17338" y="9122"/>
                </a:cubicBezTo>
                <a:cubicBezTo>
                  <a:pt x="17397" y="9107"/>
                  <a:pt x="17453" y="9070"/>
                  <a:pt x="17507" y="9043"/>
                </a:cubicBezTo>
                <a:cubicBezTo>
                  <a:pt x="17474" y="9051"/>
                  <a:pt x="17439" y="9057"/>
                  <a:pt x="17406" y="9068"/>
                </a:cubicBezTo>
                <a:cubicBezTo>
                  <a:pt x="17330" y="9094"/>
                  <a:pt x="17247" y="9119"/>
                  <a:pt x="17175" y="9156"/>
                </a:cubicBezTo>
                <a:cubicBezTo>
                  <a:pt x="17166" y="9160"/>
                  <a:pt x="17157" y="9173"/>
                  <a:pt x="17150" y="9176"/>
                </a:cubicBezTo>
                <a:cubicBezTo>
                  <a:pt x="17166" y="9173"/>
                  <a:pt x="17184" y="9176"/>
                  <a:pt x="17202" y="9171"/>
                </a:cubicBezTo>
                <a:cubicBezTo>
                  <a:pt x="17220" y="9166"/>
                  <a:pt x="17383" y="9089"/>
                  <a:pt x="17378" y="9086"/>
                </a:cubicBezTo>
                <a:cubicBezTo>
                  <a:pt x="17362" y="9075"/>
                  <a:pt x="17337" y="9084"/>
                  <a:pt x="17320" y="9085"/>
                </a:cubicBezTo>
                <a:cubicBezTo>
                  <a:pt x="17279" y="9088"/>
                  <a:pt x="17240" y="9110"/>
                  <a:pt x="17202" y="9122"/>
                </a:cubicBezTo>
                <a:cubicBezTo>
                  <a:pt x="17193" y="9138"/>
                  <a:pt x="17141" y="9144"/>
                  <a:pt x="17159" y="9142"/>
                </a:cubicBezTo>
                <a:cubicBezTo>
                  <a:pt x="17199" y="9138"/>
                  <a:pt x="17258" y="9078"/>
                  <a:pt x="17272" y="9115"/>
                </a:cubicBezTo>
                <a:cubicBezTo>
                  <a:pt x="17275" y="9122"/>
                  <a:pt x="17289" y="9107"/>
                  <a:pt x="17263" y="9122"/>
                </a:cubicBezTo>
                <a:cubicBezTo>
                  <a:pt x="17248" y="9131"/>
                  <a:pt x="17231" y="9134"/>
                  <a:pt x="17214" y="9142"/>
                </a:cubicBezTo>
                <a:cubicBezTo>
                  <a:pt x="17193" y="9152"/>
                  <a:pt x="17171" y="9166"/>
                  <a:pt x="17154" y="9174"/>
                </a:cubicBezTo>
                <a:cubicBezTo>
                  <a:pt x="17163" y="9174"/>
                  <a:pt x="17176" y="9182"/>
                  <a:pt x="17189" y="9181"/>
                </a:cubicBezTo>
                <a:cubicBezTo>
                  <a:pt x="17259" y="9175"/>
                  <a:pt x="17327" y="9156"/>
                  <a:pt x="17395" y="9138"/>
                </a:cubicBezTo>
                <a:cubicBezTo>
                  <a:pt x="17464" y="9120"/>
                  <a:pt x="17531" y="9099"/>
                  <a:pt x="17600" y="9081"/>
                </a:cubicBezTo>
                <a:cubicBezTo>
                  <a:pt x="17923" y="8998"/>
                  <a:pt x="18242" y="8913"/>
                  <a:pt x="18562" y="8818"/>
                </a:cubicBezTo>
                <a:cubicBezTo>
                  <a:pt x="18863" y="8729"/>
                  <a:pt x="19185" y="8658"/>
                  <a:pt x="19469" y="8522"/>
                </a:cubicBezTo>
                <a:cubicBezTo>
                  <a:pt x="19517" y="8499"/>
                  <a:pt x="19564" y="8481"/>
                  <a:pt x="19611" y="8465"/>
                </a:cubicBezTo>
                <a:cubicBezTo>
                  <a:pt x="19596" y="8472"/>
                  <a:pt x="19580" y="8480"/>
                  <a:pt x="19564" y="8488"/>
                </a:cubicBezTo>
                <a:cubicBezTo>
                  <a:pt x="19486" y="8526"/>
                  <a:pt x="19408" y="8557"/>
                  <a:pt x="19326" y="8586"/>
                </a:cubicBezTo>
                <a:cubicBezTo>
                  <a:pt x="19047" y="8686"/>
                  <a:pt x="18759" y="8767"/>
                  <a:pt x="18478" y="8861"/>
                </a:cubicBezTo>
                <a:cubicBezTo>
                  <a:pt x="18308" y="8918"/>
                  <a:pt x="18138" y="8980"/>
                  <a:pt x="17969" y="9042"/>
                </a:cubicBezTo>
                <a:cubicBezTo>
                  <a:pt x="17942" y="9052"/>
                  <a:pt x="17916" y="9062"/>
                  <a:pt x="17890" y="9072"/>
                </a:cubicBezTo>
                <a:cubicBezTo>
                  <a:pt x="17917" y="9067"/>
                  <a:pt x="17957" y="9066"/>
                  <a:pt x="17987" y="9058"/>
                </a:cubicBezTo>
                <a:cubicBezTo>
                  <a:pt x="18196" y="9003"/>
                  <a:pt x="18399" y="8920"/>
                  <a:pt x="18607" y="8859"/>
                </a:cubicBezTo>
                <a:cubicBezTo>
                  <a:pt x="18987" y="8748"/>
                  <a:pt x="19354" y="8596"/>
                  <a:pt x="19734" y="8484"/>
                </a:cubicBezTo>
                <a:cubicBezTo>
                  <a:pt x="19820" y="8459"/>
                  <a:pt x="19904" y="8436"/>
                  <a:pt x="19991" y="8416"/>
                </a:cubicBezTo>
                <a:cubicBezTo>
                  <a:pt x="19981" y="8418"/>
                  <a:pt x="20029" y="8402"/>
                  <a:pt x="20019" y="8405"/>
                </a:cubicBezTo>
                <a:cubicBezTo>
                  <a:pt x="19965" y="8420"/>
                  <a:pt x="19912" y="8442"/>
                  <a:pt x="19858" y="8461"/>
                </a:cubicBezTo>
                <a:cubicBezTo>
                  <a:pt x="19776" y="8490"/>
                  <a:pt x="19702" y="8527"/>
                  <a:pt x="19625" y="8567"/>
                </a:cubicBezTo>
                <a:cubicBezTo>
                  <a:pt x="19552" y="8605"/>
                  <a:pt x="19473" y="8633"/>
                  <a:pt x="19406" y="8681"/>
                </a:cubicBezTo>
                <a:cubicBezTo>
                  <a:pt x="19410" y="8685"/>
                  <a:pt x="19412" y="8685"/>
                  <a:pt x="19417" y="8681"/>
                </a:cubicBezTo>
                <a:cubicBezTo>
                  <a:pt x="19513" y="8643"/>
                  <a:pt x="19602" y="8595"/>
                  <a:pt x="19698" y="8559"/>
                </a:cubicBezTo>
                <a:cubicBezTo>
                  <a:pt x="19756" y="8537"/>
                  <a:pt x="19813" y="8518"/>
                  <a:pt x="19869" y="8493"/>
                </a:cubicBezTo>
                <a:cubicBezTo>
                  <a:pt x="19859" y="8494"/>
                  <a:pt x="19840" y="8490"/>
                  <a:pt x="19826" y="8493"/>
                </a:cubicBezTo>
                <a:cubicBezTo>
                  <a:pt x="19774" y="8504"/>
                  <a:pt x="19721" y="8516"/>
                  <a:pt x="19670" y="8533"/>
                </a:cubicBezTo>
                <a:cubicBezTo>
                  <a:pt x="19432" y="8611"/>
                  <a:pt x="19213" y="8708"/>
                  <a:pt x="18967" y="8766"/>
                </a:cubicBezTo>
                <a:cubicBezTo>
                  <a:pt x="18747" y="8818"/>
                  <a:pt x="18530" y="8875"/>
                  <a:pt x="18313" y="8934"/>
                </a:cubicBezTo>
                <a:cubicBezTo>
                  <a:pt x="18304" y="8936"/>
                  <a:pt x="18295" y="8939"/>
                  <a:pt x="18286" y="8941"/>
                </a:cubicBezTo>
                <a:cubicBezTo>
                  <a:pt x="18270" y="8951"/>
                  <a:pt x="18218" y="8965"/>
                  <a:pt x="18236" y="8963"/>
                </a:cubicBezTo>
                <a:cubicBezTo>
                  <a:pt x="18242" y="8962"/>
                  <a:pt x="18235" y="8963"/>
                  <a:pt x="18241" y="8963"/>
                </a:cubicBezTo>
                <a:cubicBezTo>
                  <a:pt x="18287" y="8959"/>
                  <a:pt x="18404" y="8921"/>
                  <a:pt x="18361" y="8904"/>
                </a:cubicBezTo>
                <a:cubicBezTo>
                  <a:pt x="18353" y="8901"/>
                  <a:pt x="18344" y="8904"/>
                  <a:pt x="18333" y="8905"/>
                </a:cubicBezTo>
                <a:cubicBezTo>
                  <a:pt x="18277" y="8912"/>
                  <a:pt x="18216" y="8954"/>
                  <a:pt x="18163" y="8972"/>
                </a:cubicBezTo>
                <a:cubicBezTo>
                  <a:pt x="17944" y="9046"/>
                  <a:pt x="17664" y="9169"/>
                  <a:pt x="17433" y="9185"/>
                </a:cubicBezTo>
                <a:cubicBezTo>
                  <a:pt x="17415" y="9186"/>
                  <a:pt x="17398" y="9188"/>
                  <a:pt x="17395" y="9187"/>
                </a:cubicBezTo>
                <a:cubicBezTo>
                  <a:pt x="17380" y="9182"/>
                  <a:pt x="17448" y="9158"/>
                  <a:pt x="17433" y="9163"/>
                </a:cubicBezTo>
                <a:cubicBezTo>
                  <a:pt x="17427" y="9165"/>
                  <a:pt x="17428" y="9169"/>
                  <a:pt x="17422" y="9172"/>
                </a:cubicBezTo>
                <a:cubicBezTo>
                  <a:pt x="17390" y="9188"/>
                  <a:pt x="17361" y="9208"/>
                  <a:pt x="17327" y="9221"/>
                </a:cubicBezTo>
                <a:cubicBezTo>
                  <a:pt x="17255" y="9249"/>
                  <a:pt x="17158" y="9285"/>
                  <a:pt x="17078" y="9269"/>
                </a:cubicBezTo>
                <a:cubicBezTo>
                  <a:pt x="17059" y="9265"/>
                  <a:pt x="17046" y="9248"/>
                  <a:pt x="17028" y="9246"/>
                </a:cubicBezTo>
                <a:cubicBezTo>
                  <a:pt x="17010" y="9243"/>
                  <a:pt x="16988" y="9247"/>
                  <a:pt x="16969" y="9244"/>
                </a:cubicBezTo>
                <a:cubicBezTo>
                  <a:pt x="16974" y="9239"/>
                  <a:pt x="16982" y="9230"/>
                  <a:pt x="16987" y="9224"/>
                </a:cubicBezTo>
                <a:cubicBezTo>
                  <a:pt x="17002" y="9207"/>
                  <a:pt x="17016" y="9187"/>
                  <a:pt x="17032" y="9171"/>
                </a:cubicBezTo>
                <a:cubicBezTo>
                  <a:pt x="17079" y="9126"/>
                  <a:pt x="17121" y="9087"/>
                  <a:pt x="17159" y="9034"/>
                </a:cubicBezTo>
                <a:cubicBezTo>
                  <a:pt x="17172" y="9016"/>
                  <a:pt x="17183" y="8997"/>
                  <a:pt x="17195" y="8979"/>
                </a:cubicBezTo>
                <a:cubicBezTo>
                  <a:pt x="17216" y="8946"/>
                  <a:pt x="17235" y="8913"/>
                  <a:pt x="17256" y="8880"/>
                </a:cubicBezTo>
                <a:cubicBezTo>
                  <a:pt x="17263" y="8868"/>
                  <a:pt x="17272" y="8859"/>
                  <a:pt x="17279" y="8848"/>
                </a:cubicBezTo>
                <a:cubicBezTo>
                  <a:pt x="17311" y="8794"/>
                  <a:pt x="17343" y="8745"/>
                  <a:pt x="17381" y="8694"/>
                </a:cubicBezTo>
                <a:cubicBezTo>
                  <a:pt x="17413" y="8652"/>
                  <a:pt x="17443" y="8606"/>
                  <a:pt x="17476" y="8565"/>
                </a:cubicBezTo>
                <a:cubicBezTo>
                  <a:pt x="17489" y="8550"/>
                  <a:pt x="17501" y="8535"/>
                  <a:pt x="17514" y="8520"/>
                </a:cubicBezTo>
                <a:cubicBezTo>
                  <a:pt x="17559" y="8464"/>
                  <a:pt x="17607" y="8407"/>
                  <a:pt x="17648" y="8348"/>
                </a:cubicBezTo>
                <a:cubicBezTo>
                  <a:pt x="17664" y="8325"/>
                  <a:pt x="17675" y="8304"/>
                  <a:pt x="17689" y="8282"/>
                </a:cubicBezTo>
                <a:cubicBezTo>
                  <a:pt x="17693" y="8276"/>
                  <a:pt x="17695" y="8275"/>
                  <a:pt x="17698" y="8269"/>
                </a:cubicBezTo>
                <a:cubicBezTo>
                  <a:pt x="17694" y="8273"/>
                  <a:pt x="17693" y="8271"/>
                  <a:pt x="17689" y="8275"/>
                </a:cubicBezTo>
                <a:cubicBezTo>
                  <a:pt x="17642" y="8322"/>
                  <a:pt x="17597" y="8373"/>
                  <a:pt x="17559" y="8429"/>
                </a:cubicBezTo>
                <a:cubicBezTo>
                  <a:pt x="17516" y="8493"/>
                  <a:pt x="17477" y="8561"/>
                  <a:pt x="17435" y="8626"/>
                </a:cubicBezTo>
                <a:cubicBezTo>
                  <a:pt x="17410" y="8665"/>
                  <a:pt x="17393" y="8705"/>
                  <a:pt x="17372" y="8746"/>
                </a:cubicBezTo>
                <a:cubicBezTo>
                  <a:pt x="17337" y="8814"/>
                  <a:pt x="17291" y="8867"/>
                  <a:pt x="17249" y="8929"/>
                </a:cubicBezTo>
                <a:cubicBezTo>
                  <a:pt x="17230" y="8957"/>
                  <a:pt x="17224" y="8986"/>
                  <a:pt x="17198" y="9011"/>
                </a:cubicBezTo>
                <a:cubicBezTo>
                  <a:pt x="17170" y="9038"/>
                  <a:pt x="17135" y="9055"/>
                  <a:pt x="17105" y="9081"/>
                </a:cubicBezTo>
                <a:cubicBezTo>
                  <a:pt x="17074" y="9108"/>
                  <a:pt x="17043" y="9136"/>
                  <a:pt x="17014" y="9165"/>
                </a:cubicBezTo>
                <a:cubicBezTo>
                  <a:pt x="17004" y="9175"/>
                  <a:pt x="16996" y="9191"/>
                  <a:pt x="16985" y="9199"/>
                </a:cubicBezTo>
                <a:cubicBezTo>
                  <a:pt x="16980" y="9203"/>
                  <a:pt x="16980" y="9202"/>
                  <a:pt x="16976" y="9205"/>
                </a:cubicBezTo>
                <a:cubicBezTo>
                  <a:pt x="16968" y="9210"/>
                  <a:pt x="16998" y="9178"/>
                  <a:pt x="16990" y="9183"/>
                </a:cubicBezTo>
                <a:cubicBezTo>
                  <a:pt x="17031" y="9107"/>
                  <a:pt x="17090" y="9049"/>
                  <a:pt x="17134" y="8975"/>
                </a:cubicBezTo>
                <a:cubicBezTo>
                  <a:pt x="17136" y="8971"/>
                  <a:pt x="17167" y="8949"/>
                  <a:pt x="17166" y="8947"/>
                </a:cubicBezTo>
                <a:cubicBezTo>
                  <a:pt x="17160" y="8940"/>
                  <a:pt x="17139" y="8941"/>
                  <a:pt x="17132" y="8947"/>
                </a:cubicBezTo>
                <a:cubicBezTo>
                  <a:pt x="17114" y="8961"/>
                  <a:pt x="17112" y="8985"/>
                  <a:pt x="17093" y="9000"/>
                </a:cubicBezTo>
                <a:cubicBezTo>
                  <a:pt x="17076" y="9013"/>
                  <a:pt x="17059" y="9029"/>
                  <a:pt x="17037" y="9033"/>
                </a:cubicBezTo>
                <a:cubicBezTo>
                  <a:pt x="17027" y="9035"/>
                  <a:pt x="17060" y="9019"/>
                  <a:pt x="17050" y="9016"/>
                </a:cubicBezTo>
                <a:cubicBezTo>
                  <a:pt x="17056" y="9012"/>
                  <a:pt x="17058" y="9011"/>
                  <a:pt x="17060" y="9006"/>
                </a:cubicBezTo>
                <a:cubicBezTo>
                  <a:pt x="17068" y="8997"/>
                  <a:pt x="17168" y="8885"/>
                  <a:pt x="17168" y="8914"/>
                </a:cubicBezTo>
                <a:cubicBezTo>
                  <a:pt x="17168" y="8924"/>
                  <a:pt x="17133" y="8955"/>
                  <a:pt x="17125" y="8963"/>
                </a:cubicBezTo>
                <a:cubicBezTo>
                  <a:pt x="17109" y="8980"/>
                  <a:pt x="17089" y="8999"/>
                  <a:pt x="17069" y="9013"/>
                </a:cubicBezTo>
                <a:cubicBezTo>
                  <a:pt x="17052" y="9025"/>
                  <a:pt x="16995" y="9038"/>
                  <a:pt x="16994" y="9065"/>
                </a:cubicBezTo>
                <a:cubicBezTo>
                  <a:pt x="16994" y="9073"/>
                  <a:pt x="17008" y="9061"/>
                  <a:pt x="17008" y="9068"/>
                </a:cubicBezTo>
                <a:cubicBezTo>
                  <a:pt x="17008" y="9076"/>
                  <a:pt x="17028" y="9095"/>
                  <a:pt x="17032" y="910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0" name="" descr="">
            <a:hlinkClick r:id="rId2"/>
          </p:cNvPr>
          <p:cNvPicPr/>
          <p:nvPr/>
        </p:nvPicPr>
        <p:blipFill>
          <a:blip r:embed="rId3"/>
          <a:stretch/>
        </p:blipFill>
        <p:spPr>
          <a:xfrm>
            <a:off x="7924680" y="304920"/>
            <a:ext cx="962280" cy="1285920"/>
          </a:xfrm>
          <a:prstGeom prst="rect">
            <a:avLst/>
          </a:prstGeom>
          <a:ln w="57240">
            <a:solidFill>
              <a:srgbClr val="d8e74b"/>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ighted Stylet Intubation </a:t>
            </a:r>
            <a:endParaRPr b="1" lang="en-US" sz="2800" spc="-1" strike="noStrike">
              <a:solidFill>
                <a:srgbClr val="e5e5ff"/>
              </a:solidFill>
              <a:latin typeface="Garamond"/>
            </a:endParaRPr>
          </a:p>
        </p:txBody>
      </p:sp>
      <p:sp>
        <p:nvSpPr>
          <p:cNvPr id="342"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blind approach</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voide in patients with expanding neck masses and patients with airway compromise presumed due to a foreign body.</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ive obesity is the most common cause for failure with this technique because of the difficulty transilluminating the generous soft tissue </a:t>
            </a:r>
            <a:endParaRPr b="0" lang="en-US" sz="2400" spc="-1" strike="noStrike">
              <a:solidFill>
                <a:srgbClr val="ffffff"/>
              </a:solidFill>
              <a:latin typeface="Garamond"/>
            </a:endParaRPr>
          </a:p>
        </p:txBody>
      </p:sp>
      <p:pic>
        <p:nvPicPr>
          <p:cNvPr id="343" name="" descr=""/>
          <p:cNvPicPr/>
          <p:nvPr/>
        </p:nvPicPr>
        <p:blipFill>
          <a:blip r:embed="rId1"/>
          <a:stretch/>
        </p:blipFill>
        <p:spPr>
          <a:xfrm>
            <a:off x="152280" y="1676520"/>
            <a:ext cx="3353040" cy="3381120"/>
          </a:xfrm>
          <a:prstGeom prst="rect">
            <a:avLst/>
          </a:prstGeom>
          <a:ln w="0">
            <a:noFill/>
          </a:ln>
        </p:spPr>
      </p:pic>
      <p:sp>
        <p:nvSpPr>
          <p:cNvPr id="344" name=""/>
          <p:cNvSpPr/>
          <p:nvPr/>
        </p:nvSpPr>
        <p:spPr>
          <a:xfrm>
            <a:off x="1906560" y="4029120"/>
            <a:ext cx="741240" cy="523800"/>
          </a:xfrm>
          <a:custGeom>
            <a:avLst/>
            <a:gdLst/>
            <a:ahLst/>
            <a:rect l="l" t="t" r="r" b="b"/>
            <a:pathLst>
              <a:path w="2060" h="1456">
                <a:moveTo>
                  <a:pt x="5295" y="11219"/>
                </a:moveTo>
                <a:cubicBezTo>
                  <a:pt x="5306" y="11216"/>
                  <a:pt x="5299" y="11188"/>
                  <a:pt x="5309" y="11192"/>
                </a:cubicBezTo>
                <a:cubicBezTo>
                  <a:pt x="5324" y="11198"/>
                  <a:pt x="5328" y="11185"/>
                  <a:pt x="5336" y="11201"/>
                </a:cubicBezTo>
                <a:cubicBezTo>
                  <a:pt x="5355" y="11239"/>
                  <a:pt x="5359" y="11336"/>
                  <a:pt x="5368" y="11380"/>
                </a:cubicBezTo>
                <a:cubicBezTo>
                  <a:pt x="5371" y="11396"/>
                  <a:pt x="5370" y="11413"/>
                  <a:pt x="5375" y="11430"/>
                </a:cubicBezTo>
                <a:cubicBezTo>
                  <a:pt x="5380" y="11448"/>
                  <a:pt x="5384" y="11464"/>
                  <a:pt x="5393" y="11481"/>
                </a:cubicBezTo>
                <a:cubicBezTo>
                  <a:pt x="5403" y="11499"/>
                  <a:pt x="5418" y="11515"/>
                  <a:pt x="5429" y="11531"/>
                </a:cubicBezTo>
                <a:cubicBezTo>
                  <a:pt x="5442" y="11550"/>
                  <a:pt x="5455" y="11570"/>
                  <a:pt x="5469" y="11590"/>
                </a:cubicBezTo>
                <a:cubicBezTo>
                  <a:pt x="5500" y="11634"/>
                  <a:pt x="5536" y="11673"/>
                  <a:pt x="5571" y="11713"/>
                </a:cubicBezTo>
                <a:cubicBezTo>
                  <a:pt x="5589" y="11734"/>
                  <a:pt x="5606" y="11751"/>
                  <a:pt x="5625" y="11771"/>
                </a:cubicBezTo>
                <a:cubicBezTo>
                  <a:pt x="5656" y="11803"/>
                  <a:pt x="5699" y="11831"/>
                  <a:pt x="5727" y="11864"/>
                </a:cubicBezTo>
                <a:cubicBezTo>
                  <a:pt x="5746" y="11886"/>
                  <a:pt x="5755" y="11907"/>
                  <a:pt x="5770" y="11932"/>
                </a:cubicBezTo>
                <a:cubicBezTo>
                  <a:pt x="5776" y="11943"/>
                  <a:pt x="5782" y="11953"/>
                  <a:pt x="5788" y="11963"/>
                </a:cubicBezTo>
                <a:cubicBezTo>
                  <a:pt x="5813" y="12002"/>
                  <a:pt x="5835" y="12040"/>
                  <a:pt x="5863" y="12077"/>
                </a:cubicBezTo>
                <a:cubicBezTo>
                  <a:pt x="5882" y="12102"/>
                  <a:pt x="5900" y="12121"/>
                  <a:pt x="5922" y="12144"/>
                </a:cubicBezTo>
                <a:cubicBezTo>
                  <a:pt x="5936" y="12158"/>
                  <a:pt x="5950" y="12172"/>
                  <a:pt x="5963" y="12185"/>
                </a:cubicBezTo>
                <a:cubicBezTo>
                  <a:pt x="5974" y="12196"/>
                  <a:pt x="5987" y="12206"/>
                  <a:pt x="5997" y="12217"/>
                </a:cubicBezTo>
                <a:cubicBezTo>
                  <a:pt x="6008" y="12229"/>
                  <a:pt x="6013" y="12243"/>
                  <a:pt x="6024" y="12255"/>
                </a:cubicBezTo>
                <a:cubicBezTo>
                  <a:pt x="6031" y="12263"/>
                  <a:pt x="6040" y="12265"/>
                  <a:pt x="6047" y="12273"/>
                </a:cubicBezTo>
                <a:cubicBezTo>
                  <a:pt x="6058" y="12285"/>
                  <a:pt x="6072" y="12296"/>
                  <a:pt x="6083" y="12308"/>
                </a:cubicBezTo>
                <a:cubicBezTo>
                  <a:pt x="6091" y="12317"/>
                  <a:pt x="6097" y="12333"/>
                  <a:pt x="6107" y="12344"/>
                </a:cubicBezTo>
                <a:cubicBezTo>
                  <a:pt x="6160" y="12401"/>
                  <a:pt x="6225" y="12453"/>
                  <a:pt x="6293" y="12493"/>
                </a:cubicBezTo>
                <a:cubicBezTo>
                  <a:pt x="6320" y="12509"/>
                  <a:pt x="6354" y="12533"/>
                  <a:pt x="6383" y="12543"/>
                </a:cubicBezTo>
                <a:cubicBezTo>
                  <a:pt x="6414" y="12554"/>
                  <a:pt x="6458" y="12563"/>
                  <a:pt x="6490" y="12566"/>
                </a:cubicBezTo>
                <a:cubicBezTo>
                  <a:pt x="6542" y="12571"/>
                  <a:pt x="6591" y="12583"/>
                  <a:pt x="6641" y="12588"/>
                </a:cubicBezTo>
                <a:cubicBezTo>
                  <a:pt x="6690" y="12593"/>
                  <a:pt x="6742" y="12588"/>
                  <a:pt x="6791" y="12588"/>
                </a:cubicBezTo>
                <a:cubicBezTo>
                  <a:pt x="6792" y="12589"/>
                  <a:pt x="6792" y="12594"/>
                  <a:pt x="6793" y="12595"/>
                </a:cubicBezTo>
                <a:cubicBezTo>
                  <a:pt x="6802" y="12602"/>
                  <a:pt x="6816" y="12615"/>
                  <a:pt x="6827" y="12622"/>
                </a:cubicBezTo>
                <a:cubicBezTo>
                  <a:pt x="6832" y="12625"/>
                  <a:pt x="6837" y="12629"/>
                  <a:pt x="6843" y="12631"/>
                </a:cubicBezTo>
                <a:cubicBezTo>
                  <a:pt x="6861" y="12639"/>
                  <a:pt x="6868" y="12642"/>
                  <a:pt x="6886" y="12645"/>
                </a:cubicBezTo>
                <a:cubicBezTo>
                  <a:pt x="6921" y="12651"/>
                  <a:pt x="6963" y="12646"/>
                  <a:pt x="6997" y="12642"/>
                </a:cubicBezTo>
                <a:cubicBezTo>
                  <a:pt x="7010" y="12640"/>
                  <a:pt x="7032" y="12637"/>
                  <a:pt x="7044" y="12633"/>
                </a:cubicBezTo>
                <a:cubicBezTo>
                  <a:pt x="7055" y="12629"/>
                  <a:pt x="7066" y="12625"/>
                  <a:pt x="7076" y="12622"/>
                </a:cubicBezTo>
                <a:cubicBezTo>
                  <a:pt x="7090" y="12617"/>
                  <a:pt x="7102" y="12611"/>
                  <a:pt x="7117" y="12606"/>
                </a:cubicBezTo>
                <a:cubicBezTo>
                  <a:pt x="7129" y="12602"/>
                  <a:pt x="7145" y="12598"/>
                  <a:pt x="7155" y="12595"/>
                </a:cubicBezTo>
                <a:cubicBezTo>
                  <a:pt x="7154" y="12595"/>
                  <a:pt x="7154" y="12595"/>
                  <a:pt x="7153" y="12595"/>
                </a:cubicBezTo>
                <a:cubicBezTo>
                  <a:pt x="7173" y="12592"/>
                  <a:pt x="7191" y="12589"/>
                  <a:pt x="7212" y="12586"/>
                </a:cubicBezTo>
                <a:cubicBezTo>
                  <a:pt x="7226" y="12584"/>
                  <a:pt x="7244" y="12584"/>
                  <a:pt x="7257" y="12579"/>
                </a:cubicBezTo>
                <a:cubicBezTo>
                  <a:pt x="7272" y="12574"/>
                  <a:pt x="7273" y="12564"/>
                  <a:pt x="7289" y="12561"/>
                </a:cubicBezTo>
                <a:cubicBezTo>
                  <a:pt x="7307" y="12558"/>
                  <a:pt x="7333" y="12561"/>
                  <a:pt x="7354" y="12559"/>
                </a:cubicBezTo>
              </a:path>
            </a:pathLst>
          </a:custGeom>
          <a:noFill/>
          <a:ln cap="rnd" w="572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79280" y="2146320"/>
            <a:ext cx="3289320" cy="2832120"/>
          </a:xfrm>
          <a:custGeom>
            <a:avLst/>
            <a:gdLst/>
            <a:ahLst/>
            <a:rect l="l" t="t" r="r" b="b"/>
            <a:pathLst>
              <a:path w="9139" h="7866">
                <a:moveTo>
                  <a:pt x="9546" y="6368"/>
                </a:moveTo>
                <a:cubicBezTo>
                  <a:pt x="9556" y="6354"/>
                  <a:pt x="9572" y="6338"/>
                  <a:pt x="9580" y="6325"/>
                </a:cubicBezTo>
                <a:cubicBezTo>
                  <a:pt x="9582" y="6322"/>
                  <a:pt x="9581" y="6315"/>
                  <a:pt x="9583" y="6312"/>
                </a:cubicBezTo>
                <a:cubicBezTo>
                  <a:pt x="9580" y="6310"/>
                  <a:pt x="9578" y="6312"/>
                  <a:pt x="9574" y="6310"/>
                </a:cubicBezTo>
                <a:cubicBezTo>
                  <a:pt x="9571" y="6309"/>
                  <a:pt x="9570" y="6301"/>
                  <a:pt x="9562" y="6298"/>
                </a:cubicBezTo>
                <a:cubicBezTo>
                  <a:pt x="9557" y="6296"/>
                  <a:pt x="9549" y="6295"/>
                  <a:pt x="9544" y="6293"/>
                </a:cubicBezTo>
                <a:cubicBezTo>
                  <a:pt x="9539" y="6291"/>
                  <a:pt x="9536" y="6285"/>
                  <a:pt x="9530" y="6284"/>
                </a:cubicBezTo>
                <a:cubicBezTo>
                  <a:pt x="9514" y="6280"/>
                  <a:pt x="9490" y="6277"/>
                  <a:pt x="9474" y="6278"/>
                </a:cubicBezTo>
                <a:cubicBezTo>
                  <a:pt x="9457" y="6279"/>
                  <a:pt x="9453" y="6283"/>
                  <a:pt x="9438" y="6289"/>
                </a:cubicBezTo>
                <a:cubicBezTo>
                  <a:pt x="9422" y="6295"/>
                  <a:pt x="9408" y="6304"/>
                  <a:pt x="9393" y="6310"/>
                </a:cubicBezTo>
                <a:cubicBezTo>
                  <a:pt x="9387" y="6313"/>
                  <a:pt x="9371" y="6320"/>
                  <a:pt x="9365" y="6321"/>
                </a:cubicBezTo>
                <a:cubicBezTo>
                  <a:pt x="9360" y="6322"/>
                  <a:pt x="9352" y="6322"/>
                  <a:pt x="9347" y="6323"/>
                </a:cubicBezTo>
                <a:cubicBezTo>
                  <a:pt x="9335" y="6327"/>
                  <a:pt x="9316" y="6331"/>
                  <a:pt x="9304" y="6332"/>
                </a:cubicBezTo>
                <a:cubicBezTo>
                  <a:pt x="9217" y="6341"/>
                  <a:pt x="9135" y="6341"/>
                  <a:pt x="9049" y="6355"/>
                </a:cubicBezTo>
                <a:cubicBezTo>
                  <a:pt x="9031" y="6358"/>
                  <a:pt x="9012" y="6360"/>
                  <a:pt x="8994" y="6361"/>
                </a:cubicBezTo>
                <a:cubicBezTo>
                  <a:pt x="8972" y="6363"/>
                  <a:pt x="8943" y="6357"/>
                  <a:pt x="8922" y="6366"/>
                </a:cubicBezTo>
                <a:cubicBezTo>
                  <a:pt x="8912" y="6370"/>
                  <a:pt x="8910" y="6368"/>
                  <a:pt x="8901" y="6377"/>
                </a:cubicBezTo>
                <a:cubicBezTo>
                  <a:pt x="8894" y="6384"/>
                  <a:pt x="8895" y="6390"/>
                  <a:pt x="8890" y="6397"/>
                </a:cubicBezTo>
                <a:cubicBezTo>
                  <a:pt x="8886" y="6403"/>
                  <a:pt x="8889" y="6413"/>
                  <a:pt x="8884" y="6420"/>
                </a:cubicBezTo>
                <a:cubicBezTo>
                  <a:pt x="8878" y="6428"/>
                  <a:pt x="8870" y="6433"/>
                  <a:pt x="8865" y="6443"/>
                </a:cubicBezTo>
                <a:cubicBezTo>
                  <a:pt x="8858" y="6455"/>
                  <a:pt x="8854" y="6467"/>
                  <a:pt x="8847" y="6479"/>
                </a:cubicBezTo>
                <a:cubicBezTo>
                  <a:pt x="8838" y="6495"/>
                  <a:pt x="8835" y="6499"/>
                  <a:pt x="8829" y="6518"/>
                </a:cubicBezTo>
                <a:cubicBezTo>
                  <a:pt x="8825" y="6532"/>
                  <a:pt x="8822" y="6547"/>
                  <a:pt x="8818" y="6560"/>
                </a:cubicBezTo>
                <a:cubicBezTo>
                  <a:pt x="8806" y="6598"/>
                  <a:pt x="8787" y="6625"/>
                  <a:pt x="8766" y="6658"/>
                </a:cubicBezTo>
                <a:cubicBezTo>
                  <a:pt x="8758" y="6671"/>
                  <a:pt x="8748" y="6689"/>
                  <a:pt x="8743" y="6701"/>
                </a:cubicBezTo>
                <a:cubicBezTo>
                  <a:pt x="8732" y="6730"/>
                  <a:pt x="8727" y="6761"/>
                  <a:pt x="8718" y="6791"/>
                </a:cubicBezTo>
                <a:cubicBezTo>
                  <a:pt x="8709" y="6821"/>
                  <a:pt x="8697" y="6851"/>
                  <a:pt x="8694" y="6882"/>
                </a:cubicBezTo>
                <a:cubicBezTo>
                  <a:pt x="8688" y="6941"/>
                  <a:pt x="8694" y="6981"/>
                  <a:pt x="8662" y="7036"/>
                </a:cubicBezTo>
                <a:cubicBezTo>
                  <a:pt x="8643" y="7068"/>
                  <a:pt x="8629" y="7091"/>
                  <a:pt x="8621" y="7128"/>
                </a:cubicBezTo>
                <a:cubicBezTo>
                  <a:pt x="8616" y="7151"/>
                  <a:pt x="8612" y="7176"/>
                  <a:pt x="8610" y="7199"/>
                </a:cubicBezTo>
                <a:cubicBezTo>
                  <a:pt x="8605" y="7242"/>
                  <a:pt x="8611" y="7273"/>
                  <a:pt x="8626" y="7312"/>
                </a:cubicBezTo>
                <a:cubicBezTo>
                  <a:pt x="8639" y="7344"/>
                  <a:pt x="8654" y="7380"/>
                  <a:pt x="8673" y="7407"/>
                </a:cubicBezTo>
                <a:cubicBezTo>
                  <a:pt x="8685" y="7424"/>
                  <a:pt x="8697" y="7433"/>
                  <a:pt x="8707" y="7452"/>
                </a:cubicBezTo>
                <a:cubicBezTo>
                  <a:pt x="8721" y="7478"/>
                  <a:pt x="8727" y="7507"/>
                  <a:pt x="8739" y="7533"/>
                </a:cubicBezTo>
                <a:cubicBezTo>
                  <a:pt x="8746" y="7549"/>
                  <a:pt x="8755" y="7561"/>
                  <a:pt x="8764" y="7576"/>
                </a:cubicBezTo>
                <a:cubicBezTo>
                  <a:pt x="8769" y="7585"/>
                  <a:pt x="8777" y="7592"/>
                  <a:pt x="8782" y="7601"/>
                </a:cubicBezTo>
                <a:cubicBezTo>
                  <a:pt x="8790" y="7615"/>
                  <a:pt x="8797" y="7635"/>
                  <a:pt x="8807" y="7647"/>
                </a:cubicBezTo>
                <a:cubicBezTo>
                  <a:pt x="8815" y="7656"/>
                  <a:pt x="8827" y="7663"/>
                  <a:pt x="8836" y="7671"/>
                </a:cubicBezTo>
                <a:cubicBezTo>
                  <a:pt x="8850" y="7684"/>
                  <a:pt x="8863" y="7695"/>
                  <a:pt x="8879" y="7705"/>
                </a:cubicBezTo>
                <a:cubicBezTo>
                  <a:pt x="8886" y="7709"/>
                  <a:pt x="8892" y="7711"/>
                  <a:pt x="8899" y="7715"/>
                </a:cubicBezTo>
                <a:cubicBezTo>
                  <a:pt x="8911" y="7721"/>
                  <a:pt x="8925" y="7727"/>
                  <a:pt x="8936" y="7732"/>
                </a:cubicBezTo>
                <a:cubicBezTo>
                  <a:pt x="8942" y="7735"/>
                  <a:pt x="8949" y="7737"/>
                  <a:pt x="8954" y="7739"/>
                </a:cubicBezTo>
                <a:cubicBezTo>
                  <a:pt x="8975" y="7749"/>
                  <a:pt x="8993" y="7760"/>
                  <a:pt x="9015" y="7766"/>
                </a:cubicBezTo>
                <a:cubicBezTo>
                  <a:pt x="9028" y="7769"/>
                  <a:pt x="9045" y="7770"/>
                  <a:pt x="9058" y="7771"/>
                </a:cubicBezTo>
                <a:cubicBezTo>
                  <a:pt x="9083" y="7772"/>
                  <a:pt x="9105" y="7768"/>
                  <a:pt x="9130" y="7767"/>
                </a:cubicBezTo>
                <a:cubicBezTo>
                  <a:pt x="9191" y="7764"/>
                  <a:pt x="9252" y="7769"/>
                  <a:pt x="9311" y="7762"/>
                </a:cubicBezTo>
                <a:cubicBezTo>
                  <a:pt x="9347" y="7758"/>
                  <a:pt x="9383" y="7754"/>
                  <a:pt x="9419" y="7751"/>
                </a:cubicBezTo>
                <a:cubicBezTo>
                  <a:pt x="9468" y="7746"/>
                  <a:pt x="9517" y="7747"/>
                  <a:pt x="9565" y="7744"/>
                </a:cubicBezTo>
                <a:cubicBezTo>
                  <a:pt x="9578" y="7743"/>
                  <a:pt x="9591" y="7740"/>
                  <a:pt x="9601" y="7741"/>
                </a:cubicBezTo>
                <a:cubicBezTo>
                  <a:pt x="9606" y="7741"/>
                  <a:pt x="9615" y="7742"/>
                  <a:pt x="9619" y="7742"/>
                </a:cubicBezTo>
                <a:cubicBezTo>
                  <a:pt x="9624" y="7743"/>
                  <a:pt x="9625" y="7747"/>
                  <a:pt x="9630" y="7748"/>
                </a:cubicBezTo>
                <a:cubicBezTo>
                  <a:pt x="9632" y="7748"/>
                  <a:pt x="9633" y="7748"/>
                  <a:pt x="9635" y="7748"/>
                </a:cubicBezTo>
              </a:path>
              <a:path w="9139" h="7866">
                <a:moveTo>
                  <a:pt x="8963" y="7789"/>
                </a:moveTo>
                <a:cubicBezTo>
                  <a:pt x="8972" y="7784"/>
                  <a:pt x="8981" y="7780"/>
                  <a:pt x="8988" y="7775"/>
                </a:cubicBezTo>
                <a:cubicBezTo>
                  <a:pt x="8988" y="7773"/>
                  <a:pt x="8988" y="7772"/>
                  <a:pt x="8990" y="7773"/>
                </a:cubicBezTo>
                <a:cubicBezTo>
                  <a:pt x="8953" y="7768"/>
                  <a:pt x="8921" y="7766"/>
                  <a:pt x="8883" y="7766"/>
                </a:cubicBezTo>
                <a:cubicBezTo>
                  <a:pt x="8822" y="7767"/>
                  <a:pt x="8779" y="7759"/>
                  <a:pt x="8721" y="7744"/>
                </a:cubicBezTo>
                <a:cubicBezTo>
                  <a:pt x="8694" y="7737"/>
                  <a:pt x="8671" y="7731"/>
                  <a:pt x="8643" y="7726"/>
                </a:cubicBezTo>
                <a:cubicBezTo>
                  <a:pt x="8615" y="7721"/>
                  <a:pt x="8588" y="7721"/>
                  <a:pt x="8560" y="7717"/>
                </a:cubicBezTo>
                <a:cubicBezTo>
                  <a:pt x="8536" y="7714"/>
                  <a:pt x="8514" y="7708"/>
                  <a:pt x="8490" y="7706"/>
                </a:cubicBezTo>
                <a:cubicBezTo>
                  <a:pt x="8428" y="7701"/>
                  <a:pt x="8364" y="7690"/>
                  <a:pt x="8306" y="7685"/>
                </a:cubicBezTo>
                <a:cubicBezTo>
                  <a:pt x="8167" y="7673"/>
                  <a:pt x="8028" y="7688"/>
                  <a:pt x="7890" y="7690"/>
                </a:cubicBezTo>
                <a:cubicBezTo>
                  <a:pt x="7801" y="7691"/>
                  <a:pt x="7701" y="7700"/>
                  <a:pt x="7616" y="7683"/>
                </a:cubicBezTo>
                <a:cubicBezTo>
                  <a:pt x="7595" y="7679"/>
                  <a:pt x="7580" y="7671"/>
                  <a:pt x="7562" y="7667"/>
                </a:cubicBezTo>
                <a:cubicBezTo>
                  <a:pt x="7550" y="7664"/>
                  <a:pt x="7543" y="7659"/>
                  <a:pt x="7531" y="7656"/>
                </a:cubicBezTo>
                <a:cubicBezTo>
                  <a:pt x="7512" y="7651"/>
                  <a:pt x="7492" y="7651"/>
                  <a:pt x="7474" y="7647"/>
                </a:cubicBezTo>
                <a:cubicBezTo>
                  <a:pt x="7454" y="7643"/>
                  <a:pt x="7430" y="7643"/>
                  <a:pt x="7411" y="7637"/>
                </a:cubicBezTo>
                <a:cubicBezTo>
                  <a:pt x="7372" y="7625"/>
                  <a:pt x="7340" y="7599"/>
                  <a:pt x="7300" y="7592"/>
                </a:cubicBezTo>
                <a:cubicBezTo>
                  <a:pt x="7251" y="7584"/>
                  <a:pt x="7205" y="7594"/>
                  <a:pt x="7159" y="7579"/>
                </a:cubicBezTo>
                <a:cubicBezTo>
                  <a:pt x="7140" y="7573"/>
                  <a:pt x="7123" y="7560"/>
                  <a:pt x="7103" y="7554"/>
                </a:cubicBezTo>
                <a:cubicBezTo>
                  <a:pt x="7079" y="7547"/>
                  <a:pt x="7055" y="7545"/>
                  <a:pt x="7031" y="7540"/>
                </a:cubicBezTo>
                <a:cubicBezTo>
                  <a:pt x="7009" y="7535"/>
                  <a:pt x="6979" y="7537"/>
                  <a:pt x="6958" y="7525"/>
                </a:cubicBezTo>
                <a:cubicBezTo>
                  <a:pt x="6933" y="7511"/>
                  <a:pt x="6919" y="7487"/>
                  <a:pt x="6897" y="7470"/>
                </a:cubicBezTo>
                <a:cubicBezTo>
                  <a:pt x="6892" y="7466"/>
                  <a:pt x="6887" y="7457"/>
                  <a:pt x="6881" y="7452"/>
                </a:cubicBezTo>
                <a:cubicBezTo>
                  <a:pt x="6867" y="7440"/>
                  <a:pt x="6851" y="7436"/>
                  <a:pt x="6838" y="7425"/>
                </a:cubicBezTo>
                <a:cubicBezTo>
                  <a:pt x="6828" y="7416"/>
                  <a:pt x="6831" y="7404"/>
                  <a:pt x="6816" y="7396"/>
                </a:cubicBezTo>
                <a:cubicBezTo>
                  <a:pt x="6809" y="7392"/>
                  <a:pt x="6801" y="7386"/>
                  <a:pt x="6793" y="7384"/>
                </a:cubicBezTo>
                <a:cubicBezTo>
                  <a:pt x="6770" y="7378"/>
                  <a:pt x="6753" y="7388"/>
                  <a:pt x="6730" y="7389"/>
                </a:cubicBezTo>
                <a:cubicBezTo>
                  <a:pt x="6698" y="7390"/>
                  <a:pt x="6656" y="7399"/>
                  <a:pt x="6626" y="7409"/>
                </a:cubicBezTo>
                <a:cubicBezTo>
                  <a:pt x="6595" y="7420"/>
                  <a:pt x="6595" y="7421"/>
                  <a:pt x="6569" y="7436"/>
                </a:cubicBezTo>
                <a:cubicBezTo>
                  <a:pt x="6564" y="7439"/>
                  <a:pt x="6544" y="7449"/>
                  <a:pt x="6542" y="7450"/>
                </a:cubicBezTo>
                <a:cubicBezTo>
                  <a:pt x="6539" y="7453"/>
                  <a:pt x="6542" y="7449"/>
                  <a:pt x="6539" y="7452"/>
                </a:cubicBezTo>
                <a:cubicBezTo>
                  <a:pt x="6536" y="7454"/>
                  <a:pt x="6537" y="7462"/>
                  <a:pt x="6535" y="7463"/>
                </a:cubicBezTo>
                <a:cubicBezTo>
                  <a:pt x="6536" y="7469"/>
                  <a:pt x="6546" y="7490"/>
                  <a:pt x="6546" y="7509"/>
                </a:cubicBezTo>
                <a:cubicBezTo>
                  <a:pt x="6547" y="7559"/>
                  <a:pt x="6552" y="7591"/>
                  <a:pt x="6565" y="7638"/>
                </a:cubicBezTo>
                <a:cubicBezTo>
                  <a:pt x="6577" y="7683"/>
                  <a:pt x="6573" y="7748"/>
                  <a:pt x="6592" y="7789"/>
                </a:cubicBezTo>
                <a:cubicBezTo>
                  <a:pt x="6595" y="7795"/>
                  <a:pt x="6599" y="7794"/>
                  <a:pt x="6603" y="7800"/>
                </a:cubicBezTo>
                <a:cubicBezTo>
                  <a:pt x="6611" y="7814"/>
                  <a:pt x="6621" y="7823"/>
                  <a:pt x="6630" y="7834"/>
                </a:cubicBezTo>
                <a:cubicBezTo>
                  <a:pt x="6634" y="7838"/>
                  <a:pt x="6641" y="7839"/>
                  <a:pt x="6646" y="7844"/>
                </a:cubicBezTo>
                <a:cubicBezTo>
                  <a:pt x="6667" y="7866"/>
                  <a:pt x="6689" y="7887"/>
                  <a:pt x="6712" y="7904"/>
                </a:cubicBezTo>
                <a:cubicBezTo>
                  <a:pt x="6715" y="7904"/>
                  <a:pt x="6716" y="7904"/>
                  <a:pt x="6718" y="7905"/>
                </a:cubicBezTo>
                <a:cubicBezTo>
                  <a:pt x="6717" y="7911"/>
                  <a:pt x="6724" y="7919"/>
                  <a:pt x="6723" y="7925"/>
                </a:cubicBezTo>
                <a:cubicBezTo>
                  <a:pt x="6718" y="7956"/>
                  <a:pt x="6725" y="7971"/>
                  <a:pt x="6696" y="7990"/>
                </a:cubicBezTo>
                <a:cubicBezTo>
                  <a:pt x="6681" y="8000"/>
                  <a:pt x="6661" y="8003"/>
                  <a:pt x="6641" y="7999"/>
                </a:cubicBezTo>
                <a:cubicBezTo>
                  <a:pt x="6633" y="7997"/>
                  <a:pt x="6633" y="7982"/>
                  <a:pt x="6623" y="7979"/>
                </a:cubicBezTo>
                <a:cubicBezTo>
                  <a:pt x="6613" y="7976"/>
                  <a:pt x="6591" y="7968"/>
                  <a:pt x="6582" y="7963"/>
                </a:cubicBezTo>
                <a:cubicBezTo>
                  <a:pt x="6575" y="7959"/>
                  <a:pt x="6569" y="7953"/>
                  <a:pt x="6564" y="7950"/>
                </a:cubicBezTo>
                <a:cubicBezTo>
                  <a:pt x="6558" y="7946"/>
                  <a:pt x="6551" y="7945"/>
                  <a:pt x="6546" y="7941"/>
                </a:cubicBezTo>
                <a:cubicBezTo>
                  <a:pt x="6542" y="7938"/>
                  <a:pt x="6539" y="7937"/>
                  <a:pt x="6535" y="7934"/>
                </a:cubicBezTo>
                <a:cubicBezTo>
                  <a:pt x="6530" y="7930"/>
                  <a:pt x="6528" y="7919"/>
                  <a:pt x="6522" y="7914"/>
                </a:cubicBezTo>
                <a:cubicBezTo>
                  <a:pt x="6512" y="7906"/>
                  <a:pt x="6496" y="7893"/>
                  <a:pt x="6487" y="7882"/>
                </a:cubicBezTo>
                <a:cubicBezTo>
                  <a:pt x="6478" y="7871"/>
                  <a:pt x="6475" y="7863"/>
                  <a:pt x="6469" y="7855"/>
                </a:cubicBezTo>
                <a:cubicBezTo>
                  <a:pt x="6460" y="7843"/>
                  <a:pt x="6445" y="7829"/>
                  <a:pt x="6438" y="7814"/>
                </a:cubicBezTo>
                <a:cubicBezTo>
                  <a:pt x="6431" y="7800"/>
                  <a:pt x="6428" y="7779"/>
                  <a:pt x="6424" y="7767"/>
                </a:cubicBezTo>
                <a:cubicBezTo>
                  <a:pt x="6421" y="7759"/>
                  <a:pt x="6418" y="7752"/>
                  <a:pt x="6415" y="7744"/>
                </a:cubicBezTo>
                <a:cubicBezTo>
                  <a:pt x="6412" y="7736"/>
                  <a:pt x="6408" y="7726"/>
                  <a:pt x="6404" y="7717"/>
                </a:cubicBezTo>
                <a:cubicBezTo>
                  <a:pt x="6400" y="7709"/>
                  <a:pt x="6395" y="7694"/>
                  <a:pt x="6393" y="7690"/>
                </a:cubicBezTo>
                <a:cubicBezTo>
                  <a:pt x="6388" y="7679"/>
                  <a:pt x="6378" y="7670"/>
                  <a:pt x="6374" y="7658"/>
                </a:cubicBezTo>
                <a:cubicBezTo>
                  <a:pt x="6370" y="7648"/>
                  <a:pt x="6368" y="7637"/>
                  <a:pt x="6365" y="7626"/>
                </a:cubicBezTo>
                <a:cubicBezTo>
                  <a:pt x="6363" y="7620"/>
                  <a:pt x="6363" y="7612"/>
                  <a:pt x="6361" y="7606"/>
                </a:cubicBezTo>
                <a:cubicBezTo>
                  <a:pt x="6358" y="7597"/>
                  <a:pt x="6345" y="7580"/>
                  <a:pt x="6341" y="7561"/>
                </a:cubicBezTo>
                <a:cubicBezTo>
                  <a:pt x="6337" y="7538"/>
                  <a:pt x="6338" y="7516"/>
                  <a:pt x="6332" y="7493"/>
                </a:cubicBezTo>
                <a:cubicBezTo>
                  <a:pt x="6330" y="7487"/>
                  <a:pt x="6324" y="7479"/>
                  <a:pt x="6322" y="7472"/>
                </a:cubicBezTo>
                <a:cubicBezTo>
                  <a:pt x="6317" y="7455"/>
                  <a:pt x="6309" y="7438"/>
                  <a:pt x="6306" y="7422"/>
                </a:cubicBezTo>
                <a:cubicBezTo>
                  <a:pt x="6298" y="7373"/>
                  <a:pt x="6298" y="7317"/>
                  <a:pt x="6293" y="7266"/>
                </a:cubicBezTo>
                <a:cubicBezTo>
                  <a:pt x="6290" y="7236"/>
                  <a:pt x="6287" y="7207"/>
                  <a:pt x="6284" y="7178"/>
                </a:cubicBezTo>
                <a:cubicBezTo>
                  <a:pt x="6282" y="7160"/>
                  <a:pt x="6278" y="7140"/>
                  <a:pt x="6277" y="7122"/>
                </a:cubicBezTo>
                <a:cubicBezTo>
                  <a:pt x="6276" y="7104"/>
                  <a:pt x="6273" y="7079"/>
                  <a:pt x="6275" y="7063"/>
                </a:cubicBezTo>
                <a:cubicBezTo>
                  <a:pt x="6277" y="7047"/>
                  <a:pt x="6281" y="7039"/>
                  <a:pt x="6284" y="7024"/>
                </a:cubicBezTo>
                <a:cubicBezTo>
                  <a:pt x="6286" y="7014"/>
                  <a:pt x="6291" y="6995"/>
                  <a:pt x="6295" y="6984"/>
                </a:cubicBezTo>
                <a:cubicBezTo>
                  <a:pt x="6300" y="6969"/>
                  <a:pt x="6316" y="6961"/>
                  <a:pt x="6318" y="6950"/>
                </a:cubicBezTo>
                <a:cubicBezTo>
                  <a:pt x="6322" y="6934"/>
                  <a:pt x="6315" y="6918"/>
                  <a:pt x="6318" y="6900"/>
                </a:cubicBezTo>
                <a:cubicBezTo>
                  <a:pt x="6319" y="6892"/>
                  <a:pt x="6330" y="6866"/>
                  <a:pt x="6329" y="6862"/>
                </a:cubicBezTo>
                <a:cubicBezTo>
                  <a:pt x="6327" y="6854"/>
                  <a:pt x="6340" y="6848"/>
                  <a:pt x="6329" y="6839"/>
                </a:cubicBezTo>
                <a:cubicBezTo>
                  <a:pt x="6308" y="6821"/>
                  <a:pt x="6296" y="6844"/>
                  <a:pt x="6279" y="6839"/>
                </a:cubicBezTo>
                <a:cubicBezTo>
                  <a:pt x="6275" y="6838"/>
                  <a:pt x="6279" y="6847"/>
                  <a:pt x="6275" y="6846"/>
                </a:cubicBezTo>
                <a:cubicBezTo>
                  <a:pt x="6273" y="6846"/>
                  <a:pt x="6284" y="6846"/>
                  <a:pt x="6282" y="6846"/>
                </a:cubicBezTo>
                <a:cubicBezTo>
                  <a:pt x="6283" y="6845"/>
                  <a:pt x="6263" y="6853"/>
                  <a:pt x="6279" y="6839"/>
                </a:cubicBezTo>
                <a:cubicBezTo>
                  <a:pt x="6289" y="6830"/>
                  <a:pt x="6292" y="6834"/>
                  <a:pt x="6300" y="6823"/>
                </a:cubicBezTo>
                <a:cubicBezTo>
                  <a:pt x="6300" y="6825"/>
                  <a:pt x="6302" y="6834"/>
                  <a:pt x="6302" y="6839"/>
                </a:cubicBezTo>
              </a:path>
              <a:path w="9139" h="7866">
                <a:moveTo>
                  <a:pt x="9487" y="6278"/>
                </a:moveTo>
                <a:cubicBezTo>
                  <a:pt x="9397" y="6295"/>
                  <a:pt x="9320" y="6303"/>
                  <a:pt x="9223" y="6303"/>
                </a:cubicBezTo>
                <a:cubicBezTo>
                  <a:pt x="9147" y="6303"/>
                  <a:pt x="9075" y="6295"/>
                  <a:pt x="8999" y="6293"/>
                </a:cubicBezTo>
                <a:cubicBezTo>
                  <a:pt x="8836" y="6288"/>
                  <a:pt x="8682" y="6304"/>
                  <a:pt x="8522" y="6318"/>
                </a:cubicBezTo>
                <a:cubicBezTo>
                  <a:pt x="8380" y="6330"/>
                  <a:pt x="8267" y="6321"/>
                  <a:pt x="8134" y="6373"/>
                </a:cubicBezTo>
                <a:cubicBezTo>
                  <a:pt x="8110" y="6383"/>
                  <a:pt x="8092" y="6395"/>
                  <a:pt x="8065" y="6404"/>
                </a:cubicBezTo>
                <a:cubicBezTo>
                  <a:pt x="7954" y="6443"/>
                  <a:pt x="7838" y="6448"/>
                  <a:pt x="7721" y="6452"/>
                </a:cubicBezTo>
                <a:cubicBezTo>
                  <a:pt x="7652" y="6454"/>
                  <a:pt x="7595" y="6451"/>
                  <a:pt x="7531" y="6432"/>
                </a:cubicBezTo>
                <a:cubicBezTo>
                  <a:pt x="7455" y="6410"/>
                  <a:pt x="7395" y="6354"/>
                  <a:pt x="7322" y="6321"/>
                </a:cubicBezTo>
                <a:cubicBezTo>
                  <a:pt x="7233" y="6280"/>
                  <a:pt x="7140" y="6266"/>
                  <a:pt x="7049" y="6237"/>
                </a:cubicBezTo>
                <a:cubicBezTo>
                  <a:pt x="7025" y="6229"/>
                  <a:pt x="7009" y="6211"/>
                  <a:pt x="6992" y="6207"/>
                </a:cubicBezTo>
                <a:cubicBezTo>
                  <a:pt x="6899" y="6184"/>
                  <a:pt x="6808" y="6166"/>
                  <a:pt x="6716" y="6140"/>
                </a:cubicBezTo>
                <a:cubicBezTo>
                  <a:pt x="6595" y="6105"/>
                  <a:pt x="6481" y="6098"/>
                  <a:pt x="6357" y="6088"/>
                </a:cubicBezTo>
                <a:cubicBezTo>
                  <a:pt x="6312" y="6084"/>
                  <a:pt x="6267" y="6076"/>
                  <a:pt x="6223" y="6074"/>
                </a:cubicBezTo>
                <a:cubicBezTo>
                  <a:pt x="6158" y="6071"/>
                  <a:pt x="6106" y="6080"/>
                  <a:pt x="6044" y="6094"/>
                </a:cubicBezTo>
                <a:cubicBezTo>
                  <a:pt x="5999" y="6104"/>
                  <a:pt x="5957" y="6120"/>
                  <a:pt x="5915" y="6137"/>
                </a:cubicBezTo>
                <a:cubicBezTo>
                  <a:pt x="5866" y="6157"/>
                  <a:pt x="5829" y="6181"/>
                  <a:pt x="5786" y="6210"/>
                </a:cubicBezTo>
                <a:cubicBezTo>
                  <a:pt x="5686" y="6278"/>
                  <a:pt x="5639" y="6351"/>
                  <a:pt x="5565" y="6440"/>
                </a:cubicBezTo>
                <a:cubicBezTo>
                  <a:pt x="5536" y="6475"/>
                  <a:pt x="5504" y="6511"/>
                  <a:pt x="5472" y="6542"/>
                </a:cubicBezTo>
                <a:cubicBezTo>
                  <a:pt x="5415" y="6598"/>
                  <a:pt x="5347" y="6644"/>
                  <a:pt x="5284" y="6692"/>
                </a:cubicBezTo>
                <a:cubicBezTo>
                  <a:pt x="5266" y="6706"/>
                  <a:pt x="5254" y="6714"/>
                  <a:pt x="5237" y="6730"/>
                </a:cubicBezTo>
                <a:cubicBezTo>
                  <a:pt x="5215" y="6750"/>
                  <a:pt x="5203" y="6768"/>
                  <a:pt x="5185" y="6789"/>
                </a:cubicBezTo>
                <a:cubicBezTo>
                  <a:pt x="5144" y="6835"/>
                  <a:pt x="5136" y="6856"/>
                  <a:pt x="5116" y="6911"/>
                </a:cubicBezTo>
                <a:cubicBezTo>
                  <a:pt x="5100" y="6956"/>
                  <a:pt x="5094" y="6988"/>
                  <a:pt x="5092" y="7036"/>
                </a:cubicBezTo>
                <a:cubicBezTo>
                  <a:pt x="5091" y="7067"/>
                  <a:pt x="5097" y="7095"/>
                  <a:pt x="5099" y="7126"/>
                </a:cubicBezTo>
                <a:cubicBezTo>
                  <a:pt x="5101" y="7165"/>
                  <a:pt x="5107" y="7202"/>
                  <a:pt x="5108" y="7241"/>
                </a:cubicBezTo>
                <a:cubicBezTo>
                  <a:pt x="5110" y="7305"/>
                  <a:pt x="5112" y="7355"/>
                  <a:pt x="5126" y="7413"/>
                </a:cubicBezTo>
                <a:cubicBezTo>
                  <a:pt x="5136" y="7454"/>
                  <a:pt x="5150" y="7484"/>
                  <a:pt x="5157" y="7527"/>
                </a:cubicBezTo>
                <a:cubicBezTo>
                  <a:pt x="5164" y="7572"/>
                  <a:pt x="5160" y="7625"/>
                  <a:pt x="5173" y="7669"/>
                </a:cubicBezTo>
                <a:cubicBezTo>
                  <a:pt x="5180" y="7694"/>
                  <a:pt x="5185" y="7736"/>
                  <a:pt x="5209" y="7749"/>
                </a:cubicBezTo>
                <a:cubicBezTo>
                  <a:pt x="5214" y="7752"/>
                  <a:pt x="5215" y="7763"/>
                  <a:pt x="5221" y="7764"/>
                </a:cubicBezTo>
                <a:cubicBezTo>
                  <a:pt x="5262" y="7770"/>
                  <a:pt x="5257" y="7745"/>
                  <a:pt x="5286" y="7721"/>
                </a:cubicBezTo>
                <a:cubicBezTo>
                  <a:pt x="5338" y="7678"/>
                  <a:pt x="5343" y="7612"/>
                  <a:pt x="5361" y="7551"/>
                </a:cubicBezTo>
                <a:cubicBezTo>
                  <a:pt x="5393" y="7441"/>
                  <a:pt x="5385" y="7328"/>
                  <a:pt x="5404" y="7219"/>
                </a:cubicBezTo>
                <a:cubicBezTo>
                  <a:pt x="5409" y="7192"/>
                  <a:pt x="5415" y="7158"/>
                  <a:pt x="5424" y="7131"/>
                </a:cubicBezTo>
                <a:cubicBezTo>
                  <a:pt x="5438" y="7091"/>
                  <a:pt x="5456" y="7045"/>
                  <a:pt x="5479" y="7013"/>
                </a:cubicBezTo>
                <a:cubicBezTo>
                  <a:pt x="5509" y="6971"/>
                  <a:pt x="5508" y="6972"/>
                  <a:pt x="5551" y="6948"/>
                </a:cubicBezTo>
                <a:cubicBezTo>
                  <a:pt x="5564" y="6940"/>
                  <a:pt x="5582" y="6949"/>
                  <a:pt x="5596" y="6941"/>
                </a:cubicBezTo>
                <a:cubicBezTo>
                  <a:pt x="5628" y="6922"/>
                  <a:pt x="5668" y="6904"/>
                  <a:pt x="5696" y="6875"/>
                </a:cubicBezTo>
                <a:cubicBezTo>
                  <a:pt x="5736" y="6832"/>
                  <a:pt x="5761" y="6769"/>
                  <a:pt x="5786" y="6715"/>
                </a:cubicBezTo>
                <a:cubicBezTo>
                  <a:pt x="5820" y="6641"/>
                  <a:pt x="5853" y="6569"/>
                  <a:pt x="5893" y="6500"/>
                </a:cubicBezTo>
                <a:cubicBezTo>
                  <a:pt x="5897" y="6494"/>
                  <a:pt x="5902" y="6490"/>
                  <a:pt x="5904" y="6486"/>
                </a:cubicBezTo>
                <a:cubicBezTo>
                  <a:pt x="5901" y="6493"/>
                  <a:pt x="5900" y="6493"/>
                  <a:pt x="5897" y="6500"/>
                </a:cubicBezTo>
                <a:cubicBezTo>
                  <a:pt x="5891" y="6511"/>
                  <a:pt x="5887" y="6523"/>
                  <a:pt x="5881" y="6535"/>
                </a:cubicBezTo>
                <a:cubicBezTo>
                  <a:pt x="5853" y="6592"/>
                  <a:pt x="5829" y="6645"/>
                  <a:pt x="5806" y="6703"/>
                </a:cubicBezTo>
                <a:cubicBezTo>
                  <a:pt x="5783" y="6761"/>
                  <a:pt x="5765" y="6818"/>
                  <a:pt x="5750" y="6879"/>
                </a:cubicBezTo>
                <a:cubicBezTo>
                  <a:pt x="5729" y="6961"/>
                  <a:pt x="5706" y="7050"/>
                  <a:pt x="5694" y="7135"/>
                </a:cubicBezTo>
                <a:cubicBezTo>
                  <a:pt x="5685" y="7197"/>
                  <a:pt x="5675" y="7265"/>
                  <a:pt x="5671" y="7328"/>
                </a:cubicBezTo>
                <a:cubicBezTo>
                  <a:pt x="5668" y="7364"/>
                  <a:pt x="5672" y="7401"/>
                  <a:pt x="5675" y="7434"/>
                </a:cubicBezTo>
                <a:cubicBezTo>
                  <a:pt x="5681" y="7499"/>
                  <a:pt x="5713" y="7547"/>
                  <a:pt x="5732" y="7604"/>
                </a:cubicBezTo>
                <a:cubicBezTo>
                  <a:pt x="5755" y="7671"/>
                  <a:pt x="5781" y="7724"/>
                  <a:pt x="5811" y="7784"/>
                </a:cubicBezTo>
                <a:cubicBezTo>
                  <a:pt x="5830" y="7822"/>
                  <a:pt x="5848" y="7869"/>
                  <a:pt x="5870" y="7904"/>
                </a:cubicBezTo>
                <a:cubicBezTo>
                  <a:pt x="5890" y="7935"/>
                  <a:pt x="5911" y="7959"/>
                  <a:pt x="5935" y="7990"/>
                </a:cubicBezTo>
                <a:cubicBezTo>
                  <a:pt x="5959" y="8021"/>
                  <a:pt x="5986" y="8061"/>
                  <a:pt x="6021" y="8079"/>
                </a:cubicBezTo>
                <a:cubicBezTo>
                  <a:pt x="6063" y="8101"/>
                  <a:pt x="6036" y="8110"/>
                  <a:pt x="6082" y="8104"/>
                </a:cubicBezTo>
                <a:cubicBezTo>
                  <a:pt x="6098" y="8102"/>
                  <a:pt x="6114" y="8087"/>
                  <a:pt x="6128" y="8083"/>
                </a:cubicBezTo>
                <a:cubicBezTo>
                  <a:pt x="6138" y="8080"/>
                  <a:pt x="6182" y="8046"/>
                  <a:pt x="6200" y="8038"/>
                </a:cubicBezTo>
                <a:cubicBezTo>
                  <a:pt x="6193" y="8027"/>
                  <a:pt x="6179" y="8021"/>
                  <a:pt x="6171" y="8009"/>
                </a:cubicBezTo>
                <a:cubicBezTo>
                  <a:pt x="6156" y="7987"/>
                  <a:pt x="6139" y="7973"/>
                  <a:pt x="6128" y="7947"/>
                </a:cubicBezTo>
                <a:cubicBezTo>
                  <a:pt x="6118" y="7922"/>
                  <a:pt x="6120" y="7894"/>
                  <a:pt x="6110" y="7868"/>
                </a:cubicBezTo>
                <a:cubicBezTo>
                  <a:pt x="6100" y="7841"/>
                  <a:pt x="6089" y="7806"/>
                  <a:pt x="6082" y="7778"/>
                </a:cubicBezTo>
                <a:cubicBezTo>
                  <a:pt x="6076" y="7752"/>
                  <a:pt x="6070" y="7718"/>
                  <a:pt x="6062" y="7692"/>
                </a:cubicBezTo>
                <a:cubicBezTo>
                  <a:pt x="6048" y="7644"/>
                  <a:pt x="6042" y="7590"/>
                  <a:pt x="6026" y="7542"/>
                </a:cubicBezTo>
                <a:cubicBezTo>
                  <a:pt x="6013" y="7504"/>
                  <a:pt x="5995" y="7473"/>
                  <a:pt x="5981" y="7434"/>
                </a:cubicBezTo>
                <a:cubicBezTo>
                  <a:pt x="5970" y="7404"/>
                  <a:pt x="5956" y="7369"/>
                  <a:pt x="5949" y="7339"/>
                </a:cubicBezTo>
                <a:cubicBezTo>
                  <a:pt x="5932" y="7262"/>
                  <a:pt x="5933" y="7158"/>
                  <a:pt x="5951" y="7081"/>
                </a:cubicBezTo>
                <a:cubicBezTo>
                  <a:pt x="5965" y="7021"/>
                  <a:pt x="5999" y="6933"/>
                  <a:pt x="6033" y="6879"/>
                </a:cubicBezTo>
                <a:cubicBezTo>
                  <a:pt x="6041" y="6866"/>
                  <a:pt x="6046" y="6851"/>
                  <a:pt x="6055" y="6839"/>
                </a:cubicBezTo>
                <a:cubicBezTo>
                  <a:pt x="6077" y="6809"/>
                  <a:pt x="6114" y="6780"/>
                  <a:pt x="6137" y="6753"/>
                </a:cubicBezTo>
                <a:cubicBezTo>
                  <a:pt x="6138" y="6753"/>
                  <a:pt x="6138" y="6753"/>
                  <a:pt x="6139" y="6753"/>
                </a:cubicBezTo>
                <a:cubicBezTo>
                  <a:pt x="6129" y="6778"/>
                  <a:pt x="6121" y="6807"/>
                  <a:pt x="6110" y="6834"/>
                </a:cubicBezTo>
                <a:cubicBezTo>
                  <a:pt x="6089" y="6883"/>
                  <a:pt x="6060" y="6933"/>
                  <a:pt x="6049" y="6984"/>
                </a:cubicBezTo>
                <a:cubicBezTo>
                  <a:pt x="6035" y="7047"/>
                  <a:pt x="6032" y="7122"/>
                  <a:pt x="6028" y="7187"/>
                </a:cubicBezTo>
                <a:cubicBezTo>
                  <a:pt x="6024" y="7263"/>
                  <a:pt x="6026" y="7346"/>
                  <a:pt x="6044" y="7420"/>
                </a:cubicBezTo>
                <a:cubicBezTo>
                  <a:pt x="6057" y="7472"/>
                  <a:pt x="6086" y="7513"/>
                  <a:pt x="6103" y="7563"/>
                </a:cubicBezTo>
                <a:cubicBezTo>
                  <a:pt x="6121" y="7616"/>
                  <a:pt x="6133" y="7669"/>
                  <a:pt x="6151" y="7721"/>
                </a:cubicBezTo>
                <a:cubicBezTo>
                  <a:pt x="6162" y="7755"/>
                  <a:pt x="6172" y="7788"/>
                  <a:pt x="6187" y="7821"/>
                </a:cubicBezTo>
                <a:cubicBezTo>
                  <a:pt x="6206" y="7865"/>
                  <a:pt x="6231" y="7900"/>
                  <a:pt x="6255" y="7941"/>
                </a:cubicBezTo>
                <a:cubicBezTo>
                  <a:pt x="6273" y="7972"/>
                  <a:pt x="6294" y="8004"/>
                  <a:pt x="6311" y="8036"/>
                </a:cubicBezTo>
                <a:cubicBezTo>
                  <a:pt x="6324" y="8061"/>
                  <a:pt x="6329" y="8096"/>
                  <a:pt x="6349" y="8120"/>
                </a:cubicBezTo>
                <a:cubicBezTo>
                  <a:pt x="6362" y="8136"/>
                  <a:pt x="6388" y="8150"/>
                  <a:pt x="6406" y="8165"/>
                </a:cubicBezTo>
                <a:cubicBezTo>
                  <a:pt x="6429" y="8184"/>
                  <a:pt x="6456" y="8196"/>
                  <a:pt x="6481" y="8212"/>
                </a:cubicBezTo>
                <a:cubicBezTo>
                  <a:pt x="6508" y="8229"/>
                  <a:pt x="6555" y="8264"/>
                  <a:pt x="6582" y="8275"/>
                </a:cubicBezTo>
                <a:cubicBezTo>
                  <a:pt x="6594" y="8280"/>
                  <a:pt x="6606" y="8307"/>
                  <a:pt x="6623" y="8303"/>
                </a:cubicBezTo>
                <a:cubicBezTo>
                  <a:pt x="6662" y="8294"/>
                  <a:pt x="6638" y="8316"/>
                  <a:pt x="6662" y="8275"/>
                </a:cubicBezTo>
                <a:cubicBezTo>
                  <a:pt x="6711" y="8194"/>
                  <a:pt x="6642" y="8025"/>
                  <a:pt x="6614" y="7947"/>
                </a:cubicBezTo>
                <a:cubicBezTo>
                  <a:pt x="6586" y="7869"/>
                  <a:pt x="6552" y="7847"/>
                  <a:pt x="6504" y="7785"/>
                </a:cubicBezTo>
                <a:cubicBezTo>
                  <a:pt x="6455" y="7721"/>
                  <a:pt x="6453" y="7681"/>
                  <a:pt x="6427" y="7612"/>
                </a:cubicBezTo>
                <a:cubicBezTo>
                  <a:pt x="6421" y="7596"/>
                  <a:pt x="6413" y="7580"/>
                  <a:pt x="6408" y="7563"/>
                </a:cubicBezTo>
                <a:cubicBezTo>
                  <a:pt x="6389" y="7499"/>
                  <a:pt x="6371" y="7436"/>
                  <a:pt x="6354" y="7371"/>
                </a:cubicBezTo>
                <a:cubicBezTo>
                  <a:pt x="6348" y="7346"/>
                  <a:pt x="6340" y="7323"/>
                  <a:pt x="6334" y="7298"/>
                </a:cubicBezTo>
                <a:cubicBezTo>
                  <a:pt x="6326" y="7262"/>
                  <a:pt x="6321" y="7223"/>
                  <a:pt x="6311" y="7187"/>
                </a:cubicBezTo>
                <a:cubicBezTo>
                  <a:pt x="6297" y="7136"/>
                  <a:pt x="6267" y="7090"/>
                  <a:pt x="6254" y="7043"/>
                </a:cubicBezTo>
                <a:cubicBezTo>
                  <a:pt x="6247" y="7018"/>
                  <a:pt x="6247" y="6991"/>
                  <a:pt x="6241" y="6966"/>
                </a:cubicBezTo>
              </a:path>
              <a:path w="9139" h="7866">
                <a:moveTo>
                  <a:pt x="7146" y="5961"/>
                </a:moveTo>
                <a:lnTo>
                  <a:pt x="7146" y="5961"/>
                </a:lnTo>
              </a:path>
              <a:path w="9139" h="7866">
                <a:moveTo>
                  <a:pt x="8546" y="9692"/>
                </a:moveTo>
                <a:cubicBezTo>
                  <a:pt x="8530" y="9703"/>
                  <a:pt x="8521" y="9721"/>
                  <a:pt x="8505" y="9731"/>
                </a:cubicBezTo>
                <a:cubicBezTo>
                  <a:pt x="8410" y="9793"/>
                  <a:pt x="8324" y="9818"/>
                  <a:pt x="8216" y="9846"/>
                </a:cubicBezTo>
                <a:cubicBezTo>
                  <a:pt x="8143" y="9865"/>
                  <a:pt x="8079" y="9905"/>
                  <a:pt x="8015" y="9930"/>
                </a:cubicBezTo>
                <a:cubicBezTo>
                  <a:pt x="7988" y="9941"/>
                  <a:pt x="7958" y="9943"/>
                  <a:pt x="7931" y="9955"/>
                </a:cubicBezTo>
                <a:cubicBezTo>
                  <a:pt x="7900" y="9968"/>
                  <a:pt x="7871" y="9984"/>
                  <a:pt x="7841" y="9995"/>
                </a:cubicBezTo>
                <a:cubicBezTo>
                  <a:pt x="7825" y="10001"/>
                  <a:pt x="7805" y="10009"/>
                  <a:pt x="7791" y="10016"/>
                </a:cubicBezTo>
                <a:cubicBezTo>
                  <a:pt x="7776" y="10023"/>
                  <a:pt x="7758" y="10019"/>
                  <a:pt x="7746" y="10027"/>
                </a:cubicBezTo>
                <a:cubicBezTo>
                  <a:pt x="7727" y="10039"/>
                  <a:pt x="7710" y="10076"/>
                  <a:pt x="7691" y="10088"/>
                </a:cubicBezTo>
                <a:cubicBezTo>
                  <a:pt x="7641" y="10119"/>
                  <a:pt x="7587" y="10141"/>
                  <a:pt x="7535" y="10169"/>
                </a:cubicBezTo>
                <a:cubicBezTo>
                  <a:pt x="7374" y="10256"/>
                  <a:pt x="7202" y="10338"/>
                  <a:pt x="7037" y="10414"/>
                </a:cubicBezTo>
                <a:cubicBezTo>
                  <a:pt x="6913" y="10471"/>
                  <a:pt x="6776" y="10499"/>
                  <a:pt x="6646" y="10538"/>
                </a:cubicBezTo>
                <a:cubicBezTo>
                  <a:pt x="6604" y="10551"/>
                  <a:pt x="6560" y="10564"/>
                  <a:pt x="6517" y="10577"/>
                </a:cubicBezTo>
                <a:cubicBezTo>
                  <a:pt x="6397" y="10612"/>
                  <a:pt x="6269" y="10638"/>
                  <a:pt x="6153" y="10683"/>
                </a:cubicBezTo>
                <a:cubicBezTo>
                  <a:pt x="6125" y="10694"/>
                  <a:pt x="6101" y="10711"/>
                  <a:pt x="6076" y="10719"/>
                </a:cubicBezTo>
                <a:cubicBezTo>
                  <a:pt x="6039" y="10732"/>
                  <a:pt x="5996" y="10742"/>
                  <a:pt x="5956" y="10755"/>
                </a:cubicBezTo>
                <a:cubicBezTo>
                  <a:pt x="5923" y="10765"/>
                  <a:pt x="5885" y="10776"/>
                  <a:pt x="5856" y="10791"/>
                </a:cubicBezTo>
                <a:cubicBezTo>
                  <a:pt x="5850" y="10794"/>
                  <a:pt x="5850" y="10804"/>
                  <a:pt x="5843" y="10807"/>
                </a:cubicBezTo>
                <a:cubicBezTo>
                  <a:pt x="5830" y="10813"/>
                  <a:pt x="5820" y="10820"/>
                  <a:pt x="5807" y="10826"/>
                </a:cubicBezTo>
                <a:cubicBezTo>
                  <a:pt x="5783" y="10837"/>
                  <a:pt x="5757" y="10844"/>
                  <a:pt x="5730" y="10855"/>
                </a:cubicBezTo>
                <a:cubicBezTo>
                  <a:pt x="5712" y="10862"/>
                  <a:pt x="5691" y="10878"/>
                  <a:pt x="5675" y="10884"/>
                </a:cubicBezTo>
                <a:cubicBezTo>
                  <a:pt x="5657" y="10890"/>
                  <a:pt x="5647" y="10893"/>
                  <a:pt x="5630" y="10900"/>
                </a:cubicBezTo>
                <a:cubicBezTo>
                  <a:pt x="5589" y="10917"/>
                  <a:pt x="5554" y="10927"/>
                  <a:pt x="5513" y="10948"/>
                </a:cubicBezTo>
                <a:cubicBezTo>
                  <a:pt x="5495" y="10957"/>
                  <a:pt x="5475" y="10975"/>
                  <a:pt x="5461" y="10982"/>
                </a:cubicBezTo>
                <a:cubicBezTo>
                  <a:pt x="5461" y="10981"/>
                  <a:pt x="5461" y="10980"/>
                  <a:pt x="5461" y="10979"/>
                </a:cubicBezTo>
                <a:cubicBezTo>
                  <a:pt x="5463" y="10981"/>
                  <a:pt x="5467" y="10986"/>
                  <a:pt x="5469" y="10991"/>
                </a:cubicBezTo>
                <a:cubicBezTo>
                  <a:pt x="5470" y="10993"/>
                  <a:pt x="5468" y="10988"/>
                  <a:pt x="5469" y="10991"/>
                </a:cubicBezTo>
                <a:cubicBezTo>
                  <a:pt x="5469" y="10990"/>
                  <a:pt x="5455" y="10985"/>
                  <a:pt x="5452" y="10975"/>
                </a:cubicBezTo>
                <a:cubicBezTo>
                  <a:pt x="5440" y="10927"/>
                  <a:pt x="5437" y="10896"/>
                  <a:pt x="5435" y="10843"/>
                </a:cubicBezTo>
                <a:cubicBezTo>
                  <a:pt x="5432" y="10740"/>
                  <a:pt x="5443" y="10679"/>
                  <a:pt x="5377" y="10597"/>
                </a:cubicBezTo>
                <a:cubicBezTo>
                  <a:pt x="5340" y="10551"/>
                  <a:pt x="5311" y="10539"/>
                  <a:pt x="5286" y="10484"/>
                </a:cubicBezTo>
                <a:cubicBezTo>
                  <a:pt x="5274" y="10456"/>
                  <a:pt x="5272" y="10416"/>
                  <a:pt x="5262" y="10386"/>
                </a:cubicBezTo>
                <a:cubicBezTo>
                  <a:pt x="5254" y="10361"/>
                  <a:pt x="5250" y="10327"/>
                  <a:pt x="5239" y="10305"/>
                </a:cubicBezTo>
                <a:cubicBezTo>
                  <a:pt x="5228" y="10283"/>
                  <a:pt x="5208" y="10268"/>
                  <a:pt x="5193" y="10248"/>
                </a:cubicBezTo>
                <a:cubicBezTo>
                  <a:pt x="5178" y="10227"/>
                  <a:pt x="5170" y="10207"/>
                  <a:pt x="5150" y="10190"/>
                </a:cubicBezTo>
                <a:cubicBezTo>
                  <a:pt x="5117" y="10161"/>
                  <a:pt x="5068" y="10146"/>
                  <a:pt x="5033" y="10119"/>
                </a:cubicBezTo>
                <a:cubicBezTo>
                  <a:pt x="4996" y="10091"/>
                  <a:pt x="4966" y="10059"/>
                  <a:pt x="4935" y="10027"/>
                </a:cubicBezTo>
                <a:cubicBezTo>
                  <a:pt x="4933" y="10025"/>
                  <a:pt x="4931" y="10020"/>
                  <a:pt x="4929" y="10018"/>
                </a:cubicBezTo>
                <a:cubicBezTo>
                  <a:pt x="4965" y="10009"/>
                  <a:pt x="5000" y="10004"/>
                  <a:pt x="5037" y="9991"/>
                </a:cubicBezTo>
                <a:cubicBezTo>
                  <a:pt x="5055" y="9985"/>
                  <a:pt x="5073" y="9979"/>
                  <a:pt x="5092" y="9972"/>
                </a:cubicBezTo>
                <a:cubicBezTo>
                  <a:pt x="5119" y="9961"/>
                  <a:pt x="5144" y="9949"/>
                  <a:pt x="5171" y="9938"/>
                </a:cubicBezTo>
                <a:cubicBezTo>
                  <a:pt x="5259" y="9904"/>
                  <a:pt x="5349" y="9887"/>
                  <a:pt x="5435" y="9848"/>
                </a:cubicBezTo>
                <a:cubicBezTo>
                  <a:pt x="5490" y="9823"/>
                  <a:pt x="5544" y="9792"/>
                  <a:pt x="5594" y="9758"/>
                </a:cubicBezTo>
                <a:cubicBezTo>
                  <a:pt x="5626" y="9736"/>
                  <a:pt x="5653" y="9714"/>
                  <a:pt x="5682" y="9690"/>
                </a:cubicBezTo>
                <a:cubicBezTo>
                  <a:pt x="5766" y="9621"/>
                  <a:pt x="5846" y="9549"/>
                  <a:pt x="5931" y="9481"/>
                </a:cubicBezTo>
                <a:cubicBezTo>
                  <a:pt x="5999" y="9426"/>
                  <a:pt x="6054" y="9363"/>
                  <a:pt x="6116" y="9303"/>
                </a:cubicBezTo>
                <a:cubicBezTo>
                  <a:pt x="6174" y="9248"/>
                  <a:pt x="6235" y="9207"/>
                  <a:pt x="6302" y="9162"/>
                </a:cubicBezTo>
                <a:cubicBezTo>
                  <a:pt x="6366" y="9119"/>
                  <a:pt x="6429" y="9073"/>
                  <a:pt x="6501" y="9043"/>
                </a:cubicBezTo>
                <a:cubicBezTo>
                  <a:pt x="6583" y="9009"/>
                  <a:pt x="6659" y="8975"/>
                  <a:pt x="6739" y="8938"/>
                </a:cubicBezTo>
                <a:cubicBezTo>
                  <a:pt x="6865" y="8880"/>
                  <a:pt x="7003" y="8844"/>
                  <a:pt x="7130" y="8789"/>
                </a:cubicBezTo>
                <a:cubicBezTo>
                  <a:pt x="7172" y="8771"/>
                  <a:pt x="7212" y="8751"/>
                  <a:pt x="7254" y="8733"/>
                </a:cubicBezTo>
                <a:cubicBezTo>
                  <a:pt x="7284" y="8720"/>
                  <a:pt x="7309" y="8708"/>
                  <a:pt x="7341" y="8697"/>
                </a:cubicBezTo>
                <a:cubicBezTo>
                  <a:pt x="7405" y="8675"/>
                  <a:pt x="7462" y="8660"/>
                  <a:pt x="7524" y="8631"/>
                </a:cubicBezTo>
                <a:cubicBezTo>
                  <a:pt x="7610" y="8591"/>
                  <a:pt x="7692" y="8550"/>
                  <a:pt x="7752" y="8477"/>
                </a:cubicBezTo>
                <a:cubicBezTo>
                  <a:pt x="7800" y="8419"/>
                  <a:pt x="7820" y="8348"/>
                  <a:pt x="7877" y="8296"/>
                </a:cubicBezTo>
                <a:cubicBezTo>
                  <a:pt x="7911" y="8265"/>
                  <a:pt x="7944" y="8254"/>
                  <a:pt x="7981" y="8232"/>
                </a:cubicBezTo>
                <a:cubicBezTo>
                  <a:pt x="7991" y="8226"/>
                  <a:pt x="8002" y="8216"/>
                  <a:pt x="8010" y="8212"/>
                </a:cubicBezTo>
                <a:cubicBezTo>
                  <a:pt x="8019" y="8207"/>
                  <a:pt x="8039" y="8203"/>
                  <a:pt x="8049" y="8198"/>
                </a:cubicBezTo>
                <a:cubicBezTo>
                  <a:pt x="8052" y="8206"/>
                  <a:pt x="8050" y="8201"/>
                  <a:pt x="8055" y="8208"/>
                </a:cubicBezTo>
                <a:cubicBezTo>
                  <a:pt x="8047" y="8214"/>
                  <a:pt x="8047" y="8219"/>
                  <a:pt x="8037" y="8226"/>
                </a:cubicBezTo>
                <a:cubicBezTo>
                  <a:pt x="8028" y="8232"/>
                  <a:pt x="8018" y="8238"/>
                  <a:pt x="8008" y="8244"/>
                </a:cubicBezTo>
              </a:path>
              <a:path w="9139" h="7866">
                <a:moveTo>
                  <a:pt x="4915" y="10013"/>
                </a:moveTo>
                <a:cubicBezTo>
                  <a:pt x="4896" y="10000"/>
                  <a:pt x="4879" y="9988"/>
                  <a:pt x="4857" y="9982"/>
                </a:cubicBezTo>
                <a:cubicBezTo>
                  <a:pt x="4845" y="9979"/>
                  <a:pt x="4826" y="9974"/>
                  <a:pt x="4813" y="9977"/>
                </a:cubicBezTo>
                <a:cubicBezTo>
                  <a:pt x="4805" y="9979"/>
                  <a:pt x="4797" y="9983"/>
                  <a:pt x="4788" y="9984"/>
                </a:cubicBezTo>
                <a:cubicBezTo>
                  <a:pt x="4782" y="9985"/>
                  <a:pt x="4780" y="9984"/>
                  <a:pt x="4775" y="9986"/>
                </a:cubicBezTo>
                <a:cubicBezTo>
                  <a:pt x="4767" y="9989"/>
                  <a:pt x="4760" y="9989"/>
                  <a:pt x="4752" y="9991"/>
                </a:cubicBezTo>
                <a:cubicBezTo>
                  <a:pt x="4744" y="9994"/>
                  <a:pt x="4737" y="9999"/>
                  <a:pt x="4730" y="10004"/>
                </a:cubicBezTo>
                <a:cubicBezTo>
                  <a:pt x="4720" y="10010"/>
                  <a:pt x="4719" y="10020"/>
                  <a:pt x="4707" y="10024"/>
                </a:cubicBezTo>
                <a:cubicBezTo>
                  <a:pt x="4701" y="10026"/>
                  <a:pt x="4693" y="10027"/>
                  <a:pt x="4687" y="10027"/>
                </a:cubicBezTo>
                <a:cubicBezTo>
                  <a:pt x="4681" y="10027"/>
                  <a:pt x="4675" y="10027"/>
                  <a:pt x="4669" y="10027"/>
                </a:cubicBezTo>
                <a:cubicBezTo>
                  <a:pt x="4669" y="10020"/>
                  <a:pt x="4668" y="10013"/>
                  <a:pt x="4671" y="10007"/>
                </a:cubicBezTo>
                <a:cubicBezTo>
                  <a:pt x="4672" y="10005"/>
                  <a:pt x="4674" y="10003"/>
                  <a:pt x="4676" y="10002"/>
                </a:cubicBezTo>
                <a:cubicBezTo>
                  <a:pt x="4679" y="9999"/>
                  <a:pt x="4688" y="10001"/>
                  <a:pt x="4680" y="10000"/>
                </a:cubicBezTo>
                <a:cubicBezTo>
                  <a:pt x="4676" y="10000"/>
                  <a:pt x="4673" y="10001"/>
                  <a:pt x="4671" y="10002"/>
                </a:cubicBezTo>
              </a:path>
              <a:path w="9139" h="7866">
                <a:moveTo>
                  <a:pt x="4245" y="10194"/>
                </a:moveTo>
                <a:cubicBezTo>
                  <a:pt x="4247" y="10192"/>
                  <a:pt x="4253" y="10189"/>
                  <a:pt x="4255" y="10187"/>
                </a:cubicBezTo>
                <a:cubicBezTo>
                  <a:pt x="4256" y="10186"/>
                  <a:pt x="4256" y="10184"/>
                  <a:pt x="4257" y="10183"/>
                </a:cubicBezTo>
                <a:cubicBezTo>
                  <a:pt x="4251" y="10183"/>
                  <a:pt x="4236" y="10180"/>
                  <a:pt x="4227" y="10181"/>
                </a:cubicBezTo>
                <a:cubicBezTo>
                  <a:pt x="4214" y="10183"/>
                  <a:pt x="4198" y="10185"/>
                  <a:pt x="4191" y="10187"/>
                </a:cubicBezTo>
                <a:cubicBezTo>
                  <a:pt x="4185" y="10188"/>
                  <a:pt x="4183" y="10195"/>
                  <a:pt x="4178" y="10196"/>
                </a:cubicBezTo>
                <a:cubicBezTo>
                  <a:pt x="4171" y="10197"/>
                  <a:pt x="4172" y="10200"/>
                  <a:pt x="4164" y="10201"/>
                </a:cubicBezTo>
                <a:cubicBezTo>
                  <a:pt x="4123" y="10206"/>
                  <a:pt x="4092" y="10194"/>
                  <a:pt x="4058" y="10176"/>
                </a:cubicBezTo>
                <a:cubicBezTo>
                  <a:pt x="4046" y="10170"/>
                  <a:pt x="4039" y="10164"/>
                  <a:pt x="4029" y="10158"/>
                </a:cubicBezTo>
                <a:cubicBezTo>
                  <a:pt x="4018" y="10151"/>
                  <a:pt x="4007" y="10140"/>
                  <a:pt x="3995" y="10135"/>
                </a:cubicBezTo>
                <a:cubicBezTo>
                  <a:pt x="3972" y="10124"/>
                  <a:pt x="3929" y="10103"/>
                  <a:pt x="3909" y="10097"/>
                </a:cubicBezTo>
                <a:cubicBezTo>
                  <a:pt x="3904" y="10095"/>
                  <a:pt x="3906" y="10095"/>
                  <a:pt x="3900" y="10093"/>
                </a:cubicBezTo>
                <a:cubicBezTo>
                  <a:pt x="3883" y="10089"/>
                  <a:pt x="3864" y="10091"/>
                  <a:pt x="3847" y="10090"/>
                </a:cubicBezTo>
                <a:cubicBezTo>
                  <a:pt x="3800" y="10087"/>
                  <a:pt x="3752" y="10085"/>
                  <a:pt x="3707" y="10083"/>
                </a:cubicBezTo>
                <a:cubicBezTo>
                  <a:pt x="3648" y="10081"/>
                  <a:pt x="3586" y="10082"/>
                  <a:pt x="3531" y="10093"/>
                </a:cubicBezTo>
                <a:cubicBezTo>
                  <a:pt x="3524" y="10094"/>
                  <a:pt x="3513" y="10098"/>
                  <a:pt x="3506" y="10101"/>
                </a:cubicBezTo>
                <a:cubicBezTo>
                  <a:pt x="3496" y="10105"/>
                  <a:pt x="3488" y="10105"/>
                  <a:pt x="3479" y="10110"/>
                </a:cubicBezTo>
                <a:cubicBezTo>
                  <a:pt x="3474" y="10112"/>
                  <a:pt x="3458" y="10128"/>
                  <a:pt x="3451" y="10133"/>
                </a:cubicBezTo>
                <a:cubicBezTo>
                  <a:pt x="3440" y="10141"/>
                  <a:pt x="3433" y="10150"/>
                  <a:pt x="3420" y="10158"/>
                </a:cubicBezTo>
                <a:cubicBezTo>
                  <a:pt x="3413" y="10162"/>
                  <a:pt x="3406" y="10167"/>
                  <a:pt x="3399" y="10171"/>
                </a:cubicBezTo>
                <a:cubicBezTo>
                  <a:pt x="3391" y="10175"/>
                  <a:pt x="3378" y="10175"/>
                  <a:pt x="3370" y="10179"/>
                </a:cubicBezTo>
                <a:cubicBezTo>
                  <a:pt x="3364" y="10182"/>
                  <a:pt x="3357" y="10184"/>
                  <a:pt x="3352" y="10187"/>
                </a:cubicBezTo>
                <a:cubicBezTo>
                  <a:pt x="3345" y="10190"/>
                  <a:pt x="3341" y="10193"/>
                  <a:pt x="3334" y="10197"/>
                </a:cubicBezTo>
                <a:cubicBezTo>
                  <a:pt x="3329" y="10200"/>
                  <a:pt x="3325" y="10203"/>
                  <a:pt x="3322" y="10205"/>
                </a:cubicBezTo>
                <a:cubicBezTo>
                  <a:pt x="3320" y="10206"/>
                  <a:pt x="3317" y="10208"/>
                  <a:pt x="3314" y="10210"/>
                </a:cubicBezTo>
                <a:cubicBezTo>
                  <a:pt x="3309" y="10213"/>
                  <a:pt x="3303" y="10214"/>
                  <a:pt x="3296" y="10219"/>
                </a:cubicBezTo>
                <a:cubicBezTo>
                  <a:pt x="3292" y="10222"/>
                  <a:pt x="3288" y="10226"/>
                  <a:pt x="3284" y="10230"/>
                </a:cubicBezTo>
                <a:cubicBezTo>
                  <a:pt x="3277" y="10238"/>
                  <a:pt x="3271" y="10243"/>
                  <a:pt x="3264" y="10251"/>
                </a:cubicBezTo>
                <a:cubicBezTo>
                  <a:pt x="3260" y="10256"/>
                  <a:pt x="3251" y="10271"/>
                  <a:pt x="3246" y="10278"/>
                </a:cubicBezTo>
                <a:cubicBezTo>
                  <a:pt x="3245" y="10280"/>
                  <a:pt x="3235" y="10281"/>
                  <a:pt x="3234" y="10283"/>
                </a:cubicBezTo>
                <a:cubicBezTo>
                  <a:pt x="3232" y="10286"/>
                  <a:pt x="3229" y="10290"/>
                  <a:pt x="3227" y="10292"/>
                </a:cubicBezTo>
                <a:cubicBezTo>
                  <a:pt x="3224" y="10296"/>
                  <a:pt x="3223" y="10305"/>
                  <a:pt x="3219" y="10310"/>
                </a:cubicBezTo>
                <a:cubicBezTo>
                  <a:pt x="3213" y="10317"/>
                  <a:pt x="3209" y="10327"/>
                  <a:pt x="3203" y="10334"/>
                </a:cubicBezTo>
                <a:cubicBezTo>
                  <a:pt x="3199" y="10338"/>
                  <a:pt x="3194" y="10342"/>
                  <a:pt x="3189" y="10346"/>
                </a:cubicBezTo>
                <a:cubicBezTo>
                  <a:pt x="3184" y="10350"/>
                  <a:pt x="3179" y="10355"/>
                  <a:pt x="3173" y="10360"/>
                </a:cubicBezTo>
                <a:cubicBezTo>
                  <a:pt x="3167" y="10365"/>
                  <a:pt x="3156" y="10373"/>
                  <a:pt x="3150" y="10377"/>
                </a:cubicBezTo>
                <a:cubicBezTo>
                  <a:pt x="3140" y="10383"/>
                  <a:pt x="3124" y="10392"/>
                  <a:pt x="3117" y="10398"/>
                </a:cubicBezTo>
                <a:cubicBezTo>
                  <a:pt x="3106" y="10407"/>
                  <a:pt x="3097" y="10420"/>
                  <a:pt x="3083" y="10429"/>
                </a:cubicBezTo>
                <a:cubicBezTo>
                  <a:pt x="3075" y="10435"/>
                  <a:pt x="3066" y="10440"/>
                  <a:pt x="3058" y="10445"/>
                </a:cubicBezTo>
                <a:cubicBezTo>
                  <a:pt x="3049" y="10451"/>
                  <a:pt x="3041" y="10455"/>
                  <a:pt x="3033" y="10461"/>
                </a:cubicBezTo>
                <a:cubicBezTo>
                  <a:pt x="3023" y="10468"/>
                  <a:pt x="3016" y="10472"/>
                  <a:pt x="3008" y="10481"/>
                </a:cubicBezTo>
                <a:cubicBezTo>
                  <a:pt x="3005" y="10484"/>
                  <a:pt x="2997" y="10482"/>
                  <a:pt x="2994" y="10486"/>
                </a:cubicBezTo>
                <a:cubicBezTo>
                  <a:pt x="2992" y="10489"/>
                  <a:pt x="2989" y="10489"/>
                  <a:pt x="2988" y="10491"/>
                </a:cubicBezTo>
                <a:cubicBezTo>
                  <a:pt x="2983" y="10499"/>
                  <a:pt x="2987" y="10515"/>
                  <a:pt x="2981" y="10524"/>
                </a:cubicBezTo>
                <a:cubicBezTo>
                  <a:pt x="2977" y="10531"/>
                  <a:pt x="2976" y="10537"/>
                  <a:pt x="2972" y="10543"/>
                </a:cubicBezTo>
                <a:cubicBezTo>
                  <a:pt x="2965" y="10553"/>
                  <a:pt x="2957" y="10556"/>
                  <a:pt x="2951" y="10565"/>
                </a:cubicBezTo>
                <a:cubicBezTo>
                  <a:pt x="2947" y="10570"/>
                  <a:pt x="2946" y="10577"/>
                  <a:pt x="2943" y="10581"/>
                </a:cubicBezTo>
                <a:cubicBezTo>
                  <a:pt x="2938" y="10589"/>
                  <a:pt x="2929" y="10601"/>
                  <a:pt x="2924" y="10608"/>
                </a:cubicBezTo>
                <a:cubicBezTo>
                  <a:pt x="2921" y="10613"/>
                  <a:pt x="2917" y="10619"/>
                  <a:pt x="2913" y="10624"/>
                </a:cubicBezTo>
                <a:cubicBezTo>
                  <a:pt x="2909" y="10628"/>
                  <a:pt x="2903" y="10635"/>
                  <a:pt x="2900" y="10638"/>
                </a:cubicBezTo>
                <a:cubicBezTo>
                  <a:pt x="2895" y="10644"/>
                  <a:pt x="2886" y="10647"/>
                  <a:pt x="2881" y="10653"/>
                </a:cubicBezTo>
                <a:cubicBezTo>
                  <a:pt x="2877" y="10657"/>
                  <a:pt x="2872" y="10665"/>
                  <a:pt x="2866" y="10672"/>
                </a:cubicBezTo>
                <a:cubicBezTo>
                  <a:pt x="2856" y="10684"/>
                  <a:pt x="2846" y="10694"/>
                  <a:pt x="2841" y="10708"/>
                </a:cubicBezTo>
                <a:cubicBezTo>
                  <a:pt x="2835" y="10722"/>
                  <a:pt x="2836" y="10748"/>
                  <a:pt x="2834" y="10764"/>
                </a:cubicBezTo>
                <a:cubicBezTo>
                  <a:pt x="2831" y="10785"/>
                  <a:pt x="2828" y="10806"/>
                  <a:pt x="2827" y="10826"/>
                </a:cubicBezTo>
                <a:cubicBezTo>
                  <a:pt x="2824" y="10883"/>
                  <a:pt x="2827" y="10937"/>
                  <a:pt x="2816" y="10993"/>
                </a:cubicBezTo>
                <a:cubicBezTo>
                  <a:pt x="2812" y="11015"/>
                  <a:pt x="2809" y="11037"/>
                  <a:pt x="2805" y="11059"/>
                </a:cubicBezTo>
                <a:cubicBezTo>
                  <a:pt x="2801" y="11082"/>
                  <a:pt x="2792" y="11104"/>
                  <a:pt x="2787" y="11126"/>
                </a:cubicBezTo>
                <a:cubicBezTo>
                  <a:pt x="2783" y="11142"/>
                  <a:pt x="2779" y="11158"/>
                  <a:pt x="2777" y="11174"/>
                </a:cubicBezTo>
                <a:cubicBezTo>
                  <a:pt x="2776" y="11181"/>
                  <a:pt x="2774" y="11188"/>
                  <a:pt x="2773" y="11196"/>
                </a:cubicBezTo>
                <a:cubicBezTo>
                  <a:pt x="2770" y="11223"/>
                  <a:pt x="2764" y="11249"/>
                  <a:pt x="2762" y="11274"/>
                </a:cubicBezTo>
                <a:cubicBezTo>
                  <a:pt x="2760" y="11300"/>
                  <a:pt x="2761" y="11325"/>
                  <a:pt x="2757" y="11351"/>
                </a:cubicBezTo>
                <a:cubicBezTo>
                  <a:pt x="2756" y="11359"/>
                  <a:pt x="2753" y="11364"/>
                  <a:pt x="2752" y="11371"/>
                </a:cubicBezTo>
                <a:cubicBezTo>
                  <a:pt x="2761" y="11366"/>
                  <a:pt x="2770" y="11374"/>
                  <a:pt x="2777" y="11369"/>
                </a:cubicBezTo>
                <a:cubicBezTo>
                  <a:pt x="2788" y="11360"/>
                  <a:pt x="2797" y="11352"/>
                  <a:pt x="2807" y="11341"/>
                </a:cubicBezTo>
                <a:cubicBezTo>
                  <a:pt x="2824" y="11322"/>
                  <a:pt x="2844" y="11297"/>
                  <a:pt x="2854" y="11274"/>
                </a:cubicBezTo>
                <a:cubicBezTo>
                  <a:pt x="2858" y="11265"/>
                  <a:pt x="2861" y="11252"/>
                  <a:pt x="2865" y="11242"/>
                </a:cubicBezTo>
                <a:cubicBezTo>
                  <a:pt x="2870" y="11229"/>
                  <a:pt x="2873" y="11213"/>
                  <a:pt x="2877" y="11199"/>
                </a:cubicBezTo>
                <a:cubicBezTo>
                  <a:pt x="2882" y="11182"/>
                  <a:pt x="2886" y="11166"/>
                  <a:pt x="2890" y="11149"/>
                </a:cubicBezTo>
                <a:cubicBezTo>
                  <a:pt x="2901" y="11106"/>
                  <a:pt x="2923" y="11076"/>
                  <a:pt x="2942" y="11036"/>
                </a:cubicBezTo>
                <a:cubicBezTo>
                  <a:pt x="2948" y="11023"/>
                  <a:pt x="2951" y="11010"/>
                  <a:pt x="2958" y="10997"/>
                </a:cubicBezTo>
                <a:cubicBezTo>
                  <a:pt x="2974" y="10965"/>
                  <a:pt x="2995" y="10933"/>
                  <a:pt x="3010" y="10900"/>
                </a:cubicBezTo>
                <a:cubicBezTo>
                  <a:pt x="3014" y="10891"/>
                  <a:pt x="3015" y="10880"/>
                  <a:pt x="3020" y="10871"/>
                </a:cubicBezTo>
                <a:cubicBezTo>
                  <a:pt x="3036" y="10839"/>
                  <a:pt x="3051" y="10802"/>
                  <a:pt x="3074" y="10776"/>
                </a:cubicBezTo>
                <a:cubicBezTo>
                  <a:pt x="3089" y="10758"/>
                  <a:pt x="3116" y="10731"/>
                  <a:pt x="3133" y="10717"/>
                </a:cubicBezTo>
                <a:cubicBezTo>
                  <a:pt x="3139" y="10712"/>
                  <a:pt x="3150" y="10709"/>
                  <a:pt x="3158" y="10703"/>
                </a:cubicBezTo>
                <a:cubicBezTo>
                  <a:pt x="3170" y="10694"/>
                  <a:pt x="3186" y="10686"/>
                  <a:pt x="3196" y="10676"/>
                </a:cubicBezTo>
                <a:cubicBezTo>
                  <a:pt x="3201" y="10671"/>
                  <a:pt x="3206" y="10662"/>
                  <a:pt x="3209" y="10660"/>
                </a:cubicBezTo>
                <a:cubicBezTo>
                  <a:pt x="3212" y="10657"/>
                  <a:pt x="3215" y="10652"/>
                  <a:pt x="3219" y="10649"/>
                </a:cubicBezTo>
                <a:cubicBezTo>
                  <a:pt x="3227" y="10643"/>
                  <a:pt x="3235" y="10636"/>
                  <a:pt x="3243" y="10631"/>
                </a:cubicBezTo>
                <a:cubicBezTo>
                  <a:pt x="3251" y="10626"/>
                  <a:pt x="3280" y="10611"/>
                  <a:pt x="3282" y="10610"/>
                </a:cubicBezTo>
                <a:cubicBezTo>
                  <a:pt x="3303" y="10604"/>
                  <a:pt x="3332" y="10604"/>
                  <a:pt x="3354" y="10602"/>
                </a:cubicBezTo>
                <a:cubicBezTo>
                  <a:pt x="3375" y="10600"/>
                  <a:pt x="3395" y="10602"/>
                  <a:pt x="3415" y="10597"/>
                </a:cubicBezTo>
                <a:cubicBezTo>
                  <a:pt x="3417" y="10597"/>
                  <a:pt x="3418" y="10592"/>
                  <a:pt x="3420" y="10592"/>
                </a:cubicBezTo>
                <a:cubicBezTo>
                  <a:pt x="3425" y="10591"/>
                  <a:pt x="3427" y="10591"/>
                  <a:pt x="3433" y="10590"/>
                </a:cubicBezTo>
                <a:cubicBezTo>
                  <a:pt x="3448" y="10587"/>
                  <a:pt x="3462" y="10585"/>
                  <a:pt x="3477" y="10583"/>
                </a:cubicBezTo>
                <a:cubicBezTo>
                  <a:pt x="3482" y="10583"/>
                  <a:pt x="3486" y="10581"/>
                  <a:pt x="3490" y="10581"/>
                </a:cubicBezTo>
                <a:cubicBezTo>
                  <a:pt x="3516" y="10579"/>
                  <a:pt x="3551" y="10582"/>
                  <a:pt x="3572" y="10584"/>
                </a:cubicBezTo>
                <a:cubicBezTo>
                  <a:pt x="3578" y="10585"/>
                  <a:pt x="3586" y="10588"/>
                  <a:pt x="3592" y="10590"/>
                </a:cubicBezTo>
                <a:cubicBezTo>
                  <a:pt x="3601" y="10593"/>
                  <a:pt x="3617" y="10586"/>
                  <a:pt x="3623" y="10593"/>
                </a:cubicBezTo>
                <a:cubicBezTo>
                  <a:pt x="3626" y="10596"/>
                  <a:pt x="3626" y="10602"/>
                  <a:pt x="3628" y="10606"/>
                </a:cubicBezTo>
                <a:cubicBezTo>
                  <a:pt x="3637" y="10621"/>
                  <a:pt x="3626" y="10651"/>
                  <a:pt x="3633" y="10669"/>
                </a:cubicBezTo>
                <a:cubicBezTo>
                  <a:pt x="3640" y="10687"/>
                  <a:pt x="3639" y="10688"/>
                  <a:pt x="3653" y="10701"/>
                </a:cubicBezTo>
                <a:cubicBezTo>
                  <a:pt x="3656" y="10704"/>
                  <a:pt x="3659" y="10704"/>
                  <a:pt x="3662" y="10706"/>
                </a:cubicBezTo>
                <a:cubicBezTo>
                  <a:pt x="3670" y="10712"/>
                  <a:pt x="3675" y="10716"/>
                  <a:pt x="3685" y="10719"/>
                </a:cubicBezTo>
                <a:cubicBezTo>
                  <a:pt x="3700" y="10724"/>
                  <a:pt x="3725" y="10720"/>
                  <a:pt x="3741" y="10721"/>
                </a:cubicBezTo>
                <a:cubicBezTo>
                  <a:pt x="3757" y="10722"/>
                  <a:pt x="3776" y="10717"/>
                  <a:pt x="3789" y="10726"/>
                </a:cubicBezTo>
                <a:cubicBezTo>
                  <a:pt x="3793" y="10729"/>
                  <a:pt x="3803" y="10745"/>
                  <a:pt x="3807" y="10751"/>
                </a:cubicBezTo>
                <a:cubicBezTo>
                  <a:pt x="3810" y="10755"/>
                  <a:pt x="3811" y="10764"/>
                  <a:pt x="3813" y="10769"/>
                </a:cubicBezTo>
                <a:cubicBezTo>
                  <a:pt x="3816" y="10774"/>
                  <a:pt x="3816" y="10777"/>
                  <a:pt x="3818" y="10782"/>
                </a:cubicBezTo>
                <a:cubicBezTo>
                  <a:pt x="3819" y="10785"/>
                  <a:pt x="3817" y="10788"/>
                  <a:pt x="3818" y="10791"/>
                </a:cubicBezTo>
                <a:cubicBezTo>
                  <a:pt x="3828" y="10795"/>
                  <a:pt x="3835" y="10795"/>
                  <a:pt x="3843" y="10798"/>
                </a:cubicBezTo>
                <a:cubicBezTo>
                  <a:pt x="3845" y="10799"/>
                  <a:pt x="3846" y="10800"/>
                  <a:pt x="3848" y="10801"/>
                </a:cubicBezTo>
                <a:cubicBezTo>
                  <a:pt x="3851" y="10802"/>
                  <a:pt x="3849" y="10806"/>
                  <a:pt x="3852" y="10807"/>
                </a:cubicBezTo>
                <a:cubicBezTo>
                  <a:pt x="3856" y="10808"/>
                  <a:pt x="3865" y="10808"/>
                  <a:pt x="3870" y="10810"/>
                </a:cubicBezTo>
                <a:cubicBezTo>
                  <a:pt x="3872" y="10817"/>
                  <a:pt x="3873" y="10820"/>
                  <a:pt x="3874" y="10825"/>
                </a:cubicBezTo>
                <a:cubicBezTo>
                  <a:pt x="3875" y="10828"/>
                  <a:pt x="3880" y="10825"/>
                  <a:pt x="3881" y="10832"/>
                </a:cubicBezTo>
                <a:cubicBezTo>
                  <a:pt x="3885" y="10856"/>
                  <a:pt x="3893" y="10897"/>
                  <a:pt x="3893" y="10911"/>
                </a:cubicBezTo>
                <a:cubicBezTo>
                  <a:pt x="3893" y="10915"/>
                  <a:pt x="3886" y="10899"/>
                  <a:pt x="3886" y="10903"/>
                </a:cubicBezTo>
                <a:cubicBezTo>
                  <a:pt x="3886" y="10906"/>
                  <a:pt x="3886" y="10907"/>
                  <a:pt x="3886" y="10909"/>
                </a:cubicBezTo>
                <a:cubicBezTo>
                  <a:pt x="3892" y="10898"/>
                  <a:pt x="3897" y="10911"/>
                  <a:pt x="3902" y="10895"/>
                </a:cubicBezTo>
                <a:cubicBezTo>
                  <a:pt x="3903" y="10891"/>
                  <a:pt x="3902" y="10885"/>
                  <a:pt x="3904" y="10882"/>
                </a:cubicBezTo>
                <a:cubicBezTo>
                  <a:pt x="3907" y="10876"/>
                  <a:pt x="3904" y="10876"/>
                  <a:pt x="3906" y="10869"/>
                </a:cubicBezTo>
                <a:cubicBezTo>
                  <a:pt x="3906" y="10873"/>
                  <a:pt x="3906" y="10878"/>
                  <a:pt x="3906" y="10882"/>
                </a:cubicBezTo>
              </a:path>
              <a:path w="9139" h="7866">
                <a:moveTo>
                  <a:pt x="3915" y="10455"/>
                </a:moveTo>
                <a:cubicBezTo>
                  <a:pt x="3927" y="10451"/>
                  <a:pt x="3940" y="10445"/>
                  <a:pt x="3952" y="10443"/>
                </a:cubicBezTo>
                <a:cubicBezTo>
                  <a:pt x="3960" y="10442"/>
                  <a:pt x="3979" y="10441"/>
                  <a:pt x="3985" y="10445"/>
                </a:cubicBezTo>
                <a:cubicBezTo>
                  <a:pt x="3994" y="10454"/>
                  <a:pt x="3997" y="10457"/>
                  <a:pt x="4004" y="10463"/>
                </a:cubicBezTo>
              </a:path>
              <a:path w="9139" h="7866">
                <a:moveTo>
                  <a:pt x="4058" y="10663"/>
                </a:moveTo>
                <a:cubicBezTo>
                  <a:pt x="4070" y="10677"/>
                  <a:pt x="4078" y="10691"/>
                  <a:pt x="4089" y="10705"/>
                </a:cubicBezTo>
                <a:cubicBezTo>
                  <a:pt x="4091" y="10707"/>
                  <a:pt x="4096" y="10711"/>
                  <a:pt x="4098" y="10712"/>
                </a:cubicBezTo>
                <a:cubicBezTo>
                  <a:pt x="4098" y="10712"/>
                  <a:pt x="4099" y="10712"/>
                  <a:pt x="4099" y="10712"/>
                </a:cubicBezTo>
                <a:cubicBezTo>
                  <a:pt x="4099" y="10718"/>
                  <a:pt x="4100" y="10721"/>
                  <a:pt x="4101" y="10726"/>
                </a:cubicBezTo>
                <a:cubicBezTo>
                  <a:pt x="4102" y="10729"/>
                  <a:pt x="4101" y="10729"/>
                  <a:pt x="4099" y="10730"/>
                </a:cubicBezTo>
              </a:path>
              <a:path w="9139" h="7866">
                <a:moveTo>
                  <a:pt x="5255" y="11099"/>
                </a:moveTo>
                <a:cubicBezTo>
                  <a:pt x="5246" y="11086"/>
                  <a:pt x="5239" y="11076"/>
                  <a:pt x="5234" y="11061"/>
                </a:cubicBezTo>
                <a:cubicBezTo>
                  <a:pt x="5230" y="11050"/>
                  <a:pt x="5230" y="11050"/>
                  <a:pt x="5236" y="11041"/>
                </a:cubicBezTo>
                <a:cubicBezTo>
                  <a:pt x="5245" y="11029"/>
                  <a:pt x="5260" y="11015"/>
                  <a:pt x="5273" y="11009"/>
                </a:cubicBezTo>
                <a:cubicBezTo>
                  <a:pt x="5290" y="11002"/>
                  <a:pt x="5308" y="10994"/>
                  <a:pt x="5325" y="10988"/>
                </a:cubicBezTo>
                <a:cubicBezTo>
                  <a:pt x="5346" y="10981"/>
                  <a:pt x="5367" y="10975"/>
                  <a:pt x="5388" y="10968"/>
                </a:cubicBezTo>
                <a:cubicBezTo>
                  <a:pt x="5405" y="10962"/>
                  <a:pt x="5420" y="10957"/>
                  <a:pt x="5436" y="10948"/>
                </a:cubicBezTo>
                <a:cubicBezTo>
                  <a:pt x="5444" y="10944"/>
                  <a:pt x="5450" y="10937"/>
                  <a:pt x="5458" y="10934"/>
                </a:cubicBezTo>
                <a:cubicBezTo>
                  <a:pt x="5464" y="10931"/>
                  <a:pt x="5469" y="10932"/>
                  <a:pt x="5476" y="10932"/>
                </a:cubicBezTo>
              </a:path>
              <a:path w="9139" h="7866">
                <a:moveTo>
                  <a:pt x="5245" y="11156"/>
                </a:moveTo>
                <a:cubicBezTo>
                  <a:pt x="5237" y="11104"/>
                  <a:pt x="5263" y="11058"/>
                  <a:pt x="5230" y="11015"/>
                </a:cubicBezTo>
                <a:cubicBezTo>
                  <a:pt x="5201" y="10977"/>
                  <a:pt x="5145" y="10959"/>
                  <a:pt x="5103" y="10932"/>
                </a:cubicBezTo>
                <a:cubicBezTo>
                  <a:pt x="5070" y="10911"/>
                  <a:pt x="4984" y="10850"/>
                  <a:pt x="4949" y="10859"/>
                </a:cubicBezTo>
                <a:cubicBezTo>
                  <a:pt x="4918" y="10867"/>
                  <a:pt x="4906" y="10866"/>
                  <a:pt x="4892" y="10891"/>
                </a:cubicBezTo>
                <a:cubicBezTo>
                  <a:pt x="4866" y="10938"/>
                  <a:pt x="4908" y="11088"/>
                  <a:pt x="4922" y="11135"/>
                </a:cubicBezTo>
                <a:cubicBezTo>
                  <a:pt x="4935" y="11178"/>
                  <a:pt x="4951" y="11218"/>
                  <a:pt x="4970" y="11257"/>
                </a:cubicBezTo>
                <a:cubicBezTo>
                  <a:pt x="4985" y="11287"/>
                  <a:pt x="5008" y="11306"/>
                  <a:pt x="5021" y="11334"/>
                </a:cubicBezTo>
                <a:cubicBezTo>
                  <a:pt x="5046" y="11387"/>
                  <a:pt x="5065" y="11430"/>
                  <a:pt x="5094" y="11477"/>
                </a:cubicBezTo>
                <a:cubicBezTo>
                  <a:pt x="5109" y="11502"/>
                  <a:pt x="5128" y="11520"/>
                  <a:pt x="5142" y="11545"/>
                </a:cubicBezTo>
                <a:cubicBezTo>
                  <a:pt x="5155" y="11569"/>
                  <a:pt x="5179" y="11595"/>
                  <a:pt x="5185" y="11620"/>
                </a:cubicBezTo>
                <a:cubicBezTo>
                  <a:pt x="5192" y="11648"/>
                  <a:pt x="5194" y="11676"/>
                  <a:pt x="5194" y="11705"/>
                </a:cubicBezTo>
                <a:cubicBezTo>
                  <a:pt x="5194" y="11749"/>
                  <a:pt x="5170" y="11798"/>
                  <a:pt x="5166" y="11842"/>
                </a:cubicBezTo>
                <a:cubicBezTo>
                  <a:pt x="5160" y="11906"/>
                  <a:pt x="5157" y="11970"/>
                  <a:pt x="5150" y="12034"/>
                </a:cubicBezTo>
                <a:cubicBezTo>
                  <a:pt x="5135" y="12173"/>
                  <a:pt x="5156" y="12318"/>
                  <a:pt x="5108" y="12448"/>
                </a:cubicBezTo>
                <a:cubicBezTo>
                  <a:pt x="5091" y="12494"/>
                  <a:pt x="5063" y="12538"/>
                  <a:pt x="5037" y="12579"/>
                </a:cubicBezTo>
                <a:cubicBezTo>
                  <a:pt x="4995" y="12646"/>
                  <a:pt x="4948" y="12696"/>
                  <a:pt x="4893" y="12751"/>
                </a:cubicBezTo>
                <a:cubicBezTo>
                  <a:pt x="4851" y="12793"/>
                  <a:pt x="4807" y="12828"/>
                  <a:pt x="4755" y="12860"/>
                </a:cubicBezTo>
                <a:cubicBezTo>
                  <a:pt x="4716" y="12884"/>
                  <a:pt x="4684" y="12897"/>
                  <a:pt x="4642" y="12914"/>
                </a:cubicBezTo>
                <a:cubicBezTo>
                  <a:pt x="4617" y="12924"/>
                  <a:pt x="4597" y="12936"/>
                  <a:pt x="4569" y="12943"/>
                </a:cubicBezTo>
                <a:cubicBezTo>
                  <a:pt x="4502" y="12959"/>
                  <a:pt x="4435" y="12966"/>
                  <a:pt x="4368" y="12984"/>
                </a:cubicBezTo>
                <a:cubicBezTo>
                  <a:pt x="4330" y="12994"/>
                  <a:pt x="4293" y="13000"/>
                  <a:pt x="4257" y="13014"/>
                </a:cubicBezTo>
                <a:cubicBezTo>
                  <a:pt x="4222" y="13028"/>
                  <a:pt x="4195" y="13050"/>
                  <a:pt x="4162" y="13063"/>
                </a:cubicBezTo>
                <a:cubicBezTo>
                  <a:pt x="4101" y="13087"/>
                  <a:pt x="4023" y="13131"/>
                  <a:pt x="3960" y="13145"/>
                </a:cubicBezTo>
                <a:cubicBezTo>
                  <a:pt x="3873" y="13164"/>
                  <a:pt x="3769" y="13158"/>
                  <a:pt x="3680" y="13160"/>
                </a:cubicBezTo>
                <a:cubicBezTo>
                  <a:pt x="3580" y="13162"/>
                  <a:pt x="3483" y="13148"/>
                  <a:pt x="3386" y="13147"/>
                </a:cubicBezTo>
                <a:cubicBezTo>
                  <a:pt x="3287" y="13146"/>
                  <a:pt x="3193" y="13127"/>
                  <a:pt x="3094" y="13120"/>
                </a:cubicBezTo>
                <a:cubicBezTo>
                  <a:pt x="3013" y="13115"/>
                  <a:pt x="2936" y="13125"/>
                  <a:pt x="2857" y="13131"/>
                </a:cubicBezTo>
                <a:cubicBezTo>
                  <a:pt x="2819" y="13134"/>
                  <a:pt x="2785" y="13133"/>
                  <a:pt x="2748" y="13138"/>
                </a:cubicBezTo>
                <a:cubicBezTo>
                  <a:pt x="2634" y="13152"/>
                  <a:pt x="2531" y="13166"/>
                  <a:pt x="2417" y="13174"/>
                </a:cubicBezTo>
                <a:cubicBezTo>
                  <a:pt x="2334" y="13180"/>
                  <a:pt x="2254" y="13197"/>
                  <a:pt x="2176" y="13210"/>
                </a:cubicBezTo>
                <a:cubicBezTo>
                  <a:pt x="2129" y="13218"/>
                  <a:pt x="2079" y="13218"/>
                  <a:pt x="2033" y="13231"/>
                </a:cubicBezTo>
                <a:cubicBezTo>
                  <a:pt x="2012" y="13237"/>
                  <a:pt x="1990" y="13248"/>
                  <a:pt x="1968" y="13255"/>
                </a:cubicBezTo>
                <a:cubicBezTo>
                  <a:pt x="1932" y="13267"/>
                  <a:pt x="1898" y="13284"/>
                  <a:pt x="1861" y="13294"/>
                </a:cubicBezTo>
                <a:cubicBezTo>
                  <a:pt x="1802" y="13310"/>
                  <a:pt x="1746" y="13313"/>
                  <a:pt x="1684" y="13319"/>
                </a:cubicBezTo>
                <a:cubicBezTo>
                  <a:pt x="1596" y="13327"/>
                  <a:pt x="1542" y="13335"/>
                  <a:pt x="1461" y="13373"/>
                </a:cubicBezTo>
                <a:cubicBezTo>
                  <a:pt x="1386" y="13408"/>
                  <a:pt x="1319" y="13458"/>
                  <a:pt x="1248" y="13500"/>
                </a:cubicBezTo>
                <a:cubicBezTo>
                  <a:pt x="1189" y="13535"/>
                  <a:pt x="1128" y="13568"/>
                  <a:pt x="1071" y="13606"/>
                </a:cubicBezTo>
                <a:cubicBezTo>
                  <a:pt x="1006" y="13650"/>
                  <a:pt x="941" y="13699"/>
                  <a:pt x="879" y="13747"/>
                </a:cubicBezTo>
                <a:cubicBezTo>
                  <a:pt x="865" y="13758"/>
                  <a:pt x="852" y="13763"/>
                  <a:pt x="838" y="13774"/>
                </a:cubicBezTo>
                <a:cubicBezTo>
                  <a:pt x="817" y="13790"/>
                  <a:pt x="794" y="13815"/>
                  <a:pt x="780" y="13826"/>
                </a:cubicBezTo>
              </a:path>
              <a:path w="9139" h="7866">
                <a:moveTo>
                  <a:pt x="2736" y="11513"/>
                </a:moveTo>
                <a:cubicBezTo>
                  <a:pt x="2724" y="11516"/>
                  <a:pt x="2706" y="11511"/>
                  <a:pt x="2696" y="11515"/>
                </a:cubicBezTo>
                <a:cubicBezTo>
                  <a:pt x="2693" y="11516"/>
                  <a:pt x="2692" y="11524"/>
                  <a:pt x="2691" y="11524"/>
                </a:cubicBezTo>
                <a:cubicBezTo>
                  <a:pt x="2688" y="11526"/>
                  <a:pt x="2684" y="11526"/>
                  <a:pt x="2680" y="11529"/>
                </a:cubicBezTo>
                <a:cubicBezTo>
                  <a:pt x="2676" y="11532"/>
                  <a:pt x="2671" y="11532"/>
                  <a:pt x="2666" y="11536"/>
                </a:cubicBezTo>
                <a:cubicBezTo>
                  <a:pt x="2656" y="11544"/>
                  <a:pt x="2650" y="11559"/>
                  <a:pt x="2641" y="11567"/>
                </a:cubicBezTo>
                <a:cubicBezTo>
                  <a:pt x="2633" y="11574"/>
                  <a:pt x="2624" y="11578"/>
                  <a:pt x="2617" y="11584"/>
                </a:cubicBezTo>
                <a:cubicBezTo>
                  <a:pt x="2611" y="11589"/>
                  <a:pt x="2607" y="11601"/>
                  <a:pt x="2603" y="11604"/>
                </a:cubicBezTo>
                <a:cubicBezTo>
                  <a:pt x="2589" y="11616"/>
                  <a:pt x="2572" y="11633"/>
                  <a:pt x="2558" y="11644"/>
                </a:cubicBezTo>
                <a:cubicBezTo>
                  <a:pt x="2551" y="11650"/>
                  <a:pt x="2543" y="11658"/>
                  <a:pt x="2535" y="11662"/>
                </a:cubicBezTo>
                <a:cubicBezTo>
                  <a:pt x="2527" y="11666"/>
                  <a:pt x="2513" y="11666"/>
                  <a:pt x="2506" y="11670"/>
                </a:cubicBezTo>
                <a:cubicBezTo>
                  <a:pt x="2497" y="11675"/>
                  <a:pt x="2487" y="11678"/>
                  <a:pt x="2477" y="11683"/>
                </a:cubicBezTo>
                <a:cubicBezTo>
                  <a:pt x="2461" y="11691"/>
                  <a:pt x="2447" y="11704"/>
                  <a:pt x="2431" y="11712"/>
                </a:cubicBezTo>
                <a:cubicBezTo>
                  <a:pt x="2404" y="11725"/>
                  <a:pt x="2380" y="11734"/>
                  <a:pt x="2352" y="11744"/>
                </a:cubicBezTo>
                <a:cubicBezTo>
                  <a:pt x="2342" y="11747"/>
                  <a:pt x="2332" y="11749"/>
                  <a:pt x="2322" y="11753"/>
                </a:cubicBezTo>
                <a:cubicBezTo>
                  <a:pt x="2305" y="11760"/>
                  <a:pt x="2288" y="11768"/>
                  <a:pt x="2273" y="11774"/>
                </a:cubicBezTo>
                <a:cubicBezTo>
                  <a:pt x="2269" y="11776"/>
                  <a:pt x="2263" y="11781"/>
                  <a:pt x="2257" y="11783"/>
                </a:cubicBezTo>
                <a:cubicBezTo>
                  <a:pt x="2248" y="11786"/>
                  <a:pt x="2239" y="11788"/>
                  <a:pt x="2228" y="11791"/>
                </a:cubicBezTo>
                <a:cubicBezTo>
                  <a:pt x="2218" y="11793"/>
                  <a:pt x="2208" y="11796"/>
                  <a:pt x="2198" y="11799"/>
                </a:cubicBezTo>
                <a:cubicBezTo>
                  <a:pt x="2190" y="11801"/>
                  <a:pt x="2180" y="11800"/>
                  <a:pt x="2171" y="11803"/>
                </a:cubicBezTo>
                <a:cubicBezTo>
                  <a:pt x="2149" y="11810"/>
                  <a:pt x="2129" y="11823"/>
                  <a:pt x="2106" y="11828"/>
                </a:cubicBezTo>
                <a:cubicBezTo>
                  <a:pt x="2079" y="11834"/>
                  <a:pt x="2051" y="11835"/>
                  <a:pt x="2024" y="11841"/>
                </a:cubicBezTo>
                <a:cubicBezTo>
                  <a:pt x="2012" y="11844"/>
                  <a:pt x="2002" y="11848"/>
                  <a:pt x="1990" y="11851"/>
                </a:cubicBezTo>
                <a:cubicBezTo>
                  <a:pt x="1966" y="11856"/>
                  <a:pt x="1944" y="11860"/>
                  <a:pt x="1920" y="11862"/>
                </a:cubicBezTo>
                <a:cubicBezTo>
                  <a:pt x="1888" y="11865"/>
                  <a:pt x="1857" y="11864"/>
                  <a:pt x="1825" y="11868"/>
                </a:cubicBezTo>
                <a:cubicBezTo>
                  <a:pt x="1795" y="11872"/>
                  <a:pt x="1767" y="11880"/>
                  <a:pt x="1737" y="11882"/>
                </a:cubicBezTo>
                <a:cubicBezTo>
                  <a:pt x="1686" y="11886"/>
                  <a:pt x="1627" y="11871"/>
                  <a:pt x="1580" y="11891"/>
                </a:cubicBezTo>
                <a:cubicBezTo>
                  <a:pt x="1563" y="11898"/>
                  <a:pt x="1555" y="11909"/>
                  <a:pt x="1540" y="11918"/>
                </a:cubicBezTo>
                <a:cubicBezTo>
                  <a:pt x="1530" y="11924"/>
                  <a:pt x="1521" y="11930"/>
                  <a:pt x="1511" y="11937"/>
                </a:cubicBezTo>
                <a:cubicBezTo>
                  <a:pt x="1484" y="11955"/>
                  <a:pt x="1465" y="11978"/>
                  <a:pt x="1440" y="11998"/>
                </a:cubicBezTo>
                <a:cubicBezTo>
                  <a:pt x="1429" y="12007"/>
                  <a:pt x="1418" y="12014"/>
                  <a:pt x="1406" y="12023"/>
                </a:cubicBezTo>
                <a:cubicBezTo>
                  <a:pt x="1395" y="12031"/>
                  <a:pt x="1382" y="12038"/>
                  <a:pt x="1372" y="12045"/>
                </a:cubicBezTo>
                <a:cubicBezTo>
                  <a:pt x="1352" y="12059"/>
                  <a:pt x="1331" y="12071"/>
                  <a:pt x="1309" y="12084"/>
                </a:cubicBezTo>
                <a:cubicBezTo>
                  <a:pt x="1288" y="12097"/>
                  <a:pt x="1266" y="12109"/>
                  <a:pt x="1244" y="12120"/>
                </a:cubicBezTo>
                <a:cubicBezTo>
                  <a:pt x="1231" y="12127"/>
                  <a:pt x="1213" y="12132"/>
                  <a:pt x="1201" y="12140"/>
                </a:cubicBezTo>
                <a:cubicBezTo>
                  <a:pt x="1170" y="12160"/>
                  <a:pt x="1154" y="12171"/>
                  <a:pt x="1117" y="12179"/>
                </a:cubicBezTo>
                <a:cubicBezTo>
                  <a:pt x="1098" y="12183"/>
                  <a:pt x="1078" y="12184"/>
                  <a:pt x="1058" y="12185"/>
                </a:cubicBezTo>
                <a:cubicBezTo>
                  <a:pt x="965" y="12189"/>
                  <a:pt x="870" y="12190"/>
                  <a:pt x="778" y="12190"/>
                </a:cubicBezTo>
                <a:cubicBezTo>
                  <a:pt x="684" y="12190"/>
                  <a:pt x="591" y="12190"/>
                  <a:pt x="497" y="12190"/>
                </a:cubicBezTo>
                <a:cubicBezTo>
                  <a:pt x="497" y="12197"/>
                  <a:pt x="497" y="12203"/>
                  <a:pt x="497" y="12210"/>
                </a:cubicBezTo>
              </a:path>
            </a:pathLst>
          </a:custGeom>
          <a:noFill/>
          <a:ln cap="rnd" w="572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44440" y="3805200"/>
            <a:ext cx="493920" cy="496800"/>
          </a:xfrm>
          <a:custGeom>
            <a:avLst/>
            <a:gdLst/>
            <a:ahLst/>
            <a:rect l="l" t="t" r="r" b="b"/>
            <a:pathLst>
              <a:path w="1374" h="1377">
                <a:moveTo>
                  <a:pt x="2051" y="11645"/>
                </a:moveTo>
                <a:cubicBezTo>
                  <a:pt x="2038" y="11661"/>
                  <a:pt x="2024" y="11677"/>
                  <a:pt x="2011" y="11694"/>
                </a:cubicBezTo>
                <a:cubicBezTo>
                  <a:pt x="2008" y="11698"/>
                  <a:pt x="2007" y="11703"/>
                  <a:pt x="2003" y="11706"/>
                </a:cubicBezTo>
                <a:cubicBezTo>
                  <a:pt x="2002" y="11706"/>
                  <a:pt x="2002" y="11705"/>
                  <a:pt x="2001" y="11705"/>
                </a:cubicBezTo>
                <a:cubicBezTo>
                  <a:pt x="1995" y="11685"/>
                  <a:pt x="1992" y="11665"/>
                  <a:pt x="1990" y="11644"/>
                </a:cubicBezTo>
                <a:cubicBezTo>
                  <a:pt x="1986" y="11604"/>
                  <a:pt x="1987" y="11564"/>
                  <a:pt x="1986" y="11524"/>
                </a:cubicBezTo>
                <a:cubicBezTo>
                  <a:pt x="1985" y="11493"/>
                  <a:pt x="1984" y="11463"/>
                  <a:pt x="1985" y="11432"/>
                </a:cubicBezTo>
                <a:cubicBezTo>
                  <a:pt x="1985" y="11425"/>
                  <a:pt x="1985" y="11418"/>
                  <a:pt x="1985" y="11411"/>
                </a:cubicBezTo>
              </a:path>
              <a:path w="1374" h="1377">
                <a:moveTo>
                  <a:pt x="2026" y="11545"/>
                </a:moveTo>
                <a:cubicBezTo>
                  <a:pt x="2029" y="11501"/>
                  <a:pt x="2035" y="11456"/>
                  <a:pt x="2037" y="11412"/>
                </a:cubicBezTo>
                <a:cubicBezTo>
                  <a:pt x="2037" y="11403"/>
                  <a:pt x="2042" y="11304"/>
                  <a:pt x="2029" y="11307"/>
                </a:cubicBezTo>
                <a:cubicBezTo>
                  <a:pt x="2020" y="11309"/>
                  <a:pt x="2015" y="11337"/>
                  <a:pt x="2013" y="11344"/>
                </a:cubicBezTo>
                <a:cubicBezTo>
                  <a:pt x="1999" y="11389"/>
                  <a:pt x="2001" y="11439"/>
                  <a:pt x="1983" y="11484"/>
                </a:cubicBezTo>
                <a:cubicBezTo>
                  <a:pt x="1975" y="11506"/>
                  <a:pt x="1964" y="11519"/>
                  <a:pt x="1951" y="11536"/>
                </a:cubicBezTo>
                <a:cubicBezTo>
                  <a:pt x="1949" y="11539"/>
                  <a:pt x="1944" y="11537"/>
                  <a:pt x="1942" y="11540"/>
                </a:cubicBezTo>
                <a:cubicBezTo>
                  <a:pt x="1935" y="11520"/>
                  <a:pt x="1921" y="11511"/>
                  <a:pt x="1922" y="11482"/>
                </a:cubicBezTo>
                <a:cubicBezTo>
                  <a:pt x="1923" y="11439"/>
                  <a:pt x="1934" y="11393"/>
                  <a:pt x="1942" y="11351"/>
                </a:cubicBezTo>
                <a:cubicBezTo>
                  <a:pt x="1953" y="11294"/>
                  <a:pt x="1952" y="11245"/>
                  <a:pt x="1947" y="11188"/>
                </a:cubicBezTo>
                <a:cubicBezTo>
                  <a:pt x="1939" y="11213"/>
                  <a:pt x="1929" y="11239"/>
                  <a:pt x="1922" y="11264"/>
                </a:cubicBezTo>
                <a:cubicBezTo>
                  <a:pt x="1902" y="11336"/>
                  <a:pt x="1897" y="11411"/>
                  <a:pt x="1877" y="11482"/>
                </a:cubicBezTo>
                <a:cubicBezTo>
                  <a:pt x="1869" y="11509"/>
                  <a:pt x="1860" y="11554"/>
                  <a:pt x="1841" y="11577"/>
                </a:cubicBezTo>
                <a:cubicBezTo>
                  <a:pt x="1839" y="11579"/>
                  <a:pt x="1834" y="11597"/>
                  <a:pt x="1830" y="11597"/>
                </a:cubicBezTo>
                <a:cubicBezTo>
                  <a:pt x="1822" y="11597"/>
                  <a:pt x="1830" y="11583"/>
                  <a:pt x="1827" y="11574"/>
                </a:cubicBezTo>
                <a:cubicBezTo>
                  <a:pt x="1817" y="11543"/>
                  <a:pt x="1822" y="11506"/>
                  <a:pt x="1823" y="11473"/>
                </a:cubicBezTo>
                <a:cubicBezTo>
                  <a:pt x="1827" y="11387"/>
                  <a:pt x="1832" y="11307"/>
                  <a:pt x="1820" y="11222"/>
                </a:cubicBezTo>
                <a:cubicBezTo>
                  <a:pt x="1814" y="11235"/>
                  <a:pt x="1807" y="11236"/>
                  <a:pt x="1802" y="11249"/>
                </a:cubicBezTo>
                <a:cubicBezTo>
                  <a:pt x="1785" y="11297"/>
                  <a:pt x="1778" y="11346"/>
                  <a:pt x="1768" y="11396"/>
                </a:cubicBezTo>
                <a:cubicBezTo>
                  <a:pt x="1759" y="11444"/>
                  <a:pt x="1748" y="11492"/>
                  <a:pt x="1744" y="11540"/>
                </a:cubicBezTo>
                <a:cubicBezTo>
                  <a:pt x="1744" y="11554"/>
                  <a:pt x="1744" y="11558"/>
                  <a:pt x="1744" y="11567"/>
                </a:cubicBezTo>
                <a:cubicBezTo>
                  <a:pt x="1743" y="11560"/>
                  <a:pt x="1744" y="11586"/>
                  <a:pt x="1743" y="11579"/>
                </a:cubicBezTo>
                <a:cubicBezTo>
                  <a:pt x="1741" y="11559"/>
                  <a:pt x="1739" y="11538"/>
                  <a:pt x="1739" y="11516"/>
                </a:cubicBezTo>
                <a:cubicBezTo>
                  <a:pt x="1738" y="11459"/>
                  <a:pt x="1744" y="11397"/>
                  <a:pt x="1732" y="11343"/>
                </a:cubicBezTo>
                <a:cubicBezTo>
                  <a:pt x="1730" y="11344"/>
                  <a:pt x="1729" y="11345"/>
                  <a:pt x="1727" y="11346"/>
                </a:cubicBezTo>
                <a:cubicBezTo>
                  <a:pt x="1716" y="11385"/>
                  <a:pt x="1706" y="11423"/>
                  <a:pt x="1698" y="11463"/>
                </a:cubicBezTo>
                <a:cubicBezTo>
                  <a:pt x="1696" y="11475"/>
                  <a:pt x="1689" y="11587"/>
                  <a:pt x="1676" y="11593"/>
                </a:cubicBezTo>
                <a:cubicBezTo>
                  <a:pt x="1663" y="11599"/>
                  <a:pt x="1680" y="11599"/>
                  <a:pt x="1664" y="11584"/>
                </a:cubicBezTo>
                <a:cubicBezTo>
                  <a:pt x="1648" y="11569"/>
                  <a:pt x="1588" y="11443"/>
                  <a:pt x="1556" y="11475"/>
                </a:cubicBezTo>
                <a:cubicBezTo>
                  <a:pt x="1537" y="11494"/>
                  <a:pt x="1540" y="11556"/>
                  <a:pt x="1538" y="11581"/>
                </a:cubicBezTo>
                <a:cubicBezTo>
                  <a:pt x="1537" y="11602"/>
                  <a:pt x="1549" y="11676"/>
                  <a:pt x="1531" y="11685"/>
                </a:cubicBezTo>
                <a:cubicBezTo>
                  <a:pt x="1494" y="11704"/>
                  <a:pt x="1469" y="11666"/>
                  <a:pt x="1440" y="11653"/>
                </a:cubicBezTo>
                <a:cubicBezTo>
                  <a:pt x="1421" y="11644"/>
                  <a:pt x="1397" y="11629"/>
                  <a:pt x="1379" y="11644"/>
                </a:cubicBezTo>
                <a:cubicBezTo>
                  <a:pt x="1340" y="11676"/>
                  <a:pt x="1380" y="11766"/>
                  <a:pt x="1352" y="11789"/>
                </a:cubicBezTo>
                <a:cubicBezTo>
                  <a:pt x="1315" y="11819"/>
                  <a:pt x="1241" y="11747"/>
                  <a:pt x="1219" y="11728"/>
                </a:cubicBezTo>
                <a:cubicBezTo>
                  <a:pt x="1210" y="11720"/>
                  <a:pt x="1101" y="11605"/>
                  <a:pt x="1089" y="11615"/>
                </a:cubicBezTo>
                <a:cubicBezTo>
                  <a:pt x="1076" y="11625"/>
                  <a:pt x="1077" y="11661"/>
                  <a:pt x="1078" y="11678"/>
                </a:cubicBezTo>
                <a:cubicBezTo>
                  <a:pt x="1080" y="11744"/>
                  <a:pt x="1112" y="11791"/>
                  <a:pt x="1140" y="11848"/>
                </a:cubicBezTo>
                <a:cubicBezTo>
                  <a:pt x="1153" y="11870"/>
                  <a:pt x="1165" y="11894"/>
                  <a:pt x="1178" y="11916"/>
                </a:cubicBezTo>
                <a:cubicBezTo>
                  <a:pt x="1179" y="11918"/>
                  <a:pt x="1181" y="11919"/>
                  <a:pt x="1182" y="11921"/>
                </a:cubicBezTo>
                <a:cubicBezTo>
                  <a:pt x="1176" y="11911"/>
                  <a:pt x="1182" y="11913"/>
                  <a:pt x="1175" y="11903"/>
                </a:cubicBezTo>
                <a:cubicBezTo>
                  <a:pt x="1143" y="11854"/>
                  <a:pt x="1103" y="11810"/>
                  <a:pt x="1065" y="11765"/>
                </a:cubicBezTo>
                <a:cubicBezTo>
                  <a:pt x="1028" y="11721"/>
                  <a:pt x="987" y="11677"/>
                  <a:pt x="943" y="11640"/>
                </a:cubicBezTo>
                <a:cubicBezTo>
                  <a:pt x="923" y="11623"/>
                  <a:pt x="896" y="11616"/>
                  <a:pt x="879" y="11608"/>
                </a:cubicBezTo>
                <a:cubicBezTo>
                  <a:pt x="887" y="11648"/>
                  <a:pt x="879" y="11659"/>
                  <a:pt x="902" y="11703"/>
                </a:cubicBezTo>
                <a:cubicBezTo>
                  <a:pt x="952" y="11798"/>
                  <a:pt x="1058" y="11873"/>
                  <a:pt x="1142" y="11937"/>
                </a:cubicBezTo>
                <a:cubicBezTo>
                  <a:pt x="1147" y="11941"/>
                  <a:pt x="1154" y="11945"/>
                  <a:pt x="1158" y="11948"/>
                </a:cubicBezTo>
                <a:cubicBezTo>
                  <a:pt x="1126" y="11893"/>
                  <a:pt x="1088" y="11841"/>
                  <a:pt x="1054" y="11787"/>
                </a:cubicBezTo>
                <a:cubicBezTo>
                  <a:pt x="1038" y="11762"/>
                  <a:pt x="1018" y="11711"/>
                  <a:pt x="990" y="11697"/>
                </a:cubicBezTo>
                <a:cubicBezTo>
                  <a:pt x="986" y="11695"/>
                  <a:pt x="966" y="11666"/>
                  <a:pt x="972" y="11694"/>
                </a:cubicBezTo>
                <a:cubicBezTo>
                  <a:pt x="980" y="11731"/>
                  <a:pt x="1030" y="11757"/>
                  <a:pt x="1060" y="11771"/>
                </a:cubicBezTo>
                <a:cubicBezTo>
                  <a:pt x="1099" y="11789"/>
                  <a:pt x="1195" y="11819"/>
                  <a:pt x="1239" y="11805"/>
                </a:cubicBezTo>
                <a:cubicBezTo>
                  <a:pt x="1279" y="11792"/>
                  <a:pt x="1279" y="11790"/>
                  <a:pt x="1293" y="11746"/>
                </a:cubicBezTo>
                <a:cubicBezTo>
                  <a:pt x="1308" y="11700"/>
                  <a:pt x="1308" y="11636"/>
                  <a:pt x="1304" y="11588"/>
                </a:cubicBezTo>
                <a:cubicBezTo>
                  <a:pt x="1301" y="11574"/>
                  <a:pt x="1298" y="11559"/>
                  <a:pt x="1295" y="11545"/>
                </a:cubicBezTo>
                <a:cubicBezTo>
                  <a:pt x="1289" y="11516"/>
                  <a:pt x="1288" y="11450"/>
                  <a:pt x="1270" y="11425"/>
                </a:cubicBezTo>
                <a:cubicBezTo>
                  <a:pt x="1256" y="11406"/>
                  <a:pt x="1265" y="11471"/>
                  <a:pt x="1266" y="11486"/>
                </a:cubicBezTo>
                <a:cubicBezTo>
                  <a:pt x="1272" y="11560"/>
                  <a:pt x="1315" y="11633"/>
                  <a:pt x="1375" y="11674"/>
                </a:cubicBezTo>
                <a:cubicBezTo>
                  <a:pt x="1420" y="11704"/>
                  <a:pt x="1441" y="11688"/>
                  <a:pt x="1459" y="11644"/>
                </a:cubicBezTo>
                <a:cubicBezTo>
                  <a:pt x="1497" y="11551"/>
                  <a:pt x="1483" y="11416"/>
                  <a:pt x="1485" y="11317"/>
                </a:cubicBezTo>
                <a:cubicBezTo>
                  <a:pt x="1487" y="11250"/>
                  <a:pt x="1485" y="11184"/>
                  <a:pt x="1485" y="11117"/>
                </a:cubicBezTo>
                <a:cubicBezTo>
                  <a:pt x="1481" y="11161"/>
                  <a:pt x="1479" y="11179"/>
                  <a:pt x="1479" y="11224"/>
                </a:cubicBezTo>
                <a:cubicBezTo>
                  <a:pt x="1479" y="11341"/>
                  <a:pt x="1492" y="11448"/>
                  <a:pt x="1567" y="11541"/>
                </a:cubicBezTo>
                <a:cubicBezTo>
                  <a:pt x="1579" y="11551"/>
                  <a:pt x="1582" y="11554"/>
                  <a:pt x="1590" y="11559"/>
                </a:cubicBezTo>
                <a:cubicBezTo>
                  <a:pt x="1614" y="11508"/>
                  <a:pt x="1619" y="11468"/>
                  <a:pt x="1623" y="11405"/>
                </a:cubicBezTo>
                <a:cubicBezTo>
                  <a:pt x="1631" y="11283"/>
                  <a:pt x="1631" y="11160"/>
                  <a:pt x="1633" y="11038"/>
                </a:cubicBezTo>
                <a:cubicBezTo>
                  <a:pt x="1635" y="10945"/>
                  <a:pt x="1634" y="10851"/>
                  <a:pt x="1637" y="10758"/>
                </a:cubicBezTo>
                <a:cubicBezTo>
                  <a:pt x="1639" y="10733"/>
                  <a:pt x="1639" y="10729"/>
                  <a:pt x="1639" y="10714"/>
                </a:cubicBezTo>
                <a:cubicBezTo>
                  <a:pt x="1645" y="10868"/>
                  <a:pt x="1656" y="11022"/>
                  <a:pt x="1701" y="11169"/>
                </a:cubicBezTo>
                <a:cubicBezTo>
                  <a:pt x="1719" y="11228"/>
                  <a:pt x="1745" y="11283"/>
                  <a:pt x="1777" y="11335"/>
                </a:cubicBezTo>
                <a:cubicBezTo>
                  <a:pt x="1789" y="11355"/>
                  <a:pt x="1808" y="11370"/>
                  <a:pt x="1820" y="11384"/>
                </a:cubicBezTo>
                <a:cubicBezTo>
                  <a:pt x="1825" y="11351"/>
                  <a:pt x="1834" y="11320"/>
                  <a:pt x="1834" y="11283"/>
                </a:cubicBezTo>
                <a:cubicBezTo>
                  <a:pt x="1832" y="11052"/>
                  <a:pt x="1783" y="10815"/>
                  <a:pt x="1818" y="10583"/>
                </a:cubicBezTo>
                <a:cubicBezTo>
                  <a:pt x="1819" y="10579"/>
                  <a:pt x="1821" y="10576"/>
                  <a:pt x="1822" y="10572"/>
                </a:cubicBezTo>
                <a:cubicBezTo>
                  <a:pt x="1837" y="10672"/>
                  <a:pt x="1844" y="10773"/>
                  <a:pt x="1857" y="10873"/>
                </a:cubicBezTo>
                <a:cubicBezTo>
                  <a:pt x="1873" y="10995"/>
                  <a:pt x="1888" y="11116"/>
                  <a:pt x="1909" y="11237"/>
                </a:cubicBezTo>
                <a:cubicBezTo>
                  <a:pt x="1922" y="11312"/>
                  <a:pt x="1932" y="11389"/>
                  <a:pt x="1951" y="11463"/>
                </a:cubicBezTo>
                <a:cubicBezTo>
                  <a:pt x="1959" y="11494"/>
                  <a:pt x="1971" y="11502"/>
                  <a:pt x="1986" y="11525"/>
                </a:cubicBezTo>
                <a:cubicBezTo>
                  <a:pt x="1988" y="11527"/>
                  <a:pt x="1990" y="11530"/>
                  <a:pt x="1992" y="11532"/>
                </a:cubicBezTo>
                <a:cubicBezTo>
                  <a:pt x="1997" y="11505"/>
                  <a:pt x="2007" y="11477"/>
                  <a:pt x="2008" y="11445"/>
                </a:cubicBezTo>
                <a:cubicBezTo>
                  <a:pt x="2011" y="11373"/>
                  <a:pt x="1995" y="11296"/>
                  <a:pt x="1988" y="11224"/>
                </a:cubicBezTo>
                <a:cubicBezTo>
                  <a:pt x="1976" y="11101"/>
                  <a:pt x="1960" y="10978"/>
                  <a:pt x="1949" y="10855"/>
                </a:cubicBezTo>
                <a:cubicBezTo>
                  <a:pt x="1944" y="10798"/>
                  <a:pt x="1938" y="10742"/>
                  <a:pt x="1929" y="10685"/>
                </a:cubicBezTo>
                <a:cubicBezTo>
                  <a:pt x="1929" y="10716"/>
                  <a:pt x="1929" y="10750"/>
                  <a:pt x="1931" y="10782"/>
                </a:cubicBezTo>
                <a:cubicBezTo>
                  <a:pt x="1949" y="11037"/>
                  <a:pt x="1967" y="11311"/>
                  <a:pt x="2024" y="11561"/>
                </a:cubicBezTo>
                <a:cubicBezTo>
                  <a:pt x="2026" y="11570"/>
                  <a:pt x="2031" y="11582"/>
                  <a:pt x="2033" y="11590"/>
                </a:cubicBezTo>
                <a:cubicBezTo>
                  <a:pt x="2033" y="11569"/>
                  <a:pt x="2038" y="11544"/>
                  <a:pt x="2037" y="11522"/>
                </a:cubicBezTo>
                <a:cubicBezTo>
                  <a:pt x="2034" y="11462"/>
                  <a:pt x="2030" y="11401"/>
                  <a:pt x="2024" y="11341"/>
                </a:cubicBezTo>
                <a:cubicBezTo>
                  <a:pt x="2018" y="11281"/>
                  <a:pt x="2010" y="11222"/>
                  <a:pt x="2001" y="11163"/>
                </a:cubicBezTo>
                <a:cubicBezTo>
                  <a:pt x="2001" y="11162"/>
                  <a:pt x="1987" y="11090"/>
                  <a:pt x="1983" y="11092"/>
                </a:cubicBezTo>
                <a:cubicBezTo>
                  <a:pt x="1965" y="11101"/>
                  <a:pt x="1958" y="11165"/>
                  <a:pt x="1954" y="11181"/>
                </a:cubicBezTo>
                <a:cubicBezTo>
                  <a:pt x="1940" y="11239"/>
                  <a:pt x="1909" y="11352"/>
                  <a:pt x="1925" y="11412"/>
                </a:cubicBezTo>
                <a:cubicBezTo>
                  <a:pt x="1928" y="11424"/>
                  <a:pt x="1922" y="11420"/>
                  <a:pt x="1925" y="11409"/>
                </a:cubicBezTo>
                <a:cubicBezTo>
                  <a:pt x="1929" y="11393"/>
                  <a:pt x="1931" y="11374"/>
                  <a:pt x="1934" y="11357"/>
                </a:cubicBezTo>
                <a:cubicBezTo>
                  <a:pt x="1941" y="11308"/>
                  <a:pt x="1949" y="11259"/>
                  <a:pt x="1952" y="11210"/>
                </a:cubicBezTo>
                <a:cubicBezTo>
                  <a:pt x="1960" y="11086"/>
                  <a:pt x="1960" y="10724"/>
                  <a:pt x="1960" y="10848"/>
                </a:cubicBezTo>
                <a:cubicBezTo>
                  <a:pt x="1960" y="10885"/>
                  <a:pt x="1960" y="10922"/>
                  <a:pt x="1960" y="10959"/>
                </a:cubicBezTo>
                <a:cubicBezTo>
                  <a:pt x="1960" y="11124"/>
                  <a:pt x="1957" y="11290"/>
                  <a:pt x="1968" y="11455"/>
                </a:cubicBezTo>
                <a:cubicBezTo>
                  <a:pt x="1969" y="11475"/>
                  <a:pt x="1975" y="11534"/>
                  <a:pt x="1986" y="11529"/>
                </a:cubicBezTo>
                <a:cubicBezTo>
                  <a:pt x="1992" y="11526"/>
                  <a:pt x="1981" y="11447"/>
                  <a:pt x="1981" y="11446"/>
                </a:cubicBezTo>
                <a:cubicBezTo>
                  <a:pt x="1967" y="11334"/>
                  <a:pt x="1941" y="11224"/>
                  <a:pt x="1920" y="11113"/>
                </a:cubicBezTo>
                <a:cubicBezTo>
                  <a:pt x="1905" y="11034"/>
                  <a:pt x="1889" y="10956"/>
                  <a:pt x="1873" y="10878"/>
                </a:cubicBezTo>
                <a:cubicBezTo>
                  <a:pt x="1859" y="10808"/>
                  <a:pt x="1847" y="10740"/>
                  <a:pt x="1827" y="10671"/>
                </a:cubicBezTo>
                <a:cubicBezTo>
                  <a:pt x="1825" y="10667"/>
                  <a:pt x="1824" y="10662"/>
                  <a:pt x="1822" y="10658"/>
                </a:cubicBezTo>
                <a:cubicBezTo>
                  <a:pt x="1813" y="10695"/>
                  <a:pt x="1806" y="10732"/>
                  <a:pt x="1800" y="10773"/>
                </a:cubicBezTo>
                <a:cubicBezTo>
                  <a:pt x="1780" y="10902"/>
                  <a:pt x="1770" y="11033"/>
                  <a:pt x="1759" y="11163"/>
                </a:cubicBezTo>
                <a:cubicBezTo>
                  <a:pt x="1750" y="11269"/>
                  <a:pt x="1754" y="11377"/>
                  <a:pt x="1689" y="11466"/>
                </a:cubicBezTo>
                <a:cubicBezTo>
                  <a:pt x="1685" y="11469"/>
                  <a:pt x="1680" y="11472"/>
                  <a:pt x="1676" y="11475"/>
                </a:cubicBezTo>
                <a:cubicBezTo>
                  <a:pt x="1651" y="11429"/>
                  <a:pt x="1637" y="11384"/>
                  <a:pt x="1624" y="11330"/>
                </a:cubicBezTo>
                <a:cubicBezTo>
                  <a:pt x="1576" y="11133"/>
                  <a:pt x="1538" y="10934"/>
                  <a:pt x="1479" y="10740"/>
                </a:cubicBezTo>
                <a:cubicBezTo>
                  <a:pt x="1463" y="10687"/>
                  <a:pt x="1442" y="10664"/>
                  <a:pt x="1415" y="10628"/>
                </a:cubicBezTo>
                <a:cubicBezTo>
                  <a:pt x="1388" y="10734"/>
                  <a:pt x="1373" y="10829"/>
                  <a:pt x="1368" y="10941"/>
                </a:cubicBezTo>
                <a:cubicBezTo>
                  <a:pt x="1361" y="11103"/>
                  <a:pt x="1358" y="11266"/>
                  <a:pt x="1356" y="11429"/>
                </a:cubicBezTo>
                <a:cubicBezTo>
                  <a:pt x="1356" y="11434"/>
                  <a:pt x="1356" y="11440"/>
                  <a:pt x="1356" y="11445"/>
                </a:cubicBezTo>
                <a:cubicBezTo>
                  <a:pt x="1363" y="11410"/>
                  <a:pt x="1367" y="11393"/>
                  <a:pt x="1368" y="11357"/>
                </a:cubicBezTo>
                <a:cubicBezTo>
                  <a:pt x="1372" y="11179"/>
                  <a:pt x="1374" y="10994"/>
                  <a:pt x="1332" y="10819"/>
                </a:cubicBezTo>
                <a:cubicBezTo>
                  <a:pt x="1326" y="10793"/>
                  <a:pt x="1325" y="10786"/>
                  <a:pt x="1318" y="10771"/>
                </a:cubicBezTo>
                <a:cubicBezTo>
                  <a:pt x="1299" y="10847"/>
                  <a:pt x="1291" y="10925"/>
                  <a:pt x="1287" y="11007"/>
                </a:cubicBezTo>
                <a:cubicBezTo>
                  <a:pt x="1279" y="11191"/>
                  <a:pt x="1280" y="11374"/>
                  <a:pt x="1280" y="11558"/>
                </a:cubicBezTo>
                <a:cubicBezTo>
                  <a:pt x="1277" y="11504"/>
                  <a:pt x="1270" y="11457"/>
                  <a:pt x="1257" y="11403"/>
                </a:cubicBezTo>
                <a:cubicBezTo>
                  <a:pt x="1225" y="11274"/>
                  <a:pt x="1185" y="11124"/>
                  <a:pt x="1121" y="11007"/>
                </a:cubicBezTo>
                <a:cubicBezTo>
                  <a:pt x="1103" y="10977"/>
                  <a:pt x="1099" y="10969"/>
                  <a:pt x="1085" y="10952"/>
                </a:cubicBezTo>
                <a:cubicBezTo>
                  <a:pt x="1058" y="11008"/>
                  <a:pt x="1045" y="11083"/>
                  <a:pt x="1040" y="11162"/>
                </a:cubicBezTo>
                <a:cubicBezTo>
                  <a:pt x="1030" y="11316"/>
                  <a:pt x="1020" y="11473"/>
                  <a:pt x="1031" y="11627"/>
                </a:cubicBezTo>
                <a:cubicBezTo>
                  <a:pt x="1035" y="11682"/>
                  <a:pt x="1051" y="11723"/>
                  <a:pt x="1067" y="11773"/>
                </a:cubicBezTo>
                <a:cubicBezTo>
                  <a:pt x="1071" y="11736"/>
                  <a:pt x="1080" y="11697"/>
                  <a:pt x="1078" y="11658"/>
                </a:cubicBezTo>
                <a:cubicBezTo>
                  <a:pt x="1070" y="11508"/>
                  <a:pt x="997" y="11354"/>
                  <a:pt x="940" y="11217"/>
                </a:cubicBezTo>
                <a:cubicBezTo>
                  <a:pt x="923" y="11177"/>
                  <a:pt x="902" y="11155"/>
                  <a:pt x="879" y="11127"/>
                </a:cubicBezTo>
                <a:cubicBezTo>
                  <a:pt x="866" y="11230"/>
                  <a:pt x="851" y="11335"/>
                  <a:pt x="870" y="11439"/>
                </a:cubicBezTo>
                <a:cubicBezTo>
                  <a:pt x="888" y="11539"/>
                  <a:pt x="935" y="11624"/>
                  <a:pt x="1001" y="11699"/>
                </a:cubicBezTo>
                <a:cubicBezTo>
                  <a:pt x="1008" y="11706"/>
                  <a:pt x="1009" y="11707"/>
                  <a:pt x="1013" y="11712"/>
                </a:cubicBezTo>
                <a:cubicBezTo>
                  <a:pt x="1008" y="11680"/>
                  <a:pt x="1005" y="11654"/>
                  <a:pt x="990" y="11617"/>
                </a:cubicBezTo>
                <a:cubicBezTo>
                  <a:pt x="932" y="11477"/>
                  <a:pt x="872" y="11321"/>
                  <a:pt x="791" y="11194"/>
                </a:cubicBezTo>
                <a:cubicBezTo>
                  <a:pt x="770" y="11161"/>
                  <a:pt x="742" y="11142"/>
                  <a:pt x="718" y="11120"/>
                </a:cubicBezTo>
                <a:cubicBezTo>
                  <a:pt x="707" y="11194"/>
                  <a:pt x="698" y="11260"/>
                  <a:pt x="707" y="11337"/>
                </a:cubicBezTo>
                <a:cubicBezTo>
                  <a:pt x="719" y="11440"/>
                  <a:pt x="751" y="11541"/>
                  <a:pt x="791" y="11636"/>
                </a:cubicBezTo>
                <a:cubicBezTo>
                  <a:pt x="813" y="11687"/>
                  <a:pt x="851" y="11744"/>
                  <a:pt x="879" y="11780"/>
                </a:cubicBezTo>
                <a:cubicBezTo>
                  <a:pt x="872" y="11729"/>
                  <a:pt x="864" y="11697"/>
                  <a:pt x="836" y="11649"/>
                </a:cubicBezTo>
                <a:cubicBezTo>
                  <a:pt x="798" y="11585"/>
                  <a:pt x="758" y="11527"/>
                  <a:pt x="725" y="11459"/>
                </a:cubicBezTo>
                <a:cubicBezTo>
                  <a:pt x="711" y="11429"/>
                  <a:pt x="693" y="11367"/>
                  <a:pt x="678" y="11369"/>
                </a:cubicBezTo>
                <a:cubicBezTo>
                  <a:pt x="679" y="11379"/>
                  <a:pt x="679" y="11388"/>
                  <a:pt x="680" y="11398"/>
                </a:cubicBezTo>
                <a:cubicBezTo>
                  <a:pt x="706" y="11471"/>
                  <a:pt x="741" y="11531"/>
                  <a:pt x="789" y="11593"/>
                </a:cubicBezTo>
                <a:cubicBezTo>
                  <a:pt x="834" y="11651"/>
                  <a:pt x="1005" y="11807"/>
                  <a:pt x="1099" y="11771"/>
                </a:cubicBezTo>
                <a:cubicBezTo>
                  <a:pt x="1108" y="11767"/>
                  <a:pt x="1114" y="11784"/>
                  <a:pt x="1108" y="11765"/>
                </a:cubicBezTo>
                <a:cubicBezTo>
                  <a:pt x="1107" y="11761"/>
                  <a:pt x="1059" y="11727"/>
                  <a:pt x="1060" y="11726"/>
                </a:cubicBezTo>
                <a:cubicBezTo>
                  <a:pt x="1061" y="11725"/>
                  <a:pt x="1059" y="11730"/>
                  <a:pt x="1069" y="11721"/>
                </a:cubicBezTo>
                <a:cubicBezTo>
                  <a:pt x="1122" y="11676"/>
                  <a:pt x="1354" y="11717"/>
                  <a:pt x="1422" y="11717"/>
                </a:cubicBezTo>
                <a:cubicBezTo>
                  <a:pt x="1462" y="11717"/>
                  <a:pt x="1575" y="11717"/>
                  <a:pt x="1535" y="11717"/>
                </a:cubicBezTo>
                <a:cubicBezTo>
                  <a:pt x="1448" y="11717"/>
                  <a:pt x="1344" y="11701"/>
                  <a:pt x="1266" y="11746"/>
                </a:cubicBezTo>
                <a:cubicBezTo>
                  <a:pt x="1257" y="11751"/>
                  <a:pt x="1209" y="11786"/>
                  <a:pt x="1209" y="11799"/>
                </a:cubicBezTo>
                <a:cubicBezTo>
                  <a:pt x="1209" y="11812"/>
                  <a:pt x="1221" y="11806"/>
                  <a:pt x="1239" y="11805"/>
                </a:cubicBezTo>
                <a:cubicBezTo>
                  <a:pt x="1287" y="11801"/>
                  <a:pt x="1344" y="11779"/>
                  <a:pt x="1390" y="11764"/>
                </a:cubicBezTo>
                <a:cubicBezTo>
                  <a:pt x="1547" y="11714"/>
                  <a:pt x="1695" y="11643"/>
                  <a:pt x="1854" y="11597"/>
                </a:cubicBezTo>
                <a:cubicBezTo>
                  <a:pt x="1883" y="11589"/>
                  <a:pt x="1921" y="11568"/>
                  <a:pt x="1938" y="11599"/>
                </a:cubicBezTo>
                <a:cubicBezTo>
                  <a:pt x="1961" y="11640"/>
                  <a:pt x="1896" y="11694"/>
                  <a:pt x="1872" y="11715"/>
                </a:cubicBezTo>
                <a:cubicBezTo>
                  <a:pt x="1852" y="11733"/>
                  <a:pt x="1823" y="11749"/>
                  <a:pt x="1798" y="11760"/>
                </a:cubicBezTo>
                <a:cubicBezTo>
                  <a:pt x="1782" y="11767"/>
                  <a:pt x="1691" y="11811"/>
                  <a:pt x="1680" y="11807"/>
                </a:cubicBezTo>
                <a:cubicBezTo>
                  <a:pt x="1672" y="11804"/>
                  <a:pt x="1671" y="11813"/>
                  <a:pt x="1667" y="11808"/>
                </a:cubicBezTo>
                <a:cubicBezTo>
                  <a:pt x="1659" y="11798"/>
                  <a:pt x="1687" y="11791"/>
                  <a:pt x="1694" y="11780"/>
                </a:cubicBezTo>
                <a:cubicBezTo>
                  <a:pt x="1720" y="11771"/>
                  <a:pt x="1744" y="11762"/>
                  <a:pt x="1771" y="11755"/>
                </a:cubicBezTo>
                <a:cubicBezTo>
                  <a:pt x="1793" y="11749"/>
                  <a:pt x="1815" y="11743"/>
                  <a:pt x="1838" y="11739"/>
                </a:cubicBezTo>
                <a:cubicBezTo>
                  <a:pt x="1856" y="11736"/>
                  <a:pt x="1906" y="11737"/>
                  <a:pt x="1888" y="11735"/>
                </a:cubicBezTo>
                <a:cubicBezTo>
                  <a:pt x="1856" y="11731"/>
                  <a:pt x="1826" y="11743"/>
                  <a:pt x="1795" y="11748"/>
                </a:cubicBezTo>
                <a:cubicBezTo>
                  <a:pt x="1701" y="11759"/>
                  <a:pt x="1610" y="11773"/>
                  <a:pt x="1517" y="11791"/>
                </a:cubicBezTo>
                <a:cubicBezTo>
                  <a:pt x="1392" y="11815"/>
                  <a:pt x="1269" y="11837"/>
                  <a:pt x="1142" y="11846"/>
                </a:cubicBezTo>
                <a:cubicBezTo>
                  <a:pt x="1129" y="11847"/>
                  <a:pt x="1116" y="11847"/>
                  <a:pt x="1103" y="11848"/>
                </a:cubicBezTo>
                <a:cubicBezTo>
                  <a:pt x="1129" y="11841"/>
                  <a:pt x="1148" y="11839"/>
                  <a:pt x="1175" y="11828"/>
                </a:cubicBezTo>
                <a:cubicBezTo>
                  <a:pt x="1309" y="11771"/>
                  <a:pt x="1443" y="11714"/>
                  <a:pt x="1585" y="11678"/>
                </a:cubicBezTo>
                <a:cubicBezTo>
                  <a:pt x="1662" y="11658"/>
                  <a:pt x="1721" y="11654"/>
                  <a:pt x="1795" y="11667"/>
                </a:cubicBezTo>
                <a:cubicBezTo>
                  <a:pt x="1791" y="11679"/>
                  <a:pt x="1805" y="11695"/>
                  <a:pt x="1791" y="11710"/>
                </a:cubicBezTo>
                <a:cubicBezTo>
                  <a:pt x="1764" y="11738"/>
                  <a:pt x="1721" y="11727"/>
                  <a:pt x="1687" y="11735"/>
                </a:cubicBezTo>
                <a:cubicBezTo>
                  <a:pt x="1567" y="11762"/>
                  <a:pt x="1455" y="11815"/>
                  <a:pt x="1341" y="11860"/>
                </a:cubicBezTo>
                <a:cubicBezTo>
                  <a:pt x="1316" y="11870"/>
                  <a:pt x="1255" y="11881"/>
                  <a:pt x="1235" y="11902"/>
                </a:cubicBezTo>
                <a:cubicBezTo>
                  <a:pt x="1233" y="11904"/>
                  <a:pt x="1234" y="11914"/>
                  <a:pt x="1232" y="11916"/>
                </a:cubicBezTo>
                <a:cubicBezTo>
                  <a:pt x="1220" y="11926"/>
                  <a:pt x="1237" y="11932"/>
                  <a:pt x="1214" y="11941"/>
                </a:cubicBezTo>
                <a:cubicBezTo>
                  <a:pt x="1208" y="11944"/>
                  <a:pt x="1152" y="11949"/>
                  <a:pt x="1151" y="11948"/>
                </a:cubicBezTo>
                <a:cubicBezTo>
                  <a:pt x="1144" y="11941"/>
                  <a:pt x="1142" y="11953"/>
                  <a:pt x="1142" y="11934"/>
                </a:cubicBezTo>
                <a:cubicBezTo>
                  <a:pt x="1141" y="11905"/>
                  <a:pt x="1167" y="11893"/>
                  <a:pt x="1187" y="11877"/>
                </a:cubicBezTo>
                <a:cubicBezTo>
                  <a:pt x="1224" y="11847"/>
                  <a:pt x="1265" y="11823"/>
                  <a:pt x="1304" y="11796"/>
                </a:cubicBezTo>
                <a:cubicBezTo>
                  <a:pt x="1365" y="11754"/>
                  <a:pt x="1425" y="11725"/>
                  <a:pt x="1494" y="11701"/>
                </a:cubicBezTo>
                <a:cubicBezTo>
                  <a:pt x="1505" y="11701"/>
                  <a:pt x="1542" y="11681"/>
                  <a:pt x="1533" y="11696"/>
                </a:cubicBezTo>
                <a:cubicBezTo>
                  <a:pt x="1482" y="11785"/>
                  <a:pt x="1317" y="11853"/>
                  <a:pt x="1225" y="11887"/>
                </a:cubicBezTo>
                <a:cubicBezTo>
                  <a:pt x="1223" y="11888"/>
                  <a:pt x="1221" y="11888"/>
                  <a:pt x="1219" y="11889"/>
                </a:cubicBezTo>
                <a:cubicBezTo>
                  <a:pt x="1229" y="11869"/>
                  <a:pt x="1219" y="11854"/>
                  <a:pt x="1239" y="11830"/>
                </a:cubicBezTo>
                <a:cubicBezTo>
                  <a:pt x="1281" y="11779"/>
                  <a:pt x="1350" y="11742"/>
                  <a:pt x="1382" y="11683"/>
                </a:cubicBezTo>
                <a:cubicBezTo>
                  <a:pt x="1391" y="11666"/>
                  <a:pt x="1402" y="11661"/>
                  <a:pt x="1390" y="11651"/>
                </a:cubicBezTo>
                <a:cubicBezTo>
                  <a:pt x="1367" y="11633"/>
                  <a:pt x="1299" y="11650"/>
                  <a:pt x="1273" y="11653"/>
                </a:cubicBezTo>
                <a:cubicBezTo>
                  <a:pt x="1233" y="11658"/>
                  <a:pt x="1187" y="11672"/>
                  <a:pt x="1146" y="11669"/>
                </a:cubicBezTo>
                <a:cubicBezTo>
                  <a:pt x="1112" y="11666"/>
                  <a:pt x="1132" y="11671"/>
                  <a:pt x="1114" y="11656"/>
                </a:cubicBezTo>
                <a:cubicBezTo>
                  <a:pt x="1115" y="11650"/>
                  <a:pt x="1116" y="11644"/>
                  <a:pt x="1117" y="11638"/>
                </a:cubicBezTo>
              </a:path>
            </a:pathLst>
          </a:custGeom>
          <a:noFill/>
          <a:ln cap="rnd" w="572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909720" y="1957320"/>
            <a:ext cx="7324560" cy="2943360"/>
          </a:xfrm>
          <a:prstGeom prst="rect">
            <a:avLst/>
          </a:prstGeom>
          <a:ln w="0">
            <a:noFill/>
          </a:ln>
        </p:spPr>
      </p:pic>
      <p:sp>
        <p:nvSpPr>
          <p:cNvPr id="348" name=""/>
          <p:cNvSpPr/>
          <p:nvPr/>
        </p:nvSpPr>
        <p:spPr>
          <a:xfrm>
            <a:off x="2259000" y="966960"/>
            <a:ext cx="2416320" cy="2154240"/>
          </a:xfrm>
          <a:custGeom>
            <a:avLst/>
            <a:gdLst/>
            <a:ahLst/>
            <a:rect l="l" t="t" r="r" b="b"/>
            <a:pathLst>
              <a:path w="6713" h="5983">
                <a:moveTo>
                  <a:pt x="7359" y="5859"/>
                </a:moveTo>
                <a:cubicBezTo>
                  <a:pt x="7383" y="5792"/>
                  <a:pt x="7392" y="5706"/>
                  <a:pt x="7418" y="5644"/>
                </a:cubicBezTo>
                <a:cubicBezTo>
                  <a:pt x="7522" y="5398"/>
                  <a:pt x="7805" y="5168"/>
                  <a:pt x="7996" y="4992"/>
                </a:cubicBezTo>
                <a:cubicBezTo>
                  <a:pt x="8292" y="4719"/>
                  <a:pt x="8587" y="4447"/>
                  <a:pt x="8888" y="4180"/>
                </a:cubicBezTo>
                <a:cubicBezTo>
                  <a:pt x="9180" y="3921"/>
                  <a:pt x="9484" y="3721"/>
                  <a:pt x="9838" y="3556"/>
                </a:cubicBezTo>
                <a:cubicBezTo>
                  <a:pt x="10267" y="3356"/>
                  <a:pt x="10720" y="3164"/>
                  <a:pt x="11177" y="3040"/>
                </a:cubicBezTo>
                <a:cubicBezTo>
                  <a:pt x="11473" y="2959"/>
                  <a:pt x="11778" y="2905"/>
                  <a:pt x="12080" y="2850"/>
                </a:cubicBezTo>
                <a:cubicBezTo>
                  <a:pt x="12382" y="2795"/>
                  <a:pt x="12683" y="2742"/>
                  <a:pt x="12985" y="2687"/>
                </a:cubicBezTo>
              </a:path>
              <a:path w="6713" h="5983">
                <a:moveTo>
                  <a:pt x="6858" y="7938"/>
                </a:moveTo>
                <a:cubicBezTo>
                  <a:pt x="6844" y="7949"/>
                  <a:pt x="6821" y="7975"/>
                  <a:pt x="6802" y="7979"/>
                </a:cubicBezTo>
                <a:cubicBezTo>
                  <a:pt x="6790" y="7981"/>
                  <a:pt x="6795" y="7978"/>
                  <a:pt x="6784" y="7972"/>
                </a:cubicBezTo>
                <a:cubicBezTo>
                  <a:pt x="6767" y="7962"/>
                  <a:pt x="6749" y="7934"/>
                  <a:pt x="6737" y="7918"/>
                </a:cubicBezTo>
                <a:cubicBezTo>
                  <a:pt x="6709" y="7880"/>
                  <a:pt x="6685" y="7835"/>
                  <a:pt x="6669" y="7791"/>
                </a:cubicBezTo>
                <a:cubicBezTo>
                  <a:pt x="6660" y="7767"/>
                  <a:pt x="6655" y="7740"/>
                  <a:pt x="6648" y="7715"/>
                </a:cubicBezTo>
                <a:cubicBezTo>
                  <a:pt x="6635" y="7670"/>
                  <a:pt x="6622" y="7625"/>
                  <a:pt x="6614" y="7579"/>
                </a:cubicBezTo>
                <a:cubicBezTo>
                  <a:pt x="6611" y="7564"/>
                  <a:pt x="6611" y="7548"/>
                  <a:pt x="6608" y="7533"/>
                </a:cubicBezTo>
                <a:cubicBezTo>
                  <a:pt x="6605" y="7516"/>
                  <a:pt x="6601" y="7499"/>
                  <a:pt x="6598" y="7482"/>
                </a:cubicBezTo>
                <a:cubicBezTo>
                  <a:pt x="6598" y="7533"/>
                  <a:pt x="6602" y="7583"/>
                  <a:pt x="6603" y="7633"/>
                </a:cubicBezTo>
                <a:cubicBezTo>
                  <a:pt x="6604" y="7673"/>
                  <a:pt x="6600" y="7712"/>
                  <a:pt x="6608" y="7751"/>
                </a:cubicBezTo>
                <a:cubicBezTo>
                  <a:pt x="6611" y="7765"/>
                  <a:pt x="6616" y="7777"/>
                  <a:pt x="6621" y="7791"/>
                </a:cubicBezTo>
                <a:cubicBezTo>
                  <a:pt x="6628" y="7811"/>
                  <a:pt x="6635" y="7832"/>
                  <a:pt x="6641" y="7852"/>
                </a:cubicBezTo>
                <a:cubicBezTo>
                  <a:pt x="6654" y="7894"/>
                  <a:pt x="6668" y="7927"/>
                  <a:pt x="6691" y="7965"/>
                </a:cubicBezTo>
                <a:cubicBezTo>
                  <a:pt x="6701" y="7982"/>
                  <a:pt x="6713" y="7997"/>
                  <a:pt x="6723" y="8013"/>
                </a:cubicBezTo>
                <a:cubicBezTo>
                  <a:pt x="6733" y="8029"/>
                  <a:pt x="6740" y="8047"/>
                  <a:pt x="6746" y="8065"/>
                </a:cubicBezTo>
                <a:cubicBezTo>
                  <a:pt x="6753" y="8086"/>
                  <a:pt x="6762" y="8107"/>
                  <a:pt x="6768" y="8129"/>
                </a:cubicBezTo>
                <a:cubicBezTo>
                  <a:pt x="6776" y="8157"/>
                  <a:pt x="6785" y="8184"/>
                  <a:pt x="6793" y="8212"/>
                </a:cubicBezTo>
                <a:cubicBezTo>
                  <a:pt x="6798" y="8229"/>
                  <a:pt x="6804" y="8247"/>
                  <a:pt x="6809" y="8264"/>
                </a:cubicBezTo>
                <a:cubicBezTo>
                  <a:pt x="6817" y="8294"/>
                  <a:pt x="6819" y="8326"/>
                  <a:pt x="6820" y="8357"/>
                </a:cubicBezTo>
                <a:cubicBezTo>
                  <a:pt x="6821" y="8380"/>
                  <a:pt x="6825" y="8394"/>
                  <a:pt x="6831" y="8416"/>
                </a:cubicBezTo>
                <a:cubicBezTo>
                  <a:pt x="6838" y="8442"/>
                  <a:pt x="6851" y="8470"/>
                  <a:pt x="6854" y="8497"/>
                </a:cubicBezTo>
                <a:cubicBezTo>
                  <a:pt x="6856" y="8512"/>
                  <a:pt x="6855" y="8528"/>
                  <a:pt x="6856" y="8543"/>
                </a:cubicBezTo>
                <a:cubicBezTo>
                  <a:pt x="6856" y="8544"/>
                  <a:pt x="6856" y="8544"/>
                  <a:pt x="6856" y="8545"/>
                </a:cubicBezTo>
                <a:cubicBezTo>
                  <a:pt x="6856" y="8545"/>
                  <a:pt x="6858" y="8534"/>
                  <a:pt x="6858" y="8531"/>
                </a:cubicBezTo>
                <a:cubicBezTo>
                  <a:pt x="6858" y="8500"/>
                  <a:pt x="6856" y="8471"/>
                  <a:pt x="6850" y="8441"/>
                </a:cubicBezTo>
                <a:cubicBezTo>
                  <a:pt x="6845" y="8416"/>
                  <a:pt x="6840" y="8390"/>
                  <a:pt x="6832" y="8368"/>
                </a:cubicBezTo>
                <a:cubicBezTo>
                  <a:pt x="6828" y="8359"/>
                  <a:pt x="6826" y="8346"/>
                  <a:pt x="6822" y="8337"/>
                </a:cubicBezTo>
                <a:cubicBezTo>
                  <a:pt x="6821" y="8335"/>
                  <a:pt x="6819" y="8332"/>
                  <a:pt x="6818" y="8330"/>
                </a:cubicBezTo>
                <a:cubicBezTo>
                  <a:pt x="6815" y="8325"/>
                  <a:pt x="6811" y="8326"/>
                  <a:pt x="6809" y="8323"/>
                </a:cubicBezTo>
                <a:cubicBezTo>
                  <a:pt x="6806" y="8318"/>
                  <a:pt x="6807" y="8315"/>
                  <a:pt x="6802" y="8309"/>
                </a:cubicBezTo>
                <a:cubicBezTo>
                  <a:pt x="6800" y="8306"/>
                  <a:pt x="6800" y="8305"/>
                  <a:pt x="6798" y="8303"/>
                </a:cubicBezTo>
                <a:cubicBezTo>
                  <a:pt x="6795" y="8300"/>
                  <a:pt x="6798" y="8305"/>
                  <a:pt x="6798" y="8305"/>
                </a:cubicBezTo>
              </a:path>
              <a:path w="6713" h="5983">
                <a:moveTo>
                  <a:pt x="6659" y="7592"/>
                </a:moveTo>
                <a:cubicBezTo>
                  <a:pt x="6646" y="7569"/>
                  <a:pt x="6633" y="7546"/>
                  <a:pt x="6619" y="7524"/>
                </a:cubicBezTo>
                <a:cubicBezTo>
                  <a:pt x="6612" y="7512"/>
                  <a:pt x="6602" y="7501"/>
                  <a:pt x="6599" y="7488"/>
                </a:cubicBezTo>
                <a:cubicBezTo>
                  <a:pt x="6596" y="7478"/>
                  <a:pt x="6599" y="7466"/>
                  <a:pt x="6598" y="7456"/>
                </a:cubicBezTo>
                <a:cubicBezTo>
                  <a:pt x="6598" y="7455"/>
                  <a:pt x="6598" y="7453"/>
                  <a:pt x="6598" y="7452"/>
                </a:cubicBezTo>
                <a:cubicBezTo>
                  <a:pt x="6597" y="7454"/>
                  <a:pt x="6586" y="7452"/>
                  <a:pt x="6585" y="7461"/>
                </a:cubicBezTo>
                <a:cubicBezTo>
                  <a:pt x="6585" y="7467"/>
                  <a:pt x="6587" y="7472"/>
                  <a:pt x="6587" y="7479"/>
                </a:cubicBezTo>
                <a:cubicBezTo>
                  <a:pt x="6587" y="7494"/>
                  <a:pt x="6593" y="7500"/>
                  <a:pt x="6596" y="7509"/>
                </a:cubicBezTo>
                <a:cubicBezTo>
                  <a:pt x="6599" y="7516"/>
                  <a:pt x="6605" y="7524"/>
                  <a:pt x="6607" y="7529"/>
                </a:cubicBezTo>
                <a:cubicBezTo>
                  <a:pt x="6610" y="7537"/>
                  <a:pt x="6610" y="7543"/>
                  <a:pt x="6612" y="7551"/>
                </a:cubicBezTo>
                <a:cubicBezTo>
                  <a:pt x="6614" y="7560"/>
                  <a:pt x="6612" y="7571"/>
                  <a:pt x="6614" y="7579"/>
                </a:cubicBezTo>
                <a:cubicBezTo>
                  <a:pt x="6618" y="7597"/>
                  <a:pt x="6618" y="7607"/>
                  <a:pt x="6628" y="7624"/>
                </a:cubicBezTo>
                <a:cubicBezTo>
                  <a:pt x="6631" y="7629"/>
                  <a:pt x="6639" y="7635"/>
                  <a:pt x="6641" y="7640"/>
                </a:cubicBezTo>
                <a:cubicBezTo>
                  <a:pt x="6645" y="7648"/>
                  <a:pt x="6648" y="7654"/>
                  <a:pt x="6651" y="7663"/>
                </a:cubicBezTo>
                <a:cubicBezTo>
                  <a:pt x="6653" y="7668"/>
                  <a:pt x="6654" y="7671"/>
                  <a:pt x="6655" y="7676"/>
                </a:cubicBezTo>
                <a:cubicBezTo>
                  <a:pt x="6658" y="7689"/>
                  <a:pt x="6655" y="7704"/>
                  <a:pt x="6659" y="7717"/>
                </a:cubicBezTo>
                <a:cubicBezTo>
                  <a:pt x="6664" y="7732"/>
                  <a:pt x="6672" y="7749"/>
                  <a:pt x="6677" y="7764"/>
                </a:cubicBezTo>
                <a:cubicBezTo>
                  <a:pt x="6682" y="7779"/>
                  <a:pt x="6691" y="7793"/>
                  <a:pt x="6696" y="7807"/>
                </a:cubicBezTo>
                <a:cubicBezTo>
                  <a:pt x="6699" y="7816"/>
                  <a:pt x="6703" y="7826"/>
                  <a:pt x="6705" y="7836"/>
                </a:cubicBezTo>
                <a:cubicBezTo>
                  <a:pt x="6709" y="7852"/>
                  <a:pt x="6705" y="7868"/>
                  <a:pt x="6709" y="7884"/>
                </a:cubicBezTo>
                <a:cubicBezTo>
                  <a:pt x="6713" y="7900"/>
                  <a:pt x="6718" y="7914"/>
                  <a:pt x="6723" y="7929"/>
                </a:cubicBezTo>
                <a:cubicBezTo>
                  <a:pt x="6727" y="7942"/>
                  <a:pt x="6733" y="7954"/>
                  <a:pt x="6739" y="7968"/>
                </a:cubicBezTo>
                <a:cubicBezTo>
                  <a:pt x="6741" y="7972"/>
                  <a:pt x="6749" y="7976"/>
                  <a:pt x="6750" y="7979"/>
                </a:cubicBezTo>
                <a:cubicBezTo>
                  <a:pt x="6754" y="7991"/>
                  <a:pt x="6756" y="8008"/>
                  <a:pt x="6759" y="8020"/>
                </a:cubicBezTo>
                <a:cubicBezTo>
                  <a:pt x="6761" y="8030"/>
                  <a:pt x="6762" y="8041"/>
                  <a:pt x="6764" y="8051"/>
                </a:cubicBezTo>
                <a:cubicBezTo>
                  <a:pt x="6765" y="8057"/>
                  <a:pt x="6767" y="8062"/>
                  <a:pt x="6768" y="8068"/>
                </a:cubicBezTo>
                <a:cubicBezTo>
                  <a:pt x="6771" y="8080"/>
                  <a:pt x="6775" y="8092"/>
                  <a:pt x="6779" y="8103"/>
                </a:cubicBezTo>
                <a:cubicBezTo>
                  <a:pt x="6783" y="8115"/>
                  <a:pt x="6785" y="8124"/>
                  <a:pt x="6788" y="8135"/>
                </a:cubicBezTo>
                <a:cubicBezTo>
                  <a:pt x="6791" y="8146"/>
                  <a:pt x="6794" y="8158"/>
                  <a:pt x="6798" y="8169"/>
                </a:cubicBezTo>
                <a:cubicBezTo>
                  <a:pt x="6801" y="8179"/>
                  <a:pt x="6806" y="8188"/>
                  <a:pt x="6809" y="8198"/>
                </a:cubicBezTo>
                <a:cubicBezTo>
                  <a:pt x="6811" y="8204"/>
                  <a:pt x="6813" y="8209"/>
                  <a:pt x="6815" y="8215"/>
                </a:cubicBezTo>
                <a:cubicBezTo>
                  <a:pt x="6819" y="8229"/>
                  <a:pt x="6820" y="8243"/>
                  <a:pt x="6823" y="8257"/>
                </a:cubicBezTo>
                <a:cubicBezTo>
                  <a:pt x="6826" y="8272"/>
                  <a:pt x="6827" y="8285"/>
                  <a:pt x="6832" y="8300"/>
                </a:cubicBezTo>
                <a:cubicBezTo>
                  <a:pt x="6838" y="8318"/>
                  <a:pt x="6844" y="8336"/>
                  <a:pt x="6850" y="8353"/>
                </a:cubicBezTo>
                <a:cubicBezTo>
                  <a:pt x="6854" y="8364"/>
                  <a:pt x="6859" y="8376"/>
                  <a:pt x="6863" y="8387"/>
                </a:cubicBezTo>
                <a:cubicBezTo>
                  <a:pt x="6867" y="8397"/>
                  <a:pt x="6870" y="8405"/>
                  <a:pt x="6875" y="8416"/>
                </a:cubicBezTo>
                <a:cubicBezTo>
                  <a:pt x="6887" y="8440"/>
                  <a:pt x="6901" y="8463"/>
                  <a:pt x="6913" y="8486"/>
                </a:cubicBezTo>
                <a:cubicBezTo>
                  <a:pt x="6915" y="8491"/>
                  <a:pt x="6918" y="8496"/>
                  <a:pt x="6920" y="8500"/>
                </a:cubicBezTo>
                <a:cubicBezTo>
                  <a:pt x="6923" y="8505"/>
                  <a:pt x="6928" y="8510"/>
                  <a:pt x="6931" y="8516"/>
                </a:cubicBezTo>
                <a:cubicBezTo>
                  <a:pt x="6934" y="8521"/>
                  <a:pt x="6939" y="8529"/>
                  <a:pt x="6942" y="8536"/>
                </a:cubicBezTo>
                <a:cubicBezTo>
                  <a:pt x="6944" y="8540"/>
                  <a:pt x="6950" y="8549"/>
                  <a:pt x="6951" y="8552"/>
                </a:cubicBezTo>
                <a:cubicBezTo>
                  <a:pt x="6954" y="8561"/>
                  <a:pt x="6954" y="8572"/>
                  <a:pt x="6956" y="8581"/>
                </a:cubicBezTo>
                <a:cubicBezTo>
                  <a:pt x="6958" y="8587"/>
                  <a:pt x="6959" y="8593"/>
                  <a:pt x="6961" y="8599"/>
                </a:cubicBezTo>
                <a:cubicBezTo>
                  <a:pt x="6964" y="8609"/>
                  <a:pt x="6966" y="8618"/>
                  <a:pt x="6969" y="8628"/>
                </a:cubicBezTo>
                <a:cubicBezTo>
                  <a:pt x="6971" y="8634"/>
                  <a:pt x="6975" y="8639"/>
                  <a:pt x="6976" y="8642"/>
                </a:cubicBezTo>
                <a:cubicBezTo>
                  <a:pt x="6978" y="8650"/>
                  <a:pt x="6975" y="8659"/>
                  <a:pt x="6976" y="8667"/>
                </a:cubicBezTo>
                <a:cubicBezTo>
                  <a:pt x="6975" y="8662"/>
                  <a:pt x="6977" y="8661"/>
                  <a:pt x="6976" y="8656"/>
                </a:cubicBezTo>
                <a:cubicBezTo>
                  <a:pt x="6973" y="8642"/>
                  <a:pt x="6969" y="8631"/>
                  <a:pt x="6965" y="8617"/>
                </a:cubicBezTo>
                <a:cubicBezTo>
                  <a:pt x="6960" y="8601"/>
                  <a:pt x="6955" y="8586"/>
                  <a:pt x="6951" y="8570"/>
                </a:cubicBezTo>
                <a:cubicBezTo>
                  <a:pt x="6948" y="8557"/>
                  <a:pt x="6946" y="8544"/>
                  <a:pt x="6944" y="8531"/>
                </a:cubicBezTo>
                <a:cubicBezTo>
                  <a:pt x="6941" y="8516"/>
                  <a:pt x="6939" y="8503"/>
                  <a:pt x="6936" y="8488"/>
                </a:cubicBezTo>
                <a:cubicBezTo>
                  <a:pt x="6932" y="8463"/>
                  <a:pt x="6926" y="8445"/>
                  <a:pt x="6917" y="8422"/>
                </a:cubicBezTo>
                <a:cubicBezTo>
                  <a:pt x="6913" y="8412"/>
                  <a:pt x="6909" y="8407"/>
                  <a:pt x="6906" y="8396"/>
                </a:cubicBezTo>
                <a:cubicBezTo>
                  <a:pt x="6903" y="8382"/>
                  <a:pt x="6906" y="8366"/>
                  <a:pt x="6901" y="8352"/>
                </a:cubicBezTo>
                <a:cubicBezTo>
                  <a:pt x="6897" y="8341"/>
                  <a:pt x="6891" y="8333"/>
                  <a:pt x="6886" y="8323"/>
                </a:cubicBezTo>
                <a:cubicBezTo>
                  <a:pt x="6881" y="8312"/>
                  <a:pt x="6875" y="8303"/>
                  <a:pt x="6870" y="8292"/>
                </a:cubicBezTo>
                <a:cubicBezTo>
                  <a:pt x="6864" y="8279"/>
                  <a:pt x="6858" y="8267"/>
                  <a:pt x="6854" y="8253"/>
                </a:cubicBezTo>
                <a:cubicBezTo>
                  <a:pt x="6850" y="8239"/>
                  <a:pt x="6846" y="8225"/>
                  <a:pt x="6843" y="8210"/>
                </a:cubicBezTo>
                <a:cubicBezTo>
                  <a:pt x="6840" y="8197"/>
                  <a:pt x="6838" y="8185"/>
                  <a:pt x="6836" y="8172"/>
                </a:cubicBezTo>
                <a:cubicBezTo>
                  <a:pt x="6833" y="8155"/>
                  <a:pt x="6829" y="8137"/>
                  <a:pt x="6825" y="8120"/>
                </a:cubicBezTo>
                <a:cubicBezTo>
                  <a:pt x="6816" y="8086"/>
                  <a:pt x="6803" y="8053"/>
                  <a:pt x="6793" y="8022"/>
                </a:cubicBezTo>
                <a:cubicBezTo>
                  <a:pt x="6784" y="7994"/>
                  <a:pt x="6772" y="7967"/>
                  <a:pt x="6766" y="7939"/>
                </a:cubicBezTo>
                <a:cubicBezTo>
                  <a:pt x="6755" y="7893"/>
                  <a:pt x="6758" y="7846"/>
                  <a:pt x="6743" y="7801"/>
                </a:cubicBezTo>
                <a:cubicBezTo>
                  <a:pt x="6738" y="7786"/>
                  <a:pt x="6732" y="7771"/>
                  <a:pt x="6728" y="7755"/>
                </a:cubicBezTo>
                <a:cubicBezTo>
                  <a:pt x="6719" y="7722"/>
                  <a:pt x="6709" y="7688"/>
                  <a:pt x="6698" y="7658"/>
                </a:cubicBezTo>
                <a:cubicBezTo>
                  <a:pt x="6693" y="7643"/>
                  <a:pt x="6686" y="7633"/>
                  <a:pt x="6680" y="7620"/>
                </a:cubicBezTo>
                <a:cubicBezTo>
                  <a:pt x="6671" y="7600"/>
                  <a:pt x="6671" y="7587"/>
                  <a:pt x="6669" y="7565"/>
                </a:cubicBezTo>
                <a:cubicBezTo>
                  <a:pt x="6667" y="7549"/>
                  <a:pt x="6665" y="7539"/>
                  <a:pt x="6660" y="7525"/>
                </a:cubicBezTo>
                <a:cubicBezTo>
                  <a:pt x="6658" y="7520"/>
                  <a:pt x="6649" y="7515"/>
                  <a:pt x="6646" y="7508"/>
                </a:cubicBezTo>
                <a:cubicBezTo>
                  <a:pt x="6643" y="7500"/>
                  <a:pt x="6646" y="7495"/>
                  <a:pt x="6641" y="7486"/>
                </a:cubicBezTo>
                <a:cubicBezTo>
                  <a:pt x="6638" y="7481"/>
                  <a:pt x="6635" y="7480"/>
                  <a:pt x="6632" y="7475"/>
                </a:cubicBezTo>
                <a:cubicBezTo>
                  <a:pt x="6627" y="7468"/>
                  <a:pt x="6619" y="7457"/>
                  <a:pt x="6616" y="7452"/>
                </a:cubicBezTo>
                <a:cubicBezTo>
                  <a:pt x="6608" y="7438"/>
                  <a:pt x="6599" y="7418"/>
                  <a:pt x="6594" y="7405"/>
                </a:cubicBezTo>
                <a:cubicBezTo>
                  <a:pt x="6591" y="7396"/>
                  <a:pt x="6587" y="7383"/>
                  <a:pt x="6585" y="7377"/>
                </a:cubicBezTo>
                <a:cubicBezTo>
                  <a:pt x="6584" y="7374"/>
                  <a:pt x="6583" y="7376"/>
                  <a:pt x="6582" y="7373"/>
                </a:cubicBezTo>
                <a:cubicBezTo>
                  <a:pt x="6585" y="7377"/>
                  <a:pt x="6585" y="7381"/>
                  <a:pt x="6589" y="7386"/>
                </a:cubicBezTo>
                <a:cubicBezTo>
                  <a:pt x="6592" y="7390"/>
                  <a:pt x="6598" y="7396"/>
                  <a:pt x="6601" y="7400"/>
                </a:cubicBezTo>
                <a:cubicBezTo>
                  <a:pt x="6605" y="7404"/>
                  <a:pt x="6606" y="7410"/>
                  <a:pt x="6610" y="7414"/>
                </a:cubicBezTo>
                <a:cubicBezTo>
                  <a:pt x="6616" y="7420"/>
                  <a:pt x="6623" y="7425"/>
                  <a:pt x="6630" y="7431"/>
                </a:cubicBezTo>
                <a:cubicBezTo>
                  <a:pt x="6636" y="7437"/>
                  <a:pt x="6642" y="7443"/>
                  <a:pt x="6648" y="7448"/>
                </a:cubicBezTo>
                <a:cubicBezTo>
                  <a:pt x="6659" y="7458"/>
                  <a:pt x="6671" y="7466"/>
                  <a:pt x="6684" y="7472"/>
                </a:cubicBezTo>
                <a:cubicBezTo>
                  <a:pt x="6696" y="7477"/>
                  <a:pt x="6711" y="7482"/>
                  <a:pt x="6723" y="7486"/>
                </a:cubicBezTo>
                <a:cubicBezTo>
                  <a:pt x="6736" y="7490"/>
                  <a:pt x="6749" y="7494"/>
                  <a:pt x="6761" y="7499"/>
                </a:cubicBezTo>
                <a:cubicBezTo>
                  <a:pt x="6776" y="7506"/>
                  <a:pt x="6791" y="7513"/>
                  <a:pt x="6807" y="7518"/>
                </a:cubicBezTo>
                <a:cubicBezTo>
                  <a:pt x="6821" y="7522"/>
                  <a:pt x="6835" y="7526"/>
                  <a:pt x="6849" y="7529"/>
                </a:cubicBezTo>
                <a:cubicBezTo>
                  <a:pt x="6868" y="7534"/>
                  <a:pt x="6887" y="7535"/>
                  <a:pt x="6906" y="7542"/>
                </a:cubicBezTo>
                <a:cubicBezTo>
                  <a:pt x="6917" y="7546"/>
                  <a:pt x="6928" y="7553"/>
                  <a:pt x="6938" y="7556"/>
                </a:cubicBezTo>
                <a:cubicBezTo>
                  <a:pt x="6950" y="7560"/>
                  <a:pt x="6959" y="7565"/>
                  <a:pt x="6967" y="7569"/>
                </a:cubicBezTo>
                <a:cubicBezTo>
                  <a:pt x="6972" y="7572"/>
                  <a:pt x="6974" y="7576"/>
                  <a:pt x="6981" y="7579"/>
                </a:cubicBezTo>
                <a:cubicBezTo>
                  <a:pt x="7007" y="7590"/>
                  <a:pt x="7032" y="7585"/>
                  <a:pt x="7060" y="7588"/>
                </a:cubicBezTo>
                <a:cubicBezTo>
                  <a:pt x="7072" y="7589"/>
                  <a:pt x="7082" y="7588"/>
                  <a:pt x="7092" y="7592"/>
                </a:cubicBezTo>
                <a:cubicBezTo>
                  <a:pt x="7096" y="7594"/>
                  <a:pt x="7105" y="7595"/>
                  <a:pt x="7108" y="7597"/>
                </a:cubicBezTo>
                <a:cubicBezTo>
                  <a:pt x="7116" y="7601"/>
                  <a:pt x="7116" y="7606"/>
                  <a:pt x="7123" y="7612"/>
                </a:cubicBezTo>
                <a:cubicBezTo>
                  <a:pt x="7120" y="7613"/>
                  <a:pt x="7122" y="7612"/>
                  <a:pt x="7119" y="7613"/>
                </a:cubicBezTo>
                <a:cubicBezTo>
                  <a:pt x="7111" y="7615"/>
                  <a:pt x="7103" y="7618"/>
                  <a:pt x="7094" y="7620"/>
                </a:cubicBezTo>
                <a:cubicBezTo>
                  <a:pt x="7068" y="7626"/>
                  <a:pt x="7042" y="7635"/>
                  <a:pt x="7015" y="7637"/>
                </a:cubicBezTo>
                <a:cubicBezTo>
                  <a:pt x="6991" y="7639"/>
                  <a:pt x="6966" y="7637"/>
                  <a:pt x="6944" y="7626"/>
                </a:cubicBezTo>
                <a:cubicBezTo>
                  <a:pt x="6927" y="7618"/>
                  <a:pt x="6921" y="7604"/>
                  <a:pt x="6908" y="7594"/>
                </a:cubicBezTo>
                <a:cubicBezTo>
                  <a:pt x="6895" y="7584"/>
                  <a:pt x="6881" y="7577"/>
                  <a:pt x="6868" y="7565"/>
                </a:cubicBezTo>
                <a:cubicBezTo>
                  <a:pt x="6848" y="7546"/>
                  <a:pt x="6830" y="7521"/>
                  <a:pt x="6811" y="7502"/>
                </a:cubicBezTo>
                <a:cubicBezTo>
                  <a:pt x="6798" y="7490"/>
                  <a:pt x="6784" y="7474"/>
                  <a:pt x="6770" y="7463"/>
                </a:cubicBezTo>
                <a:cubicBezTo>
                  <a:pt x="6760" y="7456"/>
                  <a:pt x="6747" y="7449"/>
                  <a:pt x="6736" y="7443"/>
                </a:cubicBezTo>
                <a:cubicBezTo>
                  <a:pt x="6723" y="7436"/>
                  <a:pt x="6715" y="7436"/>
                  <a:pt x="6703" y="7431"/>
                </a:cubicBezTo>
              </a:path>
              <a:path w="6713" h="5983">
                <a:moveTo>
                  <a:pt x="6685" y="7425"/>
                </a:moveTo>
                <a:cubicBezTo>
                  <a:pt x="6657" y="7425"/>
                  <a:pt x="6612" y="7418"/>
                  <a:pt x="6587" y="7429"/>
                </a:cubicBezTo>
                <a:cubicBezTo>
                  <a:pt x="6578" y="7433"/>
                  <a:pt x="6572" y="7440"/>
                  <a:pt x="6564" y="7445"/>
                </a:cubicBezTo>
                <a:cubicBezTo>
                  <a:pt x="6560" y="7447"/>
                  <a:pt x="6556" y="7449"/>
                  <a:pt x="6551" y="7452"/>
                </a:cubicBezTo>
                <a:cubicBezTo>
                  <a:pt x="6547" y="7454"/>
                  <a:pt x="6544" y="7453"/>
                  <a:pt x="6542" y="7456"/>
                </a:cubicBezTo>
                <a:cubicBezTo>
                  <a:pt x="6538" y="7462"/>
                  <a:pt x="6536" y="7474"/>
                  <a:pt x="6533" y="7481"/>
                </a:cubicBezTo>
                <a:cubicBezTo>
                  <a:pt x="6528" y="7491"/>
                  <a:pt x="6520" y="7504"/>
                  <a:pt x="6517" y="7515"/>
                </a:cubicBezTo>
                <a:cubicBezTo>
                  <a:pt x="6512" y="7533"/>
                  <a:pt x="6511" y="7552"/>
                  <a:pt x="6504" y="7570"/>
                </a:cubicBezTo>
                <a:cubicBezTo>
                  <a:pt x="6496" y="7593"/>
                  <a:pt x="6480" y="7613"/>
                  <a:pt x="6470" y="7635"/>
                </a:cubicBezTo>
                <a:cubicBezTo>
                  <a:pt x="6457" y="7665"/>
                  <a:pt x="6442" y="7693"/>
                  <a:pt x="6427" y="7723"/>
                </a:cubicBezTo>
                <a:cubicBezTo>
                  <a:pt x="6407" y="7762"/>
                  <a:pt x="6398" y="7805"/>
                  <a:pt x="6379" y="7844"/>
                </a:cubicBezTo>
                <a:cubicBezTo>
                  <a:pt x="6369" y="7864"/>
                  <a:pt x="6362" y="7884"/>
                  <a:pt x="6352" y="7904"/>
                </a:cubicBezTo>
                <a:cubicBezTo>
                  <a:pt x="6343" y="7920"/>
                  <a:pt x="6334" y="7937"/>
                  <a:pt x="6325" y="7952"/>
                </a:cubicBezTo>
                <a:cubicBezTo>
                  <a:pt x="6316" y="7967"/>
                  <a:pt x="6311" y="7984"/>
                  <a:pt x="6302" y="7999"/>
                </a:cubicBezTo>
                <a:cubicBezTo>
                  <a:pt x="6296" y="8008"/>
                  <a:pt x="6287" y="8015"/>
                  <a:pt x="6282" y="8025"/>
                </a:cubicBezTo>
                <a:cubicBezTo>
                  <a:pt x="6281" y="8028"/>
                  <a:pt x="6281" y="8036"/>
                  <a:pt x="6279" y="8038"/>
                </a:cubicBezTo>
                <a:cubicBezTo>
                  <a:pt x="6278" y="8039"/>
                  <a:pt x="6273" y="8042"/>
                  <a:pt x="6273" y="8042"/>
                </a:cubicBezTo>
                <a:cubicBezTo>
                  <a:pt x="6273" y="8042"/>
                  <a:pt x="6275" y="8037"/>
                  <a:pt x="6275" y="8034"/>
                </a:cubicBezTo>
                <a:cubicBezTo>
                  <a:pt x="6277" y="8019"/>
                  <a:pt x="6280" y="8017"/>
                  <a:pt x="6288" y="8004"/>
                </a:cubicBezTo>
                <a:cubicBezTo>
                  <a:pt x="6293" y="7995"/>
                  <a:pt x="6299" y="7985"/>
                  <a:pt x="6304" y="7975"/>
                </a:cubicBezTo>
                <a:cubicBezTo>
                  <a:pt x="6307" y="7970"/>
                  <a:pt x="6309" y="7964"/>
                  <a:pt x="6311" y="7961"/>
                </a:cubicBezTo>
                <a:cubicBezTo>
                  <a:pt x="6313" y="7958"/>
                  <a:pt x="6311" y="7964"/>
                  <a:pt x="6313" y="7961"/>
                </a:cubicBezTo>
              </a:path>
            </a:pathLst>
          </a:custGeom>
          <a:noFill/>
          <a:ln cap="rnd" w="2844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5996160" y="2523960"/>
            <a:ext cx="299880" cy="541440"/>
          </a:xfrm>
          <a:custGeom>
            <a:avLst/>
            <a:gdLst/>
            <a:ahLst/>
            <a:rect l="l" t="t" r="r" b="b"/>
            <a:pathLst>
              <a:path w="833" h="1503">
                <a:moveTo>
                  <a:pt x="16770" y="7113"/>
                </a:moveTo>
                <a:cubicBezTo>
                  <a:pt x="16753" y="7102"/>
                  <a:pt x="16735" y="7091"/>
                  <a:pt x="16718" y="7081"/>
                </a:cubicBezTo>
                <a:cubicBezTo>
                  <a:pt x="16711" y="7077"/>
                  <a:pt x="16693" y="7069"/>
                  <a:pt x="16688" y="7065"/>
                </a:cubicBezTo>
                <a:cubicBezTo>
                  <a:pt x="16685" y="7063"/>
                  <a:pt x="16678" y="7066"/>
                  <a:pt x="16675" y="7063"/>
                </a:cubicBezTo>
                <a:cubicBezTo>
                  <a:pt x="16671" y="7059"/>
                  <a:pt x="16673" y="7049"/>
                  <a:pt x="16670" y="7045"/>
                </a:cubicBezTo>
                <a:cubicBezTo>
                  <a:pt x="16666" y="7041"/>
                  <a:pt x="16665" y="7041"/>
                  <a:pt x="16662" y="7036"/>
                </a:cubicBezTo>
                <a:cubicBezTo>
                  <a:pt x="16660" y="7033"/>
                  <a:pt x="16661" y="7032"/>
                  <a:pt x="16659" y="7029"/>
                </a:cubicBezTo>
                <a:cubicBezTo>
                  <a:pt x="16655" y="7022"/>
                  <a:pt x="16659" y="7025"/>
                  <a:pt x="16655" y="7017"/>
                </a:cubicBezTo>
                <a:cubicBezTo>
                  <a:pt x="16657" y="7045"/>
                  <a:pt x="16664" y="7064"/>
                  <a:pt x="16668" y="7090"/>
                </a:cubicBezTo>
                <a:cubicBezTo>
                  <a:pt x="16673" y="7125"/>
                  <a:pt x="16670" y="7162"/>
                  <a:pt x="16689" y="7194"/>
                </a:cubicBezTo>
                <a:cubicBezTo>
                  <a:pt x="16696" y="7205"/>
                  <a:pt x="16708" y="7213"/>
                  <a:pt x="16716" y="7223"/>
                </a:cubicBezTo>
                <a:cubicBezTo>
                  <a:pt x="16724" y="7234"/>
                  <a:pt x="16735" y="7245"/>
                  <a:pt x="16741" y="7257"/>
                </a:cubicBezTo>
                <a:cubicBezTo>
                  <a:pt x="16746" y="7267"/>
                  <a:pt x="16746" y="7281"/>
                  <a:pt x="16752" y="7291"/>
                </a:cubicBezTo>
                <a:cubicBezTo>
                  <a:pt x="16759" y="7304"/>
                  <a:pt x="16769" y="7315"/>
                  <a:pt x="16777" y="7327"/>
                </a:cubicBezTo>
                <a:cubicBezTo>
                  <a:pt x="16785" y="7339"/>
                  <a:pt x="16798" y="7353"/>
                  <a:pt x="16804" y="7364"/>
                </a:cubicBezTo>
                <a:cubicBezTo>
                  <a:pt x="16814" y="7383"/>
                  <a:pt x="16816" y="7403"/>
                  <a:pt x="16824" y="7422"/>
                </a:cubicBezTo>
                <a:cubicBezTo>
                  <a:pt x="16830" y="7435"/>
                  <a:pt x="16835" y="7446"/>
                  <a:pt x="16842" y="7459"/>
                </a:cubicBezTo>
                <a:cubicBezTo>
                  <a:pt x="16847" y="7469"/>
                  <a:pt x="16858" y="7487"/>
                  <a:pt x="16865" y="7497"/>
                </a:cubicBezTo>
                <a:cubicBezTo>
                  <a:pt x="16876" y="7513"/>
                  <a:pt x="16887" y="7526"/>
                  <a:pt x="16897" y="7543"/>
                </a:cubicBezTo>
                <a:cubicBezTo>
                  <a:pt x="16905" y="7557"/>
                  <a:pt x="16912" y="7571"/>
                  <a:pt x="16919" y="7586"/>
                </a:cubicBezTo>
                <a:cubicBezTo>
                  <a:pt x="16925" y="7598"/>
                  <a:pt x="16930" y="7611"/>
                  <a:pt x="16937" y="7622"/>
                </a:cubicBezTo>
                <a:cubicBezTo>
                  <a:pt x="16948" y="7640"/>
                  <a:pt x="16963" y="7653"/>
                  <a:pt x="16976" y="7671"/>
                </a:cubicBezTo>
                <a:cubicBezTo>
                  <a:pt x="16985" y="7684"/>
                  <a:pt x="16993" y="7696"/>
                  <a:pt x="17001" y="7710"/>
                </a:cubicBezTo>
                <a:cubicBezTo>
                  <a:pt x="17013" y="7730"/>
                  <a:pt x="17019" y="7752"/>
                  <a:pt x="17030" y="7771"/>
                </a:cubicBezTo>
                <a:cubicBezTo>
                  <a:pt x="17047" y="7800"/>
                  <a:pt x="17070" y="7823"/>
                  <a:pt x="17091" y="7850"/>
                </a:cubicBezTo>
                <a:cubicBezTo>
                  <a:pt x="17106" y="7870"/>
                  <a:pt x="17120" y="7891"/>
                  <a:pt x="17137" y="7909"/>
                </a:cubicBezTo>
                <a:cubicBezTo>
                  <a:pt x="17153" y="7926"/>
                  <a:pt x="17169" y="7942"/>
                  <a:pt x="17184" y="7959"/>
                </a:cubicBezTo>
                <a:cubicBezTo>
                  <a:pt x="17209" y="7988"/>
                  <a:pt x="17232" y="8017"/>
                  <a:pt x="17256" y="8047"/>
                </a:cubicBezTo>
                <a:cubicBezTo>
                  <a:pt x="17284" y="8082"/>
                  <a:pt x="17309" y="8119"/>
                  <a:pt x="17335" y="8153"/>
                </a:cubicBezTo>
                <a:cubicBezTo>
                  <a:pt x="17340" y="8159"/>
                  <a:pt x="17348" y="8170"/>
                  <a:pt x="17352" y="8176"/>
                </a:cubicBezTo>
                <a:cubicBezTo>
                  <a:pt x="17361" y="8189"/>
                  <a:pt x="17372" y="8201"/>
                  <a:pt x="17381" y="8214"/>
                </a:cubicBezTo>
                <a:cubicBezTo>
                  <a:pt x="17389" y="8225"/>
                  <a:pt x="17395" y="8238"/>
                  <a:pt x="17404" y="8248"/>
                </a:cubicBezTo>
                <a:cubicBezTo>
                  <a:pt x="17410" y="8255"/>
                  <a:pt x="17418" y="8260"/>
                  <a:pt x="17424" y="8267"/>
                </a:cubicBezTo>
                <a:cubicBezTo>
                  <a:pt x="17430" y="8274"/>
                  <a:pt x="17433" y="8282"/>
                  <a:pt x="17439" y="8289"/>
                </a:cubicBezTo>
                <a:cubicBezTo>
                  <a:pt x="17447" y="8299"/>
                  <a:pt x="17455" y="8309"/>
                  <a:pt x="17462" y="8318"/>
                </a:cubicBezTo>
                <a:cubicBezTo>
                  <a:pt x="17465" y="8322"/>
                  <a:pt x="17470" y="8326"/>
                  <a:pt x="17473" y="8330"/>
                </a:cubicBezTo>
                <a:cubicBezTo>
                  <a:pt x="17475" y="8333"/>
                  <a:pt x="17481" y="8334"/>
                  <a:pt x="17482" y="8335"/>
                </a:cubicBezTo>
                <a:cubicBezTo>
                  <a:pt x="17484" y="8338"/>
                  <a:pt x="17484" y="8340"/>
                  <a:pt x="17487" y="8343"/>
                </a:cubicBezTo>
                <a:cubicBezTo>
                  <a:pt x="17486" y="8259"/>
                  <a:pt x="17485" y="8174"/>
                  <a:pt x="17485" y="8090"/>
                </a:cubicBezTo>
                <a:cubicBezTo>
                  <a:pt x="17485" y="8023"/>
                  <a:pt x="17487" y="7964"/>
                  <a:pt x="17465" y="7900"/>
                </a:cubicBezTo>
                <a:cubicBezTo>
                  <a:pt x="17458" y="7879"/>
                  <a:pt x="17449" y="7857"/>
                  <a:pt x="17439" y="7837"/>
                </a:cubicBezTo>
                <a:cubicBezTo>
                  <a:pt x="17435" y="7828"/>
                  <a:pt x="17431" y="7822"/>
                  <a:pt x="17426" y="7814"/>
                </a:cubicBezTo>
                <a:cubicBezTo>
                  <a:pt x="17425" y="7812"/>
                  <a:pt x="17419" y="7808"/>
                  <a:pt x="17419" y="7807"/>
                </a:cubicBezTo>
                <a:cubicBezTo>
                  <a:pt x="17417" y="7815"/>
                  <a:pt x="17408" y="7825"/>
                  <a:pt x="17406" y="7836"/>
                </a:cubicBezTo>
                <a:cubicBezTo>
                  <a:pt x="17402" y="7859"/>
                  <a:pt x="17404" y="7882"/>
                  <a:pt x="17403" y="7905"/>
                </a:cubicBezTo>
                <a:cubicBezTo>
                  <a:pt x="17401" y="8000"/>
                  <a:pt x="17407" y="8090"/>
                  <a:pt x="17422" y="8183"/>
                </a:cubicBezTo>
                <a:cubicBezTo>
                  <a:pt x="17438" y="8281"/>
                  <a:pt x="17440" y="8383"/>
                  <a:pt x="17439" y="8481"/>
                </a:cubicBezTo>
                <a:cubicBezTo>
                  <a:pt x="17439" y="8492"/>
                  <a:pt x="17437" y="8502"/>
                  <a:pt x="17437" y="8513"/>
                </a:cubicBezTo>
                <a:cubicBezTo>
                  <a:pt x="17427" y="8509"/>
                  <a:pt x="17417" y="8508"/>
                  <a:pt x="17406" y="8502"/>
                </a:cubicBezTo>
                <a:cubicBezTo>
                  <a:pt x="17390" y="8493"/>
                  <a:pt x="17374" y="8485"/>
                  <a:pt x="17356" y="8479"/>
                </a:cubicBezTo>
                <a:cubicBezTo>
                  <a:pt x="17315" y="8464"/>
                  <a:pt x="17271" y="8456"/>
                  <a:pt x="17229" y="8445"/>
                </a:cubicBezTo>
                <a:cubicBezTo>
                  <a:pt x="17123" y="8417"/>
                  <a:pt x="17014" y="8402"/>
                  <a:pt x="16906" y="8386"/>
                </a:cubicBezTo>
                <a:cubicBezTo>
                  <a:pt x="16851" y="8378"/>
                  <a:pt x="16796" y="8369"/>
                  <a:pt x="16740" y="8366"/>
                </a:cubicBezTo>
                <a:cubicBezTo>
                  <a:pt x="16729" y="8365"/>
                  <a:pt x="16700" y="8366"/>
                  <a:pt x="16695" y="8366"/>
                </a:cubicBezTo>
                <a:cubicBezTo>
                  <a:pt x="16717" y="8366"/>
                  <a:pt x="16765" y="8357"/>
                  <a:pt x="16783" y="8364"/>
                </a:cubicBezTo>
                <a:cubicBezTo>
                  <a:pt x="16788" y="8366"/>
                  <a:pt x="16795" y="8364"/>
                  <a:pt x="16799" y="8366"/>
                </a:cubicBezTo>
                <a:cubicBezTo>
                  <a:pt x="16802" y="8367"/>
                  <a:pt x="16797" y="8380"/>
                  <a:pt x="16804" y="8384"/>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31760" y="2103480"/>
            <a:ext cx="2192400" cy="2436840"/>
          </a:xfrm>
          <a:custGeom>
            <a:avLst/>
            <a:gdLst/>
            <a:ahLst/>
            <a:rect l="l" t="t" r="r" b="b"/>
            <a:pathLst>
              <a:path w="6090" h="6765">
                <a:moveTo>
                  <a:pt x="7349" y="5866"/>
                </a:moveTo>
                <a:cubicBezTo>
                  <a:pt x="7342" y="5848"/>
                  <a:pt x="7340" y="5853"/>
                  <a:pt x="7334" y="5845"/>
                </a:cubicBezTo>
                <a:cubicBezTo>
                  <a:pt x="7337" y="5879"/>
                  <a:pt x="7336" y="5947"/>
                  <a:pt x="7341" y="5990"/>
                </a:cubicBezTo>
                <a:cubicBezTo>
                  <a:pt x="7350" y="6069"/>
                  <a:pt x="7361" y="6132"/>
                  <a:pt x="7388" y="6194"/>
                </a:cubicBezTo>
                <a:cubicBezTo>
                  <a:pt x="7407" y="6239"/>
                  <a:pt x="7460" y="6299"/>
                  <a:pt x="7485" y="6348"/>
                </a:cubicBezTo>
                <a:cubicBezTo>
                  <a:pt x="7508" y="6392"/>
                  <a:pt x="7538" y="6427"/>
                  <a:pt x="7560" y="6472"/>
                </a:cubicBezTo>
                <a:cubicBezTo>
                  <a:pt x="7574" y="6501"/>
                  <a:pt x="7599" y="6542"/>
                  <a:pt x="7610" y="6572"/>
                </a:cubicBezTo>
                <a:cubicBezTo>
                  <a:pt x="7624" y="6610"/>
                  <a:pt x="7625" y="6654"/>
                  <a:pt x="7642" y="6692"/>
                </a:cubicBezTo>
                <a:cubicBezTo>
                  <a:pt x="7661" y="6735"/>
                  <a:pt x="7668" y="6792"/>
                  <a:pt x="7684" y="6828"/>
                </a:cubicBezTo>
                <a:cubicBezTo>
                  <a:pt x="7712" y="6890"/>
                  <a:pt x="7772" y="6951"/>
                  <a:pt x="7800" y="7020"/>
                </a:cubicBezTo>
                <a:cubicBezTo>
                  <a:pt x="7822" y="7074"/>
                  <a:pt x="7835" y="7132"/>
                  <a:pt x="7856" y="7192"/>
                </a:cubicBezTo>
                <a:cubicBezTo>
                  <a:pt x="7882" y="7267"/>
                  <a:pt x="7916" y="7349"/>
                  <a:pt x="7938" y="7414"/>
                </a:cubicBezTo>
                <a:cubicBezTo>
                  <a:pt x="7949" y="7447"/>
                  <a:pt x="7959" y="7477"/>
                  <a:pt x="7970" y="7511"/>
                </a:cubicBezTo>
                <a:cubicBezTo>
                  <a:pt x="7988" y="7568"/>
                  <a:pt x="8001" y="7636"/>
                  <a:pt x="8026" y="7692"/>
                </a:cubicBezTo>
                <a:cubicBezTo>
                  <a:pt x="8071" y="7791"/>
                  <a:pt x="8142" y="7881"/>
                  <a:pt x="8182" y="7977"/>
                </a:cubicBezTo>
                <a:cubicBezTo>
                  <a:pt x="8194" y="8006"/>
                  <a:pt x="8202" y="8036"/>
                  <a:pt x="8214" y="8065"/>
                </a:cubicBezTo>
                <a:cubicBezTo>
                  <a:pt x="8230" y="8104"/>
                  <a:pt x="8246" y="8144"/>
                  <a:pt x="8261" y="8185"/>
                </a:cubicBezTo>
                <a:cubicBezTo>
                  <a:pt x="8264" y="8193"/>
                  <a:pt x="8265" y="8202"/>
                  <a:pt x="8268" y="8210"/>
                </a:cubicBezTo>
                <a:cubicBezTo>
                  <a:pt x="8273" y="8227"/>
                  <a:pt x="8296" y="8258"/>
                  <a:pt x="8302" y="8280"/>
                </a:cubicBezTo>
                <a:cubicBezTo>
                  <a:pt x="8317" y="8334"/>
                  <a:pt x="8319" y="8394"/>
                  <a:pt x="8338" y="8447"/>
                </a:cubicBezTo>
                <a:cubicBezTo>
                  <a:pt x="8350" y="8480"/>
                  <a:pt x="8364" y="8509"/>
                  <a:pt x="8377" y="8540"/>
                </a:cubicBezTo>
                <a:cubicBezTo>
                  <a:pt x="8408" y="8616"/>
                  <a:pt x="8450" y="8686"/>
                  <a:pt x="8487" y="8767"/>
                </a:cubicBezTo>
                <a:cubicBezTo>
                  <a:pt x="8529" y="8859"/>
                  <a:pt x="8570" y="8947"/>
                  <a:pt x="8608" y="9038"/>
                </a:cubicBezTo>
                <a:cubicBezTo>
                  <a:pt x="8661" y="9164"/>
                  <a:pt x="8698" y="9284"/>
                  <a:pt x="8732" y="9411"/>
                </a:cubicBezTo>
                <a:cubicBezTo>
                  <a:pt x="8740" y="9440"/>
                  <a:pt x="8770" y="9473"/>
                  <a:pt x="8773" y="9488"/>
                </a:cubicBezTo>
                <a:cubicBezTo>
                  <a:pt x="8793" y="9591"/>
                  <a:pt x="8811" y="9708"/>
                  <a:pt x="8825" y="9800"/>
                </a:cubicBezTo>
                <a:cubicBezTo>
                  <a:pt x="8831" y="9841"/>
                  <a:pt x="8835" y="9883"/>
                  <a:pt x="8841" y="9929"/>
                </a:cubicBezTo>
                <a:cubicBezTo>
                  <a:pt x="8851" y="9997"/>
                  <a:pt x="8847" y="10065"/>
                  <a:pt x="8863" y="10133"/>
                </a:cubicBezTo>
                <a:cubicBezTo>
                  <a:pt x="8871" y="10168"/>
                  <a:pt x="8893" y="10211"/>
                  <a:pt x="8901" y="10242"/>
                </a:cubicBezTo>
                <a:cubicBezTo>
                  <a:pt x="8919" y="10309"/>
                  <a:pt x="8948" y="10365"/>
                  <a:pt x="8954" y="10436"/>
                </a:cubicBezTo>
                <a:cubicBezTo>
                  <a:pt x="8976" y="10695"/>
                  <a:pt x="8944" y="11006"/>
                  <a:pt x="8861" y="11231"/>
                </a:cubicBezTo>
                <a:cubicBezTo>
                  <a:pt x="8853" y="11252"/>
                  <a:pt x="8845" y="11272"/>
                  <a:pt x="8836" y="11294"/>
                </a:cubicBezTo>
                <a:cubicBezTo>
                  <a:pt x="8807" y="11363"/>
                  <a:pt x="8771" y="11433"/>
                  <a:pt x="8730" y="11498"/>
                </a:cubicBezTo>
                <a:cubicBezTo>
                  <a:pt x="8696" y="11552"/>
                  <a:pt x="8661" y="11608"/>
                  <a:pt x="8616" y="11654"/>
                </a:cubicBezTo>
                <a:cubicBezTo>
                  <a:pt x="8596" y="11674"/>
                  <a:pt x="8580" y="11694"/>
                  <a:pt x="8560" y="11712"/>
                </a:cubicBezTo>
                <a:cubicBezTo>
                  <a:pt x="8509" y="11759"/>
                  <a:pt x="8432" y="11803"/>
                  <a:pt x="8377" y="11842"/>
                </a:cubicBezTo>
                <a:cubicBezTo>
                  <a:pt x="8316" y="11885"/>
                  <a:pt x="8262" y="11927"/>
                  <a:pt x="8198" y="11964"/>
                </a:cubicBezTo>
                <a:cubicBezTo>
                  <a:pt x="8110" y="12014"/>
                  <a:pt x="8024" y="12045"/>
                  <a:pt x="7926" y="12079"/>
                </a:cubicBezTo>
                <a:cubicBezTo>
                  <a:pt x="7841" y="12109"/>
                  <a:pt x="7753" y="12141"/>
                  <a:pt x="7664" y="12163"/>
                </a:cubicBezTo>
                <a:cubicBezTo>
                  <a:pt x="7549" y="12191"/>
                  <a:pt x="7420" y="12214"/>
                  <a:pt x="7298" y="12206"/>
                </a:cubicBezTo>
                <a:cubicBezTo>
                  <a:pt x="7265" y="12204"/>
                  <a:pt x="7232" y="12189"/>
                  <a:pt x="7198" y="12185"/>
                </a:cubicBezTo>
                <a:cubicBezTo>
                  <a:pt x="7134" y="12178"/>
                  <a:pt x="7063" y="12162"/>
                  <a:pt x="7003" y="12147"/>
                </a:cubicBezTo>
                <a:cubicBezTo>
                  <a:pt x="6941" y="12131"/>
                  <a:pt x="6885" y="12100"/>
                  <a:pt x="6822" y="12088"/>
                </a:cubicBezTo>
                <a:cubicBezTo>
                  <a:pt x="6675" y="12061"/>
                  <a:pt x="6513" y="12050"/>
                  <a:pt x="6366" y="12038"/>
                </a:cubicBezTo>
                <a:cubicBezTo>
                  <a:pt x="6142" y="12019"/>
                  <a:pt x="5933" y="11986"/>
                  <a:pt x="5719" y="11929"/>
                </a:cubicBezTo>
                <a:cubicBezTo>
                  <a:pt x="5630" y="11905"/>
                  <a:pt x="5551" y="11876"/>
                  <a:pt x="5451" y="11864"/>
                </a:cubicBezTo>
                <a:cubicBezTo>
                  <a:pt x="5099" y="11821"/>
                  <a:pt x="4786" y="11871"/>
                  <a:pt x="4456" y="11966"/>
                </a:cubicBezTo>
                <a:cubicBezTo>
                  <a:pt x="4326" y="12004"/>
                  <a:pt x="4195" y="12033"/>
                  <a:pt x="4069" y="12072"/>
                </a:cubicBezTo>
                <a:cubicBezTo>
                  <a:pt x="3983" y="12099"/>
                  <a:pt x="3899" y="12137"/>
                  <a:pt x="3814" y="12169"/>
                </a:cubicBezTo>
                <a:cubicBezTo>
                  <a:pt x="3705" y="12210"/>
                  <a:pt x="3602" y="12256"/>
                  <a:pt x="3494" y="12307"/>
                </a:cubicBezTo>
                <a:cubicBezTo>
                  <a:pt x="3322" y="12388"/>
                  <a:pt x="3154" y="12475"/>
                  <a:pt x="2977" y="12545"/>
                </a:cubicBezTo>
                <a:cubicBezTo>
                  <a:pt x="2948" y="12556"/>
                  <a:pt x="2918" y="12563"/>
                  <a:pt x="2891" y="12574"/>
                </a:cubicBezTo>
                <a:cubicBezTo>
                  <a:pt x="2880" y="12578"/>
                  <a:pt x="2875" y="12579"/>
                  <a:pt x="2865" y="12583"/>
                </a:cubicBezTo>
                <a:cubicBezTo>
                  <a:pt x="2876" y="12591"/>
                  <a:pt x="2888" y="12599"/>
                  <a:pt x="2900" y="12609"/>
                </a:cubicBezTo>
              </a:path>
            </a:pathLst>
          </a:custGeom>
          <a:noFill/>
          <a:ln cap="rnd" w="284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626000" y="2076480"/>
            <a:ext cx="2147760" cy="2368440"/>
          </a:xfrm>
          <a:custGeom>
            <a:avLst/>
            <a:gdLst/>
            <a:ahLst/>
            <a:rect l="l" t="t" r="r" b="b"/>
            <a:pathLst>
              <a:path w="5964" h="6579">
                <a:moveTo>
                  <a:pt x="12868" y="12346"/>
                </a:moveTo>
                <a:cubicBezTo>
                  <a:pt x="12864" y="12343"/>
                  <a:pt x="12857" y="12340"/>
                  <a:pt x="12852" y="12337"/>
                </a:cubicBezTo>
                <a:cubicBezTo>
                  <a:pt x="12870" y="12328"/>
                  <a:pt x="12878" y="12302"/>
                  <a:pt x="12904" y="12289"/>
                </a:cubicBezTo>
                <a:cubicBezTo>
                  <a:pt x="12936" y="12273"/>
                  <a:pt x="12965" y="12269"/>
                  <a:pt x="13001" y="12253"/>
                </a:cubicBezTo>
                <a:cubicBezTo>
                  <a:pt x="13061" y="12226"/>
                  <a:pt x="13110" y="12208"/>
                  <a:pt x="13170" y="12187"/>
                </a:cubicBezTo>
                <a:cubicBezTo>
                  <a:pt x="13267" y="12153"/>
                  <a:pt x="13368" y="12120"/>
                  <a:pt x="13469" y="12092"/>
                </a:cubicBezTo>
                <a:cubicBezTo>
                  <a:pt x="13581" y="12060"/>
                  <a:pt x="13694" y="12042"/>
                  <a:pt x="13808" y="12018"/>
                </a:cubicBezTo>
                <a:cubicBezTo>
                  <a:pt x="13904" y="11998"/>
                  <a:pt x="14009" y="11962"/>
                  <a:pt x="14109" y="11948"/>
                </a:cubicBezTo>
                <a:cubicBezTo>
                  <a:pt x="14232" y="11931"/>
                  <a:pt x="14355" y="11928"/>
                  <a:pt x="14476" y="11902"/>
                </a:cubicBezTo>
                <a:cubicBezTo>
                  <a:pt x="14572" y="11882"/>
                  <a:pt x="14671" y="11846"/>
                  <a:pt x="14768" y="11832"/>
                </a:cubicBezTo>
                <a:cubicBezTo>
                  <a:pt x="14867" y="11818"/>
                  <a:pt x="14942" y="11820"/>
                  <a:pt x="15041" y="11823"/>
                </a:cubicBezTo>
                <a:cubicBezTo>
                  <a:pt x="15114" y="11825"/>
                  <a:pt x="15191" y="11821"/>
                  <a:pt x="15263" y="11835"/>
                </a:cubicBezTo>
                <a:cubicBezTo>
                  <a:pt x="15386" y="11859"/>
                  <a:pt x="15504" y="11914"/>
                  <a:pt x="15623" y="11955"/>
                </a:cubicBezTo>
                <a:cubicBezTo>
                  <a:pt x="15741" y="11996"/>
                  <a:pt x="15856" y="12050"/>
                  <a:pt x="15978" y="12079"/>
                </a:cubicBezTo>
                <a:cubicBezTo>
                  <a:pt x="16132" y="12116"/>
                  <a:pt x="16301" y="12129"/>
                  <a:pt x="16455" y="12153"/>
                </a:cubicBezTo>
                <a:cubicBezTo>
                  <a:pt x="16598" y="12175"/>
                  <a:pt x="16732" y="12165"/>
                  <a:pt x="16876" y="12169"/>
                </a:cubicBezTo>
                <a:cubicBezTo>
                  <a:pt x="17037" y="12173"/>
                  <a:pt x="17200" y="12188"/>
                  <a:pt x="17361" y="12167"/>
                </a:cubicBezTo>
                <a:cubicBezTo>
                  <a:pt x="17451" y="12155"/>
                  <a:pt x="17547" y="12140"/>
                  <a:pt x="17639" y="12122"/>
                </a:cubicBezTo>
                <a:cubicBezTo>
                  <a:pt x="17691" y="12112"/>
                  <a:pt x="17742" y="12108"/>
                  <a:pt x="17793" y="12093"/>
                </a:cubicBezTo>
                <a:cubicBezTo>
                  <a:pt x="17870" y="12070"/>
                  <a:pt x="17941" y="12029"/>
                  <a:pt x="18017" y="11997"/>
                </a:cubicBezTo>
                <a:cubicBezTo>
                  <a:pt x="18127" y="11950"/>
                  <a:pt x="18259" y="11909"/>
                  <a:pt x="18342" y="11823"/>
                </a:cubicBezTo>
                <a:cubicBezTo>
                  <a:pt x="18395" y="11769"/>
                  <a:pt x="18445" y="11644"/>
                  <a:pt x="18474" y="11574"/>
                </a:cubicBezTo>
                <a:cubicBezTo>
                  <a:pt x="18513" y="11479"/>
                  <a:pt x="18532" y="11392"/>
                  <a:pt x="18580" y="11300"/>
                </a:cubicBezTo>
                <a:cubicBezTo>
                  <a:pt x="18598" y="11265"/>
                  <a:pt x="18672" y="11175"/>
                  <a:pt x="18675" y="11145"/>
                </a:cubicBezTo>
                <a:cubicBezTo>
                  <a:pt x="18683" y="11053"/>
                  <a:pt x="18610" y="10988"/>
                  <a:pt x="18630" y="10893"/>
                </a:cubicBezTo>
                <a:cubicBezTo>
                  <a:pt x="18650" y="10801"/>
                  <a:pt x="18708" y="10751"/>
                  <a:pt x="18736" y="10669"/>
                </a:cubicBezTo>
                <a:cubicBezTo>
                  <a:pt x="18744" y="10644"/>
                  <a:pt x="18748" y="10616"/>
                  <a:pt x="18754" y="10590"/>
                </a:cubicBezTo>
                <a:cubicBezTo>
                  <a:pt x="18779" y="10490"/>
                  <a:pt x="18805" y="10360"/>
                  <a:pt x="18799" y="10255"/>
                </a:cubicBezTo>
                <a:cubicBezTo>
                  <a:pt x="18796" y="10202"/>
                  <a:pt x="18754" y="10173"/>
                  <a:pt x="18761" y="10108"/>
                </a:cubicBezTo>
                <a:cubicBezTo>
                  <a:pt x="18769" y="10034"/>
                  <a:pt x="18831" y="9963"/>
                  <a:pt x="18815" y="9887"/>
                </a:cubicBezTo>
                <a:cubicBezTo>
                  <a:pt x="18811" y="9869"/>
                  <a:pt x="18752" y="9812"/>
                  <a:pt x="18738" y="9782"/>
                </a:cubicBezTo>
                <a:cubicBezTo>
                  <a:pt x="18710" y="9721"/>
                  <a:pt x="18669" y="9679"/>
                  <a:pt x="18641" y="9626"/>
                </a:cubicBezTo>
                <a:cubicBezTo>
                  <a:pt x="18597" y="9542"/>
                  <a:pt x="18596" y="9557"/>
                  <a:pt x="18578" y="9445"/>
                </a:cubicBezTo>
                <a:cubicBezTo>
                  <a:pt x="18559" y="9325"/>
                  <a:pt x="18567" y="9164"/>
                  <a:pt x="18569" y="9043"/>
                </a:cubicBezTo>
                <a:cubicBezTo>
                  <a:pt x="18570" y="8983"/>
                  <a:pt x="18531" y="9015"/>
                  <a:pt x="18546" y="8938"/>
                </a:cubicBezTo>
                <a:cubicBezTo>
                  <a:pt x="18556" y="8888"/>
                  <a:pt x="18639" y="8856"/>
                  <a:pt x="18621" y="8792"/>
                </a:cubicBezTo>
                <a:cubicBezTo>
                  <a:pt x="18599" y="8713"/>
                  <a:pt x="18532" y="8705"/>
                  <a:pt x="18487" y="8642"/>
                </a:cubicBezTo>
                <a:cubicBezTo>
                  <a:pt x="18452" y="8593"/>
                  <a:pt x="18408" y="8547"/>
                  <a:pt x="18378" y="8504"/>
                </a:cubicBezTo>
                <a:cubicBezTo>
                  <a:pt x="18352" y="8465"/>
                  <a:pt x="18343" y="8420"/>
                  <a:pt x="18313" y="8379"/>
                </a:cubicBezTo>
                <a:cubicBezTo>
                  <a:pt x="18277" y="8329"/>
                  <a:pt x="18217" y="8276"/>
                  <a:pt x="18191" y="8226"/>
                </a:cubicBezTo>
                <a:cubicBezTo>
                  <a:pt x="18150" y="8146"/>
                  <a:pt x="18126" y="8039"/>
                  <a:pt x="18125" y="7954"/>
                </a:cubicBezTo>
                <a:cubicBezTo>
                  <a:pt x="18124" y="7868"/>
                  <a:pt x="18150" y="7770"/>
                  <a:pt x="18148" y="7687"/>
                </a:cubicBezTo>
                <a:cubicBezTo>
                  <a:pt x="18147" y="7634"/>
                  <a:pt x="18150" y="7605"/>
                  <a:pt x="18130" y="7556"/>
                </a:cubicBezTo>
                <a:cubicBezTo>
                  <a:pt x="18089" y="7454"/>
                  <a:pt x="18035" y="7462"/>
                  <a:pt x="17962" y="7377"/>
                </a:cubicBezTo>
                <a:cubicBezTo>
                  <a:pt x="17930" y="7340"/>
                  <a:pt x="17890" y="7304"/>
                  <a:pt x="17860" y="7264"/>
                </a:cubicBezTo>
                <a:cubicBezTo>
                  <a:pt x="17785" y="7162"/>
                  <a:pt x="17756" y="7036"/>
                  <a:pt x="17704" y="6923"/>
                </a:cubicBezTo>
                <a:cubicBezTo>
                  <a:pt x="17643" y="6790"/>
                  <a:pt x="17555" y="6629"/>
                  <a:pt x="17525" y="6484"/>
                </a:cubicBezTo>
                <a:cubicBezTo>
                  <a:pt x="17493" y="6330"/>
                  <a:pt x="17501" y="6211"/>
                  <a:pt x="17449" y="6067"/>
                </a:cubicBezTo>
                <a:cubicBezTo>
                  <a:pt x="17393" y="5910"/>
                  <a:pt x="17363" y="5891"/>
                  <a:pt x="17240" y="5821"/>
                </a:cubicBezTo>
                <a:cubicBezTo>
                  <a:pt x="17209" y="5804"/>
                  <a:pt x="17124" y="5784"/>
                  <a:pt x="17087" y="5768"/>
                </a:cubicBezTo>
              </a:path>
            </a:pathLst>
          </a:custGeom>
          <a:noFill/>
          <a:ln cap="rnd" w="284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6089760" y="1116000"/>
            <a:ext cx="1211040" cy="966960"/>
          </a:xfrm>
          <a:custGeom>
            <a:avLst/>
            <a:gdLst/>
            <a:ahLst/>
            <a:rect l="l" t="t" r="r" b="b"/>
            <a:pathLst>
              <a:path w="3367" h="2684">
                <a:moveTo>
                  <a:pt x="17231" y="5784"/>
                </a:moveTo>
                <a:cubicBezTo>
                  <a:pt x="17216" y="5779"/>
                  <a:pt x="17202" y="5771"/>
                  <a:pt x="17186" y="5766"/>
                </a:cubicBezTo>
                <a:cubicBezTo>
                  <a:pt x="17051" y="5719"/>
                  <a:pt x="16967" y="5704"/>
                  <a:pt x="16933" y="5556"/>
                </a:cubicBezTo>
                <a:cubicBezTo>
                  <a:pt x="16919" y="5495"/>
                  <a:pt x="16910" y="5418"/>
                  <a:pt x="16915" y="5355"/>
                </a:cubicBezTo>
                <a:cubicBezTo>
                  <a:pt x="16920" y="5290"/>
                  <a:pt x="16943" y="5236"/>
                  <a:pt x="16962" y="5174"/>
                </a:cubicBezTo>
                <a:cubicBezTo>
                  <a:pt x="16973" y="5139"/>
                  <a:pt x="16983" y="5104"/>
                  <a:pt x="16996" y="5069"/>
                </a:cubicBezTo>
                <a:cubicBezTo>
                  <a:pt x="17044" y="4941"/>
                  <a:pt x="17110" y="4832"/>
                  <a:pt x="17197" y="4726"/>
                </a:cubicBezTo>
                <a:cubicBezTo>
                  <a:pt x="17420" y="4453"/>
                  <a:pt x="17670" y="4230"/>
                  <a:pt x="17955" y="4022"/>
                </a:cubicBezTo>
                <a:cubicBezTo>
                  <a:pt x="18287" y="3779"/>
                  <a:pt x="18629" y="3631"/>
                  <a:pt x="19021" y="3510"/>
                </a:cubicBezTo>
                <a:cubicBezTo>
                  <a:pt x="19443" y="3380"/>
                  <a:pt x="19861" y="3238"/>
                  <a:pt x="20281" y="3101"/>
                </a:cubicBezTo>
              </a:path>
            </a:pathLst>
          </a:custGeom>
          <a:noFill/>
          <a:ln cap="rnd" w="2844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047240" y="350280"/>
            <a:ext cx="540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CHANGING TRACHEAL TUBES </a:t>
            </a:r>
            <a:endParaRPr b="0" lang="en-US" sz="2800" spc="-1" strike="noStrike">
              <a:solidFill>
                <a:srgbClr val="ffffff"/>
              </a:solidFill>
              <a:latin typeface="Arial"/>
            </a:endParaRPr>
          </a:p>
        </p:txBody>
      </p:sp>
      <p:sp>
        <p:nvSpPr>
          <p:cNvPr id="354" name=""/>
          <p:cNvSpPr/>
          <p:nvPr/>
        </p:nvSpPr>
        <p:spPr>
          <a:xfrm>
            <a:off x="882720" y="1963800"/>
            <a:ext cx="533160" cy="576360"/>
          </a:xfrm>
          <a:custGeom>
            <a:avLst/>
            <a:gdLst/>
            <a:ahLst/>
            <a:rect l="l" t="t" r="r" b="b"/>
            <a:pathLst>
              <a:path w="1483" h="1603">
                <a:moveTo>
                  <a:pt x="3006" y="6056"/>
                </a:moveTo>
                <a:cubicBezTo>
                  <a:pt x="3018" y="6042"/>
                  <a:pt x="3033" y="6027"/>
                  <a:pt x="3044" y="6011"/>
                </a:cubicBezTo>
                <a:cubicBezTo>
                  <a:pt x="3045" y="6009"/>
                  <a:pt x="3046" y="6005"/>
                  <a:pt x="3047" y="6004"/>
                </a:cubicBezTo>
                <a:cubicBezTo>
                  <a:pt x="3047" y="6059"/>
                  <a:pt x="3056" y="6110"/>
                  <a:pt x="3062" y="6165"/>
                </a:cubicBezTo>
                <a:cubicBezTo>
                  <a:pt x="3069" y="6228"/>
                  <a:pt x="3079" y="6291"/>
                  <a:pt x="3085" y="6354"/>
                </a:cubicBezTo>
                <a:cubicBezTo>
                  <a:pt x="3090" y="6406"/>
                  <a:pt x="3095" y="6459"/>
                  <a:pt x="3098" y="6511"/>
                </a:cubicBezTo>
                <a:cubicBezTo>
                  <a:pt x="3100" y="6544"/>
                  <a:pt x="3102" y="6577"/>
                  <a:pt x="3103" y="6610"/>
                </a:cubicBezTo>
                <a:cubicBezTo>
                  <a:pt x="3103" y="6623"/>
                  <a:pt x="3103" y="6646"/>
                  <a:pt x="3103" y="6655"/>
                </a:cubicBezTo>
                <a:cubicBezTo>
                  <a:pt x="3103" y="6651"/>
                  <a:pt x="3103" y="6650"/>
                  <a:pt x="3103" y="6647"/>
                </a:cubicBezTo>
              </a:path>
              <a:path w="1483" h="1603">
                <a:moveTo>
                  <a:pt x="3736" y="6952"/>
                </a:moveTo>
                <a:cubicBezTo>
                  <a:pt x="3833" y="6856"/>
                  <a:pt x="3889" y="6746"/>
                  <a:pt x="3913" y="6610"/>
                </a:cubicBezTo>
                <a:cubicBezTo>
                  <a:pt x="3952" y="6393"/>
                  <a:pt x="3940" y="6172"/>
                  <a:pt x="3816" y="5983"/>
                </a:cubicBezTo>
                <a:cubicBezTo>
                  <a:pt x="3715" y="5828"/>
                  <a:pt x="3541" y="5717"/>
                  <a:pt x="3390" y="5615"/>
                </a:cubicBezTo>
                <a:cubicBezTo>
                  <a:pt x="3212" y="5494"/>
                  <a:pt x="3005" y="5407"/>
                  <a:pt x="2789" y="5481"/>
                </a:cubicBezTo>
                <a:cubicBezTo>
                  <a:pt x="2647" y="5530"/>
                  <a:pt x="2527" y="5651"/>
                  <a:pt x="2483" y="5794"/>
                </a:cubicBezTo>
                <a:cubicBezTo>
                  <a:pt x="2446" y="5915"/>
                  <a:pt x="2449" y="6032"/>
                  <a:pt x="2474" y="6155"/>
                </a:cubicBezTo>
                <a:cubicBezTo>
                  <a:pt x="2513" y="6348"/>
                  <a:pt x="2597" y="6533"/>
                  <a:pt x="2701" y="6699"/>
                </a:cubicBezTo>
                <a:cubicBezTo>
                  <a:pt x="2814" y="6880"/>
                  <a:pt x="2967" y="7002"/>
                  <a:pt x="3178" y="7043"/>
                </a:cubicBezTo>
                <a:cubicBezTo>
                  <a:pt x="3307" y="7068"/>
                  <a:pt x="3437" y="7053"/>
                  <a:pt x="3560" y="7006"/>
                </a:cubicBezTo>
                <a:cubicBezTo>
                  <a:pt x="3638" y="6976"/>
                  <a:pt x="3702" y="6929"/>
                  <a:pt x="3737" y="6852"/>
                </a:cubicBezTo>
                <a:cubicBezTo>
                  <a:pt x="3776" y="6765"/>
                  <a:pt x="3779" y="6665"/>
                  <a:pt x="3755" y="6574"/>
                </a:cubicBezTo>
                <a:cubicBezTo>
                  <a:pt x="3716" y="6425"/>
                  <a:pt x="3603" y="6324"/>
                  <a:pt x="3497" y="6221"/>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313000" y="2697120"/>
            <a:ext cx="277920" cy="476280"/>
          </a:xfrm>
          <a:custGeom>
            <a:avLst/>
            <a:gdLst/>
            <a:ahLst/>
            <a:rect l="l" t="t" r="r" b="b"/>
            <a:pathLst>
              <a:path w="771" h="1326">
                <a:moveTo>
                  <a:pt x="6659" y="7649"/>
                </a:moveTo>
                <a:cubicBezTo>
                  <a:pt x="6640" y="7650"/>
                  <a:pt x="6628" y="7650"/>
                  <a:pt x="6612" y="7655"/>
                </a:cubicBezTo>
                <a:cubicBezTo>
                  <a:pt x="6604" y="7657"/>
                  <a:pt x="6597" y="7658"/>
                  <a:pt x="6592" y="7662"/>
                </a:cubicBezTo>
                <a:cubicBezTo>
                  <a:pt x="6587" y="7666"/>
                  <a:pt x="6584" y="7669"/>
                  <a:pt x="6580" y="7674"/>
                </a:cubicBezTo>
                <a:cubicBezTo>
                  <a:pt x="6577" y="7678"/>
                  <a:pt x="6574" y="7693"/>
                  <a:pt x="6573" y="7698"/>
                </a:cubicBezTo>
                <a:cubicBezTo>
                  <a:pt x="6571" y="7705"/>
                  <a:pt x="6571" y="7714"/>
                  <a:pt x="6571" y="7721"/>
                </a:cubicBezTo>
                <a:cubicBezTo>
                  <a:pt x="6571" y="7730"/>
                  <a:pt x="6572" y="7737"/>
                  <a:pt x="6574" y="7744"/>
                </a:cubicBezTo>
                <a:cubicBezTo>
                  <a:pt x="6576" y="7754"/>
                  <a:pt x="6581" y="7765"/>
                  <a:pt x="6585" y="7775"/>
                </a:cubicBezTo>
                <a:cubicBezTo>
                  <a:pt x="6589" y="7785"/>
                  <a:pt x="6593" y="7794"/>
                  <a:pt x="6598" y="7805"/>
                </a:cubicBezTo>
                <a:cubicBezTo>
                  <a:pt x="6604" y="7818"/>
                  <a:pt x="6604" y="7826"/>
                  <a:pt x="6614" y="7836"/>
                </a:cubicBezTo>
                <a:cubicBezTo>
                  <a:pt x="6620" y="7842"/>
                  <a:pt x="6631" y="7849"/>
                  <a:pt x="6639" y="7853"/>
                </a:cubicBezTo>
                <a:cubicBezTo>
                  <a:pt x="6648" y="7858"/>
                  <a:pt x="6660" y="7860"/>
                  <a:pt x="6668" y="7866"/>
                </a:cubicBezTo>
                <a:cubicBezTo>
                  <a:pt x="6674" y="7871"/>
                  <a:pt x="6677" y="7873"/>
                  <a:pt x="6682" y="7879"/>
                </a:cubicBezTo>
                <a:cubicBezTo>
                  <a:pt x="6688" y="7885"/>
                  <a:pt x="6691" y="7893"/>
                  <a:pt x="6696" y="7900"/>
                </a:cubicBezTo>
                <a:cubicBezTo>
                  <a:pt x="6705" y="7913"/>
                  <a:pt x="6711" y="7930"/>
                  <a:pt x="6723" y="7941"/>
                </a:cubicBezTo>
                <a:cubicBezTo>
                  <a:pt x="6735" y="7952"/>
                  <a:pt x="6752" y="7959"/>
                  <a:pt x="6761" y="7972"/>
                </a:cubicBezTo>
                <a:cubicBezTo>
                  <a:pt x="6771" y="7986"/>
                  <a:pt x="6774" y="8005"/>
                  <a:pt x="6780" y="8020"/>
                </a:cubicBezTo>
                <a:cubicBezTo>
                  <a:pt x="6785" y="8032"/>
                  <a:pt x="6790" y="8043"/>
                  <a:pt x="6793" y="8056"/>
                </a:cubicBezTo>
                <a:cubicBezTo>
                  <a:pt x="6796" y="8069"/>
                  <a:pt x="6800" y="8081"/>
                  <a:pt x="6804" y="8094"/>
                </a:cubicBezTo>
                <a:cubicBezTo>
                  <a:pt x="6808" y="8106"/>
                  <a:pt x="6811" y="8117"/>
                  <a:pt x="6813" y="8128"/>
                </a:cubicBezTo>
                <a:cubicBezTo>
                  <a:pt x="6816" y="8152"/>
                  <a:pt x="6813" y="8175"/>
                  <a:pt x="6818" y="8199"/>
                </a:cubicBezTo>
                <a:cubicBezTo>
                  <a:pt x="6821" y="8213"/>
                  <a:pt x="6826" y="8225"/>
                  <a:pt x="6831" y="8237"/>
                </a:cubicBezTo>
                <a:cubicBezTo>
                  <a:pt x="6834" y="8246"/>
                  <a:pt x="6837" y="8254"/>
                  <a:pt x="6841" y="8264"/>
                </a:cubicBezTo>
                <a:cubicBezTo>
                  <a:pt x="6846" y="8276"/>
                  <a:pt x="6852" y="8288"/>
                  <a:pt x="6856" y="8301"/>
                </a:cubicBezTo>
                <a:cubicBezTo>
                  <a:pt x="6861" y="8315"/>
                  <a:pt x="6863" y="8331"/>
                  <a:pt x="6870" y="8343"/>
                </a:cubicBezTo>
                <a:cubicBezTo>
                  <a:pt x="6875" y="8353"/>
                  <a:pt x="6887" y="8359"/>
                  <a:pt x="6890" y="8370"/>
                </a:cubicBezTo>
                <a:cubicBezTo>
                  <a:pt x="6892" y="8376"/>
                  <a:pt x="6891" y="8385"/>
                  <a:pt x="6893" y="8391"/>
                </a:cubicBezTo>
                <a:cubicBezTo>
                  <a:pt x="6896" y="8404"/>
                  <a:pt x="6900" y="8421"/>
                  <a:pt x="6902" y="8434"/>
                </a:cubicBezTo>
                <a:cubicBezTo>
                  <a:pt x="6904" y="8446"/>
                  <a:pt x="6903" y="8454"/>
                  <a:pt x="6904" y="8466"/>
                </a:cubicBezTo>
                <a:cubicBezTo>
                  <a:pt x="6905" y="8479"/>
                  <a:pt x="6903" y="8490"/>
                  <a:pt x="6908" y="8502"/>
                </a:cubicBezTo>
                <a:cubicBezTo>
                  <a:pt x="6916" y="8519"/>
                  <a:pt x="6935" y="8529"/>
                  <a:pt x="6944" y="8545"/>
                </a:cubicBezTo>
                <a:cubicBezTo>
                  <a:pt x="6950" y="8556"/>
                  <a:pt x="6949" y="8570"/>
                  <a:pt x="6954" y="8581"/>
                </a:cubicBezTo>
                <a:cubicBezTo>
                  <a:pt x="6959" y="8590"/>
                  <a:pt x="6963" y="8595"/>
                  <a:pt x="6970" y="8603"/>
                </a:cubicBezTo>
                <a:cubicBezTo>
                  <a:pt x="6984" y="8619"/>
                  <a:pt x="6998" y="8631"/>
                  <a:pt x="7010" y="8649"/>
                </a:cubicBezTo>
                <a:cubicBezTo>
                  <a:pt x="7019" y="8663"/>
                  <a:pt x="7024" y="8677"/>
                  <a:pt x="7031" y="8692"/>
                </a:cubicBezTo>
                <a:cubicBezTo>
                  <a:pt x="7036" y="8702"/>
                  <a:pt x="7042" y="8712"/>
                  <a:pt x="7047" y="8721"/>
                </a:cubicBezTo>
                <a:cubicBezTo>
                  <a:pt x="7053" y="8731"/>
                  <a:pt x="7059" y="8744"/>
                  <a:pt x="7065" y="8753"/>
                </a:cubicBezTo>
                <a:cubicBezTo>
                  <a:pt x="7071" y="8762"/>
                  <a:pt x="7077" y="8773"/>
                  <a:pt x="7082" y="8782"/>
                </a:cubicBezTo>
                <a:cubicBezTo>
                  <a:pt x="7086" y="8791"/>
                  <a:pt x="7088" y="8800"/>
                  <a:pt x="7090" y="8809"/>
                </a:cubicBezTo>
                <a:cubicBezTo>
                  <a:pt x="7091" y="8811"/>
                  <a:pt x="7089" y="8814"/>
                  <a:pt x="7090" y="8816"/>
                </a:cubicBezTo>
                <a:cubicBezTo>
                  <a:pt x="7090" y="8806"/>
                  <a:pt x="7090" y="8797"/>
                  <a:pt x="7090" y="8787"/>
                </a:cubicBezTo>
              </a:path>
              <a:path w="771" h="1326">
                <a:moveTo>
                  <a:pt x="6682" y="7565"/>
                </a:moveTo>
                <a:cubicBezTo>
                  <a:pt x="6670" y="7581"/>
                  <a:pt x="6652" y="7598"/>
                  <a:pt x="6644" y="7617"/>
                </a:cubicBezTo>
                <a:cubicBezTo>
                  <a:pt x="6638" y="7630"/>
                  <a:pt x="6638" y="7649"/>
                  <a:pt x="6637" y="7663"/>
                </a:cubicBezTo>
                <a:cubicBezTo>
                  <a:pt x="6635" y="7696"/>
                  <a:pt x="6638" y="7731"/>
                  <a:pt x="6651" y="7762"/>
                </a:cubicBezTo>
                <a:cubicBezTo>
                  <a:pt x="6656" y="7773"/>
                  <a:pt x="6663" y="7782"/>
                  <a:pt x="6671" y="7791"/>
                </a:cubicBezTo>
                <a:cubicBezTo>
                  <a:pt x="6682" y="7803"/>
                  <a:pt x="6692" y="7809"/>
                  <a:pt x="6705" y="7819"/>
                </a:cubicBezTo>
                <a:cubicBezTo>
                  <a:pt x="6716" y="7827"/>
                  <a:pt x="6731" y="7833"/>
                  <a:pt x="6743" y="7839"/>
                </a:cubicBezTo>
                <a:cubicBezTo>
                  <a:pt x="6753" y="7844"/>
                  <a:pt x="6761" y="7847"/>
                  <a:pt x="6770" y="7853"/>
                </a:cubicBezTo>
                <a:cubicBezTo>
                  <a:pt x="6782" y="7861"/>
                  <a:pt x="6798" y="7870"/>
                  <a:pt x="6807" y="7880"/>
                </a:cubicBezTo>
                <a:cubicBezTo>
                  <a:pt x="6813" y="7887"/>
                  <a:pt x="6822" y="7899"/>
                  <a:pt x="6827" y="7907"/>
                </a:cubicBezTo>
                <a:cubicBezTo>
                  <a:pt x="6833" y="7918"/>
                  <a:pt x="6837" y="7929"/>
                  <a:pt x="6840" y="7941"/>
                </a:cubicBezTo>
                <a:cubicBezTo>
                  <a:pt x="6845" y="7957"/>
                  <a:pt x="6847" y="7974"/>
                  <a:pt x="6850" y="7990"/>
                </a:cubicBezTo>
                <a:cubicBezTo>
                  <a:pt x="6853" y="8007"/>
                  <a:pt x="6854" y="8022"/>
                  <a:pt x="6854" y="8040"/>
                </a:cubicBezTo>
                <a:cubicBezTo>
                  <a:pt x="6854" y="8063"/>
                  <a:pt x="6856" y="8085"/>
                  <a:pt x="6856" y="8108"/>
                </a:cubicBezTo>
                <a:cubicBezTo>
                  <a:pt x="6856" y="8141"/>
                  <a:pt x="6856" y="8173"/>
                  <a:pt x="6856" y="8206"/>
                </a:cubicBezTo>
                <a:cubicBezTo>
                  <a:pt x="6860" y="8209"/>
                  <a:pt x="6861" y="8208"/>
                  <a:pt x="6865" y="8212"/>
                </a:cubicBezTo>
                <a:cubicBezTo>
                  <a:pt x="6867" y="8214"/>
                  <a:pt x="6868" y="8217"/>
                  <a:pt x="6870" y="8219"/>
                </a:cubicBezTo>
                <a:cubicBezTo>
                  <a:pt x="6873" y="8221"/>
                  <a:pt x="6874" y="8223"/>
                  <a:pt x="6877" y="8226"/>
                </a:cubicBezTo>
                <a:cubicBezTo>
                  <a:pt x="6912" y="8256"/>
                  <a:pt x="6920" y="8278"/>
                  <a:pt x="6942" y="8318"/>
                </a:cubicBezTo>
                <a:cubicBezTo>
                  <a:pt x="6947" y="8328"/>
                  <a:pt x="6954" y="8337"/>
                  <a:pt x="6961" y="8346"/>
                </a:cubicBezTo>
                <a:cubicBezTo>
                  <a:pt x="6966" y="8353"/>
                  <a:pt x="6972" y="8359"/>
                  <a:pt x="6976" y="8366"/>
                </a:cubicBezTo>
                <a:cubicBezTo>
                  <a:pt x="6986" y="8383"/>
                  <a:pt x="6986" y="8394"/>
                  <a:pt x="6990" y="8413"/>
                </a:cubicBezTo>
                <a:cubicBezTo>
                  <a:pt x="6994" y="8429"/>
                  <a:pt x="6998" y="8447"/>
                  <a:pt x="7001" y="8463"/>
                </a:cubicBezTo>
                <a:cubicBezTo>
                  <a:pt x="7003" y="8474"/>
                  <a:pt x="7007" y="8486"/>
                  <a:pt x="7010" y="8497"/>
                </a:cubicBezTo>
                <a:cubicBezTo>
                  <a:pt x="7016" y="8518"/>
                  <a:pt x="7020" y="8539"/>
                  <a:pt x="7021" y="8561"/>
                </a:cubicBezTo>
                <a:cubicBezTo>
                  <a:pt x="7023" y="8598"/>
                  <a:pt x="7021" y="8635"/>
                  <a:pt x="7024" y="8671"/>
                </a:cubicBezTo>
                <a:cubicBezTo>
                  <a:pt x="7024" y="8675"/>
                  <a:pt x="7025" y="8677"/>
                  <a:pt x="7026" y="8681"/>
                </a:cubicBezTo>
                <a:cubicBezTo>
                  <a:pt x="7028" y="8689"/>
                  <a:pt x="7029" y="8691"/>
                  <a:pt x="7031" y="8697"/>
                </a:cubicBezTo>
                <a:cubicBezTo>
                  <a:pt x="7033" y="8701"/>
                  <a:pt x="7038" y="8704"/>
                  <a:pt x="7039" y="8708"/>
                </a:cubicBezTo>
                <a:cubicBezTo>
                  <a:pt x="7040" y="8713"/>
                  <a:pt x="7041" y="8718"/>
                  <a:pt x="7042" y="8724"/>
                </a:cubicBezTo>
                <a:cubicBezTo>
                  <a:pt x="7042" y="8727"/>
                  <a:pt x="7042" y="8730"/>
                  <a:pt x="7042" y="8733"/>
                </a:cubicBezTo>
              </a:path>
              <a:path w="771" h="1326">
                <a:moveTo>
                  <a:pt x="7040" y="8628"/>
                </a:moveTo>
                <a:cubicBezTo>
                  <a:pt x="7038" y="8651"/>
                  <a:pt x="7036" y="8669"/>
                  <a:pt x="7031" y="8690"/>
                </a:cubicBezTo>
                <a:cubicBezTo>
                  <a:pt x="7029" y="8698"/>
                  <a:pt x="7022" y="8704"/>
                  <a:pt x="7022" y="8714"/>
                </a:cubicBezTo>
                <a:cubicBezTo>
                  <a:pt x="7022" y="8722"/>
                  <a:pt x="7025" y="8729"/>
                  <a:pt x="7026" y="8733"/>
                </a:cubicBezTo>
                <a:cubicBezTo>
                  <a:pt x="7028" y="8742"/>
                  <a:pt x="7034" y="8737"/>
                  <a:pt x="7035" y="8740"/>
                </a:cubicBezTo>
                <a:cubicBezTo>
                  <a:pt x="7036" y="8743"/>
                  <a:pt x="7038" y="8743"/>
                  <a:pt x="7039" y="8746"/>
                </a:cubicBezTo>
                <a:cubicBezTo>
                  <a:pt x="7034" y="8724"/>
                  <a:pt x="7030" y="8709"/>
                  <a:pt x="7021" y="8687"/>
                </a:cubicBezTo>
                <a:cubicBezTo>
                  <a:pt x="6994" y="8619"/>
                  <a:pt x="6966" y="8551"/>
                  <a:pt x="6933" y="8486"/>
                </a:cubicBezTo>
                <a:cubicBezTo>
                  <a:pt x="6902" y="8425"/>
                  <a:pt x="6865" y="8367"/>
                  <a:pt x="6836" y="8305"/>
                </a:cubicBezTo>
                <a:cubicBezTo>
                  <a:pt x="6808" y="8245"/>
                  <a:pt x="6786" y="8181"/>
                  <a:pt x="6770" y="8117"/>
                </a:cubicBezTo>
                <a:cubicBezTo>
                  <a:pt x="6763" y="8088"/>
                  <a:pt x="6757" y="8059"/>
                  <a:pt x="6750" y="8031"/>
                </a:cubicBezTo>
                <a:cubicBezTo>
                  <a:pt x="6747" y="8021"/>
                  <a:pt x="6745" y="8019"/>
                  <a:pt x="6745" y="8013"/>
                </a:cubicBezTo>
                <a:cubicBezTo>
                  <a:pt x="6750" y="8020"/>
                  <a:pt x="6751" y="8015"/>
                  <a:pt x="6755" y="8022"/>
                </a:cubicBezTo>
                <a:cubicBezTo>
                  <a:pt x="6773" y="8053"/>
                  <a:pt x="6787" y="8087"/>
                  <a:pt x="6802" y="8120"/>
                </a:cubicBezTo>
                <a:cubicBezTo>
                  <a:pt x="6868" y="8269"/>
                  <a:pt x="6949" y="8418"/>
                  <a:pt x="6979" y="8579"/>
                </a:cubicBezTo>
                <a:cubicBezTo>
                  <a:pt x="6986" y="8618"/>
                  <a:pt x="6997" y="8695"/>
                  <a:pt x="7022" y="8728"/>
                </a:cubicBezTo>
                <a:cubicBezTo>
                  <a:pt x="7026" y="8733"/>
                  <a:pt x="7035" y="8746"/>
                  <a:pt x="7035" y="8739"/>
                </a:cubicBezTo>
                <a:cubicBezTo>
                  <a:pt x="7035" y="8721"/>
                  <a:pt x="7027" y="8710"/>
                  <a:pt x="7021" y="8692"/>
                </a:cubicBezTo>
                <a:cubicBezTo>
                  <a:pt x="7018" y="8684"/>
                  <a:pt x="7016" y="8677"/>
                  <a:pt x="7013" y="8669"/>
                </a:cubicBezTo>
                <a:cubicBezTo>
                  <a:pt x="6997" y="8624"/>
                  <a:pt x="6982" y="8579"/>
                  <a:pt x="6965" y="8534"/>
                </a:cubicBezTo>
                <a:cubicBezTo>
                  <a:pt x="6942" y="8471"/>
                  <a:pt x="6922" y="8408"/>
                  <a:pt x="6901" y="8344"/>
                </a:cubicBezTo>
                <a:cubicBezTo>
                  <a:pt x="6880" y="8277"/>
                  <a:pt x="6866" y="8211"/>
                  <a:pt x="6854" y="8142"/>
                </a:cubicBezTo>
                <a:cubicBezTo>
                  <a:pt x="6840" y="8065"/>
                  <a:pt x="6825" y="7988"/>
                  <a:pt x="6811" y="7911"/>
                </a:cubicBezTo>
                <a:cubicBezTo>
                  <a:pt x="6807" y="7892"/>
                  <a:pt x="6802" y="7873"/>
                  <a:pt x="6798" y="7855"/>
                </a:cubicBezTo>
                <a:cubicBezTo>
                  <a:pt x="6808" y="7880"/>
                  <a:pt x="6820" y="7906"/>
                  <a:pt x="6829" y="7932"/>
                </a:cubicBezTo>
                <a:cubicBezTo>
                  <a:pt x="6850" y="7991"/>
                  <a:pt x="6863" y="8051"/>
                  <a:pt x="6879" y="8111"/>
                </a:cubicBezTo>
                <a:cubicBezTo>
                  <a:pt x="6901" y="8195"/>
                  <a:pt x="6918" y="8279"/>
                  <a:pt x="6935" y="8364"/>
                </a:cubicBezTo>
                <a:cubicBezTo>
                  <a:pt x="6951" y="8443"/>
                  <a:pt x="6962" y="8524"/>
                  <a:pt x="6981" y="8603"/>
                </a:cubicBezTo>
                <a:cubicBezTo>
                  <a:pt x="6990" y="8641"/>
                  <a:pt x="7002" y="8684"/>
                  <a:pt x="7019" y="8719"/>
                </a:cubicBezTo>
                <a:cubicBezTo>
                  <a:pt x="7027" y="8735"/>
                  <a:pt x="7040" y="8750"/>
                  <a:pt x="7049" y="8766"/>
                </a:cubicBezTo>
                <a:cubicBezTo>
                  <a:pt x="7048" y="8756"/>
                  <a:pt x="7051" y="8743"/>
                  <a:pt x="7047" y="8726"/>
                </a:cubicBezTo>
                <a:cubicBezTo>
                  <a:pt x="7036" y="8681"/>
                  <a:pt x="7022" y="8638"/>
                  <a:pt x="7008" y="8594"/>
                </a:cubicBezTo>
                <a:cubicBezTo>
                  <a:pt x="6984" y="8520"/>
                  <a:pt x="6960" y="8445"/>
                  <a:pt x="6936" y="8371"/>
                </a:cubicBezTo>
                <a:cubicBezTo>
                  <a:pt x="6911" y="8293"/>
                  <a:pt x="6886" y="8215"/>
                  <a:pt x="6859" y="8138"/>
                </a:cubicBezTo>
                <a:cubicBezTo>
                  <a:pt x="6827" y="8047"/>
                  <a:pt x="6792" y="7950"/>
                  <a:pt x="6746" y="7866"/>
                </a:cubicBezTo>
                <a:cubicBezTo>
                  <a:pt x="6737" y="7854"/>
                  <a:pt x="6735" y="7851"/>
                  <a:pt x="6730" y="7843"/>
                </a:cubicBezTo>
                <a:cubicBezTo>
                  <a:pt x="6733" y="7856"/>
                  <a:pt x="6728" y="7857"/>
                  <a:pt x="6732" y="7870"/>
                </a:cubicBezTo>
                <a:cubicBezTo>
                  <a:pt x="6746" y="7917"/>
                  <a:pt x="6765" y="7964"/>
                  <a:pt x="6780" y="8011"/>
                </a:cubicBezTo>
                <a:cubicBezTo>
                  <a:pt x="6804" y="8086"/>
                  <a:pt x="6825" y="8162"/>
                  <a:pt x="6850" y="8237"/>
                </a:cubicBezTo>
                <a:cubicBezTo>
                  <a:pt x="6874" y="8309"/>
                  <a:pt x="6906" y="8377"/>
                  <a:pt x="6936" y="8447"/>
                </a:cubicBezTo>
                <a:cubicBezTo>
                  <a:pt x="6956" y="8494"/>
                  <a:pt x="6978" y="8539"/>
                  <a:pt x="6999" y="8585"/>
                </a:cubicBezTo>
                <a:cubicBezTo>
                  <a:pt x="7002" y="8592"/>
                  <a:pt x="7005" y="8599"/>
                  <a:pt x="7008" y="8606"/>
                </a:cubicBezTo>
                <a:cubicBezTo>
                  <a:pt x="7012" y="8614"/>
                  <a:pt x="7026" y="8659"/>
                  <a:pt x="7037" y="8662"/>
                </a:cubicBezTo>
                <a:cubicBezTo>
                  <a:pt x="7041" y="8663"/>
                  <a:pt x="7044" y="8686"/>
                  <a:pt x="7035" y="8660"/>
                </a:cubicBezTo>
                <a:cubicBezTo>
                  <a:pt x="7005" y="8573"/>
                  <a:pt x="6948" y="8504"/>
                  <a:pt x="6902" y="8425"/>
                </a:cubicBezTo>
                <a:cubicBezTo>
                  <a:pt x="6825" y="8294"/>
                  <a:pt x="6767" y="8141"/>
                  <a:pt x="6746" y="7990"/>
                </a:cubicBezTo>
                <a:cubicBezTo>
                  <a:pt x="6734" y="7904"/>
                  <a:pt x="6723" y="7808"/>
                  <a:pt x="6730" y="7721"/>
                </a:cubicBezTo>
                <a:cubicBezTo>
                  <a:pt x="6731" y="7705"/>
                  <a:pt x="6739" y="7691"/>
                  <a:pt x="6741" y="7676"/>
                </a:cubicBezTo>
                <a:cubicBezTo>
                  <a:pt x="6752" y="7693"/>
                  <a:pt x="6766" y="7712"/>
                  <a:pt x="6775" y="7737"/>
                </a:cubicBezTo>
                <a:cubicBezTo>
                  <a:pt x="6804" y="7820"/>
                  <a:pt x="6818" y="7911"/>
                  <a:pt x="6834" y="7997"/>
                </a:cubicBezTo>
                <a:cubicBezTo>
                  <a:pt x="6853" y="8097"/>
                  <a:pt x="6860" y="8199"/>
                  <a:pt x="6870" y="8300"/>
                </a:cubicBezTo>
                <a:cubicBezTo>
                  <a:pt x="6878" y="8384"/>
                  <a:pt x="6878" y="8470"/>
                  <a:pt x="6888" y="8554"/>
                </a:cubicBezTo>
                <a:cubicBezTo>
                  <a:pt x="6895" y="8593"/>
                  <a:pt x="6897" y="8604"/>
                  <a:pt x="6901" y="8629"/>
                </a:cubicBezTo>
                <a:cubicBezTo>
                  <a:pt x="6902" y="8639"/>
                  <a:pt x="6918" y="8715"/>
                  <a:pt x="6920" y="8708"/>
                </a:cubicBezTo>
                <a:cubicBezTo>
                  <a:pt x="6929" y="8673"/>
                  <a:pt x="6910" y="8621"/>
                  <a:pt x="6902" y="8588"/>
                </a:cubicBezTo>
                <a:cubicBezTo>
                  <a:pt x="6887" y="8523"/>
                  <a:pt x="6866" y="8460"/>
                  <a:pt x="6850" y="8396"/>
                </a:cubicBezTo>
                <a:cubicBezTo>
                  <a:pt x="6809" y="8230"/>
                  <a:pt x="6765" y="8063"/>
                  <a:pt x="6730" y="7896"/>
                </a:cubicBezTo>
                <a:cubicBezTo>
                  <a:pt x="6721" y="7855"/>
                  <a:pt x="6715" y="7814"/>
                  <a:pt x="6709" y="7773"/>
                </a:cubicBezTo>
                <a:cubicBezTo>
                  <a:pt x="6708" y="7768"/>
                  <a:pt x="6708" y="7763"/>
                  <a:pt x="6707" y="7758"/>
                </a:cubicBezTo>
                <a:cubicBezTo>
                  <a:pt x="6707" y="7775"/>
                  <a:pt x="6701" y="7758"/>
                  <a:pt x="6703" y="7775"/>
                </a:cubicBezTo>
                <a:cubicBezTo>
                  <a:pt x="6718" y="7886"/>
                  <a:pt x="6767" y="7993"/>
                  <a:pt x="6806" y="8097"/>
                </a:cubicBezTo>
                <a:cubicBezTo>
                  <a:pt x="6832" y="8165"/>
                  <a:pt x="6855" y="8234"/>
                  <a:pt x="6881" y="8301"/>
                </a:cubicBezTo>
                <a:cubicBezTo>
                  <a:pt x="6902" y="8357"/>
                  <a:pt x="6923" y="8412"/>
                  <a:pt x="6942" y="8468"/>
                </a:cubicBezTo>
                <a:cubicBezTo>
                  <a:pt x="6953" y="8501"/>
                  <a:pt x="6967" y="8531"/>
                  <a:pt x="6981" y="8563"/>
                </a:cubicBezTo>
                <a:cubicBezTo>
                  <a:pt x="6971" y="8550"/>
                  <a:pt x="6959" y="8537"/>
                  <a:pt x="6949" y="8522"/>
                </a:cubicBezTo>
                <a:cubicBezTo>
                  <a:pt x="6909" y="8465"/>
                  <a:pt x="6877" y="8396"/>
                  <a:pt x="6850" y="8332"/>
                </a:cubicBezTo>
                <a:cubicBezTo>
                  <a:pt x="6821" y="8264"/>
                  <a:pt x="6793" y="8196"/>
                  <a:pt x="6766" y="8128"/>
                </a:cubicBezTo>
                <a:cubicBezTo>
                  <a:pt x="6743" y="8069"/>
                  <a:pt x="6721" y="8006"/>
                  <a:pt x="6703" y="7945"/>
                </a:cubicBezTo>
                <a:cubicBezTo>
                  <a:pt x="6688" y="7895"/>
                  <a:pt x="6676" y="7844"/>
                  <a:pt x="6666" y="7793"/>
                </a:cubicBezTo>
                <a:cubicBezTo>
                  <a:pt x="6666" y="7792"/>
                  <a:pt x="6666" y="7790"/>
                  <a:pt x="6666" y="7789"/>
                </a:cubicBezTo>
                <a:cubicBezTo>
                  <a:pt x="6671" y="7803"/>
                  <a:pt x="6677" y="7818"/>
                  <a:pt x="6682" y="7832"/>
                </a:cubicBezTo>
                <a:cubicBezTo>
                  <a:pt x="6748" y="8006"/>
                  <a:pt x="6805" y="8185"/>
                  <a:pt x="6854" y="8364"/>
                </a:cubicBezTo>
                <a:cubicBezTo>
                  <a:pt x="6865" y="8406"/>
                  <a:pt x="6883" y="8444"/>
                  <a:pt x="6895" y="8486"/>
                </a:cubicBezTo>
                <a:cubicBezTo>
                  <a:pt x="6899" y="8502"/>
                  <a:pt x="6905" y="8518"/>
                  <a:pt x="6908" y="8534"/>
                </a:cubicBezTo>
                <a:cubicBezTo>
                  <a:pt x="6909" y="8542"/>
                  <a:pt x="6909" y="8544"/>
                  <a:pt x="6909" y="8549"/>
                </a:cubicBezTo>
                <a:cubicBezTo>
                  <a:pt x="6906" y="8545"/>
                  <a:pt x="6886" y="8525"/>
                  <a:pt x="6881" y="8516"/>
                </a:cubicBezTo>
                <a:cubicBezTo>
                  <a:pt x="6858" y="8475"/>
                  <a:pt x="6837" y="8434"/>
                  <a:pt x="6818" y="8391"/>
                </a:cubicBezTo>
                <a:cubicBezTo>
                  <a:pt x="6791" y="8331"/>
                  <a:pt x="6772" y="8268"/>
                  <a:pt x="6752" y="8205"/>
                </a:cubicBezTo>
                <a:cubicBezTo>
                  <a:pt x="6716" y="8094"/>
                  <a:pt x="6675" y="7987"/>
                  <a:pt x="6653" y="7871"/>
                </a:cubicBezTo>
                <a:cubicBezTo>
                  <a:pt x="6648" y="7846"/>
                  <a:pt x="6646" y="7820"/>
                  <a:pt x="6644" y="7796"/>
                </a:cubicBezTo>
                <a:cubicBezTo>
                  <a:pt x="6652" y="7813"/>
                  <a:pt x="6661" y="7832"/>
                  <a:pt x="6669" y="7850"/>
                </a:cubicBezTo>
                <a:cubicBezTo>
                  <a:pt x="6738" y="8007"/>
                  <a:pt x="6796" y="8169"/>
                  <a:pt x="6856" y="8330"/>
                </a:cubicBezTo>
                <a:cubicBezTo>
                  <a:pt x="6868" y="8362"/>
                  <a:pt x="6879" y="8393"/>
                  <a:pt x="6890" y="8425"/>
                </a:cubicBezTo>
                <a:cubicBezTo>
                  <a:pt x="6891" y="8427"/>
                  <a:pt x="6918" y="8497"/>
                  <a:pt x="6918" y="8497"/>
                </a:cubicBezTo>
                <a:cubicBezTo>
                  <a:pt x="6921" y="8494"/>
                  <a:pt x="6927" y="8501"/>
                  <a:pt x="6924" y="8481"/>
                </a:cubicBezTo>
                <a:cubicBezTo>
                  <a:pt x="6901" y="8348"/>
                  <a:pt x="6789" y="8218"/>
                  <a:pt x="6741" y="8092"/>
                </a:cubicBezTo>
                <a:cubicBezTo>
                  <a:pt x="6718" y="8031"/>
                  <a:pt x="6703" y="7967"/>
                  <a:pt x="6687" y="7904"/>
                </a:cubicBezTo>
                <a:cubicBezTo>
                  <a:pt x="6675" y="7855"/>
                  <a:pt x="6664" y="7807"/>
                  <a:pt x="6657" y="7757"/>
                </a:cubicBezTo>
                <a:cubicBezTo>
                  <a:pt x="6657" y="7756"/>
                  <a:pt x="6657" y="7756"/>
                  <a:pt x="6657" y="7755"/>
                </a:cubicBezTo>
                <a:cubicBezTo>
                  <a:pt x="6669" y="7796"/>
                  <a:pt x="6682" y="7838"/>
                  <a:pt x="6698" y="7879"/>
                </a:cubicBezTo>
                <a:cubicBezTo>
                  <a:pt x="6718" y="7932"/>
                  <a:pt x="6739" y="7984"/>
                  <a:pt x="6761" y="8036"/>
                </a:cubicBezTo>
                <a:cubicBezTo>
                  <a:pt x="6803" y="8137"/>
                  <a:pt x="6851" y="8236"/>
                  <a:pt x="6890" y="8339"/>
                </a:cubicBezTo>
                <a:cubicBezTo>
                  <a:pt x="6914" y="8401"/>
                  <a:pt x="6922" y="8464"/>
                  <a:pt x="6942" y="8527"/>
                </a:cubicBezTo>
                <a:cubicBezTo>
                  <a:pt x="6951" y="8556"/>
                  <a:pt x="6958" y="8589"/>
                  <a:pt x="6970" y="8617"/>
                </a:cubicBezTo>
                <a:cubicBezTo>
                  <a:pt x="6973" y="8625"/>
                  <a:pt x="6978" y="8631"/>
                  <a:pt x="6981" y="8638"/>
                </a:cubicBezTo>
                <a:cubicBezTo>
                  <a:pt x="6982" y="8639"/>
                  <a:pt x="6982" y="8639"/>
                  <a:pt x="6983" y="8640"/>
                </a:cubicBezTo>
                <a:cubicBezTo>
                  <a:pt x="6974" y="8625"/>
                  <a:pt x="6962" y="8610"/>
                  <a:pt x="6954" y="8594"/>
                </a:cubicBezTo>
                <a:cubicBezTo>
                  <a:pt x="6925" y="8539"/>
                  <a:pt x="6896" y="8483"/>
                  <a:pt x="6863" y="8429"/>
                </a:cubicBezTo>
                <a:cubicBezTo>
                  <a:pt x="6802" y="8330"/>
                  <a:pt x="6747" y="8231"/>
                  <a:pt x="6714" y="8119"/>
                </a:cubicBezTo>
                <a:cubicBezTo>
                  <a:pt x="6706" y="8088"/>
                  <a:pt x="6658" y="8013"/>
                  <a:pt x="6687" y="8027"/>
                </a:cubicBezTo>
                <a:cubicBezTo>
                  <a:pt x="6701" y="8034"/>
                  <a:pt x="6702" y="8079"/>
                  <a:pt x="6705" y="8090"/>
                </a:cubicBezTo>
                <a:cubicBezTo>
                  <a:pt x="6720" y="8139"/>
                  <a:pt x="6742" y="8185"/>
                  <a:pt x="6761" y="8232"/>
                </a:cubicBezTo>
                <a:cubicBezTo>
                  <a:pt x="6786" y="8292"/>
                  <a:pt x="6814" y="8348"/>
                  <a:pt x="6845" y="8405"/>
                </a:cubicBezTo>
                <a:cubicBezTo>
                  <a:pt x="6874" y="8458"/>
                  <a:pt x="6903" y="8513"/>
                  <a:pt x="6929" y="8568"/>
                </a:cubicBezTo>
                <a:cubicBezTo>
                  <a:pt x="6953" y="8618"/>
                  <a:pt x="6970" y="8674"/>
                  <a:pt x="6999" y="8721"/>
                </a:cubicBezTo>
                <a:cubicBezTo>
                  <a:pt x="7006" y="8733"/>
                  <a:pt x="7008" y="8733"/>
                  <a:pt x="7008" y="8733"/>
                </a:cubicBezTo>
                <a:cubicBezTo>
                  <a:pt x="7006" y="8725"/>
                  <a:pt x="7005" y="8721"/>
                  <a:pt x="7003" y="8715"/>
                </a:cubicBezTo>
                <a:cubicBezTo>
                  <a:pt x="6989" y="8678"/>
                  <a:pt x="6975" y="8640"/>
                  <a:pt x="6960" y="8603"/>
                </a:cubicBezTo>
                <a:cubicBezTo>
                  <a:pt x="6942" y="8558"/>
                  <a:pt x="6918" y="8515"/>
                  <a:pt x="6902" y="8470"/>
                </a:cubicBezTo>
                <a:cubicBezTo>
                  <a:pt x="6884" y="8418"/>
                  <a:pt x="6870" y="8352"/>
                  <a:pt x="6840" y="8305"/>
                </a:cubicBezTo>
                <a:cubicBezTo>
                  <a:pt x="6822" y="8277"/>
                  <a:pt x="6835" y="8290"/>
                  <a:pt x="6831" y="8312"/>
                </a:cubicBezTo>
                <a:cubicBezTo>
                  <a:pt x="6831" y="8320"/>
                  <a:pt x="6832" y="8327"/>
                  <a:pt x="6832" y="8335"/>
                </a:cubicBezTo>
                <a:cubicBezTo>
                  <a:pt x="6851" y="8401"/>
                  <a:pt x="6868" y="8475"/>
                  <a:pt x="6906" y="8533"/>
                </a:cubicBezTo>
                <a:cubicBezTo>
                  <a:pt x="6921" y="8557"/>
                  <a:pt x="6942" y="8577"/>
                  <a:pt x="6960" y="8599"/>
                </a:cubicBezTo>
                <a:cubicBezTo>
                  <a:pt x="6966" y="8607"/>
                  <a:pt x="6972" y="8614"/>
                  <a:pt x="6979" y="8622"/>
                </a:cubicBezTo>
                <a:cubicBezTo>
                  <a:pt x="6980" y="8617"/>
                  <a:pt x="6992" y="8638"/>
                  <a:pt x="6990" y="8633"/>
                </a:cubicBezTo>
                <a:cubicBezTo>
                  <a:pt x="6990" y="8632"/>
                  <a:pt x="6985" y="8616"/>
                  <a:pt x="6983" y="8611"/>
                </a:cubicBezTo>
                <a:cubicBezTo>
                  <a:pt x="6955" y="8533"/>
                  <a:pt x="6927" y="8455"/>
                  <a:pt x="6904" y="8375"/>
                </a:cubicBezTo>
                <a:cubicBezTo>
                  <a:pt x="6893" y="8335"/>
                  <a:pt x="6882" y="8295"/>
                  <a:pt x="6870" y="8255"/>
                </a:cubicBezTo>
                <a:cubicBezTo>
                  <a:pt x="6860" y="8222"/>
                  <a:pt x="6849" y="8189"/>
                  <a:pt x="6838" y="8156"/>
                </a:cubicBezTo>
                <a:cubicBezTo>
                  <a:pt x="6826" y="8121"/>
                  <a:pt x="6816" y="8086"/>
                  <a:pt x="6807" y="8051"/>
                </a:cubicBezTo>
                <a:cubicBezTo>
                  <a:pt x="6794" y="8001"/>
                  <a:pt x="6782" y="7950"/>
                  <a:pt x="6768" y="7900"/>
                </a:cubicBezTo>
                <a:cubicBezTo>
                  <a:pt x="6756" y="7860"/>
                  <a:pt x="6746" y="7822"/>
                  <a:pt x="6737" y="7782"/>
                </a:cubicBezTo>
                <a:cubicBezTo>
                  <a:pt x="6731" y="7757"/>
                  <a:pt x="6729" y="7730"/>
                  <a:pt x="6723" y="7705"/>
                </a:cubicBezTo>
                <a:cubicBezTo>
                  <a:pt x="6714" y="7664"/>
                  <a:pt x="6700" y="7623"/>
                  <a:pt x="6682" y="7585"/>
                </a:cubicBezTo>
                <a:cubicBezTo>
                  <a:pt x="6676" y="7572"/>
                  <a:pt x="6657" y="7557"/>
                  <a:pt x="6653" y="7549"/>
                </a:cubicBezTo>
                <a:cubicBezTo>
                  <a:pt x="6651" y="7545"/>
                  <a:pt x="6651" y="7545"/>
                  <a:pt x="6650" y="7542"/>
                </a:cubicBezTo>
                <a:cubicBezTo>
                  <a:pt x="6647" y="7537"/>
                  <a:pt x="6653" y="7534"/>
                  <a:pt x="6650" y="7529"/>
                </a:cubicBezTo>
                <a:cubicBezTo>
                  <a:pt x="6659" y="7545"/>
                  <a:pt x="6654" y="7553"/>
                  <a:pt x="6671" y="7570"/>
                </a:cubicBezTo>
                <a:cubicBezTo>
                  <a:pt x="6684" y="7583"/>
                  <a:pt x="6700" y="7591"/>
                  <a:pt x="6714" y="7603"/>
                </a:cubicBezTo>
                <a:cubicBezTo>
                  <a:pt x="6734" y="7620"/>
                  <a:pt x="6751" y="7633"/>
                  <a:pt x="6773" y="7647"/>
                </a:cubicBezTo>
                <a:cubicBezTo>
                  <a:pt x="6860" y="7701"/>
                  <a:pt x="6956" y="7740"/>
                  <a:pt x="7051" y="7776"/>
                </a:cubicBezTo>
                <a:cubicBezTo>
                  <a:pt x="7076" y="7785"/>
                  <a:pt x="7100" y="7794"/>
                  <a:pt x="7125" y="7803"/>
                </a:cubicBezTo>
                <a:cubicBezTo>
                  <a:pt x="7140" y="7808"/>
                  <a:pt x="7169" y="7812"/>
                  <a:pt x="7182" y="7821"/>
                </a:cubicBezTo>
                <a:cubicBezTo>
                  <a:pt x="7186" y="7823"/>
                  <a:pt x="7197" y="7822"/>
                  <a:pt x="7194" y="7825"/>
                </a:cubicBezTo>
                <a:cubicBezTo>
                  <a:pt x="7191" y="7828"/>
                  <a:pt x="7164" y="7824"/>
                  <a:pt x="7160" y="7825"/>
                </a:cubicBezTo>
                <a:cubicBezTo>
                  <a:pt x="7142" y="7822"/>
                  <a:pt x="7125" y="7820"/>
                  <a:pt x="7108" y="7816"/>
                </a:cubicBezTo>
                <a:cubicBezTo>
                  <a:pt x="7079" y="7809"/>
                  <a:pt x="7043" y="7795"/>
                  <a:pt x="7017" y="7782"/>
                </a:cubicBezTo>
                <a:cubicBezTo>
                  <a:pt x="6997" y="7772"/>
                  <a:pt x="6978" y="7760"/>
                  <a:pt x="6958" y="7749"/>
                </a:cubicBezTo>
                <a:cubicBezTo>
                  <a:pt x="6925" y="7731"/>
                  <a:pt x="6895" y="7708"/>
                  <a:pt x="6863" y="7690"/>
                </a:cubicBezTo>
                <a:cubicBezTo>
                  <a:pt x="6842" y="7678"/>
                  <a:pt x="6819" y="7668"/>
                  <a:pt x="6797" y="7658"/>
                </a:cubicBezTo>
                <a:cubicBezTo>
                  <a:pt x="6776" y="7649"/>
                  <a:pt x="6757" y="7638"/>
                  <a:pt x="6736" y="7629"/>
                </a:cubicBezTo>
                <a:cubicBezTo>
                  <a:pt x="6723" y="7624"/>
                  <a:pt x="6709" y="7619"/>
                  <a:pt x="6696" y="7613"/>
                </a:cubicBezTo>
                <a:cubicBezTo>
                  <a:pt x="6689" y="7610"/>
                  <a:pt x="6686" y="7607"/>
                  <a:pt x="6680" y="7604"/>
                </a:cubicBezTo>
                <a:cubicBezTo>
                  <a:pt x="6674" y="7602"/>
                  <a:pt x="6668" y="7602"/>
                  <a:pt x="6664" y="7599"/>
                </a:cubicBezTo>
                <a:cubicBezTo>
                  <a:pt x="6658" y="7594"/>
                  <a:pt x="6650" y="7582"/>
                  <a:pt x="6646" y="7579"/>
                </a:cubicBezTo>
                <a:cubicBezTo>
                  <a:pt x="6640" y="7575"/>
                  <a:pt x="6635" y="7571"/>
                  <a:pt x="6630" y="7567"/>
                </a:cubicBezTo>
                <a:cubicBezTo>
                  <a:pt x="6626" y="7564"/>
                  <a:pt x="6618" y="7563"/>
                  <a:pt x="6614" y="7560"/>
                </a:cubicBezTo>
                <a:cubicBezTo>
                  <a:pt x="6614" y="7558"/>
                  <a:pt x="6614" y="7557"/>
                  <a:pt x="6612" y="7558"/>
                </a:cubicBezTo>
                <a:cubicBezTo>
                  <a:pt x="6611" y="7627"/>
                  <a:pt x="6598" y="7682"/>
                  <a:pt x="6582" y="7749"/>
                </a:cubicBezTo>
                <a:cubicBezTo>
                  <a:pt x="6576" y="7775"/>
                  <a:pt x="6571" y="7802"/>
                  <a:pt x="6564" y="7828"/>
                </a:cubicBezTo>
                <a:cubicBezTo>
                  <a:pt x="6558" y="7854"/>
                  <a:pt x="6553" y="7882"/>
                  <a:pt x="6546" y="7907"/>
                </a:cubicBezTo>
                <a:cubicBezTo>
                  <a:pt x="6533" y="7956"/>
                  <a:pt x="6512" y="8003"/>
                  <a:pt x="6501" y="8052"/>
                </a:cubicBezTo>
                <a:cubicBezTo>
                  <a:pt x="6496" y="8074"/>
                  <a:pt x="6495" y="8097"/>
                  <a:pt x="6488" y="8117"/>
                </a:cubicBezTo>
                <a:cubicBezTo>
                  <a:pt x="6486" y="8123"/>
                  <a:pt x="6483" y="8126"/>
                  <a:pt x="6481" y="8131"/>
                </a:cubicBezTo>
                <a:cubicBezTo>
                  <a:pt x="6481" y="8127"/>
                  <a:pt x="6478" y="8139"/>
                  <a:pt x="6478" y="8135"/>
                </a:cubicBezTo>
                <a:cubicBezTo>
                  <a:pt x="6479" y="8123"/>
                  <a:pt x="6480" y="8113"/>
                  <a:pt x="6483" y="8101"/>
                </a:cubicBezTo>
                <a:cubicBezTo>
                  <a:pt x="6486" y="8085"/>
                  <a:pt x="6493" y="8070"/>
                  <a:pt x="6497" y="8054"/>
                </a:cubicBezTo>
                <a:cubicBezTo>
                  <a:pt x="6504" y="8030"/>
                  <a:pt x="6510" y="8006"/>
                  <a:pt x="6517" y="7982"/>
                </a:cubicBezTo>
                <a:cubicBezTo>
                  <a:pt x="6532" y="7929"/>
                  <a:pt x="6544" y="7881"/>
                  <a:pt x="6553" y="7827"/>
                </a:cubicBezTo>
                <a:cubicBezTo>
                  <a:pt x="6568" y="7744"/>
                  <a:pt x="6587" y="7663"/>
                  <a:pt x="6598" y="7579"/>
                </a:cubicBezTo>
                <a:cubicBezTo>
                  <a:pt x="6599" y="7570"/>
                  <a:pt x="6600" y="7504"/>
                  <a:pt x="6608" y="7499"/>
                </a:cubicBezTo>
                <a:cubicBezTo>
                  <a:pt x="6613" y="7496"/>
                  <a:pt x="6611" y="7483"/>
                  <a:pt x="6612" y="7500"/>
                </a:cubicBezTo>
                <a:cubicBezTo>
                  <a:pt x="6613" y="7516"/>
                  <a:pt x="6609" y="7533"/>
                  <a:pt x="6608" y="7549"/>
                </a:cubicBezTo>
                <a:cubicBezTo>
                  <a:pt x="6603" y="7588"/>
                  <a:pt x="6600" y="7628"/>
                  <a:pt x="6594" y="7667"/>
                </a:cubicBezTo>
                <a:cubicBezTo>
                  <a:pt x="6585" y="7724"/>
                  <a:pt x="6568" y="7783"/>
                  <a:pt x="6553" y="7839"/>
                </a:cubicBezTo>
                <a:cubicBezTo>
                  <a:pt x="6536" y="7901"/>
                  <a:pt x="6518" y="7961"/>
                  <a:pt x="6504" y="8024"/>
                </a:cubicBezTo>
                <a:cubicBezTo>
                  <a:pt x="6498" y="8048"/>
                  <a:pt x="6492" y="8073"/>
                  <a:pt x="6488" y="8097"/>
                </a:cubicBezTo>
                <a:cubicBezTo>
                  <a:pt x="6488" y="8103"/>
                  <a:pt x="6488" y="8104"/>
                  <a:pt x="6487" y="8108"/>
                </a:cubicBezTo>
                <a:cubicBezTo>
                  <a:pt x="6490" y="8103"/>
                  <a:pt x="6492" y="8109"/>
                  <a:pt x="6494" y="8104"/>
                </a:cubicBezTo>
                <a:cubicBezTo>
                  <a:pt x="6504" y="8078"/>
                  <a:pt x="6511" y="8051"/>
                  <a:pt x="6522" y="8025"/>
                </a:cubicBezTo>
                <a:cubicBezTo>
                  <a:pt x="6539" y="7987"/>
                  <a:pt x="6552" y="7951"/>
                  <a:pt x="6564" y="7911"/>
                </a:cubicBezTo>
                <a:cubicBezTo>
                  <a:pt x="6584" y="7845"/>
                  <a:pt x="6594" y="7775"/>
                  <a:pt x="6607" y="7708"/>
                </a:cubicBezTo>
                <a:cubicBezTo>
                  <a:pt x="6611" y="7685"/>
                  <a:pt x="6615" y="7662"/>
                  <a:pt x="6619" y="7640"/>
                </a:cubicBezTo>
                <a:cubicBezTo>
                  <a:pt x="6617" y="7651"/>
                  <a:pt x="6616" y="7655"/>
                  <a:pt x="6614" y="7663"/>
                </a:cubicBezTo>
                <a:cubicBezTo>
                  <a:pt x="6602" y="7708"/>
                  <a:pt x="6589" y="7752"/>
                  <a:pt x="6576" y="7796"/>
                </a:cubicBezTo>
                <a:cubicBezTo>
                  <a:pt x="6559" y="7856"/>
                  <a:pt x="6550" y="7917"/>
                  <a:pt x="6535" y="7977"/>
                </a:cubicBezTo>
                <a:cubicBezTo>
                  <a:pt x="6524" y="8020"/>
                  <a:pt x="6511" y="8063"/>
                  <a:pt x="6499" y="8106"/>
                </a:cubicBezTo>
                <a:cubicBezTo>
                  <a:pt x="6493" y="8126"/>
                  <a:pt x="6490" y="8147"/>
                  <a:pt x="6483" y="8165"/>
                </a:cubicBezTo>
                <a:cubicBezTo>
                  <a:pt x="6482" y="8167"/>
                  <a:pt x="6474" y="8180"/>
                  <a:pt x="6476" y="8176"/>
                </a:cubicBezTo>
                <a:cubicBezTo>
                  <a:pt x="6480" y="8168"/>
                  <a:pt x="6485" y="8152"/>
                  <a:pt x="6488" y="8144"/>
                </a:cubicBezTo>
                <a:cubicBezTo>
                  <a:pt x="6501" y="8115"/>
                  <a:pt x="6516" y="8086"/>
                  <a:pt x="6528" y="8056"/>
                </a:cubicBezTo>
                <a:cubicBezTo>
                  <a:pt x="6544" y="8017"/>
                  <a:pt x="6555" y="7973"/>
                  <a:pt x="6564" y="7932"/>
                </a:cubicBezTo>
                <a:cubicBezTo>
                  <a:pt x="6574" y="7889"/>
                  <a:pt x="6577" y="7846"/>
                  <a:pt x="6582" y="7803"/>
                </a:cubicBezTo>
                <a:cubicBezTo>
                  <a:pt x="6585" y="7770"/>
                  <a:pt x="6590" y="7738"/>
                  <a:pt x="6594" y="7705"/>
                </a:cubicBezTo>
                <a:cubicBezTo>
                  <a:pt x="6594" y="7696"/>
                  <a:pt x="6599" y="7657"/>
                  <a:pt x="6598" y="7662"/>
                </a:cubicBezTo>
                <a:cubicBezTo>
                  <a:pt x="6590" y="7689"/>
                  <a:pt x="6589" y="7715"/>
                  <a:pt x="6585" y="7744"/>
                </a:cubicBezTo>
                <a:cubicBezTo>
                  <a:pt x="6577" y="7808"/>
                  <a:pt x="6570" y="7873"/>
                  <a:pt x="6556" y="7936"/>
                </a:cubicBezTo>
                <a:cubicBezTo>
                  <a:pt x="6549" y="7969"/>
                  <a:pt x="6543" y="8004"/>
                  <a:pt x="6533" y="8036"/>
                </a:cubicBezTo>
                <a:cubicBezTo>
                  <a:pt x="6530" y="8046"/>
                  <a:pt x="6527" y="8070"/>
                  <a:pt x="6522" y="8061"/>
                </a:cubicBezTo>
                <a:cubicBezTo>
                  <a:pt x="6488" y="7999"/>
                  <a:pt x="6536" y="7849"/>
                  <a:pt x="6539" y="7782"/>
                </a:cubicBezTo>
                <a:cubicBezTo>
                  <a:pt x="6541" y="7749"/>
                  <a:pt x="6540" y="7717"/>
                  <a:pt x="6540" y="7685"/>
                </a:cubicBezTo>
                <a:cubicBezTo>
                  <a:pt x="6540" y="7678"/>
                  <a:pt x="6540" y="7672"/>
                  <a:pt x="6540" y="7665"/>
                </a:cubicBezTo>
                <a:cubicBezTo>
                  <a:pt x="6540" y="7657"/>
                  <a:pt x="6541" y="7604"/>
                  <a:pt x="6540" y="7619"/>
                </a:cubicBezTo>
                <a:cubicBezTo>
                  <a:pt x="6538" y="7691"/>
                  <a:pt x="6533" y="7761"/>
                  <a:pt x="6515" y="7832"/>
                </a:cubicBezTo>
                <a:cubicBezTo>
                  <a:pt x="6503" y="7878"/>
                  <a:pt x="6485" y="7917"/>
                  <a:pt x="6465" y="7959"/>
                </a:cubicBezTo>
                <a:cubicBezTo>
                  <a:pt x="6457" y="7975"/>
                  <a:pt x="6449" y="7992"/>
                  <a:pt x="6442" y="8008"/>
                </a:cubicBezTo>
                <a:cubicBezTo>
                  <a:pt x="6442" y="8008"/>
                  <a:pt x="6442" y="8009"/>
                  <a:pt x="6442" y="8009"/>
                </a:cubicBezTo>
                <a:cubicBezTo>
                  <a:pt x="6441" y="7993"/>
                  <a:pt x="6433" y="7980"/>
                  <a:pt x="6436" y="7961"/>
                </a:cubicBezTo>
                <a:cubicBezTo>
                  <a:pt x="6442" y="7918"/>
                  <a:pt x="6459" y="7876"/>
                  <a:pt x="6470" y="7834"/>
                </a:cubicBezTo>
                <a:cubicBezTo>
                  <a:pt x="6480" y="7795"/>
                  <a:pt x="6492" y="7755"/>
                  <a:pt x="6499" y="7715"/>
                </a:cubicBezTo>
                <a:cubicBezTo>
                  <a:pt x="6504" y="7686"/>
                  <a:pt x="6508" y="7657"/>
                  <a:pt x="6512" y="7628"/>
                </a:cubicBezTo>
                <a:cubicBezTo>
                  <a:pt x="6515" y="7610"/>
                  <a:pt x="6519" y="7592"/>
                  <a:pt x="6521" y="7574"/>
                </a:cubicBezTo>
                <a:cubicBezTo>
                  <a:pt x="6522" y="7561"/>
                  <a:pt x="6521" y="7549"/>
                  <a:pt x="6524" y="7536"/>
                </a:cubicBezTo>
                <a:cubicBezTo>
                  <a:pt x="6525" y="7537"/>
                  <a:pt x="6527" y="7539"/>
                  <a:pt x="6528" y="7540"/>
                </a:cubicBezTo>
                <a:cubicBezTo>
                  <a:pt x="6526" y="7564"/>
                  <a:pt x="6523" y="7588"/>
                  <a:pt x="6522" y="7612"/>
                </a:cubicBezTo>
                <a:cubicBezTo>
                  <a:pt x="6517" y="7702"/>
                  <a:pt x="6512" y="7792"/>
                  <a:pt x="6504" y="7882"/>
                </a:cubicBezTo>
                <a:cubicBezTo>
                  <a:pt x="6499" y="7941"/>
                  <a:pt x="6497" y="7999"/>
                  <a:pt x="6481" y="8056"/>
                </a:cubicBezTo>
                <a:cubicBezTo>
                  <a:pt x="6479" y="8059"/>
                  <a:pt x="6478" y="8062"/>
                  <a:pt x="6476" y="8065"/>
                </a:cubicBezTo>
                <a:cubicBezTo>
                  <a:pt x="6467" y="8062"/>
                  <a:pt x="6470" y="8094"/>
                  <a:pt x="6470" y="8085"/>
                </a:cubicBezTo>
                <a:cubicBezTo>
                  <a:pt x="6467" y="7992"/>
                  <a:pt x="6489" y="7909"/>
                  <a:pt x="6499" y="7818"/>
                </a:cubicBezTo>
                <a:cubicBezTo>
                  <a:pt x="6504" y="7775"/>
                  <a:pt x="6502" y="7732"/>
                  <a:pt x="6506" y="7689"/>
                </a:cubicBezTo>
                <a:cubicBezTo>
                  <a:pt x="6506" y="7687"/>
                  <a:pt x="6511" y="7631"/>
                  <a:pt x="6517" y="7631"/>
                </a:cubicBezTo>
                <a:cubicBezTo>
                  <a:pt x="6527" y="7632"/>
                  <a:pt x="6521" y="7660"/>
                  <a:pt x="6522" y="7663"/>
                </a:cubicBezTo>
                <a:cubicBezTo>
                  <a:pt x="6522" y="7708"/>
                  <a:pt x="6520" y="7751"/>
                  <a:pt x="6517" y="7796"/>
                </a:cubicBezTo>
                <a:cubicBezTo>
                  <a:pt x="6514" y="7851"/>
                  <a:pt x="6507" y="7904"/>
                  <a:pt x="6499" y="7959"/>
                </a:cubicBezTo>
                <a:cubicBezTo>
                  <a:pt x="6492" y="8013"/>
                  <a:pt x="6482" y="8074"/>
                  <a:pt x="6458" y="8124"/>
                </a:cubicBezTo>
                <a:cubicBezTo>
                  <a:pt x="6457" y="8125"/>
                  <a:pt x="6436" y="8152"/>
                  <a:pt x="6436" y="8151"/>
                </a:cubicBezTo>
                <a:cubicBezTo>
                  <a:pt x="6430" y="8143"/>
                  <a:pt x="6441" y="8122"/>
                  <a:pt x="6442" y="8113"/>
                </a:cubicBezTo>
                <a:cubicBezTo>
                  <a:pt x="6443" y="8099"/>
                  <a:pt x="6446" y="8087"/>
                  <a:pt x="6447" y="8074"/>
                </a:cubicBezTo>
                <a:cubicBezTo>
                  <a:pt x="6447" y="8074"/>
                  <a:pt x="6454" y="8045"/>
                  <a:pt x="6451" y="8056"/>
                </a:cubicBezTo>
                <a:cubicBezTo>
                  <a:pt x="6447" y="8070"/>
                  <a:pt x="6445" y="8086"/>
                  <a:pt x="6442" y="8101"/>
                </a:cubicBezTo>
                <a:cubicBezTo>
                  <a:pt x="6439" y="8117"/>
                  <a:pt x="6439" y="8136"/>
                  <a:pt x="6435" y="8151"/>
                </a:cubicBezTo>
                <a:cubicBezTo>
                  <a:pt x="6433" y="8158"/>
                  <a:pt x="6428" y="8165"/>
                  <a:pt x="6427" y="8172"/>
                </a:cubicBezTo>
                <a:cubicBezTo>
                  <a:pt x="6426" y="8178"/>
                  <a:pt x="6422" y="8201"/>
                  <a:pt x="6424" y="8201"/>
                </a:cubicBezTo>
                <a:cubicBezTo>
                  <a:pt x="6435" y="8200"/>
                  <a:pt x="6450" y="8174"/>
                  <a:pt x="6463" y="8169"/>
                </a:cubicBezTo>
                <a:cubicBezTo>
                  <a:pt x="6481" y="8161"/>
                  <a:pt x="6502" y="8159"/>
                  <a:pt x="6519" y="8153"/>
                </a:cubicBezTo>
                <a:cubicBezTo>
                  <a:pt x="6565" y="8136"/>
                  <a:pt x="6603" y="8109"/>
                  <a:pt x="6642" y="8081"/>
                </a:cubicBezTo>
                <a:cubicBezTo>
                  <a:pt x="6670" y="8061"/>
                  <a:pt x="6697" y="8042"/>
                  <a:pt x="6727" y="8025"/>
                </a:cubicBezTo>
                <a:cubicBezTo>
                  <a:pt x="6739" y="8018"/>
                  <a:pt x="6755" y="8012"/>
                  <a:pt x="6766" y="8002"/>
                </a:cubicBezTo>
                <a:cubicBezTo>
                  <a:pt x="6770" y="7998"/>
                  <a:pt x="6776" y="7999"/>
                  <a:pt x="6779" y="7993"/>
                </a:cubicBezTo>
                <a:cubicBezTo>
                  <a:pt x="6784" y="7983"/>
                  <a:pt x="6778" y="7970"/>
                  <a:pt x="6780" y="7963"/>
                </a:cubicBezTo>
                <a:cubicBezTo>
                  <a:pt x="6775" y="7964"/>
                  <a:pt x="6773" y="7960"/>
                  <a:pt x="6768" y="7961"/>
                </a:cubicBezTo>
                <a:cubicBezTo>
                  <a:pt x="6752" y="7964"/>
                  <a:pt x="6737" y="7967"/>
                  <a:pt x="6721" y="7972"/>
                </a:cubicBezTo>
                <a:cubicBezTo>
                  <a:pt x="6691" y="7981"/>
                  <a:pt x="6659" y="7990"/>
                  <a:pt x="6630" y="8000"/>
                </a:cubicBezTo>
                <a:cubicBezTo>
                  <a:pt x="6600" y="8011"/>
                  <a:pt x="6546" y="8048"/>
                  <a:pt x="6515" y="8047"/>
                </a:cubicBezTo>
                <a:cubicBezTo>
                  <a:pt x="6518" y="8039"/>
                  <a:pt x="6521" y="8036"/>
                  <a:pt x="6528" y="8034"/>
                </a:cubicBezTo>
                <a:cubicBezTo>
                  <a:pt x="6564" y="8018"/>
                  <a:pt x="6599" y="8001"/>
                  <a:pt x="6635" y="7986"/>
                </a:cubicBezTo>
                <a:cubicBezTo>
                  <a:pt x="6684" y="7965"/>
                  <a:pt x="6736" y="7949"/>
                  <a:pt x="6786" y="7930"/>
                </a:cubicBezTo>
                <a:cubicBezTo>
                  <a:pt x="6839" y="7910"/>
                  <a:pt x="6892" y="7891"/>
                  <a:pt x="6944" y="7870"/>
                </a:cubicBezTo>
                <a:cubicBezTo>
                  <a:pt x="6980" y="7856"/>
                  <a:pt x="7015" y="7836"/>
                  <a:pt x="7051" y="7823"/>
                </a:cubicBezTo>
                <a:cubicBezTo>
                  <a:pt x="7062" y="7819"/>
                  <a:pt x="7104" y="7801"/>
                  <a:pt x="7116" y="7807"/>
                </a:cubicBezTo>
                <a:cubicBezTo>
                  <a:pt x="7124" y="7811"/>
                  <a:pt x="7127" y="7802"/>
                  <a:pt x="7123" y="7814"/>
                </a:cubicBezTo>
                <a:cubicBezTo>
                  <a:pt x="7120" y="7822"/>
                  <a:pt x="7070" y="7840"/>
                  <a:pt x="7062" y="7843"/>
                </a:cubicBezTo>
                <a:cubicBezTo>
                  <a:pt x="7036" y="7853"/>
                  <a:pt x="7009" y="7858"/>
                  <a:pt x="6983" y="7866"/>
                </a:cubicBezTo>
                <a:cubicBezTo>
                  <a:pt x="6954" y="7874"/>
                  <a:pt x="6929" y="7885"/>
                  <a:pt x="6901" y="7896"/>
                </a:cubicBezTo>
                <a:cubicBezTo>
                  <a:pt x="6877" y="7906"/>
                  <a:pt x="6843" y="7912"/>
                  <a:pt x="6822" y="7927"/>
                </a:cubicBezTo>
                <a:cubicBezTo>
                  <a:pt x="6815" y="7932"/>
                  <a:pt x="6808" y="7934"/>
                  <a:pt x="6822" y="7932"/>
                </a:cubicBezTo>
                <a:cubicBezTo>
                  <a:pt x="6845" y="7928"/>
                  <a:pt x="6869" y="7918"/>
                  <a:pt x="6892" y="7911"/>
                </a:cubicBezTo>
                <a:cubicBezTo>
                  <a:pt x="6929" y="7900"/>
                  <a:pt x="6966" y="7891"/>
                  <a:pt x="7004" y="7882"/>
                </a:cubicBezTo>
                <a:cubicBezTo>
                  <a:pt x="7017" y="7878"/>
                  <a:pt x="7032" y="7877"/>
                  <a:pt x="7044" y="7870"/>
                </a:cubicBezTo>
                <a:cubicBezTo>
                  <a:pt x="7048" y="7867"/>
                  <a:pt x="7058" y="7867"/>
                  <a:pt x="7056" y="7866"/>
                </a:cubicBezTo>
                <a:cubicBezTo>
                  <a:pt x="7026" y="7857"/>
                  <a:pt x="6986" y="7873"/>
                  <a:pt x="6958" y="7880"/>
                </a:cubicBezTo>
                <a:cubicBezTo>
                  <a:pt x="6940" y="7885"/>
                  <a:pt x="6924" y="7889"/>
                  <a:pt x="6906" y="7896"/>
                </a:cubicBezTo>
                <a:cubicBezTo>
                  <a:pt x="6894" y="7901"/>
                  <a:pt x="6851" y="7934"/>
                  <a:pt x="6840" y="7932"/>
                </a:cubicBezTo>
                <a:cubicBezTo>
                  <a:pt x="6831" y="7930"/>
                  <a:pt x="6837" y="7943"/>
                  <a:pt x="6838" y="7929"/>
                </a:cubicBezTo>
                <a:cubicBezTo>
                  <a:pt x="6839" y="7920"/>
                  <a:pt x="6856" y="7902"/>
                  <a:pt x="6863" y="7896"/>
                </a:cubicBezTo>
                <a:cubicBezTo>
                  <a:pt x="6877" y="7884"/>
                  <a:pt x="6896" y="7874"/>
                  <a:pt x="6911" y="7862"/>
                </a:cubicBezTo>
                <a:cubicBezTo>
                  <a:pt x="6914" y="7859"/>
                  <a:pt x="6949" y="7837"/>
                  <a:pt x="6947" y="7832"/>
                </a:cubicBezTo>
                <a:cubicBezTo>
                  <a:pt x="6946" y="7828"/>
                  <a:pt x="6958" y="7826"/>
                  <a:pt x="6947" y="7823"/>
                </a:cubicBezTo>
                <a:cubicBezTo>
                  <a:pt x="6897" y="7809"/>
                  <a:pt x="6806" y="7859"/>
                  <a:pt x="6763" y="7880"/>
                </a:cubicBezTo>
                <a:cubicBezTo>
                  <a:pt x="6756" y="7883"/>
                  <a:pt x="6724" y="7895"/>
                  <a:pt x="6721" y="7904"/>
                </a:cubicBezTo>
                <a:cubicBezTo>
                  <a:pt x="6719" y="7910"/>
                  <a:pt x="6733" y="7895"/>
                  <a:pt x="6736" y="7900"/>
                </a:cubicBezTo>
                <a:cubicBezTo>
                  <a:pt x="6741" y="7899"/>
                  <a:pt x="6745" y="7899"/>
                  <a:pt x="6750" y="7898"/>
                </a:cubicBezTo>
                <a:cubicBezTo>
                  <a:pt x="6772" y="7887"/>
                  <a:pt x="6793" y="7873"/>
                  <a:pt x="6816" y="7862"/>
                </a:cubicBezTo>
                <a:cubicBezTo>
                  <a:pt x="6840" y="7851"/>
                  <a:pt x="6870" y="7850"/>
                  <a:pt x="6892" y="7837"/>
                </a:cubicBezTo>
                <a:cubicBezTo>
                  <a:pt x="6896" y="7835"/>
                  <a:pt x="6907" y="7832"/>
                  <a:pt x="6909" y="7827"/>
                </a:cubicBezTo>
                <a:cubicBezTo>
                  <a:pt x="6911" y="7823"/>
                  <a:pt x="6915" y="7820"/>
                  <a:pt x="6911" y="7819"/>
                </a:cubicBezTo>
                <a:cubicBezTo>
                  <a:pt x="6904" y="7817"/>
                  <a:pt x="6892" y="7821"/>
                  <a:pt x="6886" y="7823"/>
                </a:cubicBezTo>
                <a:cubicBezTo>
                  <a:pt x="6874" y="7827"/>
                  <a:pt x="6862" y="7836"/>
                  <a:pt x="6850" y="7841"/>
                </a:cubicBezTo>
                <a:cubicBezTo>
                  <a:pt x="6841" y="7845"/>
                  <a:pt x="6828" y="7864"/>
                  <a:pt x="6825" y="7855"/>
                </a:cubicBezTo>
                <a:cubicBezTo>
                  <a:pt x="6823" y="7848"/>
                  <a:pt x="6832" y="7848"/>
                  <a:pt x="6838" y="7844"/>
                </a:cubicBezTo>
                <a:cubicBezTo>
                  <a:pt x="6859" y="7830"/>
                  <a:pt x="6883" y="7817"/>
                  <a:pt x="6904" y="7805"/>
                </a:cubicBezTo>
                <a:cubicBezTo>
                  <a:pt x="6913" y="7800"/>
                  <a:pt x="6917" y="7801"/>
                  <a:pt x="6926" y="7798"/>
                </a:cubicBezTo>
                <a:cubicBezTo>
                  <a:pt x="6930" y="7797"/>
                  <a:pt x="6923" y="7787"/>
                  <a:pt x="6927" y="7787"/>
                </a:cubicBezTo>
                <a:cubicBezTo>
                  <a:pt x="6933" y="7787"/>
                  <a:pt x="6918" y="7801"/>
                  <a:pt x="6924" y="7800"/>
                </a:cubicBezTo>
                <a:cubicBezTo>
                  <a:pt x="6900" y="7828"/>
                  <a:pt x="6880" y="7847"/>
                  <a:pt x="6850" y="7870"/>
                </a:cubicBezTo>
                <a:cubicBezTo>
                  <a:pt x="6831" y="7885"/>
                  <a:pt x="6813" y="7902"/>
                  <a:pt x="6793" y="7916"/>
                </a:cubicBezTo>
                <a:cubicBezTo>
                  <a:pt x="6782" y="7923"/>
                  <a:pt x="6767" y="7938"/>
                  <a:pt x="6755" y="7943"/>
                </a:cubicBezTo>
                <a:cubicBezTo>
                  <a:pt x="6749" y="7946"/>
                  <a:pt x="6748" y="7951"/>
                  <a:pt x="6750" y="7945"/>
                </a:cubicBezTo>
                <a:cubicBezTo>
                  <a:pt x="6753" y="7938"/>
                  <a:pt x="6765" y="7929"/>
                  <a:pt x="6770" y="7923"/>
                </a:cubicBezTo>
                <a:cubicBezTo>
                  <a:pt x="6778" y="7914"/>
                  <a:pt x="6804" y="7900"/>
                  <a:pt x="6793" y="7895"/>
                </a:cubicBezTo>
                <a:cubicBezTo>
                  <a:pt x="6785" y="7892"/>
                  <a:pt x="6787" y="7903"/>
                  <a:pt x="6780" y="7907"/>
                </a:cubicBezTo>
                <a:cubicBezTo>
                  <a:pt x="6703" y="7946"/>
                  <a:pt x="6666" y="7995"/>
                  <a:pt x="6625" y="8068"/>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133960" y="1952640"/>
            <a:ext cx="615960" cy="565200"/>
          </a:xfrm>
          <a:custGeom>
            <a:avLst/>
            <a:gdLst/>
            <a:ahLst/>
            <a:rect l="l" t="t" r="r" b="b"/>
            <a:pathLst>
              <a:path w="1707" h="1571">
                <a:moveTo>
                  <a:pt x="15107" y="5965"/>
                </a:moveTo>
                <a:cubicBezTo>
                  <a:pt x="15105" y="5967"/>
                  <a:pt x="15099" y="5974"/>
                  <a:pt x="15094" y="5977"/>
                </a:cubicBezTo>
                <a:cubicBezTo>
                  <a:pt x="15084" y="5984"/>
                  <a:pt x="15073" y="5991"/>
                  <a:pt x="15062" y="5995"/>
                </a:cubicBezTo>
                <a:cubicBezTo>
                  <a:pt x="15045" y="6001"/>
                  <a:pt x="15028" y="6000"/>
                  <a:pt x="15010" y="6000"/>
                </a:cubicBezTo>
                <a:cubicBezTo>
                  <a:pt x="14992" y="6000"/>
                  <a:pt x="14961" y="6007"/>
                  <a:pt x="14947" y="5992"/>
                </a:cubicBezTo>
                <a:cubicBezTo>
                  <a:pt x="14939" y="5984"/>
                  <a:pt x="14932" y="5955"/>
                  <a:pt x="14937" y="5945"/>
                </a:cubicBezTo>
                <a:cubicBezTo>
                  <a:pt x="14949" y="5919"/>
                  <a:pt x="14983" y="5894"/>
                  <a:pt x="15005" y="5877"/>
                </a:cubicBezTo>
                <a:cubicBezTo>
                  <a:pt x="15046" y="5845"/>
                  <a:pt x="15092" y="5820"/>
                  <a:pt x="15141" y="5803"/>
                </a:cubicBezTo>
                <a:cubicBezTo>
                  <a:pt x="15196" y="5784"/>
                  <a:pt x="15257" y="5773"/>
                  <a:pt x="15315" y="5764"/>
                </a:cubicBezTo>
                <a:cubicBezTo>
                  <a:pt x="15348" y="5759"/>
                  <a:pt x="15411" y="5741"/>
                  <a:pt x="15444" y="5757"/>
                </a:cubicBezTo>
                <a:cubicBezTo>
                  <a:pt x="15472" y="5771"/>
                  <a:pt x="15481" y="5790"/>
                  <a:pt x="15481" y="5821"/>
                </a:cubicBezTo>
                <a:cubicBezTo>
                  <a:pt x="15481" y="5878"/>
                  <a:pt x="15421" y="5934"/>
                  <a:pt x="15386" y="5972"/>
                </a:cubicBezTo>
                <a:cubicBezTo>
                  <a:pt x="15317" y="6047"/>
                  <a:pt x="15242" y="6116"/>
                  <a:pt x="15171" y="6189"/>
                </a:cubicBezTo>
                <a:cubicBezTo>
                  <a:pt x="15102" y="6259"/>
                  <a:pt x="15033" y="6332"/>
                  <a:pt x="14980" y="6416"/>
                </a:cubicBezTo>
                <a:cubicBezTo>
                  <a:pt x="14964" y="6441"/>
                  <a:pt x="14931" y="6496"/>
                  <a:pt x="14937" y="6529"/>
                </a:cubicBezTo>
                <a:cubicBezTo>
                  <a:pt x="14943" y="6563"/>
                  <a:pt x="14964" y="6571"/>
                  <a:pt x="14996" y="6578"/>
                </a:cubicBezTo>
                <a:cubicBezTo>
                  <a:pt x="15121" y="6607"/>
                  <a:pt x="15270" y="6593"/>
                  <a:pt x="15385" y="6538"/>
                </a:cubicBezTo>
                <a:cubicBezTo>
                  <a:pt x="15420" y="6521"/>
                  <a:pt x="15462" y="6497"/>
                  <a:pt x="15490" y="6470"/>
                </a:cubicBezTo>
                <a:cubicBezTo>
                  <a:pt x="15510" y="6451"/>
                  <a:pt x="15534" y="6420"/>
                  <a:pt x="15537" y="6391"/>
                </a:cubicBezTo>
                <a:cubicBezTo>
                  <a:pt x="15538" y="6386"/>
                  <a:pt x="15532" y="6382"/>
                  <a:pt x="15533" y="6377"/>
                </a:cubicBezTo>
              </a:path>
              <a:path w="1707" h="1571">
                <a:moveTo>
                  <a:pt x="15544" y="6380"/>
                </a:moveTo>
                <a:cubicBezTo>
                  <a:pt x="15582" y="6401"/>
                  <a:pt x="15612" y="6423"/>
                  <a:pt x="15654" y="6436"/>
                </a:cubicBezTo>
                <a:cubicBezTo>
                  <a:pt x="15704" y="6451"/>
                  <a:pt x="15736" y="6445"/>
                  <a:pt x="15777" y="6414"/>
                </a:cubicBezTo>
                <a:cubicBezTo>
                  <a:pt x="15860" y="6351"/>
                  <a:pt x="15908" y="6250"/>
                  <a:pt x="15929" y="6151"/>
                </a:cubicBezTo>
                <a:cubicBezTo>
                  <a:pt x="15947" y="6069"/>
                  <a:pt x="15941" y="5986"/>
                  <a:pt x="15910" y="5907"/>
                </a:cubicBezTo>
                <a:cubicBezTo>
                  <a:pt x="15840" y="5731"/>
                  <a:pt x="15676" y="5595"/>
                  <a:pt x="15503" y="5529"/>
                </a:cubicBezTo>
                <a:cubicBezTo>
                  <a:pt x="15232" y="5425"/>
                  <a:pt x="14898" y="5368"/>
                  <a:pt x="14625" y="5492"/>
                </a:cubicBezTo>
                <a:cubicBezTo>
                  <a:pt x="14397" y="5596"/>
                  <a:pt x="14301" y="5831"/>
                  <a:pt x="14272" y="6067"/>
                </a:cubicBezTo>
                <a:cubicBezTo>
                  <a:pt x="14246" y="6273"/>
                  <a:pt x="14282" y="6456"/>
                  <a:pt x="14395" y="6631"/>
                </a:cubicBezTo>
                <a:cubicBezTo>
                  <a:pt x="14524" y="6832"/>
                  <a:pt x="14712" y="6933"/>
                  <a:pt x="14944" y="6972"/>
                </a:cubicBezTo>
                <a:cubicBezTo>
                  <a:pt x="15097" y="6997"/>
                  <a:pt x="15258" y="7003"/>
                  <a:pt x="15410" y="6970"/>
                </a:cubicBezTo>
                <a:cubicBezTo>
                  <a:pt x="15640" y="6921"/>
                  <a:pt x="15825" y="6769"/>
                  <a:pt x="15913" y="6551"/>
                </a:cubicBezTo>
                <a:cubicBezTo>
                  <a:pt x="15981" y="6382"/>
                  <a:pt x="15982" y="6198"/>
                  <a:pt x="15935" y="6024"/>
                </a:cubicBezTo>
                <a:cubicBezTo>
                  <a:pt x="15896" y="5880"/>
                  <a:pt x="15818" y="5737"/>
                  <a:pt x="15718" y="5626"/>
                </a:cubicBezTo>
                <a:cubicBezTo>
                  <a:pt x="15626" y="5538"/>
                  <a:pt x="15594" y="5508"/>
                  <a:pt x="15521" y="5461"/>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5970600" y="2550960"/>
            <a:ext cx="324000" cy="517680"/>
          </a:xfrm>
          <a:custGeom>
            <a:avLst/>
            <a:gdLst/>
            <a:ahLst/>
            <a:rect l="l" t="t" r="r" b="b"/>
            <a:pathLst>
              <a:path w="898" h="1438">
                <a:moveTo>
                  <a:pt x="17467" y="7920"/>
                </a:moveTo>
                <a:cubicBezTo>
                  <a:pt x="17473" y="7893"/>
                  <a:pt x="17482" y="7865"/>
                  <a:pt x="17482" y="7837"/>
                </a:cubicBezTo>
                <a:cubicBezTo>
                  <a:pt x="17482" y="7825"/>
                  <a:pt x="17479" y="7816"/>
                  <a:pt x="17478" y="7805"/>
                </a:cubicBezTo>
                <a:cubicBezTo>
                  <a:pt x="17477" y="7804"/>
                  <a:pt x="17477" y="7802"/>
                  <a:pt x="17476" y="7801"/>
                </a:cubicBezTo>
                <a:cubicBezTo>
                  <a:pt x="17470" y="7804"/>
                  <a:pt x="17465" y="7802"/>
                  <a:pt x="17458" y="7807"/>
                </a:cubicBezTo>
                <a:cubicBezTo>
                  <a:pt x="17397" y="7851"/>
                  <a:pt x="17337" y="7893"/>
                  <a:pt x="17272" y="7932"/>
                </a:cubicBezTo>
                <a:cubicBezTo>
                  <a:pt x="17182" y="7986"/>
                  <a:pt x="17090" y="8033"/>
                  <a:pt x="17003" y="8092"/>
                </a:cubicBezTo>
                <a:cubicBezTo>
                  <a:pt x="16912" y="8153"/>
                  <a:pt x="16834" y="8220"/>
                  <a:pt x="16770" y="8307"/>
                </a:cubicBezTo>
                <a:cubicBezTo>
                  <a:pt x="16783" y="8306"/>
                  <a:pt x="16800" y="8315"/>
                  <a:pt x="16822" y="8307"/>
                </a:cubicBezTo>
                <a:cubicBezTo>
                  <a:pt x="16866" y="8292"/>
                  <a:pt x="16913" y="8269"/>
                  <a:pt x="16953" y="8244"/>
                </a:cubicBezTo>
                <a:cubicBezTo>
                  <a:pt x="17015" y="8206"/>
                  <a:pt x="17077" y="8166"/>
                  <a:pt x="17137" y="8124"/>
                </a:cubicBezTo>
                <a:cubicBezTo>
                  <a:pt x="17203" y="8078"/>
                  <a:pt x="17267" y="8025"/>
                  <a:pt x="17315" y="7961"/>
                </a:cubicBezTo>
                <a:cubicBezTo>
                  <a:pt x="17328" y="7944"/>
                  <a:pt x="17338" y="7922"/>
                  <a:pt x="17347" y="7904"/>
                </a:cubicBezTo>
                <a:cubicBezTo>
                  <a:pt x="17347" y="7902"/>
                  <a:pt x="17347" y="7900"/>
                  <a:pt x="17347" y="7898"/>
                </a:cubicBezTo>
                <a:cubicBezTo>
                  <a:pt x="17337" y="7905"/>
                  <a:pt x="17325" y="7915"/>
                  <a:pt x="17315" y="7923"/>
                </a:cubicBezTo>
                <a:cubicBezTo>
                  <a:pt x="17251" y="7973"/>
                  <a:pt x="17181" y="8012"/>
                  <a:pt x="17111" y="8052"/>
                </a:cubicBezTo>
                <a:cubicBezTo>
                  <a:pt x="17044" y="8090"/>
                  <a:pt x="16975" y="8125"/>
                  <a:pt x="16915" y="8174"/>
                </a:cubicBezTo>
                <a:cubicBezTo>
                  <a:pt x="16890" y="8195"/>
                  <a:pt x="16870" y="8217"/>
                  <a:pt x="16847" y="8239"/>
                </a:cubicBezTo>
                <a:cubicBezTo>
                  <a:pt x="16865" y="8238"/>
                  <a:pt x="16874" y="8246"/>
                  <a:pt x="16892" y="8242"/>
                </a:cubicBezTo>
                <a:cubicBezTo>
                  <a:pt x="16943" y="8232"/>
                  <a:pt x="16993" y="8213"/>
                  <a:pt x="17042" y="8196"/>
                </a:cubicBezTo>
                <a:cubicBezTo>
                  <a:pt x="17145" y="8160"/>
                  <a:pt x="17249" y="8123"/>
                  <a:pt x="17338" y="8058"/>
                </a:cubicBezTo>
                <a:cubicBezTo>
                  <a:pt x="17350" y="8049"/>
                  <a:pt x="17361" y="8040"/>
                  <a:pt x="17372" y="8031"/>
                </a:cubicBezTo>
                <a:cubicBezTo>
                  <a:pt x="17365" y="8035"/>
                  <a:pt x="17377" y="8025"/>
                  <a:pt x="17370" y="8029"/>
                </a:cubicBezTo>
                <a:cubicBezTo>
                  <a:pt x="17301" y="8073"/>
                  <a:pt x="17234" y="8126"/>
                  <a:pt x="17168" y="8174"/>
                </a:cubicBezTo>
                <a:cubicBezTo>
                  <a:pt x="17145" y="8191"/>
                  <a:pt x="17108" y="8210"/>
                  <a:pt x="17093" y="8235"/>
                </a:cubicBezTo>
                <a:cubicBezTo>
                  <a:pt x="17089" y="8241"/>
                  <a:pt x="17094" y="8244"/>
                  <a:pt x="17091" y="8251"/>
                </a:cubicBezTo>
                <a:cubicBezTo>
                  <a:pt x="17093" y="8251"/>
                  <a:pt x="17096" y="8251"/>
                  <a:pt x="17098" y="8251"/>
                </a:cubicBezTo>
                <a:cubicBezTo>
                  <a:pt x="17150" y="8227"/>
                  <a:pt x="17199" y="8204"/>
                  <a:pt x="17241" y="8163"/>
                </a:cubicBezTo>
                <a:cubicBezTo>
                  <a:pt x="17260" y="8144"/>
                  <a:pt x="17286" y="8115"/>
                  <a:pt x="17297" y="8090"/>
                </a:cubicBezTo>
                <a:cubicBezTo>
                  <a:pt x="17297" y="8085"/>
                  <a:pt x="17297" y="8083"/>
                  <a:pt x="17292" y="8081"/>
                </a:cubicBezTo>
                <a:cubicBezTo>
                  <a:pt x="17270" y="8090"/>
                  <a:pt x="17254" y="8091"/>
                  <a:pt x="17231" y="8108"/>
                </a:cubicBezTo>
                <a:cubicBezTo>
                  <a:pt x="17156" y="8162"/>
                  <a:pt x="17075" y="8237"/>
                  <a:pt x="17039" y="8323"/>
                </a:cubicBezTo>
                <a:cubicBezTo>
                  <a:pt x="17040" y="8325"/>
                  <a:pt x="17040" y="8326"/>
                  <a:pt x="17041" y="8328"/>
                </a:cubicBezTo>
                <a:cubicBezTo>
                  <a:pt x="17091" y="8329"/>
                  <a:pt x="17124" y="8324"/>
                  <a:pt x="17170" y="8294"/>
                </a:cubicBezTo>
                <a:cubicBezTo>
                  <a:pt x="17201" y="8275"/>
                  <a:pt x="17225" y="8249"/>
                  <a:pt x="17250" y="8224"/>
                </a:cubicBezTo>
                <a:cubicBezTo>
                  <a:pt x="17271" y="8203"/>
                  <a:pt x="17289" y="8181"/>
                  <a:pt x="17304" y="8156"/>
                </a:cubicBezTo>
                <a:cubicBezTo>
                  <a:pt x="17308" y="8149"/>
                  <a:pt x="17315" y="8132"/>
                  <a:pt x="17317" y="8129"/>
                </a:cubicBezTo>
                <a:cubicBezTo>
                  <a:pt x="17283" y="8145"/>
                  <a:pt x="17248" y="8161"/>
                  <a:pt x="17214" y="8181"/>
                </a:cubicBezTo>
                <a:cubicBezTo>
                  <a:pt x="17127" y="8231"/>
                  <a:pt x="17036" y="8278"/>
                  <a:pt x="16967" y="8353"/>
                </a:cubicBezTo>
                <a:cubicBezTo>
                  <a:pt x="16960" y="8361"/>
                  <a:pt x="16957" y="8362"/>
                  <a:pt x="16958" y="8368"/>
                </a:cubicBezTo>
                <a:cubicBezTo>
                  <a:pt x="16990" y="8367"/>
                  <a:pt x="17017" y="8370"/>
                  <a:pt x="17050" y="8364"/>
                </a:cubicBezTo>
                <a:cubicBezTo>
                  <a:pt x="17136" y="8348"/>
                  <a:pt x="17229" y="8312"/>
                  <a:pt x="17308" y="8275"/>
                </a:cubicBezTo>
                <a:cubicBezTo>
                  <a:pt x="17327" y="8266"/>
                  <a:pt x="17346" y="8255"/>
                  <a:pt x="17365" y="8246"/>
                </a:cubicBezTo>
                <a:cubicBezTo>
                  <a:pt x="17366" y="8245"/>
                  <a:pt x="17368" y="8245"/>
                  <a:pt x="17369" y="8244"/>
                </a:cubicBezTo>
                <a:cubicBezTo>
                  <a:pt x="17360" y="8248"/>
                  <a:pt x="17344" y="8252"/>
                  <a:pt x="17333" y="8258"/>
                </a:cubicBezTo>
                <a:cubicBezTo>
                  <a:pt x="17302" y="8275"/>
                  <a:pt x="17216" y="8308"/>
                  <a:pt x="17200" y="8343"/>
                </a:cubicBezTo>
                <a:cubicBezTo>
                  <a:pt x="17193" y="8360"/>
                  <a:pt x="17188" y="8364"/>
                  <a:pt x="17202" y="8380"/>
                </a:cubicBezTo>
                <a:cubicBezTo>
                  <a:pt x="17236" y="8419"/>
                  <a:pt x="17287" y="8374"/>
                  <a:pt x="17315" y="8357"/>
                </a:cubicBezTo>
                <a:cubicBezTo>
                  <a:pt x="17324" y="8351"/>
                  <a:pt x="17335" y="8342"/>
                  <a:pt x="17345" y="8339"/>
                </a:cubicBezTo>
                <a:cubicBezTo>
                  <a:pt x="17349" y="8338"/>
                  <a:pt x="17350" y="8347"/>
                  <a:pt x="17354" y="8346"/>
                </a:cubicBezTo>
                <a:cubicBezTo>
                  <a:pt x="17347" y="8379"/>
                  <a:pt x="17340" y="8405"/>
                  <a:pt x="17324" y="8436"/>
                </a:cubicBezTo>
                <a:cubicBezTo>
                  <a:pt x="17310" y="8463"/>
                  <a:pt x="17296" y="8489"/>
                  <a:pt x="17286" y="8516"/>
                </a:cubicBezTo>
                <a:cubicBezTo>
                  <a:pt x="17286" y="8518"/>
                  <a:pt x="17286" y="8520"/>
                  <a:pt x="17286" y="8522"/>
                </a:cubicBezTo>
                <a:cubicBezTo>
                  <a:pt x="17304" y="8512"/>
                  <a:pt x="17324" y="8507"/>
                  <a:pt x="17342" y="8493"/>
                </a:cubicBezTo>
                <a:cubicBezTo>
                  <a:pt x="17363" y="8477"/>
                  <a:pt x="17379" y="8458"/>
                  <a:pt x="17395" y="8438"/>
                </a:cubicBezTo>
                <a:cubicBezTo>
                  <a:pt x="17415" y="8414"/>
                  <a:pt x="17431" y="8385"/>
                  <a:pt x="17447" y="8359"/>
                </a:cubicBezTo>
                <a:cubicBezTo>
                  <a:pt x="17448" y="8358"/>
                  <a:pt x="17448" y="8356"/>
                  <a:pt x="17449" y="8355"/>
                </a:cubicBezTo>
                <a:cubicBezTo>
                  <a:pt x="17446" y="8358"/>
                  <a:pt x="17458" y="8350"/>
                  <a:pt x="17455" y="8353"/>
                </a:cubicBezTo>
                <a:cubicBezTo>
                  <a:pt x="17448" y="8361"/>
                  <a:pt x="17439" y="8373"/>
                  <a:pt x="17430" y="8379"/>
                </a:cubicBezTo>
                <a:cubicBezTo>
                  <a:pt x="17405" y="8395"/>
                  <a:pt x="17375" y="8410"/>
                  <a:pt x="17347" y="8420"/>
                </a:cubicBezTo>
                <a:cubicBezTo>
                  <a:pt x="17341" y="8422"/>
                  <a:pt x="17255" y="8439"/>
                  <a:pt x="17256" y="8438"/>
                </a:cubicBezTo>
                <a:cubicBezTo>
                  <a:pt x="17264" y="8420"/>
                  <a:pt x="17320" y="8401"/>
                  <a:pt x="17336" y="8393"/>
                </a:cubicBezTo>
                <a:cubicBezTo>
                  <a:pt x="17360" y="8382"/>
                  <a:pt x="17386" y="8374"/>
                  <a:pt x="17410" y="8364"/>
                </a:cubicBezTo>
                <a:cubicBezTo>
                  <a:pt x="17403" y="8364"/>
                  <a:pt x="17438" y="8356"/>
                  <a:pt x="17431" y="8357"/>
                </a:cubicBezTo>
                <a:cubicBezTo>
                  <a:pt x="17424" y="8358"/>
                  <a:pt x="17416" y="8361"/>
                  <a:pt x="17408" y="8362"/>
                </a:cubicBezTo>
                <a:cubicBezTo>
                  <a:pt x="17376" y="8368"/>
                  <a:pt x="17345" y="8376"/>
                  <a:pt x="17313" y="8384"/>
                </a:cubicBezTo>
                <a:cubicBezTo>
                  <a:pt x="17315" y="8392"/>
                  <a:pt x="17284" y="8394"/>
                  <a:pt x="17293" y="8395"/>
                </a:cubicBezTo>
                <a:cubicBezTo>
                  <a:pt x="17311" y="8397"/>
                  <a:pt x="17332" y="8392"/>
                  <a:pt x="17349" y="8393"/>
                </a:cubicBezTo>
                <a:cubicBezTo>
                  <a:pt x="17345" y="8390"/>
                  <a:pt x="17346" y="8372"/>
                  <a:pt x="17326" y="8366"/>
                </a:cubicBezTo>
                <a:cubicBezTo>
                  <a:pt x="17293" y="8357"/>
                  <a:pt x="17257" y="8360"/>
                  <a:pt x="17223" y="8359"/>
                </a:cubicBezTo>
                <a:cubicBezTo>
                  <a:pt x="17180" y="8358"/>
                  <a:pt x="17142" y="8359"/>
                  <a:pt x="17100" y="8366"/>
                </a:cubicBezTo>
                <a:cubicBezTo>
                  <a:pt x="17083" y="8369"/>
                  <a:pt x="17067" y="8376"/>
                  <a:pt x="17051" y="8379"/>
                </a:cubicBezTo>
                <a:cubicBezTo>
                  <a:pt x="17013" y="8385"/>
                  <a:pt x="16973" y="8382"/>
                  <a:pt x="16935" y="8382"/>
                </a:cubicBezTo>
                <a:cubicBezTo>
                  <a:pt x="16938" y="8379"/>
                  <a:pt x="16942" y="8370"/>
                  <a:pt x="16947" y="8366"/>
                </a:cubicBezTo>
                <a:cubicBezTo>
                  <a:pt x="16986" y="8338"/>
                  <a:pt x="17028" y="8312"/>
                  <a:pt x="17069" y="8287"/>
                </a:cubicBezTo>
                <a:cubicBezTo>
                  <a:pt x="17118" y="8257"/>
                  <a:pt x="17166" y="8228"/>
                  <a:pt x="17214" y="8196"/>
                </a:cubicBezTo>
                <a:cubicBezTo>
                  <a:pt x="17238" y="8180"/>
                  <a:pt x="17264" y="8165"/>
                  <a:pt x="17286" y="8147"/>
                </a:cubicBezTo>
                <a:cubicBezTo>
                  <a:pt x="17294" y="8140"/>
                  <a:pt x="17300" y="8130"/>
                  <a:pt x="17308" y="8124"/>
                </a:cubicBezTo>
                <a:cubicBezTo>
                  <a:pt x="17306" y="8124"/>
                  <a:pt x="17315" y="8115"/>
                  <a:pt x="17309" y="8117"/>
                </a:cubicBezTo>
                <a:cubicBezTo>
                  <a:pt x="17283" y="8125"/>
                  <a:pt x="17268" y="8141"/>
                  <a:pt x="17245" y="8153"/>
                </a:cubicBezTo>
                <a:cubicBezTo>
                  <a:pt x="17236" y="8158"/>
                  <a:pt x="17228" y="8164"/>
                  <a:pt x="17218" y="8167"/>
                </a:cubicBezTo>
                <a:cubicBezTo>
                  <a:pt x="17214" y="8168"/>
                  <a:pt x="17213" y="8169"/>
                  <a:pt x="17209" y="8169"/>
                </a:cubicBezTo>
                <a:cubicBezTo>
                  <a:pt x="17209" y="8169"/>
                  <a:pt x="17202" y="8172"/>
                  <a:pt x="17198" y="8171"/>
                </a:cubicBezTo>
                <a:cubicBezTo>
                  <a:pt x="17190" y="8169"/>
                  <a:pt x="17186" y="8160"/>
                  <a:pt x="17179" y="8156"/>
                </a:cubicBezTo>
                <a:cubicBezTo>
                  <a:pt x="17171" y="8151"/>
                  <a:pt x="17163" y="8141"/>
                  <a:pt x="17155" y="8135"/>
                </a:cubicBezTo>
                <a:cubicBezTo>
                  <a:pt x="17142" y="8125"/>
                  <a:pt x="17130" y="8116"/>
                  <a:pt x="17118" y="8106"/>
                </a:cubicBezTo>
                <a:cubicBezTo>
                  <a:pt x="17064" y="8060"/>
                  <a:pt x="17012" y="8008"/>
                  <a:pt x="16974" y="7948"/>
                </a:cubicBezTo>
                <a:cubicBezTo>
                  <a:pt x="16934" y="7884"/>
                  <a:pt x="16907" y="7818"/>
                  <a:pt x="16890" y="7746"/>
                </a:cubicBezTo>
                <a:cubicBezTo>
                  <a:pt x="16892" y="7750"/>
                  <a:pt x="16888" y="7737"/>
                  <a:pt x="16890" y="7741"/>
                </a:cubicBezTo>
                <a:cubicBezTo>
                  <a:pt x="16898" y="7757"/>
                  <a:pt x="16904" y="7773"/>
                  <a:pt x="16913" y="7789"/>
                </a:cubicBezTo>
                <a:cubicBezTo>
                  <a:pt x="16933" y="7825"/>
                  <a:pt x="16950" y="7857"/>
                  <a:pt x="16964" y="7896"/>
                </a:cubicBezTo>
                <a:cubicBezTo>
                  <a:pt x="16975" y="7928"/>
                  <a:pt x="16988" y="7952"/>
                  <a:pt x="17005" y="7981"/>
                </a:cubicBezTo>
                <a:cubicBezTo>
                  <a:pt x="17026" y="8017"/>
                  <a:pt x="17051" y="8046"/>
                  <a:pt x="17075" y="8079"/>
                </a:cubicBezTo>
                <a:cubicBezTo>
                  <a:pt x="17085" y="8092"/>
                  <a:pt x="17091" y="8099"/>
                  <a:pt x="17100" y="8113"/>
                </a:cubicBezTo>
                <a:cubicBezTo>
                  <a:pt x="17094" y="8105"/>
                  <a:pt x="17091" y="8103"/>
                  <a:pt x="17087" y="8097"/>
                </a:cubicBezTo>
                <a:cubicBezTo>
                  <a:pt x="17060" y="8060"/>
                  <a:pt x="17032" y="8024"/>
                  <a:pt x="17003" y="7988"/>
                </a:cubicBezTo>
                <a:cubicBezTo>
                  <a:pt x="16976" y="7953"/>
                  <a:pt x="16953" y="7919"/>
                  <a:pt x="16933" y="7880"/>
                </a:cubicBezTo>
                <a:cubicBezTo>
                  <a:pt x="16911" y="7837"/>
                  <a:pt x="16896" y="7792"/>
                  <a:pt x="16883" y="7746"/>
                </a:cubicBezTo>
                <a:cubicBezTo>
                  <a:pt x="16876" y="7722"/>
                  <a:pt x="16874" y="7700"/>
                  <a:pt x="16870" y="7676"/>
                </a:cubicBezTo>
                <a:cubicBezTo>
                  <a:pt x="16878" y="7693"/>
                  <a:pt x="16886" y="7712"/>
                  <a:pt x="16894" y="7730"/>
                </a:cubicBezTo>
                <a:cubicBezTo>
                  <a:pt x="16908" y="7760"/>
                  <a:pt x="16921" y="7790"/>
                  <a:pt x="16938" y="7819"/>
                </a:cubicBezTo>
                <a:cubicBezTo>
                  <a:pt x="16958" y="7852"/>
                  <a:pt x="16982" y="7882"/>
                  <a:pt x="17005" y="7913"/>
                </a:cubicBezTo>
                <a:cubicBezTo>
                  <a:pt x="17021" y="7935"/>
                  <a:pt x="17040" y="7955"/>
                  <a:pt x="17055" y="7977"/>
                </a:cubicBezTo>
                <a:cubicBezTo>
                  <a:pt x="17061" y="7987"/>
                  <a:pt x="17067" y="7997"/>
                  <a:pt x="17073" y="8006"/>
                </a:cubicBezTo>
                <a:cubicBezTo>
                  <a:pt x="17073" y="8009"/>
                  <a:pt x="17073" y="8010"/>
                  <a:pt x="17075" y="8009"/>
                </a:cubicBezTo>
                <a:cubicBezTo>
                  <a:pt x="17066" y="8001"/>
                  <a:pt x="17054" y="7990"/>
                  <a:pt x="17044" y="7982"/>
                </a:cubicBezTo>
                <a:cubicBezTo>
                  <a:pt x="17018" y="7960"/>
                  <a:pt x="16992" y="7937"/>
                  <a:pt x="16969" y="7911"/>
                </a:cubicBezTo>
                <a:cubicBezTo>
                  <a:pt x="16885" y="7815"/>
                  <a:pt x="16827" y="7700"/>
                  <a:pt x="16743" y="7604"/>
                </a:cubicBezTo>
                <a:cubicBezTo>
                  <a:pt x="16733" y="7594"/>
                  <a:pt x="16731" y="7591"/>
                  <a:pt x="16725" y="7585"/>
                </a:cubicBezTo>
                <a:cubicBezTo>
                  <a:pt x="16730" y="7593"/>
                  <a:pt x="16713" y="7568"/>
                  <a:pt x="16718" y="7576"/>
                </a:cubicBezTo>
                <a:cubicBezTo>
                  <a:pt x="16736" y="7604"/>
                  <a:pt x="16755" y="7631"/>
                  <a:pt x="16772" y="7660"/>
                </a:cubicBezTo>
                <a:cubicBezTo>
                  <a:pt x="16821" y="7741"/>
                  <a:pt x="16866" y="7822"/>
                  <a:pt x="16947" y="7875"/>
                </a:cubicBezTo>
                <a:cubicBezTo>
                  <a:pt x="16953" y="7877"/>
                  <a:pt x="16955" y="7878"/>
                  <a:pt x="16958" y="7880"/>
                </a:cubicBezTo>
                <a:cubicBezTo>
                  <a:pt x="16957" y="7878"/>
                  <a:pt x="16964" y="7867"/>
                  <a:pt x="16956" y="7850"/>
                </a:cubicBezTo>
                <a:cubicBezTo>
                  <a:pt x="16928" y="7790"/>
                  <a:pt x="16892" y="7735"/>
                  <a:pt x="16869" y="7672"/>
                </a:cubicBezTo>
                <a:cubicBezTo>
                  <a:pt x="16852" y="7627"/>
                  <a:pt x="16838" y="7580"/>
                  <a:pt x="16842" y="7534"/>
                </a:cubicBezTo>
                <a:cubicBezTo>
                  <a:pt x="16842" y="7531"/>
                  <a:pt x="16843" y="7532"/>
                  <a:pt x="16847" y="7536"/>
                </a:cubicBezTo>
                <a:cubicBezTo>
                  <a:pt x="16878" y="7592"/>
                  <a:pt x="16909" y="7647"/>
                  <a:pt x="16935" y="7705"/>
                </a:cubicBezTo>
                <a:cubicBezTo>
                  <a:pt x="16954" y="7748"/>
                  <a:pt x="16970" y="7792"/>
                  <a:pt x="16985" y="7836"/>
                </a:cubicBezTo>
                <a:cubicBezTo>
                  <a:pt x="16989" y="7847"/>
                  <a:pt x="16994" y="7858"/>
                  <a:pt x="16996" y="7870"/>
                </a:cubicBezTo>
                <a:cubicBezTo>
                  <a:pt x="16995" y="7872"/>
                  <a:pt x="16995" y="7875"/>
                  <a:pt x="16994" y="7877"/>
                </a:cubicBezTo>
                <a:cubicBezTo>
                  <a:pt x="16973" y="7868"/>
                  <a:pt x="16962" y="7872"/>
                  <a:pt x="16937" y="7850"/>
                </a:cubicBezTo>
                <a:cubicBezTo>
                  <a:pt x="16892" y="7811"/>
                  <a:pt x="16858" y="7764"/>
                  <a:pt x="16822" y="7717"/>
                </a:cubicBezTo>
                <a:cubicBezTo>
                  <a:pt x="16787" y="7673"/>
                  <a:pt x="16755" y="7628"/>
                  <a:pt x="16731" y="7577"/>
                </a:cubicBezTo>
                <a:cubicBezTo>
                  <a:pt x="16724" y="7561"/>
                  <a:pt x="16715" y="7542"/>
                  <a:pt x="16713" y="7525"/>
                </a:cubicBezTo>
                <a:cubicBezTo>
                  <a:pt x="16712" y="7513"/>
                  <a:pt x="16722" y="7517"/>
                  <a:pt x="16722" y="7513"/>
                </a:cubicBezTo>
                <a:cubicBezTo>
                  <a:pt x="16734" y="7531"/>
                  <a:pt x="16748" y="7548"/>
                  <a:pt x="16759" y="7569"/>
                </a:cubicBezTo>
                <a:cubicBezTo>
                  <a:pt x="16792" y="7632"/>
                  <a:pt x="16817" y="7705"/>
                  <a:pt x="16840" y="7773"/>
                </a:cubicBezTo>
                <a:cubicBezTo>
                  <a:pt x="16848" y="7798"/>
                  <a:pt x="16857" y="7826"/>
                  <a:pt x="16860" y="7852"/>
                </a:cubicBezTo>
                <a:cubicBezTo>
                  <a:pt x="16859" y="7851"/>
                  <a:pt x="16857" y="7851"/>
                  <a:pt x="16856" y="7850"/>
                </a:cubicBezTo>
                <a:cubicBezTo>
                  <a:pt x="16817" y="7784"/>
                  <a:pt x="16799" y="7712"/>
                  <a:pt x="16790" y="7635"/>
                </a:cubicBezTo>
                <a:cubicBezTo>
                  <a:pt x="16783" y="7578"/>
                  <a:pt x="16782" y="7526"/>
                  <a:pt x="16795" y="7470"/>
                </a:cubicBezTo>
                <a:cubicBezTo>
                  <a:pt x="16798" y="7458"/>
                  <a:pt x="16801" y="7447"/>
                  <a:pt x="16804" y="7436"/>
                </a:cubicBezTo>
                <a:cubicBezTo>
                  <a:pt x="16807" y="7443"/>
                  <a:pt x="16815" y="7432"/>
                  <a:pt x="16817" y="7439"/>
                </a:cubicBezTo>
                <a:cubicBezTo>
                  <a:pt x="16826" y="7467"/>
                  <a:pt x="16834" y="7498"/>
                  <a:pt x="16842" y="7527"/>
                </a:cubicBezTo>
                <a:cubicBezTo>
                  <a:pt x="16851" y="7558"/>
                  <a:pt x="16861" y="7588"/>
                  <a:pt x="16870" y="7619"/>
                </a:cubicBezTo>
                <a:cubicBezTo>
                  <a:pt x="16878" y="7647"/>
                  <a:pt x="16883" y="7675"/>
                  <a:pt x="16888" y="7703"/>
                </a:cubicBezTo>
                <a:cubicBezTo>
                  <a:pt x="16890" y="7714"/>
                  <a:pt x="16894" y="7726"/>
                  <a:pt x="16895" y="7737"/>
                </a:cubicBezTo>
                <a:cubicBezTo>
                  <a:pt x="16895" y="7741"/>
                  <a:pt x="16895" y="7742"/>
                  <a:pt x="16892" y="7744"/>
                </a:cubicBezTo>
                <a:cubicBezTo>
                  <a:pt x="16825" y="7686"/>
                  <a:pt x="16771" y="7612"/>
                  <a:pt x="16725" y="7536"/>
                </a:cubicBezTo>
                <a:cubicBezTo>
                  <a:pt x="16710" y="7511"/>
                  <a:pt x="16697" y="7485"/>
                  <a:pt x="16689" y="7457"/>
                </a:cubicBezTo>
                <a:cubicBezTo>
                  <a:pt x="16683" y="7436"/>
                  <a:pt x="16679" y="7412"/>
                  <a:pt x="16673" y="7391"/>
                </a:cubicBezTo>
                <a:cubicBezTo>
                  <a:pt x="16671" y="7386"/>
                  <a:pt x="16671" y="7385"/>
                  <a:pt x="16671" y="7382"/>
                </a:cubicBezTo>
                <a:cubicBezTo>
                  <a:pt x="16676" y="7391"/>
                  <a:pt x="16679" y="7402"/>
                  <a:pt x="16686" y="7413"/>
                </a:cubicBezTo>
                <a:cubicBezTo>
                  <a:pt x="16715" y="7455"/>
                  <a:pt x="16755" y="7490"/>
                  <a:pt x="16783" y="7533"/>
                </a:cubicBezTo>
                <a:cubicBezTo>
                  <a:pt x="16795" y="7552"/>
                  <a:pt x="16807" y="7574"/>
                  <a:pt x="16818" y="7594"/>
                </a:cubicBezTo>
                <a:cubicBezTo>
                  <a:pt x="16818" y="7595"/>
                  <a:pt x="16817" y="7596"/>
                  <a:pt x="16817" y="7597"/>
                </a:cubicBezTo>
                <a:cubicBezTo>
                  <a:pt x="16810" y="7592"/>
                  <a:pt x="16797" y="7591"/>
                  <a:pt x="16790" y="7585"/>
                </a:cubicBezTo>
                <a:cubicBezTo>
                  <a:pt x="16768" y="7568"/>
                  <a:pt x="16751" y="7545"/>
                  <a:pt x="16732" y="7524"/>
                </a:cubicBezTo>
                <a:cubicBezTo>
                  <a:pt x="16699" y="7486"/>
                  <a:pt x="16670" y="7449"/>
                  <a:pt x="16648" y="7404"/>
                </a:cubicBezTo>
                <a:cubicBezTo>
                  <a:pt x="16633" y="7374"/>
                  <a:pt x="16641" y="7362"/>
                  <a:pt x="16641" y="7341"/>
                </a:cubicBezTo>
                <a:cubicBezTo>
                  <a:pt x="16655" y="7339"/>
                  <a:pt x="16672" y="7327"/>
                  <a:pt x="16688" y="7328"/>
                </a:cubicBezTo>
                <a:cubicBezTo>
                  <a:pt x="16709" y="7329"/>
                  <a:pt x="16724" y="7333"/>
                  <a:pt x="16743" y="7343"/>
                </a:cubicBezTo>
                <a:cubicBezTo>
                  <a:pt x="16778" y="7361"/>
                  <a:pt x="16769" y="7371"/>
                  <a:pt x="16784" y="7405"/>
                </a:cubicBezTo>
                <a:cubicBezTo>
                  <a:pt x="16776" y="7420"/>
                  <a:pt x="16775" y="7439"/>
                  <a:pt x="16761" y="7452"/>
                </a:cubicBezTo>
                <a:cubicBezTo>
                  <a:pt x="16734" y="7476"/>
                  <a:pt x="16686" y="7483"/>
                  <a:pt x="16655" y="7466"/>
                </a:cubicBezTo>
                <a:cubicBezTo>
                  <a:pt x="16627" y="7451"/>
                  <a:pt x="16616" y="7421"/>
                  <a:pt x="16609" y="7393"/>
                </a:cubicBezTo>
                <a:cubicBezTo>
                  <a:pt x="16600" y="7355"/>
                  <a:pt x="16604" y="7311"/>
                  <a:pt x="16627" y="7278"/>
                </a:cubicBezTo>
                <a:cubicBezTo>
                  <a:pt x="16648" y="7248"/>
                  <a:pt x="16679" y="7237"/>
                  <a:pt x="16713" y="7242"/>
                </a:cubicBezTo>
                <a:cubicBezTo>
                  <a:pt x="16740" y="7246"/>
                  <a:pt x="16756" y="7269"/>
                  <a:pt x="16775" y="7284"/>
                </a:cubicBezTo>
                <a:cubicBezTo>
                  <a:pt x="16796" y="7301"/>
                  <a:pt x="16808" y="7312"/>
                  <a:pt x="16822" y="7334"/>
                </a:cubicBezTo>
                <a:cubicBezTo>
                  <a:pt x="16829" y="7345"/>
                  <a:pt x="16832" y="7357"/>
                  <a:pt x="16838" y="7368"/>
                </a:cubicBezTo>
                <a:cubicBezTo>
                  <a:pt x="16828" y="7375"/>
                  <a:pt x="16822" y="7388"/>
                  <a:pt x="16806" y="7396"/>
                </a:cubicBezTo>
                <a:cubicBezTo>
                  <a:pt x="16771" y="7413"/>
                  <a:pt x="16723" y="7427"/>
                  <a:pt x="16686" y="7411"/>
                </a:cubicBezTo>
                <a:cubicBezTo>
                  <a:pt x="16663" y="7401"/>
                  <a:pt x="16645" y="7363"/>
                  <a:pt x="16637" y="7341"/>
                </a:cubicBezTo>
                <a:cubicBezTo>
                  <a:pt x="16629" y="7319"/>
                  <a:pt x="16629" y="7284"/>
                  <a:pt x="16634" y="7262"/>
                </a:cubicBezTo>
                <a:cubicBezTo>
                  <a:pt x="16639" y="7239"/>
                  <a:pt x="16648" y="7219"/>
                  <a:pt x="16661" y="7199"/>
                </a:cubicBezTo>
                <a:cubicBezTo>
                  <a:pt x="16672" y="7182"/>
                  <a:pt x="16685" y="7171"/>
                  <a:pt x="16700" y="7158"/>
                </a:cubicBezTo>
                <a:cubicBezTo>
                  <a:pt x="16709" y="7151"/>
                  <a:pt x="16731" y="7143"/>
                  <a:pt x="16732" y="7142"/>
                </a:cubicBezTo>
                <a:cubicBezTo>
                  <a:pt x="16725" y="7155"/>
                  <a:pt x="16730" y="7164"/>
                  <a:pt x="16716" y="7180"/>
                </a:cubicBezTo>
                <a:cubicBezTo>
                  <a:pt x="16701" y="7197"/>
                  <a:pt x="16672" y="7226"/>
                  <a:pt x="16652" y="7235"/>
                </a:cubicBezTo>
                <a:cubicBezTo>
                  <a:pt x="16644" y="7239"/>
                  <a:pt x="16615" y="7250"/>
                  <a:pt x="16605" y="7244"/>
                </a:cubicBezTo>
                <a:cubicBezTo>
                  <a:pt x="16593" y="7237"/>
                  <a:pt x="16589" y="7228"/>
                  <a:pt x="16591" y="7210"/>
                </a:cubicBezTo>
                <a:cubicBezTo>
                  <a:pt x="16594" y="7187"/>
                  <a:pt x="16629" y="7152"/>
                  <a:pt x="16646" y="7138"/>
                </a:cubicBezTo>
                <a:cubicBezTo>
                  <a:pt x="16663" y="7123"/>
                  <a:pt x="16683" y="7112"/>
                  <a:pt x="16700" y="7097"/>
                </a:cubicBezTo>
                <a:cubicBezTo>
                  <a:pt x="16703" y="7105"/>
                  <a:pt x="16722" y="7078"/>
                  <a:pt x="16720" y="7086"/>
                </a:cubicBezTo>
                <a:cubicBezTo>
                  <a:pt x="16718" y="7095"/>
                  <a:pt x="16718" y="7103"/>
                  <a:pt x="16713" y="7112"/>
                </a:cubicBezTo>
                <a:cubicBezTo>
                  <a:pt x="16704" y="7130"/>
                  <a:pt x="16683" y="7148"/>
                  <a:pt x="16670" y="7162"/>
                </a:cubicBezTo>
                <a:cubicBezTo>
                  <a:pt x="16646" y="7186"/>
                  <a:pt x="16621" y="7200"/>
                  <a:pt x="16593" y="7215"/>
                </a:cubicBezTo>
                <a:cubicBezTo>
                  <a:pt x="16590" y="7217"/>
                  <a:pt x="16589" y="7217"/>
                  <a:pt x="16587" y="7217"/>
                </a:cubicBezTo>
                <a:cubicBezTo>
                  <a:pt x="16589" y="7214"/>
                  <a:pt x="16590" y="7198"/>
                  <a:pt x="16594" y="7192"/>
                </a:cubicBezTo>
                <a:cubicBezTo>
                  <a:pt x="16597" y="7188"/>
                  <a:pt x="16608" y="7171"/>
                  <a:pt x="16611" y="7169"/>
                </a:cubicBezTo>
                <a:cubicBezTo>
                  <a:pt x="16617" y="7166"/>
                  <a:pt x="16623" y="7153"/>
                  <a:pt x="16632" y="7158"/>
                </a:cubicBezTo>
                <a:cubicBezTo>
                  <a:pt x="16643" y="7164"/>
                  <a:pt x="16654" y="7219"/>
                  <a:pt x="16659" y="7230"/>
                </a:cubicBezTo>
                <a:cubicBezTo>
                  <a:pt x="16670" y="7253"/>
                  <a:pt x="16680" y="7272"/>
                  <a:pt x="16695" y="7294"/>
                </a:cubicBezTo>
                <a:cubicBezTo>
                  <a:pt x="16760" y="7391"/>
                  <a:pt x="16835" y="7486"/>
                  <a:pt x="16908" y="7577"/>
                </a:cubicBezTo>
                <a:cubicBezTo>
                  <a:pt x="16942" y="7619"/>
                  <a:pt x="16975" y="7663"/>
                  <a:pt x="17010" y="7705"/>
                </a:cubicBezTo>
                <a:cubicBezTo>
                  <a:pt x="17045" y="7746"/>
                  <a:pt x="17073" y="7791"/>
                  <a:pt x="17105" y="7834"/>
                </a:cubicBezTo>
                <a:cubicBezTo>
                  <a:pt x="17127" y="7864"/>
                  <a:pt x="17152" y="7893"/>
                  <a:pt x="17170" y="7925"/>
                </a:cubicBezTo>
                <a:cubicBezTo>
                  <a:pt x="17192" y="7963"/>
                  <a:pt x="17207" y="8004"/>
                  <a:pt x="17227" y="8043"/>
                </a:cubicBezTo>
                <a:cubicBezTo>
                  <a:pt x="17232" y="8052"/>
                  <a:pt x="17237" y="8070"/>
                  <a:pt x="17245" y="8076"/>
                </a:cubicBezTo>
                <a:cubicBezTo>
                  <a:pt x="17258" y="8087"/>
                  <a:pt x="17269" y="8083"/>
                  <a:pt x="17279" y="8088"/>
                </a:cubicBezTo>
                <a:cubicBezTo>
                  <a:pt x="17277" y="8078"/>
                  <a:pt x="17293" y="8074"/>
                  <a:pt x="17286" y="8058"/>
                </a:cubicBezTo>
                <a:cubicBezTo>
                  <a:pt x="17269" y="8019"/>
                  <a:pt x="17235" y="7983"/>
                  <a:pt x="17207" y="7952"/>
                </a:cubicBezTo>
                <a:cubicBezTo>
                  <a:pt x="17181" y="7924"/>
                  <a:pt x="17153" y="7897"/>
                  <a:pt x="17127" y="7870"/>
                </a:cubicBezTo>
                <a:cubicBezTo>
                  <a:pt x="17121" y="7864"/>
                  <a:pt x="17115" y="7857"/>
                  <a:pt x="17109" y="7850"/>
                </a:cubicBezTo>
                <a:cubicBezTo>
                  <a:pt x="17111" y="7855"/>
                  <a:pt x="17095" y="7846"/>
                  <a:pt x="17098" y="7850"/>
                </a:cubicBezTo>
                <a:cubicBezTo>
                  <a:pt x="17111" y="7867"/>
                  <a:pt x="17121" y="7873"/>
                  <a:pt x="17137" y="7887"/>
                </a:cubicBezTo>
                <a:cubicBezTo>
                  <a:pt x="17168" y="7912"/>
                  <a:pt x="17196" y="7934"/>
                  <a:pt x="17222" y="7965"/>
                </a:cubicBezTo>
                <a:cubicBezTo>
                  <a:pt x="17237" y="7983"/>
                  <a:pt x="17252" y="8001"/>
                  <a:pt x="17261" y="8022"/>
                </a:cubicBezTo>
                <a:cubicBezTo>
                  <a:pt x="17260" y="8024"/>
                  <a:pt x="17258" y="8025"/>
                  <a:pt x="17257" y="8027"/>
                </a:cubicBezTo>
                <a:cubicBezTo>
                  <a:pt x="17241" y="8031"/>
                  <a:pt x="17228" y="8040"/>
                  <a:pt x="17209" y="8043"/>
                </a:cubicBezTo>
                <a:cubicBezTo>
                  <a:pt x="17167" y="8050"/>
                  <a:pt x="17128" y="8045"/>
                  <a:pt x="17087" y="8034"/>
                </a:cubicBezTo>
                <a:cubicBezTo>
                  <a:pt x="17047" y="8023"/>
                  <a:pt x="17007" y="8004"/>
                  <a:pt x="16982" y="7970"/>
                </a:cubicBezTo>
                <a:cubicBezTo>
                  <a:pt x="16972" y="7956"/>
                  <a:pt x="16972" y="7938"/>
                  <a:pt x="16967" y="7927"/>
                </a:cubicBezTo>
                <a:cubicBezTo>
                  <a:pt x="17008" y="7915"/>
                  <a:pt x="17040" y="7903"/>
                  <a:pt x="17085" y="7905"/>
                </a:cubicBezTo>
                <a:cubicBezTo>
                  <a:pt x="17120" y="7907"/>
                  <a:pt x="17167" y="7916"/>
                  <a:pt x="17186" y="7947"/>
                </a:cubicBezTo>
                <a:cubicBezTo>
                  <a:pt x="17197" y="7965"/>
                  <a:pt x="17192" y="7982"/>
                  <a:pt x="17180" y="7999"/>
                </a:cubicBezTo>
                <a:cubicBezTo>
                  <a:pt x="17165" y="8019"/>
                  <a:pt x="17137" y="8034"/>
                  <a:pt x="17118" y="8051"/>
                </a:cubicBezTo>
                <a:cubicBezTo>
                  <a:pt x="17107" y="8062"/>
                  <a:pt x="17096" y="8072"/>
                  <a:pt x="17085" y="8083"/>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 y o in cardiac arrest, just after you intubated him the RT told you the ETCO2 is low????</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5 year in cardiac arrest intubated O2 sat initialy was 100 % with normal Etco2. O2 sat start to go down now to 50.</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62" name=""/>
          <p:cNvSpPr/>
          <p:nvPr/>
        </p:nvSpPr>
        <p:spPr>
          <a:xfrm>
            <a:off x="228600" y="1137240"/>
            <a:ext cx="87631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patients with spontaneous circulation and the tracheal tube cuff inflated, the sensitivity and specificity rose to 100%.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diac arres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retions can interfere with the color chan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ophageal intub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diac arrest pt. should be ventilated for a minimum of 6 breaths before taking a rea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cent ingestion of carbonated beverag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lottic positioning of the ET tube tip. </a:t>
            </a:r>
            <a:endParaRPr b="0" lang="en-US" sz="2400" spc="-1" strike="noStrike">
              <a:solidFill>
                <a:srgbClr val="ffffff"/>
              </a:solidFill>
              <a:latin typeface="Arial"/>
            </a:endParaRPr>
          </a:p>
        </p:txBody>
      </p:sp>
      <p:sp>
        <p:nvSpPr>
          <p:cNvPr id="363" name=""/>
          <p:cNvSpPr/>
          <p:nvPr/>
        </p:nvSpPr>
        <p:spPr>
          <a:xfrm>
            <a:off x="1546560" y="379800"/>
            <a:ext cx="4825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8e74b"/>
                </a:solidFill>
                <a:latin typeface="Garamond"/>
              </a:rPr>
              <a:t>End-Tidal CO2 Detector Devices </a:t>
            </a:r>
            <a:endParaRPr b="0" lang="en-US" sz="2400" spc="-1" strike="noStrike">
              <a:solidFill>
                <a:srgbClr val="ffffff"/>
              </a:solidFill>
              <a:latin typeface="Arial"/>
            </a:endParaRPr>
          </a:p>
        </p:txBody>
      </p:sp>
      <p:sp>
        <p:nvSpPr>
          <p:cNvPr id="364" name=""/>
          <p:cNvSpPr/>
          <p:nvPr/>
        </p:nvSpPr>
        <p:spPr>
          <a:xfrm>
            <a:off x="5700600" y="2197080"/>
            <a:ext cx="435240" cy="932040"/>
          </a:xfrm>
          <a:custGeom>
            <a:avLst/>
            <a:gdLst/>
            <a:ahLst/>
            <a:rect l="l" t="t" r="r" b="b"/>
            <a:pathLst>
              <a:path w="1207" h="2587">
                <a:moveTo>
                  <a:pt x="15906" y="6323"/>
                </a:moveTo>
                <a:cubicBezTo>
                  <a:pt x="15901" y="6310"/>
                  <a:pt x="15886" y="6304"/>
                  <a:pt x="15883" y="6289"/>
                </a:cubicBezTo>
                <a:cubicBezTo>
                  <a:pt x="15880" y="6277"/>
                  <a:pt x="15878" y="6268"/>
                  <a:pt x="15879" y="6251"/>
                </a:cubicBezTo>
                <a:cubicBezTo>
                  <a:pt x="15881" y="6190"/>
                  <a:pt x="15924" y="6155"/>
                  <a:pt x="15980" y="6131"/>
                </a:cubicBezTo>
                <a:cubicBezTo>
                  <a:pt x="16002" y="6122"/>
                  <a:pt x="16027" y="6119"/>
                  <a:pt x="16050" y="6113"/>
                </a:cubicBezTo>
                <a:cubicBezTo>
                  <a:pt x="16115" y="6097"/>
                  <a:pt x="16194" y="6097"/>
                  <a:pt x="16256" y="6124"/>
                </a:cubicBezTo>
                <a:cubicBezTo>
                  <a:pt x="16318" y="6151"/>
                  <a:pt x="16333" y="6191"/>
                  <a:pt x="16338" y="6253"/>
                </a:cubicBezTo>
                <a:cubicBezTo>
                  <a:pt x="16346" y="6343"/>
                  <a:pt x="16323" y="6424"/>
                  <a:pt x="16313" y="6511"/>
                </a:cubicBezTo>
                <a:cubicBezTo>
                  <a:pt x="16304" y="6597"/>
                  <a:pt x="16318" y="6685"/>
                  <a:pt x="16320" y="6771"/>
                </a:cubicBezTo>
                <a:cubicBezTo>
                  <a:pt x="16321" y="6830"/>
                  <a:pt x="16322" y="6886"/>
                  <a:pt x="16331" y="6945"/>
                </a:cubicBezTo>
                <a:cubicBezTo>
                  <a:pt x="16335" y="6970"/>
                  <a:pt x="16337" y="7003"/>
                  <a:pt x="16347" y="7027"/>
                </a:cubicBezTo>
                <a:cubicBezTo>
                  <a:pt x="16358" y="7053"/>
                  <a:pt x="16373" y="7070"/>
                  <a:pt x="16392" y="7090"/>
                </a:cubicBezTo>
                <a:cubicBezTo>
                  <a:pt x="16414" y="7112"/>
                  <a:pt x="16443" y="7128"/>
                  <a:pt x="16467" y="7149"/>
                </a:cubicBezTo>
                <a:cubicBezTo>
                  <a:pt x="16513" y="7190"/>
                  <a:pt x="16551" y="7230"/>
                  <a:pt x="16614" y="7244"/>
                </a:cubicBezTo>
                <a:cubicBezTo>
                  <a:pt x="16684" y="7259"/>
                  <a:pt x="16760" y="7249"/>
                  <a:pt x="16831" y="7246"/>
                </a:cubicBezTo>
                <a:cubicBezTo>
                  <a:pt x="16888" y="7244"/>
                  <a:pt x="16940" y="7243"/>
                  <a:pt x="16994" y="7230"/>
                </a:cubicBezTo>
                <a:cubicBezTo>
                  <a:pt x="17008" y="7227"/>
                  <a:pt x="17027" y="7219"/>
                  <a:pt x="17041" y="7214"/>
                </a:cubicBezTo>
                <a:cubicBezTo>
                  <a:pt x="16856" y="7213"/>
                  <a:pt x="16665" y="7189"/>
                  <a:pt x="16481" y="7205"/>
                </a:cubicBezTo>
                <a:cubicBezTo>
                  <a:pt x="16443" y="7208"/>
                  <a:pt x="16370" y="7220"/>
                  <a:pt x="16340" y="7251"/>
                </a:cubicBezTo>
                <a:cubicBezTo>
                  <a:pt x="16315" y="7277"/>
                  <a:pt x="16317" y="7294"/>
                  <a:pt x="16308" y="7327"/>
                </a:cubicBezTo>
                <a:cubicBezTo>
                  <a:pt x="16294" y="7377"/>
                  <a:pt x="16299" y="7432"/>
                  <a:pt x="16309" y="7482"/>
                </a:cubicBezTo>
                <a:cubicBezTo>
                  <a:pt x="16316" y="7517"/>
                  <a:pt x="16329" y="7551"/>
                  <a:pt x="16338" y="7585"/>
                </a:cubicBezTo>
                <a:cubicBezTo>
                  <a:pt x="16360" y="7666"/>
                  <a:pt x="16392" y="7745"/>
                  <a:pt x="16403" y="7828"/>
                </a:cubicBezTo>
                <a:cubicBezTo>
                  <a:pt x="16413" y="7903"/>
                  <a:pt x="16409" y="7983"/>
                  <a:pt x="16412" y="8058"/>
                </a:cubicBezTo>
                <a:cubicBezTo>
                  <a:pt x="16416" y="8157"/>
                  <a:pt x="16433" y="8254"/>
                  <a:pt x="16449" y="8352"/>
                </a:cubicBezTo>
                <a:cubicBezTo>
                  <a:pt x="16458" y="8408"/>
                  <a:pt x="16477" y="8476"/>
                  <a:pt x="16465" y="8534"/>
                </a:cubicBezTo>
                <a:cubicBezTo>
                  <a:pt x="16460" y="8559"/>
                  <a:pt x="16463" y="8561"/>
                  <a:pt x="16444" y="8581"/>
                </a:cubicBezTo>
                <a:cubicBezTo>
                  <a:pt x="16420" y="8606"/>
                  <a:pt x="16374" y="8610"/>
                  <a:pt x="16342" y="8617"/>
                </a:cubicBezTo>
                <a:cubicBezTo>
                  <a:pt x="16275" y="8631"/>
                  <a:pt x="16205" y="8638"/>
                  <a:pt x="16137" y="8646"/>
                </a:cubicBezTo>
                <a:cubicBezTo>
                  <a:pt x="16060" y="8655"/>
                  <a:pt x="15935" y="8700"/>
                  <a:pt x="15860" y="8687"/>
                </a:cubicBezTo>
                <a:cubicBezTo>
                  <a:pt x="15850" y="8685"/>
                  <a:pt x="15848" y="8692"/>
                  <a:pt x="15838" y="8689"/>
                </a:cubicBezTo>
                <a:cubicBezTo>
                  <a:pt x="15830" y="8686"/>
                  <a:pt x="15850" y="8669"/>
                  <a:pt x="15842" y="866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6459480" y="2149560"/>
            <a:ext cx="1040040" cy="722160"/>
          </a:xfrm>
          <a:custGeom>
            <a:avLst/>
            <a:gdLst/>
            <a:ahLst/>
            <a:rect l="l" t="t" r="r" b="b"/>
            <a:pathLst>
              <a:path w="2890" h="2005">
                <a:moveTo>
                  <a:pt x="18709" y="6223"/>
                </a:moveTo>
                <a:cubicBezTo>
                  <a:pt x="18744" y="6232"/>
                  <a:pt x="18801" y="6255"/>
                  <a:pt x="18838" y="6241"/>
                </a:cubicBezTo>
                <a:cubicBezTo>
                  <a:pt x="18863" y="6232"/>
                  <a:pt x="18873" y="6219"/>
                  <a:pt x="18885" y="6194"/>
                </a:cubicBezTo>
                <a:cubicBezTo>
                  <a:pt x="18895" y="6173"/>
                  <a:pt x="18898" y="6154"/>
                  <a:pt x="18894" y="6131"/>
                </a:cubicBezTo>
                <a:cubicBezTo>
                  <a:pt x="18889" y="6102"/>
                  <a:pt x="18860" y="6076"/>
                  <a:pt x="18840" y="6058"/>
                </a:cubicBezTo>
                <a:cubicBezTo>
                  <a:pt x="18802" y="6024"/>
                  <a:pt x="18758" y="6003"/>
                  <a:pt x="18709" y="5992"/>
                </a:cubicBezTo>
                <a:cubicBezTo>
                  <a:pt x="18662" y="5982"/>
                  <a:pt x="18619" y="5985"/>
                  <a:pt x="18577" y="6008"/>
                </a:cubicBezTo>
                <a:cubicBezTo>
                  <a:pt x="18506" y="6047"/>
                  <a:pt x="18483" y="6117"/>
                  <a:pt x="18460" y="6189"/>
                </a:cubicBezTo>
                <a:cubicBezTo>
                  <a:pt x="18439" y="6255"/>
                  <a:pt x="18433" y="6328"/>
                  <a:pt x="18426" y="6397"/>
                </a:cubicBezTo>
                <a:cubicBezTo>
                  <a:pt x="18402" y="6635"/>
                  <a:pt x="18387" y="6880"/>
                  <a:pt x="18388" y="7119"/>
                </a:cubicBezTo>
                <a:cubicBezTo>
                  <a:pt x="18389" y="7223"/>
                  <a:pt x="18394" y="7330"/>
                  <a:pt x="18415" y="7432"/>
                </a:cubicBezTo>
                <a:cubicBezTo>
                  <a:pt x="18437" y="7542"/>
                  <a:pt x="18480" y="7650"/>
                  <a:pt x="18519" y="7755"/>
                </a:cubicBezTo>
                <a:cubicBezTo>
                  <a:pt x="18535" y="7799"/>
                  <a:pt x="18552" y="7843"/>
                  <a:pt x="18566" y="7887"/>
                </a:cubicBezTo>
                <a:cubicBezTo>
                  <a:pt x="18567" y="7891"/>
                  <a:pt x="18589" y="7972"/>
                  <a:pt x="18593" y="7970"/>
                </a:cubicBezTo>
                <a:cubicBezTo>
                  <a:pt x="18596" y="7969"/>
                  <a:pt x="18587" y="7963"/>
                  <a:pt x="18594" y="7950"/>
                </a:cubicBezTo>
                <a:cubicBezTo>
                  <a:pt x="18594" y="7944"/>
                  <a:pt x="18594" y="7938"/>
                  <a:pt x="18594" y="7932"/>
                </a:cubicBezTo>
              </a:path>
              <a:path w="2890" h="2005">
                <a:moveTo>
                  <a:pt x="17996" y="7250"/>
                </a:moveTo>
                <a:cubicBezTo>
                  <a:pt x="17979" y="7259"/>
                  <a:pt x="17962" y="7270"/>
                  <a:pt x="17946" y="7280"/>
                </a:cubicBezTo>
                <a:cubicBezTo>
                  <a:pt x="17945" y="7281"/>
                  <a:pt x="17943" y="7281"/>
                  <a:pt x="17942" y="7282"/>
                </a:cubicBezTo>
                <a:cubicBezTo>
                  <a:pt x="17972" y="7282"/>
                  <a:pt x="17997" y="7282"/>
                  <a:pt x="18028" y="7276"/>
                </a:cubicBezTo>
                <a:cubicBezTo>
                  <a:pt x="18073" y="7267"/>
                  <a:pt x="18115" y="7249"/>
                  <a:pt x="18159" y="7237"/>
                </a:cubicBezTo>
                <a:cubicBezTo>
                  <a:pt x="18213" y="7222"/>
                  <a:pt x="18269" y="7211"/>
                  <a:pt x="18324" y="7201"/>
                </a:cubicBezTo>
                <a:cubicBezTo>
                  <a:pt x="18379" y="7191"/>
                  <a:pt x="18434" y="7184"/>
                  <a:pt x="18489" y="7180"/>
                </a:cubicBezTo>
                <a:cubicBezTo>
                  <a:pt x="18571" y="7175"/>
                  <a:pt x="18652" y="7176"/>
                  <a:pt x="18734" y="7174"/>
                </a:cubicBezTo>
                <a:cubicBezTo>
                  <a:pt x="18821" y="7172"/>
                  <a:pt x="18915" y="7180"/>
                  <a:pt x="19001" y="7165"/>
                </a:cubicBezTo>
                <a:cubicBezTo>
                  <a:pt x="19032" y="7159"/>
                  <a:pt x="19051" y="7147"/>
                  <a:pt x="19077" y="7131"/>
                </a:cubicBezTo>
              </a:path>
              <a:path w="2890" h="2005">
                <a:moveTo>
                  <a:pt x="19345" y="7052"/>
                </a:moveTo>
                <a:cubicBezTo>
                  <a:pt x="19370" y="7027"/>
                  <a:pt x="19384" y="7011"/>
                  <a:pt x="19401" y="6981"/>
                </a:cubicBezTo>
                <a:cubicBezTo>
                  <a:pt x="19409" y="6966"/>
                  <a:pt x="19414" y="6952"/>
                  <a:pt x="19422" y="6938"/>
                </a:cubicBezTo>
                <a:cubicBezTo>
                  <a:pt x="19426" y="6930"/>
                  <a:pt x="19432" y="6922"/>
                  <a:pt x="19437" y="6914"/>
                </a:cubicBezTo>
                <a:cubicBezTo>
                  <a:pt x="19434" y="6921"/>
                  <a:pt x="19445" y="6910"/>
                  <a:pt x="19440" y="6916"/>
                </a:cubicBezTo>
                <a:cubicBezTo>
                  <a:pt x="19423" y="6937"/>
                  <a:pt x="19401" y="6954"/>
                  <a:pt x="19381" y="6972"/>
                </a:cubicBezTo>
                <a:cubicBezTo>
                  <a:pt x="19333" y="7017"/>
                  <a:pt x="19301" y="7066"/>
                  <a:pt x="19270" y="7124"/>
                </a:cubicBezTo>
                <a:cubicBezTo>
                  <a:pt x="19240" y="7179"/>
                  <a:pt x="19225" y="7236"/>
                  <a:pt x="19211" y="7296"/>
                </a:cubicBezTo>
                <a:cubicBezTo>
                  <a:pt x="19202" y="7334"/>
                  <a:pt x="19188" y="7379"/>
                  <a:pt x="19195" y="7418"/>
                </a:cubicBezTo>
                <a:cubicBezTo>
                  <a:pt x="19200" y="7443"/>
                  <a:pt x="19209" y="7482"/>
                  <a:pt x="19238" y="7488"/>
                </a:cubicBezTo>
                <a:cubicBezTo>
                  <a:pt x="19261" y="7493"/>
                  <a:pt x="19259" y="7490"/>
                  <a:pt x="19279" y="7477"/>
                </a:cubicBezTo>
                <a:cubicBezTo>
                  <a:pt x="19307" y="7458"/>
                  <a:pt x="19333" y="7414"/>
                  <a:pt x="19349" y="7386"/>
                </a:cubicBezTo>
                <a:cubicBezTo>
                  <a:pt x="19375" y="7341"/>
                  <a:pt x="19391" y="7286"/>
                  <a:pt x="19408" y="7237"/>
                </a:cubicBezTo>
                <a:cubicBezTo>
                  <a:pt x="19425" y="7189"/>
                  <a:pt x="19442" y="7141"/>
                  <a:pt x="19455" y="7092"/>
                </a:cubicBezTo>
                <a:cubicBezTo>
                  <a:pt x="19467" y="7044"/>
                  <a:pt x="19472" y="6996"/>
                  <a:pt x="19489" y="6950"/>
                </a:cubicBezTo>
                <a:cubicBezTo>
                  <a:pt x="19495" y="6966"/>
                  <a:pt x="19503" y="6980"/>
                  <a:pt x="19507" y="6999"/>
                </a:cubicBezTo>
                <a:cubicBezTo>
                  <a:pt x="19517" y="7052"/>
                  <a:pt x="19522" y="7107"/>
                  <a:pt x="19528" y="7160"/>
                </a:cubicBezTo>
                <a:cubicBezTo>
                  <a:pt x="19535" y="7217"/>
                  <a:pt x="19543" y="7273"/>
                  <a:pt x="19548" y="7330"/>
                </a:cubicBezTo>
                <a:cubicBezTo>
                  <a:pt x="19554" y="7390"/>
                  <a:pt x="19562" y="7450"/>
                  <a:pt x="19580" y="7508"/>
                </a:cubicBezTo>
                <a:cubicBezTo>
                  <a:pt x="19592" y="7547"/>
                  <a:pt x="19602" y="7594"/>
                  <a:pt x="19629" y="7626"/>
                </a:cubicBezTo>
                <a:cubicBezTo>
                  <a:pt x="19651" y="7652"/>
                  <a:pt x="19675" y="7670"/>
                  <a:pt x="19709" y="7660"/>
                </a:cubicBezTo>
                <a:cubicBezTo>
                  <a:pt x="19728" y="7655"/>
                  <a:pt x="19756" y="7604"/>
                  <a:pt x="19765" y="7592"/>
                </a:cubicBezTo>
              </a:path>
              <a:path w="2890" h="2005">
                <a:moveTo>
                  <a:pt x="19930" y="6117"/>
                </a:moveTo>
                <a:cubicBezTo>
                  <a:pt x="19930" y="6074"/>
                  <a:pt x="19928" y="6035"/>
                  <a:pt x="19922" y="5993"/>
                </a:cubicBezTo>
                <a:cubicBezTo>
                  <a:pt x="19921" y="5981"/>
                  <a:pt x="19921" y="5978"/>
                  <a:pt x="19919" y="5970"/>
                </a:cubicBezTo>
                <a:cubicBezTo>
                  <a:pt x="19912" y="5986"/>
                  <a:pt x="19898" y="6017"/>
                  <a:pt x="19890" y="6040"/>
                </a:cubicBezTo>
                <a:cubicBezTo>
                  <a:pt x="19865" y="6112"/>
                  <a:pt x="19849" y="6180"/>
                  <a:pt x="19833" y="6255"/>
                </a:cubicBezTo>
                <a:cubicBezTo>
                  <a:pt x="19810" y="6361"/>
                  <a:pt x="19800" y="6467"/>
                  <a:pt x="19799" y="6576"/>
                </a:cubicBezTo>
                <a:cubicBezTo>
                  <a:pt x="19798" y="6670"/>
                  <a:pt x="19818" y="6752"/>
                  <a:pt x="19844" y="6841"/>
                </a:cubicBezTo>
                <a:cubicBezTo>
                  <a:pt x="19867" y="6920"/>
                  <a:pt x="19896" y="6986"/>
                  <a:pt x="19939" y="7056"/>
                </a:cubicBezTo>
                <a:cubicBezTo>
                  <a:pt x="19980" y="7121"/>
                  <a:pt x="20002" y="7194"/>
                  <a:pt x="20041" y="7260"/>
                </a:cubicBezTo>
                <a:cubicBezTo>
                  <a:pt x="20053" y="7280"/>
                  <a:pt x="20063" y="7295"/>
                  <a:pt x="20080" y="7310"/>
                </a:cubicBezTo>
                <a:cubicBezTo>
                  <a:pt x="20081" y="7310"/>
                  <a:pt x="20083" y="7310"/>
                  <a:pt x="20084" y="7310"/>
                </a:cubicBezTo>
              </a:path>
              <a:path w="2890" h="2005">
                <a:moveTo>
                  <a:pt x="20546" y="6721"/>
                </a:moveTo>
                <a:cubicBezTo>
                  <a:pt x="20589" y="6681"/>
                  <a:pt x="20633" y="6642"/>
                  <a:pt x="20681" y="6608"/>
                </a:cubicBezTo>
                <a:cubicBezTo>
                  <a:pt x="20699" y="6595"/>
                  <a:pt x="20717" y="6584"/>
                  <a:pt x="20736" y="6572"/>
                </a:cubicBezTo>
                <a:cubicBezTo>
                  <a:pt x="20737" y="6571"/>
                  <a:pt x="20739" y="6570"/>
                  <a:pt x="20740" y="6569"/>
                </a:cubicBezTo>
                <a:cubicBezTo>
                  <a:pt x="20718" y="6583"/>
                  <a:pt x="20689" y="6597"/>
                  <a:pt x="20666" y="6612"/>
                </a:cubicBezTo>
                <a:cubicBezTo>
                  <a:pt x="20624" y="6640"/>
                  <a:pt x="20582" y="6671"/>
                  <a:pt x="20541" y="6701"/>
                </a:cubicBezTo>
                <a:cubicBezTo>
                  <a:pt x="20488" y="6740"/>
                  <a:pt x="20452" y="6786"/>
                  <a:pt x="20446" y="6853"/>
                </a:cubicBezTo>
                <a:cubicBezTo>
                  <a:pt x="20440" y="6915"/>
                  <a:pt x="20475" y="6964"/>
                  <a:pt x="20508" y="7013"/>
                </a:cubicBezTo>
                <a:cubicBezTo>
                  <a:pt x="20553" y="7081"/>
                  <a:pt x="20607" y="7142"/>
                  <a:pt x="20648" y="7212"/>
                </a:cubicBezTo>
                <a:cubicBezTo>
                  <a:pt x="20681" y="7268"/>
                  <a:pt x="20712" y="7312"/>
                  <a:pt x="20759" y="7357"/>
                </a:cubicBezTo>
                <a:cubicBezTo>
                  <a:pt x="20781" y="7378"/>
                  <a:pt x="20832" y="7424"/>
                  <a:pt x="20831" y="7459"/>
                </a:cubicBezTo>
                <a:cubicBezTo>
                  <a:pt x="20830" y="7490"/>
                  <a:pt x="20802" y="7496"/>
                  <a:pt x="20777" y="7502"/>
                </a:cubicBezTo>
                <a:cubicBezTo>
                  <a:pt x="20730" y="7514"/>
                  <a:pt x="20686" y="7513"/>
                  <a:pt x="20638" y="7504"/>
                </a:cubicBezTo>
                <a:cubicBezTo>
                  <a:pt x="20587" y="7495"/>
                  <a:pt x="20550" y="7477"/>
                  <a:pt x="20508" y="7447"/>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7818480" y="2179800"/>
            <a:ext cx="280800" cy="644400"/>
          </a:xfrm>
          <a:custGeom>
            <a:avLst/>
            <a:gdLst/>
            <a:ahLst/>
            <a:rect l="l" t="t" r="r" b="b"/>
            <a:pathLst>
              <a:path w="781" h="1793">
                <a:moveTo>
                  <a:pt x="22279" y="6056"/>
                </a:moveTo>
                <a:cubicBezTo>
                  <a:pt x="22268" y="6056"/>
                  <a:pt x="22249" y="6055"/>
                  <a:pt x="22242" y="6054"/>
                </a:cubicBezTo>
                <a:cubicBezTo>
                  <a:pt x="22237" y="6075"/>
                  <a:pt x="22233" y="6096"/>
                  <a:pt x="22229" y="6117"/>
                </a:cubicBezTo>
                <a:cubicBezTo>
                  <a:pt x="22216" y="6183"/>
                  <a:pt x="22207" y="6251"/>
                  <a:pt x="22197" y="6318"/>
                </a:cubicBezTo>
                <a:cubicBezTo>
                  <a:pt x="22180" y="6433"/>
                  <a:pt x="22172" y="6549"/>
                  <a:pt x="22163" y="6664"/>
                </a:cubicBezTo>
                <a:cubicBezTo>
                  <a:pt x="22141" y="6937"/>
                  <a:pt x="22095" y="7216"/>
                  <a:pt x="22104" y="7490"/>
                </a:cubicBezTo>
              </a:path>
              <a:path w="781" h="1793">
                <a:moveTo>
                  <a:pt x="22483" y="7215"/>
                </a:moveTo>
                <a:cubicBezTo>
                  <a:pt x="22484" y="7201"/>
                  <a:pt x="22482" y="7188"/>
                  <a:pt x="22485" y="7174"/>
                </a:cubicBezTo>
                <a:cubicBezTo>
                  <a:pt x="22486" y="7169"/>
                  <a:pt x="22491" y="7164"/>
                  <a:pt x="22492" y="7160"/>
                </a:cubicBezTo>
                <a:cubicBezTo>
                  <a:pt x="22494" y="7154"/>
                  <a:pt x="22495" y="7154"/>
                  <a:pt x="22496" y="7151"/>
                </a:cubicBezTo>
                <a:cubicBezTo>
                  <a:pt x="22497" y="7149"/>
                  <a:pt x="22495" y="7146"/>
                  <a:pt x="22496" y="7144"/>
                </a:cubicBezTo>
                <a:cubicBezTo>
                  <a:pt x="22493" y="7149"/>
                  <a:pt x="22489" y="7160"/>
                  <a:pt x="22485" y="7165"/>
                </a:cubicBezTo>
                <a:cubicBezTo>
                  <a:pt x="22465" y="7191"/>
                  <a:pt x="22447" y="7213"/>
                  <a:pt x="22431" y="7242"/>
                </a:cubicBezTo>
                <a:cubicBezTo>
                  <a:pt x="22404" y="7290"/>
                  <a:pt x="22374" y="7334"/>
                  <a:pt x="22347" y="7382"/>
                </a:cubicBezTo>
                <a:cubicBezTo>
                  <a:pt x="22306" y="7454"/>
                  <a:pt x="22262" y="7526"/>
                  <a:pt x="22225" y="7601"/>
                </a:cubicBezTo>
                <a:cubicBezTo>
                  <a:pt x="22202" y="7647"/>
                  <a:pt x="22183" y="7693"/>
                  <a:pt x="22159" y="7739"/>
                </a:cubicBezTo>
                <a:cubicBezTo>
                  <a:pt x="22146" y="7765"/>
                  <a:pt x="22137" y="7793"/>
                  <a:pt x="22123" y="7818"/>
                </a:cubicBezTo>
                <a:cubicBezTo>
                  <a:pt x="22118" y="7827"/>
                  <a:pt x="22112" y="7835"/>
                  <a:pt x="22107" y="7844"/>
                </a:cubicBezTo>
                <a:cubicBezTo>
                  <a:pt x="22107" y="7845"/>
                  <a:pt x="22107" y="7845"/>
                  <a:pt x="22107" y="7846"/>
                </a:cubicBezTo>
                <a:cubicBezTo>
                  <a:pt x="22107" y="7811"/>
                  <a:pt x="22108" y="7776"/>
                  <a:pt x="22107" y="7742"/>
                </a:cubicBezTo>
                <a:cubicBezTo>
                  <a:pt x="22107" y="7712"/>
                  <a:pt x="22105" y="7688"/>
                  <a:pt x="22093" y="7660"/>
                </a:cubicBezTo>
                <a:cubicBezTo>
                  <a:pt x="22083" y="7635"/>
                  <a:pt x="22069" y="7613"/>
                  <a:pt x="22052" y="7592"/>
                </a:cubicBezTo>
                <a:cubicBezTo>
                  <a:pt x="22029" y="7563"/>
                  <a:pt x="22002" y="7539"/>
                  <a:pt x="21982" y="7508"/>
                </a:cubicBezTo>
                <a:cubicBezTo>
                  <a:pt x="21971" y="7490"/>
                  <a:pt x="21965" y="7475"/>
                  <a:pt x="21949" y="7461"/>
                </a:cubicBezTo>
                <a:cubicBezTo>
                  <a:pt x="21929" y="7443"/>
                  <a:pt x="21898" y="7429"/>
                  <a:pt x="21880" y="7413"/>
                </a:cubicBezTo>
                <a:cubicBezTo>
                  <a:pt x="21874" y="7407"/>
                  <a:pt x="21871" y="7401"/>
                  <a:pt x="21867" y="7395"/>
                </a:cubicBezTo>
                <a:cubicBezTo>
                  <a:pt x="21865" y="7391"/>
                  <a:pt x="21867" y="7389"/>
                  <a:pt x="21865" y="7386"/>
                </a:cubicBezTo>
                <a:cubicBezTo>
                  <a:pt x="21860" y="7379"/>
                  <a:pt x="21855" y="7371"/>
                  <a:pt x="21849" y="7364"/>
                </a:cubicBezTo>
                <a:cubicBezTo>
                  <a:pt x="21846" y="7361"/>
                  <a:pt x="21847" y="7355"/>
                  <a:pt x="21844" y="7353"/>
                </a:cubicBezTo>
                <a:cubicBezTo>
                  <a:pt x="21840" y="7351"/>
                  <a:pt x="21838" y="7352"/>
                  <a:pt x="21831" y="7350"/>
                </a:cubicBezTo>
                <a:cubicBezTo>
                  <a:pt x="21810" y="7344"/>
                  <a:pt x="21795" y="7346"/>
                  <a:pt x="21779" y="7337"/>
                </a:cubicBezTo>
                <a:cubicBezTo>
                  <a:pt x="21775" y="7335"/>
                  <a:pt x="21777" y="7330"/>
                  <a:pt x="21768" y="7328"/>
                </a:cubicBezTo>
                <a:cubicBezTo>
                  <a:pt x="21765" y="7327"/>
                  <a:pt x="21758" y="7327"/>
                  <a:pt x="21756" y="7327"/>
                </a:cubicBezTo>
                <a:cubicBezTo>
                  <a:pt x="21741" y="7325"/>
                  <a:pt x="21737" y="7332"/>
                  <a:pt x="21722" y="7327"/>
                </a:cubicBezTo>
                <a:cubicBezTo>
                  <a:pt x="21719" y="7326"/>
                  <a:pt x="21729" y="7327"/>
                  <a:pt x="21733" y="7327"/>
                </a:cubicBezTo>
              </a:path>
              <a:path w="781" h="1793">
                <a:moveTo>
                  <a:pt x="22032" y="7330"/>
                </a:moveTo>
                <a:cubicBezTo>
                  <a:pt x="22013" y="7326"/>
                  <a:pt x="21995" y="7322"/>
                  <a:pt x="21976" y="7319"/>
                </a:cubicBezTo>
                <a:cubicBezTo>
                  <a:pt x="21964" y="7317"/>
                  <a:pt x="21955" y="7315"/>
                  <a:pt x="21942" y="7318"/>
                </a:cubicBezTo>
                <a:cubicBezTo>
                  <a:pt x="21939" y="7319"/>
                  <a:pt x="21931" y="7323"/>
                  <a:pt x="21931" y="7323"/>
                </a:cubicBezTo>
                <a:cubicBezTo>
                  <a:pt x="21934" y="7323"/>
                  <a:pt x="21932" y="7323"/>
                  <a:pt x="21935" y="7323"/>
                </a:cubicBezTo>
                <a:cubicBezTo>
                  <a:pt x="21960" y="7321"/>
                  <a:pt x="21984" y="7313"/>
                  <a:pt x="22009" y="7309"/>
                </a:cubicBezTo>
                <a:cubicBezTo>
                  <a:pt x="22038" y="7305"/>
                  <a:pt x="22066" y="7300"/>
                  <a:pt x="22095" y="7296"/>
                </a:cubicBezTo>
                <a:cubicBezTo>
                  <a:pt x="22123" y="7292"/>
                  <a:pt x="22143" y="7288"/>
                  <a:pt x="22168" y="7275"/>
                </a:cubicBezTo>
                <a:cubicBezTo>
                  <a:pt x="22204" y="7256"/>
                  <a:pt x="22235" y="7230"/>
                  <a:pt x="22270" y="7210"/>
                </a:cubicBezTo>
                <a:cubicBezTo>
                  <a:pt x="22288" y="7200"/>
                  <a:pt x="22308" y="7193"/>
                  <a:pt x="22329" y="7189"/>
                </a:cubicBezTo>
                <a:cubicBezTo>
                  <a:pt x="22343" y="7186"/>
                  <a:pt x="22355" y="7182"/>
                  <a:pt x="22369" y="7181"/>
                </a:cubicBezTo>
                <a:cubicBezTo>
                  <a:pt x="22374" y="7180"/>
                  <a:pt x="22380" y="7181"/>
                  <a:pt x="22385" y="7181"/>
                </a:cubicBezTo>
                <a:cubicBezTo>
                  <a:pt x="22387" y="7183"/>
                  <a:pt x="22402" y="7178"/>
                  <a:pt x="22392" y="7181"/>
                </a:cubicBezTo>
                <a:cubicBezTo>
                  <a:pt x="22384" y="7183"/>
                  <a:pt x="22378" y="7184"/>
                  <a:pt x="22369" y="7187"/>
                </a:cubicBezTo>
                <a:cubicBezTo>
                  <a:pt x="22354" y="7193"/>
                  <a:pt x="22341" y="7203"/>
                  <a:pt x="22326" y="7208"/>
                </a:cubicBezTo>
                <a:cubicBezTo>
                  <a:pt x="22304" y="7216"/>
                  <a:pt x="22284" y="7221"/>
                  <a:pt x="22263" y="7232"/>
                </a:cubicBezTo>
                <a:cubicBezTo>
                  <a:pt x="22238" y="7245"/>
                  <a:pt x="22217" y="7253"/>
                  <a:pt x="22191" y="7262"/>
                </a:cubicBezTo>
                <a:cubicBezTo>
                  <a:pt x="22159" y="7273"/>
                  <a:pt x="22128" y="7293"/>
                  <a:pt x="22098" y="7309"/>
                </a:cubicBezTo>
                <a:cubicBezTo>
                  <a:pt x="22066" y="7325"/>
                  <a:pt x="22035" y="7341"/>
                  <a:pt x="22003" y="7357"/>
                </a:cubicBezTo>
                <a:cubicBezTo>
                  <a:pt x="21990" y="7363"/>
                  <a:pt x="21971" y="7379"/>
                  <a:pt x="21957" y="7382"/>
                </a:cubicBezTo>
                <a:cubicBezTo>
                  <a:pt x="21950" y="7384"/>
                  <a:pt x="21946" y="7381"/>
                  <a:pt x="21939" y="7382"/>
                </a:cubicBezTo>
                <a:cubicBezTo>
                  <a:pt x="21944" y="7377"/>
                  <a:pt x="21942" y="7374"/>
                  <a:pt x="21948" y="7370"/>
                </a:cubicBezTo>
                <a:cubicBezTo>
                  <a:pt x="21962" y="7360"/>
                  <a:pt x="21976" y="7360"/>
                  <a:pt x="21992" y="7352"/>
                </a:cubicBezTo>
                <a:cubicBezTo>
                  <a:pt x="22014" y="7341"/>
                  <a:pt x="22035" y="7336"/>
                  <a:pt x="22059" y="7327"/>
                </a:cubicBezTo>
                <a:cubicBezTo>
                  <a:pt x="22085" y="7318"/>
                  <a:pt x="22112" y="7311"/>
                  <a:pt x="22139" y="7307"/>
                </a:cubicBezTo>
                <a:cubicBezTo>
                  <a:pt x="22164" y="7303"/>
                  <a:pt x="22189" y="7300"/>
                  <a:pt x="22215" y="7300"/>
                </a:cubicBezTo>
                <a:cubicBezTo>
                  <a:pt x="22241" y="7300"/>
                  <a:pt x="22277" y="7295"/>
                  <a:pt x="22302" y="7303"/>
                </a:cubicBezTo>
                <a:cubicBezTo>
                  <a:pt x="22304" y="7305"/>
                  <a:pt x="22306" y="7307"/>
                  <a:pt x="22308" y="7309"/>
                </a:cubicBezTo>
                <a:cubicBezTo>
                  <a:pt x="22306" y="7324"/>
                  <a:pt x="22309" y="7327"/>
                  <a:pt x="22297" y="7341"/>
                </a:cubicBezTo>
                <a:cubicBezTo>
                  <a:pt x="22285" y="7356"/>
                  <a:pt x="22255" y="7370"/>
                  <a:pt x="22238" y="7377"/>
                </a:cubicBezTo>
                <a:cubicBezTo>
                  <a:pt x="22220" y="7384"/>
                  <a:pt x="22205" y="7392"/>
                  <a:pt x="22186" y="7398"/>
                </a:cubicBezTo>
                <a:cubicBezTo>
                  <a:pt x="22166" y="7404"/>
                  <a:pt x="22145" y="7406"/>
                  <a:pt x="22125" y="7411"/>
                </a:cubicBezTo>
                <a:cubicBezTo>
                  <a:pt x="22114" y="7414"/>
                  <a:pt x="22100" y="7419"/>
                  <a:pt x="22089" y="7425"/>
                </a:cubicBezTo>
                <a:cubicBezTo>
                  <a:pt x="22084" y="7427"/>
                  <a:pt x="22078" y="7431"/>
                  <a:pt x="22073" y="7434"/>
                </a:cubicBezTo>
                <a:cubicBezTo>
                  <a:pt x="22071" y="7434"/>
                  <a:pt x="22070" y="7434"/>
                  <a:pt x="22073" y="7434"/>
                </a:cubicBezTo>
                <a:cubicBezTo>
                  <a:pt x="22085" y="7425"/>
                  <a:pt x="22098" y="7417"/>
                  <a:pt x="22111" y="7409"/>
                </a:cubicBezTo>
                <a:cubicBezTo>
                  <a:pt x="22116" y="7406"/>
                  <a:pt x="22123" y="7400"/>
                  <a:pt x="22127" y="7398"/>
                </a:cubicBezTo>
                <a:cubicBezTo>
                  <a:pt x="22131" y="7396"/>
                  <a:pt x="22135" y="7397"/>
                  <a:pt x="22138" y="7396"/>
                </a:cubicBezTo>
                <a:cubicBezTo>
                  <a:pt x="22139" y="7407"/>
                  <a:pt x="22145" y="7418"/>
                  <a:pt x="22139" y="7429"/>
                </a:cubicBezTo>
                <a:cubicBezTo>
                  <a:pt x="22134" y="7438"/>
                  <a:pt x="22124" y="7437"/>
                  <a:pt x="22118" y="7443"/>
                </a:cubicBezTo>
                <a:cubicBezTo>
                  <a:pt x="22115" y="7446"/>
                  <a:pt x="22114" y="7447"/>
                  <a:pt x="22111" y="7450"/>
                </a:cubicBezTo>
                <a:cubicBezTo>
                  <a:pt x="22111" y="7451"/>
                  <a:pt x="22111" y="7451"/>
                  <a:pt x="22111" y="7452"/>
                </a:cubicBezTo>
                <a:cubicBezTo>
                  <a:pt x="22114" y="7428"/>
                  <a:pt x="22121" y="7419"/>
                  <a:pt x="22136" y="7400"/>
                </a:cubicBezTo>
                <a:cubicBezTo>
                  <a:pt x="22142" y="7393"/>
                  <a:pt x="22149" y="7385"/>
                  <a:pt x="22154" y="7377"/>
                </a:cubicBezTo>
                <a:cubicBezTo>
                  <a:pt x="22156" y="7374"/>
                  <a:pt x="22156" y="7370"/>
                  <a:pt x="22157" y="7368"/>
                </a:cubicBezTo>
                <a:cubicBezTo>
                  <a:pt x="22145" y="7367"/>
                  <a:pt x="22133" y="7366"/>
                  <a:pt x="22120" y="7366"/>
                </a:cubicBezTo>
                <a:cubicBezTo>
                  <a:pt x="22063" y="7366"/>
                  <a:pt x="22005" y="7366"/>
                  <a:pt x="21948" y="7364"/>
                </a:cubicBezTo>
                <a:cubicBezTo>
                  <a:pt x="21936" y="7364"/>
                  <a:pt x="21924" y="7364"/>
                  <a:pt x="21912" y="7364"/>
                </a:cubicBezTo>
                <a:cubicBezTo>
                  <a:pt x="21911" y="7360"/>
                  <a:pt x="21907" y="7364"/>
                  <a:pt x="21908" y="7357"/>
                </a:cubicBezTo>
                <a:cubicBezTo>
                  <a:pt x="21908" y="7355"/>
                  <a:pt x="21912" y="7346"/>
                  <a:pt x="21912" y="7346"/>
                </a:cubicBezTo>
                <a:cubicBezTo>
                  <a:pt x="21908" y="7342"/>
                  <a:pt x="21912" y="7343"/>
                  <a:pt x="21905" y="7341"/>
                </a:cubicBezTo>
                <a:cubicBezTo>
                  <a:pt x="21866" y="7330"/>
                  <a:pt x="21819" y="7347"/>
                  <a:pt x="21779" y="7337"/>
                </a:cubicBezTo>
                <a:cubicBezTo>
                  <a:pt x="21772" y="7335"/>
                  <a:pt x="21766" y="7330"/>
                  <a:pt x="21759" y="7328"/>
                </a:cubicBezTo>
                <a:cubicBezTo>
                  <a:pt x="21762" y="7326"/>
                  <a:pt x="21760" y="7328"/>
                  <a:pt x="21763" y="7327"/>
                </a:cubicBezTo>
                <a:cubicBezTo>
                  <a:pt x="21775" y="7322"/>
                  <a:pt x="21785" y="7316"/>
                  <a:pt x="21799" y="7312"/>
                </a:cubicBezTo>
                <a:cubicBezTo>
                  <a:pt x="21824" y="7305"/>
                  <a:pt x="21850" y="7303"/>
                  <a:pt x="21876" y="7301"/>
                </a:cubicBezTo>
                <a:cubicBezTo>
                  <a:pt x="21902" y="7299"/>
                  <a:pt x="21930" y="7299"/>
                  <a:pt x="21955" y="7294"/>
                </a:cubicBezTo>
                <a:cubicBezTo>
                  <a:pt x="21966" y="7292"/>
                  <a:pt x="21975" y="7289"/>
                  <a:pt x="21987" y="7289"/>
                </a:cubicBezTo>
                <a:cubicBezTo>
                  <a:pt x="21992" y="7289"/>
                  <a:pt x="21996" y="7289"/>
                  <a:pt x="22001" y="7289"/>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246480" y="3519360"/>
            <a:ext cx="1220760" cy="303480"/>
          </a:xfrm>
          <a:custGeom>
            <a:avLst/>
            <a:gdLst/>
            <a:ahLst/>
            <a:rect l="l" t="t" r="r" b="b"/>
            <a:pathLst>
              <a:path w="3389" h="842">
                <a:moveTo>
                  <a:pt x="9159" y="10182"/>
                </a:moveTo>
                <a:cubicBezTo>
                  <a:pt x="9110" y="10196"/>
                  <a:pt x="9067" y="10204"/>
                  <a:pt x="9018" y="10212"/>
                </a:cubicBezTo>
                <a:cubicBezTo>
                  <a:pt x="9212" y="10215"/>
                  <a:pt x="9405" y="10213"/>
                  <a:pt x="9599" y="10214"/>
                </a:cubicBezTo>
                <a:cubicBezTo>
                  <a:pt x="10468" y="10218"/>
                  <a:pt x="11338" y="10196"/>
                  <a:pt x="12207" y="10202"/>
                </a:cubicBezTo>
                <a:cubicBezTo>
                  <a:pt x="12257" y="10202"/>
                  <a:pt x="12371" y="10204"/>
                  <a:pt x="12400" y="10205"/>
                </a:cubicBezTo>
                <a:cubicBezTo>
                  <a:pt x="12346" y="10211"/>
                  <a:pt x="12290" y="10214"/>
                  <a:pt x="12237" y="10228"/>
                </a:cubicBezTo>
                <a:cubicBezTo>
                  <a:pt x="12168" y="10246"/>
                  <a:pt x="12115" y="10279"/>
                  <a:pt x="12054" y="10315"/>
                </a:cubicBezTo>
                <a:cubicBezTo>
                  <a:pt x="11928" y="10389"/>
                  <a:pt x="11796" y="10453"/>
                  <a:pt x="11671" y="10528"/>
                </a:cubicBezTo>
                <a:cubicBezTo>
                  <a:pt x="11630" y="10553"/>
                  <a:pt x="11589" y="10578"/>
                  <a:pt x="11549" y="10603"/>
                </a:cubicBezTo>
                <a:cubicBezTo>
                  <a:pt x="11541" y="10608"/>
                  <a:pt x="11534" y="10614"/>
                  <a:pt x="11527" y="10618"/>
                </a:cubicBezTo>
                <a:cubicBezTo>
                  <a:pt x="11560" y="10608"/>
                  <a:pt x="11595" y="10597"/>
                  <a:pt x="11629" y="10585"/>
                </a:cubicBezTo>
                <a:cubicBezTo>
                  <a:pt x="11686" y="10564"/>
                  <a:pt x="11736" y="10542"/>
                  <a:pt x="11789" y="10512"/>
                </a:cubicBezTo>
                <a:cubicBezTo>
                  <a:pt x="11922" y="10438"/>
                  <a:pt x="12077" y="10362"/>
                  <a:pt x="12185" y="10252"/>
                </a:cubicBezTo>
                <a:cubicBezTo>
                  <a:pt x="12228" y="10208"/>
                  <a:pt x="12283" y="10119"/>
                  <a:pt x="12266" y="10053"/>
                </a:cubicBezTo>
                <a:cubicBezTo>
                  <a:pt x="12246" y="9975"/>
                  <a:pt x="12170" y="9959"/>
                  <a:pt x="12097" y="9936"/>
                </a:cubicBezTo>
                <a:cubicBezTo>
                  <a:pt x="11968" y="9895"/>
                  <a:pt x="11837" y="9880"/>
                  <a:pt x="11703" y="9866"/>
                </a:cubicBezTo>
                <a:cubicBezTo>
                  <a:pt x="11577" y="9853"/>
                  <a:pt x="11446" y="9847"/>
                  <a:pt x="11325" y="9809"/>
                </a:cubicBezTo>
                <a:cubicBezTo>
                  <a:pt x="11288" y="9798"/>
                  <a:pt x="11256" y="9784"/>
                  <a:pt x="11224" y="9782"/>
                </a:cubicBezTo>
                <a:cubicBezTo>
                  <a:pt x="11221" y="9786"/>
                  <a:pt x="11220" y="9788"/>
                  <a:pt x="11224" y="979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591080" y="3181320"/>
            <a:ext cx="992160" cy="533520"/>
          </a:xfrm>
          <a:custGeom>
            <a:avLst/>
            <a:gdLst/>
            <a:ahLst/>
            <a:rect l="l" t="t" r="r" b="b"/>
            <a:pathLst>
              <a:path w="2756" h="1483">
                <a:moveTo>
                  <a:pt x="13474" y="9400"/>
                </a:moveTo>
                <a:cubicBezTo>
                  <a:pt x="13463" y="9384"/>
                  <a:pt x="13452" y="9373"/>
                  <a:pt x="13447" y="9353"/>
                </a:cubicBezTo>
                <a:cubicBezTo>
                  <a:pt x="13444" y="9338"/>
                  <a:pt x="13444" y="9325"/>
                  <a:pt x="13440" y="9310"/>
                </a:cubicBezTo>
                <a:cubicBezTo>
                  <a:pt x="13438" y="9300"/>
                  <a:pt x="13435" y="9292"/>
                  <a:pt x="13433" y="9283"/>
                </a:cubicBezTo>
                <a:cubicBezTo>
                  <a:pt x="13429" y="9269"/>
                  <a:pt x="13430" y="9258"/>
                  <a:pt x="13429" y="9244"/>
                </a:cubicBezTo>
                <a:cubicBezTo>
                  <a:pt x="13429" y="9241"/>
                  <a:pt x="13429" y="9238"/>
                  <a:pt x="13429" y="9235"/>
                </a:cubicBezTo>
                <a:cubicBezTo>
                  <a:pt x="13424" y="9246"/>
                  <a:pt x="13415" y="9259"/>
                  <a:pt x="13410" y="9271"/>
                </a:cubicBezTo>
                <a:cubicBezTo>
                  <a:pt x="13381" y="9333"/>
                  <a:pt x="13353" y="9395"/>
                  <a:pt x="13329" y="9459"/>
                </a:cubicBezTo>
                <a:cubicBezTo>
                  <a:pt x="13300" y="9535"/>
                  <a:pt x="13275" y="9611"/>
                  <a:pt x="13247" y="9687"/>
                </a:cubicBezTo>
                <a:cubicBezTo>
                  <a:pt x="13228" y="9737"/>
                  <a:pt x="13201" y="9781"/>
                  <a:pt x="13179" y="9828"/>
                </a:cubicBezTo>
                <a:cubicBezTo>
                  <a:pt x="13169" y="9850"/>
                  <a:pt x="13159" y="9869"/>
                  <a:pt x="13146" y="9889"/>
                </a:cubicBezTo>
                <a:cubicBezTo>
                  <a:pt x="13143" y="9894"/>
                  <a:pt x="13138" y="9899"/>
                  <a:pt x="13135" y="9904"/>
                </a:cubicBezTo>
                <a:cubicBezTo>
                  <a:pt x="13138" y="9873"/>
                  <a:pt x="13141" y="9849"/>
                  <a:pt x="13153" y="9819"/>
                </a:cubicBezTo>
                <a:cubicBezTo>
                  <a:pt x="13170" y="9777"/>
                  <a:pt x="13182" y="9734"/>
                  <a:pt x="13200" y="9692"/>
                </a:cubicBezTo>
                <a:cubicBezTo>
                  <a:pt x="13223" y="9639"/>
                  <a:pt x="13247" y="9586"/>
                  <a:pt x="13272" y="9534"/>
                </a:cubicBezTo>
                <a:cubicBezTo>
                  <a:pt x="13296" y="9486"/>
                  <a:pt x="13313" y="9436"/>
                  <a:pt x="13334" y="9387"/>
                </a:cubicBezTo>
                <a:cubicBezTo>
                  <a:pt x="13351" y="9345"/>
                  <a:pt x="13374" y="9313"/>
                  <a:pt x="13399" y="9276"/>
                </a:cubicBezTo>
                <a:cubicBezTo>
                  <a:pt x="13413" y="9256"/>
                  <a:pt x="13417" y="9246"/>
                  <a:pt x="13435" y="9230"/>
                </a:cubicBezTo>
                <a:cubicBezTo>
                  <a:pt x="13442" y="9226"/>
                  <a:pt x="13444" y="9225"/>
                  <a:pt x="13446" y="9221"/>
                </a:cubicBezTo>
                <a:cubicBezTo>
                  <a:pt x="13449" y="9236"/>
                  <a:pt x="13452" y="9249"/>
                  <a:pt x="13453" y="9267"/>
                </a:cubicBezTo>
                <a:cubicBezTo>
                  <a:pt x="13454" y="9305"/>
                  <a:pt x="13460" y="9340"/>
                  <a:pt x="13467" y="9377"/>
                </a:cubicBezTo>
                <a:cubicBezTo>
                  <a:pt x="13479" y="9442"/>
                  <a:pt x="13499" y="9507"/>
                  <a:pt x="13526" y="9567"/>
                </a:cubicBezTo>
                <a:cubicBezTo>
                  <a:pt x="13540" y="9599"/>
                  <a:pt x="13554" y="9625"/>
                  <a:pt x="13578" y="9651"/>
                </a:cubicBezTo>
                <a:cubicBezTo>
                  <a:pt x="13592" y="9665"/>
                  <a:pt x="13607" y="9674"/>
                  <a:pt x="13627" y="9676"/>
                </a:cubicBezTo>
                <a:cubicBezTo>
                  <a:pt x="13651" y="9679"/>
                  <a:pt x="13677" y="9671"/>
                  <a:pt x="13696" y="9656"/>
                </a:cubicBezTo>
                <a:cubicBezTo>
                  <a:pt x="13727" y="9631"/>
                  <a:pt x="13755" y="9587"/>
                  <a:pt x="13765" y="9549"/>
                </a:cubicBezTo>
                <a:cubicBezTo>
                  <a:pt x="13779" y="9495"/>
                  <a:pt x="13782" y="9439"/>
                  <a:pt x="13782" y="9384"/>
                </a:cubicBezTo>
                <a:cubicBezTo>
                  <a:pt x="13782" y="9324"/>
                  <a:pt x="13783" y="9263"/>
                  <a:pt x="13779" y="9203"/>
                </a:cubicBezTo>
              </a:path>
              <a:path w="2756" h="1483">
                <a:moveTo>
                  <a:pt x="14299" y="9434"/>
                </a:moveTo>
                <a:cubicBezTo>
                  <a:pt x="14334" y="9366"/>
                  <a:pt x="14380" y="9283"/>
                  <a:pt x="14360" y="9203"/>
                </a:cubicBezTo>
                <a:cubicBezTo>
                  <a:pt x="14344" y="9138"/>
                  <a:pt x="14309" y="9091"/>
                  <a:pt x="14265" y="9042"/>
                </a:cubicBezTo>
                <a:cubicBezTo>
                  <a:pt x="14201" y="8970"/>
                  <a:pt x="14113" y="8905"/>
                  <a:pt x="14024" y="8868"/>
                </a:cubicBezTo>
                <a:cubicBezTo>
                  <a:pt x="13875" y="8807"/>
                  <a:pt x="13681" y="8835"/>
                  <a:pt x="13530" y="8871"/>
                </a:cubicBezTo>
                <a:cubicBezTo>
                  <a:pt x="13402" y="8902"/>
                  <a:pt x="13283" y="8953"/>
                  <a:pt x="13170" y="9018"/>
                </a:cubicBezTo>
                <a:cubicBezTo>
                  <a:pt x="13016" y="9106"/>
                  <a:pt x="12881" y="9228"/>
                  <a:pt x="12808" y="9393"/>
                </a:cubicBezTo>
                <a:cubicBezTo>
                  <a:pt x="12759" y="9503"/>
                  <a:pt x="12736" y="9637"/>
                  <a:pt x="12765" y="9755"/>
                </a:cubicBezTo>
                <a:cubicBezTo>
                  <a:pt x="12783" y="9828"/>
                  <a:pt x="12816" y="9886"/>
                  <a:pt x="12872" y="9936"/>
                </a:cubicBezTo>
                <a:cubicBezTo>
                  <a:pt x="12994" y="10044"/>
                  <a:pt x="13175" y="10084"/>
                  <a:pt x="13334" y="10077"/>
                </a:cubicBezTo>
                <a:cubicBezTo>
                  <a:pt x="13555" y="10068"/>
                  <a:pt x="13774" y="9996"/>
                  <a:pt x="13972" y="9902"/>
                </a:cubicBezTo>
                <a:cubicBezTo>
                  <a:pt x="14075" y="9853"/>
                  <a:pt x="14169" y="9797"/>
                  <a:pt x="14257" y="9724"/>
                </a:cubicBezTo>
                <a:cubicBezTo>
                  <a:pt x="14405" y="9601"/>
                  <a:pt x="14483" y="9447"/>
                  <a:pt x="14505" y="9258"/>
                </a:cubicBezTo>
                <a:cubicBezTo>
                  <a:pt x="14517" y="9155"/>
                  <a:pt x="14532" y="9030"/>
                  <a:pt x="14451" y="8948"/>
                </a:cubicBezTo>
                <a:cubicBezTo>
                  <a:pt x="14395" y="8891"/>
                  <a:pt x="14310" y="8878"/>
                  <a:pt x="14236" y="8868"/>
                </a:cubicBezTo>
              </a:path>
              <a:path w="2756" h="1483">
                <a:moveTo>
                  <a:pt x="15240" y="9042"/>
                </a:moveTo>
                <a:cubicBezTo>
                  <a:pt x="15254" y="9033"/>
                  <a:pt x="15269" y="9026"/>
                  <a:pt x="15281" y="9015"/>
                </a:cubicBezTo>
                <a:cubicBezTo>
                  <a:pt x="15285" y="9011"/>
                  <a:pt x="15289" y="9008"/>
                  <a:pt x="15293" y="9004"/>
                </a:cubicBezTo>
                <a:cubicBezTo>
                  <a:pt x="15299" y="8997"/>
                  <a:pt x="15302" y="8989"/>
                  <a:pt x="15308" y="8982"/>
                </a:cubicBezTo>
                <a:cubicBezTo>
                  <a:pt x="15315" y="8973"/>
                  <a:pt x="15323" y="8960"/>
                  <a:pt x="15329" y="8950"/>
                </a:cubicBezTo>
                <a:cubicBezTo>
                  <a:pt x="15334" y="8940"/>
                  <a:pt x="15338" y="8931"/>
                  <a:pt x="15343" y="8920"/>
                </a:cubicBezTo>
                <a:cubicBezTo>
                  <a:pt x="15353" y="8898"/>
                  <a:pt x="15362" y="8883"/>
                  <a:pt x="15376" y="8864"/>
                </a:cubicBezTo>
                <a:cubicBezTo>
                  <a:pt x="15378" y="8861"/>
                  <a:pt x="15380" y="8858"/>
                  <a:pt x="15381" y="8857"/>
                </a:cubicBezTo>
                <a:cubicBezTo>
                  <a:pt x="15383" y="8862"/>
                  <a:pt x="15389" y="8870"/>
                  <a:pt x="15390" y="8875"/>
                </a:cubicBezTo>
                <a:cubicBezTo>
                  <a:pt x="15393" y="8891"/>
                  <a:pt x="15393" y="8906"/>
                  <a:pt x="15394" y="8923"/>
                </a:cubicBezTo>
                <a:cubicBezTo>
                  <a:pt x="15395" y="8959"/>
                  <a:pt x="15394" y="8998"/>
                  <a:pt x="15386" y="9034"/>
                </a:cubicBezTo>
                <a:cubicBezTo>
                  <a:pt x="15349" y="9206"/>
                  <a:pt x="15300" y="9380"/>
                  <a:pt x="15256" y="9550"/>
                </a:cubicBezTo>
                <a:cubicBezTo>
                  <a:pt x="15226" y="9664"/>
                  <a:pt x="15198" y="9780"/>
                  <a:pt x="15164" y="9893"/>
                </a:cubicBezTo>
                <a:cubicBezTo>
                  <a:pt x="15147" y="9950"/>
                  <a:pt x="15129" y="10007"/>
                  <a:pt x="15118" y="10065"/>
                </a:cubicBezTo>
                <a:cubicBezTo>
                  <a:pt x="15114" y="10086"/>
                  <a:pt x="15114" y="10107"/>
                  <a:pt x="15112" y="10128"/>
                </a:cubicBezTo>
                <a:cubicBezTo>
                  <a:pt x="15116" y="10124"/>
                  <a:pt x="15129" y="10114"/>
                  <a:pt x="15134" y="10108"/>
                </a:cubicBezTo>
                <a:cubicBezTo>
                  <a:pt x="15162" y="10076"/>
                  <a:pt x="15185" y="10039"/>
                  <a:pt x="15213" y="10007"/>
                </a:cubicBezTo>
                <a:cubicBezTo>
                  <a:pt x="15251" y="9964"/>
                  <a:pt x="15288" y="9921"/>
                  <a:pt x="15327" y="9880"/>
                </a:cubicBezTo>
                <a:cubicBezTo>
                  <a:pt x="15369" y="9835"/>
                  <a:pt x="15417" y="9801"/>
                  <a:pt x="15467" y="9766"/>
                </a:cubicBezTo>
                <a:cubicBezTo>
                  <a:pt x="15477" y="9759"/>
                  <a:pt x="15486" y="9750"/>
                  <a:pt x="15496" y="9744"/>
                </a:cubicBezTo>
                <a:cubicBezTo>
                  <a:pt x="15499" y="9742"/>
                  <a:pt x="15500" y="9741"/>
                  <a:pt x="15503" y="9742"/>
                </a:cubicBezTo>
                <a:cubicBezTo>
                  <a:pt x="15500" y="9754"/>
                  <a:pt x="15505" y="9763"/>
                  <a:pt x="15499" y="9778"/>
                </a:cubicBezTo>
                <a:cubicBezTo>
                  <a:pt x="15471" y="9844"/>
                  <a:pt x="15409" y="9896"/>
                  <a:pt x="15361" y="9947"/>
                </a:cubicBezTo>
                <a:cubicBezTo>
                  <a:pt x="15323" y="9987"/>
                  <a:pt x="15284" y="10025"/>
                  <a:pt x="15247" y="10065"/>
                </a:cubicBezTo>
                <a:cubicBezTo>
                  <a:pt x="15187" y="10130"/>
                  <a:pt x="15124" y="10199"/>
                  <a:pt x="15069" y="10269"/>
                </a:cubicBezTo>
                <a:cubicBezTo>
                  <a:pt x="15059" y="10282"/>
                  <a:pt x="15049" y="10294"/>
                  <a:pt x="15039" y="10307"/>
                </a:cubicBezTo>
                <a:cubicBezTo>
                  <a:pt x="15036" y="10311"/>
                  <a:pt x="15034" y="10314"/>
                  <a:pt x="15032" y="10317"/>
                </a:cubicBezTo>
                <a:cubicBezTo>
                  <a:pt x="15032" y="10255"/>
                  <a:pt x="15040" y="10191"/>
                  <a:pt x="15035" y="10129"/>
                </a:cubicBezTo>
                <a:cubicBezTo>
                  <a:pt x="15032" y="10092"/>
                  <a:pt x="15023" y="10059"/>
                  <a:pt x="15015" y="10024"/>
                </a:cubicBezTo>
                <a:cubicBezTo>
                  <a:pt x="15005" y="9980"/>
                  <a:pt x="15001" y="9939"/>
                  <a:pt x="14996" y="9895"/>
                </a:cubicBezTo>
                <a:cubicBezTo>
                  <a:pt x="14990" y="9843"/>
                  <a:pt x="14973" y="9804"/>
                  <a:pt x="14955" y="9757"/>
                </a:cubicBezTo>
                <a:cubicBezTo>
                  <a:pt x="14949" y="9742"/>
                  <a:pt x="14950" y="9729"/>
                  <a:pt x="14946" y="971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935680" y="3209760"/>
            <a:ext cx="825480" cy="389160"/>
          </a:xfrm>
          <a:custGeom>
            <a:avLst/>
            <a:gdLst/>
            <a:ahLst/>
            <a:rect l="l" t="t" r="r" b="b"/>
            <a:pathLst>
              <a:path w="2291" h="1081">
                <a:moveTo>
                  <a:pt x="16953" y="8993"/>
                </a:moveTo>
                <a:cubicBezTo>
                  <a:pt x="16969" y="8978"/>
                  <a:pt x="16987" y="8960"/>
                  <a:pt x="17005" y="8947"/>
                </a:cubicBezTo>
                <a:cubicBezTo>
                  <a:pt x="17015" y="8940"/>
                  <a:pt x="17026" y="8935"/>
                  <a:pt x="17035" y="8929"/>
                </a:cubicBezTo>
                <a:cubicBezTo>
                  <a:pt x="17028" y="8925"/>
                  <a:pt x="17041" y="8922"/>
                  <a:pt x="17030" y="8920"/>
                </a:cubicBezTo>
                <a:cubicBezTo>
                  <a:pt x="17010" y="8916"/>
                  <a:pt x="16996" y="8921"/>
                  <a:pt x="16976" y="8927"/>
                </a:cubicBezTo>
                <a:cubicBezTo>
                  <a:pt x="16941" y="8937"/>
                  <a:pt x="16904" y="8951"/>
                  <a:pt x="16872" y="8968"/>
                </a:cubicBezTo>
                <a:cubicBezTo>
                  <a:pt x="16815" y="8998"/>
                  <a:pt x="16756" y="9044"/>
                  <a:pt x="16707" y="9086"/>
                </a:cubicBezTo>
                <a:cubicBezTo>
                  <a:pt x="16659" y="9127"/>
                  <a:pt x="16612" y="9174"/>
                  <a:pt x="16573" y="9223"/>
                </a:cubicBezTo>
                <a:cubicBezTo>
                  <a:pt x="16534" y="9272"/>
                  <a:pt x="16506" y="9316"/>
                  <a:pt x="16494" y="9377"/>
                </a:cubicBezTo>
                <a:cubicBezTo>
                  <a:pt x="16486" y="9417"/>
                  <a:pt x="16487" y="9454"/>
                  <a:pt x="16507" y="9491"/>
                </a:cubicBezTo>
                <a:cubicBezTo>
                  <a:pt x="16528" y="9530"/>
                  <a:pt x="16558" y="9553"/>
                  <a:pt x="16598" y="9570"/>
                </a:cubicBezTo>
                <a:cubicBezTo>
                  <a:pt x="16644" y="9589"/>
                  <a:pt x="16686" y="9591"/>
                  <a:pt x="16734" y="9588"/>
                </a:cubicBezTo>
                <a:cubicBezTo>
                  <a:pt x="16777" y="9585"/>
                  <a:pt x="16820" y="9582"/>
                  <a:pt x="16863" y="9579"/>
                </a:cubicBezTo>
                <a:cubicBezTo>
                  <a:pt x="16888" y="9577"/>
                  <a:pt x="16911" y="9577"/>
                  <a:pt x="16935" y="9576"/>
                </a:cubicBezTo>
                <a:cubicBezTo>
                  <a:pt x="16945" y="9576"/>
                  <a:pt x="16955" y="9574"/>
                  <a:pt x="16965" y="9574"/>
                </a:cubicBezTo>
                <a:cubicBezTo>
                  <a:pt x="16948" y="9574"/>
                  <a:pt x="16930" y="9574"/>
                  <a:pt x="16913" y="9574"/>
                </a:cubicBezTo>
              </a:path>
              <a:path w="2291" h="1081">
                <a:moveTo>
                  <a:pt x="17682" y="9298"/>
                </a:moveTo>
                <a:cubicBezTo>
                  <a:pt x="17703" y="9274"/>
                  <a:pt x="17727" y="9251"/>
                  <a:pt x="17743" y="9223"/>
                </a:cubicBezTo>
                <a:cubicBezTo>
                  <a:pt x="17749" y="9213"/>
                  <a:pt x="17748" y="9209"/>
                  <a:pt x="17750" y="9201"/>
                </a:cubicBezTo>
                <a:cubicBezTo>
                  <a:pt x="17726" y="9196"/>
                  <a:pt x="17711" y="9195"/>
                  <a:pt x="17686" y="9199"/>
                </a:cubicBezTo>
                <a:cubicBezTo>
                  <a:pt x="17650" y="9205"/>
                  <a:pt x="17615" y="9226"/>
                  <a:pt x="17587" y="9248"/>
                </a:cubicBezTo>
                <a:cubicBezTo>
                  <a:pt x="17550" y="9278"/>
                  <a:pt x="17518" y="9312"/>
                  <a:pt x="17494" y="9353"/>
                </a:cubicBezTo>
                <a:cubicBezTo>
                  <a:pt x="17473" y="9390"/>
                  <a:pt x="17455" y="9430"/>
                  <a:pt x="17455" y="9473"/>
                </a:cubicBezTo>
                <a:cubicBezTo>
                  <a:pt x="17455" y="9512"/>
                  <a:pt x="17478" y="9538"/>
                  <a:pt x="17507" y="9561"/>
                </a:cubicBezTo>
                <a:cubicBezTo>
                  <a:pt x="17539" y="9586"/>
                  <a:pt x="17581" y="9591"/>
                  <a:pt x="17620" y="9595"/>
                </a:cubicBezTo>
                <a:cubicBezTo>
                  <a:pt x="17666" y="9600"/>
                  <a:pt x="17704" y="9590"/>
                  <a:pt x="17745" y="9570"/>
                </a:cubicBezTo>
                <a:cubicBezTo>
                  <a:pt x="17783" y="9551"/>
                  <a:pt x="17811" y="9520"/>
                  <a:pt x="17831" y="9482"/>
                </a:cubicBezTo>
                <a:cubicBezTo>
                  <a:pt x="17851" y="9444"/>
                  <a:pt x="17862" y="9393"/>
                  <a:pt x="17863" y="9350"/>
                </a:cubicBezTo>
                <a:cubicBezTo>
                  <a:pt x="17864" y="9313"/>
                  <a:pt x="17854" y="9276"/>
                  <a:pt x="17840" y="9242"/>
                </a:cubicBezTo>
                <a:cubicBezTo>
                  <a:pt x="17838" y="9239"/>
                  <a:pt x="17837" y="9235"/>
                  <a:pt x="17835" y="9232"/>
                </a:cubicBezTo>
              </a:path>
              <a:path w="2291" h="1081">
                <a:moveTo>
                  <a:pt x="18157" y="9318"/>
                </a:moveTo>
                <a:cubicBezTo>
                  <a:pt x="18157" y="9354"/>
                  <a:pt x="18160" y="9382"/>
                  <a:pt x="18143" y="9414"/>
                </a:cubicBezTo>
                <a:cubicBezTo>
                  <a:pt x="18133" y="9432"/>
                  <a:pt x="18118" y="9445"/>
                  <a:pt x="18102" y="9456"/>
                </a:cubicBezTo>
                <a:cubicBezTo>
                  <a:pt x="18096" y="9458"/>
                  <a:pt x="18094" y="9459"/>
                  <a:pt x="18091" y="9461"/>
                </a:cubicBezTo>
                <a:cubicBezTo>
                  <a:pt x="18087" y="9449"/>
                  <a:pt x="18071" y="9445"/>
                  <a:pt x="18080" y="9423"/>
                </a:cubicBezTo>
                <a:cubicBezTo>
                  <a:pt x="18092" y="9395"/>
                  <a:pt x="18122" y="9377"/>
                  <a:pt x="18148" y="9362"/>
                </a:cubicBezTo>
                <a:cubicBezTo>
                  <a:pt x="18190" y="9337"/>
                  <a:pt x="18227" y="9320"/>
                  <a:pt x="18274" y="9309"/>
                </a:cubicBezTo>
                <a:cubicBezTo>
                  <a:pt x="18343" y="9293"/>
                  <a:pt x="18414" y="9290"/>
                  <a:pt x="18483" y="9310"/>
                </a:cubicBezTo>
                <a:cubicBezTo>
                  <a:pt x="18530" y="9323"/>
                  <a:pt x="18576" y="9347"/>
                  <a:pt x="18612" y="9380"/>
                </a:cubicBezTo>
                <a:cubicBezTo>
                  <a:pt x="18645" y="9409"/>
                  <a:pt x="18656" y="9445"/>
                  <a:pt x="18664" y="9486"/>
                </a:cubicBezTo>
                <a:cubicBezTo>
                  <a:pt x="18677" y="9552"/>
                  <a:pt x="18668" y="9609"/>
                  <a:pt x="18648" y="9672"/>
                </a:cubicBezTo>
                <a:cubicBezTo>
                  <a:pt x="18633" y="9718"/>
                  <a:pt x="18610" y="9761"/>
                  <a:pt x="18582" y="9800"/>
                </a:cubicBezTo>
                <a:cubicBezTo>
                  <a:pt x="18541" y="9856"/>
                  <a:pt x="18495" y="9909"/>
                  <a:pt x="18453" y="9964"/>
                </a:cubicBezTo>
                <a:cubicBezTo>
                  <a:pt x="18446" y="9972"/>
                  <a:pt x="18436" y="9983"/>
                  <a:pt x="18431" y="9993"/>
                </a:cubicBezTo>
                <a:cubicBezTo>
                  <a:pt x="18432" y="9995"/>
                  <a:pt x="18434" y="9996"/>
                  <a:pt x="18435" y="9998"/>
                </a:cubicBezTo>
                <a:cubicBezTo>
                  <a:pt x="18455" y="9996"/>
                  <a:pt x="18473" y="9994"/>
                  <a:pt x="18494" y="9990"/>
                </a:cubicBezTo>
                <a:cubicBezTo>
                  <a:pt x="18534" y="9982"/>
                  <a:pt x="18572" y="9973"/>
                  <a:pt x="18612" y="9968"/>
                </a:cubicBezTo>
                <a:cubicBezTo>
                  <a:pt x="18647" y="9964"/>
                  <a:pt x="18681" y="9960"/>
                  <a:pt x="18716" y="9957"/>
                </a:cubicBezTo>
                <a:cubicBezTo>
                  <a:pt x="18725" y="9956"/>
                  <a:pt x="18768" y="9959"/>
                  <a:pt x="18775" y="9952"/>
                </a:cubicBezTo>
                <a:cubicBezTo>
                  <a:pt x="18781" y="9945"/>
                  <a:pt x="18776" y="9944"/>
                  <a:pt x="18779" y="9934"/>
                </a:cubicBezTo>
                <a:cubicBezTo>
                  <a:pt x="18779" y="9925"/>
                  <a:pt x="18779" y="9922"/>
                  <a:pt x="18779" y="9916"/>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311960" y="3067200"/>
            <a:ext cx="1336680" cy="458640"/>
          </a:xfrm>
          <a:custGeom>
            <a:avLst/>
            <a:gdLst/>
            <a:ahLst/>
            <a:rect l="l" t="t" r="r" b="b"/>
            <a:pathLst>
              <a:path w="3714" h="1274">
                <a:moveTo>
                  <a:pt x="20537" y="9180"/>
                </a:moveTo>
                <a:cubicBezTo>
                  <a:pt x="20533" y="9164"/>
                  <a:pt x="20544" y="9158"/>
                  <a:pt x="20528" y="9149"/>
                </a:cubicBezTo>
                <a:cubicBezTo>
                  <a:pt x="20501" y="9134"/>
                  <a:pt x="20460" y="9139"/>
                  <a:pt x="20437" y="9153"/>
                </a:cubicBezTo>
                <a:cubicBezTo>
                  <a:pt x="20416" y="9166"/>
                  <a:pt x="20394" y="9189"/>
                  <a:pt x="20383" y="9212"/>
                </a:cubicBezTo>
                <a:cubicBezTo>
                  <a:pt x="20367" y="9246"/>
                  <a:pt x="20352" y="9289"/>
                  <a:pt x="20342" y="9325"/>
                </a:cubicBezTo>
                <a:cubicBezTo>
                  <a:pt x="20326" y="9384"/>
                  <a:pt x="20315" y="9448"/>
                  <a:pt x="20311" y="9509"/>
                </a:cubicBezTo>
                <a:cubicBezTo>
                  <a:pt x="20308" y="9554"/>
                  <a:pt x="20311" y="9595"/>
                  <a:pt x="20329" y="9637"/>
                </a:cubicBezTo>
                <a:cubicBezTo>
                  <a:pt x="20346" y="9676"/>
                  <a:pt x="20374" y="9692"/>
                  <a:pt x="20410" y="9708"/>
                </a:cubicBezTo>
                <a:cubicBezTo>
                  <a:pt x="20476" y="9737"/>
                  <a:pt x="20553" y="9738"/>
                  <a:pt x="20623" y="9719"/>
                </a:cubicBezTo>
                <a:cubicBezTo>
                  <a:pt x="20677" y="9704"/>
                  <a:pt x="20718" y="9671"/>
                  <a:pt x="20761" y="9638"/>
                </a:cubicBezTo>
                <a:cubicBezTo>
                  <a:pt x="20822" y="9591"/>
                  <a:pt x="20857" y="9534"/>
                  <a:pt x="20901" y="9472"/>
                </a:cubicBezTo>
                <a:cubicBezTo>
                  <a:pt x="20927" y="9436"/>
                  <a:pt x="20943" y="9394"/>
                  <a:pt x="20978" y="9364"/>
                </a:cubicBezTo>
                <a:cubicBezTo>
                  <a:pt x="20988" y="9355"/>
                  <a:pt x="21001" y="9351"/>
                  <a:pt x="21012" y="9344"/>
                </a:cubicBezTo>
                <a:cubicBezTo>
                  <a:pt x="21021" y="9361"/>
                  <a:pt x="21030" y="9368"/>
                  <a:pt x="21034" y="9393"/>
                </a:cubicBezTo>
                <a:cubicBezTo>
                  <a:pt x="21044" y="9457"/>
                  <a:pt x="21041" y="9523"/>
                  <a:pt x="21043" y="9588"/>
                </a:cubicBezTo>
                <a:cubicBezTo>
                  <a:pt x="21044" y="9626"/>
                  <a:pt x="21047" y="9668"/>
                  <a:pt x="21064" y="9703"/>
                </a:cubicBezTo>
                <a:cubicBezTo>
                  <a:pt x="21082" y="9740"/>
                  <a:pt x="21097" y="9746"/>
                  <a:pt x="21130" y="9762"/>
                </a:cubicBezTo>
              </a:path>
              <a:path w="3714" h="1274">
                <a:moveTo>
                  <a:pt x="21320" y="9321"/>
                </a:moveTo>
                <a:cubicBezTo>
                  <a:pt x="21325" y="9315"/>
                  <a:pt x="21331" y="9309"/>
                  <a:pt x="21336" y="9303"/>
                </a:cubicBezTo>
                <a:cubicBezTo>
                  <a:pt x="21337" y="9317"/>
                  <a:pt x="21338" y="9332"/>
                  <a:pt x="21338" y="9346"/>
                </a:cubicBezTo>
                <a:cubicBezTo>
                  <a:pt x="21338" y="9395"/>
                  <a:pt x="21340" y="9444"/>
                  <a:pt x="21340" y="9493"/>
                </a:cubicBezTo>
                <a:cubicBezTo>
                  <a:pt x="21340" y="9523"/>
                  <a:pt x="21342" y="9553"/>
                  <a:pt x="21338" y="9583"/>
                </a:cubicBezTo>
                <a:cubicBezTo>
                  <a:pt x="21337" y="9588"/>
                  <a:pt x="21336" y="9594"/>
                  <a:pt x="21335" y="9599"/>
                </a:cubicBezTo>
                <a:cubicBezTo>
                  <a:pt x="21356" y="9569"/>
                  <a:pt x="21373" y="9536"/>
                  <a:pt x="21394" y="9506"/>
                </a:cubicBezTo>
                <a:cubicBezTo>
                  <a:pt x="21425" y="9461"/>
                  <a:pt x="21461" y="9412"/>
                  <a:pt x="21503" y="9377"/>
                </a:cubicBezTo>
                <a:cubicBezTo>
                  <a:pt x="21538" y="9348"/>
                  <a:pt x="21577" y="9331"/>
                  <a:pt x="21616" y="9309"/>
                </a:cubicBezTo>
                <a:cubicBezTo>
                  <a:pt x="21652" y="9289"/>
                  <a:pt x="21684" y="9278"/>
                  <a:pt x="21725" y="9271"/>
                </a:cubicBezTo>
                <a:cubicBezTo>
                  <a:pt x="21750" y="9267"/>
                  <a:pt x="21775" y="9263"/>
                  <a:pt x="21795" y="9282"/>
                </a:cubicBezTo>
                <a:cubicBezTo>
                  <a:pt x="21812" y="9298"/>
                  <a:pt x="21813" y="9344"/>
                  <a:pt x="21817" y="9364"/>
                </a:cubicBezTo>
                <a:cubicBezTo>
                  <a:pt x="21828" y="9414"/>
                  <a:pt x="21829" y="9463"/>
                  <a:pt x="21836" y="9513"/>
                </a:cubicBezTo>
                <a:cubicBezTo>
                  <a:pt x="21843" y="9565"/>
                  <a:pt x="21854" y="9616"/>
                  <a:pt x="21862" y="9667"/>
                </a:cubicBezTo>
                <a:cubicBezTo>
                  <a:pt x="21867" y="9700"/>
                  <a:pt x="21874" y="9736"/>
                  <a:pt x="21869" y="9769"/>
                </a:cubicBezTo>
                <a:cubicBezTo>
                  <a:pt x="21869" y="9771"/>
                  <a:pt x="21862" y="9795"/>
                  <a:pt x="21867" y="9789"/>
                </a:cubicBezTo>
                <a:cubicBezTo>
                  <a:pt x="21872" y="9775"/>
                  <a:pt x="21875" y="9769"/>
                  <a:pt x="21880" y="9760"/>
                </a:cubicBezTo>
              </a:path>
              <a:path w="3714" h="1274">
                <a:moveTo>
                  <a:pt x="22304" y="8563"/>
                </a:moveTo>
                <a:cubicBezTo>
                  <a:pt x="22319" y="8548"/>
                  <a:pt x="22334" y="8533"/>
                  <a:pt x="22349" y="8518"/>
                </a:cubicBezTo>
                <a:cubicBezTo>
                  <a:pt x="22351" y="8546"/>
                  <a:pt x="22347" y="8565"/>
                  <a:pt x="22342" y="8595"/>
                </a:cubicBezTo>
                <a:cubicBezTo>
                  <a:pt x="22332" y="8657"/>
                  <a:pt x="22316" y="8717"/>
                  <a:pt x="22304" y="8778"/>
                </a:cubicBezTo>
                <a:cubicBezTo>
                  <a:pt x="22289" y="8857"/>
                  <a:pt x="22281" y="8938"/>
                  <a:pt x="22270" y="9018"/>
                </a:cubicBezTo>
                <a:cubicBezTo>
                  <a:pt x="22255" y="9126"/>
                  <a:pt x="22238" y="9235"/>
                  <a:pt x="22229" y="9343"/>
                </a:cubicBezTo>
                <a:cubicBezTo>
                  <a:pt x="22225" y="9387"/>
                  <a:pt x="22213" y="9447"/>
                  <a:pt x="22234" y="9488"/>
                </a:cubicBezTo>
                <a:cubicBezTo>
                  <a:pt x="22244" y="9509"/>
                  <a:pt x="22258" y="9525"/>
                  <a:pt x="22281" y="9531"/>
                </a:cubicBezTo>
                <a:cubicBezTo>
                  <a:pt x="22287" y="9531"/>
                  <a:pt x="22293" y="9531"/>
                  <a:pt x="22299" y="9531"/>
                </a:cubicBezTo>
              </a:path>
              <a:path w="3714" h="1274">
                <a:moveTo>
                  <a:pt x="22492" y="9275"/>
                </a:moveTo>
                <a:cubicBezTo>
                  <a:pt x="22495" y="9266"/>
                  <a:pt x="22488" y="9263"/>
                  <a:pt x="22496" y="9260"/>
                </a:cubicBezTo>
                <a:cubicBezTo>
                  <a:pt x="22540" y="9242"/>
                  <a:pt x="22600" y="9264"/>
                  <a:pt x="22648" y="9246"/>
                </a:cubicBezTo>
                <a:cubicBezTo>
                  <a:pt x="22683" y="9233"/>
                  <a:pt x="22715" y="9209"/>
                  <a:pt x="22743" y="9185"/>
                </a:cubicBezTo>
                <a:cubicBezTo>
                  <a:pt x="22779" y="9154"/>
                  <a:pt x="22806" y="9115"/>
                  <a:pt x="22822" y="9070"/>
                </a:cubicBezTo>
                <a:cubicBezTo>
                  <a:pt x="22830" y="9047"/>
                  <a:pt x="22838" y="9015"/>
                  <a:pt x="22840" y="8991"/>
                </a:cubicBezTo>
                <a:cubicBezTo>
                  <a:pt x="22842" y="8982"/>
                  <a:pt x="22843" y="8979"/>
                  <a:pt x="22840" y="8973"/>
                </a:cubicBezTo>
                <a:cubicBezTo>
                  <a:pt x="22821" y="8966"/>
                  <a:pt x="22828" y="8962"/>
                  <a:pt x="22804" y="8970"/>
                </a:cubicBezTo>
                <a:cubicBezTo>
                  <a:pt x="22773" y="8981"/>
                  <a:pt x="22734" y="9001"/>
                  <a:pt x="22706" y="9018"/>
                </a:cubicBezTo>
                <a:cubicBezTo>
                  <a:pt x="22667" y="9043"/>
                  <a:pt x="22632" y="9077"/>
                  <a:pt x="22598" y="9108"/>
                </a:cubicBezTo>
                <a:cubicBezTo>
                  <a:pt x="22547" y="9155"/>
                  <a:pt x="22507" y="9211"/>
                  <a:pt x="22492" y="9280"/>
                </a:cubicBezTo>
                <a:cubicBezTo>
                  <a:pt x="22484" y="9316"/>
                  <a:pt x="22489" y="9345"/>
                  <a:pt x="22510" y="9375"/>
                </a:cubicBezTo>
                <a:cubicBezTo>
                  <a:pt x="22533" y="9407"/>
                  <a:pt x="22567" y="9435"/>
                  <a:pt x="22604" y="9447"/>
                </a:cubicBezTo>
                <a:cubicBezTo>
                  <a:pt x="22647" y="9461"/>
                  <a:pt x="22702" y="9470"/>
                  <a:pt x="22747" y="9470"/>
                </a:cubicBezTo>
                <a:cubicBezTo>
                  <a:pt x="22789" y="9470"/>
                  <a:pt x="22814" y="9455"/>
                  <a:pt x="22851" y="9438"/>
                </a:cubicBezTo>
              </a:path>
              <a:path w="3714" h="1274">
                <a:moveTo>
                  <a:pt x="23491" y="8907"/>
                </a:moveTo>
                <a:cubicBezTo>
                  <a:pt x="23508" y="8890"/>
                  <a:pt x="23531" y="8874"/>
                  <a:pt x="23541" y="8852"/>
                </a:cubicBezTo>
                <a:cubicBezTo>
                  <a:pt x="23540" y="8850"/>
                  <a:pt x="23540" y="8848"/>
                  <a:pt x="23539" y="8846"/>
                </a:cubicBezTo>
                <a:cubicBezTo>
                  <a:pt x="23516" y="8841"/>
                  <a:pt x="23495" y="8838"/>
                  <a:pt x="23471" y="8837"/>
                </a:cubicBezTo>
                <a:cubicBezTo>
                  <a:pt x="23425" y="8836"/>
                  <a:pt x="23380" y="8847"/>
                  <a:pt x="23337" y="8862"/>
                </a:cubicBezTo>
                <a:cubicBezTo>
                  <a:pt x="23296" y="8876"/>
                  <a:pt x="23260" y="8892"/>
                  <a:pt x="23227" y="8921"/>
                </a:cubicBezTo>
                <a:cubicBezTo>
                  <a:pt x="23202" y="8943"/>
                  <a:pt x="23182" y="8976"/>
                  <a:pt x="23175" y="9009"/>
                </a:cubicBezTo>
                <a:cubicBezTo>
                  <a:pt x="23167" y="9045"/>
                  <a:pt x="23185" y="9090"/>
                  <a:pt x="23199" y="9122"/>
                </a:cubicBezTo>
                <a:cubicBezTo>
                  <a:pt x="23221" y="9170"/>
                  <a:pt x="23257" y="9212"/>
                  <a:pt x="23283" y="9258"/>
                </a:cubicBezTo>
                <a:cubicBezTo>
                  <a:pt x="23317" y="9317"/>
                  <a:pt x="23361" y="9369"/>
                  <a:pt x="23387" y="9432"/>
                </a:cubicBezTo>
                <a:cubicBezTo>
                  <a:pt x="23398" y="9460"/>
                  <a:pt x="23417" y="9510"/>
                  <a:pt x="23414" y="9540"/>
                </a:cubicBezTo>
                <a:cubicBezTo>
                  <a:pt x="23412" y="9563"/>
                  <a:pt x="23376" y="9602"/>
                  <a:pt x="23354" y="9610"/>
                </a:cubicBezTo>
                <a:cubicBezTo>
                  <a:pt x="23331" y="9618"/>
                  <a:pt x="23298" y="9613"/>
                  <a:pt x="23277" y="9602"/>
                </a:cubicBezTo>
                <a:cubicBezTo>
                  <a:pt x="23246" y="9586"/>
                  <a:pt x="23212" y="9559"/>
                  <a:pt x="23188" y="9534"/>
                </a:cubicBezTo>
                <a:cubicBezTo>
                  <a:pt x="23170" y="9513"/>
                  <a:pt x="23164" y="9506"/>
                  <a:pt x="23152" y="9491"/>
                </a:cubicBezTo>
              </a:path>
              <a:path w="3714" h="1274">
                <a:moveTo>
                  <a:pt x="23962" y="8900"/>
                </a:moveTo>
                <a:cubicBezTo>
                  <a:pt x="23980" y="8887"/>
                  <a:pt x="24007" y="8873"/>
                  <a:pt x="24021" y="8855"/>
                </a:cubicBezTo>
                <a:cubicBezTo>
                  <a:pt x="24023" y="8852"/>
                  <a:pt x="24024" y="8851"/>
                  <a:pt x="24021" y="8848"/>
                </a:cubicBezTo>
                <a:cubicBezTo>
                  <a:pt x="24010" y="8851"/>
                  <a:pt x="23995" y="8851"/>
                  <a:pt x="23982" y="8857"/>
                </a:cubicBezTo>
                <a:cubicBezTo>
                  <a:pt x="23955" y="8871"/>
                  <a:pt x="23929" y="8899"/>
                  <a:pt x="23905" y="8918"/>
                </a:cubicBezTo>
                <a:cubicBezTo>
                  <a:pt x="23865" y="8950"/>
                  <a:pt x="23828" y="8986"/>
                  <a:pt x="23795" y="9025"/>
                </a:cubicBezTo>
                <a:cubicBezTo>
                  <a:pt x="23770" y="9055"/>
                  <a:pt x="23741" y="9079"/>
                  <a:pt x="23716" y="9108"/>
                </a:cubicBezTo>
                <a:cubicBezTo>
                  <a:pt x="23700" y="9127"/>
                  <a:pt x="23685" y="9154"/>
                  <a:pt x="23677" y="9178"/>
                </a:cubicBezTo>
                <a:cubicBezTo>
                  <a:pt x="23668" y="9204"/>
                  <a:pt x="23667" y="9216"/>
                  <a:pt x="23682" y="9239"/>
                </a:cubicBezTo>
                <a:cubicBezTo>
                  <a:pt x="23700" y="9266"/>
                  <a:pt x="23733" y="9279"/>
                  <a:pt x="23761" y="9292"/>
                </a:cubicBezTo>
                <a:cubicBezTo>
                  <a:pt x="23809" y="9314"/>
                  <a:pt x="23869" y="9329"/>
                  <a:pt x="23910" y="9362"/>
                </a:cubicBezTo>
                <a:cubicBezTo>
                  <a:pt x="23935" y="9383"/>
                  <a:pt x="23942" y="9421"/>
                  <a:pt x="23942" y="9452"/>
                </a:cubicBezTo>
                <a:cubicBezTo>
                  <a:pt x="23941" y="9500"/>
                  <a:pt x="23917" y="9543"/>
                  <a:pt x="23890" y="9581"/>
                </a:cubicBezTo>
                <a:cubicBezTo>
                  <a:pt x="23841" y="9649"/>
                  <a:pt x="23782" y="9689"/>
                  <a:pt x="23706" y="972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4992840" y="3843360"/>
            <a:ext cx="552240" cy="272880"/>
          </a:xfrm>
          <a:custGeom>
            <a:avLst/>
            <a:gdLst/>
            <a:ahLst/>
            <a:rect l="l" t="t" r="r" b="b"/>
            <a:pathLst>
              <a:path w="1538" h="759">
                <a:moveTo>
                  <a:pt x="13910" y="10912"/>
                </a:moveTo>
                <a:cubicBezTo>
                  <a:pt x="13896" y="10912"/>
                  <a:pt x="13881" y="10912"/>
                  <a:pt x="13867" y="10912"/>
                </a:cubicBezTo>
                <a:cubicBezTo>
                  <a:pt x="13872" y="10919"/>
                  <a:pt x="13862" y="10918"/>
                  <a:pt x="13874" y="10925"/>
                </a:cubicBezTo>
                <a:cubicBezTo>
                  <a:pt x="13891" y="10935"/>
                  <a:pt x="13919" y="10936"/>
                  <a:pt x="13938" y="10939"/>
                </a:cubicBezTo>
                <a:cubicBezTo>
                  <a:pt x="13977" y="10945"/>
                  <a:pt x="14011" y="10962"/>
                  <a:pt x="14050" y="10970"/>
                </a:cubicBezTo>
                <a:cubicBezTo>
                  <a:pt x="14091" y="10978"/>
                  <a:pt x="14133" y="10982"/>
                  <a:pt x="14175" y="10984"/>
                </a:cubicBezTo>
                <a:cubicBezTo>
                  <a:pt x="14218" y="10986"/>
                  <a:pt x="14257" y="10978"/>
                  <a:pt x="14299" y="10972"/>
                </a:cubicBezTo>
                <a:cubicBezTo>
                  <a:pt x="14328" y="10968"/>
                  <a:pt x="14358" y="10966"/>
                  <a:pt x="14386" y="10959"/>
                </a:cubicBezTo>
                <a:cubicBezTo>
                  <a:pt x="14397" y="10956"/>
                  <a:pt x="14407" y="10954"/>
                  <a:pt x="14417" y="10952"/>
                </a:cubicBezTo>
              </a:path>
              <a:path w="1538" h="759">
                <a:moveTo>
                  <a:pt x="14171" y="10719"/>
                </a:moveTo>
                <a:cubicBezTo>
                  <a:pt x="14157" y="10721"/>
                  <a:pt x="14154" y="10712"/>
                  <a:pt x="14148" y="10726"/>
                </a:cubicBezTo>
                <a:cubicBezTo>
                  <a:pt x="14140" y="10744"/>
                  <a:pt x="14145" y="10768"/>
                  <a:pt x="14144" y="10787"/>
                </a:cubicBezTo>
                <a:cubicBezTo>
                  <a:pt x="14140" y="10840"/>
                  <a:pt x="14133" y="10893"/>
                  <a:pt x="14127" y="10946"/>
                </a:cubicBezTo>
                <a:cubicBezTo>
                  <a:pt x="14118" y="11017"/>
                  <a:pt x="14113" y="11089"/>
                  <a:pt x="14107" y="11160"/>
                </a:cubicBezTo>
                <a:cubicBezTo>
                  <a:pt x="14101" y="11223"/>
                  <a:pt x="14096" y="11287"/>
                  <a:pt x="14094" y="11350"/>
                </a:cubicBezTo>
                <a:cubicBezTo>
                  <a:pt x="14093" y="11368"/>
                  <a:pt x="14092" y="11422"/>
                  <a:pt x="14114" y="11432"/>
                </a:cubicBezTo>
                <a:cubicBezTo>
                  <a:pt x="14118" y="11432"/>
                  <a:pt x="14123" y="11432"/>
                  <a:pt x="14127" y="11432"/>
                </a:cubicBezTo>
              </a:path>
              <a:path w="1538" h="759">
                <a:moveTo>
                  <a:pt x="14639" y="10830"/>
                </a:moveTo>
                <a:cubicBezTo>
                  <a:pt x="14670" y="10830"/>
                  <a:pt x="14701" y="10829"/>
                  <a:pt x="14731" y="10834"/>
                </a:cubicBezTo>
                <a:cubicBezTo>
                  <a:pt x="14766" y="10840"/>
                  <a:pt x="14801" y="10850"/>
                  <a:pt x="14836" y="10855"/>
                </a:cubicBezTo>
                <a:cubicBezTo>
                  <a:pt x="14949" y="10872"/>
                  <a:pt x="15063" y="10870"/>
                  <a:pt x="15177" y="10877"/>
                </a:cubicBezTo>
                <a:cubicBezTo>
                  <a:pt x="15226" y="10880"/>
                  <a:pt x="15274" y="10882"/>
                  <a:pt x="15322" y="10889"/>
                </a:cubicBezTo>
                <a:cubicBezTo>
                  <a:pt x="15349" y="10893"/>
                  <a:pt x="15377" y="10896"/>
                  <a:pt x="15404" y="10900"/>
                </a:cubicBezTo>
              </a:path>
              <a:path w="1538" h="759">
                <a:moveTo>
                  <a:pt x="15313" y="10688"/>
                </a:moveTo>
                <a:cubicBezTo>
                  <a:pt x="15295" y="10684"/>
                  <a:pt x="15277" y="10676"/>
                  <a:pt x="15259" y="10674"/>
                </a:cubicBezTo>
                <a:cubicBezTo>
                  <a:pt x="15231" y="10670"/>
                  <a:pt x="15214" y="10681"/>
                  <a:pt x="15195" y="10701"/>
                </a:cubicBezTo>
                <a:cubicBezTo>
                  <a:pt x="15173" y="10724"/>
                  <a:pt x="15155" y="10757"/>
                  <a:pt x="15145" y="10787"/>
                </a:cubicBezTo>
                <a:cubicBezTo>
                  <a:pt x="15126" y="10843"/>
                  <a:pt x="15113" y="10900"/>
                  <a:pt x="15105" y="10959"/>
                </a:cubicBezTo>
                <a:cubicBezTo>
                  <a:pt x="15095" y="11034"/>
                  <a:pt x="15088" y="11109"/>
                  <a:pt x="15093" y="11185"/>
                </a:cubicBezTo>
                <a:cubicBezTo>
                  <a:pt x="15098" y="11255"/>
                  <a:pt x="15116" y="11309"/>
                  <a:pt x="15161" y="11362"/>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907240" y="3716280"/>
            <a:ext cx="1385640" cy="434880"/>
          </a:xfrm>
          <a:custGeom>
            <a:avLst/>
            <a:gdLst/>
            <a:ahLst/>
            <a:rect l="l" t="t" r="r" b="b"/>
            <a:pathLst>
              <a:path w="3852" h="1207">
                <a:moveTo>
                  <a:pt x="16584" y="10660"/>
                </a:moveTo>
                <a:cubicBezTo>
                  <a:pt x="16567" y="10629"/>
                  <a:pt x="16552" y="10601"/>
                  <a:pt x="16542" y="10567"/>
                </a:cubicBezTo>
                <a:cubicBezTo>
                  <a:pt x="16538" y="10555"/>
                  <a:pt x="16534" y="10545"/>
                  <a:pt x="16530" y="10534"/>
                </a:cubicBezTo>
                <a:cubicBezTo>
                  <a:pt x="16520" y="10546"/>
                  <a:pt x="16514" y="10547"/>
                  <a:pt x="16508" y="10568"/>
                </a:cubicBezTo>
                <a:cubicBezTo>
                  <a:pt x="16495" y="10609"/>
                  <a:pt x="16491" y="10652"/>
                  <a:pt x="16485" y="10694"/>
                </a:cubicBezTo>
                <a:cubicBezTo>
                  <a:pt x="16475" y="10765"/>
                  <a:pt x="16467" y="10836"/>
                  <a:pt x="16455" y="10907"/>
                </a:cubicBezTo>
                <a:cubicBezTo>
                  <a:pt x="16442" y="10989"/>
                  <a:pt x="16433" y="11071"/>
                  <a:pt x="16424" y="11153"/>
                </a:cubicBezTo>
                <a:cubicBezTo>
                  <a:pt x="16420" y="11187"/>
                  <a:pt x="16413" y="11221"/>
                  <a:pt x="16410" y="11255"/>
                </a:cubicBezTo>
                <a:cubicBezTo>
                  <a:pt x="16408" y="11268"/>
                  <a:pt x="16407" y="11272"/>
                  <a:pt x="16410" y="11280"/>
                </a:cubicBezTo>
              </a:path>
              <a:path w="3852" h="1207">
                <a:moveTo>
                  <a:pt x="16508" y="10593"/>
                </a:moveTo>
                <a:cubicBezTo>
                  <a:pt x="16516" y="10551"/>
                  <a:pt x="16516" y="10509"/>
                  <a:pt x="16535" y="10470"/>
                </a:cubicBezTo>
                <a:cubicBezTo>
                  <a:pt x="16549" y="10442"/>
                  <a:pt x="16569" y="10425"/>
                  <a:pt x="16594" y="10407"/>
                </a:cubicBezTo>
                <a:cubicBezTo>
                  <a:pt x="16626" y="10384"/>
                  <a:pt x="16670" y="10372"/>
                  <a:pt x="16709" y="10368"/>
                </a:cubicBezTo>
                <a:cubicBezTo>
                  <a:pt x="16779" y="10360"/>
                  <a:pt x="16849" y="10357"/>
                  <a:pt x="16919" y="10371"/>
                </a:cubicBezTo>
                <a:cubicBezTo>
                  <a:pt x="16980" y="10383"/>
                  <a:pt x="17038" y="10402"/>
                  <a:pt x="17094" y="10429"/>
                </a:cubicBezTo>
                <a:cubicBezTo>
                  <a:pt x="17138" y="10451"/>
                  <a:pt x="17188" y="10479"/>
                  <a:pt x="17211" y="10525"/>
                </a:cubicBezTo>
                <a:cubicBezTo>
                  <a:pt x="17242" y="10587"/>
                  <a:pt x="17204" y="10646"/>
                  <a:pt x="17163" y="10692"/>
                </a:cubicBezTo>
                <a:cubicBezTo>
                  <a:pt x="17118" y="10742"/>
                  <a:pt x="17067" y="10776"/>
                  <a:pt x="17012" y="10814"/>
                </a:cubicBezTo>
                <a:cubicBezTo>
                  <a:pt x="16977" y="10838"/>
                  <a:pt x="16940" y="10858"/>
                  <a:pt x="16904" y="10882"/>
                </a:cubicBezTo>
                <a:cubicBezTo>
                  <a:pt x="16887" y="10893"/>
                  <a:pt x="16875" y="10902"/>
                  <a:pt x="16867" y="10920"/>
                </a:cubicBezTo>
                <a:cubicBezTo>
                  <a:pt x="16856" y="10944"/>
                  <a:pt x="16870" y="10966"/>
                  <a:pt x="16883" y="10986"/>
                </a:cubicBezTo>
                <a:cubicBezTo>
                  <a:pt x="16904" y="11019"/>
                  <a:pt x="16933" y="11045"/>
                  <a:pt x="16964" y="11067"/>
                </a:cubicBezTo>
                <a:cubicBezTo>
                  <a:pt x="16997" y="11090"/>
                  <a:pt x="17035" y="11105"/>
                  <a:pt x="17068" y="11127"/>
                </a:cubicBezTo>
                <a:cubicBezTo>
                  <a:pt x="17089" y="11141"/>
                  <a:pt x="17126" y="11166"/>
                  <a:pt x="17125" y="11196"/>
                </a:cubicBezTo>
                <a:cubicBezTo>
                  <a:pt x="17123" y="11249"/>
                  <a:pt x="17062" y="11287"/>
                  <a:pt x="17023" y="11312"/>
                </a:cubicBezTo>
                <a:cubicBezTo>
                  <a:pt x="16972" y="11344"/>
                  <a:pt x="16918" y="11361"/>
                  <a:pt x="16861" y="11378"/>
                </a:cubicBezTo>
                <a:cubicBezTo>
                  <a:pt x="16807" y="11394"/>
                  <a:pt x="16749" y="11407"/>
                  <a:pt x="16693" y="11411"/>
                </a:cubicBezTo>
                <a:cubicBezTo>
                  <a:pt x="16653" y="11411"/>
                  <a:pt x="16638" y="11411"/>
                  <a:pt x="16612" y="11400"/>
                </a:cubicBezTo>
              </a:path>
              <a:path w="3852" h="1207">
                <a:moveTo>
                  <a:pt x="17835" y="10912"/>
                </a:moveTo>
                <a:cubicBezTo>
                  <a:pt x="17865" y="10865"/>
                  <a:pt x="17863" y="10862"/>
                  <a:pt x="17858" y="10817"/>
                </a:cubicBezTo>
                <a:cubicBezTo>
                  <a:pt x="17854" y="10820"/>
                  <a:pt x="17853" y="10802"/>
                  <a:pt x="17838" y="10819"/>
                </a:cubicBezTo>
                <a:cubicBezTo>
                  <a:pt x="17812" y="10849"/>
                  <a:pt x="17786" y="10884"/>
                  <a:pt x="17768" y="10920"/>
                </a:cubicBezTo>
                <a:cubicBezTo>
                  <a:pt x="17745" y="10967"/>
                  <a:pt x="17722" y="11020"/>
                  <a:pt x="17707" y="11070"/>
                </a:cubicBezTo>
                <a:cubicBezTo>
                  <a:pt x="17680" y="11156"/>
                  <a:pt x="17658" y="11244"/>
                  <a:pt x="17630" y="11330"/>
                </a:cubicBezTo>
                <a:cubicBezTo>
                  <a:pt x="17613" y="11383"/>
                  <a:pt x="17596" y="11437"/>
                  <a:pt x="17573" y="11488"/>
                </a:cubicBezTo>
                <a:cubicBezTo>
                  <a:pt x="17567" y="11500"/>
                  <a:pt x="17560" y="11512"/>
                  <a:pt x="17555" y="11524"/>
                </a:cubicBezTo>
                <a:cubicBezTo>
                  <a:pt x="17555" y="11528"/>
                  <a:pt x="17556" y="11529"/>
                  <a:pt x="17553" y="11531"/>
                </a:cubicBezTo>
                <a:cubicBezTo>
                  <a:pt x="17560" y="11491"/>
                  <a:pt x="17567" y="11453"/>
                  <a:pt x="17578" y="11414"/>
                </a:cubicBezTo>
                <a:cubicBezTo>
                  <a:pt x="17647" y="11176"/>
                  <a:pt x="17623" y="10920"/>
                  <a:pt x="17734" y="10692"/>
                </a:cubicBezTo>
                <a:cubicBezTo>
                  <a:pt x="17773" y="10611"/>
                  <a:pt x="17825" y="10545"/>
                  <a:pt x="17883" y="10477"/>
                </a:cubicBezTo>
                <a:cubicBezTo>
                  <a:pt x="17901" y="10456"/>
                  <a:pt x="17913" y="10445"/>
                  <a:pt x="17935" y="10429"/>
                </a:cubicBezTo>
                <a:cubicBezTo>
                  <a:pt x="17949" y="10419"/>
                  <a:pt x="17964" y="10406"/>
                  <a:pt x="17982" y="10405"/>
                </a:cubicBezTo>
                <a:cubicBezTo>
                  <a:pt x="18059" y="10399"/>
                  <a:pt x="18080" y="10457"/>
                  <a:pt x="18102" y="10520"/>
                </a:cubicBezTo>
                <a:cubicBezTo>
                  <a:pt x="18121" y="10577"/>
                  <a:pt x="18120" y="10644"/>
                  <a:pt x="18123" y="10703"/>
                </a:cubicBezTo>
                <a:cubicBezTo>
                  <a:pt x="18128" y="10821"/>
                  <a:pt x="18124" y="10940"/>
                  <a:pt x="18132" y="11058"/>
                </a:cubicBezTo>
                <a:cubicBezTo>
                  <a:pt x="18136" y="11118"/>
                  <a:pt x="18152" y="11169"/>
                  <a:pt x="18172" y="11224"/>
                </a:cubicBezTo>
                <a:cubicBezTo>
                  <a:pt x="18177" y="11218"/>
                  <a:pt x="18193" y="11211"/>
                  <a:pt x="18202" y="11196"/>
                </a:cubicBezTo>
                <a:cubicBezTo>
                  <a:pt x="18332" y="10974"/>
                  <a:pt x="18374" y="10686"/>
                  <a:pt x="18551" y="10493"/>
                </a:cubicBezTo>
                <a:cubicBezTo>
                  <a:pt x="18574" y="10468"/>
                  <a:pt x="18586" y="10473"/>
                  <a:pt x="18609" y="10461"/>
                </a:cubicBezTo>
                <a:cubicBezTo>
                  <a:pt x="18619" y="10490"/>
                  <a:pt x="18634" y="10513"/>
                  <a:pt x="18641" y="10547"/>
                </a:cubicBezTo>
                <a:cubicBezTo>
                  <a:pt x="18669" y="10687"/>
                  <a:pt x="18659" y="10838"/>
                  <a:pt x="18675" y="10981"/>
                </a:cubicBezTo>
                <a:cubicBezTo>
                  <a:pt x="18681" y="11036"/>
                  <a:pt x="18694" y="11090"/>
                  <a:pt x="18704" y="11144"/>
                </a:cubicBezTo>
                <a:cubicBezTo>
                  <a:pt x="18712" y="11186"/>
                  <a:pt x="18717" y="11229"/>
                  <a:pt x="18727" y="11271"/>
                </a:cubicBezTo>
                <a:cubicBezTo>
                  <a:pt x="18736" y="11310"/>
                  <a:pt x="18748" y="11368"/>
                  <a:pt x="18768" y="11403"/>
                </a:cubicBezTo>
                <a:cubicBezTo>
                  <a:pt x="18781" y="11426"/>
                  <a:pt x="18797" y="11441"/>
                  <a:pt x="18818" y="11455"/>
                </a:cubicBezTo>
                <a:cubicBezTo>
                  <a:pt x="18843" y="11472"/>
                  <a:pt x="18850" y="11461"/>
                  <a:pt x="18874" y="11464"/>
                </a:cubicBezTo>
              </a:path>
              <a:path w="3852" h="1207">
                <a:moveTo>
                  <a:pt x="19342" y="10529"/>
                </a:moveTo>
                <a:cubicBezTo>
                  <a:pt x="19357" y="10514"/>
                  <a:pt x="19372" y="10499"/>
                  <a:pt x="19387" y="10484"/>
                </a:cubicBezTo>
                <a:cubicBezTo>
                  <a:pt x="19389" y="10482"/>
                  <a:pt x="19392" y="10479"/>
                  <a:pt x="19394" y="10477"/>
                </a:cubicBezTo>
                <a:cubicBezTo>
                  <a:pt x="19395" y="10499"/>
                  <a:pt x="19396" y="10521"/>
                  <a:pt x="19396" y="10543"/>
                </a:cubicBezTo>
                <a:cubicBezTo>
                  <a:pt x="19396" y="10618"/>
                  <a:pt x="19404" y="10684"/>
                  <a:pt x="19419" y="10758"/>
                </a:cubicBezTo>
                <a:cubicBezTo>
                  <a:pt x="19442" y="10873"/>
                  <a:pt x="19470" y="10987"/>
                  <a:pt x="19503" y="11099"/>
                </a:cubicBezTo>
                <a:cubicBezTo>
                  <a:pt x="19517" y="11148"/>
                  <a:pt x="19535" y="11230"/>
                  <a:pt x="19589" y="11251"/>
                </a:cubicBezTo>
                <a:cubicBezTo>
                  <a:pt x="19618" y="11262"/>
                  <a:pt x="19661" y="11250"/>
                  <a:pt x="19688" y="11239"/>
                </a:cubicBezTo>
                <a:cubicBezTo>
                  <a:pt x="19749" y="11214"/>
                  <a:pt x="19787" y="11172"/>
                  <a:pt x="19827" y="11122"/>
                </a:cubicBezTo>
                <a:cubicBezTo>
                  <a:pt x="19892" y="11042"/>
                  <a:pt x="19948" y="10953"/>
                  <a:pt x="19998" y="10862"/>
                </a:cubicBezTo>
                <a:cubicBezTo>
                  <a:pt x="20071" y="10731"/>
                  <a:pt x="20130" y="10591"/>
                  <a:pt x="20189" y="10454"/>
                </a:cubicBezTo>
                <a:cubicBezTo>
                  <a:pt x="20204" y="10418"/>
                  <a:pt x="20222" y="10382"/>
                  <a:pt x="20240" y="10348"/>
                </a:cubicBezTo>
                <a:cubicBezTo>
                  <a:pt x="20244" y="10341"/>
                  <a:pt x="20251" y="10331"/>
                  <a:pt x="20254" y="10325"/>
                </a:cubicBezTo>
                <a:cubicBezTo>
                  <a:pt x="20255" y="10342"/>
                  <a:pt x="20258" y="10358"/>
                  <a:pt x="20258" y="10375"/>
                </a:cubicBezTo>
                <a:cubicBezTo>
                  <a:pt x="20258" y="10395"/>
                  <a:pt x="20259" y="10414"/>
                  <a:pt x="20259" y="1043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7675560" y="3614760"/>
            <a:ext cx="1297080" cy="490680"/>
          </a:xfrm>
          <a:custGeom>
            <a:avLst/>
            <a:gdLst/>
            <a:ahLst/>
            <a:rect l="l" t="t" r="r" b="b"/>
            <a:pathLst>
              <a:path w="3604" h="1362">
                <a:moveTo>
                  <a:pt x="21421" y="10416"/>
                </a:moveTo>
                <a:cubicBezTo>
                  <a:pt x="21400" y="10377"/>
                  <a:pt x="21377" y="10340"/>
                  <a:pt x="21367" y="10296"/>
                </a:cubicBezTo>
                <a:cubicBezTo>
                  <a:pt x="21364" y="10283"/>
                  <a:pt x="21360" y="10269"/>
                  <a:pt x="21358" y="10257"/>
                </a:cubicBezTo>
                <a:cubicBezTo>
                  <a:pt x="21357" y="10252"/>
                  <a:pt x="21357" y="10247"/>
                  <a:pt x="21356" y="10242"/>
                </a:cubicBezTo>
                <a:cubicBezTo>
                  <a:pt x="21356" y="10299"/>
                  <a:pt x="21368" y="10354"/>
                  <a:pt x="21369" y="10411"/>
                </a:cubicBezTo>
                <a:cubicBezTo>
                  <a:pt x="21372" y="10522"/>
                  <a:pt x="21377" y="10638"/>
                  <a:pt x="21367" y="10749"/>
                </a:cubicBezTo>
                <a:cubicBezTo>
                  <a:pt x="21362" y="10803"/>
                  <a:pt x="21364" y="10858"/>
                  <a:pt x="21354" y="10912"/>
                </a:cubicBezTo>
                <a:cubicBezTo>
                  <a:pt x="21352" y="10923"/>
                  <a:pt x="21349" y="10933"/>
                  <a:pt x="21347" y="10943"/>
                </a:cubicBezTo>
                <a:cubicBezTo>
                  <a:pt x="21347" y="10944"/>
                  <a:pt x="21347" y="10945"/>
                  <a:pt x="21347" y="10946"/>
                </a:cubicBezTo>
                <a:cubicBezTo>
                  <a:pt x="21348" y="10936"/>
                  <a:pt x="21345" y="10930"/>
                  <a:pt x="21347" y="10920"/>
                </a:cubicBezTo>
                <a:cubicBezTo>
                  <a:pt x="21362" y="10853"/>
                  <a:pt x="21399" y="10788"/>
                  <a:pt x="21433" y="10730"/>
                </a:cubicBezTo>
                <a:cubicBezTo>
                  <a:pt x="21476" y="10657"/>
                  <a:pt x="21510" y="10594"/>
                  <a:pt x="21596" y="10572"/>
                </a:cubicBezTo>
                <a:cubicBezTo>
                  <a:pt x="21623" y="10565"/>
                  <a:pt x="21661" y="10559"/>
                  <a:pt x="21686" y="10576"/>
                </a:cubicBezTo>
                <a:cubicBezTo>
                  <a:pt x="21723" y="10600"/>
                  <a:pt x="21748" y="10631"/>
                  <a:pt x="21772" y="10669"/>
                </a:cubicBezTo>
                <a:cubicBezTo>
                  <a:pt x="21802" y="10716"/>
                  <a:pt x="21821" y="10768"/>
                  <a:pt x="21835" y="10821"/>
                </a:cubicBezTo>
                <a:cubicBezTo>
                  <a:pt x="21849" y="10876"/>
                  <a:pt x="21861" y="10936"/>
                  <a:pt x="21860" y="10993"/>
                </a:cubicBezTo>
                <a:cubicBezTo>
                  <a:pt x="21859" y="11049"/>
                  <a:pt x="21844" y="11090"/>
                  <a:pt x="21826" y="11142"/>
                </a:cubicBezTo>
                <a:cubicBezTo>
                  <a:pt x="21811" y="11184"/>
                  <a:pt x="21791" y="11220"/>
                  <a:pt x="21754" y="11248"/>
                </a:cubicBezTo>
                <a:cubicBezTo>
                  <a:pt x="21689" y="11298"/>
                  <a:pt x="21600" y="11297"/>
                  <a:pt x="21528" y="11265"/>
                </a:cubicBezTo>
                <a:cubicBezTo>
                  <a:pt x="21479" y="11243"/>
                  <a:pt x="21442" y="11216"/>
                  <a:pt x="21405" y="11178"/>
                </a:cubicBezTo>
                <a:cubicBezTo>
                  <a:pt x="21365" y="11137"/>
                  <a:pt x="21343" y="11095"/>
                  <a:pt x="21320" y="11043"/>
                </a:cubicBezTo>
              </a:path>
              <a:path w="3604" h="1362">
                <a:moveTo>
                  <a:pt x="22055" y="10852"/>
                </a:moveTo>
                <a:cubicBezTo>
                  <a:pt x="22080" y="10875"/>
                  <a:pt x="22103" y="10899"/>
                  <a:pt x="22136" y="10912"/>
                </a:cubicBezTo>
                <a:cubicBezTo>
                  <a:pt x="22164" y="10923"/>
                  <a:pt x="22196" y="10925"/>
                  <a:pt x="22225" y="10927"/>
                </a:cubicBezTo>
                <a:cubicBezTo>
                  <a:pt x="22299" y="10933"/>
                  <a:pt x="22351" y="10915"/>
                  <a:pt x="22419" y="10887"/>
                </a:cubicBezTo>
                <a:cubicBezTo>
                  <a:pt x="22470" y="10866"/>
                  <a:pt x="22519" y="10842"/>
                  <a:pt x="22568" y="10816"/>
                </a:cubicBezTo>
                <a:cubicBezTo>
                  <a:pt x="22603" y="10797"/>
                  <a:pt x="22645" y="10777"/>
                  <a:pt x="22673" y="10748"/>
                </a:cubicBezTo>
                <a:cubicBezTo>
                  <a:pt x="22698" y="10722"/>
                  <a:pt x="22708" y="10687"/>
                  <a:pt x="22715" y="10653"/>
                </a:cubicBezTo>
                <a:cubicBezTo>
                  <a:pt x="22719" y="10635"/>
                  <a:pt x="22717" y="10601"/>
                  <a:pt x="22699" y="10588"/>
                </a:cubicBezTo>
                <a:cubicBezTo>
                  <a:pt x="22678" y="10573"/>
                  <a:pt x="22643" y="10571"/>
                  <a:pt x="22618" y="10570"/>
                </a:cubicBezTo>
                <a:cubicBezTo>
                  <a:pt x="22581" y="10568"/>
                  <a:pt x="22543" y="10574"/>
                  <a:pt x="22510" y="10590"/>
                </a:cubicBezTo>
                <a:cubicBezTo>
                  <a:pt x="22475" y="10607"/>
                  <a:pt x="22442" y="10635"/>
                  <a:pt x="22419" y="10665"/>
                </a:cubicBezTo>
                <a:cubicBezTo>
                  <a:pt x="22391" y="10700"/>
                  <a:pt x="22374" y="10742"/>
                  <a:pt x="22363" y="10785"/>
                </a:cubicBezTo>
                <a:cubicBezTo>
                  <a:pt x="22352" y="10830"/>
                  <a:pt x="22351" y="10872"/>
                  <a:pt x="22351" y="10918"/>
                </a:cubicBezTo>
                <a:cubicBezTo>
                  <a:pt x="22351" y="10982"/>
                  <a:pt x="22374" y="11040"/>
                  <a:pt x="22403" y="11097"/>
                </a:cubicBezTo>
                <a:cubicBezTo>
                  <a:pt x="22427" y="11143"/>
                  <a:pt x="22451" y="11170"/>
                  <a:pt x="22494" y="11197"/>
                </a:cubicBezTo>
                <a:cubicBezTo>
                  <a:pt x="22527" y="11218"/>
                  <a:pt x="22562" y="11236"/>
                  <a:pt x="22602" y="11235"/>
                </a:cubicBezTo>
                <a:cubicBezTo>
                  <a:pt x="22637" y="11234"/>
                  <a:pt x="22664" y="11219"/>
                  <a:pt x="22695" y="11205"/>
                </a:cubicBezTo>
              </a:path>
              <a:path w="3604" h="1362">
                <a:moveTo>
                  <a:pt x="23338" y="10136"/>
                </a:moveTo>
                <a:cubicBezTo>
                  <a:pt x="23348" y="10103"/>
                  <a:pt x="23353" y="10077"/>
                  <a:pt x="23353" y="10047"/>
                </a:cubicBezTo>
                <a:cubicBezTo>
                  <a:pt x="23301" y="10046"/>
                  <a:pt x="23274" y="10051"/>
                  <a:pt x="23231" y="10088"/>
                </a:cubicBezTo>
                <a:cubicBezTo>
                  <a:pt x="23194" y="10120"/>
                  <a:pt x="23169" y="10156"/>
                  <a:pt x="23147" y="10199"/>
                </a:cubicBezTo>
                <a:cubicBezTo>
                  <a:pt x="23118" y="10257"/>
                  <a:pt x="23099" y="10314"/>
                  <a:pt x="23087" y="10378"/>
                </a:cubicBezTo>
                <a:cubicBezTo>
                  <a:pt x="23070" y="10469"/>
                  <a:pt x="23061" y="10570"/>
                  <a:pt x="23068" y="10662"/>
                </a:cubicBezTo>
                <a:cubicBezTo>
                  <a:pt x="23074" y="10738"/>
                  <a:pt x="23091" y="10810"/>
                  <a:pt x="23109" y="10884"/>
                </a:cubicBezTo>
                <a:cubicBezTo>
                  <a:pt x="23127" y="10956"/>
                  <a:pt x="23145" y="11028"/>
                  <a:pt x="23157" y="11102"/>
                </a:cubicBezTo>
                <a:cubicBezTo>
                  <a:pt x="23168" y="11170"/>
                  <a:pt x="23181" y="11239"/>
                  <a:pt x="23190" y="11308"/>
                </a:cubicBezTo>
                <a:cubicBezTo>
                  <a:pt x="23194" y="11340"/>
                  <a:pt x="23197" y="11371"/>
                  <a:pt x="23199" y="11403"/>
                </a:cubicBezTo>
              </a:path>
              <a:path w="3604" h="1362">
                <a:moveTo>
                  <a:pt x="23005" y="10945"/>
                </a:moveTo>
                <a:cubicBezTo>
                  <a:pt x="22985" y="10932"/>
                  <a:pt x="22967" y="10916"/>
                  <a:pt x="22948" y="10903"/>
                </a:cubicBezTo>
                <a:cubicBezTo>
                  <a:pt x="22945" y="10902"/>
                  <a:pt x="22944" y="10901"/>
                  <a:pt x="22942" y="10900"/>
                </a:cubicBezTo>
                <a:cubicBezTo>
                  <a:pt x="22967" y="10895"/>
                  <a:pt x="22990" y="10889"/>
                  <a:pt x="23016" y="10887"/>
                </a:cubicBezTo>
                <a:cubicBezTo>
                  <a:pt x="23054" y="10884"/>
                  <a:pt x="23091" y="10884"/>
                  <a:pt x="23129" y="10884"/>
                </a:cubicBezTo>
                <a:cubicBezTo>
                  <a:pt x="23215" y="10884"/>
                  <a:pt x="23302" y="10889"/>
                  <a:pt x="23387" y="10882"/>
                </a:cubicBezTo>
                <a:cubicBezTo>
                  <a:pt x="23437" y="10878"/>
                  <a:pt x="23488" y="10874"/>
                  <a:pt x="23537" y="10862"/>
                </a:cubicBezTo>
                <a:cubicBezTo>
                  <a:pt x="23548" y="10859"/>
                  <a:pt x="23559" y="10856"/>
                  <a:pt x="23570" y="10853"/>
                </a:cubicBezTo>
              </a:path>
              <a:path w="3604" h="1362">
                <a:moveTo>
                  <a:pt x="23880" y="10631"/>
                </a:moveTo>
                <a:cubicBezTo>
                  <a:pt x="23875" y="10621"/>
                  <a:pt x="23883" y="10618"/>
                  <a:pt x="23869" y="10611"/>
                </a:cubicBezTo>
                <a:cubicBezTo>
                  <a:pt x="23850" y="10601"/>
                  <a:pt x="23846" y="10609"/>
                  <a:pt x="23828" y="10615"/>
                </a:cubicBezTo>
                <a:cubicBezTo>
                  <a:pt x="23798" y="10625"/>
                  <a:pt x="23772" y="10649"/>
                  <a:pt x="23745" y="10667"/>
                </a:cubicBezTo>
                <a:cubicBezTo>
                  <a:pt x="23711" y="10690"/>
                  <a:pt x="23678" y="10713"/>
                  <a:pt x="23647" y="10740"/>
                </a:cubicBezTo>
                <a:cubicBezTo>
                  <a:pt x="23622" y="10763"/>
                  <a:pt x="23594" y="10789"/>
                  <a:pt x="23582" y="10821"/>
                </a:cubicBezTo>
                <a:cubicBezTo>
                  <a:pt x="23565" y="10865"/>
                  <a:pt x="23568" y="10905"/>
                  <a:pt x="23591" y="10946"/>
                </a:cubicBezTo>
                <a:cubicBezTo>
                  <a:pt x="23625" y="11006"/>
                  <a:pt x="23668" y="11061"/>
                  <a:pt x="23722" y="11104"/>
                </a:cubicBezTo>
                <a:cubicBezTo>
                  <a:pt x="23751" y="11127"/>
                  <a:pt x="23792" y="11150"/>
                  <a:pt x="23829" y="11154"/>
                </a:cubicBezTo>
                <a:cubicBezTo>
                  <a:pt x="23857" y="11157"/>
                  <a:pt x="23871" y="11134"/>
                  <a:pt x="23881" y="11111"/>
                </a:cubicBezTo>
                <a:cubicBezTo>
                  <a:pt x="23896" y="11076"/>
                  <a:pt x="23901" y="11034"/>
                  <a:pt x="23908" y="10997"/>
                </a:cubicBezTo>
                <a:cubicBezTo>
                  <a:pt x="23917" y="10950"/>
                  <a:pt x="23922" y="10902"/>
                  <a:pt x="23932" y="10855"/>
                </a:cubicBezTo>
                <a:cubicBezTo>
                  <a:pt x="23938" y="10826"/>
                  <a:pt x="23941" y="10797"/>
                  <a:pt x="23946" y="10767"/>
                </a:cubicBezTo>
              </a:path>
              <a:path w="3604" h="1362">
                <a:moveTo>
                  <a:pt x="23967" y="10590"/>
                </a:moveTo>
                <a:cubicBezTo>
                  <a:pt x="23997" y="10594"/>
                  <a:pt x="24013" y="10593"/>
                  <a:pt x="24039" y="10611"/>
                </a:cubicBezTo>
                <a:cubicBezTo>
                  <a:pt x="24082" y="10641"/>
                  <a:pt x="24108" y="10694"/>
                  <a:pt x="24136" y="10737"/>
                </a:cubicBezTo>
                <a:cubicBezTo>
                  <a:pt x="24178" y="10803"/>
                  <a:pt x="24227" y="10878"/>
                  <a:pt x="24288" y="10927"/>
                </a:cubicBezTo>
                <a:cubicBezTo>
                  <a:pt x="24311" y="10945"/>
                  <a:pt x="24334" y="10957"/>
                  <a:pt x="24362" y="10966"/>
                </a:cubicBezTo>
                <a:cubicBezTo>
                  <a:pt x="24374" y="10970"/>
                  <a:pt x="24402" y="10980"/>
                  <a:pt x="24414" y="10979"/>
                </a:cubicBezTo>
                <a:cubicBezTo>
                  <a:pt x="24434" y="10977"/>
                  <a:pt x="24442" y="10958"/>
                  <a:pt x="24453" y="10945"/>
                </a:cubicBezTo>
                <a:cubicBezTo>
                  <a:pt x="24474" y="10920"/>
                  <a:pt x="24493" y="10894"/>
                  <a:pt x="24507" y="10864"/>
                </a:cubicBezTo>
                <a:cubicBezTo>
                  <a:pt x="24526" y="10823"/>
                  <a:pt x="24549" y="10786"/>
                  <a:pt x="24575" y="10748"/>
                </a:cubicBezTo>
                <a:cubicBezTo>
                  <a:pt x="24612" y="10694"/>
                  <a:pt x="24658" y="10649"/>
                  <a:pt x="24711" y="10610"/>
                </a:cubicBezTo>
                <a:cubicBezTo>
                  <a:pt x="24743" y="10587"/>
                  <a:pt x="24776" y="10566"/>
                  <a:pt x="24815" y="10556"/>
                </a:cubicBezTo>
                <a:cubicBezTo>
                  <a:pt x="24837" y="10550"/>
                  <a:pt x="24853" y="10547"/>
                  <a:pt x="24876" y="10552"/>
                </a:cubicBezTo>
                <a:cubicBezTo>
                  <a:pt x="24897" y="10557"/>
                  <a:pt x="24907" y="10569"/>
                  <a:pt x="24923" y="1058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8408880" y="4245120"/>
            <a:ext cx="723960" cy="287280"/>
          </a:xfrm>
          <a:custGeom>
            <a:avLst/>
            <a:gdLst/>
            <a:ahLst/>
            <a:rect l="l" t="t" r="r" b="b"/>
            <a:pathLst>
              <a:path w="2008" h="798">
                <a:moveTo>
                  <a:pt x="23575" y="11877"/>
                </a:moveTo>
                <a:cubicBezTo>
                  <a:pt x="23579" y="11877"/>
                  <a:pt x="23574" y="11865"/>
                  <a:pt x="23577" y="11868"/>
                </a:cubicBezTo>
                <a:cubicBezTo>
                  <a:pt x="23587" y="11879"/>
                  <a:pt x="23593" y="11895"/>
                  <a:pt x="23602" y="11907"/>
                </a:cubicBezTo>
                <a:cubicBezTo>
                  <a:pt x="23625" y="11939"/>
                  <a:pt x="23650" y="11971"/>
                  <a:pt x="23666" y="12007"/>
                </a:cubicBezTo>
                <a:cubicBezTo>
                  <a:pt x="23686" y="12053"/>
                  <a:pt x="23696" y="12107"/>
                  <a:pt x="23702" y="12156"/>
                </a:cubicBezTo>
                <a:cubicBezTo>
                  <a:pt x="23714" y="12261"/>
                  <a:pt x="23709" y="12368"/>
                  <a:pt x="23700" y="12473"/>
                </a:cubicBezTo>
                <a:cubicBezTo>
                  <a:pt x="23697" y="12510"/>
                  <a:pt x="23696" y="12541"/>
                  <a:pt x="23700" y="12577"/>
                </a:cubicBezTo>
                <a:cubicBezTo>
                  <a:pt x="23700" y="12581"/>
                  <a:pt x="23700" y="12584"/>
                  <a:pt x="23700" y="12588"/>
                </a:cubicBezTo>
              </a:path>
              <a:path w="2008" h="798">
                <a:moveTo>
                  <a:pt x="23408" y="11929"/>
                </a:moveTo>
                <a:cubicBezTo>
                  <a:pt x="23393" y="11927"/>
                  <a:pt x="23378" y="11927"/>
                  <a:pt x="23362" y="11927"/>
                </a:cubicBezTo>
                <a:cubicBezTo>
                  <a:pt x="23363" y="11911"/>
                  <a:pt x="23367" y="11915"/>
                  <a:pt x="23385" y="11905"/>
                </a:cubicBezTo>
                <a:cubicBezTo>
                  <a:pt x="23443" y="11872"/>
                  <a:pt x="23498" y="11840"/>
                  <a:pt x="23562" y="11819"/>
                </a:cubicBezTo>
                <a:cubicBezTo>
                  <a:pt x="23591" y="11810"/>
                  <a:pt x="23622" y="11800"/>
                  <a:pt x="23652" y="11796"/>
                </a:cubicBezTo>
                <a:cubicBezTo>
                  <a:pt x="23684" y="11792"/>
                  <a:pt x="23715" y="11791"/>
                  <a:pt x="23747" y="11791"/>
                </a:cubicBezTo>
                <a:cubicBezTo>
                  <a:pt x="23762" y="11791"/>
                  <a:pt x="23767" y="11791"/>
                  <a:pt x="23777" y="11791"/>
                </a:cubicBezTo>
              </a:path>
              <a:path w="2008" h="798">
                <a:moveTo>
                  <a:pt x="23901" y="12224"/>
                </a:moveTo>
                <a:cubicBezTo>
                  <a:pt x="23923" y="12241"/>
                  <a:pt x="23941" y="12257"/>
                  <a:pt x="23969" y="12262"/>
                </a:cubicBezTo>
                <a:cubicBezTo>
                  <a:pt x="23987" y="12265"/>
                  <a:pt x="23991" y="12264"/>
                  <a:pt x="24009" y="12258"/>
                </a:cubicBezTo>
                <a:cubicBezTo>
                  <a:pt x="24018" y="12255"/>
                  <a:pt x="24024" y="12251"/>
                  <a:pt x="24032" y="12246"/>
                </a:cubicBezTo>
                <a:cubicBezTo>
                  <a:pt x="24035" y="12244"/>
                  <a:pt x="24035" y="12238"/>
                  <a:pt x="24035" y="12240"/>
                </a:cubicBezTo>
                <a:cubicBezTo>
                  <a:pt x="24035" y="12246"/>
                  <a:pt x="24028" y="12258"/>
                  <a:pt x="24027" y="12265"/>
                </a:cubicBezTo>
                <a:cubicBezTo>
                  <a:pt x="24022" y="12291"/>
                  <a:pt x="24025" y="12318"/>
                  <a:pt x="24025" y="12344"/>
                </a:cubicBezTo>
                <a:cubicBezTo>
                  <a:pt x="24025" y="12374"/>
                  <a:pt x="24025" y="12404"/>
                  <a:pt x="24027" y="12434"/>
                </a:cubicBezTo>
                <a:cubicBezTo>
                  <a:pt x="24028" y="12454"/>
                  <a:pt x="24027" y="12486"/>
                  <a:pt x="24039" y="12504"/>
                </a:cubicBezTo>
                <a:cubicBezTo>
                  <a:pt x="24048" y="12518"/>
                  <a:pt x="24059" y="12520"/>
                  <a:pt x="24073" y="12525"/>
                </a:cubicBezTo>
                <a:cubicBezTo>
                  <a:pt x="24095" y="12534"/>
                  <a:pt x="24116" y="12525"/>
                  <a:pt x="24136" y="12516"/>
                </a:cubicBezTo>
                <a:cubicBezTo>
                  <a:pt x="24164" y="12504"/>
                  <a:pt x="24197" y="12478"/>
                  <a:pt x="24218" y="12455"/>
                </a:cubicBezTo>
                <a:cubicBezTo>
                  <a:pt x="24243" y="12428"/>
                  <a:pt x="24269" y="12397"/>
                  <a:pt x="24286" y="12364"/>
                </a:cubicBezTo>
                <a:cubicBezTo>
                  <a:pt x="24299" y="12340"/>
                  <a:pt x="24314" y="12322"/>
                  <a:pt x="24329" y="12299"/>
                </a:cubicBezTo>
                <a:cubicBezTo>
                  <a:pt x="24334" y="12291"/>
                  <a:pt x="24338" y="12284"/>
                  <a:pt x="24342" y="12276"/>
                </a:cubicBezTo>
                <a:cubicBezTo>
                  <a:pt x="24343" y="12291"/>
                  <a:pt x="24341" y="12305"/>
                  <a:pt x="24340" y="12321"/>
                </a:cubicBezTo>
                <a:cubicBezTo>
                  <a:pt x="24338" y="12358"/>
                  <a:pt x="24341" y="12393"/>
                  <a:pt x="24346" y="12430"/>
                </a:cubicBezTo>
                <a:cubicBezTo>
                  <a:pt x="24350" y="12457"/>
                  <a:pt x="24349" y="12489"/>
                  <a:pt x="24362" y="12513"/>
                </a:cubicBezTo>
                <a:cubicBezTo>
                  <a:pt x="24370" y="12528"/>
                  <a:pt x="24380" y="12532"/>
                  <a:pt x="24394" y="12540"/>
                </a:cubicBezTo>
              </a:path>
              <a:path w="2008" h="798">
                <a:moveTo>
                  <a:pt x="24523" y="11850"/>
                </a:moveTo>
                <a:cubicBezTo>
                  <a:pt x="24526" y="11839"/>
                  <a:pt x="24528" y="11830"/>
                  <a:pt x="24532" y="11819"/>
                </a:cubicBezTo>
                <a:cubicBezTo>
                  <a:pt x="24532" y="11828"/>
                  <a:pt x="24532" y="11832"/>
                  <a:pt x="24532" y="11841"/>
                </a:cubicBezTo>
                <a:cubicBezTo>
                  <a:pt x="24532" y="11868"/>
                  <a:pt x="24534" y="11894"/>
                  <a:pt x="24539" y="11920"/>
                </a:cubicBezTo>
                <a:cubicBezTo>
                  <a:pt x="24551" y="11990"/>
                  <a:pt x="24569" y="12063"/>
                  <a:pt x="24564" y="12135"/>
                </a:cubicBezTo>
                <a:cubicBezTo>
                  <a:pt x="24562" y="12170"/>
                  <a:pt x="24555" y="12204"/>
                  <a:pt x="24543" y="12237"/>
                </a:cubicBezTo>
                <a:cubicBezTo>
                  <a:pt x="24538" y="12252"/>
                  <a:pt x="24532" y="12267"/>
                  <a:pt x="24528" y="12282"/>
                </a:cubicBezTo>
                <a:cubicBezTo>
                  <a:pt x="24528" y="12285"/>
                  <a:pt x="24528" y="12285"/>
                  <a:pt x="24528" y="12287"/>
                </a:cubicBezTo>
                <a:cubicBezTo>
                  <a:pt x="24529" y="12286"/>
                  <a:pt x="24542" y="12266"/>
                  <a:pt x="24546" y="12260"/>
                </a:cubicBezTo>
                <a:cubicBezTo>
                  <a:pt x="24566" y="12231"/>
                  <a:pt x="24584" y="12201"/>
                  <a:pt x="24605" y="12172"/>
                </a:cubicBezTo>
                <a:cubicBezTo>
                  <a:pt x="24627" y="12142"/>
                  <a:pt x="24649" y="12114"/>
                  <a:pt x="24677" y="12090"/>
                </a:cubicBezTo>
                <a:cubicBezTo>
                  <a:pt x="24692" y="12077"/>
                  <a:pt x="24719" y="12057"/>
                  <a:pt x="24738" y="12052"/>
                </a:cubicBezTo>
                <a:cubicBezTo>
                  <a:pt x="24758" y="12046"/>
                  <a:pt x="24776" y="12052"/>
                  <a:pt x="24794" y="12061"/>
                </a:cubicBezTo>
                <a:cubicBezTo>
                  <a:pt x="24816" y="12072"/>
                  <a:pt x="24836" y="12088"/>
                  <a:pt x="24856" y="12101"/>
                </a:cubicBezTo>
                <a:cubicBezTo>
                  <a:pt x="24880" y="12116"/>
                  <a:pt x="24899" y="12133"/>
                  <a:pt x="24914" y="12158"/>
                </a:cubicBezTo>
                <a:cubicBezTo>
                  <a:pt x="24933" y="12189"/>
                  <a:pt x="24945" y="12230"/>
                  <a:pt x="24953" y="12265"/>
                </a:cubicBezTo>
                <a:cubicBezTo>
                  <a:pt x="24962" y="12307"/>
                  <a:pt x="24964" y="12349"/>
                  <a:pt x="24960" y="12391"/>
                </a:cubicBezTo>
                <a:cubicBezTo>
                  <a:pt x="24958" y="12413"/>
                  <a:pt x="24952" y="12440"/>
                  <a:pt x="24932" y="12454"/>
                </a:cubicBezTo>
                <a:cubicBezTo>
                  <a:pt x="24918" y="12465"/>
                  <a:pt x="24899" y="12465"/>
                  <a:pt x="24885" y="12455"/>
                </a:cubicBezTo>
                <a:cubicBezTo>
                  <a:pt x="24850" y="12431"/>
                  <a:pt x="24848" y="12384"/>
                  <a:pt x="24844" y="12346"/>
                </a:cubicBezTo>
              </a:path>
              <a:path w="2008" h="798">
                <a:moveTo>
                  <a:pt x="24996" y="12110"/>
                </a:moveTo>
                <a:cubicBezTo>
                  <a:pt x="25016" y="12124"/>
                  <a:pt x="25036" y="12139"/>
                  <a:pt x="25055" y="12153"/>
                </a:cubicBezTo>
                <a:cubicBezTo>
                  <a:pt x="25065" y="12161"/>
                  <a:pt x="25077" y="12164"/>
                  <a:pt x="25089" y="12167"/>
                </a:cubicBezTo>
                <a:cubicBezTo>
                  <a:pt x="25109" y="12172"/>
                  <a:pt x="25139" y="12171"/>
                  <a:pt x="25159" y="12169"/>
                </a:cubicBezTo>
                <a:cubicBezTo>
                  <a:pt x="25194" y="12165"/>
                  <a:pt x="25219" y="12147"/>
                  <a:pt x="25242" y="12122"/>
                </a:cubicBezTo>
                <a:cubicBezTo>
                  <a:pt x="25267" y="12095"/>
                  <a:pt x="25284" y="12059"/>
                  <a:pt x="25301" y="12027"/>
                </a:cubicBezTo>
                <a:cubicBezTo>
                  <a:pt x="25316" y="11998"/>
                  <a:pt x="25332" y="11970"/>
                  <a:pt x="25346" y="11941"/>
                </a:cubicBezTo>
                <a:cubicBezTo>
                  <a:pt x="25353" y="11927"/>
                  <a:pt x="25363" y="11904"/>
                  <a:pt x="25356" y="11889"/>
                </a:cubicBezTo>
                <a:cubicBezTo>
                  <a:pt x="25348" y="11873"/>
                  <a:pt x="25322" y="11871"/>
                  <a:pt x="25306" y="11869"/>
                </a:cubicBezTo>
                <a:cubicBezTo>
                  <a:pt x="25274" y="11865"/>
                  <a:pt x="25241" y="11864"/>
                  <a:pt x="25209" y="11860"/>
                </a:cubicBezTo>
                <a:cubicBezTo>
                  <a:pt x="25183" y="11857"/>
                  <a:pt x="25155" y="11853"/>
                  <a:pt x="25138" y="11877"/>
                </a:cubicBezTo>
                <a:cubicBezTo>
                  <a:pt x="25122" y="11899"/>
                  <a:pt x="25126" y="11920"/>
                  <a:pt x="25129" y="11946"/>
                </a:cubicBezTo>
                <a:cubicBezTo>
                  <a:pt x="25135" y="11998"/>
                  <a:pt x="25157" y="12040"/>
                  <a:pt x="25177" y="12088"/>
                </a:cubicBezTo>
                <a:cubicBezTo>
                  <a:pt x="25198" y="12138"/>
                  <a:pt x="25216" y="12175"/>
                  <a:pt x="25252" y="12215"/>
                </a:cubicBezTo>
                <a:cubicBezTo>
                  <a:pt x="25285" y="12252"/>
                  <a:pt x="25325" y="12279"/>
                  <a:pt x="25367" y="12305"/>
                </a:cubicBezTo>
              </a:path>
              <a:path w="2008" h="798">
                <a:moveTo>
                  <a:pt x="24783" y="12506"/>
                </a:moveTo>
                <a:cubicBezTo>
                  <a:pt x="24800" y="12507"/>
                  <a:pt x="24815" y="12509"/>
                  <a:pt x="24831" y="12513"/>
                </a:cubicBezTo>
                <a:cubicBezTo>
                  <a:pt x="24834" y="12514"/>
                  <a:pt x="24840" y="12516"/>
                  <a:pt x="24842" y="12516"/>
                </a:cubicBezTo>
                <a:cubicBezTo>
                  <a:pt x="24842" y="12524"/>
                  <a:pt x="24841" y="12528"/>
                  <a:pt x="24838" y="12534"/>
                </a:cubicBezTo>
                <a:cubicBezTo>
                  <a:pt x="24836" y="12538"/>
                  <a:pt x="24829" y="12545"/>
                  <a:pt x="24824" y="12547"/>
                </a:cubicBezTo>
                <a:cubicBezTo>
                  <a:pt x="24813" y="12551"/>
                  <a:pt x="24793" y="12545"/>
                  <a:pt x="24783" y="12543"/>
                </a:cubicBezTo>
                <a:cubicBezTo>
                  <a:pt x="24762" y="12538"/>
                  <a:pt x="24740" y="12522"/>
                  <a:pt x="24725" y="12507"/>
                </a:cubicBezTo>
                <a:cubicBezTo>
                  <a:pt x="24703" y="12486"/>
                  <a:pt x="24690" y="12456"/>
                  <a:pt x="24668" y="12434"/>
                </a:cubicBezTo>
                <a:cubicBezTo>
                  <a:pt x="24646" y="12413"/>
                  <a:pt x="24623" y="12394"/>
                  <a:pt x="24602" y="1237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515360" y="3284640"/>
            <a:ext cx="334800" cy="299880"/>
          </a:xfrm>
          <a:custGeom>
            <a:avLst/>
            <a:gdLst/>
            <a:ahLst/>
            <a:rect l="l" t="t" r="r" b="b"/>
            <a:pathLst>
              <a:path w="929" h="834">
                <a:moveTo>
                  <a:pt x="20903" y="9506"/>
                </a:moveTo>
                <a:cubicBezTo>
                  <a:pt x="20898" y="9508"/>
                  <a:pt x="20879" y="9512"/>
                  <a:pt x="20877" y="9516"/>
                </a:cubicBezTo>
                <a:cubicBezTo>
                  <a:pt x="20875" y="9519"/>
                  <a:pt x="20875" y="9529"/>
                  <a:pt x="20876" y="9533"/>
                </a:cubicBezTo>
                <a:cubicBezTo>
                  <a:pt x="20877" y="9539"/>
                  <a:pt x="20877" y="9542"/>
                  <a:pt x="20883" y="9545"/>
                </a:cubicBezTo>
                <a:cubicBezTo>
                  <a:pt x="20888" y="9548"/>
                  <a:pt x="20894" y="9547"/>
                  <a:pt x="20901" y="9547"/>
                </a:cubicBezTo>
                <a:cubicBezTo>
                  <a:pt x="20919" y="9548"/>
                  <a:pt x="20938" y="9548"/>
                  <a:pt x="20955" y="9552"/>
                </a:cubicBezTo>
                <a:cubicBezTo>
                  <a:pt x="20966" y="9555"/>
                  <a:pt x="20977" y="9559"/>
                  <a:pt x="20987" y="9563"/>
                </a:cubicBezTo>
                <a:cubicBezTo>
                  <a:pt x="20991" y="9564"/>
                  <a:pt x="20995" y="9566"/>
                  <a:pt x="20998" y="9567"/>
                </a:cubicBezTo>
                <a:cubicBezTo>
                  <a:pt x="20998" y="9566"/>
                  <a:pt x="21000" y="9565"/>
                  <a:pt x="21001" y="9563"/>
                </a:cubicBezTo>
                <a:cubicBezTo>
                  <a:pt x="21003" y="9558"/>
                  <a:pt x="21004" y="9554"/>
                  <a:pt x="21007" y="9549"/>
                </a:cubicBezTo>
                <a:cubicBezTo>
                  <a:pt x="21012" y="9541"/>
                  <a:pt x="21018" y="9533"/>
                  <a:pt x="21023" y="9525"/>
                </a:cubicBezTo>
                <a:cubicBezTo>
                  <a:pt x="21025" y="9521"/>
                  <a:pt x="21028" y="9517"/>
                  <a:pt x="21030" y="9511"/>
                </a:cubicBezTo>
                <a:cubicBezTo>
                  <a:pt x="21033" y="9502"/>
                  <a:pt x="21032" y="9495"/>
                  <a:pt x="21033" y="9486"/>
                </a:cubicBezTo>
                <a:cubicBezTo>
                  <a:pt x="21034" y="9475"/>
                  <a:pt x="21035" y="9464"/>
                  <a:pt x="21035" y="9452"/>
                </a:cubicBezTo>
                <a:cubicBezTo>
                  <a:pt x="21035" y="9426"/>
                  <a:pt x="21036" y="9403"/>
                  <a:pt x="21041" y="9378"/>
                </a:cubicBezTo>
                <a:cubicBezTo>
                  <a:pt x="21044" y="9361"/>
                  <a:pt x="21050" y="9342"/>
                  <a:pt x="21053" y="9325"/>
                </a:cubicBezTo>
                <a:cubicBezTo>
                  <a:pt x="21055" y="9309"/>
                  <a:pt x="21059" y="9294"/>
                  <a:pt x="21059" y="9278"/>
                </a:cubicBezTo>
                <a:cubicBezTo>
                  <a:pt x="21060" y="9229"/>
                  <a:pt x="21060" y="9178"/>
                  <a:pt x="21057" y="9129"/>
                </a:cubicBezTo>
                <a:cubicBezTo>
                  <a:pt x="21057" y="9127"/>
                  <a:pt x="21057" y="9124"/>
                  <a:pt x="21057" y="9122"/>
                </a:cubicBezTo>
                <a:cubicBezTo>
                  <a:pt x="21055" y="9128"/>
                  <a:pt x="21055" y="9136"/>
                  <a:pt x="21053" y="9142"/>
                </a:cubicBezTo>
                <a:cubicBezTo>
                  <a:pt x="21051" y="9147"/>
                  <a:pt x="21047" y="9152"/>
                  <a:pt x="21046" y="9156"/>
                </a:cubicBezTo>
                <a:cubicBezTo>
                  <a:pt x="21043" y="9175"/>
                  <a:pt x="21044" y="9198"/>
                  <a:pt x="21042" y="9215"/>
                </a:cubicBezTo>
                <a:cubicBezTo>
                  <a:pt x="21036" y="9269"/>
                  <a:pt x="21042" y="9324"/>
                  <a:pt x="21035" y="9378"/>
                </a:cubicBezTo>
                <a:cubicBezTo>
                  <a:pt x="21033" y="9394"/>
                  <a:pt x="21026" y="9409"/>
                  <a:pt x="21024" y="9425"/>
                </a:cubicBezTo>
                <a:cubicBezTo>
                  <a:pt x="21022" y="9439"/>
                  <a:pt x="21024" y="9454"/>
                  <a:pt x="21023" y="9468"/>
                </a:cubicBezTo>
                <a:cubicBezTo>
                  <a:pt x="21022" y="9478"/>
                  <a:pt x="21022" y="9487"/>
                  <a:pt x="21019" y="9497"/>
                </a:cubicBezTo>
                <a:cubicBezTo>
                  <a:pt x="21016" y="9508"/>
                  <a:pt x="21010" y="9519"/>
                  <a:pt x="21007" y="9531"/>
                </a:cubicBezTo>
                <a:cubicBezTo>
                  <a:pt x="21004" y="9542"/>
                  <a:pt x="21003" y="9553"/>
                  <a:pt x="21001" y="9563"/>
                </a:cubicBezTo>
                <a:cubicBezTo>
                  <a:pt x="21000" y="9569"/>
                  <a:pt x="20999" y="9577"/>
                  <a:pt x="20999" y="9581"/>
                </a:cubicBezTo>
              </a:path>
              <a:path w="929" h="834">
                <a:moveTo>
                  <a:pt x="21349" y="9432"/>
                </a:moveTo>
                <a:cubicBezTo>
                  <a:pt x="21347" y="9442"/>
                  <a:pt x="21345" y="9465"/>
                  <a:pt x="21338" y="9473"/>
                </a:cubicBezTo>
                <a:cubicBezTo>
                  <a:pt x="21333" y="9479"/>
                  <a:pt x="21337" y="9481"/>
                  <a:pt x="21331" y="9484"/>
                </a:cubicBezTo>
                <a:cubicBezTo>
                  <a:pt x="21316" y="9492"/>
                  <a:pt x="21301" y="9473"/>
                  <a:pt x="21291" y="9468"/>
                </a:cubicBezTo>
                <a:cubicBezTo>
                  <a:pt x="21290" y="9468"/>
                  <a:pt x="21285" y="9461"/>
                  <a:pt x="21284" y="9461"/>
                </a:cubicBezTo>
                <a:cubicBezTo>
                  <a:pt x="21278" y="9458"/>
                  <a:pt x="21274" y="9462"/>
                  <a:pt x="21270" y="9456"/>
                </a:cubicBezTo>
                <a:cubicBezTo>
                  <a:pt x="21268" y="9453"/>
                  <a:pt x="21268" y="9445"/>
                  <a:pt x="21266" y="9439"/>
                </a:cubicBezTo>
                <a:cubicBezTo>
                  <a:pt x="21263" y="9431"/>
                  <a:pt x="21265" y="9422"/>
                  <a:pt x="21263" y="9414"/>
                </a:cubicBezTo>
                <a:cubicBezTo>
                  <a:pt x="21261" y="9405"/>
                  <a:pt x="21257" y="9395"/>
                  <a:pt x="21254" y="9386"/>
                </a:cubicBezTo>
                <a:cubicBezTo>
                  <a:pt x="21249" y="9372"/>
                  <a:pt x="21242" y="9358"/>
                  <a:pt x="21240" y="9343"/>
                </a:cubicBezTo>
                <a:cubicBezTo>
                  <a:pt x="21236" y="9316"/>
                  <a:pt x="21236" y="9294"/>
                  <a:pt x="21229" y="9267"/>
                </a:cubicBezTo>
                <a:cubicBezTo>
                  <a:pt x="21227" y="9262"/>
                  <a:pt x="21227" y="9261"/>
                  <a:pt x="21227" y="9258"/>
                </a:cubicBezTo>
                <a:cubicBezTo>
                  <a:pt x="21228" y="9259"/>
                  <a:pt x="21226" y="9257"/>
                  <a:pt x="21227" y="9258"/>
                </a:cubicBezTo>
                <a:cubicBezTo>
                  <a:pt x="21232" y="9265"/>
                  <a:pt x="21239" y="9269"/>
                  <a:pt x="21245" y="9275"/>
                </a:cubicBezTo>
                <a:cubicBezTo>
                  <a:pt x="21250" y="9280"/>
                  <a:pt x="21254" y="9286"/>
                  <a:pt x="21257" y="9289"/>
                </a:cubicBezTo>
                <a:cubicBezTo>
                  <a:pt x="21258" y="9289"/>
                  <a:pt x="21258" y="9289"/>
                  <a:pt x="21259" y="9289"/>
                </a:cubicBezTo>
                <a:cubicBezTo>
                  <a:pt x="21259" y="9283"/>
                  <a:pt x="21261" y="9277"/>
                  <a:pt x="21261" y="9271"/>
                </a:cubicBezTo>
                <a:cubicBezTo>
                  <a:pt x="21262" y="9256"/>
                  <a:pt x="21259" y="9242"/>
                  <a:pt x="21259" y="9228"/>
                </a:cubicBezTo>
                <a:cubicBezTo>
                  <a:pt x="21259" y="9220"/>
                  <a:pt x="21258" y="9216"/>
                  <a:pt x="21259" y="9208"/>
                </a:cubicBezTo>
                <a:cubicBezTo>
                  <a:pt x="21260" y="9208"/>
                  <a:pt x="21260" y="9208"/>
                  <a:pt x="21261" y="9208"/>
                </a:cubicBezTo>
                <a:cubicBezTo>
                  <a:pt x="21263" y="9209"/>
                  <a:pt x="21272" y="9214"/>
                  <a:pt x="21274" y="9215"/>
                </a:cubicBezTo>
                <a:cubicBezTo>
                  <a:pt x="21278" y="9217"/>
                  <a:pt x="21273" y="9219"/>
                  <a:pt x="21281" y="9221"/>
                </a:cubicBezTo>
                <a:cubicBezTo>
                  <a:pt x="21287" y="9223"/>
                  <a:pt x="21293" y="9220"/>
                  <a:pt x="21299" y="9221"/>
                </a:cubicBezTo>
                <a:cubicBezTo>
                  <a:pt x="21298" y="9237"/>
                  <a:pt x="21296" y="9253"/>
                  <a:pt x="21295" y="9269"/>
                </a:cubicBezTo>
                <a:cubicBezTo>
                  <a:pt x="21294" y="9281"/>
                  <a:pt x="21296" y="9293"/>
                  <a:pt x="21297" y="9305"/>
                </a:cubicBezTo>
                <a:cubicBezTo>
                  <a:pt x="21298" y="9311"/>
                  <a:pt x="21299" y="9316"/>
                  <a:pt x="21299" y="9323"/>
                </a:cubicBezTo>
                <a:cubicBezTo>
                  <a:pt x="21300" y="9350"/>
                  <a:pt x="21302" y="9377"/>
                  <a:pt x="21302" y="9404"/>
                </a:cubicBezTo>
                <a:cubicBezTo>
                  <a:pt x="21302" y="9441"/>
                  <a:pt x="21305" y="9477"/>
                  <a:pt x="21308" y="9513"/>
                </a:cubicBezTo>
                <a:cubicBezTo>
                  <a:pt x="21313" y="9562"/>
                  <a:pt x="21305" y="9611"/>
                  <a:pt x="21306" y="9660"/>
                </a:cubicBezTo>
                <a:cubicBezTo>
                  <a:pt x="21307" y="9688"/>
                  <a:pt x="21307" y="9717"/>
                  <a:pt x="21308" y="9746"/>
                </a:cubicBezTo>
                <a:cubicBezTo>
                  <a:pt x="21309" y="9791"/>
                  <a:pt x="21309" y="9837"/>
                  <a:pt x="21309" y="9882"/>
                </a:cubicBezTo>
                <a:cubicBezTo>
                  <a:pt x="21310" y="9878"/>
                  <a:pt x="21308" y="9884"/>
                  <a:pt x="21309" y="9880"/>
                </a:cubicBezTo>
                <a:cubicBezTo>
                  <a:pt x="21311" y="9871"/>
                  <a:pt x="21313" y="9864"/>
                  <a:pt x="21315" y="9855"/>
                </a:cubicBezTo>
                <a:cubicBezTo>
                  <a:pt x="21319" y="9837"/>
                  <a:pt x="21322" y="9817"/>
                  <a:pt x="21327" y="9800"/>
                </a:cubicBezTo>
                <a:cubicBezTo>
                  <a:pt x="21335" y="9776"/>
                  <a:pt x="21344" y="9753"/>
                  <a:pt x="21354" y="9730"/>
                </a:cubicBezTo>
                <a:cubicBezTo>
                  <a:pt x="21364" y="9707"/>
                  <a:pt x="21377" y="9684"/>
                  <a:pt x="21386" y="9660"/>
                </a:cubicBezTo>
                <a:cubicBezTo>
                  <a:pt x="21400" y="9624"/>
                  <a:pt x="21402" y="9591"/>
                  <a:pt x="21406" y="9554"/>
                </a:cubicBezTo>
                <a:cubicBezTo>
                  <a:pt x="21408" y="9532"/>
                  <a:pt x="21408" y="9509"/>
                  <a:pt x="21413" y="9488"/>
                </a:cubicBezTo>
                <a:cubicBezTo>
                  <a:pt x="21421" y="9455"/>
                  <a:pt x="21439" y="9429"/>
                  <a:pt x="21455" y="9400"/>
                </a:cubicBezTo>
                <a:cubicBezTo>
                  <a:pt x="21471" y="9371"/>
                  <a:pt x="21487" y="9360"/>
                  <a:pt x="21507" y="9337"/>
                </a:cubicBezTo>
                <a:cubicBezTo>
                  <a:pt x="21515" y="9328"/>
                  <a:pt x="21519" y="9317"/>
                  <a:pt x="21528" y="9307"/>
                </a:cubicBezTo>
                <a:cubicBezTo>
                  <a:pt x="21534" y="9300"/>
                  <a:pt x="21539" y="9294"/>
                  <a:pt x="21548" y="9291"/>
                </a:cubicBezTo>
                <a:cubicBezTo>
                  <a:pt x="21563" y="9285"/>
                  <a:pt x="21573" y="9288"/>
                  <a:pt x="21587" y="9292"/>
                </a:cubicBezTo>
                <a:cubicBezTo>
                  <a:pt x="21597" y="9295"/>
                  <a:pt x="21606" y="9305"/>
                  <a:pt x="21612" y="9307"/>
                </a:cubicBezTo>
                <a:cubicBezTo>
                  <a:pt x="21634" y="9315"/>
                  <a:pt x="21651" y="9310"/>
                  <a:pt x="21670" y="9325"/>
                </a:cubicBezTo>
                <a:cubicBezTo>
                  <a:pt x="21683" y="9335"/>
                  <a:pt x="21700" y="9350"/>
                  <a:pt x="21713" y="9361"/>
                </a:cubicBezTo>
                <a:cubicBezTo>
                  <a:pt x="21719" y="9366"/>
                  <a:pt x="21729" y="9374"/>
                  <a:pt x="21734" y="9380"/>
                </a:cubicBezTo>
                <a:cubicBezTo>
                  <a:pt x="21742" y="9389"/>
                  <a:pt x="21750" y="9401"/>
                  <a:pt x="21754" y="9414"/>
                </a:cubicBezTo>
                <a:cubicBezTo>
                  <a:pt x="21760" y="9432"/>
                  <a:pt x="21760" y="9452"/>
                  <a:pt x="21759" y="9470"/>
                </a:cubicBezTo>
                <a:cubicBezTo>
                  <a:pt x="21758" y="9491"/>
                  <a:pt x="21752" y="9507"/>
                  <a:pt x="21748" y="9527"/>
                </a:cubicBezTo>
                <a:cubicBezTo>
                  <a:pt x="21743" y="9550"/>
                  <a:pt x="21744" y="9574"/>
                  <a:pt x="21741" y="9597"/>
                </a:cubicBezTo>
                <a:cubicBezTo>
                  <a:pt x="21737" y="9621"/>
                  <a:pt x="21731" y="9644"/>
                  <a:pt x="21731" y="9669"/>
                </a:cubicBezTo>
                <a:cubicBezTo>
                  <a:pt x="21731" y="9694"/>
                  <a:pt x="21736" y="9717"/>
                  <a:pt x="21740" y="9742"/>
                </a:cubicBezTo>
                <a:cubicBezTo>
                  <a:pt x="21743" y="9764"/>
                  <a:pt x="21743" y="9789"/>
                  <a:pt x="21748" y="9810"/>
                </a:cubicBezTo>
                <a:cubicBezTo>
                  <a:pt x="21753" y="9832"/>
                  <a:pt x="21763" y="9855"/>
                  <a:pt x="21772" y="9875"/>
                </a:cubicBezTo>
                <a:cubicBezTo>
                  <a:pt x="21777" y="9886"/>
                  <a:pt x="21783" y="9894"/>
                  <a:pt x="21788" y="9904"/>
                </a:cubicBezTo>
                <a:cubicBezTo>
                  <a:pt x="21790" y="9909"/>
                  <a:pt x="21793" y="9915"/>
                  <a:pt x="21795" y="9920"/>
                </a:cubicBezTo>
                <a:cubicBezTo>
                  <a:pt x="21798" y="9927"/>
                  <a:pt x="21801" y="9931"/>
                  <a:pt x="21800" y="9938"/>
                </a:cubicBezTo>
                <a:cubicBezTo>
                  <a:pt x="21799" y="9944"/>
                  <a:pt x="21803" y="9933"/>
                  <a:pt x="21800" y="9945"/>
                </a:cubicBezTo>
                <a:cubicBezTo>
                  <a:pt x="21795" y="9950"/>
                  <a:pt x="21793" y="9952"/>
                  <a:pt x="21790" y="995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305240" y="3319560"/>
            <a:ext cx="609840" cy="903240"/>
          </a:xfrm>
          <a:custGeom>
            <a:avLst/>
            <a:gdLst/>
            <a:ahLst/>
            <a:rect l="l" t="t" r="r" b="b"/>
            <a:pathLst>
              <a:path w="1690" h="2513">
                <a:moveTo>
                  <a:pt x="13576" y="10948"/>
                </a:moveTo>
                <a:cubicBezTo>
                  <a:pt x="13599" y="10958"/>
                  <a:pt x="13626" y="10967"/>
                  <a:pt x="13644" y="10984"/>
                </a:cubicBezTo>
                <a:cubicBezTo>
                  <a:pt x="13648" y="10988"/>
                  <a:pt x="13649" y="10990"/>
                  <a:pt x="13650" y="10993"/>
                </a:cubicBezTo>
                <a:cubicBezTo>
                  <a:pt x="13631" y="11005"/>
                  <a:pt x="13622" y="11006"/>
                  <a:pt x="13598" y="11009"/>
                </a:cubicBezTo>
                <a:cubicBezTo>
                  <a:pt x="13546" y="11016"/>
                  <a:pt x="13496" y="11019"/>
                  <a:pt x="13444" y="11018"/>
                </a:cubicBezTo>
                <a:cubicBezTo>
                  <a:pt x="13370" y="11017"/>
                  <a:pt x="13291" y="11012"/>
                  <a:pt x="13218" y="11024"/>
                </a:cubicBezTo>
                <a:cubicBezTo>
                  <a:pt x="13186" y="11029"/>
                  <a:pt x="13155" y="11035"/>
                  <a:pt x="13123" y="11036"/>
                </a:cubicBezTo>
                <a:cubicBezTo>
                  <a:pt x="13103" y="11036"/>
                  <a:pt x="13084" y="11036"/>
                  <a:pt x="13065" y="11034"/>
                </a:cubicBezTo>
                <a:cubicBezTo>
                  <a:pt x="13065" y="11034"/>
                  <a:pt x="13064" y="11034"/>
                  <a:pt x="13064" y="11034"/>
                </a:cubicBezTo>
                <a:cubicBezTo>
                  <a:pt x="13072" y="11030"/>
                  <a:pt x="13078" y="11026"/>
                  <a:pt x="13089" y="11025"/>
                </a:cubicBezTo>
                <a:cubicBezTo>
                  <a:pt x="13101" y="11024"/>
                  <a:pt x="13113" y="11024"/>
                  <a:pt x="13125" y="11024"/>
                </a:cubicBezTo>
              </a:path>
              <a:path w="1690" h="2513">
                <a:moveTo>
                  <a:pt x="13345" y="10975"/>
                </a:moveTo>
                <a:cubicBezTo>
                  <a:pt x="13358" y="10962"/>
                  <a:pt x="13377" y="10954"/>
                  <a:pt x="13388" y="10939"/>
                </a:cubicBezTo>
                <a:cubicBezTo>
                  <a:pt x="13392" y="10934"/>
                  <a:pt x="13397" y="10924"/>
                  <a:pt x="13399" y="10918"/>
                </a:cubicBezTo>
                <a:cubicBezTo>
                  <a:pt x="13400" y="10916"/>
                  <a:pt x="13402" y="10913"/>
                  <a:pt x="13402" y="10912"/>
                </a:cubicBezTo>
                <a:cubicBezTo>
                  <a:pt x="13404" y="10901"/>
                  <a:pt x="13398" y="10901"/>
                  <a:pt x="13395" y="10893"/>
                </a:cubicBezTo>
                <a:cubicBezTo>
                  <a:pt x="13394" y="10890"/>
                  <a:pt x="13389" y="10879"/>
                  <a:pt x="13388" y="10877"/>
                </a:cubicBezTo>
                <a:cubicBezTo>
                  <a:pt x="13380" y="10865"/>
                  <a:pt x="13370" y="10857"/>
                  <a:pt x="13359" y="10848"/>
                </a:cubicBezTo>
                <a:cubicBezTo>
                  <a:pt x="13341" y="10833"/>
                  <a:pt x="13321" y="10820"/>
                  <a:pt x="13302" y="10805"/>
                </a:cubicBezTo>
                <a:cubicBezTo>
                  <a:pt x="13292" y="10797"/>
                  <a:pt x="13283" y="10789"/>
                  <a:pt x="13272" y="10782"/>
                </a:cubicBezTo>
                <a:cubicBezTo>
                  <a:pt x="13264" y="10777"/>
                  <a:pt x="13255" y="10774"/>
                  <a:pt x="13248" y="10769"/>
                </a:cubicBezTo>
                <a:cubicBezTo>
                  <a:pt x="13245" y="10767"/>
                  <a:pt x="13245" y="10763"/>
                  <a:pt x="13243" y="10762"/>
                </a:cubicBezTo>
                <a:cubicBezTo>
                  <a:pt x="13243" y="10835"/>
                  <a:pt x="13250" y="10906"/>
                  <a:pt x="13252" y="10979"/>
                </a:cubicBezTo>
                <a:cubicBezTo>
                  <a:pt x="13253" y="11048"/>
                  <a:pt x="13247" y="11116"/>
                  <a:pt x="13246" y="11185"/>
                </a:cubicBezTo>
                <a:cubicBezTo>
                  <a:pt x="13244" y="11349"/>
                  <a:pt x="13245" y="11512"/>
                  <a:pt x="13248" y="11676"/>
                </a:cubicBezTo>
              </a:path>
              <a:path w="1690" h="2513">
                <a:moveTo>
                  <a:pt x="12080" y="9258"/>
                </a:moveTo>
                <a:cubicBezTo>
                  <a:pt x="12058" y="9257"/>
                  <a:pt x="12020" y="9265"/>
                  <a:pt x="12001" y="9253"/>
                </a:cubicBezTo>
                <a:cubicBezTo>
                  <a:pt x="11994" y="9249"/>
                  <a:pt x="11988" y="9243"/>
                  <a:pt x="11983" y="9239"/>
                </a:cubicBezTo>
                <a:cubicBezTo>
                  <a:pt x="11974" y="9233"/>
                  <a:pt x="11957" y="9223"/>
                  <a:pt x="11967" y="9219"/>
                </a:cubicBezTo>
                <a:cubicBezTo>
                  <a:pt x="11971" y="9217"/>
                  <a:pt x="11964" y="9218"/>
                  <a:pt x="11969" y="9219"/>
                </a:cubicBezTo>
                <a:cubicBezTo>
                  <a:pt x="11981" y="9221"/>
                  <a:pt x="11992" y="9227"/>
                  <a:pt x="12003" y="9233"/>
                </a:cubicBezTo>
                <a:cubicBezTo>
                  <a:pt x="12057" y="9264"/>
                  <a:pt x="12110" y="9312"/>
                  <a:pt x="12160" y="9350"/>
                </a:cubicBezTo>
                <a:cubicBezTo>
                  <a:pt x="12185" y="9369"/>
                  <a:pt x="12210" y="9389"/>
                  <a:pt x="12227" y="9416"/>
                </a:cubicBezTo>
                <a:cubicBezTo>
                  <a:pt x="12265" y="9476"/>
                  <a:pt x="12265" y="9561"/>
                  <a:pt x="12254" y="9628"/>
                </a:cubicBezTo>
                <a:cubicBezTo>
                  <a:pt x="12248" y="9665"/>
                  <a:pt x="12234" y="9703"/>
                  <a:pt x="12220" y="9737"/>
                </a:cubicBezTo>
                <a:cubicBezTo>
                  <a:pt x="12162" y="9874"/>
                  <a:pt x="12102" y="9995"/>
                  <a:pt x="12085" y="10145"/>
                </a:cubicBezTo>
                <a:cubicBezTo>
                  <a:pt x="12081" y="10182"/>
                  <a:pt x="12075" y="10228"/>
                  <a:pt x="12090" y="10264"/>
                </a:cubicBezTo>
                <a:cubicBezTo>
                  <a:pt x="12113" y="10320"/>
                  <a:pt x="12187" y="10374"/>
                  <a:pt x="12232" y="10414"/>
                </a:cubicBezTo>
                <a:cubicBezTo>
                  <a:pt x="12268" y="10446"/>
                  <a:pt x="12309" y="10472"/>
                  <a:pt x="12329" y="10515"/>
                </a:cubicBezTo>
                <a:cubicBezTo>
                  <a:pt x="12336" y="10530"/>
                  <a:pt x="12338" y="10544"/>
                  <a:pt x="12340" y="10561"/>
                </a:cubicBezTo>
                <a:cubicBezTo>
                  <a:pt x="12345" y="10602"/>
                  <a:pt x="12338" y="10635"/>
                  <a:pt x="12327" y="10674"/>
                </a:cubicBezTo>
                <a:cubicBezTo>
                  <a:pt x="12315" y="10719"/>
                  <a:pt x="12299" y="10762"/>
                  <a:pt x="12288" y="10807"/>
                </a:cubicBezTo>
                <a:cubicBezTo>
                  <a:pt x="12274" y="10867"/>
                  <a:pt x="12268" y="10920"/>
                  <a:pt x="12277" y="10981"/>
                </a:cubicBezTo>
                <a:cubicBezTo>
                  <a:pt x="12291" y="11076"/>
                  <a:pt x="12297" y="11158"/>
                  <a:pt x="12288" y="11255"/>
                </a:cubicBezTo>
                <a:cubicBezTo>
                  <a:pt x="12281" y="11330"/>
                  <a:pt x="12272" y="11401"/>
                  <a:pt x="12284" y="11475"/>
                </a:cubicBezTo>
                <a:cubicBezTo>
                  <a:pt x="12287" y="11491"/>
                  <a:pt x="12290" y="11501"/>
                  <a:pt x="12295" y="11516"/>
                </a:cubicBezTo>
                <a:cubicBezTo>
                  <a:pt x="12299" y="11528"/>
                  <a:pt x="12306" y="11541"/>
                  <a:pt x="12311" y="11552"/>
                </a:cubicBezTo>
                <a:cubicBezTo>
                  <a:pt x="12314" y="11558"/>
                  <a:pt x="12319" y="11562"/>
                  <a:pt x="12322" y="11567"/>
                </a:cubicBezTo>
                <a:cubicBezTo>
                  <a:pt x="12323" y="11569"/>
                  <a:pt x="12326" y="11585"/>
                  <a:pt x="12329" y="11588"/>
                </a:cubicBezTo>
                <a:cubicBezTo>
                  <a:pt x="12340" y="11602"/>
                  <a:pt x="12356" y="11620"/>
                  <a:pt x="12368" y="11633"/>
                </a:cubicBezTo>
                <a:cubicBezTo>
                  <a:pt x="12375" y="11640"/>
                  <a:pt x="12389" y="11650"/>
                  <a:pt x="12393" y="11658"/>
                </a:cubicBezTo>
                <a:cubicBezTo>
                  <a:pt x="12404" y="11679"/>
                  <a:pt x="12404" y="11699"/>
                  <a:pt x="12408" y="11722"/>
                </a:cubicBezTo>
                <a:cubicBezTo>
                  <a:pt x="12408" y="11724"/>
                  <a:pt x="12408" y="11726"/>
                  <a:pt x="12408" y="11728"/>
                </a:cubicBezTo>
                <a:cubicBezTo>
                  <a:pt x="12388" y="11729"/>
                  <a:pt x="12369" y="11730"/>
                  <a:pt x="12349" y="1173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5329080" y="5214960"/>
            <a:ext cx="1282680" cy="533520"/>
          </a:xfrm>
          <a:custGeom>
            <a:avLst/>
            <a:gdLst/>
            <a:ahLst/>
            <a:rect l="l" t="t" r="r" b="b"/>
            <a:pathLst>
              <a:path w="3564" h="1481">
                <a:moveTo>
                  <a:pt x="14908" y="15615"/>
                </a:moveTo>
                <a:cubicBezTo>
                  <a:pt x="14873" y="15624"/>
                  <a:pt x="14841" y="15631"/>
                  <a:pt x="14806" y="15636"/>
                </a:cubicBezTo>
                <a:cubicBezTo>
                  <a:pt x="14805" y="15636"/>
                  <a:pt x="14805" y="15636"/>
                  <a:pt x="14804" y="15636"/>
                </a:cubicBezTo>
                <a:cubicBezTo>
                  <a:pt x="14870" y="15629"/>
                  <a:pt x="14934" y="15618"/>
                  <a:pt x="14999" y="15606"/>
                </a:cubicBezTo>
                <a:cubicBezTo>
                  <a:pt x="15076" y="15592"/>
                  <a:pt x="15151" y="15580"/>
                  <a:pt x="15229" y="15572"/>
                </a:cubicBezTo>
                <a:cubicBezTo>
                  <a:pt x="15403" y="15555"/>
                  <a:pt x="15577" y="15542"/>
                  <a:pt x="15752" y="15532"/>
                </a:cubicBezTo>
                <a:cubicBezTo>
                  <a:pt x="15907" y="15523"/>
                  <a:pt x="16061" y="15508"/>
                  <a:pt x="16216" y="15496"/>
                </a:cubicBezTo>
                <a:cubicBezTo>
                  <a:pt x="16390" y="15483"/>
                  <a:pt x="16566" y="15480"/>
                  <a:pt x="16741" y="15479"/>
                </a:cubicBezTo>
                <a:cubicBezTo>
                  <a:pt x="16789" y="15479"/>
                  <a:pt x="16837" y="15479"/>
                  <a:pt x="16885" y="15479"/>
                </a:cubicBezTo>
                <a:cubicBezTo>
                  <a:pt x="16881" y="15485"/>
                  <a:pt x="16877" y="15489"/>
                  <a:pt x="16872" y="15496"/>
                </a:cubicBezTo>
                <a:cubicBezTo>
                  <a:pt x="16837" y="15542"/>
                  <a:pt x="16799" y="15586"/>
                  <a:pt x="16761" y="15629"/>
                </a:cubicBezTo>
                <a:cubicBezTo>
                  <a:pt x="16709" y="15688"/>
                  <a:pt x="16651" y="15740"/>
                  <a:pt x="16594" y="15794"/>
                </a:cubicBezTo>
                <a:cubicBezTo>
                  <a:pt x="16541" y="15844"/>
                  <a:pt x="16494" y="15898"/>
                  <a:pt x="16444" y="15950"/>
                </a:cubicBezTo>
                <a:cubicBezTo>
                  <a:pt x="16439" y="15955"/>
                  <a:pt x="16430" y="15961"/>
                  <a:pt x="16426" y="15966"/>
                </a:cubicBezTo>
                <a:cubicBezTo>
                  <a:pt x="16432" y="15955"/>
                  <a:pt x="16430" y="15940"/>
                  <a:pt x="16438" y="15928"/>
                </a:cubicBezTo>
                <a:cubicBezTo>
                  <a:pt x="16456" y="15899"/>
                  <a:pt x="16482" y="15874"/>
                  <a:pt x="16503" y="15848"/>
                </a:cubicBezTo>
                <a:cubicBezTo>
                  <a:pt x="16538" y="15804"/>
                  <a:pt x="16576" y="15764"/>
                  <a:pt x="16610" y="15719"/>
                </a:cubicBezTo>
                <a:cubicBezTo>
                  <a:pt x="16639" y="15681"/>
                  <a:pt x="16668" y="15641"/>
                  <a:pt x="16693" y="15600"/>
                </a:cubicBezTo>
                <a:cubicBezTo>
                  <a:pt x="16707" y="15578"/>
                  <a:pt x="16720" y="15558"/>
                  <a:pt x="16729" y="15534"/>
                </a:cubicBezTo>
                <a:cubicBezTo>
                  <a:pt x="16744" y="15491"/>
                  <a:pt x="16759" y="15422"/>
                  <a:pt x="16752" y="15376"/>
                </a:cubicBezTo>
                <a:cubicBezTo>
                  <a:pt x="16747" y="15345"/>
                  <a:pt x="16748" y="15335"/>
                  <a:pt x="16720" y="15314"/>
                </a:cubicBezTo>
                <a:cubicBezTo>
                  <a:pt x="16607" y="15232"/>
                  <a:pt x="16396" y="15239"/>
                  <a:pt x="16264" y="15206"/>
                </a:cubicBezTo>
                <a:cubicBezTo>
                  <a:pt x="16229" y="15197"/>
                  <a:pt x="16198" y="15183"/>
                  <a:pt x="16166" y="15170"/>
                </a:cubicBezTo>
                <a:cubicBezTo>
                  <a:pt x="16161" y="15168"/>
                  <a:pt x="16160" y="15167"/>
                  <a:pt x="16155" y="15165"/>
                </a:cubicBezTo>
                <a:cubicBezTo>
                  <a:pt x="16183" y="15171"/>
                  <a:pt x="16210" y="15177"/>
                  <a:pt x="16238" y="15185"/>
                </a:cubicBezTo>
              </a:path>
              <a:path w="3564" h="1481">
                <a:moveTo>
                  <a:pt x="17816" y="14597"/>
                </a:moveTo>
                <a:cubicBezTo>
                  <a:pt x="17809" y="14590"/>
                  <a:pt x="17803" y="14598"/>
                  <a:pt x="17797" y="14586"/>
                </a:cubicBezTo>
                <a:cubicBezTo>
                  <a:pt x="17792" y="14576"/>
                  <a:pt x="17795" y="14567"/>
                  <a:pt x="17791" y="14557"/>
                </a:cubicBezTo>
                <a:cubicBezTo>
                  <a:pt x="17788" y="14565"/>
                  <a:pt x="17782" y="14556"/>
                  <a:pt x="17779" y="14575"/>
                </a:cubicBezTo>
                <a:cubicBezTo>
                  <a:pt x="17756" y="14750"/>
                  <a:pt x="17764" y="14940"/>
                  <a:pt x="17752" y="15117"/>
                </a:cubicBezTo>
                <a:cubicBezTo>
                  <a:pt x="17745" y="15220"/>
                  <a:pt x="17737" y="15324"/>
                  <a:pt x="17732" y="15427"/>
                </a:cubicBezTo>
                <a:cubicBezTo>
                  <a:pt x="17729" y="15499"/>
                  <a:pt x="17726" y="15570"/>
                  <a:pt x="17723" y="15642"/>
                </a:cubicBezTo>
                <a:cubicBezTo>
                  <a:pt x="17720" y="15702"/>
                  <a:pt x="17720" y="15761"/>
                  <a:pt x="17723" y="15821"/>
                </a:cubicBezTo>
                <a:cubicBezTo>
                  <a:pt x="17725" y="15853"/>
                  <a:pt x="17719" y="15930"/>
                  <a:pt x="17741" y="15957"/>
                </a:cubicBezTo>
                <a:cubicBezTo>
                  <a:pt x="17753" y="15971"/>
                  <a:pt x="17750" y="15963"/>
                  <a:pt x="17764" y="15964"/>
                </a:cubicBezTo>
                <a:cubicBezTo>
                  <a:pt x="17769" y="15961"/>
                  <a:pt x="17774" y="15958"/>
                  <a:pt x="17779" y="15955"/>
                </a:cubicBezTo>
              </a:path>
              <a:path w="3564" h="1481">
                <a:moveTo>
                  <a:pt x="17800" y="14488"/>
                </a:moveTo>
                <a:cubicBezTo>
                  <a:pt x="17800" y="14504"/>
                  <a:pt x="17797" y="14527"/>
                  <a:pt x="17804" y="14536"/>
                </a:cubicBezTo>
                <a:cubicBezTo>
                  <a:pt x="17812" y="14547"/>
                  <a:pt x="17846" y="14560"/>
                  <a:pt x="17858" y="14568"/>
                </a:cubicBezTo>
                <a:cubicBezTo>
                  <a:pt x="17907" y="14601"/>
                  <a:pt x="17950" y="14643"/>
                  <a:pt x="17997" y="14679"/>
                </a:cubicBezTo>
                <a:cubicBezTo>
                  <a:pt x="18048" y="14718"/>
                  <a:pt x="18093" y="14760"/>
                  <a:pt x="18135" y="14808"/>
                </a:cubicBezTo>
                <a:cubicBezTo>
                  <a:pt x="18185" y="14866"/>
                  <a:pt x="18216" y="14941"/>
                  <a:pt x="18250" y="15009"/>
                </a:cubicBezTo>
                <a:cubicBezTo>
                  <a:pt x="18271" y="15052"/>
                  <a:pt x="18293" y="15092"/>
                  <a:pt x="18320" y="15131"/>
                </a:cubicBezTo>
                <a:cubicBezTo>
                  <a:pt x="18331" y="15147"/>
                  <a:pt x="18339" y="15168"/>
                  <a:pt x="18352" y="15183"/>
                </a:cubicBezTo>
                <a:cubicBezTo>
                  <a:pt x="18356" y="15188"/>
                  <a:pt x="18362" y="15193"/>
                  <a:pt x="18367" y="15195"/>
                </a:cubicBezTo>
                <a:cubicBezTo>
                  <a:pt x="18367" y="15193"/>
                  <a:pt x="18367" y="15190"/>
                  <a:pt x="18367" y="15188"/>
                </a:cubicBezTo>
              </a:path>
              <a:path w="3564" h="1481">
                <a:moveTo>
                  <a:pt x="17847" y="14495"/>
                </a:moveTo>
                <a:cubicBezTo>
                  <a:pt x="17827" y="14495"/>
                  <a:pt x="17782" y="14487"/>
                  <a:pt x="17768" y="14500"/>
                </a:cubicBezTo>
                <a:cubicBezTo>
                  <a:pt x="17759" y="14508"/>
                  <a:pt x="17752" y="14539"/>
                  <a:pt x="17750" y="14550"/>
                </a:cubicBezTo>
                <a:cubicBezTo>
                  <a:pt x="17742" y="14591"/>
                  <a:pt x="17730" y="14630"/>
                  <a:pt x="17714" y="14669"/>
                </a:cubicBezTo>
                <a:cubicBezTo>
                  <a:pt x="17693" y="14722"/>
                  <a:pt x="17669" y="14776"/>
                  <a:pt x="17641" y="14826"/>
                </a:cubicBezTo>
                <a:cubicBezTo>
                  <a:pt x="17616" y="14871"/>
                  <a:pt x="17586" y="14913"/>
                  <a:pt x="17557" y="14955"/>
                </a:cubicBezTo>
                <a:cubicBezTo>
                  <a:pt x="17531" y="14993"/>
                  <a:pt x="17506" y="15030"/>
                  <a:pt x="17478" y="15066"/>
                </a:cubicBezTo>
                <a:cubicBezTo>
                  <a:pt x="17454" y="15096"/>
                  <a:pt x="17428" y="15129"/>
                  <a:pt x="17404" y="15158"/>
                </a:cubicBezTo>
                <a:cubicBezTo>
                  <a:pt x="17397" y="15166"/>
                  <a:pt x="17381" y="15176"/>
                  <a:pt x="17377" y="15185"/>
                </a:cubicBezTo>
                <a:cubicBezTo>
                  <a:pt x="17379" y="15185"/>
                  <a:pt x="17381" y="15185"/>
                  <a:pt x="17383" y="1518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950160" y="5218200"/>
            <a:ext cx="1805040" cy="395280"/>
          </a:xfrm>
          <a:custGeom>
            <a:avLst/>
            <a:gdLst/>
            <a:ahLst/>
            <a:rect l="l" t="t" r="r" b="b"/>
            <a:pathLst>
              <a:path w="5012" h="1099">
                <a:moveTo>
                  <a:pt x="19856" y="14710"/>
                </a:moveTo>
                <a:cubicBezTo>
                  <a:pt x="19866" y="14692"/>
                  <a:pt x="19875" y="14674"/>
                  <a:pt x="19885" y="14656"/>
                </a:cubicBezTo>
                <a:cubicBezTo>
                  <a:pt x="19866" y="14645"/>
                  <a:pt x="19856" y="14629"/>
                  <a:pt x="19829" y="14622"/>
                </a:cubicBezTo>
                <a:cubicBezTo>
                  <a:pt x="19798" y="14614"/>
                  <a:pt x="19756" y="14613"/>
                  <a:pt x="19725" y="14622"/>
                </a:cubicBezTo>
                <a:cubicBezTo>
                  <a:pt x="19677" y="14636"/>
                  <a:pt x="19627" y="14684"/>
                  <a:pt x="19593" y="14719"/>
                </a:cubicBezTo>
                <a:cubicBezTo>
                  <a:pt x="19543" y="14770"/>
                  <a:pt x="19494" y="14828"/>
                  <a:pt x="19460" y="14891"/>
                </a:cubicBezTo>
                <a:cubicBezTo>
                  <a:pt x="19424" y="14957"/>
                  <a:pt x="19389" y="15028"/>
                  <a:pt x="19361" y="15097"/>
                </a:cubicBezTo>
                <a:cubicBezTo>
                  <a:pt x="19341" y="15148"/>
                  <a:pt x="19322" y="15199"/>
                  <a:pt x="19311" y="15253"/>
                </a:cubicBezTo>
                <a:cubicBezTo>
                  <a:pt x="19299" y="15315"/>
                  <a:pt x="19324" y="15363"/>
                  <a:pt x="19365" y="15409"/>
                </a:cubicBezTo>
                <a:cubicBezTo>
                  <a:pt x="19404" y="15453"/>
                  <a:pt x="19458" y="15491"/>
                  <a:pt x="19510" y="15518"/>
                </a:cubicBezTo>
                <a:cubicBezTo>
                  <a:pt x="19642" y="15585"/>
                  <a:pt x="19826" y="15593"/>
                  <a:pt x="19971" y="15581"/>
                </a:cubicBezTo>
                <a:cubicBezTo>
                  <a:pt x="20006" y="15578"/>
                  <a:pt x="20042" y="15569"/>
                  <a:pt x="20076" y="15566"/>
                </a:cubicBezTo>
                <a:cubicBezTo>
                  <a:pt x="20087" y="15565"/>
                  <a:pt x="20087" y="15567"/>
                  <a:pt x="20098" y="15566"/>
                </a:cubicBezTo>
                <a:cubicBezTo>
                  <a:pt x="20097" y="15566"/>
                  <a:pt x="20095" y="15566"/>
                  <a:pt x="20094" y="15566"/>
                </a:cubicBezTo>
              </a:path>
              <a:path w="5012" h="1099">
                <a:moveTo>
                  <a:pt x="21076" y="15043"/>
                </a:moveTo>
                <a:cubicBezTo>
                  <a:pt x="21104" y="15032"/>
                  <a:pt x="21119" y="15026"/>
                  <a:pt x="21137" y="15002"/>
                </a:cubicBezTo>
                <a:cubicBezTo>
                  <a:pt x="21138" y="14999"/>
                  <a:pt x="21140" y="14996"/>
                  <a:pt x="21141" y="14993"/>
                </a:cubicBezTo>
                <a:cubicBezTo>
                  <a:pt x="21122" y="14982"/>
                  <a:pt x="21109" y="14976"/>
                  <a:pt x="21087" y="14970"/>
                </a:cubicBezTo>
                <a:cubicBezTo>
                  <a:pt x="21049" y="14959"/>
                  <a:pt x="21010" y="14957"/>
                  <a:pt x="20971" y="14961"/>
                </a:cubicBezTo>
                <a:cubicBezTo>
                  <a:pt x="20891" y="14968"/>
                  <a:pt x="20810" y="15014"/>
                  <a:pt x="20741" y="15052"/>
                </a:cubicBezTo>
                <a:cubicBezTo>
                  <a:pt x="20668" y="15093"/>
                  <a:pt x="20607" y="15145"/>
                  <a:pt x="20548" y="15204"/>
                </a:cubicBezTo>
                <a:cubicBezTo>
                  <a:pt x="20507" y="15244"/>
                  <a:pt x="20481" y="15288"/>
                  <a:pt x="20462" y="15342"/>
                </a:cubicBezTo>
                <a:cubicBezTo>
                  <a:pt x="20448" y="15381"/>
                  <a:pt x="20453" y="15419"/>
                  <a:pt x="20481" y="15452"/>
                </a:cubicBezTo>
                <a:cubicBezTo>
                  <a:pt x="20513" y="15490"/>
                  <a:pt x="20563" y="15516"/>
                  <a:pt x="20610" y="15529"/>
                </a:cubicBezTo>
                <a:cubicBezTo>
                  <a:pt x="20676" y="15548"/>
                  <a:pt x="20746" y="15553"/>
                  <a:pt x="20811" y="15527"/>
                </a:cubicBezTo>
                <a:cubicBezTo>
                  <a:pt x="20867" y="15504"/>
                  <a:pt x="20906" y="15459"/>
                  <a:pt x="20937" y="15410"/>
                </a:cubicBezTo>
                <a:cubicBezTo>
                  <a:pt x="20962" y="15370"/>
                  <a:pt x="20976" y="15329"/>
                  <a:pt x="20983" y="15283"/>
                </a:cubicBezTo>
                <a:cubicBezTo>
                  <a:pt x="20987" y="15254"/>
                  <a:pt x="20988" y="15226"/>
                  <a:pt x="20989" y="15197"/>
                </a:cubicBezTo>
              </a:path>
              <a:path w="5012" h="1099">
                <a:moveTo>
                  <a:pt x="21354" y="15093"/>
                </a:moveTo>
                <a:cubicBezTo>
                  <a:pt x="21377" y="15126"/>
                  <a:pt x="21402" y="15158"/>
                  <a:pt x="21424" y="15192"/>
                </a:cubicBezTo>
                <a:cubicBezTo>
                  <a:pt x="21432" y="15205"/>
                  <a:pt x="21439" y="15218"/>
                  <a:pt x="21447" y="15231"/>
                </a:cubicBezTo>
                <a:cubicBezTo>
                  <a:pt x="21448" y="15232"/>
                  <a:pt x="21448" y="15234"/>
                  <a:pt x="21449" y="15235"/>
                </a:cubicBezTo>
                <a:cubicBezTo>
                  <a:pt x="21440" y="15233"/>
                  <a:pt x="21438" y="15244"/>
                  <a:pt x="21426" y="15235"/>
                </a:cubicBezTo>
                <a:cubicBezTo>
                  <a:pt x="21409" y="15222"/>
                  <a:pt x="21402" y="15194"/>
                  <a:pt x="21399" y="15174"/>
                </a:cubicBezTo>
                <a:cubicBezTo>
                  <a:pt x="21397" y="15159"/>
                  <a:pt x="21399" y="15144"/>
                  <a:pt x="21410" y="15133"/>
                </a:cubicBezTo>
                <a:cubicBezTo>
                  <a:pt x="21430" y="15112"/>
                  <a:pt x="21450" y="15108"/>
                  <a:pt x="21476" y="15099"/>
                </a:cubicBezTo>
                <a:cubicBezTo>
                  <a:pt x="21517" y="15085"/>
                  <a:pt x="21563" y="15083"/>
                  <a:pt x="21605" y="15091"/>
                </a:cubicBezTo>
                <a:cubicBezTo>
                  <a:pt x="21678" y="15105"/>
                  <a:pt x="21757" y="15147"/>
                  <a:pt x="21795" y="15213"/>
                </a:cubicBezTo>
                <a:cubicBezTo>
                  <a:pt x="21815" y="15248"/>
                  <a:pt x="21826" y="15288"/>
                  <a:pt x="21820" y="15328"/>
                </a:cubicBezTo>
                <a:cubicBezTo>
                  <a:pt x="21814" y="15369"/>
                  <a:pt x="21787" y="15400"/>
                  <a:pt x="21763" y="15432"/>
                </a:cubicBezTo>
                <a:cubicBezTo>
                  <a:pt x="21745" y="15456"/>
                  <a:pt x="21727" y="15478"/>
                  <a:pt x="21713" y="15504"/>
                </a:cubicBezTo>
                <a:cubicBezTo>
                  <a:pt x="21710" y="15510"/>
                  <a:pt x="21696" y="15533"/>
                  <a:pt x="21698" y="15539"/>
                </a:cubicBezTo>
                <a:cubicBezTo>
                  <a:pt x="21704" y="15556"/>
                  <a:pt x="21735" y="15557"/>
                  <a:pt x="21748" y="15559"/>
                </a:cubicBezTo>
                <a:cubicBezTo>
                  <a:pt x="21789" y="15566"/>
                  <a:pt x="21834" y="15564"/>
                  <a:pt x="21876" y="15565"/>
                </a:cubicBezTo>
                <a:cubicBezTo>
                  <a:pt x="21963" y="15566"/>
                  <a:pt x="22050" y="15571"/>
                  <a:pt x="22137" y="15575"/>
                </a:cubicBezTo>
                <a:cubicBezTo>
                  <a:pt x="22169" y="15577"/>
                  <a:pt x="22202" y="15578"/>
                  <a:pt x="22234" y="15579"/>
                </a:cubicBezTo>
                <a:cubicBezTo>
                  <a:pt x="22249" y="15580"/>
                  <a:pt x="22270" y="15585"/>
                  <a:pt x="22284" y="15584"/>
                </a:cubicBezTo>
                <a:cubicBezTo>
                  <a:pt x="22292" y="15583"/>
                  <a:pt x="22298" y="15583"/>
                  <a:pt x="22302" y="15581"/>
                </a:cubicBezTo>
                <a:cubicBezTo>
                  <a:pt x="22302" y="15577"/>
                  <a:pt x="22302" y="15575"/>
                  <a:pt x="22302" y="15572"/>
                </a:cubicBezTo>
              </a:path>
              <a:path w="5012" h="1099">
                <a:moveTo>
                  <a:pt x="23120" y="14826"/>
                </a:moveTo>
                <a:cubicBezTo>
                  <a:pt x="23113" y="14851"/>
                  <a:pt x="23108" y="14873"/>
                  <a:pt x="23105" y="14898"/>
                </a:cubicBezTo>
                <a:cubicBezTo>
                  <a:pt x="23103" y="14913"/>
                  <a:pt x="23104" y="14931"/>
                  <a:pt x="23100" y="14945"/>
                </a:cubicBezTo>
                <a:cubicBezTo>
                  <a:pt x="23093" y="14969"/>
                  <a:pt x="23076" y="14990"/>
                  <a:pt x="23064" y="15011"/>
                </a:cubicBezTo>
                <a:cubicBezTo>
                  <a:pt x="23049" y="15036"/>
                  <a:pt x="23032" y="15058"/>
                  <a:pt x="23016" y="15082"/>
                </a:cubicBezTo>
                <a:cubicBezTo>
                  <a:pt x="22998" y="15109"/>
                  <a:pt x="22981" y="15137"/>
                  <a:pt x="22969" y="15167"/>
                </a:cubicBezTo>
                <a:cubicBezTo>
                  <a:pt x="22957" y="15197"/>
                  <a:pt x="22954" y="15228"/>
                  <a:pt x="22951" y="15260"/>
                </a:cubicBezTo>
                <a:cubicBezTo>
                  <a:pt x="22948" y="15286"/>
                  <a:pt x="22948" y="15311"/>
                  <a:pt x="22949" y="15337"/>
                </a:cubicBezTo>
                <a:cubicBezTo>
                  <a:pt x="22949" y="15344"/>
                  <a:pt x="22948" y="15354"/>
                  <a:pt x="22953" y="15360"/>
                </a:cubicBezTo>
                <a:cubicBezTo>
                  <a:pt x="22964" y="15373"/>
                  <a:pt x="22949" y="15355"/>
                  <a:pt x="22958" y="15360"/>
                </a:cubicBezTo>
              </a:path>
              <a:path w="5012" h="1099">
                <a:moveTo>
                  <a:pt x="23109" y="14493"/>
                </a:moveTo>
                <a:lnTo>
                  <a:pt x="23109" y="14493"/>
                </a:lnTo>
                <a:lnTo>
                  <a:pt x="23109" y="14493"/>
                </a:lnTo>
                <a:lnTo>
                  <a:pt x="23109" y="14493"/>
                </a:lnTo>
              </a:path>
              <a:path w="5012" h="1099">
                <a:moveTo>
                  <a:pt x="23750" y="14855"/>
                </a:moveTo>
                <a:cubicBezTo>
                  <a:pt x="23739" y="14865"/>
                  <a:pt x="23727" y="14875"/>
                  <a:pt x="23716" y="14885"/>
                </a:cubicBezTo>
                <a:cubicBezTo>
                  <a:pt x="23713" y="14888"/>
                  <a:pt x="23713" y="14889"/>
                  <a:pt x="23711" y="14891"/>
                </a:cubicBezTo>
                <a:cubicBezTo>
                  <a:pt x="23713" y="14894"/>
                  <a:pt x="23714" y="14888"/>
                  <a:pt x="23716" y="14891"/>
                </a:cubicBezTo>
                <a:cubicBezTo>
                  <a:pt x="23726" y="14905"/>
                  <a:pt x="23727" y="14908"/>
                  <a:pt x="23729" y="14930"/>
                </a:cubicBezTo>
                <a:cubicBezTo>
                  <a:pt x="23733" y="14969"/>
                  <a:pt x="23732" y="15013"/>
                  <a:pt x="23731" y="15052"/>
                </a:cubicBezTo>
                <a:cubicBezTo>
                  <a:pt x="23730" y="15113"/>
                  <a:pt x="23723" y="15174"/>
                  <a:pt x="23718" y="15235"/>
                </a:cubicBezTo>
                <a:cubicBezTo>
                  <a:pt x="23714" y="15276"/>
                  <a:pt x="23702" y="15312"/>
                  <a:pt x="23688" y="15351"/>
                </a:cubicBezTo>
                <a:cubicBezTo>
                  <a:pt x="23685" y="15359"/>
                  <a:pt x="23682" y="15366"/>
                  <a:pt x="23680" y="15373"/>
                </a:cubicBezTo>
                <a:cubicBezTo>
                  <a:pt x="23680" y="15375"/>
                  <a:pt x="23680" y="15375"/>
                  <a:pt x="23680" y="15376"/>
                </a:cubicBezTo>
                <a:cubicBezTo>
                  <a:pt x="23692" y="15367"/>
                  <a:pt x="23710" y="15358"/>
                  <a:pt x="23722" y="15348"/>
                </a:cubicBezTo>
                <a:cubicBezTo>
                  <a:pt x="23750" y="15325"/>
                  <a:pt x="23772" y="15294"/>
                  <a:pt x="23793" y="15265"/>
                </a:cubicBezTo>
                <a:cubicBezTo>
                  <a:pt x="23831" y="15213"/>
                  <a:pt x="23862" y="15154"/>
                  <a:pt x="23904" y="15106"/>
                </a:cubicBezTo>
                <a:cubicBezTo>
                  <a:pt x="23970" y="15030"/>
                  <a:pt x="24055" y="14965"/>
                  <a:pt x="24155" y="14946"/>
                </a:cubicBezTo>
                <a:cubicBezTo>
                  <a:pt x="24195" y="14938"/>
                  <a:pt x="24232" y="14936"/>
                  <a:pt x="24263" y="14966"/>
                </a:cubicBezTo>
                <a:cubicBezTo>
                  <a:pt x="24301" y="15002"/>
                  <a:pt x="24307" y="15043"/>
                  <a:pt x="24311" y="15093"/>
                </a:cubicBezTo>
                <a:cubicBezTo>
                  <a:pt x="24315" y="15137"/>
                  <a:pt x="24318" y="15176"/>
                  <a:pt x="24313" y="15220"/>
                </a:cubicBezTo>
                <a:cubicBezTo>
                  <a:pt x="24303" y="15300"/>
                  <a:pt x="24279" y="15379"/>
                  <a:pt x="24252" y="15455"/>
                </a:cubicBezTo>
                <a:cubicBezTo>
                  <a:pt x="24241" y="15487"/>
                  <a:pt x="24233" y="15525"/>
                  <a:pt x="24215" y="15554"/>
                </a:cubicBezTo>
                <a:cubicBezTo>
                  <a:pt x="24204" y="15571"/>
                  <a:pt x="24189" y="15578"/>
                  <a:pt x="24175" y="1559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240600" y="5810400"/>
            <a:ext cx="1514160" cy="539640"/>
          </a:xfrm>
          <a:custGeom>
            <a:avLst/>
            <a:gdLst/>
            <a:ahLst/>
            <a:rect l="l" t="t" r="r" b="b"/>
            <a:pathLst>
              <a:path w="4207" h="1501">
                <a:moveTo>
                  <a:pt x="17555" y="16848"/>
                </a:moveTo>
                <a:cubicBezTo>
                  <a:pt x="17555" y="16871"/>
                  <a:pt x="17554" y="16894"/>
                  <a:pt x="17553" y="16916"/>
                </a:cubicBezTo>
                <a:cubicBezTo>
                  <a:pt x="17553" y="16918"/>
                  <a:pt x="17553" y="16921"/>
                  <a:pt x="17553" y="16923"/>
                </a:cubicBezTo>
                <a:cubicBezTo>
                  <a:pt x="17579" y="16921"/>
                  <a:pt x="17601" y="16920"/>
                  <a:pt x="17626" y="16909"/>
                </a:cubicBezTo>
                <a:cubicBezTo>
                  <a:pt x="17653" y="16897"/>
                  <a:pt x="17680" y="16880"/>
                  <a:pt x="17705" y="16864"/>
                </a:cubicBezTo>
                <a:cubicBezTo>
                  <a:pt x="17754" y="16833"/>
                  <a:pt x="17800" y="16792"/>
                  <a:pt x="17838" y="16749"/>
                </a:cubicBezTo>
                <a:cubicBezTo>
                  <a:pt x="17862" y="16722"/>
                  <a:pt x="17887" y="16694"/>
                  <a:pt x="17894" y="16658"/>
                </a:cubicBezTo>
                <a:cubicBezTo>
                  <a:pt x="17899" y="16630"/>
                  <a:pt x="17892" y="16605"/>
                  <a:pt x="17877" y="16582"/>
                </a:cubicBezTo>
                <a:cubicBezTo>
                  <a:pt x="17861" y="16558"/>
                  <a:pt x="17835" y="16537"/>
                  <a:pt x="17808" y="16525"/>
                </a:cubicBezTo>
                <a:cubicBezTo>
                  <a:pt x="17760" y="16504"/>
                  <a:pt x="17729" y="16512"/>
                  <a:pt x="17689" y="16545"/>
                </a:cubicBezTo>
                <a:cubicBezTo>
                  <a:pt x="17636" y="16589"/>
                  <a:pt x="17591" y="16651"/>
                  <a:pt x="17549" y="16706"/>
                </a:cubicBezTo>
                <a:cubicBezTo>
                  <a:pt x="17502" y="16767"/>
                  <a:pt x="17463" y="16832"/>
                  <a:pt x="17422" y="16898"/>
                </a:cubicBezTo>
                <a:cubicBezTo>
                  <a:pt x="17382" y="16963"/>
                  <a:pt x="17344" y="17040"/>
                  <a:pt x="17336" y="17118"/>
                </a:cubicBezTo>
                <a:cubicBezTo>
                  <a:pt x="17331" y="17162"/>
                  <a:pt x="17342" y="17198"/>
                  <a:pt x="17377" y="17226"/>
                </a:cubicBezTo>
                <a:cubicBezTo>
                  <a:pt x="17412" y="17254"/>
                  <a:pt x="17472" y="17258"/>
                  <a:pt x="17515" y="17263"/>
                </a:cubicBezTo>
                <a:cubicBezTo>
                  <a:pt x="17612" y="17274"/>
                  <a:pt x="17712" y="17272"/>
                  <a:pt x="17809" y="17272"/>
                </a:cubicBezTo>
                <a:cubicBezTo>
                  <a:pt x="17903" y="17272"/>
                  <a:pt x="17998" y="17273"/>
                  <a:pt x="18092" y="17271"/>
                </a:cubicBezTo>
              </a:path>
              <a:path w="4207" h="1501">
                <a:moveTo>
                  <a:pt x="18739" y="16581"/>
                </a:moveTo>
                <a:cubicBezTo>
                  <a:pt x="18761" y="16581"/>
                  <a:pt x="18787" y="16582"/>
                  <a:pt x="18806" y="16584"/>
                </a:cubicBezTo>
                <a:cubicBezTo>
                  <a:pt x="18798" y="16597"/>
                  <a:pt x="18786" y="16621"/>
                  <a:pt x="18772" y="16631"/>
                </a:cubicBezTo>
                <a:cubicBezTo>
                  <a:pt x="18742" y="16654"/>
                  <a:pt x="18706" y="16671"/>
                  <a:pt x="18675" y="16694"/>
                </a:cubicBezTo>
                <a:cubicBezTo>
                  <a:pt x="18643" y="16718"/>
                  <a:pt x="18615" y="16746"/>
                  <a:pt x="18587" y="16774"/>
                </a:cubicBezTo>
                <a:cubicBezTo>
                  <a:pt x="18553" y="16809"/>
                  <a:pt x="18522" y="16852"/>
                  <a:pt x="18510" y="16901"/>
                </a:cubicBezTo>
                <a:cubicBezTo>
                  <a:pt x="18501" y="16938"/>
                  <a:pt x="18499" y="16978"/>
                  <a:pt x="18515" y="17013"/>
                </a:cubicBezTo>
                <a:cubicBezTo>
                  <a:pt x="18528" y="17043"/>
                  <a:pt x="18552" y="17075"/>
                  <a:pt x="18573" y="17100"/>
                </a:cubicBezTo>
                <a:cubicBezTo>
                  <a:pt x="18590" y="17121"/>
                  <a:pt x="18611" y="17138"/>
                  <a:pt x="18628" y="17159"/>
                </a:cubicBezTo>
                <a:cubicBezTo>
                  <a:pt x="18642" y="17176"/>
                  <a:pt x="18651" y="17192"/>
                  <a:pt x="18657" y="17213"/>
                </a:cubicBezTo>
                <a:cubicBezTo>
                  <a:pt x="18663" y="17232"/>
                  <a:pt x="18667" y="17238"/>
                  <a:pt x="18650" y="17249"/>
                </a:cubicBezTo>
                <a:cubicBezTo>
                  <a:pt x="18629" y="17262"/>
                  <a:pt x="18574" y="17256"/>
                  <a:pt x="18551" y="17256"/>
                </a:cubicBezTo>
                <a:cubicBezTo>
                  <a:pt x="18498" y="17257"/>
                  <a:pt x="18451" y="17252"/>
                  <a:pt x="18399" y="17242"/>
                </a:cubicBezTo>
              </a:path>
              <a:path w="4207" h="1501">
                <a:moveTo>
                  <a:pt x="19067" y="16747"/>
                </a:moveTo>
                <a:cubicBezTo>
                  <a:pt x="19106" y="16766"/>
                  <a:pt x="19143" y="16784"/>
                  <a:pt x="19184" y="16799"/>
                </a:cubicBezTo>
                <a:cubicBezTo>
                  <a:pt x="19202" y="16806"/>
                  <a:pt x="19210" y="16810"/>
                  <a:pt x="19225" y="16819"/>
                </a:cubicBezTo>
                <a:cubicBezTo>
                  <a:pt x="19226" y="16820"/>
                  <a:pt x="19228" y="16820"/>
                  <a:pt x="19229" y="16821"/>
                </a:cubicBezTo>
                <a:cubicBezTo>
                  <a:pt x="19220" y="16847"/>
                  <a:pt x="19219" y="16849"/>
                  <a:pt x="19191" y="16866"/>
                </a:cubicBezTo>
                <a:cubicBezTo>
                  <a:pt x="19134" y="16901"/>
                  <a:pt x="19074" y="16923"/>
                  <a:pt x="19021" y="16964"/>
                </a:cubicBezTo>
                <a:cubicBezTo>
                  <a:pt x="18977" y="16998"/>
                  <a:pt x="18935" y="17035"/>
                  <a:pt x="18901" y="17079"/>
                </a:cubicBezTo>
                <a:cubicBezTo>
                  <a:pt x="18883" y="17102"/>
                  <a:pt x="18863" y="17138"/>
                  <a:pt x="18856" y="17167"/>
                </a:cubicBezTo>
                <a:cubicBezTo>
                  <a:pt x="18856" y="17171"/>
                  <a:pt x="18856" y="17175"/>
                  <a:pt x="18856" y="17179"/>
                </a:cubicBezTo>
                <a:cubicBezTo>
                  <a:pt x="18883" y="17197"/>
                  <a:pt x="18896" y="17200"/>
                  <a:pt x="18933" y="17204"/>
                </a:cubicBezTo>
                <a:cubicBezTo>
                  <a:pt x="18991" y="17210"/>
                  <a:pt x="19049" y="17210"/>
                  <a:pt x="19107" y="17202"/>
                </a:cubicBezTo>
                <a:cubicBezTo>
                  <a:pt x="19166" y="17194"/>
                  <a:pt x="19230" y="17176"/>
                  <a:pt x="19279" y="17140"/>
                </a:cubicBezTo>
                <a:cubicBezTo>
                  <a:pt x="19321" y="17109"/>
                  <a:pt x="19335" y="17056"/>
                  <a:pt x="19342" y="17007"/>
                </a:cubicBezTo>
                <a:cubicBezTo>
                  <a:pt x="19347" y="16969"/>
                  <a:pt x="19340" y="16937"/>
                  <a:pt x="19333" y="16900"/>
                </a:cubicBezTo>
              </a:path>
              <a:path w="4207" h="1501">
                <a:moveTo>
                  <a:pt x="19553" y="16701"/>
                </a:moveTo>
                <a:cubicBezTo>
                  <a:pt x="19579" y="16744"/>
                  <a:pt x="19606" y="16786"/>
                  <a:pt x="19625" y="16833"/>
                </a:cubicBezTo>
                <a:cubicBezTo>
                  <a:pt x="19646" y="16886"/>
                  <a:pt x="19661" y="16942"/>
                  <a:pt x="19670" y="16998"/>
                </a:cubicBezTo>
                <a:cubicBezTo>
                  <a:pt x="19688" y="17114"/>
                  <a:pt x="19691" y="17245"/>
                  <a:pt x="19666" y="17360"/>
                </a:cubicBezTo>
                <a:cubicBezTo>
                  <a:pt x="19653" y="17423"/>
                  <a:pt x="19634" y="17486"/>
                  <a:pt x="19614" y="17547"/>
                </a:cubicBezTo>
                <a:cubicBezTo>
                  <a:pt x="19607" y="17568"/>
                  <a:pt x="19589" y="17627"/>
                  <a:pt x="19587" y="17634"/>
                </a:cubicBezTo>
                <a:cubicBezTo>
                  <a:pt x="19594" y="17583"/>
                  <a:pt x="19600" y="17532"/>
                  <a:pt x="19600" y="17480"/>
                </a:cubicBezTo>
                <a:cubicBezTo>
                  <a:pt x="19600" y="17378"/>
                  <a:pt x="19583" y="17276"/>
                  <a:pt x="19578" y="17174"/>
                </a:cubicBezTo>
                <a:cubicBezTo>
                  <a:pt x="19571" y="17031"/>
                  <a:pt x="19567" y="16886"/>
                  <a:pt x="19593" y="16744"/>
                </a:cubicBezTo>
                <a:cubicBezTo>
                  <a:pt x="19607" y="16669"/>
                  <a:pt x="19634" y="16599"/>
                  <a:pt x="19661" y="16529"/>
                </a:cubicBezTo>
                <a:cubicBezTo>
                  <a:pt x="19679" y="16483"/>
                  <a:pt x="19690" y="16433"/>
                  <a:pt x="19731" y="16400"/>
                </a:cubicBezTo>
                <a:cubicBezTo>
                  <a:pt x="19763" y="16375"/>
                  <a:pt x="19792" y="16354"/>
                  <a:pt x="19836" y="16355"/>
                </a:cubicBezTo>
                <a:cubicBezTo>
                  <a:pt x="19887" y="16356"/>
                  <a:pt x="19933" y="16383"/>
                  <a:pt x="19972" y="16414"/>
                </a:cubicBezTo>
                <a:cubicBezTo>
                  <a:pt x="20020" y="16452"/>
                  <a:pt x="20063" y="16502"/>
                  <a:pt x="20082" y="16561"/>
                </a:cubicBezTo>
                <a:cubicBezTo>
                  <a:pt x="20107" y="16639"/>
                  <a:pt x="20119" y="16733"/>
                  <a:pt x="20119" y="16815"/>
                </a:cubicBezTo>
                <a:cubicBezTo>
                  <a:pt x="20119" y="16891"/>
                  <a:pt x="20104" y="16979"/>
                  <a:pt x="20082" y="17052"/>
                </a:cubicBezTo>
                <a:cubicBezTo>
                  <a:pt x="20068" y="17098"/>
                  <a:pt x="20048" y="17145"/>
                  <a:pt x="20003" y="17168"/>
                </a:cubicBezTo>
                <a:cubicBezTo>
                  <a:pt x="19957" y="17191"/>
                  <a:pt x="19913" y="17185"/>
                  <a:pt x="19865" y="17177"/>
                </a:cubicBezTo>
              </a:path>
              <a:path w="4207" h="1501">
                <a:moveTo>
                  <a:pt x="20275" y="16138"/>
                </a:moveTo>
                <a:cubicBezTo>
                  <a:pt x="20348" y="16173"/>
                  <a:pt x="20440" y="16210"/>
                  <a:pt x="20494" y="16274"/>
                </a:cubicBezTo>
                <a:cubicBezTo>
                  <a:pt x="20573" y="16368"/>
                  <a:pt x="20578" y="16500"/>
                  <a:pt x="20564" y="16616"/>
                </a:cubicBezTo>
                <a:cubicBezTo>
                  <a:pt x="20552" y="16714"/>
                  <a:pt x="20534" y="16811"/>
                  <a:pt x="20521" y="16909"/>
                </a:cubicBezTo>
                <a:cubicBezTo>
                  <a:pt x="20515" y="16955"/>
                  <a:pt x="20506" y="17003"/>
                  <a:pt x="20496" y="17048"/>
                </a:cubicBezTo>
                <a:cubicBezTo>
                  <a:pt x="20495" y="17049"/>
                  <a:pt x="20495" y="17051"/>
                  <a:pt x="20494" y="17052"/>
                </a:cubicBezTo>
                <a:cubicBezTo>
                  <a:pt x="20496" y="17001"/>
                  <a:pt x="20501" y="16951"/>
                  <a:pt x="20521" y="16903"/>
                </a:cubicBezTo>
                <a:cubicBezTo>
                  <a:pt x="20565" y="16801"/>
                  <a:pt x="20641" y="16737"/>
                  <a:pt x="20743" y="16695"/>
                </a:cubicBezTo>
                <a:cubicBezTo>
                  <a:pt x="20829" y="16659"/>
                  <a:pt x="20927" y="16635"/>
                  <a:pt x="21019" y="16658"/>
                </a:cubicBezTo>
                <a:cubicBezTo>
                  <a:pt x="21123" y="16684"/>
                  <a:pt x="21151" y="16784"/>
                  <a:pt x="21164" y="16878"/>
                </a:cubicBezTo>
                <a:cubicBezTo>
                  <a:pt x="21175" y="16964"/>
                  <a:pt x="21175" y="17043"/>
                  <a:pt x="21166" y="17129"/>
                </a:cubicBezTo>
                <a:cubicBezTo>
                  <a:pt x="21161" y="17172"/>
                  <a:pt x="21152" y="17213"/>
                  <a:pt x="21145" y="17256"/>
                </a:cubicBezTo>
                <a:cubicBezTo>
                  <a:pt x="21143" y="17268"/>
                  <a:pt x="21142" y="17281"/>
                  <a:pt x="21141" y="17292"/>
                </a:cubicBezTo>
              </a:path>
              <a:path w="4207" h="1501">
                <a:moveTo>
                  <a:pt x="21537" y="16744"/>
                </a:moveTo>
                <a:cubicBezTo>
                  <a:pt x="21539" y="16766"/>
                  <a:pt x="21540" y="16788"/>
                  <a:pt x="21541" y="16810"/>
                </a:cubicBezTo>
                <a:cubicBezTo>
                  <a:pt x="21542" y="16823"/>
                  <a:pt x="21542" y="16836"/>
                  <a:pt x="21542" y="16849"/>
                </a:cubicBezTo>
                <a:cubicBezTo>
                  <a:pt x="21542" y="16851"/>
                  <a:pt x="21542" y="16853"/>
                  <a:pt x="21542" y="1685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7980480" y="5875200"/>
            <a:ext cx="1084320" cy="412920"/>
          </a:xfrm>
          <a:custGeom>
            <a:avLst/>
            <a:gdLst/>
            <a:ahLst/>
            <a:rect l="l" t="t" r="r" b="b"/>
            <a:pathLst>
              <a:path w="3012" h="1146">
                <a:moveTo>
                  <a:pt x="22838" y="16482"/>
                </a:moveTo>
                <a:cubicBezTo>
                  <a:pt x="22818" y="16467"/>
                  <a:pt x="22803" y="16457"/>
                  <a:pt x="22797" y="16432"/>
                </a:cubicBezTo>
                <a:cubicBezTo>
                  <a:pt x="22792" y="16414"/>
                  <a:pt x="22798" y="16425"/>
                  <a:pt x="22802" y="16410"/>
                </a:cubicBezTo>
                <a:cubicBezTo>
                  <a:pt x="22819" y="16423"/>
                  <a:pt x="22819" y="16416"/>
                  <a:pt x="22827" y="16443"/>
                </a:cubicBezTo>
                <a:cubicBezTo>
                  <a:pt x="22840" y="16488"/>
                  <a:pt x="22841" y="16535"/>
                  <a:pt x="22835" y="16581"/>
                </a:cubicBezTo>
                <a:cubicBezTo>
                  <a:pt x="22824" y="16669"/>
                  <a:pt x="22796" y="16756"/>
                  <a:pt x="22777" y="16842"/>
                </a:cubicBezTo>
                <a:cubicBezTo>
                  <a:pt x="22758" y="16926"/>
                  <a:pt x="22751" y="17005"/>
                  <a:pt x="22745" y="17091"/>
                </a:cubicBezTo>
                <a:cubicBezTo>
                  <a:pt x="22744" y="17113"/>
                  <a:pt x="22743" y="17170"/>
                  <a:pt x="22743" y="17179"/>
                </a:cubicBezTo>
              </a:path>
              <a:path w="3012" h="1146">
                <a:moveTo>
                  <a:pt x="22465" y="16410"/>
                </a:moveTo>
                <a:cubicBezTo>
                  <a:pt x="22432" y="16400"/>
                  <a:pt x="22404" y="16395"/>
                  <a:pt x="22381" y="16369"/>
                </a:cubicBezTo>
                <a:cubicBezTo>
                  <a:pt x="22374" y="16362"/>
                  <a:pt x="22372" y="16361"/>
                  <a:pt x="22370" y="16355"/>
                </a:cubicBezTo>
                <a:cubicBezTo>
                  <a:pt x="22391" y="16340"/>
                  <a:pt x="22401" y="16335"/>
                  <a:pt x="22430" y="16332"/>
                </a:cubicBezTo>
                <a:cubicBezTo>
                  <a:pt x="22480" y="16327"/>
                  <a:pt x="22531" y="16325"/>
                  <a:pt x="22582" y="16323"/>
                </a:cubicBezTo>
                <a:cubicBezTo>
                  <a:pt x="22657" y="16320"/>
                  <a:pt x="22731" y="16324"/>
                  <a:pt x="22806" y="16324"/>
                </a:cubicBezTo>
                <a:cubicBezTo>
                  <a:pt x="22884" y="16324"/>
                  <a:pt x="22961" y="16329"/>
                  <a:pt x="23039" y="16340"/>
                </a:cubicBezTo>
                <a:cubicBezTo>
                  <a:pt x="23095" y="16348"/>
                  <a:pt x="23154" y="16356"/>
                  <a:pt x="23209" y="16371"/>
                </a:cubicBezTo>
                <a:cubicBezTo>
                  <a:pt x="23255" y="16383"/>
                  <a:pt x="23293" y="16400"/>
                  <a:pt x="23331" y="16428"/>
                </a:cubicBezTo>
              </a:path>
              <a:path w="3012" h="1146">
                <a:moveTo>
                  <a:pt x="22250" y="17238"/>
                </a:moveTo>
                <a:cubicBezTo>
                  <a:pt x="22224" y="17263"/>
                  <a:pt x="22194" y="17287"/>
                  <a:pt x="22170" y="17314"/>
                </a:cubicBezTo>
                <a:cubicBezTo>
                  <a:pt x="22169" y="17316"/>
                  <a:pt x="22169" y="17317"/>
                  <a:pt x="22168" y="17319"/>
                </a:cubicBezTo>
                <a:cubicBezTo>
                  <a:pt x="22204" y="17319"/>
                  <a:pt x="22240" y="17316"/>
                  <a:pt x="22277" y="17308"/>
                </a:cubicBezTo>
                <a:cubicBezTo>
                  <a:pt x="22346" y="17293"/>
                  <a:pt x="22413" y="17268"/>
                  <a:pt x="22483" y="17254"/>
                </a:cubicBezTo>
                <a:cubicBezTo>
                  <a:pt x="22554" y="17239"/>
                  <a:pt x="22627" y="17228"/>
                  <a:pt x="22700" y="17226"/>
                </a:cubicBezTo>
                <a:cubicBezTo>
                  <a:pt x="22772" y="17224"/>
                  <a:pt x="22844" y="17232"/>
                  <a:pt x="22915" y="17244"/>
                </a:cubicBezTo>
                <a:cubicBezTo>
                  <a:pt x="22976" y="17254"/>
                  <a:pt x="23037" y="17260"/>
                  <a:pt x="23098" y="17265"/>
                </a:cubicBezTo>
              </a:path>
              <a:path w="3012" h="1146">
                <a:moveTo>
                  <a:pt x="23594" y="16726"/>
                </a:moveTo>
                <a:cubicBezTo>
                  <a:pt x="23613" y="16760"/>
                  <a:pt x="23636" y="16794"/>
                  <a:pt x="23652" y="16830"/>
                </a:cubicBezTo>
                <a:cubicBezTo>
                  <a:pt x="23679" y="16890"/>
                  <a:pt x="23699" y="16963"/>
                  <a:pt x="23697" y="17029"/>
                </a:cubicBezTo>
                <a:cubicBezTo>
                  <a:pt x="23695" y="17084"/>
                  <a:pt x="23673" y="17142"/>
                  <a:pt x="23652" y="17192"/>
                </a:cubicBezTo>
                <a:cubicBezTo>
                  <a:pt x="23635" y="17231"/>
                  <a:pt x="23615" y="17263"/>
                  <a:pt x="23594" y="17299"/>
                </a:cubicBezTo>
                <a:cubicBezTo>
                  <a:pt x="23587" y="17311"/>
                  <a:pt x="23582" y="17327"/>
                  <a:pt x="23575" y="17339"/>
                </a:cubicBezTo>
                <a:cubicBezTo>
                  <a:pt x="23574" y="17340"/>
                  <a:pt x="23572" y="17341"/>
                  <a:pt x="23571" y="17342"/>
                </a:cubicBezTo>
                <a:cubicBezTo>
                  <a:pt x="23575" y="17324"/>
                  <a:pt x="23578" y="17306"/>
                  <a:pt x="23584" y="17288"/>
                </a:cubicBezTo>
                <a:cubicBezTo>
                  <a:pt x="23603" y="17235"/>
                  <a:pt x="23622" y="17183"/>
                  <a:pt x="23645" y="17131"/>
                </a:cubicBezTo>
                <a:cubicBezTo>
                  <a:pt x="23670" y="17074"/>
                  <a:pt x="23696" y="17019"/>
                  <a:pt x="23725" y="16964"/>
                </a:cubicBezTo>
                <a:cubicBezTo>
                  <a:pt x="23753" y="16911"/>
                  <a:pt x="23783" y="16867"/>
                  <a:pt x="23824" y="16824"/>
                </a:cubicBezTo>
                <a:cubicBezTo>
                  <a:pt x="23855" y="16791"/>
                  <a:pt x="23910" y="16748"/>
                  <a:pt x="23960" y="16763"/>
                </a:cubicBezTo>
                <a:cubicBezTo>
                  <a:pt x="24000" y="16775"/>
                  <a:pt x="24034" y="16825"/>
                  <a:pt x="24050" y="16860"/>
                </a:cubicBezTo>
                <a:cubicBezTo>
                  <a:pt x="24083" y="16934"/>
                  <a:pt x="24099" y="17021"/>
                  <a:pt x="24107" y="17100"/>
                </a:cubicBezTo>
                <a:cubicBezTo>
                  <a:pt x="24114" y="17171"/>
                  <a:pt x="24119" y="17243"/>
                  <a:pt x="24120" y="17314"/>
                </a:cubicBezTo>
                <a:cubicBezTo>
                  <a:pt x="24120" y="17345"/>
                  <a:pt x="24105" y="17423"/>
                  <a:pt x="24121" y="17452"/>
                </a:cubicBezTo>
                <a:cubicBezTo>
                  <a:pt x="24126" y="17461"/>
                  <a:pt x="24139" y="17461"/>
                  <a:pt x="24141" y="17464"/>
                </a:cubicBezTo>
              </a:path>
              <a:path w="3012" h="1146">
                <a:moveTo>
                  <a:pt x="24435" y="16525"/>
                </a:moveTo>
                <a:cubicBezTo>
                  <a:pt x="24458" y="16490"/>
                  <a:pt x="24480" y="16457"/>
                  <a:pt x="24507" y="16425"/>
                </a:cubicBezTo>
                <a:cubicBezTo>
                  <a:pt x="24517" y="16413"/>
                  <a:pt x="24532" y="16393"/>
                  <a:pt x="24550" y="16392"/>
                </a:cubicBezTo>
                <a:cubicBezTo>
                  <a:pt x="24580" y="16391"/>
                  <a:pt x="24596" y="16450"/>
                  <a:pt x="24600" y="16470"/>
                </a:cubicBezTo>
                <a:cubicBezTo>
                  <a:pt x="24611" y="16518"/>
                  <a:pt x="24607" y="16575"/>
                  <a:pt x="24607" y="16624"/>
                </a:cubicBezTo>
                <a:cubicBezTo>
                  <a:pt x="24606" y="16699"/>
                  <a:pt x="24594" y="16778"/>
                  <a:pt x="24586" y="16853"/>
                </a:cubicBezTo>
                <a:cubicBezTo>
                  <a:pt x="24574" y="16973"/>
                  <a:pt x="24558" y="17090"/>
                  <a:pt x="24553" y="17211"/>
                </a:cubicBezTo>
                <a:cubicBezTo>
                  <a:pt x="24551" y="17257"/>
                  <a:pt x="24554" y="17303"/>
                  <a:pt x="24553" y="17348"/>
                </a:cubicBezTo>
                <a:cubicBezTo>
                  <a:pt x="24553" y="17362"/>
                  <a:pt x="24548" y="17364"/>
                  <a:pt x="24546" y="17374"/>
                </a:cubicBezTo>
              </a:path>
              <a:path w="3012" h="1146">
                <a:moveTo>
                  <a:pt x="24349" y="16794"/>
                </a:moveTo>
                <a:cubicBezTo>
                  <a:pt x="24331" y="16808"/>
                  <a:pt x="24309" y="16821"/>
                  <a:pt x="24292" y="16835"/>
                </a:cubicBezTo>
                <a:cubicBezTo>
                  <a:pt x="24291" y="16836"/>
                  <a:pt x="24291" y="16838"/>
                  <a:pt x="24290" y="16839"/>
                </a:cubicBezTo>
                <a:cubicBezTo>
                  <a:pt x="24302" y="16840"/>
                  <a:pt x="24315" y="16843"/>
                  <a:pt x="24329" y="16842"/>
                </a:cubicBezTo>
                <a:cubicBezTo>
                  <a:pt x="24446" y="16836"/>
                  <a:pt x="24562" y="16848"/>
                  <a:pt x="24679" y="16853"/>
                </a:cubicBezTo>
                <a:cubicBezTo>
                  <a:pt x="24778" y="16857"/>
                  <a:pt x="24879" y="16859"/>
                  <a:pt x="24978" y="16860"/>
                </a:cubicBezTo>
                <a:cubicBezTo>
                  <a:pt x="24988" y="16860"/>
                  <a:pt x="24998" y="16860"/>
                  <a:pt x="25008" y="16860"/>
                </a:cubicBezTo>
              </a:path>
              <a:path w="3012" h="1146">
                <a:moveTo>
                  <a:pt x="25179" y="16790"/>
                </a:moveTo>
                <a:cubicBezTo>
                  <a:pt x="25166" y="16821"/>
                  <a:pt x="25153" y="16851"/>
                  <a:pt x="25141" y="16882"/>
                </a:cubicBezTo>
                <a:cubicBezTo>
                  <a:pt x="25133" y="16903"/>
                  <a:pt x="25141" y="16916"/>
                  <a:pt x="25145" y="16937"/>
                </a:cubicBezTo>
                <a:cubicBezTo>
                  <a:pt x="25149" y="16958"/>
                  <a:pt x="25150" y="16974"/>
                  <a:pt x="25137" y="16991"/>
                </a:cubicBezTo>
                <a:cubicBezTo>
                  <a:pt x="25134" y="16994"/>
                  <a:pt x="25132" y="16997"/>
                  <a:pt x="25129" y="17000"/>
                </a:cubicBezTo>
              </a:path>
              <a:path w="3012" h="1146">
                <a:moveTo>
                  <a:pt x="24951" y="17412"/>
                </a:moveTo>
                <a:cubicBezTo>
                  <a:pt x="24958" y="17433"/>
                  <a:pt x="24959" y="17435"/>
                  <a:pt x="24978" y="17444"/>
                </a:cubicBezTo>
                <a:cubicBezTo>
                  <a:pt x="24991" y="17450"/>
                  <a:pt x="24998" y="17452"/>
                  <a:pt x="25012" y="17452"/>
                </a:cubicBezTo>
                <a:cubicBezTo>
                  <a:pt x="25020" y="17452"/>
                  <a:pt x="25035" y="17450"/>
                  <a:pt x="25041" y="17453"/>
                </a:cubicBezTo>
                <a:cubicBezTo>
                  <a:pt x="25044" y="17455"/>
                  <a:pt x="25044" y="17463"/>
                  <a:pt x="25044" y="17466"/>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778280" y="6459480"/>
            <a:ext cx="585720" cy="282600"/>
          </a:xfrm>
          <a:custGeom>
            <a:avLst/>
            <a:gdLst/>
            <a:ahLst/>
            <a:rect l="l" t="t" r="r" b="b"/>
            <a:pathLst>
              <a:path w="1629" h="783">
                <a:moveTo>
                  <a:pt x="13392" y="18138"/>
                </a:moveTo>
                <a:cubicBezTo>
                  <a:pt x="13369" y="18117"/>
                  <a:pt x="13348" y="18084"/>
                  <a:pt x="13313" y="18084"/>
                </a:cubicBezTo>
                <a:cubicBezTo>
                  <a:pt x="13304" y="18084"/>
                  <a:pt x="13295" y="18085"/>
                  <a:pt x="13288" y="18086"/>
                </a:cubicBezTo>
                <a:cubicBezTo>
                  <a:pt x="13288" y="18086"/>
                  <a:pt x="13281" y="18098"/>
                  <a:pt x="13275" y="18100"/>
                </a:cubicBezTo>
                <a:cubicBezTo>
                  <a:pt x="13278" y="18101"/>
                  <a:pt x="13279" y="18099"/>
                  <a:pt x="13282" y="18100"/>
                </a:cubicBezTo>
                <a:cubicBezTo>
                  <a:pt x="13294" y="18105"/>
                  <a:pt x="13305" y="18114"/>
                  <a:pt x="13318" y="18118"/>
                </a:cubicBezTo>
                <a:cubicBezTo>
                  <a:pt x="13352" y="18128"/>
                  <a:pt x="13383" y="18138"/>
                  <a:pt x="13417" y="18149"/>
                </a:cubicBezTo>
                <a:cubicBezTo>
                  <a:pt x="13474" y="18167"/>
                  <a:pt x="13531" y="18183"/>
                  <a:pt x="13591" y="18192"/>
                </a:cubicBezTo>
                <a:cubicBezTo>
                  <a:pt x="13780" y="18221"/>
                  <a:pt x="13975" y="18251"/>
                  <a:pt x="14166" y="18265"/>
                </a:cubicBezTo>
                <a:cubicBezTo>
                  <a:pt x="14238" y="18270"/>
                  <a:pt x="14309" y="18274"/>
                  <a:pt x="14381" y="18279"/>
                </a:cubicBezTo>
                <a:cubicBezTo>
                  <a:pt x="14469" y="18285"/>
                  <a:pt x="14556" y="18294"/>
                  <a:pt x="14644" y="18297"/>
                </a:cubicBezTo>
                <a:cubicBezTo>
                  <a:pt x="14655" y="18297"/>
                  <a:pt x="14667" y="18297"/>
                  <a:pt x="14678" y="18297"/>
                </a:cubicBezTo>
                <a:cubicBezTo>
                  <a:pt x="14670" y="18259"/>
                  <a:pt x="14661" y="18221"/>
                  <a:pt x="14648" y="18183"/>
                </a:cubicBezTo>
                <a:cubicBezTo>
                  <a:pt x="14633" y="18139"/>
                  <a:pt x="14611" y="18104"/>
                  <a:pt x="14589" y="18064"/>
                </a:cubicBezTo>
                <a:cubicBezTo>
                  <a:pt x="14577" y="18042"/>
                  <a:pt x="14564" y="18020"/>
                  <a:pt x="14551" y="17998"/>
                </a:cubicBezTo>
                <a:cubicBezTo>
                  <a:pt x="14544" y="17985"/>
                  <a:pt x="14536" y="17974"/>
                  <a:pt x="14528" y="17962"/>
                </a:cubicBezTo>
                <a:cubicBezTo>
                  <a:pt x="14523" y="17955"/>
                  <a:pt x="14522" y="17955"/>
                  <a:pt x="14517" y="17948"/>
                </a:cubicBezTo>
                <a:cubicBezTo>
                  <a:pt x="14559" y="18006"/>
                  <a:pt x="14608" y="18058"/>
                  <a:pt x="14655" y="18113"/>
                </a:cubicBezTo>
                <a:cubicBezTo>
                  <a:pt x="14710" y="18177"/>
                  <a:pt x="14763" y="18241"/>
                  <a:pt x="14811" y="18310"/>
                </a:cubicBezTo>
                <a:cubicBezTo>
                  <a:pt x="14829" y="18336"/>
                  <a:pt x="14845" y="18363"/>
                  <a:pt x="14863" y="18389"/>
                </a:cubicBezTo>
                <a:cubicBezTo>
                  <a:pt x="14881" y="18415"/>
                  <a:pt x="14911" y="18441"/>
                  <a:pt x="14893" y="18473"/>
                </a:cubicBezTo>
                <a:cubicBezTo>
                  <a:pt x="14876" y="18502"/>
                  <a:pt x="14840" y="18501"/>
                  <a:pt x="14811" y="18507"/>
                </a:cubicBezTo>
                <a:cubicBezTo>
                  <a:pt x="14753" y="18519"/>
                  <a:pt x="14693" y="18524"/>
                  <a:pt x="14635" y="18532"/>
                </a:cubicBezTo>
                <a:cubicBezTo>
                  <a:pt x="14525" y="18547"/>
                  <a:pt x="14420" y="18570"/>
                  <a:pt x="14311" y="18593"/>
                </a:cubicBezTo>
                <a:cubicBezTo>
                  <a:pt x="14247" y="18607"/>
                  <a:pt x="14178" y="18614"/>
                  <a:pt x="14125" y="18656"/>
                </a:cubicBezTo>
                <a:cubicBezTo>
                  <a:pt x="14118" y="18661"/>
                  <a:pt x="14082" y="18702"/>
                  <a:pt x="14083" y="18711"/>
                </a:cubicBezTo>
                <a:cubicBezTo>
                  <a:pt x="14086" y="18731"/>
                  <a:pt x="14083" y="18706"/>
                  <a:pt x="14094" y="18726"/>
                </a:cubicBezTo>
                <a:cubicBezTo>
                  <a:pt x="14100" y="18725"/>
                  <a:pt x="14106" y="18725"/>
                  <a:pt x="14112" y="1872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665680" y="6313320"/>
            <a:ext cx="993960" cy="506520"/>
          </a:xfrm>
          <a:custGeom>
            <a:avLst/>
            <a:gdLst/>
            <a:ahLst/>
            <a:rect l="l" t="t" r="r" b="b"/>
            <a:pathLst>
              <a:path w="2760" h="1409">
                <a:moveTo>
                  <a:pt x="16420" y="17867"/>
                </a:moveTo>
                <a:cubicBezTo>
                  <a:pt x="16412" y="17836"/>
                  <a:pt x="16405" y="17804"/>
                  <a:pt x="16392" y="17774"/>
                </a:cubicBezTo>
                <a:cubicBezTo>
                  <a:pt x="16381" y="17748"/>
                  <a:pt x="16365" y="17725"/>
                  <a:pt x="16347" y="17704"/>
                </a:cubicBezTo>
                <a:cubicBezTo>
                  <a:pt x="16325" y="17679"/>
                  <a:pt x="16303" y="17656"/>
                  <a:pt x="16282" y="17631"/>
                </a:cubicBezTo>
                <a:cubicBezTo>
                  <a:pt x="16265" y="17611"/>
                  <a:pt x="16249" y="17587"/>
                  <a:pt x="16230" y="17570"/>
                </a:cubicBezTo>
                <a:cubicBezTo>
                  <a:pt x="16204" y="17547"/>
                  <a:pt x="16157" y="17528"/>
                  <a:pt x="16123" y="17541"/>
                </a:cubicBezTo>
                <a:cubicBezTo>
                  <a:pt x="16059" y="17566"/>
                  <a:pt x="16029" y="17647"/>
                  <a:pt x="16014" y="17706"/>
                </a:cubicBezTo>
                <a:cubicBezTo>
                  <a:pt x="15999" y="17762"/>
                  <a:pt x="15993" y="17827"/>
                  <a:pt x="15994" y="17885"/>
                </a:cubicBezTo>
                <a:cubicBezTo>
                  <a:pt x="15996" y="17967"/>
                  <a:pt x="16013" y="18052"/>
                  <a:pt x="16031" y="18131"/>
                </a:cubicBezTo>
                <a:cubicBezTo>
                  <a:pt x="16054" y="18233"/>
                  <a:pt x="16089" y="18331"/>
                  <a:pt x="16114" y="18432"/>
                </a:cubicBezTo>
                <a:cubicBezTo>
                  <a:pt x="16133" y="18507"/>
                  <a:pt x="16150" y="18583"/>
                  <a:pt x="16166" y="18658"/>
                </a:cubicBezTo>
                <a:cubicBezTo>
                  <a:pt x="16178" y="18716"/>
                  <a:pt x="16199" y="18768"/>
                  <a:pt x="16221" y="18824"/>
                </a:cubicBezTo>
                <a:cubicBezTo>
                  <a:pt x="16231" y="18849"/>
                  <a:pt x="16242" y="18870"/>
                  <a:pt x="16254" y="18894"/>
                </a:cubicBezTo>
              </a:path>
              <a:path w="2760" h="1409">
                <a:moveTo>
                  <a:pt x="15777" y="18462"/>
                </a:moveTo>
                <a:cubicBezTo>
                  <a:pt x="15764" y="18476"/>
                  <a:pt x="15749" y="18490"/>
                  <a:pt x="15739" y="18507"/>
                </a:cubicBezTo>
                <a:cubicBezTo>
                  <a:pt x="15739" y="18509"/>
                  <a:pt x="15738" y="18510"/>
                  <a:pt x="15738" y="18512"/>
                </a:cubicBezTo>
                <a:cubicBezTo>
                  <a:pt x="15764" y="18516"/>
                  <a:pt x="15791" y="18520"/>
                  <a:pt x="15818" y="18518"/>
                </a:cubicBezTo>
                <a:cubicBezTo>
                  <a:pt x="15880" y="18512"/>
                  <a:pt x="15943" y="18494"/>
                  <a:pt x="16005" y="18486"/>
                </a:cubicBezTo>
                <a:cubicBezTo>
                  <a:pt x="16099" y="18473"/>
                  <a:pt x="16196" y="18464"/>
                  <a:pt x="16291" y="18460"/>
                </a:cubicBezTo>
                <a:cubicBezTo>
                  <a:pt x="16369" y="18457"/>
                  <a:pt x="16446" y="18455"/>
                  <a:pt x="16523" y="18464"/>
                </a:cubicBezTo>
                <a:cubicBezTo>
                  <a:pt x="16559" y="18468"/>
                  <a:pt x="16594" y="18475"/>
                  <a:pt x="16630" y="18480"/>
                </a:cubicBezTo>
                <a:cubicBezTo>
                  <a:pt x="16637" y="18481"/>
                  <a:pt x="16643" y="18481"/>
                  <a:pt x="16650" y="18482"/>
                </a:cubicBezTo>
              </a:path>
              <a:path w="2760" h="1409">
                <a:moveTo>
                  <a:pt x="17031" y="18314"/>
                </a:moveTo>
                <a:cubicBezTo>
                  <a:pt x="17056" y="18318"/>
                  <a:pt x="17082" y="18323"/>
                  <a:pt x="17107" y="18326"/>
                </a:cubicBezTo>
                <a:cubicBezTo>
                  <a:pt x="17111" y="18326"/>
                  <a:pt x="17112" y="18326"/>
                  <a:pt x="17114" y="18326"/>
                </a:cubicBezTo>
                <a:cubicBezTo>
                  <a:pt x="17058" y="18329"/>
                  <a:pt x="17016" y="18336"/>
                  <a:pt x="16965" y="18364"/>
                </a:cubicBezTo>
                <a:cubicBezTo>
                  <a:pt x="16920" y="18389"/>
                  <a:pt x="16880" y="18421"/>
                  <a:pt x="16845" y="18459"/>
                </a:cubicBezTo>
                <a:cubicBezTo>
                  <a:pt x="16806" y="18501"/>
                  <a:pt x="16777" y="18548"/>
                  <a:pt x="16752" y="18600"/>
                </a:cubicBezTo>
                <a:cubicBezTo>
                  <a:pt x="16740" y="18624"/>
                  <a:pt x="16715" y="18669"/>
                  <a:pt x="16720" y="18697"/>
                </a:cubicBezTo>
                <a:cubicBezTo>
                  <a:pt x="16726" y="18728"/>
                  <a:pt x="16750" y="18733"/>
                  <a:pt x="16777" y="18740"/>
                </a:cubicBezTo>
                <a:cubicBezTo>
                  <a:pt x="16814" y="18750"/>
                  <a:pt x="16854" y="18746"/>
                  <a:pt x="16892" y="18740"/>
                </a:cubicBezTo>
                <a:cubicBezTo>
                  <a:pt x="16942" y="18732"/>
                  <a:pt x="16990" y="18714"/>
                  <a:pt x="17037" y="18695"/>
                </a:cubicBezTo>
                <a:cubicBezTo>
                  <a:pt x="17093" y="18672"/>
                  <a:pt x="17149" y="18640"/>
                  <a:pt x="17200" y="18607"/>
                </a:cubicBezTo>
                <a:cubicBezTo>
                  <a:pt x="17246" y="18577"/>
                  <a:pt x="17284" y="18546"/>
                  <a:pt x="17316" y="18503"/>
                </a:cubicBezTo>
                <a:cubicBezTo>
                  <a:pt x="17338" y="18474"/>
                  <a:pt x="17358" y="18443"/>
                  <a:pt x="17367" y="18407"/>
                </a:cubicBezTo>
                <a:cubicBezTo>
                  <a:pt x="17372" y="18388"/>
                  <a:pt x="17375" y="18370"/>
                  <a:pt x="17381" y="18351"/>
                </a:cubicBezTo>
                <a:cubicBezTo>
                  <a:pt x="17383" y="18346"/>
                  <a:pt x="17383" y="18345"/>
                  <a:pt x="17385" y="18342"/>
                </a:cubicBezTo>
                <a:cubicBezTo>
                  <a:pt x="17394" y="18416"/>
                  <a:pt x="17394" y="18490"/>
                  <a:pt x="17394" y="18564"/>
                </a:cubicBezTo>
                <a:cubicBezTo>
                  <a:pt x="17394" y="18626"/>
                  <a:pt x="17399" y="18688"/>
                  <a:pt x="17404" y="18749"/>
                </a:cubicBezTo>
                <a:cubicBezTo>
                  <a:pt x="17407" y="18791"/>
                  <a:pt x="17414" y="18837"/>
                  <a:pt x="17424" y="18878"/>
                </a:cubicBezTo>
                <a:cubicBezTo>
                  <a:pt x="17430" y="18901"/>
                  <a:pt x="17436" y="18924"/>
                  <a:pt x="17454" y="18939"/>
                </a:cubicBezTo>
                <a:cubicBezTo>
                  <a:pt x="17460" y="18941"/>
                  <a:pt x="17465" y="18942"/>
                  <a:pt x="17471" y="18944"/>
                </a:cubicBezTo>
              </a:path>
              <a:path w="2760" h="1409">
                <a:moveTo>
                  <a:pt x="17856" y="17866"/>
                </a:moveTo>
                <a:cubicBezTo>
                  <a:pt x="17868" y="17858"/>
                  <a:pt x="17880" y="17850"/>
                  <a:pt x="17892" y="17842"/>
                </a:cubicBezTo>
                <a:cubicBezTo>
                  <a:pt x="17910" y="17888"/>
                  <a:pt x="17915" y="17932"/>
                  <a:pt x="17915" y="17982"/>
                </a:cubicBezTo>
                <a:cubicBezTo>
                  <a:pt x="17915" y="18056"/>
                  <a:pt x="17900" y="18128"/>
                  <a:pt x="17890" y="18201"/>
                </a:cubicBezTo>
                <a:cubicBezTo>
                  <a:pt x="17880" y="18269"/>
                  <a:pt x="17878" y="18337"/>
                  <a:pt x="17876" y="18405"/>
                </a:cubicBezTo>
                <a:cubicBezTo>
                  <a:pt x="17874" y="18456"/>
                  <a:pt x="17872" y="18506"/>
                  <a:pt x="17890" y="18554"/>
                </a:cubicBezTo>
                <a:cubicBezTo>
                  <a:pt x="17900" y="18581"/>
                  <a:pt x="17917" y="18608"/>
                  <a:pt x="17937" y="18629"/>
                </a:cubicBezTo>
                <a:cubicBezTo>
                  <a:pt x="17940" y="18631"/>
                  <a:pt x="17943" y="18634"/>
                  <a:pt x="17946" y="18636"/>
                </a:cubicBezTo>
              </a:path>
              <a:path w="2760" h="1409">
                <a:moveTo>
                  <a:pt x="18413" y="18113"/>
                </a:moveTo>
                <a:cubicBezTo>
                  <a:pt x="18418" y="18116"/>
                  <a:pt x="18424" y="18119"/>
                  <a:pt x="18429" y="18122"/>
                </a:cubicBezTo>
                <a:cubicBezTo>
                  <a:pt x="18419" y="18136"/>
                  <a:pt x="18408" y="18151"/>
                  <a:pt x="18395" y="18165"/>
                </a:cubicBezTo>
                <a:cubicBezTo>
                  <a:pt x="18373" y="18190"/>
                  <a:pt x="18348" y="18211"/>
                  <a:pt x="18325" y="18236"/>
                </a:cubicBezTo>
                <a:cubicBezTo>
                  <a:pt x="18303" y="18260"/>
                  <a:pt x="18285" y="18286"/>
                  <a:pt x="18275" y="18317"/>
                </a:cubicBezTo>
                <a:cubicBezTo>
                  <a:pt x="18265" y="18347"/>
                  <a:pt x="18264" y="18376"/>
                  <a:pt x="18277" y="18405"/>
                </a:cubicBezTo>
                <a:cubicBezTo>
                  <a:pt x="18312" y="18482"/>
                  <a:pt x="18370" y="18552"/>
                  <a:pt x="18424" y="18616"/>
                </a:cubicBezTo>
                <a:cubicBezTo>
                  <a:pt x="18461" y="18659"/>
                  <a:pt x="18500" y="18724"/>
                  <a:pt x="18497" y="18783"/>
                </a:cubicBezTo>
                <a:cubicBezTo>
                  <a:pt x="18495" y="18819"/>
                  <a:pt x="18484" y="18859"/>
                  <a:pt x="18460" y="18887"/>
                </a:cubicBezTo>
                <a:cubicBezTo>
                  <a:pt x="18440" y="18910"/>
                  <a:pt x="18404" y="18929"/>
                  <a:pt x="18374" y="18934"/>
                </a:cubicBezTo>
                <a:cubicBezTo>
                  <a:pt x="18366" y="18934"/>
                  <a:pt x="18357" y="18935"/>
                  <a:pt x="18349" y="1893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962760" y="6370560"/>
            <a:ext cx="509760" cy="540000"/>
          </a:xfrm>
          <a:custGeom>
            <a:avLst/>
            <a:gdLst/>
            <a:ahLst/>
            <a:rect l="l" t="t" r="r" b="b"/>
            <a:pathLst>
              <a:path w="1415" h="1497">
                <a:moveTo>
                  <a:pt x="19996" y="18193"/>
                </a:moveTo>
                <a:cubicBezTo>
                  <a:pt x="19978" y="18197"/>
                  <a:pt x="19951" y="18196"/>
                  <a:pt x="19937" y="18210"/>
                </a:cubicBezTo>
                <a:cubicBezTo>
                  <a:pt x="19918" y="18229"/>
                  <a:pt x="19905" y="18276"/>
                  <a:pt x="19899" y="18301"/>
                </a:cubicBezTo>
                <a:cubicBezTo>
                  <a:pt x="19885" y="18357"/>
                  <a:pt x="19875" y="18413"/>
                  <a:pt x="19861" y="18469"/>
                </a:cubicBezTo>
                <a:cubicBezTo>
                  <a:pt x="19848" y="18520"/>
                  <a:pt x="19833" y="18573"/>
                  <a:pt x="19825" y="18625"/>
                </a:cubicBezTo>
                <a:cubicBezTo>
                  <a:pt x="19818" y="18670"/>
                  <a:pt x="19812" y="18722"/>
                  <a:pt x="19818" y="18767"/>
                </a:cubicBezTo>
                <a:cubicBezTo>
                  <a:pt x="19822" y="18799"/>
                  <a:pt x="19838" y="18827"/>
                  <a:pt x="19845" y="18858"/>
                </a:cubicBezTo>
                <a:cubicBezTo>
                  <a:pt x="19847" y="18867"/>
                  <a:pt x="19848" y="18863"/>
                  <a:pt x="19854" y="18871"/>
                </a:cubicBezTo>
              </a:path>
              <a:path w="1415" h="1497">
                <a:moveTo>
                  <a:pt x="20028" y="18344"/>
                </a:moveTo>
                <a:cubicBezTo>
                  <a:pt x="20055" y="18300"/>
                  <a:pt x="20081" y="18256"/>
                  <a:pt x="20107" y="18211"/>
                </a:cubicBezTo>
                <a:cubicBezTo>
                  <a:pt x="20114" y="18198"/>
                  <a:pt x="20122" y="18186"/>
                  <a:pt x="20136" y="18179"/>
                </a:cubicBezTo>
                <a:cubicBezTo>
                  <a:pt x="20152" y="18171"/>
                  <a:pt x="20164" y="18176"/>
                  <a:pt x="20179" y="18184"/>
                </a:cubicBezTo>
                <a:cubicBezTo>
                  <a:pt x="20214" y="18203"/>
                  <a:pt x="20233" y="18257"/>
                  <a:pt x="20257" y="18287"/>
                </a:cubicBezTo>
                <a:cubicBezTo>
                  <a:pt x="20287" y="18323"/>
                  <a:pt x="20314" y="18363"/>
                  <a:pt x="20345" y="18398"/>
                </a:cubicBezTo>
                <a:cubicBezTo>
                  <a:pt x="20371" y="18427"/>
                  <a:pt x="20399" y="18456"/>
                  <a:pt x="20426" y="18484"/>
                </a:cubicBezTo>
                <a:cubicBezTo>
                  <a:pt x="20443" y="18502"/>
                  <a:pt x="20460" y="18520"/>
                  <a:pt x="20480" y="18534"/>
                </a:cubicBezTo>
                <a:cubicBezTo>
                  <a:pt x="20487" y="18539"/>
                  <a:pt x="20496" y="18542"/>
                  <a:pt x="20503" y="18546"/>
                </a:cubicBezTo>
                <a:cubicBezTo>
                  <a:pt x="20495" y="18528"/>
                  <a:pt x="20490" y="18514"/>
                  <a:pt x="20478" y="18498"/>
                </a:cubicBezTo>
                <a:cubicBezTo>
                  <a:pt x="20447" y="18455"/>
                  <a:pt x="20405" y="18417"/>
                  <a:pt x="20369" y="18378"/>
                </a:cubicBezTo>
                <a:cubicBezTo>
                  <a:pt x="20333" y="18339"/>
                  <a:pt x="20299" y="18306"/>
                  <a:pt x="20256" y="18274"/>
                </a:cubicBezTo>
                <a:cubicBezTo>
                  <a:pt x="20208" y="18238"/>
                  <a:pt x="20159" y="18211"/>
                  <a:pt x="20105" y="18186"/>
                </a:cubicBezTo>
                <a:cubicBezTo>
                  <a:pt x="20077" y="18173"/>
                  <a:pt x="20049" y="18167"/>
                  <a:pt x="20019" y="18167"/>
                </a:cubicBezTo>
                <a:cubicBezTo>
                  <a:pt x="19981" y="18167"/>
                  <a:pt x="19950" y="18178"/>
                  <a:pt x="19917" y="18195"/>
                </a:cubicBezTo>
                <a:cubicBezTo>
                  <a:pt x="19848" y="18231"/>
                  <a:pt x="19792" y="18274"/>
                  <a:pt x="19738" y="18330"/>
                </a:cubicBezTo>
                <a:cubicBezTo>
                  <a:pt x="19711" y="18358"/>
                  <a:pt x="19688" y="18385"/>
                  <a:pt x="19670" y="18419"/>
                </a:cubicBezTo>
                <a:cubicBezTo>
                  <a:pt x="19657" y="18443"/>
                  <a:pt x="19651" y="18469"/>
                  <a:pt x="19643" y="18495"/>
                </a:cubicBezTo>
              </a:path>
              <a:path w="1415" h="1497">
                <a:moveTo>
                  <a:pt x="20286" y="18383"/>
                </a:moveTo>
                <a:cubicBezTo>
                  <a:pt x="20284" y="18333"/>
                  <a:pt x="20281" y="18286"/>
                  <a:pt x="20261" y="18238"/>
                </a:cubicBezTo>
                <a:cubicBezTo>
                  <a:pt x="20250" y="18210"/>
                  <a:pt x="20232" y="18186"/>
                  <a:pt x="20223" y="18158"/>
                </a:cubicBezTo>
                <a:cubicBezTo>
                  <a:pt x="20206" y="18107"/>
                  <a:pt x="20193" y="18049"/>
                  <a:pt x="20182" y="17996"/>
                </a:cubicBezTo>
                <a:cubicBezTo>
                  <a:pt x="20167" y="17924"/>
                  <a:pt x="20161" y="17849"/>
                  <a:pt x="20141" y="17779"/>
                </a:cubicBezTo>
                <a:cubicBezTo>
                  <a:pt x="20135" y="17759"/>
                  <a:pt x="20128" y="17738"/>
                  <a:pt x="20118" y="17720"/>
                </a:cubicBezTo>
                <a:cubicBezTo>
                  <a:pt x="20114" y="17714"/>
                  <a:pt x="20108" y="17707"/>
                  <a:pt x="20105" y="17702"/>
                </a:cubicBezTo>
                <a:cubicBezTo>
                  <a:pt x="20101" y="17701"/>
                  <a:pt x="20100" y="17701"/>
                  <a:pt x="20100" y="17697"/>
                </a:cubicBezTo>
                <a:cubicBezTo>
                  <a:pt x="20095" y="17708"/>
                  <a:pt x="20086" y="17716"/>
                  <a:pt x="20082" y="17728"/>
                </a:cubicBezTo>
                <a:cubicBezTo>
                  <a:pt x="20074" y="17751"/>
                  <a:pt x="20072" y="17776"/>
                  <a:pt x="20064" y="17799"/>
                </a:cubicBezTo>
                <a:cubicBezTo>
                  <a:pt x="20048" y="17848"/>
                  <a:pt x="20027" y="17890"/>
                  <a:pt x="20007" y="17937"/>
                </a:cubicBezTo>
                <a:cubicBezTo>
                  <a:pt x="19961" y="18044"/>
                  <a:pt x="19889" y="18136"/>
                  <a:pt x="19815" y="18226"/>
                </a:cubicBezTo>
                <a:cubicBezTo>
                  <a:pt x="19765" y="18286"/>
                  <a:pt x="19721" y="18351"/>
                  <a:pt x="19673" y="18412"/>
                </a:cubicBezTo>
                <a:cubicBezTo>
                  <a:pt x="19662" y="18426"/>
                  <a:pt x="19650" y="18437"/>
                  <a:pt x="19639" y="18450"/>
                </a:cubicBezTo>
                <a:cubicBezTo>
                  <a:pt x="19634" y="18456"/>
                  <a:pt x="19630" y="18464"/>
                  <a:pt x="19625" y="18469"/>
                </a:cubicBezTo>
                <a:cubicBezTo>
                  <a:pt x="19622" y="18472"/>
                  <a:pt x="19616" y="18476"/>
                  <a:pt x="19614" y="18478"/>
                </a:cubicBezTo>
                <a:cubicBezTo>
                  <a:pt x="19629" y="18470"/>
                  <a:pt x="19653" y="18464"/>
                  <a:pt x="19666" y="18453"/>
                </a:cubicBezTo>
                <a:cubicBezTo>
                  <a:pt x="19695" y="18428"/>
                  <a:pt x="19712" y="18387"/>
                  <a:pt x="19736" y="18357"/>
                </a:cubicBezTo>
                <a:cubicBezTo>
                  <a:pt x="19762" y="18324"/>
                  <a:pt x="19788" y="18291"/>
                  <a:pt x="19818" y="18262"/>
                </a:cubicBezTo>
                <a:cubicBezTo>
                  <a:pt x="19872" y="18210"/>
                  <a:pt x="19914" y="18150"/>
                  <a:pt x="19969" y="18098"/>
                </a:cubicBezTo>
                <a:cubicBezTo>
                  <a:pt x="19979" y="18088"/>
                  <a:pt x="19993" y="18071"/>
                  <a:pt x="20005" y="18064"/>
                </a:cubicBezTo>
                <a:cubicBezTo>
                  <a:pt x="20016" y="18057"/>
                  <a:pt x="20029" y="18055"/>
                  <a:pt x="20042" y="18050"/>
                </a:cubicBezTo>
                <a:cubicBezTo>
                  <a:pt x="20051" y="18047"/>
                  <a:pt x="20068" y="18040"/>
                  <a:pt x="20078" y="18038"/>
                </a:cubicBezTo>
                <a:cubicBezTo>
                  <a:pt x="20084" y="18037"/>
                  <a:pt x="20100" y="18029"/>
                  <a:pt x="20105" y="18030"/>
                </a:cubicBezTo>
                <a:cubicBezTo>
                  <a:pt x="20120" y="18034"/>
                  <a:pt x="20131" y="18058"/>
                  <a:pt x="20136" y="18070"/>
                </a:cubicBezTo>
                <a:cubicBezTo>
                  <a:pt x="20150" y="18101"/>
                  <a:pt x="20152" y="18135"/>
                  <a:pt x="20164" y="18167"/>
                </a:cubicBezTo>
                <a:cubicBezTo>
                  <a:pt x="20183" y="18216"/>
                  <a:pt x="20216" y="18272"/>
                  <a:pt x="20247" y="18314"/>
                </a:cubicBezTo>
                <a:cubicBezTo>
                  <a:pt x="20263" y="18335"/>
                  <a:pt x="20282" y="18356"/>
                  <a:pt x="20300" y="18376"/>
                </a:cubicBezTo>
                <a:cubicBezTo>
                  <a:pt x="20321" y="18400"/>
                  <a:pt x="20341" y="18421"/>
                  <a:pt x="20358" y="18448"/>
                </a:cubicBezTo>
                <a:cubicBezTo>
                  <a:pt x="20379" y="18483"/>
                  <a:pt x="20392" y="18522"/>
                  <a:pt x="20408" y="18557"/>
                </a:cubicBezTo>
                <a:cubicBezTo>
                  <a:pt x="20410" y="18561"/>
                  <a:pt x="20413" y="18565"/>
                  <a:pt x="20415" y="18568"/>
                </a:cubicBezTo>
                <a:cubicBezTo>
                  <a:pt x="20408" y="18558"/>
                  <a:pt x="20407" y="18551"/>
                  <a:pt x="20397" y="18539"/>
                </a:cubicBezTo>
                <a:cubicBezTo>
                  <a:pt x="20386" y="18527"/>
                  <a:pt x="20373" y="18514"/>
                  <a:pt x="20361" y="18502"/>
                </a:cubicBezTo>
                <a:cubicBezTo>
                  <a:pt x="20350" y="18491"/>
                  <a:pt x="20338" y="18482"/>
                  <a:pt x="20327" y="18471"/>
                </a:cubicBezTo>
                <a:cubicBezTo>
                  <a:pt x="20288" y="18434"/>
                  <a:pt x="20236" y="18403"/>
                  <a:pt x="20182" y="18398"/>
                </a:cubicBezTo>
                <a:cubicBezTo>
                  <a:pt x="20173" y="18397"/>
                  <a:pt x="20157" y="18400"/>
                  <a:pt x="20152" y="18400"/>
                </a:cubicBezTo>
                <a:cubicBezTo>
                  <a:pt x="20154" y="18402"/>
                  <a:pt x="20153" y="18404"/>
                  <a:pt x="20157" y="18407"/>
                </a:cubicBezTo>
                <a:cubicBezTo>
                  <a:pt x="20178" y="18420"/>
                  <a:pt x="20199" y="18433"/>
                  <a:pt x="20223" y="18444"/>
                </a:cubicBezTo>
                <a:cubicBezTo>
                  <a:pt x="20235" y="18449"/>
                  <a:pt x="20246" y="18452"/>
                  <a:pt x="20257" y="18457"/>
                </a:cubicBezTo>
                <a:cubicBezTo>
                  <a:pt x="20265" y="18460"/>
                  <a:pt x="20274" y="18459"/>
                  <a:pt x="20281" y="18462"/>
                </a:cubicBezTo>
                <a:cubicBezTo>
                  <a:pt x="20284" y="18463"/>
                  <a:pt x="20279" y="18467"/>
                  <a:pt x="20282" y="18468"/>
                </a:cubicBezTo>
                <a:cubicBezTo>
                  <a:pt x="20101" y="18468"/>
                  <a:pt x="19909" y="18484"/>
                  <a:pt x="19731" y="18462"/>
                </a:cubicBezTo>
                <a:cubicBezTo>
                  <a:pt x="19725" y="18461"/>
                  <a:pt x="19719" y="18460"/>
                  <a:pt x="19713" y="18459"/>
                </a:cubicBezTo>
                <a:cubicBezTo>
                  <a:pt x="19870" y="18459"/>
                  <a:pt x="20032" y="18443"/>
                  <a:pt x="20188" y="18453"/>
                </a:cubicBezTo>
                <a:cubicBezTo>
                  <a:pt x="20196" y="18454"/>
                  <a:pt x="20203" y="18456"/>
                  <a:pt x="20211" y="18457"/>
                </a:cubicBezTo>
                <a:cubicBezTo>
                  <a:pt x="20167" y="18457"/>
                  <a:pt x="20125" y="18461"/>
                  <a:pt x="20082" y="18462"/>
                </a:cubicBezTo>
                <a:cubicBezTo>
                  <a:pt x="20067" y="18462"/>
                  <a:pt x="20053" y="18459"/>
                  <a:pt x="20042" y="18468"/>
                </a:cubicBezTo>
                <a:cubicBezTo>
                  <a:pt x="20035" y="18474"/>
                  <a:pt x="20033" y="18491"/>
                  <a:pt x="20028" y="18498"/>
                </a:cubicBezTo>
                <a:cubicBezTo>
                  <a:pt x="20016" y="18514"/>
                  <a:pt x="20005" y="18531"/>
                  <a:pt x="19994" y="18548"/>
                </a:cubicBezTo>
                <a:cubicBezTo>
                  <a:pt x="19980" y="18571"/>
                  <a:pt x="19973" y="18597"/>
                  <a:pt x="19960" y="18620"/>
                </a:cubicBezTo>
                <a:cubicBezTo>
                  <a:pt x="19937" y="18660"/>
                  <a:pt x="19915" y="18696"/>
                  <a:pt x="19895" y="18738"/>
                </a:cubicBezTo>
                <a:cubicBezTo>
                  <a:pt x="19872" y="18787"/>
                  <a:pt x="19848" y="18834"/>
                  <a:pt x="19824" y="18882"/>
                </a:cubicBezTo>
                <a:cubicBezTo>
                  <a:pt x="19806" y="18917"/>
                  <a:pt x="19793" y="18953"/>
                  <a:pt x="19777" y="18989"/>
                </a:cubicBezTo>
                <a:cubicBezTo>
                  <a:pt x="19772" y="18999"/>
                  <a:pt x="19766" y="19008"/>
                  <a:pt x="19761" y="19018"/>
                </a:cubicBezTo>
                <a:cubicBezTo>
                  <a:pt x="19760" y="19020"/>
                  <a:pt x="19760" y="19016"/>
                  <a:pt x="19759" y="19018"/>
                </a:cubicBezTo>
              </a:path>
              <a:path w="1415" h="1497">
                <a:moveTo>
                  <a:pt x="19971" y="18505"/>
                </a:moveTo>
                <a:cubicBezTo>
                  <a:pt x="19993" y="18502"/>
                  <a:pt x="20014" y="18497"/>
                  <a:pt x="20035" y="18493"/>
                </a:cubicBezTo>
                <a:cubicBezTo>
                  <a:pt x="20041" y="18492"/>
                  <a:pt x="20047" y="18492"/>
                  <a:pt x="20053" y="18491"/>
                </a:cubicBezTo>
                <a:cubicBezTo>
                  <a:pt x="20055" y="18502"/>
                  <a:pt x="20060" y="18514"/>
                  <a:pt x="20057" y="18527"/>
                </a:cubicBezTo>
                <a:cubicBezTo>
                  <a:pt x="20050" y="18560"/>
                  <a:pt x="20035" y="18594"/>
                  <a:pt x="20026" y="18627"/>
                </a:cubicBezTo>
                <a:cubicBezTo>
                  <a:pt x="20009" y="18692"/>
                  <a:pt x="19982" y="18753"/>
                  <a:pt x="19953" y="18814"/>
                </a:cubicBezTo>
                <a:cubicBezTo>
                  <a:pt x="19904" y="18918"/>
                  <a:pt x="19854" y="19018"/>
                  <a:pt x="19795" y="19116"/>
                </a:cubicBezTo>
                <a:cubicBezTo>
                  <a:pt x="19783" y="19136"/>
                  <a:pt x="19764" y="19158"/>
                  <a:pt x="19756" y="19179"/>
                </a:cubicBezTo>
                <a:cubicBezTo>
                  <a:pt x="19754" y="19183"/>
                  <a:pt x="19753" y="19184"/>
                  <a:pt x="19757" y="19184"/>
                </a:cubicBezTo>
                <a:cubicBezTo>
                  <a:pt x="19761" y="19176"/>
                  <a:pt x="19764" y="19171"/>
                  <a:pt x="19768" y="19163"/>
                </a:cubicBezTo>
                <a:cubicBezTo>
                  <a:pt x="19771" y="19156"/>
                  <a:pt x="19774" y="19150"/>
                  <a:pt x="19777" y="19143"/>
                </a:cubicBezTo>
              </a:path>
              <a:path w="1415" h="1497">
                <a:moveTo>
                  <a:pt x="20010" y="18568"/>
                </a:moveTo>
                <a:cubicBezTo>
                  <a:pt x="20021" y="18551"/>
                  <a:pt x="20032" y="18537"/>
                  <a:pt x="20046" y="18521"/>
                </a:cubicBezTo>
                <a:cubicBezTo>
                  <a:pt x="20047" y="18520"/>
                  <a:pt x="20049" y="18519"/>
                  <a:pt x="20050" y="18518"/>
                </a:cubicBezTo>
                <a:cubicBezTo>
                  <a:pt x="20051" y="18526"/>
                  <a:pt x="20056" y="18535"/>
                  <a:pt x="20055" y="18546"/>
                </a:cubicBezTo>
                <a:cubicBezTo>
                  <a:pt x="20051" y="18594"/>
                  <a:pt x="20020" y="18637"/>
                  <a:pt x="19996" y="18677"/>
                </a:cubicBezTo>
                <a:cubicBezTo>
                  <a:pt x="19966" y="18728"/>
                  <a:pt x="19932" y="18779"/>
                  <a:pt x="19908" y="18833"/>
                </a:cubicBezTo>
                <a:cubicBezTo>
                  <a:pt x="19887" y="18881"/>
                  <a:pt x="19870" y="18931"/>
                  <a:pt x="19851" y="18980"/>
                </a:cubicBezTo>
                <a:cubicBezTo>
                  <a:pt x="19840" y="19007"/>
                  <a:pt x="19827" y="19033"/>
                  <a:pt x="19815" y="19059"/>
                </a:cubicBezTo>
                <a:cubicBezTo>
                  <a:pt x="19813" y="19063"/>
                  <a:pt x="19810" y="19069"/>
                  <a:pt x="19808" y="19073"/>
                </a:cubicBezTo>
                <a:cubicBezTo>
                  <a:pt x="19813" y="19060"/>
                  <a:pt x="19819" y="19046"/>
                  <a:pt x="19824" y="19032"/>
                </a:cubicBezTo>
                <a:cubicBezTo>
                  <a:pt x="19835" y="18998"/>
                  <a:pt x="19848" y="18965"/>
                  <a:pt x="19860" y="18932"/>
                </a:cubicBezTo>
                <a:cubicBezTo>
                  <a:pt x="19877" y="18884"/>
                  <a:pt x="19893" y="18834"/>
                  <a:pt x="19915" y="18788"/>
                </a:cubicBezTo>
                <a:cubicBezTo>
                  <a:pt x="19936" y="18743"/>
                  <a:pt x="19959" y="18698"/>
                  <a:pt x="19978" y="18652"/>
                </a:cubicBezTo>
                <a:cubicBezTo>
                  <a:pt x="19994" y="18615"/>
                  <a:pt x="20024" y="18593"/>
                  <a:pt x="20041" y="18559"/>
                </a:cubicBezTo>
                <a:cubicBezTo>
                  <a:pt x="20043" y="18555"/>
                  <a:pt x="20035" y="18561"/>
                  <a:pt x="20037" y="18557"/>
                </a:cubicBezTo>
                <a:cubicBezTo>
                  <a:pt x="20012" y="18586"/>
                  <a:pt x="19991" y="18619"/>
                  <a:pt x="19972" y="18652"/>
                </a:cubicBezTo>
                <a:cubicBezTo>
                  <a:pt x="19941" y="18706"/>
                  <a:pt x="19905" y="18756"/>
                  <a:pt x="19872" y="18808"/>
                </a:cubicBezTo>
                <a:cubicBezTo>
                  <a:pt x="19849" y="18845"/>
                  <a:pt x="19826" y="18881"/>
                  <a:pt x="19809" y="18921"/>
                </a:cubicBezTo>
                <a:cubicBezTo>
                  <a:pt x="19805" y="18930"/>
                  <a:pt x="19800" y="18941"/>
                  <a:pt x="19800" y="18951"/>
                </a:cubicBezTo>
                <a:cubicBezTo>
                  <a:pt x="19800" y="18963"/>
                  <a:pt x="19800" y="18951"/>
                  <a:pt x="19802" y="18946"/>
                </a:cubicBezTo>
                <a:cubicBezTo>
                  <a:pt x="19803" y="18942"/>
                  <a:pt x="19805" y="18939"/>
                  <a:pt x="19806" y="18935"/>
                </a:cubicBezTo>
                <a:cubicBezTo>
                  <a:pt x="19812" y="18900"/>
                  <a:pt x="19823" y="18878"/>
                  <a:pt x="19838" y="18844"/>
                </a:cubicBezTo>
                <a:cubicBezTo>
                  <a:pt x="19861" y="18793"/>
                  <a:pt x="19885" y="18742"/>
                  <a:pt x="19919" y="18697"/>
                </a:cubicBezTo>
                <a:cubicBezTo>
                  <a:pt x="19952" y="18653"/>
                  <a:pt x="19998" y="18615"/>
                  <a:pt x="20037" y="18577"/>
                </a:cubicBezTo>
                <a:cubicBezTo>
                  <a:pt x="20056" y="18558"/>
                  <a:pt x="20078" y="18540"/>
                  <a:pt x="20098" y="18523"/>
                </a:cubicBezTo>
                <a:cubicBezTo>
                  <a:pt x="20102" y="18517"/>
                  <a:pt x="20104" y="18515"/>
                  <a:pt x="20110" y="18514"/>
                </a:cubicBezTo>
                <a:cubicBezTo>
                  <a:pt x="20117" y="18537"/>
                  <a:pt x="20121" y="18556"/>
                  <a:pt x="20118" y="18581"/>
                </a:cubicBezTo>
                <a:cubicBezTo>
                  <a:pt x="20113" y="18629"/>
                  <a:pt x="20096" y="18680"/>
                  <a:pt x="20082" y="18726"/>
                </a:cubicBezTo>
                <a:cubicBezTo>
                  <a:pt x="20069" y="18770"/>
                  <a:pt x="20055" y="18814"/>
                  <a:pt x="20042" y="18858"/>
                </a:cubicBezTo>
                <a:cubicBezTo>
                  <a:pt x="20035" y="18880"/>
                  <a:pt x="20030" y="18903"/>
                  <a:pt x="20023" y="18925"/>
                </a:cubicBezTo>
                <a:cubicBezTo>
                  <a:pt x="20021" y="18932"/>
                  <a:pt x="20017" y="18939"/>
                  <a:pt x="20015" y="18946"/>
                </a:cubicBezTo>
                <a:cubicBezTo>
                  <a:pt x="20015" y="18947"/>
                  <a:pt x="20014" y="18947"/>
                  <a:pt x="20014" y="18948"/>
                </a:cubicBezTo>
                <a:cubicBezTo>
                  <a:pt x="20023" y="18941"/>
                  <a:pt x="20031" y="18933"/>
                  <a:pt x="20041" y="18921"/>
                </a:cubicBezTo>
                <a:cubicBezTo>
                  <a:pt x="20066" y="18892"/>
                  <a:pt x="20090" y="18860"/>
                  <a:pt x="20116" y="18831"/>
                </a:cubicBezTo>
                <a:cubicBezTo>
                  <a:pt x="20149" y="18793"/>
                  <a:pt x="20182" y="18756"/>
                  <a:pt x="20211" y="18715"/>
                </a:cubicBezTo>
                <a:cubicBezTo>
                  <a:pt x="20237" y="18677"/>
                  <a:pt x="20253" y="18632"/>
                  <a:pt x="20281" y="18595"/>
                </a:cubicBezTo>
                <a:cubicBezTo>
                  <a:pt x="20285" y="18590"/>
                  <a:pt x="20284" y="18587"/>
                  <a:pt x="20288" y="18588"/>
                </a:cubicBezTo>
                <a:cubicBezTo>
                  <a:pt x="20266" y="18614"/>
                  <a:pt x="20251" y="18637"/>
                  <a:pt x="20234" y="18667"/>
                </a:cubicBezTo>
                <a:cubicBezTo>
                  <a:pt x="20204" y="18719"/>
                  <a:pt x="20175" y="18771"/>
                  <a:pt x="20150" y="18826"/>
                </a:cubicBezTo>
                <a:cubicBezTo>
                  <a:pt x="20129" y="18872"/>
                  <a:pt x="20106" y="18919"/>
                  <a:pt x="20080" y="18962"/>
                </a:cubicBezTo>
                <a:cubicBezTo>
                  <a:pt x="20062" y="18992"/>
                  <a:pt x="20052" y="19022"/>
                  <a:pt x="20037" y="19052"/>
                </a:cubicBezTo>
                <a:cubicBezTo>
                  <a:pt x="20031" y="19064"/>
                  <a:pt x="20022" y="19073"/>
                  <a:pt x="20015" y="19084"/>
                </a:cubicBezTo>
                <a:cubicBezTo>
                  <a:pt x="20006" y="19099"/>
                  <a:pt x="20017" y="19092"/>
                  <a:pt x="20017" y="19081"/>
                </a:cubicBezTo>
                <a:cubicBezTo>
                  <a:pt x="20038" y="19058"/>
                  <a:pt x="20051" y="19034"/>
                  <a:pt x="20064" y="19005"/>
                </a:cubicBezTo>
                <a:cubicBezTo>
                  <a:pt x="20082" y="18964"/>
                  <a:pt x="20095" y="18922"/>
                  <a:pt x="20112" y="18880"/>
                </a:cubicBezTo>
                <a:cubicBezTo>
                  <a:pt x="20127" y="18842"/>
                  <a:pt x="20142" y="18803"/>
                  <a:pt x="20157" y="18765"/>
                </a:cubicBezTo>
                <a:cubicBezTo>
                  <a:pt x="20159" y="18760"/>
                  <a:pt x="20162" y="18754"/>
                  <a:pt x="20164" y="18749"/>
                </a:cubicBezTo>
                <a:cubicBezTo>
                  <a:pt x="20166" y="18746"/>
                  <a:pt x="20183" y="18710"/>
                  <a:pt x="20171" y="18742"/>
                </a:cubicBezTo>
                <a:cubicBezTo>
                  <a:pt x="20157" y="18780"/>
                  <a:pt x="20128" y="18811"/>
                  <a:pt x="20109" y="18846"/>
                </a:cubicBezTo>
                <a:cubicBezTo>
                  <a:pt x="20088" y="18885"/>
                  <a:pt x="20069" y="18924"/>
                  <a:pt x="20042" y="18959"/>
                </a:cubicBezTo>
                <a:cubicBezTo>
                  <a:pt x="20023" y="18984"/>
                  <a:pt x="20005" y="19009"/>
                  <a:pt x="19989" y="19036"/>
                </a:cubicBezTo>
                <a:cubicBezTo>
                  <a:pt x="19978" y="19055"/>
                  <a:pt x="19970" y="19076"/>
                  <a:pt x="19965" y="19097"/>
                </a:cubicBezTo>
                <a:cubicBezTo>
                  <a:pt x="19962" y="19110"/>
                  <a:pt x="19958" y="19125"/>
                  <a:pt x="19958" y="19138"/>
                </a:cubicBezTo>
                <a:cubicBezTo>
                  <a:pt x="19958" y="19144"/>
                  <a:pt x="19958" y="19146"/>
                  <a:pt x="19962" y="19149"/>
                </a:cubicBezTo>
                <a:cubicBezTo>
                  <a:pt x="19969" y="19146"/>
                  <a:pt x="19974" y="19154"/>
                  <a:pt x="19980" y="19147"/>
                </a:cubicBezTo>
                <a:cubicBezTo>
                  <a:pt x="19988" y="19138"/>
                  <a:pt x="19995" y="19114"/>
                  <a:pt x="20003" y="19102"/>
                </a:cubicBezTo>
                <a:cubicBezTo>
                  <a:pt x="20023" y="19071"/>
                  <a:pt x="20040" y="19039"/>
                  <a:pt x="20060" y="19009"/>
                </a:cubicBezTo>
                <a:cubicBezTo>
                  <a:pt x="20072" y="18991"/>
                  <a:pt x="20092" y="18989"/>
                  <a:pt x="20105" y="18975"/>
                </a:cubicBezTo>
                <a:cubicBezTo>
                  <a:pt x="20107" y="18970"/>
                  <a:pt x="20107" y="18969"/>
                  <a:pt x="20101" y="18973"/>
                </a:cubicBezTo>
                <a:cubicBezTo>
                  <a:pt x="20083" y="18989"/>
                  <a:pt x="20065" y="19006"/>
                  <a:pt x="20050" y="19025"/>
                </a:cubicBezTo>
                <a:cubicBezTo>
                  <a:pt x="20016" y="19070"/>
                  <a:pt x="19974" y="19107"/>
                  <a:pt x="19940" y="19152"/>
                </a:cubicBezTo>
                <a:cubicBezTo>
                  <a:pt x="19932" y="19163"/>
                  <a:pt x="19916" y="19175"/>
                  <a:pt x="19910" y="19186"/>
                </a:cubicBezTo>
                <a:cubicBezTo>
                  <a:pt x="19908" y="19189"/>
                  <a:pt x="19902" y="19192"/>
                  <a:pt x="19906" y="19193"/>
                </a:cubicBezTo>
                <a:cubicBezTo>
                  <a:pt x="19914" y="19192"/>
                  <a:pt x="19918" y="19190"/>
                  <a:pt x="19922" y="19184"/>
                </a:cubicBezTo>
                <a:cubicBezTo>
                  <a:pt x="19939" y="19167"/>
                  <a:pt x="19952" y="19158"/>
                  <a:pt x="19963" y="19134"/>
                </a:cubicBezTo>
                <a:cubicBezTo>
                  <a:pt x="19976" y="19106"/>
                  <a:pt x="19978" y="19084"/>
                  <a:pt x="19999" y="19059"/>
                </a:cubicBezTo>
                <a:cubicBezTo>
                  <a:pt x="20009" y="19047"/>
                  <a:pt x="20019" y="19038"/>
                  <a:pt x="20024" y="19023"/>
                </a:cubicBezTo>
                <a:cubicBezTo>
                  <a:pt x="20022" y="19020"/>
                  <a:pt x="20021" y="19020"/>
                  <a:pt x="20017" y="19025"/>
                </a:cubicBezTo>
                <a:cubicBezTo>
                  <a:pt x="20002" y="19041"/>
                  <a:pt x="19988" y="19056"/>
                  <a:pt x="19974" y="19073"/>
                </a:cubicBezTo>
                <a:cubicBezTo>
                  <a:pt x="19960" y="19090"/>
                  <a:pt x="19944" y="19101"/>
                  <a:pt x="19929" y="19116"/>
                </a:cubicBezTo>
                <a:cubicBezTo>
                  <a:pt x="19924" y="19121"/>
                  <a:pt x="19920" y="19128"/>
                  <a:pt x="19919" y="19131"/>
                </a:cubicBezTo>
                <a:cubicBezTo>
                  <a:pt x="19921" y="19131"/>
                  <a:pt x="19922" y="19131"/>
                  <a:pt x="19924" y="19131"/>
                </a:cubicBezTo>
                <a:cubicBezTo>
                  <a:pt x="19924" y="19098"/>
                  <a:pt x="19931" y="19076"/>
                  <a:pt x="19940" y="19045"/>
                </a:cubicBezTo>
                <a:cubicBezTo>
                  <a:pt x="19946" y="19023"/>
                  <a:pt x="19955" y="19007"/>
                  <a:pt x="19963" y="18986"/>
                </a:cubicBezTo>
                <a:cubicBezTo>
                  <a:pt x="19969" y="18972"/>
                  <a:pt x="19972" y="18962"/>
                  <a:pt x="19981" y="18950"/>
                </a:cubicBezTo>
                <a:cubicBezTo>
                  <a:pt x="19987" y="18943"/>
                  <a:pt x="19988" y="18942"/>
                  <a:pt x="19996" y="18937"/>
                </a:cubicBezTo>
                <a:cubicBezTo>
                  <a:pt x="20002" y="18934"/>
                  <a:pt x="20006" y="18937"/>
                  <a:pt x="20012" y="18934"/>
                </a:cubicBezTo>
              </a:path>
              <a:path w="1415" h="1497">
                <a:moveTo>
                  <a:pt x="20306" y="18521"/>
                </a:moveTo>
                <a:cubicBezTo>
                  <a:pt x="20296" y="18524"/>
                  <a:pt x="20283" y="18532"/>
                  <a:pt x="20274" y="18527"/>
                </a:cubicBezTo>
                <a:cubicBezTo>
                  <a:pt x="20268" y="18524"/>
                  <a:pt x="20266" y="18507"/>
                  <a:pt x="20270" y="18502"/>
                </a:cubicBezTo>
                <a:cubicBezTo>
                  <a:pt x="20276" y="18494"/>
                  <a:pt x="20293" y="18487"/>
                  <a:pt x="20302" y="18493"/>
                </a:cubicBezTo>
                <a:cubicBezTo>
                  <a:pt x="20320" y="18505"/>
                  <a:pt x="20335" y="18537"/>
                  <a:pt x="20345" y="18555"/>
                </a:cubicBezTo>
                <a:cubicBezTo>
                  <a:pt x="20364" y="18589"/>
                  <a:pt x="20373" y="18633"/>
                  <a:pt x="20401" y="18661"/>
                </a:cubicBezTo>
                <a:cubicBezTo>
                  <a:pt x="20430" y="18689"/>
                  <a:pt x="20466" y="18714"/>
                  <a:pt x="20501" y="18733"/>
                </a:cubicBezTo>
                <a:cubicBezTo>
                  <a:pt x="20536" y="18752"/>
                  <a:pt x="20571" y="18764"/>
                  <a:pt x="20609" y="18774"/>
                </a:cubicBezTo>
                <a:cubicBezTo>
                  <a:pt x="20638" y="18782"/>
                  <a:pt x="20670" y="18791"/>
                  <a:pt x="20700" y="18796"/>
                </a:cubicBezTo>
                <a:cubicBezTo>
                  <a:pt x="20716" y="18799"/>
                  <a:pt x="20727" y="18796"/>
                  <a:pt x="20741" y="18806"/>
                </a:cubicBezTo>
                <a:cubicBezTo>
                  <a:pt x="20745" y="18809"/>
                  <a:pt x="20748" y="18813"/>
                  <a:pt x="20750" y="18817"/>
                </a:cubicBezTo>
                <a:cubicBezTo>
                  <a:pt x="20751" y="18819"/>
                  <a:pt x="20751" y="18820"/>
                  <a:pt x="20752" y="18822"/>
                </a:cubicBezTo>
                <a:cubicBezTo>
                  <a:pt x="20753" y="18824"/>
                  <a:pt x="20749" y="18820"/>
                  <a:pt x="20750" y="18822"/>
                </a:cubicBezTo>
                <a:cubicBezTo>
                  <a:pt x="20750" y="18820"/>
                  <a:pt x="20754" y="18824"/>
                  <a:pt x="20754" y="18819"/>
                </a:cubicBezTo>
                <a:cubicBezTo>
                  <a:pt x="20755" y="18804"/>
                  <a:pt x="20751" y="18793"/>
                  <a:pt x="20740" y="18781"/>
                </a:cubicBezTo>
                <a:cubicBezTo>
                  <a:pt x="20726" y="18766"/>
                  <a:pt x="20707" y="18757"/>
                  <a:pt x="20691" y="18744"/>
                </a:cubicBezTo>
                <a:cubicBezTo>
                  <a:pt x="20676" y="18732"/>
                  <a:pt x="20660" y="18722"/>
                  <a:pt x="20645" y="18710"/>
                </a:cubicBezTo>
                <a:cubicBezTo>
                  <a:pt x="20607" y="18679"/>
                  <a:pt x="20565" y="18650"/>
                  <a:pt x="20528" y="18618"/>
                </a:cubicBezTo>
                <a:cubicBezTo>
                  <a:pt x="20498" y="18592"/>
                  <a:pt x="20464" y="18578"/>
                  <a:pt x="20433" y="18554"/>
                </a:cubicBezTo>
                <a:cubicBezTo>
                  <a:pt x="20426" y="18549"/>
                  <a:pt x="20420" y="18542"/>
                  <a:pt x="20415" y="18536"/>
                </a:cubicBezTo>
                <a:cubicBezTo>
                  <a:pt x="20415" y="18534"/>
                  <a:pt x="20415" y="18533"/>
                  <a:pt x="20413" y="18534"/>
                </a:cubicBezTo>
                <a:cubicBezTo>
                  <a:pt x="20417" y="18539"/>
                  <a:pt x="20413" y="18542"/>
                  <a:pt x="20422" y="18548"/>
                </a:cubicBezTo>
                <a:cubicBezTo>
                  <a:pt x="20427" y="18551"/>
                  <a:pt x="20432" y="18551"/>
                  <a:pt x="20437" y="18554"/>
                </a:cubicBezTo>
                <a:cubicBezTo>
                  <a:pt x="20439" y="18555"/>
                  <a:pt x="20443" y="18558"/>
                  <a:pt x="20447" y="18559"/>
                </a:cubicBezTo>
                <a:cubicBezTo>
                  <a:pt x="20449" y="18559"/>
                  <a:pt x="20450" y="18559"/>
                  <a:pt x="20451" y="18559"/>
                </a:cubicBezTo>
              </a:path>
              <a:path w="1415" h="1497">
                <a:moveTo>
                  <a:pt x="20062" y="18011"/>
                </a:moveTo>
                <a:cubicBezTo>
                  <a:pt x="20056" y="18011"/>
                  <a:pt x="20050" y="18011"/>
                  <a:pt x="20044" y="18011"/>
                </a:cubicBezTo>
                <a:cubicBezTo>
                  <a:pt x="20053" y="18015"/>
                  <a:pt x="20067" y="18015"/>
                  <a:pt x="20075" y="18023"/>
                </a:cubicBezTo>
                <a:cubicBezTo>
                  <a:pt x="20088" y="18036"/>
                  <a:pt x="20085" y="18035"/>
                  <a:pt x="20084" y="18050"/>
                </a:cubicBezTo>
                <a:cubicBezTo>
                  <a:pt x="20084" y="18058"/>
                  <a:pt x="20074" y="18073"/>
                  <a:pt x="20069" y="18079"/>
                </a:cubicBezTo>
                <a:cubicBezTo>
                  <a:pt x="20057" y="18095"/>
                  <a:pt x="20046" y="18108"/>
                  <a:pt x="20032" y="18122"/>
                </a:cubicBezTo>
                <a:cubicBezTo>
                  <a:pt x="20001" y="18155"/>
                  <a:pt x="19966" y="18184"/>
                  <a:pt x="19933" y="18215"/>
                </a:cubicBezTo>
                <a:cubicBezTo>
                  <a:pt x="19877" y="18266"/>
                  <a:pt x="19824" y="18319"/>
                  <a:pt x="19766" y="18367"/>
                </a:cubicBezTo>
                <a:cubicBezTo>
                  <a:pt x="19722" y="18403"/>
                  <a:pt x="19679" y="18437"/>
                  <a:pt x="19630" y="18466"/>
                </a:cubicBezTo>
                <a:cubicBezTo>
                  <a:pt x="19578" y="18497"/>
                  <a:pt x="19522" y="18520"/>
                  <a:pt x="19469" y="18548"/>
                </a:cubicBezTo>
                <a:cubicBezTo>
                  <a:pt x="19428" y="18570"/>
                  <a:pt x="19381" y="18594"/>
                  <a:pt x="19345" y="18625"/>
                </a:cubicBezTo>
                <a:cubicBezTo>
                  <a:pt x="19341" y="18628"/>
                  <a:pt x="19343" y="18630"/>
                  <a:pt x="19340" y="18633"/>
                </a:cubicBezTo>
                <a:cubicBezTo>
                  <a:pt x="19347" y="18620"/>
                  <a:pt x="19341" y="18616"/>
                  <a:pt x="19352" y="18604"/>
                </a:cubicBezTo>
                <a:cubicBezTo>
                  <a:pt x="19369" y="18586"/>
                  <a:pt x="19393" y="18570"/>
                  <a:pt x="19412" y="18554"/>
                </a:cubicBezTo>
                <a:cubicBezTo>
                  <a:pt x="19434" y="18535"/>
                  <a:pt x="19454" y="18514"/>
                  <a:pt x="19476" y="18496"/>
                </a:cubicBezTo>
                <a:cubicBezTo>
                  <a:pt x="19503" y="18473"/>
                  <a:pt x="19531" y="18452"/>
                  <a:pt x="19557" y="18428"/>
                </a:cubicBezTo>
                <a:cubicBezTo>
                  <a:pt x="19584" y="18404"/>
                  <a:pt x="19604" y="18374"/>
                  <a:pt x="19630" y="18349"/>
                </a:cubicBezTo>
                <a:cubicBezTo>
                  <a:pt x="19650" y="18330"/>
                  <a:pt x="19670" y="18305"/>
                  <a:pt x="19691" y="18287"/>
                </a:cubicBezTo>
                <a:cubicBezTo>
                  <a:pt x="19705" y="18275"/>
                  <a:pt x="19721" y="18265"/>
                  <a:pt x="19738" y="18260"/>
                </a:cubicBezTo>
                <a:cubicBezTo>
                  <a:pt x="19747" y="18257"/>
                  <a:pt x="19751" y="18259"/>
                  <a:pt x="19759" y="18258"/>
                </a:cubicBezTo>
                <a:cubicBezTo>
                  <a:pt x="19764" y="18287"/>
                  <a:pt x="19765" y="18285"/>
                  <a:pt x="19745" y="18314"/>
                </a:cubicBezTo>
                <a:cubicBezTo>
                  <a:pt x="19707" y="18369"/>
                  <a:pt x="19659" y="18420"/>
                  <a:pt x="19616" y="18471"/>
                </a:cubicBezTo>
                <a:cubicBezTo>
                  <a:pt x="19584" y="18509"/>
                  <a:pt x="19552" y="18545"/>
                  <a:pt x="19517" y="18579"/>
                </a:cubicBezTo>
                <a:cubicBezTo>
                  <a:pt x="19493" y="18602"/>
                  <a:pt x="19470" y="18622"/>
                  <a:pt x="19444" y="18643"/>
                </a:cubicBezTo>
                <a:cubicBezTo>
                  <a:pt x="19424" y="18660"/>
                  <a:pt x="19404" y="18677"/>
                  <a:pt x="19383" y="18693"/>
                </a:cubicBezTo>
                <a:cubicBezTo>
                  <a:pt x="19380" y="18696"/>
                  <a:pt x="19376" y="18698"/>
                  <a:pt x="19372" y="18701"/>
                </a:cubicBezTo>
                <a:cubicBezTo>
                  <a:pt x="19408" y="18699"/>
                  <a:pt x="19436" y="18696"/>
                  <a:pt x="19469" y="18679"/>
                </a:cubicBezTo>
                <a:cubicBezTo>
                  <a:pt x="19487" y="18672"/>
                  <a:pt x="19493" y="18669"/>
                  <a:pt x="19501" y="18658"/>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8440" y="4154400"/>
            <a:ext cx="687240" cy="189000"/>
          </a:xfrm>
          <a:custGeom>
            <a:avLst/>
            <a:gdLst/>
            <a:ahLst/>
            <a:rect l="l" t="t" r="r" b="b"/>
            <a:pathLst>
              <a:path w="1913" h="525">
                <a:moveTo>
                  <a:pt x="1115" y="11539"/>
                </a:moveTo>
                <a:cubicBezTo>
                  <a:pt x="1074" y="11539"/>
                  <a:pt x="1029" y="11533"/>
                  <a:pt x="990" y="11546"/>
                </a:cubicBezTo>
                <a:cubicBezTo>
                  <a:pt x="963" y="11555"/>
                  <a:pt x="934" y="11567"/>
                  <a:pt x="909" y="11582"/>
                </a:cubicBezTo>
                <a:cubicBezTo>
                  <a:pt x="885" y="11596"/>
                  <a:pt x="867" y="11612"/>
                  <a:pt x="848" y="11632"/>
                </a:cubicBezTo>
                <a:cubicBezTo>
                  <a:pt x="834" y="11646"/>
                  <a:pt x="822" y="11660"/>
                  <a:pt x="816" y="11679"/>
                </a:cubicBezTo>
                <a:cubicBezTo>
                  <a:pt x="811" y="11694"/>
                  <a:pt x="809" y="11705"/>
                  <a:pt x="820" y="11717"/>
                </a:cubicBezTo>
                <a:cubicBezTo>
                  <a:pt x="830" y="11728"/>
                  <a:pt x="853" y="11736"/>
                  <a:pt x="866" y="11744"/>
                </a:cubicBezTo>
                <a:cubicBezTo>
                  <a:pt x="882" y="11754"/>
                  <a:pt x="899" y="11764"/>
                  <a:pt x="913" y="11776"/>
                </a:cubicBezTo>
                <a:cubicBezTo>
                  <a:pt x="917" y="11780"/>
                  <a:pt x="921" y="11784"/>
                  <a:pt x="925" y="11788"/>
                </a:cubicBezTo>
                <a:cubicBezTo>
                  <a:pt x="929" y="11792"/>
                  <a:pt x="934" y="11797"/>
                  <a:pt x="936" y="11801"/>
                </a:cubicBezTo>
                <a:cubicBezTo>
                  <a:pt x="939" y="11806"/>
                  <a:pt x="938" y="11818"/>
                  <a:pt x="941" y="11822"/>
                </a:cubicBezTo>
                <a:cubicBezTo>
                  <a:pt x="944" y="11826"/>
                  <a:pt x="948" y="11827"/>
                  <a:pt x="952" y="11831"/>
                </a:cubicBezTo>
                <a:cubicBezTo>
                  <a:pt x="960" y="11839"/>
                  <a:pt x="969" y="11846"/>
                  <a:pt x="977" y="11855"/>
                </a:cubicBezTo>
                <a:cubicBezTo>
                  <a:pt x="985" y="11863"/>
                  <a:pt x="993" y="11873"/>
                  <a:pt x="999" y="11882"/>
                </a:cubicBezTo>
                <a:cubicBezTo>
                  <a:pt x="1004" y="11889"/>
                  <a:pt x="1007" y="11893"/>
                  <a:pt x="1011" y="11899"/>
                </a:cubicBezTo>
                <a:cubicBezTo>
                  <a:pt x="1014" y="11904"/>
                  <a:pt x="1015" y="11902"/>
                  <a:pt x="1017" y="11907"/>
                </a:cubicBezTo>
                <a:cubicBezTo>
                  <a:pt x="1021" y="11919"/>
                  <a:pt x="1020" y="11949"/>
                  <a:pt x="1013" y="11959"/>
                </a:cubicBezTo>
                <a:cubicBezTo>
                  <a:pt x="1002" y="11974"/>
                  <a:pt x="975" y="11979"/>
                  <a:pt x="959" y="11985"/>
                </a:cubicBezTo>
                <a:cubicBezTo>
                  <a:pt x="909" y="12003"/>
                  <a:pt x="859" y="12023"/>
                  <a:pt x="807" y="12036"/>
                </a:cubicBezTo>
                <a:cubicBezTo>
                  <a:pt x="751" y="12050"/>
                  <a:pt x="695" y="12057"/>
                  <a:pt x="638" y="12063"/>
                </a:cubicBezTo>
              </a:path>
              <a:path w="1913" h="525">
                <a:moveTo>
                  <a:pt x="1721" y="11733"/>
                </a:moveTo>
                <a:cubicBezTo>
                  <a:pt x="1682" y="11733"/>
                  <a:pt x="1642" y="11733"/>
                  <a:pt x="1603" y="11731"/>
                </a:cubicBezTo>
                <a:cubicBezTo>
                  <a:pt x="1578" y="11730"/>
                  <a:pt x="1560" y="11740"/>
                  <a:pt x="1542" y="11756"/>
                </a:cubicBezTo>
                <a:cubicBezTo>
                  <a:pt x="1517" y="11777"/>
                  <a:pt x="1499" y="11809"/>
                  <a:pt x="1486" y="11839"/>
                </a:cubicBezTo>
                <a:cubicBezTo>
                  <a:pt x="1478" y="11856"/>
                  <a:pt x="1477" y="11874"/>
                  <a:pt x="1474" y="11892"/>
                </a:cubicBezTo>
                <a:cubicBezTo>
                  <a:pt x="1472" y="11903"/>
                  <a:pt x="1467" y="11924"/>
                  <a:pt x="1475" y="11934"/>
                </a:cubicBezTo>
                <a:cubicBezTo>
                  <a:pt x="1484" y="11947"/>
                  <a:pt x="1525" y="11945"/>
                  <a:pt x="1538" y="11946"/>
                </a:cubicBezTo>
                <a:cubicBezTo>
                  <a:pt x="1569" y="11949"/>
                  <a:pt x="1599" y="11946"/>
                  <a:pt x="1630" y="11948"/>
                </a:cubicBezTo>
                <a:cubicBezTo>
                  <a:pt x="1663" y="11950"/>
                  <a:pt x="1690" y="11942"/>
                  <a:pt x="1719" y="11925"/>
                </a:cubicBezTo>
                <a:cubicBezTo>
                  <a:pt x="1742" y="11912"/>
                  <a:pt x="1769" y="11896"/>
                  <a:pt x="1789" y="11878"/>
                </a:cubicBezTo>
                <a:cubicBezTo>
                  <a:pt x="1799" y="11869"/>
                  <a:pt x="1812" y="11859"/>
                  <a:pt x="1820" y="11848"/>
                </a:cubicBezTo>
                <a:cubicBezTo>
                  <a:pt x="1823" y="11844"/>
                  <a:pt x="1832" y="11839"/>
                  <a:pt x="1828" y="11835"/>
                </a:cubicBezTo>
                <a:cubicBezTo>
                  <a:pt x="1815" y="11833"/>
                  <a:pt x="1810" y="11833"/>
                  <a:pt x="1802" y="11830"/>
                </a:cubicBezTo>
              </a:path>
              <a:path w="1913" h="525">
                <a:moveTo>
                  <a:pt x="199" y="11867"/>
                </a:moveTo>
                <a:cubicBezTo>
                  <a:pt x="202" y="11867"/>
                  <a:pt x="225" y="11867"/>
                  <a:pt x="210" y="11867"/>
                </a:cubicBezTo>
                <a:cubicBezTo>
                  <a:pt x="165" y="11867"/>
                  <a:pt x="120" y="11867"/>
                  <a:pt x="76" y="11876"/>
                </a:cubicBezTo>
                <a:cubicBezTo>
                  <a:pt x="49" y="11882"/>
                  <a:pt x="23" y="11889"/>
                  <a:pt x="-5" y="11891"/>
                </a:cubicBezTo>
                <a:cubicBezTo>
                  <a:pt x="-25" y="11893"/>
                  <a:pt x="-44" y="11892"/>
                  <a:pt x="-64" y="11892"/>
                </a:cubicBezTo>
                <a:cubicBezTo>
                  <a:pt x="-68" y="11892"/>
                  <a:pt x="-100" y="11892"/>
                  <a:pt x="-73" y="11892"/>
                </a:cubicBezTo>
                <a:cubicBezTo>
                  <a:pt x="21" y="11892"/>
                  <a:pt x="116" y="11892"/>
                  <a:pt x="210" y="11892"/>
                </a:cubicBezTo>
                <a:cubicBezTo>
                  <a:pt x="214" y="11892"/>
                  <a:pt x="238" y="11892"/>
                  <a:pt x="217" y="11892"/>
                </a:cubicBezTo>
                <a:cubicBezTo>
                  <a:pt x="179" y="11892"/>
                  <a:pt x="115" y="11892"/>
                  <a:pt x="88" y="11892"/>
                </a:cubicBezTo>
                <a:cubicBezTo>
                  <a:pt x="151" y="11892"/>
                  <a:pt x="213" y="11892"/>
                  <a:pt x="276" y="11892"/>
                </a:cubicBezTo>
                <a:cubicBezTo>
                  <a:pt x="277" y="11892"/>
                  <a:pt x="297" y="11892"/>
                  <a:pt x="284" y="11892"/>
                </a:cubicBezTo>
                <a:cubicBezTo>
                  <a:pt x="212" y="11892"/>
                  <a:pt x="139" y="11892"/>
                  <a:pt x="67" y="11892"/>
                </a:cubicBezTo>
                <a:cubicBezTo>
                  <a:pt x="61" y="11892"/>
                  <a:pt x="36" y="11892"/>
                  <a:pt x="65" y="11892"/>
                </a:cubicBezTo>
                <a:cubicBezTo>
                  <a:pt x="124" y="11892"/>
                  <a:pt x="183" y="11891"/>
                  <a:pt x="242" y="11891"/>
                </a:cubicBezTo>
                <a:cubicBezTo>
                  <a:pt x="250" y="11891"/>
                  <a:pt x="256" y="11891"/>
                  <a:pt x="262" y="11889"/>
                </a:cubicBezTo>
                <a:cubicBezTo>
                  <a:pt x="265" y="11888"/>
                  <a:pt x="263" y="11887"/>
                  <a:pt x="266" y="11887"/>
                </a:cubicBezTo>
                <a:cubicBezTo>
                  <a:pt x="279" y="11886"/>
                  <a:pt x="292" y="11884"/>
                  <a:pt x="305" y="11883"/>
                </a:cubicBezTo>
                <a:cubicBezTo>
                  <a:pt x="325" y="11881"/>
                  <a:pt x="344" y="11879"/>
                  <a:pt x="364" y="11876"/>
                </a:cubicBezTo>
                <a:cubicBezTo>
                  <a:pt x="377" y="11874"/>
                  <a:pt x="391" y="11874"/>
                  <a:pt x="400" y="11869"/>
                </a:cubicBezTo>
                <a:cubicBezTo>
                  <a:pt x="403" y="11867"/>
                  <a:pt x="405" y="11868"/>
                  <a:pt x="404" y="11865"/>
                </a:cubicBezTo>
                <a:cubicBezTo>
                  <a:pt x="389" y="11864"/>
                  <a:pt x="374" y="11864"/>
                  <a:pt x="359" y="11864"/>
                </a:cubicBezTo>
                <a:cubicBezTo>
                  <a:pt x="314" y="11864"/>
                  <a:pt x="183" y="11864"/>
                  <a:pt x="228" y="11864"/>
                </a:cubicBezTo>
                <a:cubicBezTo>
                  <a:pt x="234" y="11864"/>
                  <a:pt x="237" y="11864"/>
                  <a:pt x="242" y="11864"/>
                </a:cubicBezTo>
                <a:cubicBezTo>
                  <a:pt x="279" y="11864"/>
                  <a:pt x="317" y="11864"/>
                  <a:pt x="354" y="1186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35000" y="3787920"/>
            <a:ext cx="102960" cy="21960"/>
          </a:xfrm>
          <a:custGeom>
            <a:avLst/>
            <a:gdLst/>
            <a:ahLst/>
            <a:rect l="l" t="t" r="r" b="b"/>
            <a:pathLst>
              <a:path w="290" h="62">
                <a:moveTo>
                  <a:pt x="563" y="10521"/>
                </a:moveTo>
                <a:cubicBezTo>
                  <a:pt x="563" y="10530"/>
                  <a:pt x="566" y="10541"/>
                  <a:pt x="558" y="10546"/>
                </a:cubicBezTo>
                <a:cubicBezTo>
                  <a:pt x="538" y="10558"/>
                  <a:pt x="513" y="10556"/>
                  <a:pt x="492" y="10563"/>
                </a:cubicBezTo>
                <a:cubicBezTo>
                  <a:pt x="477" y="10568"/>
                  <a:pt x="463" y="10574"/>
                  <a:pt x="447" y="10575"/>
                </a:cubicBezTo>
                <a:cubicBezTo>
                  <a:pt x="439" y="10576"/>
                  <a:pt x="425" y="10572"/>
                  <a:pt x="418" y="10577"/>
                </a:cubicBezTo>
                <a:cubicBezTo>
                  <a:pt x="418" y="10578"/>
                  <a:pt x="418" y="10578"/>
                  <a:pt x="418" y="10579"/>
                </a:cubicBezTo>
                <a:cubicBezTo>
                  <a:pt x="462" y="10579"/>
                  <a:pt x="505" y="10579"/>
                  <a:pt x="549" y="10579"/>
                </a:cubicBezTo>
                <a:cubicBezTo>
                  <a:pt x="509" y="10579"/>
                  <a:pt x="469" y="10579"/>
                  <a:pt x="429" y="10581"/>
                </a:cubicBezTo>
                <a:cubicBezTo>
                  <a:pt x="413" y="10582"/>
                  <a:pt x="396" y="10581"/>
                  <a:pt x="380" y="10582"/>
                </a:cubicBezTo>
                <a:cubicBezTo>
                  <a:pt x="378" y="10582"/>
                  <a:pt x="375" y="10582"/>
                  <a:pt x="373" y="10582"/>
                </a:cubicBezTo>
                <a:cubicBezTo>
                  <a:pt x="466" y="10582"/>
                  <a:pt x="560" y="10582"/>
                  <a:pt x="653" y="10582"/>
                </a:cubicBezTo>
                <a:cubicBezTo>
                  <a:pt x="669" y="10582"/>
                  <a:pt x="638" y="10582"/>
                  <a:pt x="622" y="10582"/>
                </a:cubicBezTo>
                <a:cubicBezTo>
                  <a:pt x="559" y="10582"/>
                  <a:pt x="497" y="10582"/>
                  <a:pt x="434" y="10582"/>
                </a:cubicBezTo>
                <a:cubicBezTo>
                  <a:pt x="433" y="10582"/>
                  <a:pt x="411" y="10582"/>
                  <a:pt x="422" y="10582"/>
                </a:cubicBezTo>
                <a:cubicBezTo>
                  <a:pt x="471" y="10582"/>
                  <a:pt x="520" y="10582"/>
                  <a:pt x="569" y="10582"/>
                </a:cubicBezTo>
              </a:path>
            </a:pathLst>
          </a:custGeom>
          <a:noFill/>
          <a:ln cap="rnd" w="57240">
            <a:solidFill>
              <a:srgbClr val="ffcc00"/>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86" name=""/>
          <p:cNvSpPr/>
          <p:nvPr/>
        </p:nvSpPr>
        <p:spPr>
          <a:xfrm>
            <a:off x="66600" y="5648400"/>
            <a:ext cx="85680" cy="1440"/>
          </a:xfrm>
          <a:custGeom>
            <a:avLst/>
            <a:gdLst/>
            <a:ahLst/>
            <a:rect l="l" t="t" r="r" b="b"/>
            <a:pathLst>
              <a:path w="237" h="3">
                <a:moveTo>
                  <a:pt x="423" y="15690"/>
                </a:moveTo>
                <a:cubicBezTo>
                  <a:pt x="409" y="15690"/>
                  <a:pt x="396" y="15689"/>
                  <a:pt x="382" y="15688"/>
                </a:cubicBezTo>
                <a:cubicBezTo>
                  <a:pt x="327" y="15685"/>
                  <a:pt x="272" y="15688"/>
                  <a:pt x="217" y="15688"/>
                </a:cubicBezTo>
                <a:cubicBezTo>
                  <a:pt x="224" y="15688"/>
                  <a:pt x="225" y="15688"/>
                  <a:pt x="232" y="15688"/>
                </a:cubicBezTo>
                <a:cubicBezTo>
                  <a:pt x="283" y="15688"/>
                  <a:pt x="337" y="15684"/>
                  <a:pt x="388" y="15690"/>
                </a:cubicBezTo>
                <a:cubicBezTo>
                  <a:pt x="393" y="15691"/>
                  <a:pt x="399" y="15690"/>
                  <a:pt x="404" y="15690"/>
                </a:cubicBezTo>
                <a:cubicBezTo>
                  <a:pt x="377" y="15689"/>
                  <a:pt x="350" y="15688"/>
                  <a:pt x="323" y="15688"/>
                </a:cubicBezTo>
                <a:cubicBezTo>
                  <a:pt x="279" y="15688"/>
                  <a:pt x="236" y="15688"/>
                  <a:pt x="192" y="15688"/>
                </a:cubicBezTo>
                <a:cubicBezTo>
                  <a:pt x="181" y="15688"/>
                  <a:pt x="203" y="15688"/>
                  <a:pt x="214" y="15688"/>
                </a:cubicBezTo>
                <a:cubicBezTo>
                  <a:pt x="272" y="15688"/>
                  <a:pt x="330" y="15687"/>
                  <a:pt x="388" y="15690"/>
                </a:cubicBezTo>
                <a:cubicBezTo>
                  <a:pt x="396" y="15690"/>
                  <a:pt x="403" y="15690"/>
                  <a:pt x="411" y="15690"/>
                </a:cubicBezTo>
              </a:path>
            </a:pathLst>
          </a:custGeom>
          <a:noFill/>
          <a:ln cap="rnd" w="57240">
            <a:solidFill>
              <a:srgbClr val="ffcc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7" name=""/>
          <p:cNvSpPr/>
          <p:nvPr/>
        </p:nvSpPr>
        <p:spPr>
          <a:xfrm>
            <a:off x="28440" y="6361200"/>
            <a:ext cx="176400" cy="46080"/>
          </a:xfrm>
          <a:custGeom>
            <a:avLst/>
            <a:gdLst/>
            <a:ahLst/>
            <a:rect l="l" t="t" r="r" b="b"/>
            <a:pathLst>
              <a:path w="487" h="126">
                <a:moveTo>
                  <a:pt x="511" y="17795"/>
                </a:moveTo>
                <a:cubicBezTo>
                  <a:pt x="511" y="17784"/>
                  <a:pt x="511" y="17774"/>
                  <a:pt x="511" y="17763"/>
                </a:cubicBezTo>
                <a:cubicBezTo>
                  <a:pt x="386" y="17763"/>
                  <a:pt x="260" y="17760"/>
                  <a:pt x="135" y="17767"/>
                </a:cubicBezTo>
                <a:cubicBezTo>
                  <a:pt x="119" y="17768"/>
                  <a:pt x="104" y="17770"/>
                  <a:pt x="88" y="17770"/>
                </a:cubicBezTo>
                <a:cubicBezTo>
                  <a:pt x="85" y="17770"/>
                  <a:pt x="83" y="17770"/>
                  <a:pt x="81" y="17770"/>
                </a:cubicBezTo>
                <a:cubicBezTo>
                  <a:pt x="124" y="17753"/>
                  <a:pt x="167" y="17741"/>
                  <a:pt x="212" y="17729"/>
                </a:cubicBezTo>
                <a:cubicBezTo>
                  <a:pt x="265" y="17714"/>
                  <a:pt x="317" y="17703"/>
                  <a:pt x="371" y="17693"/>
                </a:cubicBezTo>
                <a:cubicBezTo>
                  <a:pt x="425" y="17683"/>
                  <a:pt x="479" y="17678"/>
                  <a:pt x="533" y="17672"/>
                </a:cubicBezTo>
                <a:cubicBezTo>
                  <a:pt x="545" y="17671"/>
                  <a:pt x="555" y="17670"/>
                  <a:pt x="567" y="17670"/>
                </a:cubicBezTo>
                <a:cubicBezTo>
                  <a:pt x="533" y="17681"/>
                  <a:pt x="503" y="17696"/>
                  <a:pt x="470" y="17709"/>
                </a:cubicBezTo>
                <a:cubicBezTo>
                  <a:pt x="435" y="17723"/>
                  <a:pt x="398" y="17730"/>
                  <a:pt x="361" y="17736"/>
                </a:cubicBezTo>
                <a:cubicBezTo>
                  <a:pt x="333" y="17741"/>
                  <a:pt x="304" y="17741"/>
                  <a:pt x="276" y="17749"/>
                </a:cubicBezTo>
                <a:cubicBezTo>
                  <a:pt x="274" y="17750"/>
                  <a:pt x="252" y="17754"/>
                  <a:pt x="251" y="17756"/>
                </a:cubicBezTo>
                <a:cubicBezTo>
                  <a:pt x="245" y="17765"/>
                  <a:pt x="271" y="17756"/>
                  <a:pt x="282" y="17756"/>
                </a:cubicBezTo>
                <a:cubicBezTo>
                  <a:pt x="287" y="17756"/>
                  <a:pt x="291" y="17756"/>
                  <a:pt x="296" y="17756"/>
                </a:cubicBezTo>
              </a:path>
            </a:pathLst>
          </a:custGeom>
          <a:noFill/>
          <a:ln cap="rnd" w="57240">
            <a:solidFill>
              <a:srgbClr val="ffcc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8" name=""/>
          <p:cNvSpPr/>
          <p:nvPr/>
        </p:nvSpPr>
        <p:spPr>
          <a:xfrm>
            <a:off x="66600" y="3092400"/>
            <a:ext cx="115920" cy="36720"/>
          </a:xfrm>
          <a:custGeom>
            <a:avLst/>
            <a:gdLst/>
            <a:ahLst/>
            <a:rect l="l" t="t" r="r" b="b"/>
            <a:pathLst>
              <a:path w="320" h="102">
                <a:moveTo>
                  <a:pt x="504" y="8591"/>
                </a:moveTo>
                <a:cubicBezTo>
                  <a:pt x="504" y="8596"/>
                  <a:pt x="506" y="8606"/>
                  <a:pt x="502" y="8609"/>
                </a:cubicBezTo>
                <a:cubicBezTo>
                  <a:pt x="494" y="8616"/>
                  <a:pt x="480" y="8616"/>
                  <a:pt x="470" y="8618"/>
                </a:cubicBezTo>
                <a:cubicBezTo>
                  <a:pt x="459" y="8620"/>
                  <a:pt x="448" y="8619"/>
                  <a:pt x="438" y="8624"/>
                </a:cubicBezTo>
                <a:cubicBezTo>
                  <a:pt x="433" y="8627"/>
                  <a:pt x="429" y="8631"/>
                  <a:pt x="423" y="8633"/>
                </a:cubicBezTo>
                <a:cubicBezTo>
                  <a:pt x="421" y="8634"/>
                  <a:pt x="418" y="8633"/>
                  <a:pt x="416" y="8634"/>
                </a:cubicBezTo>
                <a:cubicBezTo>
                  <a:pt x="437" y="8634"/>
                  <a:pt x="465" y="8633"/>
                  <a:pt x="483" y="8636"/>
                </a:cubicBezTo>
                <a:cubicBezTo>
                  <a:pt x="479" y="8642"/>
                  <a:pt x="485" y="8641"/>
                  <a:pt x="474" y="8645"/>
                </a:cubicBezTo>
                <a:cubicBezTo>
                  <a:pt x="464" y="8649"/>
                  <a:pt x="450" y="8652"/>
                  <a:pt x="440" y="8654"/>
                </a:cubicBezTo>
                <a:cubicBezTo>
                  <a:pt x="430" y="8656"/>
                  <a:pt x="421" y="8653"/>
                  <a:pt x="411" y="8656"/>
                </a:cubicBezTo>
                <a:cubicBezTo>
                  <a:pt x="404" y="8658"/>
                  <a:pt x="410" y="8657"/>
                  <a:pt x="404" y="8659"/>
                </a:cubicBezTo>
                <a:cubicBezTo>
                  <a:pt x="407" y="8659"/>
                  <a:pt x="419" y="8661"/>
                  <a:pt x="425" y="8661"/>
                </a:cubicBezTo>
                <a:cubicBezTo>
                  <a:pt x="437" y="8661"/>
                  <a:pt x="449" y="8661"/>
                  <a:pt x="461" y="8661"/>
                </a:cubicBezTo>
                <a:cubicBezTo>
                  <a:pt x="457" y="8661"/>
                  <a:pt x="461" y="8661"/>
                  <a:pt x="457" y="8661"/>
                </a:cubicBezTo>
                <a:cubicBezTo>
                  <a:pt x="432" y="8661"/>
                  <a:pt x="409" y="8662"/>
                  <a:pt x="384" y="8665"/>
                </a:cubicBezTo>
                <a:cubicBezTo>
                  <a:pt x="333" y="8671"/>
                  <a:pt x="282" y="8680"/>
                  <a:pt x="230" y="8683"/>
                </a:cubicBezTo>
                <a:cubicBezTo>
                  <a:pt x="217" y="8684"/>
                  <a:pt x="203" y="8685"/>
                  <a:pt x="190" y="8688"/>
                </a:cubicBezTo>
                <a:cubicBezTo>
                  <a:pt x="187" y="8690"/>
                  <a:pt x="187" y="8690"/>
                  <a:pt x="185" y="8690"/>
                </a:cubicBezTo>
                <a:cubicBezTo>
                  <a:pt x="255" y="8690"/>
                  <a:pt x="327" y="8686"/>
                  <a:pt x="397" y="8692"/>
                </a:cubicBezTo>
                <a:cubicBezTo>
                  <a:pt x="401" y="8692"/>
                  <a:pt x="406" y="8692"/>
                  <a:pt x="411" y="8692"/>
                </a:cubicBezTo>
                <a:cubicBezTo>
                  <a:pt x="406" y="8692"/>
                  <a:pt x="407" y="8693"/>
                  <a:pt x="402" y="8692"/>
                </a:cubicBezTo>
                <a:cubicBezTo>
                  <a:pt x="385" y="8690"/>
                  <a:pt x="368" y="8690"/>
                  <a:pt x="350" y="8690"/>
                </a:cubicBezTo>
                <a:cubicBezTo>
                  <a:pt x="337" y="8690"/>
                  <a:pt x="325" y="8690"/>
                  <a:pt x="312" y="8690"/>
                </a:cubicBezTo>
              </a:path>
            </a:pathLst>
          </a:custGeom>
          <a:noFill/>
          <a:ln cap="rnd" w="5724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89" name=""/>
          <p:cNvSpPr/>
          <p:nvPr/>
        </p:nvSpPr>
        <p:spPr>
          <a:xfrm>
            <a:off x="65160" y="2701800"/>
            <a:ext cx="98280" cy="25560"/>
          </a:xfrm>
          <a:custGeom>
            <a:avLst/>
            <a:gdLst/>
            <a:ahLst/>
            <a:rect l="l" t="t" r="r" b="b"/>
            <a:pathLst>
              <a:path w="270" h="70">
                <a:moveTo>
                  <a:pt x="397" y="7505"/>
                </a:moveTo>
                <a:lnTo>
                  <a:pt x="375" y="7505"/>
                </a:lnTo>
                <a:lnTo>
                  <a:pt x="350" y="7505"/>
                </a:lnTo>
                <a:lnTo>
                  <a:pt x="321" y="7505"/>
                </a:lnTo>
                <a:lnTo>
                  <a:pt x="293" y="7505"/>
                </a:lnTo>
                <a:lnTo>
                  <a:pt x="266" y="7509"/>
                </a:lnTo>
                <a:lnTo>
                  <a:pt x="242" y="7511"/>
                </a:lnTo>
                <a:lnTo>
                  <a:pt x="226" y="7513"/>
                </a:lnTo>
                <a:lnTo>
                  <a:pt x="212" y="7513"/>
                </a:lnTo>
                <a:lnTo>
                  <a:pt x="201" y="7514"/>
                </a:lnTo>
                <a:lnTo>
                  <a:pt x="194" y="7518"/>
                </a:lnTo>
                <a:lnTo>
                  <a:pt x="189" y="7520"/>
                </a:lnTo>
                <a:lnTo>
                  <a:pt x="185" y="7520"/>
                </a:lnTo>
                <a:lnTo>
                  <a:pt x="183" y="7520"/>
                </a:lnTo>
                <a:lnTo>
                  <a:pt x="187" y="7520"/>
                </a:lnTo>
                <a:lnTo>
                  <a:pt x="201" y="7520"/>
                </a:lnTo>
                <a:lnTo>
                  <a:pt x="223" y="7520"/>
                </a:lnTo>
                <a:lnTo>
                  <a:pt x="251" y="7520"/>
                </a:lnTo>
                <a:lnTo>
                  <a:pt x="276" y="7520"/>
                </a:lnTo>
                <a:lnTo>
                  <a:pt x="303" y="7520"/>
                </a:lnTo>
                <a:lnTo>
                  <a:pt x="328" y="7520"/>
                </a:lnTo>
                <a:lnTo>
                  <a:pt x="352" y="7520"/>
                </a:lnTo>
                <a:lnTo>
                  <a:pt x="375" y="7520"/>
                </a:lnTo>
                <a:lnTo>
                  <a:pt x="397" y="7520"/>
                </a:lnTo>
                <a:lnTo>
                  <a:pt x="413" y="7520"/>
                </a:lnTo>
                <a:lnTo>
                  <a:pt x="425" y="7520"/>
                </a:lnTo>
                <a:lnTo>
                  <a:pt x="434" y="7520"/>
                </a:lnTo>
                <a:lnTo>
                  <a:pt x="440" y="7520"/>
                </a:lnTo>
                <a:lnTo>
                  <a:pt x="445" y="7522"/>
                </a:lnTo>
                <a:lnTo>
                  <a:pt x="449" y="7522"/>
                </a:lnTo>
                <a:lnTo>
                  <a:pt x="450" y="7522"/>
                </a:lnTo>
                <a:lnTo>
                  <a:pt x="452" y="7523"/>
                </a:lnTo>
                <a:lnTo>
                  <a:pt x="452" y="7527"/>
                </a:lnTo>
                <a:lnTo>
                  <a:pt x="447" y="7534"/>
                </a:lnTo>
                <a:lnTo>
                  <a:pt x="440" y="7538"/>
                </a:lnTo>
                <a:lnTo>
                  <a:pt x="434" y="7543"/>
                </a:lnTo>
                <a:lnTo>
                  <a:pt x="431" y="7548"/>
                </a:lnTo>
                <a:lnTo>
                  <a:pt x="422" y="7556"/>
                </a:lnTo>
                <a:lnTo>
                  <a:pt x="414" y="7561"/>
                </a:lnTo>
                <a:lnTo>
                  <a:pt x="409" y="7565"/>
                </a:lnTo>
                <a:lnTo>
                  <a:pt x="402" y="7568"/>
                </a:lnTo>
                <a:lnTo>
                  <a:pt x="398" y="7570"/>
                </a:lnTo>
                <a:lnTo>
                  <a:pt x="395" y="7570"/>
                </a:lnTo>
                <a:lnTo>
                  <a:pt x="393" y="7572"/>
                </a:lnTo>
                <a:lnTo>
                  <a:pt x="391" y="7572"/>
                </a:lnTo>
                <a:lnTo>
                  <a:pt x="391" y="7572"/>
                </a:lnTo>
                <a:lnTo>
                  <a:pt x="391" y="7572"/>
                </a:lnTo>
                <a:lnTo>
                  <a:pt x="391" y="7572"/>
                </a:lnTo>
                <a:lnTo>
                  <a:pt x="391" y="7572"/>
                </a:lnTo>
                <a:lnTo>
                  <a:pt x="395" y="7572"/>
                </a:lnTo>
                <a:lnTo>
                  <a:pt x="402" y="7574"/>
                </a:lnTo>
                <a:lnTo>
                  <a:pt x="409" y="7574"/>
                </a:lnTo>
                <a:lnTo>
                  <a:pt x="418" y="7574"/>
                </a:lnTo>
                <a:lnTo>
                  <a:pt x="427" y="7574"/>
                </a:lnTo>
                <a:lnTo>
                  <a:pt x="434" y="7574"/>
                </a:lnTo>
                <a:lnTo>
                  <a:pt x="438" y="7574"/>
                </a:lnTo>
                <a:lnTo>
                  <a:pt x="441" y="7574"/>
                </a:lnTo>
                <a:lnTo>
                  <a:pt x="443" y="7574"/>
                </a:lnTo>
                <a:lnTo>
                  <a:pt x="447" y="7574"/>
                </a:lnTo>
                <a:lnTo>
                  <a:pt x="449" y="7574"/>
                </a:lnTo>
                <a:lnTo>
                  <a:pt x="450" y="7574"/>
                </a:lnTo>
                <a:lnTo>
                  <a:pt x="450" y="7574"/>
                </a:lnTo>
                <a:lnTo>
                  <a:pt x="450" y="7574"/>
                </a:lnTo>
                <a:lnTo>
                  <a:pt x="450" y="7574"/>
                </a:lnTo>
                <a:lnTo>
                  <a:pt x="450" y="7574"/>
                </a:lnTo>
                <a:lnTo>
                  <a:pt x="449" y="7574"/>
                </a:lnTo>
                <a:lnTo>
                  <a:pt x="445" y="7574"/>
                </a:lnTo>
                <a:lnTo>
                  <a:pt x="441" y="7574"/>
                </a:lnTo>
                <a:lnTo>
                  <a:pt x="431" y="7574"/>
                </a:lnTo>
                <a:lnTo>
                  <a:pt x="423" y="7574"/>
                </a:lnTo>
                <a:lnTo>
                  <a:pt x="414" y="7574"/>
                </a:lnTo>
                <a:lnTo>
                  <a:pt x="406" y="7574"/>
                </a:lnTo>
                <a:lnTo>
                  <a:pt x="398" y="7574"/>
                </a:lnTo>
                <a:lnTo>
                  <a:pt x="393" y="7572"/>
                </a:lnTo>
                <a:lnTo>
                  <a:pt x="389" y="7572"/>
                </a:lnTo>
                <a:lnTo>
                  <a:pt x="388" y="7572"/>
                </a:lnTo>
                <a:lnTo>
                  <a:pt x="386" y="7572"/>
                </a:lnTo>
                <a:lnTo>
                  <a:pt x="382" y="7572"/>
                </a:lnTo>
                <a:lnTo>
                  <a:pt x="382" y="7572"/>
                </a:lnTo>
                <a:lnTo>
                  <a:pt x="382" y="7572"/>
                </a:lnTo>
                <a:lnTo>
                  <a:pt x="382" y="7572"/>
                </a:lnTo>
                <a:lnTo>
                  <a:pt x="386" y="7572"/>
                </a:lnTo>
                <a:lnTo>
                  <a:pt x="391" y="7572"/>
                </a:lnTo>
                <a:lnTo>
                  <a:pt x="398" y="7574"/>
                </a:lnTo>
              </a:path>
            </a:pathLst>
          </a:custGeom>
          <a:noFill/>
          <a:ln cap="rnd" w="57240">
            <a:solidFill>
              <a:srgbClr val="ffcc0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 a dislodged tube, either in the esophagus or in the right mainstem bronchu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ube obstruction</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 tension pneumothorax</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equipment failure.</a:t>
            </a:r>
            <a:endParaRPr b="0" lang="en-US" sz="2400" spc="-1" strike="noStrike">
              <a:solidFill>
                <a:srgbClr val="ffffff"/>
              </a:solidFill>
              <a:latin typeface="Garamond"/>
            </a:endParaRPr>
          </a:p>
        </p:txBody>
      </p:sp>
      <p:sp>
        <p:nvSpPr>
          <p:cNvPr id="392" name=""/>
          <p:cNvSpPr/>
          <p:nvPr/>
        </p:nvSpPr>
        <p:spPr>
          <a:xfrm>
            <a:off x="685800" y="685800"/>
            <a:ext cx="7696080" cy="1800360"/>
          </a:xfrm>
          <a:prstGeom prst="rect">
            <a:avLst/>
          </a:prstGeom>
          <a:noFill/>
          <a:ln w="9360">
            <a:solidFill>
              <a:srgbClr val="d8e74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50 y.o.f. asthmatic intubated for respiratory failure, O</a:t>
            </a:r>
            <a:r>
              <a:rPr b="0" lang="en-US" sz="2000" spc="-1" strike="noStrike">
                <a:solidFill>
                  <a:srgbClr val="d8e74b"/>
                </a:solidFill>
                <a:latin typeface="Garamond"/>
              </a:rPr>
              <a:t>2</a:t>
            </a:r>
            <a:r>
              <a:rPr b="0" lang="en-US" sz="2800" spc="-1" strike="noStrike">
                <a:solidFill>
                  <a:srgbClr val="d8e74b"/>
                </a:solidFill>
                <a:latin typeface="Garamond"/>
              </a:rPr>
              <a:t> sat. after intubation was 100% ,30 minutes later you get called for decreasing O</a:t>
            </a:r>
            <a:r>
              <a:rPr b="0" lang="en-US" sz="2000" spc="-1" strike="noStrike">
                <a:solidFill>
                  <a:srgbClr val="d8e74b"/>
                </a:solidFill>
                <a:latin typeface="Garamond"/>
              </a:rPr>
              <a:t>2</a:t>
            </a:r>
            <a:r>
              <a:rPr b="0" lang="en-US" sz="2800" spc="-1" strike="noStrike">
                <a:solidFill>
                  <a:srgbClr val="d8e74b"/>
                </a:solidFill>
                <a:latin typeface="Garamond"/>
              </a:rPr>
              <a:t> satu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151" dur="500"/>
                                        <p:tgtEl>
                                          <p:spTgt spid="39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156" dur="500"/>
                                        <p:tgtEl>
                                          <p:spTgt spid="391">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161" dur="500"/>
                                        <p:tgtEl>
                                          <p:spTgt spid="39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66"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ilure to achieve adequate ventilation and oxygenation is the most serious complication of tracheal intubation (hypoxia)</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rreversible cerebral anoxia.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tempts at intubation should be halted for bag-mask ventilation whenever the O2 saturation drops below 92%.</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miting following removal of a tube from the esophagus.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ight mainstem bronchus intubation may cause hypoxia as well as unilateral pulmonary edema.</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diac decompensation.</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found bradycardia or asystole</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yngospasm, bronchospasm, and apnea.</a:t>
            </a:r>
            <a:endParaRPr b="0" lang="en-US" sz="2400" spc="-1" strike="noStrike">
              <a:solidFill>
                <a:srgbClr val="ffffff"/>
              </a:solidFill>
              <a:latin typeface="Garamond"/>
            </a:endParaRPr>
          </a:p>
        </p:txBody>
      </p:sp>
      <p:sp>
        <p:nvSpPr>
          <p:cNvPr id="394" name=""/>
          <p:cNvSpPr/>
          <p:nvPr/>
        </p:nvSpPr>
        <p:spPr>
          <a:xfrm>
            <a:off x="4954680" y="4789440"/>
            <a:ext cx="1782720" cy="1228680"/>
          </a:xfrm>
          <a:custGeom>
            <a:avLst/>
            <a:gdLst/>
            <a:ahLst/>
            <a:rect l="l" t="t" r="r" b="b"/>
            <a:pathLst>
              <a:path w="4955" h="3413">
                <a:moveTo>
                  <a:pt x="13842" y="13540"/>
                </a:moveTo>
                <a:cubicBezTo>
                  <a:pt x="13815" y="13548"/>
                  <a:pt x="13789" y="13553"/>
                  <a:pt x="13763" y="13559"/>
                </a:cubicBezTo>
                <a:cubicBezTo>
                  <a:pt x="13770" y="13558"/>
                  <a:pt x="13772" y="13555"/>
                  <a:pt x="13779" y="13554"/>
                </a:cubicBezTo>
                <a:cubicBezTo>
                  <a:pt x="13881" y="13538"/>
                  <a:pt x="13986" y="13527"/>
                  <a:pt x="14087" y="13504"/>
                </a:cubicBezTo>
                <a:cubicBezTo>
                  <a:pt x="14290" y="13457"/>
                  <a:pt x="14496" y="13416"/>
                  <a:pt x="14702" y="13380"/>
                </a:cubicBezTo>
                <a:cubicBezTo>
                  <a:pt x="14991" y="13329"/>
                  <a:pt x="15296" y="13315"/>
                  <a:pt x="15589" y="13307"/>
                </a:cubicBezTo>
                <a:cubicBezTo>
                  <a:pt x="15971" y="13296"/>
                  <a:pt x="16364" y="13298"/>
                  <a:pt x="16745" y="13326"/>
                </a:cubicBezTo>
                <a:cubicBezTo>
                  <a:pt x="17095" y="13352"/>
                  <a:pt x="17445" y="13407"/>
                  <a:pt x="17777" y="13522"/>
                </a:cubicBezTo>
                <a:cubicBezTo>
                  <a:pt x="17936" y="13577"/>
                  <a:pt x="18135" y="13629"/>
                  <a:pt x="18250" y="13760"/>
                </a:cubicBezTo>
                <a:cubicBezTo>
                  <a:pt x="18366" y="13893"/>
                  <a:pt x="18412" y="14129"/>
                  <a:pt x="18401" y="14298"/>
                </a:cubicBezTo>
                <a:cubicBezTo>
                  <a:pt x="18387" y="14508"/>
                  <a:pt x="18335" y="14741"/>
                  <a:pt x="18288" y="14946"/>
                </a:cubicBezTo>
                <a:cubicBezTo>
                  <a:pt x="18248" y="15123"/>
                  <a:pt x="18174" y="15270"/>
                  <a:pt x="18084" y="15425"/>
                </a:cubicBezTo>
                <a:cubicBezTo>
                  <a:pt x="18021" y="15534"/>
                  <a:pt x="17944" y="15636"/>
                  <a:pt x="17878" y="15742"/>
                </a:cubicBezTo>
                <a:cubicBezTo>
                  <a:pt x="17847" y="15791"/>
                  <a:pt x="17826" y="15845"/>
                  <a:pt x="17799" y="15896"/>
                </a:cubicBezTo>
                <a:cubicBezTo>
                  <a:pt x="17808" y="15878"/>
                  <a:pt x="17816" y="15859"/>
                  <a:pt x="17826" y="15841"/>
                </a:cubicBezTo>
              </a:path>
              <a:path w="4955" h="3413">
                <a:moveTo>
                  <a:pt x="16059" y="14620"/>
                </a:moveTo>
                <a:cubicBezTo>
                  <a:pt x="16077" y="14626"/>
                  <a:pt x="16090" y="14644"/>
                  <a:pt x="16109" y="14647"/>
                </a:cubicBezTo>
                <a:cubicBezTo>
                  <a:pt x="16409" y="14699"/>
                  <a:pt x="16736" y="14639"/>
                  <a:pt x="17041" y="14681"/>
                </a:cubicBezTo>
                <a:cubicBezTo>
                  <a:pt x="17146" y="14696"/>
                  <a:pt x="17234" y="14717"/>
                  <a:pt x="17327" y="14769"/>
                </a:cubicBezTo>
                <a:cubicBezTo>
                  <a:pt x="17470" y="14849"/>
                  <a:pt x="17546" y="14935"/>
                  <a:pt x="17571" y="15100"/>
                </a:cubicBezTo>
                <a:cubicBezTo>
                  <a:pt x="17577" y="15139"/>
                  <a:pt x="17577" y="15178"/>
                  <a:pt x="17582" y="15217"/>
                </a:cubicBezTo>
                <a:cubicBezTo>
                  <a:pt x="17595" y="15318"/>
                  <a:pt x="17611" y="15419"/>
                  <a:pt x="17620" y="15520"/>
                </a:cubicBezTo>
                <a:cubicBezTo>
                  <a:pt x="17627" y="15601"/>
                  <a:pt x="17602" y="15655"/>
                  <a:pt x="17587" y="15733"/>
                </a:cubicBezTo>
                <a:cubicBezTo>
                  <a:pt x="17574" y="15803"/>
                  <a:pt x="17567" y="15872"/>
                  <a:pt x="17550" y="15941"/>
                </a:cubicBezTo>
                <a:cubicBezTo>
                  <a:pt x="17544" y="15966"/>
                  <a:pt x="17538" y="15993"/>
                  <a:pt x="17530" y="16018"/>
                </a:cubicBezTo>
                <a:cubicBezTo>
                  <a:pt x="17517" y="16057"/>
                  <a:pt x="17501" y="16094"/>
                  <a:pt x="17489" y="16133"/>
                </a:cubicBezTo>
                <a:cubicBezTo>
                  <a:pt x="17478" y="16169"/>
                  <a:pt x="17458" y="16208"/>
                  <a:pt x="17453" y="16244"/>
                </a:cubicBezTo>
                <a:cubicBezTo>
                  <a:pt x="17451" y="16259"/>
                  <a:pt x="17457" y="16274"/>
                  <a:pt x="17455" y="16290"/>
                </a:cubicBezTo>
                <a:cubicBezTo>
                  <a:pt x="17463" y="16283"/>
                  <a:pt x="17474" y="16278"/>
                  <a:pt x="17485" y="16269"/>
                </a:cubicBezTo>
                <a:cubicBezTo>
                  <a:pt x="17519" y="16239"/>
                  <a:pt x="17546" y="16203"/>
                  <a:pt x="17577" y="16170"/>
                </a:cubicBezTo>
                <a:cubicBezTo>
                  <a:pt x="17614" y="16131"/>
                  <a:pt x="17658" y="16104"/>
                  <a:pt x="17698" y="16070"/>
                </a:cubicBezTo>
                <a:cubicBezTo>
                  <a:pt x="17725" y="16047"/>
                  <a:pt x="17745" y="16020"/>
                  <a:pt x="17770" y="15996"/>
                </a:cubicBezTo>
                <a:cubicBezTo>
                  <a:pt x="17824" y="15944"/>
                  <a:pt x="17874" y="15894"/>
                  <a:pt x="17940" y="15858"/>
                </a:cubicBezTo>
                <a:cubicBezTo>
                  <a:pt x="18004" y="15823"/>
                  <a:pt x="18077" y="15799"/>
                  <a:pt x="18143" y="15765"/>
                </a:cubicBezTo>
                <a:cubicBezTo>
                  <a:pt x="18252" y="15709"/>
                  <a:pt x="18340" y="15651"/>
                  <a:pt x="18431" y="15574"/>
                </a:cubicBezTo>
                <a:cubicBezTo>
                  <a:pt x="18436" y="15570"/>
                  <a:pt x="18442" y="15566"/>
                  <a:pt x="18446" y="15563"/>
                </a:cubicBezTo>
                <a:cubicBezTo>
                  <a:pt x="18435" y="15582"/>
                  <a:pt x="18439" y="15603"/>
                  <a:pt x="18422" y="15622"/>
                </a:cubicBezTo>
                <a:cubicBezTo>
                  <a:pt x="18409" y="15637"/>
                  <a:pt x="18387" y="15646"/>
                  <a:pt x="18372" y="15660"/>
                </a:cubicBezTo>
                <a:cubicBezTo>
                  <a:pt x="18348" y="15683"/>
                  <a:pt x="18325" y="15707"/>
                  <a:pt x="18301" y="15729"/>
                </a:cubicBezTo>
                <a:cubicBezTo>
                  <a:pt x="18235" y="15791"/>
                  <a:pt x="18165" y="15848"/>
                  <a:pt x="18098" y="15909"/>
                </a:cubicBezTo>
                <a:cubicBezTo>
                  <a:pt x="18039" y="15962"/>
                  <a:pt x="17988" y="16022"/>
                  <a:pt x="17931" y="16077"/>
                </a:cubicBezTo>
                <a:cubicBezTo>
                  <a:pt x="17815" y="16188"/>
                  <a:pt x="17678" y="16259"/>
                  <a:pt x="17542" y="16340"/>
                </a:cubicBezTo>
                <a:cubicBezTo>
                  <a:pt x="17536" y="16343"/>
                  <a:pt x="17532" y="16349"/>
                  <a:pt x="17526" y="16353"/>
                </a:cubicBezTo>
                <a:cubicBezTo>
                  <a:pt x="17525" y="16354"/>
                  <a:pt x="17522" y="16352"/>
                  <a:pt x="17521" y="16353"/>
                </a:cubicBezTo>
                <a:cubicBezTo>
                  <a:pt x="17520" y="16351"/>
                  <a:pt x="17517" y="16341"/>
                  <a:pt x="17514" y="16335"/>
                </a:cubicBezTo>
                <a:cubicBezTo>
                  <a:pt x="17473" y="16248"/>
                  <a:pt x="17425" y="16155"/>
                  <a:pt x="17363" y="16082"/>
                </a:cubicBezTo>
                <a:cubicBezTo>
                  <a:pt x="17315" y="16025"/>
                  <a:pt x="17258" y="15967"/>
                  <a:pt x="17204" y="15916"/>
                </a:cubicBezTo>
                <a:cubicBezTo>
                  <a:pt x="17192" y="15904"/>
                  <a:pt x="17184" y="15890"/>
                  <a:pt x="17171" y="15880"/>
                </a:cubicBezTo>
                <a:cubicBezTo>
                  <a:pt x="17152" y="15866"/>
                  <a:pt x="17126" y="15861"/>
                  <a:pt x="17105" y="15844"/>
                </a:cubicBezTo>
                <a:cubicBezTo>
                  <a:pt x="17081" y="15825"/>
                  <a:pt x="17057" y="15797"/>
                  <a:pt x="17032" y="15781"/>
                </a:cubicBezTo>
                <a:cubicBezTo>
                  <a:pt x="17022" y="15774"/>
                  <a:pt x="17013" y="15772"/>
                  <a:pt x="17001" y="15767"/>
                </a:cubicBezTo>
                <a:cubicBezTo>
                  <a:pt x="16995" y="15765"/>
                  <a:pt x="17000" y="15762"/>
                  <a:pt x="16994" y="15760"/>
                </a:cubicBezTo>
                <a:cubicBezTo>
                  <a:pt x="16989" y="15758"/>
                  <a:pt x="16995" y="15776"/>
                  <a:pt x="16990" y="15774"/>
                </a:cubicBezTo>
              </a:path>
              <a:path w="4955" h="3413">
                <a:moveTo>
                  <a:pt x="13831" y="13579"/>
                </a:moveTo>
                <a:cubicBezTo>
                  <a:pt x="13815" y="13584"/>
                  <a:pt x="13813" y="13585"/>
                  <a:pt x="13797" y="13590"/>
                </a:cubicBezTo>
                <a:cubicBezTo>
                  <a:pt x="13829" y="13580"/>
                  <a:pt x="13860" y="13570"/>
                  <a:pt x="13894" y="13559"/>
                </a:cubicBezTo>
                <a:cubicBezTo>
                  <a:pt x="13930" y="13547"/>
                  <a:pt x="13966" y="13537"/>
                  <a:pt x="14003" y="13527"/>
                </a:cubicBezTo>
                <a:cubicBezTo>
                  <a:pt x="14253" y="13462"/>
                  <a:pt x="14509" y="13457"/>
                  <a:pt x="14766" y="13432"/>
                </a:cubicBezTo>
                <a:cubicBezTo>
                  <a:pt x="14982" y="13411"/>
                  <a:pt x="15228" y="13388"/>
                  <a:pt x="15444" y="13421"/>
                </a:cubicBezTo>
                <a:cubicBezTo>
                  <a:pt x="15489" y="13428"/>
                  <a:pt x="15531" y="13446"/>
                  <a:pt x="15576" y="13452"/>
                </a:cubicBezTo>
                <a:cubicBezTo>
                  <a:pt x="15671" y="13466"/>
                  <a:pt x="15771" y="13476"/>
                  <a:pt x="15867" y="13482"/>
                </a:cubicBezTo>
                <a:cubicBezTo>
                  <a:pt x="16091" y="13495"/>
                  <a:pt x="16316" y="13478"/>
                  <a:pt x="16539" y="13500"/>
                </a:cubicBezTo>
                <a:cubicBezTo>
                  <a:pt x="16606" y="13507"/>
                  <a:pt x="16673" y="13512"/>
                  <a:pt x="16740" y="13520"/>
                </a:cubicBezTo>
                <a:cubicBezTo>
                  <a:pt x="17034" y="13555"/>
                  <a:pt x="17318" y="13587"/>
                  <a:pt x="17594" y="13683"/>
                </a:cubicBezTo>
                <a:cubicBezTo>
                  <a:pt x="17653" y="13704"/>
                  <a:pt x="17707" y="13728"/>
                  <a:pt x="17765" y="13753"/>
                </a:cubicBezTo>
                <a:cubicBezTo>
                  <a:pt x="17850" y="13789"/>
                  <a:pt x="17913" y="13825"/>
                  <a:pt x="17985" y="13878"/>
                </a:cubicBezTo>
                <a:cubicBezTo>
                  <a:pt x="18040" y="13918"/>
                  <a:pt x="18092" y="13962"/>
                  <a:pt x="18130" y="14018"/>
                </a:cubicBezTo>
                <a:cubicBezTo>
                  <a:pt x="18147" y="14042"/>
                  <a:pt x="18160" y="14069"/>
                  <a:pt x="18172" y="14097"/>
                </a:cubicBezTo>
                <a:cubicBezTo>
                  <a:pt x="18194" y="14148"/>
                  <a:pt x="18203" y="14207"/>
                  <a:pt x="18215" y="14260"/>
                </a:cubicBezTo>
                <a:cubicBezTo>
                  <a:pt x="18261" y="14469"/>
                  <a:pt x="18325" y="14711"/>
                  <a:pt x="18283" y="14927"/>
                </a:cubicBezTo>
                <a:cubicBezTo>
                  <a:pt x="18257" y="15061"/>
                  <a:pt x="18191" y="15188"/>
                  <a:pt x="18130" y="15308"/>
                </a:cubicBezTo>
                <a:cubicBezTo>
                  <a:pt x="18083" y="15402"/>
                  <a:pt x="18024" y="15492"/>
                  <a:pt x="17982" y="15588"/>
                </a:cubicBezTo>
                <a:cubicBezTo>
                  <a:pt x="17951" y="15658"/>
                  <a:pt x="17923" y="15739"/>
                  <a:pt x="17901" y="15812"/>
                </a:cubicBezTo>
                <a:cubicBezTo>
                  <a:pt x="17889" y="15851"/>
                  <a:pt x="17888" y="15890"/>
                  <a:pt x="17874" y="15927"/>
                </a:cubicBezTo>
                <a:cubicBezTo>
                  <a:pt x="17865" y="15952"/>
                  <a:pt x="17855" y="15977"/>
                  <a:pt x="17844" y="16000"/>
                </a:cubicBezTo>
                <a:cubicBezTo>
                  <a:pt x="17836" y="16018"/>
                  <a:pt x="17830" y="16039"/>
                  <a:pt x="17820" y="16057"/>
                </a:cubicBezTo>
                <a:cubicBezTo>
                  <a:pt x="17813" y="16070"/>
                  <a:pt x="17791" y="16083"/>
                  <a:pt x="17786" y="16091"/>
                </a:cubicBezTo>
                <a:cubicBezTo>
                  <a:pt x="17786" y="16093"/>
                  <a:pt x="17786" y="16094"/>
                  <a:pt x="17786" y="16091"/>
                </a:cubicBezTo>
                <a:cubicBezTo>
                  <a:pt x="17787" y="16081"/>
                  <a:pt x="17778" y="16073"/>
                  <a:pt x="17781" y="16056"/>
                </a:cubicBezTo>
                <a:cubicBezTo>
                  <a:pt x="17791" y="15993"/>
                  <a:pt x="17799" y="15948"/>
                  <a:pt x="17820" y="15885"/>
                </a:cubicBezTo>
                <a:cubicBezTo>
                  <a:pt x="17877" y="15716"/>
                  <a:pt x="17982" y="15581"/>
                  <a:pt x="18059" y="15423"/>
                </a:cubicBezTo>
                <a:cubicBezTo>
                  <a:pt x="18114" y="15310"/>
                  <a:pt x="18146" y="15194"/>
                  <a:pt x="18180" y="15074"/>
                </a:cubicBezTo>
                <a:cubicBezTo>
                  <a:pt x="18211" y="14966"/>
                  <a:pt x="18244" y="14857"/>
                  <a:pt x="18272" y="14749"/>
                </a:cubicBezTo>
                <a:cubicBezTo>
                  <a:pt x="18301" y="14637"/>
                  <a:pt x="18321" y="14532"/>
                  <a:pt x="18322" y="14418"/>
                </a:cubicBezTo>
                <a:cubicBezTo>
                  <a:pt x="18323" y="14315"/>
                  <a:pt x="18366" y="14099"/>
                  <a:pt x="18322" y="14005"/>
                </a:cubicBezTo>
                <a:cubicBezTo>
                  <a:pt x="18315" y="13990"/>
                  <a:pt x="18300" y="13982"/>
                  <a:pt x="18295" y="13973"/>
                </a:cubicBezTo>
                <a:cubicBezTo>
                  <a:pt x="18282" y="13950"/>
                  <a:pt x="18258" y="13936"/>
                  <a:pt x="18241" y="13919"/>
                </a:cubicBezTo>
                <a:cubicBezTo>
                  <a:pt x="18216" y="13894"/>
                  <a:pt x="18199" y="13888"/>
                  <a:pt x="18172" y="13871"/>
                </a:cubicBezTo>
                <a:cubicBezTo>
                  <a:pt x="18147" y="13856"/>
                  <a:pt x="18121" y="13850"/>
                  <a:pt x="18096" y="13839"/>
                </a:cubicBezTo>
                <a:cubicBezTo>
                  <a:pt x="18079" y="13832"/>
                  <a:pt x="18058" y="13825"/>
                  <a:pt x="18037" y="13817"/>
                </a:cubicBezTo>
                <a:cubicBezTo>
                  <a:pt x="18028" y="13814"/>
                  <a:pt x="18027" y="13815"/>
                  <a:pt x="18019" y="13812"/>
                </a:cubicBezTo>
                <a:cubicBezTo>
                  <a:pt x="17964" y="13791"/>
                  <a:pt x="17909" y="13769"/>
                  <a:pt x="17856" y="13747"/>
                </a:cubicBezTo>
                <a:cubicBezTo>
                  <a:pt x="17813" y="13730"/>
                  <a:pt x="17766" y="13702"/>
                  <a:pt x="17729" y="13686"/>
                </a:cubicBezTo>
                <a:cubicBezTo>
                  <a:pt x="17720" y="13682"/>
                  <a:pt x="17713" y="13670"/>
                  <a:pt x="17706" y="13667"/>
                </a:cubicBezTo>
                <a:cubicBezTo>
                  <a:pt x="17693" y="13662"/>
                  <a:pt x="17680" y="13657"/>
                  <a:pt x="17666" y="13652"/>
                </a:cubicBezTo>
                <a:cubicBezTo>
                  <a:pt x="17648" y="13645"/>
                  <a:pt x="17627" y="13645"/>
                  <a:pt x="17609" y="13640"/>
                </a:cubicBezTo>
                <a:cubicBezTo>
                  <a:pt x="17586" y="13633"/>
                  <a:pt x="17561" y="13629"/>
                  <a:pt x="17537" y="13622"/>
                </a:cubicBezTo>
                <a:cubicBezTo>
                  <a:pt x="17460" y="13598"/>
                  <a:pt x="17378" y="13559"/>
                  <a:pt x="17299" y="13541"/>
                </a:cubicBezTo>
                <a:cubicBezTo>
                  <a:pt x="17263" y="13533"/>
                  <a:pt x="17224" y="13532"/>
                  <a:pt x="17188" y="13527"/>
                </a:cubicBezTo>
                <a:cubicBezTo>
                  <a:pt x="17091" y="13515"/>
                  <a:pt x="16988" y="13507"/>
                  <a:pt x="16890" y="13498"/>
                </a:cubicBezTo>
                <a:cubicBezTo>
                  <a:pt x="16807" y="13490"/>
                  <a:pt x="16732" y="13479"/>
                  <a:pt x="16648" y="13475"/>
                </a:cubicBezTo>
                <a:cubicBezTo>
                  <a:pt x="16607" y="13473"/>
                  <a:pt x="16567" y="13472"/>
                  <a:pt x="16526" y="13471"/>
                </a:cubicBezTo>
                <a:cubicBezTo>
                  <a:pt x="16539" y="13471"/>
                  <a:pt x="16542" y="13471"/>
                  <a:pt x="16555" y="13471"/>
                </a:cubicBezTo>
                <a:cubicBezTo>
                  <a:pt x="16720" y="13467"/>
                  <a:pt x="16880" y="13463"/>
                  <a:pt x="17042" y="13491"/>
                </a:cubicBezTo>
                <a:cubicBezTo>
                  <a:pt x="17160" y="13512"/>
                  <a:pt x="17270" y="13543"/>
                  <a:pt x="17385" y="13570"/>
                </a:cubicBezTo>
                <a:cubicBezTo>
                  <a:pt x="17511" y="13600"/>
                  <a:pt x="17637" y="13618"/>
                  <a:pt x="17765" y="13638"/>
                </a:cubicBezTo>
                <a:cubicBezTo>
                  <a:pt x="17847" y="13651"/>
                  <a:pt x="17933" y="13664"/>
                  <a:pt x="17998" y="13719"/>
                </a:cubicBezTo>
                <a:cubicBezTo>
                  <a:pt x="18018" y="13736"/>
                  <a:pt x="18036" y="13752"/>
                  <a:pt x="18050" y="13774"/>
                </a:cubicBezTo>
                <a:cubicBezTo>
                  <a:pt x="18055" y="13781"/>
                  <a:pt x="18053" y="13796"/>
                  <a:pt x="18057" y="13805"/>
                </a:cubicBezTo>
                <a:cubicBezTo>
                  <a:pt x="18075" y="13843"/>
                  <a:pt x="18070" y="13866"/>
                  <a:pt x="18078" y="13911"/>
                </a:cubicBezTo>
                <a:cubicBezTo>
                  <a:pt x="18080" y="13922"/>
                  <a:pt x="18077" y="13934"/>
                  <a:pt x="18078" y="13945"/>
                </a:cubicBezTo>
              </a:path>
              <a:path w="4955" h="3413">
                <a:moveTo>
                  <a:pt x="17675" y="16185"/>
                </a:moveTo>
                <a:cubicBezTo>
                  <a:pt x="17684" y="16178"/>
                  <a:pt x="17721" y="16193"/>
                  <a:pt x="17727" y="16183"/>
                </a:cubicBezTo>
                <a:cubicBezTo>
                  <a:pt x="17741" y="16161"/>
                  <a:pt x="17737" y="16107"/>
                  <a:pt x="17749" y="16081"/>
                </a:cubicBezTo>
                <a:cubicBezTo>
                  <a:pt x="17753" y="16073"/>
                  <a:pt x="17757" y="16049"/>
                  <a:pt x="17759" y="16043"/>
                </a:cubicBezTo>
                <a:cubicBezTo>
                  <a:pt x="17762" y="16033"/>
                  <a:pt x="17778" y="16018"/>
                  <a:pt x="17783" y="16007"/>
                </a:cubicBezTo>
                <a:cubicBezTo>
                  <a:pt x="17786" y="16000"/>
                  <a:pt x="17791" y="15978"/>
                  <a:pt x="17795" y="15968"/>
                </a:cubicBezTo>
                <a:cubicBezTo>
                  <a:pt x="17802" y="15951"/>
                  <a:pt x="17811" y="15933"/>
                  <a:pt x="17818" y="15916"/>
                </a:cubicBezTo>
                <a:cubicBezTo>
                  <a:pt x="17828" y="15890"/>
                  <a:pt x="17832" y="15857"/>
                  <a:pt x="17842" y="15833"/>
                </a:cubicBezTo>
                <a:cubicBezTo>
                  <a:pt x="17845" y="15825"/>
                  <a:pt x="17841" y="15850"/>
                  <a:pt x="17844" y="15842"/>
                </a:cubicBezTo>
                <a:cubicBezTo>
                  <a:pt x="17830" y="15874"/>
                  <a:pt x="17819" y="15899"/>
                  <a:pt x="17801" y="15932"/>
                </a:cubicBezTo>
                <a:cubicBezTo>
                  <a:pt x="17778" y="15973"/>
                  <a:pt x="17769" y="16014"/>
                  <a:pt x="17756" y="16054"/>
                </a:cubicBezTo>
                <a:cubicBezTo>
                  <a:pt x="17759" y="16044"/>
                  <a:pt x="17757" y="16064"/>
                  <a:pt x="17759" y="16054"/>
                </a:cubicBezTo>
                <a:cubicBezTo>
                  <a:pt x="17763" y="16033"/>
                  <a:pt x="17764" y="16014"/>
                  <a:pt x="17770" y="15993"/>
                </a:cubicBezTo>
                <a:cubicBezTo>
                  <a:pt x="17776" y="15973"/>
                  <a:pt x="17789" y="15954"/>
                  <a:pt x="17793" y="15935"/>
                </a:cubicBezTo>
                <a:cubicBezTo>
                  <a:pt x="17800" y="15904"/>
                  <a:pt x="17803" y="15863"/>
                  <a:pt x="17811" y="15837"/>
                </a:cubicBezTo>
                <a:cubicBezTo>
                  <a:pt x="17812" y="15834"/>
                  <a:pt x="17816" y="15840"/>
                  <a:pt x="17817" y="15837"/>
                </a:cubicBezTo>
                <a:cubicBezTo>
                  <a:pt x="17814" y="15846"/>
                  <a:pt x="17813" y="15861"/>
                  <a:pt x="17809" y="15869"/>
                </a:cubicBezTo>
                <a:cubicBezTo>
                  <a:pt x="17794" y="15898"/>
                  <a:pt x="17769" y="15920"/>
                  <a:pt x="17754" y="15948"/>
                </a:cubicBezTo>
                <a:cubicBezTo>
                  <a:pt x="17742" y="15971"/>
                  <a:pt x="17746" y="15993"/>
                  <a:pt x="17729" y="16014"/>
                </a:cubicBezTo>
                <a:cubicBezTo>
                  <a:pt x="17723" y="16022"/>
                  <a:pt x="17725" y="16036"/>
                  <a:pt x="17723" y="16029"/>
                </a:cubicBezTo>
                <a:cubicBezTo>
                  <a:pt x="17719" y="16016"/>
                  <a:pt x="17731" y="16000"/>
                  <a:pt x="17734" y="15989"/>
                </a:cubicBezTo>
                <a:cubicBezTo>
                  <a:pt x="17738" y="15977"/>
                  <a:pt x="17748" y="15963"/>
                  <a:pt x="17750" y="15955"/>
                </a:cubicBezTo>
                <a:cubicBezTo>
                  <a:pt x="17751" y="15950"/>
                  <a:pt x="17757" y="15950"/>
                  <a:pt x="17758" y="15944"/>
                </a:cubicBezTo>
                <a:cubicBezTo>
                  <a:pt x="17759" y="15936"/>
                  <a:pt x="17751" y="15931"/>
                  <a:pt x="17752" y="15927"/>
                </a:cubicBezTo>
                <a:cubicBezTo>
                  <a:pt x="17749" y="15935"/>
                  <a:pt x="17748" y="15930"/>
                  <a:pt x="17745" y="15939"/>
                </a:cubicBezTo>
                <a:cubicBezTo>
                  <a:pt x="17740" y="15953"/>
                  <a:pt x="17737" y="15965"/>
                  <a:pt x="17731" y="15979"/>
                </a:cubicBezTo>
                <a:cubicBezTo>
                  <a:pt x="17727" y="15989"/>
                  <a:pt x="17721" y="16005"/>
                  <a:pt x="17718" y="16011"/>
                </a:cubicBezTo>
                <a:cubicBezTo>
                  <a:pt x="17712" y="16022"/>
                  <a:pt x="17705" y="16032"/>
                  <a:pt x="17700" y="16043"/>
                </a:cubicBezTo>
                <a:cubicBezTo>
                  <a:pt x="17698" y="16048"/>
                  <a:pt x="17699" y="16045"/>
                  <a:pt x="17698" y="16048"/>
                </a:cubicBezTo>
                <a:cubicBezTo>
                  <a:pt x="17703" y="16023"/>
                  <a:pt x="17706" y="15996"/>
                  <a:pt x="17713" y="15970"/>
                </a:cubicBezTo>
                <a:cubicBezTo>
                  <a:pt x="17731" y="15903"/>
                  <a:pt x="17757" y="15837"/>
                  <a:pt x="17783" y="15774"/>
                </a:cubicBezTo>
                <a:cubicBezTo>
                  <a:pt x="17783" y="15771"/>
                  <a:pt x="17783" y="15771"/>
                  <a:pt x="17783" y="15776"/>
                </a:cubicBezTo>
                <a:cubicBezTo>
                  <a:pt x="17775" y="15794"/>
                  <a:pt x="17773" y="15814"/>
                  <a:pt x="17765" y="15833"/>
                </a:cubicBezTo>
                <a:cubicBezTo>
                  <a:pt x="17757" y="15852"/>
                  <a:pt x="17745" y="15873"/>
                  <a:pt x="17736" y="15892"/>
                </a:cubicBezTo>
                <a:cubicBezTo>
                  <a:pt x="17720" y="15926"/>
                  <a:pt x="17697" y="15958"/>
                  <a:pt x="17684" y="15993"/>
                </a:cubicBezTo>
                <a:cubicBezTo>
                  <a:pt x="17674" y="16021"/>
                  <a:pt x="17666" y="16053"/>
                  <a:pt x="17659" y="16079"/>
                </a:cubicBezTo>
                <a:cubicBezTo>
                  <a:pt x="17655" y="16092"/>
                  <a:pt x="17658" y="16096"/>
                  <a:pt x="17654" y="16109"/>
                </a:cubicBezTo>
                <a:cubicBezTo>
                  <a:pt x="17654" y="16107"/>
                  <a:pt x="17654" y="16104"/>
                  <a:pt x="17654" y="16102"/>
                </a:cubicBezTo>
                <a:cubicBezTo>
                  <a:pt x="17670" y="16050"/>
                  <a:pt x="17686" y="15996"/>
                  <a:pt x="17706" y="15944"/>
                </a:cubicBezTo>
                <a:cubicBezTo>
                  <a:pt x="17724" y="15897"/>
                  <a:pt x="17749" y="15853"/>
                  <a:pt x="17770" y="15808"/>
                </a:cubicBezTo>
                <a:cubicBezTo>
                  <a:pt x="17780" y="15788"/>
                  <a:pt x="17794" y="15772"/>
                  <a:pt x="17799" y="15751"/>
                </a:cubicBezTo>
                <a:cubicBezTo>
                  <a:pt x="17803" y="15733"/>
                  <a:pt x="17798" y="15713"/>
                  <a:pt x="17801" y="15695"/>
                </a:cubicBezTo>
                <a:cubicBezTo>
                  <a:pt x="17806" y="15663"/>
                  <a:pt x="17803" y="15631"/>
                  <a:pt x="17808" y="15600"/>
                </a:cubicBezTo>
                <a:cubicBezTo>
                  <a:pt x="17811" y="15576"/>
                  <a:pt x="17819" y="15552"/>
                  <a:pt x="17822" y="15529"/>
                </a:cubicBezTo>
                <a:cubicBezTo>
                  <a:pt x="17835" y="15413"/>
                  <a:pt x="17829" y="15290"/>
                  <a:pt x="17827" y="15172"/>
                </a:cubicBezTo>
                <a:cubicBezTo>
                  <a:pt x="17826" y="15107"/>
                  <a:pt x="17820" y="15040"/>
                  <a:pt x="17809" y="14977"/>
                </a:cubicBezTo>
                <a:cubicBezTo>
                  <a:pt x="17799" y="14919"/>
                  <a:pt x="17787" y="14853"/>
                  <a:pt x="17765" y="14799"/>
                </a:cubicBezTo>
                <a:cubicBezTo>
                  <a:pt x="17747" y="14755"/>
                  <a:pt x="17721" y="14723"/>
                  <a:pt x="17689" y="14688"/>
                </a:cubicBezTo>
                <a:cubicBezTo>
                  <a:pt x="17670" y="14667"/>
                  <a:pt x="17650" y="14649"/>
                  <a:pt x="17628" y="14631"/>
                </a:cubicBezTo>
                <a:cubicBezTo>
                  <a:pt x="17615" y="14620"/>
                  <a:pt x="17603" y="14614"/>
                  <a:pt x="17589" y="14604"/>
                </a:cubicBezTo>
                <a:cubicBezTo>
                  <a:pt x="17561" y="14584"/>
                  <a:pt x="17534" y="14569"/>
                  <a:pt x="17505" y="14554"/>
                </a:cubicBezTo>
                <a:cubicBezTo>
                  <a:pt x="17495" y="14549"/>
                  <a:pt x="17484" y="14545"/>
                  <a:pt x="17473" y="14540"/>
                </a:cubicBezTo>
                <a:cubicBezTo>
                  <a:pt x="17429" y="14518"/>
                  <a:pt x="17403" y="14512"/>
                  <a:pt x="17354" y="14507"/>
                </a:cubicBezTo>
                <a:cubicBezTo>
                  <a:pt x="17107" y="14483"/>
                  <a:pt x="16845" y="14506"/>
                  <a:pt x="16596" y="14505"/>
                </a:cubicBezTo>
                <a:cubicBezTo>
                  <a:pt x="16507" y="14505"/>
                  <a:pt x="16423" y="14507"/>
                  <a:pt x="16336" y="14516"/>
                </a:cubicBezTo>
                <a:cubicBezTo>
                  <a:pt x="16303" y="14520"/>
                  <a:pt x="16260" y="14526"/>
                  <a:pt x="16231" y="14529"/>
                </a:cubicBezTo>
                <a:cubicBezTo>
                  <a:pt x="16238" y="14529"/>
                  <a:pt x="16242" y="14529"/>
                  <a:pt x="16249" y="14529"/>
                </a:cubicBezTo>
                <a:cubicBezTo>
                  <a:pt x="16299" y="14532"/>
                  <a:pt x="16350" y="14533"/>
                  <a:pt x="16401" y="14536"/>
                </a:cubicBezTo>
                <a:cubicBezTo>
                  <a:pt x="16501" y="14542"/>
                  <a:pt x="16603" y="14559"/>
                  <a:pt x="16697" y="14572"/>
                </a:cubicBezTo>
                <a:cubicBezTo>
                  <a:pt x="16752" y="14580"/>
                  <a:pt x="16806" y="14579"/>
                  <a:pt x="16863" y="14581"/>
                </a:cubicBezTo>
                <a:cubicBezTo>
                  <a:pt x="16935" y="14583"/>
                  <a:pt x="17007" y="14588"/>
                  <a:pt x="17080" y="14591"/>
                </a:cubicBezTo>
                <a:cubicBezTo>
                  <a:pt x="17112" y="14592"/>
                  <a:pt x="17142" y="14591"/>
                  <a:pt x="17173" y="14599"/>
                </a:cubicBezTo>
                <a:cubicBezTo>
                  <a:pt x="17229" y="14614"/>
                  <a:pt x="17300" y="14642"/>
                  <a:pt x="17351" y="14665"/>
                </a:cubicBezTo>
                <a:cubicBezTo>
                  <a:pt x="17374" y="14675"/>
                  <a:pt x="17391" y="14681"/>
                  <a:pt x="17412" y="14695"/>
                </a:cubicBezTo>
                <a:cubicBezTo>
                  <a:pt x="17441" y="14714"/>
                  <a:pt x="17488" y="14751"/>
                  <a:pt x="17514" y="14776"/>
                </a:cubicBezTo>
                <a:cubicBezTo>
                  <a:pt x="17606" y="14865"/>
                  <a:pt x="17652" y="14979"/>
                  <a:pt x="17677" y="15100"/>
                </a:cubicBezTo>
                <a:cubicBezTo>
                  <a:pt x="17693" y="15177"/>
                  <a:pt x="17693" y="15260"/>
                  <a:pt x="17695" y="15339"/>
                </a:cubicBezTo>
                <a:cubicBezTo>
                  <a:pt x="17696" y="15389"/>
                  <a:pt x="17701" y="15439"/>
                  <a:pt x="17702" y="15489"/>
                </a:cubicBezTo>
                <a:cubicBezTo>
                  <a:pt x="17702" y="15518"/>
                  <a:pt x="17698" y="15546"/>
                  <a:pt x="17698" y="15574"/>
                </a:cubicBezTo>
                <a:cubicBezTo>
                  <a:pt x="17698" y="15581"/>
                  <a:pt x="17700" y="15596"/>
                  <a:pt x="17700" y="15600"/>
                </a:cubicBezTo>
                <a:cubicBezTo>
                  <a:pt x="17701" y="15595"/>
                  <a:pt x="17705" y="15595"/>
                  <a:pt x="17706" y="15590"/>
                </a:cubicBezTo>
                <a:cubicBezTo>
                  <a:pt x="17714" y="15511"/>
                  <a:pt x="17722" y="15433"/>
                  <a:pt x="17722" y="15353"/>
                </a:cubicBezTo>
                <a:cubicBezTo>
                  <a:pt x="17722" y="15198"/>
                  <a:pt x="17759" y="14972"/>
                  <a:pt x="17706" y="14828"/>
                </a:cubicBezTo>
                <a:cubicBezTo>
                  <a:pt x="17702" y="14816"/>
                  <a:pt x="17683" y="14813"/>
                  <a:pt x="17679" y="14803"/>
                </a:cubicBezTo>
                <a:cubicBezTo>
                  <a:pt x="17679" y="14809"/>
                  <a:pt x="17673" y="14799"/>
                  <a:pt x="17673" y="14805"/>
                </a:cubicBezTo>
                <a:cubicBezTo>
                  <a:pt x="17674" y="14842"/>
                  <a:pt x="17677" y="14881"/>
                  <a:pt x="17677" y="14919"/>
                </a:cubicBezTo>
                <a:cubicBezTo>
                  <a:pt x="17678" y="15111"/>
                  <a:pt x="17702" y="15316"/>
                  <a:pt x="17663" y="15504"/>
                </a:cubicBezTo>
                <a:cubicBezTo>
                  <a:pt x="17647" y="15580"/>
                  <a:pt x="17623" y="15656"/>
                  <a:pt x="17612" y="15733"/>
                </a:cubicBezTo>
                <a:cubicBezTo>
                  <a:pt x="17610" y="15751"/>
                  <a:pt x="17605" y="15790"/>
                  <a:pt x="17605" y="15801"/>
                </a:cubicBezTo>
                <a:cubicBezTo>
                  <a:pt x="17604" y="15851"/>
                  <a:pt x="17611" y="15901"/>
                  <a:pt x="17611" y="15952"/>
                </a:cubicBezTo>
                <a:cubicBezTo>
                  <a:pt x="17612" y="16025"/>
                  <a:pt x="17601" y="16090"/>
                  <a:pt x="17594" y="16161"/>
                </a:cubicBezTo>
                <a:cubicBezTo>
                  <a:pt x="17591" y="16194"/>
                  <a:pt x="17587" y="16241"/>
                  <a:pt x="17584" y="16267"/>
                </a:cubicBezTo>
                <a:cubicBezTo>
                  <a:pt x="17584" y="16269"/>
                  <a:pt x="17584" y="16270"/>
                  <a:pt x="17582" y="16269"/>
                </a:cubicBezTo>
                <a:cubicBezTo>
                  <a:pt x="17538" y="16222"/>
                  <a:pt x="17503" y="16183"/>
                  <a:pt x="17465" y="16129"/>
                </a:cubicBezTo>
                <a:cubicBezTo>
                  <a:pt x="17370" y="15994"/>
                  <a:pt x="17305" y="15845"/>
                  <a:pt x="17223" y="15704"/>
                </a:cubicBezTo>
                <a:cubicBezTo>
                  <a:pt x="17219" y="15697"/>
                  <a:pt x="17215" y="15695"/>
                  <a:pt x="17211" y="15688"/>
                </a:cubicBezTo>
                <a:cubicBezTo>
                  <a:pt x="17211" y="15689"/>
                  <a:pt x="17211" y="15691"/>
                  <a:pt x="17211" y="15692"/>
                </a:cubicBezTo>
                <a:cubicBezTo>
                  <a:pt x="17224" y="15732"/>
                  <a:pt x="17229" y="15768"/>
                  <a:pt x="17250" y="15808"/>
                </a:cubicBezTo>
                <a:cubicBezTo>
                  <a:pt x="17299" y="15903"/>
                  <a:pt x="17339" y="16001"/>
                  <a:pt x="17387" y="16097"/>
                </a:cubicBezTo>
                <a:cubicBezTo>
                  <a:pt x="17398" y="16119"/>
                  <a:pt x="17410" y="16138"/>
                  <a:pt x="17422" y="16158"/>
                </a:cubicBezTo>
                <a:cubicBezTo>
                  <a:pt x="17424" y="16158"/>
                  <a:pt x="17425" y="16158"/>
                  <a:pt x="17426" y="16158"/>
                </a:cubicBezTo>
                <a:cubicBezTo>
                  <a:pt x="17430" y="16088"/>
                  <a:pt x="17443" y="16026"/>
                  <a:pt x="17421" y="15953"/>
                </a:cubicBezTo>
                <a:cubicBezTo>
                  <a:pt x="17390" y="15850"/>
                  <a:pt x="17330" y="15781"/>
                  <a:pt x="17275" y="15695"/>
                </a:cubicBezTo>
                <a:cubicBezTo>
                  <a:pt x="17267" y="15682"/>
                  <a:pt x="17264" y="15666"/>
                  <a:pt x="17256" y="15654"/>
                </a:cubicBezTo>
                <a:cubicBezTo>
                  <a:pt x="17283" y="15674"/>
                  <a:pt x="17311" y="15692"/>
                  <a:pt x="17338" y="15717"/>
                </a:cubicBezTo>
                <a:cubicBezTo>
                  <a:pt x="17393" y="15768"/>
                  <a:pt x="17447" y="15820"/>
                  <a:pt x="17501" y="15871"/>
                </a:cubicBezTo>
                <a:cubicBezTo>
                  <a:pt x="17522" y="15891"/>
                  <a:pt x="17544" y="15907"/>
                  <a:pt x="17564" y="15928"/>
                </a:cubicBezTo>
                <a:cubicBezTo>
                  <a:pt x="17575" y="15939"/>
                  <a:pt x="17584" y="15953"/>
                  <a:pt x="17594" y="15964"/>
                </a:cubicBezTo>
                <a:cubicBezTo>
                  <a:pt x="17598" y="15968"/>
                  <a:pt x="17599" y="15971"/>
                  <a:pt x="17603" y="15975"/>
                </a:cubicBezTo>
                <a:cubicBezTo>
                  <a:pt x="17592" y="15955"/>
                  <a:pt x="17582" y="15931"/>
                  <a:pt x="17569" y="15910"/>
                </a:cubicBezTo>
                <a:cubicBezTo>
                  <a:pt x="17511" y="15818"/>
                  <a:pt x="17442" y="15728"/>
                  <a:pt x="17367" y="15651"/>
                </a:cubicBezTo>
                <a:cubicBezTo>
                  <a:pt x="17364" y="15648"/>
                  <a:pt x="17359" y="15648"/>
                  <a:pt x="17356" y="15645"/>
                </a:cubicBezTo>
                <a:cubicBezTo>
                  <a:pt x="17379" y="15674"/>
                  <a:pt x="17404" y="15701"/>
                  <a:pt x="17424" y="15733"/>
                </a:cubicBezTo>
                <a:cubicBezTo>
                  <a:pt x="17461" y="15791"/>
                  <a:pt x="17488" y="15857"/>
                  <a:pt x="17517" y="15919"/>
                </a:cubicBezTo>
                <a:cubicBezTo>
                  <a:pt x="17519" y="15924"/>
                  <a:pt x="17523" y="15922"/>
                  <a:pt x="17525" y="15927"/>
                </a:cubicBezTo>
                <a:cubicBezTo>
                  <a:pt x="17523" y="15926"/>
                  <a:pt x="17521" y="15926"/>
                  <a:pt x="17519" y="15925"/>
                </a:cubicBezTo>
                <a:cubicBezTo>
                  <a:pt x="17485" y="15890"/>
                  <a:pt x="17450" y="15855"/>
                  <a:pt x="17417" y="15819"/>
                </a:cubicBezTo>
                <a:cubicBezTo>
                  <a:pt x="17348" y="15744"/>
                  <a:pt x="17273" y="15683"/>
                  <a:pt x="17191" y="15622"/>
                </a:cubicBezTo>
                <a:cubicBezTo>
                  <a:pt x="17174" y="15609"/>
                  <a:pt x="17156" y="15596"/>
                  <a:pt x="17137" y="15582"/>
                </a:cubicBezTo>
                <a:cubicBezTo>
                  <a:pt x="17124" y="15573"/>
                  <a:pt x="17111" y="15563"/>
                  <a:pt x="17098" y="15554"/>
                </a:cubicBezTo>
                <a:cubicBezTo>
                  <a:pt x="17105" y="15575"/>
                  <a:pt x="17133" y="15553"/>
                  <a:pt x="17127" y="15574"/>
                </a:cubicBezTo>
                <a:cubicBezTo>
                  <a:pt x="17116" y="15613"/>
                  <a:pt x="17092" y="15642"/>
                  <a:pt x="17076" y="15679"/>
                </a:cubicBezTo>
                <a:cubicBezTo>
                  <a:pt x="17065" y="15705"/>
                  <a:pt x="17054" y="15732"/>
                  <a:pt x="17041" y="15758"/>
                </a:cubicBezTo>
                <a:cubicBezTo>
                  <a:pt x="17022" y="15795"/>
                  <a:pt x="16998" y="15830"/>
                  <a:pt x="16978" y="15864"/>
                </a:cubicBezTo>
                <a:cubicBezTo>
                  <a:pt x="16988" y="15841"/>
                  <a:pt x="17003" y="15816"/>
                  <a:pt x="17012" y="15792"/>
                </a:cubicBezTo>
                <a:cubicBezTo>
                  <a:pt x="17034" y="15733"/>
                  <a:pt x="17052" y="15676"/>
                  <a:pt x="17078" y="15618"/>
                </a:cubicBezTo>
                <a:cubicBezTo>
                  <a:pt x="17091" y="15590"/>
                  <a:pt x="17106" y="15564"/>
                  <a:pt x="17119" y="15538"/>
                </a:cubicBezTo>
                <a:cubicBezTo>
                  <a:pt x="17119" y="15614"/>
                  <a:pt x="17124" y="15691"/>
                  <a:pt x="17132" y="15762"/>
                </a:cubicBezTo>
                <a:cubicBezTo>
                  <a:pt x="17140" y="15760"/>
                  <a:pt x="17154" y="15773"/>
                  <a:pt x="17166" y="15769"/>
                </a:cubicBezTo>
                <a:cubicBezTo>
                  <a:pt x="17198" y="15758"/>
                  <a:pt x="17219" y="15745"/>
                  <a:pt x="17245" y="15726"/>
                </a:cubicBezTo>
                <a:cubicBezTo>
                  <a:pt x="17278" y="15701"/>
                  <a:pt x="17285" y="15663"/>
                  <a:pt x="17327" y="15665"/>
                </a:cubicBezTo>
                <a:cubicBezTo>
                  <a:pt x="17340" y="15666"/>
                  <a:pt x="17354" y="15673"/>
                  <a:pt x="17365" y="15679"/>
                </a:cubicBezTo>
                <a:cubicBezTo>
                  <a:pt x="17408" y="15701"/>
                  <a:pt x="17443" y="15767"/>
                  <a:pt x="17480" y="15801"/>
                </a:cubicBezTo>
                <a:cubicBezTo>
                  <a:pt x="17503" y="15822"/>
                  <a:pt x="17524" y="15840"/>
                  <a:pt x="17541" y="15860"/>
                </a:cubicBezTo>
                <a:cubicBezTo>
                  <a:pt x="17541" y="15864"/>
                  <a:pt x="17541" y="15866"/>
                  <a:pt x="17541" y="15869"/>
                </a:cubicBezTo>
                <a:cubicBezTo>
                  <a:pt x="17533" y="15861"/>
                  <a:pt x="17540" y="15876"/>
                  <a:pt x="17532" y="15867"/>
                </a:cubicBezTo>
                <a:cubicBezTo>
                  <a:pt x="17522" y="15855"/>
                  <a:pt x="17512" y="15845"/>
                  <a:pt x="17501" y="15832"/>
                </a:cubicBezTo>
                <a:cubicBezTo>
                  <a:pt x="17451" y="15773"/>
                  <a:pt x="17407" y="15709"/>
                  <a:pt x="17351" y="15654"/>
                </a:cubicBezTo>
                <a:cubicBezTo>
                  <a:pt x="17290" y="15594"/>
                  <a:pt x="17217" y="15549"/>
                  <a:pt x="17150" y="15500"/>
                </a:cubicBezTo>
                <a:cubicBezTo>
                  <a:pt x="17152" y="15500"/>
                  <a:pt x="17153" y="15500"/>
                  <a:pt x="17154" y="15500"/>
                </a:cubicBezTo>
                <a:cubicBezTo>
                  <a:pt x="17164" y="15506"/>
                  <a:pt x="17178" y="15509"/>
                  <a:pt x="17191" y="15518"/>
                </a:cubicBezTo>
                <a:cubicBezTo>
                  <a:pt x="17269" y="15571"/>
                  <a:pt x="17308" y="15739"/>
                  <a:pt x="17397" y="15706"/>
                </a:cubicBezTo>
                <a:cubicBezTo>
                  <a:pt x="17407" y="15702"/>
                  <a:pt x="17406" y="15717"/>
                  <a:pt x="17404" y="15695"/>
                </a:cubicBezTo>
                <a:cubicBezTo>
                  <a:pt x="17401" y="15656"/>
                  <a:pt x="17352" y="15628"/>
                  <a:pt x="17347" y="15615"/>
                </a:cubicBezTo>
                <a:cubicBezTo>
                  <a:pt x="17353" y="15615"/>
                  <a:pt x="17356" y="15615"/>
                  <a:pt x="17361" y="15617"/>
                </a:cubicBezTo>
                <a:cubicBezTo>
                  <a:pt x="17398" y="15664"/>
                  <a:pt x="17429" y="15700"/>
                  <a:pt x="17453" y="15760"/>
                </a:cubicBezTo>
                <a:cubicBezTo>
                  <a:pt x="17465" y="15790"/>
                  <a:pt x="17468" y="15826"/>
                  <a:pt x="17480" y="15855"/>
                </a:cubicBezTo>
                <a:cubicBezTo>
                  <a:pt x="17487" y="15873"/>
                  <a:pt x="17490" y="15887"/>
                  <a:pt x="17499" y="15905"/>
                </a:cubicBezTo>
                <a:cubicBezTo>
                  <a:pt x="17512" y="15931"/>
                  <a:pt x="17535" y="15957"/>
                  <a:pt x="17548" y="15986"/>
                </a:cubicBezTo>
                <a:cubicBezTo>
                  <a:pt x="17563" y="16020"/>
                  <a:pt x="17577" y="16056"/>
                  <a:pt x="17589" y="16091"/>
                </a:cubicBezTo>
                <a:cubicBezTo>
                  <a:pt x="17598" y="16116"/>
                  <a:pt x="17604" y="16143"/>
                  <a:pt x="17611" y="16167"/>
                </a:cubicBezTo>
                <a:cubicBezTo>
                  <a:pt x="17612" y="16170"/>
                  <a:pt x="17610" y="16174"/>
                  <a:pt x="17611" y="16177"/>
                </a:cubicBezTo>
                <a:cubicBezTo>
                  <a:pt x="17617" y="16164"/>
                  <a:pt x="17625" y="16143"/>
                  <a:pt x="17632" y="16127"/>
                </a:cubicBezTo>
                <a:cubicBezTo>
                  <a:pt x="17648" y="16093"/>
                  <a:pt x="17667" y="16053"/>
                  <a:pt x="17688" y="16022"/>
                </a:cubicBezTo>
                <a:cubicBezTo>
                  <a:pt x="17732" y="15956"/>
                  <a:pt x="17794" y="15897"/>
                  <a:pt x="17852" y="15844"/>
                </a:cubicBezTo>
                <a:cubicBezTo>
                  <a:pt x="17891" y="15808"/>
                  <a:pt x="17934" y="15778"/>
                  <a:pt x="17976" y="15747"/>
                </a:cubicBezTo>
                <a:cubicBezTo>
                  <a:pt x="18057" y="15687"/>
                  <a:pt x="18148" y="15635"/>
                  <a:pt x="18225" y="15572"/>
                </a:cubicBezTo>
                <a:cubicBezTo>
                  <a:pt x="18238" y="15561"/>
                  <a:pt x="18249" y="15548"/>
                  <a:pt x="18261" y="15538"/>
                </a:cubicBezTo>
                <a:cubicBezTo>
                  <a:pt x="18266" y="15534"/>
                  <a:pt x="18270" y="15527"/>
                  <a:pt x="18274" y="15523"/>
                </a:cubicBezTo>
                <a:cubicBezTo>
                  <a:pt x="18254" y="15589"/>
                  <a:pt x="18264" y="15601"/>
                  <a:pt x="18207" y="15658"/>
                </a:cubicBezTo>
                <a:cubicBezTo>
                  <a:pt x="18188" y="15677"/>
                  <a:pt x="18162" y="15692"/>
                  <a:pt x="18143" y="15710"/>
                </a:cubicBezTo>
                <a:cubicBezTo>
                  <a:pt x="18143" y="15711"/>
                  <a:pt x="18143" y="15712"/>
                  <a:pt x="18143" y="15713"/>
                </a:cubicBezTo>
                <a:cubicBezTo>
                  <a:pt x="18167" y="15691"/>
                  <a:pt x="18188" y="15659"/>
                  <a:pt x="18215" y="15640"/>
                </a:cubicBezTo>
                <a:cubicBezTo>
                  <a:pt x="18256" y="15611"/>
                  <a:pt x="18302" y="15592"/>
                  <a:pt x="18347" y="15570"/>
                </a:cubicBezTo>
                <a:cubicBezTo>
                  <a:pt x="18371" y="15558"/>
                  <a:pt x="18395" y="15549"/>
                  <a:pt x="18419" y="15538"/>
                </a:cubicBezTo>
                <a:cubicBezTo>
                  <a:pt x="18453" y="15522"/>
                  <a:pt x="18485" y="15508"/>
                  <a:pt x="18516" y="15489"/>
                </a:cubicBezTo>
                <a:cubicBezTo>
                  <a:pt x="18528" y="15481"/>
                  <a:pt x="18538" y="15473"/>
                  <a:pt x="18548" y="15466"/>
                </a:cubicBezTo>
                <a:cubicBezTo>
                  <a:pt x="18555" y="15461"/>
                  <a:pt x="18555" y="15458"/>
                  <a:pt x="18562" y="15453"/>
                </a:cubicBezTo>
                <a:cubicBezTo>
                  <a:pt x="18532" y="15522"/>
                  <a:pt x="18501" y="15589"/>
                  <a:pt x="18456" y="15654"/>
                </a:cubicBezTo>
                <a:cubicBezTo>
                  <a:pt x="18377" y="15768"/>
                  <a:pt x="18285" y="15874"/>
                  <a:pt x="18193" y="15977"/>
                </a:cubicBezTo>
                <a:cubicBezTo>
                  <a:pt x="18191" y="15979"/>
                  <a:pt x="18190" y="15982"/>
                  <a:pt x="18188" y="15984"/>
                </a:cubicBezTo>
                <a:cubicBezTo>
                  <a:pt x="18205" y="15941"/>
                  <a:pt x="18219" y="15897"/>
                  <a:pt x="18241" y="15855"/>
                </a:cubicBezTo>
                <a:cubicBezTo>
                  <a:pt x="18319" y="15704"/>
                  <a:pt x="18439" y="15564"/>
                  <a:pt x="18548" y="15434"/>
                </a:cubicBezTo>
                <a:cubicBezTo>
                  <a:pt x="18570" y="15407"/>
                  <a:pt x="18597" y="15384"/>
                  <a:pt x="18620" y="15360"/>
                </a:cubicBezTo>
                <a:cubicBezTo>
                  <a:pt x="18607" y="15380"/>
                  <a:pt x="18599" y="15404"/>
                  <a:pt x="18582" y="15425"/>
                </a:cubicBezTo>
                <a:cubicBezTo>
                  <a:pt x="18535" y="15483"/>
                  <a:pt x="18451" y="15571"/>
                  <a:pt x="18385" y="15608"/>
                </a:cubicBezTo>
                <a:cubicBezTo>
                  <a:pt x="18378" y="15612"/>
                  <a:pt x="18365" y="15629"/>
                  <a:pt x="18360" y="15631"/>
                </a:cubicBezTo>
                <a:cubicBezTo>
                  <a:pt x="18343" y="15637"/>
                  <a:pt x="18333" y="15622"/>
                  <a:pt x="18324" y="15625"/>
                </a:cubicBezTo>
                <a:cubicBezTo>
                  <a:pt x="18319" y="15627"/>
                  <a:pt x="18313" y="15624"/>
                  <a:pt x="18308" y="15625"/>
                </a:cubicBezTo>
                <a:cubicBezTo>
                  <a:pt x="18314" y="15612"/>
                  <a:pt x="18299" y="15590"/>
                  <a:pt x="18308" y="15579"/>
                </a:cubicBezTo>
                <a:cubicBezTo>
                  <a:pt x="18348" y="15528"/>
                  <a:pt x="18408" y="15486"/>
                  <a:pt x="18460" y="15448"/>
                </a:cubicBezTo>
                <a:cubicBezTo>
                  <a:pt x="18507" y="15415"/>
                  <a:pt x="18557" y="15386"/>
                  <a:pt x="18605" y="15357"/>
                </a:cubicBezTo>
                <a:cubicBezTo>
                  <a:pt x="18607" y="15356"/>
                  <a:pt x="18609" y="15354"/>
                  <a:pt x="18611" y="15353"/>
                </a:cubicBezTo>
                <a:cubicBezTo>
                  <a:pt x="18605" y="15358"/>
                  <a:pt x="18595" y="15361"/>
                  <a:pt x="18589" y="15366"/>
                </a:cubicBezTo>
                <a:cubicBezTo>
                  <a:pt x="18548" y="15400"/>
                  <a:pt x="18510" y="15438"/>
                  <a:pt x="18471" y="15475"/>
                </a:cubicBezTo>
                <a:cubicBezTo>
                  <a:pt x="18375" y="15565"/>
                  <a:pt x="18282" y="15626"/>
                  <a:pt x="18166" y="15681"/>
                </a:cubicBezTo>
                <a:cubicBezTo>
                  <a:pt x="18173" y="15674"/>
                  <a:pt x="18158" y="15671"/>
                  <a:pt x="18166" y="15665"/>
                </a:cubicBezTo>
                <a:cubicBezTo>
                  <a:pt x="18221" y="15620"/>
                  <a:pt x="18282" y="15579"/>
                  <a:pt x="18340" y="15538"/>
                </a:cubicBezTo>
                <a:cubicBezTo>
                  <a:pt x="18417" y="15484"/>
                  <a:pt x="18495" y="15433"/>
                  <a:pt x="18582" y="15398"/>
                </a:cubicBezTo>
                <a:cubicBezTo>
                  <a:pt x="18597" y="15392"/>
                  <a:pt x="18614" y="15390"/>
                  <a:pt x="18629" y="15384"/>
                </a:cubicBezTo>
                <a:cubicBezTo>
                  <a:pt x="18638" y="15380"/>
                  <a:pt x="18646" y="15374"/>
                  <a:pt x="18654" y="15371"/>
                </a:cubicBezTo>
                <a:cubicBezTo>
                  <a:pt x="18649" y="15373"/>
                  <a:pt x="18644" y="15367"/>
                  <a:pt x="18639" y="15369"/>
                </a:cubicBezTo>
                <a:cubicBezTo>
                  <a:pt x="18584" y="15385"/>
                  <a:pt x="18537" y="15406"/>
                  <a:pt x="18487" y="15437"/>
                </a:cubicBezTo>
                <a:cubicBezTo>
                  <a:pt x="18436" y="15468"/>
                  <a:pt x="18396" y="15516"/>
                  <a:pt x="18345" y="15545"/>
                </a:cubicBezTo>
                <a:cubicBezTo>
                  <a:pt x="18336" y="15550"/>
                  <a:pt x="18322" y="15548"/>
                  <a:pt x="18315" y="15552"/>
                </a:cubicBezTo>
                <a:cubicBezTo>
                  <a:pt x="18336" y="15523"/>
                  <a:pt x="18349" y="15490"/>
                  <a:pt x="18379" y="15462"/>
                </a:cubicBezTo>
                <a:cubicBezTo>
                  <a:pt x="18444" y="15401"/>
                  <a:pt x="18516" y="15352"/>
                  <a:pt x="18589" y="15305"/>
                </a:cubicBezTo>
                <a:cubicBezTo>
                  <a:pt x="18583" y="15310"/>
                  <a:pt x="18586" y="15314"/>
                  <a:pt x="18580" y="15319"/>
                </a:cubicBezTo>
                <a:cubicBezTo>
                  <a:pt x="18475" y="15401"/>
                  <a:pt x="18371" y="15448"/>
                  <a:pt x="18245" y="15487"/>
                </a:cubicBezTo>
                <a:cubicBezTo>
                  <a:pt x="18228" y="15492"/>
                  <a:pt x="18217" y="15495"/>
                  <a:pt x="18200" y="15500"/>
                </a:cubicBezTo>
                <a:cubicBezTo>
                  <a:pt x="18256" y="15487"/>
                  <a:pt x="18314" y="15477"/>
                  <a:pt x="18370" y="15459"/>
                </a:cubicBezTo>
                <a:cubicBezTo>
                  <a:pt x="18470" y="15427"/>
                  <a:pt x="18573" y="15382"/>
                  <a:pt x="18664" y="15330"/>
                </a:cubicBezTo>
                <a:cubicBezTo>
                  <a:pt x="18680" y="15321"/>
                  <a:pt x="18691" y="15308"/>
                  <a:pt x="18707" y="15299"/>
                </a:cubicBezTo>
                <a:cubicBezTo>
                  <a:pt x="18710" y="15297"/>
                  <a:pt x="18712" y="15298"/>
                  <a:pt x="18715" y="15296"/>
                </a:cubicBezTo>
                <a:cubicBezTo>
                  <a:pt x="18710" y="15300"/>
                  <a:pt x="18708" y="15312"/>
                  <a:pt x="18698" y="15319"/>
                </a:cubicBezTo>
                <a:cubicBezTo>
                  <a:pt x="18625" y="15366"/>
                  <a:pt x="18579" y="15391"/>
                  <a:pt x="18530" y="15464"/>
                </a:cubicBezTo>
                <a:cubicBezTo>
                  <a:pt x="18500" y="15509"/>
                  <a:pt x="18475" y="15556"/>
                  <a:pt x="18447" y="15602"/>
                </a:cubicBezTo>
                <a:cubicBezTo>
                  <a:pt x="18398" y="15681"/>
                  <a:pt x="18352" y="15762"/>
                  <a:pt x="18302" y="15841"/>
                </a:cubicBezTo>
                <a:cubicBezTo>
                  <a:pt x="18231" y="15953"/>
                  <a:pt x="18154" y="16076"/>
                  <a:pt x="18062" y="16172"/>
                </a:cubicBezTo>
                <a:cubicBezTo>
                  <a:pt x="18005" y="16232"/>
                  <a:pt x="17932" y="16272"/>
                  <a:pt x="17865" y="16317"/>
                </a:cubicBezTo>
                <a:cubicBezTo>
                  <a:pt x="17832" y="16339"/>
                  <a:pt x="17800" y="16361"/>
                  <a:pt x="17765" y="16380"/>
                </a:cubicBezTo>
                <a:cubicBezTo>
                  <a:pt x="17761" y="16382"/>
                  <a:pt x="17760" y="16383"/>
                  <a:pt x="17759" y="16378"/>
                </a:cubicBezTo>
                <a:cubicBezTo>
                  <a:pt x="17775" y="16360"/>
                  <a:pt x="17799" y="16331"/>
                  <a:pt x="17818" y="16310"/>
                </a:cubicBezTo>
                <a:cubicBezTo>
                  <a:pt x="17863" y="16260"/>
                  <a:pt x="17908" y="16210"/>
                  <a:pt x="17953" y="16160"/>
                </a:cubicBezTo>
                <a:cubicBezTo>
                  <a:pt x="18106" y="15989"/>
                  <a:pt x="18250" y="15810"/>
                  <a:pt x="18431" y="15668"/>
                </a:cubicBezTo>
                <a:cubicBezTo>
                  <a:pt x="18438" y="15664"/>
                  <a:pt x="18440" y="15663"/>
                  <a:pt x="18444" y="15660"/>
                </a:cubicBezTo>
                <a:cubicBezTo>
                  <a:pt x="18436" y="15693"/>
                  <a:pt x="18434" y="15727"/>
                  <a:pt x="18417" y="15765"/>
                </a:cubicBezTo>
                <a:cubicBezTo>
                  <a:pt x="18320" y="15975"/>
                  <a:pt x="18174" y="16143"/>
                  <a:pt x="17992" y="16281"/>
                </a:cubicBezTo>
                <a:cubicBezTo>
                  <a:pt x="17955" y="16309"/>
                  <a:pt x="17919" y="16341"/>
                  <a:pt x="17879" y="16364"/>
                </a:cubicBezTo>
                <a:cubicBezTo>
                  <a:pt x="17861" y="16374"/>
                  <a:pt x="17841" y="16380"/>
                  <a:pt x="17824" y="16389"/>
                </a:cubicBezTo>
                <a:cubicBezTo>
                  <a:pt x="17830" y="16384"/>
                  <a:pt x="17823" y="16378"/>
                  <a:pt x="17829" y="16373"/>
                </a:cubicBezTo>
                <a:cubicBezTo>
                  <a:pt x="17898" y="16319"/>
                  <a:pt x="17983" y="16283"/>
                  <a:pt x="18048" y="16224"/>
                </a:cubicBezTo>
                <a:cubicBezTo>
                  <a:pt x="18085" y="16190"/>
                  <a:pt x="18108" y="16152"/>
                  <a:pt x="18137" y="16116"/>
                </a:cubicBezTo>
                <a:cubicBezTo>
                  <a:pt x="18138" y="16116"/>
                  <a:pt x="18138" y="16116"/>
                  <a:pt x="18139" y="16116"/>
                </a:cubicBezTo>
                <a:cubicBezTo>
                  <a:pt x="18130" y="16129"/>
                  <a:pt x="18120" y="16162"/>
                  <a:pt x="18109" y="16177"/>
                </a:cubicBezTo>
                <a:cubicBezTo>
                  <a:pt x="18063" y="16238"/>
                  <a:pt x="18008" y="16296"/>
                  <a:pt x="17956" y="16353"/>
                </a:cubicBezTo>
                <a:cubicBezTo>
                  <a:pt x="17900" y="16414"/>
                  <a:pt x="17842" y="16473"/>
                  <a:pt x="17786" y="16534"/>
                </a:cubicBezTo>
                <a:cubicBezTo>
                  <a:pt x="17731" y="16594"/>
                  <a:pt x="17676" y="16654"/>
                  <a:pt x="17614" y="16706"/>
                </a:cubicBezTo>
                <a:cubicBezTo>
                  <a:pt x="17611" y="16709"/>
                  <a:pt x="17596" y="16715"/>
                  <a:pt x="17596" y="16715"/>
                </a:cubicBezTo>
                <a:cubicBezTo>
                  <a:pt x="17608" y="16686"/>
                  <a:pt x="17620" y="16649"/>
                  <a:pt x="17636" y="16618"/>
                </a:cubicBezTo>
                <a:cubicBezTo>
                  <a:pt x="17664" y="16564"/>
                  <a:pt x="17699" y="16512"/>
                  <a:pt x="17734" y="16462"/>
                </a:cubicBezTo>
                <a:cubicBezTo>
                  <a:pt x="17761" y="16423"/>
                  <a:pt x="17787" y="16378"/>
                  <a:pt x="17817" y="16342"/>
                </a:cubicBezTo>
                <a:cubicBezTo>
                  <a:pt x="17820" y="16339"/>
                  <a:pt x="17815" y="16347"/>
                  <a:pt x="17818" y="16344"/>
                </a:cubicBezTo>
                <a:cubicBezTo>
                  <a:pt x="17818" y="16346"/>
                  <a:pt x="17818" y="16349"/>
                  <a:pt x="17818" y="16351"/>
                </a:cubicBezTo>
                <a:cubicBezTo>
                  <a:pt x="17765" y="16415"/>
                  <a:pt x="17712" y="16474"/>
                  <a:pt x="17648" y="16527"/>
                </a:cubicBezTo>
                <a:cubicBezTo>
                  <a:pt x="17645" y="16529"/>
                  <a:pt x="17643" y="16528"/>
                  <a:pt x="17641" y="16530"/>
                </a:cubicBezTo>
                <a:cubicBezTo>
                  <a:pt x="17654" y="16456"/>
                  <a:pt x="17661" y="16414"/>
                  <a:pt x="17704" y="16348"/>
                </a:cubicBezTo>
                <a:cubicBezTo>
                  <a:pt x="17708" y="16342"/>
                  <a:pt x="17719" y="16337"/>
                  <a:pt x="17722" y="16332"/>
                </a:cubicBezTo>
                <a:cubicBezTo>
                  <a:pt x="17720" y="16364"/>
                  <a:pt x="17720" y="16393"/>
                  <a:pt x="17714" y="16425"/>
                </a:cubicBezTo>
                <a:cubicBezTo>
                  <a:pt x="17710" y="16444"/>
                  <a:pt x="17708" y="16474"/>
                  <a:pt x="17700" y="16491"/>
                </a:cubicBezTo>
                <a:cubicBezTo>
                  <a:pt x="17693" y="16505"/>
                  <a:pt x="17674" y="16507"/>
                  <a:pt x="17668" y="16518"/>
                </a:cubicBezTo>
                <a:cubicBezTo>
                  <a:pt x="17666" y="16509"/>
                  <a:pt x="17655" y="16513"/>
                  <a:pt x="17654" y="16504"/>
                </a:cubicBezTo>
                <a:cubicBezTo>
                  <a:pt x="17652" y="16472"/>
                  <a:pt x="17653" y="16442"/>
                  <a:pt x="17652" y="16410"/>
                </a:cubicBezTo>
                <a:cubicBezTo>
                  <a:pt x="17650" y="16349"/>
                  <a:pt x="17645" y="16292"/>
                  <a:pt x="17630" y="16235"/>
                </a:cubicBezTo>
                <a:cubicBezTo>
                  <a:pt x="17629" y="16232"/>
                  <a:pt x="17626" y="16236"/>
                  <a:pt x="17625" y="16233"/>
                </a:cubicBezTo>
                <a:cubicBezTo>
                  <a:pt x="17621" y="16248"/>
                  <a:pt x="17595" y="16256"/>
                  <a:pt x="17596" y="16276"/>
                </a:cubicBezTo>
                <a:cubicBezTo>
                  <a:pt x="17597" y="16299"/>
                  <a:pt x="17606" y="16321"/>
                  <a:pt x="17607" y="16344"/>
                </a:cubicBezTo>
                <a:cubicBezTo>
                  <a:pt x="17610" y="16410"/>
                  <a:pt x="17619" y="16475"/>
                  <a:pt x="17632" y="16539"/>
                </a:cubicBezTo>
                <a:cubicBezTo>
                  <a:pt x="17633" y="16542"/>
                  <a:pt x="17635" y="16544"/>
                  <a:pt x="17636" y="16547"/>
                </a:cubicBezTo>
                <a:cubicBezTo>
                  <a:pt x="17633" y="16537"/>
                  <a:pt x="17658" y="16578"/>
                  <a:pt x="17654" y="16568"/>
                </a:cubicBezTo>
                <a:cubicBezTo>
                  <a:pt x="17651" y="16561"/>
                  <a:pt x="17640" y="16555"/>
                  <a:pt x="17637" y="16547"/>
                </a:cubicBezTo>
                <a:cubicBezTo>
                  <a:pt x="17624" y="16508"/>
                  <a:pt x="17616" y="16467"/>
                  <a:pt x="17603" y="16427"/>
                </a:cubicBezTo>
                <a:cubicBezTo>
                  <a:pt x="17598" y="16410"/>
                  <a:pt x="17594" y="16392"/>
                  <a:pt x="17589" y="16376"/>
                </a:cubicBezTo>
                <a:cubicBezTo>
                  <a:pt x="17589" y="16378"/>
                  <a:pt x="17589" y="16379"/>
                  <a:pt x="17589" y="16380"/>
                </a:cubicBezTo>
                <a:cubicBezTo>
                  <a:pt x="17583" y="16463"/>
                  <a:pt x="17588" y="16515"/>
                  <a:pt x="17612" y="16590"/>
                </a:cubicBezTo>
                <a:cubicBezTo>
                  <a:pt x="17610" y="16565"/>
                  <a:pt x="17612" y="16539"/>
                  <a:pt x="17609" y="16513"/>
                </a:cubicBezTo>
                <a:cubicBezTo>
                  <a:pt x="17589" y="16346"/>
                  <a:pt x="17511" y="16259"/>
                  <a:pt x="17369" y="16192"/>
                </a:cubicBezTo>
                <a:cubicBezTo>
                  <a:pt x="17355" y="16185"/>
                  <a:pt x="17391" y="16175"/>
                  <a:pt x="17390" y="16188"/>
                </a:cubicBezTo>
                <a:cubicBezTo>
                  <a:pt x="17403" y="16199"/>
                  <a:pt x="17408" y="16204"/>
                  <a:pt x="17413" y="1621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253040" y="5880240"/>
            <a:ext cx="1396800" cy="501480"/>
          </a:xfrm>
          <a:custGeom>
            <a:avLst/>
            <a:gdLst/>
            <a:ahLst/>
            <a:rect l="l" t="t" r="r" b="b"/>
            <a:pathLst>
              <a:path w="3877" h="1390">
                <a:moveTo>
                  <a:pt x="11926" y="16894"/>
                </a:moveTo>
                <a:cubicBezTo>
                  <a:pt x="11911" y="16913"/>
                  <a:pt x="11897" y="16941"/>
                  <a:pt x="11877" y="16955"/>
                </a:cubicBezTo>
                <a:cubicBezTo>
                  <a:pt x="11873" y="16958"/>
                  <a:pt x="11858" y="16963"/>
                  <a:pt x="11852" y="16964"/>
                </a:cubicBezTo>
                <a:cubicBezTo>
                  <a:pt x="11828" y="16967"/>
                  <a:pt x="11830" y="16954"/>
                  <a:pt x="11822" y="16934"/>
                </a:cubicBezTo>
                <a:cubicBezTo>
                  <a:pt x="11815" y="16916"/>
                  <a:pt x="11815" y="16900"/>
                  <a:pt x="11815" y="16880"/>
                </a:cubicBezTo>
                <a:cubicBezTo>
                  <a:pt x="11814" y="16853"/>
                  <a:pt x="11819" y="16832"/>
                  <a:pt x="11827" y="16806"/>
                </a:cubicBezTo>
                <a:cubicBezTo>
                  <a:pt x="11838" y="16773"/>
                  <a:pt x="11851" y="16738"/>
                  <a:pt x="11868" y="16708"/>
                </a:cubicBezTo>
                <a:cubicBezTo>
                  <a:pt x="11885" y="16677"/>
                  <a:pt x="11909" y="16645"/>
                  <a:pt x="11937" y="16622"/>
                </a:cubicBezTo>
                <a:cubicBezTo>
                  <a:pt x="12013" y="16561"/>
                  <a:pt x="12129" y="16549"/>
                  <a:pt x="12223" y="16552"/>
                </a:cubicBezTo>
                <a:cubicBezTo>
                  <a:pt x="12277" y="16554"/>
                  <a:pt x="12333" y="16557"/>
                  <a:pt x="12377" y="16590"/>
                </a:cubicBezTo>
                <a:cubicBezTo>
                  <a:pt x="12406" y="16611"/>
                  <a:pt x="12426" y="16639"/>
                  <a:pt x="12440" y="16672"/>
                </a:cubicBezTo>
                <a:cubicBezTo>
                  <a:pt x="12457" y="16714"/>
                  <a:pt x="12462" y="16763"/>
                  <a:pt x="12465" y="16808"/>
                </a:cubicBezTo>
                <a:cubicBezTo>
                  <a:pt x="12471" y="16890"/>
                  <a:pt x="12451" y="16961"/>
                  <a:pt x="12413" y="17034"/>
                </a:cubicBezTo>
                <a:cubicBezTo>
                  <a:pt x="12354" y="17147"/>
                  <a:pt x="12257" y="17256"/>
                  <a:pt x="12153" y="17331"/>
                </a:cubicBezTo>
                <a:cubicBezTo>
                  <a:pt x="12115" y="17358"/>
                  <a:pt x="12072" y="17376"/>
                  <a:pt x="12032" y="17398"/>
                </a:cubicBezTo>
                <a:cubicBezTo>
                  <a:pt x="12026" y="17401"/>
                  <a:pt x="12021" y="17405"/>
                  <a:pt x="12015" y="17409"/>
                </a:cubicBezTo>
                <a:cubicBezTo>
                  <a:pt x="12032" y="17411"/>
                  <a:pt x="12049" y="17415"/>
                  <a:pt x="12066" y="17416"/>
                </a:cubicBezTo>
                <a:cubicBezTo>
                  <a:pt x="12266" y="17426"/>
                  <a:pt x="12469" y="17418"/>
                  <a:pt x="12670" y="17418"/>
                </a:cubicBezTo>
                <a:cubicBezTo>
                  <a:pt x="12711" y="17418"/>
                  <a:pt x="12754" y="17422"/>
                  <a:pt x="12795" y="17416"/>
                </a:cubicBezTo>
                <a:cubicBezTo>
                  <a:pt x="12805" y="17414"/>
                  <a:pt x="12808" y="17414"/>
                  <a:pt x="12813" y="17410"/>
                </a:cubicBezTo>
              </a:path>
              <a:path w="3877" h="1390">
                <a:moveTo>
                  <a:pt x="12928" y="16926"/>
                </a:moveTo>
                <a:cubicBezTo>
                  <a:pt x="12941" y="16939"/>
                  <a:pt x="12958" y="16954"/>
                  <a:pt x="12969" y="16968"/>
                </a:cubicBezTo>
                <a:cubicBezTo>
                  <a:pt x="12975" y="16975"/>
                  <a:pt x="12978" y="16975"/>
                  <a:pt x="12980" y="16986"/>
                </a:cubicBezTo>
                <a:cubicBezTo>
                  <a:pt x="13000" y="17081"/>
                  <a:pt x="12968" y="17187"/>
                  <a:pt x="12987" y="17283"/>
                </a:cubicBezTo>
                <a:cubicBezTo>
                  <a:pt x="12988" y="17289"/>
                  <a:pt x="12991" y="17304"/>
                  <a:pt x="12996" y="17308"/>
                </a:cubicBezTo>
                <a:cubicBezTo>
                  <a:pt x="13001" y="17313"/>
                  <a:pt x="13010" y="17316"/>
                  <a:pt x="13017" y="17312"/>
                </a:cubicBezTo>
                <a:cubicBezTo>
                  <a:pt x="13030" y="17306"/>
                  <a:pt x="13044" y="17272"/>
                  <a:pt x="13051" y="17260"/>
                </a:cubicBezTo>
                <a:cubicBezTo>
                  <a:pt x="13070" y="17228"/>
                  <a:pt x="13083" y="17192"/>
                  <a:pt x="13098" y="17158"/>
                </a:cubicBezTo>
                <a:cubicBezTo>
                  <a:pt x="13119" y="17109"/>
                  <a:pt x="13134" y="17057"/>
                  <a:pt x="13161" y="17011"/>
                </a:cubicBezTo>
                <a:cubicBezTo>
                  <a:pt x="13184" y="16971"/>
                  <a:pt x="13210" y="16923"/>
                  <a:pt x="13252" y="16900"/>
                </a:cubicBezTo>
                <a:cubicBezTo>
                  <a:pt x="13286" y="16881"/>
                  <a:pt x="13304" y="16892"/>
                  <a:pt x="13331" y="16916"/>
                </a:cubicBezTo>
                <a:cubicBezTo>
                  <a:pt x="13358" y="16940"/>
                  <a:pt x="13381" y="16972"/>
                  <a:pt x="13401" y="17002"/>
                </a:cubicBezTo>
                <a:cubicBezTo>
                  <a:pt x="13428" y="17041"/>
                  <a:pt x="13453" y="17076"/>
                  <a:pt x="13485" y="17111"/>
                </a:cubicBezTo>
                <a:cubicBezTo>
                  <a:pt x="13555" y="17188"/>
                  <a:pt x="13643" y="17248"/>
                  <a:pt x="13704" y="17333"/>
                </a:cubicBezTo>
                <a:cubicBezTo>
                  <a:pt x="13731" y="17370"/>
                  <a:pt x="13745" y="17410"/>
                  <a:pt x="13779" y="17441"/>
                </a:cubicBezTo>
                <a:cubicBezTo>
                  <a:pt x="13784" y="17445"/>
                  <a:pt x="13785" y="17456"/>
                  <a:pt x="13795" y="17453"/>
                </a:cubicBezTo>
                <a:cubicBezTo>
                  <a:pt x="13804" y="17450"/>
                  <a:pt x="13801" y="17440"/>
                  <a:pt x="13809" y="17434"/>
                </a:cubicBezTo>
              </a:path>
              <a:path w="3877" h="1390">
                <a:moveTo>
                  <a:pt x="14010" y="17073"/>
                </a:moveTo>
                <a:cubicBezTo>
                  <a:pt x="14042" y="17030"/>
                  <a:pt x="14077" y="16988"/>
                  <a:pt x="14098" y="16939"/>
                </a:cubicBezTo>
                <a:cubicBezTo>
                  <a:pt x="14101" y="16933"/>
                  <a:pt x="14102" y="16925"/>
                  <a:pt x="14105" y="16919"/>
                </a:cubicBezTo>
                <a:cubicBezTo>
                  <a:pt x="14079" y="16907"/>
                  <a:pt x="14057" y="16891"/>
                  <a:pt x="14024" y="16898"/>
                </a:cubicBezTo>
                <a:cubicBezTo>
                  <a:pt x="13995" y="16904"/>
                  <a:pt x="13974" y="16924"/>
                  <a:pt x="13955" y="16946"/>
                </a:cubicBezTo>
                <a:cubicBezTo>
                  <a:pt x="13932" y="16971"/>
                  <a:pt x="13919" y="17000"/>
                  <a:pt x="13908" y="17032"/>
                </a:cubicBezTo>
                <a:cubicBezTo>
                  <a:pt x="13899" y="17060"/>
                  <a:pt x="13899" y="17101"/>
                  <a:pt x="13908" y="17129"/>
                </a:cubicBezTo>
                <a:cubicBezTo>
                  <a:pt x="13916" y="17154"/>
                  <a:pt x="13932" y="17180"/>
                  <a:pt x="13949" y="17201"/>
                </a:cubicBezTo>
                <a:cubicBezTo>
                  <a:pt x="13967" y="17223"/>
                  <a:pt x="14004" y="17241"/>
                  <a:pt x="14032" y="17229"/>
                </a:cubicBezTo>
                <a:cubicBezTo>
                  <a:pt x="14084" y="17207"/>
                  <a:pt x="14110" y="17139"/>
                  <a:pt x="14128" y="17091"/>
                </a:cubicBezTo>
                <a:cubicBezTo>
                  <a:pt x="14151" y="17029"/>
                  <a:pt x="14164" y="16966"/>
                  <a:pt x="14177" y="16901"/>
                </a:cubicBezTo>
                <a:cubicBezTo>
                  <a:pt x="14192" y="16830"/>
                  <a:pt x="14198" y="16758"/>
                  <a:pt x="14207" y="16686"/>
                </a:cubicBezTo>
                <a:cubicBezTo>
                  <a:pt x="14215" y="16625"/>
                  <a:pt x="14223" y="16563"/>
                  <a:pt x="14229" y="16502"/>
                </a:cubicBezTo>
                <a:cubicBezTo>
                  <a:pt x="14233" y="16462"/>
                  <a:pt x="14230" y="16388"/>
                  <a:pt x="14252" y="16353"/>
                </a:cubicBezTo>
                <a:cubicBezTo>
                  <a:pt x="14259" y="16342"/>
                  <a:pt x="14271" y="16343"/>
                  <a:pt x="14279" y="16335"/>
                </a:cubicBezTo>
                <a:cubicBezTo>
                  <a:pt x="14305" y="16363"/>
                  <a:pt x="14321" y="16379"/>
                  <a:pt x="14336" y="16416"/>
                </a:cubicBezTo>
                <a:cubicBezTo>
                  <a:pt x="14357" y="16469"/>
                  <a:pt x="14371" y="16529"/>
                  <a:pt x="14383" y="16584"/>
                </a:cubicBezTo>
                <a:cubicBezTo>
                  <a:pt x="14423" y="16775"/>
                  <a:pt x="14399" y="16962"/>
                  <a:pt x="14392" y="17154"/>
                </a:cubicBezTo>
                <a:cubicBezTo>
                  <a:pt x="14390" y="17209"/>
                  <a:pt x="14389" y="17267"/>
                  <a:pt x="14399" y="17321"/>
                </a:cubicBezTo>
                <a:cubicBezTo>
                  <a:pt x="14405" y="17355"/>
                  <a:pt x="14419" y="17383"/>
                  <a:pt x="14433" y="17412"/>
                </a:cubicBezTo>
              </a:path>
              <a:path w="3877" h="1390">
                <a:moveTo>
                  <a:pt x="14861" y="16882"/>
                </a:moveTo>
                <a:cubicBezTo>
                  <a:pt x="14847" y="16899"/>
                  <a:pt x="14831" y="16914"/>
                  <a:pt x="14818" y="16930"/>
                </a:cubicBezTo>
                <a:cubicBezTo>
                  <a:pt x="14809" y="16940"/>
                  <a:pt x="14809" y="16951"/>
                  <a:pt x="14808" y="16964"/>
                </a:cubicBezTo>
                <a:cubicBezTo>
                  <a:pt x="14802" y="17028"/>
                  <a:pt x="14804" y="17092"/>
                  <a:pt x="14795" y="17156"/>
                </a:cubicBezTo>
                <a:cubicBezTo>
                  <a:pt x="14790" y="17189"/>
                  <a:pt x="14786" y="17221"/>
                  <a:pt x="14777" y="17253"/>
                </a:cubicBezTo>
                <a:cubicBezTo>
                  <a:pt x="14773" y="17267"/>
                  <a:pt x="14767" y="17279"/>
                  <a:pt x="14761" y="17292"/>
                </a:cubicBezTo>
                <a:cubicBezTo>
                  <a:pt x="14759" y="17296"/>
                  <a:pt x="14758" y="17298"/>
                  <a:pt x="14757" y="17301"/>
                </a:cubicBezTo>
                <a:cubicBezTo>
                  <a:pt x="14764" y="17295"/>
                  <a:pt x="14771" y="17290"/>
                  <a:pt x="14777" y="17281"/>
                </a:cubicBezTo>
                <a:cubicBezTo>
                  <a:pt x="14792" y="17259"/>
                  <a:pt x="14803" y="17227"/>
                  <a:pt x="14813" y="17202"/>
                </a:cubicBezTo>
                <a:cubicBezTo>
                  <a:pt x="14831" y="17157"/>
                  <a:pt x="14838" y="17109"/>
                  <a:pt x="14854" y="17063"/>
                </a:cubicBezTo>
                <a:cubicBezTo>
                  <a:pt x="14879" y="16991"/>
                  <a:pt x="14906" y="16920"/>
                  <a:pt x="14942" y="16853"/>
                </a:cubicBezTo>
                <a:cubicBezTo>
                  <a:pt x="14955" y="16829"/>
                  <a:pt x="14969" y="16803"/>
                  <a:pt x="14985" y="16781"/>
                </a:cubicBezTo>
                <a:cubicBezTo>
                  <a:pt x="14989" y="16775"/>
                  <a:pt x="15004" y="16753"/>
                  <a:pt x="15012" y="16753"/>
                </a:cubicBezTo>
                <a:cubicBezTo>
                  <a:pt x="15030" y="16753"/>
                  <a:pt x="15026" y="16760"/>
                  <a:pt x="15035" y="16776"/>
                </a:cubicBezTo>
                <a:cubicBezTo>
                  <a:pt x="15043" y="16790"/>
                  <a:pt x="15051" y="16803"/>
                  <a:pt x="15060" y="16817"/>
                </a:cubicBezTo>
              </a:path>
              <a:path w="3877" h="1390">
                <a:moveTo>
                  <a:pt x="15283" y="16839"/>
                </a:moveTo>
                <a:cubicBezTo>
                  <a:pt x="15295" y="16851"/>
                  <a:pt x="15306" y="16861"/>
                  <a:pt x="15315" y="16875"/>
                </a:cubicBezTo>
                <a:cubicBezTo>
                  <a:pt x="15327" y="16894"/>
                  <a:pt x="15334" y="16914"/>
                  <a:pt x="15340" y="16935"/>
                </a:cubicBezTo>
                <a:cubicBezTo>
                  <a:pt x="15346" y="16956"/>
                  <a:pt x="15350" y="16978"/>
                  <a:pt x="15358" y="16998"/>
                </a:cubicBezTo>
                <a:cubicBezTo>
                  <a:pt x="15366" y="17018"/>
                  <a:pt x="15388" y="17046"/>
                  <a:pt x="15408" y="17056"/>
                </a:cubicBezTo>
                <a:cubicBezTo>
                  <a:pt x="15428" y="17066"/>
                  <a:pt x="15455" y="17073"/>
                  <a:pt x="15478" y="17077"/>
                </a:cubicBezTo>
                <a:cubicBezTo>
                  <a:pt x="15497" y="17081"/>
                  <a:pt x="15518" y="17082"/>
                  <a:pt x="15537" y="17077"/>
                </a:cubicBezTo>
                <a:cubicBezTo>
                  <a:pt x="15565" y="17069"/>
                  <a:pt x="15568" y="17056"/>
                  <a:pt x="15585" y="17034"/>
                </a:cubicBezTo>
                <a:cubicBezTo>
                  <a:pt x="15605" y="17008"/>
                  <a:pt x="15618" y="16983"/>
                  <a:pt x="15627" y="16952"/>
                </a:cubicBezTo>
                <a:cubicBezTo>
                  <a:pt x="15634" y="16927"/>
                  <a:pt x="15636" y="16899"/>
                  <a:pt x="15643" y="16875"/>
                </a:cubicBezTo>
                <a:cubicBezTo>
                  <a:pt x="15646" y="16866"/>
                  <a:pt x="15652" y="16857"/>
                  <a:pt x="15655" y="16848"/>
                </a:cubicBezTo>
                <a:cubicBezTo>
                  <a:pt x="15667" y="16869"/>
                  <a:pt x="15677" y="16889"/>
                  <a:pt x="15679" y="16918"/>
                </a:cubicBezTo>
                <a:cubicBezTo>
                  <a:pt x="15683" y="16972"/>
                  <a:pt x="15687" y="17027"/>
                  <a:pt x="15689" y="17082"/>
                </a:cubicBezTo>
                <a:cubicBezTo>
                  <a:pt x="15692" y="17156"/>
                  <a:pt x="15689" y="17232"/>
                  <a:pt x="15680" y="17306"/>
                </a:cubicBezTo>
                <a:cubicBezTo>
                  <a:pt x="15669" y="17396"/>
                  <a:pt x="15645" y="17484"/>
                  <a:pt x="15619" y="17570"/>
                </a:cubicBezTo>
                <a:cubicBezTo>
                  <a:pt x="15604" y="17619"/>
                  <a:pt x="15584" y="17667"/>
                  <a:pt x="15573" y="17717"/>
                </a:cubicBezTo>
                <a:cubicBezTo>
                  <a:pt x="15573" y="17719"/>
                  <a:pt x="15573" y="17722"/>
                  <a:pt x="15573" y="17724"/>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973840" y="6046920"/>
            <a:ext cx="433440" cy="263520"/>
          </a:xfrm>
          <a:custGeom>
            <a:avLst/>
            <a:gdLst/>
            <a:ahLst/>
            <a:rect l="l" t="t" r="r" b="b"/>
            <a:pathLst>
              <a:path w="1205" h="731">
                <a:moveTo>
                  <a:pt x="16664" y="16797"/>
                </a:moveTo>
                <a:cubicBezTo>
                  <a:pt x="16683" y="16831"/>
                  <a:pt x="16699" y="16850"/>
                  <a:pt x="16727" y="16876"/>
                </a:cubicBezTo>
                <a:cubicBezTo>
                  <a:pt x="16748" y="16895"/>
                  <a:pt x="16761" y="16917"/>
                  <a:pt x="16770" y="16944"/>
                </a:cubicBezTo>
                <a:cubicBezTo>
                  <a:pt x="16780" y="16975"/>
                  <a:pt x="16782" y="17014"/>
                  <a:pt x="16783" y="17047"/>
                </a:cubicBezTo>
                <a:cubicBezTo>
                  <a:pt x="16785" y="17092"/>
                  <a:pt x="16776" y="17140"/>
                  <a:pt x="16772" y="17185"/>
                </a:cubicBezTo>
                <a:cubicBezTo>
                  <a:pt x="16766" y="17256"/>
                  <a:pt x="16763" y="17325"/>
                  <a:pt x="16763" y="17396"/>
                </a:cubicBezTo>
                <a:cubicBezTo>
                  <a:pt x="16763" y="17429"/>
                  <a:pt x="16772" y="17457"/>
                  <a:pt x="16781" y="17489"/>
                </a:cubicBezTo>
                <a:cubicBezTo>
                  <a:pt x="16785" y="17504"/>
                  <a:pt x="16790" y="17513"/>
                  <a:pt x="16797" y="17527"/>
                </a:cubicBezTo>
              </a:path>
              <a:path w="1205" h="731">
                <a:moveTo>
                  <a:pt x="16648" y="17149"/>
                </a:moveTo>
                <a:cubicBezTo>
                  <a:pt x="16632" y="17169"/>
                  <a:pt x="16615" y="17189"/>
                  <a:pt x="16600" y="17210"/>
                </a:cubicBezTo>
                <a:cubicBezTo>
                  <a:pt x="16598" y="17213"/>
                  <a:pt x="16595" y="17217"/>
                  <a:pt x="16593" y="17220"/>
                </a:cubicBezTo>
                <a:cubicBezTo>
                  <a:pt x="16604" y="17224"/>
                  <a:pt x="16613" y="17227"/>
                  <a:pt x="16625" y="17228"/>
                </a:cubicBezTo>
                <a:cubicBezTo>
                  <a:pt x="16646" y="17231"/>
                  <a:pt x="16668" y="17229"/>
                  <a:pt x="16689" y="17229"/>
                </a:cubicBezTo>
                <a:cubicBezTo>
                  <a:pt x="16747" y="17229"/>
                  <a:pt x="16805" y="17230"/>
                  <a:pt x="16863" y="17226"/>
                </a:cubicBezTo>
                <a:cubicBezTo>
                  <a:pt x="16910" y="17223"/>
                  <a:pt x="16956" y="17217"/>
                  <a:pt x="17003" y="17213"/>
                </a:cubicBezTo>
                <a:cubicBezTo>
                  <a:pt x="17015" y="17212"/>
                  <a:pt x="17027" y="17212"/>
                  <a:pt x="17039" y="17211"/>
                </a:cubicBezTo>
              </a:path>
              <a:path w="1205" h="731">
                <a:moveTo>
                  <a:pt x="17587" y="17102"/>
                </a:moveTo>
                <a:cubicBezTo>
                  <a:pt x="17600" y="17115"/>
                  <a:pt x="17630" y="17137"/>
                  <a:pt x="17630" y="17159"/>
                </a:cubicBezTo>
                <a:cubicBezTo>
                  <a:pt x="17630" y="17183"/>
                  <a:pt x="17599" y="17201"/>
                  <a:pt x="17582" y="17211"/>
                </a:cubicBezTo>
                <a:cubicBezTo>
                  <a:pt x="17558" y="17225"/>
                  <a:pt x="17534" y="17241"/>
                  <a:pt x="17510" y="17256"/>
                </a:cubicBezTo>
                <a:cubicBezTo>
                  <a:pt x="17474" y="17279"/>
                  <a:pt x="17447" y="17301"/>
                  <a:pt x="17430" y="17340"/>
                </a:cubicBezTo>
                <a:cubicBezTo>
                  <a:pt x="17422" y="17359"/>
                  <a:pt x="17410" y="17386"/>
                  <a:pt x="17419" y="17407"/>
                </a:cubicBezTo>
                <a:cubicBezTo>
                  <a:pt x="17431" y="17433"/>
                  <a:pt x="17459" y="17445"/>
                  <a:pt x="17485" y="17450"/>
                </a:cubicBezTo>
                <a:cubicBezTo>
                  <a:pt x="17531" y="17459"/>
                  <a:pt x="17582" y="17464"/>
                  <a:pt x="17628" y="17452"/>
                </a:cubicBezTo>
                <a:cubicBezTo>
                  <a:pt x="17663" y="17443"/>
                  <a:pt x="17707" y="17420"/>
                  <a:pt x="17734" y="17396"/>
                </a:cubicBezTo>
                <a:cubicBezTo>
                  <a:pt x="17761" y="17372"/>
                  <a:pt x="17778" y="17342"/>
                  <a:pt x="17788" y="17308"/>
                </a:cubicBezTo>
                <a:cubicBezTo>
                  <a:pt x="17797" y="17277"/>
                  <a:pt x="17801" y="17248"/>
                  <a:pt x="17784" y="17219"/>
                </a:cubicBezTo>
                <a:cubicBezTo>
                  <a:pt x="17769" y="17199"/>
                  <a:pt x="17762" y="17192"/>
                  <a:pt x="17745" y="17186"/>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266840" y="6389640"/>
            <a:ext cx="1942920" cy="461880"/>
          </a:xfrm>
          <a:custGeom>
            <a:avLst/>
            <a:gdLst/>
            <a:ahLst/>
            <a:rect l="l" t="t" r="r" b="b"/>
            <a:pathLst>
              <a:path w="5401" h="1284">
                <a:moveTo>
                  <a:pt x="3574" y="18134"/>
                </a:moveTo>
                <a:cubicBezTo>
                  <a:pt x="3571" y="18150"/>
                  <a:pt x="3567" y="18165"/>
                  <a:pt x="3565" y="18181"/>
                </a:cubicBezTo>
                <a:cubicBezTo>
                  <a:pt x="3565" y="18183"/>
                  <a:pt x="3565" y="18182"/>
                  <a:pt x="3565" y="18184"/>
                </a:cubicBezTo>
                <a:cubicBezTo>
                  <a:pt x="3565" y="18185"/>
                  <a:pt x="3565" y="18206"/>
                  <a:pt x="3565" y="18210"/>
                </a:cubicBezTo>
                <a:cubicBezTo>
                  <a:pt x="3565" y="18240"/>
                  <a:pt x="3571" y="18270"/>
                  <a:pt x="3572" y="18301"/>
                </a:cubicBezTo>
                <a:cubicBezTo>
                  <a:pt x="3574" y="18398"/>
                  <a:pt x="3575" y="18496"/>
                  <a:pt x="3567" y="18593"/>
                </a:cubicBezTo>
                <a:cubicBezTo>
                  <a:pt x="3564" y="18629"/>
                  <a:pt x="3560" y="18666"/>
                  <a:pt x="3555" y="18702"/>
                </a:cubicBezTo>
              </a:path>
              <a:path w="5401" h="1284">
                <a:moveTo>
                  <a:pt x="3542" y="18041"/>
                </a:moveTo>
                <a:cubicBezTo>
                  <a:pt x="3535" y="18031"/>
                  <a:pt x="3528" y="18024"/>
                  <a:pt x="3524" y="18012"/>
                </a:cubicBezTo>
                <a:cubicBezTo>
                  <a:pt x="3517" y="17993"/>
                  <a:pt x="3516" y="17969"/>
                  <a:pt x="3522" y="17950"/>
                </a:cubicBezTo>
                <a:cubicBezTo>
                  <a:pt x="3529" y="17926"/>
                  <a:pt x="3543" y="17914"/>
                  <a:pt x="3562" y="17900"/>
                </a:cubicBezTo>
                <a:cubicBezTo>
                  <a:pt x="3584" y="17883"/>
                  <a:pt x="3609" y="17880"/>
                  <a:pt x="3635" y="17873"/>
                </a:cubicBezTo>
                <a:cubicBezTo>
                  <a:pt x="3668" y="17865"/>
                  <a:pt x="3702" y="17858"/>
                  <a:pt x="3736" y="17864"/>
                </a:cubicBezTo>
                <a:cubicBezTo>
                  <a:pt x="3785" y="17873"/>
                  <a:pt x="3829" y="17896"/>
                  <a:pt x="3875" y="17914"/>
                </a:cubicBezTo>
                <a:cubicBezTo>
                  <a:pt x="3908" y="17927"/>
                  <a:pt x="3933" y="17934"/>
                  <a:pt x="3960" y="17959"/>
                </a:cubicBezTo>
                <a:cubicBezTo>
                  <a:pt x="3992" y="17988"/>
                  <a:pt x="3995" y="18036"/>
                  <a:pt x="3992" y="18077"/>
                </a:cubicBezTo>
                <a:cubicBezTo>
                  <a:pt x="3989" y="18122"/>
                  <a:pt x="3971" y="18164"/>
                  <a:pt x="3947" y="18201"/>
                </a:cubicBezTo>
                <a:cubicBezTo>
                  <a:pt x="3918" y="18245"/>
                  <a:pt x="3880" y="18280"/>
                  <a:pt x="3834" y="18305"/>
                </a:cubicBezTo>
                <a:cubicBezTo>
                  <a:pt x="3786" y="18331"/>
                  <a:pt x="3730" y="18348"/>
                  <a:pt x="3678" y="18362"/>
                </a:cubicBezTo>
                <a:cubicBezTo>
                  <a:pt x="3637" y="18373"/>
                  <a:pt x="3596" y="18380"/>
                  <a:pt x="3555" y="18391"/>
                </a:cubicBezTo>
              </a:path>
              <a:path w="5401" h="1284">
                <a:moveTo>
                  <a:pt x="4003" y="18335"/>
                </a:moveTo>
                <a:cubicBezTo>
                  <a:pt x="4010" y="18354"/>
                  <a:pt x="4019" y="18386"/>
                  <a:pt x="4035" y="18401"/>
                </a:cubicBezTo>
                <a:cubicBezTo>
                  <a:pt x="4042" y="18407"/>
                  <a:pt x="4051" y="18406"/>
                  <a:pt x="4058" y="18412"/>
                </a:cubicBezTo>
                <a:cubicBezTo>
                  <a:pt x="4071" y="18425"/>
                  <a:pt x="4073" y="18449"/>
                  <a:pt x="4074" y="18466"/>
                </a:cubicBezTo>
                <a:cubicBezTo>
                  <a:pt x="4075" y="18484"/>
                  <a:pt x="4077" y="18503"/>
                  <a:pt x="4078" y="18521"/>
                </a:cubicBezTo>
                <a:cubicBezTo>
                  <a:pt x="4079" y="18543"/>
                  <a:pt x="4080" y="18563"/>
                  <a:pt x="4087" y="18584"/>
                </a:cubicBezTo>
                <a:cubicBezTo>
                  <a:pt x="4091" y="18597"/>
                  <a:pt x="4091" y="18608"/>
                  <a:pt x="4094" y="18620"/>
                </a:cubicBezTo>
                <a:cubicBezTo>
                  <a:pt x="4096" y="18627"/>
                  <a:pt x="4102" y="18635"/>
                  <a:pt x="4103" y="18641"/>
                </a:cubicBezTo>
                <a:cubicBezTo>
                  <a:pt x="4104" y="18645"/>
                  <a:pt x="4102" y="18650"/>
                  <a:pt x="4103" y="18654"/>
                </a:cubicBezTo>
                <a:cubicBezTo>
                  <a:pt x="4103" y="18642"/>
                  <a:pt x="4103" y="18634"/>
                  <a:pt x="4103" y="18622"/>
                </a:cubicBezTo>
                <a:cubicBezTo>
                  <a:pt x="4103" y="18593"/>
                  <a:pt x="4111" y="18569"/>
                  <a:pt x="4121" y="18541"/>
                </a:cubicBezTo>
                <a:cubicBezTo>
                  <a:pt x="4137" y="18499"/>
                  <a:pt x="4161" y="18464"/>
                  <a:pt x="4184" y="18426"/>
                </a:cubicBezTo>
                <a:cubicBezTo>
                  <a:pt x="4211" y="18382"/>
                  <a:pt x="4235" y="18334"/>
                  <a:pt x="4268" y="18294"/>
                </a:cubicBezTo>
                <a:cubicBezTo>
                  <a:pt x="4299" y="18257"/>
                  <a:pt x="4330" y="18216"/>
                  <a:pt x="4372" y="18192"/>
                </a:cubicBezTo>
              </a:path>
              <a:path w="5401" h="1284">
                <a:moveTo>
                  <a:pt x="4721" y="18283"/>
                </a:moveTo>
                <a:cubicBezTo>
                  <a:pt x="4732" y="18299"/>
                  <a:pt x="4741" y="18314"/>
                  <a:pt x="4750" y="18330"/>
                </a:cubicBezTo>
                <a:cubicBezTo>
                  <a:pt x="4735" y="18338"/>
                  <a:pt x="4717" y="18346"/>
                  <a:pt x="4703" y="18357"/>
                </a:cubicBezTo>
                <a:cubicBezTo>
                  <a:pt x="4677" y="18379"/>
                  <a:pt x="4653" y="18389"/>
                  <a:pt x="4624" y="18405"/>
                </a:cubicBezTo>
                <a:cubicBezTo>
                  <a:pt x="4600" y="18418"/>
                  <a:pt x="4570" y="18439"/>
                  <a:pt x="4553" y="18460"/>
                </a:cubicBezTo>
                <a:cubicBezTo>
                  <a:pt x="4529" y="18489"/>
                  <a:pt x="4511" y="18519"/>
                  <a:pt x="4499" y="18555"/>
                </a:cubicBezTo>
                <a:cubicBezTo>
                  <a:pt x="4489" y="18586"/>
                  <a:pt x="4486" y="18610"/>
                  <a:pt x="4494" y="18641"/>
                </a:cubicBezTo>
                <a:cubicBezTo>
                  <a:pt x="4500" y="18665"/>
                  <a:pt x="4513" y="18678"/>
                  <a:pt x="4537" y="18684"/>
                </a:cubicBezTo>
                <a:cubicBezTo>
                  <a:pt x="4566" y="18691"/>
                  <a:pt x="4600" y="18695"/>
                  <a:pt x="4630" y="18695"/>
                </a:cubicBezTo>
                <a:cubicBezTo>
                  <a:pt x="4658" y="18695"/>
                  <a:pt x="4683" y="18687"/>
                  <a:pt x="4707" y="18672"/>
                </a:cubicBezTo>
                <a:cubicBezTo>
                  <a:pt x="4732" y="18656"/>
                  <a:pt x="4745" y="18635"/>
                  <a:pt x="4754" y="18607"/>
                </a:cubicBezTo>
                <a:cubicBezTo>
                  <a:pt x="4764" y="18575"/>
                  <a:pt x="4766" y="18542"/>
                  <a:pt x="4764" y="18509"/>
                </a:cubicBezTo>
                <a:cubicBezTo>
                  <a:pt x="4762" y="18474"/>
                  <a:pt x="4759" y="18438"/>
                  <a:pt x="4754" y="18403"/>
                </a:cubicBezTo>
                <a:cubicBezTo>
                  <a:pt x="4753" y="18395"/>
                  <a:pt x="4751" y="18386"/>
                  <a:pt x="4750" y="18378"/>
                </a:cubicBezTo>
              </a:path>
              <a:path w="5401" h="1284">
                <a:moveTo>
                  <a:pt x="5035" y="17747"/>
                </a:moveTo>
                <a:cubicBezTo>
                  <a:pt x="5050" y="17766"/>
                  <a:pt x="5071" y="17785"/>
                  <a:pt x="5083" y="17806"/>
                </a:cubicBezTo>
                <a:cubicBezTo>
                  <a:pt x="5093" y="17822"/>
                  <a:pt x="5102" y="17842"/>
                  <a:pt x="5108" y="17860"/>
                </a:cubicBezTo>
                <a:cubicBezTo>
                  <a:pt x="5117" y="17888"/>
                  <a:pt x="5122" y="17918"/>
                  <a:pt x="5123" y="17948"/>
                </a:cubicBezTo>
                <a:cubicBezTo>
                  <a:pt x="5125" y="17993"/>
                  <a:pt x="5121" y="18039"/>
                  <a:pt x="5119" y="18084"/>
                </a:cubicBezTo>
                <a:cubicBezTo>
                  <a:pt x="5115" y="18150"/>
                  <a:pt x="5108" y="18215"/>
                  <a:pt x="5101" y="18281"/>
                </a:cubicBezTo>
                <a:cubicBezTo>
                  <a:pt x="5096" y="18323"/>
                  <a:pt x="5098" y="18363"/>
                  <a:pt x="5101" y="18405"/>
                </a:cubicBezTo>
                <a:cubicBezTo>
                  <a:pt x="5104" y="18454"/>
                  <a:pt x="5108" y="18503"/>
                  <a:pt x="5108" y="18552"/>
                </a:cubicBezTo>
                <a:cubicBezTo>
                  <a:pt x="5108" y="18563"/>
                  <a:pt x="5109" y="18574"/>
                  <a:pt x="5110" y="18584"/>
                </a:cubicBezTo>
                <a:cubicBezTo>
                  <a:pt x="5110" y="18587"/>
                  <a:pt x="5110" y="18587"/>
                  <a:pt x="5110" y="18589"/>
                </a:cubicBezTo>
              </a:path>
              <a:path w="5401" h="1284">
                <a:moveTo>
                  <a:pt x="5528" y="18349"/>
                </a:moveTo>
                <a:cubicBezTo>
                  <a:pt x="5531" y="18343"/>
                  <a:pt x="5535" y="18337"/>
                  <a:pt x="5538" y="18331"/>
                </a:cubicBezTo>
                <a:cubicBezTo>
                  <a:pt x="5538" y="18331"/>
                  <a:pt x="5538" y="18330"/>
                  <a:pt x="5538" y="18330"/>
                </a:cubicBezTo>
                <a:cubicBezTo>
                  <a:pt x="5521" y="18329"/>
                  <a:pt x="5506" y="18327"/>
                  <a:pt x="5490" y="18337"/>
                </a:cubicBezTo>
                <a:cubicBezTo>
                  <a:pt x="5471" y="18349"/>
                  <a:pt x="5452" y="18380"/>
                  <a:pt x="5440" y="18398"/>
                </a:cubicBezTo>
                <a:cubicBezTo>
                  <a:pt x="5423" y="18423"/>
                  <a:pt x="5408" y="18459"/>
                  <a:pt x="5402" y="18489"/>
                </a:cubicBezTo>
                <a:cubicBezTo>
                  <a:pt x="5396" y="18519"/>
                  <a:pt x="5389" y="18554"/>
                  <a:pt x="5390" y="18584"/>
                </a:cubicBezTo>
                <a:cubicBezTo>
                  <a:pt x="5391" y="18612"/>
                  <a:pt x="5398" y="18638"/>
                  <a:pt x="5417" y="18658"/>
                </a:cubicBezTo>
                <a:cubicBezTo>
                  <a:pt x="5437" y="18680"/>
                  <a:pt x="5460" y="18691"/>
                  <a:pt x="5488" y="18697"/>
                </a:cubicBezTo>
                <a:cubicBezTo>
                  <a:pt x="5521" y="18704"/>
                  <a:pt x="5549" y="18695"/>
                  <a:pt x="5580" y="18683"/>
                </a:cubicBezTo>
                <a:cubicBezTo>
                  <a:pt x="5613" y="18670"/>
                  <a:pt x="5633" y="18648"/>
                  <a:pt x="5651" y="18618"/>
                </a:cubicBezTo>
                <a:cubicBezTo>
                  <a:pt x="5671" y="18584"/>
                  <a:pt x="5688" y="18541"/>
                  <a:pt x="5693" y="18502"/>
                </a:cubicBezTo>
                <a:cubicBezTo>
                  <a:pt x="5696" y="18481"/>
                  <a:pt x="5694" y="18458"/>
                  <a:pt x="5680" y="18441"/>
                </a:cubicBezTo>
                <a:cubicBezTo>
                  <a:pt x="5668" y="18427"/>
                  <a:pt x="5651" y="18424"/>
                  <a:pt x="5635" y="18419"/>
                </a:cubicBezTo>
                <a:cubicBezTo>
                  <a:pt x="5622" y="18415"/>
                  <a:pt x="5611" y="18411"/>
                  <a:pt x="5598" y="18405"/>
                </a:cubicBezTo>
              </a:path>
              <a:path w="5401" h="1284">
                <a:moveTo>
                  <a:pt x="5952" y="18245"/>
                </a:moveTo>
                <a:cubicBezTo>
                  <a:pt x="5979" y="18264"/>
                  <a:pt x="5999" y="18279"/>
                  <a:pt x="6015" y="18306"/>
                </a:cubicBezTo>
                <a:cubicBezTo>
                  <a:pt x="6030" y="18331"/>
                  <a:pt x="6038" y="18354"/>
                  <a:pt x="6042" y="18383"/>
                </a:cubicBezTo>
                <a:cubicBezTo>
                  <a:pt x="6046" y="18419"/>
                  <a:pt x="6048" y="18451"/>
                  <a:pt x="6042" y="18486"/>
                </a:cubicBezTo>
                <a:cubicBezTo>
                  <a:pt x="6036" y="18519"/>
                  <a:pt x="6031" y="18553"/>
                  <a:pt x="6026" y="18586"/>
                </a:cubicBezTo>
                <a:cubicBezTo>
                  <a:pt x="6022" y="18611"/>
                  <a:pt x="6020" y="18632"/>
                  <a:pt x="6012" y="18656"/>
                </a:cubicBezTo>
                <a:cubicBezTo>
                  <a:pt x="6008" y="18667"/>
                  <a:pt x="6003" y="18678"/>
                  <a:pt x="5997" y="18688"/>
                </a:cubicBezTo>
                <a:cubicBezTo>
                  <a:pt x="5995" y="18691"/>
                  <a:pt x="5994" y="18692"/>
                  <a:pt x="5992" y="18693"/>
                </a:cubicBezTo>
                <a:cubicBezTo>
                  <a:pt x="5998" y="18684"/>
                  <a:pt x="6000" y="18678"/>
                  <a:pt x="6006" y="18670"/>
                </a:cubicBezTo>
                <a:cubicBezTo>
                  <a:pt x="6027" y="18643"/>
                  <a:pt x="6048" y="18612"/>
                  <a:pt x="6071" y="18586"/>
                </a:cubicBezTo>
                <a:cubicBezTo>
                  <a:pt x="6105" y="18547"/>
                  <a:pt x="6143" y="18514"/>
                  <a:pt x="6182" y="18480"/>
                </a:cubicBezTo>
                <a:cubicBezTo>
                  <a:pt x="6224" y="18444"/>
                  <a:pt x="6267" y="18406"/>
                  <a:pt x="6313" y="18376"/>
                </a:cubicBezTo>
                <a:cubicBezTo>
                  <a:pt x="6352" y="18351"/>
                  <a:pt x="6397" y="18334"/>
                  <a:pt x="6442" y="18324"/>
                </a:cubicBezTo>
                <a:cubicBezTo>
                  <a:pt x="6476" y="18316"/>
                  <a:pt x="6508" y="18316"/>
                  <a:pt x="6539" y="18335"/>
                </a:cubicBezTo>
                <a:cubicBezTo>
                  <a:pt x="6567" y="18352"/>
                  <a:pt x="6580" y="18378"/>
                  <a:pt x="6589" y="18409"/>
                </a:cubicBezTo>
                <a:cubicBezTo>
                  <a:pt x="6606" y="18469"/>
                  <a:pt x="6601" y="18537"/>
                  <a:pt x="6592" y="18598"/>
                </a:cubicBezTo>
                <a:cubicBezTo>
                  <a:pt x="6584" y="18648"/>
                  <a:pt x="6573" y="18696"/>
                  <a:pt x="6560" y="18745"/>
                </a:cubicBezTo>
                <a:cubicBezTo>
                  <a:pt x="6554" y="18766"/>
                  <a:pt x="6550" y="18803"/>
                  <a:pt x="6537" y="18822"/>
                </a:cubicBezTo>
                <a:cubicBezTo>
                  <a:pt x="6534" y="18827"/>
                  <a:pt x="6534" y="18816"/>
                  <a:pt x="6531" y="18821"/>
                </a:cubicBezTo>
              </a:path>
              <a:path w="5401" h="1284">
                <a:moveTo>
                  <a:pt x="6884" y="18281"/>
                </a:moveTo>
                <a:cubicBezTo>
                  <a:pt x="6900" y="18299"/>
                  <a:pt x="6915" y="18318"/>
                  <a:pt x="6936" y="18330"/>
                </a:cubicBezTo>
                <a:cubicBezTo>
                  <a:pt x="6941" y="18333"/>
                  <a:pt x="6944" y="18337"/>
                  <a:pt x="6949" y="18339"/>
                </a:cubicBezTo>
                <a:cubicBezTo>
                  <a:pt x="6950" y="18338"/>
                  <a:pt x="6950" y="18336"/>
                  <a:pt x="6951" y="18335"/>
                </a:cubicBezTo>
                <a:cubicBezTo>
                  <a:pt x="6939" y="18316"/>
                  <a:pt x="6946" y="18311"/>
                  <a:pt x="6918" y="18301"/>
                </a:cubicBezTo>
                <a:cubicBezTo>
                  <a:pt x="6900" y="18294"/>
                  <a:pt x="6883" y="18292"/>
                  <a:pt x="6863" y="18292"/>
                </a:cubicBezTo>
                <a:cubicBezTo>
                  <a:pt x="6835" y="18292"/>
                  <a:pt x="6816" y="18310"/>
                  <a:pt x="6797" y="18328"/>
                </a:cubicBezTo>
                <a:cubicBezTo>
                  <a:pt x="6776" y="18349"/>
                  <a:pt x="6770" y="18372"/>
                  <a:pt x="6764" y="18400"/>
                </a:cubicBezTo>
                <a:cubicBezTo>
                  <a:pt x="6759" y="18425"/>
                  <a:pt x="6756" y="18446"/>
                  <a:pt x="6761" y="18471"/>
                </a:cubicBezTo>
                <a:cubicBezTo>
                  <a:pt x="6770" y="18517"/>
                  <a:pt x="6795" y="18548"/>
                  <a:pt x="6840" y="18561"/>
                </a:cubicBezTo>
                <a:cubicBezTo>
                  <a:pt x="6864" y="18568"/>
                  <a:pt x="6889" y="18569"/>
                  <a:pt x="6913" y="18561"/>
                </a:cubicBezTo>
                <a:cubicBezTo>
                  <a:pt x="6941" y="18552"/>
                  <a:pt x="6969" y="18526"/>
                  <a:pt x="6992" y="18507"/>
                </a:cubicBezTo>
                <a:cubicBezTo>
                  <a:pt x="7024" y="18480"/>
                  <a:pt x="7055" y="18456"/>
                  <a:pt x="7083" y="18426"/>
                </a:cubicBezTo>
                <a:cubicBezTo>
                  <a:pt x="7102" y="18405"/>
                  <a:pt x="7123" y="18385"/>
                  <a:pt x="7141" y="18364"/>
                </a:cubicBezTo>
                <a:cubicBezTo>
                  <a:pt x="7149" y="18355"/>
                  <a:pt x="7155" y="18347"/>
                  <a:pt x="7164" y="18339"/>
                </a:cubicBezTo>
                <a:cubicBezTo>
                  <a:pt x="7165" y="18339"/>
                  <a:pt x="7165" y="18339"/>
                  <a:pt x="7166" y="18339"/>
                </a:cubicBezTo>
                <a:cubicBezTo>
                  <a:pt x="7183" y="18378"/>
                  <a:pt x="7180" y="18404"/>
                  <a:pt x="7178" y="18446"/>
                </a:cubicBezTo>
                <a:cubicBezTo>
                  <a:pt x="7176" y="18487"/>
                  <a:pt x="7181" y="18529"/>
                  <a:pt x="7177" y="18570"/>
                </a:cubicBezTo>
                <a:cubicBezTo>
                  <a:pt x="7171" y="18628"/>
                  <a:pt x="7165" y="18686"/>
                  <a:pt x="7148" y="18742"/>
                </a:cubicBezTo>
                <a:cubicBezTo>
                  <a:pt x="7128" y="18809"/>
                  <a:pt x="7100" y="18868"/>
                  <a:pt x="7058" y="18925"/>
                </a:cubicBezTo>
                <a:cubicBezTo>
                  <a:pt x="7033" y="18959"/>
                  <a:pt x="7003" y="18981"/>
                  <a:pt x="6965" y="18998"/>
                </a:cubicBezTo>
                <a:cubicBezTo>
                  <a:pt x="6934" y="19012"/>
                  <a:pt x="6903" y="19022"/>
                  <a:pt x="6870" y="19027"/>
                </a:cubicBezTo>
                <a:cubicBezTo>
                  <a:pt x="6850" y="19030"/>
                  <a:pt x="6845" y="19031"/>
                  <a:pt x="6832" y="19030"/>
                </a:cubicBezTo>
              </a:path>
              <a:path w="5401" h="1284">
                <a:moveTo>
                  <a:pt x="7363" y="18539"/>
                </a:moveTo>
                <a:cubicBezTo>
                  <a:pt x="7394" y="18564"/>
                  <a:pt x="7423" y="18589"/>
                  <a:pt x="7458" y="18607"/>
                </a:cubicBezTo>
                <a:cubicBezTo>
                  <a:pt x="7480" y="18619"/>
                  <a:pt x="7502" y="18633"/>
                  <a:pt x="7526" y="18640"/>
                </a:cubicBezTo>
                <a:cubicBezTo>
                  <a:pt x="7586" y="18656"/>
                  <a:pt x="7655" y="18645"/>
                  <a:pt x="7711" y="18620"/>
                </a:cubicBezTo>
                <a:cubicBezTo>
                  <a:pt x="7741" y="18606"/>
                  <a:pt x="7772" y="18592"/>
                  <a:pt x="7795" y="18568"/>
                </a:cubicBezTo>
                <a:cubicBezTo>
                  <a:pt x="7814" y="18548"/>
                  <a:pt x="7830" y="18520"/>
                  <a:pt x="7843" y="18496"/>
                </a:cubicBezTo>
                <a:cubicBezTo>
                  <a:pt x="7854" y="18475"/>
                  <a:pt x="7860" y="18449"/>
                  <a:pt x="7852" y="18426"/>
                </a:cubicBezTo>
                <a:cubicBezTo>
                  <a:pt x="7845" y="18406"/>
                  <a:pt x="7835" y="18385"/>
                  <a:pt x="7815" y="18374"/>
                </a:cubicBezTo>
                <a:cubicBezTo>
                  <a:pt x="7776" y="18353"/>
                  <a:pt x="7731" y="18368"/>
                  <a:pt x="7694" y="18387"/>
                </a:cubicBezTo>
                <a:cubicBezTo>
                  <a:pt x="7659" y="18406"/>
                  <a:pt x="7632" y="18430"/>
                  <a:pt x="7603" y="18457"/>
                </a:cubicBezTo>
                <a:cubicBezTo>
                  <a:pt x="7571" y="18486"/>
                  <a:pt x="7546" y="18519"/>
                  <a:pt x="7524" y="18557"/>
                </a:cubicBezTo>
                <a:cubicBezTo>
                  <a:pt x="7510" y="18582"/>
                  <a:pt x="7498" y="18617"/>
                  <a:pt x="7517" y="18643"/>
                </a:cubicBezTo>
                <a:cubicBezTo>
                  <a:pt x="7534" y="18666"/>
                  <a:pt x="7575" y="18681"/>
                  <a:pt x="7601" y="18690"/>
                </a:cubicBezTo>
                <a:cubicBezTo>
                  <a:pt x="7633" y="18701"/>
                  <a:pt x="7665" y="18707"/>
                  <a:pt x="7698" y="18713"/>
                </a:cubicBezTo>
              </a:path>
              <a:path w="5401" h="1284">
                <a:moveTo>
                  <a:pt x="8392" y="18498"/>
                </a:moveTo>
                <a:cubicBezTo>
                  <a:pt x="8403" y="18507"/>
                  <a:pt x="8415" y="18516"/>
                  <a:pt x="8426" y="18525"/>
                </a:cubicBezTo>
                <a:cubicBezTo>
                  <a:pt x="8393" y="18525"/>
                  <a:pt x="8358" y="18525"/>
                  <a:pt x="8324" y="18523"/>
                </a:cubicBezTo>
                <a:cubicBezTo>
                  <a:pt x="8276" y="18520"/>
                  <a:pt x="8233" y="18516"/>
                  <a:pt x="8186" y="18530"/>
                </a:cubicBezTo>
                <a:cubicBezTo>
                  <a:pt x="8147" y="18541"/>
                  <a:pt x="8110" y="18571"/>
                  <a:pt x="8080" y="18598"/>
                </a:cubicBezTo>
                <a:cubicBezTo>
                  <a:pt x="8051" y="18624"/>
                  <a:pt x="8015" y="18656"/>
                  <a:pt x="8012" y="18697"/>
                </a:cubicBezTo>
                <a:cubicBezTo>
                  <a:pt x="8009" y="18729"/>
                  <a:pt x="8050" y="18749"/>
                  <a:pt x="8073" y="18760"/>
                </a:cubicBezTo>
                <a:cubicBezTo>
                  <a:pt x="8112" y="18779"/>
                  <a:pt x="8169" y="18780"/>
                  <a:pt x="8211" y="18781"/>
                </a:cubicBezTo>
                <a:cubicBezTo>
                  <a:pt x="8271" y="18783"/>
                  <a:pt x="8322" y="18773"/>
                  <a:pt x="8379" y="18754"/>
                </a:cubicBezTo>
                <a:cubicBezTo>
                  <a:pt x="8475" y="18722"/>
                  <a:pt x="8553" y="18663"/>
                  <a:pt x="8623" y="18591"/>
                </a:cubicBezTo>
                <a:cubicBezTo>
                  <a:pt x="8721" y="18489"/>
                  <a:pt x="8789" y="18367"/>
                  <a:pt x="8824" y="18231"/>
                </a:cubicBezTo>
                <a:cubicBezTo>
                  <a:pt x="8852" y="18119"/>
                  <a:pt x="8869" y="18005"/>
                  <a:pt x="8901" y="17894"/>
                </a:cubicBezTo>
                <a:cubicBezTo>
                  <a:pt x="8904" y="17882"/>
                  <a:pt x="8909" y="17871"/>
                  <a:pt x="8913" y="17860"/>
                </a:cubicBezTo>
                <a:cubicBezTo>
                  <a:pt x="8913" y="17879"/>
                  <a:pt x="8915" y="17895"/>
                  <a:pt x="8911" y="17916"/>
                </a:cubicBezTo>
                <a:cubicBezTo>
                  <a:pt x="8901" y="17969"/>
                  <a:pt x="8881" y="18021"/>
                  <a:pt x="8868" y="18073"/>
                </a:cubicBezTo>
                <a:cubicBezTo>
                  <a:pt x="8846" y="18160"/>
                  <a:pt x="8828" y="18247"/>
                  <a:pt x="8816" y="18335"/>
                </a:cubicBezTo>
                <a:cubicBezTo>
                  <a:pt x="8806" y="18408"/>
                  <a:pt x="8803" y="18482"/>
                  <a:pt x="8800" y="18555"/>
                </a:cubicBezTo>
                <a:cubicBezTo>
                  <a:pt x="8797" y="18624"/>
                  <a:pt x="8794" y="18693"/>
                  <a:pt x="8806" y="18762"/>
                </a:cubicBezTo>
                <a:cubicBezTo>
                  <a:pt x="8809" y="18776"/>
                  <a:pt x="8812" y="18789"/>
                  <a:pt x="8815" y="18803"/>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633840" y="6427800"/>
            <a:ext cx="2531880" cy="401760"/>
          </a:xfrm>
          <a:custGeom>
            <a:avLst/>
            <a:gdLst/>
            <a:ahLst/>
            <a:rect l="l" t="t" r="r" b="b"/>
            <a:pathLst>
              <a:path w="7035" h="1114">
                <a:moveTo>
                  <a:pt x="10205" y="18287"/>
                </a:moveTo>
                <a:cubicBezTo>
                  <a:pt x="10205" y="18344"/>
                  <a:pt x="10209" y="18402"/>
                  <a:pt x="10204" y="18459"/>
                </a:cubicBezTo>
                <a:cubicBezTo>
                  <a:pt x="10197" y="18534"/>
                  <a:pt x="10168" y="18603"/>
                  <a:pt x="10157" y="18677"/>
                </a:cubicBezTo>
                <a:cubicBezTo>
                  <a:pt x="10149" y="18732"/>
                  <a:pt x="10145" y="18787"/>
                  <a:pt x="10139" y="18842"/>
                </a:cubicBezTo>
                <a:cubicBezTo>
                  <a:pt x="10137" y="18862"/>
                  <a:pt x="10132" y="18881"/>
                  <a:pt x="10128" y="18900"/>
                </a:cubicBezTo>
                <a:cubicBezTo>
                  <a:pt x="10127" y="18902"/>
                  <a:pt x="10127" y="18903"/>
                  <a:pt x="10126" y="18905"/>
                </a:cubicBezTo>
                <a:cubicBezTo>
                  <a:pt x="10121" y="18885"/>
                  <a:pt x="10115" y="18865"/>
                  <a:pt x="10110" y="18844"/>
                </a:cubicBezTo>
                <a:cubicBezTo>
                  <a:pt x="10076" y="18714"/>
                  <a:pt x="10096" y="18564"/>
                  <a:pt x="10137" y="18437"/>
                </a:cubicBezTo>
                <a:cubicBezTo>
                  <a:pt x="10158" y="18371"/>
                  <a:pt x="10190" y="18306"/>
                  <a:pt x="10220" y="18244"/>
                </a:cubicBezTo>
                <a:cubicBezTo>
                  <a:pt x="10261" y="18157"/>
                  <a:pt x="10315" y="18058"/>
                  <a:pt x="10377" y="17984"/>
                </a:cubicBezTo>
                <a:cubicBezTo>
                  <a:pt x="10411" y="17943"/>
                  <a:pt x="10449" y="17911"/>
                  <a:pt x="10497" y="17887"/>
                </a:cubicBezTo>
                <a:cubicBezTo>
                  <a:pt x="10573" y="17850"/>
                  <a:pt x="10656" y="17843"/>
                  <a:pt x="10734" y="17878"/>
                </a:cubicBezTo>
                <a:cubicBezTo>
                  <a:pt x="10819" y="17916"/>
                  <a:pt x="10864" y="18014"/>
                  <a:pt x="10877" y="18102"/>
                </a:cubicBezTo>
                <a:cubicBezTo>
                  <a:pt x="10886" y="18165"/>
                  <a:pt x="10878" y="18223"/>
                  <a:pt x="10858" y="18283"/>
                </a:cubicBezTo>
                <a:cubicBezTo>
                  <a:pt x="10822" y="18390"/>
                  <a:pt x="10735" y="18472"/>
                  <a:pt x="10641" y="18530"/>
                </a:cubicBezTo>
                <a:cubicBezTo>
                  <a:pt x="10597" y="18557"/>
                  <a:pt x="10546" y="18581"/>
                  <a:pt x="10496" y="18593"/>
                </a:cubicBezTo>
                <a:cubicBezTo>
                  <a:pt x="10466" y="18600"/>
                  <a:pt x="10436" y="18599"/>
                  <a:pt x="10406" y="18600"/>
                </a:cubicBezTo>
              </a:path>
              <a:path w="7035" h="1114">
                <a:moveTo>
                  <a:pt x="10949" y="17858"/>
                </a:moveTo>
                <a:cubicBezTo>
                  <a:pt x="10984" y="17873"/>
                  <a:pt x="11020" y="17887"/>
                  <a:pt x="11049" y="17912"/>
                </a:cubicBezTo>
                <a:cubicBezTo>
                  <a:pt x="11118" y="17970"/>
                  <a:pt x="11114" y="18068"/>
                  <a:pt x="11092" y="18147"/>
                </a:cubicBezTo>
                <a:cubicBezTo>
                  <a:pt x="11072" y="18219"/>
                  <a:pt x="11041" y="18288"/>
                  <a:pt x="11015" y="18358"/>
                </a:cubicBezTo>
                <a:cubicBezTo>
                  <a:pt x="10996" y="18409"/>
                  <a:pt x="10979" y="18460"/>
                  <a:pt x="10958" y="18509"/>
                </a:cubicBezTo>
                <a:cubicBezTo>
                  <a:pt x="10948" y="18532"/>
                  <a:pt x="10939" y="18555"/>
                  <a:pt x="10928" y="18577"/>
                </a:cubicBezTo>
                <a:cubicBezTo>
                  <a:pt x="10926" y="18581"/>
                  <a:pt x="10918" y="18591"/>
                  <a:pt x="10917" y="18593"/>
                </a:cubicBezTo>
                <a:cubicBezTo>
                  <a:pt x="10921" y="18590"/>
                  <a:pt x="10923" y="18588"/>
                  <a:pt x="10924" y="18584"/>
                </a:cubicBezTo>
                <a:cubicBezTo>
                  <a:pt x="10938" y="18565"/>
                  <a:pt x="10951" y="18548"/>
                  <a:pt x="10967" y="18530"/>
                </a:cubicBezTo>
                <a:cubicBezTo>
                  <a:pt x="10993" y="18502"/>
                  <a:pt x="11017" y="18473"/>
                  <a:pt x="11046" y="18448"/>
                </a:cubicBezTo>
                <a:cubicBezTo>
                  <a:pt x="11128" y="18376"/>
                  <a:pt x="11250" y="18299"/>
                  <a:pt x="11361" y="18287"/>
                </a:cubicBezTo>
                <a:cubicBezTo>
                  <a:pt x="11405" y="18282"/>
                  <a:pt x="11421" y="18296"/>
                  <a:pt x="11442" y="18335"/>
                </a:cubicBezTo>
                <a:cubicBezTo>
                  <a:pt x="11463" y="18374"/>
                  <a:pt x="11462" y="18419"/>
                  <a:pt x="11465" y="18462"/>
                </a:cubicBezTo>
                <a:cubicBezTo>
                  <a:pt x="11469" y="18519"/>
                  <a:pt x="11463" y="18571"/>
                  <a:pt x="11454" y="18627"/>
                </a:cubicBezTo>
                <a:cubicBezTo>
                  <a:pt x="11441" y="18710"/>
                  <a:pt x="11433" y="18793"/>
                  <a:pt x="11419" y="18876"/>
                </a:cubicBezTo>
                <a:cubicBezTo>
                  <a:pt x="11417" y="18881"/>
                  <a:pt x="11417" y="18882"/>
                  <a:pt x="11417" y="18885"/>
                </a:cubicBezTo>
              </a:path>
              <a:path w="7035" h="1114">
                <a:moveTo>
                  <a:pt x="12078" y="18306"/>
                </a:moveTo>
                <a:cubicBezTo>
                  <a:pt x="12095" y="18306"/>
                  <a:pt x="12113" y="18306"/>
                  <a:pt x="12130" y="18306"/>
                </a:cubicBezTo>
                <a:cubicBezTo>
                  <a:pt x="12097" y="18311"/>
                  <a:pt x="12067" y="18320"/>
                  <a:pt x="12035" y="18330"/>
                </a:cubicBezTo>
                <a:cubicBezTo>
                  <a:pt x="11989" y="18345"/>
                  <a:pt x="11943" y="18358"/>
                  <a:pt x="11899" y="18378"/>
                </a:cubicBezTo>
                <a:cubicBezTo>
                  <a:pt x="11842" y="18404"/>
                  <a:pt x="11780" y="18436"/>
                  <a:pt x="11739" y="18484"/>
                </a:cubicBezTo>
                <a:cubicBezTo>
                  <a:pt x="11712" y="18515"/>
                  <a:pt x="11691" y="18554"/>
                  <a:pt x="11680" y="18593"/>
                </a:cubicBezTo>
                <a:cubicBezTo>
                  <a:pt x="11672" y="18621"/>
                  <a:pt x="11675" y="18655"/>
                  <a:pt x="11689" y="18681"/>
                </a:cubicBezTo>
                <a:cubicBezTo>
                  <a:pt x="11705" y="18709"/>
                  <a:pt x="11727" y="18714"/>
                  <a:pt x="11756" y="18720"/>
                </a:cubicBezTo>
                <a:cubicBezTo>
                  <a:pt x="11793" y="18727"/>
                  <a:pt x="11828" y="18711"/>
                  <a:pt x="11861" y="18695"/>
                </a:cubicBezTo>
                <a:cubicBezTo>
                  <a:pt x="11913" y="18669"/>
                  <a:pt x="11966" y="18628"/>
                  <a:pt x="12010" y="18589"/>
                </a:cubicBezTo>
                <a:cubicBezTo>
                  <a:pt x="12056" y="18549"/>
                  <a:pt x="12093" y="18501"/>
                  <a:pt x="12137" y="18460"/>
                </a:cubicBezTo>
                <a:cubicBezTo>
                  <a:pt x="12162" y="18437"/>
                  <a:pt x="12188" y="18414"/>
                  <a:pt x="12213" y="18391"/>
                </a:cubicBezTo>
                <a:cubicBezTo>
                  <a:pt x="12220" y="18384"/>
                  <a:pt x="12229" y="18379"/>
                  <a:pt x="12236" y="18373"/>
                </a:cubicBezTo>
                <a:cubicBezTo>
                  <a:pt x="12239" y="18390"/>
                  <a:pt x="12243" y="18394"/>
                  <a:pt x="12241" y="18414"/>
                </a:cubicBezTo>
                <a:cubicBezTo>
                  <a:pt x="12237" y="18456"/>
                  <a:pt x="12220" y="18498"/>
                  <a:pt x="12211" y="18539"/>
                </a:cubicBezTo>
                <a:cubicBezTo>
                  <a:pt x="12198" y="18598"/>
                  <a:pt x="12186" y="18659"/>
                  <a:pt x="12178" y="18719"/>
                </a:cubicBezTo>
                <a:cubicBezTo>
                  <a:pt x="12173" y="18759"/>
                  <a:pt x="12169" y="18799"/>
                  <a:pt x="12164" y="18839"/>
                </a:cubicBezTo>
                <a:cubicBezTo>
                  <a:pt x="12162" y="18857"/>
                  <a:pt x="12160" y="18876"/>
                  <a:pt x="12159" y="18894"/>
                </a:cubicBezTo>
                <a:cubicBezTo>
                  <a:pt x="12159" y="18896"/>
                  <a:pt x="12159" y="18898"/>
                  <a:pt x="12159" y="18900"/>
                </a:cubicBezTo>
              </a:path>
              <a:path w="7035" h="1114">
                <a:moveTo>
                  <a:pt x="12540" y="18349"/>
                </a:moveTo>
                <a:cubicBezTo>
                  <a:pt x="12565" y="18347"/>
                  <a:pt x="12598" y="18340"/>
                  <a:pt x="12623" y="18346"/>
                </a:cubicBezTo>
                <a:cubicBezTo>
                  <a:pt x="12641" y="18350"/>
                  <a:pt x="12639" y="18361"/>
                  <a:pt x="12641" y="18378"/>
                </a:cubicBezTo>
                <a:cubicBezTo>
                  <a:pt x="12645" y="18410"/>
                  <a:pt x="12643" y="18441"/>
                  <a:pt x="12637" y="18473"/>
                </a:cubicBezTo>
                <a:cubicBezTo>
                  <a:pt x="12631" y="18503"/>
                  <a:pt x="12617" y="18530"/>
                  <a:pt x="12610" y="18559"/>
                </a:cubicBezTo>
                <a:cubicBezTo>
                  <a:pt x="12604" y="18581"/>
                  <a:pt x="12597" y="18605"/>
                  <a:pt x="12592" y="18627"/>
                </a:cubicBezTo>
                <a:cubicBezTo>
                  <a:pt x="12590" y="18633"/>
                  <a:pt x="12592" y="18634"/>
                  <a:pt x="12591" y="18640"/>
                </a:cubicBezTo>
                <a:cubicBezTo>
                  <a:pt x="12601" y="18621"/>
                  <a:pt x="12609" y="18609"/>
                  <a:pt x="12623" y="18593"/>
                </a:cubicBezTo>
                <a:cubicBezTo>
                  <a:pt x="12645" y="18569"/>
                  <a:pt x="12670" y="18540"/>
                  <a:pt x="12689" y="18514"/>
                </a:cubicBezTo>
                <a:cubicBezTo>
                  <a:pt x="12713" y="18480"/>
                  <a:pt x="12735" y="18443"/>
                  <a:pt x="12756" y="18407"/>
                </a:cubicBezTo>
                <a:cubicBezTo>
                  <a:pt x="12776" y="18373"/>
                  <a:pt x="12799" y="18343"/>
                  <a:pt x="12820" y="18310"/>
                </a:cubicBezTo>
                <a:cubicBezTo>
                  <a:pt x="12834" y="18287"/>
                  <a:pt x="12839" y="18280"/>
                  <a:pt x="12849" y="18265"/>
                </a:cubicBezTo>
              </a:path>
              <a:path w="7035" h="1114">
                <a:moveTo>
                  <a:pt x="13033" y="18183"/>
                </a:moveTo>
                <a:cubicBezTo>
                  <a:pt x="13054" y="18205"/>
                  <a:pt x="13085" y="18227"/>
                  <a:pt x="13100" y="18254"/>
                </a:cubicBezTo>
                <a:cubicBezTo>
                  <a:pt x="13112" y="18275"/>
                  <a:pt x="13119" y="18313"/>
                  <a:pt x="13118" y="18337"/>
                </a:cubicBezTo>
                <a:cubicBezTo>
                  <a:pt x="13117" y="18366"/>
                  <a:pt x="13103" y="18392"/>
                  <a:pt x="13096" y="18419"/>
                </a:cubicBezTo>
                <a:cubicBezTo>
                  <a:pt x="13091" y="18438"/>
                  <a:pt x="13087" y="18451"/>
                  <a:pt x="13103" y="18464"/>
                </a:cubicBezTo>
                <a:cubicBezTo>
                  <a:pt x="13111" y="18470"/>
                  <a:pt x="13129" y="18472"/>
                  <a:pt x="13139" y="18473"/>
                </a:cubicBezTo>
                <a:cubicBezTo>
                  <a:pt x="13166" y="18476"/>
                  <a:pt x="13181" y="18467"/>
                  <a:pt x="13204" y="18453"/>
                </a:cubicBezTo>
                <a:cubicBezTo>
                  <a:pt x="13250" y="18425"/>
                  <a:pt x="13283" y="18376"/>
                  <a:pt x="13317" y="18335"/>
                </a:cubicBezTo>
                <a:cubicBezTo>
                  <a:pt x="13341" y="18306"/>
                  <a:pt x="13367" y="18278"/>
                  <a:pt x="13392" y="18249"/>
                </a:cubicBezTo>
                <a:cubicBezTo>
                  <a:pt x="13403" y="18235"/>
                  <a:pt x="13416" y="18226"/>
                  <a:pt x="13429" y="18215"/>
                </a:cubicBezTo>
                <a:cubicBezTo>
                  <a:pt x="13438" y="18240"/>
                  <a:pt x="13438" y="18249"/>
                  <a:pt x="13429" y="18279"/>
                </a:cubicBezTo>
                <a:cubicBezTo>
                  <a:pt x="13414" y="18328"/>
                  <a:pt x="13389" y="18375"/>
                  <a:pt x="13370" y="18423"/>
                </a:cubicBezTo>
                <a:cubicBezTo>
                  <a:pt x="13347" y="18483"/>
                  <a:pt x="13326" y="18542"/>
                  <a:pt x="13299" y="18600"/>
                </a:cubicBezTo>
                <a:cubicBezTo>
                  <a:pt x="13255" y="18698"/>
                  <a:pt x="13212" y="18798"/>
                  <a:pt x="13161" y="18892"/>
                </a:cubicBezTo>
                <a:cubicBezTo>
                  <a:pt x="13147" y="18918"/>
                  <a:pt x="13131" y="18939"/>
                  <a:pt x="13114" y="18962"/>
                </a:cubicBezTo>
              </a:path>
              <a:path w="7035" h="1114">
                <a:moveTo>
                  <a:pt x="13804" y="18276"/>
                </a:moveTo>
                <a:cubicBezTo>
                  <a:pt x="13820" y="18280"/>
                  <a:pt x="13845" y="18282"/>
                  <a:pt x="13860" y="18292"/>
                </a:cubicBezTo>
                <a:cubicBezTo>
                  <a:pt x="13863" y="18294"/>
                  <a:pt x="13868" y="18293"/>
                  <a:pt x="13870" y="18296"/>
                </a:cubicBezTo>
                <a:cubicBezTo>
                  <a:pt x="13874" y="18302"/>
                  <a:pt x="13866" y="18319"/>
                  <a:pt x="13865" y="18324"/>
                </a:cubicBezTo>
                <a:cubicBezTo>
                  <a:pt x="13858" y="18358"/>
                  <a:pt x="13840" y="18391"/>
                  <a:pt x="13829" y="18423"/>
                </a:cubicBezTo>
                <a:cubicBezTo>
                  <a:pt x="13812" y="18471"/>
                  <a:pt x="13788" y="18516"/>
                  <a:pt x="13761" y="18559"/>
                </a:cubicBezTo>
                <a:cubicBezTo>
                  <a:pt x="13740" y="18592"/>
                  <a:pt x="13718" y="18622"/>
                  <a:pt x="13695" y="18654"/>
                </a:cubicBezTo>
                <a:cubicBezTo>
                  <a:pt x="13685" y="18668"/>
                  <a:pt x="13678" y="18681"/>
                  <a:pt x="13668" y="18695"/>
                </a:cubicBezTo>
                <a:cubicBezTo>
                  <a:pt x="13670" y="18685"/>
                  <a:pt x="13671" y="18668"/>
                  <a:pt x="13679" y="18652"/>
                </a:cubicBezTo>
                <a:cubicBezTo>
                  <a:pt x="13704" y="18602"/>
                  <a:pt x="13740" y="18556"/>
                  <a:pt x="13774" y="18512"/>
                </a:cubicBezTo>
                <a:cubicBezTo>
                  <a:pt x="13820" y="18453"/>
                  <a:pt x="13875" y="18399"/>
                  <a:pt x="13928" y="18346"/>
                </a:cubicBezTo>
                <a:cubicBezTo>
                  <a:pt x="13964" y="18311"/>
                  <a:pt x="14008" y="18277"/>
                  <a:pt x="14053" y="18253"/>
                </a:cubicBezTo>
                <a:cubicBezTo>
                  <a:pt x="14077" y="18240"/>
                  <a:pt x="14129" y="18210"/>
                  <a:pt x="14159" y="18215"/>
                </a:cubicBezTo>
                <a:cubicBezTo>
                  <a:pt x="14180" y="18219"/>
                  <a:pt x="14189" y="18242"/>
                  <a:pt x="14195" y="18260"/>
                </a:cubicBezTo>
                <a:cubicBezTo>
                  <a:pt x="14210" y="18307"/>
                  <a:pt x="14203" y="18362"/>
                  <a:pt x="14193" y="18409"/>
                </a:cubicBezTo>
                <a:cubicBezTo>
                  <a:pt x="14182" y="18461"/>
                  <a:pt x="14165" y="18515"/>
                  <a:pt x="14148" y="18566"/>
                </a:cubicBezTo>
                <a:cubicBezTo>
                  <a:pt x="14133" y="18613"/>
                  <a:pt x="14116" y="18660"/>
                  <a:pt x="14096" y="18704"/>
                </a:cubicBezTo>
                <a:cubicBezTo>
                  <a:pt x="14088" y="18723"/>
                  <a:pt x="14080" y="18746"/>
                  <a:pt x="14067" y="18762"/>
                </a:cubicBezTo>
                <a:cubicBezTo>
                  <a:pt x="14066" y="18761"/>
                  <a:pt x="14065" y="18761"/>
                  <a:pt x="14064" y="18760"/>
                </a:cubicBezTo>
              </a:path>
              <a:path w="7035" h="1114">
                <a:moveTo>
                  <a:pt x="14727" y="18271"/>
                </a:moveTo>
                <a:cubicBezTo>
                  <a:pt x="14723" y="18286"/>
                  <a:pt x="14721" y="18313"/>
                  <a:pt x="14713" y="18326"/>
                </a:cubicBezTo>
                <a:cubicBezTo>
                  <a:pt x="14707" y="18335"/>
                  <a:pt x="14703" y="18339"/>
                  <a:pt x="14695" y="18344"/>
                </a:cubicBezTo>
                <a:cubicBezTo>
                  <a:pt x="14686" y="18349"/>
                  <a:pt x="14680" y="18346"/>
                  <a:pt x="14671" y="18348"/>
                </a:cubicBezTo>
                <a:cubicBezTo>
                  <a:pt x="14668" y="18348"/>
                  <a:pt x="14668" y="18348"/>
                  <a:pt x="14666" y="18348"/>
                </a:cubicBezTo>
                <a:cubicBezTo>
                  <a:pt x="14673" y="18346"/>
                  <a:pt x="14668" y="18344"/>
                  <a:pt x="14675" y="18342"/>
                </a:cubicBezTo>
                <a:cubicBezTo>
                  <a:pt x="14691" y="18338"/>
                  <a:pt x="14706" y="18335"/>
                  <a:pt x="14722" y="18330"/>
                </a:cubicBezTo>
                <a:cubicBezTo>
                  <a:pt x="14746" y="18322"/>
                  <a:pt x="14770" y="18312"/>
                  <a:pt x="14793" y="18301"/>
                </a:cubicBezTo>
                <a:cubicBezTo>
                  <a:pt x="14820" y="18288"/>
                  <a:pt x="14848" y="18272"/>
                  <a:pt x="14872" y="18254"/>
                </a:cubicBezTo>
                <a:cubicBezTo>
                  <a:pt x="14887" y="18242"/>
                  <a:pt x="14907" y="18228"/>
                  <a:pt x="14912" y="18208"/>
                </a:cubicBezTo>
                <a:cubicBezTo>
                  <a:pt x="14918" y="18183"/>
                  <a:pt x="14907" y="18177"/>
                  <a:pt x="14883" y="18170"/>
                </a:cubicBezTo>
                <a:cubicBezTo>
                  <a:pt x="14829" y="18153"/>
                  <a:pt x="14766" y="18167"/>
                  <a:pt x="14718" y="18192"/>
                </a:cubicBezTo>
                <a:cubicBezTo>
                  <a:pt x="14674" y="18215"/>
                  <a:pt x="14647" y="18237"/>
                  <a:pt x="14618" y="18278"/>
                </a:cubicBezTo>
                <a:cubicBezTo>
                  <a:pt x="14597" y="18308"/>
                  <a:pt x="14581" y="18341"/>
                  <a:pt x="14573" y="18376"/>
                </a:cubicBezTo>
                <a:cubicBezTo>
                  <a:pt x="14565" y="18412"/>
                  <a:pt x="14572" y="18427"/>
                  <a:pt x="14607" y="18439"/>
                </a:cubicBezTo>
                <a:cubicBezTo>
                  <a:pt x="14644" y="18452"/>
                  <a:pt x="14669" y="18443"/>
                  <a:pt x="14704" y="18430"/>
                </a:cubicBezTo>
                <a:cubicBezTo>
                  <a:pt x="14747" y="18414"/>
                  <a:pt x="14794" y="18383"/>
                  <a:pt x="14831" y="18355"/>
                </a:cubicBezTo>
                <a:cubicBezTo>
                  <a:pt x="14862" y="18332"/>
                  <a:pt x="14888" y="18310"/>
                  <a:pt x="14921" y="18292"/>
                </a:cubicBezTo>
                <a:cubicBezTo>
                  <a:pt x="14926" y="18301"/>
                  <a:pt x="14937" y="18305"/>
                  <a:pt x="14940" y="18319"/>
                </a:cubicBezTo>
                <a:cubicBezTo>
                  <a:pt x="14947" y="18348"/>
                  <a:pt x="14947" y="18381"/>
                  <a:pt x="14944" y="18410"/>
                </a:cubicBezTo>
                <a:cubicBezTo>
                  <a:pt x="14939" y="18456"/>
                  <a:pt x="14932" y="18507"/>
                  <a:pt x="14912" y="18550"/>
                </a:cubicBezTo>
                <a:cubicBezTo>
                  <a:pt x="14875" y="18627"/>
                  <a:pt x="14832" y="18697"/>
                  <a:pt x="14774" y="18760"/>
                </a:cubicBezTo>
                <a:cubicBezTo>
                  <a:pt x="14700" y="18841"/>
                  <a:pt x="14618" y="18891"/>
                  <a:pt x="14515" y="18928"/>
                </a:cubicBezTo>
                <a:cubicBezTo>
                  <a:pt x="14433" y="18957"/>
                  <a:pt x="14343" y="18972"/>
                  <a:pt x="14257" y="18962"/>
                </a:cubicBezTo>
              </a:path>
              <a:path w="7035" h="1114">
                <a:moveTo>
                  <a:pt x="15175" y="18439"/>
                </a:moveTo>
                <a:cubicBezTo>
                  <a:pt x="15155" y="18457"/>
                  <a:pt x="15136" y="18476"/>
                  <a:pt x="15118" y="18496"/>
                </a:cubicBezTo>
                <a:cubicBezTo>
                  <a:pt x="15117" y="18498"/>
                  <a:pt x="15115" y="18500"/>
                  <a:pt x="15114" y="18502"/>
                </a:cubicBezTo>
                <a:cubicBezTo>
                  <a:pt x="15127" y="18509"/>
                  <a:pt x="15127" y="18514"/>
                  <a:pt x="15145" y="18518"/>
                </a:cubicBezTo>
                <a:cubicBezTo>
                  <a:pt x="15172" y="18525"/>
                  <a:pt x="15206" y="18521"/>
                  <a:pt x="15234" y="18520"/>
                </a:cubicBezTo>
                <a:cubicBezTo>
                  <a:pt x="15284" y="18518"/>
                  <a:pt x="15336" y="18518"/>
                  <a:pt x="15386" y="18514"/>
                </a:cubicBezTo>
                <a:cubicBezTo>
                  <a:pt x="15459" y="18508"/>
                  <a:pt x="15546" y="18493"/>
                  <a:pt x="15612" y="18460"/>
                </a:cubicBezTo>
                <a:cubicBezTo>
                  <a:pt x="15657" y="18437"/>
                  <a:pt x="15713" y="18400"/>
                  <a:pt x="15729" y="18349"/>
                </a:cubicBezTo>
                <a:cubicBezTo>
                  <a:pt x="15737" y="18324"/>
                  <a:pt x="15747" y="18291"/>
                  <a:pt x="15723" y="18272"/>
                </a:cubicBezTo>
                <a:cubicBezTo>
                  <a:pt x="15709" y="18261"/>
                  <a:pt x="15702" y="18268"/>
                  <a:pt x="15686" y="18272"/>
                </a:cubicBezTo>
                <a:cubicBezTo>
                  <a:pt x="15657" y="18279"/>
                  <a:pt x="15642" y="18294"/>
                  <a:pt x="15618" y="18310"/>
                </a:cubicBezTo>
                <a:cubicBezTo>
                  <a:pt x="15587" y="18332"/>
                  <a:pt x="15555" y="18354"/>
                  <a:pt x="15524" y="18376"/>
                </a:cubicBezTo>
                <a:cubicBezTo>
                  <a:pt x="15490" y="18400"/>
                  <a:pt x="15453" y="18419"/>
                  <a:pt x="15419" y="18443"/>
                </a:cubicBezTo>
                <a:cubicBezTo>
                  <a:pt x="15393" y="18461"/>
                  <a:pt x="15363" y="18477"/>
                  <a:pt x="15345" y="18505"/>
                </a:cubicBezTo>
                <a:cubicBezTo>
                  <a:pt x="15330" y="18529"/>
                  <a:pt x="15327" y="18552"/>
                  <a:pt x="15338" y="18579"/>
                </a:cubicBezTo>
                <a:cubicBezTo>
                  <a:pt x="15357" y="18625"/>
                  <a:pt x="15418" y="18661"/>
                  <a:pt x="15462" y="18677"/>
                </a:cubicBezTo>
                <a:cubicBezTo>
                  <a:pt x="15508" y="18694"/>
                  <a:pt x="15552" y="18695"/>
                  <a:pt x="15600" y="18693"/>
                </a:cubicBezTo>
              </a:path>
              <a:path w="7035" h="1114">
                <a:moveTo>
                  <a:pt x="16145" y="18376"/>
                </a:moveTo>
                <a:cubicBezTo>
                  <a:pt x="16154" y="18376"/>
                  <a:pt x="16163" y="18377"/>
                  <a:pt x="16171" y="18378"/>
                </a:cubicBezTo>
                <a:cubicBezTo>
                  <a:pt x="16158" y="18385"/>
                  <a:pt x="16142" y="18393"/>
                  <a:pt x="16128" y="18400"/>
                </a:cubicBezTo>
                <a:cubicBezTo>
                  <a:pt x="16098" y="18414"/>
                  <a:pt x="16073" y="18429"/>
                  <a:pt x="16046" y="18450"/>
                </a:cubicBezTo>
                <a:cubicBezTo>
                  <a:pt x="16009" y="18479"/>
                  <a:pt x="15975" y="18515"/>
                  <a:pt x="15947" y="18552"/>
                </a:cubicBezTo>
                <a:cubicBezTo>
                  <a:pt x="15926" y="18580"/>
                  <a:pt x="15904" y="18618"/>
                  <a:pt x="15890" y="18650"/>
                </a:cubicBezTo>
                <a:cubicBezTo>
                  <a:pt x="15879" y="18675"/>
                  <a:pt x="15869" y="18708"/>
                  <a:pt x="15865" y="18735"/>
                </a:cubicBezTo>
                <a:cubicBezTo>
                  <a:pt x="15863" y="18750"/>
                  <a:pt x="15867" y="18760"/>
                  <a:pt x="15870" y="18772"/>
                </a:cubicBezTo>
                <a:cubicBezTo>
                  <a:pt x="15895" y="18772"/>
                  <a:pt x="15906" y="18772"/>
                  <a:pt x="15928" y="18754"/>
                </a:cubicBezTo>
                <a:cubicBezTo>
                  <a:pt x="15959" y="18730"/>
                  <a:pt x="15992" y="18704"/>
                  <a:pt x="16019" y="18676"/>
                </a:cubicBezTo>
                <a:cubicBezTo>
                  <a:pt x="16049" y="18645"/>
                  <a:pt x="16077" y="18608"/>
                  <a:pt x="16102" y="18572"/>
                </a:cubicBezTo>
                <a:cubicBezTo>
                  <a:pt x="16126" y="18536"/>
                  <a:pt x="16148" y="18504"/>
                  <a:pt x="16180" y="18475"/>
                </a:cubicBezTo>
                <a:cubicBezTo>
                  <a:pt x="16188" y="18468"/>
                  <a:pt x="16197" y="18462"/>
                  <a:pt x="16205" y="18457"/>
                </a:cubicBezTo>
                <a:cubicBezTo>
                  <a:pt x="16210" y="18476"/>
                  <a:pt x="16213" y="18497"/>
                  <a:pt x="16214" y="18518"/>
                </a:cubicBezTo>
                <a:cubicBezTo>
                  <a:pt x="16216" y="18561"/>
                  <a:pt x="16213" y="18606"/>
                  <a:pt x="16209" y="18649"/>
                </a:cubicBezTo>
                <a:cubicBezTo>
                  <a:pt x="16205" y="18686"/>
                  <a:pt x="16195" y="18725"/>
                  <a:pt x="16195" y="18762"/>
                </a:cubicBezTo>
                <a:cubicBezTo>
                  <a:pt x="16195" y="18775"/>
                  <a:pt x="16195" y="18804"/>
                  <a:pt x="16213" y="18808"/>
                </a:cubicBezTo>
                <a:cubicBezTo>
                  <a:pt x="16216" y="18806"/>
                  <a:pt x="16220" y="18803"/>
                  <a:pt x="16223" y="18801"/>
                </a:cubicBezTo>
              </a:path>
              <a:path w="7035" h="1114">
                <a:moveTo>
                  <a:pt x="16654" y="17910"/>
                </a:moveTo>
                <a:cubicBezTo>
                  <a:pt x="16669" y="17935"/>
                  <a:pt x="16679" y="17947"/>
                  <a:pt x="16684" y="17977"/>
                </a:cubicBezTo>
                <a:cubicBezTo>
                  <a:pt x="16688" y="18000"/>
                  <a:pt x="16683" y="18025"/>
                  <a:pt x="16670" y="18047"/>
                </a:cubicBezTo>
                <a:cubicBezTo>
                  <a:pt x="16653" y="18077"/>
                  <a:pt x="16630" y="18101"/>
                  <a:pt x="16614" y="18133"/>
                </a:cubicBezTo>
                <a:cubicBezTo>
                  <a:pt x="16574" y="18214"/>
                  <a:pt x="16544" y="18302"/>
                  <a:pt x="16519" y="18389"/>
                </a:cubicBezTo>
                <a:cubicBezTo>
                  <a:pt x="16503" y="18443"/>
                  <a:pt x="16491" y="18503"/>
                  <a:pt x="16485" y="18559"/>
                </a:cubicBezTo>
                <a:cubicBezTo>
                  <a:pt x="16481" y="18602"/>
                  <a:pt x="16475" y="18650"/>
                  <a:pt x="16485" y="18693"/>
                </a:cubicBezTo>
                <a:cubicBezTo>
                  <a:pt x="16494" y="18734"/>
                  <a:pt x="16513" y="18769"/>
                  <a:pt x="16544" y="18797"/>
                </a:cubicBezTo>
                <a:cubicBezTo>
                  <a:pt x="16567" y="18818"/>
                  <a:pt x="16598" y="18829"/>
                  <a:pt x="16627" y="18837"/>
                </a:cubicBezTo>
                <a:cubicBezTo>
                  <a:pt x="16733" y="18865"/>
                  <a:pt x="16823" y="18836"/>
                  <a:pt x="16917" y="18787"/>
                </a:cubicBezTo>
                <a:cubicBezTo>
                  <a:pt x="16987" y="18750"/>
                  <a:pt x="17057" y="18716"/>
                  <a:pt x="17128" y="18683"/>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662880" y="6311880"/>
            <a:ext cx="2435040" cy="403200"/>
          </a:xfrm>
          <a:custGeom>
            <a:avLst/>
            <a:gdLst/>
            <a:ahLst/>
            <a:rect l="l" t="t" r="r" b="b"/>
            <a:pathLst>
              <a:path w="6763" h="1120">
                <a:moveTo>
                  <a:pt x="18718" y="18014"/>
                </a:moveTo>
                <a:cubicBezTo>
                  <a:pt x="18747" y="17998"/>
                  <a:pt x="18772" y="17988"/>
                  <a:pt x="18786" y="17958"/>
                </a:cubicBezTo>
                <a:cubicBezTo>
                  <a:pt x="18791" y="17947"/>
                  <a:pt x="18795" y="17934"/>
                  <a:pt x="18797" y="17922"/>
                </a:cubicBezTo>
                <a:cubicBezTo>
                  <a:pt x="18800" y="17906"/>
                  <a:pt x="18801" y="17895"/>
                  <a:pt x="18793" y="17881"/>
                </a:cubicBezTo>
                <a:cubicBezTo>
                  <a:pt x="18783" y="17863"/>
                  <a:pt x="18751" y="17848"/>
                  <a:pt x="18732" y="17842"/>
                </a:cubicBezTo>
                <a:cubicBezTo>
                  <a:pt x="18689" y="17829"/>
                  <a:pt x="18638" y="17834"/>
                  <a:pt x="18602" y="17860"/>
                </a:cubicBezTo>
                <a:cubicBezTo>
                  <a:pt x="18582" y="17875"/>
                  <a:pt x="18565" y="17900"/>
                  <a:pt x="18553" y="17922"/>
                </a:cubicBezTo>
                <a:cubicBezTo>
                  <a:pt x="18537" y="17950"/>
                  <a:pt x="18525" y="17983"/>
                  <a:pt x="18519" y="18014"/>
                </a:cubicBezTo>
                <a:cubicBezTo>
                  <a:pt x="18514" y="18040"/>
                  <a:pt x="18509" y="18069"/>
                  <a:pt x="18507" y="18096"/>
                </a:cubicBezTo>
                <a:cubicBezTo>
                  <a:pt x="18505" y="18132"/>
                  <a:pt x="18506" y="18173"/>
                  <a:pt x="18519" y="18207"/>
                </a:cubicBezTo>
                <a:cubicBezTo>
                  <a:pt x="18538" y="18258"/>
                  <a:pt x="18572" y="18308"/>
                  <a:pt x="18605" y="18351"/>
                </a:cubicBezTo>
                <a:cubicBezTo>
                  <a:pt x="18629" y="18383"/>
                  <a:pt x="18658" y="18413"/>
                  <a:pt x="18684" y="18444"/>
                </a:cubicBezTo>
                <a:cubicBezTo>
                  <a:pt x="18704" y="18468"/>
                  <a:pt x="18726" y="18491"/>
                  <a:pt x="18747" y="18514"/>
                </a:cubicBezTo>
                <a:cubicBezTo>
                  <a:pt x="18761" y="18529"/>
                  <a:pt x="18774" y="18544"/>
                  <a:pt x="18786" y="18560"/>
                </a:cubicBezTo>
                <a:cubicBezTo>
                  <a:pt x="18795" y="18572"/>
                  <a:pt x="18803" y="18584"/>
                  <a:pt x="18808" y="18598"/>
                </a:cubicBezTo>
                <a:cubicBezTo>
                  <a:pt x="18810" y="18605"/>
                  <a:pt x="18816" y="18620"/>
                  <a:pt x="18813" y="18627"/>
                </a:cubicBezTo>
                <a:cubicBezTo>
                  <a:pt x="18805" y="18645"/>
                  <a:pt x="18788" y="18644"/>
                  <a:pt x="18770" y="18646"/>
                </a:cubicBezTo>
                <a:cubicBezTo>
                  <a:pt x="18733" y="18650"/>
                  <a:pt x="18694" y="18652"/>
                  <a:pt x="18657" y="18654"/>
                </a:cubicBezTo>
                <a:cubicBezTo>
                  <a:pt x="18630" y="18655"/>
                  <a:pt x="18586" y="18662"/>
                  <a:pt x="18560" y="18652"/>
                </a:cubicBezTo>
                <a:cubicBezTo>
                  <a:pt x="18549" y="18648"/>
                  <a:pt x="18549" y="18640"/>
                  <a:pt x="18541" y="18634"/>
                </a:cubicBezTo>
              </a:path>
              <a:path w="6763" h="1120">
                <a:moveTo>
                  <a:pt x="19204" y="18021"/>
                </a:moveTo>
                <a:cubicBezTo>
                  <a:pt x="19206" y="18033"/>
                  <a:pt x="19205" y="18046"/>
                  <a:pt x="19211" y="18057"/>
                </a:cubicBezTo>
                <a:cubicBezTo>
                  <a:pt x="19219" y="18070"/>
                  <a:pt x="19234" y="18083"/>
                  <a:pt x="19247" y="18091"/>
                </a:cubicBezTo>
                <a:cubicBezTo>
                  <a:pt x="19268" y="18104"/>
                  <a:pt x="19283" y="18113"/>
                  <a:pt x="19299" y="18132"/>
                </a:cubicBezTo>
                <a:cubicBezTo>
                  <a:pt x="19315" y="18151"/>
                  <a:pt x="19330" y="18170"/>
                  <a:pt x="19340" y="18193"/>
                </a:cubicBezTo>
                <a:cubicBezTo>
                  <a:pt x="19352" y="18221"/>
                  <a:pt x="19356" y="18249"/>
                  <a:pt x="19360" y="18279"/>
                </a:cubicBezTo>
                <a:cubicBezTo>
                  <a:pt x="19364" y="18315"/>
                  <a:pt x="19365" y="18352"/>
                  <a:pt x="19370" y="18387"/>
                </a:cubicBezTo>
                <a:cubicBezTo>
                  <a:pt x="19376" y="18429"/>
                  <a:pt x="19394" y="18467"/>
                  <a:pt x="19403" y="18508"/>
                </a:cubicBezTo>
                <a:cubicBezTo>
                  <a:pt x="19409" y="18535"/>
                  <a:pt x="19417" y="18562"/>
                  <a:pt x="19422" y="18589"/>
                </a:cubicBezTo>
                <a:cubicBezTo>
                  <a:pt x="19425" y="18603"/>
                  <a:pt x="19430" y="18615"/>
                  <a:pt x="19433" y="18627"/>
                </a:cubicBezTo>
                <a:cubicBezTo>
                  <a:pt x="19434" y="18630"/>
                  <a:pt x="19434" y="18633"/>
                  <a:pt x="19435" y="18636"/>
                </a:cubicBezTo>
              </a:path>
              <a:path w="6763" h="1120">
                <a:moveTo>
                  <a:pt x="19180" y="18469"/>
                </a:moveTo>
                <a:cubicBezTo>
                  <a:pt x="19162" y="18457"/>
                  <a:pt x="19142" y="18445"/>
                  <a:pt x="19125" y="18431"/>
                </a:cubicBezTo>
                <a:cubicBezTo>
                  <a:pt x="19123" y="18430"/>
                  <a:pt x="19122" y="18430"/>
                  <a:pt x="19123" y="18428"/>
                </a:cubicBezTo>
                <a:cubicBezTo>
                  <a:pt x="19135" y="18424"/>
                  <a:pt x="19146" y="18419"/>
                  <a:pt x="19159" y="18417"/>
                </a:cubicBezTo>
                <a:cubicBezTo>
                  <a:pt x="19206" y="18408"/>
                  <a:pt x="19252" y="18395"/>
                  <a:pt x="19299" y="18385"/>
                </a:cubicBezTo>
                <a:cubicBezTo>
                  <a:pt x="19329" y="18379"/>
                  <a:pt x="19358" y="18374"/>
                  <a:pt x="19388" y="18369"/>
                </a:cubicBezTo>
                <a:cubicBezTo>
                  <a:pt x="19426" y="18363"/>
                  <a:pt x="19464" y="18360"/>
                  <a:pt x="19503" y="18360"/>
                </a:cubicBezTo>
                <a:cubicBezTo>
                  <a:pt x="19529" y="18360"/>
                  <a:pt x="19553" y="18362"/>
                  <a:pt x="19578" y="18365"/>
                </a:cubicBezTo>
                <a:cubicBezTo>
                  <a:pt x="19600" y="18368"/>
                  <a:pt x="19624" y="18370"/>
                  <a:pt x="19646" y="18371"/>
                </a:cubicBezTo>
                <a:cubicBezTo>
                  <a:pt x="19669" y="18372"/>
                  <a:pt x="19693" y="18371"/>
                  <a:pt x="19715" y="18369"/>
                </a:cubicBezTo>
                <a:cubicBezTo>
                  <a:pt x="19726" y="18368"/>
                  <a:pt x="19737" y="18366"/>
                  <a:pt x="19747" y="18362"/>
                </a:cubicBezTo>
                <a:cubicBezTo>
                  <a:pt x="19760" y="18357"/>
                  <a:pt x="19773" y="18352"/>
                  <a:pt x="19786" y="18347"/>
                </a:cubicBezTo>
              </a:path>
              <a:path w="6763" h="1120">
                <a:moveTo>
                  <a:pt x="19827" y="18288"/>
                </a:moveTo>
                <a:cubicBezTo>
                  <a:pt x="19850" y="18288"/>
                  <a:pt x="19874" y="18285"/>
                  <a:pt x="19896" y="18293"/>
                </a:cubicBezTo>
                <a:cubicBezTo>
                  <a:pt x="19909" y="18297"/>
                  <a:pt x="19926" y="18302"/>
                  <a:pt x="19937" y="18310"/>
                </a:cubicBezTo>
                <a:cubicBezTo>
                  <a:pt x="19944" y="18315"/>
                  <a:pt x="19954" y="18323"/>
                  <a:pt x="19962" y="18329"/>
                </a:cubicBezTo>
                <a:cubicBezTo>
                  <a:pt x="19972" y="18337"/>
                  <a:pt x="19984" y="18344"/>
                  <a:pt x="19992" y="18354"/>
                </a:cubicBezTo>
                <a:cubicBezTo>
                  <a:pt x="20002" y="18366"/>
                  <a:pt x="20009" y="18389"/>
                  <a:pt x="20017" y="18403"/>
                </a:cubicBezTo>
                <a:cubicBezTo>
                  <a:pt x="20026" y="18420"/>
                  <a:pt x="20035" y="18434"/>
                  <a:pt x="20044" y="18451"/>
                </a:cubicBezTo>
                <a:cubicBezTo>
                  <a:pt x="20054" y="18470"/>
                  <a:pt x="20067" y="18487"/>
                  <a:pt x="20077" y="18507"/>
                </a:cubicBezTo>
                <a:cubicBezTo>
                  <a:pt x="20085" y="18523"/>
                  <a:pt x="20088" y="18541"/>
                  <a:pt x="20095" y="18557"/>
                </a:cubicBezTo>
                <a:cubicBezTo>
                  <a:pt x="20098" y="18565"/>
                  <a:pt x="20103" y="18575"/>
                  <a:pt x="20107" y="18582"/>
                </a:cubicBezTo>
                <a:cubicBezTo>
                  <a:pt x="20110" y="18587"/>
                  <a:pt x="20115" y="18593"/>
                  <a:pt x="20120" y="18596"/>
                </a:cubicBezTo>
                <a:cubicBezTo>
                  <a:pt x="20127" y="18601"/>
                  <a:pt x="20128" y="18603"/>
                  <a:pt x="20136" y="18593"/>
                </a:cubicBezTo>
                <a:cubicBezTo>
                  <a:pt x="20138" y="18589"/>
                  <a:pt x="20139" y="18586"/>
                  <a:pt x="20141" y="18582"/>
                </a:cubicBezTo>
              </a:path>
              <a:path w="6763" h="1120">
                <a:moveTo>
                  <a:pt x="19784" y="18003"/>
                </a:moveTo>
                <a:cubicBezTo>
                  <a:pt x="19765" y="18003"/>
                  <a:pt x="19744" y="18005"/>
                  <a:pt x="19725" y="18000"/>
                </a:cubicBezTo>
                <a:cubicBezTo>
                  <a:pt x="19721" y="17999"/>
                  <a:pt x="19717" y="17996"/>
                  <a:pt x="19713" y="17996"/>
                </a:cubicBezTo>
                <a:cubicBezTo>
                  <a:pt x="19712" y="17996"/>
                  <a:pt x="19712" y="17996"/>
                  <a:pt x="19711" y="17996"/>
                </a:cubicBezTo>
                <a:cubicBezTo>
                  <a:pt x="19720" y="17996"/>
                  <a:pt x="19729" y="17996"/>
                  <a:pt x="19738" y="17994"/>
                </a:cubicBezTo>
                <a:cubicBezTo>
                  <a:pt x="19746" y="17992"/>
                  <a:pt x="19748" y="17991"/>
                  <a:pt x="19754" y="17991"/>
                </a:cubicBezTo>
              </a:path>
              <a:path w="6763" h="1120">
                <a:moveTo>
                  <a:pt x="20243" y="18111"/>
                </a:moveTo>
                <a:cubicBezTo>
                  <a:pt x="20255" y="18133"/>
                  <a:pt x="20268" y="18154"/>
                  <a:pt x="20281" y="18175"/>
                </a:cubicBezTo>
                <a:cubicBezTo>
                  <a:pt x="20286" y="18183"/>
                  <a:pt x="20289" y="18191"/>
                  <a:pt x="20295" y="18198"/>
                </a:cubicBezTo>
                <a:cubicBezTo>
                  <a:pt x="20303" y="18208"/>
                  <a:pt x="20314" y="18221"/>
                  <a:pt x="20324" y="18231"/>
                </a:cubicBezTo>
                <a:cubicBezTo>
                  <a:pt x="20342" y="18249"/>
                  <a:pt x="20364" y="18263"/>
                  <a:pt x="20381" y="18283"/>
                </a:cubicBezTo>
                <a:cubicBezTo>
                  <a:pt x="20400" y="18305"/>
                  <a:pt x="20415" y="18329"/>
                  <a:pt x="20435" y="18351"/>
                </a:cubicBezTo>
                <a:cubicBezTo>
                  <a:pt x="20459" y="18378"/>
                  <a:pt x="20483" y="18404"/>
                  <a:pt x="20507" y="18430"/>
                </a:cubicBezTo>
                <a:cubicBezTo>
                  <a:pt x="20526" y="18451"/>
                  <a:pt x="20541" y="18473"/>
                  <a:pt x="20559" y="18494"/>
                </a:cubicBezTo>
                <a:cubicBezTo>
                  <a:pt x="20571" y="18508"/>
                  <a:pt x="20585" y="18521"/>
                  <a:pt x="20598" y="18534"/>
                </a:cubicBezTo>
                <a:cubicBezTo>
                  <a:pt x="20602" y="18538"/>
                  <a:pt x="20607" y="18542"/>
                  <a:pt x="20611" y="18546"/>
                </a:cubicBezTo>
                <a:cubicBezTo>
                  <a:pt x="20614" y="18548"/>
                  <a:pt x="20615" y="18548"/>
                  <a:pt x="20614" y="18550"/>
                </a:cubicBezTo>
                <a:cubicBezTo>
                  <a:pt x="20612" y="18540"/>
                  <a:pt x="20611" y="18531"/>
                  <a:pt x="20609" y="18521"/>
                </a:cubicBezTo>
                <a:cubicBezTo>
                  <a:pt x="20605" y="18497"/>
                  <a:pt x="20598" y="18475"/>
                  <a:pt x="20602" y="18449"/>
                </a:cubicBezTo>
                <a:cubicBezTo>
                  <a:pt x="20609" y="18395"/>
                  <a:pt x="20624" y="18336"/>
                  <a:pt x="20645" y="18286"/>
                </a:cubicBezTo>
                <a:cubicBezTo>
                  <a:pt x="20654" y="18264"/>
                  <a:pt x="20664" y="18242"/>
                  <a:pt x="20681" y="18225"/>
                </a:cubicBezTo>
                <a:cubicBezTo>
                  <a:pt x="20694" y="18211"/>
                  <a:pt x="20704" y="18206"/>
                  <a:pt x="20720" y="18197"/>
                </a:cubicBezTo>
                <a:cubicBezTo>
                  <a:pt x="20737" y="18187"/>
                  <a:pt x="20755" y="18181"/>
                  <a:pt x="20774" y="18175"/>
                </a:cubicBezTo>
                <a:cubicBezTo>
                  <a:pt x="20799" y="18167"/>
                  <a:pt x="20831" y="18160"/>
                  <a:pt x="20856" y="18172"/>
                </a:cubicBezTo>
                <a:cubicBezTo>
                  <a:pt x="20872" y="18180"/>
                  <a:pt x="20877" y="18190"/>
                  <a:pt x="20888" y="18206"/>
                </a:cubicBezTo>
                <a:cubicBezTo>
                  <a:pt x="20902" y="18226"/>
                  <a:pt x="20910" y="18247"/>
                  <a:pt x="20919" y="18270"/>
                </a:cubicBezTo>
                <a:cubicBezTo>
                  <a:pt x="20928" y="18293"/>
                  <a:pt x="20938" y="18308"/>
                  <a:pt x="20949" y="18329"/>
                </a:cubicBezTo>
                <a:cubicBezTo>
                  <a:pt x="20954" y="18338"/>
                  <a:pt x="20958" y="18355"/>
                  <a:pt x="20966" y="18362"/>
                </a:cubicBezTo>
                <a:cubicBezTo>
                  <a:pt x="20984" y="18378"/>
                  <a:pt x="20998" y="18365"/>
                  <a:pt x="21016" y="18356"/>
                </a:cubicBezTo>
                <a:cubicBezTo>
                  <a:pt x="21047" y="18340"/>
                  <a:pt x="21054" y="18308"/>
                  <a:pt x="21080" y="18288"/>
                </a:cubicBezTo>
                <a:cubicBezTo>
                  <a:pt x="21089" y="18281"/>
                  <a:pt x="21121" y="18261"/>
                  <a:pt x="21130" y="18258"/>
                </a:cubicBezTo>
                <a:cubicBezTo>
                  <a:pt x="21139" y="18255"/>
                  <a:pt x="21153" y="18257"/>
                  <a:pt x="21163" y="18258"/>
                </a:cubicBezTo>
                <a:cubicBezTo>
                  <a:pt x="21194" y="18261"/>
                  <a:pt x="21196" y="18288"/>
                  <a:pt x="21209" y="18311"/>
                </a:cubicBezTo>
                <a:cubicBezTo>
                  <a:pt x="21243" y="18369"/>
                  <a:pt x="21276" y="18427"/>
                  <a:pt x="21306" y="18487"/>
                </a:cubicBezTo>
                <a:cubicBezTo>
                  <a:pt x="21321" y="18517"/>
                  <a:pt x="21336" y="18550"/>
                  <a:pt x="21356" y="18577"/>
                </a:cubicBezTo>
                <a:cubicBezTo>
                  <a:pt x="21369" y="18594"/>
                  <a:pt x="21385" y="18605"/>
                  <a:pt x="21403" y="18616"/>
                </a:cubicBezTo>
                <a:cubicBezTo>
                  <a:pt x="21407" y="18618"/>
                  <a:pt x="21411" y="18619"/>
                  <a:pt x="21415" y="18621"/>
                </a:cubicBezTo>
              </a:path>
              <a:path w="6763" h="1120">
                <a:moveTo>
                  <a:pt x="21440" y="18331"/>
                </a:moveTo>
                <a:cubicBezTo>
                  <a:pt x="21455" y="18309"/>
                  <a:pt x="21473" y="18288"/>
                  <a:pt x="21487" y="18265"/>
                </a:cubicBezTo>
                <a:cubicBezTo>
                  <a:pt x="21493" y="18254"/>
                  <a:pt x="21496" y="18242"/>
                  <a:pt x="21501" y="18231"/>
                </a:cubicBezTo>
                <a:cubicBezTo>
                  <a:pt x="21506" y="18219"/>
                  <a:pt x="21509" y="18205"/>
                  <a:pt x="21514" y="18195"/>
                </a:cubicBezTo>
                <a:cubicBezTo>
                  <a:pt x="21515" y="18193"/>
                  <a:pt x="21519" y="18189"/>
                  <a:pt x="21519" y="18188"/>
                </a:cubicBezTo>
                <a:cubicBezTo>
                  <a:pt x="21519" y="18194"/>
                  <a:pt x="21517" y="18200"/>
                  <a:pt x="21517" y="18207"/>
                </a:cubicBezTo>
                <a:cubicBezTo>
                  <a:pt x="21518" y="18225"/>
                  <a:pt x="21523" y="18239"/>
                  <a:pt x="21526" y="18256"/>
                </a:cubicBezTo>
                <a:cubicBezTo>
                  <a:pt x="21529" y="18274"/>
                  <a:pt x="21531" y="18290"/>
                  <a:pt x="21541" y="18306"/>
                </a:cubicBezTo>
                <a:cubicBezTo>
                  <a:pt x="21552" y="18323"/>
                  <a:pt x="21566" y="18339"/>
                  <a:pt x="21580" y="18354"/>
                </a:cubicBezTo>
                <a:cubicBezTo>
                  <a:pt x="21598" y="18374"/>
                  <a:pt x="21617" y="18395"/>
                  <a:pt x="21641" y="18408"/>
                </a:cubicBezTo>
                <a:cubicBezTo>
                  <a:pt x="21661" y="18419"/>
                  <a:pt x="21685" y="18427"/>
                  <a:pt x="21707" y="18433"/>
                </a:cubicBezTo>
                <a:cubicBezTo>
                  <a:pt x="21733" y="18441"/>
                  <a:pt x="21770" y="18448"/>
                  <a:pt x="21797" y="18442"/>
                </a:cubicBezTo>
                <a:cubicBezTo>
                  <a:pt x="21813" y="18438"/>
                  <a:pt x="21828" y="18431"/>
                  <a:pt x="21840" y="18421"/>
                </a:cubicBezTo>
                <a:cubicBezTo>
                  <a:pt x="21851" y="18413"/>
                  <a:pt x="21864" y="18400"/>
                  <a:pt x="21871" y="18388"/>
                </a:cubicBezTo>
                <a:cubicBezTo>
                  <a:pt x="21884" y="18365"/>
                  <a:pt x="21889" y="18334"/>
                  <a:pt x="21899" y="18310"/>
                </a:cubicBezTo>
                <a:cubicBezTo>
                  <a:pt x="21908" y="18289"/>
                  <a:pt x="21911" y="18272"/>
                  <a:pt x="21917" y="18250"/>
                </a:cubicBezTo>
                <a:cubicBezTo>
                  <a:pt x="21921" y="18235"/>
                  <a:pt x="21925" y="18218"/>
                  <a:pt x="21928" y="18204"/>
                </a:cubicBezTo>
                <a:cubicBezTo>
                  <a:pt x="21929" y="18199"/>
                  <a:pt x="21929" y="18203"/>
                  <a:pt x="21930" y="18198"/>
                </a:cubicBezTo>
                <a:cubicBezTo>
                  <a:pt x="21930" y="18242"/>
                  <a:pt x="21921" y="18296"/>
                  <a:pt x="21937" y="18336"/>
                </a:cubicBezTo>
                <a:cubicBezTo>
                  <a:pt x="21948" y="18364"/>
                  <a:pt x="21961" y="18396"/>
                  <a:pt x="21978" y="18421"/>
                </a:cubicBezTo>
                <a:cubicBezTo>
                  <a:pt x="21994" y="18444"/>
                  <a:pt x="22014" y="18465"/>
                  <a:pt x="22030" y="18487"/>
                </a:cubicBezTo>
                <a:cubicBezTo>
                  <a:pt x="22046" y="18508"/>
                  <a:pt x="22056" y="18528"/>
                  <a:pt x="22078" y="18543"/>
                </a:cubicBezTo>
                <a:cubicBezTo>
                  <a:pt x="22093" y="18553"/>
                  <a:pt x="22107" y="18558"/>
                  <a:pt x="22123" y="18564"/>
                </a:cubicBezTo>
              </a:path>
              <a:path w="6763" h="1120">
                <a:moveTo>
                  <a:pt x="22197" y="17584"/>
                </a:moveTo>
                <a:cubicBezTo>
                  <a:pt x="22212" y="17572"/>
                  <a:pt x="22227" y="17554"/>
                  <a:pt x="22243" y="17544"/>
                </a:cubicBezTo>
                <a:cubicBezTo>
                  <a:pt x="22248" y="17540"/>
                  <a:pt x="22252" y="17537"/>
                  <a:pt x="22258" y="17535"/>
                </a:cubicBezTo>
                <a:cubicBezTo>
                  <a:pt x="22269" y="17531"/>
                  <a:pt x="22282" y="17535"/>
                  <a:pt x="22288" y="17541"/>
                </a:cubicBezTo>
                <a:cubicBezTo>
                  <a:pt x="22298" y="17550"/>
                  <a:pt x="22306" y="17574"/>
                  <a:pt x="22310" y="17587"/>
                </a:cubicBezTo>
                <a:cubicBezTo>
                  <a:pt x="22318" y="17613"/>
                  <a:pt x="22321" y="17642"/>
                  <a:pt x="22324" y="17670"/>
                </a:cubicBezTo>
                <a:cubicBezTo>
                  <a:pt x="22329" y="17718"/>
                  <a:pt x="22343" y="17765"/>
                  <a:pt x="22356" y="17811"/>
                </a:cubicBezTo>
                <a:cubicBezTo>
                  <a:pt x="22382" y="17903"/>
                  <a:pt x="22380" y="18001"/>
                  <a:pt x="22394" y="18095"/>
                </a:cubicBezTo>
                <a:cubicBezTo>
                  <a:pt x="22401" y="18145"/>
                  <a:pt x="22415" y="18191"/>
                  <a:pt x="22433" y="18238"/>
                </a:cubicBezTo>
                <a:cubicBezTo>
                  <a:pt x="22449" y="18282"/>
                  <a:pt x="22465" y="18326"/>
                  <a:pt x="22494" y="18363"/>
                </a:cubicBezTo>
                <a:cubicBezTo>
                  <a:pt x="22530" y="18409"/>
                  <a:pt x="22577" y="18447"/>
                  <a:pt x="22613" y="18492"/>
                </a:cubicBezTo>
                <a:cubicBezTo>
                  <a:pt x="22626" y="18508"/>
                  <a:pt x="22637" y="18527"/>
                  <a:pt x="22648" y="18544"/>
                </a:cubicBezTo>
              </a:path>
              <a:path w="6763" h="1120">
                <a:moveTo>
                  <a:pt x="22889" y="18181"/>
                </a:moveTo>
                <a:cubicBezTo>
                  <a:pt x="22909" y="18150"/>
                  <a:pt x="22924" y="18122"/>
                  <a:pt x="22933" y="18087"/>
                </a:cubicBezTo>
                <a:cubicBezTo>
                  <a:pt x="22937" y="18071"/>
                  <a:pt x="22940" y="18055"/>
                  <a:pt x="22939" y="18039"/>
                </a:cubicBezTo>
                <a:cubicBezTo>
                  <a:pt x="22938" y="18021"/>
                  <a:pt x="22925" y="18008"/>
                  <a:pt x="22910" y="17998"/>
                </a:cubicBezTo>
                <a:cubicBezTo>
                  <a:pt x="22891" y="17986"/>
                  <a:pt x="22863" y="17982"/>
                  <a:pt x="22842" y="17991"/>
                </a:cubicBezTo>
                <a:cubicBezTo>
                  <a:pt x="22828" y="17997"/>
                  <a:pt x="22816" y="18013"/>
                  <a:pt x="22808" y="18025"/>
                </a:cubicBezTo>
                <a:cubicBezTo>
                  <a:pt x="22799" y="18039"/>
                  <a:pt x="22799" y="18052"/>
                  <a:pt x="22797" y="18069"/>
                </a:cubicBezTo>
                <a:cubicBezTo>
                  <a:pt x="22794" y="18095"/>
                  <a:pt x="22795" y="18121"/>
                  <a:pt x="22795" y="18147"/>
                </a:cubicBezTo>
                <a:cubicBezTo>
                  <a:pt x="22795" y="18170"/>
                  <a:pt x="22794" y="18192"/>
                  <a:pt x="22799" y="18215"/>
                </a:cubicBezTo>
                <a:cubicBezTo>
                  <a:pt x="22807" y="18249"/>
                  <a:pt x="22822" y="18275"/>
                  <a:pt x="22842" y="18304"/>
                </a:cubicBezTo>
                <a:cubicBezTo>
                  <a:pt x="22857" y="18326"/>
                  <a:pt x="22872" y="18334"/>
                  <a:pt x="22894" y="18347"/>
                </a:cubicBezTo>
                <a:cubicBezTo>
                  <a:pt x="22907" y="18354"/>
                  <a:pt x="22919" y="18366"/>
                  <a:pt x="22932" y="18372"/>
                </a:cubicBezTo>
                <a:cubicBezTo>
                  <a:pt x="22939" y="18375"/>
                  <a:pt x="22950" y="18378"/>
                  <a:pt x="22958" y="18379"/>
                </a:cubicBezTo>
                <a:cubicBezTo>
                  <a:pt x="22965" y="18379"/>
                  <a:pt x="22979" y="18375"/>
                  <a:pt x="22985" y="18371"/>
                </a:cubicBezTo>
                <a:cubicBezTo>
                  <a:pt x="22992" y="18367"/>
                  <a:pt x="23001" y="18354"/>
                  <a:pt x="23005" y="18347"/>
                </a:cubicBezTo>
                <a:cubicBezTo>
                  <a:pt x="23011" y="18335"/>
                  <a:pt x="23015" y="18317"/>
                  <a:pt x="23018" y="18304"/>
                </a:cubicBezTo>
                <a:cubicBezTo>
                  <a:pt x="23022" y="18289"/>
                  <a:pt x="23023" y="18272"/>
                  <a:pt x="23025" y="18256"/>
                </a:cubicBezTo>
                <a:cubicBezTo>
                  <a:pt x="23027" y="18238"/>
                  <a:pt x="23028" y="18221"/>
                  <a:pt x="23028" y="18202"/>
                </a:cubicBezTo>
                <a:cubicBezTo>
                  <a:pt x="23028" y="18161"/>
                  <a:pt x="23028" y="18124"/>
                  <a:pt x="23041" y="18084"/>
                </a:cubicBezTo>
                <a:cubicBezTo>
                  <a:pt x="23045" y="18070"/>
                  <a:pt x="23051" y="18057"/>
                  <a:pt x="23055" y="18043"/>
                </a:cubicBezTo>
                <a:cubicBezTo>
                  <a:pt x="23058" y="18035"/>
                  <a:pt x="23059" y="18009"/>
                  <a:pt x="23064" y="18003"/>
                </a:cubicBezTo>
                <a:cubicBezTo>
                  <a:pt x="23069" y="17997"/>
                  <a:pt x="23070" y="17999"/>
                  <a:pt x="23075" y="17998"/>
                </a:cubicBezTo>
                <a:cubicBezTo>
                  <a:pt x="23084" y="17996"/>
                  <a:pt x="23088" y="18000"/>
                  <a:pt x="23095" y="18005"/>
                </a:cubicBezTo>
                <a:cubicBezTo>
                  <a:pt x="23107" y="18014"/>
                  <a:pt x="23108" y="18030"/>
                  <a:pt x="23113" y="18043"/>
                </a:cubicBezTo>
                <a:cubicBezTo>
                  <a:pt x="23119" y="18061"/>
                  <a:pt x="23122" y="18076"/>
                  <a:pt x="23123" y="18095"/>
                </a:cubicBezTo>
                <a:cubicBezTo>
                  <a:pt x="23125" y="18130"/>
                  <a:pt x="23130" y="18162"/>
                  <a:pt x="23141" y="18195"/>
                </a:cubicBezTo>
                <a:cubicBezTo>
                  <a:pt x="23156" y="18240"/>
                  <a:pt x="23174" y="18272"/>
                  <a:pt x="23199" y="18311"/>
                </a:cubicBezTo>
                <a:cubicBezTo>
                  <a:pt x="23220" y="18345"/>
                  <a:pt x="23241" y="18376"/>
                  <a:pt x="23268" y="18405"/>
                </a:cubicBezTo>
                <a:cubicBezTo>
                  <a:pt x="23287" y="18426"/>
                  <a:pt x="23308" y="18442"/>
                  <a:pt x="23331" y="18458"/>
                </a:cubicBezTo>
                <a:cubicBezTo>
                  <a:pt x="23343" y="18466"/>
                  <a:pt x="23357" y="18475"/>
                  <a:pt x="23371" y="18480"/>
                </a:cubicBezTo>
                <a:cubicBezTo>
                  <a:pt x="23384" y="18484"/>
                  <a:pt x="23392" y="18480"/>
                  <a:pt x="23403" y="18480"/>
                </a:cubicBezTo>
              </a:path>
              <a:path w="6763" h="1120">
                <a:moveTo>
                  <a:pt x="23453" y="17860"/>
                </a:moveTo>
                <a:cubicBezTo>
                  <a:pt x="23470" y="17841"/>
                  <a:pt x="23488" y="17827"/>
                  <a:pt x="23507" y="17810"/>
                </a:cubicBezTo>
                <a:cubicBezTo>
                  <a:pt x="23516" y="17802"/>
                  <a:pt x="23518" y="17797"/>
                  <a:pt x="23530" y="17795"/>
                </a:cubicBezTo>
                <a:cubicBezTo>
                  <a:pt x="23540" y="17793"/>
                  <a:pt x="23546" y="17798"/>
                  <a:pt x="23552" y="17806"/>
                </a:cubicBezTo>
                <a:cubicBezTo>
                  <a:pt x="23564" y="17823"/>
                  <a:pt x="23566" y="17851"/>
                  <a:pt x="23570" y="17871"/>
                </a:cubicBezTo>
                <a:cubicBezTo>
                  <a:pt x="23577" y="17908"/>
                  <a:pt x="23584" y="17946"/>
                  <a:pt x="23591" y="17983"/>
                </a:cubicBezTo>
                <a:cubicBezTo>
                  <a:pt x="23598" y="18024"/>
                  <a:pt x="23602" y="18065"/>
                  <a:pt x="23614" y="18105"/>
                </a:cubicBezTo>
                <a:cubicBezTo>
                  <a:pt x="23628" y="18154"/>
                  <a:pt x="23637" y="18208"/>
                  <a:pt x="23654" y="18256"/>
                </a:cubicBezTo>
                <a:cubicBezTo>
                  <a:pt x="23666" y="18289"/>
                  <a:pt x="23679" y="18321"/>
                  <a:pt x="23697" y="18351"/>
                </a:cubicBezTo>
                <a:cubicBezTo>
                  <a:pt x="23711" y="18375"/>
                  <a:pt x="23725" y="18390"/>
                  <a:pt x="23747" y="18406"/>
                </a:cubicBezTo>
                <a:cubicBezTo>
                  <a:pt x="23757" y="18413"/>
                  <a:pt x="23768" y="18418"/>
                  <a:pt x="23779" y="18424"/>
                </a:cubicBezTo>
              </a:path>
              <a:path w="6763" h="1120">
                <a:moveTo>
                  <a:pt x="23566" y="18145"/>
                </a:moveTo>
                <a:cubicBezTo>
                  <a:pt x="23561" y="18145"/>
                  <a:pt x="23555" y="18145"/>
                  <a:pt x="23550" y="18145"/>
                </a:cubicBezTo>
                <a:cubicBezTo>
                  <a:pt x="23563" y="18145"/>
                  <a:pt x="23575" y="18146"/>
                  <a:pt x="23587" y="18143"/>
                </a:cubicBezTo>
                <a:cubicBezTo>
                  <a:pt x="23596" y="18141"/>
                  <a:pt x="23604" y="18141"/>
                  <a:pt x="23613" y="18141"/>
                </a:cubicBezTo>
                <a:cubicBezTo>
                  <a:pt x="23629" y="18141"/>
                  <a:pt x="23645" y="18140"/>
                  <a:pt x="23661" y="18139"/>
                </a:cubicBezTo>
                <a:cubicBezTo>
                  <a:pt x="23677" y="18138"/>
                  <a:pt x="23694" y="18141"/>
                  <a:pt x="23709" y="18138"/>
                </a:cubicBezTo>
                <a:cubicBezTo>
                  <a:pt x="23730" y="18135"/>
                  <a:pt x="23751" y="18132"/>
                  <a:pt x="23772" y="18129"/>
                </a:cubicBezTo>
                <a:cubicBezTo>
                  <a:pt x="23788" y="18127"/>
                  <a:pt x="23800" y="18123"/>
                  <a:pt x="23815" y="18116"/>
                </a:cubicBezTo>
              </a:path>
              <a:path w="6763" h="1120">
                <a:moveTo>
                  <a:pt x="23901" y="17937"/>
                </a:moveTo>
                <a:cubicBezTo>
                  <a:pt x="23920" y="17952"/>
                  <a:pt x="23935" y="17964"/>
                  <a:pt x="23946" y="17985"/>
                </a:cubicBezTo>
                <a:cubicBezTo>
                  <a:pt x="23954" y="18000"/>
                  <a:pt x="23966" y="18017"/>
                  <a:pt x="23973" y="18032"/>
                </a:cubicBezTo>
                <a:cubicBezTo>
                  <a:pt x="23981" y="18049"/>
                  <a:pt x="23991" y="18064"/>
                  <a:pt x="24001" y="18080"/>
                </a:cubicBezTo>
                <a:cubicBezTo>
                  <a:pt x="24011" y="18097"/>
                  <a:pt x="24020" y="18114"/>
                  <a:pt x="24027" y="18132"/>
                </a:cubicBezTo>
                <a:cubicBezTo>
                  <a:pt x="24035" y="18153"/>
                  <a:pt x="24035" y="18176"/>
                  <a:pt x="24044" y="18198"/>
                </a:cubicBezTo>
                <a:cubicBezTo>
                  <a:pt x="24055" y="18226"/>
                  <a:pt x="24068" y="18252"/>
                  <a:pt x="24084" y="18277"/>
                </a:cubicBezTo>
              </a:path>
              <a:path w="6763" h="1120">
                <a:moveTo>
                  <a:pt x="23953" y="17713"/>
                </a:moveTo>
                <a:cubicBezTo>
                  <a:pt x="23938" y="17715"/>
                  <a:pt x="23924" y="17720"/>
                  <a:pt x="23910" y="17722"/>
                </a:cubicBezTo>
                <a:cubicBezTo>
                  <a:pt x="23905" y="17723"/>
                  <a:pt x="23904" y="17720"/>
                  <a:pt x="23903" y="17725"/>
                </a:cubicBezTo>
                <a:cubicBezTo>
                  <a:pt x="23903" y="17727"/>
                  <a:pt x="23903" y="17728"/>
                  <a:pt x="23903" y="17729"/>
                </a:cubicBezTo>
              </a:path>
              <a:path w="6763" h="1120">
                <a:moveTo>
                  <a:pt x="24562" y="18179"/>
                </a:moveTo>
                <a:cubicBezTo>
                  <a:pt x="24562" y="18185"/>
                  <a:pt x="24562" y="18191"/>
                  <a:pt x="24562" y="18197"/>
                </a:cubicBezTo>
                <a:cubicBezTo>
                  <a:pt x="24546" y="18191"/>
                  <a:pt x="24527" y="18186"/>
                  <a:pt x="24512" y="18177"/>
                </a:cubicBezTo>
                <a:cubicBezTo>
                  <a:pt x="24491" y="18165"/>
                  <a:pt x="24470" y="18150"/>
                  <a:pt x="24448" y="18139"/>
                </a:cubicBezTo>
                <a:cubicBezTo>
                  <a:pt x="24430" y="18130"/>
                  <a:pt x="24413" y="18124"/>
                  <a:pt x="24394" y="18118"/>
                </a:cubicBezTo>
                <a:cubicBezTo>
                  <a:pt x="24389" y="18116"/>
                  <a:pt x="24382" y="18113"/>
                  <a:pt x="24376" y="18114"/>
                </a:cubicBezTo>
                <a:cubicBezTo>
                  <a:pt x="24364" y="18117"/>
                  <a:pt x="24355" y="18133"/>
                  <a:pt x="24346" y="18141"/>
                </a:cubicBezTo>
                <a:cubicBezTo>
                  <a:pt x="24332" y="18154"/>
                  <a:pt x="24321" y="18165"/>
                  <a:pt x="24310" y="18181"/>
                </a:cubicBezTo>
                <a:cubicBezTo>
                  <a:pt x="24296" y="18201"/>
                  <a:pt x="24289" y="18220"/>
                  <a:pt x="24283" y="18243"/>
                </a:cubicBezTo>
                <a:cubicBezTo>
                  <a:pt x="24273" y="18281"/>
                  <a:pt x="24274" y="18323"/>
                  <a:pt x="24292" y="18358"/>
                </a:cubicBezTo>
                <a:cubicBezTo>
                  <a:pt x="24307" y="18388"/>
                  <a:pt x="24327" y="18415"/>
                  <a:pt x="24353" y="18435"/>
                </a:cubicBezTo>
                <a:cubicBezTo>
                  <a:pt x="24371" y="18449"/>
                  <a:pt x="24392" y="18456"/>
                  <a:pt x="24415" y="18460"/>
                </a:cubicBezTo>
                <a:cubicBezTo>
                  <a:pt x="24439" y="18464"/>
                  <a:pt x="24463" y="18465"/>
                  <a:pt x="24487" y="18465"/>
                </a:cubicBezTo>
                <a:cubicBezTo>
                  <a:pt x="24516" y="18466"/>
                  <a:pt x="24545" y="18460"/>
                  <a:pt x="24571" y="18448"/>
                </a:cubicBezTo>
                <a:cubicBezTo>
                  <a:pt x="24590" y="18439"/>
                  <a:pt x="24601" y="18433"/>
                  <a:pt x="24611" y="18414"/>
                </a:cubicBezTo>
                <a:cubicBezTo>
                  <a:pt x="24617" y="18403"/>
                  <a:pt x="24622" y="18374"/>
                  <a:pt x="24616" y="18362"/>
                </a:cubicBezTo>
                <a:cubicBezTo>
                  <a:pt x="24604" y="18337"/>
                  <a:pt x="24584" y="18321"/>
                  <a:pt x="24561" y="18306"/>
                </a:cubicBezTo>
                <a:cubicBezTo>
                  <a:pt x="24535" y="18290"/>
                  <a:pt x="24511" y="18272"/>
                  <a:pt x="24482" y="18261"/>
                </a:cubicBezTo>
                <a:cubicBezTo>
                  <a:pt x="24458" y="18252"/>
                  <a:pt x="24435" y="18246"/>
                  <a:pt x="24412" y="18233"/>
                </a:cubicBezTo>
                <a:cubicBezTo>
                  <a:pt x="24407" y="18230"/>
                  <a:pt x="24403" y="18228"/>
                  <a:pt x="24398" y="18225"/>
                </a:cubicBezTo>
              </a:path>
              <a:path w="6763" h="1120">
                <a:moveTo>
                  <a:pt x="24674" y="18026"/>
                </a:moveTo>
                <a:cubicBezTo>
                  <a:pt x="24697" y="18026"/>
                  <a:pt x="24720" y="18026"/>
                  <a:pt x="24743" y="18026"/>
                </a:cubicBezTo>
                <a:cubicBezTo>
                  <a:pt x="24746" y="18035"/>
                  <a:pt x="24745" y="18046"/>
                  <a:pt x="24749" y="18055"/>
                </a:cubicBezTo>
                <a:cubicBezTo>
                  <a:pt x="24757" y="18071"/>
                  <a:pt x="24772" y="18087"/>
                  <a:pt x="24783" y="18103"/>
                </a:cubicBezTo>
                <a:cubicBezTo>
                  <a:pt x="24801" y="18130"/>
                  <a:pt x="24817" y="18159"/>
                  <a:pt x="24831" y="18188"/>
                </a:cubicBezTo>
                <a:cubicBezTo>
                  <a:pt x="24845" y="18218"/>
                  <a:pt x="24857" y="18249"/>
                  <a:pt x="24872" y="18279"/>
                </a:cubicBezTo>
                <a:cubicBezTo>
                  <a:pt x="24882" y="18298"/>
                  <a:pt x="24887" y="18315"/>
                  <a:pt x="24892" y="18335"/>
                </a:cubicBezTo>
                <a:cubicBezTo>
                  <a:pt x="24896" y="18350"/>
                  <a:pt x="24900" y="18366"/>
                  <a:pt x="24903" y="18381"/>
                </a:cubicBezTo>
                <a:cubicBezTo>
                  <a:pt x="24906" y="18397"/>
                  <a:pt x="24905" y="18412"/>
                  <a:pt x="24905" y="18428"/>
                </a:cubicBezTo>
                <a:cubicBezTo>
                  <a:pt x="24906" y="18423"/>
                  <a:pt x="24909" y="18421"/>
                  <a:pt x="24910" y="18414"/>
                </a:cubicBezTo>
                <a:cubicBezTo>
                  <a:pt x="24912" y="18387"/>
                  <a:pt x="24904" y="18360"/>
                  <a:pt x="24908" y="18333"/>
                </a:cubicBezTo>
                <a:cubicBezTo>
                  <a:pt x="24911" y="18312"/>
                  <a:pt x="24919" y="18301"/>
                  <a:pt x="24932" y="18283"/>
                </a:cubicBezTo>
                <a:cubicBezTo>
                  <a:pt x="24946" y="18265"/>
                  <a:pt x="24957" y="18246"/>
                  <a:pt x="24975" y="18231"/>
                </a:cubicBezTo>
                <a:cubicBezTo>
                  <a:pt x="24995" y="18215"/>
                  <a:pt x="25017" y="18202"/>
                  <a:pt x="25036" y="18186"/>
                </a:cubicBezTo>
                <a:cubicBezTo>
                  <a:pt x="25052" y="18173"/>
                  <a:pt x="25069" y="18168"/>
                  <a:pt x="25089" y="18163"/>
                </a:cubicBezTo>
                <a:cubicBezTo>
                  <a:pt x="25106" y="18159"/>
                  <a:pt x="25124" y="18158"/>
                  <a:pt x="25141" y="18159"/>
                </a:cubicBezTo>
                <a:cubicBezTo>
                  <a:pt x="25161" y="18160"/>
                  <a:pt x="25181" y="18163"/>
                  <a:pt x="25199" y="18172"/>
                </a:cubicBezTo>
                <a:cubicBezTo>
                  <a:pt x="25221" y="18183"/>
                  <a:pt x="25227" y="18197"/>
                  <a:pt x="25240" y="18216"/>
                </a:cubicBezTo>
                <a:cubicBezTo>
                  <a:pt x="25256" y="18240"/>
                  <a:pt x="25262" y="18267"/>
                  <a:pt x="25267" y="18295"/>
                </a:cubicBezTo>
                <a:cubicBezTo>
                  <a:pt x="25272" y="18324"/>
                  <a:pt x="25263" y="18350"/>
                  <a:pt x="25256" y="18378"/>
                </a:cubicBezTo>
                <a:cubicBezTo>
                  <a:pt x="25249" y="18406"/>
                  <a:pt x="25237" y="18433"/>
                  <a:pt x="25224" y="18458"/>
                </a:cubicBezTo>
                <a:cubicBezTo>
                  <a:pt x="25215" y="18474"/>
                  <a:pt x="25211" y="18480"/>
                  <a:pt x="25206" y="18491"/>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387520" y="666720"/>
            <a:ext cx="277920" cy="309600"/>
          </a:xfrm>
          <a:custGeom>
            <a:avLst/>
            <a:gdLst/>
            <a:ahLst/>
            <a:rect l="l" t="t" r="r" b="b"/>
            <a:pathLst>
              <a:path w="773" h="860">
                <a:moveTo>
                  <a:pt x="7055" y="2043"/>
                </a:moveTo>
                <a:cubicBezTo>
                  <a:pt x="7071" y="2035"/>
                  <a:pt x="7090" y="2029"/>
                  <a:pt x="7105" y="2020"/>
                </a:cubicBezTo>
                <a:cubicBezTo>
                  <a:pt x="7111" y="2016"/>
                  <a:pt x="7128" y="2005"/>
                  <a:pt x="7132" y="1999"/>
                </a:cubicBezTo>
                <a:cubicBezTo>
                  <a:pt x="7137" y="1992"/>
                  <a:pt x="7137" y="1979"/>
                  <a:pt x="7142" y="1973"/>
                </a:cubicBezTo>
                <a:cubicBezTo>
                  <a:pt x="7147" y="1967"/>
                  <a:pt x="7156" y="1964"/>
                  <a:pt x="7162" y="1955"/>
                </a:cubicBezTo>
                <a:cubicBezTo>
                  <a:pt x="7167" y="1947"/>
                  <a:pt x="7171" y="1938"/>
                  <a:pt x="7175" y="1930"/>
                </a:cubicBezTo>
                <a:cubicBezTo>
                  <a:pt x="7180" y="1921"/>
                  <a:pt x="7188" y="1911"/>
                  <a:pt x="7185" y="1900"/>
                </a:cubicBezTo>
                <a:cubicBezTo>
                  <a:pt x="7179" y="1879"/>
                  <a:pt x="7147" y="1871"/>
                  <a:pt x="7130" y="1866"/>
                </a:cubicBezTo>
                <a:cubicBezTo>
                  <a:pt x="7085" y="1852"/>
                  <a:pt x="7031" y="1848"/>
                  <a:pt x="6985" y="1857"/>
                </a:cubicBezTo>
                <a:cubicBezTo>
                  <a:pt x="6925" y="1869"/>
                  <a:pt x="6877" y="1892"/>
                  <a:pt x="6831" y="1932"/>
                </a:cubicBezTo>
                <a:cubicBezTo>
                  <a:pt x="6735" y="2015"/>
                  <a:pt x="6670" y="2142"/>
                  <a:pt x="6641" y="2264"/>
                </a:cubicBezTo>
                <a:cubicBezTo>
                  <a:pt x="6626" y="2326"/>
                  <a:pt x="6628" y="2397"/>
                  <a:pt x="6642" y="2459"/>
                </a:cubicBezTo>
                <a:cubicBezTo>
                  <a:pt x="6652" y="2502"/>
                  <a:pt x="6671" y="2548"/>
                  <a:pt x="6698" y="2583"/>
                </a:cubicBezTo>
                <a:cubicBezTo>
                  <a:pt x="6727" y="2621"/>
                  <a:pt x="6772" y="2638"/>
                  <a:pt x="6815" y="2654"/>
                </a:cubicBezTo>
                <a:cubicBezTo>
                  <a:pt x="6875" y="2677"/>
                  <a:pt x="6943" y="2691"/>
                  <a:pt x="7006" y="2699"/>
                </a:cubicBezTo>
                <a:cubicBezTo>
                  <a:pt x="7059" y="2706"/>
                  <a:pt x="7115" y="2712"/>
                  <a:pt x="7168" y="2712"/>
                </a:cubicBezTo>
                <a:cubicBezTo>
                  <a:pt x="7218" y="2712"/>
                  <a:pt x="7270" y="2702"/>
                  <a:pt x="7318" y="2690"/>
                </a:cubicBezTo>
                <a:cubicBezTo>
                  <a:pt x="7337" y="2685"/>
                  <a:pt x="7358" y="2681"/>
                  <a:pt x="7377" y="2674"/>
                </a:cubicBezTo>
                <a:cubicBezTo>
                  <a:pt x="7386" y="2671"/>
                  <a:pt x="7390" y="2672"/>
                  <a:pt x="7395" y="2665"/>
                </a:cubicBezTo>
                <a:cubicBezTo>
                  <a:pt x="7398" y="2661"/>
                  <a:pt x="7394" y="2664"/>
                  <a:pt x="7397" y="2656"/>
                </a:cubicBezTo>
                <a:cubicBezTo>
                  <a:pt x="7400" y="2649"/>
                  <a:pt x="7403" y="2632"/>
                  <a:pt x="7404" y="2628"/>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2881440" y="468360"/>
            <a:ext cx="3946320" cy="657000"/>
          </a:xfrm>
          <a:custGeom>
            <a:avLst/>
            <a:gdLst/>
            <a:ahLst/>
            <a:rect l="l" t="t" r="r" b="b"/>
            <a:pathLst>
              <a:path w="10960" h="1824">
                <a:moveTo>
                  <a:pt x="8372" y="2423"/>
                </a:moveTo>
                <a:cubicBezTo>
                  <a:pt x="8396" y="2396"/>
                  <a:pt x="8420" y="2370"/>
                  <a:pt x="8438" y="2339"/>
                </a:cubicBezTo>
                <a:cubicBezTo>
                  <a:pt x="8454" y="2311"/>
                  <a:pt x="8470" y="2279"/>
                  <a:pt x="8476" y="2246"/>
                </a:cubicBezTo>
                <a:cubicBezTo>
                  <a:pt x="8479" y="2227"/>
                  <a:pt x="8478" y="2209"/>
                  <a:pt x="8469" y="2192"/>
                </a:cubicBezTo>
                <a:cubicBezTo>
                  <a:pt x="8460" y="2176"/>
                  <a:pt x="8432" y="2160"/>
                  <a:pt x="8415" y="2153"/>
                </a:cubicBezTo>
                <a:cubicBezTo>
                  <a:pt x="8387" y="2142"/>
                  <a:pt x="8352" y="2139"/>
                  <a:pt x="8322" y="2135"/>
                </a:cubicBezTo>
                <a:cubicBezTo>
                  <a:pt x="8287" y="2131"/>
                  <a:pt x="8255" y="2136"/>
                  <a:pt x="8221" y="2142"/>
                </a:cubicBezTo>
                <a:cubicBezTo>
                  <a:pt x="8177" y="2150"/>
                  <a:pt x="8136" y="2167"/>
                  <a:pt x="8098" y="2190"/>
                </a:cubicBezTo>
                <a:cubicBezTo>
                  <a:pt x="8067" y="2208"/>
                  <a:pt x="8040" y="2234"/>
                  <a:pt x="8024" y="2267"/>
                </a:cubicBezTo>
                <a:cubicBezTo>
                  <a:pt x="8004" y="2310"/>
                  <a:pt x="8002" y="2357"/>
                  <a:pt x="8012" y="2402"/>
                </a:cubicBezTo>
                <a:cubicBezTo>
                  <a:pt x="8024" y="2454"/>
                  <a:pt x="8049" y="2499"/>
                  <a:pt x="8082" y="2541"/>
                </a:cubicBezTo>
                <a:cubicBezTo>
                  <a:pt x="8108" y="2575"/>
                  <a:pt x="8142" y="2597"/>
                  <a:pt x="8180" y="2615"/>
                </a:cubicBezTo>
                <a:cubicBezTo>
                  <a:pt x="8219" y="2633"/>
                  <a:pt x="8264" y="2645"/>
                  <a:pt x="8306" y="2651"/>
                </a:cubicBezTo>
                <a:cubicBezTo>
                  <a:pt x="8356" y="2658"/>
                  <a:pt x="8410" y="2661"/>
                  <a:pt x="8460" y="2658"/>
                </a:cubicBezTo>
                <a:cubicBezTo>
                  <a:pt x="8496" y="2656"/>
                  <a:pt x="8533" y="2643"/>
                  <a:pt x="8564" y="2624"/>
                </a:cubicBezTo>
                <a:cubicBezTo>
                  <a:pt x="8591" y="2607"/>
                  <a:pt x="8616" y="2582"/>
                  <a:pt x="8637" y="2558"/>
                </a:cubicBezTo>
                <a:cubicBezTo>
                  <a:pt x="8661" y="2531"/>
                  <a:pt x="8676" y="2490"/>
                  <a:pt x="8678" y="2454"/>
                </a:cubicBezTo>
                <a:cubicBezTo>
                  <a:pt x="8681" y="2409"/>
                  <a:pt x="8651" y="2373"/>
                  <a:pt x="8621" y="2343"/>
                </a:cubicBezTo>
                <a:cubicBezTo>
                  <a:pt x="8599" y="2321"/>
                  <a:pt x="8578" y="2304"/>
                  <a:pt x="8551" y="2289"/>
                </a:cubicBezTo>
                <a:cubicBezTo>
                  <a:pt x="8532" y="2279"/>
                  <a:pt x="8513" y="2267"/>
                  <a:pt x="8492" y="2260"/>
                </a:cubicBezTo>
                <a:cubicBezTo>
                  <a:pt x="8478" y="2255"/>
                  <a:pt x="8453" y="2247"/>
                  <a:pt x="8438" y="2249"/>
                </a:cubicBezTo>
                <a:cubicBezTo>
                  <a:pt x="8432" y="2250"/>
                  <a:pt x="8429" y="2254"/>
                  <a:pt x="8424" y="2255"/>
                </a:cubicBezTo>
                <a:cubicBezTo>
                  <a:pt x="8423" y="2256"/>
                  <a:pt x="8423" y="2256"/>
                  <a:pt x="8422" y="2257"/>
                </a:cubicBezTo>
                <a:cubicBezTo>
                  <a:pt x="8422" y="2258"/>
                  <a:pt x="8419" y="2266"/>
                  <a:pt x="8422" y="2271"/>
                </a:cubicBezTo>
                <a:cubicBezTo>
                  <a:pt x="8430" y="2282"/>
                  <a:pt x="8442" y="2291"/>
                  <a:pt x="8451" y="2301"/>
                </a:cubicBezTo>
              </a:path>
              <a:path w="10960" h="1824">
                <a:moveTo>
                  <a:pt x="9248" y="2427"/>
                </a:moveTo>
                <a:cubicBezTo>
                  <a:pt x="9234" y="2405"/>
                  <a:pt x="9217" y="2385"/>
                  <a:pt x="9203" y="2364"/>
                </a:cubicBezTo>
                <a:cubicBezTo>
                  <a:pt x="9194" y="2350"/>
                  <a:pt x="9188" y="2336"/>
                  <a:pt x="9177" y="2323"/>
                </a:cubicBezTo>
                <a:cubicBezTo>
                  <a:pt x="9169" y="2314"/>
                  <a:pt x="9160" y="2307"/>
                  <a:pt x="9151" y="2301"/>
                </a:cubicBezTo>
                <a:cubicBezTo>
                  <a:pt x="9149" y="2300"/>
                  <a:pt x="9146" y="2301"/>
                  <a:pt x="9144" y="2300"/>
                </a:cubicBezTo>
                <a:cubicBezTo>
                  <a:pt x="9147" y="2354"/>
                  <a:pt x="9157" y="2387"/>
                  <a:pt x="9182" y="2436"/>
                </a:cubicBezTo>
                <a:cubicBezTo>
                  <a:pt x="9200" y="2471"/>
                  <a:pt x="9217" y="2508"/>
                  <a:pt x="9229" y="2545"/>
                </a:cubicBezTo>
                <a:cubicBezTo>
                  <a:pt x="9239" y="2575"/>
                  <a:pt x="9243" y="2607"/>
                  <a:pt x="9250" y="2638"/>
                </a:cubicBezTo>
                <a:cubicBezTo>
                  <a:pt x="9254" y="2658"/>
                  <a:pt x="9262" y="2682"/>
                  <a:pt x="9259" y="2703"/>
                </a:cubicBezTo>
                <a:cubicBezTo>
                  <a:pt x="9258" y="2711"/>
                  <a:pt x="9251" y="2718"/>
                  <a:pt x="9250" y="2724"/>
                </a:cubicBezTo>
                <a:cubicBezTo>
                  <a:pt x="9244" y="2715"/>
                  <a:pt x="9235" y="2713"/>
                  <a:pt x="9229" y="2697"/>
                </a:cubicBezTo>
                <a:cubicBezTo>
                  <a:pt x="9219" y="2670"/>
                  <a:pt x="9217" y="2644"/>
                  <a:pt x="9216" y="2615"/>
                </a:cubicBezTo>
                <a:cubicBezTo>
                  <a:pt x="9214" y="2551"/>
                  <a:pt x="9216" y="2490"/>
                  <a:pt x="9236" y="2429"/>
                </a:cubicBezTo>
                <a:cubicBezTo>
                  <a:pt x="9247" y="2395"/>
                  <a:pt x="9260" y="2367"/>
                  <a:pt x="9279" y="2337"/>
                </a:cubicBezTo>
                <a:cubicBezTo>
                  <a:pt x="9311" y="2287"/>
                  <a:pt x="9345" y="2254"/>
                  <a:pt x="9408" y="2253"/>
                </a:cubicBezTo>
                <a:cubicBezTo>
                  <a:pt x="9453" y="2253"/>
                  <a:pt x="9493" y="2275"/>
                  <a:pt x="9526" y="2303"/>
                </a:cubicBezTo>
                <a:cubicBezTo>
                  <a:pt x="9555" y="2328"/>
                  <a:pt x="9575" y="2366"/>
                  <a:pt x="9591" y="2400"/>
                </a:cubicBezTo>
                <a:cubicBezTo>
                  <a:pt x="9612" y="2444"/>
                  <a:pt x="9624" y="2492"/>
                  <a:pt x="9643" y="2536"/>
                </a:cubicBezTo>
                <a:cubicBezTo>
                  <a:pt x="9649" y="2550"/>
                  <a:pt x="9654" y="2558"/>
                  <a:pt x="9664" y="2568"/>
                </a:cubicBezTo>
                <a:cubicBezTo>
                  <a:pt x="9666" y="2568"/>
                  <a:pt x="9667" y="2567"/>
                  <a:pt x="9669" y="2567"/>
                </a:cubicBezTo>
                <a:cubicBezTo>
                  <a:pt x="9680" y="2548"/>
                  <a:pt x="9691" y="2528"/>
                  <a:pt x="9702" y="2507"/>
                </a:cubicBezTo>
                <a:cubicBezTo>
                  <a:pt x="9717" y="2479"/>
                  <a:pt x="9733" y="2448"/>
                  <a:pt x="9755" y="2425"/>
                </a:cubicBezTo>
                <a:cubicBezTo>
                  <a:pt x="9786" y="2393"/>
                  <a:pt x="9827" y="2367"/>
                  <a:pt x="9865" y="2344"/>
                </a:cubicBezTo>
                <a:cubicBezTo>
                  <a:pt x="9909" y="2317"/>
                  <a:pt x="9957" y="2288"/>
                  <a:pt x="10008" y="2280"/>
                </a:cubicBezTo>
                <a:cubicBezTo>
                  <a:pt x="10034" y="2276"/>
                  <a:pt x="10052" y="2281"/>
                  <a:pt x="10074" y="2294"/>
                </a:cubicBezTo>
                <a:cubicBezTo>
                  <a:pt x="10100" y="2310"/>
                  <a:pt x="10121" y="2338"/>
                  <a:pt x="10137" y="2364"/>
                </a:cubicBezTo>
                <a:cubicBezTo>
                  <a:pt x="10162" y="2404"/>
                  <a:pt x="10179" y="2445"/>
                  <a:pt x="10193" y="2490"/>
                </a:cubicBezTo>
                <a:cubicBezTo>
                  <a:pt x="10202" y="2518"/>
                  <a:pt x="10206" y="2552"/>
                  <a:pt x="10221" y="2577"/>
                </a:cubicBezTo>
                <a:cubicBezTo>
                  <a:pt x="10240" y="2609"/>
                  <a:pt x="10271" y="2636"/>
                  <a:pt x="10297" y="2663"/>
                </a:cubicBezTo>
                <a:cubicBezTo>
                  <a:pt x="10301" y="2667"/>
                  <a:pt x="10305" y="2672"/>
                  <a:pt x="10309" y="2676"/>
                </a:cubicBezTo>
              </a:path>
              <a:path w="10960" h="1824">
                <a:moveTo>
                  <a:pt x="10578" y="2493"/>
                </a:moveTo>
                <a:cubicBezTo>
                  <a:pt x="10594" y="2465"/>
                  <a:pt x="10610" y="2443"/>
                  <a:pt x="10619" y="2412"/>
                </a:cubicBezTo>
                <a:cubicBezTo>
                  <a:pt x="10625" y="2392"/>
                  <a:pt x="10626" y="2373"/>
                  <a:pt x="10623" y="2353"/>
                </a:cubicBezTo>
                <a:cubicBezTo>
                  <a:pt x="10622" y="2353"/>
                  <a:pt x="10622" y="2353"/>
                  <a:pt x="10621" y="2353"/>
                </a:cubicBezTo>
                <a:cubicBezTo>
                  <a:pt x="10620" y="2358"/>
                  <a:pt x="10617" y="2369"/>
                  <a:pt x="10617" y="2378"/>
                </a:cubicBezTo>
                <a:cubicBezTo>
                  <a:pt x="10616" y="2405"/>
                  <a:pt x="10618" y="2432"/>
                  <a:pt x="10621" y="2459"/>
                </a:cubicBezTo>
                <a:cubicBezTo>
                  <a:pt x="10626" y="2501"/>
                  <a:pt x="10641" y="2541"/>
                  <a:pt x="10650" y="2583"/>
                </a:cubicBezTo>
                <a:cubicBezTo>
                  <a:pt x="10671" y="2683"/>
                  <a:pt x="10685" y="2785"/>
                  <a:pt x="10702" y="2886"/>
                </a:cubicBezTo>
                <a:cubicBezTo>
                  <a:pt x="10710" y="2935"/>
                  <a:pt x="10713" y="2984"/>
                  <a:pt x="10718" y="3033"/>
                </a:cubicBezTo>
                <a:cubicBezTo>
                  <a:pt x="10719" y="3041"/>
                  <a:pt x="10721" y="3122"/>
                  <a:pt x="10721" y="3122"/>
                </a:cubicBezTo>
                <a:cubicBezTo>
                  <a:pt x="10721" y="3115"/>
                  <a:pt x="10722" y="3112"/>
                  <a:pt x="10725" y="3108"/>
                </a:cubicBezTo>
              </a:path>
              <a:path w="10960" h="1824">
                <a:moveTo>
                  <a:pt x="10614" y="2070"/>
                </a:moveTo>
                <a:cubicBezTo>
                  <a:pt x="10594" y="2032"/>
                  <a:pt x="10569" y="1995"/>
                  <a:pt x="10555" y="1954"/>
                </a:cubicBezTo>
                <a:cubicBezTo>
                  <a:pt x="10548" y="1933"/>
                  <a:pt x="10538" y="1898"/>
                  <a:pt x="10540" y="1875"/>
                </a:cubicBezTo>
                <a:cubicBezTo>
                  <a:pt x="10543" y="1847"/>
                  <a:pt x="10568" y="1825"/>
                  <a:pt x="10594" y="1818"/>
                </a:cubicBezTo>
                <a:cubicBezTo>
                  <a:pt x="10623" y="1810"/>
                  <a:pt x="10659" y="1806"/>
                  <a:pt x="10689" y="1809"/>
                </a:cubicBezTo>
                <a:cubicBezTo>
                  <a:pt x="10734" y="1813"/>
                  <a:pt x="10766" y="1830"/>
                  <a:pt x="10804" y="1853"/>
                </a:cubicBezTo>
                <a:cubicBezTo>
                  <a:pt x="10854" y="1883"/>
                  <a:pt x="10890" y="1925"/>
                  <a:pt x="10931" y="1966"/>
                </a:cubicBezTo>
                <a:cubicBezTo>
                  <a:pt x="10977" y="2012"/>
                  <a:pt x="11020" y="2050"/>
                  <a:pt x="11046" y="2111"/>
                </a:cubicBezTo>
                <a:cubicBezTo>
                  <a:pt x="11061" y="2145"/>
                  <a:pt x="11064" y="2180"/>
                  <a:pt x="11062" y="2217"/>
                </a:cubicBezTo>
                <a:cubicBezTo>
                  <a:pt x="11060" y="2253"/>
                  <a:pt x="11053" y="2281"/>
                  <a:pt x="11028" y="2309"/>
                </a:cubicBezTo>
                <a:cubicBezTo>
                  <a:pt x="10998" y="2343"/>
                  <a:pt x="10961" y="2352"/>
                  <a:pt x="10917" y="2360"/>
                </a:cubicBezTo>
                <a:cubicBezTo>
                  <a:pt x="10862" y="2370"/>
                  <a:pt x="10802" y="2375"/>
                  <a:pt x="10747" y="2368"/>
                </a:cubicBezTo>
                <a:cubicBezTo>
                  <a:pt x="10692" y="2361"/>
                  <a:pt x="10649" y="2341"/>
                  <a:pt x="10605" y="2309"/>
                </a:cubicBezTo>
              </a:path>
              <a:path w="10960" h="1824">
                <a:moveTo>
                  <a:pt x="11336" y="2307"/>
                </a:moveTo>
                <a:cubicBezTo>
                  <a:pt x="11336" y="2319"/>
                  <a:pt x="11336" y="2323"/>
                  <a:pt x="11340" y="2330"/>
                </a:cubicBezTo>
                <a:cubicBezTo>
                  <a:pt x="11365" y="2329"/>
                  <a:pt x="11366" y="2344"/>
                  <a:pt x="11395" y="2326"/>
                </a:cubicBezTo>
                <a:cubicBezTo>
                  <a:pt x="11438" y="2300"/>
                  <a:pt x="11475" y="2261"/>
                  <a:pt x="11512" y="2228"/>
                </a:cubicBezTo>
                <a:cubicBezTo>
                  <a:pt x="11563" y="2183"/>
                  <a:pt x="11610" y="2133"/>
                  <a:pt x="11652" y="2079"/>
                </a:cubicBezTo>
                <a:cubicBezTo>
                  <a:pt x="11719" y="1993"/>
                  <a:pt x="11758" y="1904"/>
                  <a:pt x="11773" y="1796"/>
                </a:cubicBezTo>
                <a:cubicBezTo>
                  <a:pt x="11782" y="1732"/>
                  <a:pt x="11773" y="1671"/>
                  <a:pt x="11747" y="1611"/>
                </a:cubicBezTo>
                <a:cubicBezTo>
                  <a:pt x="11703" y="1512"/>
                  <a:pt x="11647" y="1348"/>
                  <a:pt x="11535" y="1309"/>
                </a:cubicBezTo>
                <a:cubicBezTo>
                  <a:pt x="11465" y="1285"/>
                  <a:pt x="11415" y="1331"/>
                  <a:pt x="11374" y="1382"/>
                </a:cubicBezTo>
                <a:cubicBezTo>
                  <a:pt x="11306" y="1466"/>
                  <a:pt x="11285" y="1593"/>
                  <a:pt x="11268" y="1697"/>
                </a:cubicBezTo>
                <a:cubicBezTo>
                  <a:pt x="11246" y="1828"/>
                  <a:pt x="11234" y="1962"/>
                  <a:pt x="11230" y="2095"/>
                </a:cubicBezTo>
                <a:cubicBezTo>
                  <a:pt x="11227" y="2199"/>
                  <a:pt x="11244" y="2293"/>
                  <a:pt x="11290" y="2386"/>
                </a:cubicBezTo>
                <a:cubicBezTo>
                  <a:pt x="11319" y="2444"/>
                  <a:pt x="11353" y="2491"/>
                  <a:pt x="11394" y="2540"/>
                </a:cubicBezTo>
                <a:cubicBezTo>
                  <a:pt x="11466" y="2625"/>
                  <a:pt x="11539" y="2681"/>
                  <a:pt x="11653" y="2696"/>
                </a:cubicBezTo>
                <a:cubicBezTo>
                  <a:pt x="11707" y="2703"/>
                  <a:pt x="11762" y="2698"/>
                  <a:pt x="11815" y="2685"/>
                </a:cubicBezTo>
                <a:cubicBezTo>
                  <a:pt x="11869" y="2672"/>
                  <a:pt x="11925" y="2655"/>
                  <a:pt x="11972" y="2626"/>
                </a:cubicBezTo>
                <a:cubicBezTo>
                  <a:pt x="12006" y="2605"/>
                  <a:pt x="12040" y="2574"/>
                  <a:pt x="12066" y="2543"/>
                </a:cubicBezTo>
                <a:cubicBezTo>
                  <a:pt x="12095" y="2509"/>
                  <a:pt x="12115" y="2468"/>
                  <a:pt x="12143" y="2434"/>
                </a:cubicBezTo>
                <a:cubicBezTo>
                  <a:pt x="12154" y="2420"/>
                  <a:pt x="12163" y="2409"/>
                  <a:pt x="12177" y="2398"/>
                </a:cubicBezTo>
                <a:cubicBezTo>
                  <a:pt x="12182" y="2394"/>
                  <a:pt x="12190" y="2396"/>
                  <a:pt x="12193" y="2393"/>
                </a:cubicBezTo>
                <a:cubicBezTo>
                  <a:pt x="12203" y="2425"/>
                  <a:pt x="12207" y="2456"/>
                  <a:pt x="12214" y="2491"/>
                </a:cubicBezTo>
                <a:cubicBezTo>
                  <a:pt x="12219" y="2520"/>
                  <a:pt x="12225" y="2554"/>
                  <a:pt x="12238" y="2581"/>
                </a:cubicBezTo>
                <a:cubicBezTo>
                  <a:pt x="12245" y="2595"/>
                  <a:pt x="12260" y="2623"/>
                  <a:pt x="12272" y="2633"/>
                </a:cubicBezTo>
                <a:cubicBezTo>
                  <a:pt x="12294" y="2651"/>
                  <a:pt x="12304" y="2639"/>
                  <a:pt x="12324" y="2645"/>
                </a:cubicBezTo>
              </a:path>
              <a:path w="10960" h="1824">
                <a:moveTo>
                  <a:pt x="12304" y="1884"/>
                </a:moveTo>
                <a:cubicBezTo>
                  <a:pt x="12289" y="1869"/>
                  <a:pt x="12276" y="1855"/>
                  <a:pt x="12266" y="1837"/>
                </a:cubicBezTo>
                <a:cubicBezTo>
                  <a:pt x="12261" y="1829"/>
                  <a:pt x="12255" y="1823"/>
                  <a:pt x="12250" y="1816"/>
                </a:cubicBezTo>
                <a:cubicBezTo>
                  <a:pt x="12248" y="1813"/>
                  <a:pt x="12246" y="1801"/>
                  <a:pt x="12247" y="1805"/>
                </a:cubicBezTo>
                <a:cubicBezTo>
                  <a:pt x="12247" y="1807"/>
                  <a:pt x="12247" y="1808"/>
                  <a:pt x="12248" y="1810"/>
                </a:cubicBezTo>
              </a:path>
              <a:path w="10960" h="1824">
                <a:moveTo>
                  <a:pt x="12811" y="2317"/>
                </a:moveTo>
                <a:cubicBezTo>
                  <a:pt x="12820" y="2311"/>
                  <a:pt x="12833" y="2304"/>
                  <a:pt x="12843" y="2298"/>
                </a:cubicBezTo>
                <a:cubicBezTo>
                  <a:pt x="12868" y="2282"/>
                  <a:pt x="12893" y="2265"/>
                  <a:pt x="12915" y="2246"/>
                </a:cubicBezTo>
                <a:cubicBezTo>
                  <a:pt x="12938" y="2226"/>
                  <a:pt x="12954" y="2202"/>
                  <a:pt x="12965" y="2174"/>
                </a:cubicBezTo>
                <a:cubicBezTo>
                  <a:pt x="12971" y="2158"/>
                  <a:pt x="12973" y="2149"/>
                  <a:pt x="12965" y="2135"/>
                </a:cubicBezTo>
                <a:cubicBezTo>
                  <a:pt x="12949" y="2107"/>
                  <a:pt x="12905" y="2102"/>
                  <a:pt x="12877" y="2099"/>
                </a:cubicBezTo>
                <a:cubicBezTo>
                  <a:pt x="12832" y="2094"/>
                  <a:pt x="12790" y="2102"/>
                  <a:pt x="12747" y="2117"/>
                </a:cubicBezTo>
                <a:cubicBezTo>
                  <a:pt x="12707" y="2132"/>
                  <a:pt x="12674" y="2157"/>
                  <a:pt x="12643" y="2185"/>
                </a:cubicBezTo>
                <a:cubicBezTo>
                  <a:pt x="12607" y="2217"/>
                  <a:pt x="12576" y="2253"/>
                  <a:pt x="12557" y="2298"/>
                </a:cubicBezTo>
                <a:cubicBezTo>
                  <a:pt x="12531" y="2359"/>
                  <a:pt x="12533" y="2424"/>
                  <a:pt x="12566" y="2482"/>
                </a:cubicBezTo>
                <a:cubicBezTo>
                  <a:pt x="12590" y="2525"/>
                  <a:pt x="12616" y="2550"/>
                  <a:pt x="12659" y="2572"/>
                </a:cubicBezTo>
                <a:cubicBezTo>
                  <a:pt x="12705" y="2596"/>
                  <a:pt x="12751" y="2607"/>
                  <a:pt x="12802" y="2615"/>
                </a:cubicBezTo>
                <a:cubicBezTo>
                  <a:pt x="12848" y="2623"/>
                  <a:pt x="12895" y="2626"/>
                  <a:pt x="12942" y="2629"/>
                </a:cubicBezTo>
                <a:cubicBezTo>
                  <a:pt x="12976" y="2631"/>
                  <a:pt x="13010" y="2634"/>
                  <a:pt x="13044" y="2631"/>
                </a:cubicBezTo>
                <a:cubicBezTo>
                  <a:pt x="13066" y="2629"/>
                  <a:pt x="13086" y="2623"/>
                  <a:pt x="13107" y="2620"/>
                </a:cubicBezTo>
                <a:cubicBezTo>
                  <a:pt x="13116" y="2619"/>
                  <a:pt x="13126" y="2619"/>
                  <a:pt x="13135" y="2619"/>
                </a:cubicBezTo>
              </a:path>
              <a:path w="10960" h="1824">
                <a:moveTo>
                  <a:pt x="13782" y="2382"/>
                </a:moveTo>
                <a:cubicBezTo>
                  <a:pt x="13795" y="2357"/>
                  <a:pt x="13828" y="2313"/>
                  <a:pt x="13813" y="2282"/>
                </a:cubicBezTo>
                <a:cubicBezTo>
                  <a:pt x="13793" y="2241"/>
                  <a:pt x="13710" y="2233"/>
                  <a:pt x="13673" y="2228"/>
                </a:cubicBezTo>
                <a:cubicBezTo>
                  <a:pt x="13608" y="2219"/>
                  <a:pt x="13551" y="2227"/>
                  <a:pt x="13489" y="2249"/>
                </a:cubicBezTo>
                <a:cubicBezTo>
                  <a:pt x="13424" y="2271"/>
                  <a:pt x="13353" y="2317"/>
                  <a:pt x="13311" y="2373"/>
                </a:cubicBezTo>
                <a:cubicBezTo>
                  <a:pt x="13285" y="2407"/>
                  <a:pt x="13260" y="2467"/>
                  <a:pt x="13270" y="2511"/>
                </a:cubicBezTo>
                <a:cubicBezTo>
                  <a:pt x="13278" y="2545"/>
                  <a:pt x="13316" y="2566"/>
                  <a:pt x="13347" y="2576"/>
                </a:cubicBezTo>
                <a:cubicBezTo>
                  <a:pt x="13393" y="2590"/>
                  <a:pt x="13442" y="2589"/>
                  <a:pt x="13489" y="2593"/>
                </a:cubicBezTo>
                <a:cubicBezTo>
                  <a:pt x="13537" y="2597"/>
                  <a:pt x="13578" y="2595"/>
                  <a:pt x="13623" y="2574"/>
                </a:cubicBezTo>
                <a:cubicBezTo>
                  <a:pt x="13659" y="2557"/>
                  <a:pt x="13685" y="2535"/>
                  <a:pt x="13705" y="2500"/>
                </a:cubicBezTo>
                <a:cubicBezTo>
                  <a:pt x="13731" y="2455"/>
                  <a:pt x="13745" y="2401"/>
                  <a:pt x="13739" y="2352"/>
                </a:cubicBezTo>
                <a:cubicBezTo>
                  <a:pt x="13727" y="2365"/>
                  <a:pt x="13715" y="2377"/>
                  <a:pt x="13704" y="2396"/>
                </a:cubicBezTo>
                <a:cubicBezTo>
                  <a:pt x="13686" y="2428"/>
                  <a:pt x="13672" y="2473"/>
                  <a:pt x="13684" y="2509"/>
                </a:cubicBezTo>
                <a:cubicBezTo>
                  <a:pt x="13695" y="2544"/>
                  <a:pt x="13719" y="2568"/>
                  <a:pt x="13747" y="2590"/>
                </a:cubicBezTo>
                <a:cubicBezTo>
                  <a:pt x="13774" y="2612"/>
                  <a:pt x="13805" y="2625"/>
                  <a:pt x="13838" y="2636"/>
                </a:cubicBezTo>
                <a:cubicBezTo>
                  <a:pt x="13872" y="2647"/>
                  <a:pt x="13906" y="2654"/>
                  <a:pt x="13942" y="2658"/>
                </a:cubicBezTo>
                <a:cubicBezTo>
                  <a:pt x="13969" y="2661"/>
                  <a:pt x="13991" y="2658"/>
                  <a:pt x="14017" y="2653"/>
                </a:cubicBezTo>
              </a:path>
              <a:path w="10960" h="1824">
                <a:moveTo>
                  <a:pt x="14168" y="2034"/>
                </a:moveTo>
                <a:cubicBezTo>
                  <a:pt x="14174" y="1970"/>
                  <a:pt x="14196" y="1883"/>
                  <a:pt x="14184" y="1819"/>
                </a:cubicBezTo>
                <a:cubicBezTo>
                  <a:pt x="14181" y="1805"/>
                  <a:pt x="14175" y="1802"/>
                  <a:pt x="14170" y="1791"/>
                </a:cubicBezTo>
                <a:cubicBezTo>
                  <a:pt x="14160" y="1809"/>
                  <a:pt x="14154" y="1826"/>
                  <a:pt x="14150" y="1850"/>
                </a:cubicBezTo>
                <a:cubicBezTo>
                  <a:pt x="14140" y="1912"/>
                  <a:pt x="14136" y="1983"/>
                  <a:pt x="14146" y="2045"/>
                </a:cubicBezTo>
                <a:cubicBezTo>
                  <a:pt x="14155" y="2101"/>
                  <a:pt x="14173" y="2157"/>
                  <a:pt x="14193" y="2210"/>
                </a:cubicBezTo>
                <a:cubicBezTo>
                  <a:pt x="14213" y="2262"/>
                  <a:pt x="14232" y="2315"/>
                  <a:pt x="14247" y="2369"/>
                </a:cubicBezTo>
                <a:cubicBezTo>
                  <a:pt x="14261" y="2419"/>
                  <a:pt x="14267" y="2468"/>
                  <a:pt x="14288" y="2516"/>
                </a:cubicBezTo>
                <a:cubicBezTo>
                  <a:pt x="14305" y="2555"/>
                  <a:pt x="14322" y="2602"/>
                  <a:pt x="14345" y="2638"/>
                </a:cubicBezTo>
                <a:cubicBezTo>
                  <a:pt x="14360" y="2662"/>
                  <a:pt x="14384" y="2675"/>
                  <a:pt x="14406" y="2690"/>
                </a:cubicBezTo>
              </a:path>
              <a:path w="10960" h="1824">
                <a:moveTo>
                  <a:pt x="14123" y="2421"/>
                </a:moveTo>
                <a:cubicBezTo>
                  <a:pt x="14104" y="2399"/>
                  <a:pt x="14072" y="2371"/>
                  <a:pt x="14067" y="2341"/>
                </a:cubicBezTo>
                <a:cubicBezTo>
                  <a:pt x="14064" y="2323"/>
                  <a:pt x="14083" y="2315"/>
                  <a:pt x="14098" y="2312"/>
                </a:cubicBezTo>
                <a:cubicBezTo>
                  <a:pt x="14139" y="2304"/>
                  <a:pt x="14188" y="2323"/>
                  <a:pt x="14229" y="2330"/>
                </a:cubicBezTo>
                <a:cubicBezTo>
                  <a:pt x="14298" y="2342"/>
                  <a:pt x="14365" y="2355"/>
                  <a:pt x="14435" y="2359"/>
                </a:cubicBezTo>
                <a:cubicBezTo>
                  <a:pt x="14496" y="2362"/>
                  <a:pt x="14558" y="2364"/>
                  <a:pt x="14619" y="2362"/>
                </a:cubicBezTo>
                <a:cubicBezTo>
                  <a:pt x="14661" y="2361"/>
                  <a:pt x="14703" y="2360"/>
                  <a:pt x="14745" y="2355"/>
                </a:cubicBezTo>
                <a:cubicBezTo>
                  <a:pt x="14772" y="2352"/>
                  <a:pt x="14801" y="2347"/>
                  <a:pt x="14826" y="2335"/>
                </a:cubicBezTo>
                <a:cubicBezTo>
                  <a:pt x="14838" y="2329"/>
                  <a:pt x="14844" y="2319"/>
                  <a:pt x="14852" y="2309"/>
                </a:cubicBezTo>
                <a:cubicBezTo>
                  <a:pt x="14858" y="2301"/>
                  <a:pt x="14861" y="2291"/>
                  <a:pt x="14865" y="2282"/>
                </a:cubicBezTo>
                <a:cubicBezTo>
                  <a:pt x="14872" y="2266"/>
                  <a:pt x="14877" y="2251"/>
                  <a:pt x="14888" y="2237"/>
                </a:cubicBezTo>
                <a:cubicBezTo>
                  <a:pt x="14890" y="2235"/>
                  <a:pt x="14895" y="2234"/>
                  <a:pt x="14897" y="2231"/>
                </a:cubicBezTo>
                <a:cubicBezTo>
                  <a:pt x="14897" y="2232"/>
                  <a:pt x="14903" y="2241"/>
                  <a:pt x="14904" y="2249"/>
                </a:cubicBezTo>
                <a:cubicBezTo>
                  <a:pt x="14911" y="2298"/>
                  <a:pt x="14914" y="2347"/>
                  <a:pt x="14924" y="2396"/>
                </a:cubicBezTo>
                <a:cubicBezTo>
                  <a:pt x="14932" y="2435"/>
                  <a:pt x="14939" y="2472"/>
                  <a:pt x="14944" y="2511"/>
                </a:cubicBezTo>
                <a:cubicBezTo>
                  <a:pt x="14948" y="2545"/>
                  <a:pt x="14957" y="2578"/>
                  <a:pt x="14964" y="2611"/>
                </a:cubicBezTo>
                <a:cubicBezTo>
                  <a:pt x="14966" y="2622"/>
                  <a:pt x="14968" y="2631"/>
                  <a:pt x="14971" y="2642"/>
                </a:cubicBezTo>
                <a:cubicBezTo>
                  <a:pt x="14971" y="2644"/>
                  <a:pt x="14972" y="2645"/>
                  <a:pt x="14972" y="2647"/>
                </a:cubicBezTo>
              </a:path>
              <a:path w="10960" h="1824">
                <a:moveTo>
                  <a:pt x="14942" y="1975"/>
                </a:moveTo>
                <a:cubicBezTo>
                  <a:pt x="14912" y="1938"/>
                  <a:pt x="14880" y="1903"/>
                  <a:pt x="14851" y="1866"/>
                </a:cubicBezTo>
                <a:cubicBezTo>
                  <a:pt x="14836" y="1847"/>
                  <a:pt x="14824" y="1827"/>
                  <a:pt x="14808" y="1809"/>
                </a:cubicBezTo>
                <a:cubicBezTo>
                  <a:pt x="14799" y="1799"/>
                  <a:pt x="14798" y="1803"/>
                  <a:pt x="14786" y="1800"/>
                </a:cubicBezTo>
                <a:cubicBezTo>
                  <a:pt x="14777" y="1812"/>
                  <a:pt x="14772" y="1838"/>
                  <a:pt x="14772" y="1855"/>
                </a:cubicBezTo>
                <a:cubicBezTo>
                  <a:pt x="14775" y="1879"/>
                  <a:pt x="14776" y="1888"/>
                  <a:pt x="14781" y="1904"/>
                </a:cubicBezTo>
              </a:path>
              <a:path w="10960" h="1824">
                <a:moveTo>
                  <a:pt x="15514" y="2273"/>
                </a:moveTo>
                <a:cubicBezTo>
                  <a:pt x="15536" y="2282"/>
                  <a:pt x="15557" y="2290"/>
                  <a:pt x="15580" y="2296"/>
                </a:cubicBezTo>
                <a:cubicBezTo>
                  <a:pt x="15569" y="2290"/>
                  <a:pt x="15568" y="2288"/>
                  <a:pt x="15555" y="2287"/>
                </a:cubicBezTo>
                <a:cubicBezTo>
                  <a:pt x="15504" y="2284"/>
                  <a:pt x="15447" y="2279"/>
                  <a:pt x="15397" y="2291"/>
                </a:cubicBezTo>
                <a:cubicBezTo>
                  <a:pt x="15331" y="2306"/>
                  <a:pt x="15270" y="2337"/>
                  <a:pt x="15213" y="2373"/>
                </a:cubicBezTo>
                <a:cubicBezTo>
                  <a:pt x="15178" y="2395"/>
                  <a:pt x="15144" y="2420"/>
                  <a:pt x="15130" y="2461"/>
                </a:cubicBezTo>
                <a:cubicBezTo>
                  <a:pt x="15119" y="2493"/>
                  <a:pt x="15148" y="2516"/>
                  <a:pt x="15171" y="2533"/>
                </a:cubicBezTo>
                <a:cubicBezTo>
                  <a:pt x="15209" y="2562"/>
                  <a:pt x="15258" y="2576"/>
                  <a:pt x="15304" y="2585"/>
                </a:cubicBezTo>
                <a:cubicBezTo>
                  <a:pt x="15353" y="2594"/>
                  <a:pt x="15406" y="2599"/>
                  <a:pt x="15456" y="2601"/>
                </a:cubicBezTo>
                <a:cubicBezTo>
                  <a:pt x="15488" y="2602"/>
                  <a:pt x="15518" y="2603"/>
                  <a:pt x="15544" y="2583"/>
                </a:cubicBezTo>
                <a:cubicBezTo>
                  <a:pt x="15560" y="2571"/>
                  <a:pt x="15567" y="2552"/>
                  <a:pt x="15560" y="2533"/>
                </a:cubicBezTo>
                <a:cubicBezTo>
                  <a:pt x="15546" y="2492"/>
                  <a:pt x="15511" y="2460"/>
                  <a:pt x="15487" y="2425"/>
                </a:cubicBezTo>
                <a:cubicBezTo>
                  <a:pt x="15467" y="2395"/>
                  <a:pt x="15455" y="2369"/>
                  <a:pt x="15444" y="2335"/>
                </a:cubicBezTo>
              </a:path>
              <a:path w="10960" h="1824">
                <a:moveTo>
                  <a:pt x="15736" y="2154"/>
                </a:moveTo>
                <a:cubicBezTo>
                  <a:pt x="15757" y="2158"/>
                  <a:pt x="15767" y="2154"/>
                  <a:pt x="15783" y="2171"/>
                </a:cubicBezTo>
                <a:cubicBezTo>
                  <a:pt x="15801" y="2191"/>
                  <a:pt x="15813" y="2225"/>
                  <a:pt x="15824" y="2248"/>
                </a:cubicBezTo>
                <a:cubicBezTo>
                  <a:pt x="15850" y="2304"/>
                  <a:pt x="15873" y="2362"/>
                  <a:pt x="15899" y="2418"/>
                </a:cubicBezTo>
                <a:cubicBezTo>
                  <a:pt x="15915" y="2452"/>
                  <a:pt x="15934" y="2483"/>
                  <a:pt x="15951" y="2516"/>
                </a:cubicBezTo>
                <a:cubicBezTo>
                  <a:pt x="15959" y="2531"/>
                  <a:pt x="15963" y="2547"/>
                  <a:pt x="15969" y="2563"/>
                </a:cubicBezTo>
                <a:cubicBezTo>
                  <a:pt x="15971" y="2567"/>
                  <a:pt x="15972" y="2573"/>
                  <a:pt x="15974" y="2577"/>
                </a:cubicBezTo>
                <a:cubicBezTo>
                  <a:pt x="15977" y="2569"/>
                  <a:pt x="15981" y="2560"/>
                  <a:pt x="15985" y="2552"/>
                </a:cubicBezTo>
                <a:cubicBezTo>
                  <a:pt x="16001" y="2517"/>
                  <a:pt x="16023" y="2502"/>
                  <a:pt x="16048" y="2475"/>
                </a:cubicBezTo>
                <a:cubicBezTo>
                  <a:pt x="16081" y="2438"/>
                  <a:pt x="16120" y="2409"/>
                  <a:pt x="16162" y="2380"/>
                </a:cubicBezTo>
                <a:cubicBezTo>
                  <a:pt x="16205" y="2351"/>
                  <a:pt x="16249" y="2331"/>
                  <a:pt x="16300" y="2323"/>
                </a:cubicBezTo>
                <a:cubicBezTo>
                  <a:pt x="16330" y="2318"/>
                  <a:pt x="16350" y="2320"/>
                  <a:pt x="16372" y="2343"/>
                </a:cubicBezTo>
                <a:cubicBezTo>
                  <a:pt x="16393" y="2364"/>
                  <a:pt x="16412" y="2391"/>
                  <a:pt x="16431" y="2414"/>
                </a:cubicBezTo>
                <a:cubicBezTo>
                  <a:pt x="16449" y="2436"/>
                  <a:pt x="16472" y="2461"/>
                  <a:pt x="16485" y="2486"/>
                </a:cubicBezTo>
                <a:cubicBezTo>
                  <a:pt x="16494" y="2503"/>
                  <a:pt x="16501" y="2522"/>
                  <a:pt x="16505" y="2541"/>
                </a:cubicBezTo>
                <a:cubicBezTo>
                  <a:pt x="16509" y="2557"/>
                  <a:pt x="16512" y="2572"/>
                  <a:pt x="16516" y="2588"/>
                </a:cubicBezTo>
                <a:cubicBezTo>
                  <a:pt x="16516" y="2599"/>
                  <a:pt x="16516" y="2603"/>
                  <a:pt x="16521" y="2610"/>
                </a:cubicBezTo>
              </a:path>
              <a:path w="10960" h="1824">
                <a:moveTo>
                  <a:pt x="16860" y="2357"/>
                </a:moveTo>
                <a:cubicBezTo>
                  <a:pt x="16887" y="2329"/>
                  <a:pt x="16917" y="2312"/>
                  <a:pt x="16946" y="2287"/>
                </a:cubicBezTo>
                <a:cubicBezTo>
                  <a:pt x="16959" y="2275"/>
                  <a:pt x="16974" y="2265"/>
                  <a:pt x="16987" y="2253"/>
                </a:cubicBezTo>
                <a:cubicBezTo>
                  <a:pt x="16995" y="2245"/>
                  <a:pt x="17000" y="2235"/>
                  <a:pt x="17005" y="2228"/>
                </a:cubicBezTo>
                <a:cubicBezTo>
                  <a:pt x="17006" y="2227"/>
                  <a:pt x="17007" y="2225"/>
                  <a:pt x="17008" y="2224"/>
                </a:cubicBezTo>
                <a:cubicBezTo>
                  <a:pt x="16995" y="2219"/>
                  <a:pt x="16986" y="2214"/>
                  <a:pt x="16969" y="2212"/>
                </a:cubicBezTo>
                <a:cubicBezTo>
                  <a:pt x="16939" y="2208"/>
                  <a:pt x="16911" y="2210"/>
                  <a:pt x="16881" y="2214"/>
                </a:cubicBezTo>
                <a:cubicBezTo>
                  <a:pt x="16858" y="2217"/>
                  <a:pt x="16832" y="2223"/>
                  <a:pt x="16813" y="2237"/>
                </a:cubicBezTo>
                <a:cubicBezTo>
                  <a:pt x="16787" y="2257"/>
                  <a:pt x="16776" y="2294"/>
                  <a:pt x="16792" y="2323"/>
                </a:cubicBezTo>
                <a:cubicBezTo>
                  <a:pt x="16818" y="2371"/>
                  <a:pt x="16880" y="2412"/>
                  <a:pt x="16921" y="2445"/>
                </a:cubicBezTo>
                <a:cubicBezTo>
                  <a:pt x="16963" y="2478"/>
                  <a:pt x="17007" y="2511"/>
                  <a:pt x="17051" y="2540"/>
                </a:cubicBezTo>
                <a:cubicBezTo>
                  <a:pt x="17090" y="2566"/>
                  <a:pt x="17131" y="2590"/>
                  <a:pt x="17170" y="2617"/>
                </a:cubicBezTo>
                <a:cubicBezTo>
                  <a:pt x="17193" y="2633"/>
                  <a:pt x="17218" y="2649"/>
                  <a:pt x="17240" y="2667"/>
                </a:cubicBezTo>
                <a:cubicBezTo>
                  <a:pt x="17249" y="2674"/>
                  <a:pt x="17251" y="2681"/>
                  <a:pt x="17257" y="2688"/>
                </a:cubicBezTo>
                <a:cubicBezTo>
                  <a:pt x="17239" y="2698"/>
                  <a:pt x="17231" y="2701"/>
                  <a:pt x="17207" y="2706"/>
                </a:cubicBezTo>
                <a:cubicBezTo>
                  <a:pt x="17153" y="2717"/>
                  <a:pt x="17096" y="2720"/>
                  <a:pt x="17041" y="2719"/>
                </a:cubicBezTo>
                <a:cubicBezTo>
                  <a:pt x="17005" y="2718"/>
                  <a:pt x="16969" y="2713"/>
                  <a:pt x="16933" y="2712"/>
                </a:cubicBezTo>
                <a:cubicBezTo>
                  <a:pt x="16921" y="2712"/>
                  <a:pt x="16912" y="2710"/>
                  <a:pt x="16901" y="2708"/>
                </a:cubicBezTo>
              </a:path>
              <a:path w="10960" h="1824">
                <a:moveTo>
                  <a:pt x="17612" y="2321"/>
                </a:moveTo>
                <a:cubicBezTo>
                  <a:pt x="17595" y="2307"/>
                  <a:pt x="17586" y="2295"/>
                  <a:pt x="17573" y="2278"/>
                </a:cubicBezTo>
                <a:cubicBezTo>
                  <a:pt x="17570" y="2274"/>
                  <a:pt x="17566" y="2268"/>
                  <a:pt x="17564" y="2264"/>
                </a:cubicBezTo>
                <a:cubicBezTo>
                  <a:pt x="17564" y="2263"/>
                  <a:pt x="17564" y="2263"/>
                  <a:pt x="17564" y="2262"/>
                </a:cubicBezTo>
                <a:cubicBezTo>
                  <a:pt x="17564" y="2268"/>
                  <a:pt x="17565" y="2270"/>
                  <a:pt x="17560" y="2274"/>
                </a:cubicBezTo>
                <a:cubicBezTo>
                  <a:pt x="17552" y="2281"/>
                  <a:pt x="17541" y="2288"/>
                  <a:pt x="17535" y="2298"/>
                </a:cubicBezTo>
                <a:cubicBezTo>
                  <a:pt x="17530" y="2305"/>
                  <a:pt x="17531" y="2308"/>
                  <a:pt x="17525" y="2312"/>
                </a:cubicBezTo>
                <a:cubicBezTo>
                  <a:pt x="17525" y="2302"/>
                  <a:pt x="17521" y="2286"/>
                  <a:pt x="17526" y="2278"/>
                </a:cubicBezTo>
                <a:cubicBezTo>
                  <a:pt x="17529" y="2272"/>
                  <a:pt x="17538" y="2269"/>
                  <a:pt x="17541" y="2264"/>
                </a:cubicBezTo>
                <a:cubicBezTo>
                  <a:pt x="17542" y="2262"/>
                  <a:pt x="17542" y="2258"/>
                  <a:pt x="17542" y="2255"/>
                </a:cubicBezTo>
                <a:cubicBezTo>
                  <a:pt x="17550" y="2255"/>
                  <a:pt x="17556" y="2254"/>
                  <a:pt x="17564" y="2258"/>
                </a:cubicBezTo>
              </a:path>
              <a:path w="10960" h="1824">
                <a:moveTo>
                  <a:pt x="17625" y="2717"/>
                </a:moveTo>
                <a:cubicBezTo>
                  <a:pt x="17625" y="2722"/>
                  <a:pt x="17624" y="2735"/>
                  <a:pt x="17628" y="2739"/>
                </a:cubicBezTo>
                <a:cubicBezTo>
                  <a:pt x="17633" y="2745"/>
                  <a:pt x="17647" y="2747"/>
                  <a:pt x="17654" y="2751"/>
                </a:cubicBezTo>
                <a:cubicBezTo>
                  <a:pt x="17661" y="2756"/>
                  <a:pt x="17665" y="2761"/>
                  <a:pt x="17668" y="2769"/>
                </a:cubicBezTo>
                <a:cubicBezTo>
                  <a:pt x="17670" y="2776"/>
                  <a:pt x="17671" y="2786"/>
                  <a:pt x="17670" y="2794"/>
                </a:cubicBezTo>
                <a:cubicBezTo>
                  <a:pt x="17668" y="2805"/>
                  <a:pt x="17659" y="2808"/>
                  <a:pt x="17650" y="2812"/>
                </a:cubicBezTo>
                <a:cubicBezTo>
                  <a:pt x="17643" y="2815"/>
                  <a:pt x="17643" y="2813"/>
                  <a:pt x="17637" y="2816"/>
                </a:cubicBezTo>
                <a:cubicBezTo>
                  <a:pt x="17637" y="2816"/>
                  <a:pt x="17636" y="2816"/>
                  <a:pt x="17636" y="2816"/>
                </a:cubicBezTo>
                <a:cubicBezTo>
                  <a:pt x="17636" y="2809"/>
                  <a:pt x="17636" y="2804"/>
                  <a:pt x="17641" y="2798"/>
                </a:cubicBezTo>
                <a:cubicBezTo>
                  <a:pt x="17652" y="2786"/>
                  <a:pt x="17663" y="2776"/>
                  <a:pt x="17673" y="2764"/>
                </a:cubicBezTo>
                <a:cubicBezTo>
                  <a:pt x="17676" y="2760"/>
                  <a:pt x="17682" y="2746"/>
                  <a:pt x="17686" y="2744"/>
                </a:cubicBezTo>
                <a:cubicBezTo>
                  <a:pt x="17688" y="2742"/>
                  <a:pt x="17697" y="2744"/>
                  <a:pt x="17700" y="2744"/>
                </a:cubicBezTo>
              </a:path>
              <a:path w="10960" h="1824">
                <a:moveTo>
                  <a:pt x="17933" y="2579"/>
                </a:moveTo>
                <a:cubicBezTo>
                  <a:pt x="17953" y="2571"/>
                  <a:pt x="17972" y="2562"/>
                  <a:pt x="17992" y="2556"/>
                </a:cubicBezTo>
                <a:cubicBezTo>
                  <a:pt x="18091" y="2527"/>
                  <a:pt x="18211" y="2545"/>
                  <a:pt x="18313" y="2545"/>
                </a:cubicBezTo>
                <a:cubicBezTo>
                  <a:pt x="18437" y="2545"/>
                  <a:pt x="18562" y="2547"/>
                  <a:pt x="18686" y="2547"/>
                </a:cubicBezTo>
                <a:cubicBezTo>
                  <a:pt x="18749" y="2547"/>
                  <a:pt x="18813" y="2548"/>
                  <a:pt x="18876" y="2545"/>
                </a:cubicBezTo>
                <a:cubicBezTo>
                  <a:pt x="18900" y="2544"/>
                  <a:pt x="18925" y="2538"/>
                  <a:pt x="18949" y="2538"/>
                </a:cubicBezTo>
                <a:cubicBezTo>
                  <a:pt x="18955" y="2538"/>
                  <a:pt x="18961" y="2537"/>
                  <a:pt x="18964" y="2540"/>
                </a:cubicBezTo>
                <a:cubicBezTo>
                  <a:pt x="18966" y="2543"/>
                  <a:pt x="18962" y="2551"/>
                  <a:pt x="18962" y="2552"/>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432160" y="1089000"/>
            <a:ext cx="5146560" cy="117360"/>
          </a:xfrm>
          <a:custGeom>
            <a:avLst/>
            <a:gdLst/>
            <a:ahLst/>
            <a:rect l="l" t="t" r="r" b="b"/>
            <a:pathLst>
              <a:path w="14297" h="326">
                <a:moveTo>
                  <a:pt x="6849" y="3225"/>
                </a:moveTo>
                <a:cubicBezTo>
                  <a:pt x="6818" y="3235"/>
                  <a:pt x="6787" y="3245"/>
                  <a:pt x="6757" y="3255"/>
                </a:cubicBezTo>
                <a:cubicBezTo>
                  <a:pt x="6920" y="3249"/>
                  <a:pt x="7083" y="3241"/>
                  <a:pt x="7246" y="3241"/>
                </a:cubicBezTo>
                <a:cubicBezTo>
                  <a:pt x="11212" y="3245"/>
                  <a:pt x="15185" y="2871"/>
                  <a:pt x="19150" y="3062"/>
                </a:cubicBezTo>
                <a:cubicBezTo>
                  <a:pt x="19677" y="3087"/>
                  <a:pt x="20396" y="3033"/>
                  <a:pt x="20897" y="3234"/>
                </a:cubicBezTo>
                <a:cubicBezTo>
                  <a:pt x="20967" y="3262"/>
                  <a:pt x="21015" y="3330"/>
                  <a:pt x="21053" y="3349"/>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85800" y="590400"/>
            <a:ext cx="3505320" cy="5734080"/>
          </a:xfrm>
          <a:prstGeom prst="rect">
            <a:avLst/>
          </a:prstGeom>
          <a:ln w="0">
            <a:noFill/>
          </a:ln>
        </p:spPr>
      </p:pic>
      <p:sp>
        <p:nvSpPr>
          <p:cNvPr id="120" name=""/>
          <p:cNvSpPr/>
          <p:nvPr/>
        </p:nvSpPr>
        <p:spPr>
          <a:xfrm>
            <a:off x="6279840" y="1370520"/>
            <a:ext cx="2428560" cy="399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Neck lif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 </a:t>
            </a:r>
            <a:r>
              <a:rPr b="1" lang="en-US" sz="3200" spc="-1" strike="noStrike">
                <a:solidFill>
                  <a:srgbClr val="d8e74b"/>
                </a:solidFill>
                <a:latin typeface="Garamond"/>
              </a:rPr>
              <a:t>Chin lif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Jaw thru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ose, missing or avulsed teeth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ken teeth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ceration of the mucosa of the lips, especially the lower lip, may also occur. </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or bronchial injuries are rare but serious, usually occurring in infants and the elderly as a result of decreased tissue elasticity.</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miting with aspiration of gastric contents is another serious complication that can occur during intubatio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cerbation of a cervical spine injury remains largely a theoretical concern.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persistent air leak.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stricture</a:t>
            </a:r>
            <a:endParaRPr b="0" lang="en-US" sz="2400" spc="-1" strike="noStrike">
              <a:solidFill>
                <a:srgbClr val="ffffff"/>
              </a:solidFill>
              <a:latin typeface="Garamond"/>
            </a:endParaRPr>
          </a:p>
        </p:txBody>
      </p:sp>
      <p:sp>
        <p:nvSpPr>
          <p:cNvPr id="404" name=""/>
          <p:cNvSpPr/>
          <p:nvPr/>
        </p:nvSpPr>
        <p:spPr>
          <a:xfrm>
            <a:off x="3006720" y="452520"/>
            <a:ext cx="3632040" cy="757080"/>
          </a:xfrm>
          <a:custGeom>
            <a:avLst/>
            <a:gdLst/>
            <a:ahLst/>
            <a:rect l="l" t="t" r="r" b="b"/>
            <a:pathLst>
              <a:path w="10091" h="2103">
                <a:moveTo>
                  <a:pt x="8352" y="2323"/>
                </a:moveTo>
                <a:cubicBezTo>
                  <a:pt x="8352" y="2332"/>
                  <a:pt x="8349" y="2342"/>
                  <a:pt x="8356" y="2347"/>
                </a:cubicBezTo>
              </a:path>
              <a:path w="10091" h="2103">
                <a:moveTo>
                  <a:pt x="8872" y="2128"/>
                </a:moveTo>
                <a:cubicBezTo>
                  <a:pt x="8886" y="2133"/>
                  <a:pt x="8895" y="2141"/>
                  <a:pt x="8910" y="2140"/>
                </a:cubicBezTo>
                <a:cubicBezTo>
                  <a:pt x="8926" y="2139"/>
                  <a:pt x="8920" y="2136"/>
                  <a:pt x="8933" y="2128"/>
                </a:cubicBezTo>
                <a:cubicBezTo>
                  <a:pt x="8937" y="2125"/>
                  <a:pt x="8942" y="2121"/>
                  <a:pt x="8945" y="2117"/>
                </a:cubicBezTo>
                <a:cubicBezTo>
                  <a:pt x="8950" y="2111"/>
                  <a:pt x="8955" y="2112"/>
                  <a:pt x="8958" y="2103"/>
                </a:cubicBezTo>
                <a:cubicBezTo>
                  <a:pt x="8964" y="2088"/>
                  <a:pt x="8959" y="2051"/>
                  <a:pt x="8951" y="2038"/>
                </a:cubicBezTo>
                <a:cubicBezTo>
                  <a:pt x="8945" y="2028"/>
                  <a:pt x="8934" y="2014"/>
                  <a:pt x="8926" y="2006"/>
                </a:cubicBezTo>
                <a:cubicBezTo>
                  <a:pt x="8913" y="1993"/>
                  <a:pt x="8897" y="1988"/>
                  <a:pt x="8881" y="1981"/>
                </a:cubicBezTo>
                <a:cubicBezTo>
                  <a:pt x="8863" y="1973"/>
                  <a:pt x="8843" y="1966"/>
                  <a:pt x="8824" y="1963"/>
                </a:cubicBezTo>
                <a:cubicBezTo>
                  <a:pt x="8799" y="1959"/>
                  <a:pt x="8773" y="1960"/>
                  <a:pt x="8748" y="1959"/>
                </a:cubicBezTo>
                <a:cubicBezTo>
                  <a:pt x="8676" y="1957"/>
                  <a:pt x="8613" y="1959"/>
                  <a:pt x="8546" y="1986"/>
                </a:cubicBezTo>
                <a:cubicBezTo>
                  <a:pt x="8527" y="1993"/>
                  <a:pt x="8513" y="2002"/>
                  <a:pt x="8499" y="2017"/>
                </a:cubicBezTo>
                <a:cubicBezTo>
                  <a:pt x="8436" y="2083"/>
                  <a:pt x="8389" y="2179"/>
                  <a:pt x="8374" y="2268"/>
                </a:cubicBezTo>
                <a:cubicBezTo>
                  <a:pt x="8366" y="2316"/>
                  <a:pt x="8370" y="2367"/>
                  <a:pt x="8370" y="2415"/>
                </a:cubicBezTo>
                <a:cubicBezTo>
                  <a:pt x="8370" y="2437"/>
                  <a:pt x="8369" y="2460"/>
                  <a:pt x="8375" y="2481"/>
                </a:cubicBezTo>
                <a:cubicBezTo>
                  <a:pt x="8381" y="2501"/>
                  <a:pt x="8391" y="2520"/>
                  <a:pt x="8401" y="2538"/>
                </a:cubicBezTo>
                <a:cubicBezTo>
                  <a:pt x="8419" y="2568"/>
                  <a:pt x="8446" y="2589"/>
                  <a:pt x="8472" y="2612"/>
                </a:cubicBezTo>
                <a:cubicBezTo>
                  <a:pt x="8493" y="2630"/>
                  <a:pt x="8515" y="2653"/>
                  <a:pt x="8539" y="2666"/>
                </a:cubicBezTo>
                <a:cubicBezTo>
                  <a:pt x="8561" y="2678"/>
                  <a:pt x="8586" y="2680"/>
                  <a:pt x="8610" y="2683"/>
                </a:cubicBezTo>
                <a:cubicBezTo>
                  <a:pt x="8638" y="2687"/>
                  <a:pt x="8665" y="2687"/>
                  <a:pt x="8693" y="2687"/>
                </a:cubicBezTo>
                <a:cubicBezTo>
                  <a:pt x="8758" y="2688"/>
                  <a:pt x="8824" y="2689"/>
                  <a:pt x="8888" y="2678"/>
                </a:cubicBezTo>
                <a:cubicBezTo>
                  <a:pt x="8917" y="2673"/>
                  <a:pt x="8945" y="2670"/>
                  <a:pt x="8974" y="2666"/>
                </a:cubicBezTo>
                <a:cubicBezTo>
                  <a:pt x="8992" y="2663"/>
                  <a:pt x="9010" y="2662"/>
                  <a:pt x="9028" y="2658"/>
                </a:cubicBezTo>
                <a:cubicBezTo>
                  <a:pt x="9038" y="2656"/>
                  <a:pt x="9048" y="2651"/>
                  <a:pt x="9058" y="2648"/>
                </a:cubicBezTo>
                <a:cubicBezTo>
                  <a:pt x="9066" y="2645"/>
                  <a:pt x="9073" y="2643"/>
                  <a:pt x="9080" y="2640"/>
                </a:cubicBezTo>
                <a:cubicBezTo>
                  <a:pt x="9084" y="2638"/>
                  <a:pt x="9083" y="2634"/>
                  <a:pt x="9087" y="2633"/>
                </a:cubicBezTo>
                <a:cubicBezTo>
                  <a:pt x="9090" y="2632"/>
                  <a:pt x="9095" y="2634"/>
                  <a:pt x="9098" y="2633"/>
                </a:cubicBezTo>
              </a:path>
              <a:path w="10091" h="2103">
                <a:moveTo>
                  <a:pt x="10116" y="2390"/>
                </a:moveTo>
                <a:cubicBezTo>
                  <a:pt x="10134" y="2372"/>
                  <a:pt x="10154" y="2353"/>
                  <a:pt x="10168" y="2332"/>
                </a:cubicBezTo>
                <a:cubicBezTo>
                  <a:pt x="10174" y="2324"/>
                  <a:pt x="10181" y="2308"/>
                  <a:pt x="10178" y="2298"/>
                </a:cubicBezTo>
                <a:cubicBezTo>
                  <a:pt x="10175" y="2289"/>
                  <a:pt x="10171" y="2286"/>
                  <a:pt x="10162" y="2280"/>
                </a:cubicBezTo>
                <a:cubicBezTo>
                  <a:pt x="10139" y="2266"/>
                  <a:pt x="10113" y="2267"/>
                  <a:pt x="10087" y="2264"/>
                </a:cubicBezTo>
                <a:cubicBezTo>
                  <a:pt x="10058" y="2260"/>
                  <a:pt x="10028" y="2258"/>
                  <a:pt x="9999" y="2255"/>
                </a:cubicBezTo>
                <a:cubicBezTo>
                  <a:pt x="9954" y="2250"/>
                  <a:pt x="9906" y="2251"/>
                  <a:pt x="9861" y="2253"/>
                </a:cubicBezTo>
                <a:cubicBezTo>
                  <a:pt x="9809" y="2255"/>
                  <a:pt x="9761" y="2264"/>
                  <a:pt x="9712" y="2282"/>
                </a:cubicBezTo>
                <a:cubicBezTo>
                  <a:pt x="9680" y="2293"/>
                  <a:pt x="9652" y="2309"/>
                  <a:pt x="9626" y="2330"/>
                </a:cubicBezTo>
                <a:cubicBezTo>
                  <a:pt x="9604" y="2348"/>
                  <a:pt x="9589" y="2366"/>
                  <a:pt x="9580" y="2393"/>
                </a:cubicBezTo>
                <a:cubicBezTo>
                  <a:pt x="9570" y="2421"/>
                  <a:pt x="9575" y="2453"/>
                  <a:pt x="9583" y="2481"/>
                </a:cubicBezTo>
                <a:cubicBezTo>
                  <a:pt x="9595" y="2523"/>
                  <a:pt x="9616" y="2561"/>
                  <a:pt x="9644" y="2594"/>
                </a:cubicBezTo>
                <a:cubicBezTo>
                  <a:pt x="9667" y="2621"/>
                  <a:pt x="9697" y="2650"/>
                  <a:pt x="9729" y="2666"/>
                </a:cubicBezTo>
                <a:cubicBezTo>
                  <a:pt x="9770" y="2686"/>
                  <a:pt x="9818" y="2701"/>
                  <a:pt x="9863" y="2709"/>
                </a:cubicBezTo>
                <a:cubicBezTo>
                  <a:pt x="9949" y="2724"/>
                  <a:pt x="10030" y="2725"/>
                  <a:pt x="10114" y="2700"/>
                </a:cubicBezTo>
                <a:cubicBezTo>
                  <a:pt x="10151" y="2689"/>
                  <a:pt x="10183" y="2671"/>
                  <a:pt x="10216" y="2651"/>
                </a:cubicBezTo>
                <a:cubicBezTo>
                  <a:pt x="10254" y="2628"/>
                  <a:pt x="10286" y="2598"/>
                  <a:pt x="10293" y="2553"/>
                </a:cubicBezTo>
                <a:cubicBezTo>
                  <a:pt x="10298" y="2521"/>
                  <a:pt x="10287" y="2495"/>
                  <a:pt x="10272" y="2468"/>
                </a:cubicBezTo>
                <a:cubicBezTo>
                  <a:pt x="10259" y="2444"/>
                  <a:pt x="10244" y="2418"/>
                  <a:pt x="10223" y="2400"/>
                </a:cubicBezTo>
                <a:cubicBezTo>
                  <a:pt x="10199" y="2379"/>
                  <a:pt x="10169" y="2362"/>
                  <a:pt x="10139" y="2350"/>
                </a:cubicBezTo>
                <a:cubicBezTo>
                  <a:pt x="10094" y="2332"/>
                  <a:pt x="10046" y="2323"/>
                  <a:pt x="9999" y="2318"/>
                </a:cubicBezTo>
                <a:cubicBezTo>
                  <a:pt x="9993" y="2317"/>
                  <a:pt x="9979" y="2311"/>
                  <a:pt x="9979" y="2320"/>
                </a:cubicBezTo>
                <a:cubicBezTo>
                  <a:pt x="9979" y="2329"/>
                  <a:pt x="10005" y="2341"/>
                  <a:pt x="10010" y="2345"/>
                </a:cubicBezTo>
              </a:path>
              <a:path w="10091" h="2103">
                <a:moveTo>
                  <a:pt x="10827" y="2488"/>
                </a:moveTo>
                <a:cubicBezTo>
                  <a:pt x="10806" y="2474"/>
                  <a:pt x="10785" y="2458"/>
                  <a:pt x="10764" y="2445"/>
                </a:cubicBezTo>
                <a:cubicBezTo>
                  <a:pt x="10745" y="2433"/>
                  <a:pt x="10724" y="2420"/>
                  <a:pt x="10702" y="2415"/>
                </a:cubicBezTo>
                <a:cubicBezTo>
                  <a:pt x="10692" y="2413"/>
                  <a:pt x="10682" y="2416"/>
                  <a:pt x="10673" y="2415"/>
                </a:cubicBezTo>
                <a:cubicBezTo>
                  <a:pt x="10678" y="2430"/>
                  <a:pt x="10673" y="2438"/>
                  <a:pt x="10687" y="2456"/>
                </a:cubicBezTo>
                <a:cubicBezTo>
                  <a:pt x="10713" y="2489"/>
                  <a:pt x="10745" y="2519"/>
                  <a:pt x="10772" y="2551"/>
                </a:cubicBezTo>
                <a:cubicBezTo>
                  <a:pt x="10800" y="2584"/>
                  <a:pt x="10828" y="2616"/>
                  <a:pt x="10856" y="2649"/>
                </a:cubicBezTo>
                <a:cubicBezTo>
                  <a:pt x="10876" y="2673"/>
                  <a:pt x="10891" y="2699"/>
                  <a:pt x="10911" y="2723"/>
                </a:cubicBezTo>
                <a:cubicBezTo>
                  <a:pt x="10921" y="2735"/>
                  <a:pt x="10937" y="2745"/>
                  <a:pt x="10944" y="2760"/>
                </a:cubicBezTo>
                <a:cubicBezTo>
                  <a:pt x="10947" y="2766"/>
                  <a:pt x="10942" y="2770"/>
                  <a:pt x="10944" y="2777"/>
                </a:cubicBezTo>
                <a:cubicBezTo>
                  <a:pt x="10924" y="2764"/>
                  <a:pt x="10905" y="2757"/>
                  <a:pt x="10888" y="2737"/>
                </a:cubicBezTo>
                <a:cubicBezTo>
                  <a:pt x="10867" y="2712"/>
                  <a:pt x="10847" y="2682"/>
                  <a:pt x="10833" y="2653"/>
                </a:cubicBezTo>
                <a:cubicBezTo>
                  <a:pt x="10815" y="2616"/>
                  <a:pt x="10795" y="2574"/>
                  <a:pt x="10790" y="2533"/>
                </a:cubicBezTo>
                <a:cubicBezTo>
                  <a:pt x="10784" y="2483"/>
                  <a:pt x="10797" y="2446"/>
                  <a:pt x="10833" y="2413"/>
                </a:cubicBezTo>
                <a:cubicBezTo>
                  <a:pt x="10855" y="2392"/>
                  <a:pt x="10882" y="2381"/>
                  <a:pt x="10911" y="2372"/>
                </a:cubicBezTo>
                <a:cubicBezTo>
                  <a:pt x="10936" y="2364"/>
                  <a:pt x="10972" y="2360"/>
                  <a:pt x="10999" y="2363"/>
                </a:cubicBezTo>
                <a:cubicBezTo>
                  <a:pt x="11062" y="2371"/>
                  <a:pt x="11096" y="2420"/>
                  <a:pt x="11128" y="2470"/>
                </a:cubicBezTo>
                <a:cubicBezTo>
                  <a:pt x="11158" y="2516"/>
                  <a:pt x="11175" y="2570"/>
                  <a:pt x="11187" y="2624"/>
                </a:cubicBezTo>
                <a:cubicBezTo>
                  <a:pt x="11189" y="2634"/>
                  <a:pt x="11191" y="2645"/>
                  <a:pt x="11193" y="2655"/>
                </a:cubicBezTo>
                <a:cubicBezTo>
                  <a:pt x="11193" y="2656"/>
                  <a:pt x="11193" y="2656"/>
                  <a:pt x="11193" y="2657"/>
                </a:cubicBezTo>
                <a:cubicBezTo>
                  <a:pt x="11195" y="2648"/>
                  <a:pt x="11197" y="2638"/>
                  <a:pt x="11200" y="2628"/>
                </a:cubicBezTo>
                <a:cubicBezTo>
                  <a:pt x="11215" y="2572"/>
                  <a:pt x="11236" y="2508"/>
                  <a:pt x="11282" y="2470"/>
                </a:cubicBezTo>
                <a:cubicBezTo>
                  <a:pt x="11300" y="2455"/>
                  <a:pt x="11320" y="2445"/>
                  <a:pt x="11343" y="2440"/>
                </a:cubicBezTo>
                <a:cubicBezTo>
                  <a:pt x="11371" y="2434"/>
                  <a:pt x="11391" y="2441"/>
                  <a:pt x="11420" y="2449"/>
                </a:cubicBezTo>
                <a:cubicBezTo>
                  <a:pt x="11451" y="2457"/>
                  <a:pt x="11477" y="2471"/>
                  <a:pt x="11505" y="2486"/>
                </a:cubicBezTo>
                <a:cubicBezTo>
                  <a:pt x="11534" y="2501"/>
                  <a:pt x="11557" y="2520"/>
                  <a:pt x="11583" y="2538"/>
                </a:cubicBezTo>
                <a:cubicBezTo>
                  <a:pt x="11608" y="2555"/>
                  <a:pt x="11635" y="2569"/>
                  <a:pt x="11659" y="2587"/>
                </a:cubicBezTo>
                <a:cubicBezTo>
                  <a:pt x="11679" y="2602"/>
                  <a:pt x="11697" y="2620"/>
                  <a:pt x="11718" y="2635"/>
                </a:cubicBezTo>
                <a:cubicBezTo>
                  <a:pt x="11761" y="2665"/>
                  <a:pt x="11802" y="2695"/>
                  <a:pt x="11843" y="2728"/>
                </a:cubicBezTo>
              </a:path>
              <a:path w="10091" h="2103">
                <a:moveTo>
                  <a:pt x="12127" y="2639"/>
                </a:moveTo>
                <a:cubicBezTo>
                  <a:pt x="12143" y="2616"/>
                  <a:pt x="12158" y="2594"/>
                  <a:pt x="12168" y="2567"/>
                </a:cubicBezTo>
                <a:cubicBezTo>
                  <a:pt x="12173" y="2552"/>
                  <a:pt x="12176" y="2535"/>
                  <a:pt x="12178" y="2520"/>
                </a:cubicBezTo>
                <a:cubicBezTo>
                  <a:pt x="12178" y="2517"/>
                  <a:pt x="12178" y="2514"/>
                  <a:pt x="12178" y="2511"/>
                </a:cubicBezTo>
                <a:cubicBezTo>
                  <a:pt x="12181" y="2530"/>
                  <a:pt x="12182" y="2548"/>
                  <a:pt x="12191" y="2567"/>
                </a:cubicBezTo>
                <a:cubicBezTo>
                  <a:pt x="12205" y="2597"/>
                  <a:pt x="12225" y="2626"/>
                  <a:pt x="12241" y="2655"/>
                </a:cubicBezTo>
                <a:cubicBezTo>
                  <a:pt x="12269" y="2707"/>
                  <a:pt x="12293" y="2760"/>
                  <a:pt x="12315" y="2814"/>
                </a:cubicBezTo>
                <a:cubicBezTo>
                  <a:pt x="12340" y="2874"/>
                  <a:pt x="12361" y="2932"/>
                  <a:pt x="12377" y="2995"/>
                </a:cubicBezTo>
                <a:cubicBezTo>
                  <a:pt x="12391" y="3051"/>
                  <a:pt x="12400" y="3105"/>
                  <a:pt x="12406" y="3162"/>
                </a:cubicBezTo>
                <a:cubicBezTo>
                  <a:pt x="12410" y="3205"/>
                  <a:pt x="12410" y="3242"/>
                  <a:pt x="12404" y="3284"/>
                </a:cubicBezTo>
                <a:cubicBezTo>
                  <a:pt x="12401" y="3306"/>
                  <a:pt x="12396" y="3328"/>
                  <a:pt x="12394" y="3350"/>
                </a:cubicBezTo>
                <a:cubicBezTo>
                  <a:pt x="12394" y="3353"/>
                  <a:pt x="12394" y="3356"/>
                  <a:pt x="12394" y="3359"/>
                </a:cubicBezTo>
              </a:path>
              <a:path w="10091" h="2103">
                <a:moveTo>
                  <a:pt x="12098" y="2366"/>
                </a:moveTo>
                <a:cubicBezTo>
                  <a:pt x="12084" y="2334"/>
                  <a:pt x="12069" y="2303"/>
                  <a:pt x="12066" y="2268"/>
                </a:cubicBezTo>
                <a:cubicBezTo>
                  <a:pt x="12064" y="2244"/>
                  <a:pt x="12070" y="2228"/>
                  <a:pt x="12089" y="2214"/>
                </a:cubicBezTo>
                <a:cubicBezTo>
                  <a:pt x="12110" y="2199"/>
                  <a:pt x="12145" y="2197"/>
                  <a:pt x="12170" y="2201"/>
                </a:cubicBezTo>
                <a:cubicBezTo>
                  <a:pt x="12208" y="2207"/>
                  <a:pt x="12247" y="2229"/>
                  <a:pt x="12282" y="2243"/>
                </a:cubicBezTo>
                <a:cubicBezTo>
                  <a:pt x="12350" y="2271"/>
                  <a:pt x="12421" y="2293"/>
                  <a:pt x="12490" y="2320"/>
                </a:cubicBezTo>
                <a:cubicBezTo>
                  <a:pt x="12552" y="2345"/>
                  <a:pt x="12620" y="2368"/>
                  <a:pt x="12670" y="2415"/>
                </a:cubicBezTo>
                <a:cubicBezTo>
                  <a:pt x="12692" y="2436"/>
                  <a:pt x="12712" y="2463"/>
                  <a:pt x="12720" y="2493"/>
                </a:cubicBezTo>
                <a:cubicBezTo>
                  <a:pt x="12729" y="2526"/>
                  <a:pt x="12714" y="2546"/>
                  <a:pt x="12687" y="2563"/>
                </a:cubicBezTo>
                <a:cubicBezTo>
                  <a:pt x="12617" y="2608"/>
                  <a:pt x="12520" y="2613"/>
                  <a:pt x="12440" y="2622"/>
                </a:cubicBezTo>
                <a:cubicBezTo>
                  <a:pt x="12343" y="2633"/>
                  <a:pt x="12232" y="2642"/>
                  <a:pt x="12139" y="2603"/>
                </a:cubicBezTo>
                <a:cubicBezTo>
                  <a:pt x="12106" y="2584"/>
                  <a:pt x="12096" y="2578"/>
                  <a:pt x="12075" y="2563"/>
                </a:cubicBezTo>
              </a:path>
              <a:path w="10091" h="2103">
                <a:moveTo>
                  <a:pt x="12877" y="2583"/>
                </a:moveTo>
                <a:cubicBezTo>
                  <a:pt x="12862" y="2591"/>
                  <a:pt x="12846" y="2600"/>
                  <a:pt x="12831" y="2608"/>
                </a:cubicBezTo>
                <a:cubicBezTo>
                  <a:pt x="12830" y="2608"/>
                  <a:pt x="12830" y="2608"/>
                  <a:pt x="12829" y="2608"/>
                </a:cubicBezTo>
                <a:cubicBezTo>
                  <a:pt x="12905" y="2608"/>
                  <a:pt x="12970" y="2606"/>
                  <a:pt x="13042" y="2576"/>
                </a:cubicBezTo>
                <a:cubicBezTo>
                  <a:pt x="13087" y="2557"/>
                  <a:pt x="13131" y="2532"/>
                  <a:pt x="13171" y="2504"/>
                </a:cubicBezTo>
                <a:cubicBezTo>
                  <a:pt x="13247" y="2452"/>
                  <a:pt x="13310" y="2392"/>
                  <a:pt x="13354" y="2309"/>
                </a:cubicBezTo>
                <a:cubicBezTo>
                  <a:pt x="13440" y="2145"/>
                  <a:pt x="13466" y="1958"/>
                  <a:pt x="13492" y="1778"/>
                </a:cubicBezTo>
                <a:cubicBezTo>
                  <a:pt x="13505" y="1686"/>
                  <a:pt x="13514" y="1590"/>
                  <a:pt x="13512" y="1497"/>
                </a:cubicBezTo>
                <a:cubicBezTo>
                  <a:pt x="13511" y="1427"/>
                  <a:pt x="13498" y="1316"/>
                  <a:pt x="13435" y="1271"/>
                </a:cubicBezTo>
                <a:cubicBezTo>
                  <a:pt x="13404" y="1249"/>
                  <a:pt x="13365" y="1254"/>
                  <a:pt x="13336" y="1277"/>
                </a:cubicBezTo>
                <a:cubicBezTo>
                  <a:pt x="13244" y="1351"/>
                  <a:pt x="13201" y="1525"/>
                  <a:pt x="13173" y="1632"/>
                </a:cubicBezTo>
                <a:cubicBezTo>
                  <a:pt x="13142" y="1747"/>
                  <a:pt x="13122" y="1862"/>
                  <a:pt x="13109" y="1981"/>
                </a:cubicBezTo>
                <a:cubicBezTo>
                  <a:pt x="13094" y="2119"/>
                  <a:pt x="13087" y="2298"/>
                  <a:pt x="13155" y="2425"/>
                </a:cubicBezTo>
                <a:cubicBezTo>
                  <a:pt x="13203" y="2514"/>
                  <a:pt x="13290" y="2564"/>
                  <a:pt x="13386" y="2587"/>
                </a:cubicBezTo>
                <a:cubicBezTo>
                  <a:pt x="13506" y="2616"/>
                  <a:pt x="13668" y="2631"/>
                  <a:pt x="13786" y="2588"/>
                </a:cubicBezTo>
                <a:cubicBezTo>
                  <a:pt x="13829" y="2572"/>
                  <a:pt x="13858" y="2553"/>
                  <a:pt x="13892" y="2524"/>
                </a:cubicBezTo>
                <a:cubicBezTo>
                  <a:pt x="13915" y="2504"/>
                  <a:pt x="13934" y="2480"/>
                  <a:pt x="13949" y="2454"/>
                </a:cubicBezTo>
                <a:cubicBezTo>
                  <a:pt x="13960" y="2434"/>
                  <a:pt x="13967" y="2411"/>
                  <a:pt x="13976" y="2391"/>
                </a:cubicBezTo>
                <a:cubicBezTo>
                  <a:pt x="13977" y="2397"/>
                  <a:pt x="13977" y="2401"/>
                  <a:pt x="13978" y="2407"/>
                </a:cubicBezTo>
                <a:cubicBezTo>
                  <a:pt x="13985" y="2448"/>
                  <a:pt x="14000" y="2484"/>
                  <a:pt x="14023" y="2519"/>
                </a:cubicBezTo>
                <a:cubicBezTo>
                  <a:pt x="14047" y="2556"/>
                  <a:pt x="14074" y="2575"/>
                  <a:pt x="14107" y="2601"/>
                </a:cubicBezTo>
              </a:path>
              <a:path w="10091" h="2103">
                <a:moveTo>
                  <a:pt x="14139" y="1922"/>
                </a:moveTo>
                <a:cubicBezTo>
                  <a:pt x="14137" y="1903"/>
                  <a:pt x="14135" y="1885"/>
                  <a:pt x="14132" y="1866"/>
                </a:cubicBezTo>
                <a:cubicBezTo>
                  <a:pt x="14130" y="1856"/>
                  <a:pt x="14129" y="1848"/>
                  <a:pt x="14128" y="1838"/>
                </a:cubicBezTo>
                <a:cubicBezTo>
                  <a:pt x="14128" y="1835"/>
                  <a:pt x="14127" y="1833"/>
                  <a:pt x="14127" y="1830"/>
                </a:cubicBezTo>
                <a:cubicBezTo>
                  <a:pt x="14124" y="1830"/>
                  <a:pt x="14118" y="1829"/>
                  <a:pt x="14116" y="1832"/>
                </a:cubicBezTo>
                <a:cubicBezTo>
                  <a:pt x="14111" y="1842"/>
                  <a:pt x="14110" y="1857"/>
                  <a:pt x="14110" y="1868"/>
                </a:cubicBezTo>
                <a:cubicBezTo>
                  <a:pt x="14110" y="1872"/>
                  <a:pt x="14110" y="1877"/>
                  <a:pt x="14110" y="1881"/>
                </a:cubicBezTo>
              </a:path>
              <a:path w="10091" h="2103">
                <a:moveTo>
                  <a:pt x="14714" y="2173"/>
                </a:moveTo>
                <a:cubicBezTo>
                  <a:pt x="14740" y="2162"/>
                  <a:pt x="14751" y="2155"/>
                  <a:pt x="14766" y="2131"/>
                </a:cubicBezTo>
                <a:cubicBezTo>
                  <a:pt x="14772" y="2122"/>
                  <a:pt x="14773" y="2119"/>
                  <a:pt x="14774" y="2112"/>
                </a:cubicBezTo>
                <a:cubicBezTo>
                  <a:pt x="14757" y="2101"/>
                  <a:pt x="14744" y="2098"/>
                  <a:pt x="14720" y="2094"/>
                </a:cubicBezTo>
                <a:cubicBezTo>
                  <a:pt x="14676" y="2087"/>
                  <a:pt x="14637" y="2100"/>
                  <a:pt x="14596" y="2117"/>
                </a:cubicBezTo>
                <a:cubicBezTo>
                  <a:pt x="14540" y="2140"/>
                  <a:pt x="14485" y="2172"/>
                  <a:pt x="14438" y="2210"/>
                </a:cubicBezTo>
                <a:cubicBezTo>
                  <a:pt x="14394" y="2245"/>
                  <a:pt x="14349" y="2286"/>
                  <a:pt x="14325" y="2338"/>
                </a:cubicBezTo>
                <a:cubicBezTo>
                  <a:pt x="14311" y="2368"/>
                  <a:pt x="14305" y="2402"/>
                  <a:pt x="14327" y="2431"/>
                </a:cubicBezTo>
                <a:cubicBezTo>
                  <a:pt x="14378" y="2499"/>
                  <a:pt x="14485" y="2519"/>
                  <a:pt x="14560" y="2542"/>
                </a:cubicBezTo>
                <a:cubicBezTo>
                  <a:pt x="14608" y="2557"/>
                  <a:pt x="14659" y="2568"/>
                  <a:pt x="14709" y="2574"/>
                </a:cubicBezTo>
                <a:cubicBezTo>
                  <a:pt x="14734" y="2577"/>
                  <a:pt x="14758" y="2579"/>
                  <a:pt x="14783" y="2578"/>
                </a:cubicBezTo>
                <a:cubicBezTo>
                  <a:pt x="14797" y="2577"/>
                  <a:pt x="14808" y="2575"/>
                  <a:pt x="14820" y="2569"/>
                </a:cubicBezTo>
                <a:cubicBezTo>
                  <a:pt x="14826" y="2566"/>
                  <a:pt x="14827" y="2563"/>
                  <a:pt x="14833" y="2560"/>
                </a:cubicBezTo>
                <a:cubicBezTo>
                  <a:pt x="14836" y="2559"/>
                  <a:pt x="14840" y="2559"/>
                  <a:pt x="14843" y="2558"/>
                </a:cubicBezTo>
              </a:path>
              <a:path w="10091" h="2103">
                <a:moveTo>
                  <a:pt x="15403" y="2415"/>
                </a:moveTo>
                <a:cubicBezTo>
                  <a:pt x="15427" y="2382"/>
                  <a:pt x="15451" y="2350"/>
                  <a:pt x="15467" y="2312"/>
                </a:cubicBezTo>
                <a:cubicBezTo>
                  <a:pt x="15473" y="2296"/>
                  <a:pt x="15486" y="2260"/>
                  <a:pt x="15480" y="2243"/>
                </a:cubicBezTo>
                <a:cubicBezTo>
                  <a:pt x="15467" y="2205"/>
                  <a:pt x="15377" y="2213"/>
                  <a:pt x="15352" y="2216"/>
                </a:cubicBezTo>
                <a:cubicBezTo>
                  <a:pt x="15293" y="2224"/>
                  <a:pt x="15239" y="2245"/>
                  <a:pt x="15186" y="2273"/>
                </a:cubicBezTo>
                <a:cubicBezTo>
                  <a:pt x="15134" y="2301"/>
                  <a:pt x="15085" y="2335"/>
                  <a:pt x="15048" y="2381"/>
                </a:cubicBezTo>
                <a:cubicBezTo>
                  <a:pt x="15030" y="2404"/>
                  <a:pt x="15021" y="2426"/>
                  <a:pt x="15028" y="2454"/>
                </a:cubicBezTo>
                <a:cubicBezTo>
                  <a:pt x="15038" y="2494"/>
                  <a:pt x="15083" y="2512"/>
                  <a:pt x="15119" y="2526"/>
                </a:cubicBezTo>
                <a:cubicBezTo>
                  <a:pt x="15198" y="2556"/>
                  <a:pt x="15302" y="2572"/>
                  <a:pt x="15386" y="2567"/>
                </a:cubicBezTo>
                <a:cubicBezTo>
                  <a:pt x="15418" y="2565"/>
                  <a:pt x="15453" y="2552"/>
                  <a:pt x="15472" y="2524"/>
                </a:cubicBezTo>
                <a:cubicBezTo>
                  <a:pt x="15489" y="2498"/>
                  <a:pt x="15495" y="2462"/>
                  <a:pt x="15499" y="2431"/>
                </a:cubicBezTo>
                <a:cubicBezTo>
                  <a:pt x="15502" y="2406"/>
                  <a:pt x="15503" y="2381"/>
                  <a:pt x="15503" y="2355"/>
                </a:cubicBezTo>
                <a:cubicBezTo>
                  <a:pt x="15503" y="2343"/>
                  <a:pt x="15503" y="2340"/>
                  <a:pt x="15503" y="2332"/>
                </a:cubicBezTo>
                <a:cubicBezTo>
                  <a:pt x="15503" y="2332"/>
                  <a:pt x="15503" y="2311"/>
                  <a:pt x="15503" y="2316"/>
                </a:cubicBezTo>
                <a:cubicBezTo>
                  <a:pt x="15503" y="2335"/>
                  <a:pt x="15507" y="2348"/>
                  <a:pt x="15514" y="2366"/>
                </a:cubicBezTo>
                <a:cubicBezTo>
                  <a:pt x="15526" y="2397"/>
                  <a:pt x="15545" y="2426"/>
                  <a:pt x="15564" y="2452"/>
                </a:cubicBezTo>
                <a:cubicBezTo>
                  <a:pt x="15584" y="2480"/>
                  <a:pt x="15611" y="2509"/>
                  <a:pt x="15639" y="2529"/>
                </a:cubicBezTo>
                <a:cubicBezTo>
                  <a:pt x="15661" y="2545"/>
                  <a:pt x="15693" y="2562"/>
                  <a:pt x="15720" y="2569"/>
                </a:cubicBezTo>
                <a:cubicBezTo>
                  <a:pt x="15747" y="2576"/>
                  <a:pt x="15775" y="2575"/>
                  <a:pt x="15802" y="2572"/>
                </a:cubicBezTo>
              </a:path>
              <a:path w="10091" h="2103">
                <a:moveTo>
                  <a:pt x="15971" y="1920"/>
                </a:moveTo>
                <a:cubicBezTo>
                  <a:pt x="15971" y="1889"/>
                  <a:pt x="15974" y="1851"/>
                  <a:pt x="15964" y="1820"/>
                </a:cubicBezTo>
                <a:cubicBezTo>
                  <a:pt x="15959" y="1804"/>
                  <a:pt x="15949" y="1803"/>
                  <a:pt x="15940" y="1793"/>
                </a:cubicBezTo>
                <a:cubicBezTo>
                  <a:pt x="15927" y="1814"/>
                  <a:pt x="15918" y="1831"/>
                  <a:pt x="15913" y="1856"/>
                </a:cubicBezTo>
                <a:cubicBezTo>
                  <a:pt x="15902" y="1917"/>
                  <a:pt x="15901" y="1981"/>
                  <a:pt x="15908" y="2042"/>
                </a:cubicBezTo>
                <a:cubicBezTo>
                  <a:pt x="15921" y="2144"/>
                  <a:pt x="15956" y="2247"/>
                  <a:pt x="15998" y="2341"/>
                </a:cubicBezTo>
                <a:cubicBezTo>
                  <a:pt x="16025" y="2401"/>
                  <a:pt x="16057" y="2459"/>
                  <a:pt x="16087" y="2517"/>
                </a:cubicBezTo>
                <a:cubicBezTo>
                  <a:pt x="16112" y="2565"/>
                  <a:pt x="16139" y="2612"/>
                  <a:pt x="16170" y="2657"/>
                </a:cubicBezTo>
                <a:cubicBezTo>
                  <a:pt x="16187" y="2682"/>
                  <a:pt x="16204" y="2705"/>
                  <a:pt x="16222" y="2728"/>
                </a:cubicBezTo>
                <a:cubicBezTo>
                  <a:pt x="16225" y="2732"/>
                  <a:pt x="16236" y="2752"/>
                  <a:pt x="16243" y="2746"/>
                </a:cubicBezTo>
                <a:cubicBezTo>
                  <a:pt x="16252" y="2739"/>
                  <a:pt x="16243" y="2722"/>
                  <a:pt x="16245" y="2714"/>
                </a:cubicBezTo>
              </a:path>
              <a:path w="10091" h="2103">
                <a:moveTo>
                  <a:pt x="15974" y="2450"/>
                </a:moveTo>
                <a:cubicBezTo>
                  <a:pt x="15950" y="2432"/>
                  <a:pt x="15914" y="2411"/>
                  <a:pt x="15895" y="2388"/>
                </a:cubicBezTo>
                <a:cubicBezTo>
                  <a:pt x="15890" y="2380"/>
                  <a:pt x="15889" y="2377"/>
                  <a:pt x="15886" y="2372"/>
                </a:cubicBezTo>
                <a:cubicBezTo>
                  <a:pt x="15914" y="2364"/>
                  <a:pt x="15938" y="2360"/>
                  <a:pt x="15969" y="2359"/>
                </a:cubicBezTo>
                <a:cubicBezTo>
                  <a:pt x="16022" y="2357"/>
                  <a:pt x="16075" y="2360"/>
                  <a:pt x="16128" y="2359"/>
                </a:cubicBezTo>
                <a:cubicBezTo>
                  <a:pt x="16198" y="2358"/>
                  <a:pt x="16268" y="2348"/>
                  <a:pt x="16338" y="2345"/>
                </a:cubicBezTo>
                <a:cubicBezTo>
                  <a:pt x="16387" y="2343"/>
                  <a:pt x="16438" y="2335"/>
                  <a:pt x="16485" y="2320"/>
                </a:cubicBezTo>
                <a:cubicBezTo>
                  <a:pt x="16507" y="2313"/>
                  <a:pt x="16531" y="2309"/>
                  <a:pt x="16553" y="2302"/>
                </a:cubicBezTo>
                <a:cubicBezTo>
                  <a:pt x="16559" y="2300"/>
                  <a:pt x="16568" y="2296"/>
                  <a:pt x="16571" y="2291"/>
                </a:cubicBezTo>
                <a:cubicBezTo>
                  <a:pt x="16576" y="2284"/>
                  <a:pt x="16566" y="2293"/>
                  <a:pt x="16566" y="2289"/>
                </a:cubicBezTo>
                <a:cubicBezTo>
                  <a:pt x="16565" y="2281"/>
                  <a:pt x="16566" y="2286"/>
                  <a:pt x="16562" y="2282"/>
                </a:cubicBezTo>
                <a:cubicBezTo>
                  <a:pt x="16561" y="2282"/>
                  <a:pt x="16561" y="2282"/>
                  <a:pt x="16560" y="2282"/>
                </a:cubicBezTo>
                <a:cubicBezTo>
                  <a:pt x="16562" y="2290"/>
                  <a:pt x="16562" y="2301"/>
                  <a:pt x="16564" y="2309"/>
                </a:cubicBezTo>
                <a:cubicBezTo>
                  <a:pt x="16570" y="2334"/>
                  <a:pt x="16578" y="2356"/>
                  <a:pt x="16589" y="2379"/>
                </a:cubicBezTo>
                <a:cubicBezTo>
                  <a:pt x="16609" y="2418"/>
                  <a:pt x="16632" y="2456"/>
                  <a:pt x="16648" y="2497"/>
                </a:cubicBezTo>
                <a:cubicBezTo>
                  <a:pt x="16657" y="2520"/>
                  <a:pt x="16666" y="2543"/>
                  <a:pt x="16671" y="2567"/>
                </a:cubicBezTo>
                <a:cubicBezTo>
                  <a:pt x="16673" y="2577"/>
                  <a:pt x="16675" y="2587"/>
                  <a:pt x="16677" y="2597"/>
                </a:cubicBezTo>
                <a:cubicBezTo>
                  <a:pt x="16677" y="2599"/>
                  <a:pt x="16677" y="2601"/>
                  <a:pt x="16677" y="2603"/>
                </a:cubicBezTo>
              </a:path>
              <a:path w="10091" h="2103">
                <a:moveTo>
                  <a:pt x="16673" y="1974"/>
                </a:moveTo>
                <a:cubicBezTo>
                  <a:pt x="16670" y="1946"/>
                  <a:pt x="16666" y="1919"/>
                  <a:pt x="16666" y="1891"/>
                </a:cubicBezTo>
                <a:cubicBezTo>
                  <a:pt x="16666" y="1876"/>
                  <a:pt x="16672" y="1850"/>
                  <a:pt x="16664" y="1836"/>
                </a:cubicBezTo>
                <a:cubicBezTo>
                  <a:pt x="16659" y="1828"/>
                  <a:pt x="16647" y="1829"/>
                  <a:pt x="16641" y="1834"/>
                </a:cubicBezTo>
                <a:cubicBezTo>
                  <a:pt x="16629" y="1845"/>
                  <a:pt x="16625" y="1860"/>
                  <a:pt x="16619" y="1875"/>
                </a:cubicBezTo>
              </a:path>
              <a:path w="10091" h="2103">
                <a:moveTo>
                  <a:pt x="17136" y="2151"/>
                </a:moveTo>
                <a:cubicBezTo>
                  <a:pt x="17155" y="2167"/>
                  <a:pt x="17174" y="2179"/>
                  <a:pt x="17193" y="2194"/>
                </a:cubicBezTo>
                <a:cubicBezTo>
                  <a:pt x="17194" y="2195"/>
                  <a:pt x="17196" y="2197"/>
                  <a:pt x="17197" y="2198"/>
                </a:cubicBezTo>
                <a:cubicBezTo>
                  <a:pt x="17176" y="2208"/>
                  <a:pt x="17153" y="2216"/>
                  <a:pt x="17132" y="2226"/>
                </a:cubicBezTo>
                <a:cubicBezTo>
                  <a:pt x="17086" y="2248"/>
                  <a:pt x="17043" y="2277"/>
                  <a:pt x="17003" y="2307"/>
                </a:cubicBezTo>
                <a:cubicBezTo>
                  <a:pt x="16962" y="2338"/>
                  <a:pt x="16925" y="2370"/>
                  <a:pt x="16901" y="2415"/>
                </a:cubicBezTo>
                <a:cubicBezTo>
                  <a:pt x="16879" y="2456"/>
                  <a:pt x="16875" y="2501"/>
                  <a:pt x="16903" y="2540"/>
                </a:cubicBezTo>
                <a:cubicBezTo>
                  <a:pt x="16931" y="2579"/>
                  <a:pt x="16984" y="2588"/>
                  <a:pt x="17028" y="2597"/>
                </a:cubicBezTo>
                <a:cubicBezTo>
                  <a:pt x="17083" y="2608"/>
                  <a:pt x="17135" y="2613"/>
                  <a:pt x="17189" y="2597"/>
                </a:cubicBezTo>
                <a:cubicBezTo>
                  <a:pt x="17223" y="2587"/>
                  <a:pt x="17244" y="2567"/>
                  <a:pt x="17259" y="2535"/>
                </a:cubicBezTo>
                <a:cubicBezTo>
                  <a:pt x="17275" y="2500"/>
                  <a:pt x="17260" y="2478"/>
                  <a:pt x="17240" y="2449"/>
                </a:cubicBezTo>
                <a:cubicBezTo>
                  <a:pt x="17213" y="2410"/>
                  <a:pt x="17176" y="2379"/>
                  <a:pt x="17134" y="2357"/>
                </a:cubicBezTo>
                <a:cubicBezTo>
                  <a:pt x="17099" y="2338"/>
                  <a:pt x="17061" y="2325"/>
                  <a:pt x="17030" y="2300"/>
                </a:cubicBezTo>
                <a:cubicBezTo>
                  <a:pt x="17018" y="2290"/>
                  <a:pt x="17011" y="2278"/>
                  <a:pt x="17001" y="2266"/>
                </a:cubicBezTo>
              </a:path>
              <a:path w="10091" h="2103">
                <a:moveTo>
                  <a:pt x="17335" y="2189"/>
                </a:moveTo>
                <a:cubicBezTo>
                  <a:pt x="17358" y="2172"/>
                  <a:pt x="17392" y="2131"/>
                  <a:pt x="17424" y="2137"/>
                </a:cubicBezTo>
                <a:cubicBezTo>
                  <a:pt x="17456" y="2143"/>
                  <a:pt x="17478" y="2211"/>
                  <a:pt x="17489" y="2235"/>
                </a:cubicBezTo>
                <a:cubicBezTo>
                  <a:pt x="17520" y="2299"/>
                  <a:pt x="17547" y="2364"/>
                  <a:pt x="17578" y="2427"/>
                </a:cubicBezTo>
                <a:cubicBezTo>
                  <a:pt x="17592" y="2455"/>
                  <a:pt x="17606" y="2483"/>
                  <a:pt x="17616" y="2513"/>
                </a:cubicBezTo>
                <a:cubicBezTo>
                  <a:pt x="17620" y="2525"/>
                  <a:pt x="17622" y="2539"/>
                  <a:pt x="17625" y="2551"/>
                </a:cubicBezTo>
                <a:cubicBezTo>
                  <a:pt x="17627" y="2558"/>
                  <a:pt x="17622" y="2543"/>
                  <a:pt x="17623" y="2545"/>
                </a:cubicBezTo>
                <a:cubicBezTo>
                  <a:pt x="17628" y="2511"/>
                  <a:pt x="17628" y="2488"/>
                  <a:pt x="17648" y="2458"/>
                </a:cubicBezTo>
                <a:cubicBezTo>
                  <a:pt x="17667" y="2429"/>
                  <a:pt x="17701" y="2398"/>
                  <a:pt x="17731" y="2382"/>
                </a:cubicBezTo>
                <a:cubicBezTo>
                  <a:pt x="17776" y="2358"/>
                  <a:pt x="17830" y="2347"/>
                  <a:pt x="17879" y="2338"/>
                </a:cubicBezTo>
                <a:cubicBezTo>
                  <a:pt x="17938" y="2327"/>
                  <a:pt x="18000" y="2321"/>
                  <a:pt x="18060" y="2323"/>
                </a:cubicBezTo>
                <a:cubicBezTo>
                  <a:pt x="18162" y="2327"/>
                  <a:pt x="18272" y="2387"/>
                  <a:pt x="18344" y="2459"/>
                </a:cubicBezTo>
                <a:cubicBezTo>
                  <a:pt x="18372" y="2488"/>
                  <a:pt x="18400" y="2521"/>
                  <a:pt x="18419" y="2556"/>
                </a:cubicBezTo>
                <a:cubicBezTo>
                  <a:pt x="18427" y="2570"/>
                  <a:pt x="18432" y="2588"/>
                  <a:pt x="18437" y="2603"/>
                </a:cubicBezTo>
                <a:cubicBezTo>
                  <a:pt x="18440" y="2613"/>
                  <a:pt x="18440" y="2621"/>
                  <a:pt x="18442" y="2631"/>
                </a:cubicBezTo>
                <a:cubicBezTo>
                  <a:pt x="18442" y="2632"/>
                  <a:pt x="18442" y="2634"/>
                  <a:pt x="18442" y="2635"/>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2651040" y="1155600"/>
            <a:ext cx="5139000" cy="130320"/>
          </a:xfrm>
          <a:custGeom>
            <a:avLst/>
            <a:gdLst/>
            <a:ahLst/>
            <a:rect l="l" t="t" r="r" b="b"/>
            <a:pathLst>
              <a:path w="14274" h="358">
                <a:moveTo>
                  <a:pt x="7365" y="3513"/>
                </a:moveTo>
                <a:cubicBezTo>
                  <a:pt x="7393" y="3518"/>
                  <a:pt x="7470" y="3560"/>
                  <a:pt x="7533" y="3565"/>
                </a:cubicBezTo>
                <a:cubicBezTo>
                  <a:pt x="8875" y="3668"/>
                  <a:pt x="10293" y="3373"/>
                  <a:pt x="11630" y="3296"/>
                </a:cubicBezTo>
                <a:cubicBezTo>
                  <a:pt x="13816" y="3170"/>
                  <a:pt x="16012" y="3196"/>
                  <a:pt x="18200" y="3244"/>
                </a:cubicBezTo>
                <a:cubicBezTo>
                  <a:pt x="19063" y="3263"/>
                  <a:pt x="20718" y="2990"/>
                  <a:pt x="21530" y="3391"/>
                </a:cubicBezTo>
                <a:cubicBezTo>
                  <a:pt x="21581" y="3416"/>
                  <a:pt x="21618" y="3464"/>
                  <a:pt x="21620" y="3465"/>
                </a:cubicBezTo>
                <a:cubicBezTo>
                  <a:pt x="21636" y="3477"/>
                  <a:pt x="21557" y="3488"/>
                  <a:pt x="21573" y="3499"/>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3192480" y="5973840"/>
            <a:ext cx="3643200" cy="527040"/>
          </a:xfrm>
          <a:custGeom>
            <a:avLst/>
            <a:gdLst/>
            <a:ahLst/>
            <a:rect l="l" t="t" r="r" b="b"/>
            <a:pathLst>
              <a:path w="10123" h="1467">
                <a:moveTo>
                  <a:pt x="8867" y="17441"/>
                </a:moveTo>
                <a:cubicBezTo>
                  <a:pt x="8978" y="17472"/>
                  <a:pt x="9076" y="17471"/>
                  <a:pt x="9191" y="17464"/>
                </a:cubicBezTo>
                <a:cubicBezTo>
                  <a:pt x="9300" y="17458"/>
                  <a:pt x="9408" y="17459"/>
                  <a:pt x="9517" y="17453"/>
                </a:cubicBezTo>
                <a:cubicBezTo>
                  <a:pt x="9750" y="17441"/>
                  <a:pt x="9982" y="17426"/>
                  <a:pt x="10214" y="17409"/>
                </a:cubicBezTo>
                <a:cubicBezTo>
                  <a:pt x="10805" y="17365"/>
                  <a:pt x="11398" y="17344"/>
                  <a:pt x="11989" y="17296"/>
                </a:cubicBezTo>
                <a:cubicBezTo>
                  <a:pt x="12109" y="17286"/>
                  <a:pt x="12230" y="17279"/>
                  <a:pt x="12349" y="17262"/>
                </a:cubicBezTo>
                <a:cubicBezTo>
                  <a:pt x="12362" y="17260"/>
                  <a:pt x="12375" y="17258"/>
                  <a:pt x="12388" y="17256"/>
                </a:cubicBezTo>
              </a:path>
              <a:path w="10123" h="1467">
                <a:moveTo>
                  <a:pt x="14550" y="16762"/>
                </a:moveTo>
                <a:cubicBezTo>
                  <a:pt x="14577" y="16730"/>
                  <a:pt x="14605" y="16699"/>
                  <a:pt x="14630" y="16665"/>
                </a:cubicBezTo>
                <a:cubicBezTo>
                  <a:pt x="14643" y="16648"/>
                  <a:pt x="14654" y="16630"/>
                  <a:pt x="14668" y="16613"/>
                </a:cubicBezTo>
                <a:cubicBezTo>
                  <a:pt x="14673" y="16607"/>
                  <a:pt x="14682" y="16600"/>
                  <a:pt x="14686" y="16595"/>
                </a:cubicBezTo>
                <a:cubicBezTo>
                  <a:pt x="14686" y="16594"/>
                  <a:pt x="14686" y="16594"/>
                  <a:pt x="14686" y="16593"/>
                </a:cubicBezTo>
                <a:cubicBezTo>
                  <a:pt x="14664" y="16602"/>
                  <a:pt x="14647" y="16599"/>
                  <a:pt x="14625" y="16618"/>
                </a:cubicBezTo>
                <a:cubicBezTo>
                  <a:pt x="14580" y="16659"/>
                  <a:pt x="14546" y="16716"/>
                  <a:pt x="14508" y="16763"/>
                </a:cubicBezTo>
                <a:cubicBezTo>
                  <a:pt x="14451" y="16835"/>
                  <a:pt x="14389" y="16903"/>
                  <a:pt x="14327" y="16971"/>
                </a:cubicBezTo>
                <a:cubicBezTo>
                  <a:pt x="14191" y="17120"/>
                  <a:pt x="14059" y="17274"/>
                  <a:pt x="13940" y="17437"/>
                </a:cubicBezTo>
                <a:cubicBezTo>
                  <a:pt x="13906" y="17483"/>
                  <a:pt x="13878" y="17531"/>
                  <a:pt x="13852" y="17582"/>
                </a:cubicBezTo>
                <a:cubicBezTo>
                  <a:pt x="13841" y="17604"/>
                  <a:pt x="13816" y="17639"/>
                  <a:pt x="13815" y="17665"/>
                </a:cubicBezTo>
                <a:cubicBezTo>
                  <a:pt x="13814" y="17688"/>
                  <a:pt x="13807" y="17682"/>
                  <a:pt x="13824" y="17701"/>
                </a:cubicBezTo>
                <a:cubicBezTo>
                  <a:pt x="13846" y="17726"/>
                  <a:pt x="13933" y="17712"/>
                  <a:pt x="13962" y="17711"/>
                </a:cubicBezTo>
                <a:cubicBezTo>
                  <a:pt x="14085" y="17707"/>
                  <a:pt x="14214" y="17667"/>
                  <a:pt x="14333" y="17640"/>
                </a:cubicBezTo>
                <a:cubicBezTo>
                  <a:pt x="14423" y="17619"/>
                  <a:pt x="14512" y="17601"/>
                  <a:pt x="14603" y="17584"/>
                </a:cubicBezTo>
                <a:cubicBezTo>
                  <a:pt x="14712" y="17563"/>
                  <a:pt x="14824" y="17541"/>
                  <a:pt x="14935" y="17541"/>
                </a:cubicBezTo>
                <a:cubicBezTo>
                  <a:pt x="14938" y="17542"/>
                  <a:pt x="14941" y="17542"/>
                  <a:pt x="14944" y="17543"/>
                </a:cubicBezTo>
              </a:path>
              <a:path w="10123" h="1467">
                <a:moveTo>
                  <a:pt x="15847" y="17355"/>
                </a:moveTo>
                <a:cubicBezTo>
                  <a:pt x="15921" y="17321"/>
                  <a:pt x="16036" y="17296"/>
                  <a:pt x="16096" y="17237"/>
                </a:cubicBezTo>
                <a:cubicBezTo>
                  <a:pt x="16102" y="17228"/>
                  <a:pt x="16104" y="17226"/>
                  <a:pt x="16105" y="17219"/>
                </a:cubicBezTo>
                <a:cubicBezTo>
                  <a:pt x="16088" y="17215"/>
                  <a:pt x="16071" y="17208"/>
                  <a:pt x="16051" y="17206"/>
                </a:cubicBezTo>
                <a:cubicBezTo>
                  <a:pt x="15941" y="17198"/>
                  <a:pt x="15839" y="17229"/>
                  <a:pt x="15736" y="17265"/>
                </a:cubicBezTo>
                <a:cubicBezTo>
                  <a:pt x="15634" y="17301"/>
                  <a:pt x="15538" y="17357"/>
                  <a:pt x="15446" y="17412"/>
                </a:cubicBezTo>
                <a:cubicBezTo>
                  <a:pt x="15330" y="17482"/>
                  <a:pt x="15175" y="17572"/>
                  <a:pt x="15116" y="17702"/>
                </a:cubicBezTo>
                <a:cubicBezTo>
                  <a:pt x="15102" y="17734"/>
                  <a:pt x="15093" y="17777"/>
                  <a:pt x="15121" y="17805"/>
                </a:cubicBezTo>
                <a:cubicBezTo>
                  <a:pt x="15153" y="17837"/>
                  <a:pt x="15217" y="17835"/>
                  <a:pt x="15257" y="17835"/>
                </a:cubicBezTo>
                <a:cubicBezTo>
                  <a:pt x="15403" y="17834"/>
                  <a:pt x="15533" y="17788"/>
                  <a:pt x="15659" y="17717"/>
                </a:cubicBezTo>
                <a:cubicBezTo>
                  <a:pt x="15736" y="17674"/>
                  <a:pt x="15810" y="17624"/>
                  <a:pt x="15883" y="17575"/>
                </a:cubicBezTo>
                <a:cubicBezTo>
                  <a:pt x="15945" y="17533"/>
                  <a:pt x="16006" y="17485"/>
                  <a:pt x="16064" y="17437"/>
                </a:cubicBezTo>
                <a:cubicBezTo>
                  <a:pt x="16135" y="17377"/>
                  <a:pt x="16200" y="17306"/>
                  <a:pt x="16275" y="17251"/>
                </a:cubicBezTo>
                <a:cubicBezTo>
                  <a:pt x="16278" y="17250"/>
                  <a:pt x="16281" y="17250"/>
                  <a:pt x="16284" y="17249"/>
                </a:cubicBezTo>
                <a:cubicBezTo>
                  <a:pt x="16276" y="17259"/>
                  <a:pt x="16264" y="17274"/>
                  <a:pt x="16254" y="17285"/>
                </a:cubicBezTo>
                <a:cubicBezTo>
                  <a:pt x="16222" y="17322"/>
                  <a:pt x="16191" y="17361"/>
                  <a:pt x="16162" y="17401"/>
                </a:cubicBezTo>
                <a:cubicBezTo>
                  <a:pt x="16090" y="17503"/>
                  <a:pt x="16029" y="17607"/>
                  <a:pt x="15980" y="17722"/>
                </a:cubicBezTo>
                <a:cubicBezTo>
                  <a:pt x="15954" y="17782"/>
                  <a:pt x="15933" y="17842"/>
                  <a:pt x="15910" y="17903"/>
                </a:cubicBezTo>
                <a:cubicBezTo>
                  <a:pt x="15896" y="17939"/>
                  <a:pt x="15866" y="17998"/>
                  <a:pt x="15876" y="18039"/>
                </a:cubicBezTo>
                <a:cubicBezTo>
                  <a:pt x="15883" y="18052"/>
                  <a:pt x="15885" y="18056"/>
                  <a:pt x="15895" y="18059"/>
                </a:cubicBezTo>
              </a:path>
              <a:path w="10123" h="1467">
                <a:moveTo>
                  <a:pt x="17080" y="16986"/>
                </a:moveTo>
                <a:cubicBezTo>
                  <a:pt x="17115" y="16940"/>
                  <a:pt x="17148" y="16893"/>
                  <a:pt x="17184" y="16848"/>
                </a:cubicBezTo>
                <a:cubicBezTo>
                  <a:pt x="17196" y="16833"/>
                  <a:pt x="17206" y="16817"/>
                  <a:pt x="17218" y="16803"/>
                </a:cubicBezTo>
                <a:cubicBezTo>
                  <a:pt x="17222" y="16799"/>
                  <a:pt x="17223" y="16798"/>
                  <a:pt x="17225" y="16796"/>
                </a:cubicBezTo>
                <a:cubicBezTo>
                  <a:pt x="17220" y="16821"/>
                  <a:pt x="17219" y="16831"/>
                  <a:pt x="17207" y="16857"/>
                </a:cubicBezTo>
                <a:cubicBezTo>
                  <a:pt x="17172" y="16932"/>
                  <a:pt x="17120" y="16997"/>
                  <a:pt x="17073" y="17064"/>
                </a:cubicBezTo>
                <a:cubicBezTo>
                  <a:pt x="17016" y="17145"/>
                  <a:pt x="16965" y="17232"/>
                  <a:pt x="16915" y="17317"/>
                </a:cubicBezTo>
                <a:cubicBezTo>
                  <a:pt x="16865" y="17402"/>
                  <a:pt x="16824" y="17491"/>
                  <a:pt x="16783" y="17581"/>
                </a:cubicBezTo>
                <a:cubicBezTo>
                  <a:pt x="16753" y="17648"/>
                  <a:pt x="16721" y="17714"/>
                  <a:pt x="16697" y="17783"/>
                </a:cubicBezTo>
                <a:cubicBezTo>
                  <a:pt x="16687" y="17813"/>
                  <a:pt x="16668" y="17859"/>
                  <a:pt x="16671" y="17892"/>
                </a:cubicBezTo>
                <a:cubicBezTo>
                  <a:pt x="16673" y="17923"/>
                  <a:pt x="16694" y="17930"/>
                  <a:pt x="16718" y="17937"/>
                </a:cubicBezTo>
                <a:cubicBezTo>
                  <a:pt x="16722" y="17936"/>
                  <a:pt x="16727" y="17936"/>
                  <a:pt x="16731" y="17935"/>
                </a:cubicBezTo>
              </a:path>
              <a:path w="10123" h="1467">
                <a:moveTo>
                  <a:pt x="16679" y="17473"/>
                </a:moveTo>
                <a:cubicBezTo>
                  <a:pt x="16653" y="17453"/>
                  <a:pt x="16629" y="17433"/>
                  <a:pt x="16607" y="17410"/>
                </a:cubicBezTo>
                <a:cubicBezTo>
                  <a:pt x="16601" y="17404"/>
                  <a:pt x="16595" y="17396"/>
                  <a:pt x="16591" y="17389"/>
                </a:cubicBezTo>
                <a:cubicBezTo>
                  <a:pt x="16591" y="17388"/>
                  <a:pt x="16591" y="17388"/>
                  <a:pt x="16591" y="17387"/>
                </a:cubicBezTo>
                <a:cubicBezTo>
                  <a:pt x="16617" y="17383"/>
                  <a:pt x="16644" y="17377"/>
                  <a:pt x="16671" y="17374"/>
                </a:cubicBezTo>
                <a:cubicBezTo>
                  <a:pt x="16732" y="17366"/>
                  <a:pt x="16794" y="17366"/>
                  <a:pt x="16856" y="17360"/>
                </a:cubicBezTo>
                <a:cubicBezTo>
                  <a:pt x="16949" y="17352"/>
                  <a:pt x="17043" y="17343"/>
                  <a:pt x="17137" y="17340"/>
                </a:cubicBezTo>
                <a:cubicBezTo>
                  <a:pt x="17215" y="17337"/>
                  <a:pt x="17292" y="17340"/>
                  <a:pt x="17370" y="17333"/>
                </a:cubicBezTo>
                <a:cubicBezTo>
                  <a:pt x="17416" y="17329"/>
                  <a:pt x="17461" y="17324"/>
                  <a:pt x="17507" y="17319"/>
                </a:cubicBezTo>
                <a:cubicBezTo>
                  <a:pt x="17523" y="17317"/>
                  <a:pt x="17538" y="17315"/>
                  <a:pt x="17553" y="17312"/>
                </a:cubicBezTo>
              </a:path>
              <a:path w="10123" h="1467">
                <a:moveTo>
                  <a:pt x="17634" y="17245"/>
                </a:moveTo>
                <a:cubicBezTo>
                  <a:pt x="17682" y="17272"/>
                  <a:pt x="17720" y="17283"/>
                  <a:pt x="17774" y="17292"/>
                </a:cubicBezTo>
                <a:cubicBezTo>
                  <a:pt x="17888" y="17311"/>
                  <a:pt x="17996" y="17320"/>
                  <a:pt x="18107" y="17280"/>
                </a:cubicBezTo>
                <a:cubicBezTo>
                  <a:pt x="18161" y="17261"/>
                  <a:pt x="18212" y="17235"/>
                  <a:pt x="18261" y="17204"/>
                </a:cubicBezTo>
                <a:cubicBezTo>
                  <a:pt x="18301" y="17179"/>
                  <a:pt x="18333" y="17148"/>
                  <a:pt x="18360" y="17109"/>
                </a:cubicBezTo>
                <a:cubicBezTo>
                  <a:pt x="18383" y="17076"/>
                  <a:pt x="18433" y="16984"/>
                  <a:pt x="18408" y="16941"/>
                </a:cubicBezTo>
                <a:cubicBezTo>
                  <a:pt x="18394" y="16917"/>
                  <a:pt x="18377" y="16913"/>
                  <a:pt x="18349" y="16909"/>
                </a:cubicBezTo>
                <a:cubicBezTo>
                  <a:pt x="18300" y="16903"/>
                  <a:pt x="18267" y="16920"/>
                  <a:pt x="18223" y="16939"/>
                </a:cubicBezTo>
                <a:cubicBezTo>
                  <a:pt x="18165" y="16964"/>
                  <a:pt x="18108" y="16997"/>
                  <a:pt x="18057" y="17034"/>
                </a:cubicBezTo>
                <a:cubicBezTo>
                  <a:pt x="17953" y="17108"/>
                  <a:pt x="17846" y="17217"/>
                  <a:pt x="17801" y="17339"/>
                </a:cubicBezTo>
                <a:cubicBezTo>
                  <a:pt x="17781" y="17392"/>
                  <a:pt x="17763" y="17450"/>
                  <a:pt x="17766" y="17507"/>
                </a:cubicBezTo>
                <a:cubicBezTo>
                  <a:pt x="17769" y="17581"/>
                  <a:pt x="17801" y="17632"/>
                  <a:pt x="17865" y="17668"/>
                </a:cubicBezTo>
                <a:cubicBezTo>
                  <a:pt x="17934" y="17707"/>
                  <a:pt x="18020" y="17716"/>
                  <a:pt x="18098" y="17724"/>
                </a:cubicBezTo>
                <a:cubicBezTo>
                  <a:pt x="18326" y="17746"/>
                  <a:pt x="18551" y="17726"/>
                  <a:pt x="18779" y="17713"/>
                </a:cubicBezTo>
                <a:cubicBezTo>
                  <a:pt x="18850" y="17709"/>
                  <a:pt x="18919" y="17698"/>
                  <a:pt x="18989" y="17686"/>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5219640" y="1973160"/>
            <a:ext cx="169920" cy="324000"/>
          </a:xfrm>
          <a:custGeom>
            <a:avLst/>
            <a:gdLst/>
            <a:ahLst/>
            <a:rect l="l" t="t" r="r" b="b"/>
            <a:pathLst>
              <a:path w="473" h="899">
                <a:moveTo>
                  <a:pt x="14806" y="5879"/>
                </a:moveTo>
                <a:cubicBezTo>
                  <a:pt x="14808" y="5882"/>
                  <a:pt x="14808" y="5881"/>
                  <a:pt x="14811" y="5884"/>
                </a:cubicBezTo>
                <a:cubicBezTo>
                  <a:pt x="14806" y="5874"/>
                  <a:pt x="14804" y="5866"/>
                  <a:pt x="14795" y="5855"/>
                </a:cubicBezTo>
                <a:cubicBezTo>
                  <a:pt x="14777" y="5832"/>
                  <a:pt x="14758" y="5811"/>
                  <a:pt x="14736" y="5791"/>
                </a:cubicBezTo>
                <a:cubicBezTo>
                  <a:pt x="14704" y="5761"/>
                  <a:pt x="14675" y="5729"/>
                  <a:pt x="14643" y="5699"/>
                </a:cubicBezTo>
                <a:cubicBezTo>
                  <a:pt x="14608" y="5666"/>
                  <a:pt x="14582" y="5628"/>
                  <a:pt x="14555" y="5587"/>
                </a:cubicBezTo>
                <a:cubicBezTo>
                  <a:pt x="14538" y="5561"/>
                  <a:pt x="14526" y="5536"/>
                  <a:pt x="14514" y="5508"/>
                </a:cubicBezTo>
                <a:cubicBezTo>
                  <a:pt x="14510" y="5498"/>
                  <a:pt x="14506" y="5490"/>
                  <a:pt x="14501" y="5481"/>
                </a:cubicBezTo>
                <a:cubicBezTo>
                  <a:pt x="14506" y="5488"/>
                  <a:pt x="14509" y="5492"/>
                  <a:pt x="14514" y="5499"/>
                </a:cubicBezTo>
                <a:cubicBezTo>
                  <a:pt x="14524" y="5511"/>
                  <a:pt x="14528" y="5516"/>
                  <a:pt x="14532" y="5526"/>
                </a:cubicBezTo>
              </a:path>
              <a:path w="473" h="899">
                <a:moveTo>
                  <a:pt x="14935" y="5968"/>
                </a:moveTo>
                <a:cubicBezTo>
                  <a:pt x="14947" y="5976"/>
                  <a:pt x="14960" y="5984"/>
                  <a:pt x="14971" y="5992"/>
                </a:cubicBezTo>
                <a:cubicBezTo>
                  <a:pt x="14971" y="5992"/>
                  <a:pt x="14971" y="5993"/>
                  <a:pt x="14971" y="5993"/>
                </a:cubicBezTo>
                <a:cubicBezTo>
                  <a:pt x="14960" y="5996"/>
                  <a:pt x="14949" y="5998"/>
                  <a:pt x="14937" y="5999"/>
                </a:cubicBezTo>
                <a:cubicBezTo>
                  <a:pt x="14909" y="6002"/>
                  <a:pt x="14881" y="6024"/>
                  <a:pt x="14860" y="6042"/>
                </a:cubicBezTo>
                <a:cubicBezTo>
                  <a:pt x="14821" y="6075"/>
                  <a:pt x="14788" y="6112"/>
                  <a:pt x="14754" y="6149"/>
                </a:cubicBezTo>
                <a:cubicBezTo>
                  <a:pt x="14720" y="6186"/>
                  <a:pt x="14687" y="6223"/>
                  <a:pt x="14657" y="6262"/>
                </a:cubicBezTo>
                <a:cubicBezTo>
                  <a:pt x="14640" y="6284"/>
                  <a:pt x="14623" y="6308"/>
                  <a:pt x="14610" y="6332"/>
                </a:cubicBezTo>
                <a:cubicBezTo>
                  <a:pt x="14604" y="6344"/>
                  <a:pt x="14598" y="6357"/>
                  <a:pt x="14600" y="6371"/>
                </a:cubicBezTo>
                <a:cubicBezTo>
                  <a:pt x="14602" y="6374"/>
                  <a:pt x="14603" y="6376"/>
                  <a:pt x="14605" y="6379"/>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653080" y="1922400"/>
            <a:ext cx="835200" cy="293760"/>
          </a:xfrm>
          <a:custGeom>
            <a:avLst/>
            <a:gdLst/>
            <a:ahLst/>
            <a:rect l="l" t="t" r="r" b="b"/>
            <a:pathLst>
              <a:path w="2319" h="815">
                <a:moveTo>
                  <a:pt x="15895" y="5733"/>
                </a:moveTo>
                <a:cubicBezTo>
                  <a:pt x="15895" y="5715"/>
                  <a:pt x="15895" y="5696"/>
                  <a:pt x="15895" y="5678"/>
                </a:cubicBezTo>
                <a:cubicBezTo>
                  <a:pt x="15893" y="5687"/>
                  <a:pt x="15895" y="5683"/>
                  <a:pt x="15892" y="5692"/>
                </a:cubicBezTo>
                <a:cubicBezTo>
                  <a:pt x="15881" y="5732"/>
                  <a:pt x="15863" y="5765"/>
                  <a:pt x="15845" y="5803"/>
                </a:cubicBezTo>
                <a:cubicBezTo>
                  <a:pt x="15819" y="5856"/>
                  <a:pt x="15791" y="5907"/>
                  <a:pt x="15765" y="5959"/>
                </a:cubicBezTo>
                <a:cubicBezTo>
                  <a:pt x="15746" y="5997"/>
                  <a:pt x="15726" y="6038"/>
                  <a:pt x="15714" y="6078"/>
                </a:cubicBezTo>
                <a:cubicBezTo>
                  <a:pt x="15709" y="6096"/>
                  <a:pt x="15700" y="6123"/>
                  <a:pt x="15707" y="6142"/>
                </a:cubicBezTo>
                <a:cubicBezTo>
                  <a:pt x="15711" y="6149"/>
                  <a:pt x="15712" y="6151"/>
                  <a:pt x="15714" y="6155"/>
                </a:cubicBezTo>
              </a:path>
              <a:path w="2319" h="815">
                <a:moveTo>
                  <a:pt x="15876" y="5769"/>
                </a:moveTo>
                <a:cubicBezTo>
                  <a:pt x="15897" y="5738"/>
                  <a:pt x="15918" y="5707"/>
                  <a:pt x="15942" y="5678"/>
                </a:cubicBezTo>
                <a:cubicBezTo>
                  <a:pt x="15951" y="5667"/>
                  <a:pt x="15960" y="5657"/>
                  <a:pt x="15969" y="5649"/>
                </a:cubicBezTo>
                <a:cubicBezTo>
                  <a:pt x="15971" y="5648"/>
                  <a:pt x="15972" y="5648"/>
                  <a:pt x="15974" y="5647"/>
                </a:cubicBezTo>
                <a:cubicBezTo>
                  <a:pt x="15982" y="5663"/>
                  <a:pt x="15990" y="5679"/>
                  <a:pt x="15998" y="5696"/>
                </a:cubicBezTo>
                <a:cubicBezTo>
                  <a:pt x="16011" y="5725"/>
                  <a:pt x="16023" y="5756"/>
                  <a:pt x="16037" y="5785"/>
                </a:cubicBezTo>
                <a:cubicBezTo>
                  <a:pt x="16064" y="5839"/>
                  <a:pt x="16091" y="5892"/>
                  <a:pt x="16134" y="5936"/>
                </a:cubicBezTo>
                <a:cubicBezTo>
                  <a:pt x="16158" y="5960"/>
                  <a:pt x="16188" y="5975"/>
                  <a:pt x="16220" y="5984"/>
                </a:cubicBezTo>
                <a:cubicBezTo>
                  <a:pt x="16256" y="5994"/>
                  <a:pt x="16296" y="5998"/>
                  <a:pt x="16333" y="5999"/>
                </a:cubicBezTo>
                <a:cubicBezTo>
                  <a:pt x="16382" y="6000"/>
                  <a:pt x="16425" y="5979"/>
                  <a:pt x="16458" y="5943"/>
                </a:cubicBezTo>
                <a:cubicBezTo>
                  <a:pt x="16492" y="5907"/>
                  <a:pt x="16512" y="5859"/>
                  <a:pt x="16526" y="5812"/>
                </a:cubicBezTo>
                <a:cubicBezTo>
                  <a:pt x="16541" y="5762"/>
                  <a:pt x="16555" y="5707"/>
                  <a:pt x="16560" y="5655"/>
                </a:cubicBezTo>
                <a:cubicBezTo>
                  <a:pt x="16564" y="5611"/>
                  <a:pt x="16571" y="5566"/>
                  <a:pt x="16575" y="5522"/>
                </a:cubicBezTo>
                <a:cubicBezTo>
                  <a:pt x="16577" y="5495"/>
                  <a:pt x="16580" y="5470"/>
                  <a:pt x="16585" y="5443"/>
                </a:cubicBezTo>
              </a:path>
              <a:path w="2319" h="815">
                <a:moveTo>
                  <a:pt x="17146" y="5708"/>
                </a:moveTo>
                <a:cubicBezTo>
                  <a:pt x="17157" y="5713"/>
                  <a:pt x="17171" y="5721"/>
                  <a:pt x="17180" y="5725"/>
                </a:cubicBezTo>
                <a:cubicBezTo>
                  <a:pt x="17133" y="5727"/>
                  <a:pt x="17088" y="5727"/>
                  <a:pt x="17042" y="5735"/>
                </a:cubicBezTo>
                <a:cubicBezTo>
                  <a:pt x="16951" y="5752"/>
                  <a:pt x="16861" y="5788"/>
                  <a:pt x="16793" y="5852"/>
                </a:cubicBezTo>
                <a:cubicBezTo>
                  <a:pt x="16756" y="5887"/>
                  <a:pt x="16721" y="5934"/>
                  <a:pt x="16697" y="5979"/>
                </a:cubicBezTo>
                <a:cubicBezTo>
                  <a:pt x="16685" y="6001"/>
                  <a:pt x="16671" y="6035"/>
                  <a:pt x="16695" y="6054"/>
                </a:cubicBezTo>
                <a:cubicBezTo>
                  <a:pt x="16722" y="6075"/>
                  <a:pt x="16770" y="6078"/>
                  <a:pt x="16802" y="6081"/>
                </a:cubicBezTo>
                <a:cubicBezTo>
                  <a:pt x="16853" y="6086"/>
                  <a:pt x="16911" y="6089"/>
                  <a:pt x="16962" y="6083"/>
                </a:cubicBezTo>
                <a:cubicBezTo>
                  <a:pt x="17008" y="6078"/>
                  <a:pt x="17068" y="6060"/>
                  <a:pt x="17087" y="6015"/>
                </a:cubicBezTo>
                <a:cubicBezTo>
                  <a:pt x="17099" y="5986"/>
                  <a:pt x="17093" y="5959"/>
                  <a:pt x="17087" y="5929"/>
                </a:cubicBezTo>
                <a:cubicBezTo>
                  <a:pt x="17082" y="5906"/>
                  <a:pt x="17078" y="5883"/>
                  <a:pt x="17075" y="5859"/>
                </a:cubicBezTo>
              </a:path>
              <a:path w="2319" h="815">
                <a:moveTo>
                  <a:pt x="17621" y="5341"/>
                </a:moveTo>
                <a:cubicBezTo>
                  <a:pt x="17621" y="5369"/>
                  <a:pt x="17620" y="5394"/>
                  <a:pt x="17616" y="5422"/>
                </a:cubicBezTo>
                <a:cubicBezTo>
                  <a:pt x="17607" y="5482"/>
                  <a:pt x="17597" y="5543"/>
                  <a:pt x="17589" y="5603"/>
                </a:cubicBezTo>
                <a:cubicBezTo>
                  <a:pt x="17580" y="5672"/>
                  <a:pt x="17575" y="5743"/>
                  <a:pt x="17562" y="5811"/>
                </a:cubicBezTo>
                <a:cubicBezTo>
                  <a:pt x="17555" y="5845"/>
                  <a:pt x="17548" y="5880"/>
                  <a:pt x="17546" y="5914"/>
                </a:cubicBezTo>
                <a:cubicBezTo>
                  <a:pt x="17545" y="5935"/>
                  <a:pt x="17542" y="5953"/>
                  <a:pt x="17542" y="5974"/>
                </a:cubicBezTo>
                <a:cubicBezTo>
                  <a:pt x="17542" y="5989"/>
                  <a:pt x="17544" y="6008"/>
                  <a:pt x="17546" y="6018"/>
                </a:cubicBezTo>
              </a:path>
              <a:path w="2319" h="815">
                <a:moveTo>
                  <a:pt x="17446" y="5776"/>
                </a:moveTo>
                <a:cubicBezTo>
                  <a:pt x="17432" y="5753"/>
                  <a:pt x="17419" y="5730"/>
                  <a:pt x="17408" y="5705"/>
                </a:cubicBezTo>
                <a:cubicBezTo>
                  <a:pt x="17403" y="5694"/>
                  <a:pt x="17402" y="5685"/>
                  <a:pt x="17401" y="5674"/>
                </a:cubicBezTo>
                <a:cubicBezTo>
                  <a:pt x="17401" y="5673"/>
                  <a:pt x="17401" y="5672"/>
                  <a:pt x="17401" y="5671"/>
                </a:cubicBezTo>
                <a:cubicBezTo>
                  <a:pt x="17421" y="5668"/>
                  <a:pt x="17439" y="5668"/>
                  <a:pt x="17460" y="5667"/>
                </a:cubicBezTo>
                <a:cubicBezTo>
                  <a:pt x="17505" y="5665"/>
                  <a:pt x="17550" y="5656"/>
                  <a:pt x="17594" y="5649"/>
                </a:cubicBezTo>
                <a:cubicBezTo>
                  <a:pt x="17648" y="5640"/>
                  <a:pt x="17703" y="5636"/>
                  <a:pt x="17758" y="5628"/>
                </a:cubicBezTo>
                <a:cubicBezTo>
                  <a:pt x="17806" y="5621"/>
                  <a:pt x="17853" y="5616"/>
                  <a:pt x="17901" y="5613"/>
                </a:cubicBezTo>
                <a:cubicBezTo>
                  <a:pt x="17926" y="5612"/>
                  <a:pt x="17949" y="5608"/>
                  <a:pt x="17974" y="5608"/>
                </a:cubicBezTo>
                <a:cubicBezTo>
                  <a:pt x="17990" y="5608"/>
                  <a:pt x="18007" y="5608"/>
                  <a:pt x="18023" y="5608"/>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978600" y="1946160"/>
            <a:ext cx="444600" cy="227160"/>
          </a:xfrm>
          <a:custGeom>
            <a:avLst/>
            <a:gdLst/>
            <a:ahLst/>
            <a:rect l="l" t="t" r="r" b="b"/>
            <a:pathLst>
              <a:path w="1234" h="631">
                <a:moveTo>
                  <a:pt x="19539" y="5465"/>
                </a:moveTo>
                <a:cubicBezTo>
                  <a:pt x="19531" y="5450"/>
                  <a:pt x="19526" y="5437"/>
                  <a:pt x="19521" y="5422"/>
                </a:cubicBezTo>
                <a:cubicBezTo>
                  <a:pt x="19516" y="5407"/>
                  <a:pt x="19519" y="5419"/>
                  <a:pt x="19516" y="5407"/>
                </a:cubicBezTo>
                <a:cubicBezTo>
                  <a:pt x="19509" y="5409"/>
                  <a:pt x="19505" y="5404"/>
                  <a:pt x="19498" y="5409"/>
                </a:cubicBezTo>
                <a:cubicBezTo>
                  <a:pt x="19475" y="5424"/>
                  <a:pt x="19458" y="5470"/>
                  <a:pt x="19446" y="5493"/>
                </a:cubicBezTo>
                <a:cubicBezTo>
                  <a:pt x="19422" y="5539"/>
                  <a:pt x="19405" y="5584"/>
                  <a:pt x="19396" y="5635"/>
                </a:cubicBezTo>
                <a:cubicBezTo>
                  <a:pt x="19388" y="5680"/>
                  <a:pt x="19386" y="5723"/>
                  <a:pt x="19392" y="5768"/>
                </a:cubicBezTo>
                <a:cubicBezTo>
                  <a:pt x="19397" y="5803"/>
                  <a:pt x="19407" y="5839"/>
                  <a:pt x="19424" y="5870"/>
                </a:cubicBezTo>
                <a:cubicBezTo>
                  <a:pt x="19437" y="5894"/>
                  <a:pt x="19451" y="5913"/>
                  <a:pt x="19476" y="5925"/>
                </a:cubicBezTo>
                <a:cubicBezTo>
                  <a:pt x="19496" y="5935"/>
                  <a:pt x="19518" y="5945"/>
                  <a:pt x="19541" y="5945"/>
                </a:cubicBezTo>
                <a:cubicBezTo>
                  <a:pt x="19564" y="5945"/>
                  <a:pt x="19578" y="5935"/>
                  <a:pt x="19598" y="5925"/>
                </a:cubicBezTo>
                <a:cubicBezTo>
                  <a:pt x="19623" y="5912"/>
                  <a:pt x="19644" y="5892"/>
                  <a:pt x="19664" y="5873"/>
                </a:cubicBezTo>
                <a:cubicBezTo>
                  <a:pt x="19692" y="5846"/>
                  <a:pt x="19712" y="5817"/>
                  <a:pt x="19736" y="5787"/>
                </a:cubicBezTo>
                <a:cubicBezTo>
                  <a:pt x="19761" y="5756"/>
                  <a:pt x="19786" y="5724"/>
                  <a:pt x="19810" y="5692"/>
                </a:cubicBezTo>
                <a:cubicBezTo>
                  <a:pt x="19825" y="5671"/>
                  <a:pt x="19843" y="5656"/>
                  <a:pt x="19862" y="5640"/>
                </a:cubicBezTo>
                <a:cubicBezTo>
                  <a:pt x="19866" y="5637"/>
                  <a:pt x="19871" y="5632"/>
                  <a:pt x="19874" y="5630"/>
                </a:cubicBezTo>
                <a:cubicBezTo>
                  <a:pt x="19872" y="5649"/>
                  <a:pt x="19869" y="5672"/>
                  <a:pt x="19869" y="5692"/>
                </a:cubicBezTo>
                <a:cubicBezTo>
                  <a:pt x="19868" y="5738"/>
                  <a:pt x="19865" y="5788"/>
                  <a:pt x="19874" y="5834"/>
                </a:cubicBezTo>
                <a:cubicBezTo>
                  <a:pt x="19879" y="5859"/>
                  <a:pt x="19891" y="5886"/>
                  <a:pt x="19906" y="5907"/>
                </a:cubicBezTo>
                <a:cubicBezTo>
                  <a:pt x="19917" y="5923"/>
                  <a:pt x="19933" y="5936"/>
                  <a:pt x="19946" y="5950"/>
                </a:cubicBezTo>
              </a:path>
              <a:path w="1234" h="631">
                <a:moveTo>
                  <a:pt x="20152" y="5644"/>
                </a:moveTo>
                <a:cubicBezTo>
                  <a:pt x="20155" y="5649"/>
                  <a:pt x="20160" y="5644"/>
                  <a:pt x="20163" y="5656"/>
                </a:cubicBezTo>
                <a:cubicBezTo>
                  <a:pt x="20170" y="5685"/>
                  <a:pt x="20166" y="5723"/>
                  <a:pt x="20166" y="5753"/>
                </a:cubicBezTo>
                <a:cubicBezTo>
                  <a:pt x="20167" y="5830"/>
                  <a:pt x="20166" y="5907"/>
                  <a:pt x="20166" y="5984"/>
                </a:cubicBezTo>
                <a:cubicBezTo>
                  <a:pt x="20170" y="5971"/>
                  <a:pt x="20173" y="5957"/>
                  <a:pt x="20182" y="5945"/>
                </a:cubicBezTo>
                <a:cubicBezTo>
                  <a:pt x="20205" y="5911"/>
                  <a:pt x="20229" y="5877"/>
                  <a:pt x="20254" y="5845"/>
                </a:cubicBezTo>
                <a:cubicBezTo>
                  <a:pt x="20283" y="5808"/>
                  <a:pt x="20315" y="5776"/>
                  <a:pt x="20351" y="5746"/>
                </a:cubicBezTo>
                <a:cubicBezTo>
                  <a:pt x="20383" y="5720"/>
                  <a:pt x="20418" y="5703"/>
                  <a:pt x="20457" y="5690"/>
                </a:cubicBezTo>
                <a:cubicBezTo>
                  <a:pt x="20489" y="5679"/>
                  <a:pt x="20516" y="5673"/>
                  <a:pt x="20546" y="5689"/>
                </a:cubicBezTo>
                <a:cubicBezTo>
                  <a:pt x="20575" y="5705"/>
                  <a:pt x="20591" y="5736"/>
                  <a:pt x="20602" y="5766"/>
                </a:cubicBezTo>
                <a:cubicBezTo>
                  <a:pt x="20613" y="5799"/>
                  <a:pt x="20612" y="5834"/>
                  <a:pt x="20616" y="5868"/>
                </a:cubicBezTo>
                <a:cubicBezTo>
                  <a:pt x="20620" y="5900"/>
                  <a:pt x="20620" y="5931"/>
                  <a:pt x="20620" y="5963"/>
                </a:cubicBezTo>
                <a:cubicBezTo>
                  <a:pt x="20620" y="5987"/>
                  <a:pt x="20620" y="6012"/>
                  <a:pt x="20620" y="6036"/>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559640" y="1906560"/>
            <a:ext cx="1319400" cy="303120"/>
          </a:xfrm>
          <a:custGeom>
            <a:avLst/>
            <a:gdLst/>
            <a:ahLst/>
            <a:rect l="l" t="t" r="r" b="b"/>
            <a:pathLst>
              <a:path w="3664" h="842">
                <a:moveTo>
                  <a:pt x="21473" y="5440"/>
                </a:moveTo>
                <a:cubicBezTo>
                  <a:pt x="21460" y="5413"/>
                  <a:pt x="21448" y="5388"/>
                  <a:pt x="21440" y="5359"/>
                </a:cubicBezTo>
                <a:cubicBezTo>
                  <a:pt x="21437" y="5348"/>
                  <a:pt x="21438" y="5328"/>
                  <a:pt x="21433" y="5318"/>
                </a:cubicBezTo>
                <a:cubicBezTo>
                  <a:pt x="21424" y="5302"/>
                  <a:pt x="21420" y="5307"/>
                  <a:pt x="21403" y="5302"/>
                </a:cubicBezTo>
                <a:cubicBezTo>
                  <a:pt x="21373" y="5294"/>
                  <a:pt x="21347" y="5296"/>
                  <a:pt x="21319" y="5311"/>
                </a:cubicBezTo>
                <a:cubicBezTo>
                  <a:pt x="21274" y="5334"/>
                  <a:pt x="21230" y="5370"/>
                  <a:pt x="21198" y="5409"/>
                </a:cubicBezTo>
                <a:cubicBezTo>
                  <a:pt x="21154" y="5463"/>
                  <a:pt x="21117" y="5525"/>
                  <a:pt x="21086" y="5587"/>
                </a:cubicBezTo>
                <a:cubicBezTo>
                  <a:pt x="21056" y="5646"/>
                  <a:pt x="21031" y="5709"/>
                  <a:pt x="21012" y="5773"/>
                </a:cubicBezTo>
                <a:cubicBezTo>
                  <a:pt x="20995" y="5829"/>
                  <a:pt x="20992" y="5892"/>
                  <a:pt x="21035" y="5938"/>
                </a:cubicBezTo>
                <a:cubicBezTo>
                  <a:pt x="21066" y="5971"/>
                  <a:pt x="21106" y="5993"/>
                  <a:pt x="21148" y="6009"/>
                </a:cubicBezTo>
                <a:cubicBezTo>
                  <a:pt x="21199" y="6028"/>
                  <a:pt x="21257" y="6036"/>
                  <a:pt x="21311" y="6042"/>
                </a:cubicBezTo>
                <a:cubicBezTo>
                  <a:pt x="21341" y="6045"/>
                  <a:pt x="21371" y="6048"/>
                  <a:pt x="21401" y="6049"/>
                </a:cubicBezTo>
                <a:cubicBezTo>
                  <a:pt x="21430" y="6050"/>
                  <a:pt x="21451" y="6046"/>
                  <a:pt x="21478" y="6038"/>
                </a:cubicBezTo>
              </a:path>
              <a:path w="3664" h="842">
                <a:moveTo>
                  <a:pt x="21958" y="5710"/>
                </a:moveTo>
                <a:cubicBezTo>
                  <a:pt x="21957" y="5676"/>
                  <a:pt x="21959" y="5653"/>
                  <a:pt x="21924" y="5638"/>
                </a:cubicBezTo>
                <a:cubicBezTo>
                  <a:pt x="21892" y="5624"/>
                  <a:pt x="21848" y="5624"/>
                  <a:pt x="21815" y="5630"/>
                </a:cubicBezTo>
                <a:cubicBezTo>
                  <a:pt x="21766" y="5639"/>
                  <a:pt x="21730" y="5665"/>
                  <a:pt x="21697" y="5701"/>
                </a:cubicBezTo>
                <a:cubicBezTo>
                  <a:pt x="21667" y="5733"/>
                  <a:pt x="21641" y="5779"/>
                  <a:pt x="21634" y="5823"/>
                </a:cubicBezTo>
                <a:cubicBezTo>
                  <a:pt x="21627" y="5865"/>
                  <a:pt x="21643" y="5895"/>
                  <a:pt x="21672" y="5923"/>
                </a:cubicBezTo>
                <a:cubicBezTo>
                  <a:pt x="21704" y="5953"/>
                  <a:pt x="21733" y="5973"/>
                  <a:pt x="21776" y="5983"/>
                </a:cubicBezTo>
                <a:cubicBezTo>
                  <a:pt x="21810" y="5991"/>
                  <a:pt x="21846" y="5994"/>
                  <a:pt x="21881" y="5993"/>
                </a:cubicBezTo>
                <a:cubicBezTo>
                  <a:pt x="21901" y="5993"/>
                  <a:pt x="21930" y="5992"/>
                  <a:pt x="21942" y="5972"/>
                </a:cubicBezTo>
                <a:cubicBezTo>
                  <a:pt x="21956" y="5948"/>
                  <a:pt x="21952" y="5930"/>
                  <a:pt x="21942" y="5905"/>
                </a:cubicBezTo>
                <a:cubicBezTo>
                  <a:pt x="21929" y="5872"/>
                  <a:pt x="21908" y="5842"/>
                  <a:pt x="21901" y="5807"/>
                </a:cubicBezTo>
                <a:cubicBezTo>
                  <a:pt x="21900" y="5802"/>
                  <a:pt x="21900" y="5796"/>
                  <a:pt x="21899" y="5791"/>
                </a:cubicBezTo>
              </a:path>
              <a:path w="3664" h="842">
                <a:moveTo>
                  <a:pt x="22121" y="5587"/>
                </a:moveTo>
                <a:cubicBezTo>
                  <a:pt x="22148" y="5658"/>
                  <a:pt x="22158" y="5723"/>
                  <a:pt x="22164" y="5798"/>
                </a:cubicBezTo>
                <a:cubicBezTo>
                  <a:pt x="22169" y="5858"/>
                  <a:pt x="22173" y="5918"/>
                  <a:pt x="22173" y="5979"/>
                </a:cubicBezTo>
                <a:cubicBezTo>
                  <a:pt x="22173" y="6000"/>
                  <a:pt x="22171" y="6023"/>
                  <a:pt x="22175" y="6043"/>
                </a:cubicBezTo>
                <a:cubicBezTo>
                  <a:pt x="22176" y="6049"/>
                  <a:pt x="22180" y="6057"/>
                  <a:pt x="22181" y="6060"/>
                </a:cubicBezTo>
                <a:cubicBezTo>
                  <a:pt x="22184" y="6053"/>
                  <a:pt x="22188" y="6042"/>
                  <a:pt x="22191" y="6033"/>
                </a:cubicBezTo>
                <a:cubicBezTo>
                  <a:pt x="22200" y="6003"/>
                  <a:pt x="22215" y="5976"/>
                  <a:pt x="22224" y="5945"/>
                </a:cubicBezTo>
                <a:cubicBezTo>
                  <a:pt x="22242" y="5881"/>
                  <a:pt x="22259" y="5821"/>
                  <a:pt x="22286" y="5760"/>
                </a:cubicBezTo>
                <a:cubicBezTo>
                  <a:pt x="22300" y="5728"/>
                  <a:pt x="22317" y="5697"/>
                  <a:pt x="22338" y="5669"/>
                </a:cubicBezTo>
                <a:cubicBezTo>
                  <a:pt x="22347" y="5656"/>
                  <a:pt x="22362" y="5639"/>
                  <a:pt x="22376" y="5631"/>
                </a:cubicBezTo>
                <a:cubicBezTo>
                  <a:pt x="22400" y="5618"/>
                  <a:pt x="22411" y="5631"/>
                  <a:pt x="22426" y="5646"/>
                </a:cubicBezTo>
                <a:cubicBezTo>
                  <a:pt x="22447" y="5668"/>
                  <a:pt x="22460" y="5705"/>
                  <a:pt x="22469" y="5733"/>
                </a:cubicBezTo>
                <a:cubicBezTo>
                  <a:pt x="22481" y="5771"/>
                  <a:pt x="22494" y="5816"/>
                  <a:pt x="22501" y="5855"/>
                </a:cubicBezTo>
                <a:cubicBezTo>
                  <a:pt x="22508" y="5894"/>
                  <a:pt x="22503" y="5932"/>
                  <a:pt x="22532" y="5963"/>
                </a:cubicBezTo>
                <a:cubicBezTo>
                  <a:pt x="22545" y="5977"/>
                  <a:pt x="22558" y="5975"/>
                  <a:pt x="22573" y="5966"/>
                </a:cubicBezTo>
                <a:cubicBezTo>
                  <a:pt x="22597" y="5951"/>
                  <a:pt x="22614" y="5924"/>
                  <a:pt x="22629" y="5900"/>
                </a:cubicBezTo>
                <a:cubicBezTo>
                  <a:pt x="22656" y="5857"/>
                  <a:pt x="22677" y="5809"/>
                  <a:pt x="22702" y="5764"/>
                </a:cubicBezTo>
                <a:cubicBezTo>
                  <a:pt x="22718" y="5735"/>
                  <a:pt x="22733" y="5707"/>
                  <a:pt x="22752" y="5681"/>
                </a:cubicBezTo>
                <a:cubicBezTo>
                  <a:pt x="22757" y="5674"/>
                  <a:pt x="22765" y="5668"/>
                  <a:pt x="22770" y="5662"/>
                </a:cubicBezTo>
                <a:cubicBezTo>
                  <a:pt x="22774" y="5680"/>
                  <a:pt x="22775" y="5695"/>
                  <a:pt x="22776" y="5714"/>
                </a:cubicBezTo>
                <a:cubicBezTo>
                  <a:pt x="22780" y="5789"/>
                  <a:pt x="22770" y="5867"/>
                  <a:pt x="22781" y="5941"/>
                </a:cubicBezTo>
              </a:path>
              <a:path w="3664" h="842">
                <a:moveTo>
                  <a:pt x="22973" y="5692"/>
                </a:moveTo>
                <a:cubicBezTo>
                  <a:pt x="22991" y="5673"/>
                  <a:pt x="23005" y="5660"/>
                  <a:pt x="23026" y="5649"/>
                </a:cubicBezTo>
                <a:cubicBezTo>
                  <a:pt x="23034" y="5672"/>
                  <a:pt x="23034" y="5683"/>
                  <a:pt x="23030" y="5708"/>
                </a:cubicBezTo>
                <a:cubicBezTo>
                  <a:pt x="23023" y="5757"/>
                  <a:pt x="23004" y="5797"/>
                  <a:pt x="22989" y="5843"/>
                </a:cubicBezTo>
                <a:cubicBezTo>
                  <a:pt x="22975" y="5885"/>
                  <a:pt x="22961" y="5928"/>
                  <a:pt x="22949" y="5970"/>
                </a:cubicBezTo>
                <a:cubicBezTo>
                  <a:pt x="22943" y="5991"/>
                  <a:pt x="22938" y="6012"/>
                  <a:pt x="22933" y="6033"/>
                </a:cubicBezTo>
                <a:cubicBezTo>
                  <a:pt x="22932" y="6038"/>
                  <a:pt x="22931" y="6044"/>
                  <a:pt x="22930" y="6049"/>
                </a:cubicBezTo>
                <a:cubicBezTo>
                  <a:pt x="22936" y="6039"/>
                  <a:pt x="22942" y="6028"/>
                  <a:pt x="22948" y="6018"/>
                </a:cubicBezTo>
                <a:cubicBezTo>
                  <a:pt x="22968" y="5984"/>
                  <a:pt x="22982" y="5948"/>
                  <a:pt x="23001" y="5914"/>
                </a:cubicBezTo>
                <a:cubicBezTo>
                  <a:pt x="23023" y="5876"/>
                  <a:pt x="23042" y="5836"/>
                  <a:pt x="23064" y="5798"/>
                </a:cubicBezTo>
                <a:cubicBezTo>
                  <a:pt x="23083" y="5765"/>
                  <a:pt x="23102" y="5732"/>
                  <a:pt x="23121" y="5699"/>
                </a:cubicBezTo>
                <a:cubicBezTo>
                  <a:pt x="23131" y="5682"/>
                  <a:pt x="23143" y="5663"/>
                  <a:pt x="23159" y="5651"/>
                </a:cubicBezTo>
                <a:cubicBezTo>
                  <a:pt x="23161" y="5651"/>
                  <a:pt x="23162" y="5651"/>
                  <a:pt x="23164" y="5651"/>
                </a:cubicBezTo>
                <a:cubicBezTo>
                  <a:pt x="23169" y="5673"/>
                  <a:pt x="23173" y="5695"/>
                  <a:pt x="23173" y="5719"/>
                </a:cubicBezTo>
                <a:cubicBezTo>
                  <a:pt x="23173" y="5765"/>
                  <a:pt x="23164" y="5810"/>
                  <a:pt x="23152" y="5854"/>
                </a:cubicBezTo>
                <a:cubicBezTo>
                  <a:pt x="23141" y="5892"/>
                  <a:pt x="23127" y="5928"/>
                  <a:pt x="23116" y="5966"/>
                </a:cubicBezTo>
                <a:cubicBezTo>
                  <a:pt x="23110" y="5986"/>
                  <a:pt x="23103" y="5998"/>
                  <a:pt x="23109" y="6018"/>
                </a:cubicBezTo>
                <a:cubicBezTo>
                  <a:pt x="23110" y="6019"/>
                  <a:pt x="23112" y="6019"/>
                  <a:pt x="23113" y="6020"/>
                </a:cubicBezTo>
                <a:cubicBezTo>
                  <a:pt x="23135" y="6015"/>
                  <a:pt x="23145" y="6010"/>
                  <a:pt x="23163" y="5992"/>
                </a:cubicBezTo>
                <a:cubicBezTo>
                  <a:pt x="23188" y="5966"/>
                  <a:pt x="23210" y="5935"/>
                  <a:pt x="23233" y="5907"/>
                </a:cubicBezTo>
                <a:cubicBezTo>
                  <a:pt x="23265" y="5869"/>
                  <a:pt x="23291" y="5829"/>
                  <a:pt x="23320" y="5789"/>
                </a:cubicBezTo>
                <a:cubicBezTo>
                  <a:pt x="23340" y="5761"/>
                  <a:pt x="23363" y="5732"/>
                  <a:pt x="23387" y="5707"/>
                </a:cubicBezTo>
                <a:cubicBezTo>
                  <a:pt x="23396" y="5699"/>
                  <a:pt x="23399" y="5696"/>
                  <a:pt x="23405" y="5692"/>
                </a:cubicBezTo>
                <a:cubicBezTo>
                  <a:pt x="23411" y="5714"/>
                  <a:pt x="23410" y="5723"/>
                  <a:pt x="23403" y="5748"/>
                </a:cubicBezTo>
                <a:cubicBezTo>
                  <a:pt x="23393" y="5785"/>
                  <a:pt x="23385" y="5821"/>
                  <a:pt x="23381" y="5859"/>
                </a:cubicBezTo>
                <a:cubicBezTo>
                  <a:pt x="23377" y="5900"/>
                  <a:pt x="23377" y="5938"/>
                  <a:pt x="23378" y="5979"/>
                </a:cubicBezTo>
              </a:path>
              <a:path w="3664" h="842">
                <a:moveTo>
                  <a:pt x="23863" y="5880"/>
                </a:moveTo>
                <a:cubicBezTo>
                  <a:pt x="23880" y="5855"/>
                  <a:pt x="23893" y="5838"/>
                  <a:pt x="23894" y="5809"/>
                </a:cubicBezTo>
                <a:cubicBezTo>
                  <a:pt x="23863" y="5791"/>
                  <a:pt x="23831" y="5783"/>
                  <a:pt x="23794" y="5787"/>
                </a:cubicBezTo>
                <a:cubicBezTo>
                  <a:pt x="23734" y="5794"/>
                  <a:pt x="23680" y="5823"/>
                  <a:pt x="23630" y="5855"/>
                </a:cubicBezTo>
                <a:cubicBezTo>
                  <a:pt x="23590" y="5881"/>
                  <a:pt x="23548" y="5903"/>
                  <a:pt x="23523" y="5945"/>
                </a:cubicBezTo>
                <a:cubicBezTo>
                  <a:pt x="23505" y="5975"/>
                  <a:pt x="23506" y="6006"/>
                  <a:pt x="23530" y="6033"/>
                </a:cubicBezTo>
                <a:cubicBezTo>
                  <a:pt x="23554" y="6060"/>
                  <a:pt x="23602" y="6072"/>
                  <a:pt x="23636" y="6078"/>
                </a:cubicBezTo>
                <a:cubicBezTo>
                  <a:pt x="23675" y="6084"/>
                  <a:pt x="23720" y="6092"/>
                  <a:pt x="23759" y="6083"/>
                </a:cubicBezTo>
                <a:cubicBezTo>
                  <a:pt x="23787" y="6077"/>
                  <a:pt x="23818" y="6065"/>
                  <a:pt x="23837" y="6042"/>
                </a:cubicBezTo>
                <a:cubicBezTo>
                  <a:pt x="23858" y="6017"/>
                  <a:pt x="23860" y="5985"/>
                  <a:pt x="23865" y="5954"/>
                </a:cubicBezTo>
                <a:cubicBezTo>
                  <a:pt x="23866" y="5946"/>
                  <a:pt x="23868" y="5937"/>
                  <a:pt x="23869" y="5929"/>
                </a:cubicBezTo>
              </a:path>
              <a:path w="3664" h="842">
                <a:moveTo>
                  <a:pt x="24086" y="5637"/>
                </a:moveTo>
                <a:cubicBezTo>
                  <a:pt x="24118" y="5645"/>
                  <a:pt x="24122" y="5643"/>
                  <a:pt x="24139" y="5676"/>
                </a:cubicBezTo>
                <a:cubicBezTo>
                  <a:pt x="24158" y="5712"/>
                  <a:pt x="24166" y="5758"/>
                  <a:pt x="24175" y="5798"/>
                </a:cubicBezTo>
                <a:cubicBezTo>
                  <a:pt x="24185" y="5845"/>
                  <a:pt x="24186" y="5888"/>
                  <a:pt x="24188" y="5936"/>
                </a:cubicBezTo>
                <a:cubicBezTo>
                  <a:pt x="24189" y="5962"/>
                  <a:pt x="24188" y="5991"/>
                  <a:pt x="24181" y="6017"/>
                </a:cubicBezTo>
                <a:cubicBezTo>
                  <a:pt x="24179" y="6023"/>
                  <a:pt x="24175" y="6029"/>
                  <a:pt x="24173" y="6035"/>
                </a:cubicBezTo>
                <a:cubicBezTo>
                  <a:pt x="24187" y="6027"/>
                  <a:pt x="24202" y="6020"/>
                  <a:pt x="24215" y="6009"/>
                </a:cubicBezTo>
                <a:cubicBezTo>
                  <a:pt x="24273" y="5962"/>
                  <a:pt x="24321" y="5905"/>
                  <a:pt x="24383" y="5862"/>
                </a:cubicBezTo>
                <a:cubicBezTo>
                  <a:pt x="24426" y="5832"/>
                  <a:pt x="24474" y="5803"/>
                  <a:pt x="24523" y="5784"/>
                </a:cubicBezTo>
                <a:cubicBezTo>
                  <a:pt x="24550" y="5774"/>
                  <a:pt x="24591" y="5759"/>
                  <a:pt x="24618" y="5776"/>
                </a:cubicBezTo>
                <a:cubicBezTo>
                  <a:pt x="24639" y="5789"/>
                  <a:pt x="24653" y="5831"/>
                  <a:pt x="24657" y="5854"/>
                </a:cubicBezTo>
                <a:cubicBezTo>
                  <a:pt x="24663" y="5894"/>
                  <a:pt x="24664" y="5934"/>
                  <a:pt x="24659" y="5974"/>
                </a:cubicBezTo>
                <a:cubicBezTo>
                  <a:pt x="24654" y="6010"/>
                  <a:pt x="24642" y="6042"/>
                  <a:pt x="24632" y="6076"/>
                </a:cubicBezTo>
                <a:cubicBezTo>
                  <a:pt x="24626" y="6096"/>
                  <a:pt x="24622" y="6117"/>
                  <a:pt x="24618" y="6137"/>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2657520" y="2095560"/>
            <a:ext cx="2743200" cy="85680"/>
          </a:xfrm>
          <a:custGeom>
            <a:avLst/>
            <a:gdLst/>
            <a:ahLst/>
            <a:rect l="l" t="t" r="r" b="b"/>
            <a:pathLst>
              <a:path w="7619" h="236">
                <a:moveTo>
                  <a:pt x="7422" y="6008"/>
                </a:moveTo>
                <a:cubicBezTo>
                  <a:pt x="7408" y="6008"/>
                  <a:pt x="7394" y="6009"/>
                  <a:pt x="7381" y="6009"/>
                </a:cubicBezTo>
                <a:cubicBezTo>
                  <a:pt x="7415" y="6015"/>
                  <a:pt x="7451" y="6027"/>
                  <a:pt x="7487" y="6031"/>
                </a:cubicBezTo>
                <a:cubicBezTo>
                  <a:pt x="7606" y="6046"/>
                  <a:pt x="7725" y="6053"/>
                  <a:pt x="7845" y="6056"/>
                </a:cubicBezTo>
                <a:cubicBezTo>
                  <a:pt x="8315" y="6068"/>
                  <a:pt x="8793" y="6039"/>
                  <a:pt x="9263" y="6026"/>
                </a:cubicBezTo>
                <a:cubicBezTo>
                  <a:pt x="9880" y="6008"/>
                  <a:pt x="10498" y="6017"/>
                  <a:pt x="11116" y="6002"/>
                </a:cubicBezTo>
                <a:cubicBezTo>
                  <a:pt x="11710" y="5988"/>
                  <a:pt x="12311" y="5976"/>
                  <a:pt x="12904" y="5936"/>
                </a:cubicBezTo>
                <a:cubicBezTo>
                  <a:pt x="13399" y="5903"/>
                  <a:pt x="13896" y="5891"/>
                  <a:pt x="14392" y="5862"/>
                </a:cubicBezTo>
                <a:cubicBezTo>
                  <a:pt x="14548" y="5853"/>
                  <a:pt x="14707" y="5827"/>
                  <a:pt x="14863" y="5825"/>
                </a:cubicBezTo>
                <a:cubicBezTo>
                  <a:pt x="14913" y="5824"/>
                  <a:pt x="14957" y="5839"/>
                  <a:pt x="14999" y="5843"/>
                </a:cubicBezTo>
              </a:path>
            </a:pathLst>
          </a:custGeom>
          <a:noFill/>
          <a:ln cap="rnd" w="57240">
            <a:solidFill>
              <a:srgbClr val="d8e74b"/>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12" name=""/>
          <p:cNvGraphicFramePr/>
          <p:nvPr/>
        </p:nvGraphicFramePr>
        <p:xfrm>
          <a:off x="304920" y="685800"/>
          <a:ext cx="8686800" cy="4121280"/>
        </p:xfrm>
        <a:graphic>
          <a:graphicData uri="http://schemas.openxmlformats.org/drawingml/2006/table">
            <a:tbl>
              <a:tblPr/>
              <a:tblGrid>
                <a:gridCol w="2895480"/>
                <a:gridCol w="2895480"/>
                <a:gridCol w="2895840"/>
              </a:tblGrid>
              <a:tr h="728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ug: action</a:t>
                      </a:r>
                      <a:endParaRPr b="0" lang="en-US" sz="2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cations</a:t>
                      </a:r>
                      <a:endParaRPr b="0" lang="en-US" sz="2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dose</a:t>
                      </a:r>
                      <a:endParaRPr b="0" lang="en-US" sz="2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22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docaine: reduces intracranial response to laryngoscopy and bronchospastic response to laryngoscopy and intubation</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s with elevated intracranial pressure (ICP) or penetrating globe injury who are receiving succinylcholine; reactive airway disease</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mg/kg</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6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ropine: mitigates bradycardic response to succinylcholine</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under 10 years old</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2 mg/kg</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13" name=""/>
          <p:cNvSpPr/>
          <p:nvPr/>
        </p:nvSpPr>
        <p:spPr>
          <a:xfrm>
            <a:off x="1800" y="608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14" name=""/>
          <p:cNvSpPr/>
          <p:nvPr/>
        </p:nvSpPr>
        <p:spPr>
          <a:xfrm>
            <a:off x="457200" y="4648320"/>
            <a:ext cx="746748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457200" y="2057400"/>
            <a:ext cx="746748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200400" y="1523880"/>
            <a:ext cx="0" cy="449604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095880" y="1600200"/>
            <a:ext cx="0" cy="441972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964800" y="-720"/>
            <a:ext cx="6359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cations for Pretreatment Agents </a:t>
            </a:r>
            <a:endParaRPr b="0" lang="en-US" sz="2800" spc="-1" strike="noStrike">
              <a:solidFill>
                <a:srgbClr val="ffffff"/>
              </a:solidFill>
              <a:latin typeface="Arial"/>
            </a:endParaRPr>
          </a:p>
        </p:txBody>
      </p:sp>
      <p:graphicFrame>
        <p:nvGraphicFramePr>
          <p:cNvPr id="419" name=""/>
          <p:cNvGraphicFramePr/>
          <p:nvPr/>
        </p:nvGraphicFramePr>
        <p:xfrm>
          <a:off x="304920" y="4724280"/>
          <a:ext cx="8838720" cy="2133360"/>
        </p:xfrm>
        <a:graphic>
          <a:graphicData uri="http://schemas.openxmlformats.org/drawingml/2006/table">
            <a:tbl>
              <a:tblPr/>
              <a:tblGrid>
                <a:gridCol w="2946240"/>
                <a:gridCol w="2946240"/>
                <a:gridCol w="2946240"/>
              </a:tblGrid>
              <a:tr h="21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ntanyl: reduces sympathetic (heart rate, blood pressure) response to laryngoscopy and intubation</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ed ICP, intracranial hemorrhage, berry aneurysm, ischemic heart disease, aortic dissection</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μg/kg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20" name=""/>
          <p:cNvSpPr/>
          <p:nvPr/>
        </p:nvSpPr>
        <p:spPr>
          <a:xfrm>
            <a:off x="304920" y="3657600"/>
            <a:ext cx="777240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04920" y="1447920"/>
            <a:ext cx="761976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22" name=""/>
          <p:cNvGraphicFramePr/>
          <p:nvPr/>
        </p:nvGraphicFramePr>
        <p:xfrm>
          <a:off x="533520" y="1981080"/>
          <a:ext cx="8229240" cy="3919680"/>
        </p:xfrm>
        <a:graphic>
          <a:graphicData uri="http://schemas.openxmlformats.org/drawingml/2006/table">
            <a:tbl>
              <a:tblPr/>
              <a:tblGrid>
                <a:gridCol w="2275920"/>
                <a:gridCol w="3028680"/>
                <a:gridCol w="2924640"/>
              </a:tblGrid>
              <a:tr h="4597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Verdana"/>
                        </a:rPr>
                        <a:t>Agen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Verdana"/>
                        </a:rPr>
                        <a:t>Initial</a:t>
                      </a:r>
                      <a:br>
                        <a:rPr sz="2400"/>
                      </a:br>
                      <a:r>
                        <a:rPr b="1" lang="en-US" sz="2400" spc="-1" strike="noStrike">
                          <a:solidFill>
                            <a:srgbClr val="d8e74b"/>
                          </a:solidFill>
                          <a:latin typeface="Verdana"/>
                        </a:rPr>
                        <a:t>IV Dos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d8e74b"/>
                          </a:solidFill>
                          <a:latin typeface="Verdana"/>
                        </a:rPr>
                        <a:t>Duration of</a:t>
                      </a:r>
                      <a:br>
                        <a:rPr sz="2400"/>
                      </a:br>
                      <a:r>
                        <a:rPr b="1" lang="en-US" sz="2400" spc="-1" strike="noStrike">
                          <a:solidFill>
                            <a:srgbClr val="d8e74b"/>
                          </a:solidFill>
                          <a:latin typeface="Verdana"/>
                        </a:rPr>
                        <a:t>Action</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Morphin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3-5 m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2-3 hour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peridin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0 m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4 hour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Fentany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2-3 μ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0.5-1 hour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fentani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1-0.4 μ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0-45 minute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lfentani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10-15 μ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30 minutes</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23" name=""/>
          <p:cNvSpPr/>
          <p:nvPr/>
        </p:nvSpPr>
        <p:spPr>
          <a:xfrm>
            <a:off x="271080" y="685800"/>
            <a:ext cx="727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Commonly used intravenous opioids</a:t>
            </a:r>
            <a:endParaRPr b="0" lang="en-US" sz="3200" spc="-1" strike="noStrike">
              <a:solidFill>
                <a:srgbClr val="ffffff"/>
              </a:solidFill>
              <a:latin typeface="Arial"/>
            </a:endParaRPr>
          </a:p>
        </p:txBody>
      </p:sp>
      <p:sp>
        <p:nvSpPr>
          <p:cNvPr id="424" name=""/>
          <p:cNvSpPr/>
          <p:nvPr/>
        </p:nvSpPr>
        <p:spPr>
          <a:xfrm>
            <a:off x="2438280" y="1981080"/>
            <a:ext cx="0" cy="3962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867280" y="1981080"/>
            <a:ext cx="0" cy="3962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a:off x="838080" y="3581280"/>
            <a:ext cx="7315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447840" y="476280"/>
            <a:ext cx="8248320" cy="5905440"/>
          </a:xfrm>
          <a:prstGeom prst="rect">
            <a:avLst/>
          </a:prstGeom>
          <a:ln w="0">
            <a:noFill/>
          </a:ln>
        </p:spPr>
      </p:pic>
      <p:sp>
        <p:nvSpPr>
          <p:cNvPr id="428" name=""/>
          <p:cNvSpPr/>
          <p:nvPr/>
        </p:nvSpPr>
        <p:spPr>
          <a:xfrm>
            <a:off x="876600" y="4739040"/>
            <a:ext cx="3342960" cy="581400"/>
          </a:xfrm>
          <a:prstGeom prst="rect">
            <a:avLst/>
          </a:prstGeom>
          <a:solidFill>
            <a:srgbClr val="000066"/>
          </a:solidFill>
          <a:ln w="9360">
            <a:solidFill>
              <a:srgbClr val="d8e74b"/>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icothyrotom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21" name=""/>
          <p:cNvSpPr/>
          <p:nvPr/>
        </p:nvSpPr>
        <p:spPr>
          <a:xfrm>
            <a:off x="380880" y="15238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aw-Thrust Maneuv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1"/>
          <a:stretch/>
        </p:blipFill>
        <p:spPr>
          <a:xfrm>
            <a:off x="914400" y="2514600"/>
            <a:ext cx="2057400" cy="1981080"/>
          </a:xfrm>
          <a:prstGeom prst="rect">
            <a:avLst/>
          </a:prstGeom>
          <a:ln w="0">
            <a:noFill/>
          </a:ln>
        </p:spPr>
      </p:pic>
      <p:pic>
        <p:nvPicPr>
          <p:cNvPr id="123" name="" descr=""/>
          <p:cNvPicPr/>
          <p:nvPr/>
        </p:nvPicPr>
        <p:blipFill>
          <a:blip r:embed="rId2"/>
          <a:stretch/>
        </p:blipFill>
        <p:spPr>
          <a:xfrm>
            <a:off x="5029200" y="2514600"/>
            <a:ext cx="3048120" cy="1905120"/>
          </a:xfrm>
          <a:prstGeom prst="rect">
            <a:avLst/>
          </a:prstGeom>
          <a:ln w="0">
            <a:noFill/>
          </a:ln>
        </p:spPr>
      </p:pic>
      <p:sp>
        <p:nvSpPr>
          <p:cNvPr id="124" name=""/>
          <p:cNvSpPr/>
          <p:nvPr/>
        </p:nvSpPr>
        <p:spPr>
          <a:xfrm>
            <a:off x="4434120" y="1905120"/>
            <a:ext cx="445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Chin-Lift Maneuver</a:t>
            </a:r>
            <a:endParaRPr b="0" lang="en-US" sz="2800" spc="-1" strike="noStrike">
              <a:solidFill>
                <a:srgbClr val="ffffff"/>
              </a:solidFill>
              <a:latin typeface="Arial"/>
            </a:endParaRPr>
          </a:p>
        </p:txBody>
      </p:sp>
      <p:sp>
        <p:nvSpPr>
          <p:cNvPr id="125" name=""/>
          <p:cNvSpPr/>
          <p:nvPr/>
        </p:nvSpPr>
        <p:spPr>
          <a:xfrm>
            <a:off x="2441160" y="533520"/>
            <a:ext cx="357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Airway Maneuvers</a:t>
            </a:r>
            <a:endParaRPr b="0" lang="en-US" sz="2800" spc="-1" strike="noStrike">
              <a:solidFill>
                <a:srgbClr val="ffffff"/>
              </a:solidFill>
              <a:latin typeface="Arial"/>
            </a:endParaRPr>
          </a:p>
        </p:txBody>
      </p:sp>
      <p:sp>
        <p:nvSpPr>
          <p:cNvPr id="126" name=""/>
          <p:cNvSpPr/>
          <p:nvPr/>
        </p:nvSpPr>
        <p:spPr>
          <a:xfrm>
            <a:off x="1523880" y="4572000"/>
            <a:ext cx="6019920" cy="2449080"/>
          </a:xfrm>
          <a:prstGeom prst="rect">
            <a:avLst/>
          </a:prstGeom>
          <a:solidFill>
            <a:srgbClr val="000066"/>
          </a:solidFill>
          <a:ln w="76320">
            <a:solidFill>
              <a:srgbClr val="d8e74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maintaining airway patency, artificial airways may facilitate both spontaneous and bag-mask ventilati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6"/>
                                        </p:tgtEl>
                                        <p:attrNameLst>
                                          <p:attrName>style.visibility</p:attrName>
                                        </p:attrNameLst>
                                      </p:cBhvr>
                                      <p:to>
                                        <p:strVal val="visible"/>
                                      </p:to>
                                    </p:set>
                                    <p:anim calcmode="lin" valueType="num">
                                      <p:cBhvr additive="base">
                                        <p:cTn id="43" dur="500" fill="hold"/>
                                        <p:tgtEl>
                                          <p:spTgt spid="126"/>
                                        </p:tgtEl>
                                        <p:attrNameLst>
                                          <p:attrName>ppt_x</p:attrName>
                                        </p:attrNameLst>
                                      </p:cBhvr>
                                      <p:tavLst>
                                        <p:tav tm="0">
                                          <p:val>
                                            <p:strVal val="#ppt_x"/>
                                          </p:val>
                                        </p:tav>
                                        <p:tav tm="100000">
                                          <p:val>
                                            <p:strVal val="#ppt_x"/>
                                          </p:val>
                                        </p:tav>
                                      </p:tavLst>
                                    </p:anim>
                                    <p:anim calcmode="lin" valueType="num">
                                      <p:cBhvr additive="base">
                                        <p:cTn id="4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9:40:39Z</dcterms:created>
  <dc:creator>Administrator</dc:creator>
  <dc:description/>
  <dc:language>en-US</dc:language>
  <cp:lastModifiedBy>Zohair Al aseri</cp:lastModifiedBy>
  <dcterms:modified xsi:type="dcterms:W3CDTF">2005-12-13T06:03:25Z</dcterms:modified>
  <cp:revision>24</cp:revision>
  <dc:subject/>
  <dc:title>Slide 1</dc:title>
</cp:coreProperties>
</file>