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F7FE-6D3B-41AB-941A-E56DD45C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1C7F-392B-4286-A0BF-2FF5AC5F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9F2-50A3-4B30-87F2-3D975CCC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BC9-05A9-4CA0-8721-77349F70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387-DC93-401C-A294-2E74E515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D4D-039C-4990-9204-CEC8B730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331-7DBA-46D0-A55A-373722F5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85A9-D453-4E38-8707-59E226CC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AADE-729E-4872-B1A1-AE652BF4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B236-EF69-47AE-AAEA-57B4173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2809-D842-47DA-BCA3-4C26592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8D2E-0B61-4E3C-8391-F1D7845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BB7-51C9-4CED-A293-69DC1F5D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EA3-E4C2-44D9-A83E-30E05E6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B94-7916-427B-9988-3DAA559D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5DA5-2F0E-41D0-B03A-AE473C6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253-7D20-460F-A036-38776A0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A65C-FAE4-43CF-97CA-68E79EB2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2D0A-F26E-4D7D-8FFA-ED6DAA3B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9860-759A-44B5-988D-A09204CE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0D6E-3583-42DC-8BF2-F1292F6B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1EDF-D7FA-459E-B417-2E1467C7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F68A-6423-450A-838B-5F0D474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28C7-452F-4F5E-8266-889BD828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138A-659B-4387-8AEE-6789DD1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CE1-443A-4320-A3C7-5E03B64D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F472-B11F-47D5-896C-29052D28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393E-B358-4F26-B214-678E101C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63D8-A454-44FF-B921-2B7CD0C7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4650-74E1-4333-8656-FFDB684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1535-262A-4E7F-9198-1974B72E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AB5E-A61D-4C23-9A87-09A4D5C7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B707-B1E4-476E-886F-80A7F625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9764-2E33-4A20-824F-DB523FC3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9C74-E5E6-4A28-BA30-23DD2165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2EF1-DB60-4D97-B359-894D4ACB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E7E-2178-4EA2-92B3-DE45C21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0F22-387D-4A59-978D-0934402A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B0EE-62EF-4CEE-AAB8-3A6106CF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EA55-921E-4FDE-B4D0-D3F12D44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F091-14F1-4987-94B9-F724A4E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FF85-1F4B-43D1-A66D-6E05A820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1B3C-ED63-45D7-80C2-0207CCA8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BA0F-3ACF-4E61-9C47-6A224AE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53A8-0567-474D-A6E8-94A4211D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966A-2823-465C-9F4E-DC46EE21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26B-8540-43BE-95D5-0DCB66A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86F-8164-43FA-8804-F3F7B2B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AC3-053B-4A25-A583-1DF45C4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5D0-73E6-408C-8323-A43FAB9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D14-B95B-4D46-93D6-9C93C4C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8B1-6A1C-4068-A622-CCBE1D931E5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BAA-5291-4B4A-A981-2016AC2A797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C57-565C-4DB9-AD11-7D56E894304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BF2-3365-4214-A554-1EDF7929E69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books.org/w/index.php?title=Bacterium&amp;action=edit&amp;redlink=1" TargetMode="External"/><Relationship Id="rId2" Type="http://schemas.openxmlformats.org/officeDocument/2006/relationships/hyperlink" Target="http://en.wikibooks.org/w/index.php?title=Archaea&amp;action=edit&amp;redlink=1" TargetMode="External"/><Relationship Id="rId3" Type="http://schemas.openxmlformats.org/officeDocument/2006/relationships/hyperlink" Target="http://en.wikibooks.org/w/index.php?title=Protist&amp;action=edit&amp;redlink=1" TargetMode="External"/><Relationship Id="rId4" Type="http://schemas.openxmlformats.org/officeDocument/2006/relationships/hyperlink" Target="http://en.wikibooks.org/w/index.php?title=Fungus&amp;action=edit&amp;redlink=1" TargetMode="External"/><Relationship Id="rId5" Type="http://schemas.openxmlformats.org/officeDocument/2006/relationships/hyperlink" Target="http://en.wikibooks.org/w/index.php?title=Plant&amp;action=edit&amp;redlink=1" TargetMode="External"/><Relationship Id="rId6" Type="http://schemas.openxmlformats.org/officeDocument/2006/relationships/hyperlink" Target="http://en.wikibooks.org/w/index.php?title=Animal&amp;action=edit&amp;redlink=1" TargetMode="External"/><Relationship Id="rId7" Type="http://schemas.openxmlformats.org/officeDocument/2006/relationships/hyperlink" Target="http://en.wikibooks.org/w/index.php?title=&#924;m&amp;action=edit&amp;redlink=1" TargetMode="External"/><Relationship Id="rId8" Type="http://schemas.openxmlformats.org/officeDocument/2006/relationships/hyperlink" Target="http://en.wikibooks.org/w/index.php?title=&#924;m&amp;action=edit&amp;redlink=1" TargetMode="External"/><Relationship Id="rId9" Type="http://schemas.openxmlformats.org/officeDocument/2006/relationships/hyperlink" Target="http://en.wikibooks.org/w/index.php?title=Spermatozoon&amp;action=edit&amp;redlink=1" TargetMode="External"/><Relationship Id="rId10" Type="http://schemas.openxmlformats.org/officeDocument/2006/relationships/hyperlink" Target="http://en.wikibooks.org/w/index.php?title=Cell_nucleus&amp;action=edit&amp;redlink=1" TargetMode="External"/><Relationship Id="rId11" Type="http://schemas.openxmlformats.org/officeDocument/2006/relationships/hyperlink" Target="http://en.wikibooks.org/w/index.php?title=Nucleoid_region&amp;action=edit&amp;redlink=1" TargetMode="External"/><Relationship Id="rId12" Type="http://schemas.openxmlformats.org/officeDocument/2006/relationships/hyperlink" Target="http://en.wikibooks.org/w/index.php?title=Chromosome&amp;action=edit&amp;redlink=1" TargetMode="External"/><Relationship Id="rId13" Type="http://schemas.openxmlformats.org/officeDocument/2006/relationships/hyperlink" Target="http://en.wikibooks.org/w/index.php?title=Histone&amp;action=edit&amp;redlink=1" TargetMode="External"/><Relationship Id="rId14" Type="http://schemas.openxmlformats.org/officeDocument/2006/relationships/hyperlink" Target="http://en.wikibooks.org/w/index.php?title=Protein&amp;action=edit&amp;redlink=1" TargetMode="External"/><Relationship Id="rId15" Type="http://schemas.openxmlformats.org/officeDocument/2006/relationships/hyperlink" Target="http://en.wikibooks.org/wiki/Cytoplasm" TargetMode="External"/><Relationship Id="rId16" Type="http://schemas.openxmlformats.org/officeDocument/2006/relationships/hyperlink" Target="http://en.wikibooks.org/w/index.php?title=Ribosome&amp;action=edit&amp;redlink=1" TargetMode="External"/><Relationship Id="rId17" Type="http://schemas.openxmlformats.org/officeDocument/2006/relationships/hyperlink" Target="http://en.wikibooks.org/w/index.php?title=Cytoskeleton&amp;action=edit&amp;redlink=1" TargetMode="External"/><Relationship Id="rId18" Type="http://schemas.openxmlformats.org/officeDocument/2006/relationships/hyperlink" Target="http://en.wikibooks.org/w/index.php?title=Chemotaxis&amp;action=edit&amp;redlink=1" TargetMode="External"/><Relationship Id="rId19" Type="http://schemas.openxmlformats.org/officeDocument/2006/relationships/hyperlink" Target="http://en.wikibooks.org/w/index.php?title=Flagellum&amp;action=edit&amp;redlink=1" TargetMode="External"/><Relationship Id="rId20" Type="http://schemas.openxmlformats.org/officeDocument/2006/relationships/hyperlink" Target="http://en.wikibooks.org/w/index.php?title=Flagellin&amp;action=edit&amp;redlink=1" TargetMode="External"/><Relationship Id="rId21" Type="http://schemas.openxmlformats.org/officeDocument/2006/relationships/hyperlink" Target="http://en.wikibooks.org/w/index.php?title=Cilium&amp;action=edit&amp;redlink=1" TargetMode="External"/><Relationship Id="rId22" Type="http://schemas.openxmlformats.org/officeDocument/2006/relationships/hyperlink" Target="http://en.wikibooks.org/w/index.php?title=Microtubule&amp;action=edit&amp;redlink=1" TargetMode="External"/><Relationship Id="rId23" Type="http://schemas.openxmlformats.org/officeDocument/2006/relationships/hyperlink" Target="http://en.wikibooks.org/w/index.php?title=Lamellipodia&amp;action=edit&amp;redlink=1" TargetMode="External"/><Relationship Id="rId24" Type="http://schemas.openxmlformats.org/officeDocument/2006/relationships/hyperlink" Target="http://en.wikibooks.org/w/index.php?title=Filopodia&amp;action=edit&amp;redlink=1" TargetMode="External"/><Relationship Id="rId25" Type="http://schemas.openxmlformats.org/officeDocument/2006/relationships/hyperlink" Target="http://en.wikibooks.org/w/index.php?title=Actin&amp;action=edit&amp;redlink=1" TargetMode="External"/><Relationship Id="rId26" Type="http://schemas.openxmlformats.org/officeDocument/2006/relationships/hyperlink" Target="http://en.wikibooks.org/w/index.php?title=Mitochondrium&amp;action=edit&amp;redlink=1" TargetMode="External"/><Relationship Id="rId27" Type="http://schemas.openxmlformats.org/officeDocument/2006/relationships/hyperlink" Target="http://en.wikibooks.org/w/index.php?title=Chloroplast&amp;action=edit&amp;redlink=1" TargetMode="External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Trebuchet MS"/>
              </a:rPr>
              <a:t>Basics of Molecular Biology</a:t>
            </a:r>
            <a:br>
              <a:rPr sz="4300"/>
            </a:b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5640" y="23619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. Achraf El Allal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943280" y="2228760"/>
            <a:ext cx="4991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60948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In a DNA double helix, each type of nucleobase on one strand bonds with just one type of nucleobase on the other strand. This is called complementary base pairing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e two types of base pairs form different numbers of hydrogen bonds, AT forming two hydrogen bonds, and GC forming three hydrogen bonds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404040"/>
                </a:solidFill>
                <a:latin typeface="Trebuchet MS"/>
              </a:rPr>
              <a:t>One major difference between DNA and RNA is the sugar, with the 2-deoxyribose in DNA being replaced by the alternative pentose sugar </a:t>
            </a:r>
            <a:r>
              <a:rPr b="0" lang="en-IN" sz="1400" spc="-1" strike="noStrike" u="sng">
                <a:solidFill>
                  <a:srgbClr val="404040"/>
                </a:solidFill>
                <a:uFillTx/>
                <a:latin typeface="Trebuchet MS"/>
              </a:rPr>
              <a:t>ribose</a:t>
            </a:r>
            <a:r>
              <a:rPr b="0" lang="en-IN" sz="1400" spc="-1" strike="noStrike">
                <a:solidFill>
                  <a:srgbClr val="404040"/>
                </a:solidFill>
                <a:latin typeface="Trebuchet MS"/>
              </a:rPr>
              <a:t> in RNA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3" descr="D:\garima\pic\ribose.jpg"/>
          <p:cNvPicPr/>
          <p:nvPr/>
        </p:nvPicPr>
        <p:blipFill>
          <a:blip r:embed="rId1"/>
          <a:stretch/>
        </p:blipFill>
        <p:spPr>
          <a:xfrm>
            <a:off x="4976640" y="4390920"/>
            <a:ext cx="2000520" cy="2009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garima\pic\deoxyribose.jpg"/>
          <p:cNvPicPr/>
          <p:nvPr/>
        </p:nvPicPr>
        <p:blipFill>
          <a:blip r:embed="rId2"/>
          <a:stretch/>
        </p:blipFill>
        <p:spPr>
          <a:xfrm>
            <a:off x="990720" y="4700520"/>
            <a:ext cx="2205000" cy="19288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579132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D:\garima\pic\basepair.jpg"/>
          <p:cNvPicPr/>
          <p:nvPr/>
        </p:nvPicPr>
        <p:blipFill>
          <a:blip r:embed="rId3"/>
          <a:stretch/>
        </p:blipFill>
        <p:spPr>
          <a:xfrm>
            <a:off x="990720" y="1736640"/>
            <a:ext cx="5943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 u="sng">
                <a:solidFill>
                  <a:srgbClr val="90c226"/>
                </a:solidFill>
                <a:uFillTx/>
                <a:latin typeface="Trebuchet MS"/>
              </a:rPr>
              <a:t>Ribonucleic acid (RNA)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Trebuchet MS"/>
              </a:rPr>
              <a:t>RNA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is a biologically important type of molecule that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mplicated in a varied sort of biological roles in coding, decoding, regulation, and expression of gen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Each nucleotide consists of a </a:t>
            </a:r>
            <a:r>
              <a:rPr b="0" lang="en-IN" sz="2000" spc="-1" strike="noStrike" u="sng">
                <a:solidFill>
                  <a:srgbClr val="404040"/>
                </a:solidFill>
                <a:uFillTx/>
                <a:latin typeface="Trebuchet MS"/>
              </a:rPr>
              <a:t>nitrogenous base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, a </a:t>
            </a:r>
            <a:r>
              <a:rPr b="0" lang="en-IN" sz="2000" spc="-1" strike="noStrike" u="sng">
                <a:solidFill>
                  <a:srgbClr val="404040"/>
                </a:solidFill>
                <a:uFillTx/>
                <a:latin typeface="Trebuchet MS"/>
              </a:rPr>
              <a:t>ribose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sugar, and a </a:t>
            </a:r>
            <a:r>
              <a:rPr b="0" lang="en-IN" sz="2000" spc="-1" strike="noStrike" u="sng">
                <a:solidFill>
                  <a:srgbClr val="404040"/>
                </a:solidFill>
                <a:uFillTx/>
                <a:latin typeface="Trebuchet MS"/>
              </a:rPr>
              <a:t>phosphate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Picture 2" descr="D:\garima\pic\rna.jpg"/>
          <p:cNvPicPr/>
          <p:nvPr/>
        </p:nvPicPr>
        <p:blipFill>
          <a:blip r:embed="rId1"/>
          <a:stretch/>
        </p:blipFill>
        <p:spPr>
          <a:xfrm>
            <a:off x="3048120" y="30481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 u="sng">
                <a:solidFill>
                  <a:srgbClr val="90c226"/>
                </a:solidFill>
                <a:uFillTx/>
                <a:latin typeface="Trebuchet MS"/>
              </a:rPr>
              <a:t>Double-stranded RNA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61760" y="167616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Double-stranded RNA (dsRNA) is RNA with two complementary stran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rebuchet MS"/>
              </a:rPr>
              <a:t>dsRNA forms the genetic material of some </a:t>
            </a:r>
            <a:r>
              <a:rPr b="0" lang="en-IN" sz="2400" spc="-1" strike="noStrike" u="sng">
                <a:solidFill>
                  <a:srgbClr val="000000"/>
                </a:solidFill>
                <a:uFillTx/>
                <a:latin typeface="Trebuchet MS"/>
              </a:rPr>
              <a:t>viruses</a:t>
            </a:r>
            <a:r>
              <a:rPr b="0" lang="en-IN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IN" sz="2400" spc="-1" strike="noStrike" u="sng">
                <a:solidFill>
                  <a:srgbClr val="000000"/>
                </a:solidFill>
                <a:uFillTx/>
                <a:latin typeface="Trebuchet MS"/>
              </a:rPr>
              <a:t>double-stranded RNA viruses</a:t>
            </a:r>
            <a:r>
              <a:rPr b="0" lang="en-IN" sz="24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4" descr="D:\garima\pic\ds rna.bmp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Types of RN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609480"/>
          <a:ext cx="7696080" cy="1797120"/>
        </p:xfrm>
        <a:graphic>
          <a:graphicData uri="http://schemas.openxmlformats.org/drawingml/2006/table">
            <a:tbl>
              <a:tblPr/>
              <a:tblGrid>
                <a:gridCol w="2438280"/>
                <a:gridCol w="1752480"/>
                <a:gridCol w="1905120"/>
                <a:gridCol w="1600200"/>
              </a:tblGrid>
              <a:tr h="304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68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sseng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d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ibosomal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n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461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sp>
        <p:nvSpPr>
          <p:cNvPr id="260" name="Title 1"/>
          <p:cNvSpPr/>
          <p:nvPr/>
        </p:nvSpPr>
        <p:spPr>
          <a:xfrm>
            <a:off x="533520" y="2286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c43"/>
                </a:solidFill>
                <a:latin typeface="Trebuchet MS"/>
              </a:rPr>
              <a:t>in post-transcriptional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3111480"/>
          <a:ext cx="7696080" cy="138420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1923840"/>
                <a:gridCol w="192420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nuclear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licing and other 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karyotes and archa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0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A processing, DNA re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im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1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elomerase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elome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eukaryo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762120" y="5254560"/>
          <a:ext cx="8229600" cy="750960"/>
        </p:xfrm>
        <a:graphic>
          <a:graphicData uri="http://schemas.openxmlformats.org/drawingml/2006/table">
            <a:tbl>
              <a:tblPr/>
              <a:tblGrid>
                <a:gridCol w="2057400"/>
                <a:gridCol w="1447560"/>
                <a:gridCol w="2667240"/>
                <a:gridCol w="2057400"/>
              </a:tblGrid>
              <a:tr h="750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tisense 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al attenuation / mRNA degradation / mRNA stabilization / Translation 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org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4"/>
          <p:cNvSpPr/>
          <p:nvPr/>
        </p:nvSpPr>
        <p:spPr>
          <a:xfrm>
            <a:off x="3124080" y="4643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9560" y="764640"/>
            <a:ext cx="700092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mRNA carries information from DNA to the ribosomes, the protein synthesis factories in the cell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coding sequence of the mRNA determines the amino acid sequence in the protein that is produce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N" sz="1900" spc="-1" strike="noStrike">
                <a:solidFill>
                  <a:srgbClr val="000000"/>
                </a:solidFill>
                <a:latin typeface="Trebuchet MS"/>
              </a:rPr>
              <a:t>every three nucleotides (a codon) correspond to one amino ac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The mRNA is then exported from the nucleus to the cytoplasm, where it is bound to ribosomes and  translated into its corresponding protein form with the help of tRNA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In prokaryotic cells, which do not have nucleus and cytoplasm compartments, mRNA can bind to ribosomes while it is being transcribed from DNA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04920" y="1810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 u="sng">
                <a:solidFill>
                  <a:srgbClr val="000000"/>
                </a:solidFill>
                <a:uFillTx/>
                <a:latin typeface="Trebuchet MS"/>
              </a:rPr>
              <a:t>Messenger </a:t>
            </a:r>
            <a:r>
              <a:rPr b="1" lang="en-IN" sz="2400" spc="-1" strike="noStrike" u="sng">
                <a:solidFill>
                  <a:srgbClr val="000000"/>
                </a:solidFill>
                <a:uFillTx/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052800" y="2438280"/>
            <a:ext cx="1971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IN" sz="3200" spc="-1" strike="noStrike" u="sng">
                <a:solidFill>
                  <a:srgbClr val="000000"/>
                </a:solidFill>
                <a:uFillTx/>
                <a:latin typeface="Trebuchet MS"/>
              </a:rPr>
              <a:t>Transfer RN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52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fer RNA (tRNA) is a small RNA chain of about 75 to 95 nucleotid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fers a specific amino acid to a growing polypeptide chain at the ribosomal site of protein synthesis during transl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It has sites for amino acid attachment and an anticodon region for codon recognitio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IN" sz="3200" spc="-1" strike="noStrike" u="sng">
                <a:solidFill>
                  <a:srgbClr val="000000"/>
                </a:solidFill>
                <a:uFillTx/>
                <a:latin typeface="Trebuchet MS"/>
              </a:rPr>
              <a:t>Ribosomal RN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140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Ribosomal RNA (rRNA) is the catalytic component of the ribosomes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Eukaryotic ribosomes contain four different rRNA molecules: 18S, 5.8S, 28S and 5S rRN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rRNA molecules are synthesized in the nucleol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In the cytoplasm, ribosomal RNA and protein combine to form a nucleoprotein called a ribosom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ribosome binds mRNA and carries out protein synthesis. Several ribosomes may be attached to a single mRNA at any ti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rRNA is extremely abundant and makes up 80% of the 10 mg/ml RNA found in a typical eukaryotic cytoplas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5" descr="D:\garima\pic\r rna.jpg"/>
          <p:cNvPicPr/>
          <p:nvPr/>
        </p:nvPicPr>
        <p:blipFill>
          <a:blip r:embed="rId1"/>
          <a:stretch/>
        </p:blipFill>
        <p:spPr>
          <a:xfrm>
            <a:off x="5791320" y="1447920"/>
            <a:ext cx="31240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Prote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1447920"/>
            <a:ext cx="6348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404040"/>
                </a:solidFill>
                <a:latin typeface="Trebuchet MS"/>
              </a:rPr>
              <a:t>Proteins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1" lang="en-IN" sz="1800" spc="-1" strike="noStrike">
                <a:solidFill>
                  <a:srgbClr val="404040"/>
                </a:solidFill>
                <a:latin typeface="Trebuchet MS"/>
              </a:rPr>
              <a:t>polypeptides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) are made of a long linear chain of amino acid residues that fold into a globular for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sequence of amino acids in a protein is defined by the sequence of a gene, which is encoded in the genetic cod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Genetic code specifies 20 standard amino aci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4" descr="D:\garima\pic\proteinStructure.jpg"/>
          <p:cNvPicPr/>
          <p:nvPr/>
        </p:nvPicPr>
        <p:blipFill>
          <a:blip r:embed="rId1"/>
          <a:stretch/>
        </p:blipFill>
        <p:spPr>
          <a:xfrm>
            <a:off x="2685960" y="3700440"/>
            <a:ext cx="2724120" cy="27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D:\garima\pic\polypeptide.gif"/>
          <p:cNvPicPr/>
          <p:nvPr/>
        </p:nvPicPr>
        <p:blipFill>
          <a:blip r:embed="rId2"/>
          <a:stretch/>
        </p:blipFill>
        <p:spPr>
          <a:xfrm>
            <a:off x="417600" y="388620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D:\garima\pic\protein.jpg"/>
          <p:cNvPicPr/>
          <p:nvPr/>
        </p:nvPicPr>
        <p:blipFill>
          <a:blip r:embed="rId3"/>
          <a:stretch/>
        </p:blipFill>
        <p:spPr>
          <a:xfrm>
            <a:off x="5373720" y="3700440"/>
            <a:ext cx="2627280" cy="2664000"/>
          </a:xfrm>
          <a:prstGeom prst="rect">
            <a:avLst/>
          </a:prstGeom>
          <a:ln w="0">
            <a:noFill/>
          </a:ln>
        </p:spPr>
      </p:pic>
      <p:cxnSp>
        <p:nvCxnSpPr>
          <p:cNvPr id="278" name="Straight Arrow Connector 8"/>
          <p:cNvCxnSpPr/>
          <p:nvPr/>
        </p:nvCxnSpPr>
        <p:spPr>
          <a:xfrm flipV="1">
            <a:off x="5028840" y="5104800"/>
            <a:ext cx="610200" cy="108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Straight Arrow Connector 14"/>
          <p:cNvCxnSpPr/>
          <p:nvPr/>
        </p:nvCxnSpPr>
        <p:spPr>
          <a:xfrm flipV="1">
            <a:off x="2563560" y="5031720"/>
            <a:ext cx="610200" cy="108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http://andersonlab.qb3.berkeley.edu/Tutorials/Basic_Molecular_Biology_files/image002.jpg"/>
          <p:cNvPicPr/>
          <p:nvPr/>
        </p:nvPicPr>
        <p:blipFill>
          <a:blip r:embed="rId1"/>
          <a:stretch/>
        </p:blipFill>
        <p:spPr>
          <a:xfrm>
            <a:off x="2743200" y="1908000"/>
            <a:ext cx="3733920" cy="3883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ent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Do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DNA</a:t>
            </a:r>
            <a:r>
              <a:rPr b="1" lang="en-IN" sz="2500" spc="-1" strike="noStrike" u="sng">
                <a:solidFill>
                  <a:srgbClr val="262626"/>
                </a:solidFill>
                <a:uFillTx/>
                <a:latin typeface="Trebuchet MS"/>
              </a:rPr>
              <a:t> </a:t>
            </a: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replication</a:t>
            </a:r>
            <a:br>
              <a:rPr sz="2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990360"/>
            <a:ext cx="5635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DNA replication, the basis for </a:t>
            </a:r>
            <a:r>
              <a:rPr b="0" lang="en-IN" sz="2400" spc="-1" strike="noStrike" u="sng">
                <a:solidFill>
                  <a:srgbClr val="404040"/>
                </a:solidFill>
                <a:uFillTx/>
                <a:latin typeface="Trebuchet MS"/>
              </a:rPr>
              <a:t>biological inheritance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, is a fundamental process occurring in all living organisms to copy their </a:t>
            </a:r>
            <a:r>
              <a:rPr b="0" lang="en-IN" sz="2400" spc="-1" strike="noStrike" u="sng">
                <a:solidFill>
                  <a:srgbClr val="404040"/>
                </a:solidFill>
                <a:uFillTx/>
                <a:latin typeface="Trebuchet MS"/>
              </a:rPr>
              <a:t>DNA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In the process of "replication" each strand of the original double-stranded DNA molecule serves as template for the reproduction of the complementary stran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940360" y="557280"/>
            <a:ext cx="30006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ell The basic unit of lif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mallest unit of life that is classified as a living t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gle cellular organi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.g bacteria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ulticellular organ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.g humans and bird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umans have about 100 trillion or 1014 cel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3600" spc="-1" strike="noStrike">
                <a:solidFill>
                  <a:srgbClr val="90c226"/>
                </a:solidFill>
                <a:latin typeface="Trebuchet MS"/>
              </a:rPr>
              <a:t>Transcription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400" spc="-1" strike="noStrike">
                <a:solidFill>
                  <a:srgbClr val="404040"/>
                </a:solidFill>
                <a:latin typeface="Trebuchet MS"/>
              </a:rPr>
              <a:t>Transcription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, is the process of creating an equivalent RNA copy of a sequence of DN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cription is the first step leading to </a:t>
            </a:r>
            <a:r>
              <a:rPr b="0" lang="en-IN" sz="2400" spc="-1" strike="noStrike">
                <a:solidFill>
                  <a:srgbClr val="ff0000"/>
                </a:solidFill>
                <a:latin typeface="Trebuchet MS"/>
              </a:rPr>
              <a:t>gen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ranscription results in an RNA complement that includes uracil (U) instead of thymine (T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traight Connector 8"/>
          <p:cNvSpPr/>
          <p:nvPr/>
        </p:nvSpPr>
        <p:spPr>
          <a:xfrm>
            <a:off x="3809880" y="2894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1"/>
          <p:cNvSpPr/>
          <p:nvPr/>
        </p:nvSpPr>
        <p:spPr>
          <a:xfrm>
            <a:off x="2286000" y="319896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2"/>
          <p:cNvSpPr/>
          <p:nvPr/>
        </p:nvSpPr>
        <p:spPr>
          <a:xfrm>
            <a:off x="2286000" y="3200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5"/>
          <p:cNvGrpSpPr/>
          <p:nvPr/>
        </p:nvGrpSpPr>
        <p:grpSpPr>
          <a:xfrm>
            <a:off x="2286000" y="2754360"/>
            <a:ext cx="2438280" cy="825840"/>
            <a:chOff x="2286000" y="2754360"/>
            <a:chExt cx="2438280" cy="825840"/>
          </a:xfrm>
        </p:grpSpPr>
        <p:sp>
          <p:nvSpPr>
            <p:cNvPr id="291" name="Straight Connector 6"/>
            <p:cNvSpPr/>
            <p:nvPr/>
          </p:nvSpPr>
          <p:spPr>
            <a:xfrm>
              <a:off x="2286000" y="3057840"/>
              <a:ext cx="1752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"/>
            <p:cNvSpPr/>
            <p:nvPr/>
          </p:nvSpPr>
          <p:spPr>
            <a:xfrm>
              <a:off x="2438280" y="27543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800" spc="-1" strike="noStrike">
                  <a:solidFill>
                    <a:srgbClr val="00000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"/>
            <p:cNvSpPr/>
            <p:nvPr/>
          </p:nvSpPr>
          <p:spPr>
            <a:xfrm>
              <a:off x="2438280" y="321192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N" sz="1800" spc="-1" strike="noStrike">
                  <a:solidFill>
                    <a:srgbClr val="000000"/>
                  </a:solidFill>
                  <a:latin typeface="Arial"/>
                </a:rPr>
                <a:t>reverse 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876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708120"/>
            <a:ext cx="63468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anscriptio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ne or more sigma factor protein binds to the RNA polymerase holoenzyme, allowing it to bind to promoter DNA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NA polymerase creates a transcription bubble, which separates the two strands of the DNA helix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NA polymerase adds matching RNA nucleotides to the complementary nucleotides of one DNA strand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NA sugar-phosphate backbone forms with assistance from RNA polymerase to form an RNA strand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ydrogen bonds of the untwisted RNA-DNA helix break, freeing the newly synthesized RNA strand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the cell has a nucleus, the RNA may be further processed. This may include polyadenylation, capping, and splicing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 RNA may remain in the nucleus or exit to the cytoplasm through the nuclear pore complex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6" descr="D:\garima\pic\termination-signal.jpg"/>
          <p:cNvPicPr/>
          <p:nvPr/>
        </p:nvPicPr>
        <p:blipFill>
          <a:blip r:embed="rId1"/>
          <a:stretch/>
        </p:blipFill>
        <p:spPr>
          <a:xfrm>
            <a:off x="5867280" y="1219320"/>
            <a:ext cx="320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1890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The stretch of DNA transcribed into an RNA molecule is called a transcription unit and encodes at least one gen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If the gene transcribed encodes for a protein, the result of transcription is messenger RNA (mRNA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This mRNA will be used to create that protein via the process of transl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Alternatively, the transcribed gene may encode for either rRNA or tRNA, other components of the protein-assembly process, or other ribozym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A DNA transcription unit encoding for protein (the coding sequence) and regulatory sequences that direct and regulate the synthesis of that prote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457200" y="31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cription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Reverse</a:t>
            </a:r>
            <a:r>
              <a:rPr b="1" lang="en-IN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cription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Reverse transcribing viruses replicate their genomes by reverse transcribing DNA copies from their RNA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se DNA copies are then transcribed to new RNA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2" name="Picture 4" descr="D:\garima\pic\rt.jpg"/>
          <p:cNvPicPr/>
          <p:nvPr/>
        </p:nvPicPr>
        <p:blipFill>
          <a:blip r:embed="rId1"/>
          <a:stretch/>
        </p:blipFill>
        <p:spPr>
          <a:xfrm>
            <a:off x="2133720" y="312408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lation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5960" y="12189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600" spc="-1" strike="noStrike">
                <a:solidFill>
                  <a:srgbClr val="404040"/>
                </a:solidFill>
                <a:latin typeface="Trebuchet MS"/>
              </a:rPr>
              <a:t>Translation</a:t>
            </a: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 is the first stage of protein biosynthe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In translation, (mRNA) produced by transcription is decoded by the ribosome to produce a specific amino acid chain, or polypeptide, that will later fold into an active protein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Translation occurs in the cell's </a:t>
            </a:r>
            <a:r>
              <a:rPr b="0" lang="en-IN" sz="2600" spc="-1" strike="noStrike" u="sng">
                <a:solidFill>
                  <a:srgbClr val="404040"/>
                </a:solidFill>
                <a:uFillTx/>
                <a:latin typeface="Trebuchet MS"/>
              </a:rPr>
              <a:t>cytoplasm</a:t>
            </a: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, where the large and small subunits of the </a:t>
            </a:r>
            <a:r>
              <a:rPr b="0" lang="en-IN" sz="2600" spc="-1" strike="noStrike" u="sng">
                <a:solidFill>
                  <a:srgbClr val="404040"/>
                </a:solidFill>
                <a:uFillTx/>
                <a:latin typeface="Trebuchet MS"/>
              </a:rPr>
              <a:t>ribosome</a:t>
            </a:r>
            <a:r>
              <a:rPr b="0" lang="en-IN" sz="2600" spc="-1" strike="noStrike">
                <a:solidFill>
                  <a:srgbClr val="404040"/>
                </a:solidFill>
                <a:latin typeface="Trebuchet MS"/>
              </a:rPr>
              <a:t> are located, and bind to the mRNA</a:t>
            </a:r>
            <a:r>
              <a:rPr b="0" lang="en-IN" sz="26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Translation</a:t>
            </a:r>
            <a:r>
              <a:rPr b="1" lang="en-IN" sz="2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IN" sz="3600" spc="-1" strike="noStrike">
                <a:solidFill>
                  <a:srgbClr val="90c226"/>
                </a:solidFill>
                <a:latin typeface="Trebuchet MS"/>
              </a:rPr>
              <a:t>process</a:t>
            </a:r>
            <a:br>
              <a:rPr sz="32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068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ribosome facilitates decoding by inducing the binding of tRNAs with complementary anticodon sequences to mRN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tRNAs carry specific amino acids that are chained together into a polypeptide as the mRNA passes through and is "read" by the ribos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entire ribosome/mRNA complex will bind to the outer membrane of the rough endoplasmic reticulum and release the nascent protein polypeptide inside for later vesicle transport and secretion outside of the cell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838080" y="2152800"/>
            <a:ext cx="7086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netic cod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9" name="Picture 2" descr="D:\garima\pic\genetic code.jpg"/>
          <p:cNvPicPr/>
          <p:nvPr/>
        </p:nvPicPr>
        <p:blipFill>
          <a:blip r:embed="rId1"/>
          <a:stretch/>
        </p:blipFill>
        <p:spPr>
          <a:xfrm>
            <a:off x="380880" y="1066680"/>
            <a:ext cx="8077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What is Genome 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4097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Genome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is the entirety of an organism's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hereditary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informatio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It is encoded either in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DNA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r, for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many types of viru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in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RNA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genome includes both the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gene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the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non-coding sequences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of the DN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2" name="Picture 4" descr="D:\garima\pic\genome.jpg"/>
          <p:cNvPicPr/>
          <p:nvPr/>
        </p:nvPicPr>
        <p:blipFill>
          <a:blip r:embed="rId1"/>
          <a:stretch/>
        </p:blipFill>
        <p:spPr>
          <a:xfrm>
            <a:off x="2666880" y="76212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80880" y="762120"/>
          <a:ext cx="8458200" cy="5632200"/>
        </p:xfrm>
        <a:graphic>
          <a:graphicData uri="http://schemas.openxmlformats.org/drawingml/2006/table">
            <a:tbl>
              <a:tblPr/>
              <a:tblGrid>
                <a:gridCol w="2217960"/>
                <a:gridCol w="1287360"/>
                <a:gridCol w="1295280"/>
                <a:gridCol w="2390760"/>
                <a:gridCol w="1266840"/>
              </a:tblGrid>
              <a:tr h="785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 (b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gen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omosome</a:t>
                      </a:r>
                      <a:br>
                        <a:rPr sz="1400"/>
                      </a:br>
                      <a:r>
                        <a:rPr b="1" lang="en-I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o sapiens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uma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2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100,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us musculus</a:t>
                      </a: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mous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.6 b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~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100,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3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sophila melanogaster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fruit fl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 9,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abidopsis thaliana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pla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 4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enorhabditis elegans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oundwor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 5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876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ccharomyces cerevisiae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ye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.1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 2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68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herichia coli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acteria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 mill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gene / 14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3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H. influenzae</a:t>
                      </a: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bacter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8 mill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 gene /1000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1"/>
          <p:cNvSpPr/>
          <p:nvPr/>
        </p:nvSpPr>
        <p:spPr>
          <a:xfrm>
            <a:off x="219960" y="39960"/>
            <a:ext cx="935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omparative genome sizes of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0c226"/>
                </a:solidFill>
                <a:latin typeface="Trebuchet MS"/>
                <a:ea typeface="Times New Roman"/>
              </a:rPr>
              <a:t>Eukaryotes vs. Prokaryotes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260360"/>
          <a:ext cx="7620120" cy="5538960"/>
        </p:xfrm>
        <a:graphic>
          <a:graphicData uri="http://schemas.openxmlformats.org/drawingml/2006/table">
            <a:tbl>
              <a:tblPr/>
              <a:tblGrid>
                <a:gridCol w="1779840"/>
                <a:gridCol w="2778120"/>
                <a:gridCol w="3062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ttrib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ukary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kary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ukary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26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ypical organis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"/>
                        </a:rPr>
                        <a:t>Bacter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"/>
                        </a:rPr>
                        <a:t>archa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3"/>
                        </a:rPr>
                        <a:t>Protist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4"/>
                        </a:rPr>
                        <a:t>Fung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5"/>
                        </a:rPr>
                        <a:t>Plant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6"/>
                        </a:rPr>
                        <a:t>Anim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ypical 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~ 1–10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7"/>
                        </a:rPr>
                        <a:t>µ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~ 10–100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8"/>
                        </a:rPr>
                        <a:t>µ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(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9"/>
                        </a:rPr>
                        <a:t>sperm cell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, apart from the tail, are small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26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ype of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0"/>
                        </a:rPr>
                        <a:t>nucle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1"/>
                        </a:rPr>
                        <a:t>nucleoid reg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; no real nucle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al nucleus surrounded by double membr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3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rcular (usual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near molecules (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2"/>
                        </a:rPr>
                        <a:t>chromosom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 with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3"/>
                        </a:rPr>
                        <a:t>histon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4"/>
                        </a:rPr>
                        <a:t>prote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NA-/protein-synthe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upled in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5"/>
                        </a:rPr>
                        <a:t>cytopla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NA-synthesis inside the nucleu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tein synthesis in cytopla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6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6"/>
                        </a:rPr>
                        <a:t>Rib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S+30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S+40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16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ytoplasmatic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ry few stru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ly structured by endomembranes and a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7"/>
                        </a:rPr>
                        <a:t>cytoskele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13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8"/>
                        </a:rPr>
                        <a:t>Cell m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19"/>
                        </a:rPr>
                        <a:t>flagell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made of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0"/>
                        </a:rPr>
                        <a:t>flagel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lagella and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1"/>
                        </a:rPr>
                        <a:t>cil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containing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2"/>
                        </a:rPr>
                        <a:t>microtubule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;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3"/>
                        </a:rPr>
                        <a:t>lamellipod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and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4"/>
                        </a:rPr>
                        <a:t>filopodi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containing </a:t>
                      </a: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5"/>
                        </a:rPr>
                        <a:t>ac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6"/>
                        </a:rPr>
                        <a:t>Mitochond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ne to several thousand (though some lack mitochondr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6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99ca3c"/>
                          </a:solidFill>
                          <a:uFillTx/>
                          <a:latin typeface="Trebuchet MS"/>
                          <a:hlinkClick r:id="rId27"/>
                        </a:rPr>
                        <a:t>Chloropla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 </a:t>
                      </a: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alga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and </a:t>
                      </a: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pl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sually single ce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gle cells, colonies, higher multicellular organisms with specialized ce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Cell div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Binary fissio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(simple divis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Mitosis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(fission or budding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a55858"/>
                          </a:solidFill>
                          <a:latin typeface="Trebuchet MS"/>
                        </a:rPr>
                        <a:t>Meio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Components involve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DNA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RNA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otein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3" descr="D:\garima\pic\dhelix.jpg"/>
          <p:cNvPicPr/>
          <p:nvPr/>
        </p:nvPicPr>
        <p:blipFill>
          <a:blip r:embed="rId1"/>
          <a:stretch/>
        </p:blipFill>
        <p:spPr>
          <a:xfrm>
            <a:off x="2209680" y="1905120"/>
            <a:ext cx="198144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D:\garima\pic\rna.jpg"/>
          <p:cNvPicPr/>
          <p:nvPr/>
        </p:nvPicPr>
        <p:blipFill>
          <a:blip r:embed="rId2"/>
          <a:stretch/>
        </p:blipFill>
        <p:spPr>
          <a:xfrm>
            <a:off x="6248520" y="33526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D:\garima\pic\proteinStructure.jpg"/>
          <p:cNvPicPr/>
          <p:nvPr/>
        </p:nvPicPr>
        <p:blipFill>
          <a:blip r:embed="rId3"/>
          <a:stretch/>
        </p:blipFill>
        <p:spPr>
          <a:xfrm>
            <a:off x="2590920" y="510552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5413320" y="1298520"/>
            <a:ext cx="2816280" cy="7699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Gene : Unit of heredit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46280"/>
            <a:ext cx="49528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 gene is the basic physical and functional unit of heredit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enes, which are mad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f DNA, act as instructions t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ake molecules called protei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90c226"/>
                </a:solidFill>
                <a:latin typeface="Trebuchet MS"/>
              </a:rPr>
              <a:t>Deoxyribonucleic acid</a:t>
            </a: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 (</a:t>
            </a:r>
            <a:r>
              <a:rPr b="1" lang="en-US" sz="3200" spc="-1" strike="noStrike">
                <a:solidFill>
                  <a:srgbClr val="90c226"/>
                </a:solidFill>
                <a:latin typeface="Trebuchet MS"/>
              </a:rPr>
              <a:t>DNA</a:t>
            </a: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 nucleic acid that contains the genetic instructions used in the development and functioning of all known living organisms and some viruses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t is a long polymer made from repeating units called nucleotid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51920" y="15192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NA exists as a pair of molecules that are held tightly together in the </a:t>
            </a:r>
            <a:r>
              <a:rPr b="0" lang="en-IN" sz="2800" spc="-1" strike="noStrike">
                <a:solidFill>
                  <a:srgbClr val="404040"/>
                </a:solidFill>
                <a:latin typeface="Trebuchet MS"/>
              </a:rPr>
              <a:t>the shape of a double helix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wo strands run in opposite directions to each other and are therefore anti-paralle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24382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4"/>
          <p:cNvSpPr/>
          <p:nvPr/>
        </p:nvSpPr>
        <p:spPr>
          <a:xfrm>
            <a:off x="3598560" y="19922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048120" cy="914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2"/>
          <p:cNvSpPr/>
          <p:nvPr/>
        </p:nvSpPr>
        <p:spPr>
          <a:xfrm>
            <a:off x="1626480" y="3808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gar +Base = nucleos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457200" y="26668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hosphate+ sugar + Base  = nucleo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D:\garima\pic\neu7.jpg"/>
          <p:cNvPicPr/>
          <p:nvPr/>
        </p:nvPicPr>
        <p:blipFill>
          <a:blip r:embed="rId2"/>
          <a:stretch/>
        </p:blipFill>
        <p:spPr>
          <a:xfrm>
            <a:off x="1828800" y="3657600"/>
            <a:ext cx="4876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2860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ucleobases are classified into two type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 purines, A and G, being fused five- and six-membered heterocyclic compound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he pyrimidines, the six-membered rings C and T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 fifth pyrimidine nucleobase, uracil (U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usually takes the place of thymine in RNA and differs from thymine by lacking a methyl group on its ring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2" descr="PCT0"/>
          <p:cNvPicPr/>
          <p:nvPr/>
        </p:nvPicPr>
        <p:blipFill>
          <a:blip r:embed="rId1"/>
          <a:stretch/>
        </p:blipFill>
        <p:spPr>
          <a:xfrm>
            <a:off x="2209680" y="4038480"/>
            <a:ext cx="4038840" cy="26226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6765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Arial"/>
              </a:rPr>
              <a:t>Nucleotide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iyanka</dc:creator>
  <dc:description/>
  <dc:language>en-US</dc:language>
  <cp:lastModifiedBy>ELALLALI</cp:lastModifiedBy>
  <dcterms:modified xsi:type="dcterms:W3CDTF">2015-02-08T11:02:15Z</dcterms:modified>
  <cp:revision>3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