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876-2990-4200-A4ED-E66F02DD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2E1-C3FC-4818-92EE-050373A9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D37-C73F-45C0-AF0C-9E350EA8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D31-1470-47C2-8048-3EE08065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3C5-49F4-4DBE-9963-19FC3752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EF0-BE5E-4AC5-83C5-F58EE870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D92-B5E0-4886-8EE0-A28827EF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01E-0D01-405D-9AD1-223BCA54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FC9-2341-4ECC-A7B7-B208DADA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20F-6558-48D7-8AD2-B7703513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D1B-F8B3-4532-B6C3-86F2AD18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74F-53AC-47F3-9016-77257163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C459-3A1F-4FA9-9721-A79DE21E62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2A02-568D-49FE-B20E-70CDD2112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se eval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ark distribu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1447920"/>
            <a:ext cx="404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20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 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20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izz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5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5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owr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 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5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 II          5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l exam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ota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100 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7960" y="8377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Dates of ex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876560" y="1600200"/>
            <a:ext cx="3429000" cy="2286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 I: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ctober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 II: 2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: 12-1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9017-0ACA-441F-A3E9-E7DF47B64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4T05:05:16Z</dcterms:created>
  <dc:creator>Al-Dbass</dc:creator>
  <dc:description/>
  <dc:language>en-US</dc:language>
  <cp:lastModifiedBy>sabdi</cp:lastModifiedBy>
  <dcterms:modified xsi:type="dcterms:W3CDTF">2015-09-10T08:08:25Z</dcterms:modified>
  <cp:revision>15</cp:revision>
  <dc:subject/>
  <dc:title>Enzymology</dc:title>
</cp:coreProperties>
</file>