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FC3-BBC7-4FB8-B700-E155B324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7EB-D034-4575-A11B-97C4614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F7F-D8C9-45FD-8AAC-14AE2163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D0C-F6E7-421A-BB93-C813B59A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D5A-A2F0-4741-A673-21B13AC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4BA-941E-4DC4-857A-E5541AB1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60C-F366-4F04-8821-7C91AF8C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406-B309-4C08-AD87-E5340048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C60-E1B2-4EC9-BF48-A924B56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F73-54C1-478D-8EF3-2ADFBA5E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523-9C23-4CDA-8573-2F9B3D2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179-4B93-4308-A751-087466C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3ADE-D301-4D18-B242-27A36492D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A7AC-1FF9-4B55-9331-B9598B16C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k distrib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447920"/>
            <a:ext cx="404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izz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owr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 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 II   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l exa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ta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100 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Dates of ex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76560" y="1600200"/>
            <a:ext cx="3429000" cy="228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: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tober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I: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: 12-1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74E3-F21E-43DB-956C-328105120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05:05:16Z</dcterms:created>
  <dc:creator>Al-Dbass</dc:creator>
  <dc:description/>
  <dc:language>en-US</dc:language>
  <cp:lastModifiedBy>sabdi</cp:lastModifiedBy>
  <dcterms:modified xsi:type="dcterms:W3CDTF">2015-09-10T08:08:25Z</dcterms:modified>
  <cp:revision>15</cp:revision>
  <dc:subject/>
  <dc:title>Enzymology</dc:title>
</cp:coreProperties>
</file>