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114-E12C-4D66-B34C-C9437952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D54-EE1C-4030-ADDD-451D3093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121-6FDB-4F64-A1E5-8AB64834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2EEE-4803-4D60-AFB4-B993B614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5983-74B4-4D19-8CA6-09F2DFAB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7699-D72C-44A8-B824-40C73E9C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AD75-4505-4A15-800E-55EB78C5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9437-8CE0-4D50-9930-6996CD86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C542-391D-4528-99AE-9C09BBF1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36C2-E368-4327-94D4-00E78019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AA57-30BC-4919-9AAD-DA947FDE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07E1-B286-4792-868A-FE377320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C43D-8A54-4F3A-AEEA-F90875B9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6858-B99C-4D5F-9FDA-38A74761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0076-26EB-4D09-9B2C-5A711AC9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80C2-F5AD-4421-B9EF-91EE7699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D1AD-9EE3-46EA-84B8-A0B92C3A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7C85-43BC-4782-9067-E55DED75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6E3-296E-40BB-9757-48E31377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FF4-6527-4E4A-91DE-BAD72F6A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258-4984-497E-BF1C-641E22F4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136-E7AF-4763-B74E-5641FB6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644-24A4-4184-B52F-7E3F84C2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EA9-1BD7-45AA-B981-24C30DBF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22C9-60E2-423B-91EE-72C22E37E7C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63E0-E678-403F-82CA-3EC6FDB47A0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Are Benzodiazepines Still the Medication of Choice for Patients With Panic Disorder With or Without Agoraphobia?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4040" y="3887280"/>
            <a:ext cx="56484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: s.bruce , PhD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(Am J Psychiatry 2003; 160:1432-143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itial comprehensive evaluation assessed lifetime history 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Clinical Interview for DSMIII-R   Non-Affective Disor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Diagnostic Criteria (RD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Affective Disorders &amp;Schizophrenia-Lifetime Version   (SADS-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#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68421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ticipant was considered to have </a:t>
            </a:r>
            <a:r>
              <a:rPr b="1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remit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ic dis if he/she experience 8 consecutive wk of psychiatric status rating of 2 or few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ts were judge to have</a:t>
            </a:r>
            <a:r>
              <a:rPr b="1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 relap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ir psychiatric status rating increased to a score of 5 or 6 for two consecutive wee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gathered weekly information about the presence of specific symptom criteria, psychiatric comorbidity &amp; psychosocial functi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regarding pharmacological treatment form the pt was collected every 6-12 months, retrospectively, including medications type, average daily dose, whether pts were taking it as nee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729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748980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ditional (44) subjects had a new onset of (PD) w or w/o agoraphobia were included in these f/u ana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* </a:t>
            </a:r>
            <a:r>
              <a:rPr b="0" lang="en-US" sz="3200" spc="-1" strike="noStrike">
                <a:solidFill>
                  <a:srgbClr val="c9c177"/>
                </a:solidFill>
                <a:latin typeface="Arial"/>
              </a:rPr>
              <a:t>Demographic characteristics</a:t>
            </a:r>
            <a:r>
              <a:rPr b="0" lang="en-US" sz="3200" spc="-1" strike="noStrike">
                <a:solidFill>
                  <a:srgbClr val="c9c17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9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cas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8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d a college education or 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729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ificant differences regarding demographic characteristics between patients w or w/o agoraphobia or between patients with (P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at onset bet. PD with agoraphobia and witho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741708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67309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Use of pharmacological agents over follow-up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d943f"/>
                </a:solidFill>
                <a:uFillTx/>
                <a:latin typeface="Arial"/>
              </a:rPr>
              <a:t>The results indicated</a:t>
            </a:r>
            <a:r>
              <a:rPr b="1" lang="en-US" sz="2800" spc="-1" strike="noStrike" u="sng">
                <a:solidFill>
                  <a:srgbClr val="9d943f"/>
                </a:solidFill>
                <a:uFillTx/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ght decline in benzo. use across the follow-up inter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e increase in SSRIs 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f the pts taking an SSRI, about 2/3 were also taking a benzo. in comb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d943f"/>
                </a:solidFill>
                <a:latin typeface="Arial"/>
              </a:rPr>
              <a:t>Panic disorder (PD)</a:t>
            </a:r>
            <a:r>
              <a:rPr b="0" lang="en-US" sz="3200" spc="-1" strike="noStrike">
                <a:solidFill>
                  <a:srgbClr val="9d943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disabling psychiatric condition associated with significant impairment in psychosocial &amp; occupational functioning , the lifetime prevalence rate (2-4%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Use of pharmacological agents over follow-up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of the patients who were having panic attacks at f/u with the patients who were in remi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with PD &amp; comorbid MDD were </a:t>
            </a:r>
            <a:r>
              <a:rPr b="1" i="1" lang="en-US" sz="3200" spc="-1" strike="noStrike" u="sng">
                <a:solidFill>
                  <a:srgbClr val="993366"/>
                </a:solidFill>
                <a:uFillTx/>
                <a:latin typeface="Arial"/>
              </a:rPr>
              <a:t>3.5 times more lik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 an SSRI than those without M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Use of pharmacological agents over follow-up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use of benzodiazepines &amp; SSRIs in the F\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?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morbid conditions such as alcohol/substance use disorders &amp; additional comorbid anxiety disord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RIs &amp; the F \ 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729"/>
                </a:solidFill>
                <a:latin typeface="Arial"/>
              </a:rPr>
              <a:t>Pharmacological treatment &amp; clinical course</a:t>
            </a:r>
            <a:endParaRPr b="0" lang="en-US" sz="3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ients whose disorder remit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BEFORE REMITION</a:t>
            </a:r>
            <a:r>
              <a:rPr b="0" lang="en-US" sz="3200" spc="-1" strike="noStrike" u="sng">
                <a:solidFill>
                  <a:srgbClr val="990000"/>
                </a:solidFill>
                <a:uFillTx/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9c177"/>
                </a:solidFill>
                <a:uFillTx/>
                <a:latin typeface="Arial"/>
              </a:rPr>
              <a:t>The result from this study indicate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SSRIs &amp; gudidel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zodiazepine being the most common class of drugs used to treat P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comorbid MDD on medication treatment patterns in patients with PD was found to be a significant predictor of greater use of SS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sults are consistent with those of (</a:t>
            </a:r>
            <a:r>
              <a:rPr b="0" lang="en-US" sz="3000" spc="-1" strike="noStrike">
                <a:solidFill>
                  <a:srgbClr val="000000"/>
                </a:solidFill>
                <a:latin typeface="Maiandra GD"/>
              </a:rPr>
              <a:t>Uhlenhuth &amp; colleagues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ho reported a negligible decrease in overall frequency of expert recommendations for benzodiazepine  as a first-line treatment of PD over a 5 years interval in the 1990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physicians` self-reports indicated a change in the way in which they practice, actual behavior had change l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*** </a:t>
            </a: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Why would a high percentage of these patient`s physicians not prescribe SSRIs for PD despite treatment guidelines endorsing SSRIs as    a first-choice</a:t>
            </a: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 ?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Maiandra GD"/>
              </a:rPr>
              <a:t>Dugan &amp; cohe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ggested that “before physician view guidelines as precise tool to use in the construction of optimal patient care, they must be convinced that guidelines contain clear, evidence-based recommendations, and that there is a distinct advantage to them in changing practice styles to follow guideli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Discussion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onset of action of the benzo. make their use more favorable than newer SSR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compliance SSRIs found in some studies because of </a:t>
            </a:r>
            <a:r>
              <a:rPr b="1" lang="en-US" sz="2800" spc="-1" strike="noStrike" u="sng">
                <a:solidFill>
                  <a:srgbClr val="993366"/>
                </a:solidFill>
                <a:uFillTx/>
                <a:latin typeface="Arial"/>
              </a:rPr>
              <a:t>unwanted sex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de 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Maiandra GD"/>
              </a:rPr>
              <a:t>Otto &amp;colleagues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no evidence to support the hypothesis that SSRIs are more effective than older antidepressants for the treatment of P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!!!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Limitations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7470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tudy did not include data from patients’ treating physicians, it is impossible to determine whether SSRIs were not being prescribed to the patients 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patients education ab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effects \ The onset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Limitations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ts were recruited from (1989-1991), most SSRIs had not yet become 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the finding from this study may not be indicative of individuals who are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newly diagn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PD &amp; seeking treatment for the first 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51868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C A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A O I 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zodiazepine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 between pharmacological treatment guidelines and actual delivery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studied should address this apparent gap, including whether or not the clinical guidelines to use SSRIs as first-line treatment is prem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729"/>
                </a:solidFill>
                <a:latin typeface="Arial"/>
              </a:rPr>
              <a:t>THANK YOU</a:t>
            </a:r>
            <a:endParaRPr b="0" lang="en-US" sz="66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76500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(SSRIs) indicated as the first line treatment for (P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000" spc="-1" strike="noStrike">
                <a:solidFill>
                  <a:srgbClr val="000000"/>
                </a:solidFill>
                <a:latin typeface="Maiandra GD"/>
              </a:rPr>
              <a:t>APA’s Practice Guidelines for Treatment of Patients With Panic Disorde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that SSRIs are likely to have the most favorable balance of efficacy and adverse 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-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R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advantage over other treatment agents in that they are safer in overdose &amp; their ability to effectively treat comorbid disorders (e.g. MDD,OCD &amp; social anxiety disorde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Objectiv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amine how the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use of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sychotropic dru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shifted over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f 10 years to determine 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bing patterns have chang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 these revised treat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arvard\brown anxiety research project(naturalistic,longtudinal,multicenter study of adults w current or past hx of anxiety di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ubjects = 711, 30 clinicians’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sion crite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d943f"/>
                </a:solidFill>
                <a:uFillTx/>
                <a:latin typeface="Arial"/>
              </a:rPr>
              <a:t>Exclusion criteria</a:t>
            </a:r>
            <a:r>
              <a:rPr b="1" lang="en-US" sz="3200" spc="-1" strike="noStrike" u="sng">
                <a:solidFill>
                  <a:srgbClr val="9d943f"/>
                </a:solidFill>
                <a:uFillTx/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brain syndr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schizophrenia or current psychosis at inta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for inclusion, but frequently seen as comorbid conditions, were diagnoses of simple phobia, PTSD, OCD, anxiety dis not otherwise specif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tal of (443) patients at intake met the criteria for (PD) w or w/o agoraphob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t data derive from structured diagnostic interview administrated at intake (1989-1991) &amp; subsequent semiannual &amp; annual follow up interviews over 10 y  (1991-2001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0:32:43Z</dcterms:created>
  <dc:creator>Psychiatry Dep</dc:creator>
  <dc:description/>
  <dc:language>en-US</dc:language>
  <cp:lastModifiedBy>www.arabswell.com</cp:lastModifiedBy>
  <dcterms:modified xsi:type="dcterms:W3CDTF">2006-08-17T20:10:38Z</dcterms:modified>
  <cp:revision>32</cp:revision>
  <dc:subject/>
  <dc:title>Are benzodiazepines still the medication of choice for patients with panic disorder with or without agoraphobia</dc:title>
</cp:coreProperties>
</file>