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D1CB-998A-4515-A8F6-50A83292620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E62D-AA51-4911-8BFE-4F945A64823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pearson_logo"/>
          <p:cNvPicPr/>
          <p:nvPr/>
        </p:nvPicPr>
        <p:blipFill>
          <a:blip r:embed="rId2"/>
          <a:stretch/>
        </p:blipFill>
        <p:spPr>
          <a:xfrm>
            <a:off x="76320" y="6477120"/>
            <a:ext cx="799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6019920" y="6437160"/>
            <a:ext cx="304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2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3"/>
          <p:cNvSpPr/>
          <p:nvPr/>
        </p:nvSpPr>
        <p:spPr>
          <a:xfrm>
            <a:off x="3240" y="6400800"/>
            <a:ext cx="9140760" cy="0"/>
          </a:xfrm>
          <a:prstGeom prst="line">
            <a:avLst/>
          </a:prstGeom>
          <a:ln w="28440">
            <a:solidFill>
              <a:srgbClr val="3e4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5029200" y="3886200"/>
            <a:ext cx="38098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</a:rPr>
              <a:t>Legal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</a:rPr>
              <a:t>of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143000" y="2468520"/>
            <a:ext cx="97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e487d"/>
                </a:solidFill>
                <a:latin typeface="Arial"/>
              </a:rPr>
              <a:t>Chapter 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andards of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andards of Care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e practice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ing specialty-practice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organizations and federal guidelines (MOH, Ministry of Higher Edu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ed Nursing Legal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ce, abuse, neg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ired n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th and related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client with complete information prior to obtaining agreement by client to accept a course of treatment or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ormed consent is the record of the informed consent, not the informed consent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 or written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’s nonverbal behavior indicates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l emergency when a person cannot express content because of physic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t must be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t must be given by client or individual with capacity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given enough information to be the ultimate decision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in specific circumstances, the following individuals cannot provide informed con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nor, person 18 years or yo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nconscious or person injured in such as way that they are unable to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ntally ill person judged by professionals to be incompet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rent, legal guardian, or representative provides or refuses consent for these individu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to consider the problem of illiteracy and other language b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nt must be read to the client or an interpreter appropriately used to be certain client underst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ed Consent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s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gave consent voluntar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 is authe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appears competent to give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nd client they have the right to refuse after signature on form continues after signing con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sources of law and types of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ways nurse practice acts, standards of care, and agency policies and procedures affect the scope of nurs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nd contrast the state-based licensure model and the mutual recognition model for multistate licen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leg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transfer of responsibility for the performance of an activity from one person to another while retaining accountability for the outcom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merican Nurses Association, 19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Impaired Nu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bility to perform essential job functions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dependency on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oh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tal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dvanced Health Care Dir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persons to specify aspects of care they wish to receive if unable to mak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Self-Determinat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dvance di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clients if they have advance di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educationa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-Not-Resusci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is generally written when client wishes for no resus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s and choices given highest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R explicitly discussed with client, family, and designated decision maker, and health car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R clearly documented, reviewed, and up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are should not be withdra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im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t committed in violation of public (criminal)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shable by a fine or impris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have to be intended in order to be a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ccidentally administering an additional and lethal dose of a narcotic to relieve discomf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g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conduct or practice that is below the standard expected of an ordinary, reasonable, and prudent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 another person at risk for har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any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gligence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 neg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 lack of knowledge, decision making, or skill that should have been known that put others at risk for h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lpract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gence that occurred while the person was performing as a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 physicians, dentists, lawyers, and generally includes nur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s to Take to Prevent Malpract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and recheck medications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dicatio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side rails before leaving a client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en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ignore a clients complaint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ilure to observe and take appropriat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client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staken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ntional T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ult and bat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impris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sion of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utcome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urpose and essential elements of informed con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aired nurse and available diversion or peer assistance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nurse’s legal responsibilities with selected aspects of nurs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ntional T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mpt or threat to touch unjustifia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ful touching that may or may not cause h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ealth Insurance Portability &amp; Accountability Act of 1996 (HIPA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four specific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transfer of information among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numbers for identifying providers, employers, and health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professional Condu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etence or gross neg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iction for practicing without a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ification of client’s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egally obtaining, using, or possessing controlled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tain professiona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professional Conduct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ation of professional ethical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ch of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sing to care for clients of specific socioeconomic or cultural ori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rrying Out a Physicians Or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s expected to analyze procedures and medications ordered by the physic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k clarification for ambiguous or seemingly erroneous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nurses should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any order a client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any order if the client’s condition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rrying Out a Physicians Order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es nurses should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and record verbal orders to avoid mis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any order that is illegible, unclear, or 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ing Competent Nursing C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care within the legal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s need to be familiar with various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 to protect clients from h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e sources for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 clients about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marL="24161760"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viding Competent Nursing Care (cont’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measures to prevent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’s need to be assessed and monitored appropr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 with client’s with sincere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cu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chart is a legal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s need to provide accurate and complete documentation of the nursing car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document can constitute neg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or inaccurate assessments can hinder proper diagnosis and treatment causing harm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cident Re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y record of an incident or unusual occurrence (also called unusual occurrence re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ll the facts available to agency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 statistical data about in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e between negligence and mal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neate the elements of mal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nd contrast intentional torts (assault/battery, false imprisonment, invasion of privacy, defamation) and unintentional torts (negligence, malpracti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cident Report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health personnel prevent future inci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d according to agenc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ation Included on Incident Re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the client by name, initials, and hospital or identification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, time, and place of the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the facts of the incident (no conclusions or bl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ion of the client’s account of the incident in qu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formation Included on Incident Re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all wit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any equipment by number and any medication by name and do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gal Responsibilities of Stu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ble for own action and liable for their own acts of neg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standards are not applied to nursing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within scope of education, job description and nurse practice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gal Responsibilities of Students (cont’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procedures and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for additional help or supervision in situations they feel inadequate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orking as an aide, can only perform tasks in job description, not from nursing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four specific areas of the Health Insurance Portability and Accountability Act and their impact on nurs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laws and strategies that protect the nurse from litig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legal responsibilities of nursing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urse Practice Acts (NP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and describe scope of nurs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practice through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you find 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Practice A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dentia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competence in nursing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censure Mode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license required for each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d by changes in health car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ert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untary practice validating an individual has met minimum standards of competence in a specialt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ed by the Saudi council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6:07:03Z</dcterms:created>
  <dc:creator>James Ramsey</dc:creator>
  <dc:description/>
  <dc:language>en-US</dc:language>
  <cp:lastModifiedBy>Mutazz</cp:lastModifiedBy>
  <dcterms:modified xsi:type="dcterms:W3CDTF">2011-11-27T18:05:22Z</dcterms:modified>
  <cp:revision>12</cp:revision>
  <dc:subject/>
  <dc:title>PowerPoint Presentation</dc:title>
</cp:coreProperties>
</file>