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6E8E-22A5-40DD-AEF0-F8DC4D0B5AB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4B8C-2BBF-4C98-9C6D-36DBE4512F0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9" descr="pearson_logo"/>
          <p:cNvPicPr/>
          <p:nvPr/>
        </p:nvPicPr>
        <p:blipFill>
          <a:blip r:embed="rId2"/>
          <a:stretch/>
        </p:blipFill>
        <p:spPr>
          <a:xfrm>
            <a:off x="76320" y="6477120"/>
            <a:ext cx="79992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6019920" y="6437160"/>
            <a:ext cx="3047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2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3"/>
          <p:cNvSpPr/>
          <p:nvPr/>
        </p:nvSpPr>
        <p:spPr>
          <a:xfrm>
            <a:off x="3240" y="6400800"/>
            <a:ext cx="9140760" cy="0"/>
          </a:xfrm>
          <a:prstGeom prst="line">
            <a:avLst/>
          </a:prstGeom>
          <a:ln w="28440">
            <a:solidFill>
              <a:srgbClr val="3e4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7"/>
          <p:cNvSpPr/>
          <p:nvPr/>
        </p:nvSpPr>
        <p:spPr>
          <a:xfrm>
            <a:off x="851040" y="6437160"/>
            <a:ext cx="5397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Kozier &amp; Erb’s Fundamentals of Nursing: Concepts, Process, and Practice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Ninth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drey Berman • Shirlee Sny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851040" y="6437160"/>
            <a:ext cx="5397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Kozier &amp; Erb’s Fundamentals of Nursing: Concepts, Process, and Practice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Ninth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drey Berman • Shirlee Sny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3"/>
          <p:cNvSpPr/>
          <p:nvPr/>
        </p:nvSpPr>
        <p:spPr>
          <a:xfrm>
            <a:off x="5029200" y="3886200"/>
            <a:ext cx="380988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487d"/>
                </a:solidFill>
                <a:latin typeface="Arial"/>
              </a:rPr>
              <a:t>Legal Asp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487d"/>
                </a:solidFill>
                <a:latin typeface="Arial"/>
              </a:rPr>
              <a:t>of Nu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1143000" y="2468520"/>
            <a:ext cx="97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e487d"/>
                </a:solidFill>
                <a:latin typeface="Arial"/>
              </a:rPr>
              <a:t>Chapter 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tandards of C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t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itutional policies and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tandards of Care (cont'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rse practice 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rsing specialty-practice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 organizations and federal guidelines (MOH, Ministry of Higher Educ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ed Nursing Legal Responsi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ed con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olence, abuse, negl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ed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ired n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th and related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formed Cons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client with complete information prior to obtaining agreement by client to accept a course of treatment or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formed consent is the record of the informed consent, not the informed consent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formed Cons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 Con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l or written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ed Con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’s nonverbal behavior indicates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emergency when a person cannot express content because of physical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formed Cons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 el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nt must be volun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nt must be given by client or individual with capacity to under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given enough information to be the ultimate decision m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formed Cons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pt in specific circumstances, the following individuals cannot provide informed con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inor, person 18 years or you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conscious or person injured in such as way that they are unable to con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ntally ill person judged by professionals to be incompet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formed Consent (cont'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arent, legal guardian, or representative provides or refuses consent for these individu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formed Cons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to consider the problem of illiteracy and other language bar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sent must be read to the client or an interpreter appropriately used to be certain client underst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formed Consent (cont'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es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 gave consent voluntar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ture is authen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 appears competent to give con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ind client they have the right to refuse after signature on form continues after signing con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earning Outco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3e48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sources of law and types of 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e48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ways nurse practice acts, standards of care, and agency policies and procedures affect the scope of nursing 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e48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and contrast the state-based licensure model and the mutual recognition model for multistate licen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leg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transfer of responsibility for the performance of an activity from one person to another while retaining accountability for the outco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merican Nurses Association, 199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Impaired Nur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ability to perform essential job functions du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dependency on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coh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al ill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dvanced Health Care Dir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persons to specify aspects of care they wish to receive if unable to make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Self-Determination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 advance dir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clients if they have advance dir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educational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o-Not-Resuscit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er is generally written when client wishes for no resusc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s and choices given highest pri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R explicitly discussed with client, family, and designated decision maker, and health care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R clearly documented, reviewed, and upd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care should not be withdra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im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ct committed in violation of public (criminal)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ishable by a fine or impris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have to be intended in order to be a cr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ccidentally administering an additional and lethal dose of a narcotic to relieve discomf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glig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conduct or practice that is below the standard expected of an ordinary, reasonable, and prudent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s another person at risk for har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es to any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gligence (cont'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ss negli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eme lack of knowledge, decision making, or skill that should have been known that put others at risk for h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lpract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ligence that occurred while the person was performing as a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es to physicians, dentists, lawyers, and generally includes nur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asures to Take to Prevent Malpract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and recheck medications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dication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side rails before leaving a client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ent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ignore a clients complaint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ailure to observe and take appropriate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client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istaken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entional Tor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ault and batt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 impris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asion of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earning Outcomes (cont'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3e487d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purpose and essential elements of informed con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e487d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he impaired nurse and available diversion or peer assistance progr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e487d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e the nurse’s legal responsibilities with selected aspects of nursing 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entional Tor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mpt or threat to touch unjustifiab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ful touching that may or may not cause h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ealth Insurance Portability &amp; Accountability Act of 1996 (HIPAA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 four specific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transfer of information among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ized numbers for identifying providers, employers, and health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cy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professional Condu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petence or gross negli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iction for practicing without a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ification of client’s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egally obtaining, using, or possessing controlled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retain professional bound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professional Conduct (cont'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olation of professional ethical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ch of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using to care for clients of specific socioeconomic or cultural ori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rrying Out a Physicians Or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es expected to analyze procedures and medications ordered by the physic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k clarification for ambiguous or seemingly erroneous 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egories nurses should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any order a client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any order if the client’s condition 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rrying Out a Physicians Order (cont'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egories nurses should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and record verbal orders to avoid mis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any order that is illegible, unclear, or in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viding Competent Nursing C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care within the legal bound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es need to be familiar with various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 to protect clients from h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ipate sources for inj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e clients about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marL="2416176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viding Competent Nursing Care (cont’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measures to prevent inj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’s need to be assessed and monitored appropri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e with client’s with sincere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ocument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l chart is a legal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es need to provide accurate and complete documentation of the nursing care pro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lure to document can constitute negli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fficient or inaccurate assessments can hinder proper diagnosis and treatment causing harm to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cident Repor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cy record of an incident or unusual occurrence (also called unusual occurrence repo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ll the facts available to agency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e to statistical data about inc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earning Outco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3e487d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iminate between negligence and mal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e487d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neate the elements of mal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e487d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and contrast intentional torts (assault/battery, false imprisonment, invasion of privacy, defamation) and unintentional torts (negligence, malpractic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cident Reports (cont'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health personnel prevent future inci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d according to agenc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formation Included on Incident Repor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client by name, initials, and hospital or identification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, time, and place of the inc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on of the facts of the incident (no conclusions or bl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ion of the client’s account of the incident in qu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formation Included on Incident Repor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all wit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any equipment by number and any medication by name and do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egal Responsibilities of Stud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ible for own action and liable for their own acts of negli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standards are not applied to nursing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within scope of education, job description and nurse practice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egal Responsibilities of Students (cont’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procedures and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for additional help or supervision in situations they feel inadequately prep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orking as an aide, can only perform tasks in job description, not from nursing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earning Outco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3e487d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four specific areas of the Health Insurance Portability and Accountability Act and their impact on nursing 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e487d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laws and strategies that protect the nurse from litig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e487d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he legal responsibilities of nursing stu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urse Practice Acts (NPA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and describe scope of nursing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practice through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can you find our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e Practice A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dential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ing competence in nursing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cen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red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icensure Mode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-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license required for each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d by changes in health care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ertif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oluntary practice validating an individual has met minimum standards of competence in a specialty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ed by the Saudi council a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6:07:03Z</dcterms:created>
  <dc:creator>James Ramsey</dc:creator>
  <dc:description/>
  <dc:language>en-US</dc:language>
  <cp:lastModifiedBy>Mutazz</cp:lastModifiedBy>
  <dcterms:modified xsi:type="dcterms:W3CDTF">2011-11-27T18:05:22Z</dcterms:modified>
  <cp:revision>12</cp:revision>
  <dc:subject/>
  <dc:title>PowerPoint Presentation</dc:title>
</cp:coreProperties>
</file>