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F2F-D1CE-4355-A9F3-67CEA3BA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2D3-90F0-4F58-A71C-FC14FD45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644-2A4F-4931-BC9A-440A12C4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C3A-5CC5-4F52-99C9-A9960187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6210-14ED-4741-ACAA-820DAD34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3B28-FD1A-435F-8594-8581084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79A9-341F-43FB-8C28-A627720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19A5-C0E5-4547-A4A0-97BCC016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8A8-CF26-4248-920B-9F7C21C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75D8-0616-4310-A79D-D5BC568C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B2F7-F51F-4D1A-BB99-DEE2463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FED-1066-40D6-B653-7CC03E0A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099-F140-4F9B-9D27-06903EDF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21AE-9AB5-4711-AB66-02455988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EB45-F22A-49C9-AB55-A056A3B7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B53C-E7BD-4711-BC2E-41E5BB5C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4C2E-EBE4-4222-AEBF-7A5E815E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89A-5E3D-424A-8295-5EB448D7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146-0D49-4870-8F7B-86DE2D12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06D-E935-40DC-9CCA-683DF83D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7A6-FC3D-4411-90FB-037D3094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76C-E13D-4DEA-AB76-ACDC1F51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2F5-25E1-4D07-B9EF-4F6E9AA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5D3-7749-414F-AEBA-36585B20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4978-9D7D-4372-B9ED-1EA64DD54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FC1D-A5DA-49B1-BEA3-EC1511272BE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eople.uleth.ca/~selibl/Biol3200/Exercise5/Voges-Proskauer.jpg&amp;imgrefurl=http://people.uleth.ca/~selibl/Biol3200/Exercise5/VogesPros.html&amp;h=324&amp;w=432&amp;sz=14&amp;tbnid=2Se_bS19veMJ:&amp;tbnh=92&amp;tbnw=122&amp;start=1&amp;prev=/images%3Fq%3Dvoges-proskauer%2Btest%26hl%3Den%26lr%3D%26ie%3DUTF-8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CHEMICAL TESTING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TW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ole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lity (if present) can be seen as growth of the bacteria away from the stab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fur in the media may be reduced to hydrogen sulfide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); this appears as a “blackening” within the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IndoleResults"/>
          <p:cNvPicPr/>
          <p:nvPr/>
        </p:nvPicPr>
        <p:blipFill>
          <a:blip r:embed="rId1"/>
          <a:srcRect l="36426" t="33781" r="12364" b="0"/>
          <a:stretch/>
        </p:blipFill>
        <p:spPr>
          <a:xfrm>
            <a:off x="6415200" y="3352680"/>
            <a:ext cx="2728800" cy="35053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7160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indole is produced, upon addi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Kovac’s Reag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10 drops), a “cherry-red” band forms on the surface of the media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yl Red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termine the ability of a bacteria to oxidize glucose and produce stable acid end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is a pH indicator (red at pH less than 4.4 and yellow at a pH greater than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bination medium used for this test is the MR-VP (methyl red/Voges-Proskauer) br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51720" y="5943600"/>
            <a:ext cx="70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cid production: positive methyl red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nd products of neutral pH : positive Voges-Proskauer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3 MR-VP broth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(using a loop)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.pneumonia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E.aerog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3 MR-VP broths that you inoculated, transfer 2 mLs from each and place into 3 separate clean tubes (set aside these aliquots for the VP t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the remaining, original tubes that you inoculated add 5 drops of methyl red indic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d color indicates that glucose has been oxid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yl Red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380988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be on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negat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be on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5" descr="MR%20test"/>
          <p:cNvPicPr/>
          <p:nvPr/>
        </p:nvPicPr>
        <p:blipFill>
          <a:blip r:embed="rId1"/>
          <a:srcRect l="9615" t="0" r="7692" b="27087"/>
          <a:stretch/>
        </p:blipFill>
        <p:spPr>
          <a:xfrm>
            <a:off x="5715000" y="17524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533520" y="2209680"/>
            <a:ext cx="46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red color indicates that glucose has been oxidized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1" descr="MRTestResults"/>
          <p:cNvPicPr/>
          <p:nvPr/>
        </p:nvPicPr>
        <p:blipFill>
          <a:blip r:embed="rId2"/>
          <a:stretch/>
        </p:blipFill>
        <p:spPr>
          <a:xfrm>
            <a:off x="5715000" y="4199040"/>
            <a:ext cx="3276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ges-Proskauer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to determine the ability of microbes to produce nonacidic or neutral end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 that the MR-VP broth is a combined medium used for two tests—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and Voges-Proskauer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have already inoculated the 3 MR-VP broth tubes from the previous procedure (Methyl Red Test) with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.coli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.pneumonia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E.aerogene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the aliquots of each broth culture separated during the methyl red test, ad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drops of Barritt’s Reagent A; 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drops of Barritt’s Reagent B; 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hake the culture every 3 to 4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take as long as 15 min. for a color change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351080" y="30492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ges-Proskauer Procedure: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ges-Proskauer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41148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ges-Proskau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ve on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ges-Proskau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ative on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Voges-Proskauer">
            <a:hlinkClick r:id="rId1"/>
          </p:cNvPr>
          <p:cNvPicPr/>
          <p:nvPr/>
        </p:nvPicPr>
        <p:blipFill>
          <a:blip r:embed="rId2"/>
          <a:srcRect l="0" t="33980" r="0" b="0"/>
          <a:stretch/>
        </p:blipFill>
        <p:spPr>
          <a:xfrm>
            <a:off x="6858000" y="2743200"/>
            <a:ext cx="2286000" cy="1333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VPResults"/>
          <p:cNvPicPr/>
          <p:nvPr/>
        </p:nvPicPr>
        <p:blipFill>
          <a:blip r:embed="rId3"/>
          <a:srcRect l="0" t="0" r="16475" b="0"/>
          <a:stretch/>
        </p:blipFill>
        <p:spPr>
          <a:xfrm>
            <a:off x="6826320" y="4038480"/>
            <a:ext cx="231768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28600" y="2286000"/>
            <a:ext cx="618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resence of a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eep rose colo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after 15 minutes is indicative of non-acidic / neutral metabolic end products and a positive VP test result.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2" descr="VP1"/>
          <p:cNvPicPr/>
          <p:nvPr/>
        </p:nvPicPr>
        <p:blipFill>
          <a:blip r:embed="rId4"/>
          <a:stretch/>
        </p:blipFill>
        <p:spPr>
          <a:xfrm>
            <a:off x="6858000" y="1522440"/>
            <a:ext cx="2286000" cy="123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vp"/>
          <p:cNvPicPr/>
          <p:nvPr/>
        </p:nvPicPr>
        <p:blipFill>
          <a:blip r:embed="rId5"/>
          <a:stretch/>
        </p:blipFill>
        <p:spPr>
          <a:xfrm>
            <a:off x="4038480" y="4057560"/>
            <a:ext cx="28004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trate Utilization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determine if an organism is capable of fermenting citrate and using that citrate as its sole carbon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of an organism to utilize citrate occurs via the enzym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citr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5" descr="Citrate"/>
          <p:cNvPicPr/>
          <p:nvPr/>
        </p:nvPicPr>
        <p:blipFill>
          <a:blip r:embed="rId1"/>
          <a:stretch/>
        </p:blipFill>
        <p:spPr>
          <a:xfrm>
            <a:off x="1905120" y="4913280"/>
            <a:ext cx="5559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3 Simmons Citrate agar s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these slants us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ab and streak meth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same way you inoculated the TSI media using a needle)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.pneumonia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E.aerog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477440" y="685800"/>
            <a:ext cx="68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Distinguishing Enterobacteriaceae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3581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found in the intestines of human or other mamm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rying pathogenicity: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ommens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opportunis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ogens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found in the environmen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40960" y="5410080"/>
            <a:ext cx="279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speci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trobacter freundii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terobacter aerogenes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107320" y="5667480"/>
            <a:ext cx="26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teus mirabilis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lmonella typhi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igella dysenteria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ersinia enterocolitica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19810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family of bacteri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m negative rod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le of fermenting various sugar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trate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mon’s Citrate agar utilizes sodium citrate as its sole carbon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romthymol b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cluded as a pH indicator; the medium initially is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rganisms capable of using citrate as a carbon source turn the media “Prussian blu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31citrate"/>
          <p:cNvPicPr/>
          <p:nvPr/>
        </p:nvPicPr>
        <p:blipFill>
          <a:blip r:embed="rId1"/>
          <a:stretch/>
        </p:blipFill>
        <p:spPr>
          <a:xfrm>
            <a:off x="6122880" y="2209680"/>
            <a:ext cx="3021120" cy="4343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1360" y="64008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    +     -     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7" descr="simmon%20citrate%20fig1"/>
          <p:cNvPicPr/>
          <p:nvPr/>
        </p:nvPicPr>
        <p:blipFill>
          <a:blip r:embed="rId2"/>
          <a:stretch/>
        </p:blipFill>
        <p:spPr>
          <a:xfrm>
            <a:off x="6095880" y="243000"/>
            <a:ext cx="304812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996680" y="6491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199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6" descr="IMViC Summary"/>
          <p:cNvPicPr/>
          <p:nvPr/>
        </p:nvPicPr>
        <p:blipFill>
          <a:blip r:embed="rId1"/>
          <a:srcRect l="0" t="5643" r="0" b="0"/>
          <a:stretch/>
        </p:blipFill>
        <p:spPr>
          <a:xfrm>
            <a:off x="1862280" y="380880"/>
            <a:ext cx="5681520" cy="6477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2629080" y="0"/>
            <a:ext cx="45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ummary of IMViC Reactions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rease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ifferentiate organisms based on their ability to hydrolyze urea with the enzym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H indicato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henol 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s used to detect the breakdown of urea and the production of ammonia which is used by bacteria to produce amino acids and nucleot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urease_reaction"/>
          <p:cNvPicPr/>
          <p:nvPr/>
        </p:nvPicPr>
        <p:blipFill>
          <a:blip r:embed="rId1"/>
          <a:stretch/>
        </p:blipFill>
        <p:spPr>
          <a:xfrm>
            <a:off x="3581280" y="5257800"/>
            <a:ext cx="4876920" cy="1600200"/>
          </a:xfrm>
          <a:prstGeom prst="rect">
            <a:avLst/>
          </a:prstGeom>
          <a:ln w="0">
            <a:noFill/>
          </a:ln>
        </p:spPr>
      </p:pic>
      <p:sp>
        <p:nvSpPr>
          <p:cNvPr id="171" name="Oval 5"/>
          <p:cNvSpPr/>
          <p:nvPr/>
        </p:nvSpPr>
        <p:spPr>
          <a:xfrm>
            <a:off x="7086600" y="6400800"/>
            <a:ext cx="12193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2 urea broth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vulgar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rease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inary tract pathogens from the genu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Prote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y be distinguished from other ente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+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he alkaline end products build, phenol red turns from yellowish gold to pink—a positive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657600" y="373392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7315200" y="3276720"/>
            <a:ext cx="83808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7" descr="urease_reaction"/>
          <p:cNvPicPr/>
          <p:nvPr/>
        </p:nvPicPr>
        <p:blipFill>
          <a:blip r:embed="rId1"/>
          <a:stretch/>
        </p:blipFill>
        <p:spPr>
          <a:xfrm>
            <a:off x="2133720" y="5257800"/>
            <a:ext cx="487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rease Test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3657240"/>
            <a:ext cx="3810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se positive organism on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se negative organism on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9" descr="urea%20broth"/>
          <p:cNvPicPr/>
          <p:nvPr/>
        </p:nvPicPr>
        <p:blipFill>
          <a:blip r:embed="rId1"/>
          <a:srcRect l="8475" t="21668" r="8475" b="5000"/>
          <a:stretch/>
        </p:blipFill>
        <p:spPr>
          <a:xfrm>
            <a:off x="54100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3"/>
          <p:cNvSpPr/>
          <p:nvPr/>
        </p:nvSpPr>
        <p:spPr>
          <a:xfrm>
            <a:off x="0" y="22860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he alkaline end products build, phenol red turns from yellowish gold to pink—a positive resul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5" descr="Phenylalanine deaminase"/>
          <p:cNvPicPr/>
          <p:nvPr/>
        </p:nvPicPr>
        <p:blipFill>
          <a:blip r:embed="rId1"/>
          <a:srcRect l="14587" t="12966" r="0" b="68521"/>
          <a:stretch/>
        </p:blipFill>
        <p:spPr>
          <a:xfrm>
            <a:off x="914400" y="4800600"/>
            <a:ext cx="7696080" cy="1876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enylalanine Deaminase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identify bacteria possessing the enzym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phenylalanine deaminas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enylalanine deaminase converts the amino acid phenylalanine to phenylpyruvic acid +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13"/>
          <p:cNvSpPr/>
          <p:nvPr/>
        </p:nvSpPr>
        <p:spPr>
          <a:xfrm flipH="1" flipV="1">
            <a:off x="2743200" y="5790960"/>
            <a:ext cx="91440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4"/>
          <p:cNvSpPr/>
          <p:nvPr/>
        </p:nvSpPr>
        <p:spPr>
          <a:xfrm flipH="1" flipV="1">
            <a:off x="6781680" y="5791320"/>
            <a:ext cx="609840" cy="30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7772400" y="51055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2 phenylalanine agar s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(with a loop on the surface)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vulga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enylpyruvic acid produced by some organisms is color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inoculation and incubatio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% ferric chlor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 oxidizing agent, is added to the surface of the sl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rric chloride (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reacts with the phenylpyruvic acid (if present) and changes color from yellow to green—a positive resul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henylalanine Deaminase Result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Picture 5" descr="deam_pos"/>
          <p:cNvPicPr/>
          <p:nvPr/>
        </p:nvPicPr>
        <p:blipFill>
          <a:blip r:embed="rId1"/>
          <a:stretch/>
        </p:blipFill>
        <p:spPr>
          <a:xfrm>
            <a:off x="2666880" y="4843440"/>
            <a:ext cx="3048120" cy="201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deam_neg"/>
          <p:cNvPicPr/>
          <p:nvPr/>
        </p:nvPicPr>
        <p:blipFill>
          <a:blip r:embed="rId2"/>
          <a:stretch/>
        </p:blipFill>
        <p:spPr>
          <a:xfrm>
            <a:off x="5715000" y="4857840"/>
            <a:ext cx="3429000" cy="2000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PD"/>
          <p:cNvPicPr/>
          <p:nvPr/>
        </p:nvPicPr>
        <p:blipFill>
          <a:blip r:embed="rId3"/>
          <a:srcRect l="827" t="0" r="0" b="0"/>
          <a:stretch/>
        </p:blipFill>
        <p:spPr>
          <a:xfrm>
            <a:off x="5715000" y="2286000"/>
            <a:ext cx="3429000" cy="2592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380880" y="2181240"/>
            <a:ext cx="5257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erric chloride (FeCl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reacts with the phenylpyruvic acid (if present) and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hanges color from yellow to green  — a positive resul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12" descr="Phenylalanine deaminase"/>
          <p:cNvPicPr/>
          <p:nvPr/>
        </p:nvPicPr>
        <p:blipFill>
          <a:blip r:embed="rId4"/>
          <a:srcRect l="0" t="50009" r="45837" b="0"/>
          <a:stretch/>
        </p:blipFill>
        <p:spPr>
          <a:xfrm>
            <a:off x="25560" y="4114800"/>
            <a:ext cx="2641320" cy="27432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6121080" y="18604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3165120" y="640080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mb"/>
          <p:cNvPicPr/>
          <p:nvPr/>
        </p:nvPicPr>
        <p:blipFill>
          <a:blip r:embed="rId1"/>
          <a:stretch/>
        </p:blipFill>
        <p:spPr>
          <a:xfrm>
            <a:off x="3429000" y="1811160"/>
            <a:ext cx="5715000" cy="504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152280" y="213336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amounts of acid from lactose fermentation cause the dyes to precipitate on the colony surface, producing a black center or a “green metallic sheen”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. col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r amounts of acid production result in pink coloration of the growth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. aeroge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fermenting enterics do not produce acid so their colonies remain colorless or take on the color of the media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. vulgar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600200" y="4572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evious Experience with 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nterobacteriaceae: EMB Media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trate Reductase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detect the ability of an organism to reduce 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nitri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some other nitrogenous compound, such as molecular nitrogen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using the enzym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nitrate reduct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11"/>
          <p:cNvGrpSpPr/>
          <p:nvPr/>
        </p:nvGrpSpPr>
        <p:grpSpPr>
          <a:xfrm>
            <a:off x="2115720" y="5538960"/>
            <a:ext cx="6876000" cy="710640"/>
            <a:chOff x="2115720" y="5538960"/>
            <a:chExt cx="6876000" cy="710640"/>
          </a:xfrm>
        </p:grpSpPr>
        <p:grpSp>
          <p:nvGrpSpPr>
            <p:cNvPr id="204" name="Group 9"/>
            <p:cNvGrpSpPr/>
            <p:nvPr/>
          </p:nvGrpSpPr>
          <p:grpSpPr>
            <a:xfrm>
              <a:off x="2115720" y="5538960"/>
              <a:ext cx="3515760" cy="686160"/>
              <a:chOff x="2115720" y="5538960"/>
              <a:chExt cx="3515760" cy="686160"/>
            </a:xfrm>
          </p:grpSpPr>
          <p:sp>
            <p:nvSpPr>
              <p:cNvPr id="205" name="Text Box 4"/>
              <p:cNvSpPr/>
              <p:nvPr/>
            </p:nvSpPr>
            <p:spPr>
              <a:xfrm>
                <a:off x="2115720" y="571500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Line 5"/>
              <p:cNvSpPr/>
              <p:nvPr/>
            </p:nvSpPr>
            <p:spPr>
              <a:xfrm>
                <a:off x="2895480" y="594360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6"/>
              <p:cNvSpPr/>
              <p:nvPr/>
            </p:nvSpPr>
            <p:spPr>
              <a:xfrm>
                <a:off x="2713680" y="553896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Text Box 7"/>
              <p:cNvSpPr/>
              <p:nvPr/>
            </p:nvSpPr>
            <p:spPr>
              <a:xfrm>
                <a:off x="2626560" y="567072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Text Box 8"/>
              <p:cNvSpPr/>
              <p:nvPr/>
            </p:nvSpPr>
            <p:spPr>
              <a:xfrm>
                <a:off x="5379120" y="566748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0" name="Text Box 10"/>
            <p:cNvSpPr/>
            <p:nvPr/>
          </p:nvSpPr>
          <p:spPr>
            <a:xfrm>
              <a:off x="5715000" y="5607000"/>
              <a:ext cx="32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orms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red color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once solutions A and B are added.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3 Nitrate broth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(with a loop) those tubes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A.faecali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aerugin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Pay close attention to this test; its one of the hardest test to rea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inoculation and incubation, the ability of an organism to reduce nitrate to nitrite (or molecular nitrogen) is detected by adding two reagen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olution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ulfanilic acid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olution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naphthylam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d col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ears after addition of solution A and B, th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considered a positive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1734480" y="6148440"/>
            <a:ext cx="6876000" cy="710640"/>
            <a:chOff x="1734480" y="6148440"/>
            <a:chExt cx="6876000" cy="710640"/>
          </a:xfrm>
        </p:grpSpPr>
        <p:grpSp>
          <p:nvGrpSpPr>
            <p:cNvPr id="216" name="Group 5"/>
            <p:cNvGrpSpPr/>
            <p:nvPr/>
          </p:nvGrpSpPr>
          <p:grpSpPr>
            <a:xfrm>
              <a:off x="1734480" y="6148440"/>
              <a:ext cx="3515760" cy="686160"/>
              <a:chOff x="1734480" y="6148440"/>
              <a:chExt cx="3515760" cy="686160"/>
            </a:xfrm>
          </p:grpSpPr>
          <p:sp>
            <p:nvSpPr>
              <p:cNvPr id="217" name="Text Box 6"/>
              <p:cNvSpPr/>
              <p:nvPr/>
            </p:nvSpPr>
            <p:spPr>
              <a:xfrm>
                <a:off x="1734480" y="632448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Line 7"/>
              <p:cNvSpPr/>
              <p:nvPr/>
            </p:nvSpPr>
            <p:spPr>
              <a:xfrm>
                <a:off x="2514240" y="655308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Text Box 8"/>
              <p:cNvSpPr/>
              <p:nvPr/>
            </p:nvSpPr>
            <p:spPr>
              <a:xfrm>
                <a:off x="2332440" y="614844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2245320" y="628020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Text Box 10"/>
              <p:cNvSpPr/>
              <p:nvPr/>
            </p:nvSpPr>
            <p:spPr>
              <a:xfrm>
                <a:off x="4997880" y="62769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2" name="Text Box 11"/>
            <p:cNvSpPr/>
            <p:nvPr/>
          </p:nvSpPr>
          <p:spPr>
            <a:xfrm>
              <a:off x="5333760" y="6216480"/>
              <a:ext cx="32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orms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red color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once solutions A and B are added.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continued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i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o color cha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ccurs after additions of solutions A &amp; B, two possibilities must be consider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trates were not re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the org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rganism possessed such potent nitrate reductase enzymes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trates were reduced beyond nitri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mmonia or even molecular nitro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1734480" y="5899320"/>
            <a:ext cx="6527520" cy="862920"/>
            <a:chOff x="1734480" y="5899320"/>
            <a:chExt cx="6527520" cy="862920"/>
          </a:xfrm>
        </p:grpSpPr>
        <p:grpSp>
          <p:nvGrpSpPr>
            <p:cNvPr id="226" name="Group 16"/>
            <p:cNvGrpSpPr/>
            <p:nvPr/>
          </p:nvGrpSpPr>
          <p:grpSpPr>
            <a:xfrm>
              <a:off x="1734480" y="5943600"/>
              <a:ext cx="3516120" cy="686160"/>
              <a:chOff x="1734480" y="5943600"/>
              <a:chExt cx="3516120" cy="686160"/>
            </a:xfrm>
          </p:grpSpPr>
          <p:sp>
            <p:nvSpPr>
              <p:cNvPr id="227" name="Text Box 6"/>
              <p:cNvSpPr/>
              <p:nvPr/>
            </p:nvSpPr>
            <p:spPr>
              <a:xfrm>
                <a:off x="1734480" y="611964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Line 7"/>
              <p:cNvSpPr/>
              <p:nvPr/>
            </p:nvSpPr>
            <p:spPr>
              <a:xfrm>
                <a:off x="2514600" y="63482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Text Box 8"/>
              <p:cNvSpPr/>
              <p:nvPr/>
            </p:nvSpPr>
            <p:spPr>
              <a:xfrm>
                <a:off x="2332440" y="594360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Text Box 9"/>
              <p:cNvSpPr/>
              <p:nvPr/>
            </p:nvSpPr>
            <p:spPr>
              <a:xfrm>
                <a:off x="2245680" y="60753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4998240" y="607212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2" name="Line 12"/>
            <p:cNvSpPr/>
            <p:nvPr/>
          </p:nvSpPr>
          <p:spPr>
            <a:xfrm>
              <a:off x="5257800" y="640080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Text Box 13"/>
            <p:cNvSpPr/>
            <p:nvPr/>
          </p:nvSpPr>
          <p:spPr>
            <a:xfrm>
              <a:off x="6229440" y="6356520"/>
              <a:ext cx="188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Ammonia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 flipV="1">
              <a:off x="5257800" y="617184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6200640" y="5899320"/>
              <a:ext cx="206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Nitrogen Gas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6" name="Text Box 18"/>
          <p:cNvSpPr/>
          <p:nvPr/>
        </p:nvSpPr>
        <p:spPr>
          <a:xfrm>
            <a:off x="8379360" y="64911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219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23"/>
          <p:cNvGrpSpPr/>
          <p:nvPr/>
        </p:nvGrpSpPr>
        <p:grpSpPr>
          <a:xfrm>
            <a:off x="2877480" y="3443400"/>
            <a:ext cx="3497040" cy="573480"/>
            <a:chOff x="2877480" y="3443400"/>
            <a:chExt cx="3497040" cy="573480"/>
          </a:xfrm>
        </p:grpSpPr>
        <p:sp>
          <p:nvSpPr>
            <p:cNvPr id="238" name="Rectangle 19"/>
            <p:cNvSpPr/>
            <p:nvPr/>
          </p:nvSpPr>
          <p:spPr>
            <a:xfrm>
              <a:off x="2877480" y="3506760"/>
              <a:ext cx="349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20"/>
            <p:cNvSpPr/>
            <p:nvPr/>
          </p:nvSpPr>
          <p:spPr>
            <a:xfrm>
              <a:off x="3657600" y="375300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3378960" y="344340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6122160" y="345744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Continued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solution C (zinc) is added to the tubes that showed no color change after addition of Nitrate A &amp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nc, a reducing agent, is capable of converting nitrate to nitrite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he development of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d col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fter addition of Nitrate C means that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nitrates were present and reduced by the zinc not the organism; this is a negativ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If the addition of zinc does not produce a color change, the nitrates were reduced beyond nitrites to ammonia or nitrogen gas; this is a positive re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2877480" y="4280040"/>
            <a:ext cx="3497040" cy="573480"/>
            <a:chOff x="2877480" y="4280040"/>
            <a:chExt cx="3497040" cy="573480"/>
          </a:xfrm>
        </p:grpSpPr>
        <p:sp>
          <p:nvSpPr>
            <p:cNvPr id="245" name="Rectangle 5"/>
            <p:cNvSpPr/>
            <p:nvPr/>
          </p:nvSpPr>
          <p:spPr>
            <a:xfrm>
              <a:off x="2877480" y="4343400"/>
              <a:ext cx="349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3657600" y="45896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3378960" y="428004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6122160" y="429408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1734480" y="5899320"/>
            <a:ext cx="6527520" cy="862920"/>
            <a:chOff x="1734480" y="5899320"/>
            <a:chExt cx="6527520" cy="862920"/>
          </a:xfrm>
        </p:grpSpPr>
        <p:grpSp>
          <p:nvGrpSpPr>
            <p:cNvPr id="250" name="Group 10"/>
            <p:cNvGrpSpPr/>
            <p:nvPr/>
          </p:nvGrpSpPr>
          <p:grpSpPr>
            <a:xfrm>
              <a:off x="1734480" y="5943600"/>
              <a:ext cx="3516120" cy="686160"/>
              <a:chOff x="1734480" y="5943600"/>
              <a:chExt cx="3516120" cy="686160"/>
            </a:xfrm>
          </p:grpSpPr>
          <p:sp>
            <p:nvSpPr>
              <p:cNvPr id="251" name="Text Box 11"/>
              <p:cNvSpPr/>
              <p:nvPr/>
            </p:nvSpPr>
            <p:spPr>
              <a:xfrm>
                <a:off x="1734480" y="611964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Line 12"/>
              <p:cNvSpPr/>
              <p:nvPr/>
            </p:nvSpPr>
            <p:spPr>
              <a:xfrm>
                <a:off x="2514600" y="63482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Text Box 13"/>
              <p:cNvSpPr/>
              <p:nvPr/>
            </p:nvSpPr>
            <p:spPr>
              <a:xfrm>
                <a:off x="2332440" y="594360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Text Box 14"/>
              <p:cNvSpPr/>
              <p:nvPr/>
            </p:nvSpPr>
            <p:spPr>
              <a:xfrm>
                <a:off x="2245680" y="60753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Text Box 15"/>
              <p:cNvSpPr/>
              <p:nvPr/>
            </p:nvSpPr>
            <p:spPr>
              <a:xfrm>
                <a:off x="4998240" y="607212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6" name="Line 16"/>
            <p:cNvSpPr/>
            <p:nvPr/>
          </p:nvSpPr>
          <p:spPr>
            <a:xfrm>
              <a:off x="5257800" y="640080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6229440" y="6356520"/>
              <a:ext cx="188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Ammonia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 flipV="1">
              <a:off x="5257800" y="617184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6200640" y="5899320"/>
              <a:ext cx="206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Nitrogen Gas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6"/>
          <p:cNvSpPr/>
          <p:nvPr/>
        </p:nvSpPr>
        <p:spPr>
          <a:xfrm>
            <a:off x="0" y="76212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s A and B have been added to these tu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95720" y="638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C has been added to these tu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5" descr="30nitrates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09480" y="2057400"/>
            <a:ext cx="17575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30nitratezinc"/>
          <p:cNvPicPr/>
          <p:nvPr/>
        </p:nvPicPr>
        <p:blipFill>
          <a:blip r:embed="rId2"/>
          <a:stretch/>
        </p:blipFill>
        <p:spPr>
          <a:xfrm>
            <a:off x="4495680" y="1981080"/>
            <a:ext cx="1187640" cy="3353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573840" y="57150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. coli -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tase Posi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17"/>
          <p:cNvGrpSpPr/>
          <p:nvPr/>
        </p:nvGrpSpPr>
        <p:grpSpPr>
          <a:xfrm>
            <a:off x="-94320" y="6148440"/>
            <a:ext cx="6876000" cy="686160"/>
            <a:chOff x="-94320" y="6148440"/>
            <a:chExt cx="6876000" cy="686160"/>
          </a:xfrm>
        </p:grpSpPr>
        <p:grpSp>
          <p:nvGrpSpPr>
            <p:cNvPr id="267" name="Group 18"/>
            <p:cNvGrpSpPr/>
            <p:nvPr/>
          </p:nvGrpSpPr>
          <p:grpSpPr>
            <a:xfrm>
              <a:off x="-94320" y="6148440"/>
              <a:ext cx="3515760" cy="686160"/>
              <a:chOff x="-94320" y="6148440"/>
              <a:chExt cx="3515760" cy="686160"/>
            </a:xfrm>
          </p:grpSpPr>
          <p:sp>
            <p:nvSpPr>
              <p:cNvPr id="268" name="Text Box 19"/>
              <p:cNvSpPr/>
              <p:nvPr/>
            </p:nvSpPr>
            <p:spPr>
              <a:xfrm>
                <a:off x="-94320" y="632448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Line 20"/>
              <p:cNvSpPr/>
              <p:nvPr/>
            </p:nvSpPr>
            <p:spPr>
              <a:xfrm>
                <a:off x="685440" y="655308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Text Box 21"/>
              <p:cNvSpPr/>
              <p:nvPr/>
            </p:nvSpPr>
            <p:spPr>
              <a:xfrm>
                <a:off x="503640" y="614844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Text Box 22"/>
              <p:cNvSpPr/>
              <p:nvPr/>
            </p:nvSpPr>
            <p:spPr>
              <a:xfrm>
                <a:off x="416520" y="628020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3169080" y="62769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3" name="Text Box 24"/>
            <p:cNvSpPr/>
            <p:nvPr/>
          </p:nvSpPr>
          <p:spPr>
            <a:xfrm>
              <a:off x="3504960" y="6216480"/>
              <a:ext cx="327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4" name="Text Box 27"/>
          <p:cNvSpPr/>
          <p:nvPr/>
        </p:nvSpPr>
        <p:spPr>
          <a:xfrm>
            <a:off x="5805360" y="51055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. aeruginosa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tase Posi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Group 44"/>
          <p:cNvGrpSpPr/>
          <p:nvPr/>
        </p:nvGrpSpPr>
        <p:grpSpPr>
          <a:xfrm>
            <a:off x="5618880" y="2133720"/>
            <a:ext cx="3517200" cy="967320"/>
            <a:chOff x="5618880" y="2133720"/>
            <a:chExt cx="3517200" cy="967320"/>
          </a:xfrm>
        </p:grpSpPr>
        <p:sp>
          <p:nvSpPr>
            <p:cNvPr id="276" name="Text Box 25"/>
            <p:cNvSpPr/>
            <p:nvPr/>
          </p:nvSpPr>
          <p:spPr>
            <a:xfrm>
              <a:off x="5618880" y="2133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C. xerosi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- Reductase Negative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7" name="Group 28"/>
            <p:cNvGrpSpPr/>
            <p:nvPr/>
          </p:nvGrpSpPr>
          <p:grpSpPr>
            <a:xfrm>
              <a:off x="5639760" y="2527560"/>
              <a:ext cx="3496320" cy="573480"/>
              <a:chOff x="5639760" y="2527560"/>
              <a:chExt cx="3496320" cy="573480"/>
            </a:xfrm>
          </p:grpSpPr>
          <p:sp>
            <p:nvSpPr>
              <p:cNvPr id="278" name="Rectangle 29"/>
              <p:cNvSpPr/>
              <p:nvPr/>
            </p:nvSpPr>
            <p:spPr>
              <a:xfrm>
                <a:off x="5639760" y="259092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30"/>
              <p:cNvSpPr/>
              <p:nvPr/>
            </p:nvSpPr>
            <p:spPr>
              <a:xfrm>
                <a:off x="6419520" y="2837160"/>
                <a:ext cx="1904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31"/>
              <p:cNvSpPr/>
              <p:nvPr/>
            </p:nvSpPr>
            <p:spPr>
              <a:xfrm>
                <a:off x="6140520" y="25275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32"/>
              <p:cNvSpPr/>
              <p:nvPr/>
            </p:nvSpPr>
            <p:spPr>
              <a:xfrm>
                <a:off x="8883720" y="254160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2" name="Group 45"/>
          <p:cNvGrpSpPr/>
          <p:nvPr/>
        </p:nvGrpSpPr>
        <p:grpSpPr>
          <a:xfrm>
            <a:off x="4269960" y="5791320"/>
            <a:ext cx="4906440" cy="1105560"/>
            <a:chOff x="4269960" y="5791320"/>
            <a:chExt cx="4906440" cy="1105560"/>
          </a:xfrm>
        </p:grpSpPr>
        <p:sp>
          <p:nvSpPr>
            <p:cNvPr id="283" name="Text Box 35"/>
            <p:cNvSpPr/>
            <p:nvPr/>
          </p:nvSpPr>
          <p:spPr>
            <a:xfrm>
              <a:off x="4269960" y="6254640"/>
              <a:ext cx="265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Line 36"/>
            <p:cNvSpPr/>
            <p:nvPr/>
          </p:nvSpPr>
          <p:spPr>
            <a:xfrm flipV="1">
              <a:off x="5041800" y="6476760"/>
              <a:ext cx="121932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Text Box 37"/>
            <p:cNvSpPr/>
            <p:nvPr/>
          </p:nvSpPr>
          <p:spPr>
            <a:xfrm>
              <a:off x="4931280" y="5791320"/>
              <a:ext cx="129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trate 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ductase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Text Box 38"/>
            <p:cNvSpPr/>
            <p:nvPr/>
          </p:nvSpPr>
          <p:spPr>
            <a:xfrm>
              <a:off x="4772880" y="62103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Text Box 39"/>
            <p:cNvSpPr/>
            <p:nvPr/>
          </p:nvSpPr>
          <p:spPr>
            <a:xfrm>
              <a:off x="6696720" y="620712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40"/>
            <p:cNvSpPr/>
            <p:nvPr/>
          </p:nvSpPr>
          <p:spPr>
            <a:xfrm>
              <a:off x="6956280" y="6535800"/>
              <a:ext cx="304920" cy="9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Text Box 41"/>
            <p:cNvSpPr/>
            <p:nvPr/>
          </p:nvSpPr>
          <p:spPr>
            <a:xfrm>
              <a:off x="7143840" y="6491160"/>
              <a:ext cx="188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Ammonia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42"/>
            <p:cNvSpPr/>
            <p:nvPr/>
          </p:nvSpPr>
          <p:spPr>
            <a:xfrm flipV="1">
              <a:off x="6956280" y="6400440"/>
              <a:ext cx="304920" cy="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Text Box 43"/>
            <p:cNvSpPr/>
            <p:nvPr/>
          </p:nvSpPr>
          <p:spPr>
            <a:xfrm>
              <a:off x="7115040" y="6033960"/>
              <a:ext cx="206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Nitrogen Gas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" name="Line 46"/>
          <p:cNvSpPr/>
          <p:nvPr/>
        </p:nvSpPr>
        <p:spPr>
          <a:xfrm flipV="1">
            <a:off x="3809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7"/>
          <p:cNvSpPr/>
          <p:nvPr/>
        </p:nvSpPr>
        <p:spPr>
          <a:xfrm>
            <a:off x="2438280" y="36576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2438280" y="30481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nreac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28600" y="2193840"/>
            <a:ext cx="883908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riple Sugar Iron (TSI)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fermentation of sugars, sulfur reductio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ViC: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dol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Break down the amino acid Tryptopha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hyl Red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Glucose oxidatio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ges-Proskauer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roduction of neutral end products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trat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itrate fermentatio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reas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Hydrolyzation of Urea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henylalanine Deaminas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onverts the amino acid phenylalanine to phenylpyruvic acid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itrate Reductas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Reduction of nitrate (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to nitrite (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55040" y="762120"/>
            <a:ext cx="40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Biochemical Testing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IPLE SUGAR IRON TES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T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ifferentiate among the different group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terobacteriacea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eir ability to ferment glucose, lactose and/or sucr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differentiates between groups capable of reducing sulfur to hydrogen sulf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odium Thiosulfate -&gt; Hydrogen sulfi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SI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slant/Red butt =  no fer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slant/Yellow butt =  only glucos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er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llow slant/yellow butt = lactos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and/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sucros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newkia"/>
          <p:cNvPicPr/>
          <p:nvPr/>
        </p:nvPicPr>
        <p:blipFill>
          <a:blip r:embed="rId1"/>
          <a:stretch/>
        </p:blipFill>
        <p:spPr>
          <a:xfrm>
            <a:off x="0" y="3940200"/>
            <a:ext cx="4495680" cy="2917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511160" y="6051600"/>
            <a:ext cx="46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rk color: Hydrogen Sulfide produced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dium thiosulfate reduced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374680" y="64911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190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ViC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ries of four tests consisting o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ifferentiate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terobacteriacea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look at each test individ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3520" y="2882880"/>
            <a:ext cx="86104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do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reak down the amino acid Tryptopha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thyl Red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Glucose oxidatio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ges-Proskauer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oduction of neutral end products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trat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itrate fermentatio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ole Tes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IM: Sulfide,Indole,Motilit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bacteria capable of produc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d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acteria are capable of conver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ryptop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n amino acid)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do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yruvic ac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using the enzym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ryptophan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ruvic acid can be converted to energy or used to synthesize other compounds required by th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7" descr="Tryptophanase"/>
          <p:cNvPicPr/>
          <p:nvPr/>
        </p:nvPicPr>
        <p:blipFill>
          <a:blip r:embed="rId1"/>
          <a:stretch/>
        </p:blipFill>
        <p:spPr>
          <a:xfrm>
            <a:off x="609480" y="4876920"/>
            <a:ext cx="8001000" cy="192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1682280" y="6415200"/>
            <a:ext cx="74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ryptopha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Indole Ring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yruvic Acid   Ammonia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4 SIM Deep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y the stab meth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vulgari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 aerogene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. pneumoni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2:11:15Z</dcterms:created>
  <dc:creator>hoganb</dc:creator>
  <dc:description/>
  <dc:language>en-US</dc:language>
  <cp:lastModifiedBy>ihab moussa</cp:lastModifiedBy>
  <dcterms:modified xsi:type="dcterms:W3CDTF">2016-04-06T19:44:21Z</dcterms:modified>
  <cp:revision>61</cp:revision>
  <dc:subject/>
  <dc:title>BIOCHEMICAL TESTING  PART TWO</dc:title>
</cp:coreProperties>
</file>