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EB3-1463-464D-A81D-F1CA0239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320-905C-4D99-913A-44C7AE6F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B78-ADF5-4A9A-98EE-0F9145FE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9A4-25B8-4428-8BE5-81D41318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4948-9726-404A-BEBE-8E69BB19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8965-0E4E-468E-B916-4AC7495A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98D8-DC57-4CA2-92A5-CFFEBA4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D2D9-A73F-436E-807A-EABED315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189A-1C2B-45E4-849E-316BE034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A8C8-CDCD-473D-9D4D-21FA304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83EF-DFFB-4DAB-841D-E44EFFA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8A3-D6C8-4486-BD1E-338A20C7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B7A5-1AE5-4143-BC7A-58B4A15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991E-8E54-4BB1-8853-15FFD5C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2DA9-7766-4B8F-AEDA-CA21A1B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B32-C108-4EF6-8CBF-EE38C5FB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5929-6BDB-4647-BDAC-362262F6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290-B4A8-44F8-9A10-B3E3FD98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B31-28A0-4CC9-B565-C86DB8A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184-1073-49C3-864D-17CF343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9A2-EDCE-4387-ACC5-DD6C17E6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95-2F02-4F3A-9C6F-5337260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FC1-E1B9-4591-9333-20DADD7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F4A-47BF-48F9-8866-C6A994F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2918-F1CB-4CE3-BB5C-3FDA36FE3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9AC9-4439-454A-8C88-C872E228BD8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eople.uleth.ca/~selibl/Biol3200/Exercise5/Voges-Proskauer.jpg&amp;imgrefurl=http://people.uleth.ca/~selibl/Biol3200/Exercise5/VogesPros.html&amp;h=324&amp;w=432&amp;sz=14&amp;tbnid=2Se_bS19veMJ:&amp;tbnh=92&amp;tbnw=122&amp;start=1&amp;prev=/images%3Fq%3Dvoges-proskauer%2Btest%26hl%3Den%26lr%3D%26ie%3DUTF-8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CHEMICAL TESTING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T TW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ol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3657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lity (if present) can be seen as growth of the bacteria away from the stab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lfur in the media may be reduced to 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); this appears as a “blackening” within the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IndoleResults"/>
          <p:cNvPicPr/>
          <p:nvPr/>
        </p:nvPicPr>
        <p:blipFill>
          <a:blip r:embed="rId1"/>
          <a:srcRect l="36426" t="33781" r="12364" b="0"/>
          <a:stretch/>
        </p:blipFill>
        <p:spPr>
          <a:xfrm>
            <a:off x="6415200" y="3352680"/>
            <a:ext cx="2728800" cy="35053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71600" y="2057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f indole is produced, upon addi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Kovac’s Reagen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(10 drops), a “cherry-red” band forms on the surface of the media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yl Red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termine the ability of a bacteria to oxidize glucose and produce stable acid end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is a pH indicator (red at pH less than 4.4 and yellow at a pH greater than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mbination medium used for this test is the MR-VP (methyl red/Voges-Proskauer) br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51720" y="5943600"/>
            <a:ext cx="70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Acid production: positive methyl red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nd products of neutral pH : positive Voges-Proskauer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MR-VP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using a loop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E.aerog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3 MR-VP broths that you inoculated, transfer 2 mLs from each and place into 3 separate clean tubes (set aside these aliquots for the VP t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he remaining, original tubes that you inoculated add 5 drops of methyl red indica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d color indicates that glucose has been oxid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hyl Red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380988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e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negati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be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5" descr="MR%20test"/>
          <p:cNvPicPr/>
          <p:nvPr/>
        </p:nvPicPr>
        <p:blipFill>
          <a:blip r:embed="rId1"/>
          <a:srcRect l="9615" t="0" r="7692" b="27087"/>
          <a:stretch/>
        </p:blipFill>
        <p:spPr>
          <a:xfrm>
            <a:off x="5715000" y="1752480"/>
            <a:ext cx="3276720" cy="2667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533520" y="220968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red color indicates that glucose has been oxidized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1" descr="MRTestResults"/>
          <p:cNvPicPr/>
          <p:nvPr/>
        </p:nvPicPr>
        <p:blipFill>
          <a:blip r:embed="rId2"/>
          <a:stretch/>
        </p:blipFill>
        <p:spPr>
          <a:xfrm>
            <a:off x="5715000" y="4199040"/>
            <a:ext cx="32767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to determine the ability of microbes to produce nonacidic or neutral end produ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ember that the MR-VP broth is a combined medium used for two tests—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yl Red and Voges-Proskauer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have already inoculated the 3 MR-VP broth tubes from the previous procedure (Methyl Red Test) with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.coli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E.aerogene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the aliquots of each broth culture separated during the methyl red test, ad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drops of Barritt’s Reagent A; 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drops of Barritt’s Reagent B; 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hake the culture every 3 to 4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take as long as 15 min. for a color change to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351080" y="30492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Procedure:</a:t>
            </a:r>
            <a:endParaRPr b="0" i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ges-Proskauer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41148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ges-Proskau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tive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ges-Proskau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ative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Voges-Proskauer">
            <a:hlinkClick r:id="rId1"/>
          </p:cNvPr>
          <p:cNvPicPr/>
          <p:nvPr/>
        </p:nvPicPr>
        <p:blipFill>
          <a:blip r:embed="rId2"/>
          <a:srcRect l="0" t="33980" r="0" b="0"/>
          <a:stretch/>
        </p:blipFill>
        <p:spPr>
          <a:xfrm>
            <a:off x="6858000" y="2743200"/>
            <a:ext cx="2286000" cy="1333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VPResults"/>
          <p:cNvPicPr/>
          <p:nvPr/>
        </p:nvPicPr>
        <p:blipFill>
          <a:blip r:embed="rId3"/>
          <a:srcRect l="0" t="0" r="16475" b="0"/>
          <a:stretch/>
        </p:blipFill>
        <p:spPr>
          <a:xfrm>
            <a:off x="6826320" y="4038480"/>
            <a:ext cx="231768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228600" y="2286000"/>
            <a:ext cx="618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resence of a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eep rose colo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after 15 minutes is indicative of non-acidic / neutral metabolic end products and a positive VP test result.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12" descr="VP1"/>
          <p:cNvPicPr/>
          <p:nvPr/>
        </p:nvPicPr>
        <p:blipFill>
          <a:blip r:embed="rId4"/>
          <a:stretch/>
        </p:blipFill>
        <p:spPr>
          <a:xfrm>
            <a:off x="6858000" y="1522440"/>
            <a:ext cx="2286000" cy="123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vp"/>
          <p:cNvPicPr/>
          <p:nvPr/>
        </p:nvPicPr>
        <p:blipFill>
          <a:blip r:embed="rId5"/>
          <a:stretch/>
        </p:blipFill>
        <p:spPr>
          <a:xfrm>
            <a:off x="4038480" y="4057560"/>
            <a:ext cx="2800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rate Utilization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determine if an organism is capable of fermenting citrate and using that citrate as its sole carbon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of an organism to utilize citrate occurs via the enzym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citr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5" descr="Citrate"/>
          <p:cNvPicPr/>
          <p:nvPr/>
        </p:nvPicPr>
        <p:blipFill>
          <a:blip r:embed="rId1"/>
          <a:stretch/>
        </p:blipFill>
        <p:spPr>
          <a:xfrm>
            <a:off x="1905120" y="4913280"/>
            <a:ext cx="55594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Simmons Citrate agar s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these slants using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ab and streak meth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the same way you inoculated the TSI media using a needle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pneumoniae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E.aerog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477440" y="685800"/>
            <a:ext cx="68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Distinguishing Enterobacteriaceae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35812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found in the intestines of human or other mamm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rying pathogenicity: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>
              <a:lnSpc>
                <a:spcPct val="100000"/>
              </a:lnSpc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Commens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opportunis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ogen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found in the environmen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840960" y="5410080"/>
            <a:ext cx="279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 speci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lebsiella pneumonia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trobacter freundi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erobacter aerogene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107320" y="566748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us mirabili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lmonella typhi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higella dysenteria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ersinia enterocolitic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19810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family of bacteri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ram negative rod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ble of fermenting various sugars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rat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mon’s Citrate agar utilizes sodium citrate as its sole carbon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romthymol blu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cluded as a pH indicator; the medium initially is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rganisms capable of using citrate as a carbon source turn the media “Prussian blue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31citrate"/>
          <p:cNvPicPr/>
          <p:nvPr/>
        </p:nvPicPr>
        <p:blipFill>
          <a:blip r:embed="rId1"/>
          <a:stretch/>
        </p:blipFill>
        <p:spPr>
          <a:xfrm>
            <a:off x="6122880" y="2209680"/>
            <a:ext cx="3021120" cy="4343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1360" y="64008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   +     -     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7" descr="simmon%20citrate%20fig1"/>
          <p:cNvPicPr/>
          <p:nvPr/>
        </p:nvPicPr>
        <p:blipFill>
          <a:blip r:embed="rId2"/>
          <a:stretch/>
        </p:blipFill>
        <p:spPr>
          <a:xfrm>
            <a:off x="6095880" y="243000"/>
            <a:ext cx="30481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5"/>
          <p:cNvSpPr/>
          <p:nvPr/>
        </p:nvSpPr>
        <p:spPr>
          <a:xfrm>
            <a:off x="7996680" y="6491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ge 199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6" descr="IMViC Summary"/>
          <p:cNvPicPr/>
          <p:nvPr/>
        </p:nvPicPr>
        <p:blipFill>
          <a:blip r:embed="rId1"/>
          <a:srcRect l="0" t="5643" r="0" b="0"/>
          <a:stretch/>
        </p:blipFill>
        <p:spPr>
          <a:xfrm>
            <a:off x="1862280" y="380880"/>
            <a:ext cx="5681520" cy="64771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2629080" y="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Summary of IMViC Reaction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organisms based on their ability to hydrolyze urea with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H indicator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henol 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is used to detect the breakdown of urea and the production of ammonia which is used by bacteria to produce amino acids and nucleot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urease_reaction"/>
          <p:cNvPicPr/>
          <p:nvPr/>
        </p:nvPicPr>
        <p:blipFill>
          <a:blip r:embed="rId1"/>
          <a:stretch/>
        </p:blipFill>
        <p:spPr>
          <a:xfrm>
            <a:off x="3581280" y="5257800"/>
            <a:ext cx="4876920" cy="1600200"/>
          </a:xfrm>
          <a:prstGeom prst="rect">
            <a:avLst/>
          </a:prstGeom>
          <a:ln w="0">
            <a:noFill/>
          </a:ln>
        </p:spPr>
      </p:pic>
      <p:sp>
        <p:nvSpPr>
          <p:cNvPr id="171" name="Oval 5"/>
          <p:cNvSpPr/>
          <p:nvPr/>
        </p:nvSpPr>
        <p:spPr>
          <a:xfrm>
            <a:off x="7086600" y="6400800"/>
            <a:ext cx="12193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2 urea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inary tract pathogens from the genu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Prote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y be distinguished from other ente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 +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alkaline end products build, phenol red turns from yellowish gold to pink—a positive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3657600" y="373392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7315200" y="3276720"/>
            <a:ext cx="83808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7" descr="urease_reaction"/>
          <p:cNvPicPr/>
          <p:nvPr/>
        </p:nvPicPr>
        <p:blipFill>
          <a:blip r:embed="rId1"/>
          <a:stretch/>
        </p:blipFill>
        <p:spPr>
          <a:xfrm>
            <a:off x="2133720" y="5257800"/>
            <a:ext cx="48765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rease Test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3657240"/>
            <a:ext cx="3810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 positive organism on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ease negative organism on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9" descr="urea%20broth"/>
          <p:cNvPicPr/>
          <p:nvPr/>
        </p:nvPicPr>
        <p:blipFill>
          <a:blip r:embed="rId1"/>
          <a:srcRect l="8475" t="21668" r="8475" b="5000"/>
          <a:stretch/>
        </p:blipFill>
        <p:spPr>
          <a:xfrm>
            <a:off x="54100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0" y="2286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he alkaline end products build, phenol red turns from yellowish gold to pink—a positive resul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5" descr="Phenylalanine deaminase"/>
          <p:cNvPicPr/>
          <p:nvPr/>
        </p:nvPicPr>
        <p:blipFill>
          <a:blip r:embed="rId1"/>
          <a:srcRect l="14587" t="12966" r="0" b="68521"/>
          <a:stretch/>
        </p:blipFill>
        <p:spPr>
          <a:xfrm>
            <a:off x="914400" y="4800600"/>
            <a:ext cx="7696080" cy="1876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enylalanine Deamin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010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identify bacteria possessing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henylalanine deaminas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enylalanine deaminase converts the amino acid phenylalanine to phenylpyruvic acid +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13"/>
          <p:cNvSpPr/>
          <p:nvPr/>
        </p:nvSpPr>
        <p:spPr>
          <a:xfrm flipH="1" flipV="1">
            <a:off x="2743200" y="5790960"/>
            <a:ext cx="914400" cy="533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14"/>
          <p:cNvSpPr/>
          <p:nvPr/>
        </p:nvSpPr>
        <p:spPr>
          <a:xfrm flipH="1" flipV="1">
            <a:off x="6781680" y="5791320"/>
            <a:ext cx="609840" cy="30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Oval 16"/>
          <p:cNvSpPr/>
          <p:nvPr/>
        </p:nvSpPr>
        <p:spPr>
          <a:xfrm>
            <a:off x="7772400" y="5105520"/>
            <a:ext cx="4572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2 phenylalanine agar sl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with a loop on the surface)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enylpyruvic acid produced by some organisms is color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noculation and incubation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% ferric chlor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an oxidizing agent, is added to the surface of the sl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rric chloride (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reacts with the phenylpyruvic acid (if present) and changes color from yellow to green—a positive resul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enylalanine Deaminase Result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Picture 5" descr="deam_pos"/>
          <p:cNvPicPr/>
          <p:nvPr/>
        </p:nvPicPr>
        <p:blipFill>
          <a:blip r:embed="rId1"/>
          <a:stretch/>
        </p:blipFill>
        <p:spPr>
          <a:xfrm>
            <a:off x="2666880" y="4843440"/>
            <a:ext cx="3048120" cy="2014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deam_neg"/>
          <p:cNvPicPr/>
          <p:nvPr/>
        </p:nvPicPr>
        <p:blipFill>
          <a:blip r:embed="rId2"/>
          <a:stretch/>
        </p:blipFill>
        <p:spPr>
          <a:xfrm>
            <a:off x="5715000" y="4857840"/>
            <a:ext cx="3429000" cy="2000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PD"/>
          <p:cNvPicPr/>
          <p:nvPr/>
        </p:nvPicPr>
        <p:blipFill>
          <a:blip r:embed="rId3"/>
          <a:srcRect l="827" t="0" r="0" b="0"/>
          <a:stretch/>
        </p:blipFill>
        <p:spPr>
          <a:xfrm>
            <a:off x="5715000" y="2286000"/>
            <a:ext cx="3429000" cy="25923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0"/>
          <p:cNvSpPr/>
          <p:nvPr/>
        </p:nvSpPr>
        <p:spPr>
          <a:xfrm>
            <a:off x="380880" y="2181240"/>
            <a:ext cx="52578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rric chloride (FeCl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reacts with the phenylpyruvic acid (if present) and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hanges color from yellow to green  — a positive resul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12" descr="Phenylalanine deaminase"/>
          <p:cNvPicPr/>
          <p:nvPr/>
        </p:nvPicPr>
        <p:blipFill>
          <a:blip r:embed="rId4"/>
          <a:srcRect l="0" t="50009" r="45837" b="0"/>
          <a:stretch/>
        </p:blipFill>
        <p:spPr>
          <a:xfrm>
            <a:off x="25560" y="4114800"/>
            <a:ext cx="2641320" cy="27432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6121080" y="186048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165120" y="640080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mb"/>
          <p:cNvPicPr/>
          <p:nvPr/>
        </p:nvPicPr>
        <p:blipFill>
          <a:blip r:embed="rId1"/>
          <a:stretch/>
        </p:blipFill>
        <p:spPr>
          <a:xfrm>
            <a:off x="3429000" y="1811160"/>
            <a:ext cx="5715000" cy="5046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152280" y="213336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amounts of acid from lactose fermentation cause the dyes to precipitate on the colony surface, producing a black center or a “green metallic sheen”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. col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r amounts of acid production result in pink coloration of the growth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. aeroge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fermenting enterics do not produce acid so their colonies remain colorless or take on the color of the media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. vulgar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00200" y="457200"/>
            <a:ext cx="711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Previous Experience with 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nterobacteriaceae: EMB Media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trate Reductase T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o detect the ability of an organism to reduce 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to nitri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some other nitrogenous compound, such as molecular nitrogen (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using the enzym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itrate reduct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Group 11"/>
          <p:cNvGrpSpPr/>
          <p:nvPr/>
        </p:nvGrpSpPr>
        <p:grpSpPr>
          <a:xfrm>
            <a:off x="2115720" y="5538960"/>
            <a:ext cx="6876000" cy="710640"/>
            <a:chOff x="2115720" y="5538960"/>
            <a:chExt cx="6876000" cy="710640"/>
          </a:xfrm>
        </p:grpSpPr>
        <p:grpSp>
          <p:nvGrpSpPr>
            <p:cNvPr id="204" name="Group 9"/>
            <p:cNvGrpSpPr/>
            <p:nvPr/>
          </p:nvGrpSpPr>
          <p:grpSpPr>
            <a:xfrm>
              <a:off x="2115720" y="5538960"/>
              <a:ext cx="3515760" cy="686160"/>
              <a:chOff x="2115720" y="5538960"/>
              <a:chExt cx="3515760" cy="686160"/>
            </a:xfrm>
          </p:grpSpPr>
          <p:sp>
            <p:nvSpPr>
              <p:cNvPr id="205" name="Text Box 4"/>
              <p:cNvSpPr/>
              <p:nvPr/>
            </p:nvSpPr>
            <p:spPr>
              <a:xfrm>
                <a:off x="2115720" y="571500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Line 5"/>
              <p:cNvSpPr/>
              <p:nvPr/>
            </p:nvSpPr>
            <p:spPr>
              <a:xfrm>
                <a:off x="2895480" y="594360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Text Box 6"/>
              <p:cNvSpPr/>
              <p:nvPr/>
            </p:nvSpPr>
            <p:spPr>
              <a:xfrm>
                <a:off x="2713680" y="553896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Text Box 7"/>
              <p:cNvSpPr/>
              <p:nvPr/>
            </p:nvSpPr>
            <p:spPr>
              <a:xfrm>
                <a:off x="2626560" y="56707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Text Box 8"/>
              <p:cNvSpPr/>
              <p:nvPr/>
            </p:nvSpPr>
            <p:spPr>
              <a:xfrm>
                <a:off x="5379120" y="566748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0" name="Text Box 10"/>
            <p:cNvSpPr/>
            <p:nvPr/>
          </p:nvSpPr>
          <p:spPr>
            <a:xfrm>
              <a:off x="5715000" y="560700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ms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red colo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nce solutions A and B are added.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3 Nitrate broth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(with a loop) those tubes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A.faecali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aerugin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: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Pay close attention to this test; its one of the hardest test to read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inoculation and incubation, the ability of an organism to reduce nitrate to nitrite (or molecular nitrogen) is detected by adding two reagen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olution 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ulfanilic acid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olution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naphthylami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ed col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ppears after addition of solution A and B, thi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 considered a positive res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1734480" y="6148440"/>
            <a:ext cx="6876000" cy="710640"/>
            <a:chOff x="1734480" y="6148440"/>
            <a:chExt cx="6876000" cy="710640"/>
          </a:xfrm>
        </p:grpSpPr>
        <p:grpSp>
          <p:nvGrpSpPr>
            <p:cNvPr id="216" name="Group 5"/>
            <p:cNvGrpSpPr/>
            <p:nvPr/>
          </p:nvGrpSpPr>
          <p:grpSpPr>
            <a:xfrm>
              <a:off x="1734480" y="6148440"/>
              <a:ext cx="3515760" cy="686160"/>
              <a:chOff x="1734480" y="6148440"/>
              <a:chExt cx="3515760" cy="686160"/>
            </a:xfrm>
          </p:grpSpPr>
          <p:sp>
            <p:nvSpPr>
              <p:cNvPr id="217" name="Text Box 6"/>
              <p:cNvSpPr/>
              <p:nvPr/>
            </p:nvSpPr>
            <p:spPr>
              <a:xfrm>
                <a:off x="1734480" y="632448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Line 7"/>
              <p:cNvSpPr/>
              <p:nvPr/>
            </p:nvSpPr>
            <p:spPr>
              <a:xfrm>
                <a:off x="2514240" y="655308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8"/>
              <p:cNvSpPr/>
              <p:nvPr/>
            </p:nvSpPr>
            <p:spPr>
              <a:xfrm>
                <a:off x="2332440" y="614844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2245320" y="62802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Text Box 10"/>
              <p:cNvSpPr/>
              <p:nvPr/>
            </p:nvSpPr>
            <p:spPr>
              <a:xfrm>
                <a:off x="4997880" y="62769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2" name="Text Box 11"/>
            <p:cNvSpPr/>
            <p:nvPr/>
          </p:nvSpPr>
          <p:spPr>
            <a:xfrm>
              <a:off x="5333760" y="6216480"/>
              <a:ext cx="327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orms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red color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once solutions A and B are added.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continue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re i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o color cha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ccurs after additions of solutions A &amp; B, two possibilities must be consider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trates were not re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the org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rganism possessed such potent nitrate reductase enzymes that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trates were reduced beyond nitrit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mmonia or even molecular nitro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1734480" y="5899320"/>
            <a:ext cx="6527520" cy="862920"/>
            <a:chOff x="1734480" y="5899320"/>
            <a:chExt cx="6527520" cy="862920"/>
          </a:xfrm>
        </p:grpSpPr>
        <p:grpSp>
          <p:nvGrpSpPr>
            <p:cNvPr id="226" name="Group 16"/>
            <p:cNvGrpSpPr/>
            <p:nvPr/>
          </p:nvGrpSpPr>
          <p:grpSpPr>
            <a:xfrm>
              <a:off x="1734480" y="5943600"/>
              <a:ext cx="3516120" cy="686160"/>
              <a:chOff x="1734480" y="5943600"/>
              <a:chExt cx="3516120" cy="686160"/>
            </a:xfrm>
          </p:grpSpPr>
          <p:sp>
            <p:nvSpPr>
              <p:cNvPr id="227" name="Text Box 6"/>
              <p:cNvSpPr/>
              <p:nvPr/>
            </p:nvSpPr>
            <p:spPr>
              <a:xfrm>
                <a:off x="1734480" y="611964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Line 7"/>
              <p:cNvSpPr/>
              <p:nvPr/>
            </p:nvSpPr>
            <p:spPr>
              <a:xfrm>
                <a:off x="2514600" y="63482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Text Box 8"/>
              <p:cNvSpPr/>
              <p:nvPr/>
            </p:nvSpPr>
            <p:spPr>
              <a:xfrm>
                <a:off x="2332440" y="594360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Text Box 9"/>
              <p:cNvSpPr/>
              <p:nvPr/>
            </p:nvSpPr>
            <p:spPr>
              <a:xfrm>
                <a:off x="2245680" y="60753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Text Box 10"/>
              <p:cNvSpPr/>
              <p:nvPr/>
            </p:nvSpPr>
            <p:spPr>
              <a:xfrm>
                <a:off x="4998240" y="60721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2" name="Line 12"/>
            <p:cNvSpPr/>
            <p:nvPr/>
          </p:nvSpPr>
          <p:spPr>
            <a:xfrm>
              <a:off x="5257800" y="640080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Text Box 13"/>
            <p:cNvSpPr/>
            <p:nvPr/>
          </p:nvSpPr>
          <p:spPr>
            <a:xfrm>
              <a:off x="6229440" y="635652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 flipV="1">
              <a:off x="5257800" y="617184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6200640" y="589932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6" name="Text Box 18"/>
          <p:cNvSpPr/>
          <p:nvPr/>
        </p:nvSpPr>
        <p:spPr>
          <a:xfrm>
            <a:off x="8379360" y="6491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219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23"/>
          <p:cNvGrpSpPr/>
          <p:nvPr/>
        </p:nvGrpSpPr>
        <p:grpSpPr>
          <a:xfrm>
            <a:off x="2877480" y="3443400"/>
            <a:ext cx="3497040" cy="573480"/>
            <a:chOff x="2877480" y="3443400"/>
            <a:chExt cx="3497040" cy="573480"/>
          </a:xfrm>
        </p:grpSpPr>
        <p:sp>
          <p:nvSpPr>
            <p:cNvPr id="238" name="Rectangle 19"/>
            <p:cNvSpPr/>
            <p:nvPr/>
          </p:nvSpPr>
          <p:spPr>
            <a:xfrm>
              <a:off x="2877480" y="3506760"/>
              <a:ext cx="349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Line 20"/>
            <p:cNvSpPr/>
            <p:nvPr/>
          </p:nvSpPr>
          <p:spPr>
            <a:xfrm>
              <a:off x="3657600" y="375300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3378960" y="344340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6122160" y="34574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Continued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solution C (zinc) is added to the tubes that showed no color change after addition of Nitrate A &amp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nc, a reducing agent, is capable of converting nitrate to nitrite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he development of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d col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after addition of Nitrate C means tha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nitrates were present and reduced by the zinc not the organism; this is a negativ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If the addition of zinc does not produce a color change, the nitrates were reduced beyond nitrites to ammonia or nitrogen gas; this is a positive re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2877480" y="4280040"/>
            <a:ext cx="3497040" cy="573480"/>
            <a:chOff x="2877480" y="4280040"/>
            <a:chExt cx="3497040" cy="573480"/>
          </a:xfrm>
        </p:grpSpPr>
        <p:sp>
          <p:nvSpPr>
            <p:cNvPr id="245" name="Rectangle 5"/>
            <p:cNvSpPr/>
            <p:nvPr/>
          </p:nvSpPr>
          <p:spPr>
            <a:xfrm>
              <a:off x="2877480" y="4343400"/>
              <a:ext cx="349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>
              <a:off x="3657600" y="45896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3378960" y="42800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6122160" y="429408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Group 9"/>
          <p:cNvGrpSpPr/>
          <p:nvPr/>
        </p:nvGrpSpPr>
        <p:grpSpPr>
          <a:xfrm>
            <a:off x="1734480" y="5899320"/>
            <a:ext cx="6527520" cy="862920"/>
            <a:chOff x="1734480" y="5899320"/>
            <a:chExt cx="6527520" cy="862920"/>
          </a:xfrm>
        </p:grpSpPr>
        <p:grpSp>
          <p:nvGrpSpPr>
            <p:cNvPr id="250" name="Group 10"/>
            <p:cNvGrpSpPr/>
            <p:nvPr/>
          </p:nvGrpSpPr>
          <p:grpSpPr>
            <a:xfrm>
              <a:off x="1734480" y="5943600"/>
              <a:ext cx="3516120" cy="686160"/>
              <a:chOff x="1734480" y="5943600"/>
              <a:chExt cx="3516120" cy="686160"/>
            </a:xfrm>
          </p:grpSpPr>
          <p:sp>
            <p:nvSpPr>
              <p:cNvPr id="251" name="Text Box 11"/>
              <p:cNvSpPr/>
              <p:nvPr/>
            </p:nvSpPr>
            <p:spPr>
              <a:xfrm>
                <a:off x="1734480" y="611964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Line 12"/>
              <p:cNvSpPr/>
              <p:nvPr/>
            </p:nvSpPr>
            <p:spPr>
              <a:xfrm>
                <a:off x="2514600" y="63482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Text Box 13"/>
              <p:cNvSpPr/>
              <p:nvPr/>
            </p:nvSpPr>
            <p:spPr>
              <a:xfrm>
                <a:off x="2332440" y="594360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Text Box 14"/>
              <p:cNvSpPr/>
              <p:nvPr/>
            </p:nvSpPr>
            <p:spPr>
              <a:xfrm>
                <a:off x="2245680" y="60753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Text Box 15"/>
              <p:cNvSpPr/>
              <p:nvPr/>
            </p:nvSpPr>
            <p:spPr>
              <a:xfrm>
                <a:off x="4998240" y="607212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6" name="Line 16"/>
            <p:cNvSpPr/>
            <p:nvPr/>
          </p:nvSpPr>
          <p:spPr>
            <a:xfrm>
              <a:off x="5257800" y="640080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Text Box 17"/>
            <p:cNvSpPr/>
            <p:nvPr/>
          </p:nvSpPr>
          <p:spPr>
            <a:xfrm>
              <a:off x="6229440" y="635652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 flipV="1">
              <a:off x="5257800" y="6171840"/>
              <a:ext cx="91440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6200640" y="589932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6"/>
          <p:cNvSpPr/>
          <p:nvPr/>
        </p:nvSpPr>
        <p:spPr>
          <a:xfrm>
            <a:off x="0" y="762120"/>
            <a:ext cx="9144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52280" y="685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s A and B have been added to these tu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095720" y="6382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C has been added to these tu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5" descr="30nitrates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09480" y="2057400"/>
            <a:ext cx="17575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30nitratezinc"/>
          <p:cNvPicPr/>
          <p:nvPr/>
        </p:nvPicPr>
        <p:blipFill>
          <a:blip r:embed="rId2"/>
          <a:stretch/>
        </p:blipFill>
        <p:spPr>
          <a:xfrm>
            <a:off x="4495680" y="1981080"/>
            <a:ext cx="1187640" cy="3353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1"/>
          <p:cNvSpPr/>
          <p:nvPr/>
        </p:nvSpPr>
        <p:spPr>
          <a:xfrm>
            <a:off x="573840" y="5715000"/>
            <a:ext cx="29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. coli -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tase Posi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17"/>
          <p:cNvGrpSpPr/>
          <p:nvPr/>
        </p:nvGrpSpPr>
        <p:grpSpPr>
          <a:xfrm>
            <a:off x="-94320" y="6148440"/>
            <a:ext cx="6876000" cy="686160"/>
            <a:chOff x="-94320" y="6148440"/>
            <a:chExt cx="6876000" cy="686160"/>
          </a:xfrm>
        </p:grpSpPr>
        <p:grpSp>
          <p:nvGrpSpPr>
            <p:cNvPr id="267" name="Group 18"/>
            <p:cNvGrpSpPr/>
            <p:nvPr/>
          </p:nvGrpSpPr>
          <p:grpSpPr>
            <a:xfrm>
              <a:off x="-94320" y="6148440"/>
              <a:ext cx="3515760" cy="686160"/>
              <a:chOff x="-94320" y="6148440"/>
              <a:chExt cx="3515760" cy="686160"/>
            </a:xfrm>
          </p:grpSpPr>
          <p:sp>
            <p:nvSpPr>
              <p:cNvPr id="268" name="Text Box 19"/>
              <p:cNvSpPr/>
              <p:nvPr/>
            </p:nvSpPr>
            <p:spPr>
              <a:xfrm>
                <a:off x="-94320" y="632448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Line 20"/>
              <p:cNvSpPr/>
              <p:nvPr/>
            </p:nvSpPr>
            <p:spPr>
              <a:xfrm>
                <a:off x="685440" y="655308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Text Box 21"/>
              <p:cNvSpPr/>
              <p:nvPr/>
            </p:nvSpPr>
            <p:spPr>
              <a:xfrm>
                <a:off x="503640" y="6148440"/>
                <a:ext cx="210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itrate Reductase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Text Box 22"/>
              <p:cNvSpPr/>
              <p:nvPr/>
            </p:nvSpPr>
            <p:spPr>
              <a:xfrm>
                <a:off x="416520" y="62802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Text Box 23"/>
              <p:cNvSpPr/>
              <p:nvPr/>
            </p:nvSpPr>
            <p:spPr>
              <a:xfrm>
                <a:off x="3169080" y="62769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3" name="Text Box 24"/>
            <p:cNvSpPr/>
            <p:nvPr/>
          </p:nvSpPr>
          <p:spPr>
            <a:xfrm>
              <a:off x="3504960" y="6216480"/>
              <a:ext cx="3276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4" name="Text Box 27"/>
          <p:cNvSpPr/>
          <p:nvPr/>
        </p:nvSpPr>
        <p:spPr>
          <a:xfrm>
            <a:off x="5805360" y="51055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. aeruginos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tase Posi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5" name="Group 44"/>
          <p:cNvGrpSpPr/>
          <p:nvPr/>
        </p:nvGrpSpPr>
        <p:grpSpPr>
          <a:xfrm>
            <a:off x="5618880" y="2133720"/>
            <a:ext cx="3517200" cy="967320"/>
            <a:chOff x="5618880" y="2133720"/>
            <a:chExt cx="3517200" cy="967320"/>
          </a:xfrm>
        </p:grpSpPr>
        <p:sp>
          <p:nvSpPr>
            <p:cNvPr id="276" name="Text Box 25"/>
            <p:cNvSpPr/>
            <p:nvPr/>
          </p:nvSpPr>
          <p:spPr>
            <a:xfrm>
              <a:off x="5618880" y="2133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C. xerosi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- Reductase Negative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7" name="Group 28"/>
            <p:cNvGrpSpPr/>
            <p:nvPr/>
          </p:nvGrpSpPr>
          <p:grpSpPr>
            <a:xfrm>
              <a:off x="5639760" y="2527560"/>
              <a:ext cx="3496320" cy="573480"/>
              <a:chOff x="5639760" y="2527560"/>
              <a:chExt cx="3496320" cy="573480"/>
            </a:xfrm>
          </p:grpSpPr>
          <p:sp>
            <p:nvSpPr>
              <p:cNvPr id="278" name="Rectangle 29"/>
              <p:cNvSpPr/>
              <p:nvPr/>
            </p:nvSpPr>
            <p:spPr>
              <a:xfrm>
                <a:off x="5639760" y="2590920"/>
                <a:ext cx="3493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N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i="1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30"/>
              <p:cNvSpPr/>
              <p:nvPr/>
            </p:nvSpPr>
            <p:spPr>
              <a:xfrm>
                <a:off x="6419520" y="2837160"/>
                <a:ext cx="19047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31"/>
              <p:cNvSpPr/>
              <p:nvPr/>
            </p:nvSpPr>
            <p:spPr>
              <a:xfrm>
                <a:off x="6140520" y="252756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32"/>
              <p:cNvSpPr/>
              <p:nvPr/>
            </p:nvSpPr>
            <p:spPr>
              <a:xfrm>
                <a:off x="8883720" y="2541600"/>
                <a:ext cx="2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82" name="Group 45"/>
          <p:cNvGrpSpPr/>
          <p:nvPr/>
        </p:nvGrpSpPr>
        <p:grpSpPr>
          <a:xfrm>
            <a:off x="4269960" y="5791320"/>
            <a:ext cx="4906440" cy="1105560"/>
            <a:chOff x="4269960" y="5791320"/>
            <a:chExt cx="4906440" cy="1105560"/>
          </a:xfrm>
        </p:grpSpPr>
        <p:sp>
          <p:nvSpPr>
            <p:cNvPr id="283" name="Text Box 35"/>
            <p:cNvSpPr/>
            <p:nvPr/>
          </p:nvSpPr>
          <p:spPr>
            <a:xfrm>
              <a:off x="4269960" y="6254640"/>
              <a:ext cx="2658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i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Line 36"/>
            <p:cNvSpPr/>
            <p:nvPr/>
          </p:nvSpPr>
          <p:spPr>
            <a:xfrm flipV="1">
              <a:off x="5041800" y="6476760"/>
              <a:ext cx="12193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Text Box 37"/>
            <p:cNvSpPr/>
            <p:nvPr/>
          </p:nvSpPr>
          <p:spPr>
            <a:xfrm>
              <a:off x="4931280" y="5791320"/>
              <a:ext cx="129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itrate 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ductase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Text Box 38"/>
            <p:cNvSpPr/>
            <p:nvPr/>
          </p:nvSpPr>
          <p:spPr>
            <a:xfrm>
              <a:off x="4772880" y="621036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Text Box 39"/>
            <p:cNvSpPr/>
            <p:nvPr/>
          </p:nvSpPr>
          <p:spPr>
            <a:xfrm>
              <a:off x="6696720" y="620712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-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40"/>
            <p:cNvSpPr/>
            <p:nvPr/>
          </p:nvSpPr>
          <p:spPr>
            <a:xfrm>
              <a:off x="6956280" y="6535800"/>
              <a:ext cx="304920" cy="9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Text Box 41"/>
            <p:cNvSpPr/>
            <p:nvPr/>
          </p:nvSpPr>
          <p:spPr>
            <a:xfrm>
              <a:off x="7143840" y="6491160"/>
              <a:ext cx="188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Ammonia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Line 42"/>
            <p:cNvSpPr/>
            <p:nvPr/>
          </p:nvSpPr>
          <p:spPr>
            <a:xfrm flipV="1">
              <a:off x="6956280" y="6400440"/>
              <a:ext cx="304920" cy="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Text Box 43"/>
            <p:cNvSpPr/>
            <p:nvPr/>
          </p:nvSpPr>
          <p:spPr>
            <a:xfrm>
              <a:off x="7115040" y="6033960"/>
              <a:ext cx="206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2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Nitrogen Gas)</a:t>
              </a:r>
              <a:endParaRPr b="0" i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" name="Line 46"/>
          <p:cNvSpPr/>
          <p:nvPr/>
        </p:nvSpPr>
        <p:spPr>
          <a:xfrm flipV="1">
            <a:off x="3809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7"/>
          <p:cNvSpPr/>
          <p:nvPr/>
        </p:nvSpPr>
        <p:spPr>
          <a:xfrm>
            <a:off x="2438280" y="365760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2438280" y="30481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nreactive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ubes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28600" y="2193840"/>
            <a:ext cx="883908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iple Sugar Iron (TSI)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fermentation of sugars, sulfur reduc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MViC: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dol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Break down the amino acid Tryptopha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thyl Red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Glucose oxida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oges-Proskauer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roduction of neutral end products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itrat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itrate fermentation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Ure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Hydrolyzation of Urea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henylalanine Deamin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converts the amino acid phenylalanine to phenylpyruvic acid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itrate Reductas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Reduction of nitrate (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to nitrite (N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55040" y="762120"/>
            <a:ext cx="40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Biochemical Testing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IPLE SUGAR IRON TES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TS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among the different group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their ability to ferment glucose, lactose and/or sucr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differentiates between groups capable of reducing sulfur to hydrogen sulf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odium Thiosulfate -&gt; Hydrogen sulfi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SI Result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slant/Red butt =  no 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slant/Yellow butt =  only gluc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ellow slant/yellow butt = lact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and/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sucros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r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newkia"/>
          <p:cNvPicPr/>
          <p:nvPr/>
        </p:nvPicPr>
        <p:blipFill>
          <a:blip r:embed="rId1"/>
          <a:stretch/>
        </p:blipFill>
        <p:spPr>
          <a:xfrm>
            <a:off x="0" y="3940200"/>
            <a:ext cx="4495680" cy="2917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11160" y="6051600"/>
            <a:ext cx="46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ark color: Hydrogen Sulfide produced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dium thiosulfate reduced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8374680" y="64911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 190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ViC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ries of four tests consisting of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ifferentiate 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ill look at each test individ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33520" y="2882880"/>
            <a:ext cx="86104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dol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Break down the amino acid Tryptopha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thyl Red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Glucose oxidatio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ges-Proskauer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Production of neutral end products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itrate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itrate fermentatio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ole Tes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(SIM: Sulfide,Indole,Motilit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bacteria capable of produc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acteria are capable of convert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ryptop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n amino acid)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ndo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yruvic aci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y using the enzym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ryptophana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yruvic acid can be converted to energy or used to synthesize other compounds required by th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7" descr="Tryptophanase"/>
          <p:cNvPicPr/>
          <p:nvPr/>
        </p:nvPicPr>
        <p:blipFill>
          <a:blip r:embed="rId1"/>
          <a:stretch/>
        </p:blipFill>
        <p:spPr>
          <a:xfrm>
            <a:off x="609480" y="4876920"/>
            <a:ext cx="8001000" cy="1922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1682280" y="6415200"/>
            <a:ext cx="74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Tryptopha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Indole Ring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yruvic Acid   Ammonia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du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tain 4 SIM Deep t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ocul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y the stab metho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the following organis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coli,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.vulgaris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. aerogenes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K. pneumonia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11:15Z</dcterms:created>
  <dc:creator>hoganb</dc:creator>
  <dc:description/>
  <dc:language>en-US</dc:language>
  <cp:lastModifiedBy>ihab moussa</cp:lastModifiedBy>
  <dcterms:modified xsi:type="dcterms:W3CDTF">2016-04-06T19:44:21Z</dcterms:modified>
  <cp:revision>61</cp:revision>
  <dc:subject/>
  <dc:title>BIOCHEMICAL TESTING  PART TWO</dc:title>
</cp:coreProperties>
</file>