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5B1F-D74F-4445-AE4A-5984780A0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2B8-6AAA-48FB-949E-EB030DA8CC99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216-9141-4D58-9881-EA510F12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25E-A563-415C-B2A0-1A3AB18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D51-5F0D-4463-ADF7-34553B1E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AC9-EB61-4A8F-AD3F-133661B8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942-BEDA-47F7-B1B1-E15E3BBC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D741-5E1F-4DF3-B1E2-3B4C029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545-5CC8-4FE9-9732-F99A9902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4EA-C8BC-4C65-9C34-E4BD56E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6F18-6FE5-4C71-B2BF-6DEF4014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3699-E7E9-423C-B2E1-31B3E4B7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CCDA-A4D4-46C8-8E0C-6858A4E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1E2-90B7-4FFE-9FBF-D9C7FB3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521-6572-4439-9643-EB5289B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BB37-8BD9-4059-89F1-095F0DD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C4D-7B6C-4228-9450-4DB8E3D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5AB-F350-4258-B8C8-869E8410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1A7B-5EBA-4095-86BD-0CB5DFBA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93E-6571-4B69-8745-B6F23B6C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913-3476-4BC3-BF3C-F9917CD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5F-7F96-488D-AD40-E0AC62B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72A-E4FE-4295-B55A-8CC0D225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311-C3B2-4B89-915F-B02289B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E41-E145-4D89-A65E-D561361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8D7-E7C0-4CE4-9986-461E44C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EA1D-BB01-4F85-A817-F99B9236BF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FFC-D040-4B31-87D5-BD8F34751FE3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25146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Impact"/>
              </a:rPr>
              <a:t>BODY FLUID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Impact"/>
              </a:rPr>
              <a:t>Cerebrospinal Fluid (CSF)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xamination of CSF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(Physical examin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Normal CSF i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olorles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lea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ree of clo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ree of bloo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If CSF is cloudy (turbid)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erform microscopic examination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is usually due to leucocyte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may be due to micro-organism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ahoma"/>
              </a:rPr>
              <a:t>Blood &amp; Hemoglobin pigments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381024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Traumatic t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ight red co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BCS in decreasing number as the fluid is samp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95320" y="2286000"/>
            <a:ext cx="44593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ubarachnoid hemorrhage (SA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anthochrom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hemoglobin breakdown pigments) = RBCs lysis &amp; metabolism previously occurred (at least 2 hr earli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en would Xanthochromia indicate hemorrhag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you ex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 traumatic t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erbilirubinemi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lirubin &gt; 20 mg/d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xamination of CSF</a:t>
            </a:r>
            <a:br>
              <a:rPr sz="36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(Biochemical analysis of CS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s of inter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bum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unoglobul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s (e.g. myelin basic protein; MB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 rot="1719000">
            <a:off x="962280" y="2782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 rot="1719000">
            <a:off x="962280" y="3300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343400" y="3124080"/>
            <a:ext cx="357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The most reliable diagnostically &amp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ccessible analytical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95680" y="25909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Glucose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Glu enters CSF via facilitative transporter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GLUT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SF [glucose] is ~ 2/3 that of pla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50 - 80 mg/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lasma sample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must be obtained  ~ 2-4 hr before CSF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 hypoglycemia: [CSF glucose] may be very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 hyperglycemia: [CSF glucose] is rai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asure CSF [Glucose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or preserve the specimen with and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ntiglycolytic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e.g. fluoride 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CSF [Glucose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↑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SF [glucose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Not clinically inform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ovides only confirmation of hyperglyce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SF [glucose]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hypoglycorrhachi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Disorder in carrier-mediated trans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TB meningitis, sarcoid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Active metabolism of glucose by cells or organism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acute purulent, amebic, &amp; fungal meningit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Increased metabolism by the C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by CNS neopla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ral meningiti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CSF [glucose] is usually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tein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Proteins,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mostly albumin are found in the CSF (0.15-0.45 g/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c1c1c"/>
                </a:solidFill>
                <a:uFillTx/>
                <a:latin typeface="Tahoma"/>
              </a:rPr>
              <a:t>Source of CSF protei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80% from plasma by ultrafil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20% from intrathecal 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CSF [total proteins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↑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SF [total protein]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ust be compared to the serum [protei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Useful nonspecific indicator of pathological stat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Lysis of contaminant blood (traumatic ta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↑ </a:t>
            </a: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emeability of the epithelial membrane due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Bacterial or fungal inf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Cerebral hemorrh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↑ </a:t>
            </a: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oduction by CNS tissue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Multiple sclerosis (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Subacute Sclerosing Panencephalitis (SS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Obstruction e.g.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Tum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Abs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Album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 is produced solely in the 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esence in CSF must occur through BB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Immunoglobul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SF IgG can ari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plasma cel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CS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bl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ough BB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↑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[IgG] and normal [Alb] of CS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gests local production of IgG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.g.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sclerosis (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acute sclerosing panencephalitis (SSPE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34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fine CSF and its functions, formation and circ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iscuss the CSF sampling procedure (Lumbar puncture) and its indications and contraind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scribe the physical and biochemical laboratory investigations of CSF and the electrophoretic pattern of CSF prote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udy the composition of normal CSF and discuss the abnormal findings in pathological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fine otorrhea and rhinorrhe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14200"/>
            <a:ext cx="7964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at to do if ↑ CSF [protein] was detect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169720"/>
            <a:ext cx="81928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electrophoretic s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ultiple band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oligoclonal band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globulin is detected, the following differential diagnosis is suspected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S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lammatory dis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Electrophoresis</a:t>
            </a:r>
            <a:br>
              <a:rPr sz="3600"/>
            </a:b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(Normal Patter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1" descr="A083574"/>
          <p:cNvPicPr/>
          <p:nvPr/>
        </p:nvPicPr>
        <p:blipFill>
          <a:blip r:embed="rId1"/>
          <a:stretch/>
        </p:blipFill>
        <p:spPr>
          <a:xfrm>
            <a:off x="2286000" y="2057400"/>
            <a:ext cx="4083120" cy="4267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1747080" y="5040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e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827520" y="3135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3947400" y="526896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527000" y="51166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14800" y="47354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19720" y="5056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895360" y="5116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13"/>
          <p:cNvSpPr/>
          <p:nvPr/>
        </p:nvSpPr>
        <p:spPr>
          <a:xfrm flipV="1">
            <a:off x="3657600" y="3505320"/>
            <a:ext cx="380880" cy="30456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traight Connector 14"/>
          <p:cNvSpPr/>
          <p:nvPr/>
        </p:nvSpPr>
        <p:spPr>
          <a:xfrm flipH="1" flipV="1">
            <a:off x="2590920" y="5409720"/>
            <a:ext cx="304560" cy="38124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Electrophoresis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(Oligoclonal Band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1" descr="3E714A69"/>
          <p:cNvPicPr/>
          <p:nvPr/>
        </p:nvPicPr>
        <p:blipFill>
          <a:blip r:embed="rId1"/>
          <a:stretch/>
        </p:blipFill>
        <p:spPr>
          <a:xfrm>
            <a:off x="2185920" y="1905120"/>
            <a:ext cx="4824360" cy="4876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1289880" y="5497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e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18040" y="3135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3355200" y="53452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3782520" y="55738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505040" y="47354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902120" y="54975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Box 11"/>
          <p:cNvSpPr/>
          <p:nvPr/>
        </p:nvSpPr>
        <p:spPr>
          <a:xfrm rot="18948000">
            <a:off x="5058000" y="44168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Oligoclonal-</a:t>
            </a:r>
            <a:r>
              <a:rPr b="1" lang="el-GR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aight Connector 12"/>
          <p:cNvSpPr/>
          <p:nvPr/>
        </p:nvSpPr>
        <p:spPr>
          <a:xfrm flipV="1">
            <a:off x="3048120" y="3505320"/>
            <a:ext cx="380880" cy="30456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aight Connector 13"/>
          <p:cNvSpPr/>
          <p:nvPr/>
        </p:nvSpPr>
        <p:spPr>
          <a:xfrm flipH="1" flipV="1">
            <a:off x="2285640" y="5866920"/>
            <a:ext cx="304920" cy="38124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traight Connector 14"/>
          <p:cNvSpPr/>
          <p:nvPr/>
        </p:nvSpPr>
        <p:spPr>
          <a:xfrm flipV="1">
            <a:off x="5715000" y="4876560"/>
            <a:ext cx="198360" cy="60948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aight Connector 16"/>
          <p:cNvSpPr/>
          <p:nvPr/>
        </p:nvSpPr>
        <p:spPr>
          <a:xfrm flipH="1" flipV="1">
            <a:off x="5918040" y="4881240"/>
            <a:ext cx="182880" cy="3049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traight Connector 18"/>
          <p:cNvSpPr/>
          <p:nvPr/>
        </p:nvSpPr>
        <p:spPr>
          <a:xfrm flipH="1" flipV="1">
            <a:off x="5913360" y="4876560"/>
            <a:ext cx="487440" cy="601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ther Chemical Components of CSF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SF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,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&amp;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osphate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are lower than their levels in the blood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SF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lorid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&amp;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gnes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are higher than their levels in the bl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bnormal CSF [Chloride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arked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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n acute bacterial mening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light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n viral meningitis &amp; brain tum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88600" y="7632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Normal composition of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914400"/>
          <a:ext cx="7391160" cy="5767560"/>
        </p:xfrm>
        <a:graphic>
          <a:graphicData uri="http://schemas.openxmlformats.org/drawingml/2006/table">
            <a:tbl>
              <a:tblPr/>
              <a:tblGrid>
                <a:gridCol w="379080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ppearanc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Clear ,Colorl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ymphocy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&lt;5/mm</a:t>
                      </a:r>
                      <a:r>
                        <a:rPr b="1" lang="en-US" sz="1800" spc="-1" strike="noStrike" baseline="30000">
                          <a:solidFill>
                            <a:srgbClr val="1c1c1c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lymor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N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7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Volu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00 - 150 m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aily Secre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450 - 500 m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pecific Grav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006 - 1.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te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0.15 – 0.45 g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Gluco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0 - 80  mg/d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(2.8-4.2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(&gt;50% plasma leve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hlori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15 - 130 mmol 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lc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0 - 1.40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hosphor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0.4 - 0.7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agnes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2 - 1.5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tass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2.6 - 3.0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7"/>
          <p:cNvSpPr/>
          <p:nvPr/>
        </p:nvSpPr>
        <p:spPr>
          <a:xfrm>
            <a:off x="762120" y="15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findings of CSF in some pathological condi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219320" y="1600200"/>
            <a:ext cx="7696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1474920"/>
          <a:ext cx="7620120" cy="5306760"/>
        </p:xfrm>
        <a:graphic>
          <a:graphicData uri="http://schemas.openxmlformats.org/drawingml/2006/table">
            <a:tbl>
              <a:tblPr/>
              <a:tblGrid>
                <a:gridCol w="1793880"/>
                <a:gridCol w="1846440"/>
                <a:gridCol w="2008080"/>
                <a:gridCol w="1971720"/>
              </a:tblGrid>
              <a:tr h="812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Bacterial 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(pyogenic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Tuberculous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Viral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pear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turbi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fibrin we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cl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ominant ce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or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nuclear (lymphocyte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nuclear (lymphocyte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l count/m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-10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1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-1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/vir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ve smear &amp; cultu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none in sm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ve smear or cultu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7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Continued</a:t>
            </a:r>
            <a:r>
              <a:rPr b="1" i="1" lang="is-IS" sz="36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1600200"/>
            <a:ext cx="7696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00200" y="1828800"/>
          <a:ext cx="6477120" cy="4799160"/>
        </p:xfrm>
        <a:graphic>
          <a:graphicData uri="http://schemas.openxmlformats.org/drawingml/2006/table">
            <a:tbl>
              <a:tblPr/>
              <a:tblGrid>
                <a:gridCol w="1523880"/>
                <a:gridCol w="1570320"/>
                <a:gridCol w="1706400"/>
                <a:gridCol w="1676520"/>
              </a:tblGrid>
              <a:tr h="79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Simplified Arabic"/>
                        </a:rPr>
                        <a:t>(reference range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Bacterial 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(pyogenic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Tuberculous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Viral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tei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0.15-0.45 g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1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↑ ↑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↑ ↑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Norma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cose (2.8-4.2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/2 plasma (↓ ↓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/2 plasma (↓ ↓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1/2 plasm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Normal or slightly ↓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lorid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15 - 130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↓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↓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l or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torrhea &amp; Rhinorrhe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Otorrhe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kage of CSF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Rhinorrhe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kage of CSF in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98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ake home mess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2600" y="2209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F is formed in the choroid plex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ssential for the physical protection of the C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hysical &amp; chemical analysis of CSF is essential for diagnosis of certain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8260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cture notes, Clinical Biochemistry, Wiley BlackWell,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dition, 2010, chapter 19, page 274-2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nical Chemistry, Principles, Procedures, Correlations, Lippincott Williams &amp; Wilkins,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dition, 2005, chapter 27, page 560-56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Definition &amp; Fun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SF definition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liquid surrounding the brain and spinal cord. It flows in subarachnoid area (the space between the arachnoid &amp; pia matter)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ain Func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hysical support &amp; protec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rovides a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controlled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chemical environment </a:t>
            </a:r>
            <a:r>
              <a:rPr b="0" lang="en-US" sz="22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nutrient supply &amp; waste removal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2170080"/>
            <a:ext cx="8345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SF is formed at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horoid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plexuses &amp; by the cells lining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ventricles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Normal blood brain barrier is important for the normal chemistry results of CS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ate of 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500 ml/d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chanism of 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lectiv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ultrafiltration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of plas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Active secretion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by epithelial membranes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chanism of excretion (absorptio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xcretion volume = production volume 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constant CSF 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bsorption occurs at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arachnoid villi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protruding through the dura to the venous sinuses of the brain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blood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Formation &amp; Circ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5" descr="csf"/>
          <p:cNvPicPr/>
          <p:nvPr/>
        </p:nvPicPr>
        <p:blipFill>
          <a:blip r:embed="rId1"/>
          <a:stretch/>
        </p:blipFill>
        <p:spPr>
          <a:xfrm>
            <a:off x="6934320" y="3352680"/>
            <a:ext cx="1909800" cy="19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867280" y="647712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943600" y="5791320"/>
            <a:ext cx="3124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38720" cy="3889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Circ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0042733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4316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thod of CSF Samp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3520" y="5835600"/>
            <a:ext cx="79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ahoma"/>
              </a:rPr>
              <a:t>Traumatic tap (damage to blood vessel during specimen collection) </a:t>
            </a:r>
            <a:r>
              <a:rPr b="1" lang="en-US" sz="18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c1c1c"/>
                </a:solidFill>
                <a:latin typeface="Tahoma"/>
              </a:rPr>
              <a:t> blood in CSF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Specimen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tained by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lumbar pun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At the interspace L3-4, or low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asep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SF is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separ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3 aliquo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hemistry &amp; serolo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icrobiolo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Immedi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’s a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prec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: Preserve any remaining s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ontraindications for performing lumbar pun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eeding dia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d intracranial press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ection at site of needle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ndications for laboratory investigation of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NS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inf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Demyelina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Maligna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Hemorrh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C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Prof. Abdul-Kareem Al-Momen</dc:creator>
  <dc:description/>
  <dc:language>en-US</dc:language>
  <cp:lastModifiedBy>Khalid Akkour</cp:lastModifiedBy>
  <dcterms:modified xsi:type="dcterms:W3CDTF">2016-10-29T19:33:21Z</dcterms:modified>
  <cp:revision>156</cp:revision>
  <dc:subject/>
  <dc:title>BODY FLUIDS</dc:title>
</cp:coreProperties>
</file>