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5465-35FC-4737-ADA6-ECF872485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B949-999B-4CAD-9D40-4F2C18482BBD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CE2D-CDCA-42DF-8703-583968F6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A46B-3A28-45DD-AA17-616A472E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CC8F-D513-478B-B853-412B0505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0FE4-7C03-4D7A-BEE5-ACFAF91A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6251-0932-4CC3-B6E6-A84B2F01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0538-3252-4EE4-A9A3-7116764C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96C3-B25B-4367-9C67-B2975984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3091-2D66-4EB5-872D-53531A6B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AD8D-70E3-40C9-A523-8C495B96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B678-0B83-4126-AF43-9DEBC992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9D9D-F729-4C5B-91C0-0405DEB3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3D5F-F22D-4CDC-BD18-D1D78115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87B3-60AA-4F84-9F54-DD7276AD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6507-CEE0-4403-9C35-F9E49A12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4E31-A8E3-483C-8AE2-03D800B5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6697-29CC-4CED-BE84-0FCAD20A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9275-9A22-41CD-9F43-7D8856CA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31FD-712B-4133-8E4B-8733477C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BEB6-DD1D-4677-BB40-489E180C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D7B2-09D4-4F04-A334-A8E21BB7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2220-115C-46E6-8E88-8D1E2098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BA64-92AB-4D67-8E4F-D1E85E51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4CF2-E85E-41AC-B223-FAEFD873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D67F-0490-48C4-8154-0E9BCA17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AF64-5696-4EAA-9F90-FCD0079138B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2F4D-F42E-4E01-907A-FA591CE8B44D}" type="slidenum">
              <a:rPr b="0" lang="ar-SA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458200" cy="2514600"/>
          </a:xfrm>
          <a:prstGeom prst="rect">
            <a:avLst/>
          </a:prstGeom>
          <a:noFill/>
          <a:ln w="57240">
            <a:solidFill>
              <a:srgbClr val="ffcc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Impact"/>
              </a:rPr>
              <a:t>BODY FLUIDS: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Impact"/>
              </a:rPr>
              <a:t>Cerebrospinal Fluid (CSF)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Examination of CSF</a:t>
            </a:r>
            <a:br>
              <a:rPr sz="4000"/>
            </a:b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(Physical examination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182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ahoma"/>
              </a:rPr>
              <a:t>Normal CSF is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Colorless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Clea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Free of clots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Free of blood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ahoma"/>
              </a:rPr>
              <a:t>If CSF is cloudy (turbid)</a:t>
            </a:r>
            <a:r>
              <a:rPr b="1" lang="en-US" sz="22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1c1c1c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perform microscopic examination: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is usually due to leucocytes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may be due to micro-organisms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ahoma"/>
              </a:rPr>
              <a:t>Blood &amp; Hemoglobin pigments in CSF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3810240" cy="28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Traumatic t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right red col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BCS in decreasing number as the fluid is sampl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95320" y="2286000"/>
            <a:ext cx="445932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Subarachnoid hemorrhage (SA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Xanthochromia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hemoglobin breakdown pigments) = RBCs lysis &amp; metabolism previously occurred (at least 2 hr earli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When would Xanthochromia indicate hemorrhage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8726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f you ex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 traumatic t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yperbilirubinemia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ilirubin &gt; 20 mg/d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Examination of CSF</a:t>
            </a:r>
            <a:br>
              <a:rPr sz="3600"/>
            </a:b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(Biochemical analysis of CSF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s of intere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bum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munoglobul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thers (e.g. myelin basic protein; MB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4"/>
          <p:cNvSpPr/>
          <p:nvPr/>
        </p:nvSpPr>
        <p:spPr>
          <a:xfrm rot="1719000">
            <a:off x="962280" y="27828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 rot="1719000">
            <a:off x="962280" y="33004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4343400" y="3124080"/>
            <a:ext cx="357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The most reliable diagnostically &amp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accessible analytical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4495680" y="2590920"/>
            <a:ext cx="228600" cy="213336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366840"/>
            <a:ext cx="914400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Glucose in CSF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Glu enters CSF via facilitative transporter (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GLUT</a:t>
            </a: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CSF [glucose] is ~ 2/3 that of pla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50 - 80 mg/d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plasma sample</a:t>
            </a: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 must be obtained  ~ 2-4 hr before CSF s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In hypoglycemia: [CSF glucose] may be very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In hyperglycemia: [CSF glucose] is rai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Measure CSF [Glucose]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or preserve the specimen with and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antiglycolytic</a:t>
            </a: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 e.g. fluoride 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Abnormal CSF [Glucose]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↑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SF [glucose]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Not clinically informati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Provides only confirmation of hyperglycem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↓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SF [glucose]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(hypoglycorrhachia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Disorder in carrier-mediated transp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e.g. TB meningitis, sarcoido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Active metabolism of glucose by cells or organisms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e.g. acute purulent, amebic, &amp; fungal meningit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Increased metabolism by the C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e.g. by CNS neoplas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In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iral meningitis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CSF [glucose] is usually n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366840"/>
            <a:ext cx="9144000" cy="7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Protein in CSF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ahoma"/>
              </a:rPr>
              <a:t>Proteins,</a:t>
            </a: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 mostly albumin are found in the CSF (0.15-0.45 g/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1c1c1c"/>
                </a:solidFill>
                <a:uFillTx/>
                <a:latin typeface="Tahoma"/>
              </a:rPr>
              <a:t>Source of CSF protei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80% from plasma by ultrafil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20% from intrathecal synth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7440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Abnormal CSF [total proteins]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↑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SF [total protein]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ust be compared to the serum [protein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Useful nonspecific indicator of pathological stat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Lysis of contaminant blood (traumatic tap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↑ </a:t>
            </a: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premeability of the epithelial membrane due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80000"/>
              </a:lnSpc>
              <a:spcBef>
                <a:spcPts val="5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Bacterial or fungal inf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80000"/>
              </a:lnSpc>
              <a:spcBef>
                <a:spcPts val="5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Cerebral hemorrh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↑ </a:t>
            </a: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production by CNS tissue i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80000"/>
              </a:lnSpc>
              <a:spcBef>
                <a:spcPts val="5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Multiple sclerosis (M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80000"/>
              </a:lnSpc>
              <a:spcBef>
                <a:spcPts val="5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Subacute Sclerosing Panencephalitis (SSP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Obstruction e.g. i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80000"/>
              </a:lnSpc>
              <a:spcBef>
                <a:spcPts val="5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Tum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80000"/>
              </a:lnSpc>
              <a:spcBef>
                <a:spcPts val="5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Abs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7440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SF Albumi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bumin is produced solely in the 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presence in CSF must occur through BB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7440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SF Immunoglobuli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SF IgG can ari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550"/>
              </a:spcBef>
              <a:buClr>
                <a:srgbClr val="00206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1" i="1" lang="en-US" sz="2200" spc="-1" strike="noStrike">
                <a:solidFill>
                  <a:srgbClr val="ff0000"/>
                </a:solidFill>
                <a:latin typeface="Tahoma"/>
              </a:rPr>
              <a:t>plasma cel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thin CS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550"/>
              </a:spcBef>
              <a:buClr>
                <a:srgbClr val="00206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he </a:t>
            </a:r>
            <a:r>
              <a:rPr b="1" i="1" lang="en-US" sz="2200" spc="-1" strike="noStrike">
                <a:solidFill>
                  <a:srgbClr val="ff0000"/>
                </a:solidFill>
                <a:latin typeface="Tahoma"/>
              </a:rPr>
              <a:t>bloo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rough BB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↑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[IgG] and normal [Alb] of CSF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ggests local production of IgG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.g.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550"/>
              </a:spcBef>
              <a:buClr>
                <a:srgbClr val="00206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tiple sclerosis (M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550"/>
              </a:spcBef>
              <a:buClr>
                <a:srgbClr val="00206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acute sclerosing panencephalitis (SSPE)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09480" y="2133720"/>
            <a:ext cx="8345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define CSF and its functions, formation and circul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discuss the CSF sampling procedure (Lumbar puncture) and its indications and contraindic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describe the physical and biochemical laboratory investigations of CSF and the electrophoretic pattern of CSF prote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tudy the composition of normal CSF and discuss the abnormal findings in pathological condi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define otorrhea and rhinorrhe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214200"/>
            <a:ext cx="7964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What to do if ↑ CSF [protein] was detect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2169720"/>
            <a:ext cx="81928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 electrophoretic sepa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ultiple band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oligoclonal band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globulin is detected, the following differential diagnosis is suspected: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206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206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S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206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flammatory disea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SF Electrophoresis</a:t>
            </a:r>
            <a:br>
              <a:rPr sz="3600"/>
            </a:b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(Normal Pattern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1" descr="A083574"/>
          <p:cNvPicPr/>
          <p:nvPr/>
        </p:nvPicPr>
        <p:blipFill>
          <a:blip r:embed="rId1"/>
          <a:stretch/>
        </p:blipFill>
        <p:spPr>
          <a:xfrm>
            <a:off x="2286000" y="2057400"/>
            <a:ext cx="4083120" cy="42670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4"/>
          <p:cNvSpPr/>
          <p:nvPr/>
        </p:nvSpPr>
        <p:spPr>
          <a:xfrm>
            <a:off x="1747080" y="504036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realbu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3827520" y="31352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albu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3947400" y="5268960"/>
            <a:ext cx="4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4527000" y="5116680"/>
            <a:ext cx="4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5014800" y="473544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5319720" y="505620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5895360" y="51166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γ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Straight Connector 13"/>
          <p:cNvSpPr/>
          <p:nvPr/>
        </p:nvSpPr>
        <p:spPr>
          <a:xfrm flipV="1">
            <a:off x="3657600" y="3505320"/>
            <a:ext cx="380880" cy="304560"/>
          </a:xfrm>
          <a:prstGeom prst="line">
            <a:avLst/>
          </a:prstGeom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Straight Connector 14"/>
          <p:cNvSpPr/>
          <p:nvPr/>
        </p:nvSpPr>
        <p:spPr>
          <a:xfrm flipH="1" flipV="1">
            <a:off x="2590920" y="5409720"/>
            <a:ext cx="304560" cy="381240"/>
          </a:xfrm>
          <a:prstGeom prst="line">
            <a:avLst/>
          </a:prstGeom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1420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SF Electrophoresis</a:t>
            </a:r>
            <a:br>
              <a:rPr sz="36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(Oligoclonal Banding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1" descr="3E714A69"/>
          <p:cNvPicPr/>
          <p:nvPr/>
        </p:nvPicPr>
        <p:blipFill>
          <a:blip r:embed="rId1"/>
          <a:stretch/>
        </p:blipFill>
        <p:spPr>
          <a:xfrm>
            <a:off x="2185920" y="1905120"/>
            <a:ext cx="4824360" cy="48765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5"/>
          <p:cNvSpPr/>
          <p:nvPr/>
        </p:nvSpPr>
        <p:spPr>
          <a:xfrm>
            <a:off x="1289880" y="549756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realbu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3218040" y="31352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albu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3355200" y="5345280"/>
            <a:ext cx="4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3782520" y="5573880"/>
            <a:ext cx="4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4505040" y="473544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4902120" y="549756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Box 11"/>
          <p:cNvSpPr/>
          <p:nvPr/>
        </p:nvSpPr>
        <p:spPr>
          <a:xfrm rot="18948000">
            <a:off x="5058000" y="441684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Verdana"/>
                <a:ea typeface="Times New Roman"/>
              </a:rPr>
              <a:t>Oligoclonal-</a:t>
            </a:r>
            <a:r>
              <a:rPr b="1" lang="el-GR" sz="1800" spc="-1" strike="noStrike">
                <a:solidFill>
                  <a:srgbClr val="c00000"/>
                </a:solidFill>
                <a:latin typeface="Verdana"/>
                <a:ea typeface="Times New Roman"/>
              </a:rPr>
              <a:t>γ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traight Connector 12"/>
          <p:cNvSpPr/>
          <p:nvPr/>
        </p:nvSpPr>
        <p:spPr>
          <a:xfrm flipV="1">
            <a:off x="3048120" y="3505320"/>
            <a:ext cx="380880" cy="304560"/>
          </a:xfrm>
          <a:prstGeom prst="line">
            <a:avLst/>
          </a:prstGeom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Straight Connector 13"/>
          <p:cNvSpPr/>
          <p:nvPr/>
        </p:nvSpPr>
        <p:spPr>
          <a:xfrm flipH="1" flipV="1">
            <a:off x="2285640" y="5866920"/>
            <a:ext cx="304920" cy="381240"/>
          </a:xfrm>
          <a:prstGeom prst="line">
            <a:avLst/>
          </a:prstGeom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Straight Connector 14"/>
          <p:cNvSpPr/>
          <p:nvPr/>
        </p:nvSpPr>
        <p:spPr>
          <a:xfrm flipV="1">
            <a:off x="5715000" y="4876560"/>
            <a:ext cx="198360" cy="60948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Straight Connector 16"/>
          <p:cNvSpPr/>
          <p:nvPr/>
        </p:nvSpPr>
        <p:spPr>
          <a:xfrm flipH="1" flipV="1">
            <a:off x="5918040" y="4881240"/>
            <a:ext cx="182880" cy="3049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Straight Connector 18"/>
          <p:cNvSpPr/>
          <p:nvPr/>
        </p:nvSpPr>
        <p:spPr>
          <a:xfrm flipH="1" flipV="1">
            <a:off x="5913360" y="4876560"/>
            <a:ext cx="487440" cy="601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36648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Other Chemical Components of CSF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SF [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lcium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], [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tassium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] &amp; [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hosphates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] are lower than their levels in the blood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SF [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loride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] &amp; [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gnesium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] are higher than their levels in the bloo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Abnormal CSF [Chloride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arked </a:t>
            </a:r>
            <a:r>
              <a:rPr b="0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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in acute bacterial meningit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light </a:t>
            </a:r>
            <a:r>
              <a:rPr b="0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in viral meningitis &amp; brain tum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88600" y="7632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Normal composition of CSF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762120" y="914400"/>
          <a:ext cx="7391160" cy="5767560"/>
        </p:xfrm>
        <a:graphic>
          <a:graphicData uri="http://schemas.openxmlformats.org/drawingml/2006/table">
            <a:tbl>
              <a:tblPr/>
              <a:tblGrid>
                <a:gridCol w="3790800"/>
                <a:gridCol w="360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ppearance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ahoma"/>
                        </a:rPr>
                        <a:t>Clear ,Colorles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Lymphocyt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ahoma"/>
                        </a:rPr>
                        <a:t>&lt;5/mm</a:t>
                      </a:r>
                      <a:r>
                        <a:rPr b="1" lang="en-US" sz="1800" spc="-1" strike="noStrike" baseline="30000">
                          <a:solidFill>
                            <a:srgbClr val="1c1c1c"/>
                          </a:solidFill>
                          <a:latin typeface="Tahoma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Polymorph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ahoma"/>
                        </a:rPr>
                        <a:t>Ni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p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ahoma"/>
                        </a:rPr>
                        <a:t>7.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Total Volum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ahoma"/>
                        </a:rPr>
                        <a:t>100 - 150 m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Daily Secre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ahoma"/>
                        </a:rPr>
                        <a:t>450 - 500 m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pecific Gravit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ahoma"/>
                        </a:rPr>
                        <a:t>1.006 - 1.00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Protei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0.15 – 0.45 g/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Glucos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50 - 80  mg/d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(2.8-4.2 mmol/L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(&gt;50% plasma level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hlori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ahoma"/>
                        </a:rPr>
                        <a:t>115 - 130 mmol /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lciu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ahoma"/>
                        </a:rPr>
                        <a:t>1.0 - 1.40 mmol/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Phosphoru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ahoma"/>
                        </a:rPr>
                        <a:t>0.4 - 0.7 mmol/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agnesiu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1c1c1c"/>
                          </a:solidFill>
                          <a:latin typeface="Tahoma"/>
                        </a:rPr>
                        <a:t>1.2 - 1.5 mmol/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Potassiu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Tahoma"/>
                        </a:rPr>
                        <a:t>2.6 - 3.0 mmol/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7"/>
          <p:cNvSpPr/>
          <p:nvPr/>
        </p:nvSpPr>
        <p:spPr>
          <a:xfrm>
            <a:off x="762120" y="1522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Abnormal findings of CSF in some pathological condition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1219320" y="1600200"/>
            <a:ext cx="7696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295280" y="1474920"/>
          <a:ext cx="7620120" cy="5306760"/>
        </p:xfrm>
        <a:graphic>
          <a:graphicData uri="http://schemas.openxmlformats.org/drawingml/2006/table">
            <a:tbl>
              <a:tblPr/>
              <a:tblGrid>
                <a:gridCol w="1793880"/>
                <a:gridCol w="1846440"/>
                <a:gridCol w="2008080"/>
                <a:gridCol w="1971720"/>
              </a:tblGrid>
              <a:tr h="81216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amet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i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Bacterial  Meningit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(pyogenic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Tuberculous Meningit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Viral Meningit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pearan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ften turbi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ften fibrin web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ually clea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dominant cel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lymorph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onuclear (lymphocytes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onuclear (lymphocytes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ll count/mm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-1000+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-1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-1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teria/viru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ve smear &amp; cultur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ften none in smea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ve smear or cultur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7"/>
          <p:cNvSpPr/>
          <p:nvPr/>
        </p:nvSpPr>
        <p:spPr>
          <a:xfrm>
            <a:off x="380880" y="3808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Continued</a:t>
            </a:r>
            <a:r>
              <a:rPr b="1" i="1" lang="is-IS" sz="3600" spc="-1" strike="noStrike">
                <a:solidFill>
                  <a:srgbClr val="333399"/>
                </a:solidFill>
                <a:latin typeface="Tahoma"/>
              </a:rPr>
              <a:t>…</a:t>
            </a: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219320" y="1600200"/>
            <a:ext cx="7696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600200" y="1828800"/>
          <a:ext cx="6477120" cy="4799160"/>
        </p:xfrm>
        <a:graphic>
          <a:graphicData uri="http://schemas.openxmlformats.org/drawingml/2006/table">
            <a:tbl>
              <a:tblPr/>
              <a:tblGrid>
                <a:gridCol w="1523880"/>
                <a:gridCol w="1570320"/>
                <a:gridCol w="1706400"/>
                <a:gridCol w="1676520"/>
              </a:tblGrid>
              <a:tr h="799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amet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Simplified Arabic"/>
                        </a:rPr>
                        <a:t>(reference range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i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Bacterial  Meningit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(pyogenic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Tuberculous Meningit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Viral Meningit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tein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0.15-0.45 g/L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1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↑ ↑)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-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↑ ↑)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&lt;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Normal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ucose (2.8-4.2 mmol/L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1/2 plasma (↓ ↓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1/2 plasma (↓ ↓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1/2 plasm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Normal or slightly ↓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lorid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15 - 130 mmol/L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↓ ↓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↓ ↓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l or ↓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7440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Otorrhea &amp; Rhinorrhe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590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Otorrhea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eakage of CSF from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Rhinorrhea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eakage of CSF into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98440" y="21420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ake home messag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182600" y="22093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F is formed in the choroid plex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essential for the physical protection of the C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hysical &amp; chemical analysis of CSF is essential for diagnosis of certain dise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7440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182600" y="2209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cture notes, Clinical Biochemistry, Wiley BlackWell, 8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dition, 2010, chapter 19, page 274-27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nical Chemistry, Principles, Procedures, Correlations, Lippincott Williams &amp; Wilkins, 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dition, 2005, chapter 27, page 560-563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SF Definition &amp; Func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182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CSF definition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: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The liquid surrounding the brain and spinal cord. It flows in subarachnoid area (the space between the arachnoid &amp; pia matter)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Main Function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Physical support &amp; protectio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Provides a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ahoma"/>
              </a:rPr>
              <a:t>controlled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 chemical environment </a:t>
            </a:r>
            <a:r>
              <a:rPr b="0" lang="en-US" sz="2200" spc="-1" strike="noStrike">
                <a:solidFill>
                  <a:srgbClr val="1c1c1c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1c1c1c"/>
                </a:solidFill>
                <a:latin typeface="Tahoma"/>
              </a:rPr>
              <a:t> nutrient supply &amp; waste removal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09480" y="2170080"/>
            <a:ext cx="83455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CSF is formed at the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choroid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plexuses &amp; by the cells lining the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ventricles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Normal blood brain barrier is important for the normal chemistry results of CS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Rate of form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500 ml/da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Mechanism of form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elective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ultrafiltration</a:t>
            </a:r>
            <a:r>
              <a:rPr b="0" lang="en-US" sz="1800" spc="-1" strike="noStrike">
                <a:solidFill>
                  <a:srgbClr val="1c1c1c"/>
                </a:solidFill>
                <a:latin typeface="Tahoma"/>
              </a:rPr>
              <a:t> of plas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Active secretion</a:t>
            </a:r>
            <a:r>
              <a:rPr b="0" lang="en-US" sz="1800" spc="-1" strike="noStrike">
                <a:solidFill>
                  <a:srgbClr val="1c1c1c"/>
                </a:solidFill>
                <a:latin typeface="Tahoma"/>
              </a:rPr>
              <a:t> by epithelial membranes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Mechanism of excretion (absorption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Excretion volume = production volume </a:t>
            </a:r>
            <a:r>
              <a:rPr b="0" lang="en-US" sz="2000" spc="-1" strike="noStrike">
                <a:solidFill>
                  <a:srgbClr val="1c1c1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constant CSF volu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Absorption occurs at the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arachnoid villi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protruding through the dura to the venous sinuses of the brain</a:t>
            </a:r>
            <a:r>
              <a:rPr b="0" lang="en-US" sz="2000" spc="-1" strike="noStrike">
                <a:solidFill>
                  <a:srgbClr val="1c1c1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blood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350720" y="91440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SF Formation &amp; Circul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Picture 5" descr="csf"/>
          <p:cNvPicPr/>
          <p:nvPr/>
        </p:nvPicPr>
        <p:blipFill>
          <a:blip r:embed="rId1"/>
          <a:stretch/>
        </p:blipFill>
        <p:spPr>
          <a:xfrm>
            <a:off x="6934320" y="3352680"/>
            <a:ext cx="1909800" cy="198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5867280" y="6477120"/>
            <a:ext cx="3276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5943600" y="5791320"/>
            <a:ext cx="31240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238720" cy="38894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SF Circul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00042733"/>
          <p:cNvPicPr/>
          <p:nvPr/>
        </p:nvPicPr>
        <p:blipFill>
          <a:blip r:embed="rId1"/>
          <a:stretch/>
        </p:blipFill>
        <p:spPr>
          <a:xfrm>
            <a:off x="1295280" y="1295280"/>
            <a:ext cx="6629400" cy="43164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76200"/>
            <a:ext cx="9144000" cy="8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Method of CSF Sampl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533520" y="5835600"/>
            <a:ext cx="791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ahoma"/>
              </a:rPr>
              <a:t>Traumatic tap (damage to blood vessel during specimen collection) </a:t>
            </a:r>
            <a:r>
              <a:rPr b="1" lang="en-US" sz="1800" spc="-1" strike="noStrike">
                <a:solidFill>
                  <a:srgbClr val="1c1c1c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1c1c1c"/>
                </a:solidFill>
                <a:latin typeface="Tahoma"/>
              </a:rPr>
              <a:t> blood in CSF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5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SF Specimen Colle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tained by </a:t>
            </a: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Tahoma"/>
              </a:rPr>
              <a:t>lumbar punctu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At the interspace L3-4, or low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ing </a:t>
            </a: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Tahoma"/>
              </a:rPr>
              <a:t>asep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echniq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SF is </a:t>
            </a: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Tahoma"/>
              </a:rPr>
              <a:t>separa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3 aliquo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chemistry &amp; serolog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microbiolo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Tahoma"/>
              </a:rPr>
              <a:t>Immedi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alys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’s a </a:t>
            </a: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Tahoma"/>
              </a:rPr>
              <a:t>preciou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ample: Preserve any remaining samp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440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ontraindications for performing lumbar punc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2096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550"/>
              </a:spcBef>
              <a:buClr>
                <a:srgbClr val="00206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leeding diathes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550"/>
              </a:spcBef>
              <a:buClr>
                <a:srgbClr val="00206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creased intracranial press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550"/>
              </a:spcBef>
              <a:buClr>
                <a:srgbClr val="00206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fection at site of needle inser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Indications for laboratory investigation of CSF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550"/>
              </a:spcBef>
              <a:buClr>
                <a:srgbClr val="00206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NS </a:t>
            </a:r>
            <a:r>
              <a:rPr b="0" i="1" lang="en-US" sz="2200" spc="-1" strike="noStrike" u="sng">
                <a:solidFill>
                  <a:srgbClr val="ff0000"/>
                </a:solidFill>
                <a:uFillTx/>
                <a:latin typeface="Tahoma"/>
              </a:rPr>
              <a:t>inf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550"/>
              </a:spcBef>
              <a:buClr>
                <a:srgbClr val="00206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ff0000"/>
                </a:solidFill>
                <a:uFillTx/>
                <a:latin typeface="Tahoma"/>
              </a:rPr>
              <a:t>Demyelinat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sea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550"/>
              </a:spcBef>
              <a:buClr>
                <a:srgbClr val="00206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NS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n-US" sz="2200" spc="-1" strike="noStrike" u="sng">
                <a:solidFill>
                  <a:srgbClr val="ff0000"/>
                </a:solidFill>
                <a:uFillTx/>
                <a:latin typeface="Tahoma"/>
              </a:rPr>
              <a:t>Malignan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550"/>
              </a:spcBef>
              <a:buClr>
                <a:srgbClr val="00206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ff0000"/>
                </a:solidFill>
                <a:uFillTx/>
                <a:latin typeface="Tahoma"/>
              </a:rPr>
              <a:t>Hemorrh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C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20:58:34Z</dcterms:created>
  <dc:creator>Prof. Abdul-Kareem Al-Momen</dc:creator>
  <dc:description/>
  <dc:language>en-US</dc:language>
  <cp:lastModifiedBy>Khalid Akkour</cp:lastModifiedBy>
  <dcterms:modified xsi:type="dcterms:W3CDTF">2016-10-29T19:33:21Z</dcterms:modified>
  <cp:revision>156</cp:revision>
  <dc:subject/>
  <dc:title>BODY FLUIDS</dc:title>
</cp:coreProperties>
</file>