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49A-BD83-4636-AA7F-D456ACEC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2EB-7376-47B9-BA34-6F0B4FE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EC7-9512-445A-A3FA-818F8C17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CAB-9BBE-499E-A8BF-3DC75C65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1B7-D049-4B70-9951-1895E63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A68-4ED3-4D8E-9A0D-9BD1FC13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20F-674F-43D1-A12F-06A4248E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0A9-86CF-4F17-8D62-6DF74EEA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ECF-6590-4E35-89EE-DA4DB2B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AC2-EE89-45E0-A025-1CE92ED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69D-EA38-4E9E-B3D1-134BD36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436-33EF-421B-8CAA-A4AC9F3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497-D175-40C2-BF11-8C836A5B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ancer.or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1000" y="121932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4960" y="1828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5320" y="24382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3880" y="3048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4600" y="3581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31000" y="419112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ell Division i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020320" y="4525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production and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E:\content\ich05\0087l.jpg"/>
          <p:cNvPicPr/>
          <p:nvPr/>
        </p:nvPicPr>
        <p:blipFill>
          <a:blip r:embed="rId1"/>
          <a:stretch/>
        </p:blipFill>
        <p:spPr>
          <a:xfrm>
            <a:off x="5257800" y="1676520"/>
            <a:ext cx="3073320" cy="230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E:\content\bch10\0892l.jpg"/>
          <p:cNvPicPr/>
          <p:nvPr/>
        </p:nvPicPr>
        <p:blipFill>
          <a:blip r:embed="rId1"/>
          <a:stretch/>
        </p:blipFill>
        <p:spPr>
          <a:xfrm>
            <a:off x="787320" y="914400"/>
            <a:ext cx="7569360" cy="5676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373760" y="685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um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61720" y="160020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5884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 pa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058480" y="312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 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056320" y="373392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number of copies of each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055960" y="4495680"/>
            <a:ext cx="62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he number of different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3800" y="5181480"/>
            <a:ext cx="685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total number of chromosom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72680" y="6858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’s Try So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058120" y="16002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058480" y="23623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n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058120" y="31240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28600" y="2761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13968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el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eparation phases for mi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ell division or spl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(Grow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Arial"/>
              </a:rPr>
              <a:t>2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(Grow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content\ch08\0145l.jpg"/>
          <p:cNvPicPr/>
          <p:nvPr/>
        </p:nvPicPr>
        <p:blipFill>
          <a:blip r:embed="rId1"/>
          <a:stretch/>
        </p:blipFill>
        <p:spPr>
          <a:xfrm>
            <a:off x="838080" y="990720"/>
            <a:ext cx="7340760" cy="5505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2761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E:\content\ch08\0153l.jpg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-2160" y="4752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-2160" y="4752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0160" y="60948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ncer cell has unregulated cel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977120" y="114300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ften, the cell cycle checkpoints do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72680" y="16002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374480" y="23623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n you catch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372320" y="312408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treatments for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368720" y="38098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 should I look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381400" y="4495680"/>
            <a:ext cx="42238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hlinkClick r:id="rId1"/>
              </a:rPr>
              <a:t>http://www.cancer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800 – 4 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37160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y M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057400" y="160020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057040" y="23623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re identical cop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:\content\ch08\0144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content\ch08\014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28600" y="1295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bout you is in the sequen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tides in the DNA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ch of your cells, there is about 2 meters of D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808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DNA condense into such as small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04920" y="4297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905120" y="4297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3581280" y="4495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943600" y="4297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hro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content\ch08\0149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E:\content\ch08\0150c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content\ch08\0150e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content\ch08\0150g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:\content\ch08\0150h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:\content\ch08\0150i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E:\content\ch08\0151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content\ch08\0152a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content\ch08\0152b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457200"/>
            <a:ext cx="9144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eio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a process that reduces the chromosome number in such a way that the daughter nuclei only receive one member of each homologous pair of chromosomes.  Think of it as a double mitotic division with only a single S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s of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Pr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Met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An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el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atin can condense into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1981080" y="3962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048120" y="3733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6668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6668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8"/>
          <p:cNvSpPr/>
          <p:nvPr/>
        </p:nvSpPr>
        <p:spPr>
          <a:xfrm flipH="1">
            <a:off x="190512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9"/>
          <p:cNvSpPr/>
          <p:nvPr/>
        </p:nvSpPr>
        <p:spPr>
          <a:xfrm flipH="1">
            <a:off x="1981080" y="259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ontent\ich05\0098al.jpg"/>
          <p:cNvPicPr/>
          <p:nvPr/>
        </p:nvPicPr>
        <p:blipFill>
          <a:blip r:embed="rId1"/>
          <a:stretch/>
        </p:blipFill>
        <p:spPr>
          <a:xfrm>
            <a:off x="762120" y="5335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E:\content\ich05\0098bl.jpg"/>
          <p:cNvPicPr/>
          <p:nvPr/>
        </p:nvPicPr>
        <p:blipFill>
          <a:blip r:embed="rId1"/>
          <a:stretch/>
        </p:blipFill>
        <p:spPr>
          <a:xfrm>
            <a:off x="838080" y="60948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:\content\ich05\0101l.jpg"/>
          <p:cNvPicPr/>
          <p:nvPr/>
        </p:nvPicPr>
        <p:blipFill>
          <a:blip r:embed="rId1"/>
          <a:stretch/>
        </p:blipFill>
        <p:spPr>
          <a:xfrm>
            <a:off x="609480" y="685800"/>
            <a:ext cx="779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content\ich05\0102al.jpg"/>
          <p:cNvPicPr/>
          <p:nvPr/>
        </p:nvPicPr>
        <p:blipFill>
          <a:blip r:embed="rId1"/>
          <a:stretch/>
        </p:blipFill>
        <p:spPr>
          <a:xfrm>
            <a:off x="609480" y="68580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:\content\ich05\0102bl.jpg"/>
          <p:cNvPicPr/>
          <p:nvPr/>
        </p:nvPicPr>
        <p:blipFill>
          <a:blip r:embed="rId1"/>
          <a:stretch/>
        </p:blipFill>
        <p:spPr>
          <a:xfrm>
            <a:off x="838080" y="76212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content\ich05\0102c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:\content\ich05\0103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content\ich05\0104a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:\content\ich05\0104b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:\content\ich05\0104c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content\ich05\0086l.jpg"/>
          <p:cNvPicPr/>
          <p:nvPr/>
        </p:nvPicPr>
        <p:blipFill>
          <a:blip r:embed="rId1"/>
          <a:stretch/>
        </p:blipFill>
        <p:spPr>
          <a:xfrm>
            <a:off x="762120" y="609480"/>
            <a:ext cx="76453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:\content\ich05\0104d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:\content\ich05\0104el.jpg"/>
          <p:cNvPicPr/>
          <p:nvPr/>
        </p:nvPicPr>
        <p:blipFill>
          <a:blip r:embed="rId1"/>
          <a:stretch/>
        </p:blipFill>
        <p:spPr>
          <a:xfrm>
            <a:off x="609480" y="685800"/>
            <a:ext cx="779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0" y="45720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rossing o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on-sister chromat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prophase I, non-sister chromatids can underg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ynap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in which the chromatids line up side-by-side &amp; exchange genetic information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llows new combination of genetic material which will become part of a new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content\bch10\0892l.jpg"/>
          <p:cNvPicPr/>
          <p:nvPr/>
        </p:nvPicPr>
        <p:blipFill>
          <a:blip r:embed="rId1"/>
          <a:stretch/>
        </p:blipFill>
        <p:spPr>
          <a:xfrm>
            <a:off x="838080" y="68580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content\ich05\0099l.jpg"/>
          <p:cNvPicPr/>
          <p:nvPr/>
        </p:nvPicPr>
        <p:blipFill>
          <a:blip r:embed="rId1"/>
          <a:stretch/>
        </p:blipFill>
        <p:spPr>
          <a:xfrm>
            <a:off x="762120" y="609480"/>
            <a:ext cx="77976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E:\content\bch10\0896l.jpg"/>
          <p:cNvPicPr/>
          <p:nvPr/>
        </p:nvPicPr>
        <p:blipFill>
          <a:blip r:embed="rId1"/>
          <a:stretch/>
        </p:blipFill>
        <p:spPr>
          <a:xfrm>
            <a:off x="914400" y="609480"/>
            <a:ext cx="75693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:\content\bch10\0897l.jpg"/>
          <p:cNvPicPr/>
          <p:nvPr/>
        </p:nvPicPr>
        <p:blipFill>
          <a:blip r:embed="rId1"/>
          <a:stretch/>
        </p:blipFill>
        <p:spPr>
          <a:xfrm>
            <a:off x="685800" y="762120"/>
            <a:ext cx="76453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0" y="4572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hase I &amp; Met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dependent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chromosomes are pushed around during prophase I, eventually lining up along the metaphase plate during metaphase I, their orientation i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at of mitosis 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lining one on top of the other, the replicated chromosomes line up side by side according to their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homologous characterstic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E:\content\ich05\0100l.jpg"/>
          <p:cNvPicPr/>
          <p:nvPr/>
        </p:nvPicPr>
        <p:blipFill>
          <a:blip r:embed="rId1"/>
          <a:stretch/>
        </p:blipFill>
        <p:spPr>
          <a:xfrm>
            <a:off x="6858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E:\content\ich05\0105al.jpg"/>
          <p:cNvPicPr/>
          <p:nvPr/>
        </p:nvPicPr>
        <p:blipFill>
          <a:blip r:embed="rId1"/>
          <a:stretch/>
        </p:blipFill>
        <p:spPr>
          <a:xfrm>
            <a:off x="6858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6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20968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umans have 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286000" y="243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romosomes are characteriz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124080" y="3200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133720" y="3809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of the centrom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362320" y="4495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45720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sis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ing of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ous chromosomes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d chromosomes at Metaphase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ous chromosomes sepa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r chromatids separate, be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hapl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dipl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457200"/>
            <a:ext cx="91440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sis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 of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loid # of chromosomes at meta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oid # of duplicated chromosomes at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r chromatids separate, becom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r chromatids separate, be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haploid daughter c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dipl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5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209680" y="1752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humans hav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 23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0" y="2743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stained chromosomes and these can be arranged in pai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362320" y="3886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icture of arranged chromosome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ry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D:\Images\karyotyp.gif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content\ch08\0147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E:\content\bch09\0879l.jpg"/>
          <p:cNvPicPr/>
          <p:nvPr/>
        </p:nvPicPr>
        <p:blipFill>
          <a:blip r:embed="rId1"/>
          <a:stretch/>
        </p:blipFill>
        <p:spPr>
          <a:xfrm>
            <a:off x="711360" y="1066680"/>
            <a:ext cx="772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4:30:31Z</dcterms:created>
  <dc:creator>default</dc:creator>
  <dc:description/>
  <dc:language>en-US</dc:language>
  <cp:lastModifiedBy>User</cp:lastModifiedBy>
  <dcterms:modified xsi:type="dcterms:W3CDTF">2016-10-05T09:50:01Z</dcterms:modified>
  <cp:revision>14</cp:revision>
  <dc:subject/>
  <dc:title>PowerPoint Presentation</dc:title>
</cp:coreProperties>
</file>