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EC0-7EA3-4F7B-8D89-E769CD83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37C-7748-4924-A458-538051EB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C27-D2B4-4A74-A931-5CE237FD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0459-82F9-4618-9FB2-DE345B53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44C-0732-4BA1-9A9D-1FA9972D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A5B-6F7C-46E1-98EE-552332A3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2788-916A-49D7-9B2A-2D128ED0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6C0-421C-4816-845E-73A736C0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FE1-B520-4F6C-AE0F-3C9282F8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0A99-A9ED-4D9C-9F9C-4E53C3A5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66A-B9FC-4AAD-AA58-651B0D56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1D2-6901-4E95-BEFA-A283E691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E867-0080-4CF5-847B-54C74EF82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ore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Use of living organisms to transform, destroy or immobilize contami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oxification of the parent compound(s) and conversion to products that are no longer hazardous to human health and th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vironmenta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447920"/>
            <a:ext cx="7315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utrient availabi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vironmental Cond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tal cont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0" y="0"/>
            <a:ext cx="1600200" cy="6858000"/>
            <a:chOff x="0" y="0"/>
            <a:chExt cx="1600200" cy="6858000"/>
          </a:xfrm>
        </p:grpSpPr>
        <p:pic>
          <p:nvPicPr>
            <p:cNvPr id="63" name="Picture 5" descr="pic1"/>
            <p:cNvPicPr/>
            <p:nvPr/>
          </p:nvPicPr>
          <p:blipFill>
            <a:blip r:embed="rId1"/>
            <a:srcRect l="0" t="0" r="25332" b="0"/>
            <a:stretch/>
          </p:blipFill>
          <p:spPr>
            <a:xfrm>
              <a:off x="0" y="5450040"/>
              <a:ext cx="1600200" cy="14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6" descr="cartoon"/>
            <p:cNvPicPr/>
            <p:nvPr/>
          </p:nvPicPr>
          <p:blipFill>
            <a:blip r:embed="rId2"/>
            <a:stretch/>
          </p:blipFill>
          <p:spPr>
            <a:xfrm>
              <a:off x="0" y="2362320"/>
              <a:ext cx="160020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image?id=74369&amp;rendTypeId=4"/>
            <p:cNvPicPr/>
            <p:nvPr/>
          </p:nvPicPr>
          <p:blipFill>
            <a:blip r:embed="rId3"/>
            <a:stretch/>
          </p:blipFill>
          <p:spPr>
            <a:xfrm>
              <a:off x="0" y="3581280"/>
              <a:ext cx="160020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8" descr="Geobacter metallireducens -- bioremediation bacteria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600200" cy="14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9" descr="aerobic"/>
            <p:cNvPicPr/>
            <p:nvPr/>
          </p:nvPicPr>
          <p:blipFill>
            <a:blip r:embed="rId5"/>
            <a:stretch/>
          </p:blipFill>
          <p:spPr>
            <a:xfrm>
              <a:off x="0" y="4648320"/>
              <a:ext cx="160020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0" descr="phyto%20brake%20fern"/>
            <p:cNvPicPr/>
            <p:nvPr/>
          </p:nvPicPr>
          <p:blipFill>
            <a:blip r:embed="rId6"/>
            <a:stretch/>
          </p:blipFill>
          <p:spPr>
            <a:xfrm>
              <a:off x="0" y="1295280"/>
              <a:ext cx="1600200" cy="120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11" descr=""/>
          <p:cNvPicPr/>
          <p:nvPr/>
        </p:nvPicPr>
        <p:blipFill>
          <a:blip r:embed="rId7"/>
          <a:stretch/>
        </p:blipFill>
        <p:spPr>
          <a:xfrm>
            <a:off x="380880" y="2895480"/>
            <a:ext cx="8558280" cy="271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01600" y="633240"/>
            <a:ext cx="873936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tore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10490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hytoextraction or phytoaccumul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ts used to accumulate contaminants in the roots and aboveground bioma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n be a relatively low cost option for a large are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ults in biomass that must be properly disposed of or reus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hytotransformation or phytodegrad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ptake of contaminants and transformation to more stable, less toxic, or less mobile for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g. metal chromium can be reduced from hexavalent to less mobile (and non-carcinogenic) trivalent chromi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hytostabiliz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bility and migration of contaminants are reduced through sorption onto or into the plan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hizodegrad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eakdown of contaminants through activity of the rhizosphe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hizofil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ater remediation techniqu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d to reduce contamination in natural wetlands and estuary area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0" y="0"/>
            <a:ext cx="1600200" cy="6858000"/>
            <a:chOff x="0" y="0"/>
            <a:chExt cx="1600200" cy="6858000"/>
          </a:xfrm>
        </p:grpSpPr>
        <p:pic>
          <p:nvPicPr>
            <p:cNvPr id="74" name="Picture 5" descr="pic1"/>
            <p:cNvPicPr/>
            <p:nvPr/>
          </p:nvPicPr>
          <p:blipFill>
            <a:blip r:embed="rId1"/>
            <a:srcRect l="0" t="0" r="25332" b="0"/>
            <a:stretch/>
          </p:blipFill>
          <p:spPr>
            <a:xfrm>
              <a:off x="0" y="5450040"/>
              <a:ext cx="1600200" cy="14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6" descr="cartoon"/>
            <p:cNvPicPr/>
            <p:nvPr/>
          </p:nvPicPr>
          <p:blipFill>
            <a:blip r:embed="rId2"/>
            <a:stretch/>
          </p:blipFill>
          <p:spPr>
            <a:xfrm>
              <a:off x="0" y="2362320"/>
              <a:ext cx="160020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7" descr="image?id=74369&amp;rendTypeId=4"/>
            <p:cNvPicPr/>
            <p:nvPr/>
          </p:nvPicPr>
          <p:blipFill>
            <a:blip r:embed="rId3"/>
            <a:stretch/>
          </p:blipFill>
          <p:spPr>
            <a:xfrm>
              <a:off x="0" y="3581280"/>
              <a:ext cx="160020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8" descr="Geobacter metallireducens -- bioremediation bacteria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600200" cy="14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9" descr="aerobic"/>
            <p:cNvPicPr/>
            <p:nvPr/>
          </p:nvPicPr>
          <p:blipFill>
            <a:blip r:embed="rId5"/>
            <a:stretch/>
          </p:blipFill>
          <p:spPr>
            <a:xfrm>
              <a:off x="0" y="4648320"/>
              <a:ext cx="160020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0" descr="phyto%20brake%20fern"/>
            <p:cNvPicPr/>
            <p:nvPr/>
          </p:nvPicPr>
          <p:blipFill>
            <a:blip r:embed="rId6"/>
            <a:stretch/>
          </p:blipFill>
          <p:spPr>
            <a:xfrm>
              <a:off x="0" y="1295280"/>
              <a:ext cx="1600200" cy="1200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ve Steps of In Situ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ore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8200" y="155700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e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Treatability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Recovery of free product and removal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 Design and implementation of the in s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remedi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 Monitoring and performance evaluation of the in situ bioremedi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0" y="0"/>
            <a:ext cx="1600200" cy="6858000"/>
            <a:chOff x="0" y="0"/>
            <a:chExt cx="1600200" cy="6858000"/>
          </a:xfrm>
        </p:grpSpPr>
        <p:pic>
          <p:nvPicPr>
            <p:cNvPr id="84" name="Picture 6" descr="pic1"/>
            <p:cNvPicPr/>
            <p:nvPr/>
          </p:nvPicPr>
          <p:blipFill>
            <a:blip r:embed="rId1"/>
            <a:srcRect l="0" t="0" r="25332" b="0"/>
            <a:stretch/>
          </p:blipFill>
          <p:spPr>
            <a:xfrm>
              <a:off x="0" y="5450040"/>
              <a:ext cx="1600200" cy="14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7" descr="cartoon"/>
            <p:cNvPicPr/>
            <p:nvPr/>
          </p:nvPicPr>
          <p:blipFill>
            <a:blip r:embed="rId2"/>
            <a:stretch/>
          </p:blipFill>
          <p:spPr>
            <a:xfrm>
              <a:off x="0" y="2362320"/>
              <a:ext cx="160020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8" descr="image?id=74369&amp;rendTypeId=4"/>
            <p:cNvPicPr/>
            <p:nvPr/>
          </p:nvPicPr>
          <p:blipFill>
            <a:blip r:embed="rId3"/>
            <a:stretch/>
          </p:blipFill>
          <p:spPr>
            <a:xfrm>
              <a:off x="0" y="3581280"/>
              <a:ext cx="160020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9" descr="Geobacter metallireducens -- bioremediation bacteria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600200" cy="14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0" descr="aerobic"/>
            <p:cNvPicPr/>
            <p:nvPr/>
          </p:nvPicPr>
          <p:blipFill>
            <a:blip r:embed="rId5"/>
            <a:stretch/>
          </p:blipFill>
          <p:spPr>
            <a:xfrm>
              <a:off x="0" y="4648320"/>
              <a:ext cx="160020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1" descr="phyto%20brake%20fern"/>
            <p:cNvPicPr/>
            <p:nvPr/>
          </p:nvPicPr>
          <p:blipFill>
            <a:blip r:embed="rId6"/>
            <a:stretch/>
          </p:blipFill>
          <p:spPr>
            <a:xfrm>
              <a:off x="0" y="1295280"/>
              <a:ext cx="1600200" cy="1200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s of Biore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itu Bioremediation: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ing contamination at the site often used ( less movemen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v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spar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au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 situ Bioremed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contamination and treat elsew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 fa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p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s of Biore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2040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toreme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toextraction or phytoaccu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todegradation or phyto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tostab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izodegra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izofil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Situ Biore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ve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 most common approaches in s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air and nutrients via w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s advantage of indigenous micro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itu bio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air and nutrients by circulating aqueous solutions through contaminated soils or ground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spar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jection of air below the water tabl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groundwater oxygen concentrations and mixing in saturated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au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 of indigenous or exogenous micro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s to use:  competition and neces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st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ural Attenuation or Intrinsic Biore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v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3152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spar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93396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 situ Biore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and farm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taminated soil is excavated and spread over la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il is periodically tilled to improve ae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mediation due to indigenous microorganisms, as well as chemical and physical process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nerally limited to the superficial 10–35 cm of soi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n reduce monitoring and maintenance cos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mpos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bines contaminated soil with nonhazardous organic amendants (e.g. manure or agricultural waste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iopi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bination of landfarming and compostin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trol physical losses of contaminan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ioreact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il and water pumped up from a contaminated plume and processed through an engineered containment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gradation in a bioreactor is generally greater than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in situ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ecause the contained environment is more controllable and predictab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asibility / Effectiv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495680" y="2514600"/>
            <a:ext cx="3951360" cy="3878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925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nt type &amp;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883800"/>
            <a:ext cx="8461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erobic bacteri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amples include: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Pseudomona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lcaligen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phingomona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Rhodococcu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Mycobacteri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hown to degrade pesticides and hydrocarbons; alkanes and polyaromatic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y be able to use the contaminant as sole source of carbon and energ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thanotrophs: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erobic bacteria that utilize methane for carbon and energ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thane monooxygenase has a broad substrate ran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ive against a wide range of compounds (e.g. chlorinated aliphatics such as trichloroethylene and 1,2-dichloroethan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aerobic bacteri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t used as frequently as aerobic bacteri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n often be applied to bioremediation of polychlorinated biphenyls (PCBs) in river sediments, trichloroethylene (TCE), and chloro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ung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le to degrade a diverse range of persistent or toxic environmental polluta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1:37:57Z</dcterms:created>
  <dc:creator>Liz Hodges</dc:creator>
  <dc:description/>
  <dc:language>en-US</dc:language>
  <cp:lastModifiedBy>ksu</cp:lastModifiedBy>
  <dcterms:modified xsi:type="dcterms:W3CDTF">2012-12-12T08:15:54Z</dcterms:modified>
  <cp:revision>29</cp:revision>
  <dc:subject/>
  <dc:title>ALTERNATIVE CLEAN-UP TECHNOLOGIES</dc:title>
</cp:coreProperties>
</file>