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556-63E6-4BCD-8940-A9B9BB6B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F25-9EEB-4447-898F-1CD3609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7B2-FBF8-47C7-9773-F4EEA8C6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912-ACA3-484B-8AE7-6779525D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7A7-AE0B-4B32-A22E-2618573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47F-2FB7-4709-B9D3-FBF3AE2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B4-5591-4387-9AA1-A75013D0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0C1-70F8-495E-86A9-477B8BD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BFB-43D5-4D5E-8A87-4D3F9F74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BF0-8E4A-4F21-9069-DCA7720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DD8-2DA5-4C7B-AF0A-F297E904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51A-D299-4C97-AAE0-254C353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3647-E30E-4677-8A79-25A61980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 of living organisms to transform, destroy or immobilize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xification of the parent compound(s) and conversion to products that are no longer hazardous to human health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trient avail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al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63" name="Picture 5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0880" y="2895480"/>
            <a:ext cx="8558280" cy="271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1600" y="633240"/>
            <a:ext cx="8739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t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0490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extraction or phytoaccu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ts used to accumulate contaminants in the roots and aboveground bio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be a relatively low cost option for a lar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s in biomass that must be properly disposed of or reu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transformation or phyto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take of contaminants and transformation to more stable, less toxic, or less mobile fo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g. metal chromium can be reduced from hexavalent to less mobile (and non-carcinogenic) trivalent chrom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stabil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bility and migration of contaminants are reduced through sorption onto or into the pla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hizo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down of contaminants through activity of the rhizosph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hizofil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ter remediation techniq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d to reduce contamination in natural wetlands and estuary are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74" name="Picture 5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7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8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9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ve Steps of In Situ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8200" y="155700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Treatabilit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Recovery of free product and removal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Design and implementation of the in s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remedi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Monitoring and performance evaluation of the in situ bioremedi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84" name="Picture 6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itu Bioremediation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contamination at the site often used ( less moveme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u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situ Bioreme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contamination and treat else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2040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tore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extraction or phyto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degradation or phyto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zo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zo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Situ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most common approaches in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air and nutrients via w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indigenous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itu bio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air and nutrients by circulating aqueous solutions through contaminated soils or ground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ection of air below the water tab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groundwater oxygen concentrations and mixing in saturated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au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indigenous or exogenous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to use:  competition and neces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Attenuation or Intrinsic Biore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9339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 situ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nd far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aminated soil is excavated and spread over l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il is periodically tilled to improve ae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ediation due to indigenous microorganisms, as well as chemical and physical proce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nerally limited to the superficial 10–35 cm of so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reduce monitoring and maintenance c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os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es contaminated soil with nonhazardous organic amendants (e.g. manure or agricultural wast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op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ation of landfarming and compost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ol physical losses of contamin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ore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il and water pumped up from a contaminated plume and processed through an engineered contain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gradation in a bioreactor is generally greater than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in situ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cause the contained environment is more controllable and predict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asibility / Effec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951360" cy="3878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nt type &amp;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883800"/>
            <a:ext cx="8461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erobic bacter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amples include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lcalige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phingomona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Rhodococc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ycobacter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n to degrade pesticides and hydrocarbons; alkanes and polyaroma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be able to use the contaminant as sole source of carbon and energ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hanotrophs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erobic bacteria that utilize methane for carbon and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hane monooxygenase has a broad substrate r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e against a wide range of compounds (e.g. chlorinated aliphatics such as trichloroethylene and 1,2-dichloroetha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erobic bacter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used as frequently as aerobic bacter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often be applied to bioremediation of polychlorinated biphenyls (PCBs) in river sediments, trichloroethylene (TCE), and chloro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ng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le to degrade a diverse range of persistent or toxic environmental pollut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37:57Z</dcterms:created>
  <dc:creator>Liz Hodges</dc:creator>
  <dc:description/>
  <dc:language>en-US</dc:language>
  <cp:lastModifiedBy>ksu</cp:lastModifiedBy>
  <dcterms:modified xsi:type="dcterms:W3CDTF">2012-12-12T08:15:54Z</dcterms:modified>
  <cp:revision>29</cp:revision>
  <dc:subject/>
  <dc:title>ALTERNATIVE CLEAN-UP TECHNOLOGIES</dc:title>
</cp:coreProperties>
</file>