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9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jpeg" ContentType="image/jpeg"/>
  <Override PartName="/ppt/media/image37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06200" y="198000"/>
            <a:ext cx="2268720" cy="16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ccff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08080" y="198360"/>
            <a:ext cx="2158920" cy="1619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75680" y="2049120"/>
            <a:ext cx="6548760" cy="77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0160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75680" y="2049120"/>
            <a:ext cx="6548760" cy="77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160" y="200160"/>
            <a:ext cx="2254320" cy="16905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34640" y="2341440"/>
            <a:ext cx="6527880" cy="75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8240" y="198360"/>
            <a:ext cx="2309760" cy="1619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75680" y="2049120"/>
            <a:ext cx="6548760" cy="77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2680" y="198360"/>
            <a:ext cx="2255760" cy="1692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8240" y="198360"/>
            <a:ext cx="2382840" cy="1692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8240" y="198360"/>
            <a:ext cx="2309760" cy="1692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75680" y="2036880"/>
            <a:ext cx="6548760" cy="77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5244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62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492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492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D8D-6484-4087-8D22-EFD864F8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3F7-4D27-41F3-940F-7EF840B0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642-7B43-4988-8ED3-2816D771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E4F-233C-4946-8CCB-FD5D5592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3ED-7F62-4575-A764-6617D6BC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510-A0F0-4966-B933-D4C7B113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F50-4D21-4AC7-A5D7-935368A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98C-6EC8-412E-B55C-99452515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1EF-580B-4CCC-9946-53ABFDBA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95244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F87-4F2F-4B57-A1DF-9F4E4466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4C8-77E2-4396-B3B8-AFFE9994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52388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952440"/>
            <a:ext cx="2551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1BB-0616-48B4-8310-111DD98B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6240" y="395244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523880"/>
            <a:ext cx="38671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52440"/>
            <a:ext cx="79246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d1d4d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71600" y="22860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47680" y="6458040"/>
            <a:ext cx="37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Arial"/>
                <a:ea typeface="Arial Unicode MS"/>
              </a:rPr>
              <a:t>LMKA, University of Augsbu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6640" y="6477120"/>
            <a:ext cx="23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  <a:ea typeface="굴림"/>
              </a:rPr>
              <a:t>Santorini 2004 / HUMA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20080" y="64580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ff"/>
                </a:solidFill>
                <a:latin typeface="Arial"/>
                <a:ea typeface="굴림"/>
              </a:rPr>
              <a:t>J.H. Ki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0e0e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0e0e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e0e0e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e0e0e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e0e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417E-667C-45D8-8A3C-54AFFC7D3145}" type="slidenum">
              <a:rPr b="0" lang="de-DE" sz="10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457200" indent="0"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451"/>
              </a:spcBef>
              <a:buClr>
                <a:srgbClr val="ffffe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d1d4d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d4d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1d4d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8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ff"/>
                </a:solidFill>
                <a:latin typeface="Arial"/>
              </a:rPr>
              <a:t>Emotion Recognition from Physiological Measurement (Biosignal)</a:t>
            </a:r>
            <a:endParaRPr b="1" lang="en-US" sz="31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Arial"/>
              </a:rPr>
              <a:t>Jonghwa Kim</a:t>
            </a:r>
            <a:endParaRPr b="1" lang="en-US" sz="2400" spc="-1" strike="noStrike">
              <a:solidFill>
                <a:srgbClr val="ffffeb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eb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b"/>
                </a:solidFill>
                <a:latin typeface="Arial"/>
              </a:rPr>
              <a:t>Applied Computer Science</a:t>
            </a:r>
            <a:endParaRPr b="1" lang="en-US" sz="1800" spc="-1" strike="noStrike">
              <a:solidFill>
                <a:srgbClr val="ffffeb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b"/>
                </a:solidFill>
                <a:latin typeface="Arial"/>
              </a:rPr>
              <a:t>University of Augsburg</a:t>
            </a:r>
            <a:endParaRPr b="1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0120" y="5943600"/>
            <a:ext cx="491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Workshop Santorini, HUMAINE WP4/SG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ensing Physiological Information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6880" y="1447920"/>
            <a:ext cx="7467480" cy="4495680"/>
          </a:xfrm>
          <a:prstGeom prst="rect">
            <a:avLst/>
          </a:prstGeom>
          <a:solidFill>
            <a:srgbClr val="d1d4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13280" y="2768760"/>
            <a:ext cx="1175040" cy="552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63800" y="3772080"/>
            <a:ext cx="15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BVP- Blood volume pu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959440" y="1673280"/>
            <a:ext cx="57456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813280" y="4803840"/>
            <a:ext cx="806760" cy="60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rcRect l="0" t="0" r="49271" b="0"/>
          <a:stretch/>
        </p:blipFill>
        <p:spPr>
          <a:xfrm>
            <a:off x="3882960" y="1943280"/>
            <a:ext cx="1479600" cy="3668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13120" y="2505240"/>
            <a:ext cx="1067040" cy="14475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18240" y="3724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EMG – Muscle 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30680" y="494352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EKG– Hear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562200" y="2846520"/>
            <a:ext cx="1028880" cy="1936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9560" y="27338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Respiration – Breathing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84640" y="2332080"/>
            <a:ext cx="695520" cy="7063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31080" y="2857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417480" y="4008600"/>
            <a:ext cx="593640" cy="101124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3800" y="46864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GSR – Skin con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562200" y="3170160"/>
            <a:ext cx="578160" cy="83844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718160" y="2048040"/>
            <a:ext cx="1137960" cy="2109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18240" y="1743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Acoustics and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2503440" y="4791240"/>
            <a:ext cx="900000" cy="436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503440" y="3800520"/>
            <a:ext cx="986040" cy="407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2655720" y="2733840"/>
            <a:ext cx="771840" cy="642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5780160" y="3800520"/>
            <a:ext cx="771480" cy="468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 flipV="1">
            <a:off x="3494160" y="2047680"/>
            <a:ext cx="906480" cy="46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39760" y="1790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EEG – Brain wa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2655720" y="1743120"/>
            <a:ext cx="836640" cy="635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37200" y="3627360"/>
            <a:ext cx="228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2960" y="2846520"/>
            <a:ext cx="997200" cy="20206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16480" y="201924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87840" y="300996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25960" y="310032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02120" y="39574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77668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54440" y="24382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223056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10120" y="22590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ECG (Electrokardiogram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990520"/>
            <a:ext cx="79246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easures contractile activity of the hear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On surface of chest or limb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Heart rate (HR), inter-beat intervals (IBI) and heart rate variability (HRV), respiratory sinus arrhythmia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ional cues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Decreasing HR: relaxation, happy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Increasing HRV: stress, frustr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997680" y="1168560"/>
            <a:ext cx="1392120" cy="185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486080" y="1168560"/>
            <a:ext cx="564840" cy="18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BVP (Blood Volume Pulse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2080" y="2769840"/>
            <a:ext cx="792468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Photoplethysmography, bounces infra-red light against a skin surface and measures the amount of reflected light. 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Palmar surface of fingerti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eatures: heart rate, vascular dilation (pinch), vasoconstrict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Cues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Increasing BV- angry, stres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Decreasing BV- sadness, relax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99ccff"/>
                </a:solidFill>
                <a:latin typeface="Arial"/>
                <a:ea typeface="굴림"/>
              </a:rPr>
              <a:t>EEG (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굴림"/>
              </a:rPr>
              <a:t>lectroencephalography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924680" cy="33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lectrical voltages generated by brain cells (neurons) when they fire, frequencies between 1-40Hz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requency subsets: high beta (20-40Hz),                beta (15-20Hz), Sensorimotor rhythm                      (13-15Hz), alpha (8-13Hz), theta (4-8Hz),              delta (2-4Hz), EMG noise (&gt; 40Hz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tandard 10-20 EEG electrode placemen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ind reading, biofeedback, brain computing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486080" y="1168560"/>
            <a:ext cx="564840" cy="185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997680" y="1168560"/>
            <a:ext cx="1392120" cy="1854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495680" y="160020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lph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986520" y="3575160"/>
            <a:ext cx="16081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EMG (Electromyogram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787320" y="2387520"/>
            <a:ext cx="565200" cy="185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997680" y="1168560"/>
            <a:ext cx="1392120" cy="1854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924680" cy="33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uscle activity or frequency of muscle tens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mplitude changes are directly proportional to muscle activit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On the face to distinguish between negative and positive emotion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ecognition of facial expression, gesture and sign- language 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C (Skin Conductivity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easure of skin’s ability to conduct electricit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Linear correlated with arousa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epresents changes in sympathetic nervous system and reflects emotional responses and cognitive activit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422360" y="2387520"/>
            <a:ext cx="565200" cy="185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6997680" y="1168560"/>
            <a:ext cx="1392120" cy="18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RESP (Respiration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79246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elative measure of chest expans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On the chest or abdome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espiration rate (RF) and relative breath amplitude (RA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ional cues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Increasing RF – anger, joy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Decreasing RF – relaxation, blis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74720" y="2400480"/>
            <a:ext cx="565200" cy="185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7010280" y="2362320"/>
            <a:ext cx="139248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굴림"/>
              </a:rPr>
              <a:t>Temp (Peripheral</a:t>
            </a:r>
            <a:r>
              <a:rPr b="1" lang="de-DE" sz="3200" spc="-1" strike="noStrike">
                <a:solidFill>
                  <a:srgbClr val="99cc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  <a:ea typeface="굴림"/>
              </a:rPr>
              <a:t>Temperature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848720" cy="33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easure of skin temperature as its extremiti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Dorsal or palmar side of any finger or to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Dependent on the state of sympathetic arousa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Increase of Temp: anger &gt; happiness, sadness &gt; fear surprise, disgus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133720" y="1143000"/>
            <a:ext cx="632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133720"/>
            <a:ext cx="7315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Arial"/>
              </a:rPr>
              <a:t>Previous Works</a:t>
            </a:r>
            <a:endParaRPr b="1" lang="en-US" sz="29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3644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General Framework of Recognition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7880" y="1380960"/>
            <a:ext cx="7696440" cy="42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Definition of pattern classes: </a:t>
            </a:r>
            <a:r>
              <a:rPr b="0" lang="en-US" sz="2000" spc="-1" strike="noStrike">
                <a:solidFill>
                  <a:srgbClr val="ffffe5"/>
                </a:solidFill>
                <a:latin typeface="Arial"/>
              </a:rPr>
              <a:t>supervised classific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ensing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data acquisition using biosensors in natural or scenarized situ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Preprocessing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noise filtering, normalization, up/down sampling, segment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Feature Calculation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extracting all possible attributes that represent the sensed raw biosigna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Feature Selection / Space Reduction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identifying the features that contribute more in the clustering or classificatio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Classification / Evaluation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 (pattern recognition): multi-class classification 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440" y="1672920"/>
            <a:ext cx="6300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What is Emotion?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Biosensor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Previous Work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xperiment in Augsburg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uture Work / SG3 Exemplar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Ekman et al. (1983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anual analysis of the biosignals (finger temperature, heart rate) w.r.t. anger, fear, sadness, happiness, disgust, and surpris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elative emotional cu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HR: anger, fear, sadness &gt; happiness, surprise &gt; disgust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HR Acceleration: anger &gt; happines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emp:  anger &gt; happiness, sadness &gt; fear surprise, disgust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Cacioppo et al. (1993, 2000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Provide a wide range of links between physiological features and emotional stat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nger increases diastolic blood pressure to the greatest degree, followed by fear, sadness, and happines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nger is further distinguished from fear by larger increases in blood pulse volum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anger appears to act more on the vasculature and less on the heart than does fear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Gross &amp; Levenson (1995, 1997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2080" y="1380600"/>
            <a:ext cx="79246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tudy to find most effective films to elicit discrete emotions, amusement, anger, contentment, disgust, fear, neutralit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musement, neutrality, and sadness were elicited by showing film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kin conductance, inter-beat interval, pulse transit times and respiratory activation were measured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Inter-beat interval increased for all three states, the least for neutralit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kin conductance increased after the amusement film, decreased after the neutral film and stayed the same after the sadness film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Vyzas, Picard et al. (MIT Media Lab, 2000)</a:t>
            </a:r>
            <a:endParaRPr b="1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5160" y="1308240"/>
            <a:ext cx="79250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Discriminating self-induced emotional states in a single subject (actress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Dataset: 20 days x 8 emotions x 4 sensors x 1 actres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ion model: happiness, sadness, anger, fear, disgust, surprise, neutrality, platonic love, and romantic lov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ensors: GSR (SC), BVP, RESP, EMG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11 features for each emot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lgorithms: SFFS (sequential forward floating search), Fisher projection, hybrid of thes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Overall accuracy 81.25% by hybrid method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Kim et al. (Univ. Augsburg, 2004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2080" y="130824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e to Win”: emotive game interfacing based on affective interactions between player and computer pet </a:t>
            </a:r>
            <a:r>
              <a:rPr b="0" i="1" lang="en-US" sz="2400" spc="-1" strike="noStrike">
                <a:solidFill>
                  <a:srgbClr val="ffffeb"/>
                </a:solidFill>
                <a:latin typeface="Arial"/>
              </a:rPr>
              <a:t>(“Tiffany”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Combined analysis of two channels, speech + biosignal in onlin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Speech: pitch, harmonics, energy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Biosignal: mean energy (SC/EMG), StdDeviation (SC, EMG), heart rate (ECG), subband spectra (ECG/RESP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imple threshold-based online classificat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Hard to acquire reliable emotive information of users in online condit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Why is this hard ?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Need to develop strong correlations between sensor data and emotion (robust signal processing and pattern matching algorithms)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Too many dependency variables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kin-sensing requires physical contact, compared with camera and microphone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Need to improve biometric sensor technology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Arial"/>
              </a:rPr>
              <a:t>Accuracy, robustness to motion artifacts, vulnerable to distortion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Arial"/>
              </a:rPr>
              <a:t>Wireless ambulant sensor system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Most research measures artificially elicited emotions in a lab setting and from single subject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Different individuals show emotion with different response in autonomic channels (hard for multi-subjects)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Rarely studied physiological emotion recognition, literature offers ideas rather than well-defined solutions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133720"/>
            <a:ext cx="7315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Arial"/>
              </a:rPr>
              <a:t>Experiment in Univ. Augsburg</a:t>
            </a:r>
            <a:endParaRPr b="1" lang="en-US" sz="29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AuDB (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ugsburger database of biosignal</a:t>
            </a: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40960" y="1234800"/>
            <a:ext cx="7534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Musical induction: each participant selects four favorite songs reminiscent of their certain emotional experiences corresponding to four emotion categorie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Song selection criteria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ong1: enjoyable, harmonic,                                                          dynamic, moving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ong2: noisy, loud, irritating,                                                            discord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ong3: melancholic, reminding                                                     of sad memory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ong4: blissful, slow beat,                                                          pleasurable, slumberous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3 subjects x 25 days x 4 emotions                                                        x 4 sensors (SC, RESP,                                                                     ECG, EMG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99360" y="350208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7600" y="321480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ffab"/>
                </a:solidFill>
                <a:latin typeface="Arial"/>
              </a:rPr>
              <a:t>song</a:t>
            </a:r>
            <a:r>
              <a:rPr b="1" lang="en-US" sz="1400" spc="-1" strike="noStrike">
                <a:solidFill>
                  <a:srgbClr val="d5ffab"/>
                </a:solidFill>
                <a:latin typeface="Arial"/>
                <a:ea typeface="굴림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66560" y="320976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ffab"/>
                </a:solidFill>
                <a:latin typeface="Arial"/>
              </a:rPr>
              <a:t>song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22000" y="370836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ffab"/>
                </a:solidFill>
                <a:latin typeface="Arial"/>
              </a:rPr>
              <a:t>song</a:t>
            </a:r>
            <a:r>
              <a:rPr b="1" lang="en-US" sz="1400" spc="-1" strike="noStrike">
                <a:solidFill>
                  <a:srgbClr val="d5ffab"/>
                </a:solidFill>
                <a:latin typeface="Arial"/>
                <a:ea typeface="굴림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52160" y="370368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5ffab"/>
                </a:solidFill>
                <a:latin typeface="Arial"/>
              </a:rPr>
              <a:t>song</a:t>
            </a:r>
            <a:r>
              <a:rPr b="1" lang="en-US" sz="1400" spc="-1" strike="noStrike">
                <a:solidFill>
                  <a:srgbClr val="d5ffab"/>
                </a:solidFill>
                <a:latin typeface="Arial"/>
                <a:ea typeface="굴림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8880" y="25509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ff66"/>
                </a:solidFill>
                <a:latin typeface="Arial"/>
                <a:ea typeface="굴림"/>
              </a:rPr>
              <a:t>Energet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87480" y="4311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ff66"/>
                </a:solidFill>
                <a:latin typeface="Arial"/>
                <a:ea typeface="굴림"/>
              </a:rPr>
              <a:t>Cal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01480" y="345456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ff66"/>
                </a:solidFill>
                <a:latin typeface="Arial"/>
                <a:ea typeface="굴림"/>
              </a:rPr>
              <a:t>Anxi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85120" y="3465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ff66"/>
                </a:solidFill>
                <a:latin typeface="Arial"/>
                <a:ea typeface="굴림"/>
              </a:rPr>
              <a:t>Happ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61240" y="3619440"/>
            <a:ext cx="1461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89880" y="2917800"/>
            <a:ext cx="0" cy="1389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37480" y="234324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High arous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0920" y="452772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Low arous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27520" y="372096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os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39560" y="3720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ega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61960" y="29908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ang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39640" y="29908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jo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24520" y="3922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bli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35040" y="3913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s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7720" y="511164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Music genre</a:t>
            </a: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eb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mo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78400" y="5122800"/>
            <a:ext cx="2706840" cy="365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AuDB Raw Signal (sample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eatures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29 Features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from common feature set: mean, standard deviation, slope, and frequency (rate), using rectangular window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C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scPassMean, scPassStd, scPassDiff, scBaseMean, scBaseStd, scPassNormMean, scPassNormDiff, scPassNormStd, scBaseStd, scBaseMea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RESP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rspFreqMean, rspFreqStd, rspFreqDiff, rspSpec1, rspSpec2, rspSpec3, rspSpec4, rspAmplMean, rspAmplStd, rspAmplDiff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ECG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ekgFreqMean, ekgFreqStd, ekgFreqDiff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EMG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: emgBaseMean, emgBaseStd, emgBaseDiff, emgBaseNormMean, emgBaseNormStd, emgBaseNormDiff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2590920"/>
            <a:ext cx="4343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What is Emotion ?</a:t>
            </a: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eatures : example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279440" y="1380960"/>
            <a:ext cx="65851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isher Projection (Arousal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573200" y="1087560"/>
            <a:ext cx="6073920" cy="4243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65160" y="5403960"/>
            <a:ext cx="5997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High arousal : joy (song1) + angry (song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Low arousal : sadness (song3) + bliss (song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isher Projection (Valence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00120" y="1162080"/>
            <a:ext cx="6149880" cy="419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65160" y="5403960"/>
            <a:ext cx="5997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Positive : joy (song1) + bliss (song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Negative : anger (song2) + sadness (song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isher Projection (4 Emotions)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00120" y="1235160"/>
            <a:ext cx="6248520" cy="4176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46440" y="5460840"/>
            <a:ext cx="5997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Four emotions : joy (song1), anger (song2), sadness (song3), bliss (song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Recognition Result 1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987480" y="1454040"/>
            <a:ext cx="7216560" cy="3562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22440" y="5257800"/>
            <a:ext cx="7924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uDB – no selection - reduction (Fisher) – Classification (Mahalanobis dist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Recognition Result 2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987480" y="1380960"/>
            <a:ext cx="7277040" cy="3584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22440" y="5257800"/>
            <a:ext cx="7924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AuDB – selection (SFFS) - no reduction – classification (LDA with M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Recognition Result 3 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133640" y="1308240"/>
            <a:ext cx="6943680" cy="3670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41320" y="5257800"/>
            <a:ext cx="7534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MIT Dataset – UA feature calculation - MIT feature selection, reduction, classif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Database (AuDB) collected by natural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musical induction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 from multiple subject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29 features proven as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efficient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Compared several classification method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Need to predict 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 for as baseline of daily emotion intense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Need to develop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online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 training method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Need to extend number of features for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person-independent </a:t>
            </a: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recognition system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s experiment is 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still on going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00200" y="2209320"/>
            <a:ext cx="60199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Future Work in SG3</a:t>
            </a: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Future Work in SG3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Extension of available features in biosigna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cross- correlation features between the different biosignal type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Combining multiple classification methods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depending on characteristic of pattern types and application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Need to adapt offline algorithms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into online recognition system (online training, estimating decision threshold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Feature fusion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, e.g. correlating EMG features with FAP features (SG1) and SC/RESP features with quality features in speech (SG2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What is Emotion?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.…”Everyone knows what an emotion is, until asked to give a definition”…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eb"/>
                </a:solidFill>
                <a:latin typeface="Arial"/>
              </a:rPr>
              <a:t>                                           </a:t>
            </a:r>
            <a:r>
              <a:rPr b="0" lang="en-US" sz="1700" spc="-1" strike="noStrike">
                <a:solidFill>
                  <a:srgbClr val="ffffeb"/>
                </a:solidFill>
                <a:latin typeface="Arial"/>
              </a:rPr>
              <a:t>- Beverly Fehr and James Russell -</a:t>
            </a:r>
            <a:endParaRPr b="0" lang="en-US" sz="17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ions play a major role in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motivation, perception, cognition, coping, creativity, attention, planning, reasoning, learning, memory, and decision making.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We d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seek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emotions but to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understand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 them…. 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Suggestion to WP4 Exemplar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0560" y="3137040"/>
            <a:ext cx="70228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5"/>
                </a:solidFill>
                <a:latin typeface="Arial"/>
              </a:rPr>
              <a:t>Efficiently </a:t>
            </a:r>
            <a:r>
              <a:rPr b="0" lang="en-US" sz="2200" spc="-1" strike="noStrike">
                <a:solidFill>
                  <a:srgbClr val="ccff66"/>
                </a:solidFill>
                <a:latin typeface="Arial"/>
              </a:rPr>
              <a:t>fusing</a:t>
            </a:r>
            <a:r>
              <a:rPr b="0" lang="en-US" sz="2200" spc="-1" strike="noStrike">
                <a:solidFill>
                  <a:srgbClr val="ffffe5"/>
                </a:solidFill>
                <a:latin typeface="Arial"/>
              </a:rPr>
              <a:t> recognition systems of each subgroup (audio + visual + physiological) in online/offline condition,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hen</a:t>
            </a:r>
            <a:r>
              <a:rPr b="0" lang="en-US" sz="2200" spc="-1" strike="noStrike">
                <a:solidFill>
                  <a:srgbClr val="ffffe5"/>
                </a:solidFill>
                <a:latin typeface="Arial"/>
              </a:rPr>
              <a:t> designing </a:t>
            </a:r>
            <a:r>
              <a:rPr b="0" lang="en-US" sz="2200" spc="-1" strike="noStrike">
                <a:solidFill>
                  <a:srgbClr val="ccff66"/>
                </a:solidFill>
                <a:latin typeface="Arial"/>
              </a:rPr>
              <a:t>appl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Multisensory Data Fusion for Emotion Engine</a:t>
            </a:r>
            <a:br>
              <a:rPr sz="2800"/>
            </a:b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aft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project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uchEROS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 (Univ. Augsburg)</a:t>
            </a:r>
            <a:endParaRPr b="1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4513320"/>
            <a:ext cx="936360" cy="504720"/>
          </a:xfrm>
          <a:prstGeom prst="flowChartTerminator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H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nv. C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5450040"/>
            <a:ext cx="7631280" cy="528480"/>
          </a:xfrm>
          <a:prstGeom prst="hexagon">
            <a:avLst>
              <a:gd name="adj" fmla="val 4613"/>
              <a:gd name="vf" fmla="val 11547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Prediction using work histogram generated as emotion of compu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Optimization of training / Management of prefer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10160" y="5018040"/>
            <a:ext cx="360" cy="4190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722680" y="5004720"/>
            <a:ext cx="360" cy="4381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20720" y="4759200"/>
            <a:ext cx="438120" cy="180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2720" y="4513320"/>
            <a:ext cx="2449440" cy="504720"/>
          </a:xfrm>
          <a:prstGeom prst="hexagon">
            <a:avLst>
              <a:gd name="adj" fmla="val 0"/>
              <a:gd name="vf" fmla="val 11547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Feature 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Selection / Reduction</a:t>
            </a:r>
            <a:r>
              <a:rPr b="0" lang="de-DE" sz="1200" spc="-1" strike="noStrike">
                <a:solidFill>
                  <a:srgbClr val="ff9966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16560" y="4767120"/>
            <a:ext cx="342720" cy="180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265720" y="5015880"/>
            <a:ext cx="360" cy="4381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16480" y="5016600"/>
            <a:ext cx="360" cy="4316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61080" y="4513320"/>
            <a:ext cx="1655640" cy="504720"/>
          </a:xfrm>
          <a:prstGeom prst="hexagon">
            <a:avLst>
              <a:gd name="adj" fmla="val 22734"/>
              <a:gd name="vf" fmla="val 11547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ecff"/>
                </a:solidFill>
                <a:latin typeface="Arial"/>
              </a:rPr>
              <a:t>Classif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3578400"/>
            <a:ext cx="936360" cy="504720"/>
          </a:xfrm>
          <a:prstGeom prst="flowChartTerminator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H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iosig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20720" y="3824280"/>
            <a:ext cx="43812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2641680"/>
            <a:ext cx="936360" cy="504720"/>
          </a:xfrm>
          <a:prstGeom prst="flowChartTerminator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H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pee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20720" y="2887560"/>
            <a:ext cx="438120" cy="180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2720" y="3578400"/>
            <a:ext cx="934920" cy="504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Fe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Extra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27240" y="376884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2720" y="2641680"/>
            <a:ext cx="934920" cy="504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Fe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Extra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0200" y="283212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1704960"/>
            <a:ext cx="936360" cy="504720"/>
          </a:xfrm>
          <a:prstGeom prst="flowChartTerminator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CH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0720" y="1951200"/>
            <a:ext cx="43812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2720" y="1704960"/>
            <a:ext cx="934920" cy="504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Fe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ddddd"/>
                </a:solidFill>
                <a:latin typeface="Arial"/>
                <a:ea typeface="굴림"/>
              </a:rPr>
              <a:t>Extra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21080" y="2641680"/>
            <a:ext cx="1079640" cy="504720"/>
          </a:xfrm>
          <a:prstGeom prst="hexagon">
            <a:avLst>
              <a:gd name="adj" fmla="val 23579"/>
              <a:gd name="vf" fmla="val 11547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Classif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21080" y="3578400"/>
            <a:ext cx="1079640" cy="504720"/>
          </a:xfrm>
          <a:prstGeom prst="hexagon">
            <a:avLst>
              <a:gd name="adj" fmla="val 23579"/>
              <a:gd name="vf" fmla="val 11547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Classif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229440" y="4068720"/>
            <a:ext cx="360" cy="43200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41640" y="192096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1080" y="1704960"/>
            <a:ext cx="1079640" cy="504720"/>
          </a:xfrm>
          <a:prstGeom prst="hexagon">
            <a:avLst>
              <a:gd name="adj" fmla="val 23579"/>
              <a:gd name="vf" fmla="val 11547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ecff"/>
                </a:solidFill>
                <a:latin typeface="Arial"/>
                <a:ea typeface="굴림"/>
              </a:rPr>
              <a:t>Classif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9440" y="3822840"/>
            <a:ext cx="171360" cy="288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998800" y="1974960"/>
            <a:ext cx="206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98800" y="2887560"/>
            <a:ext cx="187200" cy="50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78080" y="2887560"/>
            <a:ext cx="1800" cy="92556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78080" y="1963800"/>
            <a:ext cx="1800" cy="9475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29120" y="2843280"/>
            <a:ext cx="109440" cy="1094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45000" y="376236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45000" y="283212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70400" y="4224240"/>
            <a:ext cx="360" cy="28728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57600" y="1917720"/>
            <a:ext cx="42228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4240" y="3822840"/>
            <a:ext cx="171360" cy="288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503600" y="1974960"/>
            <a:ext cx="206640" cy="14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03600" y="2887560"/>
            <a:ext cx="187560" cy="504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240" y="2887560"/>
            <a:ext cx="1440" cy="92556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3240" y="1963800"/>
            <a:ext cx="1440" cy="9475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33920" y="2843280"/>
            <a:ext cx="109440" cy="1094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4085280" y="2573640"/>
            <a:ext cx="2376360" cy="612720"/>
          </a:xfrm>
          <a:prstGeom prst="hexagon">
            <a:avLst>
              <a:gd name="adj" fmla="val 18135"/>
              <a:gd name="vf" fmla="val 11547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587920" y="2424960"/>
            <a:ext cx="362160" cy="36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587920" y="3288600"/>
            <a:ext cx="362160" cy="36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0360" y="1717560"/>
            <a:ext cx="576360" cy="235440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22920" y="3071880"/>
            <a:ext cx="1224000" cy="12240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702480" y="3431880"/>
            <a:ext cx="1608120" cy="181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37320" y="2928960"/>
            <a:ext cx="0" cy="120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56520" y="3289320"/>
            <a:ext cx="520560" cy="423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54920" y="3444840"/>
            <a:ext cx="69840" cy="69840"/>
          </a:xfrm>
          <a:prstGeom prst="ellips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991640" y="3216240"/>
            <a:ext cx="101520" cy="101520"/>
          </a:xfrm>
          <a:prstGeom prst="ellipse">
            <a:avLst/>
          </a:prstGeom>
          <a:solidFill>
            <a:srgbClr val="b2c5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9640" y="3417840"/>
            <a:ext cx="85680" cy="85680"/>
          </a:xfrm>
          <a:prstGeom prst="ellipse">
            <a:avLst/>
          </a:prstGeom>
          <a:solidFill>
            <a:srgbClr val="799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70920" y="3995640"/>
            <a:ext cx="83880" cy="84240"/>
          </a:xfrm>
          <a:prstGeom prst="ellipse">
            <a:avLst/>
          </a:prstGeom>
          <a:solidFill>
            <a:srgbClr val="799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415280" y="3362400"/>
            <a:ext cx="69840" cy="69840"/>
          </a:xfrm>
          <a:prstGeom prst="ellipse">
            <a:avLst/>
          </a:prstGeom>
          <a:solidFill>
            <a:srgbClr val="224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184880" y="40338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굴림"/>
              </a:rPr>
              <a:t>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66560" y="34290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굴림"/>
              </a:rPr>
              <a:t>plea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94200" y="314496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굴림"/>
              </a:rPr>
              <a:t>arou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68360" y="45846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Arial"/>
                <a:ea typeface="굴림"/>
              </a:rPr>
              <a:t>Emotion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3480" y="2006640"/>
            <a:ext cx="1728720" cy="360360"/>
          </a:xfrm>
          <a:prstGeom prst="flowChartDisplay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ff6600"/>
                </a:solidFill>
                <a:latin typeface="Arial"/>
              </a:rPr>
              <a:t>E (a,p,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4111200" y="259236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ecff"/>
                </a:solidFill>
                <a:latin typeface="Arial"/>
                <a:ea typeface="굴림"/>
              </a:rPr>
              <a:t>Rule/Fuzzy Ba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ecff"/>
                </a:solidFill>
                <a:latin typeface="Arial"/>
                <a:ea typeface="굴림"/>
              </a:rPr>
              <a:t>Dec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5209560" y="272124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6600"/>
                </a:solidFill>
                <a:latin typeface="Arial"/>
              </a:rPr>
              <a:t>Weighted Deci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74840" y="3844800"/>
            <a:ext cx="360" cy="6685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9120" y="3757680"/>
            <a:ext cx="109440" cy="1094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668120" y="4229280"/>
            <a:ext cx="601560" cy="936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91160" y="3813120"/>
            <a:ext cx="360" cy="411120"/>
          </a:xfrm>
          <a:prstGeom prst="line">
            <a:avLst/>
          </a:prstGeom>
          <a:noFill/>
          <a:ln w="38160">
            <a:solidFill>
              <a:srgbClr val="c2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4152960"/>
            <a:ext cx="143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6600"/>
                </a:solidFill>
                <a:latin typeface="Arial"/>
              </a:rPr>
              <a:t>Decision Feature S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33920" y="3757680"/>
            <a:ext cx="109440" cy="109440"/>
          </a:xfrm>
          <a:prstGeom prst="flowChartSummingJunction">
            <a:avLst/>
          </a:prstGeom>
          <a:solidFill>
            <a:srgbClr val="0000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308720" y="3646440"/>
            <a:ext cx="69840" cy="69840"/>
          </a:xfrm>
          <a:prstGeom prst="ellipse">
            <a:avLst/>
          </a:prstGeom>
          <a:solidFill>
            <a:srgbClr val="152b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2209320"/>
            <a:ext cx="60199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hank you !</a:t>
            </a: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Understanding Emotion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motion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phenomenon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, but a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construc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Components of emotion: cognitive processes, subjective feelings, physiological arousal, behavioral reaction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90720" y="2971800"/>
          <a:ext cx="723888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971800"/>
                    <a:ext cx="72388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Affect, Mood, and Emotion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Emotion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: a concept involving three component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Subjective experience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Expressions (audiovisual: face, gesture, posture, voice intonation, breathing noise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Biological arousal (ANS: heart rate, respiration frequency/intensity, perspiration, temperature, muscle tension, brain wave) 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Affect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: some more than emotions, including personality factors and mood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: long-term emotional state, typically global and very variable over the time, dominates the intensity of each short-term emotional states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7045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Emotion Models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43200" y="1987200"/>
            <a:ext cx="1440" cy="3197160"/>
          </a:xfrm>
          <a:prstGeom prst="line">
            <a:avLst/>
          </a:prstGeom>
          <a:ln w="19080">
            <a:solidFill>
              <a:srgbClr val="d1d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0560" y="3587760"/>
            <a:ext cx="3363840" cy="9360"/>
          </a:xfrm>
          <a:prstGeom prst="line">
            <a:avLst/>
          </a:prstGeom>
          <a:ln w="19080">
            <a:solidFill>
              <a:srgbClr val="d1d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29480" y="16956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4d9"/>
                </a:solidFill>
                <a:latin typeface="Arial"/>
              </a:rPr>
              <a:t>High arou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56400" y="518472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4d9"/>
                </a:solidFill>
                <a:latin typeface="Arial"/>
              </a:rPr>
              <a:t>Low arou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87120" y="35971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4d9"/>
                </a:solidFill>
                <a:latin typeface="Arial"/>
              </a:rPr>
              <a:t>Nega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93960" y="359712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4d9"/>
                </a:solidFill>
                <a:latin typeface="Arial"/>
              </a:rPr>
              <a:t>Posi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87480" y="20383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T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10960" y="21337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gi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98320" y="46944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ourn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21960" y="4548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66"/>
                </a:solidFill>
                <a:latin typeface="Arial"/>
              </a:rPr>
              <a:t>Bli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39240" y="250020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66"/>
                </a:solidFill>
                <a:latin typeface="Arial"/>
              </a:rPr>
              <a:t>Excited Anticip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2200" y="26463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Distres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5600" y="396252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Disgu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560" y="38671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66"/>
                </a:solidFill>
                <a:latin typeface="Arial"/>
              </a:rPr>
              <a:t>Relax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affect-space-web" descr=""/>
          <p:cNvPicPr/>
          <p:nvPr/>
        </p:nvPicPr>
        <p:blipFill>
          <a:blip r:embed="rId2"/>
          <a:stretch/>
        </p:blipFill>
        <p:spPr>
          <a:xfrm>
            <a:off x="4645080" y="1819440"/>
            <a:ext cx="35845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2209320"/>
            <a:ext cx="601992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Using Biosensors</a:t>
            </a:r>
            <a:endParaRPr b="1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74678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eb"/>
                </a:solidFill>
                <a:latin typeface="Arial"/>
              </a:rPr>
              <a:t>Different emotional expressions produce different changes in autonomic activity:</a:t>
            </a:r>
            <a:endParaRPr b="0" lang="en-US" sz="25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b"/>
                </a:solidFill>
                <a:latin typeface="Arial"/>
              </a:rPr>
              <a:t>Anger: increased heart rate and skin temperatu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b"/>
                </a:solidFill>
                <a:latin typeface="Arial"/>
              </a:rPr>
              <a:t>Fear: increased heart rate, decreased skin temperatu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b"/>
                </a:solidFill>
                <a:latin typeface="Arial"/>
              </a:rPr>
              <a:t>Happiness: decreased heart rate, no change in skin temperature</a:t>
            </a:r>
            <a:endParaRPr b="0" lang="en-US" sz="2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Continuous data collectio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Robust against human social artifac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Easily integrated with external channels (face and speech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Arial"/>
              </a:rPr>
              <a:t>Why Biosignal ?</a:t>
            </a:r>
            <a:endParaRPr b="1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12:58:45Z</dcterms:created>
  <dc:creator>Jonghwa Kim</dc:creator>
  <dc:description/>
  <dc:language>en-US</dc:language>
  <cp:lastModifiedBy>Jonghwa Kim</cp:lastModifiedBy>
  <dcterms:modified xsi:type="dcterms:W3CDTF">2004-09-19T14:18:01Z</dcterms:modified>
  <cp:revision>77</cp:revision>
  <dc:subject/>
  <dc:title>Emotion Recognition for Affective HCI: An Overview</dc:title>
</cp:coreProperties>
</file>