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jpeg" ContentType="image/jpeg"/>
  <Override PartName="/ppt/media/image20.png" ContentType="image/png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10288588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i="1" lang="en-US" sz="1000" spc="-1" strike="noStrike">
                <a:solidFill>
                  <a:srgbClr val="ff33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914040" y="719280"/>
            <a:ext cx="5195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73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i="1" lang="en-US" sz="1000" spc="-1" strike="noStrike">
                <a:solidFill>
                  <a:srgbClr val="ff33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i="1" lang="en-US" sz="1000" spc="-1" strike="noStrike">
                <a:solidFill>
                  <a:srgbClr val="ff33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D31CF2-3AA4-4572-97E8-E4CCAB16CA1F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979800" y="0"/>
            <a:ext cx="3043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0D82AF-12A7-4BE9-A34C-EFCCAD35E71C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4B1882-7CC4-4937-A69B-CAD6E9DDDBAE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FEF9F1-8BB9-45D2-9BE1-2146860DE2AA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138A42-F1BA-427E-85E8-0FF52F7C18E6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2EC941-BDEC-4B25-BAAC-09BD76F62265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CAEEF8-42FA-4964-A2E4-8C3A215F7C4D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31FD7A-86E6-4EB3-8FB3-35DAE46CFC75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C1AE1E-9F1E-4F09-865A-4113AE0AC957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979800" y="0"/>
            <a:ext cx="3043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0C9-D0CB-442A-9FD1-61075B3C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28556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264-3EF6-475D-96D1-C540AB03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76648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385-8456-4D11-9C59-207523E0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4188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19820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2855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24188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719820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3A5-D9B7-4EA7-9413-D63DF9BF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8D4F-940C-432C-8525-E5BA5F80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BA20-BBC7-4E8F-8B4F-9C2647D5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53D-FCC0-4D41-943E-7AAB1DF6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0CA0-FE0B-46FB-9683-9D0B1D5B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0C35-9618-4F62-A8CA-540C88D8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8556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BDF0-07E6-44BC-B6C4-5992EE93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B3A5-6CD6-4A98-990E-8515F09E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072-3CBE-4DEE-A660-03CBBBD9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6648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08E5-4FDB-441C-A20C-4EBC9AB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2AD1-D22A-4DEE-B98A-9DB9483E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28556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C07E-17EC-4CEE-B23B-0DB74DB8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76648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DC56-0652-495B-B685-AD3ACF65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4188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19820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2855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424188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719820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FC92-4824-43B4-AD0D-F9E1491D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32E-7E91-495A-ABBC-DC9129B9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F00-8B1E-48EF-978D-D60F7581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755-CA2A-4B15-814F-FBB6E7EE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8556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957-9587-4440-844E-EFBB0D0D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C64-D994-4719-B7F7-E2AC8F5C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76648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46C-15F6-4FDD-8CA8-6FDEE9E2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670-38C3-4EB1-B49F-0043A84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20760" cy="6854760"/>
            <a:chOff x="0" y="0"/>
            <a:chExt cx="1220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20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85680" y="162000"/>
              <a:ext cx="171360" cy="6553080"/>
              <a:chOff x="85680" y="162000"/>
              <a:chExt cx="17136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85680" y="175428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5680" y="19843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5680" y="221148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680" y="24415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680" y="2671920"/>
                <a:ext cx="17136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680" y="289872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5680" y="31291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680" y="33577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680" y="35863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680" y="381492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680" y="404496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680" y="427356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680" y="45021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680" y="473076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5680" y="49593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680" y="518940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5680" y="54165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5680" y="5646600"/>
                <a:ext cx="17136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680" y="587700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680" y="610380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5680" y="633420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5680" y="656100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5680" y="16200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5680" y="39060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680" y="620640"/>
                <a:ext cx="17136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5680" y="84924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5680" y="1077840"/>
                <a:ext cx="17136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5680" y="130644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5680" y="153684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28556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2876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886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2394-8B7E-473C-9860-FEC9A9532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220760" cy="6854760"/>
            <a:chOff x="0" y="0"/>
            <a:chExt cx="1220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220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85680" y="163440"/>
              <a:ext cx="171360" cy="6550200"/>
              <a:chOff x="85680" y="163440"/>
              <a:chExt cx="17136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85680" y="175428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5680" y="198432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5680" y="221148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5680" y="244152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5680" y="2671920"/>
                <a:ext cx="17136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680" y="28987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680" y="31291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680" y="3359160"/>
                <a:ext cx="17136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5680" y="35863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5680" y="381636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5680" y="4046400"/>
                <a:ext cx="17136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5680" y="427212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5680" y="45021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5680" y="472932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5680" y="49593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5680" y="518940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5680" y="54165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5680" y="564660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5680" y="587700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680" y="610380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5680" y="633420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680" y="656280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680" y="163440"/>
                <a:ext cx="17136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5680" y="39060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680" y="620640"/>
                <a:ext cx="17136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5680" y="84924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5680" y="107640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680" y="130644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5680" y="153684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556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28556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402876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886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6685-166C-4467-A8C6-BF4FEC6BA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5560" y="1294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BLEEDING DISOR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084120" y="2513160"/>
            <a:ext cx="7201080" cy="83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95920" y="411480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667560" y="29718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453360" y="5562720"/>
            <a:ext cx="1433520" cy="1065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896160" y="1905120"/>
            <a:ext cx="30492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09240" y="1142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Flexure"/>
              </a:rPr>
              <a:t>FIBRINOLYTIC PHA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057040" y="25146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LOTTING MECHANISMS ARE ACTIVATED TO ALLOW CLOT DISINTEGRATION AND REPAIR OF THE DAMAGED VESS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HEMOSTASI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Flexure"/>
              </a:rPr>
              <a:t>DEPENDENT UPON</a:t>
            </a:r>
            <a:r>
              <a:rPr b="0" lang="en-US" sz="4000" spc="-1" strike="noStrike">
                <a:solidFill>
                  <a:srgbClr val="00ff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ssel Wall Integr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equate Numbers of Platel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er Functioning Platel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equate Levels of Clotting Fac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er Function of Fibrinolytic Path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LABORATORY EVALU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LET 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EDING TIME (B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HROMBIN TIME (P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THROMBOPLASTIN TIME (PT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MBIN TIME (T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PLATELET COU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,000 - 400,0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S/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,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rombocyt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,000 - 10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ff"/>
                </a:solidFill>
                <a:latin typeface="Arial"/>
              </a:rPr>
              <a:t>Mild Thrombocyt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,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ev Thrombocyt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BLEEDING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SSESSMENT OF PLATELET COUNT AND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RMAL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8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36264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8592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PROTHROMBIN TIM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859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Effectiveness of the Extrinsic Path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emonic - P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RMAL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-15 S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36264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Flexure"/>
              </a:rPr>
              <a:t>PARTIAL THROMBOPLASTIN TIM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Effectiveness of the Intrins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emonic - PI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515280" y="434340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552680" y="4751280"/>
            <a:ext cx="33717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RMAL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-40 S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28592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Flexure"/>
              </a:rPr>
              <a:t>THROMBIN TIM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859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for Thrombin To Conver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rinogen                 Fib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asure of Fibrinolytic Path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72080" y="2819520"/>
            <a:ext cx="15238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515280" y="434340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552680" y="4751280"/>
            <a:ext cx="33717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RMAL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-13 S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So What Causes Bleeding Disorders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85560" y="23623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VESSEL DE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LET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OR DEFICI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39160" y="2679840"/>
            <a:ext cx="1800000" cy="1574640"/>
          </a:xfrm>
          <a:custGeom>
            <a:avLst/>
            <a:gdLst/>
            <a:ahLst/>
            <a:rect l="l" t="t" r="r" b="b"/>
            <a:pathLst>
              <a:path w="1134" h="992">
                <a:moveTo>
                  <a:pt x="0" y="372"/>
                </a:moveTo>
                <a:lnTo>
                  <a:pt x="0" y="347"/>
                </a:lnTo>
                <a:lnTo>
                  <a:pt x="0" y="330"/>
                </a:lnTo>
                <a:lnTo>
                  <a:pt x="0" y="313"/>
                </a:lnTo>
                <a:lnTo>
                  <a:pt x="8" y="296"/>
                </a:lnTo>
                <a:lnTo>
                  <a:pt x="8" y="280"/>
                </a:lnTo>
                <a:lnTo>
                  <a:pt x="17" y="263"/>
                </a:lnTo>
                <a:lnTo>
                  <a:pt x="26" y="246"/>
                </a:lnTo>
                <a:lnTo>
                  <a:pt x="34" y="229"/>
                </a:lnTo>
                <a:lnTo>
                  <a:pt x="43" y="212"/>
                </a:lnTo>
                <a:lnTo>
                  <a:pt x="51" y="195"/>
                </a:lnTo>
                <a:lnTo>
                  <a:pt x="69" y="187"/>
                </a:lnTo>
                <a:lnTo>
                  <a:pt x="77" y="170"/>
                </a:lnTo>
                <a:lnTo>
                  <a:pt x="95" y="162"/>
                </a:lnTo>
                <a:lnTo>
                  <a:pt x="103" y="145"/>
                </a:lnTo>
                <a:lnTo>
                  <a:pt x="120" y="136"/>
                </a:lnTo>
                <a:lnTo>
                  <a:pt x="138" y="118"/>
                </a:lnTo>
                <a:lnTo>
                  <a:pt x="146" y="110"/>
                </a:lnTo>
                <a:lnTo>
                  <a:pt x="164" y="102"/>
                </a:lnTo>
                <a:lnTo>
                  <a:pt x="181" y="93"/>
                </a:lnTo>
                <a:lnTo>
                  <a:pt x="199" y="85"/>
                </a:lnTo>
                <a:lnTo>
                  <a:pt x="216" y="76"/>
                </a:lnTo>
                <a:lnTo>
                  <a:pt x="242" y="68"/>
                </a:lnTo>
                <a:lnTo>
                  <a:pt x="260" y="59"/>
                </a:lnTo>
                <a:lnTo>
                  <a:pt x="277" y="51"/>
                </a:lnTo>
                <a:lnTo>
                  <a:pt x="294" y="43"/>
                </a:lnTo>
                <a:lnTo>
                  <a:pt x="311" y="34"/>
                </a:lnTo>
                <a:lnTo>
                  <a:pt x="337" y="34"/>
                </a:lnTo>
                <a:lnTo>
                  <a:pt x="355" y="26"/>
                </a:lnTo>
                <a:lnTo>
                  <a:pt x="372" y="26"/>
                </a:lnTo>
                <a:lnTo>
                  <a:pt x="389" y="17"/>
                </a:lnTo>
                <a:lnTo>
                  <a:pt x="415" y="17"/>
                </a:lnTo>
                <a:lnTo>
                  <a:pt x="432" y="9"/>
                </a:lnTo>
                <a:lnTo>
                  <a:pt x="449" y="9"/>
                </a:lnTo>
                <a:lnTo>
                  <a:pt x="475" y="9"/>
                </a:lnTo>
                <a:lnTo>
                  <a:pt x="493" y="0"/>
                </a:lnTo>
                <a:lnTo>
                  <a:pt x="510" y="0"/>
                </a:lnTo>
                <a:lnTo>
                  <a:pt x="527" y="0"/>
                </a:lnTo>
                <a:lnTo>
                  <a:pt x="544" y="0"/>
                </a:lnTo>
                <a:lnTo>
                  <a:pt x="562" y="0"/>
                </a:lnTo>
                <a:lnTo>
                  <a:pt x="562" y="0"/>
                </a:lnTo>
                <a:lnTo>
                  <a:pt x="589" y="0"/>
                </a:lnTo>
                <a:lnTo>
                  <a:pt x="606" y="0"/>
                </a:lnTo>
                <a:lnTo>
                  <a:pt x="632" y="0"/>
                </a:lnTo>
                <a:lnTo>
                  <a:pt x="658" y="9"/>
                </a:lnTo>
                <a:lnTo>
                  <a:pt x="683" y="9"/>
                </a:lnTo>
                <a:lnTo>
                  <a:pt x="709" y="9"/>
                </a:lnTo>
                <a:lnTo>
                  <a:pt x="727" y="17"/>
                </a:lnTo>
                <a:lnTo>
                  <a:pt x="753" y="17"/>
                </a:lnTo>
                <a:lnTo>
                  <a:pt x="778" y="26"/>
                </a:lnTo>
                <a:lnTo>
                  <a:pt x="804" y="34"/>
                </a:lnTo>
                <a:lnTo>
                  <a:pt x="830" y="43"/>
                </a:lnTo>
                <a:lnTo>
                  <a:pt x="847" y="51"/>
                </a:lnTo>
                <a:lnTo>
                  <a:pt x="873" y="59"/>
                </a:lnTo>
                <a:lnTo>
                  <a:pt x="899" y="68"/>
                </a:lnTo>
                <a:lnTo>
                  <a:pt x="925" y="76"/>
                </a:lnTo>
                <a:lnTo>
                  <a:pt x="942" y="85"/>
                </a:lnTo>
                <a:lnTo>
                  <a:pt x="969" y="102"/>
                </a:lnTo>
                <a:lnTo>
                  <a:pt x="987" y="110"/>
                </a:lnTo>
                <a:lnTo>
                  <a:pt x="1004" y="128"/>
                </a:lnTo>
                <a:lnTo>
                  <a:pt x="1021" y="136"/>
                </a:lnTo>
                <a:lnTo>
                  <a:pt x="1038" y="153"/>
                </a:lnTo>
                <a:lnTo>
                  <a:pt x="1056" y="170"/>
                </a:lnTo>
                <a:lnTo>
                  <a:pt x="1073" y="187"/>
                </a:lnTo>
                <a:lnTo>
                  <a:pt x="1090" y="204"/>
                </a:lnTo>
                <a:lnTo>
                  <a:pt x="1099" y="221"/>
                </a:lnTo>
                <a:lnTo>
                  <a:pt x="1107" y="237"/>
                </a:lnTo>
                <a:lnTo>
                  <a:pt x="1116" y="263"/>
                </a:lnTo>
                <a:lnTo>
                  <a:pt x="1125" y="280"/>
                </a:lnTo>
                <a:lnTo>
                  <a:pt x="1133" y="296"/>
                </a:lnTo>
                <a:lnTo>
                  <a:pt x="1133" y="322"/>
                </a:lnTo>
                <a:lnTo>
                  <a:pt x="1133" y="347"/>
                </a:lnTo>
                <a:lnTo>
                  <a:pt x="1133" y="372"/>
                </a:lnTo>
                <a:lnTo>
                  <a:pt x="1133" y="372"/>
                </a:lnTo>
                <a:lnTo>
                  <a:pt x="1133" y="381"/>
                </a:lnTo>
                <a:lnTo>
                  <a:pt x="1133" y="399"/>
                </a:lnTo>
                <a:lnTo>
                  <a:pt x="1125" y="416"/>
                </a:lnTo>
                <a:lnTo>
                  <a:pt x="1125" y="424"/>
                </a:lnTo>
                <a:lnTo>
                  <a:pt x="1116" y="441"/>
                </a:lnTo>
                <a:lnTo>
                  <a:pt x="1116" y="449"/>
                </a:lnTo>
                <a:lnTo>
                  <a:pt x="1107" y="458"/>
                </a:lnTo>
                <a:lnTo>
                  <a:pt x="1099" y="475"/>
                </a:lnTo>
                <a:lnTo>
                  <a:pt x="1090" y="483"/>
                </a:lnTo>
                <a:lnTo>
                  <a:pt x="1082" y="500"/>
                </a:lnTo>
                <a:lnTo>
                  <a:pt x="1073" y="508"/>
                </a:lnTo>
                <a:lnTo>
                  <a:pt x="1064" y="517"/>
                </a:lnTo>
                <a:lnTo>
                  <a:pt x="1056" y="525"/>
                </a:lnTo>
                <a:lnTo>
                  <a:pt x="1047" y="542"/>
                </a:lnTo>
                <a:lnTo>
                  <a:pt x="1038" y="550"/>
                </a:lnTo>
                <a:lnTo>
                  <a:pt x="1030" y="559"/>
                </a:lnTo>
                <a:lnTo>
                  <a:pt x="1012" y="567"/>
                </a:lnTo>
                <a:lnTo>
                  <a:pt x="1004" y="576"/>
                </a:lnTo>
                <a:lnTo>
                  <a:pt x="995" y="584"/>
                </a:lnTo>
                <a:lnTo>
                  <a:pt x="978" y="593"/>
                </a:lnTo>
                <a:lnTo>
                  <a:pt x="969" y="601"/>
                </a:lnTo>
                <a:lnTo>
                  <a:pt x="952" y="609"/>
                </a:lnTo>
                <a:lnTo>
                  <a:pt x="942" y="618"/>
                </a:lnTo>
                <a:lnTo>
                  <a:pt x="934" y="626"/>
                </a:lnTo>
                <a:lnTo>
                  <a:pt x="916" y="635"/>
                </a:lnTo>
                <a:lnTo>
                  <a:pt x="908" y="643"/>
                </a:lnTo>
                <a:lnTo>
                  <a:pt x="899" y="652"/>
                </a:lnTo>
                <a:lnTo>
                  <a:pt x="882" y="652"/>
                </a:lnTo>
                <a:lnTo>
                  <a:pt x="873" y="661"/>
                </a:lnTo>
                <a:lnTo>
                  <a:pt x="865" y="669"/>
                </a:lnTo>
                <a:lnTo>
                  <a:pt x="847" y="678"/>
                </a:lnTo>
                <a:lnTo>
                  <a:pt x="839" y="678"/>
                </a:lnTo>
                <a:lnTo>
                  <a:pt x="830" y="686"/>
                </a:lnTo>
                <a:lnTo>
                  <a:pt x="822" y="695"/>
                </a:lnTo>
                <a:lnTo>
                  <a:pt x="813" y="703"/>
                </a:lnTo>
                <a:lnTo>
                  <a:pt x="804" y="703"/>
                </a:lnTo>
                <a:lnTo>
                  <a:pt x="796" y="712"/>
                </a:lnTo>
                <a:lnTo>
                  <a:pt x="787" y="720"/>
                </a:lnTo>
                <a:lnTo>
                  <a:pt x="778" y="720"/>
                </a:lnTo>
                <a:lnTo>
                  <a:pt x="778" y="720"/>
                </a:lnTo>
                <a:lnTo>
                  <a:pt x="778" y="728"/>
                </a:lnTo>
                <a:lnTo>
                  <a:pt x="770" y="737"/>
                </a:lnTo>
                <a:lnTo>
                  <a:pt x="761" y="745"/>
                </a:lnTo>
                <a:lnTo>
                  <a:pt x="753" y="745"/>
                </a:lnTo>
                <a:lnTo>
                  <a:pt x="744" y="754"/>
                </a:lnTo>
                <a:lnTo>
                  <a:pt x="744" y="762"/>
                </a:lnTo>
                <a:lnTo>
                  <a:pt x="735" y="771"/>
                </a:lnTo>
                <a:lnTo>
                  <a:pt x="735" y="779"/>
                </a:lnTo>
                <a:lnTo>
                  <a:pt x="727" y="779"/>
                </a:lnTo>
                <a:lnTo>
                  <a:pt x="727" y="787"/>
                </a:lnTo>
                <a:lnTo>
                  <a:pt x="727" y="796"/>
                </a:lnTo>
                <a:lnTo>
                  <a:pt x="718" y="796"/>
                </a:lnTo>
                <a:lnTo>
                  <a:pt x="718" y="804"/>
                </a:lnTo>
                <a:lnTo>
                  <a:pt x="718" y="813"/>
                </a:lnTo>
                <a:lnTo>
                  <a:pt x="718" y="821"/>
                </a:lnTo>
                <a:lnTo>
                  <a:pt x="718" y="830"/>
                </a:lnTo>
                <a:lnTo>
                  <a:pt x="718" y="830"/>
                </a:lnTo>
                <a:lnTo>
                  <a:pt x="718" y="838"/>
                </a:lnTo>
                <a:lnTo>
                  <a:pt x="718" y="846"/>
                </a:lnTo>
                <a:lnTo>
                  <a:pt x="709" y="855"/>
                </a:lnTo>
                <a:lnTo>
                  <a:pt x="709" y="863"/>
                </a:lnTo>
                <a:lnTo>
                  <a:pt x="709" y="872"/>
                </a:lnTo>
                <a:lnTo>
                  <a:pt x="709" y="880"/>
                </a:lnTo>
                <a:lnTo>
                  <a:pt x="709" y="889"/>
                </a:lnTo>
                <a:lnTo>
                  <a:pt x="709" y="897"/>
                </a:lnTo>
                <a:lnTo>
                  <a:pt x="709" y="905"/>
                </a:lnTo>
                <a:lnTo>
                  <a:pt x="709" y="922"/>
                </a:lnTo>
                <a:lnTo>
                  <a:pt x="709" y="932"/>
                </a:lnTo>
                <a:lnTo>
                  <a:pt x="709" y="940"/>
                </a:lnTo>
                <a:lnTo>
                  <a:pt x="709" y="957"/>
                </a:lnTo>
                <a:lnTo>
                  <a:pt x="709" y="965"/>
                </a:lnTo>
                <a:lnTo>
                  <a:pt x="709" y="982"/>
                </a:lnTo>
                <a:lnTo>
                  <a:pt x="709" y="991"/>
                </a:lnTo>
                <a:lnTo>
                  <a:pt x="709" y="991"/>
                </a:lnTo>
                <a:lnTo>
                  <a:pt x="355" y="991"/>
                </a:lnTo>
                <a:lnTo>
                  <a:pt x="355" y="863"/>
                </a:lnTo>
                <a:lnTo>
                  <a:pt x="363" y="779"/>
                </a:lnTo>
                <a:lnTo>
                  <a:pt x="372" y="737"/>
                </a:lnTo>
                <a:lnTo>
                  <a:pt x="389" y="712"/>
                </a:lnTo>
                <a:lnTo>
                  <a:pt x="415" y="686"/>
                </a:lnTo>
                <a:lnTo>
                  <a:pt x="415" y="686"/>
                </a:lnTo>
                <a:lnTo>
                  <a:pt x="415" y="686"/>
                </a:lnTo>
                <a:lnTo>
                  <a:pt x="424" y="678"/>
                </a:lnTo>
                <a:lnTo>
                  <a:pt x="432" y="669"/>
                </a:lnTo>
                <a:lnTo>
                  <a:pt x="441" y="669"/>
                </a:lnTo>
                <a:lnTo>
                  <a:pt x="441" y="661"/>
                </a:lnTo>
                <a:lnTo>
                  <a:pt x="449" y="652"/>
                </a:lnTo>
                <a:lnTo>
                  <a:pt x="458" y="643"/>
                </a:lnTo>
                <a:lnTo>
                  <a:pt x="467" y="643"/>
                </a:lnTo>
                <a:lnTo>
                  <a:pt x="475" y="635"/>
                </a:lnTo>
                <a:lnTo>
                  <a:pt x="484" y="626"/>
                </a:lnTo>
                <a:lnTo>
                  <a:pt x="493" y="618"/>
                </a:lnTo>
                <a:lnTo>
                  <a:pt x="510" y="609"/>
                </a:lnTo>
                <a:lnTo>
                  <a:pt x="518" y="601"/>
                </a:lnTo>
                <a:lnTo>
                  <a:pt x="536" y="593"/>
                </a:lnTo>
                <a:lnTo>
                  <a:pt x="544" y="576"/>
                </a:lnTo>
                <a:lnTo>
                  <a:pt x="562" y="567"/>
                </a:lnTo>
                <a:lnTo>
                  <a:pt x="580" y="559"/>
                </a:lnTo>
                <a:lnTo>
                  <a:pt x="597" y="550"/>
                </a:lnTo>
                <a:lnTo>
                  <a:pt x="614" y="534"/>
                </a:lnTo>
                <a:lnTo>
                  <a:pt x="614" y="534"/>
                </a:lnTo>
                <a:lnTo>
                  <a:pt x="623" y="534"/>
                </a:lnTo>
                <a:lnTo>
                  <a:pt x="632" y="525"/>
                </a:lnTo>
                <a:lnTo>
                  <a:pt x="649" y="517"/>
                </a:lnTo>
                <a:lnTo>
                  <a:pt x="658" y="508"/>
                </a:lnTo>
                <a:lnTo>
                  <a:pt x="666" y="508"/>
                </a:lnTo>
                <a:lnTo>
                  <a:pt x="666" y="500"/>
                </a:lnTo>
                <a:lnTo>
                  <a:pt x="675" y="491"/>
                </a:lnTo>
                <a:lnTo>
                  <a:pt x="683" y="491"/>
                </a:lnTo>
                <a:lnTo>
                  <a:pt x="692" y="483"/>
                </a:lnTo>
                <a:lnTo>
                  <a:pt x="701" y="483"/>
                </a:lnTo>
                <a:lnTo>
                  <a:pt x="709" y="475"/>
                </a:lnTo>
                <a:lnTo>
                  <a:pt x="709" y="466"/>
                </a:lnTo>
                <a:lnTo>
                  <a:pt x="718" y="466"/>
                </a:lnTo>
                <a:lnTo>
                  <a:pt x="727" y="458"/>
                </a:lnTo>
                <a:lnTo>
                  <a:pt x="727" y="449"/>
                </a:lnTo>
                <a:lnTo>
                  <a:pt x="735" y="449"/>
                </a:lnTo>
                <a:lnTo>
                  <a:pt x="735" y="441"/>
                </a:lnTo>
                <a:lnTo>
                  <a:pt x="744" y="441"/>
                </a:lnTo>
                <a:lnTo>
                  <a:pt x="744" y="432"/>
                </a:lnTo>
                <a:lnTo>
                  <a:pt x="753" y="432"/>
                </a:lnTo>
                <a:lnTo>
                  <a:pt x="753" y="424"/>
                </a:lnTo>
                <a:lnTo>
                  <a:pt x="761" y="424"/>
                </a:lnTo>
                <a:lnTo>
                  <a:pt x="761" y="416"/>
                </a:lnTo>
                <a:lnTo>
                  <a:pt x="761" y="416"/>
                </a:lnTo>
                <a:lnTo>
                  <a:pt x="770" y="407"/>
                </a:lnTo>
                <a:lnTo>
                  <a:pt x="770" y="407"/>
                </a:lnTo>
                <a:lnTo>
                  <a:pt x="770" y="399"/>
                </a:lnTo>
                <a:lnTo>
                  <a:pt x="770" y="399"/>
                </a:lnTo>
                <a:lnTo>
                  <a:pt x="778" y="399"/>
                </a:lnTo>
                <a:lnTo>
                  <a:pt x="778" y="389"/>
                </a:lnTo>
                <a:lnTo>
                  <a:pt x="778" y="389"/>
                </a:lnTo>
                <a:lnTo>
                  <a:pt x="778" y="381"/>
                </a:lnTo>
                <a:lnTo>
                  <a:pt x="778" y="381"/>
                </a:lnTo>
                <a:lnTo>
                  <a:pt x="778" y="372"/>
                </a:lnTo>
                <a:lnTo>
                  <a:pt x="778" y="372"/>
                </a:lnTo>
                <a:lnTo>
                  <a:pt x="778" y="372"/>
                </a:lnTo>
                <a:lnTo>
                  <a:pt x="778" y="364"/>
                </a:lnTo>
                <a:lnTo>
                  <a:pt x="778" y="364"/>
                </a:lnTo>
                <a:lnTo>
                  <a:pt x="778" y="364"/>
                </a:lnTo>
                <a:lnTo>
                  <a:pt x="770" y="322"/>
                </a:lnTo>
                <a:lnTo>
                  <a:pt x="718" y="288"/>
                </a:lnTo>
                <a:lnTo>
                  <a:pt x="580" y="271"/>
                </a:lnTo>
                <a:lnTo>
                  <a:pt x="580" y="271"/>
                </a:lnTo>
                <a:lnTo>
                  <a:pt x="536" y="271"/>
                </a:lnTo>
                <a:lnTo>
                  <a:pt x="501" y="271"/>
                </a:lnTo>
                <a:lnTo>
                  <a:pt x="467" y="271"/>
                </a:lnTo>
                <a:lnTo>
                  <a:pt x="432" y="280"/>
                </a:lnTo>
                <a:lnTo>
                  <a:pt x="406" y="288"/>
                </a:lnTo>
                <a:lnTo>
                  <a:pt x="389" y="296"/>
                </a:lnTo>
                <a:lnTo>
                  <a:pt x="372" y="305"/>
                </a:lnTo>
                <a:lnTo>
                  <a:pt x="355" y="313"/>
                </a:lnTo>
                <a:lnTo>
                  <a:pt x="346" y="322"/>
                </a:lnTo>
                <a:lnTo>
                  <a:pt x="337" y="330"/>
                </a:lnTo>
                <a:lnTo>
                  <a:pt x="337" y="347"/>
                </a:lnTo>
                <a:lnTo>
                  <a:pt x="329" y="355"/>
                </a:lnTo>
                <a:lnTo>
                  <a:pt x="329" y="372"/>
                </a:lnTo>
                <a:lnTo>
                  <a:pt x="329" y="372"/>
                </a:lnTo>
                <a:lnTo>
                  <a:pt x="0" y="372"/>
                </a:lnTo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15160" y="4346640"/>
            <a:ext cx="550800" cy="431640"/>
          </a:xfrm>
          <a:custGeom>
            <a:avLst/>
            <a:gdLst/>
            <a:ahLst/>
            <a:rect l="l" t="t" r="r" b="b"/>
            <a:pathLst>
              <a:path w="347" h="272">
                <a:moveTo>
                  <a:pt x="173" y="271"/>
                </a:moveTo>
                <a:lnTo>
                  <a:pt x="190" y="271"/>
                </a:lnTo>
                <a:lnTo>
                  <a:pt x="208" y="271"/>
                </a:lnTo>
                <a:lnTo>
                  <a:pt x="217" y="271"/>
                </a:lnTo>
                <a:lnTo>
                  <a:pt x="234" y="262"/>
                </a:lnTo>
                <a:lnTo>
                  <a:pt x="251" y="254"/>
                </a:lnTo>
                <a:lnTo>
                  <a:pt x="260" y="254"/>
                </a:lnTo>
                <a:lnTo>
                  <a:pt x="277" y="245"/>
                </a:lnTo>
                <a:lnTo>
                  <a:pt x="286" y="237"/>
                </a:lnTo>
                <a:lnTo>
                  <a:pt x="295" y="228"/>
                </a:lnTo>
                <a:lnTo>
                  <a:pt x="312" y="220"/>
                </a:lnTo>
                <a:lnTo>
                  <a:pt x="320" y="212"/>
                </a:lnTo>
                <a:lnTo>
                  <a:pt x="320" y="195"/>
                </a:lnTo>
                <a:lnTo>
                  <a:pt x="329" y="186"/>
                </a:lnTo>
                <a:lnTo>
                  <a:pt x="338" y="178"/>
                </a:lnTo>
                <a:lnTo>
                  <a:pt x="338" y="161"/>
                </a:lnTo>
                <a:lnTo>
                  <a:pt x="338" y="153"/>
                </a:lnTo>
                <a:lnTo>
                  <a:pt x="346" y="135"/>
                </a:lnTo>
                <a:lnTo>
                  <a:pt x="346" y="135"/>
                </a:lnTo>
                <a:lnTo>
                  <a:pt x="346" y="126"/>
                </a:lnTo>
                <a:lnTo>
                  <a:pt x="338" y="118"/>
                </a:lnTo>
                <a:lnTo>
                  <a:pt x="338" y="101"/>
                </a:lnTo>
                <a:lnTo>
                  <a:pt x="338" y="92"/>
                </a:lnTo>
                <a:lnTo>
                  <a:pt x="329" y="84"/>
                </a:lnTo>
                <a:lnTo>
                  <a:pt x="329" y="76"/>
                </a:lnTo>
                <a:lnTo>
                  <a:pt x="320" y="67"/>
                </a:lnTo>
                <a:lnTo>
                  <a:pt x="312" y="59"/>
                </a:lnTo>
                <a:lnTo>
                  <a:pt x="303" y="50"/>
                </a:lnTo>
                <a:lnTo>
                  <a:pt x="295" y="42"/>
                </a:lnTo>
                <a:lnTo>
                  <a:pt x="286" y="33"/>
                </a:lnTo>
                <a:lnTo>
                  <a:pt x="277" y="33"/>
                </a:lnTo>
                <a:lnTo>
                  <a:pt x="269" y="25"/>
                </a:lnTo>
                <a:lnTo>
                  <a:pt x="260" y="17"/>
                </a:lnTo>
                <a:lnTo>
                  <a:pt x="243" y="17"/>
                </a:lnTo>
                <a:lnTo>
                  <a:pt x="234" y="8"/>
                </a:lnTo>
                <a:lnTo>
                  <a:pt x="226" y="8"/>
                </a:lnTo>
                <a:lnTo>
                  <a:pt x="208" y="0"/>
                </a:lnTo>
                <a:lnTo>
                  <a:pt x="199" y="0"/>
                </a:lnTo>
                <a:lnTo>
                  <a:pt x="181" y="0"/>
                </a:lnTo>
                <a:lnTo>
                  <a:pt x="173" y="0"/>
                </a:lnTo>
                <a:lnTo>
                  <a:pt x="173" y="0"/>
                </a:lnTo>
                <a:lnTo>
                  <a:pt x="155" y="0"/>
                </a:lnTo>
                <a:lnTo>
                  <a:pt x="138" y="0"/>
                </a:lnTo>
                <a:lnTo>
                  <a:pt x="121" y="8"/>
                </a:lnTo>
                <a:lnTo>
                  <a:pt x="112" y="8"/>
                </a:lnTo>
                <a:lnTo>
                  <a:pt x="95" y="17"/>
                </a:lnTo>
                <a:lnTo>
                  <a:pt x="78" y="17"/>
                </a:lnTo>
                <a:lnTo>
                  <a:pt x="69" y="25"/>
                </a:lnTo>
                <a:lnTo>
                  <a:pt x="52" y="33"/>
                </a:lnTo>
                <a:lnTo>
                  <a:pt x="43" y="42"/>
                </a:lnTo>
                <a:lnTo>
                  <a:pt x="35" y="50"/>
                </a:lnTo>
                <a:lnTo>
                  <a:pt x="26" y="67"/>
                </a:lnTo>
                <a:lnTo>
                  <a:pt x="17" y="76"/>
                </a:lnTo>
                <a:lnTo>
                  <a:pt x="9" y="84"/>
                </a:lnTo>
                <a:lnTo>
                  <a:pt x="9" y="101"/>
                </a:lnTo>
                <a:lnTo>
                  <a:pt x="0" y="109"/>
                </a:lnTo>
                <a:lnTo>
                  <a:pt x="0" y="126"/>
                </a:lnTo>
                <a:lnTo>
                  <a:pt x="0" y="135"/>
                </a:lnTo>
                <a:lnTo>
                  <a:pt x="0" y="135"/>
                </a:lnTo>
                <a:lnTo>
                  <a:pt x="0" y="143"/>
                </a:lnTo>
                <a:lnTo>
                  <a:pt x="0" y="161"/>
                </a:lnTo>
                <a:lnTo>
                  <a:pt x="0" y="169"/>
                </a:lnTo>
                <a:lnTo>
                  <a:pt x="9" y="178"/>
                </a:lnTo>
                <a:lnTo>
                  <a:pt x="9" y="186"/>
                </a:lnTo>
                <a:lnTo>
                  <a:pt x="17" y="195"/>
                </a:lnTo>
                <a:lnTo>
                  <a:pt x="26" y="203"/>
                </a:lnTo>
                <a:lnTo>
                  <a:pt x="26" y="212"/>
                </a:lnTo>
                <a:lnTo>
                  <a:pt x="35" y="220"/>
                </a:lnTo>
                <a:lnTo>
                  <a:pt x="43" y="228"/>
                </a:lnTo>
                <a:lnTo>
                  <a:pt x="52" y="237"/>
                </a:lnTo>
                <a:lnTo>
                  <a:pt x="61" y="245"/>
                </a:lnTo>
                <a:lnTo>
                  <a:pt x="78" y="245"/>
                </a:lnTo>
                <a:lnTo>
                  <a:pt x="86" y="254"/>
                </a:lnTo>
                <a:lnTo>
                  <a:pt x="95" y="262"/>
                </a:lnTo>
                <a:lnTo>
                  <a:pt x="104" y="262"/>
                </a:lnTo>
                <a:lnTo>
                  <a:pt x="121" y="262"/>
                </a:lnTo>
                <a:lnTo>
                  <a:pt x="130" y="271"/>
                </a:lnTo>
                <a:lnTo>
                  <a:pt x="147" y="271"/>
                </a:lnTo>
                <a:lnTo>
                  <a:pt x="155" y="271"/>
                </a:lnTo>
                <a:lnTo>
                  <a:pt x="173" y="271"/>
                </a:lnTo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4200" y="2747880"/>
            <a:ext cx="1623960" cy="471600"/>
          </a:xfrm>
          <a:custGeom>
            <a:avLst/>
            <a:gdLst/>
            <a:ahLst/>
            <a:rect l="l" t="t" r="r" b="b"/>
            <a:pathLst>
              <a:path w="1023" h="297">
                <a:moveTo>
                  <a:pt x="952" y="296"/>
                </a:moveTo>
                <a:lnTo>
                  <a:pt x="952" y="287"/>
                </a:lnTo>
                <a:lnTo>
                  <a:pt x="952" y="279"/>
                </a:lnTo>
                <a:lnTo>
                  <a:pt x="952" y="270"/>
                </a:lnTo>
                <a:lnTo>
                  <a:pt x="944" y="262"/>
                </a:lnTo>
                <a:lnTo>
                  <a:pt x="944" y="253"/>
                </a:lnTo>
                <a:lnTo>
                  <a:pt x="935" y="245"/>
                </a:lnTo>
                <a:lnTo>
                  <a:pt x="935" y="237"/>
                </a:lnTo>
                <a:lnTo>
                  <a:pt x="927" y="220"/>
                </a:lnTo>
                <a:lnTo>
                  <a:pt x="918" y="211"/>
                </a:lnTo>
                <a:lnTo>
                  <a:pt x="909" y="203"/>
                </a:lnTo>
                <a:lnTo>
                  <a:pt x="901" y="194"/>
                </a:lnTo>
                <a:lnTo>
                  <a:pt x="892" y="186"/>
                </a:lnTo>
                <a:lnTo>
                  <a:pt x="882" y="169"/>
                </a:lnTo>
                <a:lnTo>
                  <a:pt x="874" y="161"/>
                </a:lnTo>
                <a:lnTo>
                  <a:pt x="856" y="152"/>
                </a:lnTo>
                <a:lnTo>
                  <a:pt x="848" y="144"/>
                </a:lnTo>
                <a:lnTo>
                  <a:pt x="831" y="135"/>
                </a:lnTo>
                <a:lnTo>
                  <a:pt x="813" y="127"/>
                </a:lnTo>
                <a:lnTo>
                  <a:pt x="805" y="119"/>
                </a:lnTo>
                <a:lnTo>
                  <a:pt x="787" y="110"/>
                </a:lnTo>
                <a:lnTo>
                  <a:pt x="762" y="102"/>
                </a:lnTo>
                <a:lnTo>
                  <a:pt x="744" y="93"/>
                </a:lnTo>
                <a:lnTo>
                  <a:pt x="727" y="85"/>
                </a:lnTo>
                <a:lnTo>
                  <a:pt x="701" y="75"/>
                </a:lnTo>
                <a:lnTo>
                  <a:pt x="675" y="75"/>
                </a:lnTo>
                <a:lnTo>
                  <a:pt x="658" y="67"/>
                </a:lnTo>
                <a:lnTo>
                  <a:pt x="632" y="67"/>
                </a:lnTo>
                <a:lnTo>
                  <a:pt x="598" y="59"/>
                </a:lnTo>
                <a:lnTo>
                  <a:pt x="572" y="59"/>
                </a:lnTo>
                <a:lnTo>
                  <a:pt x="546" y="59"/>
                </a:lnTo>
                <a:lnTo>
                  <a:pt x="511" y="59"/>
                </a:lnTo>
                <a:lnTo>
                  <a:pt x="511" y="59"/>
                </a:lnTo>
                <a:lnTo>
                  <a:pt x="493" y="59"/>
                </a:lnTo>
                <a:lnTo>
                  <a:pt x="476" y="59"/>
                </a:lnTo>
                <a:lnTo>
                  <a:pt x="450" y="59"/>
                </a:lnTo>
                <a:lnTo>
                  <a:pt x="433" y="59"/>
                </a:lnTo>
                <a:lnTo>
                  <a:pt x="415" y="59"/>
                </a:lnTo>
                <a:lnTo>
                  <a:pt x="398" y="67"/>
                </a:lnTo>
                <a:lnTo>
                  <a:pt x="381" y="67"/>
                </a:lnTo>
                <a:lnTo>
                  <a:pt x="355" y="75"/>
                </a:lnTo>
                <a:lnTo>
                  <a:pt x="338" y="75"/>
                </a:lnTo>
                <a:lnTo>
                  <a:pt x="329" y="85"/>
                </a:lnTo>
                <a:lnTo>
                  <a:pt x="312" y="85"/>
                </a:lnTo>
                <a:lnTo>
                  <a:pt x="295" y="93"/>
                </a:lnTo>
                <a:lnTo>
                  <a:pt x="277" y="93"/>
                </a:lnTo>
                <a:lnTo>
                  <a:pt x="260" y="102"/>
                </a:lnTo>
                <a:lnTo>
                  <a:pt x="251" y="110"/>
                </a:lnTo>
                <a:lnTo>
                  <a:pt x="234" y="119"/>
                </a:lnTo>
                <a:lnTo>
                  <a:pt x="225" y="119"/>
                </a:lnTo>
                <a:lnTo>
                  <a:pt x="208" y="127"/>
                </a:lnTo>
                <a:lnTo>
                  <a:pt x="200" y="135"/>
                </a:lnTo>
                <a:lnTo>
                  <a:pt x="182" y="144"/>
                </a:lnTo>
                <a:lnTo>
                  <a:pt x="174" y="152"/>
                </a:lnTo>
                <a:lnTo>
                  <a:pt x="165" y="161"/>
                </a:lnTo>
                <a:lnTo>
                  <a:pt x="156" y="169"/>
                </a:lnTo>
                <a:lnTo>
                  <a:pt x="139" y="178"/>
                </a:lnTo>
                <a:lnTo>
                  <a:pt x="131" y="186"/>
                </a:lnTo>
                <a:lnTo>
                  <a:pt x="121" y="186"/>
                </a:lnTo>
                <a:lnTo>
                  <a:pt x="121" y="194"/>
                </a:lnTo>
                <a:lnTo>
                  <a:pt x="112" y="203"/>
                </a:lnTo>
                <a:lnTo>
                  <a:pt x="104" y="211"/>
                </a:lnTo>
                <a:lnTo>
                  <a:pt x="95" y="220"/>
                </a:lnTo>
                <a:lnTo>
                  <a:pt x="95" y="228"/>
                </a:lnTo>
                <a:lnTo>
                  <a:pt x="86" y="237"/>
                </a:lnTo>
                <a:lnTo>
                  <a:pt x="78" y="245"/>
                </a:lnTo>
                <a:lnTo>
                  <a:pt x="78" y="253"/>
                </a:lnTo>
                <a:lnTo>
                  <a:pt x="78" y="262"/>
                </a:lnTo>
                <a:lnTo>
                  <a:pt x="69" y="270"/>
                </a:lnTo>
                <a:lnTo>
                  <a:pt x="69" y="279"/>
                </a:lnTo>
                <a:lnTo>
                  <a:pt x="69" y="287"/>
                </a:lnTo>
                <a:lnTo>
                  <a:pt x="69" y="296"/>
                </a:lnTo>
                <a:lnTo>
                  <a:pt x="69" y="296"/>
                </a:lnTo>
                <a:lnTo>
                  <a:pt x="0" y="296"/>
                </a:lnTo>
                <a:lnTo>
                  <a:pt x="0" y="279"/>
                </a:lnTo>
                <a:lnTo>
                  <a:pt x="0" y="262"/>
                </a:lnTo>
                <a:lnTo>
                  <a:pt x="0" y="253"/>
                </a:lnTo>
                <a:lnTo>
                  <a:pt x="9" y="237"/>
                </a:lnTo>
                <a:lnTo>
                  <a:pt x="9" y="220"/>
                </a:lnTo>
                <a:lnTo>
                  <a:pt x="17" y="211"/>
                </a:lnTo>
                <a:lnTo>
                  <a:pt x="26" y="194"/>
                </a:lnTo>
                <a:lnTo>
                  <a:pt x="35" y="186"/>
                </a:lnTo>
                <a:lnTo>
                  <a:pt x="43" y="169"/>
                </a:lnTo>
                <a:lnTo>
                  <a:pt x="52" y="161"/>
                </a:lnTo>
                <a:lnTo>
                  <a:pt x="60" y="152"/>
                </a:lnTo>
                <a:lnTo>
                  <a:pt x="78" y="135"/>
                </a:lnTo>
                <a:lnTo>
                  <a:pt x="86" y="127"/>
                </a:lnTo>
                <a:lnTo>
                  <a:pt x="95" y="119"/>
                </a:lnTo>
                <a:lnTo>
                  <a:pt x="112" y="110"/>
                </a:lnTo>
                <a:lnTo>
                  <a:pt x="131" y="102"/>
                </a:lnTo>
                <a:lnTo>
                  <a:pt x="139" y="93"/>
                </a:lnTo>
                <a:lnTo>
                  <a:pt x="156" y="85"/>
                </a:lnTo>
                <a:lnTo>
                  <a:pt x="174" y="75"/>
                </a:lnTo>
                <a:lnTo>
                  <a:pt x="191" y="67"/>
                </a:lnTo>
                <a:lnTo>
                  <a:pt x="208" y="59"/>
                </a:lnTo>
                <a:lnTo>
                  <a:pt x="225" y="50"/>
                </a:lnTo>
                <a:lnTo>
                  <a:pt x="234" y="50"/>
                </a:lnTo>
                <a:lnTo>
                  <a:pt x="251" y="42"/>
                </a:lnTo>
                <a:lnTo>
                  <a:pt x="269" y="33"/>
                </a:lnTo>
                <a:lnTo>
                  <a:pt x="286" y="33"/>
                </a:lnTo>
                <a:lnTo>
                  <a:pt x="303" y="25"/>
                </a:lnTo>
                <a:lnTo>
                  <a:pt x="320" y="25"/>
                </a:lnTo>
                <a:lnTo>
                  <a:pt x="338" y="16"/>
                </a:lnTo>
                <a:lnTo>
                  <a:pt x="355" y="16"/>
                </a:lnTo>
                <a:lnTo>
                  <a:pt x="372" y="8"/>
                </a:lnTo>
                <a:lnTo>
                  <a:pt x="389" y="8"/>
                </a:lnTo>
                <a:lnTo>
                  <a:pt x="407" y="8"/>
                </a:lnTo>
                <a:lnTo>
                  <a:pt x="424" y="8"/>
                </a:lnTo>
                <a:lnTo>
                  <a:pt x="441" y="8"/>
                </a:lnTo>
                <a:lnTo>
                  <a:pt x="458" y="0"/>
                </a:lnTo>
                <a:lnTo>
                  <a:pt x="476" y="0"/>
                </a:lnTo>
                <a:lnTo>
                  <a:pt x="484" y="0"/>
                </a:lnTo>
                <a:lnTo>
                  <a:pt x="502" y="0"/>
                </a:lnTo>
                <a:lnTo>
                  <a:pt x="502" y="0"/>
                </a:lnTo>
                <a:lnTo>
                  <a:pt x="520" y="0"/>
                </a:lnTo>
                <a:lnTo>
                  <a:pt x="546" y="0"/>
                </a:lnTo>
                <a:lnTo>
                  <a:pt x="572" y="8"/>
                </a:lnTo>
                <a:lnTo>
                  <a:pt x="598" y="8"/>
                </a:lnTo>
                <a:lnTo>
                  <a:pt x="632" y="8"/>
                </a:lnTo>
                <a:lnTo>
                  <a:pt x="658" y="16"/>
                </a:lnTo>
                <a:lnTo>
                  <a:pt x="684" y="25"/>
                </a:lnTo>
                <a:lnTo>
                  <a:pt x="710" y="25"/>
                </a:lnTo>
                <a:lnTo>
                  <a:pt x="736" y="33"/>
                </a:lnTo>
                <a:lnTo>
                  <a:pt x="770" y="42"/>
                </a:lnTo>
                <a:lnTo>
                  <a:pt x="796" y="59"/>
                </a:lnTo>
                <a:lnTo>
                  <a:pt x="822" y="67"/>
                </a:lnTo>
                <a:lnTo>
                  <a:pt x="848" y="75"/>
                </a:lnTo>
                <a:lnTo>
                  <a:pt x="874" y="93"/>
                </a:lnTo>
                <a:lnTo>
                  <a:pt x="901" y="102"/>
                </a:lnTo>
                <a:lnTo>
                  <a:pt x="918" y="119"/>
                </a:lnTo>
                <a:lnTo>
                  <a:pt x="944" y="135"/>
                </a:lnTo>
                <a:lnTo>
                  <a:pt x="961" y="152"/>
                </a:lnTo>
                <a:lnTo>
                  <a:pt x="970" y="169"/>
                </a:lnTo>
                <a:lnTo>
                  <a:pt x="987" y="186"/>
                </a:lnTo>
                <a:lnTo>
                  <a:pt x="1004" y="203"/>
                </a:lnTo>
                <a:lnTo>
                  <a:pt x="1013" y="228"/>
                </a:lnTo>
                <a:lnTo>
                  <a:pt x="1013" y="253"/>
                </a:lnTo>
                <a:lnTo>
                  <a:pt x="1022" y="270"/>
                </a:lnTo>
                <a:lnTo>
                  <a:pt x="1022" y="296"/>
                </a:lnTo>
                <a:lnTo>
                  <a:pt x="1022" y="296"/>
                </a:lnTo>
                <a:lnTo>
                  <a:pt x="952" y="29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83560" y="3633840"/>
            <a:ext cx="482400" cy="579240"/>
          </a:xfrm>
          <a:custGeom>
            <a:avLst/>
            <a:gdLst/>
            <a:ahLst/>
            <a:rect l="l" t="t" r="r" b="b"/>
            <a:pathLst>
              <a:path w="304" h="365">
                <a:moveTo>
                  <a:pt x="87" y="364"/>
                </a:moveTo>
                <a:lnTo>
                  <a:pt x="95" y="237"/>
                </a:lnTo>
                <a:lnTo>
                  <a:pt x="104" y="170"/>
                </a:lnTo>
                <a:lnTo>
                  <a:pt x="121" y="144"/>
                </a:lnTo>
                <a:lnTo>
                  <a:pt x="138" y="127"/>
                </a:lnTo>
                <a:lnTo>
                  <a:pt x="138" y="127"/>
                </a:lnTo>
                <a:lnTo>
                  <a:pt x="147" y="119"/>
                </a:lnTo>
                <a:lnTo>
                  <a:pt x="147" y="111"/>
                </a:lnTo>
                <a:lnTo>
                  <a:pt x="156" y="102"/>
                </a:lnTo>
                <a:lnTo>
                  <a:pt x="165" y="102"/>
                </a:lnTo>
                <a:lnTo>
                  <a:pt x="174" y="94"/>
                </a:lnTo>
                <a:lnTo>
                  <a:pt x="174" y="85"/>
                </a:lnTo>
                <a:lnTo>
                  <a:pt x="183" y="77"/>
                </a:lnTo>
                <a:lnTo>
                  <a:pt x="200" y="68"/>
                </a:lnTo>
                <a:lnTo>
                  <a:pt x="208" y="60"/>
                </a:lnTo>
                <a:lnTo>
                  <a:pt x="217" y="51"/>
                </a:lnTo>
                <a:lnTo>
                  <a:pt x="234" y="42"/>
                </a:lnTo>
                <a:lnTo>
                  <a:pt x="243" y="34"/>
                </a:lnTo>
                <a:lnTo>
                  <a:pt x="260" y="25"/>
                </a:lnTo>
                <a:lnTo>
                  <a:pt x="277" y="8"/>
                </a:lnTo>
                <a:lnTo>
                  <a:pt x="303" y="0"/>
                </a:lnTo>
                <a:lnTo>
                  <a:pt x="303" y="0"/>
                </a:lnTo>
                <a:lnTo>
                  <a:pt x="208" y="0"/>
                </a:lnTo>
                <a:lnTo>
                  <a:pt x="200" y="8"/>
                </a:lnTo>
                <a:lnTo>
                  <a:pt x="191" y="17"/>
                </a:lnTo>
                <a:lnTo>
                  <a:pt x="174" y="17"/>
                </a:lnTo>
                <a:lnTo>
                  <a:pt x="165" y="25"/>
                </a:lnTo>
                <a:lnTo>
                  <a:pt x="156" y="34"/>
                </a:lnTo>
                <a:lnTo>
                  <a:pt x="147" y="42"/>
                </a:lnTo>
                <a:lnTo>
                  <a:pt x="138" y="42"/>
                </a:lnTo>
                <a:lnTo>
                  <a:pt x="130" y="51"/>
                </a:lnTo>
                <a:lnTo>
                  <a:pt x="130" y="60"/>
                </a:lnTo>
                <a:lnTo>
                  <a:pt x="121" y="60"/>
                </a:lnTo>
                <a:lnTo>
                  <a:pt x="112" y="68"/>
                </a:lnTo>
                <a:lnTo>
                  <a:pt x="104" y="68"/>
                </a:lnTo>
                <a:lnTo>
                  <a:pt x="104" y="77"/>
                </a:lnTo>
                <a:lnTo>
                  <a:pt x="95" y="77"/>
                </a:lnTo>
                <a:lnTo>
                  <a:pt x="95" y="85"/>
                </a:lnTo>
                <a:lnTo>
                  <a:pt x="87" y="85"/>
                </a:lnTo>
                <a:lnTo>
                  <a:pt x="78" y="94"/>
                </a:lnTo>
                <a:lnTo>
                  <a:pt x="78" y="94"/>
                </a:lnTo>
                <a:lnTo>
                  <a:pt x="78" y="102"/>
                </a:lnTo>
                <a:lnTo>
                  <a:pt x="69" y="102"/>
                </a:lnTo>
                <a:lnTo>
                  <a:pt x="69" y="102"/>
                </a:lnTo>
                <a:lnTo>
                  <a:pt x="61" y="111"/>
                </a:lnTo>
                <a:lnTo>
                  <a:pt x="61" y="111"/>
                </a:lnTo>
                <a:lnTo>
                  <a:pt x="52" y="119"/>
                </a:lnTo>
                <a:lnTo>
                  <a:pt x="52" y="119"/>
                </a:lnTo>
                <a:lnTo>
                  <a:pt x="52" y="127"/>
                </a:lnTo>
                <a:lnTo>
                  <a:pt x="52" y="127"/>
                </a:lnTo>
                <a:lnTo>
                  <a:pt x="43" y="127"/>
                </a:lnTo>
                <a:lnTo>
                  <a:pt x="35" y="136"/>
                </a:lnTo>
                <a:lnTo>
                  <a:pt x="26" y="144"/>
                </a:lnTo>
                <a:lnTo>
                  <a:pt x="18" y="161"/>
                </a:lnTo>
                <a:lnTo>
                  <a:pt x="9" y="170"/>
                </a:lnTo>
                <a:lnTo>
                  <a:pt x="9" y="195"/>
                </a:lnTo>
                <a:lnTo>
                  <a:pt x="0" y="220"/>
                </a:lnTo>
                <a:lnTo>
                  <a:pt x="0" y="262"/>
                </a:lnTo>
                <a:lnTo>
                  <a:pt x="0" y="304"/>
                </a:lnTo>
                <a:lnTo>
                  <a:pt x="0" y="364"/>
                </a:lnTo>
                <a:lnTo>
                  <a:pt x="0" y="364"/>
                </a:lnTo>
                <a:lnTo>
                  <a:pt x="87" y="36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83560" y="4398840"/>
            <a:ext cx="208080" cy="163800"/>
          </a:xfrm>
          <a:custGeom>
            <a:avLst/>
            <a:gdLst/>
            <a:ahLst/>
            <a:rect l="l" t="t" r="r" b="b"/>
            <a:pathLst>
              <a:path w="131" h="103">
                <a:moveTo>
                  <a:pt x="0" y="51"/>
                </a:moveTo>
                <a:lnTo>
                  <a:pt x="0" y="43"/>
                </a:lnTo>
                <a:lnTo>
                  <a:pt x="9" y="34"/>
                </a:lnTo>
                <a:lnTo>
                  <a:pt x="9" y="34"/>
                </a:lnTo>
                <a:lnTo>
                  <a:pt x="18" y="26"/>
                </a:lnTo>
                <a:lnTo>
                  <a:pt x="18" y="26"/>
                </a:lnTo>
                <a:lnTo>
                  <a:pt x="26" y="17"/>
                </a:lnTo>
                <a:lnTo>
                  <a:pt x="35" y="17"/>
                </a:lnTo>
                <a:lnTo>
                  <a:pt x="43" y="9"/>
                </a:lnTo>
                <a:lnTo>
                  <a:pt x="43" y="9"/>
                </a:lnTo>
                <a:lnTo>
                  <a:pt x="52" y="9"/>
                </a:lnTo>
                <a:lnTo>
                  <a:pt x="61" y="0"/>
                </a:lnTo>
                <a:lnTo>
                  <a:pt x="69" y="0"/>
                </a:lnTo>
                <a:lnTo>
                  <a:pt x="69" y="0"/>
                </a:lnTo>
                <a:lnTo>
                  <a:pt x="78" y="0"/>
                </a:lnTo>
                <a:lnTo>
                  <a:pt x="87" y="9"/>
                </a:lnTo>
                <a:lnTo>
                  <a:pt x="87" y="9"/>
                </a:lnTo>
                <a:lnTo>
                  <a:pt x="130" y="76"/>
                </a:lnTo>
                <a:lnTo>
                  <a:pt x="121" y="76"/>
                </a:lnTo>
                <a:lnTo>
                  <a:pt x="112" y="76"/>
                </a:lnTo>
                <a:lnTo>
                  <a:pt x="104" y="85"/>
                </a:lnTo>
                <a:lnTo>
                  <a:pt x="104" y="85"/>
                </a:lnTo>
                <a:lnTo>
                  <a:pt x="95" y="93"/>
                </a:lnTo>
                <a:lnTo>
                  <a:pt x="95" y="102"/>
                </a:lnTo>
                <a:lnTo>
                  <a:pt x="95" y="102"/>
                </a:lnTo>
                <a:lnTo>
                  <a:pt x="95" y="102"/>
                </a:lnTo>
                <a:lnTo>
                  <a:pt x="95" y="102"/>
                </a:lnTo>
                <a:lnTo>
                  <a:pt x="0" y="5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73960" y="3110040"/>
            <a:ext cx="428760" cy="485640"/>
          </a:xfrm>
          <a:custGeom>
            <a:avLst/>
            <a:gdLst/>
            <a:ahLst/>
            <a:rect l="l" t="t" r="r" b="b"/>
            <a:pathLst>
              <a:path w="270" h="306">
                <a:moveTo>
                  <a:pt x="130" y="305"/>
                </a:moveTo>
                <a:lnTo>
                  <a:pt x="156" y="187"/>
                </a:lnTo>
                <a:lnTo>
                  <a:pt x="200" y="220"/>
                </a:lnTo>
                <a:lnTo>
                  <a:pt x="191" y="170"/>
                </a:lnTo>
                <a:lnTo>
                  <a:pt x="269" y="153"/>
                </a:lnTo>
                <a:lnTo>
                  <a:pt x="191" y="136"/>
                </a:lnTo>
                <a:lnTo>
                  <a:pt x="200" y="93"/>
                </a:lnTo>
                <a:lnTo>
                  <a:pt x="156" y="118"/>
                </a:lnTo>
                <a:lnTo>
                  <a:pt x="130" y="0"/>
                </a:lnTo>
                <a:lnTo>
                  <a:pt x="113" y="118"/>
                </a:lnTo>
                <a:lnTo>
                  <a:pt x="61" y="93"/>
                </a:lnTo>
                <a:lnTo>
                  <a:pt x="78" y="136"/>
                </a:lnTo>
                <a:lnTo>
                  <a:pt x="0" y="153"/>
                </a:lnTo>
                <a:lnTo>
                  <a:pt x="78" y="170"/>
                </a:lnTo>
                <a:lnTo>
                  <a:pt x="61" y="220"/>
                </a:lnTo>
                <a:lnTo>
                  <a:pt x="113" y="187"/>
                </a:lnTo>
                <a:lnTo>
                  <a:pt x="130" y="30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05840" y="2362320"/>
            <a:ext cx="3812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43880" y="4343400"/>
            <a:ext cx="690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VESSEL DEFEC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411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AMIN C DE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&amp; VIRAL 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DITARY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27120" y="762120"/>
            <a:ext cx="363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HEMOSTA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14680" y="1676520"/>
            <a:ext cx="784836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1.  VASCULAR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 PLATELET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COAGULATION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FIBRINOLYTIC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714680" y="685440"/>
            <a:ext cx="8191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Vascular defect - co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nfectious and hypersensitivity vasculit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Rickettsial and  meningococc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enoch-Schonlein purpura  (immu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85560" y="6854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PLATELET DISOR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523520" y="2666520"/>
            <a:ext cx="720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MBOCYT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MBOCYT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THROMBOCYTOPEN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8360" y="3017880"/>
            <a:ext cx="5819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ADEQUATE NUM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F PLATEL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33640" y="15998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THROMBOCYTOPATH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980720" y="2895120"/>
            <a:ext cx="720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DEQUATE NUMBER BUT ABNORMAL FUN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THROMBOCYTOPEN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Times New Roman"/>
              </a:rPr>
              <a:t>DRUG INDUC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E MARROW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SPLE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38200" y="7621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3820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mp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V 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iopathic Thrombocytopenia Purpura (IT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THROMBOCYTOPATH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ERITED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ELOPROLIFERATIVE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438200" y="7621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FACTOR DEFICIENCIES</a:t>
            </a:r>
            <a:br>
              <a:rPr sz="4400"/>
            </a:b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                  </a:t>
            </a:r>
            <a:r>
              <a:rPr b="0" lang="en-US" sz="2800" spc="-1" strike="noStrike">
                <a:solidFill>
                  <a:srgbClr val="cc99ff"/>
                </a:solidFill>
                <a:latin typeface="Flexure"/>
              </a:rPr>
              <a:t>(CONGENI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3820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PHILIA A</a:t>
            </a: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PHILIA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 WILLEBRAND’S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FACTOR DEFICIENC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PHILIA A (Classic Hemophil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-85% of all Hemophili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ciency of Factor VI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Results - Prolonged P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33440" y="4327560"/>
            <a:ext cx="75438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PHILIA B (Christmas Disea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-15% of all Hemophili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ciency of Factor 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Test - Prolonged P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438200" y="7621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FACTOR DEFICIENC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3820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 WILLEBRAND’S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ciency of VWF &amp; amount of Factor VI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Results - Prolonged BT, P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3772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emostasi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0120" y="609480"/>
            <a:ext cx="7737120" cy="5791320"/>
            <a:chOff x="600120" y="609480"/>
            <a:chExt cx="7737120" cy="5791320"/>
          </a:xfrm>
        </p:grpSpPr>
        <p:sp>
          <p:nvSpPr>
            <p:cNvPr id="163" name=""/>
            <p:cNvSpPr/>
            <p:nvPr/>
          </p:nvSpPr>
          <p:spPr>
            <a:xfrm>
              <a:off x="4372200" y="1828800"/>
              <a:ext cx="342720" cy="1219320"/>
            </a:xfrm>
            <a:prstGeom prst="downArrow">
              <a:avLst>
                <a:gd name="adj1" fmla="val 50000"/>
                <a:gd name="adj2" fmla="val 42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280" y="609480"/>
              <a:ext cx="2575440" cy="148140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V Inju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86400" y="3124080"/>
              <a:ext cx="1564560" cy="78444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latel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greg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5920" y="4495680"/>
              <a:ext cx="1285920" cy="6858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latel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ctiv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0120" y="3124080"/>
              <a:ext cx="1932120" cy="78444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Blood Vessel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nstri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97640" y="3048120"/>
              <a:ext cx="1839600" cy="95724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Coagulation</a:t>
              </a: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sca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93080" y="5791320"/>
              <a:ext cx="3772080" cy="60948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ble  Hemostatic Plu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931600">
              <a:off x="2313360" y="1428840"/>
              <a:ext cx="258480" cy="2071440"/>
            </a:xfrm>
            <a:prstGeom prst="downArrow">
              <a:avLst>
                <a:gd name="adj1" fmla="val 50000"/>
                <a:gd name="adj2" fmla="val 200348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38520" y="4572000"/>
              <a:ext cx="165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Fibrin form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474200">
              <a:off x="2400480" y="3812760"/>
              <a:ext cx="260280" cy="2102040"/>
            </a:xfrm>
            <a:prstGeom prst="downArrow">
              <a:avLst>
                <a:gd name="adj1" fmla="val 50000"/>
                <a:gd name="adj2" fmla="val 201902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23120" y="4419720"/>
              <a:ext cx="1655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duc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lood 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183400">
              <a:off x="6079680" y="3901680"/>
              <a:ext cx="280080" cy="2055960"/>
            </a:xfrm>
            <a:prstGeom prst="downArrow">
              <a:avLst>
                <a:gd name="adj1" fmla="val 50000"/>
                <a:gd name="adj2" fmla="val 18351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8675600">
              <a:off x="6366240" y="1462680"/>
              <a:ext cx="277920" cy="1841400"/>
            </a:xfrm>
            <a:prstGeom prst="downArrow">
              <a:avLst>
                <a:gd name="adj1" fmla="val 50000"/>
                <a:gd name="adj2" fmla="val 165641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58240" y="1600200"/>
              <a:ext cx="165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issue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84240" y="3870360"/>
              <a:ext cx="349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imary hemostatic plu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1981080"/>
              <a:ext cx="16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ur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72200" y="4267080"/>
              <a:ext cx="342720" cy="1371600"/>
            </a:xfrm>
            <a:prstGeom prst="downArrow">
              <a:avLst>
                <a:gd name="adj1" fmla="val 50000"/>
                <a:gd name="adj2" fmla="val 47877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86760" y="3352680"/>
              <a:ext cx="942840" cy="304920"/>
            </a:xfrm>
            <a:prstGeom prst="rightArrow">
              <a:avLst>
                <a:gd name="adj1" fmla="val 50000"/>
                <a:gd name="adj2" fmla="val 77302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57520" y="3352680"/>
              <a:ext cx="856800" cy="304920"/>
            </a:xfrm>
            <a:prstGeom prst="leftArrow">
              <a:avLst>
                <a:gd name="adj1" fmla="val 50000"/>
                <a:gd name="adj2" fmla="val 70248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8186040" y="228600"/>
            <a:ext cx="1671120" cy="172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Lab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BC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T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,(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06840" y="5291280"/>
            <a:ext cx="1789920" cy="1389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Plt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orph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Anti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38200" y="7621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OTHER DISORDERS</a:t>
            </a:r>
            <a:br>
              <a:rPr sz="4400"/>
            </a:b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                </a:t>
            </a:r>
            <a:r>
              <a:rPr b="0" lang="en-US" sz="2800" spc="-1" strike="noStrike">
                <a:solidFill>
                  <a:srgbClr val="cc99ff"/>
                </a:solidFill>
                <a:latin typeface="Flexure"/>
              </a:rPr>
              <a:t>(AC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3820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L ANTICOAGU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UMA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EPA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-SPECTRUM ANTIBIO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5880" y="30492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HIBITO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1970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960" y="1828800"/>
            <a:ext cx="92106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30% of people with haemophilia develop an antibody to the clotting factor they are receiving for treatment. These antibodies are known as inhibitor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patients are treated with high does of FVIIa for bleeds or surgery. This overrides defect in FVIII or FIX deficienc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Longterm management involves attempting to eradicate inhibitors by administering high dose FVIII (or FIX) in a process called immune toleranc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Bleeding Disorder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10287000" cy="1103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inical Features of Bleeding Disorder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3880" y="1425600"/>
            <a:ext cx="96631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latelet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agulation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isorder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actor disorder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e of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in soft t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cous membran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(joints, musc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pistaxis, gum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ginal, GI trac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techi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chymoses (“bruises”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, superfic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, de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arthrosis / muscle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emely r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eeding after cuts &amp; scratch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eeding after surgery or trau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ediat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ed (1-2 days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mi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often sev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1347840"/>
            <a:ext cx="92584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9640" y="2343240"/>
            <a:ext cx="925848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28640" y="228240"/>
            <a:ext cx="8143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Platelet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Coagula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57160" y="1143000"/>
            <a:ext cx="4154400" cy="4724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400720" y="1143000"/>
            <a:ext cx="4408560" cy="4724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492920" y="5832360"/>
            <a:ext cx="764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techiae, Purpur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Hematoma, Joint bl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59320" y="502920"/>
            <a:ext cx="3665520" cy="1144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Times New Roman"/>
              </a:rPr>
              <a:t>Petechiae</a:t>
            </a:r>
            <a:endParaRPr b="0" lang="en-US" sz="43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62120" y="912960"/>
            <a:ext cx="4162320" cy="4949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168880" y="2000160"/>
            <a:ext cx="4040280" cy="2629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359320" y="4791240"/>
            <a:ext cx="46227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Do not blanch with pressure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(cf. angiomas)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Not palpable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(cf. vasculit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0480" y="1366920"/>
            <a:ext cx="41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ypical of platelet disord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marthros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114560" y="1371600"/>
            <a:ext cx="80578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29000" y="609120"/>
            <a:ext cx="325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mato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57040" y="380880"/>
            <a:ext cx="64296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etechia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71480" y="1828800"/>
            <a:ext cx="84870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urp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0" t="0" r="0" b="6849"/>
          <a:stretch/>
        </p:blipFill>
        <p:spPr>
          <a:xfrm>
            <a:off x="857160" y="1752480"/>
            <a:ext cx="8315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3300"/>
                </a:solidFill>
                <a:latin typeface="Times New Roman"/>
              </a:rPr>
              <a:t>NORMAL CLOTT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00240" y="1676520"/>
            <a:ext cx="84009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imes New Roman"/>
              </a:rPr>
              <a:t>Response to vessle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1. Vasoconstriction to reduce blood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2. Platelet plug formation (von willebrand factor binds damaged vessle and platelet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3. Activation of clotting cascade with generation of fibrin clot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4. Fibrinlysis (clot break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cchymos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0287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915400" cy="5791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412080" y="42840"/>
            <a:ext cx="34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Senile Purpu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532480" y="380880"/>
            <a:ext cx="3916440" cy="6172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55040" y="2298600"/>
            <a:ext cx="487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379"/>
                </a:solidFill>
                <a:latin typeface="Arial"/>
              </a:rPr>
              <a:t>Petechiae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 in pati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with Rocky Mountai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Spotted Fe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171960" y="1387440"/>
            <a:ext cx="6705360" cy="49626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noch-Schonlein purp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9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28840" y="304560"/>
            <a:ext cx="4473720" cy="1144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Times New Roman"/>
              </a:rPr>
              <a:t>Ecchymoses</a:t>
            </a:r>
            <a:endParaRPr b="0" lang="en-US" sz="43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103480" y="233280"/>
            <a:ext cx="2813040" cy="6396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880240" y="1808280"/>
            <a:ext cx="29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ypical of coagulation factor disord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295280" y="1230480"/>
            <a:ext cx="7620120" cy="5551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674000" y="76320"/>
            <a:ext cx="686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T scan showing large hemato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right psoas mus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agulation factor disor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Inher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blee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philia A and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nWillebrands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factor defici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733720" y="198108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Acqui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blee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tamin K deficiency/warfarin overd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Hemophilia A and B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93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752480"/>
            <a:ext cx="10058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ophilia 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ophilia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agulation factor deficienc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VII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erit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-link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-link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ss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ss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d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/10,000 m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/50,000 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ed to factor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1% - Severe - spontaneous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5% - Moderate - bleeding with mild inj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-25% - Mild - bleeding with surgery or trau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c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 tissue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2209680"/>
            <a:ext cx="982980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Hemophilia</a:t>
            </a:r>
            <a:endParaRPr b="0" lang="en-US" sz="4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18680" y="1500120"/>
            <a:ext cx="9542520" cy="5105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rmAutofit/>
          </a:bodyPr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manifestations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hemophilia A &amp; B are indistinguish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emarthrosis (most comm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0680" indent="0">
              <a:lnSpc>
                <a:spcPct val="9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d j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ft tissue hematomas (e.g., musc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0680" indent="0">
              <a:lnSpc>
                <a:spcPct val="9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le atr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0680" indent="0">
              <a:lnSpc>
                <a:spcPct val="9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ened tend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ther sites of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0680" indent="0">
              <a:lnSpc>
                <a:spcPct val="9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0680" indent="0">
              <a:lnSpc>
                <a:spcPct val="9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S, neck (may be life-threaten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rolonged bleeding after surgery or dental ext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71280"/>
            <a:ext cx="10287000" cy="1170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Hemarthrosis (acute)</a:t>
            </a:r>
            <a:endParaRPr b="0" lang="en-US" sz="43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273320" y="917640"/>
            <a:ext cx="7803720" cy="5543280"/>
            <a:chOff x="1273320" y="917640"/>
            <a:chExt cx="7803720" cy="55432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1273320" y="1107360"/>
              <a:ext cx="7803720" cy="52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4771800" y="917640"/>
              <a:ext cx="363600" cy="5543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480" y="30114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480" y="28288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480" y="28288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2096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4440" y="1752480"/>
            <a:ext cx="84009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lly the ingredients, called factors, act like a row of dominoes toppling against each other to create a chain rea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one of th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actor</a:t>
            </a: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is missing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his chain reaction cannot proce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480" y="30114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Animation of normal clotting"/>
          <p:cNvPicPr/>
          <p:nvPr/>
        </p:nvPicPr>
        <p:blipFill>
          <a:blip r:embed="rId1"/>
          <a:stretch/>
        </p:blipFill>
        <p:spPr>
          <a:xfrm>
            <a:off x="1285920" y="4343400"/>
            <a:ext cx="7029360" cy="18288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3300"/>
                </a:solidFill>
                <a:latin typeface="Times New Roman"/>
              </a:rPr>
              <a:t>CLOTTING CASCA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74404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reatment of hemophilia 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ediate purity plasma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cidally tr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contain von Willebrand f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purity (monoclonal) plasma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cidally tr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unctional von Willebrand f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binant factor V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 free/No apparen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unctional von Willebrand f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Dosing guidelines for hemophilia 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975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Mild blee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: 30% dosing q8-12h; 1-2 days (15U/k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arthrosis, oropharyngeal or dental, epistaxis, hematu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Major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: 80-100% q8-12h; 7-14 days (50U/k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S trauma, hemorrhage, lumbar pun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roperitoneal hemorrh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djunctive therapy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minocaproic acid (Amicar) or DDAVP (for mild disease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mplications of therap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inhibitors (antibo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-15% of severe hemophilia A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2% of severe hemophilia B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al 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tis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parvo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tis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tis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Viral infections in hemophiliac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2133720"/>
            <a:ext cx="937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-posi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-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n=382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(n=3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3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4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patitis serolo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posi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patitis B virus onl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patitis C virus onl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2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patitis B and 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7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809880"/>
            <a:ext cx="9220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5638680"/>
            <a:ext cx="9220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6640" y="586728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lood 1993:81;412-41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reatment of hemophilia B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urity factor 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binant human factor 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dose: 100U/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equent: 50U/kg every 24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8760" y="75960"/>
            <a:ext cx="8743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von Willebrand Disease: Clinical Featur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n Willebrand fact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s in endothelium and megakaryocy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s large multim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r of factor VI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hors platelets to subendoth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 between plate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eritance - autosomal dom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- 1/1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features - mucocutaneous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800280" y="3886200"/>
            <a:ext cx="7924680" cy="228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330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Laboratory evaluation of 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von Willebrand diseas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7280" y="1066680"/>
            <a:ext cx="9255240" cy="45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quantitative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quantitative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tic t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1160" y="3962520"/>
            <a:ext cx="744840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onWillebrand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a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WF antig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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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WF activ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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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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mer analysi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5038560"/>
            <a:ext cx="72388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reatment of von Willebrand Diseas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663560"/>
            <a:ext cx="9618840" cy="45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o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of fibrinogen, factor VIII and VW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lasma fraction that consistently contains VWF multi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DAVP (deamino-8-arginine vasopress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VWF levels by stimulating secretion from endothel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 of response is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generally used in type 2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age 0.3 µg/kg q 12 hr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 VIII concentrate (Intermediate pur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ally inactivated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Vitamin K deficienc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982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of vitamin 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n veget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zed by intestinal fl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d for synthe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s II, VII, IX ,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 and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 of defici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nutr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iary obstr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absorp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tamin 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sh frozen pla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5560" y="837720"/>
            <a:ext cx="87440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ffcc"/>
                </a:solidFill>
                <a:latin typeface="Flexure"/>
              </a:rPr>
              <a:t>VASCULAR PHASE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057040" y="25146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BLOOD VESSEL IS DAMAGED, VASOCONSTRICTION RESUL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400" y="266400"/>
            <a:ext cx="9629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ommon clinical conditions associated with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isseminated Intravascular Coagula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65320" y="2438280"/>
            <a:ext cx="427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d inj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t embol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ign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05520" y="2438280"/>
            <a:ext cx="427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tetrical com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niotic fluid embol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uptio placent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cular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 to toxin (e.g. snake venom, dru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ologic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allergic re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lant rej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2600" y="1447920"/>
            <a:ext cx="828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ctivation of both coagulation and fibrino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Trigger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8400" y="266400"/>
            <a:ext cx="9553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isseminated Intravascular Coagulation (DIC)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Mechanism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490920" y="1730520"/>
            <a:ext cx="30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ic acti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a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2600" y="333072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vasc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osition of fibr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27760" y="3025800"/>
            <a:ext cx="361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letion of plate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coagulation 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72920" y="50832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040" y="5083200"/>
            <a:ext cx="316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mbosis of sm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idsize vess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organ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1752480"/>
            <a:ext cx="3124080" cy="8384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30240" y="5029200"/>
            <a:ext cx="3124080" cy="129528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10280" y="5029200"/>
            <a:ext cx="1600200" cy="53352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30240" y="3276720"/>
            <a:ext cx="29718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3276720"/>
            <a:ext cx="373392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352680" y="2743200"/>
            <a:ext cx="1447920" cy="3049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57800" y="2743200"/>
            <a:ext cx="1371600" cy="3049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62320" y="4267080"/>
            <a:ext cx="0" cy="6098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72400" y="4267080"/>
            <a:ext cx="0" cy="6098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676680" y="5156280"/>
            <a:ext cx="274320" cy="221760"/>
            <a:chOff x="3676680" y="5156280"/>
            <a:chExt cx="274320" cy="221760"/>
          </a:xfrm>
        </p:grpSpPr>
        <p:sp>
          <p:nvSpPr>
            <p:cNvPr id="382" name=""/>
            <p:cNvSpPr/>
            <p:nvPr/>
          </p:nvSpPr>
          <p:spPr>
            <a:xfrm>
              <a:off x="3702600" y="5156280"/>
              <a:ext cx="222480" cy="221760"/>
            </a:xfrm>
            <a:prstGeom prst="line">
              <a:avLst/>
            </a:prstGeom>
            <a:ln w="507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676680" y="5156280"/>
              <a:ext cx="274320" cy="221760"/>
            </a:xfrm>
            <a:prstGeom prst="line">
              <a:avLst/>
            </a:prstGeom>
            <a:ln w="507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athogenesis of DIC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10160" y="2703600"/>
            <a:ext cx="16275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ag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71160" y="2703600"/>
            <a:ext cx="158328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rino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78080" y="3332160"/>
            <a:ext cx="12754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Fibrinoge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90680" y="4495680"/>
            <a:ext cx="1251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Fibri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Monomer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90880" y="5694480"/>
            <a:ext cx="164592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Fibri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Clo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(intravascular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40480" y="4821120"/>
            <a:ext cx="142020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Fibrin(ogen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Degrad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Product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32040" y="2908440"/>
            <a:ext cx="20462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44640" y="3089160"/>
            <a:ext cx="0" cy="433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14920" y="5121360"/>
            <a:ext cx="0" cy="533160"/>
          </a:xfrm>
          <a:prstGeom prst="line">
            <a:avLst/>
          </a:prstGeom>
          <a:ln w="50760">
            <a:solidFill>
              <a:srgbClr val="00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59600" y="3511440"/>
            <a:ext cx="1955160" cy="250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2" y="0"/>
                </a:moveTo>
                <a:arcTo wR="10800" hR="10800" stAng="-5405706" swAng="5405706"/>
                <a:lnTo>
                  <a:pt x="10800" y="10800"/>
                </a:lnTo>
                <a:close/>
              </a:path>
              <a:path fill="none" w="21600" h="21600">
                <a:moveTo>
                  <a:pt x="10782" y="0"/>
                </a:moveTo>
                <a:arcTo wR="10800" hR="10800" stAng="-5405706" swAng="5405706"/>
              </a:path>
            </a:pathLst>
          </a:custGeom>
          <a:noFill/>
          <a:ln cap="rnd" w="50760">
            <a:solidFill>
              <a:srgbClr val="00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2240" y="5217120"/>
            <a:ext cx="2600280" cy="91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2"/>
                </a:moveTo>
                <a:arcTo wR="10800" hR="10800" stAng="-12211" swAng="5412211"/>
                <a:lnTo>
                  <a:pt x="10800" y="10800"/>
                </a:lnTo>
                <a:close/>
              </a:path>
              <a:path fill="none" w="21600" h="21600">
                <a:moveTo>
                  <a:pt x="21600" y="10762"/>
                </a:moveTo>
                <a:arcTo wR="10800" hR="10800" stAng="-12211" swAng="5412211"/>
              </a:path>
            </a:pathLst>
          </a:custGeom>
          <a:noFill/>
          <a:ln cap="rnd" w="50760">
            <a:solidFill>
              <a:srgbClr val="00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121280" y="5265720"/>
            <a:ext cx="583920" cy="0"/>
          </a:xfrm>
          <a:prstGeom prst="line">
            <a:avLst/>
          </a:prstGeom>
          <a:ln w="5076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27520" y="6091920"/>
            <a:ext cx="1187640" cy="409320"/>
          </a:xfrm>
          <a:prstGeom prst="roundRect">
            <a:avLst>
              <a:gd name="adj" fmla="val 41662"/>
            </a:avLst>
          </a:prstGeom>
          <a:solidFill>
            <a:srgbClr val="66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40680" bIns="40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Arial"/>
              </a:rPr>
              <a:t>Plasmi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417760" y="3529080"/>
            <a:ext cx="1437480" cy="1267560"/>
            <a:chOff x="2417760" y="3529080"/>
            <a:chExt cx="1437480" cy="1267560"/>
          </a:xfrm>
        </p:grpSpPr>
        <p:sp>
          <p:nvSpPr>
            <p:cNvPr id="399" name=""/>
            <p:cNvSpPr/>
            <p:nvPr/>
          </p:nvSpPr>
          <p:spPr>
            <a:xfrm>
              <a:off x="2417760" y="3529080"/>
              <a:ext cx="1437480" cy="12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6" y="21600"/>
                  </a:moveTo>
                  <a:arcTo wR="10800" hR="10800" stAng="5407778" swAng="54010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6" y="21600"/>
                  </a:moveTo>
                  <a:arcTo wR="10800" hR="10800" stAng="5407778" swAng="5401015"/>
                </a:path>
              </a:pathLst>
            </a:custGeom>
            <a:noFill/>
            <a:ln cap="rnd" w="50760">
              <a:solidFill>
                <a:srgbClr val="00cc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19200" y="3529080"/>
              <a:ext cx="1434600" cy="12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206" swAng="5383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206" swAng="5383448"/>
                </a:path>
              </a:pathLst>
            </a:custGeom>
            <a:noFill/>
            <a:ln cap="rnd"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149480" y="3608640"/>
            <a:ext cx="1390680" cy="409320"/>
          </a:xfrm>
          <a:prstGeom prst="roundRect">
            <a:avLst>
              <a:gd name="adj" fmla="val 41662"/>
            </a:avLst>
          </a:prstGeom>
          <a:solidFill>
            <a:srgbClr val="66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40680" bIns="40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Arial"/>
              </a:rPr>
              <a:t>Thrombi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11640" y="3593160"/>
            <a:ext cx="1185840" cy="409320"/>
          </a:xfrm>
          <a:prstGeom prst="roundRect">
            <a:avLst>
              <a:gd name="adj" fmla="val 41662"/>
            </a:avLst>
          </a:prstGeom>
          <a:solidFill>
            <a:srgbClr val="66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40680" bIns="40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Arial"/>
              </a:rPr>
              <a:t>Plasmi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89440" y="3089160"/>
            <a:ext cx="0" cy="433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54280" y="1743120"/>
            <a:ext cx="23036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40680" bIns="406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lease of thromboplastic material int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ircul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053800" y="2394000"/>
            <a:ext cx="839880" cy="26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54560" y="2050920"/>
            <a:ext cx="240768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mption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agulation factor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ce of FD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aP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Fibrino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ce of plasm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FD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avascular c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Plate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Schistoc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89680" y="1935000"/>
            <a:ext cx="2698920" cy="4164120"/>
          </a:xfrm>
          <a:prstGeom prst="rect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isseminated Intravascular Coagulation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reatment approach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869292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of underlying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oagulation with hepa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let trans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frozen plas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gulation inhibitor concentrate (ATI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assification of platelet disorder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7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it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ution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de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401800" y="198108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erited disorders (r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quired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renal fail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diopulmonary by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2286000"/>
            <a:ext cx="8686800" cy="0"/>
          </a:xfrm>
          <a:prstGeom prst="line">
            <a:avLst/>
          </a:prstGeom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hrombocytopen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79200" y="2017800"/>
            <a:ext cx="7436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e-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ioapth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in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gen 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phoproliferativ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coid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angiopathic hemolytic an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Liver Disease and Hemostasi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82080" cy="2673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rmAutofit fontScale="74000"/>
          </a:bodyPr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synthesis of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I, VII, IX, X, XI, and fibrino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tary Vitamin K deficiency (Inadequate intake or malabsor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fibrinoge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fibrinolysis (Decreased alpha-2-antiplas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mbocytoepnia due to hypersple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Management of Hemostatic Defects in Liver Diseas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82080" cy="2673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rmAutofit fontScale="62000"/>
          </a:bodyPr>
          <a:p>
            <a:pPr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for prolonged PT/P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tamin K 10 mg SQ x 3 days - usually ineff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0">
              <a:lnSpc>
                <a:spcPct val="90000"/>
              </a:lnSpc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sh-frozen plasma inf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-30% of plasma volume (1200-1500 m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mmediate but temporary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for low fibrino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oprecipitate (1 unit/10kg body weig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for DIC (Elevated D-dimer, low factor VIII, thrombocytop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0">
              <a:lnSpc>
                <a:spcPct val="90000"/>
              </a:lnSpc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0">
              <a:lnSpc>
                <a:spcPct val="90000"/>
              </a:lnSpc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0">
              <a:lnSpc>
                <a:spcPct val="90000"/>
              </a:lnSpc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0">
              <a:lnSpc>
                <a:spcPct val="90000"/>
              </a:lnSpc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28760" y="266400"/>
            <a:ext cx="9401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Vitamin K deficiency due to warfarin overdose</a:t>
            </a:r>
            <a:br>
              <a:rPr sz="3200"/>
            </a:b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Managing high INR valu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5640" y="1852560"/>
            <a:ext cx="8922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sit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R therapeutic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or omit next dos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me therapy when INR is therapeu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R 5-9; no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or omit next dos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me therapy when INR is therapeu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it dose and give vitamin K (1-2.5 mg p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pid reversal: vitamin K 2-4 mg po (repea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R &gt;9; no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it dose; vitamin K 3-5 mg po; repeat as 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me therapy at lower dose when INR therapeu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2286000"/>
            <a:ext cx="87627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6019920"/>
            <a:ext cx="87627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4280" y="6165720"/>
            <a:ext cx="35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hest 2001:119;22-38s (supplement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Vitamin K deficiency due to warfarin overdose</a:t>
            </a:r>
            <a:br>
              <a:rPr sz="3200"/>
            </a:br>
            <a:r>
              <a:rPr b="0" i="1" lang="en-US" sz="2400" spc="-1" strike="noStrike">
                <a:solidFill>
                  <a:srgbClr val="00ffff"/>
                </a:solidFill>
                <a:latin typeface="Arial"/>
              </a:rPr>
              <a:t>Managing high INR values in bleeding patient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8800" y="1752480"/>
            <a:ext cx="964188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sit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R &gt; 20; serious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it warfar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tamin K 10 mg slow IV i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FP or PCC (depending on urgenc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 vitamin K injections every 12 hrs as nee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life-threatening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it warfar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tamin K 10 mg slow IV i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C ( or recombinant human factor VII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 vitamin K injections every 12 hrs as nee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2209680"/>
            <a:ext cx="944892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5486400"/>
            <a:ext cx="944892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4840" y="571500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hest 2001:119;22-38s (suppleme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33640" y="11426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Flexure"/>
              </a:rPr>
              <a:t>PLATELET PHA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057040" y="25146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LETS ADHERE TO THE DAMAGED SURFACE AND FORM A TEMPORARY PL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Approach to Post-operative bleeding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82080" cy="2673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rmAutofit fontScale="74000"/>
          </a:bodyPr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bleeding local or due to a hemostatic failu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: Single site of bleeding usually rapid with minimal coagulation test abnorm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ostatic failure: Multiple site or unusual pattern with abnormal coagulation te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for causes of peri-operative hemostatic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existing abnorm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ses (e.g. Cardiopulmonmary bypa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is of hemostatic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pre-operativ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ain updated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114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Laboratory Evaluation of Bleeding</a:t>
            </a:r>
            <a:br>
              <a:rPr sz="36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10287000" cy="4978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BC and sme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telet cou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mbocytope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BC and platelet morpholog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TP, DIC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agul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hrombin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insic/common path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thromboplastin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insic/common path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agulation factor assay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factor defici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:50 mi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ibitors (e.g., antibod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brinogen ass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d fibrino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mbin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ative/quantit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brinogen def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DPs or D-dim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brinolysis (D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latelet fun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n Willebrand fa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W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eeding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viv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est (non-specif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telet function analyzer (PF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ative platelet disorder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 vW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telet function t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ative platelet dis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0280" y="1355760"/>
            <a:ext cx="924876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124080" y="5791320"/>
            <a:ext cx="990720" cy="30456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330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Laboratory Evaluation of the Coagulation Pathway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0080" y="1447920"/>
            <a:ext cx="378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artial thromboplast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PT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0" y="1447920"/>
            <a:ext cx="25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othromb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08040" y="3618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1400" y="40384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trinsic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9920" y="40384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xtrinsic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30280" y="525780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6400" y="53341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romb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5520" y="57913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omb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19320" y="2362320"/>
            <a:ext cx="2286000" cy="99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1680" y="2362320"/>
            <a:ext cx="209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activating 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llagic acid, kaoli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2362320"/>
            <a:ext cx="1523880" cy="99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22680" y="2362320"/>
            <a:ext cx="1409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omboplast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ssue fa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505320"/>
            <a:ext cx="1524240" cy="129528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028840" y="3505320"/>
            <a:ext cx="1523880" cy="129528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4952880"/>
            <a:ext cx="0" cy="137160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23360" y="63309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brin c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52200" y="151920"/>
            <a:ext cx="750564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oagulation factor deficiencies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2600" y="1560240"/>
            <a:ext cx="9010440" cy="4459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rmAutofit fontScale="91000"/>
          </a:bodyPr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-linked rec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s VIII and IX deficiencies cause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9520" indent="0">
              <a:lnSpc>
                <a:spcPct val="10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longed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TT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T 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somal recessive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(ra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s II, V, VII, X, XI, fibrinogen deficiencies cause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9520" indent="0">
              <a:lnSpc>
                <a:spcPct val="10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longed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/or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9520" indent="0">
              <a:lnSpc>
                <a:spcPct val="10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XIII deficiency is associated with bleeding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ired wound hea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9520" indent="0">
              <a:lnSpc>
                <a:spcPct val="10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T/ PTT normal;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lot solubil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b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9520" indent="0">
              <a:lnSpc>
                <a:spcPct val="10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XII, prekallikrein, HMWK defici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o not cause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hrombin Tim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passes factors II-X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rate of fibrinogen conversion to fib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rombin with patient pla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time to c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and quantity of throm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auses of prolonged Thrombin Tim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fibrinoge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fibrinoge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d FDPs or para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mbin inhibitors (Hirud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mbin antibo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assification of thrombocytopeni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562720" y="1663560"/>
            <a:ext cx="4551120" cy="27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ociated with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mune-mediated thrombocytopenia (IT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316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ociated with thromb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mbotic thrombocytopenic purp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parin-associated thrombocytop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ousseau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leeding time and bleed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51440" y="4227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23040" y="4684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37040" y="2627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84560" y="66657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-10% of patients have a prolonged bleeding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prolonged bleeding  times are due to aspirin or drug ing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onged bleeding time does not predict excess surgical blood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recommended for routine testing in preoperative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0374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bf631"/>
                </a:solidFill>
                <a:latin typeface="Arial"/>
              </a:rPr>
              <a:t>Drugs and blood products used for blee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reatment Approaches to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he Bleeding Patien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let transfu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frozen plas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o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DAV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binant Human factor VI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85560" y="1066680"/>
            <a:ext cx="87440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Flexure"/>
              </a:rPr>
              <a:t>COAGULATION PHA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057040" y="25146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TWO SEPARATE PATHWAYS THE CONVERSION OF FIBRINOGEN TO FIBRIN IS COMPLE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BC transfusion therapy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Indicat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oxygen carrying capacity of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anemia that is symptom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-operativ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d blood cell transfusions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Special prepara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1905120"/>
            <a:ext cx="10287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V-neg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V-negative pati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 CM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radiated RB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une deficient recipi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 GVH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direct don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ukopo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ious non-hemoly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re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fusion re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V negative pati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hed RB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NH pati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hemo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gA deficient recipi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anaphylax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d blood cell transfusions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Adverse react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1600200"/>
            <a:ext cx="10287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ologic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ly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BC incompat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phylax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unknown; rarely against I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brile rea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ody to neutroph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tic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ody to donor plasma prot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cardiogen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or antibody to leukocy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ed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220968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487692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d blood cell transfusions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Adverse react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1600200"/>
            <a:ext cx="8001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immunologic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stive heart fail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over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and sho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l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alcem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ive transf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" y="2971800"/>
            <a:ext cx="769608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8120" y="5181480"/>
            <a:ext cx="77151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ransfusion-transmitted diseas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1600200"/>
            <a:ext cx="10287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us ag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/50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patitis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60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patitis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50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patitis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1/1,00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LV I/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64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donors are sero-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250 in platelet transf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utzfeld-Jakob dis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2209680"/>
            <a:ext cx="86583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latelet transfusion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elet concentrate (Random don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eresis platelets (Single don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e marrow suppressed patient (&gt;10-20,000/µ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/surgical patient (&gt;50,000/µ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latelet transfusions - complicat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usion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incidence than in RBC transf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length of storage/leukocytes/RBC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l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let transfusion refractor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immune destruction of platelets (HLA antige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immune refractorin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angiopathic hemolytic an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agulopath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enic seque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ver and inf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tions (Amphotericin, vancomycin, ATG, Interfer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resh frozen plasm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- plasma (decreased factor V and VI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coagulation deficiencies (liver disease, trau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farin rever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gulation deficiency (factor XI or V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e (225 ml/un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-15 ml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al screened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 compa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ryoprecipitat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d from FF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 VIII, von Willebrand factor, fibrino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brinogen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n Willebrand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e (1 unit = 1 ba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 units/10 kg body 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42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Hemostatic drugs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minocaproic acid (Amicar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 activation plaminogen -&gt; plas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mg/kg po or IV q 4 h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ary menorrhag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al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eeding in patients with thrombocytope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loss during cardiac surg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 tox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mbi 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86080" y="228600"/>
            <a:ext cx="8381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Flexure"/>
              </a:rPr>
              <a:t>THE CLOTTING MECH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2040" y="762120"/>
            <a:ext cx="838224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86080" y="1295280"/>
            <a:ext cx="236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lexure"/>
              </a:rPr>
              <a:t>INTRINSI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9280" y="129528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lexure"/>
              </a:rPr>
              <a:t>EXTRIN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04840" y="5867280"/>
            <a:ext cx="594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HROMB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M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6095880"/>
            <a:ext cx="45720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58080" y="6095880"/>
            <a:ext cx="182880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10560" y="49528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RINO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86880" y="6248520"/>
            <a:ext cx="213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R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572680" y="54100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19240" y="617364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62440" y="617220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I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877240" y="525780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90840" y="495288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19440" y="42670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48040" y="4724280"/>
            <a:ext cx="0" cy="121932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52760" y="2286000"/>
            <a:ext cx="990720" cy="182880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43480" y="1828800"/>
            <a:ext cx="396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ssue Thromboplas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14680" y="182880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a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10160" y="28954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14680" y="236232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19240" y="281952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47840" y="32767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76440" y="36576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000680" y="2286000"/>
            <a:ext cx="761760" cy="175248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Hemostatic drugs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Desmopressin (DDAVP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release of VWF from endothel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3µg/kg IV q12 h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mg intranasal q12h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patients with von Willebrand dis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d hemophilia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al flushing and head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retention and hyponatr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28400" y="266400"/>
            <a:ext cx="9629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Recombinant human factor VIIa (rhVIIa;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Novoseve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8744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activation of common path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VIII inhibi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eeding with other clotting dis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farin overdose with bleed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S bleeding with or without warfar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 µg/kg IV q 2 h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as clinically indicat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(70 kg person) -  $1 per µ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$5,000/dose or $60,000/d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Approach to bleeding disorders</a:t>
            </a:r>
            <a:br>
              <a:rPr sz="36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69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correct any specific defect of hemost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oratory testing is almost always needed to establish the cause of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eening tests (PT,PTT, platelet count) will often allow placement into one of the broad catego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ized testing is usually necessary to establish a specific diagno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on-transfusional drugs whenever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BC transfusions for surgical procedures or large blood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8T16:22:24Z</dcterms:created>
  <dc:creator>art george</dc:creator>
  <dc:description/>
  <dc:language>en-US</dc:language>
  <cp:lastModifiedBy>Dr.abdel-hamid</cp:lastModifiedBy>
  <cp:lastPrinted>1998-09-12T20:39:48Z</cp:lastPrinted>
  <dcterms:modified xsi:type="dcterms:W3CDTF">2006-10-23T20:45:58Z</dcterms:modified>
  <cp:revision>54</cp:revision>
  <dc:subject/>
  <dc:title>BLEEDING DISORDERS</dc:title>
</cp:coreProperties>
</file>