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946-69EE-4E62-A878-1DCB799B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BF4-A45A-4154-A260-BFA7C0B3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166-88F2-499C-826D-5BB04658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018-D885-4617-9411-806A1607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8495-7F31-43FF-9521-80B44299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327-C2BA-4608-B93E-ACE2059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9C45-6957-41B6-80F3-7F8F67EF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BAFA-CEFA-403E-9F0A-4FA1BE8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3B25-B67C-4595-82D0-ED30C8B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7A9-8C62-4FDF-A7CB-52860A9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2D14-7502-4139-BFAE-5905149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E3C-C9CE-4576-8F03-037E346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CF4-FD52-4088-8F42-7F8D5CC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104-4327-4ADC-8247-856D73A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3C9-D869-42B5-A67A-135C9740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4582-8C25-44B8-8902-787CD9A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63E-5B5E-426A-821C-97B87DB6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58F-16DF-46BD-A547-248BF97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A36-16A7-4B24-8C49-7E2D346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A42-281D-4CB9-94A7-37D71FC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B65-07F7-44E4-B1CF-080B27FE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6F3-CB5E-4F26-B11E-AF487DD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8B1-8FD7-4850-BA4F-D547702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0C1-3914-4468-8079-C894192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781-E55E-4151-B81D-75E3D6448F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0D56-26A8-4592-A638-73A33168CB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&amp; BLOOD PRODUCT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RESH FROZEN PLAS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removing plasma fr W.B w/in 8H of collec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ed at –18C or bel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ter,carbohydrates,fats,mineral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teins(all labile &amp; stable clotting fx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-225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 unit of FFP=increase the level of each clotting fx by 2-3% in adul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apeutic dose  : 10-15ml/k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a replacement for isolated coagulation fx def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versal of warfarin 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the case of massive blood transfu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thrombin III def.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rrection of coagulopathy a/w liver disea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ombotic thrombocytopenic purpur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YOPRECIPITA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old-insoluble portion of plasma that remains after FFP has been thawed at 1-6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VIII: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VIII:vW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 XII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brinog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out 10-15ml of plas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ed at –18C &amp; bel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mophillia 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ctor XIII de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./acquired fibrinogen de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 OF BLOOD TRANSF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3059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 OF BLOOD TRANSF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83059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UTE 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Hemolytic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IgM A/b (usuallyABO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m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chill,hemoglobinemia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moglobinuria,hypotension,dyspne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ecrease opportunities for error,trea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F &amp; 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2}Nonhemolytic febrile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A/b to HLA Class I A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ch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ntipyretics,leukocyte deple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Allergic transfusion re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plasma proteins(mild reactions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/b to IgA(anaphylactic reactions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urticaria,erythema,itchin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aphylax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ntihistamines;treat sx,transfuse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gA-deficient compon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4}Noncardiogenic pulmonary transfusion re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ators:donor/recipient WBC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ARD,fever,chill,cyanosis,hypotens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noncardiogenic pulmonary ed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 vigorous respiratory support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ero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ole 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cked C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LOOD PRODU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.F.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ele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UTE NONIMMUNOLOGIC EFFECT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Bacterial contamin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 :endotoxins produced by GN ba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fever,shock,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IV a/biotics;treat hypotension &amp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2}Circulatory overlo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 fluid volu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coughing,cyanosis,orthopnea,severe headache,peripheral edema,diff breath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dminister subsequent Tx slowly &amp; in a small volu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Hemolysis d/t physical/chemical mea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exogenous destruction of RB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ocument &amp; rule out hemolysis d/t other causes;treat D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1}Hemolytic transfusion re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IgG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shortened RBC survival,decreased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,fever,jaundice,hemoglobinu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Ag-negative blood for furthe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nsfus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2}Transfusion associated Graft-versus-hos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d:viable donor lymphocy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x/sn:fever,ski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sh,desquamation,anorexia,nausea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omiting,diarrhea,hepatitis,pancytope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x/px:gamma irradiation of cellular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ne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3}Post-transfusion purpu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platelet specific A/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thrombocytopenia,clinical bleed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IV Ig,plasma exchange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ticostero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NONIMMUNOLOGIC EFFEC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ransfusion-Induced Hemosideros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d:Iron overlo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x/sn: subclinical to deat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x/px:decrease fq of transfusion,neocytes, iron chelation therap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EPS TO BE FOLLOW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ntinue the transfu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the IV line open with N/sali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all labels,forms &amp; pt identifi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ort to Blood Bank personne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d requested blood samp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ANK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YO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Components Prepa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sed on different specific gra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BC : 1.08-1.0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elet : 1.03-1.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using differential centrifugation,blood components separated into lay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2666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rom a unit of whole blood,the centrifuged product settle out into RBC,WBC &amp; platelet-rich plasma(PRP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fter separating PRP fr the bag,PRP again being centrifuge for a longer time &amp; harder spi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lt is heavier than plasma &amp; will settled at the bottom of the bag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OLE BL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rce of product for all blood compon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0-500 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orage temperature :1-6 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to maintain blood volume &amp; O2 carrying capacity in acute,massive blood lo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tively bleeding pt&gt;20% of body blood volu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CKED CEL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removing 200-250ml of plasma from a unit of W.B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-250 m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 not contain functional platelets or 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the same O2 carrying capacity with W.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to increase the O2 carrying capacity in anaemic pt who require an increase in their red cell mass w/out increase in their blood volum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unit: increase Hb level about 1g/dL (10g/L)&amp; Hct by 3%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NULOCY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pared by leukoparesis tec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in of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number of granul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 leuc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-50ml of RB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d.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ve tx for pt with severe neutropenia with documented sepsis unresponsive to a/biotic t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onatal sep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TEL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pared by cytapheresis/by seperating PRP fr a unit of W.B w/in 8H of collection &amp; recentrifuge to remove plas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red at 20-24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unit of plt expected to increase 5000-10000 pl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ca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phylaxi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lutional thrombocytop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tive bleeding d/t thrombocytopenia/thrombocytopath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00:46Z</dcterms:created>
  <dc:creator>baby</dc:creator>
  <dc:description/>
  <dc:language>en-US</dc:language>
  <cp:lastModifiedBy>Dr.abdel-hamid</cp:lastModifiedBy>
  <dcterms:modified xsi:type="dcterms:W3CDTF">2006-10-15T04:21:45Z</dcterms:modified>
  <cp:revision>38</cp:revision>
  <dc:subject/>
  <dc:title>BLOOD &amp; BLOOD PRODUCTS</dc:title>
</cp:coreProperties>
</file>