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C595-F7FD-422D-872B-A0CF3CA9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EFB1-3015-489F-99E5-C8FB538A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A05D-A12C-45E3-AFFA-B113B5CA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E784-2C89-44A4-8B5B-C9C40F34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6D89-9D54-4790-B744-C9997383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72F6-CCEE-4DC8-AFC8-82FB8626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B5C9-0AD3-4382-B172-A9CC9715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218C-A415-4CA0-BC68-0006B850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340F-3382-483C-926B-84212D35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0F96-9836-4145-8CFB-2ABFE9E5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24E5-CE6F-4B58-A43B-23C3F77E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0B86-FD7B-4923-89C5-E9E08655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7F0B-29DE-4945-AE03-3BC45D0F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E7AF-E2FA-40B8-B445-0B7823F8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77B0-3C02-4F3A-8554-407E66B7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DC95-B453-4245-8504-B2CA93C5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3B49-8F8F-4A5D-83B6-EE14B0AD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F0DF-8B05-4007-843C-FC16EE46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16DF-5529-4813-958B-362D205C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823-ECC9-4A2A-BA9E-EADC5202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6DEC-54F6-40DF-8CC3-7AAEFC88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E6C8-43A0-4A95-A825-93E293A9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4C50-89DB-4986-88B4-BA1CBF91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6EE1-3E41-47EC-B053-A54DF4D2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24EF-C08E-4378-9F05-7CCCFD5705C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09A6-0258-4450-80FF-A5F8A708BA0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OOD &amp; BLOOD PRODUCT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RESH FROZEN PLASM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pared by removing plasma fr W.B w/in 8H of collec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ored at –18C or below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tains of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ater,carbohydrates,fats,mineral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teins(all labile &amp; stable clotting fx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00-225m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ch unit of FFP=increase the level of each clotting fx by 2-3% in adul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rapeutic dose  : 10-15ml/k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dication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 a replacement for isolated coagulation fx def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reversal of warfarin Tx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 the case of massive blood transfus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tithrombin III def.Tx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rrection of coagulopathy a/w liver diseas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rombotic thrombocytopenic purpur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RYOPRECIPITA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cold-insoluble portion of plasma that remains after FFP has been thawed at 1-6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tains of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 VIII: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 VIII:vWF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 XII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ibrinog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out 10-15ml of plasm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ored at –18C &amp; below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dication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on Willebrand’s disea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mophillia 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actor XIII def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g./acquired fibrinogen def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PLICATIONS OF BLOOD TRANSF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830592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PLICATIONS OF BLOOD TRANSF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83059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CUTE IMMUNOLOGIC EFFECT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1}Hemolytic transfusion reac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diators:IgM A/b (usuallyABO)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me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x/sn:fever,chill,hemoglobinemia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moglobinuria,hypotension,dyspne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x/px:decrease opportunities for error,treat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RF &amp; DI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2}Nonhemolytic febrile transfusion reac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diators:A/b to HLA Class I A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x/sn:fever,chi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x/px:antipyretics,leukocyte deple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3}Allergic transfusion reac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diators:plasma proteins(mild reactions)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/b to IgA(anaphylactic reactions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x/sn:urticaria,erythema,itching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aphylaxi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x/px:antihistamines;treat sx,transfuse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gA-deficient compon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4}Noncardiogenic pulmonary transfusion reac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diators:donor/recipient WBC A/b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x/sn:ARD,fever,chill,cyanosis,hypotens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noncardiogenic pulmonary edem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x/px: vigorous respiratory support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ero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BLOO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ole Bloo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cked C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ranulocyt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BLOOD PRODU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.F.P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yoprecipita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latele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CUTE NONIMMUNOLOGIC EFFECTS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1}Bacterial contamin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d :endotoxins produced by GN ba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x/sn:fever,shock,hemoglobinuri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x/px:IV a/biotics;treat hypotension &amp;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2}Circulatory overlo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d: fluid volu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x/sn:coughing,cyanosis,orthopnea,severe headache,peripheral edema,diff breath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x/px:administer subsequent Tx slowly &amp; in a small volu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3}Hemolysis d/t physical/chemical mea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d:exogenous destruction of RB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x/sn:hemoglobinuri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x/px:document &amp; rule out hemolysis d/t other causes;treat DI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LAYED IMMUNOLOGIC EFFECT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1}Hemolytic transfusion reac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d:IgG A/b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x/sn:shortened RBC survival,decreased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b,fever,jaundice,hemoglobinuri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x/px:Ag-negative blood for furthe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ransfus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2}Transfusion associated Graft-versus-host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dise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d:viable donor lymphocyt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x/sn:fever,skin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sh,desquamation,anorexia,nausea,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omiting,diarrhea,hepatitis,pancytopen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x/px:gamma irradiation of cellular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nen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3}Post-transfusion purpur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d:platelet specific A/b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x/sn:thrombocytopenia,clinical bleed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x/px:IV Ig,plasma exchange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rticostero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LAYED NONIMMUNOLOGIC EFFECT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2819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Transfusion-Induced Hemosiderosi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d:Iron overloa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x/sn: subclinical to death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x/px:decrease fq of transfusion,neocytes, iron chelation therap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TEPS TO BE FOLLOWE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ntinue the transfus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ep the IV line open with N/salin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eck all labels,forms &amp; pt identifica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ort to Blood Bank personne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nd requested blood samp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ANK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YO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ood Components Prepar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sed on different specific grav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BC : 1.08-1.09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latelet : 1.03-1.0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using differential centrifugation,blood components separated into lay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2666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From a unit of whole blood,the centrifuged product settle out into RBC,WBC &amp; platelet-rich plasma(PRP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After separating PRP fr the bag,PRP again being centrifuge for a longer time &amp; harder spi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lt is heavier than plasma &amp; will settled at the bottom of the bag.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OLE BLOO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urce of product for all blood compon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00-500 m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orage temperature :1-6 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d.:to maintain blood volume &amp; O2 carrying capacity in acute,massive blood los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ctively bleeding pt&gt;20% of body blood volum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ACKED CEL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pared by removing 200-250ml of plasma from a unit of W.B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00-250 m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 not contain functional platelets or granulocyt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the same O2 carrying capacity with W.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d.:to increase the O2 carrying capacity in anaemic pt who require an increase in their red cell mass w/out increase in their blood volum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 unit: increase Hb level about 1g/dL (10g/L)&amp; Hct by 3%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NULOCYT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pared by leukoparesis tech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tain of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rge number of granulocyt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ther leucocyt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0-50ml of RB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d.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pportive tx for pt with severe neutropenia with documented sepsis unresponsive to a/biotic tx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onatal sep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LATEL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epared by cytapheresis/by seperating PRP fr a unit of W.B w/in 8H of collection &amp; recentrifuge to remove plasm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ored at 20-24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ch unit of plt expected to increase 5000-10000 plt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dication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phylaxi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lutional thrombocytopen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ctive bleeding d/t thrombocytopenia/thrombocytopathy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2:00:46Z</dcterms:created>
  <dc:creator>baby</dc:creator>
  <dc:description/>
  <dc:language>en-US</dc:language>
  <cp:lastModifiedBy>Dr.abdel-hamid</cp:lastModifiedBy>
  <dcterms:modified xsi:type="dcterms:W3CDTF">2006-10-15T04:21:45Z</dcterms:modified>
  <cp:revision>38</cp:revision>
  <dc:subject/>
  <dc:title>BLOOD &amp; BLOOD PRODUCTS</dc:title>
</cp:coreProperties>
</file>