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D02-B8B2-4237-8A93-D57196E8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174-8F9D-4F4D-ACA7-3D14C21C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980-4054-4F49-B75E-96A0EB78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3C9-C487-409A-8B28-E4EF5262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A80E-26F1-4A3F-BE02-5F0112DB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AD18-283D-446C-8A37-77A8C0FA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5DB8-85DD-4798-8F4A-9DB6C01B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413B-5ED0-461D-9F3B-C563C8C9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550C-D2ED-472A-BFBF-06F3A526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91EC-CBFC-4162-8D75-14F999F5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003C-0BFE-42B7-931C-1CB6441C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B32-2F84-4846-94E9-839DBFC7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2EAD-36F7-4FC3-8B08-9DFDDC3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7CD9-CBF5-44C5-92DE-D8A823A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F78B-3004-4B3F-B357-F808F836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9DDE-462C-477A-9A2E-CD2A0894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0279-F067-4EB5-A0D8-72B8446B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899-2FEF-4C05-9BE6-BE01BB6D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06C-80DE-4C94-870F-6C0C55CC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7FF-A14F-4F13-B326-A83C384B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10B-5A2D-4C5C-95C6-F186689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5AA-4F0C-4C55-899A-825341B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64F-924D-4301-986D-066C9077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ACC-9D2E-4EA2-A5F8-12481FF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82CA-BB63-4DBF-B349-E478B0D5B0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1C2B-2AF4-4D83-AD4E-EDAB73805BA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dverse Effects of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Arial"/>
              </a:rPr>
              <a:t>Blood Transfusion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cute Transfusion Reactions</a:t>
            </a:r>
            <a:br>
              <a:rPr sz="2800"/>
            </a:b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ebrile Transfusion Rea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CREA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emperature of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 during infusion of blood compon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ociated with trans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“mild &amp; benign” = not life threat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have more severe symptoms, not usu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n-hemoly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aus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cipient antibodies to donor leukocyte antig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81000" y="941400"/>
            <a:ext cx="7486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ebrile Transfusion Rea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en i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ply transfused pati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ple pregna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viously transplan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st rule out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molytic transfusion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terial contamination of un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ukocyte reduction or depletion of compon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cute Transfusion Reactions</a:t>
            </a:r>
            <a:br>
              <a:rPr sz="3200"/>
            </a:b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llergic (Urticarial-Hives)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ransfusion Rea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 of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utaneous hypersensitivi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riggered by recipient antibodies directed agains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or plasma proteins 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 allergens (food, medicines) in donor plas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gins within minutes of i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zed by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ash and/or hiv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itc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involves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elease of histam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ST be sure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t the only reaction is the development of urtica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st rule out more severe symptoms that could lead to anaphylaxi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ioneurotic ed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ryngeal ed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onchial asth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pre-treat recipient with anti-histamines before transfu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6858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Allergic (Urticarial) Reac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cute Transfusion Reactions</a:t>
            </a:r>
            <a:br>
              <a:rPr sz="3200"/>
            </a:b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Anaphylaxi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ife threatening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ipient is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gA defici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ha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ti-Ig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ser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ipient anti-IgA can react to even small amounts of donor IgA in the plasma in any blood compon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ction may occur within minutes of beginning transfusion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nset of symptoms i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SUD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 blood components to remove plasm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Symptom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rning sensation at infusion s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ghing, difficulty in breathing, and bronchospasms can lead to cyano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usea, vomiting, severe abdominal cramps, diarrh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ypotension which can lead to shock, loss of consciousness, &amp;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MUST STOP TX’N IMMEDIATEL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7621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a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30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3000"/>
            </a:b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n-Cardiogenic Pulmonary Edem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When transfusion recipient experiences acute respiratory insufficiency and/or evidence of pulmonary edema without evidence of cardiac failure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echanism’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imary Suspect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Donor antibodies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o recipient WBC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other cause: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WBC emboli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aggregate in the lungs causing edem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lso called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ALI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: Transfusion Related Acute Lung Injur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Non-Cardiogenic Pulmonary Edema (NCP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ymp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hills, fever, cough, cyanosis, hypotension, increased difficulty breathing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requently associated with multiple transfusions over a short period of ti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vention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recipient antibody, give leukoreduced blood products. For donor antibody, may limit future donations of that don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2600"/>
            </a:b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rculatory Overl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pid increases in blood volume to patient with compromised cardiac or pulmonary status. (Most at risk are elderly and pediatric patients) Infusion of 25% albumin is also a cau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igns and Symp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spnea, cyanosis, severe headaches, hypertension or CHF (congestive heart failur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top infusion and place patient in sitting position. Slow down future infus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2600"/>
            </a:b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666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ysically or Chemically Induced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Red Cell Destruc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truction of red blood cells in the collection bag and infusion of free hemoglobin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mproper temperatures: High or 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icrowave blood bag, malfunctioning blood warmer or water bath, inadvertent freezing of bloo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105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Adverse Effects of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Blood Transf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638440"/>
            <a:ext cx="76932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NY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unfavorable consequence is considered an adverse effect of blood transfusion. It is also referred to as a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ransfusion Reaction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isks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ransfusion must be weighed against the expected therapeutic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enefits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914400"/>
            <a:ext cx="7486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hysically or Chemically Induced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Red Cell Destr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Osmotic Hemolysi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ddition of drugs or hypotonic solutions (5% dextrose, deionized water, etc.) to transfus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echanical Hemolysi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aused by rollers in blood pump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essure infusion pump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mall bore needl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dherence to procedures for all aspects of procuring, processing, issuing and administering red blood cell transfusion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2600"/>
            </a:b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Hypocalcem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xcess citr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When plasma (or platelets) are infused at rate &gt;100 mL/minut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dividuals with impaired liver func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itrate is broken down by liv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n more in pediatric and elderly pati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gns and Symptom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acial tingling, nausea, vomit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lowing or discontinuing infusion. Administration of Calcium is not usually necess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2600"/>
            </a:b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Hypotherm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op in core body temperature due to rapid infusion of large volumes of cold blood. Especially if using central cardiac cath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ymptom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creased body temperature and  ventricular arrhythmi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small infants or massive transf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duce rate of infusion or use blood warmers. Pull catheter away from hea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30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3000"/>
            </a:br>
            <a:r>
              <a:rPr b="1" lang="en-US" sz="34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9720" y="2677680"/>
            <a:ext cx="75499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ir Embolis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blood in an open system is infused under pressure or if air enters the system while container or blood administration sets are being changed. Infusion of ai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reatment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lace patient on left side with head down to displace air bubble from pulmonic val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elayed Transfusion Reactions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elayed Hemolytic Transfusion Reac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Onset within days (Anamnestic response, &gt;24 hours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ssociated with Extravascular Hemolysi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Antibodies that usually do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OT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activate Complement to completion: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Rh, Kell, etc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Give antigen negative blood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81000" y="941400"/>
            <a:ext cx="748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99"/>
                </a:solidFill>
                <a:latin typeface="Comic Sans MS"/>
              </a:rPr>
              <a:t>Extravascular Hemo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2666520"/>
            <a:ext cx="4267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gns may inclu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release of free Hgb, RBC stroma, or enzymes into circ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b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medi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hours) 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laye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day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have bilirubinemia or bilirubinu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880" y="25142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haracter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ction within hours to day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tibody attaches to RBC: RBC destroyed in spleen or liver, etc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ly Ig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or may not activate Compl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99"/>
                </a:solidFill>
                <a:latin typeface="Comic Sans MS"/>
              </a:rPr>
              <a:t>Extravascular Hemo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igns &amp; Symptoms continued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ver or fever &amp; ch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und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expected anem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may present as a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BSENC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an anticipated increase in Hemoglobin and hematocr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Delayed Transfusion Reaction</a:t>
            </a: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mmunolgic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raft vs Host Disease (GVHD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onor T-Lymphocytes attack recipient (host) tissu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Groups at risk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munocompromised patients(Cancer, fetus, neonatal, bone marrow transplant and HIV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ign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ever, dermatitis, or erythroderma, hepatitis, diarrhea, pancytopenia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rradiation of blood produ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Delayed Transfusion Reaction</a:t>
            </a: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mmunolgic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6665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ost-transfusion Purpu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tibodies to platelet antigens causes abrupt onset of severe thrombocytopenia (platelet count &lt;10,000/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) 5-10 days following transfu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ign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rpura, bleeding, fall in platelet 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igh dose intravenous immunoglobulin (IVI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elayed Transfusion Reaction</a:t>
            </a: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ron Overloa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ess iron resulting from chronically transfused patients such as hemoglobinopathies, chronic renal failure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gns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cle weakness, fatigue, weight loss, mild jaundice, anemia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eatment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al of iron without reducing patients circulating hemoglobin. Infusion of deferoxamine - an iron chelating agent has been usefu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87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mplications of blood transf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8999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</a:rPr>
              <a:t>EAR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Circulatory over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Febrile non-haemolytic re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Allergic re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Haemolytic reactions: immediate or delay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Bacterial infections from contam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Effects of massive blood transfusions</a:t>
            </a: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Infectious Complication of Blood Transfu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acterial Contamina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tiology: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what point is the bacteria introduced into the donor un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t time of collection: either from the donor or the venipuncture site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uring component preparation, et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 involves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dotoxin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seudomonas, Escherichia coli, Yersinia enterocolitic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Bacterial Contamin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omponent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ost often from platelet components (room temp). Red cell units will look da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ymptom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apid on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ever, hypotension, shaking chills, muscle pa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Vomiting, abdominal cramps, bloody diarrhea, hemoglobinuria, shock, renal failure, &amp; DIC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usion must be stopped immediate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Gram stain &amp; blood cultur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ould be done on the unit, patient and all infusion sets associated with the patient at the time of transfu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Broad-spectrum antibiot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ould be given immediately intravenous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Preven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intain standards of donor selection, blood collection and proper maintenance of collected blood compon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8380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Bacterial Contamin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assive blood los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2437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Comic Sans MS"/>
              </a:rPr>
              <a:t>Medical</a:t>
            </a: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GB" sz="2300" spc="-1" strike="noStrike">
                <a:solidFill>
                  <a:srgbClr val="0000ff"/>
                </a:solidFill>
                <a:latin typeface="Comic Sans MS"/>
              </a:rPr>
              <a:t>emergenc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Comic Sans MS"/>
              </a:rPr>
              <a:t>Loss of one blood volume within 24 hour period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Comic Sans MS"/>
              </a:rPr>
              <a:t>50% blood volume loss within 3 hour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Comic Sans MS"/>
              </a:rPr>
              <a:t>Rate of blood loss </a:t>
            </a:r>
            <a:r>
              <a:rPr b="0" lang="en-GB" sz="21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n-GB" sz="2100" spc="-1" strike="noStrike">
                <a:solidFill>
                  <a:srgbClr val="003366"/>
                </a:solidFill>
                <a:latin typeface="Comic Sans MS"/>
              </a:rPr>
              <a:t> 150ml/min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Comic Sans MS"/>
              </a:rPr>
              <a:t>Any blood loss &gt;2L (SGH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Usually occurs in A&amp;E, operating theatre or obstetric department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High morbidity &amp; mortalit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5008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Massive Blood Los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3581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Ensure adequate venous ac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Attempt to maintain blood volume with saline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plasma expan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 ‘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Flying squad’ blood (O Rh Neg, CMV neg) available if blood required in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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15 minu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2666880" cy="169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1480" y="762120"/>
            <a:ext cx="5303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Massive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Loss:  </a:t>
            </a:r>
            <a:r>
              <a:rPr b="1" lang="en-GB" sz="3600" spc="-1" strike="noStrike">
                <a:solidFill>
                  <a:srgbClr val="003366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Vicious Cy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omic Sans MS"/>
              </a:rPr>
              <a:t>Haemorrh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32800">
            <a:off x="1752480" y="2819520"/>
            <a:ext cx="1079640" cy="157464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275400 h 1574640"/>
              <a:gd name="textAreaBottom" fmla="*/ 1141560 h 15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4290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omic Sans MS"/>
              </a:rPr>
              <a:t>Dilution of clotting factors/DI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Comic Sans MS"/>
              </a:rPr>
              <a:t>and thrombocytopen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1194200">
            <a:off x="6019920" y="2894760"/>
            <a:ext cx="1079280" cy="1575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275400 h 1575000"/>
              <a:gd name="textAreaBottom" fmla="*/ 1141920 h 157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06240" y="6127920"/>
            <a:ext cx="13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603576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omic Sans MS"/>
              </a:rPr>
              <a:t>Massive Blood Transfu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Massive Blood Los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58960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mic Sans MS"/>
              </a:rPr>
              <a:t>Call Blood Bank for :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cc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6600cc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6600cc"/>
                </a:solidFill>
                <a:latin typeface="Comic Sans MS"/>
              </a:rPr>
              <a:t>“</a:t>
            </a:r>
            <a:r>
              <a:rPr b="0" lang="en-US" sz="2300" spc="-1" strike="noStrike">
                <a:solidFill>
                  <a:srgbClr val="6600cc"/>
                </a:solidFill>
                <a:latin typeface="Comic Sans MS"/>
              </a:rPr>
              <a:t>Code Red”</a:t>
            </a:r>
            <a:r>
              <a:rPr b="0" lang="en-US" sz="2300" spc="-1" strike="noStrike">
                <a:solidFill>
                  <a:srgbClr val="6600cc"/>
                </a:solidFill>
                <a:latin typeface="Comic Sans MS"/>
              </a:rPr>
              <a:t>	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006666"/>
                </a:solidFill>
                <a:latin typeface="Comic Sans MS"/>
              </a:rPr>
              <a:t>“</a:t>
            </a:r>
            <a:r>
              <a:rPr b="0" lang="en-US" sz="2300" spc="-1" strike="noStrike">
                <a:solidFill>
                  <a:srgbClr val="006666"/>
                </a:solidFill>
                <a:latin typeface="Comic Sans MS"/>
              </a:rPr>
              <a:t>Code Blue” – Obstetric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mic Sans MS"/>
              </a:rPr>
              <a:t>Blood products issued </a:t>
            </a:r>
            <a:r>
              <a:rPr b="0" lang="en-US" sz="2300" spc="-1" strike="noStrike" u="sng">
                <a:solidFill>
                  <a:srgbClr val="003366"/>
                </a:solidFill>
                <a:uFillTx/>
                <a:latin typeface="Comic Sans MS"/>
              </a:rPr>
              <a:t>automaticall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First Stag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6 units blood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1 litre FFP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2 pools platelet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assive Transfusion: complication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739152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Hypothermia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 acid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Hyperkalaemia: K</a:t>
            </a:r>
            <a:r>
              <a:rPr b="0" lang="en-GB" sz="2400" spc="-1" strike="noStrike" baseline="30000">
                <a:solidFill>
                  <a:srgbClr val="003366"/>
                </a:solidFill>
                <a:latin typeface="Comic Sans MS"/>
              </a:rPr>
              <a:t>+ 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leaks out of red cells during sto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Citrate toxicity additive solution (SAG-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Hypocalcaemia: Ca</a:t>
            </a:r>
            <a:r>
              <a:rPr b="0" lang="en-GB" sz="2400" spc="-1" strike="noStrike" baseline="30000">
                <a:solidFill>
                  <a:srgbClr val="003366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 ions bound by cit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Depletion of platelets and coagulation factors : red blood cells kept in citrate pl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Fluid overload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 acute respiratory distress syndrome (A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Transfusion Reaction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Follow-u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5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Clinical Information Needed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ipient diagno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cal history of pregnancy &amp;/or transf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med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s &amp; symptoms during transfusion re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any mL’s of RBC’s or plasma were transfus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81000" y="8647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Comic Sans MS"/>
              </a:rPr>
              <a:t>Clinical Information Need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e rbc’s cold or warm when transf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a blood warmer use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component manipulated in any way? Water bath, refrigerator, freezer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e red cells infused under pressu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was the size of the needle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e other solutions given through the IV line at the same time?  If so wh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e any other drugs given at the time of transfusion?  If so, wh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were pre- &amp; post- transfusion vital sign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omic Sans MS"/>
              </a:rPr>
              <a:t>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Transfusion transmitted infections (TT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Viruses: Hepatitis B, C; HIV I &amp; II; HTLV I &amp; II; CM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Bacteria: Treponema pallidum (Syphilis); Salmonell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Parasites: Malaria; Toxoplasma; Microfila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Immune sensitis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Transfusion associated lung injury (TRAL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Post-transfusion purpura (PT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ransfusion associated graft-versus-host disease (TA-GvH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Iron over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200400" y="304920"/>
            <a:ext cx="8569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mplication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ransfusion Reaction Follow-up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Post Transfusion Reaction blood samples to be collected from the recipient: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335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lotted speci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EDTA specim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Clotted specime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st voided urine specimen post-tx’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38480" y="26668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Repeat ABO, Rh, IAT and Crossmatch. Visual check for hemolysis and compare with pre transfusion samp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DAT (Direct Antiglobulin Te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Collect 5-7 hours post transfusion to check for bilirub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Free hemoglobin determ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80640" y="864720"/>
            <a:ext cx="7412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ransfusion Reaction Worku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LERICAL CHE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ct identification of  patient, specimen, and transfused un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reement of records and history with current results and interpretation of resul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ct labeling of transfused un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SPECIMEN CHE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isual inspection of post-transfusion specimen 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heck of records for hemolysis in pre-transfusion specimen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etectable at 20mg/d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ost transfusion bilirubin monitoring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isual inspection of Blood bag and lin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Post Transfusion Lab Tes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29714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rect Antiglobulin Test (DAT)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ipient post-tx’n spec.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DO THIS FIR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Positive?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form eluate and identify anti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BO Grouping and Rh Typ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cipi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fusion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fusion speci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n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egment and ba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81000" y="8647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Post Transfusion Lab Tes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rossmatch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cipient pre-transfusion sample with unit and pre-transfusion sample with segm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cipient post-transfusion sample with unit and post-transfusion sample with seg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direct Antiglobulin Test (IAT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ipient Pre- &amp; post-transfusion reaction specime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Positive?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antibody and compare results of serum panel with eluate pane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9900"/>
                </a:solidFill>
                <a:latin typeface="Arial"/>
              </a:rPr>
              <a:t>THANK YOU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dverse Effects of Blood Transfu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ute (&lt;24 hours) Transfusion Reactions -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mmunolog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molytic; Febrile-non hemolytic; Allergic; Anaphylactic; Non Cardiogenic Pulmonary Edema (NCPE)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cute Transfusion Reactions -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onimmunolog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irculatory overload; Hemolytic (Physical or Chemical destruction of RBC); Air embolus; Hypocalcemia; Hypotherm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elayed (&gt;24 Hours) Transfusion Reaction -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mmunolog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molytic (Anamnestic response); Graft vs. Host Disease; Posttransfusion Purp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elayed Transfusion Reactions -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onimmunolog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ron Over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Infectious Complications of Blood Transfu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1000" y="8647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Transfusion Rea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st common causes of transfusion relat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EATH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mproper specimen identif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mproper patient identif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ntibody identification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match procedure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transfusion reactions (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ot all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are the result of human error. As you work through this lecture, consider what could be done to prevent each outco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cute Transfusion Reactions</a:t>
            </a:r>
            <a:br>
              <a:rPr sz="3200"/>
            </a:b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mediate or Acute Hemolytic Transfusion Re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nset within minutes to hours (&lt;24 hours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sociated with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ravascular Hemolysi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tibodies that activate complement to completion in the vasculatur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BO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tibodies are predominant but not the only ones implicate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Give ABO compatible bloo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travascular Hemo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ction begins within minutes of i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gM &amp;/or IgG anti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BC Lysis within vascul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ement activation to comple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ease of histamine and seroton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gns may includ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ain along vein of infusion sit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hoc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bnormal bleeding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lease of cytokines: fever, hypotens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atient apprehens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nal failure due to Hgb and RBC strom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travascular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emo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gns &amp; Symptoms continued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ver or fever &amp; ch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liguria, may progress to…anu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stained hypoten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agulopathy: May progress to Disseminated Intravascular Coagulopathy (DI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 hemoglobin in serum &amp; ur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0:09:03Z</dcterms:created>
  <dc:creator>bzundel</dc:creator>
  <dc:description/>
  <dc:language>en-US</dc:language>
  <cp:lastModifiedBy>Dr.abdel-hamid</cp:lastModifiedBy>
  <dcterms:modified xsi:type="dcterms:W3CDTF">2006-10-16T04:21:59Z</dcterms:modified>
  <cp:revision>23</cp:revision>
  <dc:subject/>
  <dc:title>CLS 3311 Advanced Clinical Immunohematology</dc:title>
</cp:coreProperties>
</file>