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666-42F3-4CB0-9D0A-6E6D610C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A85-024B-48F6-99AD-7A6320D9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6A5-74BD-4DC8-980E-FDA0FB97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9D3-1CA9-4314-A291-645C2F43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7E0A-1277-47E0-A909-F2F31A70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DA63-A3E9-4148-BBC7-8592DA20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A751-AB3E-4D63-BAD7-798FD04C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2AE6-74F8-4134-B163-5EFE8E0F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5024-A3F1-42E2-9EF8-9A664695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72E5-A89C-48C5-9672-0BE10899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A4B9-46D7-405D-A927-969FAF5D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50A-0F4E-4F9D-ABAF-D2248B78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9DC3-2379-42D0-A257-075D78C8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45D6-DD82-4A31-8174-035AB1F0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4F12-F6D4-488D-A26C-B5BA62B1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BBCE-B3AE-4016-A019-2C2C6CA6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DE81-61DE-4146-8952-88A3AE9D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8BC-3924-44D7-B0F7-94ED5C0C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7FB-8353-4285-8066-DE44109C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EFD-6B32-40B7-A699-8B3C96C7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694-BC43-4FBA-865C-08BE8691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093-AE3B-47A4-A6E0-4E7ADBBF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7A3-EE60-4FD2-84C9-D519060A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570-29C4-42CE-BE57-35FF5557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F6A4-BFC2-4238-A10E-AC9FCB72A63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89F7-A5E1-47C0-96BC-9E909624C72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Adverse Effects of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Arial"/>
              </a:rPr>
              <a:t>Blood Transfusion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                                                  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Acute Transfusion Reactions</a:t>
            </a:r>
            <a:br>
              <a:rPr sz="2800"/>
            </a:b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Febrile Transfusion Reac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CREA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emperature of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 during infusion of blood compon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ociated with transf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“mild &amp; benign” = not life threat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have more severe symptoms, not usu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n-hemoly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aus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cipient antibodies to donor leukocyte antige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81000" y="941400"/>
            <a:ext cx="7486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ebrile Transfusion Rea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en i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ply transfused pati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ple pregnan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viously transplan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st rule out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molytic transfusion re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cterial contamination of un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re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ukocyte reduction or depletion of compon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cute Transfusion Reactions</a:t>
            </a:r>
            <a:br>
              <a:rPr sz="3200"/>
            </a:b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llergic (Urticarial-Hives)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ransfusion Reac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 of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utaneous hypersensitivi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riggered by recipient antibodies directed agains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nor plasma proteins 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her allergens (food, medicines) in donor plas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gins within minutes of inf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racterized by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ash and/or hiv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itc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involves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elease of histami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ST be sure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t the only reaction is the development of urtica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st rule out more severe symptoms that could lead to anaphylaxi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gioneurotic ed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ryngeal ed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onchial asth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pre-treat recipient with anti-histamines before transfu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6858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Allergic (Urticarial) React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cute Transfusion Reactions</a:t>
            </a:r>
            <a:br>
              <a:rPr sz="3200"/>
            </a:b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Anaphylaxi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ife threatening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ipient is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gA defici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amp; ha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ti-Ig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ser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ipient anti-IgA can react to even small amounts of donor IgA in the plasma in any blood compon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ction may occur within minutes of beginning transfusion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nset of symptoms i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SUD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revention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h blood components to remove plasm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Symptom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rning sensation at infusion s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ghing, difficulty in breathing, and bronchospasms can lead to cyano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usea, vomiting, severe abdominal cramps, diarrh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ypotension which can lead to shock, loss of consciousness, &amp;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MUST STOP TX’N IMMEDIATEL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7621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a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cute Transfusion </a:t>
            </a:r>
            <a:r>
              <a:rPr b="1" lang="en-US" sz="3000" spc="-1" strike="noStrike">
                <a:solidFill>
                  <a:srgbClr val="cc0000"/>
                </a:solidFill>
                <a:latin typeface="Comic Sans MS"/>
              </a:rPr>
              <a:t>Reactions </a:t>
            </a:r>
            <a:br>
              <a:rPr sz="3000"/>
            </a:b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Non-Cardiogenic Pulmonary Edem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When transfusion recipient experiences acute respiratory insufficiency and/or evidence of pulmonary edema without evidence of cardiac failure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echanism’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imary Suspect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Donor antibodies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to recipient WBC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nother cause: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WBC emboli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aggregate in the lungs causing edem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lso called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ALI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: Transfusion Related Acute Lung Injur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Non-Cardiogenic Pulmonary Edema (NCP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ymp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hills, fever, cough, cyanosis, hypotension, increased difficulty breathing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requently associated with multiple transfusions over a short period of tim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vention: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recipient antibody, give leukoreduced blood products. For donor antibody, may limit future donations of that don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324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Acute Transfusion </a:t>
            </a: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Reactions </a:t>
            </a:r>
            <a:br>
              <a:rPr sz="2600"/>
            </a:b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NON</a:t>
            </a: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rculatory Overl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pid increases in blood volume to patient with compromised cardiac or pulmonary status. (Most at risk are elderly and pediatric patients) Infusion of 25% albumin is also a cau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igns and Symp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yspnea, cyanosis, severe headaches, hypertension or CHF (congestive heart failure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top infusion and place patient in sitting position. Slow down future infus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Acute Transfusion </a:t>
            </a: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Reactions </a:t>
            </a:r>
            <a:br>
              <a:rPr sz="2600"/>
            </a:b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NON</a:t>
            </a: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6668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hysically or Chemically Induced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Red Cell Destruc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truction of red blood cells in the collection bag and infusion of free hemoglobin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mproper temperatures: High or L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icrowave blood bag, malfunctioning blood warmer or water bath, inadvertent freezing of bloo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105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Adverse Effects of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Blood Transf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638440"/>
            <a:ext cx="76932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ANY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unfavorable consequence is considered an adverse effect of blood transfusion. It is also referred to as a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ransfusion Reaction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isks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f transfusion must be weighed against the expected therapeutic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benefits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914400"/>
            <a:ext cx="7486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hysically or Chemically Induced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Red Cell Destr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Osmotic Hemolysi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ddition of drugs or hypotonic solutions (5% dextrose, deionized water, etc.) to transfusi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echanical Hemolysi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aused by rollers in blood pump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ressure infusion pump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mall bore needl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dherence to procedures for all aspects of procuring, processing, issuing and administering red blood cell transfusion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Acute Transfusion </a:t>
            </a: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Reactions </a:t>
            </a:r>
            <a:br>
              <a:rPr sz="2600"/>
            </a:b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NON</a:t>
            </a: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Hypocalcem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xcess citra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When plasma (or platelets) are infused at rate &gt;100 mL/minut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dividuals with impaired liver funct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itrate is broken down by liv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en more in pediatric and elderly pati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igns and Symptom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acial tingling, nausea, vomit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lowing or discontinuing infusion. Administration of Calcium is not usually necessa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Acute Transfusion </a:t>
            </a: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Reactions </a:t>
            </a:r>
            <a:br>
              <a:rPr sz="2600"/>
            </a:b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NON</a:t>
            </a: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Hypotherm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op in core body temperature due to rapid infusion of large volumes of cold blood. Especially if using central cardiac cath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ymptom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ecreased body temperature and  ventricular arrhythmi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e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small infants or massive transf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duce rate of infusion or use blood warmers. Pull catheter away from hea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cute Transfusion </a:t>
            </a:r>
            <a:r>
              <a:rPr b="1" lang="en-US" sz="3000" spc="-1" strike="noStrike">
                <a:solidFill>
                  <a:srgbClr val="cc0000"/>
                </a:solidFill>
                <a:latin typeface="Comic Sans MS"/>
              </a:rPr>
              <a:t>Reactions </a:t>
            </a:r>
            <a:br>
              <a:rPr sz="3000"/>
            </a:br>
            <a:r>
              <a:rPr b="1" lang="en-US" sz="3400" spc="-1" strike="noStrike">
                <a:solidFill>
                  <a:srgbClr val="ff3300"/>
                </a:solidFill>
                <a:latin typeface="Comic Sans MS"/>
              </a:rPr>
              <a:t>NON</a:t>
            </a: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9720" y="2677680"/>
            <a:ext cx="754992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ir Embolis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blood in an open system is infused under pressure or if air enters the system while container or blood administration sets are being changed. Infusion of ai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reatment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lace patient on left side with head down to displace air bubble from pulmonic valv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elayed Transfusion Reactions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Delayed Hemolytic Transfusion Reac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Onset within days (Anamnestic response, &gt;24 hours)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ssociated with Extravascular Hemolysi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Antibodies that usually do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OT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activate Complement to completion: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Rh, Kell, etc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Give antigen negative blood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81000" y="941400"/>
            <a:ext cx="7486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99"/>
                </a:solidFill>
                <a:latin typeface="Comic Sans MS"/>
              </a:rPr>
              <a:t>Extravascular Hemo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2666520"/>
            <a:ext cx="4267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igns may inclu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release of free Hgb, RBC stroma, or enzymes into circ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y b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mmedia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hours) o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layed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day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y have bilirubinemia or bilirubinu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880" y="25142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haracter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ction within hours to days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tibody attaches to RBC: RBC destroyed in spleen or liver, etc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only Ig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y or may not activate Compl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99"/>
                </a:solidFill>
                <a:latin typeface="Comic Sans MS"/>
              </a:rPr>
              <a:t>Extravascular Hemo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igns &amp; Symptoms continued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ver or fever &amp; ch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und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expected anem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may present as a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BSENC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an anticipated increase in Hemoglobin and hematocr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Delayed Transfusion Reaction</a:t>
            </a:r>
            <a:r>
              <a:rPr b="1" lang="en-US" sz="28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mmunolgic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Graft vs Host Disease (GVHD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tiolog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onor T-Lymphocytes attack recipient (host) tissu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Groups at risk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munocompromised patients(Cancer, fetus, neonatal, bone marrow transplant and HIV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ign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ever, dermatitis, or erythroderma, hepatitis, diarrhea, pancytopenia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rradiation of blood produ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Delayed Transfusion Reaction</a:t>
            </a:r>
            <a:r>
              <a:rPr b="1" lang="en-US" sz="28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mmunolgic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26665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ost-transfusion Purpu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tibodies to platelet antigens causes abrupt onset of severe thrombocytopenia (platelet count &lt;10,000/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) 5-10 days following transfu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ign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urpura, bleeding, fall in platelet 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igh dose intravenous immunoglobulin (IVI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elayed Transfusion Reaction</a:t>
            </a: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ff3300"/>
                </a:solidFill>
                <a:latin typeface="Comic Sans MS"/>
              </a:rPr>
              <a:t>NON</a:t>
            </a: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immunolgic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ron Overloa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iology: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ess iron resulting from chronically transfused patients such as hemoglobinopathies, chronic renal failure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igns: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cle weakness, fatigue, weight loss, mild jaundice, anemia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eatment: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al of iron without reducing patients circulating hemoglobin. Infusion of deferoxamine - an iron chelating agent has been usefu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87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Complications of blood transf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8999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omic Sans MS"/>
              </a:rPr>
              <a:t>EAR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Circulatory overl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Febrile non-haemolytic re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Allergic re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Haemolytic reactions: immediate or delay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Bacterial infections from contamin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Effects of massive blood transfusions</a:t>
            </a:r>
            <a:r>
              <a:rPr b="0" lang="en-GB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Infectious Complication of Blood Transfus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Bacterial Contamina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tiology: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what point is the bacteria introduced into the donor un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t time of collection: either from the donor or the venipuncture site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uring component preparation, et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ually involves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dotoxin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Pseudomonas, Escherichia coli, Yersinia enterocolitic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Bacterial Contamin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omponent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ost often from platelet components (room temp). Red cell units will look da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Symptoms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apid on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ever, hypotension, shaking chills, muscle pai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Vomiting, abdominal cramps, bloody diarrhea, hemoglobinuria, shock, renal failure, &amp; DIC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ansfusion must be stopped immediate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Gram stain &amp; blood cultur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hould be done on the unit, patient and all infusion sets associated with the patient at the time of transfu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Broad-spectrum antibiot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hould be given immediately intravenous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Preven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aintain standards of donor selection, blood collection and proper maintenance of collected blood compon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8380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Bacterial Contamin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Massive blood loss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8960" y="2437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ff"/>
                </a:solidFill>
                <a:latin typeface="Comic Sans MS"/>
              </a:rPr>
              <a:t>Medical</a:t>
            </a:r>
            <a:r>
              <a:rPr b="0" lang="en-GB" sz="23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GB" sz="2300" spc="-1" strike="noStrike">
                <a:solidFill>
                  <a:srgbClr val="0000ff"/>
                </a:solidFill>
                <a:latin typeface="Comic Sans MS"/>
              </a:rPr>
              <a:t>emergenc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66"/>
                </a:solidFill>
                <a:latin typeface="Comic Sans MS"/>
              </a:rPr>
              <a:t>Loss of one blood volume within 24 hour period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66"/>
                </a:solidFill>
                <a:latin typeface="Comic Sans MS"/>
              </a:rPr>
              <a:t>50% blood volume loss within 3 hour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66"/>
                </a:solidFill>
                <a:latin typeface="Comic Sans MS"/>
              </a:rPr>
              <a:t>Rate of blood loss </a:t>
            </a:r>
            <a:r>
              <a:rPr b="0" lang="en-GB" sz="2100" spc="-1" strike="noStrike">
                <a:solidFill>
                  <a:srgbClr val="003366"/>
                </a:solidFill>
                <a:latin typeface="Symbol"/>
                <a:ea typeface="Symbol"/>
              </a:rPr>
              <a:t></a:t>
            </a:r>
            <a:r>
              <a:rPr b="0" lang="en-GB" sz="2100" spc="-1" strike="noStrike">
                <a:solidFill>
                  <a:srgbClr val="003366"/>
                </a:solidFill>
                <a:latin typeface="Comic Sans MS"/>
              </a:rPr>
              <a:t> 150ml/min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ff"/>
                </a:solidFill>
                <a:latin typeface="Comic Sans MS"/>
              </a:rPr>
              <a:t>Any blood loss &gt;2L (SGH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66"/>
                </a:solidFill>
                <a:latin typeface="Comic Sans MS"/>
              </a:rPr>
              <a:t>Usually occurs in A&amp;E, operating theatre or obstetric department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66"/>
                </a:solidFill>
                <a:latin typeface="Comic Sans MS"/>
              </a:rPr>
              <a:t>High morbidity &amp; mortalit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5008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Massive Blood Los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3581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Ensure adequate venous ac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Attempt to maintain blood volume with saline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plasma expand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 ‘</a:t>
            </a: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Flying squad’ blood (O Rh Neg, CMV neg) available if blood required in 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</a:t>
            </a: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15 minu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2666880" cy="169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01480" y="762120"/>
            <a:ext cx="5303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Massive</a:t>
            </a: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Loss:  </a:t>
            </a:r>
            <a:r>
              <a:rPr b="1" lang="en-GB" sz="3600" spc="-1" strike="noStrike">
                <a:solidFill>
                  <a:srgbClr val="003366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 Vicious Cyc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Comic Sans MS"/>
              </a:rPr>
              <a:t>Haemorrh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532800">
            <a:off x="1752480" y="2819520"/>
            <a:ext cx="1079640" cy="157464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275400 h 1574640"/>
              <a:gd name="textAreaBottom" fmla="*/ 1141560 h 157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4290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Comic Sans MS"/>
              </a:rPr>
              <a:t>Dilution of clotting factors/DI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3366"/>
                </a:solidFill>
                <a:latin typeface="Comic Sans MS"/>
              </a:rPr>
              <a:t>and thrombocytopeni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1194200">
            <a:off x="6019920" y="2894760"/>
            <a:ext cx="1079280" cy="1575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275400 h 1575000"/>
              <a:gd name="textAreaBottom" fmla="*/ 1141920 h 157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06240" y="6127920"/>
            <a:ext cx="13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66880" y="603576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Comic Sans MS"/>
              </a:rPr>
              <a:t>Massive Blood Transfus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Massive Blood Los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589608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Comic Sans MS"/>
              </a:rPr>
              <a:t>Call Blood Bank for :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cc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6600cc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6600cc"/>
                </a:solidFill>
                <a:latin typeface="Comic Sans MS"/>
              </a:rPr>
              <a:t>“</a:t>
            </a:r>
            <a:r>
              <a:rPr b="0" lang="en-US" sz="2300" spc="-1" strike="noStrike">
                <a:solidFill>
                  <a:srgbClr val="6600cc"/>
                </a:solidFill>
                <a:latin typeface="Comic Sans MS"/>
              </a:rPr>
              <a:t>Code Red”</a:t>
            </a:r>
            <a:r>
              <a:rPr b="0" lang="en-US" sz="2300" spc="-1" strike="noStrike">
                <a:solidFill>
                  <a:srgbClr val="6600cc"/>
                </a:solidFill>
                <a:latin typeface="Comic Sans MS"/>
              </a:rPr>
              <a:t>	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006666"/>
                </a:solidFill>
                <a:latin typeface="Comic Sans MS"/>
              </a:rPr>
              <a:t>“</a:t>
            </a:r>
            <a:r>
              <a:rPr b="0" lang="en-US" sz="2300" spc="-1" strike="noStrike">
                <a:solidFill>
                  <a:srgbClr val="006666"/>
                </a:solidFill>
                <a:latin typeface="Comic Sans MS"/>
              </a:rPr>
              <a:t>Code Blue” – Obstetric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Comic Sans MS"/>
              </a:rPr>
              <a:t>Blood products issued </a:t>
            </a:r>
            <a:r>
              <a:rPr b="0" lang="en-US" sz="2300" spc="-1" strike="noStrike" u="sng">
                <a:solidFill>
                  <a:srgbClr val="003366"/>
                </a:solidFill>
                <a:uFillTx/>
                <a:latin typeface="Comic Sans MS"/>
              </a:rPr>
              <a:t>automaticall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66"/>
                </a:solidFill>
                <a:latin typeface="Comic Sans MS"/>
              </a:rPr>
              <a:t>First Stag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66"/>
                </a:solidFill>
                <a:latin typeface="Comic Sans MS"/>
              </a:rPr>
              <a:t>6 units blood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66"/>
                </a:solidFill>
                <a:latin typeface="Comic Sans MS"/>
              </a:rPr>
              <a:t>1 litre FFP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66"/>
                </a:solidFill>
                <a:latin typeface="Comic Sans MS"/>
              </a:rPr>
              <a:t>2 pools platelet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172200" y="2286000"/>
            <a:ext cx="2590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Massive Transfusion: complication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739152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Hypothermia 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 acido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Hyperkalaemia: K</a:t>
            </a:r>
            <a:r>
              <a:rPr b="0" lang="en-GB" sz="2400" spc="-1" strike="noStrike" baseline="30000">
                <a:solidFill>
                  <a:srgbClr val="003366"/>
                </a:solidFill>
                <a:latin typeface="Comic Sans MS"/>
              </a:rPr>
              <a:t>+ </a:t>
            </a: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leaks out of red cells during stor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Citrate toxicity additive solution (SAG-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Hypocalcaemia: Ca</a:t>
            </a:r>
            <a:r>
              <a:rPr b="0" lang="en-GB" sz="2400" spc="-1" strike="noStrike" baseline="30000">
                <a:solidFill>
                  <a:srgbClr val="003366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 ions bound by citr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Depletion of platelets and coagulation factors : red blood cells kept in citrate pl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Fluid overload 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 acute respiratory distress syndrome (ARD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Transfusion Reaction 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Follow-up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5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Clinical Information Needed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ipient diagno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dical history of pregnancy &amp;/or transf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medi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s &amp; symptoms during transfusion re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many mL’s of RBC’s or plasma were transfus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81000" y="8647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Comic Sans MS"/>
              </a:rPr>
              <a:t>Clinical Information Need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re rbc’s cold or warm when transfu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s a blood warmer use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s component manipulated in any way? Water bath, refrigerator, freezer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re red cells infused under pressu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was the size of the needle u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re other solutions given through the IV line at the same time?  If so wha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re any other drugs given at the time of transfusion?  If so, wha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were pre- &amp; post- transfusion vital sign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2096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omic Sans MS"/>
              </a:rPr>
              <a:t>L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Transfusion transmitted infections (TT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omic Sans MS"/>
              </a:rPr>
              <a:t>Viruses: Hepatitis B, C; HIV I &amp; II; HTLV I &amp; II; CM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omic Sans MS"/>
              </a:rPr>
              <a:t>Bacteria: Treponema pallidum (Syphilis); Salmonell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omic Sans MS"/>
              </a:rPr>
              <a:t>Parasites: Malaria; Toxoplasma; Microfilar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Immune sensitis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omic Sans MS"/>
              </a:rPr>
              <a:t>Transfusion associated lung injury (TRAL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Comic Sans MS"/>
              </a:rPr>
              <a:t>Post-transfusion purpura (PT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ransfusion associated graft-versus-host disease (TA-GvHD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Comic Sans MS"/>
              </a:rPr>
              <a:t>Iron overl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200400" y="304920"/>
            <a:ext cx="85694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Complication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ransfusion Reaction Follow-up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Post Transfusion Reaction blood samples to be collected from the recipient: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335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lotted specim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Comic Sans MS"/>
              </a:rPr>
              <a:t>EDTA specim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Clotted specime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st voided urine specimen post-tx’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38480" y="26668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Repeat ABO, Rh, IAT and Crossmatch. Visual check for hemolysis and compare with pre transfusion samp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Comic Sans MS"/>
              </a:rPr>
              <a:t>DAT (Direct Antiglobulin Te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Collect 5-7 hours post transfusion to check for bilirub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Free hemoglobin determin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80640" y="864720"/>
            <a:ext cx="7412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Transfusion Reaction Worku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mic Sans MS"/>
              </a:rPr>
              <a:t>CLERICAL CHE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ct identification of  patient, specimen, and transfused un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reement of records and history with current results and interpretation of resul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ct labeling of transfused un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Comic Sans MS"/>
              </a:rPr>
              <a:t>SPECIMEN CHE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Visual inspection of post-transfusion specimen 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heck of records for hemolysis in pre-transfusion specimen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detectable at 20mg/dL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ost transfusion bilirubin monitoring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Visual inspection of Blood bag and lin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Post Transfusion Lab Tes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297144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rect Antiglobulin Test (DAT)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ipient post-tx’n spec.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DO THIS FIR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Positive?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form eluate and identify antib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BO Grouping and Rh Typ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cipi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fusion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fusion specim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on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egment and ba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81000" y="8647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Post Transfusion Lab Tes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rossmatch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cipient pre-transfusion sample with unit and pre-transfusion sample with segm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cipient post-transfusion sample with unit and post-transfusion sample with seg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direct Antiglobulin Test (IAT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ipient Pre- &amp; post-transfusion reaction specime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Positive?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y antibody and compare results of serum panel with eluate pane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3276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9900"/>
                </a:solidFill>
                <a:latin typeface="Arial"/>
              </a:rPr>
              <a:t>THANK YOU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533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Adverse Effects of Blood Transfus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cute (&lt;24 hours) Transfusion Reactions -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mmunolog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molytic; Febrile-non hemolytic; Allergic; Anaphylactic; Non Cardiogenic Pulmonary Edema (NCPE)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cute Transfusion Reactions -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Nonimmunologi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irculatory overload; Hemolytic (Physical or Chemical destruction of RBC); Air embolus; Hypocalcemia; Hypotherm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Delayed (&gt;24 Hours) Transfusion Reaction -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mmunolog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molytic (Anamnestic response); Graft vs. Host Disease; Posttransfusion Purpur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Delayed Transfusion Reactions -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Nonimmunologi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ron Overlo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Comic Sans MS"/>
              </a:rPr>
              <a:t>Infectious Complications of Blood Transfu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1000" y="8647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Transfusion Rea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ost common causes of transfusion related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EATH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mproper specimen identifi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mproper patient identifi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ntibody identification err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rossmatch procedure err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st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transfusion reactions (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ot all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are the result of human error. As you work through this lecture, consider what could be done to prevent each outco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cute Transfusion Reactions</a:t>
            </a:r>
            <a:br>
              <a:rPr sz="3200"/>
            </a:br>
            <a:r>
              <a:rPr b="1" lang="en-US" sz="3400" spc="-1" strike="noStrike">
                <a:solidFill>
                  <a:srgbClr val="0000ff"/>
                </a:solidFill>
                <a:latin typeface="Comic Sans MS"/>
              </a:rPr>
              <a:t>Immunologic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mediate or Acute Hemolytic Transfusion Re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nset within minutes to hours (&lt;24 hours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ssociated with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ravascular Hemolysi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iology: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ntibodies that activate complement to completion in the vasculature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ABO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ntibodies are predominant but not the only ones implicate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evention: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Give ABO compatible bloo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travascular Hemo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ction begins within minutes of inf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gM &amp;/or IgG antib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BC Lysis within vascula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lement activation to comple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lease of histamine and seroton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gns may includ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ain along vein of infusion sit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hock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bnormal bleeding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lease of cytokines: fever, hypotens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atient apprehensio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Renal failure due to Hgb and RBC strom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travascular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Hemo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gns &amp; Symptoms continued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ver or fever &amp; ch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liguria, may progress to…anu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stained hypoten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agulopathy: May progress to Disseminated Intravascular Coagulopathy (DI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e hemoglobin in serum &amp; ur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0:09:03Z</dcterms:created>
  <dc:creator>bzundel</dc:creator>
  <dc:description/>
  <dc:language>en-US</dc:language>
  <cp:lastModifiedBy>Dr.abdel-hamid</cp:lastModifiedBy>
  <dcterms:modified xsi:type="dcterms:W3CDTF">2006-10-16T04:21:59Z</dcterms:modified>
  <cp:revision>23</cp:revision>
  <dc:subject/>
  <dc:title>CLS 3311 Advanced Clinical Immunohematology</dc:title>
</cp:coreProperties>
</file>