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wmf" ContentType="image/x-wmf"/>
  <Override PartName="/ppt/media/image1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BD9-69F5-4A9E-9684-9EBC369A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FE5-A1A9-46D7-9BFE-6535590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D0433-D8F1-404D-A641-DCA8AA1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D0DBC-48A2-439A-B7A3-45DD79E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47563-CF8C-4B7A-9F96-0880B7BB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5C34D-06D7-4821-8048-773AA5D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9FE9D-8127-4DBF-99DC-8F317602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4EAA7-80DC-447E-BBF2-F64A3BAE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D5BE7-F9A7-4EEB-A4EF-D6C8299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40BD-B568-4F41-9581-5DD81BAC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8578D-58EB-4CC5-9543-8D1ECE6D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353-01E3-4107-A8DA-B27B843B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145-BA3C-4288-BD05-24C6CAB7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4BCC-537A-4678-B36D-1DE89BE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B061-2828-4D98-B8CA-FFEFB9D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BCAE-92C3-413C-9C9A-B595C40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8B3-1BBB-4618-B061-157A1916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37E5-0CA4-4756-9B88-142204A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BDD8-F41D-405F-87EB-8E32044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ADB-D149-4B15-9D4E-093F7A4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240-BE2D-44DE-9308-C9CD6F4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962B-E7F5-41DD-9DDE-5A420000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5131-DCEE-48DC-9297-C81C196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CB61-D48E-4762-90DA-FA7925F7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1A8-2819-483A-9BD5-0D607849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0E9-C20C-478A-B4DD-51617659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1ABA-8D52-437F-952A-7048C38B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35AC-0956-4AD1-AC2D-4D18E5E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A548-212E-4559-B491-D8C4F69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1CC1-6EBB-41FB-A6C6-E2554DF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3007-AED4-4EC5-943E-4EF6EAF6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71E-7379-4B0D-BA25-3F6F5651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29E2-EA20-4EA4-8D27-4F26C40C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9746-2D0A-40A2-A034-991E59D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A5D5-51EC-450E-B72C-D10EE5F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0CE9-44B7-47B9-8D28-62D7D80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DD48-8A8D-4E78-9611-6DDE446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D277-1742-43F5-BB77-F5B60BFC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8264-7768-4330-BFFB-00398ED0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CA9B-7D66-4649-85F4-7AEAB7B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7A82-8F32-470E-8C27-2280AD39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FC28-2317-492F-983A-81447B15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34E-F45D-4ED8-88D7-A06CE1D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CD3B-E595-441D-9B02-1A406BD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5D27-59ED-4485-ACC4-D3B9A5E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5EDB-6E1C-4D53-991E-ACED790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890B-E350-4F6C-B798-D0037C72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3979-22F6-4524-B57E-F66BD72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BA4B-CB7B-4ADC-9111-E78289F9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F688-E470-44C7-846D-4A99757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BC67-A2CD-48A1-83C9-CCA8AA30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9252-6EEF-49CB-A589-497C1D71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7C6A6-F259-4547-9845-F920961C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269-1742-43CD-8005-8EFB3C1A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9B38-7DB6-4553-9CC9-3D30E1E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0F57-2660-46F6-940D-1A6DBEB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40DEB-67BC-4C79-90AF-6854CF40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F51E-65D5-4EB9-99CA-D50B06E0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68A1-CBAF-45C8-8180-8E6BB7A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4F81-7AE0-4E08-9863-30A8C39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CEC9-B116-4653-80B1-48767AE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054E-9A12-48DE-9AB9-CEC8011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3DB9-5831-4FBD-B395-806974C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1B1D-D512-42D6-8CF2-20787CD1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EBA-1E97-44B2-A40C-876A333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333B-F758-4E2B-B182-4B5A55A6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E97DF-ADAB-4E0E-894C-80D580B4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8A352-214E-40A0-A75B-0885B504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29C7-354F-4306-B0A5-948D8FE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EDB6-DE91-48FD-9439-6569EABB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E894-9880-479F-B516-F36AE9A3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1665-FF66-4484-822D-7531129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93E5B-771A-4AFA-80AD-32FB7FA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82B3-F682-4A8F-BCFD-552BC1D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AD26-6281-489D-A1C1-43DD195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015-50CD-4AD0-817D-D05F8EE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3989-B7C7-49A2-AC7E-213CB651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0FAA-6EE8-43CB-B7D9-FF4ED14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F285-2C15-4420-ABE2-319C0327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8C50-0D38-4B4E-BFDA-39C64155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E885-A04B-4216-9676-0CF7C4D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E63B-4AD6-4D80-9AFF-39933DD6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898A-93FE-466E-8CC4-6A3EC915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3453-B5B5-4B9F-8DD3-A4EAFB7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A053D-45D5-4912-A60B-B8098D4B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C37E-184A-4D67-92B4-B5B18FDA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EF0-600B-48D2-967A-72DD47DD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3081-737E-4793-AB62-E1FA2DD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1353-E9FF-477A-9C2B-D4F8F36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377D-3F24-4C91-852A-43892C1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1D88-0DA8-4D5D-AEF4-6408CDF6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451E-7916-4DC4-B078-6C22CB96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B3E5-8524-4BB9-990D-82A15B4F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F47E6-58F0-44DB-867F-26891568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91CF-3EFD-4430-976C-5CDE988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F6A0-A959-4CC9-A30B-13B6884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3174-608D-4DF2-AC92-06B3A4A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045-1B95-430C-A6CA-531D94E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2296-B324-49F2-8F1A-8DD4CF6A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E88D-AE3C-43DE-9E0C-823B05F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AF31C-5B56-4268-8797-BD019F4E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831B-6105-4A9B-8CAD-87291A6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53FA-2FEF-4B7F-8BD5-22D44D5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879C-BB06-46B3-93E5-7ECEC540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D49A7-EE2E-494A-8A1C-A59A572D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6470-C4E1-4C47-881C-9F8622A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9733D-8F32-48D4-AF8F-C009192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06002-CF4E-4CBF-8368-01BA207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25F-A2C3-4A80-9E74-083DDE055B1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B06-4EC2-4491-BE07-5AFE6697E99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350-18DE-4614-A436-83A1CEDE5C3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AE2F-79AE-4F46-8D20-D07868EEBDF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32DA-3905-4BCE-B3C4-0E2B7DD62A2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127-FB6B-4BA3-A58E-5ED6C5B04A2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A413-CE6C-4E43-8869-62EBBDA28A6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EDA-7E53-4837-BC27-E564D0F351F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C95-5760-42CB-A6A4-B440E99EFEC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1870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5003640" y="5805360"/>
            <a:ext cx="3672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5" descr="Surface proteins causing rejection"/>
          <p:cNvPicPr/>
          <p:nvPr/>
        </p:nvPicPr>
        <p:blipFill>
          <a:blip r:embed="rId2"/>
          <a:stretch/>
        </p:blipFill>
        <p:spPr>
          <a:xfrm>
            <a:off x="395280" y="328464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Antihistamin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uch as diphenhydramine to reduce itching and ras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Acetaminoph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ecommended to reduce fever and discomf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Corticosteroid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h as prednisone or dexamethasone to reduce the immune respo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Lucida Sans Unicode"/>
              </a:rPr>
              <a:t>Intravenou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luids and various medications used to treat/prevent kidney failure and sho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yping of donated blood into ABO and Rh groups has reduced the risk of transfusion reac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or to a transfusion, blood is usually crossmatched to further confirm that the blood is compati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 small amount of donor blood is mixed with a small amount of recipient blood and the mixture is examined under a microscope for signs of antibody re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 Rhogam which is a sterile solution containing IgG anti-D(RH1) for use in preventing Rh immuniz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Rectangle 2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1900, the German pathologist, Karl Landsteiner, identified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2 of antigenic protei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which he called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1940, Dr. Landsteiner discovered another group of antigens. They were named Rhesus factors (Rh factors) because they were discovered during experiments on Rhesus monke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urface of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red blood cell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ntain several proteins that can be identified by the body as antig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Picture 5" descr="olandsi001p1"/>
          <p:cNvPicPr/>
          <p:nvPr/>
        </p:nvPicPr>
        <p:blipFill>
          <a:blip r:embed="rId5"/>
          <a:stretch/>
        </p:blipFill>
        <p:spPr>
          <a:xfrm>
            <a:off x="7596360" y="1341360"/>
            <a:ext cx="10918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usion reaction is a complication of blood transfusion where there is an immune response against the transfused blood cells or other components of the transfu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Blutgruppenbestimmung in der Praxis"/>
          <p:cNvPicPr/>
          <p:nvPr/>
        </p:nvPicPr>
        <p:blipFill>
          <a:blip r:embed="rId2"/>
          <a:stretch/>
        </p:blipFill>
        <p:spPr>
          <a:xfrm>
            <a:off x="3419640" y="3141720"/>
            <a:ext cx="4105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lood is classified according to the presence of these antige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ntigen 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ntigen 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A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both antig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Group O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tain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neither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lood plasma contains antibodies against the opposite antigen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A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B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B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 antig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AB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no antibodies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(Universal Recipient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person with Type </a:t>
            </a:r>
            <a:r>
              <a:rPr b="1" lang="en-US" sz="2000" spc="-1" strike="noStrike">
                <a:solidFill>
                  <a:srgbClr val="da1f28"/>
                </a:solidFill>
                <a:latin typeface="Lucida Sans Unicode"/>
              </a:rPr>
              <a:t>O bloo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ntibodies against the </a:t>
            </a:r>
            <a:r>
              <a:rPr b="1" lang="en-US" sz="2000" spc="-1" strike="noStrike">
                <a:solidFill>
                  <a:srgbClr val="44b9e8"/>
                </a:solidFill>
                <a:latin typeface="Lucida Sans Unicode"/>
              </a:rPr>
              <a:t>A,B&amp;AB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tigens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(Universal Don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with Rhesus factors in their blood are classified as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"Rh positive"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without the factors are classified as 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</a:rPr>
              <a:t>"Rh negative"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h negative persons form antibodies against the Rh factor if they are exposed to Rh positive bloo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od transfusion between incompatible groups causes an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immun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spons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gainst the cells carrying the antigen, resulting in </a:t>
            </a: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transfusion reacti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8119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395280" y="1268280"/>
            <a:ext cx="1800360" cy="1440000"/>
          </a:xfrm>
          <a:prstGeom prst="wedgeEllipseCallout">
            <a:avLst>
              <a:gd name="adj1" fmla="val 95148"/>
              <a:gd name="adj2" fmla="val 953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gens enter the 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203640" y="1052640"/>
            <a:ext cx="1800000" cy="1655640"/>
          </a:xfrm>
          <a:prstGeom prst="wedgeRoundRectCallout">
            <a:avLst>
              <a:gd name="adj1" fmla="val 106259"/>
              <a:gd name="adj2" fmla="val 8291"/>
              <a:gd name="adj3" fmla="val 16667"/>
            </a:avLst>
          </a:prstGeom>
          <a:solidFill>
            <a:srgbClr val="eb64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e system release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6227640" y="1052640"/>
            <a:ext cx="2089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gen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 rot="3546600">
            <a:off x="6300360" y="2492280"/>
            <a:ext cx="1511280" cy="324180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723960 h 3241800"/>
              <a:gd name="textAreaBottom" fmla="*/ 2193840 h 324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48" stAng="-5400000" swAng="5400000"/>
                <a:lnTo>
                  <a:pt x="21600" y="9793"/>
                </a:lnTo>
                <a:arcTo wR="21600" hR="9648" stAng="0" swAng="1317283"/>
                <a:lnTo>
                  <a:pt x="16035" y="18416"/>
                </a:lnTo>
                <a:lnTo>
                  <a:pt x="0" y="19368"/>
                </a:lnTo>
                <a:lnTo>
                  <a:pt x="16035" y="13951"/>
                </a:lnTo>
                <a:lnTo>
                  <a:pt x="16035" y="16111"/>
                </a:lnTo>
                <a:arcTo wR="21600" hR="9648" stAng="1317283" swAng="-1305744"/>
                <a:lnTo>
                  <a:pt x="21599" y="9720"/>
                </a:lnTo>
                <a:arcTo wR="21600" hR="9648" stAng="-11539" swAng="-5388461"/>
                <a:close/>
              </a:path>
              <a:path fill="darkenLess" w="21600" h="21600">
                <a:moveTo>
                  <a:pt x="0" y="0"/>
                </a:moveTo>
                <a:arcTo wR="21600" hR="9648" stAng="-5400000" swAng="5400000"/>
                <a:lnTo>
                  <a:pt x="21600" y="9793"/>
                </a:lnTo>
                <a:arcTo wR="21600" hR="9648" stAng="0" swAng="-11539"/>
                <a:lnTo>
                  <a:pt x="21599" y="9720"/>
                </a:lnTo>
                <a:arcTo wR="21600" hR="9648" stAng="-11539" swAng="-5388461"/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2050920" y="2781360"/>
            <a:ext cx="309744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usion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il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lank pain or back pai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y uri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inting or dizzin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ymptoms of transfusion reaction usually appea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uring transfus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mmediately after the transfus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SzPct val="1028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y develop after several days (delayed reactio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0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fever"/>
          <p:cNvPicPr/>
          <p:nvPr/>
        </p:nvPicPr>
        <p:blipFill>
          <a:blip r:embed="rId11"/>
          <a:stretch/>
        </p:blipFill>
        <p:spPr>
          <a:xfrm>
            <a:off x="6588000" y="836640"/>
            <a:ext cx="1800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scomf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ute kidney fail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ung dys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7" descr="MCj01556990000[1]"/>
          <p:cNvPicPr/>
          <p:nvPr/>
        </p:nvPicPr>
        <p:blipFill>
          <a:blip r:embed="rId7"/>
          <a:stretch/>
        </p:blipFill>
        <p:spPr>
          <a:xfrm>
            <a:off x="5651640" y="1628640"/>
            <a:ext cx="2257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84360" y="1196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ymptoms occur during the transfus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op the infus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 reaction medications if order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 the doc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der Transfusion Reaction Workup with the component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usion reac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rect coomb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rine analysi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 blood bag, tubing and the collected specimens  to the blood ban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l blood transfusion reaction for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8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9:09:15Z</dcterms:created>
  <dc:creator>f53035</dc:creator>
  <dc:description/>
  <dc:language>en-US</dc:language>
  <cp:lastModifiedBy>Abdualrahman Alshehry</cp:lastModifiedBy>
  <dcterms:modified xsi:type="dcterms:W3CDTF">2016-04-06T09:32:53Z</dcterms:modified>
  <cp:revision>83</cp:revision>
  <dc:subject/>
  <dc:title>Cytomegalovirus </dc:title>
</cp:coreProperties>
</file>