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wmf" ContentType="image/x-wmf"/>
  <Override PartName="/ppt/media/image19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AEC-CF3D-460D-B4E3-0BE75A82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368-2010-4F44-99E9-5FDCD667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6E66-D40F-4DA7-862E-63B26D6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6B5A7-00C4-41A8-9D5B-FD8ECDA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707BD-7993-47D8-90D8-D660ED27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54EED-B2ED-4213-85A9-08B69BF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125F5-FB96-4053-9E2A-C08D4BCF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B2358-AF67-4221-83D0-47A4443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2D6BF-DF1D-44DE-A9A1-A4884BE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40FF6-9C2D-4179-A95D-9536D07C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127E-4A99-4848-A9DA-746C2444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17B-21A1-472A-95B4-C479E299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6DB-819C-4878-847F-C3FC4FA8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8440-A2AE-4B15-9C79-0D861B43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E685-7F89-4D9A-AB2B-F438BBC7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DC7D-B532-4B8E-8078-9C4B0EBD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D1B-56BF-418A-A1C1-F96B316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A017-E105-4EA6-AE74-B357163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9A22-1DDA-4822-BF5E-81632978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FBF1-16F4-44B5-A7EC-3B9AF0D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705-0B54-4F3A-A9D9-F87C38A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952-1399-41EC-8A5A-5B17465D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E22-9999-4587-B160-4DEBEEF4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E16-376C-423F-AD09-E505C1A9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1E14-4D38-44AB-B86D-F9CD511C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AEEB-D925-4ABF-99AB-3C4DFDBD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1B25-82A1-43D0-92F6-C7DEBFDD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ADBC-A48B-47C3-9948-2E44B1E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72C2-500F-4855-834F-B4692B38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6629-FE21-44FD-AE8F-594E7528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F09F-C420-4B68-94E3-727FB43D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689-D598-4793-8E98-7507011E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FFF9-61FB-40B1-A795-9DF7D1B0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212A-75B2-4DDE-89B1-0890B71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8477-9795-4E74-BDF0-5F98BCE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8217-6750-4B28-B05A-1B76E27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2079-5BD7-4F64-ABF7-D75FDD0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096D-F204-4F31-893C-C7579CE2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86AE-B22A-46EC-A2BD-C13430AE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C269-C3F7-4CA3-A9B4-CBBA325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7404-AA51-46FD-9578-2070955D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EE11-BB4F-4B9A-BF3D-692063DB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EC1-30D4-43D4-890C-DB0B2BD9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E22F-DB10-48BF-ADD7-306CDB34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C6E0-07CB-4FD5-85A4-3F3D30A8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7F136-0CFD-48B2-8C5D-C5A1D45C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45B7E-7C95-4BBF-994F-847F92D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42A3-6494-4C0D-A56E-9B43B636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EC1F-DC91-4321-9684-627D3559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0FDB-4656-454A-98B3-1F0AD10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42D7-93B3-407B-AE65-9ABED6DC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E214-0A65-4E29-AFDA-59AFE71E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F0CB-D3CF-4609-A427-BBFBF136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DCC-BB02-4994-8EBE-5838BC4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B6DE-ED65-409B-966F-8902107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64E98-7D4F-4821-9A25-FE6B255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9D4D-23D5-4E09-8D61-1ADCF2DF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4B88-9430-473E-B5A5-3B13BE4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A4E1-90E8-4142-A9B3-3EDC856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0FAB-AA09-45A7-9CAA-5DC3FA8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4C386-1EDD-42BD-9F9E-A55878F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DC15-F672-4AA4-80FD-AF09BF2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93846-7DA2-44FC-B0ED-C745500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1728-756D-41FE-8A2F-8374C7F6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CF8-B1A4-4A27-BA3D-DEDB0087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E698-0406-406D-AEDA-D72203F6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135D-9FAA-4123-B297-7D937034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8783-8102-47DD-AE8A-9B30C0B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5CBC-5F40-4A75-9957-EDD42034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CA07-9834-4863-A18B-B270417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44C5-CF53-4C3A-AB77-9246525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28C7C-FB9F-406B-9E31-C88BC1D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C430-050E-4834-9C1B-AA54CEA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17CB-0172-4C09-A40A-7E5D7CA7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76A6-3662-4324-ACA1-D34BE1D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B73-352F-4513-B9F2-33E6BC3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B63E-07C6-4511-81B9-44E8B46A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E006-697A-4271-BEF2-828C5999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7341-35EF-4F9F-8602-009EEF51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1B154-36A7-4F4A-9120-E4D1D9AE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1AF48-FA11-4652-B238-70910CC7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4B3B-5FE5-4A2A-B4B2-DE479E3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2D19-CC32-4B9B-88EB-57CB25F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8424-07ED-4CB3-A304-CEC00B21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EEAF0-B8A9-4E1E-B793-508373D9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FDFD3-3B27-464F-A7B0-9895D98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FD9-702A-4F6E-B809-2B235D8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0A79-C592-48E6-9FE0-7DA7BFA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F495-CACD-4C19-82AD-C0986D1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C7885-1A4C-4752-8C7A-BC44931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2DB77-3ABC-4C82-AAD0-D66C3A3D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9983-13DB-4D93-8FE1-CF79AE47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D90F2-9E9E-4403-A5AC-C532EA39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6768-2915-4936-B24E-23EE3FC9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B3780-F3B4-4173-B106-0813343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380EE-0CC1-40AA-883B-F860592B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4D531-70BB-4865-8009-213B7A7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D4B-0F7A-4B3A-A0AF-9367549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E3E6F-EEBA-4320-96AC-19E7688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393EF-C80D-4AD7-8B0A-B0085E2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8FB0C-F392-46A1-AD97-C3E9978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B49C1-3902-485F-B426-CE3CC53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CA8C1-1828-4AF4-B4AC-C3E2FEB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635B-422D-4C47-8C39-1DB40C0B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E93A0-4437-494B-979F-880A0EAE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705DA-048B-46AF-BC52-B5019B1D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4667-017A-41BE-A28C-837FABF3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EFC55-AAB8-4771-985E-8E84924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EE94-064B-4753-8D57-602F44A9F43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7D92-4BC4-4EAA-90E3-ACF7C4444F5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A9B-3308-4FD8-861C-9248D8AE806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51C-A2EF-4D0A-9C76-AA889D1D6E4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2EE0-E96D-4C3B-8CE9-1158C355DB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2EE-1127-4198-9053-987B79F21F8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160-ADA5-44F3-8FF6-DCCE821980B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9156-61C9-4C67-BE8F-F350CEF9368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569E-DEC4-412D-A935-E111EA27D26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1870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5003640" y="5805360"/>
            <a:ext cx="3672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5" descr="Surface proteins causing rejection"/>
          <p:cNvPicPr/>
          <p:nvPr/>
        </p:nvPicPr>
        <p:blipFill>
          <a:blip r:embed="rId2"/>
          <a:stretch/>
        </p:blipFill>
        <p:spPr>
          <a:xfrm>
            <a:off x="395280" y="328464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Antihistamin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uch as diphenhydramine to reduce itching and ras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Acetaminoph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recommended to reduce fever and discomf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Corticosteroid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h as prednisone or dexamethasone to reduce the immune respo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Intravenou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luids and various medications used to treat/prevent kidney failure and sho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yping of donated blood into ABO and Rh groups has reduced the risk of transfusion reac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ior to a transfusion, blood is usually crossmatched to further confirm that the blood is compati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 small amount of donor blood is mixed with a small amount of recipient blood and the mixture is examined under a microscope for signs of antibody re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 Rhogam which is a sterile solution containing IgG anti-D(RH1) for use in preventing Rh immuniz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Rectangle 2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1900, the German pathologist, Karl Landsteiner, identified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2 of antigenic protei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which he called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1940, Dr. Landsteiner discovered another group of antigens. They were named Rhesus factors (Rh factors) because they were discovered during experiments on Rhesus monke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urface of 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</a:rPr>
              <a:t>red blood cell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ntain several proteins that can be identified by the body as antig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Picture 5" descr="olandsi001p1"/>
          <p:cNvPicPr/>
          <p:nvPr/>
        </p:nvPicPr>
        <p:blipFill>
          <a:blip r:embed="rId5"/>
          <a:stretch/>
        </p:blipFill>
        <p:spPr>
          <a:xfrm>
            <a:off x="7596360" y="1341360"/>
            <a:ext cx="10918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usion reaction is a complication of blood transfusion where there is an immune response against the transfused blood cells or other components of the transfu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Blutgruppenbestimmung in der Praxis"/>
          <p:cNvPicPr/>
          <p:nvPr/>
        </p:nvPicPr>
        <p:blipFill>
          <a:blip r:embed="rId2"/>
          <a:stretch/>
        </p:blipFill>
        <p:spPr>
          <a:xfrm>
            <a:off x="3419640" y="3141720"/>
            <a:ext cx="4105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lood is classified according to the presence of these antige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ntigen 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ntigen 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A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both antige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O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neither antig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lood plasma contains antibodies against the opposite antigen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A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ntibodies against the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B antig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B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ntibodies against the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 antig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AB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no antibodies </a:t>
            </a: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(Universal Recipient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O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ntibodies against the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,B&amp;AB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tigens </a:t>
            </a: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(Universal Don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with Rhesus factors in their blood are classified as 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</a:rPr>
              <a:t>"Rh positive"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without the factors are classified as 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</a:rPr>
              <a:t>"Rh negative"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h negative persons form antibodies against the Rh factor if they are exposed to Rh positive bloo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od transfusion between incompatible groups causes an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immun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spons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gainst the cells carrying the antigen, resulting in </a:t>
            </a: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transfusion reacti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/>
          <p:cNvSpPr/>
          <p:nvPr/>
        </p:nvSpPr>
        <p:spPr>
          <a:xfrm>
            <a:off x="395280" y="1268280"/>
            <a:ext cx="1800360" cy="1440000"/>
          </a:xfrm>
          <a:prstGeom prst="wedgeEllipseCallout">
            <a:avLst>
              <a:gd name="adj1" fmla="val 95148"/>
              <a:gd name="adj2" fmla="val 953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gens enter the 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203640" y="1052640"/>
            <a:ext cx="1800000" cy="1655640"/>
          </a:xfrm>
          <a:prstGeom prst="wedgeRoundRectCallout">
            <a:avLst>
              <a:gd name="adj1" fmla="val 106259"/>
              <a:gd name="adj2" fmla="val 8291"/>
              <a:gd name="adj3" fmla="val 16667"/>
            </a:avLst>
          </a:prstGeom>
          <a:solidFill>
            <a:srgbClr val="eb64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e system release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6227640" y="1052640"/>
            <a:ext cx="208944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gen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 rot="3546600">
            <a:off x="6300360" y="2492280"/>
            <a:ext cx="1511280" cy="324180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723960 h 3241800"/>
              <a:gd name="textAreaBottom" fmla="*/ 2193840 h 324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48" stAng="-5400000" swAng="5400000"/>
                <a:lnTo>
                  <a:pt x="21600" y="9793"/>
                </a:lnTo>
                <a:arcTo wR="21600" hR="9648" stAng="0" swAng="1317283"/>
                <a:lnTo>
                  <a:pt x="16035" y="18416"/>
                </a:lnTo>
                <a:lnTo>
                  <a:pt x="0" y="19368"/>
                </a:lnTo>
                <a:lnTo>
                  <a:pt x="16035" y="13951"/>
                </a:lnTo>
                <a:lnTo>
                  <a:pt x="16035" y="16111"/>
                </a:lnTo>
                <a:arcTo wR="21600" hR="9648" stAng="1317283" swAng="-1305744"/>
                <a:lnTo>
                  <a:pt x="21599" y="9720"/>
                </a:lnTo>
                <a:arcTo wR="21600" hR="9648" stAng="-11539" swAng="-5388461"/>
                <a:close/>
              </a:path>
              <a:path fill="darkenLess" w="21600" h="21600">
                <a:moveTo>
                  <a:pt x="0" y="0"/>
                </a:moveTo>
                <a:arcTo wR="21600" hR="9648" stAng="-5400000" swAng="5400000"/>
                <a:lnTo>
                  <a:pt x="21600" y="9793"/>
                </a:lnTo>
                <a:arcTo wR="21600" hR="9648" stAng="0" swAng="-11539"/>
                <a:lnTo>
                  <a:pt x="21599" y="9720"/>
                </a:lnTo>
                <a:arcTo wR="21600" hR="9648" stAng="-11539" swAng="-5388461"/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2050920" y="2781360"/>
            <a:ext cx="309744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usion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il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s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lank pain or back pai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y uri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inting or dizzin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ymptoms of transfusion reaction usually appea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uring transfus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mmediately after the transfus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y develop after several days (delayed reactio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0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fever"/>
          <p:cNvPicPr/>
          <p:nvPr/>
        </p:nvPicPr>
        <p:blipFill>
          <a:blip r:embed="rId11"/>
          <a:stretch/>
        </p:blipFill>
        <p:spPr>
          <a:xfrm>
            <a:off x="6588000" y="836640"/>
            <a:ext cx="1800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iscomf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ute kidney fail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ck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ung dys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7" descr="MCj01556990000[1]"/>
          <p:cNvPicPr/>
          <p:nvPr/>
        </p:nvPicPr>
        <p:blipFill>
          <a:blip r:embed="rId7"/>
          <a:stretch/>
        </p:blipFill>
        <p:spPr>
          <a:xfrm>
            <a:off x="5651640" y="1628640"/>
            <a:ext cx="2257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84360" y="1196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ymptoms occur during the transfus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op the infus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 reaction medications if order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 the doc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der Transfusion Reaction Workup with the component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ansfusion reactio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rect coomb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rine analysi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 blood bag, tubing and the collected specimens  to the blood ban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l blood transfusion reaction for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8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9:09:15Z</dcterms:created>
  <dc:creator>f53035</dc:creator>
  <dc:description/>
  <dc:language>en-US</dc:language>
  <cp:lastModifiedBy>Abdualrahman Alshehry</cp:lastModifiedBy>
  <dcterms:modified xsi:type="dcterms:W3CDTF">2016-04-06T09:32:53Z</dcterms:modified>
  <cp:revision>83</cp:revision>
  <dc:subject/>
  <dc:title>Cytomegalovirus </dc:title>
</cp:coreProperties>
</file>