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288588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2248-8E11-44F8-B165-CE5629016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8430-E281-48B1-96F2-75803B330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FFA9-63CC-4BD0-9863-0423EC273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F39B-9CBF-449D-AE6C-F6B9CF1A6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CAD6A-5EA7-4D0F-BF3F-B8786CA9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C3E15-6E25-4E52-B153-95BBDD99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AF35F-459D-4B64-AA32-B00C2F6C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8A10B-F982-4741-B148-C29A36C0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6C9D6-1278-4ED1-A016-D6D4470C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103C6-3704-4403-B037-6F77BFA5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2A1E4-2A37-4C44-AD73-4CE99E1C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F47E-29C9-4F4E-86EB-6DEAFB906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9427F-ABBF-4B0B-ADE7-7C598CF5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9E181-2037-4EEB-9FA6-3EAFCA64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B1906-B439-494A-A4D7-B90F4CA5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01C13-FED4-4FC4-B459-0F77D4D0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A89C4-0198-43F2-A90A-4E238DC1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AA1B-79FA-4BB2-80AE-A440EEC8F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904F-1CBD-49D9-B764-3D9FEF9E3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F895-77EC-43D6-9CDB-DBDBF1DE1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991A-C6CB-4379-9BF6-773ECC419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C861-E957-4B6A-88C1-1B6C732AA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E3A1-196D-4118-8A99-0F7116287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E664-C0A9-43AC-AE2B-F934F6DEE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1002996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43560" y="5275440"/>
            <a:ext cx="381312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640" y="1066680"/>
            <a:ext cx="102693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89000" y="6119280"/>
            <a:ext cx="4397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435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F8FB-4F4A-4E7A-AC59-A3FA62EE3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6433560" y="-360"/>
            <a:ext cx="77144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7630200" y="-3200760"/>
            <a:ext cx="531360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7702200" y="-16200"/>
            <a:ext cx="2364120" cy="2725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148600" y="-12600"/>
            <a:ext cx="32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10287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43680" y="5275440"/>
            <a:ext cx="5179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1002996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40" y="1523880"/>
            <a:ext cx="102693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91400" y="-9360"/>
            <a:ext cx="370800" cy="6875280"/>
            <a:chOff x="7691400" y="-9360"/>
            <a:chExt cx="370800" cy="6875280"/>
          </a:xfrm>
        </p:grpSpPr>
        <p:sp>
          <p:nvSpPr>
            <p:cNvPr id="53" name=""/>
            <p:cNvSpPr/>
            <p:nvPr/>
          </p:nvSpPr>
          <p:spPr>
            <a:xfrm>
              <a:off x="7723080" y="6721560"/>
              <a:ext cx="8568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91400" y="304812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33760" y="335268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91400" y="426708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548640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33760" y="457200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33760" y="579132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91400" y="-9360"/>
              <a:ext cx="8532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33760" y="-7920"/>
              <a:ext cx="2844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91400" y="47628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91400" y="169560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33760" y="78120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33760" y="200016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771120" y="5257440"/>
            <a:ext cx="43974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2E61-9CBC-4458-A928-9A8FED69276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771120" y="5638320"/>
            <a:ext cx="4397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8140680" y="6356160"/>
            <a:ext cx="214632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484D-4AAB-4F07-A817-154DED141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0960" y="404640"/>
            <a:ext cx="842652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760" y="1676520"/>
            <a:ext cx="1026792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71240" y="1523880"/>
            <a:ext cx="9537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600240" y="-360"/>
            <a:ext cx="77144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1240" y="1523880"/>
            <a:ext cx="9537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NEUROMUSCULAR AND PERIPHERAL NERVE DISORDERS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1760" y="3276360"/>
            <a:ext cx="559116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ven Arkin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ukes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sas City,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1DBF5A-6E87-4EC9-B9DB-55327D3FC156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Guillain Barre Syndrome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9219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is - clinical history/exam, CSF and E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spinal fluid protein without increased white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ion slowing or block on E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acutely - plasma exchange or IV immunoglobu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% mortality, 10% severe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prognosis - advanced age, early intub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 complications - DVT prophylaxis, cardiopulmonary monitoring, early physical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ler - Fisher variant - ophthalmoparesis, ataxia, arefl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hronic Inflammatory Demyelinating Poly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y and motor deficits, evolving &gt; 8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ly involves cranial n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s infection in only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ive (66%) or stepwise/progressive (3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spinal fluid protein, slowed conduction velo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- steroids, plasma exchange, IV Immunoglobu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oxic Neuropathi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icrobials - Metronidazole, Nitrofurantoin, ddI, d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therapy - Cis-Platinum, Vincristine, Tax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rugs - Phenytoin, Disulfiram, Daps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- Hexane, thallium, lead, arse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 - partly due to nutritional deficiency (thiam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uropathy Treatment - 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mod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teroids - vasculitic, chronic inflamm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zathioprine - steroid sparing, allow &gt; 3 months to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thotrexate - weekly oral do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lasma exchange - Guillain Barre, 3-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ravenous Immunoglobulin - for neuropathies associ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IgM or IgG proteins, Guillain Barre, chron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matory; 0.4 gm/kg/d x 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uropathy Treatment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9913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atic fo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tidepressants - tricyclics, serotonin reuptake inhib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ticonvulsants - Phenytoin, carbamazepine, gabapen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thers - mexilitine, capsaicin, some low dose neurole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IV - Associated 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cute inflammatory demyelinating neur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SF protein elevation WITH increased white cell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oposi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 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hronic inflammatory demyelinating neur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MV polyradiculoneur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ultiple mononeuropathies with cranial nerves inv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hronic distal sensory polyneur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uropathy Workup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ine evaluation yields diagnosis in 50% of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UN/Cr, glucose, B12, thyroid, immunofixation, ES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r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42% - Inher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21% - Chronic inflammatory demyelin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3% - DM, toxic, paraneoplastic, dysprotei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24% - still idiopat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3: 34 year old m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years numbness in both h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ness increased while preparing PowerPoint sl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/tingling awaken him at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king the hands relieves the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ximal complaints, legs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: weak thumb abduction, positive Tinel’s at wrist, Phalen’s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rpal Tunnel Syndrome - 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apment of median nerve at the w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ness, tingling, burning in hands and fin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in anterior wrist - might radiate into anterior forea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/paresthesias prominent at night, relieved by sh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in thenar muscle group with atrophy 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el’s - tapping wrist elicits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len’s - forced flexion of wrist reproduces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947448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rpal Tunnel Syndrome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ateral in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ed with the follo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requent overuse of the wrist or direc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yx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heumatoid arthritis and other collagen vascular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is - clinical, slow nerve conduction across w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- underlying cause, splint, injection,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1: 72 year old diabetic woma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years progressive numbness and tingling in the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asional sharp foot pain, especially at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gers frequ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d weakness, sometimes trips on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lin requiring for 1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ed nerve conductions with low amplit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Other Common Entrapment Neuropathi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nar - elbow (cubital tunnel) or w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l - wrist drop (Saturday night pals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oral - 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al femoral cutaneous - meralgia paresthe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oneal - foot drop - knee at fibular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bial - ankle (tarsal tun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4: 57 year old wom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oke with right facial weakness - unable to smile properly or close her right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behind the right 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sensation right side of face with sense of sw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: unable to close right eye, loss of nasolabial fold on the right, normal taste, intact corneal ref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Bell’s Palsy -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AND upper facial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severe in 6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ion to plateau of weakness in days to 2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ly bilat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esthesias on the same side of the face as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symptoms - taste abnormal (25%), abnormal tearing (10%), hyperacu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Bell’s Palsy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eding viral illness in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association with herpes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reated, 80-85% recover comple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- prednisone 1mg/kg/d for 5-10 days, then quickly 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ith or without Acyclovir 2000mg/d for 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de other causes - Lyme, neoplasm, sarcoid, TB, syphi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5: 38 year old m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months progressive weakness in the right l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itching in upper and lower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asional cramps in the right ca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ory or bladder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to choke on solid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: Isolated right leg weakness, widespread fasciculations, hyperactive reflexes, extensor plantar respo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myotrophic Lateral Sclerosis - 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9067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 generally asymmetric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motor neuron - weakness, atrophy, fasci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per motor neuron - hyperreflexia, Babin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bar dysfunction - facial weakness, dysarthria, dyphagia, spastic dysph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bulbar affect - excess or inappropriate crying/laug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ly presents with diaphragmatic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ed mentation, sensation, bowel/bladder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myotrophic Lateral Sclerosis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ival 3-5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1-3/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al in 5-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atic treatment - cramping,  dysphagia, respiratory com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- Riluzole - decreases glutamate release - slows pro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953316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6: 71 year old m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s intermittent unilateral ptosis and diplop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weeks intermittent dysphagia for liquids, especially with the evening cock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 reveals proximal leg more than arm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sensation and ref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mental response to repetitive nerve st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edrophonium test using ptosis as objective f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ylcholine receptor antibody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yasthenia Gravis - 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immune dysfunction of nicotinic acetylcholine receptor at postsynaptic region of neuromuscular 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ctuating weakness of VOLUNTARY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ly begins with ocular dysfunction - ptosis/diplop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neck weakness, then proximal legs/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bar/respiratory generally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s solely ocular in 1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o proceed to generalized, 87% occur in 1s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yasthenia Gravis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ymic hyperplasia in 65% , thymoma in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tic tes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drophonium (tensilon) test - corrects objective defi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petitive nerve stimulation - decremental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cetylcholine receptor antibody - positive in 85-90%, m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ly if generalized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T chest - screen for thym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tistriatal muscle antibody - positive with thym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14040" cy="23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eripheral 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9982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or sensory loss or both based on nerve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distal symptoms, legs before arms, but there are 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ly symmetrical but can be asymmetric or f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fiber - diminished pain/temperature, preserved strength, ref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fiber - loss position, vibration touch/pressure, arefl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yasthenia Gravis - 3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cetylcholinesterase inhibitor - pyridostig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lternate day prednisone - may initially wor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ymectomy - best response for remission in yo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an with hyper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lasma exchange - for crisis and pre-op thymec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V Immunoglobulin - alternative to plasma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zathioprine - steroid sparing, allow 3 months for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aminoglycosides, quinine, quinidine, procainamide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Lambert-Eaton Syndrom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improves with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ctive presynaptic release of acetylcholine at neuromuscular 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ed with malignancy - especially oat cell l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x - EMG shows facilitated (incremental) response to repetitive nerve st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- underlying mali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mmunosup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3,4 - diaminopyridine increases acetylcholin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960912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xonal 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9829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changes within the ax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axonal transport leads to distal nerve de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eneration than proceeds proximally at a slow pace - “dying bac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ing the inciting event leads to re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dious onset, slow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cking glove sensory and motor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Demyelinating 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mary destruction of the myelin sh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ons remain intact throughout  or degenerate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le generally does not dener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er onset/recovery than ax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d sensory loss with prominent muscle weakness which can start proxim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ent reflexes, slowed conduction, elevated CSF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uropathy - Etiolog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95252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ic - Drugs and  Environmental Tox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- Diabetes, Uremia, Endocrine, Porphy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ciencies - Thiamine, B6, B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 - H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ologic - Guillain Barre, Chronic inflamm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gen vas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ditary - Charcot Marie 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clonal Gamm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plastic - direct infiltration or paraneoplastic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94564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Diabetic 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922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fiber - proprioception, vibration and light tou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fiber - impaired pain/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- cardiovascular and GI (gastropare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ly presents with slow onset numbness and tingling then pain in distal extremities, feet before h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ent reflexes early, distal weakness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anial nerve dysfunction, especially extraocular, “pupil spar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al entrapments or ischemic neuropath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yotrophy - asymmetrical proximal leg weakness and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9533160" cy="201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2: 24 year old m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9220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weeks progressive weakness both le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s and feet ache early in the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owel or bladder sympto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eded by mild respiratory il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: prominent leg and mild hand weakness, no ref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bar puncture: elevated protein, 3 white bloo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: Forced vital capacity 2 Li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Guillain Barre Syndrome - 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9219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, areflexia, usually preceded by distal paresth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% have previous URI or GI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ired breathing, requiring intubation in 25-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dysfunction may be prominent - blood pressure lability and bradycardia or 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anial nerve abnormalities - facial diparesis, ophthalmoparesis i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7T22:25:34Z</dcterms:created>
  <dc:creator>karen arkin</dc:creator>
  <dc:description/>
  <dc:language>en-US</dc:language>
  <cp:lastModifiedBy>Marilyn M. Rymer MD</cp:lastModifiedBy>
  <cp:lastPrinted>1999-03-27T00:36:29Z</cp:lastPrinted>
  <dcterms:modified xsi:type="dcterms:W3CDTF">2003-06-25T21:27:25Z</dcterms:modified>
  <cp:revision>9</cp:revision>
  <dc:subject/>
  <dc:title>NEUROMUSCULAR AND PERIPHERAL NERVE DISORDERS</dc:title>
</cp:coreProperties>
</file>