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288588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36F7-2C10-457B-9343-4B72D2514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8A27-4DA7-4B3A-8D30-B4FE5715F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7FF7-F2F8-4452-A684-A8A6A85CC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0988-3740-4425-9397-E7974F931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CD851-0755-4A16-8532-91A80EEA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4E5DF-2AE0-4021-BD14-40AD6C76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81833-03BB-47C0-9CF2-92665261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8C001-FB4D-46A9-9F4D-6CAAA151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AD29C-89EA-4110-ACD3-A9D4B005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C43EE-E975-4A26-B1A2-54948BD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876C9-9422-4216-9E97-61FD30C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4954-2BBA-4EED-98B1-74F9E063F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3A29D-A991-4496-B24B-9ABC7D0B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34B2B-9062-470E-B122-BEB9C17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1AD70-9228-4A4C-B627-86EB722E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CC11A-1486-4FCD-B5E5-2637E646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1553-E643-47F7-ACFF-2E9996C0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653F-D4CC-4035-ACED-ACE1F1440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FB2E-BAF0-4EE7-A81F-DBB1010FB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4AC4-D363-4A42-A245-75B6C490C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D2BF-BE6D-4C63-AE46-7E1C99EAC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1118-5C5B-4ED5-AC12-6EC20254E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DC81-4F33-4A45-A29F-4E0D83A90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D084-0289-46AE-9CF3-3C70F8904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1002996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3560" y="5275440"/>
            <a:ext cx="381312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640" y="10666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89000" y="6119280"/>
            <a:ext cx="4397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435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C4C6-831B-4D82-8049-8DA150949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6433560" y="-360"/>
            <a:ext cx="77144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7630200" y="-3200760"/>
            <a:ext cx="531360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7702200" y="-16200"/>
            <a:ext cx="2364120" cy="2725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148600" y="-12600"/>
            <a:ext cx="32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10287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43680" y="5275440"/>
            <a:ext cx="5179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1002996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40" y="15238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91400" y="-9360"/>
            <a:ext cx="370800" cy="6875280"/>
            <a:chOff x="7691400" y="-9360"/>
            <a:chExt cx="370800" cy="6875280"/>
          </a:xfrm>
        </p:grpSpPr>
        <p:sp>
          <p:nvSpPr>
            <p:cNvPr id="53" name=""/>
            <p:cNvSpPr/>
            <p:nvPr/>
          </p:nvSpPr>
          <p:spPr>
            <a:xfrm>
              <a:off x="7723080" y="6721560"/>
              <a:ext cx="8568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91400" y="304812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33760" y="335268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91400" y="426708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1400" y="548640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33760" y="457200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33760" y="579132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91400" y="-9360"/>
              <a:ext cx="8532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33760" y="-7920"/>
              <a:ext cx="2844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1400" y="47628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91400" y="1695600"/>
              <a:ext cx="8532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33760" y="78120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33760" y="2000160"/>
              <a:ext cx="2844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771120" y="5257440"/>
            <a:ext cx="4397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6B6D-DA1C-423C-9506-695243D680B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771120" y="5638320"/>
            <a:ext cx="4397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8140680" y="6356160"/>
            <a:ext cx="214632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6F65-FACF-4FA7-BDDF-62CCF2749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0960" y="404640"/>
            <a:ext cx="842652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760" y="1676520"/>
            <a:ext cx="1026792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71240" y="1523880"/>
            <a:ext cx="9537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00240" y="-360"/>
            <a:ext cx="77144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1240" y="1523880"/>
            <a:ext cx="9537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NEUROMUSCULAR AND PERIPHERAL NERVE DISORDERS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1760" y="3276360"/>
            <a:ext cx="559116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ven Arkin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ukes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as City,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8339D3-9ACA-4F45-A7E0-3E2B2F8245E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Guillain Barre Syndrome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9219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 - clinical history/exam, CSF and E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spinal fluid protein without increased white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ion slowing or block on E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acutely - plasma exchange or IV immunoglobu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% mortality, 10% severe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prognosis - advanced age, early intub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 complications - DVT prophylaxis, cardiopulmonary monitoring, early physical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er - Fisher variant - ophthalmoparesis, ataxia, arefl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hronic Inflammatory Demyelinating Poly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 and motor deficits, evolving &gt; 8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ly involves cranial n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s infection in only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ive (66%) or stepwise/progressive (3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pinal fluid protein, slowed conduction velo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steroids, plasma exchange, IV Immunoglobu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oxic Neuropathi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icrobials - Metronidazole, Nitrofurantoin, ddI, d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 - Cis-Platinum, Vincristine, Tax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rugs - Phenytoin, Disulfiram, Daps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- Hexane, thallium, lead, arse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- partly due to nutritional deficiency (thiam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uropathy Treatment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mod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teroids - vasculitic, chronic inflamm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zathioprine - steroid sparing, allow &gt; 3 months to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thotrexate - weekly oral do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lasma exchange - Guillain Barre, 3-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travenous Immunoglobulin - for neuropathies associ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IgM or IgG proteins, Guillain Barre, chron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mmatory; 0.4 gm/kg/d x 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uropathy Treatment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9913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atic fo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tidepressants - tricyclics, serotonin reuptake inhib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ticonvulsants - Phenytoin, carbamazepine, gabapen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thers - mexilitine, capsaicin, some low dose neurole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IV - Associated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cute inflammatory demyelinating neur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SF protein elevation WITH increased white cell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opo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 on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hronic inflammatory demyelinating neur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MV polyradiculoneur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ultiple mononeuropathies with cranial nerves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hronic distal sensory polyneur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uropathy Workup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ine evaluation yields diagnosis in 50% of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UN/Cr, glucose, B12, thyroid, immunofixation, ES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r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42% - Inher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21% - Chronic inflammatory demyelin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3% - DM, toxic, paraneoplastic, dysprotei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24% - still idiopa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3: 34 year old 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years numbness in both h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ness increased while preparing PowerPoint sl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/tingling awaken him at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king the hands relieves the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ximal complaints, legs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: weak thumb abduction, positive Tinel’s at wrist, Phalen’s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rpal Tunnel Syndrome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apment of median nerve at the w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ness, tingling, burning in hands and fin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in anterior wrist - might radiate into anterior fore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/paresthesias prominent at night, relieved by sh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in thenar muscle group with atrophy 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el’s - tapping wrist elicits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len’s - forced flexion of wrist reproduces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947448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rpal Tunnel Syndrome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ateral in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ed with the follo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requent overuse of the wrist or direc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yx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heumatoid arthritis and other collagen vascular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 - clinical, slow nerve conduction across w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underlying cause, splint, injection,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1: 72 year old diabetic woma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years progressive numbness and tingling in the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asional sharp foot pain, especially at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gers frequ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d weakness, sometimes trips on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lin requiring for 1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ed nerve conductions with low amplit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Other Common Entrapment Neuropathi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nar - elbow (cubital tunnel) or w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l - wrist drop (Saturday night pals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oral - 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al femoral cutaneous - meralgia paresthe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oneal - foot drop - knee at fibular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bial - ankle (tarsal tun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4: 57 year old wo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oke with right facial weakness - unable to smile properly or close her right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behind the right 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sensation right side of face with sense of sw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: unable to close right eye, loss of nasolabial fold on the right, normal taste, intact corneal ref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Bell’s Palsy -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AND upper facial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severe in 6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ion to plateau of weakness in days to 2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ly bilat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sesthesias on the same side of the face as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symptoms - taste abnormal (25%), abnormal tearing (10%), hyperacu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Bell’s Palsy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eding viral illness in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association with herpes vi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reated, 80-85% recover comple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prednisone 1mg/kg/d for 5-10 days, then quickly 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ith or without Acyclovir 2000mg/d for 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de other causes - Lyme, neoplasm, sarcoid, TB, syphi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5: 38 year old 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months progressive weakness in the right l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itching in upper and low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asional cramps in the right ca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ory or bladder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to choke on solid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: Isolated right leg weakness, widespread fasciculations, hyperactive reflexes, extensor plantar respo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myotrophic Lateral Sclerosis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9067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 generally asymmetric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motor neuron - weakness, atrophy, fasci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motor neuron - hyperreflexia, Babin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bar dysfunction - facial weakness, dysarthria, dyphagia, spastic dysph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bulbar affect - excess or inappropriate crying/laug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ly presents with diaphragmatic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ed mentation, sensation, bowel/bladder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myotrophic Lateral Sclerosis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ival 3-5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1-3/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al in 5-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atic treatment - cramping,  dysphagia, respiratory com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Riluzole - decreases glutamate release - slows pro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953316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6: 71 year old 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s intermittent unilateral ptosis and diplop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weeks intermittent dysphagia for liquids, especially with the evening cock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 reveals proximal leg more than arm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sensation and ref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mental response to repetitive nerve st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edrophonium test using ptosis as objective f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ylcholine receptor antibody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yasthenia Gravis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immune dysfunction of nicotinic acetylcholine receptor at postsynaptic region of neuromuscular 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ctuating weakness of VOLUNTARY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ly begins with ocular dysfunction - ptosis/diplop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neck weakness, then proximal legs/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bar/respiratory generally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ains solely ocular in 1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o proceed to generalized, 87% occur in 1s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yasthenia Gravis - 2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ymic hyperplasia in 65% , thymoma in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tic tes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drophonium (tensilon) test - corrects objective defi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petitive nerve stimulation - decremental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cetylcholine receptor antibody - positive in 85-90%, m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ly if generalized wea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T chest - screen for thym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tistriatal muscle antibody - positive with thym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14040" cy="23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eripheral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9982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or sensory loss or both based on nerve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distal symptoms, legs before arms, but there are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ly symmetrical but can be asymmetric or f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fiber - diminished pain/temperature, preserved strength, ref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fiber - loss position, vibration touch/pressure, arefl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yasthenia Gravis - 3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cetylcholinesterase inhibitor - pyridostig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lternate day prednisone - may initially wor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hymectomy - best response for remission in yo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an with hyper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lasma exchange - for crisis and pre-op thymec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V Immunoglobulin - alternative to plasma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zathioprine - steroid sparing, allow 3 months for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aminoglycosides, quinine, quinidine, procainamide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947412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Lambert-Eaton Syndrom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improves with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ctive presynaptic release of acetylcholine at neuromuscular 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ed with malignancy - especially oat cell l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x - EMG shows facilitated (incremental) response to repetitive nerve st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- underlying mali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mmunosup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3,4 - diaminopyridine increases acetylchol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9609120" cy="20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xonal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9829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changes within the ax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axonal transport leads to distal nerve de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eneration than proceeds proximally at a slow pace - “dying bac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rsing the inciting event leads to re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dious onset, slow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cking glove sensory and motor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Demyelinating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mary destruction of the myelin sh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ons remain intact throughout  or degenerate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 generally does not dener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onset/recovery than ax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d sensory loss with prominent muscle weakness which can start proxim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ent reflexes, slowed conduction, elevated CSF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9474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europathy - Etiolog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9525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ic - Drugs and  Environmental Tox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- Diabetes, Uremia, Endocrine, Porphy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ciencies - Thiamine, B6, B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 - H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ologic - Guillain Barre, Chronic inflamm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gen vas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ditary - Charcot Marie 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clonal Gamm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plastic - direct infiltration or paraneoplastic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94564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Diabetic Neuropath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922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fiber - proprioception, vibration and light tou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fiber - impaired pain/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- cardiovascular and GI (gastropare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ly presents with slow onset numbness and tingling then pain in distal extremities, feet before h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ent reflexes early, distal weakness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anial nerve dysfunction, especially extraocular, “pupil spar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al entrapments or ischemic neuropath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yotrophy - asymmetrical proximal leg weakness and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9533160" cy="201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ase 2: 24 year old ma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9220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weeks progressive weakness both le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s and feet ache early in the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owel or bladder sympto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eded by mild respiratory il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: prominent leg and mild hand weakness, no refle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mbar puncture: elevated protein, 3 white bloo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: Forced vital capacity 2 Li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Guillain Barre Syndrome - 1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9219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, areflexia, usually preceded by distal par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% have previous URI or GI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ed breathing, requiring intubation in 25-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 may be prominent - blood pressure lability and bradycardia or 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anial nerve abnormalities - facial diparesis, ophthalmoparesis i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4416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7T22:25:34Z</dcterms:created>
  <dc:creator>karen arkin</dc:creator>
  <dc:description/>
  <dc:language>en-US</dc:language>
  <cp:lastModifiedBy>Marilyn M. Rymer MD</cp:lastModifiedBy>
  <cp:lastPrinted>1999-03-27T00:36:29Z</cp:lastPrinted>
  <dcterms:modified xsi:type="dcterms:W3CDTF">2003-06-25T21:27:25Z</dcterms:modified>
  <cp:revision>9</cp:revision>
  <dc:subject/>
  <dc:title>NEUROMUSCULAR AND PERIPHERAL NERVE DISORDERS</dc:title>
</cp:coreProperties>
</file>