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7B8A-2859-4FB4-8C3C-1C9B86435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7DAD-D0E8-46A0-BA28-6F8D652D4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5083-55FC-465A-9277-85DF8E25A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FA62-BE0C-4946-A51A-445A6D545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29796-8DAF-43F0-A24D-B77F66E7B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00FE7-53E9-4D1C-B2AB-AB97DEEC6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00269-2263-43F5-898F-79EFF88DB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56E30-9366-45AF-AA6D-DBEF1BC89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BAC0A-3B5B-4E2D-B236-A06EBD7E0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A547B-5037-4205-B4E7-03B033052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45E79-A7B7-4E20-B84E-8577338E7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429D-2AAF-4AF8-9AF1-3FB595C5A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2D7D0-2578-4E33-8DE4-E4C27925B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E7D34-3805-497F-B1B6-60D5713A0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59D48-C006-42A5-9A0A-FC3DFA163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1EABF-63B6-4E55-B096-0E080BA0E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12ABA-BFA2-4A9C-82C2-6BF20DF34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2825-B2ED-48C1-83FF-46A118207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AB42-CE8B-48E1-ACC9-52FC08444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8279-F401-4EAA-967C-4678E4175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CE81-A2DC-46FB-993C-B4DCBBB82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8413-DD73-42EC-8BEC-BFA6E701E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F83F-5575-4549-8519-0292FAB7C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FF3B-02E2-41AB-8E2B-4B36120DF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BFCBB-BFF0-4F70-B540-07C12922F9FF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86B1B-D001-4D8D-A622-1FD54B7530AE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Illu_capillary_microcirculation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2173320" y="2173320"/>
            <a:ext cx="7997760" cy="1596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66"/>
                </a:solidFill>
                <a:latin typeface="Arial"/>
              </a:rPr>
              <a:t>Body Fluids</a:t>
            </a:r>
            <a:endParaRPr b="1" lang="en-US" sz="6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The composition of tissue fluid depends upon the exchanges between the cells in the biological tissue and the blood. </a:t>
            </a:r>
            <a:r>
              <a:rPr b="1" lang="en-US" sz="2800" spc="-1" strike="noStrike" u="sng">
                <a:solidFill>
                  <a:srgbClr val="3c773c"/>
                </a:solidFill>
                <a:uFillTx/>
                <a:latin typeface="Times New Roman"/>
                <a:ea typeface="Times New Roman"/>
              </a:rPr>
              <a:t>This means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that tissue fluid has a different composition in different tissues and in different areas of the bod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acting as a media for  intercellular communicatio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Plasma membrane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parates ICF from surrounding interstitial flui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Blood vessel wall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parate interstitial fluid from plasm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Barriers separate ICF, interstitial fluid and plasma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10627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2)Blood plasma:</a:t>
            </a:r>
            <a:br>
              <a:rPr sz="3600"/>
            </a:b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-It is the fluid portion of the blood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- The blood transports oxygen from the lungs to the body cells and carbon dioxide from the body cells to the lung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Blood also transports nutrients derived from food in the intestine to the body cells., other nutrients between orga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3) Lymph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Clear and colorless flui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96% water and 4% soli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Solids –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Proteins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2" marL="1062720" indent="-21240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2-6% of solid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2" marL="1062720" indent="-21240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albumin, globulin, fibrinogen, prothrombin, clotting factors, antibodies, enzyme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Lipid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2" marL="1062720" indent="-21240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5-15%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2" marL="1062720" indent="-21240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Chylomicron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2" marL="1062720" indent="-21240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Lipoprotein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Carbohydrate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2" marL="1062720" indent="-21240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Glucose mainly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NPN (Non protein Nitrogen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2" marL="1062720" indent="-21240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Urea and creatinine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Electrolyte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2" marL="1062720" indent="-21240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Sodium, calcium, potassium, chloride, bicarbonate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unctions of Lymph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Return protein from tissue spaces into bloo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Removal of bacteria, toxins and other foreign bodies from tissu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Maintain structural and functional integrity of tissu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Route for intestinal fat absorp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Transport lymphocyt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3c773c"/>
                </a:solidFill>
                <a:uFillTx/>
                <a:latin typeface="Times New Roman"/>
                <a:ea typeface="Times New Roman"/>
              </a:rPr>
              <a:t>2)Intracellular Fluid</a:t>
            </a:r>
            <a:r>
              <a:rPr b="1" lang="en-US" sz="3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838080" y="2285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89520" indent="-3556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The cytosol or intracellular fluid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is the liquid found inside  the cells 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89520" indent="-3556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c773c"/>
                </a:solidFill>
                <a:latin typeface="Times New Roman"/>
                <a:ea typeface="Times New Roman"/>
              </a:rPr>
              <a:t>Physiological Function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89520" indent="-3556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The cytosol has </a:t>
            </a:r>
            <a:r>
              <a:rPr b="0" lang="en-US" sz="2800" spc="-1" strike="noStrike" u="sng">
                <a:solidFill>
                  <a:srgbClr val="3c653c"/>
                </a:solidFill>
                <a:uFillTx/>
                <a:latin typeface="Times New Roman"/>
                <a:ea typeface="Times New Roman"/>
              </a:rPr>
              <a:t>no single function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and instead it is the site of multiple cell processes including metabolic processes (such as glycolysis, gluconeogenesis , PPP) . It is also involved in  </a:t>
            </a:r>
            <a:r>
              <a:rPr b="0" lang="en-US" sz="2800" spc="-1" strike="noStrike" u="sng">
                <a:solidFill>
                  <a:srgbClr val="3c653c"/>
                </a:solidFill>
                <a:uFillTx/>
                <a:latin typeface="Times New Roman"/>
                <a:ea typeface="Times New Roman"/>
              </a:rPr>
              <a:t>signal  transduction 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from the cell membrane to sites within the cell 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89520" indent="-3556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731160" y="502560"/>
            <a:ext cx="7490520" cy="168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The body fluid composition of tissue varies by</a:t>
            </a:r>
            <a:br>
              <a:rPr sz="2800"/>
            </a:b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●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Tissue type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:</a:t>
            </a:r>
            <a:r>
              <a:rPr b="0" lang="en-US" sz="2400" spc="-1" strike="noStrike">
                <a:solidFill>
                  <a:srgbClr val="0029b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lean</a:t>
            </a:r>
            <a:r>
              <a:rPr b="0" lang="en-US" sz="2400" spc="-1" strike="noStrike">
                <a:solidFill>
                  <a:srgbClr val="0029b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tissues have higher fluid content than fat tissue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●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Gender:</a:t>
            </a:r>
            <a:r>
              <a:rPr b="0" lang="en-US" sz="2400" spc="-1" strike="noStrike">
                <a:solidFill>
                  <a:srgbClr val="0029b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males have more lean tissue and therefore more body fluid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●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Age:</a:t>
            </a:r>
            <a:r>
              <a:rPr b="0" lang="en-US" sz="2400" spc="-1" strike="noStrike">
                <a:solidFill>
                  <a:srgbClr val="0029b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lean tissue is lost with age and body fluid is lost with it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3c653c"/>
                </a:solidFill>
                <a:uFillTx/>
                <a:latin typeface="Times New Roman"/>
                <a:ea typeface="Times New Roman"/>
              </a:rPr>
              <a:t>Body fluid composition</a:t>
            </a:r>
            <a:r>
              <a:rPr b="1" lang="en-GB" sz="28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 </a:t>
            </a:r>
            <a:r>
              <a:rPr b="1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a) water                                                    b) dissolved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                                                                        </a:t>
            </a:r>
            <a:r>
              <a:rPr b="1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solut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                                                </a:t>
            </a:r>
            <a:r>
              <a:rPr b="1" i="1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organic                      inorganic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                                                    </a:t>
            </a:r>
            <a:r>
              <a:rPr b="1" i="1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substances                    substanc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                                                   </a:t>
            </a:r>
            <a:r>
              <a:rPr b="1" i="1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(e.g protein)              (e.g electrolytes) 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                                                   </a:t>
            </a:r>
            <a:r>
              <a:rPr b="1" i="1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e.g   glucose                e.g Na</a:t>
            </a:r>
            <a:r>
              <a:rPr b="1" i="1" lang="en-GB" sz="2400" spc="-1" strike="noStrike" baseline="30000">
                <a:solidFill>
                  <a:srgbClr val="003366"/>
                </a:solidFill>
                <a:latin typeface="Times New Roman"/>
                <a:ea typeface="Times New Roman"/>
              </a:rPr>
              <a:t>+</a:t>
            </a:r>
            <a:r>
              <a:rPr b="1" i="1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, K</a:t>
            </a:r>
            <a:r>
              <a:rPr b="1" i="1" lang="en-GB" sz="2400" spc="-1" strike="noStrike" baseline="30000">
                <a:solidFill>
                  <a:srgbClr val="003366"/>
                </a:solidFill>
                <a:latin typeface="Times New Roman"/>
                <a:ea typeface="Times New Roman"/>
              </a:rPr>
              <a:t>+</a:t>
            </a:r>
            <a:r>
              <a:rPr b="1" i="1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Since water </a:t>
            </a:r>
            <a:r>
              <a:rPr b="1" i="1" lang="en-GB" sz="2400" spc="-1" strike="noStrike">
                <a:solidFill>
                  <a:srgbClr val="3c773c"/>
                </a:solidFill>
                <a:latin typeface="Times New Roman"/>
                <a:ea typeface="Times New Roman"/>
              </a:rPr>
              <a:t>passes freely </a:t>
            </a:r>
            <a:r>
              <a:rPr b="1" i="1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across cell membrane, the volume of the various fluid compartments are determined by </a:t>
            </a:r>
            <a:r>
              <a:rPr b="1" i="1" lang="en-GB" sz="2400" spc="-1" strike="noStrike">
                <a:solidFill>
                  <a:srgbClr val="3c773c"/>
                </a:solidFill>
                <a:latin typeface="Times New Roman"/>
                <a:ea typeface="Times New Roman"/>
              </a:rPr>
              <a:t>unique solutes </a:t>
            </a:r>
            <a:r>
              <a:rPr b="1" i="1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that are confined to each spac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For the total extracellular fluid compartment it is sodium and for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  </a:t>
            </a:r>
            <a:r>
              <a:rPr b="1" i="1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the intracellular space, it is potassium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Line 4"/>
          <p:cNvSpPr/>
          <p:nvPr/>
        </p:nvSpPr>
        <p:spPr>
          <a:xfrm>
            <a:off x="3708360" y="547560"/>
            <a:ext cx="0" cy="3603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Line 5"/>
          <p:cNvSpPr/>
          <p:nvPr/>
        </p:nvSpPr>
        <p:spPr>
          <a:xfrm>
            <a:off x="826920" y="907920"/>
            <a:ext cx="583272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Line 6"/>
          <p:cNvSpPr/>
          <p:nvPr/>
        </p:nvSpPr>
        <p:spPr>
          <a:xfrm>
            <a:off x="826920" y="907920"/>
            <a:ext cx="0" cy="21744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Line 7"/>
          <p:cNvSpPr/>
          <p:nvPr/>
        </p:nvSpPr>
        <p:spPr>
          <a:xfrm>
            <a:off x="6659640" y="907920"/>
            <a:ext cx="0" cy="21744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Line 8"/>
          <p:cNvSpPr/>
          <p:nvPr/>
        </p:nvSpPr>
        <p:spPr>
          <a:xfrm>
            <a:off x="7308720" y="2060640"/>
            <a:ext cx="0" cy="28872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Line 9"/>
          <p:cNvSpPr/>
          <p:nvPr/>
        </p:nvSpPr>
        <p:spPr>
          <a:xfrm flipH="1">
            <a:off x="4859280" y="2349360"/>
            <a:ext cx="30974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Line 10"/>
          <p:cNvSpPr/>
          <p:nvPr/>
        </p:nvSpPr>
        <p:spPr>
          <a:xfrm>
            <a:off x="4859280" y="2349360"/>
            <a:ext cx="0" cy="35892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Line 12"/>
          <p:cNvSpPr/>
          <p:nvPr/>
        </p:nvSpPr>
        <p:spPr>
          <a:xfrm>
            <a:off x="7956720" y="2349360"/>
            <a:ext cx="0" cy="35892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7720" y="1142640"/>
            <a:ext cx="76201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3c653c"/>
                </a:solidFill>
                <a:uFillTx/>
                <a:latin typeface="Times New Roman"/>
                <a:ea typeface="Times New Roman"/>
              </a:rPr>
              <a:t>Electrolytes of the body fluid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Electrolytes are salts and minerals that can conduct electrical impulses in the body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Common human electrolytes are sodium, chloride, potassium, calcium, and  bicarbonat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Electrolytes in body fluids are charged ,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It can be: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Cation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- positively charged electrolyte, e.g .Na</a:t>
            </a:r>
            <a:r>
              <a:rPr b="0" lang="en-US" sz="2000" spc="-1" strike="noStrike" baseline="30000">
                <a:solidFill>
                  <a:srgbClr val="003366"/>
                </a:solidFill>
                <a:latin typeface="Times New Roman"/>
                <a:ea typeface="Times New Roman"/>
              </a:rPr>
              <a:t>+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, k</a:t>
            </a:r>
            <a:r>
              <a:rPr b="0" lang="en-US" sz="2000" spc="-1" strike="noStrike" baseline="30000">
                <a:solidFill>
                  <a:srgbClr val="003366"/>
                </a:solidFill>
                <a:latin typeface="Times New Roman"/>
                <a:ea typeface="Times New Roman"/>
              </a:rPr>
              <a:t>+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,Ca</a:t>
            </a:r>
            <a:r>
              <a:rPr b="0" lang="en-US" sz="2000" spc="-1" strike="noStrike" baseline="30000">
                <a:solidFill>
                  <a:srgbClr val="003366"/>
                </a:solidFill>
                <a:latin typeface="Times New Roman"/>
                <a:ea typeface="Times New Roman"/>
              </a:rPr>
              <a:t>+2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Anion 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- negatively charged electrolyte, e.g, Cl</a:t>
            </a:r>
            <a:r>
              <a:rPr b="0" lang="en-US" sz="2000" spc="-1" strike="noStrike" baseline="30000">
                <a:solidFill>
                  <a:srgbClr val="003366"/>
                </a:solidFill>
                <a:latin typeface="Times New Roman"/>
                <a:ea typeface="Times New Roman"/>
              </a:rPr>
              <a:t>-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, HCO</a:t>
            </a:r>
            <a:r>
              <a:rPr b="0" lang="en-US" sz="2000" spc="-1" strike="noStrike" baseline="-25000">
                <a:solidFill>
                  <a:srgbClr val="003366"/>
                </a:solidFill>
                <a:latin typeface="Times New Roman"/>
                <a:ea typeface="Times New Roman"/>
              </a:rPr>
              <a:t>3</a:t>
            </a:r>
            <a:r>
              <a:rPr b="0" lang="en-US" sz="2000" spc="-1" strike="noStrike" baseline="30000">
                <a:solidFill>
                  <a:srgbClr val="003366"/>
                </a:solidFill>
                <a:latin typeface="Times New Roman"/>
                <a:ea typeface="Times New Roman"/>
              </a:rPr>
              <a:t>-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po</a:t>
            </a:r>
            <a:r>
              <a:rPr b="0" lang="en-US" sz="2000" spc="-1" strike="noStrike" baseline="-25000">
                <a:solidFill>
                  <a:srgbClr val="003366"/>
                </a:solidFill>
                <a:latin typeface="Times New Roman"/>
                <a:ea typeface="Times New Roman"/>
              </a:rPr>
              <a:t>4</a:t>
            </a:r>
            <a:r>
              <a:rPr b="0" lang="en-US" sz="2000" spc="-1" strike="noStrike" baseline="30000">
                <a:solidFill>
                  <a:srgbClr val="003366"/>
                </a:solidFill>
                <a:latin typeface="Times New Roman"/>
                <a:ea typeface="Times New Roman"/>
              </a:rPr>
              <a:t>-3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-360" y="761760"/>
            <a:ext cx="89917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The chief extracellular cation is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Na</a:t>
            </a:r>
            <a:r>
              <a:rPr b="1" lang="en-US" sz="2800" spc="-1" strike="noStrike" baseline="30000">
                <a:solidFill>
                  <a:srgbClr val="003366"/>
                </a:solidFill>
                <a:latin typeface="Times New Roman"/>
                <a:ea typeface="Times New Roman"/>
              </a:rPr>
              <a:t>+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984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The chief intracellular cations are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k</a:t>
            </a:r>
            <a:r>
              <a:rPr b="1" lang="en-US" sz="2800" spc="-1" strike="noStrike" baseline="30000">
                <a:solidFill>
                  <a:srgbClr val="003366"/>
                </a:solidFill>
                <a:latin typeface="Times New Roman"/>
                <a:ea typeface="Times New Roman"/>
              </a:rPr>
              <a:t>+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Cl</a:t>
            </a:r>
            <a:r>
              <a:rPr b="1" lang="en-US" sz="2800" spc="-1" strike="noStrike" baseline="30000">
                <a:solidFill>
                  <a:srgbClr val="003366"/>
                </a:solidFill>
                <a:latin typeface="Times New Roman"/>
                <a:ea typeface="Times New Roman"/>
              </a:rPr>
              <a:t>-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is the predominant anion outside cells whereas      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phosphates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constitute the bulk of intracellular anion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  </a:t>
            </a:r>
            <a:r>
              <a:rPr b="1" i="1" lang="en-GB" sz="2800" spc="-1" strike="noStrike">
                <a:solidFill>
                  <a:srgbClr val="3c773c"/>
                </a:solidFill>
                <a:latin typeface="Times New Roman"/>
                <a:ea typeface="Times New Roman"/>
              </a:rPr>
              <a:t>Electrolyte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 ● 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Control the fluid balance of the bod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 ● 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importa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                          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- in muscle contraction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                          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- in energy generation - and almost every              major biochemical  reaction in the bod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66"/>
                </a:solidFill>
                <a:latin typeface="Arial"/>
              </a:rPr>
              <a:t>Body Fluids</a:t>
            </a:r>
            <a:endParaRPr b="1" lang="en-US" sz="3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Total amount of fluid in the human body is approximately </a:t>
            </a:r>
            <a:r>
              <a:rPr b="1" lang="en-US" sz="2000" spc="-1" strike="noStrike" u="sng">
                <a:solidFill>
                  <a:srgbClr val="003366"/>
                </a:solidFill>
                <a:uFillTx/>
                <a:latin typeface="Arial"/>
              </a:rPr>
              <a:t>70%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of body weigh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Body fluid has been divided into two compartments –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Intracellular fluid  (ICF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Arial"/>
              </a:rPr>
              <a:t>Inside the cell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Arial"/>
              </a:rPr>
              <a:t>55% of total body wate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Extracellular fluid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Arial"/>
              </a:rPr>
              <a:t>Outside the cell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Arial"/>
              </a:rPr>
              <a:t>45% of total body wate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757800" y="10627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6666"/>
                </a:solidFill>
                <a:uFillTx/>
                <a:latin typeface="Times New Roman"/>
                <a:ea typeface="Times New Roman"/>
              </a:rPr>
              <a:t>Movement of body fluids:</a:t>
            </a:r>
            <a:br>
              <a:rPr sz="3600"/>
            </a:b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3c653c"/>
                </a:solidFill>
                <a:latin typeface="Times New Roman"/>
                <a:ea typeface="Times New Roman"/>
              </a:rPr>
              <a:t>Membrane transport processes</a:t>
            </a:r>
            <a:r>
              <a:rPr b="0" lang="en-GB" sz="2800" spc="-1" strike="noStrike">
                <a:solidFill>
                  <a:srgbClr val="3c653c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c653c"/>
                </a:solidFill>
                <a:latin typeface="Times New Roman"/>
                <a:ea typeface="Times New Roman"/>
              </a:rPr>
              <a:t>1) passive transpor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it is the  movement of substances across a membrane from higher to lower concentration (down a concentration gradient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- it does not require metabolic energy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      </a:t>
            </a:r>
            <a:r>
              <a:rPr b="1" i="1" lang="en-GB" sz="2800" spc="-1" strike="noStrike">
                <a:solidFill>
                  <a:srgbClr val="3c773c"/>
                </a:solidFill>
                <a:latin typeface="Times New Roman"/>
                <a:ea typeface="Times New Roman"/>
              </a:rPr>
              <a:t>Passive transport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                      ● 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simple diffus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                      ● 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facilitated diffusio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757800" y="10627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2) Active transport:</a:t>
            </a:r>
            <a:br>
              <a:rPr sz="3600"/>
            </a:b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It is the movement of substances across a membrane against gradient (from low concentration to high concentration)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-Active transport requires energy and involves specific carrier proteins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1) passive transport:</a:t>
            </a:r>
            <a:br>
              <a:rPr sz="3600"/>
            </a:b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a) simple diffusion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It is the movement of substances from a region of high concentration to a region of low concentratio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Generally, simple diffusion of water, gases, and other small uncharged molecules across plasma membranes can occur in the absence of transport protein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b) Facilitated diffusion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It is a transport of substances across a biological membran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from an area of higher concentration to an area of lower concentration by a carrier protein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4" descr="c8x16types-transport"/>
          <p:cNvPicPr/>
          <p:nvPr/>
        </p:nvPicPr>
        <p:blipFill>
          <a:blip r:embed="rId1"/>
          <a:stretch/>
        </p:blipFill>
        <p:spPr>
          <a:xfrm>
            <a:off x="1276200" y="2209680"/>
            <a:ext cx="64962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Movement of fluids due t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685800" y="2057400"/>
            <a:ext cx="76960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1) Hydrostatic pressu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2) osmotic pressu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1) Hydrostatic pressure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It is  physiological processes that regulate fluids intake &amp; output as well as movement of water &amp; substances dissolved in it between the body compartments         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2) osmotic pressure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The pressure exerted by the flow of water through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a semi-permeable membrane separating two solutions with different conc. of solut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533520" y="533520"/>
            <a:ext cx="86104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It is diffusion of a solvent (usually water molecules) through a semi-permeable membrane from an area of low</a:t>
            </a:r>
            <a:r>
              <a:rPr b="0" lang="en-GB" sz="28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 solute 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concentration to an area of high </a:t>
            </a:r>
            <a:r>
              <a:rPr b="0" lang="en-GB" sz="28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solute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concentration</a:t>
            </a:r>
            <a:r>
              <a:rPr b="1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</a:t>
            </a:r>
            <a:r>
              <a:rPr b="1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Osmotic pressure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It is pressure which forces the water to move from where there is little dissolved solute to where there is lots dissolved solut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TextBox 2"/>
          <p:cNvSpPr/>
          <p:nvPr/>
        </p:nvSpPr>
        <p:spPr>
          <a:xfrm>
            <a:off x="914400" y="11430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c773c"/>
                </a:solidFill>
                <a:latin typeface="Times New Roman"/>
                <a:ea typeface="Times New Roman"/>
              </a:rPr>
              <a:t>Osmosis: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t is determined by the number of particles per unit volume of fluid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amount of osmotic pressure exereted by a solute is proportional to the number of molecules or ion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Osmole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is the unit used to express the concentration in term of numbers of particles.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Illu capillary microcirculatio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05120" y="2362320"/>
            <a:ext cx="5124240" cy="42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Object 2"/>
          <p:cNvGraphicFramePr/>
          <p:nvPr/>
        </p:nvGraphicFramePr>
        <p:xfrm>
          <a:off x="1219320" y="1295280"/>
          <a:ext cx="6324480" cy="450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295280"/>
                    <a:ext cx="6324480" cy="450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عنصر نائب للمحتوى 3" descr="intra ex fluids.jpg"/>
          <p:cNvPicPr/>
          <p:nvPr/>
        </p:nvPicPr>
        <p:blipFill>
          <a:blip r:embed="rId1"/>
          <a:stretch/>
        </p:blipFill>
        <p:spPr>
          <a:xfrm>
            <a:off x="2057400" y="1981080"/>
            <a:ext cx="48769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4480" y="3196080"/>
            <a:ext cx="89992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gulation of body fluids and electrolytes</a:t>
            </a:r>
            <a:br>
              <a:rPr sz="3600"/>
            </a:b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          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- fluid intake and output are </a:t>
            </a:r>
            <a:r>
              <a:rPr b="1" lang="en-GB" sz="2800" spc="-1" strike="noStrike">
                <a:solidFill>
                  <a:srgbClr val="3c773c"/>
                </a:solidFill>
                <a:latin typeface="Times New Roman"/>
                <a:ea typeface="Times New Roman"/>
              </a:rPr>
              <a:t>balanced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  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     </a:t>
            </a:r>
            <a:r>
              <a:rPr b="1" i="1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Daily intake and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     </a:t>
            </a:r>
            <a:r>
              <a:rPr b="1" i="1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output of water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     </a:t>
            </a:r>
            <a:r>
              <a:rPr b="1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Regulation of body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     </a:t>
            </a:r>
            <a:r>
              <a:rPr b="1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fluid volume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4" name="Picture 4" descr=""/>
          <p:cNvPicPr/>
          <p:nvPr/>
        </p:nvPicPr>
        <p:blipFill>
          <a:blip r:embed="rId1"/>
          <a:srcRect l="0" t="0" r="26955" b="0"/>
          <a:stretch/>
        </p:blipFill>
        <p:spPr>
          <a:xfrm>
            <a:off x="3657600" y="2438280"/>
            <a:ext cx="503568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717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       </a:t>
            </a:r>
            <a:r>
              <a:rPr b="1" lang="en-GB" sz="3600" spc="-1" strike="noStrike">
                <a:solidFill>
                  <a:srgbClr val="3c773c"/>
                </a:solidFill>
                <a:latin typeface="Times New Roman"/>
                <a:ea typeface="Times New Roman"/>
              </a:rPr>
              <a:t>Regulation of body fluids and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c773c"/>
                </a:solidFill>
                <a:latin typeface="Times New Roman"/>
                <a:ea typeface="Times New Roman"/>
              </a:rPr>
              <a:t>          </a:t>
            </a:r>
            <a:r>
              <a:rPr b="1" lang="en-GB" sz="3600" spc="-1" strike="noStrike">
                <a:solidFill>
                  <a:srgbClr val="3c773c"/>
                </a:solidFill>
                <a:latin typeface="Times New Roman"/>
                <a:ea typeface="Times New Roman"/>
              </a:rPr>
              <a:t>electrolytes: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         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Water Balance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Water balance exists when water intake equals water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    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outpu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834120" y="113868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c773c"/>
                </a:solidFill>
                <a:latin typeface="Times New Roman"/>
                <a:ea typeface="Times New Roman"/>
              </a:rPr>
              <a:t>Water Intake:</a:t>
            </a:r>
            <a:r>
              <a:rPr b="1" lang="en-US" sz="3600" spc="-1" strike="noStrike">
                <a:solidFill>
                  <a:srgbClr val="3c773c"/>
                </a:solidFill>
                <a:latin typeface="Times New Roman"/>
                <a:ea typeface="Times New Roman"/>
              </a:rPr>
              <a:t> </a:t>
            </a:r>
            <a:br>
              <a:rPr sz="3600"/>
            </a:b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-   The volume of water gained each day varies from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    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one individual to the nex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-   About 60% of daily water is gained from drinking,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    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another 30%  comes from moist foods, and 10%  from the water of metabolis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     </a:t>
            </a:r>
            <a:r>
              <a:rPr b="1" i="1" lang="en-US" sz="3200" spc="-1" strike="noStrike">
                <a:solidFill>
                  <a:srgbClr val="3c773c"/>
                </a:solidFill>
                <a:latin typeface="Times New Roman"/>
                <a:ea typeface="Times New Roman"/>
              </a:rPr>
              <a:t>Regulation of Water Intake: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    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- The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thirst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mechanism is the primary regulator of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   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water intak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- The thirst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mechanism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derives from the osmotic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    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pressure of extracellular fluids and a thirst center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    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in the hypothalamu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- Once water is taken in, the resulting distention of the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    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stomach will inhibit the thirst mechanism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     </a:t>
            </a:r>
            <a:r>
              <a:rPr b="1" i="1" lang="en-US" sz="2800" spc="-1" strike="noStrike">
                <a:solidFill>
                  <a:srgbClr val="3c773c"/>
                </a:solidFill>
                <a:latin typeface="Times New Roman"/>
                <a:ea typeface="Times New Roman"/>
              </a:rPr>
              <a:t>Water Output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    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Water is lost in urine, feces, perspiration, evapor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from skin (insensible perspiration), and from the lung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    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during breathin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The route of water loss </a:t>
            </a:r>
            <a:r>
              <a:rPr b="0" lang="en-US" sz="2800" spc="-1" strike="noStrike">
                <a:solidFill>
                  <a:srgbClr val="3c773c"/>
                </a:solidFill>
                <a:latin typeface="Times New Roman"/>
                <a:ea typeface="Times New Roman"/>
              </a:rPr>
              <a:t>depends on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temperature, relativ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humidity, and physical exercis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Regulation of Water Output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-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The distal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convoluted tubules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and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collecting ducts of the nephrons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regulate water outpu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-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Antidiuretic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hormone from the posterior pituitary causes a reduction in the amount of water lost in the urin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- When drinking adequate water, the ADH mechanism is inhibited, and more water is expelled in urin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834120" y="10627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Disorders of water balance:</a:t>
            </a:r>
            <a:br>
              <a:rPr sz="3600"/>
            </a:b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Times New Roman"/>
              </a:rPr>
              <a:t>●</a:t>
            </a:r>
            <a:r>
              <a:rPr b="1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1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Dehydration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: water loss exceeds water intak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Times New Roman"/>
              </a:rPr>
              <a:t>●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1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Hypotonic hydration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: ECF is diluted (there is  increase in water, causing ECF sodium levels to lower (hyponatremia), increase in osmosis occurs and tissue cells swell </a:t>
            </a:r>
            <a:r>
              <a:rPr b="1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(oedema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)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681840" y="2586600"/>
            <a:ext cx="778032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66"/>
                </a:solidFill>
                <a:latin typeface="Arial"/>
              </a:rPr>
              <a:t>Electrolytes </a:t>
            </a:r>
            <a:endParaRPr b="1" lang="en-US" sz="6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lectrolytes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Electrolytes are important fo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Times New Roman"/>
              </a:rPr>
              <a:t>■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Maintaining fluid balanc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Times New Roman"/>
              </a:rPr>
              <a:t>■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Contributing to acid–base regulatio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Times New Roman"/>
              </a:rPr>
              <a:t>■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Facilitating enzyme reaction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Times New Roman"/>
              </a:rPr>
              <a:t>■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Transmitting neuromuscular reaction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3c773c"/>
                </a:solidFill>
                <a:latin typeface="Times New Roman"/>
                <a:ea typeface="Times New Roman"/>
              </a:rPr>
              <a:t>Electrolyte Balance:</a:t>
            </a:r>
            <a:r>
              <a:rPr b="0" i="1" lang="en-US" sz="2800" spc="-1" strike="noStrike">
                <a:solidFill>
                  <a:srgbClr val="3c773c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An electrolyte balance exists when the quantities of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electrolytes gained equals the amount los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ody Fluid Compartmen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0" name="Picture 3" descr="27_01"/>
          <p:cNvPicPr/>
          <p:nvPr/>
        </p:nvPicPr>
        <p:blipFill>
          <a:blip r:embed="rId1"/>
          <a:stretch/>
        </p:blipFill>
        <p:spPr>
          <a:xfrm>
            <a:off x="914400" y="2286000"/>
            <a:ext cx="6994440" cy="439740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4"/>
          <p:cNvSpPr/>
          <p:nvPr/>
        </p:nvSpPr>
        <p:spPr>
          <a:xfrm>
            <a:off x="914400" y="6477120"/>
            <a:ext cx="24382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lectrolytes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837720" y="1980720"/>
            <a:ext cx="70866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57040" indent="-25704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lectrolytes,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harged ions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apable of conducting electricity, are present in all body fluids and fluid compartments. Just as maintaining the fluid balance is vital to a normal body function, so is maintaining electrolyte balance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57040" indent="-2570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lthough the concentration of specific electrolytes </a:t>
            </a:r>
            <a:r>
              <a:rPr b="1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differ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between fluid compartments, a balance of cations (positively charged ions) and anions (negatively charged ions)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always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xist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57040" indent="-2570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757800" y="113868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Regulation of Electrolyte Intake:</a:t>
            </a:r>
            <a:br>
              <a:rPr sz="3600"/>
            </a:b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-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A person ordinarily obtains sufficient electrolytes from food eate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A salt craving may indicate an electrolyte deficiency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c773c"/>
                </a:solidFill>
                <a:latin typeface="Times New Roman"/>
                <a:ea typeface="Times New Roman"/>
              </a:rPr>
              <a:t>Electrolyte Output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Losses of electrolytes occur through sweating, in the feces, and in urin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ormonal role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72" name="Picture 2" descr=""/>
          <p:cNvPicPr/>
          <p:nvPr/>
        </p:nvPicPr>
        <p:blipFill>
          <a:blip r:embed="rId1"/>
          <a:stretch/>
        </p:blipFill>
        <p:spPr>
          <a:xfrm>
            <a:off x="1447920" y="2362320"/>
            <a:ext cx="595296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2" descr=""/>
          <p:cNvPicPr/>
          <p:nvPr/>
        </p:nvPicPr>
        <p:blipFill>
          <a:blip r:embed="rId2"/>
          <a:stretch/>
        </p:blipFill>
        <p:spPr>
          <a:xfrm>
            <a:off x="826920" y="1905120"/>
            <a:ext cx="8137800" cy="43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mposition of body fluid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685800" y="2361960"/>
            <a:ext cx="37339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rganic substanc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Glucos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mino acid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atty acid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Hormon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Enzym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4572000" y="2371680"/>
            <a:ext cx="419112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organic substanc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odiu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otassiu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alciu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agnesiu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hlorid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hophat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ulphat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10627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6666"/>
                </a:solidFill>
                <a:uFillTx/>
                <a:latin typeface="Arial"/>
              </a:rPr>
              <a:t>Extracellular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fluid  </a:t>
            </a:r>
            <a:br>
              <a:rPr sz="3600"/>
            </a:b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2190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 algn="just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Interstitial fluid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Arial"/>
              </a:rPr>
              <a:t>Present between the cell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Arial"/>
              </a:rPr>
              <a:t>Approximately 80% of ECF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Plasma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Arial"/>
              </a:rPr>
              <a:t>Present in blood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Arial"/>
              </a:rPr>
              <a:t>Approximately 20% of ECF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Also includes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Arial"/>
              </a:rPr>
              <a:t>Lymph                              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Arial"/>
              </a:rPr>
              <a:t>synovial fluid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Arial"/>
              </a:rPr>
              <a:t>cerebrospinal flui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 algn="just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3886200" y="5029200"/>
            <a:ext cx="4654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Arial"/>
              </a:rPr>
              <a:t>pleural, pericardial and peritoneal flui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1) Extracellular fluid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c773c"/>
                </a:solidFill>
                <a:latin typeface="Times New Roman"/>
                <a:ea typeface="Times New Roman"/>
              </a:rPr>
              <a:t>a) </a:t>
            </a:r>
            <a:r>
              <a:rPr b="1" i="1" lang="en-US" sz="2800" spc="-1" strike="noStrike" u="sng">
                <a:solidFill>
                  <a:srgbClr val="3c773c"/>
                </a:solidFill>
                <a:uFillTx/>
                <a:latin typeface="Times New Roman"/>
                <a:ea typeface="Times New Roman"/>
              </a:rPr>
              <a:t>Interstitial Fluid</a:t>
            </a:r>
            <a:r>
              <a:rPr b="0" i="1" lang="en-US" sz="2800" spc="-1" strike="noStrike" u="sng">
                <a:solidFill>
                  <a:srgbClr val="3c773c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also known as </a:t>
            </a:r>
            <a:r>
              <a:rPr b="0" lang="en-US" sz="2800" spc="-1" strike="noStrike" u="sng">
                <a:solidFill>
                  <a:srgbClr val="3c773c"/>
                </a:solidFill>
                <a:uFillTx/>
                <a:latin typeface="Times New Roman"/>
                <a:ea typeface="Times New Roman"/>
              </a:rPr>
              <a:t>intercellular fluid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and  tissue fluid is fluid between the cells of multi-cellular organisms  which delivers materials to the cells, intercellular communication, and removal of metabolic wast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it represents the largest portion of the ECF compartmen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Interstitial fluid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consists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of a water solvent containing amino acids, sugars, fatty acids, coenzymes, hormones, neurotransmitters, salts, as well as waste products from the cells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7720" y="761760"/>
            <a:ext cx="31244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This fluid presents as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gel-like extracellular matrix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-   The plasma and the interstitial fluid integrate through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pores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in the blood capillaries which allow water and most dissolved substances except protein to diffuse 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46960" indent="-24696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46960" indent="-246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0" name="عنصر نائب للمحتوى 3" descr="intra ex fluids.jpg"/>
          <p:cNvPicPr/>
          <p:nvPr/>
        </p:nvPicPr>
        <p:blipFill>
          <a:blip r:embed="rId1"/>
          <a:stretch/>
        </p:blipFill>
        <p:spPr>
          <a:xfrm>
            <a:off x="4724280" y="2819520"/>
            <a:ext cx="327672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-25020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oxygen, nutrients, and regulatory molecules travelling in the blood </a:t>
            </a:r>
            <a:r>
              <a:rPr b="0" lang="en-US" sz="2800" spc="-1" strike="noStrike" u="sng">
                <a:solidFill>
                  <a:srgbClr val="3c653c"/>
                </a:solidFill>
                <a:uFillTx/>
                <a:latin typeface="Times New Roman"/>
                <a:ea typeface="Times New Roman"/>
              </a:rPr>
              <a:t>must first pass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into the interstitial fluid before reaching the body cells., waste products and hormone secretions from the cells must first pass into the interstitial fluid before reaching the blood plasma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The exchange of material across the capillaries occurs at high rate by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diffusion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in both directions 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The composition of tissue fluid depends upon the exchanges between the cells in the biological tissue and the blood. This means that tissue fluid has a different composition in different tissues and in different areas of the body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8:40:36Z</dcterms:created>
  <dc:creator>Jayanti Tokkas, Shalini Jain and Hariom Yadav</dc:creator>
  <dc:description/>
  <dc:language>en-US</dc:language>
  <cp:lastModifiedBy>aalbity</cp:lastModifiedBy>
  <dcterms:modified xsi:type="dcterms:W3CDTF">2016-09-25T07:20:50Z</dcterms:modified>
  <cp:revision>149</cp:revision>
  <dc:subject/>
  <dc:title>Body Fluids</dc:title>
</cp:coreProperties>
</file>