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527-5680-486E-83DC-BE3B17AD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5C2-E560-4A79-A195-DD5A6E4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9F0-B19F-45FF-AFF2-71F82B69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D52-3CF5-493A-B58B-3BED6E50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5D9-3B4B-4613-AEFC-C5FACACC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1A98-E8AA-4226-BDAE-584A882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9484-FD7A-4D2E-9AE3-B4628DB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65E5-9A94-4F22-ABDE-F44E320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570-6A8B-4642-9380-E7EDE10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0CAE-67EE-48EF-A122-E8693DA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9504-DEE1-4E74-B7E8-977A09E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FFA-6FB3-4B64-93E4-53EEE5B0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DD8-A0CB-4361-AA2F-4F45E96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12A1-597E-427B-ADC1-98CCE96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200A-B0EA-4779-8A2A-E451A236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D592-DA0D-4F9F-9790-6A51E574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52C-DD16-440E-8BCE-D64286EC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E16-0CF0-497E-A35F-99F837CD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91D-1180-43D6-8E88-9EC21E6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3F0-BDA5-47B5-8C14-831D19C5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38-E5CB-4987-8A37-0CB256F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3C3-8418-4E07-BFBD-86E9E38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706-EEBB-4A75-B99D-66AF8AA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68C-7ED8-448C-BB75-DF6CCFE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A8EB-157C-4B1C-BB42-587DBB8417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27F7-9F8E-48C0-90DB-82B8065A9D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Illu_capillary_microcirculatio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73320" y="2173320"/>
            <a:ext cx="799776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Body Fluid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omposition of tissue fluid depends upon the exchanges between the cells in the biological tissue and the blood. </a:t>
            </a:r>
            <a:r>
              <a:rPr b="1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This mean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at tissue fluid has a different composition in different tissues and in different areas of the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cting as a media for  intercellular commun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asma membran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ICF from surrounding interstitial fl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lood vessel wal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 interstitial fluid from pla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rriers separate ICF, interstitial fluid and plas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Blood plasma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It is the fluid portion of the blo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he blood transports oxygen from the lungs to the body cells and carbon dioxide from the body cells to the lu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lood also transports nutrients derived from food in the intestine to the body cells., other nutrients between org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) Ly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lear and colorless flu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6% water and 4% soli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lids –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Protein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-6% of solid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lbumin, globulin, fibrinogen, prothrombin, clotting factors, antibodies, enzym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ipi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5-15%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hylomicr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Lipoprotei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arbohyd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lucose mainl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PN (Non protein Nitroge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Urea and creatini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Electroly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odium, calcium, potassium, chloride, bicarbonat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tions of Lym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urn protein from tissue spaces into bl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moval of bacteria, toxins and other foreign bodies from t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intain structural and functional integrity of tiss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oute for intestinal fat absor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ransport lymphocy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2)Intracellular Fluid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ytosol or intracellular flui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s the liquid found inside  the cells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Physiological Function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ytosol has </a:t>
            </a:r>
            <a:r>
              <a:rPr b="0" lang="en-US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no single function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instead it is the site of multiple cell processes including metabolic processes (such as glycolysis, gluconeogenesis , PPP) . It is also involved in  </a:t>
            </a:r>
            <a:r>
              <a:rPr b="0" lang="en-US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signal  transduction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om the cell membrane to sites within the cell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31160" y="502560"/>
            <a:ext cx="7490520" cy="168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body fluid composition of tissue varies by</a:t>
            </a:r>
            <a:br>
              <a:rPr sz="28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issue typ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ean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issues have higher fluid content than fat tissu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ender: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les have more lean tissue and therefore more body flu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ge:</a:t>
            </a:r>
            <a:r>
              <a:rPr b="0" lang="en-US" sz="2400" spc="-1" strike="noStrike">
                <a:solidFill>
                  <a:srgbClr val="0029b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ean tissue is lost with age and body fluid is lost with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Body fluid composition</a:t>
            </a:r>
            <a:r>
              <a:rPr b="1" lang="en-GB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) water                                                    b) dissolved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olu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rganic                      inorgan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bstances                    substa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e.g protein)              (e.g electrolytes)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.g   glucose                e.g Na</a:t>
            </a:r>
            <a:r>
              <a:rPr b="1" i="1" lang="en-GB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K</a:t>
            </a:r>
            <a:r>
              <a:rPr b="1" i="1" lang="en-GB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nce water </a:t>
            </a:r>
            <a:r>
              <a:rPr b="1" i="1" lang="en-GB" sz="24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passes freely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cross cell membrane, the volume of the various fluid compartments are determined by </a:t>
            </a:r>
            <a:r>
              <a:rPr b="1" i="1" lang="en-GB" sz="24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unique solutes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at are confined to each sp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or the total extracellular fluid compartment it is sodium and f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intracellular space, it is potassiu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3708360" y="54756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826920" y="907920"/>
            <a:ext cx="583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826920" y="90792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6659640" y="90792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7308720" y="2060640"/>
            <a:ext cx="0" cy="288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4859280" y="2349360"/>
            <a:ext cx="309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859280" y="2349360"/>
            <a:ext cx="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7956720" y="2349360"/>
            <a:ext cx="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7720" y="11426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Electrolytes of the body flui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are salts and minerals that can conduct electrical impulses in the bod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mmon human electrolytes are sodium, chloride, potassium, calcium, and  bicarbon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in body fluids are charged 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can b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tion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positively charged electrolyte, e.g .Na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k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Ca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ion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negatively charged electrolyte, e.g, Cl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, HCO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po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hief extracellular cation i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a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hief intracellular cations are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s the predominant anion outside cells whereas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hosphat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onstitute the bulk of intracellular an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i="1" lang="en-GB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rol the fluid balance of the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in muscle contraction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in energy generation - and almost every              major biochemical  reaction in the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Body Fluids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otal amount of fluid in the human body is approximately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70%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f body we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ody fluid has been divided into two compartments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racellular fluid  (ICF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Inside the ce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55% of total body wa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tracellular flui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Outside the ce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45% of total body wa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5780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Movement of body fluids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c653c"/>
                </a:solidFill>
                <a:latin typeface="Times New Roman"/>
                <a:ea typeface="Times New Roman"/>
              </a:rPr>
              <a:t>Membrane transport processes</a:t>
            </a:r>
            <a:r>
              <a:rPr b="0" lang="en-GB" sz="2800" spc="-1" strike="noStrike">
                <a:solidFill>
                  <a:srgbClr val="3c653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653c"/>
                </a:solidFill>
                <a:latin typeface="Times New Roman"/>
                <a:ea typeface="Times New Roman"/>
              </a:rPr>
              <a:t>1) passive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the  movement of substances across a membrane from higher to lower concentration (down a concentration gradie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it does not require metabolic ener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1" i="1" lang="en-GB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Passive transport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ple dif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●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acilitated diff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5780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Active transport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the movement of substances across a membrane against gradient (from low concentration to high concentration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Active transport requires energy and involves specific carrier protei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passive transport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) simple diffus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the movement of substances from a region of high concentration to a region of low concent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enerally, simple diffusion of water, gases, and other small uncharged molecules across plasma membranes can occur in the absence of transport prote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) Facilitated diffus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a transport of substances across a biologica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om an area of higher concentration to an area of lower concentration by a carrier prote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8x16types-transport"/>
          <p:cNvPicPr/>
          <p:nvPr/>
        </p:nvPicPr>
        <p:blipFill>
          <a:blip r:embed="rId1"/>
          <a:stretch/>
        </p:blipFill>
        <p:spPr>
          <a:xfrm>
            <a:off x="1276200" y="2209680"/>
            <a:ext cx="649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Movement of fluids due 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5800" y="205740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Hydrostatic pres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 osmotic pres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) Hydrostatic pressu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 physiological processes that regulate fluids intake &amp; output as well as movement of water &amp; substances dissolved in it between the body compartments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) osmotic pressur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pressure exerted by the flow of water throug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semi-permeable membrane separating two solutions with different conc. of solu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diffusion of a solvent (usually water molecules) through a semi-permeable membrane from an area of low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 solute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centration to an area of high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olute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oncentration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smotic pressu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pressure which forces the water to move from where there is little dissolved solute to where there is lots dissolved sol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914400" y="1143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Osmosis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determined by the number of particles per unit volume of flu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mount of osmotic pressure exereted by a solute is proportional to the number of molecules or 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smo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unit used to express the concentration in term of numbers of particle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Illu capillary microcircul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51242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219320" y="1295280"/>
          <a:ext cx="6324480" cy="45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32448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عنصر نائب للمحتوى 3" descr="intra ex fluids.jpg"/>
          <p:cNvPicPr/>
          <p:nvPr/>
        </p:nvPicPr>
        <p:blipFill>
          <a:blip r:embed="rId1"/>
          <a:stretch/>
        </p:blipFill>
        <p:spPr>
          <a:xfrm>
            <a:off x="2057400" y="19810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480" y="319608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ulation of body fluids and electrolyte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fluid intake and output are </a:t>
            </a:r>
            <a:r>
              <a:rPr b="1" lang="en-GB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balanc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aily intake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utput of wa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ulation of bod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luid volum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0" t="0" r="26955" b="0"/>
          <a:stretch/>
        </p:blipFill>
        <p:spPr>
          <a:xfrm>
            <a:off x="3657600" y="2438280"/>
            <a:ext cx="50356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Regulation of body fluids an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s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Bala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balance exists when water intake equals water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Water Intake:</a:t>
            </a:r>
            <a:r>
              <a:rPr b="1" lang="en-US" sz="36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 The volume of water gained each day varies from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ne individual to the n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 About 60% of daily water is gained from drinking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other 30%  comes from moist foods, and 10%  from the water of metabo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2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Regulation of Water Intak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he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irs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mechanism is the primary regulator of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intak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The thirst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chanism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derives from the osmotic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ssure of extracellular fluids and a thirst center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 the hypothalam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Once water is taken in, the resulting distention of the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tomach will inhibit the thirst mechanis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Water Outp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ater is lost in urine, feces, perspiration, evapo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om skin (insensible perspiration), and from the lu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uring breat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route of water loss </a:t>
            </a:r>
            <a:r>
              <a:rPr b="0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depends on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mperature, rel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idity, and physical exerci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egulation of Water Outpu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distal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voluted tubul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llecting ducts of the nephron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ulate water outp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tidiureti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hormone from the posterior pituitary causes a reduction in the amount of water lost in the ur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When drinking adequate water, the ADH mechanism is inhibited, and more water is expelled in ur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Disorders of water balance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hydration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water loss exceeds water int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●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ypotonic hydration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ECF is diluted (there is  increase in water, causing ECF sodium levels to lower (hyponatremia), increase in osmosis occurs and tissue cells swell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oedema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1840" y="25866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Electrolytes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lyt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are important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intaining fluid bal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tributing to acid–base regul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acilitating enzyme rea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■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ransmitting neuromuscular rea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 Balance:</a:t>
            </a:r>
            <a:r>
              <a:rPr b="0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 electrolyte balance exists when the quantities o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lectrolytes gained equals the amount l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dy Fluid Compar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3" descr="27_01"/>
          <p:cNvPicPr/>
          <p:nvPr/>
        </p:nvPicPr>
        <p:blipFill>
          <a:blip r:embed="rId1"/>
          <a:stretch/>
        </p:blipFill>
        <p:spPr>
          <a:xfrm>
            <a:off x="914400" y="2286000"/>
            <a:ext cx="6994440" cy="4397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914400" y="6477120"/>
            <a:ext cx="2438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lyt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7720" y="19807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lytes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rged ion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pable of conducting electricity, are present in all body fluids and fluid compartments. Just as maintaining the fluid balance is vital to a normal body function, so is maintaining electrolyte balan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hough the concentration of specific electrolytes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iff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etween fluid compartments, a balance of cations (positively charged ions) and anions (negatively charged ions)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lway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is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5780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egulation of Electrolyte Intake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person ordinarily obtains sufficient electrolytes from food eat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salt craving may indicate an electrolyte deficienc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Electrolyte Outp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osses of electrolytes occur through sweating, in the feces, and in ur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rmonal rol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952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826920" y="1905120"/>
            <a:ext cx="8137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osition of body flui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373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c subst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tty aci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rm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0" y="2371680"/>
            <a:ext cx="41911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organic subst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lor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o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l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Extracellul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fluid 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219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nterstitial flui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esent between the cell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pproximately 80% of EC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lasm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resent in bloo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pproximately 20% of EC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lso includ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Lymph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ynovial flui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erebrospinal flu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886200" y="5029200"/>
            <a:ext cx="46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pleural, pericardial and peritoneal flui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1) Extracellular flui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c773c"/>
                </a:solidFill>
                <a:latin typeface="Times New Roman"/>
                <a:ea typeface="Times New Roman"/>
              </a:rPr>
              <a:t>a) </a:t>
            </a:r>
            <a:r>
              <a:rPr b="1" i="1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Interstitial Fluid</a:t>
            </a:r>
            <a:r>
              <a:rPr b="0" i="1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lso known as </a:t>
            </a:r>
            <a:r>
              <a:rPr b="0" lang="en-US" sz="2800" spc="-1" strike="noStrike" u="sng">
                <a:solidFill>
                  <a:srgbClr val="3c773c"/>
                </a:solidFill>
                <a:uFillTx/>
                <a:latin typeface="Times New Roman"/>
                <a:ea typeface="Times New Roman"/>
              </a:rPr>
              <a:t>intercellular fluid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d  tissue fluid is fluid between the cells of multi-cellular organisms  which delivers materials to the cells, intercellular communication, and removal of metabolic was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represents the largest portion of the ECF compart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rstitial flui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sist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of a water solvent containing amino acids, sugars, fatty acids, coenzymes, hormones, neurotransmitters, salts, as well as waste products from the cell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7720" y="761760"/>
            <a:ext cx="3124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is fluid presents a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gel-like extracellular matr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 The plasma and the interstitial fluid integrate through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re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n the blood capillaries which allow water and most dissolved substances except protein to diffuse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عنصر نائب للمحتوى 3" descr="intra ex fluids.jpg"/>
          <p:cNvPicPr/>
          <p:nvPr/>
        </p:nvPicPr>
        <p:blipFill>
          <a:blip r:embed="rId1"/>
          <a:stretch/>
        </p:blipFill>
        <p:spPr>
          <a:xfrm>
            <a:off x="4724280" y="28195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xygen, nutrients, and regulatory molecules travelling in the blood </a:t>
            </a:r>
            <a:r>
              <a:rPr b="0" lang="en-US" sz="2800" spc="-1" strike="noStrike" u="sng">
                <a:solidFill>
                  <a:srgbClr val="3c653c"/>
                </a:solidFill>
                <a:uFillTx/>
                <a:latin typeface="Times New Roman"/>
                <a:ea typeface="Times New Roman"/>
              </a:rPr>
              <a:t>must first pas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o the interstitial fluid before reaching the body cells., waste products and hormone secretions from the cells must first pass into the interstitial fluid before reaching the blood plas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exchange of material across the capillaries occurs at high rate by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iffu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in both directions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 composition of tissue fluid depends upon the exchanges between the cells in the biological tissue and the blood. This means that tissue fluid has a different composition in different tissues and in different areas of the bod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40:36Z</dcterms:created>
  <dc:creator>Jayanti Tokkas, Shalini Jain and Hariom Yadav</dc:creator>
  <dc:description/>
  <dc:language>en-US</dc:language>
  <cp:lastModifiedBy>aalbity</cp:lastModifiedBy>
  <dcterms:modified xsi:type="dcterms:W3CDTF">2016-09-25T07:20:50Z</dcterms:modified>
  <cp:revision>149</cp:revision>
  <dc:subject/>
  <dc:title>Body Fluids</dc:title>
</cp:coreProperties>
</file>