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FBA1-CCD9-4718-A683-92C5C7FBD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B972-A25C-47BA-9E75-7EF18110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39D6-83C6-40FF-A073-8F20C84EB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69DA-5AB7-4ED8-BE0B-549CBBD75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6CC1-6D68-431A-AD84-7B6C18AC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48DA-64C9-48BD-9E44-A4C27C5C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0F1A-A5C4-48A9-B8F0-0E9AF672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1242-EF62-4812-B2FE-7AFBF934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FF72-AB76-4916-AB07-02765ED5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1256-01C1-4E12-9241-032F67B4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A4F1-A57A-4460-AC2F-76A397C5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E8A4-0924-4676-A106-B6B4D431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62F2-0366-4707-AF57-19459E72870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e5ffff"/>
                </a:solidFill>
                <a:latin typeface="Monotype Corsiva"/>
                <a:ea typeface="Lucida Sans Unicode"/>
              </a:rPr>
              <a:t>Body Fluid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-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ffusi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9" name="Picture 2" descr="C:\Users\COMPAQ\Desktop\diffusion.jpg"/>
          <p:cNvPicPr/>
          <p:nvPr/>
        </p:nvPicPr>
        <p:blipFill>
          <a:blip r:embed="rId1"/>
          <a:stretch/>
        </p:blipFill>
        <p:spPr>
          <a:xfrm>
            <a:off x="0" y="1785960"/>
            <a:ext cx="91440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3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-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ctive Transpor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a process that requires energy for the movement of substances through cell membrane from an area of lesser solute concentration to an area of higher solute concentration 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enosine triphosphate (ATP) stored in all cells , is released from a cell and supplies energy for solute movements in and out of the cel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4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-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iltrati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the passage of fluid through a permeable membrane .Passage is from an area of high pressure to  an area of lower pressur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10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ffff"/>
                </a:solidFill>
                <a:latin typeface="Tahoma"/>
              </a:rPr>
              <a:t>Body wat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459640" cy="51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69560" indent="-1695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ily intake of water (by two main sources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71840" indent="-265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gested in the form of water or liquid which add about 2100ml/day to the body fluid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71840" indent="-265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nthesized as a result of metabolism and it is about 200ml/da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ily loss of  body   water: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71840" indent="-265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poration 700m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71840" indent="-265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rine 1400 m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71840" indent="-265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weat 100 m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71840" indent="-265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ces 100m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2"/>
          <p:cNvSpPr/>
          <p:nvPr/>
        </p:nvSpPr>
        <p:spPr>
          <a:xfrm>
            <a:off x="-6192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-6192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3" descr="019852403x_water-balance_1.jpg"/>
          <p:cNvPicPr/>
          <p:nvPr/>
        </p:nvPicPr>
        <p:blipFill>
          <a:blip r:embed="rId1"/>
          <a:stretch/>
        </p:blipFill>
        <p:spPr>
          <a:xfrm>
            <a:off x="1143000" y="642960"/>
            <a:ext cx="69055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ffff"/>
                </a:solidFill>
                <a:latin typeface="Tahoma"/>
              </a:rPr>
              <a:t>Types of Solutions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1360" indent="-44136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sotonic so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082520" indent="-461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water concentration in IC&amp;ECF is equal and  solutes can not enter or leave the cel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41360" indent="-44136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ypotonic so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082520" indent="-461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re are less solutes less osmotic pressure so water enter the cell and it swel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41360" indent="-44136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ypertonic so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082520" indent="-461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igh solutes ,high osmotic pressure so water leave the cell and cell shrink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082520" indent="-461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lution of NaCL 0.9%and glucose 5%are isotonic so it is important in clinical medicine  because the cell neither swell nor shrink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4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4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ffff"/>
                </a:solidFill>
                <a:latin typeface="Tahoma"/>
              </a:rPr>
              <a:t>Water Balan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569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maintained in the body by adjusting water input and water outpu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ntrol of water inpu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49280" indent="-2700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imulated by thirst sens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49280" indent="-2700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st sensation occurs as a result of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tonicity.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ovolem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Diagram 6"/>
          <p:cNvGrpSpPr/>
          <p:nvPr/>
        </p:nvGrpSpPr>
        <p:grpSpPr>
          <a:xfrm>
            <a:off x="1917360" y="699480"/>
            <a:ext cx="5307480" cy="5223960"/>
            <a:chOff x="1917360" y="699480"/>
            <a:chExt cx="5307480" cy="5223960"/>
          </a:xfrm>
        </p:grpSpPr>
        <p:sp>
          <p:nvSpPr>
            <p:cNvPr id="74" name="_s1028"/>
            <p:cNvSpPr/>
            <p:nvPr/>
          </p:nvSpPr>
          <p:spPr>
            <a:xfrm>
              <a:off x="2766600" y="699480"/>
              <a:ext cx="3608640" cy="3552120"/>
            </a:xfrm>
            <a:custGeom>
              <a:avLst/>
              <a:gdLst>
                <a:gd name="textAreaLeft" fmla="*/ 0 w 3608640"/>
                <a:gd name="textAreaRight" fmla="*/ 3609000 w 3608640"/>
                <a:gd name="textAreaTop" fmla="*/ 0 h 3552120"/>
                <a:gd name="textAreaBottom" fmla="*/ 3552480 h 355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_s1029"/>
            <p:cNvSpPr/>
            <p:nvPr/>
          </p:nvSpPr>
          <p:spPr>
            <a:xfrm rot="5400000">
              <a:off x="3644280" y="1506600"/>
              <a:ext cx="3552480" cy="3608640"/>
            </a:xfrm>
            <a:custGeom>
              <a:avLst/>
              <a:gdLst>
                <a:gd name="textAreaLeft" fmla="*/ 0 w 3552480"/>
                <a:gd name="textAreaRight" fmla="*/ 3552840 w 3552480"/>
                <a:gd name="textAreaTop" fmla="*/ 0 h 3608640"/>
                <a:gd name="textAreaBottom" fmla="*/ 3609000 h 360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_s1030"/>
            <p:cNvSpPr/>
            <p:nvPr/>
          </p:nvSpPr>
          <p:spPr>
            <a:xfrm rot="10800000">
              <a:off x="2766600" y="2370960"/>
              <a:ext cx="3608640" cy="3552480"/>
            </a:xfrm>
            <a:custGeom>
              <a:avLst/>
              <a:gdLst>
                <a:gd name="textAreaLeft" fmla="*/ 0 w 3608640"/>
                <a:gd name="textAreaRight" fmla="*/ 3609000 w 3608640"/>
                <a:gd name="textAreaTop" fmla="*/ 0 h 3552480"/>
                <a:gd name="textAreaBottom" fmla="*/ 3552840 h 35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_s1031"/>
            <p:cNvSpPr/>
            <p:nvPr/>
          </p:nvSpPr>
          <p:spPr>
            <a:xfrm rot="16200000">
              <a:off x="1945080" y="1506960"/>
              <a:ext cx="3552480" cy="3608280"/>
            </a:xfrm>
            <a:custGeom>
              <a:avLst/>
              <a:gdLst>
                <a:gd name="textAreaLeft" fmla="*/ 0 w 3552480"/>
                <a:gd name="textAreaRight" fmla="*/ 3552840 w 3552480"/>
                <a:gd name="textAreaTop" fmla="*/ 0 h 3608280"/>
                <a:gd name="textAreaBottom" fmla="*/ 3608640 h 360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_s1032"/>
            <p:cNvSpPr/>
            <p:nvPr/>
          </p:nvSpPr>
          <p:spPr>
            <a:xfrm>
              <a:off x="5531040" y="1027080"/>
              <a:ext cx="1359000" cy="13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cc3300"/>
                  </a:solidFill>
                  <a:uFillTx/>
                  <a:latin typeface="Tahoma"/>
                  <a:ea typeface="Arial"/>
                </a:rPr>
                <a:t>Increase</a:t>
              </a:r>
              <a:r>
                <a:rPr b="1" i="1" lang="en-US" sz="2800" spc="-1" strike="noStrike" u="sng">
                  <a:solidFill>
                    <a:srgbClr val="cc3300"/>
                  </a:solidFill>
                  <a:uFillTx/>
                  <a:latin typeface="Tahoma"/>
                  <a:ea typeface="Arial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cc3300"/>
                  </a:solidFill>
                  <a:uFillTx/>
                  <a:latin typeface="Tahoma"/>
                  <a:ea typeface="Arial"/>
                </a:rPr>
                <a:t>plasma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cc3300"/>
                  </a:solidFill>
                  <a:uFillTx/>
                  <a:latin typeface="Tahoma"/>
                  <a:ea typeface="Arial"/>
                </a:rPr>
                <a:t> </a:t>
              </a:r>
              <a:r>
                <a:rPr b="1" i="1" lang="en-US" sz="2800" spc="-1" strike="noStrike" u="sng">
                  <a:solidFill>
                    <a:srgbClr val="cc3300"/>
                  </a:solidFill>
                  <a:uFillTx/>
                  <a:latin typeface="Tahoma"/>
                  <a:ea typeface="Arial"/>
                </a:rPr>
                <a:t>osmolarity</a:t>
              </a:r>
              <a:r>
                <a:rPr b="0" lang="en-US" sz="1200" spc="-1" strike="noStrike" u="sng">
                  <a:solidFill>
                    <a:srgbClr val="ffffff"/>
                  </a:solidFill>
                  <a:uFillTx/>
                  <a:latin typeface="Tahoma"/>
                  <a:ea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_s1033"/>
            <p:cNvSpPr/>
            <p:nvPr/>
          </p:nvSpPr>
          <p:spPr>
            <a:xfrm>
              <a:off x="5532480" y="4255200"/>
              <a:ext cx="1359000" cy="13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cc3300"/>
                  </a:solidFill>
                  <a:uFillTx/>
                  <a:latin typeface="Tahoma"/>
                  <a:ea typeface="Arial"/>
                </a:rPr>
                <a:t>Stimulation of</a:t>
              </a:r>
              <a:r>
                <a:rPr b="1" i="1" lang="en-US" sz="2800" spc="-1" strike="noStrike" u="sng">
                  <a:solidFill>
                    <a:srgbClr val="cc3300"/>
                  </a:solidFill>
                  <a:uFillTx/>
                  <a:latin typeface="Tahoma"/>
                  <a:ea typeface="Arial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cc3300"/>
                  </a:solidFill>
                  <a:uFillTx/>
                  <a:latin typeface="Tahoma"/>
                  <a:ea typeface="Arial"/>
                </a:rPr>
                <a:t>thirst center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cc3300"/>
                  </a:solidFill>
                  <a:uFillTx/>
                  <a:latin typeface="Tahoma"/>
                  <a:ea typeface="Arial"/>
                </a:rPr>
                <a:t>In</a:t>
              </a:r>
              <a:r>
                <a:rPr b="1" i="1" lang="en-US" sz="2800" spc="-1" strike="noStrike" u="sng">
                  <a:solidFill>
                    <a:srgbClr val="cc3300"/>
                  </a:solidFill>
                  <a:uFillTx/>
                  <a:latin typeface="Tahoma"/>
                  <a:ea typeface="Arial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cc3300"/>
                  </a:solidFill>
                  <a:uFillTx/>
                  <a:latin typeface="Tahoma"/>
                  <a:ea typeface="Arial"/>
                </a:rPr>
                <a:t>Hypothalamus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_s1034"/>
            <p:cNvSpPr/>
            <p:nvPr/>
          </p:nvSpPr>
          <p:spPr>
            <a:xfrm>
              <a:off x="2250360" y="1028520"/>
              <a:ext cx="1359000" cy="13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 u="sng">
                  <a:solidFill>
                    <a:srgbClr val="cc3300"/>
                  </a:solidFill>
                  <a:uFillTx/>
                  <a:latin typeface="Tahoma"/>
                  <a:ea typeface="Arial"/>
                </a:rPr>
                <a:t>Water loss</a:t>
              </a:r>
              <a:r>
                <a:rPr b="0" lang="en-US" sz="1200" spc="-1" strike="noStrike" u="sng">
                  <a:solidFill>
                    <a:srgbClr val="ffffff"/>
                  </a:solidFill>
                  <a:uFillTx/>
                  <a:latin typeface="Tahoma"/>
                  <a:ea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_s1035"/>
            <p:cNvSpPr/>
            <p:nvPr/>
          </p:nvSpPr>
          <p:spPr>
            <a:xfrm>
              <a:off x="2251800" y="4256640"/>
              <a:ext cx="1359000" cy="13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 u="sng">
                  <a:solidFill>
                    <a:srgbClr val="cc3300"/>
                  </a:solidFill>
                  <a:uFillTx/>
                  <a:latin typeface="Tahoma"/>
                  <a:ea typeface="Arial"/>
                </a:rPr>
                <a:t>Drink</a:t>
              </a:r>
              <a:r>
                <a:rPr b="1" i="1" lang="en-US" sz="3200" spc="-1" strike="noStrike" u="sng">
                  <a:solidFill>
                    <a:srgbClr val="cc3300"/>
                  </a:solidFill>
                  <a:uFillTx/>
                  <a:latin typeface="Tahoma"/>
                  <a:ea typeface="Arial"/>
                </a:rPr>
                <a:t> 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82" name="Picture 17" descr="workshop-drink-water[1]"/>
          <p:cNvPicPr/>
          <p:nvPr/>
        </p:nvPicPr>
        <p:blipFill>
          <a:blip r:embed="rId1"/>
          <a:stretch/>
        </p:blipFill>
        <p:spPr>
          <a:xfrm>
            <a:off x="395280" y="4148280"/>
            <a:ext cx="1944720" cy="1944720"/>
          </a:xfrm>
          <a:prstGeom prst="rect">
            <a:avLst/>
          </a:prstGeom>
          <a:ln w="2844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ffff"/>
                </a:solidFill>
                <a:latin typeface="Tahoma"/>
              </a:rPr>
              <a:t>Control of water los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 controlled by controlling the volume of uri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olume of urine is controlled by (AD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i- diuretic hormone (ADH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nthesized in the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ypothalamu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ored in the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osterio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ituitar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until it is secret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retion is stimulated by hypertonicity and hypovolem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S324_1_039i"/>
          <p:cNvPicPr/>
          <p:nvPr/>
        </p:nvPicPr>
        <p:blipFill>
          <a:blip r:embed="rId1"/>
          <a:stretch/>
        </p:blipFill>
        <p:spPr>
          <a:xfrm>
            <a:off x="468360" y="473040"/>
            <a:ext cx="828036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ffff"/>
                </a:solidFill>
                <a:latin typeface="Tahoma"/>
              </a:rPr>
              <a:t>Body flui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11280" y="1628640"/>
            <a:ext cx="7921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otal body fluid is about 60% of the total body weigh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average 70 kg body weight it is about 42 lit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rease the percentage of fat in the body decreases the % of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men contain less water than men because have more body fa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images-image_popup-fn7_waterinbody"/>
          <p:cNvPicPr/>
          <p:nvPr/>
        </p:nvPicPr>
        <p:blipFill>
          <a:blip r:embed="rId1"/>
          <a:stretch/>
        </p:blipFill>
        <p:spPr>
          <a:xfrm>
            <a:off x="900000" y="476280"/>
            <a:ext cx="6840720" cy="61927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Oval 1"/>
          <p:cNvSpPr/>
          <p:nvPr/>
        </p:nvSpPr>
        <p:spPr>
          <a:xfrm>
            <a:off x="285840" y="642960"/>
            <a:ext cx="8215200" cy="1414440"/>
          </a:xfrm>
          <a:prstGeom prst="ellipse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sturbances in body fluid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357120" y="2357280"/>
            <a:ext cx="8786880" cy="1428840"/>
          </a:xfrm>
          <a:prstGeom prst="rect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uid Volume Exces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214200" y="4143240"/>
            <a:ext cx="8929800" cy="1343160"/>
          </a:xfrm>
          <a:prstGeom prst="rect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lso it can be defined as hypervolemia , which occurs from an increase in total body sodium content and an increase in total body water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Oval 1"/>
          <p:cNvSpPr/>
          <p:nvPr/>
        </p:nvSpPr>
        <p:spPr>
          <a:xfrm>
            <a:off x="785880" y="785880"/>
            <a:ext cx="7572240" cy="1271520"/>
          </a:xfrm>
          <a:prstGeom prst="ellipse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auses of hypervolemia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785880" y="2643120"/>
            <a:ext cx="7572240" cy="9144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xcessive fluid intake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xcessive sodium intake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Renal insufficiency or faluire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571680" y="3714840"/>
            <a:ext cx="8072280" cy="10573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teroid Therapy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ow protein intake or malnutrition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ecreased cardiac output (heart disease 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357120" y="4929120"/>
            <a:ext cx="8572680" cy="12859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ad injur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iver disease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ever stress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Hormonal disturbances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Oval 1"/>
          <p:cNvSpPr/>
          <p:nvPr/>
        </p:nvSpPr>
        <p:spPr>
          <a:xfrm>
            <a:off x="1143000" y="500040"/>
            <a:ext cx="6929280" cy="1271520"/>
          </a:xfrm>
          <a:prstGeom prst="ellipse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anifestations of Hypervolemia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285840" y="2214720"/>
            <a:ext cx="4000320" cy="9144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eight gain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dem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ounding puls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5143680" y="2214720"/>
            <a:ext cx="3643200" cy="928440"/>
          </a:xfrm>
          <a:prstGeom prst="rect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Jugular vein destin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hange in mental status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285840" y="3429000"/>
            <a:ext cx="4000320" cy="9288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bnormal breath sound (crackles 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anges in breathing pattern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5143680" y="3571920"/>
            <a:ext cx="3643200" cy="9288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liguri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pecific gravity chang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285840" y="4786200"/>
            <a:ext cx="4000320" cy="10000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ntake greater than outpu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ecrease hemoglobin or hematocrit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5143680" y="4857840"/>
            <a:ext cx="3643200" cy="928440"/>
          </a:xfrm>
          <a:prstGeom prst="rect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zotemi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hanges in electrol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Restlessness &amp; anxiety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928960" y="5786280"/>
            <a:ext cx="3286080" cy="10717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ncrease blood pressureShortness of breath (orthopne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Oval 1"/>
          <p:cNvSpPr/>
          <p:nvPr/>
        </p:nvSpPr>
        <p:spPr>
          <a:xfrm>
            <a:off x="0" y="428760"/>
            <a:ext cx="9144000" cy="1628640"/>
          </a:xfrm>
          <a:prstGeom prst="ellipse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ursing Intervention of Hypervolem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ounded Rectangle 2"/>
          <p:cNvSpPr/>
          <p:nvPr/>
        </p:nvSpPr>
        <p:spPr>
          <a:xfrm>
            <a:off x="0" y="2214720"/>
            <a:ext cx="9144000" cy="191448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obtain patient history to ascertain the probable cause of fluids disturba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-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weight monitoring  &amp; evaluate weight in relation to nutritional stat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I &amp;O chart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monitor v/s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– evaluate for edema 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monitor serum electrol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ounded Rectangle 3"/>
          <p:cNvSpPr/>
          <p:nvPr/>
        </p:nvSpPr>
        <p:spPr>
          <a:xfrm>
            <a:off x="0" y="4286160"/>
            <a:ext cx="9144000" cy="257184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Interven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nstruct the patient toward the restriction of flui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restrict  Na  intak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nstruct pt to take prescribed diuretics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levate the edematous leg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kin care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6- provide information regarding s&amp;s of fluid volume exces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Fluid volume loss (hypovolemia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0" y="1714320"/>
            <a:ext cx="91440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uid volume deficit or hypovolemia . Occurs from a loss of body fluid or shift of fluids into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pace , or from reduced fluid intak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5481"/>
                </a:solidFill>
                <a:latin typeface="Tahoma"/>
              </a:rPr>
              <a:t>Causes</a:t>
            </a:r>
            <a:r>
              <a:rPr b="1" lang="en-US" sz="3200" spc="-1" strike="noStrike">
                <a:solidFill>
                  <a:srgbClr val="2b5481"/>
                </a:solidFill>
                <a:latin typeface="Tahoma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adequate fluid intak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uid loss (diuresis, bleeding , severe diarrh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ver , infection which leads to increase metabolic rate 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uid shifts (edema or effusion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Tahoma"/>
              </a:rPr>
              <a:t>Clinical manifestations of hypovelm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0" y="164304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ecrease urine outp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ncentrated ur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utput greater than intak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ecrease venous fill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emoconcentr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ypoten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s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ry m.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hanges in mental status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b5481"/>
                </a:solidFill>
                <a:latin typeface="Tahoma"/>
              </a:rPr>
              <a:t>Nursing care of hypovolemia</a:t>
            </a:r>
            <a:r>
              <a:rPr b="1" lang="en-US" sz="4400" spc="-1" strike="noStrike">
                <a:solidFill>
                  <a:srgbClr val="2b5481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-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ssessment : the same as in hypervolem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I- Nursing Intervention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courage patient to drink prescribed amou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dminister IV flui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dminister blood product as prescrib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vide oral hygien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reat the underlying causes (diarrhea, vomit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image"/>
          <p:cNvPicPr/>
          <p:nvPr/>
        </p:nvPicPr>
        <p:blipFill>
          <a:blip r:embed="rId1"/>
          <a:stretch/>
        </p:blipFill>
        <p:spPr>
          <a:xfrm>
            <a:off x="250920" y="260280"/>
            <a:ext cx="8569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Home work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efine the following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yponatremi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ypernatermi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ypocalcemi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ypercalcemi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ypokalemi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yperkalemi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sipky"/>
          <p:cNvPicPr/>
          <p:nvPr/>
        </p:nvPicPr>
        <p:blipFill>
          <a:blip r:embed="rId1"/>
          <a:stretch/>
        </p:blipFill>
        <p:spPr>
          <a:xfrm>
            <a:off x="611280" y="725400"/>
            <a:ext cx="7777080" cy="5511960"/>
          </a:xfrm>
          <a:prstGeom prst="rect">
            <a:avLst/>
          </a:prstGeom>
          <a:ln w="38160">
            <a:solidFill>
              <a:srgbClr val="99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istock_000001435296sm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WordArt 6"/>
          <p:cNvSpPr txBox="1"/>
          <p:nvPr/>
        </p:nvSpPr>
        <p:spPr>
          <a:xfrm>
            <a:off x="684360" y="765000"/>
            <a:ext cx="403200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Thank you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ody fluid compart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28036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xtra cellular fluid :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about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4 li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sma 3 lit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stial fluid in spaces between cells 10 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cellular 1-2lit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ra ocular spac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novial  , peritoneal ,pericardial spaces.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rebrospinal fluid .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ffff"/>
                </a:solidFill>
                <a:latin typeface="Tahoma"/>
              </a:rPr>
              <a:t>Body fluid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ntra cellular flu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qual 28 liter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the fluid inside the cel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contains high Concentration of K &amp;less concentration of 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so it contains large amount of magnesium and phospha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gulation of fluid transportati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ost common routes for transporting materials to and from intracellular compartments are (the fluid and materials transport across semipermiable membrane)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- osmos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- diffus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- active transpor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- filtr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1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-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smosis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rough the process of osmosis , the solvent , the water passes from an area of lesser solute concentration and more water to an area of greater solute concentration and less water until equilibrium is established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smosis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5" name="Picture 2" descr="C:\Users\COMPAQ\Desktop\images.jpg"/>
          <p:cNvPicPr/>
          <p:nvPr/>
        </p:nvPicPr>
        <p:blipFill>
          <a:blip r:embed="rId1"/>
          <a:stretch/>
        </p:blipFill>
        <p:spPr>
          <a:xfrm>
            <a:off x="0" y="1785960"/>
            <a:ext cx="91440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-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ffusi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the tendency of solute to move freely throughout a solvent .The solute (materials ) moves from an area of higher concentration to an area of lower concentr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1T20:03:28Z</dcterms:created>
  <dc:creator>soheirhelmy</dc:creator>
  <dc:description/>
  <dc:language>en-US</dc:language>
  <cp:lastModifiedBy>Alshehri</cp:lastModifiedBy>
  <dcterms:modified xsi:type="dcterms:W3CDTF">2017-02-15T05:15:19Z</dcterms:modified>
  <cp:revision>60</cp:revision>
  <dc:subject/>
  <dc:title>Body fluid</dc:title>
</cp:coreProperties>
</file>