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683-8CE2-4A78-8079-0D0D9100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2A4-0AE4-4BA8-9013-A49E0D76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8F6-E66C-4BBA-95DC-713125C7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0C2-2139-4D4B-9349-455EFDEA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949-2AEF-47FA-BF93-82A74328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7E6-95D1-4B88-83A9-52C404C4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87E-5E2A-4129-899C-80FA86D0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DB1-FFEE-4CBC-A7E4-456D6D97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F85-FB68-41C8-90DC-45B7D56C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857-C246-4431-9EDA-E1BA193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F6D-C4C3-4451-B847-1CBD225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C03-C315-4A74-84D1-71FE44C7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9D6B-8D3C-4F42-9DEE-C546FC07B9E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5ffff"/>
                </a:solidFill>
                <a:latin typeface="Monotype Corsiva"/>
                <a:ea typeface="Lucida Sans Unicode"/>
              </a:rPr>
              <a:t>Body Fluid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ffus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2" descr="C:\Users\COMPAQ\Desktop\diffusion.jp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e Transpo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process that requires energy for the movement of substances through cell membrane from an area of lesser solute concentration to an area of higher solute concentration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enosine triphosphate (ATP) stored in all cells , is released from a cell and supplies energy for solute movements in and out of th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ltrat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passage of fluid through a permeable membrane .Passage is from an area of high pressure to  an area of lower press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Body wa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5964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9560" indent="-1695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ily intake of water (by two main source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gested in the form of water or liquid which add about 2100ml/day to the body fluid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zed as a result of metabolism and it is about 200ml/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ily loss of  body   water: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poration 700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ine 14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eat 100 m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es 100m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-6192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-6192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3" descr="019852403x_water-balance_1.jpg"/>
          <p:cNvPicPr/>
          <p:nvPr/>
        </p:nvPicPr>
        <p:blipFill>
          <a:blip r:embed="rId1"/>
          <a:stretch/>
        </p:blipFill>
        <p:spPr>
          <a:xfrm>
            <a:off x="1143000" y="642960"/>
            <a:ext cx="6905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Types of Solution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sotonic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82520" indent="-46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water concentration in IC&amp;ECF is equal and  solutes can not enter or leave the ce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otonic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82520" indent="-46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less solutes less osmotic pressure so water enter the cell and it swe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ertonic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82520" indent="-46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 solutes ,high osmotic pressure so water leave the cell and cell shrin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82520" indent="-46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ution of NaCL 0.9%and glucose 5%are isotonic so it is important in clinical medicine  because the cell neither swell nor shrin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maintained in the body by adjusting water input and water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rol of water inp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49280" indent="-2700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d by thirst sens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49280" indent="-2700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st sensation occurs as a result of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tonicity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vole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Diagram 6"/>
          <p:cNvGrpSpPr/>
          <p:nvPr/>
        </p:nvGrpSpPr>
        <p:grpSpPr>
          <a:xfrm>
            <a:off x="1917360" y="699480"/>
            <a:ext cx="5307480" cy="5223960"/>
            <a:chOff x="1917360" y="699480"/>
            <a:chExt cx="5307480" cy="5223960"/>
          </a:xfrm>
        </p:grpSpPr>
        <p:sp>
          <p:nvSpPr>
            <p:cNvPr id="74" name="_s1028"/>
            <p:cNvSpPr/>
            <p:nvPr/>
          </p:nvSpPr>
          <p:spPr>
            <a:xfrm>
              <a:off x="2766600" y="699480"/>
              <a:ext cx="3608640" cy="3552120"/>
            </a:xfrm>
            <a:custGeom>
              <a:avLst/>
              <a:gdLst>
                <a:gd name="textAreaLeft" fmla="*/ 0 w 3608640"/>
                <a:gd name="textAreaRight" fmla="*/ 3609000 w 3608640"/>
                <a:gd name="textAreaTop" fmla="*/ 0 h 3552120"/>
                <a:gd name="textAreaBottom" fmla="*/ 3552480 h 355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_s1029"/>
            <p:cNvSpPr/>
            <p:nvPr/>
          </p:nvSpPr>
          <p:spPr>
            <a:xfrm rot="5400000">
              <a:off x="3644280" y="1506600"/>
              <a:ext cx="3552480" cy="3608640"/>
            </a:xfrm>
            <a:custGeom>
              <a:avLst/>
              <a:gdLst>
                <a:gd name="textAreaLeft" fmla="*/ 0 w 3552480"/>
                <a:gd name="textAreaRight" fmla="*/ 3552840 w 3552480"/>
                <a:gd name="textAreaTop" fmla="*/ 0 h 3608640"/>
                <a:gd name="textAreaBottom" fmla="*/ 3609000 h 36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_s1030"/>
            <p:cNvSpPr/>
            <p:nvPr/>
          </p:nvSpPr>
          <p:spPr>
            <a:xfrm rot="10800000">
              <a:off x="2766600" y="2370960"/>
              <a:ext cx="3608640" cy="3552480"/>
            </a:xfrm>
            <a:custGeom>
              <a:avLst/>
              <a:gdLst>
                <a:gd name="textAreaLeft" fmla="*/ 0 w 3608640"/>
                <a:gd name="textAreaRight" fmla="*/ 3609000 w 3608640"/>
                <a:gd name="textAreaTop" fmla="*/ 0 h 3552480"/>
                <a:gd name="textAreaBottom" fmla="*/ 3552840 h 35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_s1031"/>
            <p:cNvSpPr/>
            <p:nvPr/>
          </p:nvSpPr>
          <p:spPr>
            <a:xfrm rot="16200000">
              <a:off x="1945080" y="1506960"/>
              <a:ext cx="3552480" cy="3608280"/>
            </a:xfrm>
            <a:custGeom>
              <a:avLst/>
              <a:gdLst>
                <a:gd name="textAreaLeft" fmla="*/ 0 w 3552480"/>
                <a:gd name="textAreaRight" fmla="*/ 3552840 w 3552480"/>
                <a:gd name="textAreaTop" fmla="*/ 0 h 3608280"/>
                <a:gd name="textAreaBottom" fmla="*/ 3608640 h 36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_s1032"/>
            <p:cNvSpPr/>
            <p:nvPr/>
          </p:nvSpPr>
          <p:spPr>
            <a:xfrm>
              <a:off x="5531040" y="1027080"/>
              <a:ext cx="135900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Increase</a:t>
              </a: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plasm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osmolarity</a:t>
              </a: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_s1033"/>
            <p:cNvSpPr/>
            <p:nvPr/>
          </p:nvSpPr>
          <p:spPr>
            <a:xfrm>
              <a:off x="5532480" y="4255200"/>
              <a:ext cx="135900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Stimulation of</a:t>
              </a: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thirst center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In</a:t>
              </a: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Hypothalamu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_s1034"/>
            <p:cNvSpPr/>
            <p:nvPr/>
          </p:nvSpPr>
          <p:spPr>
            <a:xfrm>
              <a:off x="2250360" y="1028520"/>
              <a:ext cx="135900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Water loss</a:t>
              </a: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2251800" y="4256640"/>
              <a:ext cx="135900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Drink</a:t>
              </a:r>
              <a:r>
                <a:rPr b="1" i="1" lang="en-US" sz="32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82" name="Picture 17" descr="workshop-drink-water[1]"/>
          <p:cNvPicPr/>
          <p:nvPr/>
        </p:nvPicPr>
        <p:blipFill>
          <a:blip r:embed="rId1"/>
          <a:stretch/>
        </p:blipFill>
        <p:spPr>
          <a:xfrm>
            <a:off x="395280" y="4148280"/>
            <a:ext cx="1944720" cy="19447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Control of water lo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ontrolled by controlling the volume of ur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me of urine is controlled by (AD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- diuretic hormone (ADH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zed in th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othalam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ed in th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st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ituita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il it is secre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ion is stimulated by hypertonicity and hypovole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S324_1_039i"/>
          <p:cNvPicPr/>
          <p:nvPr/>
        </p:nvPicPr>
        <p:blipFill>
          <a:blip r:embed="rId1"/>
          <a:stretch/>
        </p:blipFill>
        <p:spPr>
          <a:xfrm>
            <a:off x="468360" y="473040"/>
            <a:ext cx="828036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Body flui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otal body fluid is about 60% of the total body we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average 70 kg body weight it is about 42 li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the percentage of fat in the body decreases the % of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men contain less water than men because have more body f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mages-image_popup-fn7_waterinbody"/>
          <p:cNvPicPr/>
          <p:nvPr/>
        </p:nvPicPr>
        <p:blipFill>
          <a:blip r:embed="rId1"/>
          <a:stretch/>
        </p:blipFill>
        <p:spPr>
          <a:xfrm>
            <a:off x="900000" y="476280"/>
            <a:ext cx="6840720" cy="6192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"/>
          <p:cNvSpPr/>
          <p:nvPr/>
        </p:nvSpPr>
        <p:spPr>
          <a:xfrm>
            <a:off x="285840" y="642960"/>
            <a:ext cx="8215200" cy="141444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sturbances in body fluid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57120" y="2357280"/>
            <a:ext cx="8786880" cy="14288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id Volume Ex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14200" y="4143240"/>
            <a:ext cx="8929800" cy="134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so it can be defined as hypervolemia , which occurs from an increase in total body sodium content and an increase in total body wat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1"/>
          <p:cNvSpPr/>
          <p:nvPr/>
        </p:nvSpPr>
        <p:spPr>
          <a:xfrm>
            <a:off x="785880" y="785880"/>
            <a:ext cx="7572240" cy="12715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uses of hypervolemi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785880" y="2643120"/>
            <a:ext cx="7572240" cy="9144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cessive fluid intak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cessive sodium intak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nal insufficiency or faluir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71680" y="3714840"/>
            <a:ext cx="8072280" cy="10573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eroid Therapy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w protein intake or malnutritio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creased cardiac output (heart disease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57120" y="4929120"/>
            <a:ext cx="8572680" cy="12859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ad injur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iver diseas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ver stres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ormonal disturbanc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1"/>
          <p:cNvSpPr/>
          <p:nvPr/>
        </p:nvSpPr>
        <p:spPr>
          <a:xfrm>
            <a:off x="1143000" y="500040"/>
            <a:ext cx="6929280" cy="12715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nifestations of Hypervolem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85840" y="2214720"/>
            <a:ext cx="4000320" cy="9144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eight gai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de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ounding puls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143680" y="2214720"/>
            <a:ext cx="3643200" cy="928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ugular vein dest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ange in mental status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85840" y="3429000"/>
            <a:ext cx="4000320" cy="9288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normal breath sound (crackle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in breathing patter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143680" y="3571920"/>
            <a:ext cx="3643200" cy="9288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ligur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pecific gravity chang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85840" y="4786200"/>
            <a:ext cx="4000320" cy="10000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ake greater than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crease hemoglobin or hematocri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143680" y="4857840"/>
            <a:ext cx="3643200" cy="928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zotem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anges in electrol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stlessness &amp; anxiety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928960" y="5786280"/>
            <a:ext cx="3286080" cy="10717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crease blood pressureShortness of breath (orthopne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1"/>
          <p:cNvSpPr/>
          <p:nvPr/>
        </p:nvSpPr>
        <p:spPr>
          <a:xfrm>
            <a:off x="0" y="428760"/>
            <a:ext cx="9144000" cy="162864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ursing Intervention of Hypervol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ounded Rectangle 2"/>
          <p:cNvSpPr/>
          <p:nvPr/>
        </p:nvSpPr>
        <p:spPr>
          <a:xfrm>
            <a:off x="0" y="2214720"/>
            <a:ext cx="9144000" cy="19144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obtain patient history to ascertain the probable cause of fluids disturb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eight monitoring  &amp; evaluate weight in relation to nutritional stat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 &amp;O chart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monitor v/s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evaluate for edema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monitor serum electrol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ounded Rectangle 3"/>
          <p:cNvSpPr/>
          <p:nvPr/>
        </p:nvSpPr>
        <p:spPr>
          <a:xfrm>
            <a:off x="0" y="4286160"/>
            <a:ext cx="9144000" cy="25718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terv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struct the patient toward the restriction of flui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strict  Na  inta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struct pt to take prescribed diuretic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evate the edematous leg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kin car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- provide information regarding s&amp;s of fluid volume ex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Fluid volume loss (hypovolemi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id volume deficit or hypovolemia . Occurs from a loss of body fluid or shift of fluids into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ace , or from reduced fluid int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5481"/>
                </a:solidFill>
                <a:latin typeface="Tahoma"/>
              </a:rPr>
              <a:t>Causes</a:t>
            </a:r>
            <a:r>
              <a:rPr b="1" lang="en-US" sz="3200" spc="-1" strike="noStrike">
                <a:solidFill>
                  <a:srgbClr val="2b5481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equate fluid int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id loss (diuresis, bleeding , severe diarrh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ver , infection which leads to increase metabolic rate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id shifts (edema or effusion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nical manifestations of hypovelm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rease urine 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entrated ur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utput greater than int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rease venous fill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moconcent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ypo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ry m.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nges in mental statu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Nursing care of hypovolemia</a:t>
            </a: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-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essment : the same as in hypervol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Nursing Intervention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courage patient to drink prescribed amou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minister IV flu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minister blood product as prescrib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oral hygie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 the underlying causes (diarrhea, vomit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image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Home work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fine the following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natr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ernater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calc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ercalc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kal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erkal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ipky"/>
          <p:cNvPicPr/>
          <p:nvPr/>
        </p:nvPicPr>
        <p:blipFill>
          <a:blip r:embed="rId1"/>
          <a:stretch/>
        </p:blipFill>
        <p:spPr>
          <a:xfrm>
            <a:off x="611280" y="725400"/>
            <a:ext cx="7777080" cy="55119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istock_000001435296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684360" y="765000"/>
            <a:ext cx="4032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ank you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dy fluid compar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xtra cellular fluid :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bou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li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sma 3 li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tial fluid in spaces between cells 10 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ellular 1-2li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a ocular spa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al  , peritoneal ,pericardial spaces.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rospinal fluid .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Body fluid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ra cellular fl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al 28 lit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the fluid inside the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ntains high Concentration of K &amp;less concentration of 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it contains large amount of magnesium and phosph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gulation of fluid transportat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common routes for transporting materials to and from intracellular compartments are (the fluid and materials transport across semipermiable membrane)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osm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diffu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active trans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filt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mosi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ugh the process of osmosis , the solvent , the water passes from an area of lesser solute concentration and more water to an area of greater solute concentration and less water until equilibrium is established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mosi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C:\Users\COMPAQ\Desktop\images.jp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ffus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tendency of solute to move freely throughout a solvent .The solute (materials ) moves from an area of higher concentration to an area of lower concent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20:03:28Z</dcterms:created>
  <dc:creator>soheirhelmy</dc:creator>
  <dc:description/>
  <dc:language>en-US</dc:language>
  <cp:lastModifiedBy>Alshehri</cp:lastModifiedBy>
  <dcterms:modified xsi:type="dcterms:W3CDTF">2017-02-15T05:15:19Z</dcterms:modified>
  <cp:revision>60</cp:revision>
  <dc:subject/>
  <dc:title>Body fluid</dc:title>
</cp:coreProperties>
</file>