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ADE2-3ED3-42FF-979B-AC7440C3B0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linkage of cortex to cerebellum- extensive pathways in an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 at the level of the 4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1B4-A468-4DE0-8487-94689840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3E2-1AA8-45A7-95F2-7C5AB347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BFE-C474-427E-9E07-10EAADF4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BAE-81A9-4A14-BC9B-D15F83C1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4F3E-D733-478E-91E6-37C7E28D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CEE3-C64C-46FC-B773-8043815F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83A7-CEFA-4C60-AA97-18AA68A8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9087-04FC-4FB8-97A6-DA38B57C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11B9-D018-4D50-8235-0835812A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401-B6B3-4BFC-838C-1933275F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F912-0F45-44FE-9350-80460D81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BA2-7004-468F-944E-923E7E56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425A-57C4-491B-8AA3-17393C55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7889-29D1-4D62-9B1B-E02B308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77D8-DFBA-46AF-9E01-64B0796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6882-15FF-4912-B490-CA2C3B48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FEFA-1B81-4D31-8A96-583BDA51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5EE-3BF5-44EE-AF5E-34B5804A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7DB-EBAB-4E73-9034-472FA62D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5BC-AEE6-4C54-B059-55C875A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CB8-C23F-4F97-BE97-CC015A4E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FBB-E459-4E65-95B2-52BDF7B8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19F-54C6-4451-860C-F14E75B9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0B1-1993-4465-81AA-DFEA5C9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B479-2CB3-4AB2-8149-7A34EF5214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AA2-CCD8-498C-B6C5-AFD37146FE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in anatomy: Cerebel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rebel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2017440"/>
            <a:ext cx="7983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erebellum is located behind the dorsal aspect of the pons and the medull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is separated from the occipital lobe by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ntoriu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fills most of the posterior foss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midline portion,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ermis,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parates two lateral lobes, or cerebellar hemispher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erebellum consists of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rebellar corte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the underlying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rebellar white ma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ur paired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ep cerebellar nucle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re located within the white matter of the cerebel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of the location of the fourth ventricle, ventral to the cerebellum, mass lesions or swelling of the cerebellum can cause obstructive hydrocephalu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erebellar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2017800"/>
            <a:ext cx="7767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cerebellum has several main function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ordinating skilled voluntary movements by influencing muscle activity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trolling equilibrium and muscle tone through connections with the vestibular system and the spinal cord and its gamma motor neur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is a somatotopic organization of body parts within the cerebellar cortex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addition, the cerebellum receives collateral input from the sensory and special sensory systems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 might be predicted from the cerebellar homunculi, the vermis tends to control coordination and muscle tone of the trunk, whereas each cerebellar hemisphere controls motor coordination and muscle ton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on the same side of the body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30360"/>
            <a:ext cx="60534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ordination of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tex initiates it and the cerebellum co-ordinates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909720"/>
            <a:ext cx="56167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amage to the cerebell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uses a lack of co-ordin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em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erebellar Stro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zziness, vom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steady so that walking is im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wer, tone and reflexes norm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ea of blood in the cerebellum would show on a CT sc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09:22:58Z</dcterms:created>
  <dc:creator>EIHMS</dc:creator>
  <dc:description/>
  <dc:language>en-US</dc:language>
  <cp:lastModifiedBy>David Bryan</cp:lastModifiedBy>
  <dcterms:modified xsi:type="dcterms:W3CDTF">2008-01-21T19:25:43Z</dcterms:modified>
  <cp:revision>4</cp:revision>
  <dc:subject/>
  <dc:title>Brain anatomy: Cerebellum</dc:title>
</cp:coreProperties>
</file>