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253EC-627E-4336-86A6-FA0D523A707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linkage of cortex to cerebellum- extensive pathways in and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RI at the level of the 4</a:t>
            </a:r>
            <a:r>
              <a:rPr b="0" lang="en-GB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F345-928C-4D2A-BBCC-9290A289D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27D0-FE1F-4DC0-B48C-22D7A5207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309A-9F99-4B8A-80ED-6B3551BE9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E607-F574-47B7-931F-3B768BF34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E9D5A-7D77-4FD9-B445-2AD575CB0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D5E2A-7E98-462C-928F-643058583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F96C3-6416-4CF2-91E4-499367CA7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2ED92-7704-4327-AEE2-AAA8B7FE6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7DC10-B582-4119-8F6A-02D564FB6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8DC11-1EFC-4EA0-B030-30805D321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CDC2E-8A0A-4D92-80D4-47E11ED0C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C8A3-3ECD-400F-A8CF-6F4272AC0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E057E-7D42-49E6-9B34-931D69DFB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10CC6-EA62-4B93-8B5E-ECAAF907D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22FC1-39FA-4F05-9E1D-C12DAB572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7A5E1-68D2-4838-BBD3-BBE2080B9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89B0E-1535-4023-8E48-EA35135A3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DEAD-3CAA-4CBB-BCCC-3F6692D8F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0DAE-7C26-41E5-BFD3-C608E05BC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5B90-A678-4FD4-B078-E898EEDC9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DD7D-A106-43CC-A874-06A15BE15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0376-5797-4E5D-9875-C367C564A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9F95-1ED5-4007-BD25-94C8B7E83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7DDF-729B-4E63-955E-83E269CD8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D3A14-B5C7-48F5-A896-4E36DF95B3B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36C80-E804-419E-A3D5-1C1DE031720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ain anatomy: Cerebellu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erebellu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71640" y="2017440"/>
            <a:ext cx="798336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 cerebellum is located behind the dorsal aspect of the pons and the medull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t is separated from the occipital lobe by the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tentorium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and fills most of the posterior foss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 midline portion, the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vermis,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separates two lateral lobes, or cerebellar hemisphere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 cerebellum consists of the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erebellar cortex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and the underlying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erebellar white ma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our paired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deep cerebellar nuclei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are located within the white matter of the cerebell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cause of the location of the fourth ventricle, ventral to the cerebellum, mass lesions or swelling of the cerebellum can cause obstructive hydrocephalus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Cerebellar fun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6920" y="2017800"/>
            <a:ext cx="776772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cerebellum has several main functions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ordinating skilled voluntary movements by influencing muscle activity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ntrolling equilibrium and muscle tone through connections with the vestibular system and the spinal cord and its gamma motor neuron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re is a somatotopic organization of body parts within the cerebellar cortex.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 addition, the cerebellum receives collateral input from the sensory and special sensory systems.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 might be predicted from the cerebellar homunculi, the vermis tends to control coordination and muscle tone of the trunk, whereas each cerebellar hemisphere controls motor coordination and muscle tone </a:t>
            </a:r>
            <a:r>
              <a:rPr b="0" i="1" lang="en-GB" sz="2000" spc="-1" strike="noStrike">
                <a:solidFill>
                  <a:srgbClr val="000000"/>
                </a:solidFill>
                <a:latin typeface="Tahoma"/>
              </a:rPr>
              <a:t>on the same side of the body.</a:t>
            </a:r>
            <a:br>
              <a:rPr sz="2000"/>
            </a:br>
            <a:r>
              <a:rPr b="0" i="1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900000" y="630360"/>
            <a:ext cx="605340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n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-ordination of mov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ortex initiates it and the cerebellum co-ordinates i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050920" y="909720"/>
            <a:ext cx="5616720" cy="44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Damage to the cerebellu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auses a lack of co-ordinati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pea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al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remou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Cerebellar Strok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izziness, vomi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Unsteady so that walking is imposs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ower, tone and reflexes normal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rea of blood in the cerebellum would show on a CT sca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0T09:22:58Z</dcterms:created>
  <dc:creator>EIHMS</dc:creator>
  <dc:description/>
  <dc:language>en-US</dc:language>
  <cp:lastModifiedBy>David Bryan</cp:lastModifiedBy>
  <dcterms:modified xsi:type="dcterms:W3CDTF">2008-01-21T19:25:43Z</dcterms:modified>
  <cp:revision>4</cp:revision>
  <dc:subject/>
  <dc:title>Brain anatomy: Cerebellum</dc:title>
</cp:coreProperties>
</file>