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912-A2F0-4C05-9F98-0AA4676C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DC5-11B4-4C70-B342-F1ACA53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FC4-3225-43FE-B329-B68DCD0B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F0A-F6A1-466E-89DA-8E9EF63D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DD1-25CB-46FC-8E7D-649EB7C3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A3FD-AE81-45FB-86AA-61CAF84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AE7A-2AC0-40E3-B725-7BF6A60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898F-2E66-4C0F-8117-9ADFCF0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6611-F902-499F-86DD-E0625C7E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E701-413F-42D0-AC7A-077A5EB4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89E-0DF9-4566-867C-67D8826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463-45B0-48ED-A2B9-C7F8920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AB0A-5704-4322-8D71-9751198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D17-6C66-4F03-B407-E3EDD89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84A2-B1DA-46AF-A311-09F40D12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412-0DB5-41A2-9040-9BC5166B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AAA4-77D8-46BC-B791-6CFF5BFF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054-6376-43FD-ABDE-23ACB6E4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E2C-2D99-4A69-A837-6E728B6D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A95-9B85-459D-B164-6CAF032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D0E-4F53-4E6A-AD89-2D8D77C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3B0-C69C-4F6C-B11E-118CC7B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4E3-159E-4AFC-9FDB-76183442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BFA-AACD-4C85-89C4-1E4E691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B40-F16A-4699-93E0-3028C5DDFCD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6D5F-4DA2-4F86-B8BE-236F20DABBF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lansing.bellarmine.edu/pt/atlas/cover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lansing.bellarmine.edu/pt/atlas/cover.html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rainstem 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9369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l Neuro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. Wieg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s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95440" y="190512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ulomotor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cular eye muscles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omotor 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NS to eye (G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inger-Westphal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chlear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cular muscle (sup. oblique)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chlear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II, IV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990720" y="23623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95440" y="1905120"/>
            <a:ext cx="404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eminal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icatory muscles (S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motor nucl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nsation of the head and face (G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ducens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ocular muscle (lat. rectus)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ucens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00" y="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V, V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990720" y="23623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1040" y="1981080"/>
            <a:ext cx="4152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al expression muscles (SVE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al motor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nds (submandibular, sublingual &amp; lacrimal) (GVE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ior salivatory &amp; lacrimal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 (SVA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tral solitary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ensation of ear (GSA)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V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990720" y="205740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t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stibulocochlear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(S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and ventral cochle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(S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stibul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0" y="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VI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685800" y="19051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yl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ssopharyng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opharyngeus muscle (S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. ambig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NS to parotid gland (G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salivatory 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(S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tral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tid body sensation (G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dal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nsation from ear &amp; tongue (GS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0" y="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X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952880" y="198108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yl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g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s of larynx &amp; pharynx (S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big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NS to thorax and upper abdomen (GV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motor n. of X (D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from viscera (G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dal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(SVA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tral  solitary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nsation from ear  (GSA)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eminal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00" y="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X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952880" y="182880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yl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58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ory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es trapezius and sternocleidomastoid (SVE or 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 nucleus of XI in upper cervic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oglossal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gue muscles (GSE)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glossal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2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XI, X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876920" y="1828800"/>
            <a:ext cx="3924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 Nuclei Group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E &amp; SVE – Motor Nuclei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, IV, V, VI, VII, XI, X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VE – Parasympathetic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ger-Westphal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rimal &amp; salivatory (superior, inferior) nucl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Motor Nucleus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A (Taste) – Rostral Solitary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VA – Caudal Solitary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A – Trigeminal (TB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– Cochlear and Vestibula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12249"/>
          <a:stretch/>
        </p:blipFill>
        <p:spPr>
          <a:xfrm>
            <a:off x="4952880" y="1676520"/>
            <a:ext cx="3924360" cy="4190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4191120"/>
            <a:ext cx="472428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0240" y="304920"/>
          <a:ext cx="9083520" cy="6292800"/>
        </p:xfrm>
        <a:graphic>
          <a:graphicData uri="http://schemas.openxmlformats.org/drawingml/2006/table">
            <a:tbl>
              <a:tblPr/>
              <a:tblGrid>
                <a:gridCol w="684000"/>
                <a:gridCol w="1263960"/>
                <a:gridCol w="726840"/>
                <a:gridCol w="2516400"/>
                <a:gridCol w="2306520"/>
                <a:gridCol w="15858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pheral Gangli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pheralTarget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fact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el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factory bulb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sal cavit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c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on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 geniculate bod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n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n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ulo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ulo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inger-Westph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i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aocular mm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. Pup &amp; cili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ochl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ochl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bliqu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 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 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V, PrV, mesV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of mastication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 of fac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ce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ce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 rectus mm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salivat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r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andibular and sphenopalati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icula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facial expres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crimal gland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andibular/lingu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gu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tibulocochl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ing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hlear (dorsal, ventral) &amp; vestibul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r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tibul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hlea 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tibular app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ssopharynge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 abigu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rior salivat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r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d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ic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petrosal) of I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petrosal) of I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of laryn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otid gland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gu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ft palate &amp; pharyn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g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t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. ambiguo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rsal 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tr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udal solita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emin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pl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nodose) of 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. (nodose) of 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. (jugular) of 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of larynx/pharynx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cera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glotti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cera sen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ea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ory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 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ory nucleus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p &amp; SCM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gloss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glossal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ngue mm.</a:t>
                      </a:r>
                      <a:endParaRPr b="0" lang="en-US" sz="11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rning Internal Anatom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outline of brain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vs. superior collic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vs.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nuclei in correc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orientation of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of 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f decus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2957400" cy="41911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/>
          </p:cNvPr>
          <p:cNvSpPr/>
          <p:nvPr/>
        </p:nvSpPr>
        <p:spPr>
          <a:xfrm>
            <a:off x="2514600" y="112680"/>
            <a:ext cx="57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http://lansing.bellarmine.edu/pt/atlas/cover.htm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rnal Brain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nial nerve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of selected tr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icular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95800" y="2173320"/>
            <a:ext cx="34387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352680" y="0"/>
          <a:ext cx="3576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3576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952880" y="495288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352680" y="0"/>
            <a:ext cx="3576600" cy="6858000"/>
            <a:chOff x="3352680" y="0"/>
            <a:chExt cx="3576600" cy="6858000"/>
          </a:xfrm>
        </p:grpSpPr>
        <p:graphicFrame>
          <p:nvGraphicFramePr>
            <p:cNvPr id="177" name=""/>
            <p:cNvGraphicFramePr/>
            <p:nvPr/>
          </p:nvGraphicFramePr>
          <p:xfrm>
            <a:off x="3352680" y="0"/>
            <a:ext cx="3576600" cy="68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0"/>
                      <a:ext cx="357660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4952880" y="4952880"/>
              <a:ext cx="381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304920" y="3886200"/>
            <a:ext cx="365760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5394" t="23452" r="9626" b="0"/>
          <a:stretch/>
        </p:blipFill>
        <p:spPr>
          <a:xfrm>
            <a:off x="5486400" y="838080"/>
            <a:ext cx="2971800" cy="248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rcRect l="2047" t="0" r="10197" b="0"/>
          <a:stretch/>
        </p:blipFill>
        <p:spPr>
          <a:xfrm>
            <a:off x="5410080" y="3352680"/>
            <a:ext cx="327672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452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4343400" y="3505320"/>
            <a:ext cx="4495680" cy="3181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2047" t="0" r="10197" b="0"/>
          <a:stretch/>
        </p:blipFill>
        <p:spPr>
          <a:xfrm>
            <a:off x="0" y="3014640"/>
            <a:ext cx="4038480" cy="3843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444960" y="141120"/>
            <a:ext cx="2748600" cy="4278600"/>
            <a:chOff x="444960" y="141120"/>
            <a:chExt cx="2748600" cy="4278600"/>
          </a:xfrm>
        </p:grpSpPr>
        <p:sp>
          <p:nvSpPr>
            <p:cNvPr id="188" name=""/>
            <p:cNvSpPr/>
            <p:nvPr/>
          </p:nvSpPr>
          <p:spPr>
            <a:xfrm>
              <a:off x="444960" y="141120"/>
              <a:ext cx="274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Sensory Nuclei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120" y="3657600"/>
              <a:ext cx="990360" cy="7621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3880" y="3124080"/>
              <a:ext cx="609840" cy="83844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2960" y="635040"/>
            <a:ext cx="3795480" cy="4775040"/>
            <a:chOff x="462960" y="635040"/>
            <a:chExt cx="3795480" cy="4775040"/>
          </a:xfrm>
        </p:grpSpPr>
        <p:sp>
          <p:nvSpPr>
            <p:cNvPr id="192" name=""/>
            <p:cNvSpPr/>
            <p:nvPr/>
          </p:nvSpPr>
          <p:spPr>
            <a:xfrm>
              <a:off x="462960" y="635040"/>
              <a:ext cx="37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Sensory Decussation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57400" y="3886200"/>
              <a:ext cx="546120" cy="1523880"/>
            </a:xfrm>
            <a:custGeom>
              <a:avLst/>
              <a:gdLst/>
              <a:ahLst/>
              <a:rect l="l" t="t" r="r" b="b"/>
              <a:pathLst>
                <a:path w="344" h="960">
                  <a:moveTo>
                    <a:pt x="0" y="0"/>
                  </a:moveTo>
                  <a:cubicBezTo>
                    <a:pt x="164" y="136"/>
                    <a:pt x="328" y="272"/>
                    <a:pt x="336" y="432"/>
                  </a:cubicBezTo>
                  <a:cubicBezTo>
                    <a:pt x="344" y="592"/>
                    <a:pt x="96" y="872"/>
                    <a:pt x="48" y="960"/>
                  </a:cubicBezTo>
                </a:path>
              </a:pathLst>
            </a:cu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61520" y="1092240"/>
            <a:ext cx="7482600" cy="4546440"/>
            <a:chOff x="461520" y="1092240"/>
            <a:chExt cx="7482600" cy="4546440"/>
          </a:xfrm>
        </p:grpSpPr>
        <p:sp>
          <p:nvSpPr>
            <p:cNvPr id="195" name=""/>
            <p:cNvSpPr/>
            <p:nvPr/>
          </p:nvSpPr>
          <p:spPr>
            <a:xfrm>
              <a:off x="1905120" y="5105520"/>
              <a:ext cx="228600" cy="53316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3080" y="4648320"/>
              <a:ext cx="609840" cy="1522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787000">
              <a:off x="7391160" y="1447560"/>
              <a:ext cx="533160" cy="2286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1520" y="1092240"/>
              <a:ext cx="32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Medial Lemnisc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21280" y="1039680"/>
            <a:ext cx="7639200" cy="5091840"/>
            <a:chOff x="521280" y="1039680"/>
            <a:chExt cx="7639200" cy="5091840"/>
          </a:xfrm>
        </p:grpSpPr>
        <p:sp>
          <p:nvSpPr>
            <p:cNvPr id="200" name=""/>
            <p:cNvSpPr/>
            <p:nvPr/>
          </p:nvSpPr>
          <p:spPr>
            <a:xfrm>
              <a:off x="521280" y="1665360"/>
              <a:ext cx="373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Anterolateral System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446000">
              <a:off x="3352320" y="5486400"/>
              <a:ext cx="304920" cy="6094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878800">
              <a:off x="7086240" y="4572000"/>
              <a:ext cx="304920" cy="1522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163000">
              <a:off x="7848720" y="1066320"/>
              <a:ext cx="228600" cy="4572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817080" y="60958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ASCENDING PATHWAYS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4840" y="2209680"/>
            <a:ext cx="7006680" cy="3361320"/>
            <a:chOff x="384840" y="2209680"/>
            <a:chExt cx="7006680" cy="3361320"/>
          </a:xfrm>
        </p:grpSpPr>
        <p:grpSp>
          <p:nvGrpSpPr>
            <p:cNvPr id="206" name=""/>
            <p:cNvGrpSpPr/>
            <p:nvPr/>
          </p:nvGrpSpPr>
          <p:grpSpPr>
            <a:xfrm>
              <a:off x="384840" y="2209680"/>
              <a:ext cx="4015080" cy="3361320"/>
              <a:chOff x="384840" y="2209680"/>
              <a:chExt cx="4015080" cy="3361320"/>
            </a:xfrm>
          </p:grpSpPr>
          <p:sp>
            <p:nvSpPr>
              <p:cNvPr id="207" name=""/>
              <p:cNvSpPr/>
              <p:nvPr/>
            </p:nvSpPr>
            <p:spPr>
              <a:xfrm>
                <a:off x="384840" y="2209680"/>
                <a:ext cx="401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66"/>
                    </a:solidFill>
                    <a:latin typeface="Arial"/>
                  </a:rPr>
                  <a:t>Spinocerebellar Tracts</a:t>
                </a:r>
                <a:endParaRPr b="0" lang="en-US" sz="28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882400">
                <a:off x="3657240" y="4266720"/>
                <a:ext cx="152280" cy="68580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68400">
                <a:off x="3657240" y="4876560"/>
                <a:ext cx="152280" cy="68580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162920" y="3657600"/>
              <a:ext cx="22860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452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4343400" y="3505320"/>
            <a:ext cx="4495680" cy="318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2047" t="0" r="10197" b="0"/>
          <a:stretch/>
        </p:blipFill>
        <p:spPr>
          <a:xfrm>
            <a:off x="0" y="3014640"/>
            <a:ext cx="4038480" cy="384336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446040" y="369720"/>
            <a:ext cx="5954760" cy="6411960"/>
            <a:chOff x="446040" y="369720"/>
            <a:chExt cx="5954760" cy="6411960"/>
          </a:xfrm>
        </p:grpSpPr>
        <p:sp>
          <p:nvSpPr>
            <p:cNvPr id="215" name=""/>
            <p:cNvSpPr/>
            <p:nvPr/>
          </p:nvSpPr>
          <p:spPr>
            <a:xfrm>
              <a:off x="446040" y="369720"/>
              <a:ext cx="3676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Corticospinal &amp;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Corticobulbar Tract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(Pyramidal Tract)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5791320"/>
              <a:ext cx="914400" cy="99036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8680" y="5486400"/>
              <a:ext cx="762120" cy="6094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311200">
              <a:off x="4800240" y="2362320"/>
              <a:ext cx="1143000" cy="6858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817080" y="60958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ESCENDING PATHWAY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452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4343400" y="3505320"/>
            <a:ext cx="4495680" cy="3181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2047" t="0" r="10197" b="0"/>
          <a:stretch/>
        </p:blipFill>
        <p:spPr>
          <a:xfrm>
            <a:off x="0" y="3014640"/>
            <a:ext cx="4038480" cy="3843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14560" y="600876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CRANIAL NERVES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3760" y="65160"/>
            <a:ext cx="6564240" cy="1458720"/>
            <a:chOff x="293760" y="65160"/>
            <a:chExt cx="6564240" cy="1458720"/>
          </a:xfrm>
        </p:grpSpPr>
        <p:sp>
          <p:nvSpPr>
            <p:cNvPr id="225" name=""/>
            <p:cNvSpPr/>
            <p:nvPr/>
          </p:nvSpPr>
          <p:spPr>
            <a:xfrm>
              <a:off x="293760" y="65160"/>
              <a:ext cx="436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Edinger-Westphal Nuclei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1219320"/>
              <a:ext cx="304920" cy="30456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3400" y="522360"/>
            <a:ext cx="6564600" cy="1306440"/>
            <a:chOff x="293400" y="522360"/>
            <a:chExt cx="6564600" cy="1306440"/>
          </a:xfrm>
        </p:grpSpPr>
        <p:sp>
          <p:nvSpPr>
            <p:cNvPr id="228" name=""/>
            <p:cNvSpPr/>
            <p:nvPr/>
          </p:nvSpPr>
          <p:spPr>
            <a:xfrm>
              <a:off x="6553080" y="1523880"/>
              <a:ext cx="30492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3400" y="522360"/>
              <a:ext cx="33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Oculomotor Nuclei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91960" y="979560"/>
            <a:ext cx="5224680" cy="4568400"/>
            <a:chOff x="291960" y="979560"/>
            <a:chExt cx="5224680" cy="4568400"/>
          </a:xfrm>
        </p:grpSpPr>
        <p:sp>
          <p:nvSpPr>
            <p:cNvPr id="231" name=""/>
            <p:cNvSpPr/>
            <p:nvPr/>
          </p:nvSpPr>
          <p:spPr>
            <a:xfrm rot="19380000">
              <a:off x="4305240" y="4838400"/>
              <a:ext cx="1219320" cy="38088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1960" y="97956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Trigeminal Nerve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83760" y="1447920"/>
            <a:ext cx="5636160" cy="3429000"/>
            <a:chOff x="383760" y="1447920"/>
            <a:chExt cx="5636160" cy="3429000"/>
          </a:xfrm>
        </p:grpSpPr>
        <p:grpSp>
          <p:nvGrpSpPr>
            <p:cNvPr id="234" name=""/>
            <p:cNvGrpSpPr/>
            <p:nvPr/>
          </p:nvGrpSpPr>
          <p:grpSpPr>
            <a:xfrm>
              <a:off x="383760" y="1447920"/>
              <a:ext cx="5636160" cy="2895480"/>
              <a:chOff x="383760" y="1447920"/>
              <a:chExt cx="5636160" cy="2895480"/>
            </a:xfrm>
          </p:grpSpPr>
          <p:sp>
            <p:nvSpPr>
              <p:cNvPr id="235" name=""/>
              <p:cNvSpPr/>
              <p:nvPr/>
            </p:nvSpPr>
            <p:spPr>
              <a:xfrm>
                <a:off x="5638680" y="3733920"/>
                <a:ext cx="228600" cy="30456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4038480"/>
                <a:ext cx="228600" cy="30492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91320" y="3886200"/>
                <a:ext cx="228600" cy="304920"/>
              </a:xfrm>
              <a:prstGeom prst="ellipse">
                <a:avLst/>
              </a:prstGeom>
              <a:noFill/>
              <a:ln w="57240">
                <a:solidFill>
                  <a:srgbClr val="99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3760" y="1447920"/>
                <a:ext cx="314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6666"/>
                    </a:solidFill>
                    <a:latin typeface="Arial"/>
                  </a:rPr>
                  <a:t>Trigeminal Nuclei</a:t>
                </a:r>
                <a:endParaRPr b="0" lang="en-US" sz="28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7000" y="1905120"/>
            <a:ext cx="3774240" cy="2971800"/>
            <a:chOff x="387000" y="1905120"/>
            <a:chExt cx="3774240" cy="2971800"/>
          </a:xfrm>
        </p:grpSpPr>
        <p:sp>
          <p:nvSpPr>
            <p:cNvPr id="241" name=""/>
            <p:cNvSpPr/>
            <p:nvPr/>
          </p:nvSpPr>
          <p:spPr>
            <a:xfrm>
              <a:off x="1828800" y="4572000"/>
              <a:ext cx="22860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7000" y="1905120"/>
              <a:ext cx="37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Hypoglossal 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46400" y="2274840"/>
            <a:ext cx="3970800" cy="2297160"/>
            <a:chOff x="446400" y="2274840"/>
            <a:chExt cx="3970800" cy="2297160"/>
          </a:xfrm>
        </p:grpSpPr>
        <p:sp>
          <p:nvSpPr>
            <p:cNvPr id="244" name=""/>
            <p:cNvSpPr/>
            <p:nvPr/>
          </p:nvSpPr>
          <p:spPr>
            <a:xfrm>
              <a:off x="2209680" y="4343400"/>
              <a:ext cx="228600" cy="22860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6400" y="2274840"/>
              <a:ext cx="397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Dorsal Motor of Vag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4600" y="2655720"/>
            <a:ext cx="2966760" cy="1764000"/>
            <a:chOff x="444600" y="2655720"/>
            <a:chExt cx="2966760" cy="1764000"/>
          </a:xfrm>
        </p:grpSpPr>
        <p:sp>
          <p:nvSpPr>
            <p:cNvPr id="247" name=""/>
            <p:cNvSpPr/>
            <p:nvPr/>
          </p:nvSpPr>
          <p:spPr>
            <a:xfrm>
              <a:off x="444600" y="2655720"/>
              <a:ext cx="29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Arial"/>
                </a:rPr>
                <a:t>Solitary 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4114800"/>
              <a:ext cx="381240" cy="304920"/>
            </a:xfrm>
            <a:prstGeom prst="ellipse">
              <a:avLst/>
            </a:prstGeom>
            <a:noFill/>
            <a:ln w="57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0" t="15015" r="0" b="0"/>
          <a:stretch/>
        </p:blipFill>
        <p:spPr>
          <a:xfrm>
            <a:off x="304920" y="3886200"/>
            <a:ext cx="3657600" cy="2587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15394" t="23452" r="9626" b="0"/>
          <a:stretch/>
        </p:blipFill>
        <p:spPr>
          <a:xfrm>
            <a:off x="5486400" y="838080"/>
            <a:ext cx="2971800" cy="2487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2047" t="0" r="10197" b="0"/>
          <a:stretch/>
        </p:blipFill>
        <p:spPr>
          <a:xfrm>
            <a:off x="5410080" y="3352680"/>
            <a:ext cx="3276720" cy="311796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2209680" y="304920"/>
            <a:ext cx="3077280" cy="2286000"/>
            <a:chOff x="2209680" y="304920"/>
            <a:chExt cx="3077280" cy="2286000"/>
          </a:xfrm>
        </p:grpSpPr>
        <p:sp>
          <p:nvSpPr>
            <p:cNvPr id="254" name=""/>
            <p:cNvSpPr/>
            <p:nvPr/>
          </p:nvSpPr>
          <p:spPr>
            <a:xfrm>
              <a:off x="2209680" y="1905120"/>
              <a:ext cx="685800" cy="68580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6600" y="304920"/>
              <a:ext cx="216036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189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Red 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98760" y="1866600"/>
            <a:ext cx="4808160" cy="2117520"/>
            <a:chOff x="698760" y="1866600"/>
            <a:chExt cx="4808160" cy="2117520"/>
          </a:xfrm>
        </p:grpSpPr>
        <p:sp>
          <p:nvSpPr>
            <p:cNvPr id="257" name=""/>
            <p:cNvSpPr/>
            <p:nvPr/>
          </p:nvSpPr>
          <p:spPr>
            <a:xfrm>
              <a:off x="3643560" y="3036960"/>
              <a:ext cx="1863360" cy="947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189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Substantia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Nigra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821200">
              <a:off x="723600" y="2171880"/>
              <a:ext cx="1066680" cy="533160"/>
            </a:xfrm>
            <a:prstGeom prst="rect">
              <a:avLst/>
            </a:prstGeom>
            <a:noFill/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15000" y="293760"/>
            <a:ext cx="3243240" cy="2754360"/>
            <a:chOff x="5715000" y="293760"/>
            <a:chExt cx="3243240" cy="2754360"/>
          </a:xfrm>
        </p:grpSpPr>
        <p:sp>
          <p:nvSpPr>
            <p:cNvPr id="260" name=""/>
            <p:cNvSpPr/>
            <p:nvPr/>
          </p:nvSpPr>
          <p:spPr>
            <a:xfrm>
              <a:off x="6538680" y="293760"/>
              <a:ext cx="2419560" cy="947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189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Inferior olivary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66"/>
                  </a:solidFill>
                  <a:latin typeface="Arial"/>
                </a:rPr>
                <a:t>nucleus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15000" y="1981080"/>
              <a:ext cx="1066680" cy="1067040"/>
            </a:xfrm>
            <a:prstGeom prst="ellipse">
              <a:avLst/>
            </a:prstGeom>
            <a:noFill/>
            <a:ln w="7632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27360" y="613872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Other Brainstem Nuclei</a:t>
            </a:r>
            <a:endParaRPr b="0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ticula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use, poorly differentiated brainstem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pies tegmentum of brain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tone and refl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c functions e.g. respiration, blood pressure, cardia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, awareness and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08440" y="533520"/>
            <a:ext cx="4435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360" y="380880"/>
            <a:ext cx="9144360" cy="6159600"/>
            <a:chOff x="-360" y="380880"/>
            <a:chExt cx="9144360" cy="6159600"/>
          </a:xfrm>
        </p:grpSpPr>
        <p:sp>
          <p:nvSpPr>
            <p:cNvPr id="267" name=""/>
            <p:cNvSpPr/>
            <p:nvPr/>
          </p:nvSpPr>
          <p:spPr>
            <a:xfrm>
              <a:off x="2286000" y="3808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ticular Formation</a:t>
              </a:r>
              <a:endParaRPr b="0" lang="en-US" sz="36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2819520"/>
              <a:ext cx="4800600" cy="129528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aphe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620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780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972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72200" y="2819520"/>
              <a:ext cx="0" cy="129528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3200400" y="297144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di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90000" y="297180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di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2362320" y="297144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ter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8440" y="2971800"/>
              <a:ext cx="48528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teral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371600" y="4114800"/>
              <a:ext cx="1066680" cy="144792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760" y="57150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6705360" y="4114800"/>
              <a:ext cx="1066680" cy="144792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29400" y="57150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71800" y="1600200"/>
              <a:ext cx="3200400" cy="1219320"/>
            </a:xfrm>
            <a:prstGeom prst="upArrowCallout">
              <a:avLst>
                <a:gd name="adj1" fmla="val 65625"/>
                <a:gd name="adj2" fmla="val 65619"/>
                <a:gd name="adj3" fmla="val 16667"/>
                <a:gd name="adj4" fmla="val 66660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2971800" y="4114440"/>
              <a:ext cx="3200400" cy="1219320"/>
            </a:xfrm>
            <a:prstGeom prst="upArrowCallout">
              <a:avLst>
                <a:gd name="adj1" fmla="val 65625"/>
                <a:gd name="adj2" fmla="val 65619"/>
                <a:gd name="adj3" fmla="val 16667"/>
                <a:gd name="adj4" fmla="val 66660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19520" y="3505320"/>
              <a:ext cx="304560" cy="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019920" y="3505320"/>
              <a:ext cx="304560" cy="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2920" y="2590920"/>
              <a:ext cx="1981080" cy="1752480"/>
            </a:xfrm>
            <a:prstGeom prst="rightArrow">
              <a:avLst>
                <a:gd name="adj1" fmla="val 50000"/>
                <a:gd name="adj2" fmla="val 28261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ebellar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jecting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uclei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-720" y="2590920"/>
              <a:ext cx="1981080" cy="1752480"/>
            </a:xfrm>
            <a:prstGeom prst="rightArrow">
              <a:avLst>
                <a:gd name="adj1" fmla="val 50000"/>
                <a:gd name="adj2" fmla="val 28261"/>
              </a:avLst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ebellar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jecting 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uclei</a:t>
              </a:r>
              <a:endParaRPr b="0" lang="en-US" sz="2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76720" y="41148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inal Cord &amp; Brainstem Nuclei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6720" y="19969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ebrain &amp; Brainstem Nuclei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05720" y="9144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91440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ending Input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05720" y="1447920"/>
              <a:ext cx="609480" cy="137160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1828440" y="1447920"/>
              <a:ext cx="609480" cy="1371600"/>
            </a:xfrm>
            <a:prstGeom prst="line">
              <a:avLst/>
            </a:prstGeom>
            <a:ln w="76320">
              <a:solidFill>
                <a:srgbClr val="33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72000" y="3809520"/>
              <a:ext cx="0" cy="38124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0" y="2743200"/>
              <a:ext cx="0" cy="380880"/>
            </a:xfrm>
            <a:prstGeom prst="line">
              <a:avLst/>
            </a:prstGeom>
            <a:ln w="5724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0" t="0" r="49995" b="0"/>
          <a:stretch/>
        </p:blipFill>
        <p:spPr>
          <a:xfrm>
            <a:off x="4343400" y="1828800"/>
            <a:ext cx="4800600" cy="4106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idline Raphe Nucl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5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ly serotoninergic cells – send and receive extensive ascending and descending proj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 pain, arousal and sle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08440" y="533520"/>
            <a:ext cx="4435560" cy="5715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rasagittal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edial nucl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or reg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(facilitates extensors) reticulospin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(facilitates flexors) reticulospinal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utonom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S exerts excitatory input to cortex for consciousness and 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mental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715000" cy="442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32004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50010" t="0" r="0" b="0"/>
          <a:stretch/>
        </p:blipFill>
        <p:spPr>
          <a:xfrm>
            <a:off x="4419720" y="1905120"/>
            <a:ext cx="4724280" cy="40431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39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s 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hibits pain at spinal cord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s autonomic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cus Ceruleus &amp;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edial Reticular Z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08440" y="533520"/>
            <a:ext cx="4435560" cy="5715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arasagittal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teral Nucl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4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s input to mediate visceral and cranial nerve refle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to parasagittal medial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dunculopontine 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>
            <a:lum contrast="6000"/>
          </a:blip>
          <a:srcRect l="50003" t="0" r="0" b="0"/>
          <a:stretch/>
        </p:blipFill>
        <p:spPr>
          <a:xfrm>
            <a:off x="4267080" y="1828800"/>
            <a:ext cx="4876920" cy="4340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etylcholine projecting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cending projection to inferior frontal cortex/intralaminar 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from basal ganglia output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to brainstem motor nuclei (VST, R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edunculopontine Nucle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lenberg’s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>
            <a:lum contrast="30000"/>
          </a:blip>
          <a:srcRect l="0" t="0" r="3633" b="0"/>
          <a:stretch/>
        </p:blipFill>
        <p:spPr>
          <a:xfrm>
            <a:off x="990720" y="2666880"/>
            <a:ext cx="5333760" cy="3660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248520" y="38098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Thrombosis of PIC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486400" y="4190760"/>
            <a:ext cx="990720" cy="75960"/>
          </a:xfrm>
          <a:prstGeom prst="line">
            <a:avLst/>
          </a:prstGeom>
          <a:ln w="5724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2514600"/>
            <a:ext cx="25909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Lateral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medullary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syndrome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rcRect l="0" t="0" r="3882" b="0"/>
          <a:stretch/>
        </p:blipFill>
        <p:spPr>
          <a:xfrm>
            <a:off x="4419720" y="1828800"/>
            <a:ext cx="4343400" cy="30654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lenberg’s Syndr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8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s invol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. Cerebellar peduncle (ipsilateral atax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V tract &amp; nucleus (ipsilateral loss pain &amp;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olateral system (contralateral loss of body pain &amp;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ambiguus (dysphagia &amp; dyspho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tibular n. (nystagmus and postural inst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1577880" cy="2743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914400" y="1752480"/>
            <a:ext cx="1600200" cy="1828800"/>
          </a:xfrm>
          <a:prstGeom prst="cloudCallout">
            <a:avLst>
              <a:gd name="adj1" fmla="val 62300"/>
              <a:gd name="adj2" fmla="val 50782"/>
            </a:avLst>
          </a:prstGeom>
          <a:noFill/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2880" y="243828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Well…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321" name="" descr="Spinal Cord Brainstem Interactive At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334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mental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864400" cy="4292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6520" y="3276720"/>
            <a:ext cx="2133360" cy="15228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1520" y="247968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Sulcu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Limitan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mental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569" t="0" r="1784" b="39275"/>
          <a:stretch/>
        </p:blipFill>
        <p:spPr>
          <a:xfrm>
            <a:off x="914400" y="259092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5580" t="61183" r="8581" b="0"/>
          <a:stretch/>
        </p:blipFill>
        <p:spPr>
          <a:xfrm>
            <a:off x="5029200" y="335268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27400" y="5832360"/>
            <a:ext cx="2586960" cy="8254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From Pritchard &amp;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Alloway: Fig. 4-1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21280" y="990720"/>
            <a:ext cx="5022720" cy="541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0" t="0" r="24428" b="0"/>
          <a:stretch/>
        </p:blipFill>
        <p:spPr>
          <a:xfrm>
            <a:off x="782640" y="1295280"/>
            <a:ext cx="3365640" cy="4648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29000" y="2590920"/>
            <a:ext cx="914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 Nuclei Organiz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95800" y="190512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l to sulcus limit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al from sulcus limit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S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172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7240" y="2362320"/>
            <a:ext cx="7842240" cy="4497840"/>
            <a:chOff x="687240" y="2362320"/>
            <a:chExt cx="7842240" cy="4497840"/>
          </a:xfrm>
        </p:grpSpPr>
        <p:grpSp>
          <p:nvGrpSpPr>
            <p:cNvPr id="113" name=""/>
            <p:cNvGrpSpPr/>
            <p:nvPr/>
          </p:nvGrpSpPr>
          <p:grpSpPr>
            <a:xfrm>
              <a:off x="1066680" y="2362320"/>
              <a:ext cx="7462800" cy="4025880"/>
              <a:chOff x="1066680" y="2362320"/>
              <a:chExt cx="7462800" cy="40258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362320"/>
                <a:ext cx="3924000" cy="37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942520" y="5562720"/>
                <a:ext cx="2586960" cy="825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07932" dir="2700000" blurRad="0" rotWithShape="0">
                  <a:srgbClr val="66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66"/>
                    </a:solidFill>
                    <a:latin typeface="Times New Roman"/>
                  </a:rPr>
                  <a:t>From Pritchard &amp;</a:t>
                </a:r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66"/>
                    </a:solidFill>
                    <a:latin typeface="Times New Roman"/>
                  </a:rPr>
                  <a:t>Alloway: Fig. 4-4</a:t>
                </a:r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7240" y="5638680"/>
              <a:ext cx="4932000" cy="1221480"/>
              <a:chOff x="687240" y="5638680"/>
              <a:chExt cx="4932000" cy="12214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87240" y="5638680"/>
                <a:ext cx="4932000" cy="1221480"/>
                <a:chOff x="687240" y="5638680"/>
                <a:chExt cx="4932000" cy="122148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687240" y="5638680"/>
                  <a:ext cx="4932000" cy="1221480"/>
                  <a:chOff x="687240" y="5638680"/>
                  <a:chExt cx="4932000" cy="12214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990360" y="5638680"/>
                    <a:ext cx="4628880" cy="1067040"/>
                    <a:chOff x="990360" y="5638680"/>
                    <a:chExt cx="4628880" cy="1067040"/>
                  </a:xfrm>
                </p:grpSpPr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rcRect l="0" t="11402" r="0" b="42991"/>
                    <a:stretch/>
                  </p:blipFill>
                  <p:spPr>
                    <a:xfrm>
                      <a:off x="990360" y="6095880"/>
                      <a:ext cx="462888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828080" y="5638680"/>
                      <a:ext cx="2819160" cy="45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3276360" y="6172200"/>
                    <a:ext cx="380520" cy="380880"/>
                  </a:xfrm>
                  <a:prstGeom prst="rect">
                    <a:avLst/>
                  </a:prstGeom>
                  <a:solidFill>
                    <a:srgbClr val="99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201840" y="6553080"/>
                    <a:ext cx="57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6666"/>
                        </a:solidFill>
                        <a:latin typeface="Times New Roman"/>
                      </a:rPr>
                      <a:t>MOT</a:t>
                    </a:r>
                    <a:endParaRPr b="0" lang="en-US" sz="1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61760" y="6172200"/>
                    <a:ext cx="380520" cy="380880"/>
                  </a:xfrm>
                  <a:prstGeom prst="rect">
                    <a:avLst/>
                  </a:prstGeom>
                  <a:solidFill>
                    <a:srgbClr val="99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87240" y="6521400"/>
                    <a:ext cx="563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336666"/>
                        </a:solidFill>
                        <a:latin typeface="Times New Roman"/>
                      </a:rPr>
                      <a:t>SEN</a:t>
                    </a:r>
                    <a:endParaRPr b="0" lang="en-US" sz="16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" name=""/>
                <p:cNvSpPr/>
                <p:nvPr/>
              </p:nvSpPr>
              <p:spPr>
                <a:xfrm>
                  <a:off x="3124080" y="6172200"/>
                  <a:ext cx="0" cy="457200"/>
                </a:xfrm>
                <a:prstGeom prst="line">
                  <a:avLst/>
                </a:prstGeom>
                <a:ln w="76320">
                  <a:solidFill>
                    <a:srgbClr val="3366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1218960" y="6095880"/>
                <a:ext cx="0" cy="53352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33560" y="6095880"/>
                <a:ext cx="0" cy="53352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ory nuclei lateral to sulcus limit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or nuclei medial to sulcus limit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ceral nuclei are on either side of sul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ervation of skeletal muscle (GSE &amp; SVE) most med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and special visceral afferent nuclei in same colum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anial Nerves –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lencephalon &amp; Diencephal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factory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ell (S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c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 (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7541" r="0" b="0"/>
          <a:stretch/>
        </p:blipFill>
        <p:spPr>
          <a:xfrm>
            <a:off x="5334120" y="2438280"/>
            <a:ext cx="3578040" cy="441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0" y="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I, II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5:44:46Z</dcterms:created>
  <dc:creator>MW</dc:creator>
  <dc:description/>
  <dc:language>en-US</dc:language>
  <cp:lastModifiedBy>mwiegand</cp:lastModifiedBy>
  <dcterms:modified xsi:type="dcterms:W3CDTF">2004-11-04T15:59:04Z</dcterms:modified>
  <cp:revision>29</cp:revision>
  <dc:subject/>
  <dc:title>Brainstem II</dc:title>
</cp:coreProperties>
</file>