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1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8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4D2D-F2DC-4941-9AAC-F16B2097A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FC9B-2398-4EF1-AB28-8DD406B5B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48D6-7C26-416C-9B8D-34B0FEE31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0BB8-892E-465E-BC22-1776BDA58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23323-1B5C-40CA-B260-6E819F701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475E1-0CDA-485E-B799-7925D998D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3888A-BA74-4713-86AE-D51695885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E756A-BD6E-4550-9583-1A8225CB0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3DCE9-829F-4E62-8E6D-4C3171446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D7DC6-96A2-49E5-9512-3AC8BD2F3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43B5C-E2F3-44B3-9CD1-952BF0EDB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3306-BC4B-44EC-A6B8-0D38BE3EA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75DD6-13A4-47DB-A528-16C71ADB7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73DA7-6EC4-4C7B-8EF5-6801533AC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D67C9-ACDD-4767-9169-6889E5A75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55592-B6BC-4E04-97AE-DCEC0FEE1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007A2-3492-480C-9E97-54CCAD081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C0E7-AA93-41A2-AF4E-8D34E0BEB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6DA1-2237-4A88-928E-DDE23F76A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210E-3C57-48C7-B3E0-B56924C11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62A5-0577-420D-83CD-7724DBAE2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E4A7-5374-402C-9E3A-760885946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10B1-E8C3-4983-A377-6933EE75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2BFB-4D6E-42BE-B2A8-D1A4A3358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E8432-97F0-4967-A41E-E34B7FC6B5C6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1D8B5-FC49-4557-B677-963C4358D7E2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lansing.bellarmine.edu/pt/atlas/cover.html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lansing.bellarmine.edu/pt/atlas/cover.html" TargetMode="External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rainstem I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93696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dical Neurosci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r. Wieg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ranial Nerves –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esencephal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95440" y="1905120"/>
            <a:ext cx="404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culomotor –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aocular eye muscles (GSE)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ulomotor nucle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NS to eye (GVE)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dinger-Westphal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ochlear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aocular muscle (sup. oblique) (GSE)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ochlear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40" y="0"/>
            <a:ext cx="11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Arial"/>
              </a:rPr>
              <a:t>III, IV</a:t>
            </a:r>
            <a:endParaRPr b="0" lang="en-US" sz="3200" spc="-1" strike="noStrike">
              <a:solidFill>
                <a:srgbClr val="336666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12249"/>
          <a:stretch/>
        </p:blipFill>
        <p:spPr>
          <a:xfrm>
            <a:off x="990720" y="2362320"/>
            <a:ext cx="39243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ranial Nerves –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etencephal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95440" y="1905120"/>
            <a:ext cx="404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igeminal –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ticatory muscles (SVE)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igeminal motor nucle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sensation of the head and face (GSA)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igeminal com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ducens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aocular muscle (lat. rectus) (GSE)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ducens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800" y="0"/>
            <a:ext cx="106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Arial"/>
              </a:rPr>
              <a:t>V, VI</a:t>
            </a:r>
            <a:endParaRPr b="0" lang="en-US" sz="3200" spc="-1" strike="noStrike">
              <a:solidFill>
                <a:srgbClr val="336666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0" b="12249"/>
          <a:stretch/>
        </p:blipFill>
        <p:spPr>
          <a:xfrm>
            <a:off x="990720" y="2362320"/>
            <a:ext cx="39243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47560" y="3805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ranial Nerves –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etencephal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991040" y="1981080"/>
            <a:ext cx="41529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c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ial expression muscles (SVE)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cial motor nucl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ands (submandibular, sublingual &amp; lacrimal) (GVE)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erior salivatory &amp; lacrimal nucl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te (SVA)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stral solitary nucl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 sensation of ear (GSA)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igeminal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800" y="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Arial"/>
              </a:rPr>
              <a:t>VII</a:t>
            </a:r>
            <a:endParaRPr b="0" lang="en-US" sz="3200" spc="-1" strike="noStrike">
              <a:solidFill>
                <a:srgbClr val="336666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rcRect l="0" t="0" r="0" b="12249"/>
          <a:stretch/>
        </p:blipFill>
        <p:spPr>
          <a:xfrm>
            <a:off x="990720" y="2057400"/>
            <a:ext cx="39243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ranial Nerves –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etencephal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stibulocochlear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ring (SSA)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rsal and ventral cochlear nucl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ance (SSA)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stibular nucl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800" y="0"/>
            <a:ext cx="79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Arial"/>
              </a:rPr>
              <a:t>VIII</a:t>
            </a:r>
            <a:endParaRPr b="0" lang="en-US" sz="3200" spc="-1" strike="noStrike">
              <a:solidFill>
                <a:srgbClr val="336666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12249"/>
          <a:stretch/>
        </p:blipFill>
        <p:spPr>
          <a:xfrm>
            <a:off x="685800" y="1905120"/>
            <a:ext cx="39243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ranial Nerves –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ylencephal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4800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ssopharynge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ylopharyngeus muscle (SVE)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. ambigu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NS to parotid gland (GVE)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erior salivatory 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te (SVA)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stral solitary 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otid body sensation (GVA)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udal solitary 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sensation from ear &amp; tongue (GSA)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igeminal com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00" y="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Arial"/>
              </a:rPr>
              <a:t>IX</a:t>
            </a:r>
            <a:endParaRPr b="0" lang="en-US" sz="3200" spc="-1" strike="noStrike">
              <a:solidFill>
                <a:srgbClr val="336666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rcRect l="0" t="0" r="0" b="12249"/>
          <a:stretch/>
        </p:blipFill>
        <p:spPr>
          <a:xfrm>
            <a:off x="4952880" y="1981080"/>
            <a:ext cx="39243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ranial Nerves –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ylencephal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495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ag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cles of larynx &amp; pharynx (SVE)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mbigu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NS to thorax and upper abdomen (GVE)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rsal motor n. of X (DM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ory from viscera (GVA)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udal solitary 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te (SVA)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stral  solitary 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sensation from ear  (GSA) 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igeminal com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800" y="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Arial"/>
              </a:rPr>
              <a:t>IX</a:t>
            </a:r>
            <a:endParaRPr b="0" lang="en-US" sz="3200" spc="-1" strike="noStrike">
              <a:solidFill>
                <a:srgbClr val="336666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2249"/>
          <a:stretch/>
        </p:blipFill>
        <p:spPr>
          <a:xfrm>
            <a:off x="4952880" y="1828800"/>
            <a:ext cx="39243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ranial Nerves –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ylencephal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458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cessory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nervates trapezius and sternocleidomastoid (SVE or GSE)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or nucleus of XI in upper cervical 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ypoglossal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ngue muscles (GSE)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ypoglossal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0"/>
            <a:ext cx="129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Arial"/>
              </a:rPr>
              <a:t>XI, XII</a:t>
            </a:r>
            <a:endParaRPr b="0" lang="en-US" sz="3200" spc="-1" strike="noStrike">
              <a:solidFill>
                <a:srgbClr val="336666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rcRect l="0" t="0" r="0" b="12249"/>
          <a:stretch/>
        </p:blipFill>
        <p:spPr>
          <a:xfrm>
            <a:off x="4876920" y="1828800"/>
            <a:ext cx="39243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ranial Nerve Nuclei Group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4343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SE &amp; SVE – Motor Nuclei o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I, IV, V, VI, VII, XI, XI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bigu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VE – Parasympathetic Nucl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nger-Westphal nucl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crimal &amp; salivatory (superior, inferior) nucle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rsal Motor Nucleus of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VA (Taste) – Rostral Solitary nucl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VA – Caudal Solitary nucl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SA – Trigeminal (TBN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SA – Cochlear and Vestibular nucl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12249"/>
          <a:stretch/>
        </p:blipFill>
        <p:spPr>
          <a:xfrm>
            <a:off x="4952880" y="1676520"/>
            <a:ext cx="3924360" cy="41907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04920" y="4191120"/>
            <a:ext cx="4724280" cy="0"/>
          </a:xfrm>
          <a:prstGeom prst="line">
            <a:avLst/>
          </a:prstGeom>
          <a:ln w="3816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30240" y="304920"/>
          <a:ext cx="9083520" cy="6292800"/>
        </p:xfrm>
        <a:graphic>
          <a:graphicData uri="http://schemas.openxmlformats.org/drawingml/2006/table">
            <a:tbl>
              <a:tblPr/>
              <a:tblGrid>
                <a:gridCol w="684000"/>
                <a:gridCol w="1263960"/>
                <a:gridCol w="726840"/>
                <a:gridCol w="2516400"/>
                <a:gridCol w="2306520"/>
                <a:gridCol w="1585800"/>
              </a:tblGrid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ber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me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unction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cleus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ipheral Ganglia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ipheralTarget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lfactory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mell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lfactory bulb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sal cavity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tic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sion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teral geniculate body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tina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tina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culomotor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tor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SNS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culomotor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dinger-Westphal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e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liary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traocular mm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str. Pup &amp; ciliary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ochlear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tor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ochlear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e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perior oblique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igeminal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tor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nsory 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tor V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V, PrV, mesV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e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igeminal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m of mastication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nsory of face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ducens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tor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ducens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e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teral rectus mm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cial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tor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SNS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ste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nsory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cial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perior salivatory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stral solitary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igeminal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e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bmandibular and sphenopalatine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niculate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m facial express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crimal gland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bmandibular/lingual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ngue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ternal ear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stibulocochlear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aring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lance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chlear (dorsal, ventral) &amp; vestibular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iral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stibular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chlea 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stibular app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X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lossopharyngeal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tor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SNS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ste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nsory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nsory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. abiguus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erior salivatory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stral solitary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udal solitary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igeminal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e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ic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. (petrosal) of IX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. (petrosal) of IX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m of larynx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otid gland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ngue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ft palate &amp; pharynx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ternal ear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gus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tor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SNS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ste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nsory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nsory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. ambiguous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rsal motor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stral solitary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udal solitary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igeminal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e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ltiple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. (nodose) of X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. (nodose) of X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p. (jugular) of X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m of larynx/pharynx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scera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iglottis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scera sensory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ternal ear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I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cessory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tor 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cessory nucleus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e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p &amp; SCM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II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ypoglossal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tor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ypoglossal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e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ngue mm.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earning Internal Anatom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gnize outline of brain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dbr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erior vs. superior collicu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ul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vs. clo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e nuclei in correct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gnize orientation of sl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 Pathw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of tr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es of decus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486400" y="2438280"/>
            <a:ext cx="2957400" cy="4191120"/>
          </a:xfrm>
          <a:prstGeom prst="rect">
            <a:avLst/>
          </a:prstGeom>
          <a:ln w="0">
            <a:noFill/>
          </a:ln>
        </p:spPr>
      </p:pic>
      <p:sp>
        <p:nvSpPr>
          <p:cNvPr id="171" name="">
            <a:hlinkClick r:id="rId2"/>
          </p:cNvPr>
          <p:cNvSpPr/>
          <p:nvPr/>
        </p:nvSpPr>
        <p:spPr>
          <a:xfrm>
            <a:off x="2514600" y="112680"/>
            <a:ext cx="570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66"/>
                </a:solidFill>
                <a:latin typeface="Arial"/>
              </a:rPr>
              <a:t>http://lansing.bellarmine.edu/pt/atlas/cover.html</a:t>
            </a: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nternal Brainstem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3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anial nerve nucle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cation of selected tra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ticular form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095800" y="2173320"/>
            <a:ext cx="343872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14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3352680" y="0"/>
          <a:ext cx="35766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0"/>
                    <a:ext cx="35766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4952880" y="4952880"/>
            <a:ext cx="3812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3352680" y="0"/>
            <a:ext cx="3576600" cy="6858000"/>
            <a:chOff x="3352680" y="0"/>
            <a:chExt cx="3576600" cy="6858000"/>
          </a:xfrm>
        </p:grpSpPr>
        <p:graphicFrame>
          <p:nvGraphicFramePr>
            <p:cNvPr id="177" name=""/>
            <p:cNvGraphicFramePr/>
            <p:nvPr/>
          </p:nvGraphicFramePr>
          <p:xfrm>
            <a:off x="3352680" y="0"/>
            <a:ext cx="3576600" cy="6858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352680" y="0"/>
                      <a:ext cx="3576600" cy="685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9" name=""/>
            <p:cNvSpPr/>
            <p:nvPr/>
          </p:nvSpPr>
          <p:spPr>
            <a:xfrm>
              <a:off x="4952880" y="4952880"/>
              <a:ext cx="38124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3809880" cy="27432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rcRect l="0" t="15015" r="0" b="0"/>
          <a:stretch/>
        </p:blipFill>
        <p:spPr>
          <a:xfrm>
            <a:off x="304920" y="3886200"/>
            <a:ext cx="3657600" cy="25876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rcRect l="15394" t="23452" r="9626" b="0"/>
          <a:stretch/>
        </p:blipFill>
        <p:spPr>
          <a:xfrm>
            <a:off x="5486400" y="838080"/>
            <a:ext cx="2971800" cy="24876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/>
          <a:srcRect l="2047" t="0" r="10197" b="0"/>
          <a:stretch/>
        </p:blipFill>
        <p:spPr>
          <a:xfrm>
            <a:off x="5410080" y="3352680"/>
            <a:ext cx="3276720" cy="31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343400" y="0"/>
            <a:ext cx="4800600" cy="34527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rcRect l="0" t="15015" r="0" b="0"/>
          <a:stretch/>
        </p:blipFill>
        <p:spPr>
          <a:xfrm>
            <a:off x="4343400" y="3505320"/>
            <a:ext cx="4495680" cy="31813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rcRect l="2047" t="0" r="10197" b="0"/>
          <a:stretch/>
        </p:blipFill>
        <p:spPr>
          <a:xfrm>
            <a:off x="0" y="3014640"/>
            <a:ext cx="4038480" cy="3843360"/>
          </a:xfrm>
          <a:prstGeom prst="rect">
            <a:avLst/>
          </a:prstGeom>
          <a:ln w="0">
            <a:noFill/>
          </a:ln>
        </p:spPr>
      </p:pic>
      <p:grpSp>
        <p:nvGrpSpPr>
          <p:cNvPr id="187" name=""/>
          <p:cNvGrpSpPr/>
          <p:nvPr/>
        </p:nvGrpSpPr>
        <p:grpSpPr>
          <a:xfrm>
            <a:off x="444960" y="141120"/>
            <a:ext cx="2748600" cy="4278600"/>
            <a:chOff x="444960" y="141120"/>
            <a:chExt cx="2748600" cy="4278600"/>
          </a:xfrm>
        </p:grpSpPr>
        <p:sp>
          <p:nvSpPr>
            <p:cNvPr id="188" name=""/>
            <p:cNvSpPr/>
            <p:nvPr/>
          </p:nvSpPr>
          <p:spPr>
            <a:xfrm>
              <a:off x="444960" y="141120"/>
              <a:ext cx="2748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66"/>
                  </a:solidFill>
                  <a:latin typeface="Arial"/>
                </a:rPr>
                <a:t>Sensory Nuclei</a:t>
              </a:r>
              <a:endParaRPr b="0" lang="en-US" sz="28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62120" y="3657600"/>
              <a:ext cx="990360" cy="762120"/>
            </a:xfrm>
            <a:prstGeom prst="ellipse">
              <a:avLst/>
            </a:prstGeom>
            <a:noFill/>
            <a:ln w="57240">
              <a:solidFill>
                <a:srgbClr val="99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523880" y="3124080"/>
              <a:ext cx="609840" cy="838440"/>
            </a:xfrm>
            <a:prstGeom prst="ellipse">
              <a:avLst/>
            </a:prstGeom>
            <a:noFill/>
            <a:ln w="57240">
              <a:solidFill>
                <a:srgbClr val="99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462960" y="635040"/>
            <a:ext cx="3795480" cy="4775040"/>
            <a:chOff x="462960" y="635040"/>
            <a:chExt cx="3795480" cy="4775040"/>
          </a:xfrm>
        </p:grpSpPr>
        <p:sp>
          <p:nvSpPr>
            <p:cNvPr id="192" name=""/>
            <p:cNvSpPr/>
            <p:nvPr/>
          </p:nvSpPr>
          <p:spPr>
            <a:xfrm>
              <a:off x="462960" y="635040"/>
              <a:ext cx="37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66"/>
                  </a:solidFill>
                  <a:latin typeface="Arial"/>
                </a:rPr>
                <a:t>Sensory Decussation</a:t>
              </a:r>
              <a:endParaRPr b="0" lang="en-US" sz="28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057400" y="3886200"/>
              <a:ext cx="546120" cy="1523880"/>
            </a:xfrm>
            <a:custGeom>
              <a:avLst/>
              <a:gdLst/>
              <a:ahLst/>
              <a:rect l="l" t="t" r="r" b="b"/>
              <a:pathLst>
                <a:path w="344" h="960">
                  <a:moveTo>
                    <a:pt x="0" y="0"/>
                  </a:moveTo>
                  <a:cubicBezTo>
                    <a:pt x="164" y="136"/>
                    <a:pt x="328" y="272"/>
                    <a:pt x="336" y="432"/>
                  </a:cubicBezTo>
                  <a:cubicBezTo>
                    <a:pt x="344" y="592"/>
                    <a:pt x="96" y="872"/>
                    <a:pt x="48" y="960"/>
                  </a:cubicBezTo>
                </a:path>
              </a:pathLst>
            </a:custGeom>
            <a:noFill/>
            <a:ln w="57240">
              <a:solidFill>
                <a:srgbClr val="99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461520" y="1092240"/>
            <a:ext cx="7482600" cy="4546440"/>
            <a:chOff x="461520" y="1092240"/>
            <a:chExt cx="7482600" cy="4546440"/>
          </a:xfrm>
        </p:grpSpPr>
        <p:sp>
          <p:nvSpPr>
            <p:cNvPr id="195" name=""/>
            <p:cNvSpPr/>
            <p:nvPr/>
          </p:nvSpPr>
          <p:spPr>
            <a:xfrm>
              <a:off x="1905120" y="5105520"/>
              <a:ext cx="228600" cy="533160"/>
            </a:xfrm>
            <a:prstGeom prst="ellipse">
              <a:avLst/>
            </a:prstGeom>
            <a:noFill/>
            <a:ln w="57240">
              <a:solidFill>
                <a:srgbClr val="99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553080" y="4648320"/>
              <a:ext cx="609840" cy="152280"/>
            </a:xfrm>
            <a:prstGeom prst="ellipse">
              <a:avLst/>
            </a:prstGeom>
            <a:noFill/>
            <a:ln w="57240">
              <a:solidFill>
                <a:srgbClr val="99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20787000">
              <a:off x="7391160" y="1447560"/>
              <a:ext cx="533160" cy="228600"/>
            </a:xfrm>
            <a:prstGeom prst="ellipse">
              <a:avLst/>
            </a:prstGeom>
            <a:noFill/>
            <a:ln w="57240">
              <a:solidFill>
                <a:srgbClr val="99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61520" y="1092240"/>
              <a:ext cx="324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66"/>
                  </a:solidFill>
                  <a:latin typeface="Arial"/>
                </a:rPr>
                <a:t>Medial Lemniscus</a:t>
              </a:r>
              <a:endParaRPr b="0" lang="en-US" sz="28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521280" y="1039680"/>
            <a:ext cx="7639200" cy="5091840"/>
            <a:chOff x="521280" y="1039680"/>
            <a:chExt cx="7639200" cy="5091840"/>
          </a:xfrm>
        </p:grpSpPr>
        <p:sp>
          <p:nvSpPr>
            <p:cNvPr id="200" name=""/>
            <p:cNvSpPr/>
            <p:nvPr/>
          </p:nvSpPr>
          <p:spPr>
            <a:xfrm>
              <a:off x="521280" y="1665360"/>
              <a:ext cx="373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66"/>
                  </a:solidFill>
                  <a:latin typeface="Arial"/>
                </a:rPr>
                <a:t>Anterolateral System</a:t>
              </a:r>
              <a:endParaRPr b="0" lang="en-US" sz="28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1446000">
              <a:off x="3352320" y="5486400"/>
              <a:ext cx="304920" cy="609480"/>
            </a:xfrm>
            <a:prstGeom prst="ellipse">
              <a:avLst/>
            </a:prstGeom>
            <a:noFill/>
            <a:ln w="57240">
              <a:solidFill>
                <a:srgbClr val="99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20878800">
              <a:off x="7086240" y="4572000"/>
              <a:ext cx="304920" cy="152280"/>
            </a:xfrm>
            <a:prstGeom prst="ellipse">
              <a:avLst/>
            </a:prstGeom>
            <a:noFill/>
            <a:ln w="57240">
              <a:solidFill>
                <a:srgbClr val="99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20163000">
              <a:off x="7848720" y="1066320"/>
              <a:ext cx="228600" cy="457200"/>
            </a:xfrm>
            <a:prstGeom prst="ellipse">
              <a:avLst/>
            </a:prstGeom>
            <a:noFill/>
            <a:ln w="57240">
              <a:solidFill>
                <a:srgbClr val="99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3817080" y="6095880"/>
            <a:ext cx="443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66"/>
                </a:solidFill>
                <a:latin typeface="Arial"/>
              </a:rPr>
              <a:t>ASCENDING PATHWAYS</a:t>
            </a:r>
            <a:endParaRPr b="0" lang="en-US" sz="2800" spc="-1" strike="noStrike">
              <a:solidFill>
                <a:srgbClr val="336666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384840" y="2209680"/>
            <a:ext cx="7006680" cy="3361320"/>
            <a:chOff x="384840" y="2209680"/>
            <a:chExt cx="7006680" cy="3361320"/>
          </a:xfrm>
        </p:grpSpPr>
        <p:grpSp>
          <p:nvGrpSpPr>
            <p:cNvPr id="206" name=""/>
            <p:cNvGrpSpPr/>
            <p:nvPr/>
          </p:nvGrpSpPr>
          <p:grpSpPr>
            <a:xfrm>
              <a:off x="384840" y="2209680"/>
              <a:ext cx="4015080" cy="3361320"/>
              <a:chOff x="384840" y="2209680"/>
              <a:chExt cx="4015080" cy="3361320"/>
            </a:xfrm>
          </p:grpSpPr>
          <p:sp>
            <p:nvSpPr>
              <p:cNvPr id="207" name=""/>
              <p:cNvSpPr/>
              <p:nvPr/>
            </p:nvSpPr>
            <p:spPr>
              <a:xfrm>
                <a:off x="384840" y="2209680"/>
                <a:ext cx="4015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6666"/>
                    </a:solidFill>
                    <a:latin typeface="Arial"/>
                  </a:rPr>
                  <a:t>Spinocerebellar Tracts</a:t>
                </a:r>
                <a:endParaRPr b="0" lang="en-US" sz="2800" spc="-1" strike="noStrike">
                  <a:solidFill>
                    <a:srgbClr val="3366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20882400">
                <a:off x="3657240" y="4266720"/>
                <a:ext cx="152280" cy="685800"/>
              </a:xfrm>
              <a:prstGeom prst="ellipse">
                <a:avLst/>
              </a:prstGeom>
              <a:noFill/>
              <a:ln w="57240">
                <a:solidFill>
                  <a:srgbClr val="99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68400">
                <a:off x="3657240" y="4876560"/>
                <a:ext cx="152280" cy="685800"/>
              </a:xfrm>
              <a:prstGeom prst="ellipse">
                <a:avLst/>
              </a:prstGeom>
              <a:noFill/>
              <a:ln w="57240">
                <a:solidFill>
                  <a:srgbClr val="99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66"/>
                  </a:solidFill>
                  <a:latin typeface="Times New Roman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7162920" y="3657600"/>
              <a:ext cx="228600" cy="304920"/>
            </a:xfrm>
            <a:prstGeom prst="ellipse">
              <a:avLst/>
            </a:prstGeom>
            <a:noFill/>
            <a:ln w="57240">
              <a:solidFill>
                <a:srgbClr val="99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9" dur="1" fill="hold"/>
                                  <p:tgtEl>
                                    <p:spTgt spid="2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4343400" y="0"/>
            <a:ext cx="4800600" cy="34527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rcRect l="0" t="15015" r="0" b="0"/>
          <a:stretch/>
        </p:blipFill>
        <p:spPr>
          <a:xfrm>
            <a:off x="4343400" y="3505320"/>
            <a:ext cx="4495680" cy="31813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rcRect l="2047" t="0" r="10197" b="0"/>
          <a:stretch/>
        </p:blipFill>
        <p:spPr>
          <a:xfrm>
            <a:off x="0" y="3014640"/>
            <a:ext cx="4038480" cy="3843360"/>
          </a:xfrm>
          <a:prstGeom prst="rect">
            <a:avLst/>
          </a:prstGeom>
          <a:ln w="0">
            <a:noFill/>
          </a:ln>
        </p:spPr>
      </p:pic>
      <p:grpSp>
        <p:nvGrpSpPr>
          <p:cNvPr id="214" name=""/>
          <p:cNvGrpSpPr/>
          <p:nvPr/>
        </p:nvGrpSpPr>
        <p:grpSpPr>
          <a:xfrm>
            <a:off x="446040" y="369720"/>
            <a:ext cx="5954760" cy="6411960"/>
            <a:chOff x="446040" y="369720"/>
            <a:chExt cx="5954760" cy="6411960"/>
          </a:xfrm>
        </p:grpSpPr>
        <p:sp>
          <p:nvSpPr>
            <p:cNvPr id="215" name=""/>
            <p:cNvSpPr/>
            <p:nvPr/>
          </p:nvSpPr>
          <p:spPr>
            <a:xfrm>
              <a:off x="446040" y="369720"/>
              <a:ext cx="36766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66"/>
                  </a:solidFill>
                  <a:latin typeface="Arial"/>
                </a:rPr>
                <a:t>Corticospinal &amp;</a:t>
              </a:r>
              <a:endParaRPr b="0" lang="en-US" sz="2800" spc="-1" strike="noStrike">
                <a:solidFill>
                  <a:srgbClr val="3366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66"/>
                  </a:solidFill>
                  <a:latin typeface="Arial"/>
                </a:rPr>
                <a:t>Corticobulbar Tracts</a:t>
              </a:r>
              <a:endParaRPr b="0" lang="en-US" sz="2800" spc="-1" strike="noStrike">
                <a:solidFill>
                  <a:srgbClr val="3366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66"/>
                  </a:solidFill>
                  <a:latin typeface="Arial"/>
                </a:rPr>
                <a:t>(Pyramidal Tract)</a:t>
              </a:r>
              <a:endParaRPr b="0" lang="en-US" sz="28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914400" y="5791320"/>
              <a:ext cx="914400" cy="990360"/>
            </a:xfrm>
            <a:prstGeom prst="ellipse">
              <a:avLst/>
            </a:prstGeom>
            <a:noFill/>
            <a:ln w="57240">
              <a:solidFill>
                <a:srgbClr val="99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638680" y="5486400"/>
              <a:ext cx="762120" cy="609480"/>
            </a:xfrm>
            <a:prstGeom prst="ellipse">
              <a:avLst/>
            </a:prstGeom>
            <a:noFill/>
            <a:ln w="57240">
              <a:solidFill>
                <a:srgbClr val="99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2311200">
              <a:off x="4800240" y="2362320"/>
              <a:ext cx="1143000" cy="685800"/>
            </a:xfrm>
            <a:prstGeom prst="ellipse">
              <a:avLst/>
            </a:prstGeom>
            <a:noFill/>
            <a:ln w="57240">
              <a:solidFill>
                <a:srgbClr val="99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3817080" y="6095880"/>
            <a:ext cx="443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66"/>
                </a:solidFill>
                <a:latin typeface="Arial"/>
              </a:rPr>
              <a:t>DESCENDING PATHWAY</a:t>
            </a:r>
            <a:endParaRPr b="0" lang="en-US" sz="28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4343400" y="0"/>
            <a:ext cx="4800600" cy="3452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rcRect l="0" t="15015" r="0" b="0"/>
          <a:stretch/>
        </p:blipFill>
        <p:spPr>
          <a:xfrm>
            <a:off x="4343400" y="3505320"/>
            <a:ext cx="4495680" cy="31813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3"/>
          <a:srcRect l="2047" t="0" r="10197" b="0"/>
          <a:stretch/>
        </p:blipFill>
        <p:spPr>
          <a:xfrm>
            <a:off x="0" y="3014640"/>
            <a:ext cx="4038480" cy="384336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4714560" y="6008760"/>
            <a:ext cx="333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66"/>
                </a:solidFill>
                <a:latin typeface="Arial"/>
              </a:rPr>
              <a:t>CRANIAL NERVES</a:t>
            </a:r>
            <a:endParaRPr b="0" lang="en-US" sz="2800" spc="-1" strike="noStrike">
              <a:solidFill>
                <a:srgbClr val="336666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293760" y="65160"/>
            <a:ext cx="6564240" cy="1458720"/>
            <a:chOff x="293760" y="65160"/>
            <a:chExt cx="6564240" cy="1458720"/>
          </a:xfrm>
        </p:grpSpPr>
        <p:sp>
          <p:nvSpPr>
            <p:cNvPr id="225" name=""/>
            <p:cNvSpPr/>
            <p:nvPr/>
          </p:nvSpPr>
          <p:spPr>
            <a:xfrm>
              <a:off x="293760" y="65160"/>
              <a:ext cx="436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66"/>
                  </a:solidFill>
                  <a:latin typeface="Arial"/>
                </a:rPr>
                <a:t>Edinger-Westphal Nuclei</a:t>
              </a:r>
              <a:endParaRPr b="0" lang="en-US" sz="28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553080" y="1219320"/>
              <a:ext cx="304920" cy="304560"/>
            </a:xfrm>
            <a:prstGeom prst="ellipse">
              <a:avLst/>
            </a:prstGeom>
            <a:noFill/>
            <a:ln w="57240">
              <a:solidFill>
                <a:srgbClr val="99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293400" y="522360"/>
            <a:ext cx="6564600" cy="1306440"/>
            <a:chOff x="293400" y="522360"/>
            <a:chExt cx="6564600" cy="1306440"/>
          </a:xfrm>
        </p:grpSpPr>
        <p:sp>
          <p:nvSpPr>
            <p:cNvPr id="228" name=""/>
            <p:cNvSpPr/>
            <p:nvPr/>
          </p:nvSpPr>
          <p:spPr>
            <a:xfrm>
              <a:off x="6553080" y="1523880"/>
              <a:ext cx="304920" cy="304920"/>
            </a:xfrm>
            <a:prstGeom prst="ellipse">
              <a:avLst/>
            </a:prstGeom>
            <a:noFill/>
            <a:ln w="57240">
              <a:solidFill>
                <a:srgbClr val="99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93400" y="522360"/>
              <a:ext cx="335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66"/>
                  </a:solidFill>
                  <a:latin typeface="Arial"/>
                </a:rPr>
                <a:t>Oculomotor Nuclei</a:t>
              </a:r>
              <a:endParaRPr b="0" lang="en-US" sz="28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291960" y="979560"/>
            <a:ext cx="5224680" cy="4568400"/>
            <a:chOff x="291960" y="979560"/>
            <a:chExt cx="5224680" cy="4568400"/>
          </a:xfrm>
        </p:grpSpPr>
        <p:sp>
          <p:nvSpPr>
            <p:cNvPr id="231" name=""/>
            <p:cNvSpPr/>
            <p:nvPr/>
          </p:nvSpPr>
          <p:spPr>
            <a:xfrm rot="19380000">
              <a:off x="4305240" y="4838400"/>
              <a:ext cx="1219320" cy="380880"/>
            </a:xfrm>
            <a:prstGeom prst="ellipse">
              <a:avLst/>
            </a:prstGeom>
            <a:noFill/>
            <a:ln w="57240">
              <a:solidFill>
                <a:srgbClr val="99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91960" y="979560"/>
              <a:ext cx="3065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66"/>
                  </a:solidFill>
                  <a:latin typeface="Arial"/>
                </a:rPr>
                <a:t>Trigeminal Nerve</a:t>
              </a:r>
              <a:endParaRPr b="0" lang="en-US" sz="28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383760" y="1447920"/>
            <a:ext cx="5636160" cy="3429000"/>
            <a:chOff x="383760" y="1447920"/>
            <a:chExt cx="5636160" cy="3429000"/>
          </a:xfrm>
        </p:grpSpPr>
        <p:grpSp>
          <p:nvGrpSpPr>
            <p:cNvPr id="234" name=""/>
            <p:cNvGrpSpPr/>
            <p:nvPr/>
          </p:nvGrpSpPr>
          <p:grpSpPr>
            <a:xfrm>
              <a:off x="383760" y="1447920"/>
              <a:ext cx="5636160" cy="2895480"/>
              <a:chOff x="383760" y="1447920"/>
              <a:chExt cx="5636160" cy="2895480"/>
            </a:xfrm>
          </p:grpSpPr>
          <p:sp>
            <p:nvSpPr>
              <p:cNvPr id="235" name=""/>
              <p:cNvSpPr/>
              <p:nvPr/>
            </p:nvSpPr>
            <p:spPr>
              <a:xfrm>
                <a:off x="5638680" y="3733920"/>
                <a:ext cx="228600" cy="304560"/>
              </a:xfrm>
              <a:prstGeom prst="ellipse">
                <a:avLst/>
              </a:prstGeom>
              <a:noFill/>
              <a:ln w="57240">
                <a:solidFill>
                  <a:srgbClr val="99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486400" y="4038480"/>
                <a:ext cx="228600" cy="304920"/>
              </a:xfrm>
              <a:prstGeom prst="ellipse">
                <a:avLst/>
              </a:prstGeom>
              <a:noFill/>
              <a:ln w="57240">
                <a:solidFill>
                  <a:srgbClr val="99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791320" y="3886200"/>
                <a:ext cx="228600" cy="304920"/>
              </a:xfrm>
              <a:prstGeom prst="ellipse">
                <a:avLst/>
              </a:prstGeom>
              <a:noFill/>
              <a:ln w="57240">
                <a:solidFill>
                  <a:srgbClr val="99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83760" y="1447920"/>
                <a:ext cx="314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6666"/>
                    </a:solidFill>
                    <a:latin typeface="Arial"/>
                  </a:rPr>
                  <a:t>Trigeminal Nuclei</a:t>
                </a:r>
                <a:endParaRPr b="0" lang="en-US" sz="2800" spc="-1" strike="noStrike">
                  <a:solidFill>
                    <a:srgbClr val="336666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3048120" y="4343400"/>
              <a:ext cx="533160" cy="533520"/>
            </a:xfrm>
            <a:prstGeom prst="ellipse">
              <a:avLst/>
            </a:prstGeom>
            <a:noFill/>
            <a:ln w="57240">
              <a:solidFill>
                <a:srgbClr val="99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387000" y="1905120"/>
            <a:ext cx="3774240" cy="2971800"/>
            <a:chOff x="387000" y="1905120"/>
            <a:chExt cx="3774240" cy="2971800"/>
          </a:xfrm>
        </p:grpSpPr>
        <p:sp>
          <p:nvSpPr>
            <p:cNvPr id="241" name=""/>
            <p:cNvSpPr/>
            <p:nvPr/>
          </p:nvSpPr>
          <p:spPr>
            <a:xfrm>
              <a:off x="1828800" y="4572000"/>
              <a:ext cx="228600" cy="304920"/>
            </a:xfrm>
            <a:prstGeom prst="ellipse">
              <a:avLst/>
            </a:prstGeom>
            <a:noFill/>
            <a:ln w="57240">
              <a:solidFill>
                <a:srgbClr val="99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87000" y="1905120"/>
              <a:ext cx="377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66"/>
                  </a:solidFill>
                  <a:latin typeface="Arial"/>
                </a:rPr>
                <a:t>Hypoglossal Nucleus</a:t>
              </a:r>
              <a:endParaRPr b="0" lang="en-US" sz="28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446400" y="2274840"/>
            <a:ext cx="3970800" cy="2297160"/>
            <a:chOff x="446400" y="2274840"/>
            <a:chExt cx="3970800" cy="2297160"/>
          </a:xfrm>
        </p:grpSpPr>
        <p:sp>
          <p:nvSpPr>
            <p:cNvPr id="244" name=""/>
            <p:cNvSpPr/>
            <p:nvPr/>
          </p:nvSpPr>
          <p:spPr>
            <a:xfrm>
              <a:off x="2209680" y="4343400"/>
              <a:ext cx="228600" cy="228600"/>
            </a:xfrm>
            <a:prstGeom prst="ellipse">
              <a:avLst/>
            </a:prstGeom>
            <a:noFill/>
            <a:ln w="57240">
              <a:solidFill>
                <a:srgbClr val="99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46400" y="2274840"/>
              <a:ext cx="397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66"/>
                  </a:solidFill>
                  <a:latin typeface="Arial"/>
                </a:rPr>
                <a:t>Dorsal Motor of Vagus</a:t>
              </a:r>
              <a:endParaRPr b="0" lang="en-US" sz="28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444600" y="2655720"/>
            <a:ext cx="2966760" cy="1764000"/>
            <a:chOff x="444600" y="2655720"/>
            <a:chExt cx="2966760" cy="1764000"/>
          </a:xfrm>
        </p:grpSpPr>
        <p:sp>
          <p:nvSpPr>
            <p:cNvPr id="247" name=""/>
            <p:cNvSpPr/>
            <p:nvPr/>
          </p:nvSpPr>
          <p:spPr>
            <a:xfrm>
              <a:off x="444600" y="2655720"/>
              <a:ext cx="296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66"/>
                  </a:solidFill>
                  <a:latin typeface="Arial"/>
                </a:rPr>
                <a:t>Solitary Nucleus</a:t>
              </a:r>
              <a:endParaRPr b="0" lang="en-US" sz="28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09680" y="4114800"/>
              <a:ext cx="381240" cy="304920"/>
            </a:xfrm>
            <a:prstGeom prst="ellipse">
              <a:avLst/>
            </a:prstGeom>
            <a:noFill/>
            <a:ln w="57240">
              <a:solidFill>
                <a:srgbClr val="99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4" dur="1" fill="hold"/>
                                  <p:tgtEl>
                                    <p:spTgt spid="2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3809880" cy="27432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rcRect l="0" t="15015" r="0" b="0"/>
          <a:stretch/>
        </p:blipFill>
        <p:spPr>
          <a:xfrm>
            <a:off x="304920" y="3886200"/>
            <a:ext cx="3657600" cy="258768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3"/>
          <a:srcRect l="15394" t="23452" r="9626" b="0"/>
          <a:stretch/>
        </p:blipFill>
        <p:spPr>
          <a:xfrm>
            <a:off x="5486400" y="838080"/>
            <a:ext cx="2971800" cy="2487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4"/>
          <a:srcRect l="2047" t="0" r="10197" b="0"/>
          <a:stretch/>
        </p:blipFill>
        <p:spPr>
          <a:xfrm>
            <a:off x="5410080" y="3352680"/>
            <a:ext cx="3276720" cy="3117960"/>
          </a:xfrm>
          <a:prstGeom prst="rect">
            <a:avLst/>
          </a:prstGeom>
          <a:ln w="0">
            <a:noFill/>
          </a:ln>
        </p:spPr>
      </p:pic>
      <p:grpSp>
        <p:nvGrpSpPr>
          <p:cNvPr id="253" name=""/>
          <p:cNvGrpSpPr/>
          <p:nvPr/>
        </p:nvGrpSpPr>
        <p:grpSpPr>
          <a:xfrm>
            <a:off x="2209680" y="304920"/>
            <a:ext cx="3077280" cy="2286000"/>
            <a:chOff x="2209680" y="304920"/>
            <a:chExt cx="3077280" cy="2286000"/>
          </a:xfrm>
        </p:grpSpPr>
        <p:sp>
          <p:nvSpPr>
            <p:cNvPr id="254" name=""/>
            <p:cNvSpPr/>
            <p:nvPr/>
          </p:nvSpPr>
          <p:spPr>
            <a:xfrm>
              <a:off x="2209680" y="1905120"/>
              <a:ext cx="685800" cy="68580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126600" y="304920"/>
              <a:ext cx="2160360" cy="520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07932" dir="189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6666"/>
                  </a:solidFill>
                  <a:latin typeface="Arial"/>
                </a:rPr>
                <a:t>Red nucleus</a:t>
              </a:r>
              <a:endParaRPr b="0" lang="en-US" sz="28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698760" y="1866600"/>
            <a:ext cx="4808160" cy="2117520"/>
            <a:chOff x="698760" y="1866600"/>
            <a:chExt cx="4808160" cy="2117520"/>
          </a:xfrm>
        </p:grpSpPr>
        <p:sp>
          <p:nvSpPr>
            <p:cNvPr id="257" name=""/>
            <p:cNvSpPr/>
            <p:nvPr/>
          </p:nvSpPr>
          <p:spPr>
            <a:xfrm>
              <a:off x="3643560" y="3036960"/>
              <a:ext cx="1863360" cy="9471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07932" dir="189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6666"/>
                  </a:solidFill>
                  <a:latin typeface="Arial"/>
                </a:rPr>
                <a:t>Substantia</a:t>
              </a:r>
              <a:endParaRPr b="0" lang="en-US" sz="2800" spc="-1" strike="noStrike">
                <a:solidFill>
                  <a:srgbClr val="3366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6666"/>
                  </a:solidFill>
                  <a:latin typeface="Arial"/>
                </a:rPr>
                <a:t>Nigra</a:t>
              </a:r>
              <a:endParaRPr b="0" lang="en-US" sz="28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2821200">
              <a:off x="723600" y="2171880"/>
              <a:ext cx="1066680" cy="533160"/>
            </a:xfrm>
            <a:prstGeom prst="rect">
              <a:avLst/>
            </a:prstGeom>
            <a:noFill/>
            <a:ln w="7632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5715000" y="293760"/>
            <a:ext cx="3243240" cy="2754360"/>
            <a:chOff x="5715000" y="293760"/>
            <a:chExt cx="3243240" cy="2754360"/>
          </a:xfrm>
        </p:grpSpPr>
        <p:sp>
          <p:nvSpPr>
            <p:cNvPr id="260" name=""/>
            <p:cNvSpPr/>
            <p:nvPr/>
          </p:nvSpPr>
          <p:spPr>
            <a:xfrm>
              <a:off x="6538680" y="293760"/>
              <a:ext cx="2419560" cy="9471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07932" dir="189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6666"/>
                  </a:solidFill>
                  <a:latin typeface="Arial"/>
                </a:rPr>
                <a:t>Inferior olivary</a:t>
              </a:r>
              <a:endParaRPr b="0" lang="en-US" sz="2800" spc="-1" strike="noStrike">
                <a:solidFill>
                  <a:srgbClr val="3366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6666"/>
                  </a:solidFill>
                  <a:latin typeface="Arial"/>
                </a:rPr>
                <a:t>nucleus</a:t>
              </a:r>
              <a:endParaRPr b="0" lang="en-US" sz="28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715000" y="1981080"/>
              <a:ext cx="1066680" cy="1067040"/>
            </a:xfrm>
            <a:prstGeom prst="ellipse">
              <a:avLst/>
            </a:prstGeom>
            <a:noFill/>
            <a:ln w="7632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2727360" y="6138720"/>
            <a:ext cx="490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66"/>
                </a:solidFill>
                <a:latin typeface="Arial"/>
              </a:rPr>
              <a:t>Other Brainstem Nuclei</a:t>
            </a:r>
            <a:endParaRPr b="0" lang="en-US" sz="36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53" dur="1" fill="hold"/>
                                  <p:tgtEl>
                                    <p:spTgt spid="2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eticular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orma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114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use, poorly differentiated brainstem nucle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ccupies tegmentum of brain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ulat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cle tone and refle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nomic functions e.g. respiration, blood pressure, cardiac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ousal, awareness and att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708440" y="533520"/>
            <a:ext cx="44355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"/>
          <p:cNvGrpSpPr/>
          <p:nvPr/>
        </p:nvGrpSpPr>
        <p:grpSpPr>
          <a:xfrm>
            <a:off x="-360" y="380880"/>
            <a:ext cx="9144360" cy="6159600"/>
            <a:chOff x="-360" y="380880"/>
            <a:chExt cx="9144360" cy="6159600"/>
          </a:xfrm>
        </p:grpSpPr>
        <p:sp>
          <p:nvSpPr>
            <p:cNvPr id="267" name=""/>
            <p:cNvSpPr/>
            <p:nvPr/>
          </p:nvSpPr>
          <p:spPr>
            <a:xfrm>
              <a:off x="2286000" y="380880"/>
              <a:ext cx="457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Reticular Formation</a:t>
              </a:r>
              <a:endParaRPr b="0" lang="en-US" sz="36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209680" y="2819520"/>
              <a:ext cx="4800600" cy="1295280"/>
            </a:xfrm>
            <a:prstGeom prst="rect">
              <a:avLst/>
            </a:prstGeom>
            <a:solidFill>
              <a:srgbClr val="99cccc"/>
            </a:solidFill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Raphe</a:t>
              </a:r>
              <a:endParaRPr b="0" lang="en-US" sz="28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886200" y="2819520"/>
              <a:ext cx="0" cy="1295280"/>
            </a:xfrm>
            <a:prstGeom prst="line">
              <a:avLst/>
            </a:prstGeom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257800" y="2819520"/>
              <a:ext cx="0" cy="1295280"/>
            </a:xfrm>
            <a:prstGeom prst="line">
              <a:avLst/>
            </a:prstGeom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79720" y="2819520"/>
              <a:ext cx="0" cy="1295280"/>
            </a:xfrm>
            <a:prstGeom prst="line">
              <a:avLst/>
            </a:prstGeom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172200" y="2819520"/>
              <a:ext cx="0" cy="1295280"/>
            </a:xfrm>
            <a:prstGeom prst="line">
              <a:avLst/>
            </a:prstGeom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10800000">
              <a:off x="3200400" y="2971440"/>
              <a:ext cx="485280" cy="10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edial</a:t>
              </a:r>
              <a:endParaRPr b="0" lang="en-US" sz="20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490000" y="2971800"/>
              <a:ext cx="485280" cy="10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edial</a:t>
              </a:r>
              <a:endParaRPr b="0" lang="en-US" sz="20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0800000">
              <a:off x="2362320" y="2971440"/>
              <a:ext cx="485280" cy="10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lateral</a:t>
              </a:r>
              <a:endParaRPr b="0" lang="en-US" sz="20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328440" y="2971800"/>
              <a:ext cx="485280" cy="10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lateral</a:t>
              </a:r>
              <a:endParaRPr b="0" lang="en-US" sz="20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1371600" y="4114800"/>
              <a:ext cx="1066680" cy="1447920"/>
            </a:xfrm>
            <a:prstGeom prst="line">
              <a:avLst/>
            </a:prstGeom>
            <a:ln w="76320">
              <a:solidFill>
                <a:srgbClr val="33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66760" y="5715000"/>
              <a:ext cx="2209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scending Input</a:t>
              </a:r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 flipV="1">
              <a:off x="6705360" y="4114800"/>
              <a:ext cx="1066680" cy="1447920"/>
            </a:xfrm>
            <a:prstGeom prst="line">
              <a:avLst/>
            </a:prstGeom>
            <a:ln w="76320">
              <a:solidFill>
                <a:srgbClr val="33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29400" y="5715000"/>
              <a:ext cx="2209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scending Input</a:t>
              </a:r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971800" y="1600200"/>
              <a:ext cx="3200400" cy="1219320"/>
            </a:xfrm>
            <a:prstGeom prst="upArrowCallout">
              <a:avLst>
                <a:gd name="adj1" fmla="val 65625"/>
                <a:gd name="adj2" fmla="val 65619"/>
                <a:gd name="adj3" fmla="val 16667"/>
                <a:gd name="adj4" fmla="val 66660"/>
              </a:avLst>
            </a:prstGeom>
            <a:solidFill>
              <a:srgbClr val="99cccc"/>
            </a:solidFill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2971800" y="4114440"/>
              <a:ext cx="3200400" cy="1219320"/>
            </a:xfrm>
            <a:prstGeom prst="upArrowCallout">
              <a:avLst>
                <a:gd name="adj1" fmla="val 65625"/>
                <a:gd name="adj2" fmla="val 65619"/>
                <a:gd name="adj3" fmla="val 16667"/>
                <a:gd name="adj4" fmla="val 66660"/>
              </a:avLst>
            </a:prstGeom>
            <a:solidFill>
              <a:srgbClr val="99cccc"/>
            </a:solidFill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19520" y="3505320"/>
              <a:ext cx="304560" cy="0"/>
            </a:xfrm>
            <a:prstGeom prst="line">
              <a:avLst/>
            </a:prstGeom>
            <a:ln w="57240">
              <a:solidFill>
                <a:srgbClr val="33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6019920" y="3505320"/>
              <a:ext cx="304560" cy="0"/>
            </a:xfrm>
            <a:prstGeom prst="line">
              <a:avLst/>
            </a:prstGeom>
            <a:ln w="57240">
              <a:solidFill>
                <a:srgbClr val="33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162920" y="2590920"/>
              <a:ext cx="1981080" cy="1752480"/>
            </a:xfrm>
            <a:prstGeom prst="rightArrow">
              <a:avLst>
                <a:gd name="adj1" fmla="val 50000"/>
                <a:gd name="adj2" fmla="val 28261"/>
              </a:avLst>
            </a:prstGeom>
            <a:solidFill>
              <a:srgbClr val="99cccc"/>
            </a:solidFill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erebellar </a:t>
              </a:r>
              <a:endParaRPr b="0" lang="en-US" sz="2000" spc="-1" strike="noStrike">
                <a:solidFill>
                  <a:srgbClr val="3366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jecting </a:t>
              </a:r>
              <a:endParaRPr b="0" lang="en-US" sz="2000" spc="-1" strike="noStrike">
                <a:solidFill>
                  <a:srgbClr val="3366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uclei</a:t>
              </a:r>
              <a:endParaRPr b="0" lang="en-US" sz="20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-720" y="2590920"/>
              <a:ext cx="1981080" cy="1752480"/>
            </a:xfrm>
            <a:prstGeom prst="rightArrow">
              <a:avLst>
                <a:gd name="adj1" fmla="val 50000"/>
                <a:gd name="adj2" fmla="val 28261"/>
              </a:avLst>
            </a:prstGeom>
            <a:solidFill>
              <a:srgbClr val="99cccc"/>
            </a:solidFill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erebellar </a:t>
              </a:r>
              <a:endParaRPr b="0" lang="en-US" sz="2000" spc="-1" strike="noStrike">
                <a:solidFill>
                  <a:srgbClr val="3366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jecting </a:t>
              </a:r>
              <a:endParaRPr b="0" lang="en-US" sz="2000" spc="-1" strike="noStrike">
                <a:solidFill>
                  <a:srgbClr val="3366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uclei</a:t>
              </a:r>
              <a:endParaRPr b="0" lang="en-US" sz="20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276720" y="4114800"/>
              <a:ext cx="2590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inal Cord &amp; Brainstem Nuclei</a:t>
              </a:r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276720" y="1996920"/>
              <a:ext cx="2590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orebrain &amp; Brainstem Nuclei</a:t>
              </a:r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705720" y="914400"/>
              <a:ext cx="2209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escending Input</a:t>
              </a:r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04920" y="914400"/>
              <a:ext cx="2209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escending Input</a:t>
              </a:r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6705720" y="1447920"/>
              <a:ext cx="609480" cy="1371600"/>
            </a:xfrm>
            <a:prstGeom prst="line">
              <a:avLst/>
            </a:prstGeom>
            <a:ln w="76320">
              <a:solidFill>
                <a:srgbClr val="3366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 flipV="1">
              <a:off x="1828440" y="1447920"/>
              <a:ext cx="609480" cy="1371600"/>
            </a:xfrm>
            <a:prstGeom prst="line">
              <a:avLst/>
            </a:prstGeom>
            <a:ln w="76320">
              <a:solidFill>
                <a:srgbClr val="3366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4572000" y="3809520"/>
              <a:ext cx="0" cy="381240"/>
            </a:xfrm>
            <a:prstGeom prst="line">
              <a:avLst/>
            </a:prstGeom>
            <a:ln w="57240">
              <a:solidFill>
                <a:srgbClr val="33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572000" y="2743200"/>
              <a:ext cx="0" cy="380880"/>
            </a:xfrm>
            <a:prstGeom prst="line">
              <a:avLst/>
            </a:prstGeom>
            <a:ln w="57240">
              <a:solidFill>
                <a:srgbClr val="33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rcRect l="0" t="0" r="49995" b="0"/>
          <a:stretch/>
        </p:blipFill>
        <p:spPr>
          <a:xfrm>
            <a:off x="4343400" y="1828800"/>
            <a:ext cx="4800600" cy="410688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idline Raphe Nucle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57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stly serotoninergic cells – send and receive extensive ascending and descending proje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gulate pain, arousal and slee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708440" y="533520"/>
            <a:ext cx="4435560" cy="571500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arasagittal 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edial nucle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44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tor regu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l (facilitates extensors) reticulospinal 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(facilitates flexors) reticulospinal 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utonomic reg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AS exerts excitatory input to cortex for consciousness and atten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evelopmental Organiza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05120" y="2362320"/>
            <a:ext cx="5715000" cy="44290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886200" y="3200400"/>
            <a:ext cx="7632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1"/>
          <a:srcRect l="50010" t="0" r="0" b="0"/>
          <a:stretch/>
        </p:blipFill>
        <p:spPr>
          <a:xfrm>
            <a:off x="4419720" y="1905120"/>
            <a:ext cx="4724280" cy="404316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685800" y="1905120"/>
            <a:ext cx="397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gulates atten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hibits pain at spinal cord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gulates autonomic fun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cus Ceruleus &amp; 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edial Reticular Zon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708440" y="533520"/>
            <a:ext cx="4435560" cy="571500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arasagittal 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teral Nucle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4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eives input to mediate visceral and cranial nerve reflex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jects to parasagittal medial nucle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dunculopontine 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1">
            <a:lum contrast="6000"/>
          </a:blip>
          <a:srcRect l="50003" t="0" r="0" b="0"/>
          <a:stretch/>
        </p:blipFill>
        <p:spPr>
          <a:xfrm>
            <a:off x="4267080" y="1828800"/>
            <a:ext cx="4876920" cy="434016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etylcholine projecting cel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cending projection to inferior frontal cortex/intralaminar 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put from basal ganglia output nucle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jects to brainstem motor nuclei (VST, RS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edunculopontine Nucleu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allenberg’s Syndrom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>
            <a:lum contrast="30000"/>
          </a:blip>
          <a:srcRect l="0" t="0" r="3633" b="0"/>
          <a:stretch/>
        </p:blipFill>
        <p:spPr>
          <a:xfrm>
            <a:off x="990720" y="2666880"/>
            <a:ext cx="5333760" cy="366084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6248520" y="380988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Times New Roman"/>
              </a:rPr>
              <a:t>Thrombosis of PICA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5486400" y="4190760"/>
            <a:ext cx="990720" cy="75960"/>
          </a:xfrm>
          <a:prstGeom prst="line">
            <a:avLst/>
          </a:prstGeom>
          <a:ln w="5724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181480" y="2514600"/>
            <a:ext cx="259092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Times New Roman"/>
              </a:rPr>
              <a:t>Lateral 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Times New Roman"/>
              </a:rPr>
              <a:t>medullary 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Times New Roman"/>
              </a:rPr>
              <a:t>syndrome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" descr=""/>
          <p:cNvPicPr/>
          <p:nvPr/>
        </p:nvPicPr>
        <p:blipFill>
          <a:blip r:embed="rId1"/>
          <a:srcRect l="0" t="0" r="3882" b="0"/>
          <a:stretch/>
        </p:blipFill>
        <p:spPr>
          <a:xfrm>
            <a:off x="4419720" y="1828800"/>
            <a:ext cx="4343400" cy="306540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allenberg’s Syndrom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48765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s involved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. Cerebellar peduncle (ipsilateral atax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V tract &amp; nucleus (ipsilateral loss pain &amp; temperat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rolateral system (contralateral loss of body pain &amp; temperat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. ambiguus (dysphagia &amp; dysphon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stibular n. (nystagmus and postural instabil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2514600" y="3124080"/>
            <a:ext cx="1577880" cy="274320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914400" y="1752480"/>
            <a:ext cx="1600200" cy="1828800"/>
          </a:xfrm>
          <a:prstGeom prst="cloudCallout">
            <a:avLst>
              <a:gd name="adj1" fmla="val 62300"/>
              <a:gd name="adj2" fmla="val 50782"/>
            </a:avLst>
          </a:prstGeom>
          <a:noFill/>
          <a:ln w="572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92880" y="2438280"/>
            <a:ext cx="122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66"/>
                </a:solidFill>
                <a:latin typeface="Arial"/>
              </a:rPr>
              <a:t>Well…</a:t>
            </a:r>
            <a:endParaRPr b="0" lang="en-US" sz="2800" spc="-1" strike="noStrike">
              <a:solidFill>
                <a:srgbClr val="336666"/>
              </a:solidFill>
              <a:latin typeface="Times New Roman"/>
            </a:endParaRPr>
          </a:p>
        </p:txBody>
      </p:sp>
      <p:pic>
        <p:nvPicPr>
          <p:cNvPr id="321" name="" descr="Spinal Cord Brainstem Interactive Atla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038480" y="1905120"/>
            <a:ext cx="433404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evelopmental Organiza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600200" y="2362320"/>
            <a:ext cx="5864400" cy="4292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676520" y="3276720"/>
            <a:ext cx="2133360" cy="152280"/>
          </a:xfrm>
          <a:prstGeom prst="line">
            <a:avLst/>
          </a:prstGeom>
          <a:ln w="381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21520" y="2479680"/>
            <a:ext cx="126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Times New Roman"/>
              </a:rPr>
              <a:t>Sulcus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Times New Roman"/>
              </a:rPr>
              <a:t>Limitans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evelopmental Organiza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3569" t="0" r="1784" b="39275"/>
          <a:stretch/>
        </p:blipFill>
        <p:spPr>
          <a:xfrm>
            <a:off x="914400" y="2590920"/>
            <a:ext cx="4038480" cy="3581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rcRect l="5580" t="61183" r="8581" b="0"/>
          <a:stretch/>
        </p:blipFill>
        <p:spPr>
          <a:xfrm>
            <a:off x="5029200" y="3352680"/>
            <a:ext cx="3809880" cy="23814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927400" y="5832360"/>
            <a:ext cx="2586960" cy="82548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66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Times New Roman"/>
              </a:rPr>
              <a:t>From Pritchard &amp;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Times New Roman"/>
              </a:rPr>
              <a:t>Alloway: Fig. 4-1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121280" y="990720"/>
            <a:ext cx="5022720" cy="54100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rcRect l="0" t="0" r="24428" b="0"/>
          <a:stretch/>
        </p:blipFill>
        <p:spPr>
          <a:xfrm>
            <a:off x="782640" y="1295280"/>
            <a:ext cx="3365640" cy="46483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429000" y="2590920"/>
            <a:ext cx="914400" cy="28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ranial Nerve Nuclei Organiza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95800" y="1905120"/>
            <a:ext cx="343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dial to sulcus limitan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V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teral from sulcus limit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S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6172200"/>
            <a:ext cx="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87240" y="2362320"/>
            <a:ext cx="7842240" cy="4497840"/>
            <a:chOff x="687240" y="2362320"/>
            <a:chExt cx="7842240" cy="4497840"/>
          </a:xfrm>
        </p:grpSpPr>
        <p:grpSp>
          <p:nvGrpSpPr>
            <p:cNvPr id="113" name=""/>
            <p:cNvGrpSpPr/>
            <p:nvPr/>
          </p:nvGrpSpPr>
          <p:grpSpPr>
            <a:xfrm>
              <a:off x="1066680" y="2362320"/>
              <a:ext cx="7462800" cy="4025880"/>
              <a:chOff x="1066680" y="2362320"/>
              <a:chExt cx="7462800" cy="4025880"/>
            </a:xfrm>
          </p:grpSpPr>
          <p:pic>
            <p:nvPicPr>
              <p:cNvPr id="11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066680" y="2362320"/>
                <a:ext cx="3924000" cy="3733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" name=""/>
              <p:cNvSpPr/>
              <p:nvPr/>
            </p:nvSpPr>
            <p:spPr>
              <a:xfrm>
                <a:off x="5942520" y="5562720"/>
                <a:ext cx="2586960" cy="825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  <a:effectLst>
                <a:outerShdw dist="107932" dir="2700000" blurRad="0" rotWithShape="0">
                  <a:srgbClr val="66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6666"/>
                    </a:solidFill>
                    <a:latin typeface="Times New Roman"/>
                  </a:rPr>
                  <a:t>From Pritchard &amp;</a:t>
                </a:r>
                <a:endParaRPr b="0" lang="en-US" sz="2400" spc="-1" strike="noStrike">
                  <a:solidFill>
                    <a:srgbClr val="3366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6666"/>
                    </a:solidFill>
                    <a:latin typeface="Times New Roman"/>
                  </a:rPr>
                  <a:t>Alloway: Fig. 4-4</a:t>
                </a:r>
                <a:endParaRPr b="0" lang="en-US" sz="2400" spc="-1" strike="noStrike">
                  <a:solidFill>
                    <a:srgbClr val="336666"/>
                  </a:solidFill>
                  <a:latin typeface="Times New Roman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687240" y="5638680"/>
              <a:ext cx="4932000" cy="1221480"/>
              <a:chOff x="687240" y="5638680"/>
              <a:chExt cx="4932000" cy="1221480"/>
            </a:xfrm>
          </p:grpSpPr>
          <p:grpSp>
            <p:nvGrpSpPr>
              <p:cNvPr id="117" name=""/>
              <p:cNvGrpSpPr/>
              <p:nvPr/>
            </p:nvGrpSpPr>
            <p:grpSpPr>
              <a:xfrm>
                <a:off x="687240" y="5638680"/>
                <a:ext cx="4932000" cy="1221480"/>
                <a:chOff x="687240" y="5638680"/>
                <a:chExt cx="4932000" cy="1221480"/>
              </a:xfrm>
            </p:grpSpPr>
            <p:grpSp>
              <p:nvGrpSpPr>
                <p:cNvPr id="118" name=""/>
                <p:cNvGrpSpPr/>
                <p:nvPr/>
              </p:nvGrpSpPr>
              <p:grpSpPr>
                <a:xfrm>
                  <a:off x="687240" y="5638680"/>
                  <a:ext cx="4932000" cy="1221480"/>
                  <a:chOff x="687240" y="5638680"/>
                  <a:chExt cx="4932000" cy="1221480"/>
                </a:xfrm>
              </p:grpSpPr>
              <p:grpSp>
                <p:nvGrpSpPr>
                  <p:cNvPr id="119" name=""/>
                  <p:cNvGrpSpPr/>
                  <p:nvPr/>
                </p:nvGrpSpPr>
                <p:grpSpPr>
                  <a:xfrm>
                    <a:off x="990360" y="5638680"/>
                    <a:ext cx="4628880" cy="1067040"/>
                    <a:chOff x="990360" y="5638680"/>
                    <a:chExt cx="4628880" cy="1067040"/>
                  </a:xfrm>
                </p:grpSpPr>
                <p:pic>
                  <p:nvPicPr>
                    <p:cNvPr id="120" name="" descr=""/>
                    <p:cNvPicPr/>
                    <p:nvPr/>
                  </p:nvPicPr>
                  <p:blipFill>
                    <a:blip r:embed="rId2"/>
                    <a:srcRect l="0" t="11402" r="0" b="42991"/>
                    <a:stretch/>
                  </p:blipFill>
                  <p:spPr>
                    <a:xfrm>
                      <a:off x="990360" y="6095880"/>
                      <a:ext cx="4628880" cy="60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1828080" y="5638680"/>
                      <a:ext cx="2819160" cy="4572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2" name=""/>
                  <p:cNvSpPr/>
                  <p:nvPr/>
                </p:nvSpPr>
                <p:spPr>
                  <a:xfrm>
                    <a:off x="3276360" y="6172200"/>
                    <a:ext cx="380520" cy="380880"/>
                  </a:xfrm>
                  <a:prstGeom prst="rect">
                    <a:avLst/>
                  </a:prstGeom>
                  <a:solidFill>
                    <a:srgbClr val="99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3366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3201840" y="6553080"/>
                    <a:ext cx="5752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336666"/>
                        </a:solidFill>
                        <a:latin typeface="Times New Roman"/>
                      </a:rPr>
                      <a:t>MOT</a:t>
                    </a:r>
                    <a:endParaRPr b="0" lang="en-US" sz="1400" spc="-1" strike="noStrike">
                      <a:solidFill>
                        <a:srgbClr val="3366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>
                    <a:off x="761760" y="6172200"/>
                    <a:ext cx="380520" cy="380880"/>
                  </a:xfrm>
                  <a:prstGeom prst="rect">
                    <a:avLst/>
                  </a:prstGeom>
                  <a:solidFill>
                    <a:srgbClr val="99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3366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>
                    <a:off x="687240" y="6521400"/>
                    <a:ext cx="563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336666"/>
                        </a:solidFill>
                        <a:latin typeface="Times New Roman"/>
                      </a:rPr>
                      <a:t>SEN</a:t>
                    </a:r>
                    <a:endParaRPr b="0" lang="en-US" sz="1600" spc="-1" strike="noStrike">
                      <a:solidFill>
                        <a:srgbClr val="3366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6" name=""/>
                <p:cNvSpPr/>
                <p:nvPr/>
              </p:nvSpPr>
              <p:spPr>
                <a:xfrm>
                  <a:off x="3124080" y="6172200"/>
                  <a:ext cx="0" cy="457200"/>
                </a:xfrm>
                <a:prstGeom prst="line">
                  <a:avLst/>
                </a:prstGeom>
                <a:ln w="76320">
                  <a:solidFill>
                    <a:srgbClr val="336666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1218960" y="6095880"/>
                <a:ext cx="0" cy="533520"/>
              </a:xfrm>
              <a:prstGeom prst="line">
                <a:avLst/>
              </a:prstGeom>
              <a:ln w="9360">
                <a:solidFill>
                  <a:srgbClr val="33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66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733560" y="6095880"/>
                <a:ext cx="0" cy="533520"/>
              </a:xfrm>
              <a:prstGeom prst="line">
                <a:avLst/>
              </a:prstGeom>
              <a:ln w="9360">
                <a:solidFill>
                  <a:srgbClr val="33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66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Generalization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nsory nuclei lateral to sulcus limita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tor nuclei medial to sulcus limita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isceral nuclei are on either side of sulc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nervation of skeletal muscle (GSE &amp; SVE) most med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eral and special visceral afferent nuclei in same colum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ranial Nerves –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elencephalon &amp; Diencephal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3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lfactory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ell (SV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tic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ion (S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7541" r="0" b="0"/>
          <a:stretch/>
        </p:blipFill>
        <p:spPr>
          <a:xfrm>
            <a:off x="5334120" y="2438280"/>
            <a:ext cx="3578040" cy="44197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440" y="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Arial"/>
              </a:rPr>
              <a:t>I, II</a:t>
            </a:r>
            <a:endParaRPr b="0" lang="en-US" sz="32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0T15:44:46Z</dcterms:created>
  <dc:creator>MW</dc:creator>
  <dc:description/>
  <dc:language>en-US</dc:language>
  <cp:lastModifiedBy>mwiegand</cp:lastModifiedBy>
  <dcterms:modified xsi:type="dcterms:W3CDTF">2004-11-04T15:59:04Z</dcterms:modified>
  <cp:revision>29</cp:revision>
  <dc:subject/>
  <dc:title>Brainstem II</dc:title>
</cp:coreProperties>
</file>