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941-B457-4982-A4C6-E7FC1602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AA7-FF32-401E-A961-E5923EF2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5A2-9943-4B74-AE70-A64457B0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55C-7296-4421-AA0C-9A714FFF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7B32-3A48-497C-9067-D6EC5AF5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84C7-0689-4950-8B41-C56FBCD2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4DAB-BA0E-4970-A494-8E1DC233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694B-F9FE-4F20-AD29-F82E9BAA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17CF-EF2A-474C-B2AA-08871B83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88C7-CE9D-4B55-B07A-D2AAF9B6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5FB7-1DF6-4E52-AF8B-DBD9D86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0AB-F6B4-4BBB-8FD5-C8E0D3FE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FB3B-41C2-4F8F-ABFE-28184040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576F-6CBE-419C-A4A9-9BAA4901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17C8-2D95-435E-9BFF-D6DB3450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4769-CF83-45F4-B243-79882ACD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6169-AA81-4056-AE28-31B196D7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F83F7-3F5B-4413-A921-D396B327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FA071-B207-4539-A84A-C5C740A1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4D03D-08E1-446B-947C-CDF37876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2CB15-5230-4189-B7E5-7F5F9C39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AE34C-6504-4731-9460-94F594E7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FF1-DA86-472A-9F11-0A9B9B3A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3774A-90BA-4875-AD8C-57E0CAF7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6233C-6943-4C5D-B17B-0A6DEC92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7CE14-6A81-43D7-8963-57218B26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E48D1-7708-4DFA-8E60-3C510266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CDDA1-F235-4504-9525-CE9F39BE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4668B-8D66-452C-B096-7E201668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BEBCB-30D8-43C3-A83C-9DC7F366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1AF7-74AC-46F9-AF02-3531E1C6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63676-D2BB-47FE-A498-C45AFADF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C2C6-C7CD-4F79-9D3F-560DCBB2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DB3-F0D9-4F37-AA7D-85317ED4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C80D-C5A2-433F-8BDB-381B95E5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B073-75EC-4262-AAC8-BF29E840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6AC4F-CCE2-4B03-852A-17B2683F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83881-1835-45EF-9970-819EC81E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BDC97-5327-4107-97B5-A6C35F6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9B8E-0E6A-4B89-91EA-182442A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7BC0-A394-4B4B-B75F-49587E11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23C2-FCFB-4793-AC0A-DCE01319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591B3-4ADE-4DB4-8605-89F83665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0B3-81AD-49D0-8A0C-2E579A96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EFD-B00D-4DFB-931D-AC42E05D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34E-E46D-4379-A3E3-E2E9E97E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658-BCEE-41DB-966F-1D825EA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A9F-E122-4F3C-9F7F-725EFEB2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D525-65AA-4469-A5F0-3A42ECA02DC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AE01-11B5-4AA8-8A5E-9D09A5EF7B1E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1570-9CE0-416F-91F5-98FBBA6CE10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737B-6AF7-4359-A119-B32D211C429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Tahoma"/>
              </a:rPr>
              <a:t>برنامج الهيدستارت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800" spc="-1" strike="noStrike">
              <a:solidFill>
                <a:srgbClr val="424242"/>
              </a:solidFill>
              <a:latin typeface="Century Gothic"/>
              <a:ea typeface="Tahoma"/>
            </a:endParaRPr>
          </a:p>
        </p:txBody>
      </p:sp>
      <p:pic>
        <p:nvPicPr>
          <p:cNvPr id="337" name="صورة 1" descr=""/>
          <p:cNvPicPr/>
          <p:nvPr/>
        </p:nvPicPr>
        <p:blipFill>
          <a:blip r:embed="rId1"/>
          <a:stretch/>
        </p:blipFill>
        <p:spPr>
          <a:xfrm>
            <a:off x="152280" y="1278000"/>
            <a:ext cx="41911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94c600"/>
              </a:solidFill>
              <a:latin typeface="Century Gothic"/>
              <a:ea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وقت الوجبة يعتبر من الاوقات المتشابهة في كل المراكز حيث يركز على الجانب التغذوى و بناء المجتمع و اساليب تناول الطعام المرتبطة بالتقاليد الاسرية و تنمية السلوك المهذ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94c600"/>
              </a:solidFill>
              <a:latin typeface="Century Gothic"/>
              <a:ea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الاشتراك في محادثات هادئة و مهذبة كالسؤال حول الكيفية التى امضوا بها عطلة نهاية الاسبوع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بعد الانتهاء من تناول الطعام فان الاطفال يبدأون في التنظيف – و الترتيب للادوات كل في مكانه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لي ذلك وقت الدائرة ثم وقت الاختيارات الحرة في الاركان لنصف اليوم الباقي في  الاركان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ttps://www.youtube.com/watch?v=DF-NK9jPBto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برنامج الهاى سكوب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0" name="صورة 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46735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5800" y="1371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Tahoma"/>
              </a:rPr>
              <a:t>هذا البرنامج قد طور كمحاولة لترجمة نظرية بياجيه عن النمو الى برنامج تربوى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Tahoma"/>
              </a:rPr>
              <a:t>يركز البرنامج على النمو المعرفى للاطفال و على الاسلوب الذى ينظم به  الاطفال و يفسرون به العلاقات بين الاشياء و الاحداث فى بيئتهم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طريقه تنظيم الفصل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تنظيم الغرفة من الامور الاساسية بحيث يجب ان تحتوى على منطقة مفتوحة مخصصة لعقد لقد لقاءات مع المجموعة و القيام بالالعاب الحركية , و منطقة مخصصة للعمل على اطراف الغرفة ( منطقة للفن , ركن المكعبات ,الركن الهادىء 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البرنامج اليومي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5" name="عنصر نائب للمحتوى 3" descr=""/>
          <p:cNvPicPr/>
          <p:nvPr/>
        </p:nvPicPr>
        <p:blipFill>
          <a:blip r:embed="rId1"/>
          <a:stretch/>
        </p:blipFill>
        <p:spPr>
          <a:xfrm>
            <a:off x="1042920" y="2322360"/>
            <a:ext cx="67788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تابع الهاى سكوب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e3d2d"/>
                </a:solidFill>
                <a:latin typeface="Century Gothic"/>
                <a:cs typeface="Tahoma"/>
              </a:rPr>
              <a:t>تعتبر جهود الاطفال فى عملية التخطيط ذات اهمية محورية فى المنهج الذى ينتمى لبرامج الهاى سكوب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e3d2d"/>
                </a:solidFill>
                <a:latin typeface="Century Gothic"/>
                <a:cs typeface="Tahoma"/>
              </a:rPr>
              <a:t>يخطط الاطفال بمعاونة المشرفين عليهم لانشطتهم كل يوم من خلال وضع الرمز الخاص بهم على لوحة مخصصة لهذا الغرض بجانب كل ركن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e3d2d"/>
                </a:solidFill>
                <a:latin typeface="Century Gothic"/>
                <a:cs typeface="Tahoma"/>
              </a:rPr>
              <a:t>عند انتقال الاطفال من ركن لآخر اثناء فترة العمل يأخذون رموزهم معهم و يضعونها على لوحة التخطيط فى المنطقة الجديدة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e3d2d"/>
                </a:solidFill>
                <a:latin typeface="Century Gothic"/>
                <a:cs typeface="Tahoma"/>
              </a:rPr>
              <a:t>خلال فترة الاستدعاء او المراجعة و الوجبة و وقت المجموعات الصغيرة يلتقى الاطفال فى مجموعات صغيرة مع مشرفيهم للتذكر و مشاركتهم فيما قاموا به من اعمال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تابع الهاى سكوب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بعد الوجبة عادة ما يعمل الاطفال باستخدام خامات من اختيار المشرف لكى يسمح ذلك للمشرف بملاحظة افعال الاطفال و حركاتهم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مايتم تعلمه في الهاي سكوب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ركز برنامج الهاى سكوب على : التعلم النشط – اللغة – الدخول فى الخبرات – التمثيل العقلى – التصنيف – التسلسل – العدد – العلاقات المكانية – الوقت 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بر نامج الهيد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بدأ هذا البرنامج في عهد الرئيس الامريكي الاسبق جون كينيدي في اطار حملته لمكافحة الفقر و تحسين اوضاع الفقراء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تابع الرئيس ليندون جونسون البرنامج من بعده و اسماه ” الحرب علي الفقر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هدف البرنامج الي امداد الاطفال في مرحلة ما قبل المدرسة ببعض المميزات المتوفرة لدى اطفال الطبقة الوسطى ( مثل : مراكز الرعاية النهارية – الرعاية الطبية – رعاية الاسنان – اشراك الوالدين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s://www.youtube.com/watch?v=PJ3TWHvLMv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تابع الهيد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 algn="r" rtl="1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في عام 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ea typeface="Tahoma"/>
              </a:rPr>
              <a:t>1965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ادرج خمسة ملايين و نصف طفل في هذا البرنامج و في الاعوام التالية تزايدت الاعداد المدرجة به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 algn="r" rtl="1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في عام 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ea typeface="Tahoma"/>
              </a:rPr>
              <a:t>1969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ea typeface="Tahoma"/>
              </a:rPr>
              <a:t> تم تقييم تأثير البرنامج علي التحصيل المدرسي للتلاميذ و لكن كانت النتائج مخيبة للآمال , فعلي الرغم من النتائج الايجابية علي الصعيد المعرفي و الشخصي خلال فترة التطبيق الا انه لمم تتم ملاحظة اى نمو لاحق في السنوات التالية من التعليم الابتدائى , و لذلك خفت حماس الرؤساء التالين لهذا المشروع و تضاءل الدعم المادى له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تابع الهيد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في السنوات التالية و من خلال تتابع الدراسات لتأثيرات هذا البرنامج اتضح ان البرنامج كان اكثر نجاحا مما اشارت اليه الدراسة الاولي , و من ثم بدأ يتذبذب الدعم المالي له , حتى اتت دراسة طولية للاطفال المدرجين بالبرنامج حتي وصولهم الي مرحلة الرشد ( كانوا 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ea typeface="Tahoma"/>
              </a:rPr>
              <a:t>123</a:t>
            </a:r>
            <a:r>
              <a:rPr b="0" lang="ar-SA" sz="2200" spc="-1" strike="noStrike">
                <a:solidFill>
                  <a:srgbClr val="3e3d2d"/>
                </a:solidFill>
                <a:latin typeface="Century Gothic"/>
                <a:cs typeface="Tahoma"/>
              </a:rPr>
              <a:t>طفلا من مدرسة بيري بولاية ميشيجان ), حيث اوضحت نتائجها ان الاطفال بعد تخرجهم كانوا اكثر من نظرائهم الذين لم يلتحقوا بالبرنامج او برياض الاطفال عموما , كانوا اكثر منهم من حيث الوصول لمستويات اعلي من التعليم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94c600"/>
              </a:solidFill>
              <a:latin typeface="Century Gothic"/>
              <a:ea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كما انهم كانوا اقل احتياجا للخدمات الاجتماعية – اضافة الى انهم لم يعانوا من مشكلات قانونية او وقعوا فريسة الجنوح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تزايد الوعي الجماهيرى للبرنامج وو عي الساسة ايضا مما نتج عنه تزايد الدعم المالي له و للبرامج العديدة المنبثقة عنه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النموذج الاصلي للبرنامج هو الاكثر انتشارا و لكن هناك عدة نماذج انبثقت عنه تتضم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نموذج هيدستارت المبكر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90720" y="15235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اهتم بالنمو الصحي في السنوات الثلاث الاولي من العمر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هدف الي تعزيز النم المعرفي و الاجتماعي و الانفعالي و الجسمانى للاطفال حديثي الولادة و حتي وصولهم عمر الثالث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هتم بمعاونة الوالدين علي ان يصبحوا معلمين افضل لابنائهم الرضع و الدارجين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هدف لمعاونة الوالدين علي تحقيق اهدافهم في الحياة كالاستقلال المادى و الاقتصاد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نموذج هوم 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وفر الاساس المنزلي للتربية و الصحة – الخدمات الصحية للمناطق الريفي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تعمل المعلمة مع الوالدين في المنزل و الاطفال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قد يشترك الاطفال في الهوم ستارت تحت سن ثلاث سنوات و فيما بعد يلحقون بروضة تطبق برنامج الهيدستارت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Tahoma"/>
              </a:rPr>
              <a:t>نموذج الايفين ستارت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عمل علي التوحيد ما بين التربية في الطفولة المبكرة و التربية الاساسية للكبار و البالغين فالي جانب الحاق الاطفال ببرنامج الهيدستارت او المدرسة الابتدائية يتم توفير المعاونة للوالدين في اكتساب نهارات القراءة و التدريب المهني او الدراسة لنيل الدبلومة العام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Tahoma"/>
              </a:rPr>
              <a:t>النظام اليومى لبرنامج الهيدستارت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تم تقسيم الاطفال الي مجموعتين كل منهما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10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 اطفال من عمر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4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Tahoma"/>
              </a:rPr>
              <a:t> سنوات احدهما للمشروع الخاص و الاخرى لتناول الوجبة مع المعلم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مكن لبعض المعلمين تقسيم الاطفال الي مجموعات اصغر حسب الحاجة ( زراعة حبوب – العمل في المشروع الفنى – العمل في درس خاص بتنمية مهارات العد من خلال لعبة 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Tahoma"/>
              </a:rPr>
              <a:t>يمكن لمنهج الهيدستارت الاكاديمى ان يتنوع بدرجة كبيرة بين المراكز و بعضها البعض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8:34:17Z</dcterms:created>
  <dc:creator>user</dc:creator>
  <dc:description/>
  <dc:language>en-US</dc:language>
  <cp:lastModifiedBy>Areej Alhwaidi</cp:lastModifiedBy>
  <dcterms:modified xsi:type="dcterms:W3CDTF">2016-11-03T05:46:48Z</dcterms:modified>
  <cp:revision>18</cp:revision>
  <dc:subject/>
  <dc:title>برنامج الهيدستارت </dc:title>
</cp:coreProperties>
</file>