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E50-3A42-483B-840B-6E5D22C7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675-AA76-4E13-BD34-B399F7D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906-F1FD-4F12-B148-0A61CAC2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A97-EF1B-4DFB-8BAE-736FF2D4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CA1E-A320-4267-819D-6683BF33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A8DC-FBA5-4367-9A4F-979693C2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CB53-CB80-4A68-BE8D-215CDDBE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9280-2213-4A31-98CD-D8D2FB4A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BC37-720F-4F28-97E0-9F20D5CC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9ABA-CE3D-460C-9026-EEC770C7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15E1-EA6C-4035-82F8-00D8C03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904-19D8-4479-BE0E-9E6F75DB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7A1E-259C-4D46-B481-C3F2D7E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192A-14EC-4483-B8C6-2900657A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5CF8-0E22-49C3-BB3F-70638A8C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11BF-BE0C-48B3-B340-3EBD2218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CAA5-D794-4C5E-8A2D-F3B462E5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68934-001B-420E-8088-172C8D80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AC40C-A72A-40EF-B05A-E8A52E1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DE3DD-21B8-49E5-8FB5-4D5C4A89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ADBD4-BD72-498E-B201-B292C45D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873A0-64AC-4921-A6D5-FD9F452F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78A-306B-4D15-94F0-55F5C7BE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7006B-D940-4DB0-A792-D06EEB37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9F8E2-A751-43F8-A31D-0CD00116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7FE52-EB6A-41BA-B027-5CC69EC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EF42E-948E-43EA-B269-6295B45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1513F-EC6A-4C6A-A109-F6F79AB4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64543-DE4D-4D66-8C8B-5BB4BD45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777D6-7B99-4578-982A-829810D0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7C0F-A1DA-4E6A-B5E2-92D97CBA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6EC78-BE24-4360-A2EC-E2A4439A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960D-A9A5-4C00-8145-F023E6E8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3E9-C6EC-4E73-A391-5DDEFD05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D8BF-6E74-489F-B42C-59774800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6D851-0094-43B6-90E2-2E5AC1DB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B6B3-F1CD-4B11-8E90-A0F9FAA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45868-B69C-4E6A-B73C-43CC8F3E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A778-6091-4E76-9E27-5D30DAC2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3605-F262-4AAD-B7AA-D0F6BF2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809FF-6C6A-4F1D-BD56-CE467918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3F74A-7890-404A-94A3-CC3481FA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294F3-60E3-4B18-B869-1C204D48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046-7B82-4D80-AB19-7FCB65B9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AD6-CAB0-48E9-B850-7CBFA916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BCA-D49E-4A44-ACC7-4B08D45D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9AF-9043-4118-81ED-C9595DF7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4CA-33FD-4559-9B90-A39AD12E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D7A8-7F82-4023-BEF7-DCF324D6202D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C742-B6B2-4A26-86E0-9188A8249FC0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D9A4-EA6F-4FE4-979D-6F00737E945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BD1C-4EC4-444B-87C5-CA5B692F819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Tahoma"/>
              </a:rPr>
              <a:t>برنامج الهيدستارت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800" spc="-1" strike="noStrike">
              <a:solidFill>
                <a:srgbClr val="424242"/>
              </a:solidFill>
              <a:latin typeface="Century Gothic"/>
              <a:ea typeface="Tahoma"/>
            </a:endParaRPr>
          </a:p>
        </p:txBody>
      </p:sp>
      <p:pic>
        <p:nvPicPr>
          <p:cNvPr id="337" name="صورة 1" descr=""/>
          <p:cNvPicPr/>
          <p:nvPr/>
        </p:nvPicPr>
        <p:blipFill>
          <a:blip r:embed="rId1"/>
          <a:stretch/>
        </p:blipFill>
        <p:spPr>
          <a:xfrm>
            <a:off x="152280" y="1278000"/>
            <a:ext cx="41911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94c600"/>
              </a:solidFill>
              <a:latin typeface="Century Gothic"/>
              <a:ea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وقت الوجبة يعتبر من الاوقات المتشابهة في كل المراكز حيث يركز على الجانب التغذوى و بناء المجتمع و اساليب تناول الطعام المرتبطة بالتقاليد الاسرية و تنمية السلوك المهذ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94c600"/>
              </a:solidFill>
              <a:latin typeface="Century Gothic"/>
              <a:ea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الاشتراك في محادثات هادئة و مهذبة كالسؤال حول الكيفية التى امضوا بها عطلة نهاية الاسبوع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بعد الانتهاء من تناول الطعام فان الاطفال يبدأون في التنظيف – و الترتيب للادوات كل في مكانه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لي ذلك وقت الدائرة ثم وقت الاختيارات الحرة في الاركان لنصف اليوم الباقي في  الاركان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ttps://www.youtube.com/watch?v=DF-NK9jPBto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برنامج الهاى سكوب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0" name="صورة 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46735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800" y="1371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Tahoma"/>
              </a:rPr>
              <a:t>هذا البرنامج قد طور كمحاولة لترجمة نظرية بياجيه عن النمو الى برنامج تربوى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Tahoma"/>
              </a:rPr>
              <a:t>يركز البرنامج على النمو المعرفى للاطفال و على الاسلوب الذى ينظم به  الاطفال و يفسرون به العلاقات بين الاشياء و الاحداث فى بيئتهم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طريقه تنظيم الفصل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تنظيم الغرفة من الامور الاساسية بحيث يجب ان تحتوى على منطقة مفتوحة مخصصة لعقد لقد لقاءات مع المجموعة و القيام بالالعاب الحركية , و منطقة مخصصة للعمل على اطراف الغرفة ( منطقة للفن , ركن المكعبات ,الركن الهادىء 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البرنامج اليومي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5" name="عنصر نائب للمحتوى 3" descr=""/>
          <p:cNvPicPr/>
          <p:nvPr/>
        </p:nvPicPr>
        <p:blipFill>
          <a:blip r:embed="rId1"/>
          <a:stretch/>
        </p:blipFill>
        <p:spPr>
          <a:xfrm>
            <a:off x="1042920" y="2322360"/>
            <a:ext cx="67788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تابع الهاى سكوب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e3d2d"/>
                </a:solidFill>
                <a:latin typeface="Century Gothic"/>
                <a:cs typeface="Tahoma"/>
              </a:rPr>
              <a:t>تعتبر جهود الاطفال فى عملية التخطيط ذات اهمية محورية فى المنهج الذى ينتمى لبرامج الهاى سكوب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e3d2d"/>
                </a:solidFill>
                <a:latin typeface="Century Gothic"/>
                <a:cs typeface="Tahoma"/>
              </a:rPr>
              <a:t>يخطط الاطفال بمعاونة المشرفين عليهم لانشطتهم كل يوم من خلال وضع الرمز الخاص بهم على لوحة مخصصة لهذا الغرض بجانب كل ركن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e3d2d"/>
                </a:solidFill>
                <a:latin typeface="Century Gothic"/>
                <a:cs typeface="Tahoma"/>
              </a:rPr>
              <a:t>عند انتقال الاطفال من ركن لآخر اثناء فترة العمل يأخذون رموزهم معهم و يضعونها على لوحة التخطيط فى المنطقة الجديدة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e3d2d"/>
                </a:solidFill>
                <a:latin typeface="Century Gothic"/>
                <a:cs typeface="Tahoma"/>
              </a:rPr>
              <a:t>خلال فترة الاستدعاء او المراجعة و الوجبة و وقت المجموعات الصغيرة يلتقى الاطفال فى مجموعات صغيرة مع مشرفيهم للتذكر و مشاركتهم فيما قاموا به من اعمال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تابع الهاى سكوب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بعد الوجبة عادة ما يعمل الاطفال باستخدام خامات من اختيار المشرف لكى يسمح ذلك للمشرف بملاحظة افعال الاطفال و حركاتهم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مايتم تعلمه في الهاي سكوب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ركز برنامج الهاى سكوب على : التعلم النشط – اللغة – الدخول فى الخبرات – التمثيل العقلى – التصنيف – التسلسل – العدد – العلاقات المكانية – الوقت 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بر نامج الهيد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بدأ هذا البرنامج في عهد الرئيس الامريكي الاسبق جون كينيدي في اطار حملته لمكافحة الفقر و تحسين اوضاع الفقراء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تابع الرئيس ليندون جونسون البرنامج من بعده و اسماه ” الحرب علي الفقر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هدف البرنامج الي امداد الاطفال في مرحلة ما قبل المدرسة ببعض المميزات المتوفرة لدى اطفال الطبقة الوسطى ( مثل : مراكز الرعاية النهارية – الرعاية الطبية – رعاية الاسنان – اشراك الوالدين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s://www.youtube.com/watch?v=PJ3TWHvLMv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تابع الهيد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 algn="r" rtl="1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في عام 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ea typeface="Tahoma"/>
              </a:rPr>
              <a:t>1965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ادرج خمسة ملايين و نصف طفل في هذا البرنامج و في الاعوام التالية تزايدت الاعداد المدرجة به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 algn="r" rtl="1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في عام 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ea typeface="Tahoma"/>
              </a:rPr>
              <a:t>1969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ea typeface="Tahoma"/>
              </a:rPr>
              <a:t> تم تقييم تأثير البرنامج علي التحصيل المدرسي للتلاميذ و لكن كانت النتائج مخيبة للآمال , فعلي الرغم من النتائج الايجابية علي الصعيد المعرفي و الشخصي خلال فترة التطبيق الا انه لمم تتم ملاحظة اى نمو لاحق في السنوات التالية من التعليم الابتدائى , و لذلك خفت حماس الرؤساء التالين لهذا المشروع و تضاءل الدعم المادى له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تابع الهيد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في السنوات التالية و من خلال تتابع الدراسات لتأثيرات هذا البرنامج اتضح ان البرنامج كان اكثر نجاحا مما اشارت اليه الدراسة الاولي , و من ثم بدأ يتذبذب الدعم المالي له , حتى اتت دراسة طولية للاطفال المدرجين بالبرنامج حتي وصولهم الي مرحلة الرشد ( كانوا 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ea typeface="Tahoma"/>
              </a:rPr>
              <a:t>123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طفلا من مدرسة بيري بولاية ميشيجان ), حيث اوضحت نتائجها ان الاطفال بعد تخرجهم كانوا اكثر من نظرائهم الذين لم يلتحقوا بالبرنامج او برياض الاطفال عموما , كانوا اكثر منهم من حيث الوصول لمستويات اعلي من التعليم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94c600"/>
              </a:solidFill>
              <a:latin typeface="Century Gothic"/>
              <a:ea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كما انهم كانوا اقل احتياجا للخدمات الاجتماعية – اضافة الى انهم لم يعانوا من مشكلات قانونية او وقعوا فريسة الجنوح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تزايد الوعي الجماهيرى للبرنامج وو عي الساسة ايضا مما نتج عنه تزايد الدعم المالي له و للبرامج العديدة المنبثقة عنه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النموذج الاصلي للبرنامج هو الاكثر انتشارا و لكن هناك عدة نماذج انبثقت عنه تتضم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نموذج هيدستارت المبكر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90720" y="15235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اهتم بالنمو الصحي في السنوات الثلاث الاولي من العمر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هدف الي تعزيز النم المعرفي و الاجتماعي و الانفعالي و الجسمانى للاطفال حديثي الولادة و حتي وصولهم عمر الثالث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هتم بمعاونة الوالدين علي ان يصبحوا معلمين افضل لابنائهم الرضع و الدارجين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هدف لمعاونة الوالدين علي تحقيق اهدافهم في الحياة كالاستقلال المادى و الاقتصاد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نموذج هوم 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وفر الاساس المنزلي للتربية و الصحة – الخدمات الصحية للمناطق الريفي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تعمل المعلمة مع الوالدين في المنزل و الاطفال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قد يشترك الاطفال في الهوم ستارت تحت سن ثلاث سنوات و فيما بعد يلحقون بروضة تطبق برنامج الهيدستارت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نموذج الايفين 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عمل علي التوحيد ما بين التربية في الطفولة المبكرة و التربية الاساسية للكبار و البالغين فالي جانب الحاق الاطفال ببرنامج الهيدستارت او المدرسة الابتدائية يتم توفير المعاونة للوالدين في اكتساب نهارات القراءة و التدريب المهني او الدراسة لنيل الدبلومة العام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Tahoma"/>
              </a:rPr>
              <a:t>النظام اليومى لبرنامج الهيدستارت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تم تقسيم الاطفال الي مجموعتين كل منهما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10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 اطفال من عمر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4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 سنوات احدهما للمشروع الخاص و الاخرى لتناول الوجبة مع المعلم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مكن لبعض المعلمين تقسيم الاطفال الي مجموعات اصغر حسب الحاجة ( زراعة حبوب – العمل في المشروع الفنى – العمل في درس خاص بتنمية مهارات العد من خلال لعبة 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مكن لمنهج الهيدستارت الاكاديمى ان يتنوع بدرجة كبيرة بين المراكز و بعضها البعض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34:17Z</dcterms:created>
  <dc:creator>user</dc:creator>
  <dc:description/>
  <dc:language>en-US</dc:language>
  <cp:lastModifiedBy>Areej Alhwaidi</cp:lastModifiedBy>
  <dcterms:modified xsi:type="dcterms:W3CDTF">2016-11-03T05:46:48Z</dcterms:modified>
  <cp:revision>18</cp:revision>
  <dc:subject/>
  <dc:title>برنامج الهيدستارت </dc:title>
</cp:coreProperties>
</file>