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013C5-436B-44CC-9D47-6BCDA450F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133CE-0C0A-41B8-881D-C3B3A8F2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A0EBE-63EA-4F61-9B11-6931B97F0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72AE6-8921-41F3-8372-AB26489DD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B8743-5602-481F-8925-60CCA88B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CEBE6-EC36-4A71-8728-9073E96F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ED2B-5B5E-4E6E-B8B1-979B3A760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43FB-BDB8-4121-B715-4B4974AA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76E88-D3F0-4922-93C8-303CBAA2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1E0BF-7617-4A0E-B99D-60DC311E9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7C30A-D430-437D-9BB6-0F94D0B4E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510C-D15B-450B-8AB9-AD0E2CFD8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AEE6-322A-40DB-9372-E0CC1AAB8E6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3933360"/>
            <a:ext cx="7489800" cy="1752840"/>
          </a:xfrm>
          <a:prstGeom prst="rect">
            <a:avLst/>
          </a:prstGeom>
          <a:noFill/>
          <a:ln w="57240">
            <a:solidFill>
              <a:srgbClr val="c00000"/>
            </a:solidFill>
            <a:miter/>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النظريات الوصفية في الذكاء(</a:t>
            </a:r>
            <a:r>
              <a:rPr b="1" lang="ar-SA" sz="2800" spc="-1" strike="noStrike">
                <a:solidFill>
                  <a:srgbClr val="009900"/>
                </a:solidFill>
                <a:latin typeface="Traditional Arabic"/>
                <a:ea typeface="Traditional Arabic"/>
              </a:rPr>
              <a:t>1</a:t>
            </a:r>
            <a:r>
              <a:rPr b="1" lang="ar-SA" sz="2800" spc="-1" strike="noStrike">
                <a:solidFill>
                  <a:srgbClr val="009900"/>
                </a:solidFill>
                <a:latin typeface="Traditional Arabic"/>
                <a:ea typeface="Traditional Arabic"/>
              </a:rPr>
              <a:t>) جان بياجيه</a:t>
            </a:r>
            <a:endParaRPr b="0" lang="en-US" sz="2800" spc="-1" strike="noStrike">
              <a:solidFill>
                <a:srgbClr val="000000"/>
              </a:solidFill>
              <a:latin typeface="Calibri"/>
            </a:endParaRPr>
          </a:p>
        </p:txBody>
      </p:sp>
      <p:pic>
        <p:nvPicPr>
          <p:cNvPr id="42" name="il_fi" descr="http://www.aldosry.net/upload/ksuBlueLogo.jpg"/>
          <p:cNvPicPr/>
          <p:nvPr/>
        </p:nvPicPr>
        <p:blipFill>
          <a:blip r:embed="rId1"/>
          <a:stretch/>
        </p:blipFill>
        <p:spPr>
          <a:xfrm>
            <a:off x="0" y="0"/>
            <a:ext cx="1785960" cy="1785960"/>
          </a:xfrm>
          <a:prstGeom prst="rect">
            <a:avLst/>
          </a:prstGeom>
          <a:ln w="0">
            <a:noFill/>
          </a:ln>
        </p:spPr>
      </p:pic>
      <p:sp>
        <p:nvSpPr>
          <p:cNvPr id="43" name="Text Box 3"/>
          <p:cNvSpPr/>
          <p:nvPr/>
        </p:nvSpPr>
        <p:spPr>
          <a:xfrm>
            <a:off x="6972480" y="1440"/>
            <a:ext cx="2171520" cy="1257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المملكة العربية السعود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وزارة التعليم العالي</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جامعة الملك سعود</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كلية التربي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raditional Arabic"/>
                <a:cs typeface="Traditional Arabic"/>
              </a:rPr>
              <a:t>قسم التربية الخاصة</a:t>
            </a:r>
            <a:r>
              <a:rPr b="1" lang="en-US" sz="1600" spc="-1" strike="noStrike">
                <a:solidFill>
                  <a:srgbClr val="000000"/>
                </a:solidFill>
                <a:latin typeface="Traditional Arabic"/>
                <a:ea typeface="Traditional Arabic"/>
              </a:rPr>
              <a:t> </a:t>
            </a:r>
            <a:endParaRPr b="0" lang="en-US" sz="1600" spc="-1" strike="noStrike">
              <a:solidFill>
                <a:srgbClr val="000000"/>
              </a:solidFill>
              <a:latin typeface="Arial"/>
            </a:endParaRPr>
          </a:p>
        </p:txBody>
      </p:sp>
      <p:cxnSp>
        <p:nvCxnSpPr>
          <p:cNvPr id="44" name="AutoShape 6"/>
          <p:cNvCxnSpPr/>
          <p:nvPr/>
        </p:nvCxnSpPr>
        <p:spPr>
          <a:xfrm flipH="1">
            <a:off x="-360" y="1844280"/>
            <a:ext cx="9144720" cy="1080"/>
          </a:xfrm>
          <a:prstGeom prst="straightConnector1">
            <a:avLst/>
          </a:prstGeom>
          <a:ln w="31680">
            <a:solidFill>
              <a:srgbClr val="000000"/>
            </a:solidFill>
            <a:miter/>
          </a:ln>
        </p:spPr>
      </p:cxnSp>
      <p:sp>
        <p:nvSpPr>
          <p:cNvPr id="45" name="Rectangle 8"/>
          <p:cNvSpPr/>
          <p:nvPr/>
        </p:nvSpPr>
        <p:spPr>
          <a:xfrm>
            <a:off x="1187280" y="2421000"/>
            <a:ext cx="6337440" cy="11523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aditional Arabic"/>
                <a:cs typeface="Traditional Arabic"/>
              </a:rPr>
              <a:t>المحاضرة السابعة</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قدرات العقلية ونظريات التكوين العقلي (</a:t>
            </a:r>
            <a:r>
              <a:rPr b="1" lang="ar-SA" sz="2400" spc="-1" strike="noStrike">
                <a:solidFill>
                  <a:srgbClr val="000000"/>
                </a:solidFill>
                <a:latin typeface="Traditional Arabic"/>
                <a:ea typeface="Traditional Arabic"/>
              </a:rPr>
              <a:t>265</a:t>
            </a:r>
            <a:r>
              <a:rPr b="1" lang="ar-SA" sz="2400" spc="-1" strike="noStrike">
                <a:solidFill>
                  <a:srgbClr val="000000"/>
                </a:solidFill>
                <a:latin typeface="Traditional Arabic"/>
                <a:ea typeface="Traditional Arabic"/>
              </a:rPr>
              <a:t>) خاص</a:t>
            </a:r>
            <a:r>
              <a:rPr b="1" lang="ar-SA"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endParaRPr b="0" lang="en-US" sz="2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ea typeface="Traditional Arabic"/>
              </a:rPr>
              <a:t> </a:t>
            </a:r>
            <a:endParaRPr b="0" lang="en-US" sz="2400" spc="-1" strike="noStrike">
              <a:solidFill>
                <a:srgbClr val="000000"/>
              </a:solidFill>
              <a:latin typeface="Arial"/>
            </a:endParaRPr>
          </a:p>
        </p:txBody>
      </p:sp>
      <p:pic>
        <p:nvPicPr>
          <p:cNvPr id="46" name="Picture 1" descr="931959518230.jpg"/>
          <p:cNvPicPr/>
          <p:nvPr/>
        </p:nvPicPr>
        <p:blipFill>
          <a:blip r:embed="rId2"/>
          <a:stretch/>
        </p:blipFill>
        <p:spPr>
          <a:xfrm rot="20791200">
            <a:off x="923400" y="4017600"/>
            <a:ext cx="70668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لثًا: الأبنية العقلية والصور الإجمال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إذا كان التنظيم والتكيف من الثوابت الوظيفية، التي تحكم تفاعل الفرد مع البيئة طوال حياته، </a:t>
            </a:r>
            <a:r>
              <a:rPr b="0" lang="ar-SA" sz="2800" spc="-1" strike="noStrike">
                <a:solidFill>
                  <a:srgbClr val="c00000"/>
                </a:solidFill>
                <a:latin typeface="Traditional Arabic"/>
                <a:cs typeface="Traditional Arabic"/>
              </a:rPr>
              <a:t>فان الأبنية (التراكيب العقلية) والصور الإجمالية تتغير من مرحلة لأخرى ، </a:t>
            </a:r>
            <a:r>
              <a:rPr b="0" lang="ar-SA" sz="2800" spc="-1" strike="noStrike">
                <a:solidFill>
                  <a:srgbClr val="000000"/>
                </a:solidFill>
                <a:latin typeface="Traditional Arabic"/>
                <a:cs typeface="Traditional Arabic"/>
              </a:rPr>
              <a:t>فماذا يعني بياجيه بهذه التغيرات، التي تختلف باختلاف مرحلة النمو العقلي للفرد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شير </a:t>
            </a:r>
            <a:r>
              <a:rPr b="0" lang="ar-SA" sz="2800" spc="-1" strike="noStrike">
                <a:solidFill>
                  <a:srgbClr val="3333cc"/>
                </a:solidFill>
                <a:latin typeface="Traditional Arabic"/>
                <a:cs typeface="Traditional Arabic"/>
              </a:rPr>
              <a:t>لفظ البنية إلى نمط منظم ترتبط أجزاؤه فيما بينها بعلاقات مكونة كلا واحدا،</a:t>
            </a:r>
            <a:r>
              <a:rPr b="0" lang="ar-SA" sz="2800" spc="-1" strike="noStrike">
                <a:solidFill>
                  <a:srgbClr val="000000"/>
                </a:solidFill>
                <a:latin typeface="Traditional Arabic"/>
                <a:ea typeface="Traditional Arabic"/>
              </a:rPr>
              <a:t> والطريقة التي تتجمع بها الجزيئات مع بعضها تحدد طبيعة البن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ثلاثة نقط حينما توضع في شكل معين تشكل مثلثا، وإذا وضعت بطريقة أخرى، فإنها قد تعطي خطا مستقيم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الأبنية العقلية عبارة عن </a:t>
            </a:r>
            <a:r>
              <a:rPr b="0" lang="ar-SA" sz="2800" spc="-1" strike="noStrike">
                <a:solidFill>
                  <a:srgbClr val="3333cc"/>
                </a:solidFill>
                <a:latin typeface="Traditional Arabic"/>
                <a:cs typeface="Traditional Arabic"/>
              </a:rPr>
              <a:t>تنظيمات تظهر خلال أداء العقل لوظائف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ها وسيلة بين الثوابت الوظيفية والسلوك الذي يقوم به الفرد، وهي نظم دينامية، تحددها قواعد معينة، وتشكل معها نظاما متوازن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وتتغير هذه الأبنية العقلية أثناء النمو الارتقائي للفرد. ومن ثم فان شكل التوازن يختلف من مرحلة لأخرى.</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أولى : المرحلة الحسية الحرك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منذ </a:t>
            </a:r>
            <a:r>
              <a:rPr b="0" lang="ar-SA" sz="2800" spc="-1" strike="noStrike">
                <a:solidFill>
                  <a:srgbClr val="3333cc"/>
                </a:solidFill>
                <a:latin typeface="Traditional Arabic"/>
                <a:cs typeface="Traditional Arabic"/>
              </a:rPr>
              <a:t>ميلاد الطفل حتى سن السنتين تقريباً</a:t>
            </a:r>
            <a:r>
              <a:rPr b="0" lang="ar-SA" sz="2800" spc="-1" strike="noStrike">
                <a:solidFill>
                  <a:srgbClr val="000000"/>
                </a:solidFill>
                <a:latin typeface="Traditional Arabic"/>
                <a:ea typeface="Traditional Arabic"/>
              </a:rPr>
              <a:t>.. ويبدأ الوليد هذه المرحلة عند ميلاده حيث لا توجد لديه أية معرفة بالعالم المحيط به. وكل ما يمتلكه الطفل عند بدايتها مجموعة </a:t>
            </a:r>
            <a:r>
              <a:rPr b="0" lang="ar-SA" sz="2800" spc="-1" strike="noStrike">
                <a:solidFill>
                  <a:srgbClr val="c00000"/>
                </a:solidFill>
                <a:latin typeface="Traditional Arabic"/>
                <a:cs typeface="Traditional Arabic"/>
              </a:rPr>
              <a:t>من أساليب السلوك الفطرية, الانعكاسية أساساً, مثل القبض والمص, وغيرها.</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يبدأ الطفل مع نهاية هذه المرحلة </a:t>
            </a:r>
            <a:r>
              <a:rPr b="0" lang="ar-SA" sz="2800" spc="-1" strike="noStrike">
                <a:solidFill>
                  <a:srgbClr val="3333cc"/>
                </a:solidFill>
                <a:latin typeface="Traditional Arabic"/>
                <a:cs typeface="Traditional Arabic"/>
              </a:rPr>
              <a:t>يتصرف على أساس أن الأشياء موجودة وثابتة بصرف النظر عن إدراكه لها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بينما كان لا يبحث عن اللعبة أذا سقطت منه واختفت في بداية المرحلة, على اعتبار أنها أصبحت غير موجودة, نجده في نهاية هذه المرحلة يبحث عن الأشياء التي اختفت, </a:t>
            </a:r>
            <a:r>
              <a:rPr b="0" lang="ar-SA" sz="2800" spc="-1" strike="noStrike">
                <a:solidFill>
                  <a:srgbClr val="c00000"/>
                </a:solidFill>
                <a:latin typeface="Traditional Arabic"/>
                <a:cs typeface="Traditional Arabic"/>
              </a:rPr>
              <a:t>مما يعنى أنه أصبح يميز بين وجود الشيء الفعلي وبين إدراكه له.</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مرحلة الثانية : مرحلة ما قبل العمليات العقلية "التفكير الرمزي"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تد هذه المرحلة بين سن الثانية والسابعة من العمر تقريب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حوالي سن الثانية تقريباً تبدأ مجموعة من التغيرات الهامة في تفكير الطفل وسلوكه</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يبدأ الطفل يتعلم اللغة, وبظهور التمثيلات الرمزية للأشياء, تبدأ تتكون الأفكار البسيطة والصور الذهنية ويتحول تفكير الطفل تدريجياً من </a:t>
            </a:r>
            <a:r>
              <a:rPr b="0" lang="ar-SA" sz="2800" spc="-1" strike="noStrike">
                <a:solidFill>
                  <a:srgbClr val="c00000"/>
                </a:solidFill>
                <a:latin typeface="Traditional Arabic"/>
                <a:cs typeface="Traditional Arabic"/>
              </a:rPr>
              <a:t>صورته الحركية إلى صورة التفكير الرمز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r>
              <a:rPr b="0" lang="ar-SA" sz="2800" spc="-1" strike="noStrike">
                <a:solidFill>
                  <a:srgbClr val="009900"/>
                </a:solidFill>
                <a:latin typeface="Traditional Arabic"/>
                <a:cs typeface="Traditional Arabic"/>
              </a:rPr>
              <a:t>المرحلة الثالثة: مرحلة العمليات العيانية أو المحسوس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 هذه المرحلة يبدأ الطفل يفكر تفكيرا شبيها بتفكير الراشد فعن طريق التفاعل الاجتماعي مع الآخرين, يبدأ في التحرر من التمركز حول ذاته, ويأخذ في اعتباره وجهة نظر الآخرين , أي يبدأ يميز بين ذاته وبين العالم الخارجي, ويدرك هذا العالم بشكل موضوعي, أقرب إلى منطق الراشد.</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متد هذه المرحلة فيما بين الحادية عشرة والخامسة عشرة من العمر وفيها تنمو قدرة المراهق على التفكير المجرد ، ويصل إلى مستوى تفكير الراشد في النهاية .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في هذه المرحلة تحدث تغيرات جوهرية في تفكير الطف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ذ نتيجة للمعارف والمعلومات التي تجمعت لديه عن العالم في المرحلة السابقة ، يعيد المراهق تشكيل أبنيته العقلية ، ويكون لنفسه منهجاً لمعالجة المشكلات.</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عالج القضايا، بعزل المتغيرات وتثبيت بعضها للتحقق من عمل البعض الآخر، ونتيجة لإعادة تشكيل تصوراته عن العالم ، يكون فئات معقدة من خصائص الأشياء ، ومن العلاقات المختلفة التي تربط بينه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4"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r>
              <a:rPr b="0" lang="ar-SA" sz="2800" spc="-1" strike="noStrike">
                <a:solidFill>
                  <a:srgbClr val="009900"/>
                </a:solidFill>
                <a:latin typeface="Traditional Arabic"/>
                <a:cs typeface="Traditional Arabic"/>
              </a:rPr>
              <a:t>المرحلة الرابعة : مرحلة العمليات الشكلية أو الذكاء المجرد</a:t>
            </a:r>
            <a:r>
              <a:rPr b="0" lang="en-US" sz="2800" spc="-1" strike="noStrike">
                <a:solidFill>
                  <a:srgbClr val="009900"/>
                </a:solidFill>
                <a:latin typeface="Traditional Arabic"/>
                <a:ea typeface="Traditional Arabic"/>
              </a:rPr>
              <a:t>:</a:t>
            </a:r>
            <a:r>
              <a:rPr b="0" lang="ar-SA" sz="2800" spc="-1" strike="noStrike">
                <a:solidFill>
                  <a:srgbClr val="0099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ذه القدرات الجديدة، تؤدي إلى ظهور خاصية جديدة وهامة في تفكير المراهق، وهي عدم الارتباط بالواقع ، واعتباره أحد الاحتمالات الممكنة فحسب.</a:t>
            </a:r>
            <a:endParaRPr b="0" lang="en-US" sz="2800" spc="-1" strike="noStrike">
              <a:solidFill>
                <a:srgbClr val="000000"/>
              </a:solidFill>
              <a:latin typeface="Arial"/>
            </a:endParaRPr>
          </a:p>
          <a:p>
            <a:pPr algn="just"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لهذا نجد أن المراهق يستطيع أن يفكر تفكيراً علمياً.</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فهو يستطيع أن يخطط للبحوث، وأن يحدد المتغيرات، ويحدد طريقة عزلها أو تثبيتها، كما يستطيع عن طريق إجراء التجارب البسيطة، </a:t>
            </a:r>
            <a:r>
              <a:rPr b="0" lang="ar-SA" sz="2800" spc="-1" strike="noStrike">
                <a:solidFill>
                  <a:srgbClr val="c00000"/>
                </a:solidFill>
                <a:latin typeface="Traditional Arabic"/>
                <a:cs typeface="Traditional Arabic"/>
              </a:rPr>
              <a:t>أن يصل إلى اكتشاف بعض القوانين الأساسية في العلم. </a:t>
            </a:r>
            <a:endParaRPr b="0" lang="en-US" sz="2800" spc="-1" strike="noStrike">
              <a:solidFill>
                <a:srgbClr val="000000"/>
              </a:solidFill>
              <a:latin typeface="Arial"/>
            </a:endParaRPr>
          </a:p>
          <a:p>
            <a:pPr algn="just"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إن أبنية التفكير عند المراهق قد وصلت إلى درجة عالية من التوازن </a:t>
            </a:r>
            <a:r>
              <a:rPr b="0" lang="ar-SA" sz="2800" spc="-1" strike="noStrike">
                <a:solidFill>
                  <a:srgbClr val="000000"/>
                </a:solidFill>
                <a:latin typeface="Traditional Arabic"/>
                <a:ea typeface="Traditional Arabic"/>
              </a:rPr>
              <a:t>.. فالتفكير في هذه المرحلة يمكن أن يسير عكسياً </a:t>
            </a:r>
            <a:r>
              <a:rPr b="0" lang="ar-SA" sz="2800" spc="-1" strike="noStrike">
                <a:solidFill>
                  <a:srgbClr val="7030a0"/>
                </a:solidFill>
                <a:latin typeface="Traditional Arabic"/>
                <a:cs typeface="Traditional Arabic"/>
              </a:rPr>
              <a:t>بطريقتين متمايزتين ومتكاملتين </a:t>
            </a:r>
            <a:r>
              <a:rPr b="0" lang="ar-SA" sz="2800" spc="-1" strike="noStrike">
                <a:solidFill>
                  <a:srgbClr val="000000"/>
                </a:solidFill>
                <a:latin typeface="Traditional Arabic"/>
                <a:cs typeface="Traditional Arabic"/>
              </a:rPr>
              <a:t>في نفس الوقت ..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6" name="عنصر نائب للمحتوى 2"/>
          <p:cNvSpPr/>
          <p:nvPr/>
        </p:nvSpPr>
        <p:spPr>
          <a:xfrm>
            <a:off x="727200" y="19670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رابعًا : مراحل النمو العقلي لدى بياجيه :</a:t>
            </a:r>
            <a:br>
              <a:rPr sz="2800"/>
            </a:br>
            <a:br>
              <a:rPr sz="2800"/>
            </a:br>
            <a:endParaRPr b="0" lang="en-US" sz="28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عبر هذه المراحل،ـ ينتقل الوليد الذي جاء إلى هذا العالم ، وليس لديه أية فكرة عنه، من كائن بيولوجي فحسب، إلى راشد، يواجه العالم ويتفاعل معه ، ويفكر في مشكلاته تفكيراً منطقياً رشيداً.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1" descr="931959518230.jpg"/>
          <p:cNvPicPr/>
          <p:nvPr/>
        </p:nvPicPr>
        <p:blipFill>
          <a:blip r:embed="rId1"/>
          <a:stretch/>
        </p:blipFill>
        <p:spPr>
          <a:xfrm>
            <a:off x="3890880" y="595440"/>
            <a:ext cx="1362240" cy="138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79"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يس الهدف من هذا التعقيب تقويم نظرية بياجيه في الذكاء ، ذلك أن عملاً بهذه الضخامة ، ونظرية بذلك العمق، تناولتها العديد من المؤلفات بالدراسة والتحليل، لا يمكن أن يتم تقديمها في ضوء هذا العرض السريع، لجانب واحد من نشاط بياجيه العلمي.</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ما الهدف الأساسي من هذا التعقيب، أن نبرز بعض الجوانب التي أثارت كثيراً من الجدل، ولا زالت تثيره حتى اليوم بين علماء النفس الآخري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سوف نتناول من هذه الجوانب ثلاثة فقط هي: </a:t>
            </a:r>
            <a:r>
              <a:rPr b="0" lang="ar-SA" sz="2800" spc="-1" strike="noStrike">
                <a:solidFill>
                  <a:srgbClr val="3333cc"/>
                </a:solidFill>
                <a:latin typeface="Traditional Arabic"/>
                <a:cs typeface="Traditional Arabic"/>
              </a:rPr>
              <a:t>منهجه في البحث وأفكاره النظرية، ومشكلة التطبيقات التربوية الممكنة للنظرية، ثم أخيراً مشكلة قياس الذكاء من منطق هذا التصو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1"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a:solidFill>
                  <a:srgbClr val="c00000"/>
                </a:solidFill>
                <a:latin typeface="Traditional Arabic"/>
                <a:cs typeface="Traditional Arabic"/>
              </a:rPr>
              <a:t>أولًا: المبادئ المستخلصة من نظرية بياجي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ذكاء يمثل القدرة على تحويل المعلومات التي تستقبل من البيئة وتتغير هذه القدرة بتغير الس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دث التطور المعرفي من مرحلة العمليات إلى مرحلة جديدة عبر التفاعل والخبر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تطور العلاقة بين الخبرة والنضج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تحدي المعقول واختلال التوازن واستعادته عمليات تعلمية  نمائ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3" name="عنصر نائب للمحتوى 2"/>
          <p:cNvSpPr/>
          <p:nvPr/>
        </p:nvSpPr>
        <p:spPr>
          <a:xfrm>
            <a:off x="731880" y="836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نيًا: بحوث بياجيه التجريبية وأفكاره النظر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قد جمع بياجيه من الملاحظات التجريبية ، ونشر العديد من التقارير عن ملاحظاته وأفكاره النظر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كان منهجه في جمع هذه الملاحظات – كما أشرنا سابقاً – </a:t>
            </a:r>
            <a:r>
              <a:rPr b="0" lang="ar-SA" sz="2800" spc="-1" strike="noStrike">
                <a:solidFill>
                  <a:srgbClr val="3333cc"/>
                </a:solidFill>
                <a:latin typeface="Traditional Arabic"/>
                <a:cs typeface="Traditional Arabic"/>
              </a:rPr>
              <a:t>يتم بطريقة غير شكلية ، مع قدر ضئيل من الضبط التجريبي.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وقد انتقد كثير من علماء النفس هذه الطريقة في جمع المادة العلمية ، على اعتبار أنها تفتقر إلى الدقة المعهودة في البحوث العلمية ، ومن ثم فإن نتائجها تصبح موضع شك.</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ع أن هذا النقد المنهجي صحيح ، إلا أن ذلك لا يقل من قيمة الجهود التي بذلها بياجيه ومعاونوه في دراسة الذكاء والنمو العقلي للأطفال، وإنما يدعو الباحثين للتحقق من صحة ما توصل إليه من نتائج وتصورات، باستخدام مناهج في البحث أكثر ضبطاً ودقة من الناحية المنه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مقدمة</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8"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تناول هذا الجزء النظريات التي اعتمدت على </a:t>
            </a:r>
            <a:r>
              <a:rPr b="0" lang="ar-SA" sz="2800" spc="-1" strike="noStrike" u="sng">
                <a:solidFill>
                  <a:srgbClr val="c00000"/>
                </a:solidFill>
                <a:uFillTx/>
                <a:latin typeface="Traditional Arabic"/>
                <a:cs typeface="Traditional Arabic"/>
              </a:rPr>
              <a:t>الملاحظة والتجربة في دراسة الذكاء</a:t>
            </a:r>
            <a:r>
              <a:rPr b="0" lang="ar-SA" sz="2800" spc="-1" strike="noStrike">
                <a:solidFill>
                  <a:srgbClr val="000000"/>
                </a:solidFill>
                <a:latin typeface="Traditional Arabic"/>
                <a:cs typeface="Traditional Arabic"/>
              </a:rPr>
              <a:t>، والتي تسمى بالنظريات الوصفية، لاهتمامها بالوصف والتحليل الكيفي، دون اهتمام كبير بالتعبيرات الكمية والتحليلات الإحصائي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تتضمن هذه المحاضرة </a:t>
            </a:r>
            <a:r>
              <a:rPr b="0" lang="ar-SA" sz="2800" spc="-1" strike="noStrike" u="sng">
                <a:solidFill>
                  <a:srgbClr val="009900"/>
                </a:solidFill>
                <a:uFillTx/>
                <a:latin typeface="Traditional Arabic"/>
                <a:cs typeface="Traditional Arabic"/>
              </a:rPr>
              <a:t>نظرية جان بياج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5"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ارت بحوث بياجيه اهتمام علماء النفس التربوي ورجال التربية بصفة عامة، فبدأوا يحللون أفكاره وتصوراته النظرية، محاولين استخلاص ما يمكن أن تسفر عنه في المجال التعليمي.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أثيرت في هذا الصدد عدة أفكار، تتعلق بوضع المناهج التعليمية وطرق التدريس، بل وتحديد الأهداف التعليمية المناسبة لكل سن.</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قد اقترح البعض أن </a:t>
            </a:r>
            <a:r>
              <a:rPr b="0" lang="ar-SA" sz="2800" spc="-1" strike="noStrike">
                <a:solidFill>
                  <a:srgbClr val="c00000"/>
                </a:solidFill>
                <a:latin typeface="Traditional Arabic"/>
                <a:cs typeface="Traditional Arabic"/>
              </a:rPr>
              <a:t>يعاد تنظيم المناهج التعليمية ، سواء في محتواها أو في توقيت تدريسها، بحيث تناسب مرحلة النمو العقلي المعينة التي يمر بها الأطفال.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بينما كان رأي البعض الآخر </a:t>
            </a:r>
            <a:r>
              <a:rPr b="0" lang="ar-SA" sz="2800" spc="-1" strike="noStrike">
                <a:solidFill>
                  <a:srgbClr val="3333cc"/>
                </a:solidFill>
                <a:latin typeface="Traditional Arabic"/>
                <a:cs typeface="Traditional Arabic"/>
              </a:rPr>
              <a:t>أن العبرة ليست بالمنهج التعليمي، وإنما بطريقة عرض المادة الدراسية، بما يتلاءم مع مرحلة نمو تفكير الطفل، ولكنها في نفس الوقت ليست صعبة بدرجة تؤدي إلى فشل متكر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7"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ثالثًا: التطبيقات التربو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البرامج التي أعدت، </a:t>
            </a:r>
            <a:r>
              <a:rPr b="0" lang="ar-SA" sz="2800" spc="-1" strike="noStrike">
                <a:solidFill>
                  <a:srgbClr val="009900"/>
                </a:solidFill>
                <a:latin typeface="Traditional Arabic"/>
                <a:cs typeface="Traditional Arabic"/>
              </a:rPr>
              <a:t>مجموعة من ألعاب التفكير، صممت لكي تشغل الطفل في تفكير ابتكار، أو في أنشطة تقليد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اهتمت دراسات عديدة بالتعجيل بالانتقال إلى مرحلة العمليات الشكلية ، وهي التي تبدأ في المجتمعات الغربية في سن </a:t>
            </a:r>
            <a:r>
              <a:rPr b="0" lang="ar-SA" sz="2800" spc="-1" strike="noStrike">
                <a:solidFill>
                  <a:srgbClr val="000000"/>
                </a:solidFill>
                <a:latin typeface="Traditional Arabic"/>
                <a:ea typeface="Traditional Arabic"/>
              </a:rPr>
              <a:t>11</a:t>
            </a:r>
            <a:r>
              <a:rPr b="0" lang="ar-SA" sz="2800" spc="-1" strike="noStrike">
                <a:solidFill>
                  <a:srgbClr val="000000"/>
                </a:solidFill>
                <a:latin typeface="Traditional Arabic"/>
                <a:ea typeface="Traditional Arabic"/>
              </a:rPr>
              <a:t> – </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ن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التفكير الشكلي هام جداً بالنسبة للمربين، حيث إنه ضروري للفهم الكامل للعلوم المختلفة مثل الفيزياء والرياضة والأدب وغيرها.</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89" name="عنصر نائب للمحتوى 2"/>
          <p:cNvSpPr/>
          <p:nvPr/>
        </p:nvSpPr>
        <p:spPr>
          <a:xfrm>
            <a:off x="74124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Traditional Arabic"/>
                <a:cs typeface="Traditional Arabic"/>
              </a:rPr>
              <a:t>التعقيب على النظرية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Traditional Arabic"/>
                <a:cs typeface="Traditional Arabic"/>
              </a:rPr>
              <a:t>رابعًا: قياس الذكاء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ذلك أثيرت مشكلة قياس الذكاء، باستخدام مواقف مشابهة لتلك التي استخدمها بياجيه في تحديد مراحل النمو العقلي للأطفال.</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وقد قام بينارد ومعاونوه في جامعة مونتريال بإعداد اختبار من هذا النوع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ما فيما يتعلق بالبحوث التي أجريت في إطار نظرية بياجيه، فقد اعتمدت على اختبارات لقياس النمو المعرفي، اشتقت أساساً من المهام التي استخدمها بياجيه في دراساته، وقد اختلفت هذه الاختبارات في عدد المهام التي اشتملت عليها، فبعضها استخدم مهمة واحدة ، وبعضها استخدم أربع أو خمس مهام ومن أشهر الاختبارات التي اعدت لقياس النمو المعرفي اختبار انطون لوسطون، ويتكون من خمسة عشر بنداً. وقد قام حسن زيتون بكلية التربية بجامعة طنطا بترجمته وتقنينه.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0"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عد جان بياجيه أحد علماء النفس القلائل الذين كرسوا جهودهم لدراسة النمو العقلي لدى الأطفال، قرابة نصف قرن من الزمان.</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لقد أجرى العديد من البحوث وألف الكثير من الكتب عن نمو الذكاء عند الأطفال    ( ما يزيد على </a:t>
            </a:r>
            <a:r>
              <a:rPr b="0" lang="ar-SA" sz="2800" spc="-1" strike="noStrike">
                <a:solidFill>
                  <a:srgbClr val="000000"/>
                </a:solidFill>
                <a:latin typeface="Traditional Arabic"/>
                <a:ea typeface="Traditional Arabic"/>
              </a:rPr>
              <a:t>30</a:t>
            </a:r>
            <a:r>
              <a:rPr b="0" lang="ar-SA" sz="2800" spc="-1" strike="noStrike">
                <a:solidFill>
                  <a:srgbClr val="000000"/>
                </a:solidFill>
                <a:latin typeface="Traditional Arabic"/>
                <a:ea typeface="Traditional Arabic"/>
              </a:rPr>
              <a:t> كتاباً ومئات المقالات).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ان لدراساته ونظرياته عن النمو العقلي تأثيرها المباشر في الممارسات التربوية المختلفة، بدرجة لم تبلغها نظرية أخرى في علم نفس النمو.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قد كتب عن بياجيه ودراساته العديد من المؤلفات التي اختصت بتحليل آرائه ونظرياته، وتوضيح تطبيقاتها التربو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2"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ذا سنقدم عرضا موجزا للخطوط العريضة لنظريته وآرائه في الذكاء والنمو العقل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عرف بياجيه بأنه عالم نفس يهتم بدراسة نمو الأطفال أساسا ، ولكنه إلى جانب ذلك عالم بيولوجي.</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إن السمة المميزة لنظريته ومناهجه في البحث، هي تركيزه على خصائص نمو الأطفال، فهي نظرية نمائية وفي داخل هذه الخصائص يعالج بطبيعة الحال موضوع الذك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4" name="عنصر نائب للمحتوى 2"/>
          <p:cNvSpPr/>
          <p:nvPr/>
        </p:nvSpPr>
        <p:spPr>
          <a:xfrm>
            <a:off x="684360" y="105264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كي نفهم أفكار بياجيه الأساسية عن الذكاء، يجب أن نتذكر أن بياجيه بدأ حياته العملية عالما بيولوجيا، ثم تحول إلى دراسة الظاهرات النفسية، ونقل معه بالتالي نفس المفاهيم البيولوجية. </a:t>
            </a:r>
            <a:endParaRPr b="0" lang="en-US" sz="2800" spc="-1" strike="noStrike">
              <a:solidFill>
                <a:srgbClr val="000000"/>
              </a:solidFill>
              <a:latin typeface="Arial"/>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أن بياجيه فبلسوف أيضا، ومن ثم كان لنظرية المعرفة والمنطق الحديث دور هام في تشكيل وجهة نظره عن النشاط العقلي ل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من هنا يرى بياجيه أن الذكاء يجب أن يعالج في ضوء ثنائية معينة: فله </a:t>
            </a:r>
            <a:r>
              <a:rPr b="0" lang="ar-SA" sz="2800" spc="-1" strike="noStrike" u="sng">
                <a:solidFill>
                  <a:srgbClr val="009900"/>
                </a:solidFill>
                <a:uFillTx/>
                <a:latin typeface="Traditional Arabic"/>
                <a:cs typeface="Traditional Arabic"/>
              </a:rPr>
              <a:t>طبيعة بيولوجية وطبيعة منطقية</a:t>
            </a:r>
            <a:r>
              <a:rPr b="0" lang="ar-SA" sz="2800" spc="-1" strike="noStrike">
                <a:solidFill>
                  <a:srgbClr val="ffff00"/>
                </a:solidFill>
                <a:latin typeface="Traditional Arabic"/>
                <a:ea typeface="Traditional Arabic"/>
              </a:rPr>
              <a:t> </a:t>
            </a:r>
            <a:r>
              <a:rPr b="0" lang="ar-SA" sz="2800" spc="-1" strike="noStrike">
                <a:solidFill>
                  <a:srgbClr val="000000"/>
                </a:solidFill>
                <a:latin typeface="Traditional Arabic"/>
                <a:cs typeface="Traditional Arabic"/>
              </a:rPr>
              <a:t>في آن واح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ان الجانبان في وحدتهما يقدمان أعظم </a:t>
            </a:r>
            <a:r>
              <a:rPr b="0" lang="ar-SA" sz="2800" spc="-1" strike="noStrike">
                <a:solidFill>
                  <a:srgbClr val="c00000"/>
                </a:solidFill>
                <a:latin typeface="Traditional Arabic"/>
                <a:cs typeface="Traditional Arabic"/>
              </a:rPr>
              <a:t>تفسير للذكاء فمخ الإنسان، وهو مصدر النشاط العقلي، جزء حي من كائن حي ومن ثم فهو يشترك مع سائر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6"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أولًا : الذكاء كعملية تكيف :</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raditional Arabic"/>
                <a:cs typeface="Traditional Arabic"/>
              </a:rPr>
              <a:t>أن ما يميز هذه الصفة من وجهة نظر بياجيه أمور ثلاثة :- </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ناك اعتماد متبادل بين الكائن الحي والبيئة التي يعيش فيها.</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الكائن الحي وبيئته في عملية تفاعل مستمر، تأثير وتأثر.</a:t>
            </a:r>
            <a:endParaRPr b="0" lang="en-US" sz="2800" spc="-1" strike="noStrike">
              <a:solidFill>
                <a:srgbClr val="000000"/>
              </a:solidFill>
              <a:latin typeface="Arial"/>
            </a:endParaRPr>
          </a:p>
          <a:p>
            <a:pPr algn="r" rtl="1">
              <a:lnSpc>
                <a:spcPct val="100000"/>
              </a:lnSpc>
              <a:spcBef>
                <a:spcPts val="700"/>
              </a:spcBef>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وجد حالة من التوازن في علاقات الكائن الحي مع البيئ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ذه الأفكار تشكل ما يعرف بعملية التكيف البيولوجي. وما فعله جان بياجيه أنه نقل مفهوم التكيف البيولوجي من ميدان البيولوجيا وطبقه على نمو ذكاء الفرد.</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2800" spc="-1" strike="noStrike" u="sng">
                <a:solidFill>
                  <a:srgbClr val="009900"/>
                </a:solidFill>
                <a:uFillTx/>
                <a:latin typeface="Traditional Arabic"/>
                <a:cs typeface="Traditional Arabic"/>
              </a:rPr>
              <a:t>وعلى ذلك يؤدي العقل وظائفه مستخدما مبدأ التكيف، ومنتجا أبنية وتراكيب عقلية تظهر فيما نسميه بالسلوك الذكي،</a:t>
            </a:r>
            <a:r>
              <a:rPr b="0" lang="ar-SA" sz="2800" spc="-1" strike="noStrike" u="sng">
                <a:solidFill>
                  <a:srgbClr val="c00000"/>
                </a:solidFill>
                <a:uFillTx/>
                <a:latin typeface="Traditional Arabic"/>
                <a:ea typeface="Traditional Arabic"/>
              </a:rPr>
              <a:t> لعدد من عمليات التكيف العقلي التي اكتسبها الفرد أثناء نموه. </a:t>
            </a:r>
            <a:r>
              <a:rPr b="0" lang="ar-SA" sz="2800" spc="-1" strike="noStrike">
                <a:solidFill>
                  <a:srgbClr val="000000"/>
                </a:solidFill>
                <a:latin typeface="Traditional Arabic"/>
                <a:cs typeface="Traditional Arabic"/>
              </a:rPr>
              <a:t>يقول بياجيه موضحا هذه الفكرة في كتابه أصول الذكاء عند الأطفال : </a:t>
            </a:r>
            <a:r>
              <a:rPr b="0" lang="ar-SA" sz="2800" spc="-1" strike="noStrike" u="sng">
                <a:solidFill>
                  <a:srgbClr val="3333cc"/>
                </a:solidFill>
                <a:uFillTx/>
                <a:latin typeface="Traditional Arabic"/>
                <a:cs typeface="Traditional Arabic"/>
              </a:rPr>
              <a:t>الذكاء عملية تكيف. </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58"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بياجيه هذه الخصائص الثابتة بالثوابت الوظيفية </a:t>
            </a:r>
            <a:r>
              <a:rPr b="0" lang="ar-SA" sz="2800" spc="-1" strike="noStrike">
                <a:solidFill>
                  <a:srgbClr val="c00000"/>
                </a:solidFill>
                <a:latin typeface="Traditional Arabic"/>
                <a:cs typeface="Traditional Arabic"/>
              </a:rPr>
              <a:t>ويقصد بها طريقة التعامل مع الب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هذه الطريقة واحدة وثابتة، سواء في مستوى التكيف البيولوجي، أو في مستوى التكيف العقلي. هذه الثوابت الوظيفية، تتمثل في ناحيتين رئيسيتين: </a:t>
            </a:r>
            <a:r>
              <a:rPr b="0" lang="ar-SA" sz="2800" spc="-1" strike="noStrike">
                <a:solidFill>
                  <a:srgbClr val="ff0000"/>
                </a:solidFill>
                <a:latin typeface="Traditional Arabic"/>
                <a:cs typeface="Traditional Arabic"/>
              </a:rPr>
              <a:t>التنظيموالتكيف</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يتضمن </a:t>
            </a:r>
            <a:r>
              <a:rPr b="0" lang="ar-SA" sz="2800" spc="-1" strike="noStrike">
                <a:solidFill>
                  <a:srgbClr val="c00000"/>
                </a:solidFill>
                <a:latin typeface="Traditional Arabic"/>
                <a:cs typeface="Traditional Arabic"/>
              </a:rPr>
              <a:t>التكيف عمليتين </a:t>
            </a:r>
            <a:r>
              <a:rPr b="0" lang="ar-SA" sz="2800" spc="-1" strike="noStrike">
                <a:solidFill>
                  <a:srgbClr val="000000"/>
                </a:solidFill>
                <a:latin typeface="Traditional Arabic"/>
                <a:cs typeface="Traditional Arabic"/>
              </a:rPr>
              <a:t>هما </a:t>
            </a:r>
            <a:r>
              <a:rPr b="0" lang="ar-SA" sz="2800" spc="-1" strike="noStrike">
                <a:solidFill>
                  <a:srgbClr val="00b050"/>
                </a:solidFill>
                <a:latin typeface="Traditional Arabic"/>
                <a:cs typeface="Traditional Arabic"/>
              </a:rPr>
              <a:t>التمثيل أو الاستيعاب </a:t>
            </a:r>
            <a:r>
              <a:rPr b="0" lang="ar-SA" sz="2800" spc="-1" strike="noStrike">
                <a:solidFill>
                  <a:srgbClr val="000000"/>
                </a:solidFill>
                <a:latin typeface="Traditional Arabic"/>
                <a:cs typeface="Traditional Arabic"/>
              </a:rPr>
              <a:t>ولكي تتضح لنا هذه الثوابت الوظيفية في المستوى العقلي، لنأخذ صورة لها فحينما يتناول الإنسان طعامه، تتحول المادة الغذائية أثناء المضغ والهضم إلى صورة جديدة، يمكن أن تصبح بها جزءًا من تركيب الإنسان العضوي أي أنه يقوم بعملية تمثيل للعناصر والأشياء الخارجية، لتصبح جزءا من تكوينه العضوي.</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0"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أثناء قيامه بعملية التمثيل الغذائي يقوم الإنسان بعملية أخرى، فهو يلائم نفسه مع ظروف البيئة وظروف المادة الغذائية، فالطعام يجب أن يبتلع والعمليات الهضمية يجب أن تكيف نفسها مع خصائص الغذاء الطبيعية والكيميائية.</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كذا نجد أن عملية التكيف البيولوجي تتضمن عمليتين مرتبطتين لانفصال بينهما، </a:t>
            </a:r>
            <a:r>
              <a:rPr b="0" lang="ar-SA" sz="2800" spc="-1" strike="noStrike">
                <a:solidFill>
                  <a:srgbClr val="009900"/>
                </a:solidFill>
                <a:latin typeface="Traditional Arabic"/>
                <a:cs typeface="Traditional Arabic"/>
              </a:rPr>
              <a:t>هما عمليتا </a:t>
            </a:r>
            <a:r>
              <a:rPr b="0" lang="ar-SA" sz="2800" spc="-1" strike="noStrike" u="sng">
                <a:solidFill>
                  <a:srgbClr val="c00000"/>
                </a:solidFill>
                <a:uFillTx/>
                <a:latin typeface="Traditional Arabic"/>
                <a:cs typeface="Traditional Arabic"/>
              </a:rPr>
              <a:t>التمثيل والملائمة</a:t>
            </a:r>
            <a:r>
              <a:rPr b="0" lang="ar-SA" sz="2800" spc="-1" strike="noStrike">
                <a:solidFill>
                  <a:srgbClr val="009900"/>
                </a:solidFill>
                <a:latin typeface="Traditional Arabic"/>
                <a:cs typeface="Traditional Arabic"/>
              </a:rPr>
              <a:t>، أنهما </a:t>
            </a:r>
            <a:r>
              <a:rPr b="0" lang="ar-SA" sz="2800" spc="-1" strike="noStrike" u="sng">
                <a:solidFill>
                  <a:srgbClr val="3333cc"/>
                </a:solidFill>
                <a:uFillTx/>
                <a:latin typeface="Traditional Arabic"/>
                <a:cs typeface="Traditional Arabic"/>
              </a:rPr>
              <a:t>عمليتان متفاعلتان باستمرار ويظهر التوازن بينهما في عملية تكيف الكائن الحي مع البيئة.</a:t>
            </a: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ظرية جان بياجيه</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62" name="عنصر نائب للمحتوى 2"/>
          <p:cNvSpPr/>
          <p:nvPr/>
        </p:nvSpPr>
        <p:spPr>
          <a:xfrm>
            <a:off x="731880" y="533520"/>
            <a:ext cx="8229600" cy="4525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raditional Arabic"/>
                <a:cs typeface="Traditional Arabic"/>
              </a:rPr>
              <a:t>ثانيًا : الثوابت الوظيفية :</a:t>
            </a:r>
            <a:endParaRPr b="0" lang="en-US" sz="2800" spc="-1" strike="noStrike">
              <a:solidFill>
                <a:srgbClr val="000000"/>
              </a:solidFill>
              <a:latin typeface="Arial"/>
            </a:endParaRPr>
          </a:p>
          <a:p>
            <a:pPr algn="r" rtl="1">
              <a:lnSpc>
                <a:spcPct val="10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9900"/>
                </a:solidFill>
                <a:uFillTx/>
                <a:latin typeface="Traditional Arabic"/>
                <a:cs typeface="Traditional Arabic"/>
              </a:rPr>
              <a:t>وبنفس الصورة أيضا ينظر بياجيه إلى الذكاء أو النشاط العقلي لدى الإنسان .</a:t>
            </a:r>
            <a:endParaRPr b="0" lang="en-US" sz="2800" spc="-1" strike="noStrike">
              <a:solidFill>
                <a:srgbClr val="000000"/>
              </a:solidFill>
              <a:latin typeface="Arial"/>
            </a:endParaRPr>
          </a:p>
          <a:p>
            <a:pPr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كل خبرة لدينا سواءً كنا أطفالا أو مراهقين أو راشدين تؤخذ ويتم إعدادها بحيث تتسق أو تدخل في الخبرات السابقة الموجودة هناك . والخبرة الجديدة تحتاج لأن تعدل بدرجة ما ، لكي يمكن إدخالها في البنية المعرفية القائمة وبعض الخبرات لا يمكن تمثيلها لأنها لا تلائم البنية الحالية . </a:t>
            </a:r>
            <a:r>
              <a:rPr b="0" lang="ar-SA" sz="2800" spc="-1" strike="noStrike">
                <a:solidFill>
                  <a:srgbClr val="c00000"/>
                </a:solidFill>
                <a:latin typeface="Traditional Arabic"/>
                <a:cs typeface="Traditional Arabic"/>
              </a:rPr>
              <a:t>ومعنى هذا أن العقل يتمثل أو يستوعب الخبرات الجديدة عن طريق التغيير فيها بحيث تلائم البنية التي تم تكوينها.</a:t>
            </a:r>
            <a:endParaRPr b="0" lang="en-US" sz="2800" spc="-1" strike="noStrike">
              <a:solidFill>
                <a:srgbClr val="000000"/>
              </a:solidFill>
              <a:latin typeface="Arial"/>
            </a:endParaRPr>
          </a:p>
          <a:p>
            <a:pPr algn="r" rtl="1">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333cc"/>
                </a:solidFill>
                <a:uFillTx/>
                <a:latin typeface="Traditional Arabic"/>
                <a:cs typeface="Traditional Arabic"/>
              </a:rPr>
              <a:t>وفي هذا يقول </a:t>
            </a:r>
            <a:r>
              <a:rPr b="0" lang="ar-SA" sz="2800" spc="-1" strike="noStrike" u="sng">
                <a:solidFill>
                  <a:srgbClr val="009900"/>
                </a:solidFill>
                <a:uFillTx/>
                <a:latin typeface="Traditional Arabic"/>
                <a:cs typeface="Traditional Arabic"/>
              </a:rPr>
              <a:t>بياجيه الذكاء هو تمثيل </a:t>
            </a:r>
            <a:r>
              <a:rPr b="0" lang="ar-SA" sz="2800" spc="-1" strike="noStrike" u="sng">
                <a:solidFill>
                  <a:srgbClr val="3333cc"/>
                </a:solidFill>
                <a:uFillTx/>
                <a:latin typeface="Traditional Arabic"/>
                <a:cs typeface="Traditional Arabic"/>
              </a:rPr>
              <a:t>بالدرجة التي يستوعب فيها كل بيانات الخبرة المعينة في إطاره الخاص .كذلك تؤثر البيئة التي يعمل فيها العقل في نوع الأبنية الموجودة فيه.</a:t>
            </a:r>
            <a:endParaRPr b="0" lang="en-US" sz="2800" spc="-1" strike="noStrike">
              <a:solidFill>
                <a:srgbClr val="000000"/>
              </a:solidFill>
              <a:latin typeface="Arial"/>
            </a:endParaRPr>
          </a:p>
          <a:p>
            <a:pPr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0:41:55Z</dcterms:modified>
  <cp:revision>198</cp:revision>
  <dc:subject/>
  <dc:title>الشريحة 1</dc:title>
</cp:coreProperties>
</file>