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F2E7-935D-45E5-8C43-A73D269D52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E30-712E-4338-9794-2075C04F0C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64F-F06B-4CC0-B7CB-B20D0D8F71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A4DC-7E9B-4523-B4A4-FDE9F32ADE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FD67-5C33-4736-9D02-741B3BE0D8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F19-BCEB-4FFA-9269-133C8036B5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E9D8-6F4C-415E-A9B6-1D82E05099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F142-8365-45DF-AB27-9F284AD157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9C4-A204-4FBF-86C2-4CD71A3180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C2E-08E6-4BC2-B590-1CDD17D19B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E859-D177-4E3B-BDCA-B735243417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7AB-79B0-4AAD-891F-BB2B9F1130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161E-92E7-4854-A608-21B7ABC114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3696-1409-40E4-AF3D-20C6F61168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CA61-A6B0-4AE7-BBEB-117AE0E0C5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F98-AC25-427E-92A1-D031FD1F55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372-7B0C-4324-A862-D939A64EC2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837F-7F8D-45C2-9874-7E98B88484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D80-A7CF-4D40-A229-84DA94C56F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A32-A688-4346-90E9-3FF0A513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C9A-CB90-4EEE-AED5-CC7DB36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751-685F-4BEA-A7C2-7ECCF92E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00E-8E81-45CF-8CA7-370EE541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5028-55A7-4F10-8414-D37E7784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0594-12B8-43A0-87D0-D174EDD4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5F43-F0F4-4380-81AA-25530442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CD28-F8CB-4541-B725-8BA619C7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BDEC-1B06-439F-B16B-3A33E61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1DDF-2A21-459D-9385-610C6586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55B-3016-44FF-88EC-097AC759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8BA-CACC-4668-AC22-5477DD1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4D5-F3A9-443F-A45D-9DACA35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21DD-290C-4266-86E9-555F45F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DD88-64FD-4AE4-ADC6-D1908603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3968-3A87-4431-860C-3352ABE5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D959-AA21-4C9B-94CA-ACB0B5B5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8ED01-B252-468D-B052-30381D82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64F54-FA79-467D-A352-F705676C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A50F6-2B2A-407E-9766-0481C8CD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69812-DB01-4BF5-9C53-DEB61C1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B65D8-1D9F-473C-99EA-6BC3707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CB3-ADF1-40D0-A00A-1B7AAE4C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064D1-8592-418E-8DB2-D6A4B31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CF565-78B3-4010-82E8-204D01C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8848F-7BC0-4FDC-88BE-016E200D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C4DE2-A837-46B1-8EE0-849621C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A40EA-5EB8-4E23-893B-2DCC10F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C81E5-B62F-4F9F-BE4A-DDDB37CE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87CC9-6321-4F5C-BCB8-499483DD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2633-515C-4557-997A-DB1CBF57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26B29-BB71-4923-9620-508B21EF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2E47-1078-4211-9443-9380742A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E4F-9A96-41DC-A5DF-0739C190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D0365-6346-44B0-B67F-9ABCD13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2302-9264-487F-B07F-DF46B6A8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6E21-378F-4B10-91D0-86FC113E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B69F-39CD-4D0A-A1F3-88F1941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CF860-0022-4ABE-AC17-6EB97B7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42A0-509B-45D8-B762-1C7A18C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6B56-79EF-4727-9973-AFE24168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0AFC-13F8-4C76-AF58-93B98E87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C9CB-2E46-4D21-8380-C9309099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01D40B-AB3B-4D3B-B894-E8379133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737-2FA6-42BC-89A6-8C7C121C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8B3E7-2F4D-413D-BB9C-48FEE18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84C1D-A6C9-4442-B2A0-DE7CD23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3F5FB-0AD1-487C-B2AA-8D7B6A34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55A6A-0EDA-42CB-9FA3-67DDD2F3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C6E40-E02F-4D3A-A9D1-9067028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C1460E-4226-41AE-80BA-6DDAD31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59E51-562C-4036-AA8B-4600FFF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319AD-7CC7-443D-BD63-5D36184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BE3CF-5E09-4329-8970-9847451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97F5D-6135-4C44-AD50-204CAB3F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801-A56F-44C3-B5B0-8F74078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92EE16-9B57-4082-9461-1A252D88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DB5-B673-484E-ADB0-5D9FFFC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25C-601F-4DBF-9992-DBF8DA9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156-31A5-443D-A34E-34C8518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86C-2B5F-426F-9202-3FFC468CA6C0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200-D7F6-49FE-A2F9-C92E171993E3}" type="slidenum">
              <a:rPr b="0" lang="ar-SA" sz="1200" spc="-1" strike="noStrike">
                <a:solidFill>
                  <a:srgbClr val="d6ec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7C70-9AE4-4714-9A87-1DE9E3840DDE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710-A11A-42CF-8701-092936B9B12D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4AF8-E90E-4A8C-950E-01376E4C96D9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 Blo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Lect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37520" y="23623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Chemical Examina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1295280" y="5094720"/>
            <a:ext cx="713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: Normal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: Multiple myeloma (M component in </a:t>
            </a:r>
            <a:r>
              <a:rPr b="1" lang="en-US" sz="2000" spc="-1" strike="noStrike">
                <a:solidFill>
                  <a:srgbClr val="eb8803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C: Densitometry of 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D: Densitometry of 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”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(M component is called M Sp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ciated with renal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omer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glomerular permeability causes filtration of high molecular weight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glomerulo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Tub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w tubular reabsorption with normal glomerular perme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excretion of low mol. wt.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chronic 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Orthostatic (postural)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form of benign or physiologic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s frequently in young adults due to periods spent in a vertical posture (body position) or during muscular exerci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Microalbum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0–200 mg/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y indicator of glomerular dysfunction 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controlled diabetes mellitu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yperten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 are added to the urine after kidney filt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le passing through the lower urinary tract (ureters, bladder, urethra, prostate, vagin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er urinary tract infe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on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6600" y="3808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ost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ugar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uc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gluc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diabetes mellit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lasma glucose level exceeds the renal threshold                     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renal disease (renal glucosur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rmal plasma glucose level with proximal tubular malfun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creased renal threshold as observed in gestational diabetes and Fanconi’s syndrom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Fru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fru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igh fructose intak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fructokinase or aldolase B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ala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gala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 high galactose in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galactokinase or galactose -1-PO4 uridyl transferase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ketones, acetone, acetoacetic acid and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hydroxybutyric aci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ic ketoacido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rv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etary imbalance: high fat and low CHO di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enylketonuria (P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Keto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bile, bilirubin and bile salts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Bilirub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no billirubin is detecte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detecte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bstruction of bile duct due to stones (extrahepatic) and hepatic tumors (intrahepatic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Urobilinoge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present in trace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urobilinogen is foun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lytic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Nitrit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nitrite test indicates bacteria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1320" y="3808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Chol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bloo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ute / chronic glomerulonephr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disorders of kidney and genito-urinary tr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, cystitis, renal calculi, 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ing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phil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on completion of this lecture, students should be abl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iate between normal and abnormal constituents of urine including: Proteins, sugars, ketone bodies, nitrite, bile pigments, blood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now the clinical conditions in different types of proteinuria, blood urea and glycosuria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89240" y="53352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Hemoglob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hemolysed blood in urin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oglobinopath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ckle cell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alass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nsfusion re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lood group incompatibil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 (multiple myeloma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ycosuria: fructosuria, galactos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to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aturia: hemoglob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4604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is a fluid excreted by most animals including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in the kidneys (renal glomerul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luid undergoes chemical changes before it is excreted as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excretion by a healthy person is about 1.5 L per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33000" y="3808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contains organic and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d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tass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lori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all amounts of Ca, Mg, sulfur and phosphat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Fe, Cu, Zn, I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n-protein nitrogen (NPN) compou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ganic aci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ga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proteins, vitamins, hormones, pigm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4040" y="38088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contains small amount of prote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lt; 200 mg/da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more than this level causes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abnormal amounts of protein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 has three typ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2000" y="38088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Ab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diseases or conditions increase plasma protein levels not involving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increased filtration of these proteins in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exceeds the normal reabsorptive capacity of renal tubu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ults in overflow of proteins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cer of the antibody-producing plasma 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pre-ren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erum contains elevated levels of light-chain monoclonal antibodies called Bence-Jones prote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rotein is filtered in the kidneys in high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eding the tubular reabsorption capa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 excreted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ce-Jones protein coagulates at 40–6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and dissolves at 10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 cases are diagnosed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rum 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mmuno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5" name="Rectangle 4"/>
          <p:cNvSpPr/>
          <p:nvPr/>
        </p:nvSpPr>
        <p:spPr>
          <a:xfrm>
            <a:off x="2646720" y="1666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7791"/>
                </a:solidFill>
                <a:latin typeface="Constantia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57664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A: Serum protein electrophoresis showing the M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B: Serum and urine immunofixation electrophor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54:02Z</dcterms:created>
  <dc:creator/>
  <dc:description/>
  <dc:language>en-US</dc:language>
  <cp:lastModifiedBy/>
  <dcterms:modified xsi:type="dcterms:W3CDTF">2016-04-14T05:51:06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3351033</vt:lpwstr>
  </property>
</Properties>
</file>