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BF00-54ED-401A-87A4-4CFE96D4F6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0D96-3B47-4B99-B82D-DC7EF5D0F1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ECC7-5A9A-43B5-A97A-A3356B3F37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8192-BEFE-4876-A218-F8CA951434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B077-43C9-4EC6-A5DE-C3A08415AC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4F7C-BBFD-49A0-A23B-F3245232E6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2E66-E92E-474C-9130-7AACCC345F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09B8-C955-4083-BDDA-B1E6E2ECB9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7035-BED4-42C5-AA5D-EC86C556DE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5BB7-D291-44EC-99CD-6A35DDA1F8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3907-4476-4E71-8002-77940345FC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874-150E-4086-B7A8-9EF998C6B1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5F3-F290-4E35-A518-B9B6CDA36C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3E9E-2367-47CB-B571-A001D98E40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E336-B7FC-4C4D-89B0-3573D3A46F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3FCD-74B9-4F7E-9BB9-5540F44613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C2E-4E46-4F50-98A3-699E96BC20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5263-A37A-4D4B-8770-4081305BD3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0B71-FC26-4080-827F-265DF82A93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0A4-C326-4873-AF62-E463D0D2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33E-6E07-4441-A68C-93155AD5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B07-3937-4166-BAD1-DE9261DF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39A-D51A-4026-B4FD-6B450A08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1DA1-6DC4-4217-BB78-271986BF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2F4-EDE9-47BE-A963-33FD3DE5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4514-077A-4775-95C0-0E938368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21A1-44B9-4073-8826-B59E6E8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8141-7463-468F-9158-6AF52E22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CAD7-50BB-4B13-B24D-F99D2020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D763-F145-4D84-B4F6-AB87781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111-11BB-46C4-9730-A966C881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5F4-BAD1-4F83-9936-64EF7219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DEB8-32D3-4088-B5A5-17D0F1F1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B07-42A7-4A36-9AF2-F4DB3E73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8B7-3069-4337-8C4B-B2754BA9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E516-9DC7-44AF-A78A-9A76F073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8389B-70AB-497D-A6DF-CF39803E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4253E-17C9-4DC0-91A2-5083874D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218CE-B2A9-41A5-8DA4-7726100A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5F43D-32A1-4771-ACDB-09B22F08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FD127-402D-4487-AAA5-559F8B5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A86-EB14-4DB0-9DD6-F2B6337C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A929F-9517-4C8D-A317-4574DC43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25BD1-3620-4C2A-BF46-041DCAFE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DCCB0-25C1-41E9-905D-D8F96A7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600B3-FB39-4410-A472-99AAF8A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CCCE7-DA13-44E0-B07C-20E25A72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78E63-F2AD-4EAD-8B12-CCFDB9AC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AAC20-0B5F-4547-AB27-F65FF1BA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3142-07B9-4991-A820-3D90A07A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194B-7F81-4B00-B5F4-530567CD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16C3-2C2B-472B-AABB-2C5C7DB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235-6CD3-4DBD-9837-3BBEF215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FB21-C0ED-4A8B-A13A-3A26DC2B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2912-DFAB-46FF-B414-E1349452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8B0F-195B-45CC-83E5-24ACD0DB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BA2B-8D8F-4B39-AC24-57AC837C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3208-9302-4A42-AD3B-9ED7EE90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B11A-39F4-4751-A4E6-5B7E469D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44287-C12C-4E31-8EFE-11218AC4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CAB7-B50E-4EDD-BAA3-FC7CB295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C35F-AD51-4FFD-BE5E-E44FBD1C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B5C2A-C231-4057-ACAA-5F66D2C1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86C-9985-4FA3-B421-A5222028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1B35C-7A6F-4C4F-B844-EB24AA6C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9984E-F0C4-42A9-BC00-BA08E8BF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5EA7B-9244-4BB9-9D12-891F50AB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7E98B-7845-419C-BCA2-C167705B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400C1A-57CA-4353-AE58-A79DA602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1FF8D5-96D7-4055-8F42-9033235D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381288-B8E9-41CA-9340-25BA3206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9215F-EF3B-492A-82E1-9AFECF6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08528-752D-45F9-BE7A-C5BABCFE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9C60C-8F83-444A-9CD7-97D9F270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B83-62F7-404B-9EFA-9DE9A63E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3AB04-8AFB-4DA7-97FF-2352D755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B27-68D9-467C-AD72-FDEB33E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3DC-49B0-488B-9AEA-389AF8D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80C-7242-43E7-982E-06D0F4D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EDF-14A3-49A0-BD9A-F8A590ED5EB3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8408-FC16-4EB4-B1E4-DFE30FBA05FD}" type="slidenum">
              <a:rPr b="0" lang="ar-SA" sz="1200" spc="-1" strike="noStrike">
                <a:solidFill>
                  <a:srgbClr val="d6ec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10EE-1E8E-4747-BC34-48CCFFE48C2F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6452-5D0F-458A-AD41-4BFF0E678CFB}" type="slidenum">
              <a:rPr b="0" lang="en-US" sz="1600" spc="-1" strike="noStrike">
                <a:solidFill>
                  <a:srgbClr val="444d2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3757-9DCB-4459-A119-D6962F565E6E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 Blo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Lectu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37520" y="23623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Chemical Examina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1295280" y="5094720"/>
            <a:ext cx="713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: Normal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: Multiple myeloma (M component in </a:t>
            </a:r>
            <a:r>
              <a:rPr b="1" lang="en-US" sz="2000" spc="-1" strike="noStrike">
                <a:solidFill>
                  <a:srgbClr val="eb8803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C: Densitometry of 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D: Densitometry of 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”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(M component is called M Sp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ciated with renal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omer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glomerular permeability causes filtration of high molecular weight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glomerulo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Tub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w tubular reabsorption with normal glomerular perme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excretion of low mol. wt.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chronic 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Orthostatic (postural)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form of benign or physiologic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s frequently in young adults due to periods spent in a vertical posture (body position) or during muscular exerci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Microalbum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0–200 mg/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y indicator of glomerular dysfunction 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controlled diabetes mellitu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yperten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 are added to the urine after kidney filt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le passing through the lower urinary tract (ureters, bladder, urethra, prostate, vagin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er urinary tract infe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on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6600" y="3808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ost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ugar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uc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gluc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diabetes mellit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lasma glucose level exceeds the renal threshold                     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renal disease (renal glucosur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rmal plasma glucose level with proximal tubular malfun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creased renal threshold as observed in gestational diabetes and Fanconi’s syndrom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Fru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fru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igh fructose intak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fructokinase or aldolase B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ala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gala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 high galactose in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galactokinase or galactose -1-PO4 uridyl transferase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ketones, acetone, acetoacetic acid and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hydroxybutyric aci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abetic ketoacido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rv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etary imbalance: high fat and low CHO di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enylketonuria (PK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08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Keto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bile, bilirubin and bile salts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Bilirub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no billirubin is detecte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detecte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bstruction of bile duct due to stones (extrahepatic) and hepatic tumors (intrahepatic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Urobilinoge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present in trace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urobilinogen is foun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lytic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Nitrit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nitrite test indicates bacteria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1320" y="3808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Chol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bloo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ute / chronic glomerulonephr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disorders of kidney and genito-urinary tr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, cystitis, renal calculi, 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ing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phil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on completion of this lecture, students should be abl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iate between normal and abnormal constituents of urine including: Proteins, sugars, ketone bodies, nitrite, bile pigments, blood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now the clinical conditions in different types of proteinuria, blood urea and glycosuria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89240" y="533520"/>
            <a:ext cx="24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Hemoglob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hemolysed blood in urin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oglobinopath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ckle cell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alass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nsfusion re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lood group incompatibil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 (multiple myeloma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lycosuria: fructosuria, galactos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to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aturia: hemoglob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4604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is a fluid excreted by most animals including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in the kidneys (renal glomerul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luid undergoes chemical changes before it is excreted as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excretion by a healthy person is about 1.5 L per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33000" y="38088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contains organic and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d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tass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lori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all amounts of Ca, Mg, sulfur and phosphat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Fe, Cu, Zn, I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n-protein nitrogen (NPN) compou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ganic aci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ga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proteins, vitamins, hormones, pigm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4040" y="38088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contains small amount of prote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&lt; 200 mg/da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more than this level causes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abnormal amounts of protein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 has three typ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2000" y="38088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Ab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diseases or conditions increase plasma protein levels not involving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increased filtration of these proteins in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exceeds the normal reabsorptive capacity of renal tubu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ults in overflow of proteins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cer of the antibody-producing plasma 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pre-ren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erum contains elevated levels of light-chain monoclonal antibodies called Bence-Jones prote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rotein is filtered in the kidneys in high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eding the tubular reabsorption capa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 excreted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nce-Jones protein coagulates at 40–6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and dissolves at 10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 cases are diagnosed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rum 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mmuno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5" name="Rectangle 4"/>
          <p:cNvSpPr/>
          <p:nvPr/>
        </p:nvSpPr>
        <p:spPr>
          <a:xfrm>
            <a:off x="2646720" y="16668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7791"/>
                </a:solidFill>
                <a:latin typeface="Constantia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57664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A: Serum protein electrophoresis showing the M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B: Serum and urine immunofixation electrophor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54:02Z</dcterms:created>
  <dc:creator/>
  <dc:description/>
  <dc:language>en-US</dc:language>
  <cp:lastModifiedBy/>
  <dcterms:modified xsi:type="dcterms:W3CDTF">2016-04-14T05:51:06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3351033</vt:lpwstr>
  </property>
</Properties>
</file>