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ar-SA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4D4E32B-1207-40A6-9004-E32026EBA84C}" type="slidenum"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E2CC123-5756-4D16-B88A-CA84AB3EFDD9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93769FA-DB7B-45AB-9E2E-5B91E987A962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DE0F987-03AE-4498-BC54-83F5ECD6B4BC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8960" y="4689360"/>
            <a:ext cx="5953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0A557EB-5C9D-42ED-B569-9E0D3DC94058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30D9AD4-CA24-44E5-B87B-FC319A6B16DA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2C5A017-BE8B-476F-97BF-CDFA5F13B742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40840" y="4562640"/>
            <a:ext cx="6242040" cy="53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AFD9E46-D140-42B7-BD04-D6A9FB0E9386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6335877-BBC6-4480-9C7C-8A1FBC9E588B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BFA2FFA-D742-4579-BF35-3653A44DED0A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C63E0D2-DC6E-45A0-8BBF-B6C595598C05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6067B18-CEBB-49A7-94E1-09B9A8728AFA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110872B-2CE6-4086-9DD8-A3017DE04108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17400" y="4711320"/>
            <a:ext cx="54374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EB6AF36-748B-4FDF-9288-E83754CF7365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6A6CFA5-7F0F-48EF-A91A-DD9C9729FB4C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4C2D8D6-0D4D-4DD0-A36C-9BF7B8FDC46E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B15B801-200B-4645-A8F2-46FF6DAC6D8B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04440" y="4689360"/>
            <a:ext cx="55134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2AAA561-2D42-488D-91AB-93693809E238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9037ED9-3FFF-443B-8841-0C9227D18576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EA129C2-C9C9-4179-AAF9-F8DCAC4B12F1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268-DC78-4F84-95C0-DF3EA4C8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D61-3603-41D9-B424-4E2DC510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D45-C601-4086-88BF-46F5A3FE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48C-1D74-417E-A3E9-EE53CE5F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6FCB-0567-45B4-A2FC-DCD5F58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914D-B5FC-4B94-8962-CC007B0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86C6-78A8-4324-AD87-FCDDEB80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1A7E-7500-453B-A9BA-FCF761E5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A6C8-E195-41C0-8A86-B4605595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703C-3DA4-4212-A6CB-997F621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2BBF-1276-4431-89AC-5D22815E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E5F-8835-4542-A361-1986BCB5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0562-34E0-4F12-870C-AA10BEF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136E-A975-49C1-95C0-C2A8454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CBD4-119B-4D5D-9CC3-45F65B2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7039-0B71-4FE6-B273-F25439B8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AF67-1EDD-4B69-A856-5A819D74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61-08E4-444E-BAD5-409684A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ADD-7D61-4ABD-B332-551EC54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9A9-6B48-4D3B-B8CE-F8118C0A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0CE-8279-42ED-B87D-8A45838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947-27C4-408F-9EB3-B4BC0DC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606-C9F0-40DB-AB91-6664D34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0C3-C721-44EC-9B7A-7110581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9560" cy="6615000"/>
            <a:chOff x="0" y="0"/>
            <a:chExt cx="9169560" cy="6615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>
                  <a:gd name="textAreaLeft" fmla="*/ 0 w 9148680"/>
                  <a:gd name="textAreaRight" fmla="*/ 9149040 w 914868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>
                  <a:gd name="textAreaLeft" fmla="*/ 0 w 1123920"/>
                  <a:gd name="textAreaRight" fmla="*/ 1124280 w 112392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354240"/>
                  <a:gd name="textAreaBottom" fmla="*/ 354240 h 354240"/>
                </a:gdLst>
                <a:ahLst/>
                <a:rect l="textAreaLeft" t="textAreaTop" r="textAreaRight" b="textAreaBottom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>
                  <a:gd name="textAreaLeft" fmla="*/ 0 w 852480"/>
                  <a:gd name="textAreaRight" fmla="*/ 852840 w 852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0" y="6477120"/>
              <a:ext cx="9169560" cy="137880"/>
              <a:chOff x="0" y="6477120"/>
              <a:chExt cx="9169560" cy="137880"/>
            </a:xfrm>
          </p:grpSpPr>
          <p:sp>
            <p:nvSpPr>
              <p:cNvPr id="25" name="Freeform 27"/>
              <p:cNvSpPr/>
              <p:nvPr/>
            </p:nvSpPr>
            <p:spPr>
              <a:xfrm>
                <a:off x="6415200" y="6500880"/>
                <a:ext cx="2754360" cy="114120"/>
              </a:xfrm>
              <a:custGeom>
                <a:avLst/>
                <a:gdLst>
                  <a:gd name="textAreaLeft" fmla="*/ 0 w 2754360"/>
                  <a:gd name="textAreaRight" fmla="*/ 2754720 w 275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2741760" y="6486480"/>
                <a:ext cx="4214520" cy="95400"/>
              </a:xfrm>
              <a:custGeom>
                <a:avLst/>
                <a:gdLst>
                  <a:gd name="textAreaLeft" fmla="*/ 0 w 4214520"/>
                  <a:gd name="textAreaRight" fmla="*/ 4214880 w 42145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6477120"/>
                <a:ext cx="3240000" cy="98280"/>
              </a:xfrm>
              <a:custGeom>
                <a:avLst/>
                <a:gdLst>
                  <a:gd name="textAreaLeft" fmla="*/ 0 w 3240000"/>
                  <a:gd name="textAreaRight" fmla="*/ 3240360 w 3240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F60D-EB78-4BD6-8A47-3F1F0D8E53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543-C8D7-4ED8-A26D-9A81E061494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Freeform 3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5AE-7050-4EDB-A749-B49C9E078691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5A2-0E31-435B-B8FF-3A9AFD0F9E51}" type="slidenum">
              <a:rPr b="0" lang="ar-SA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AEC-6634-4174-BBDC-D65452FB914F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ronary Artery Disease (CAD)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FBE2-F38C-42FC-969C-D8983F793FED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ngina Pectoris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s and Sympto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st Pa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n occur anywhere in chest; commonly retroster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Pain may radiate to the back, arms (left most common), shoulder, neck or jaw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Described as pressure, tightness or burning sensation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ten precipitated by physical exertion or stres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aybe associated with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SOB, weakness, anxiety, diaphoresis, N/V, dizziness or numbness in upper extremities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910-6A76-4B42-A476-E65BDDB79E24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ypes of Angina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1)Stable Angina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dictable, consistent pain with physical exertion &amp; relieved with rest; “my usual chest pai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2)Unstable Angina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ast longer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ed frequency / intensity of sympto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in at re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3) Preinfarction Ang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424160" indent="-203400">
              <a:lnSpc>
                <a:spcPct val="95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Lasting longer than 15 minutes /unrelieved by NTG x3 is a medical emergency!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4" marL="1830960" indent="-203400">
              <a:lnSpc>
                <a:spcPct val="95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Pt need  hospitalization for management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1C2-92C1-4167-B74D-27CE20118174}" type="datetime">
              <a:rPr b="0" lang="en-US" sz="1400" spc="-1" strike="noStrike">
                <a:solidFill>
                  <a:srgbClr val="545472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3D0-52A7-42C3-9F47-A856BC886137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1" name="Picture 2" descr="img027"/>
          <p:cNvPicPr/>
          <p:nvPr/>
        </p:nvPicPr>
        <p:blipFill>
          <a:blip r:embed="rId1"/>
          <a:srcRect l="-20546" t="-16075" r="-21096" b="-9748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52640" y="7617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Tahoma"/>
              </a:rPr>
              <a:t>Management of Unstable Angina</a:t>
            </a: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 rot="882600">
            <a:off x="2671200" y="1600560"/>
            <a:ext cx="1422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Wingdings 3"/>
                <a:ea typeface="Wingdings 3"/>
              </a:rPr>
              <a:t>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Deman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311520" y="3886200"/>
            <a:ext cx="5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33520" y="4495680"/>
            <a:ext cx="154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Beta 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Ca Chann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CE 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390760" y="38862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423160" y="4343400"/>
            <a:ext cx="12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NT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CE 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Morphi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 rot="894000">
            <a:off x="5262480" y="2286360"/>
            <a:ext cx="11430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Wingdings 3"/>
                <a:ea typeface="Wingdings 3"/>
              </a:rPr>
              <a:t>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ppl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995360" y="48006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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lood Flow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876920" y="5181480"/>
            <a:ext cx="2230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T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Ca Channel 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ticoagulant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orphi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858000" y="4800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n Occlude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teri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892160" y="2514600"/>
            <a:ext cx="5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7691400" y="5562720"/>
            <a:ext cx="541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C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304920" y="3733920"/>
            <a:ext cx="1904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ract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fter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220-F2E1-40EF-B348-820A6EE347E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anagement: Unstable Angina</a:t>
            </a: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oal is to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rease O2 supply &amp; decrease O2 demand to prevent myocardium death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C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aboratory Tes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lectroly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rdiac Enzyme Pane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ule-out MI:  every 8 hours x 3 / 6 hours x4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449-C126-448E-9EC6-DE22B873F494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anagement: Unstable Angina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1752480"/>
            <a:ext cx="8153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7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lief of Chest Pain: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“MONA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phine (drug of choic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xy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roglyceri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7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rease Coronary Artery Blood Flow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tiplatelet medic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lycoprotein (GP) IIb/IIIa Inhibito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epar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rcutaneous Coronary Intervention (PCI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F2C-3999-46F3-A0DF-4F4853575916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Pharmacologic Therapies For Angina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itrat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veins – decreases preloa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arteries – decreases afterloa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s coronary arte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dminister- spray, sublingually, PO, IV, topical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– hypoten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Nitrostat SL or Tridil (nitroglycerin),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eed a nitrate free interv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BB7-8CCD-4BA4-B9CC-89D97861D8F1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Beta blockers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duce myocardial oxygen consumption by decreasing heart rate, contractility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– hypotension, bradycardia, bronchial spasm,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Lopressor or Toprol (metoprolol),Indera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738-04BB-49FA-A690-69A57106848B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alcium channel blockers</a:t>
            </a:r>
            <a:br>
              <a:rPr sz="4000"/>
            </a:b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arteries – decreases vascular resista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crease heart rate and myocardial contractility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creases O2 consump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- hypotension, bradycardia,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Adalat or Procardia (nifedipine), Cardene (nicardipine), Cardizem (diltiazem)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AAA0-2834-4D42-AE9E-71C3DA5AF57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Tahoma"/>
              </a:rPr>
              <a:t>Antiplatelet medication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vent platelet aggregation on atheroma or thrombu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A ( Aspirin) – side effects:  GI irritation, bleeding, increased bruis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iclid (ticlopidine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lavix (clopidogrel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C1DD-BA7F-4FFA-93AD-3FBF0675B49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Tahoma"/>
              </a:rPr>
              <a:t>Anticoagulant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Hepari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iven IV in acute situations or subcutaneous in non-acute situ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partial thromboplastin time (PTT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tidote – Protamine Sulfa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bserve bleeding precau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for signs and symptoms of bleed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lf-life of 1-2 h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A273-ED2E-4B3B-9376-582B7C2117F8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ahoma"/>
              </a:rPr>
              <a:t>LEARNING OBJECTIVE 1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scuss the epidemiological factors of coronary artery disease (CAD) and define the risk factor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925-991E-4952-9603-896903F784A3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Tahoma"/>
              </a:rPr>
              <a:t>Anticoagulant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madin (warfari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d long term; given P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s do not occur for 3-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Prothrombin time (PT) or International Normalized Ratio (INR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tidote – Vitamin K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raindicated in pregnancy, clients with liver dysfunction or those at risk for bleed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3A6-33B3-4A1E-A75C-BC350E770088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Oxygen therapy</a:t>
            </a:r>
            <a:br>
              <a:rPr sz="4000"/>
            </a:b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xygen therap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ministered usually at 2 L/min per nasal cannul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es amount of O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delivered to myocardiu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8A8B-C849-4524-B64D-B8E0C64CC39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Acute Coronary Syndromes (ACS)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diseases are two typ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) chronic unstable ang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) acute coronary syndro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cute coronary syndrome is an Umbrella describes a wide range of CAD from unstable angina to acute myocardial infarction (MI)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8C32-8DD3-416B-AE6F-1926197D8D8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(MI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I is defined as irreversible death of myocardial tissue, resulting from decrease or total lack of coronary blood supply and O2 to the myocardiu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8000" indent="-31284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u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thrombosis (most comm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spas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um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vere and abrupt hypotens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749-39CE-433A-B240-3B10BF55B80C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(MI) Cont.,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s and Symptoms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2160" indent="-3060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st Pai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vere and unrelenting substernal chest pain; often radiating to the back, left arm or jaw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asting for 30 minutes or mo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ly relieved by opioid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without a know precipitating event; usually occurring in the mor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2160" indent="-30600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ociated Sympto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B, weakness, anxiety, diaphoresis, N/V, dizziness or numbness in upper extremities.</a:t>
            </a: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EF9-A0D3-4133-BC4F-0AFC4F8F9CA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Cont.,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thophysiology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rreversible cell death within 20-40 minutes of cessation of blood flow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KG changes associated with an M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schem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T wave inver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jur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ST segment elev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farctio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Pathological Q wave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4" name="Picture 4" descr="Interactive_15"/>
          <p:cNvPicPr/>
          <p:nvPr/>
        </p:nvPicPr>
        <p:blipFill>
          <a:blip r:embed="rId1">
            <a:grayscl/>
          </a:blip>
          <a:stretch/>
        </p:blipFill>
        <p:spPr>
          <a:xfrm>
            <a:off x="7056360" y="3962520"/>
            <a:ext cx="208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E0C-D2EE-4907-B179-54096B0B90A6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380880"/>
            <a:ext cx="84978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Ischemic changes on the ECG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247" name="Picture 3" descr="F3551-028-005"/>
          <p:cNvPicPr/>
          <p:nvPr/>
        </p:nvPicPr>
        <p:blipFill>
          <a:blip r:embed="rId1"/>
          <a:stretch/>
        </p:blipFill>
        <p:spPr>
          <a:xfrm>
            <a:off x="30492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A1C2-E092-4B8D-AF29-587F8B411DEF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ST Segment Elevation 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T segment elevation morphology differenc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1" name="Picture 4" descr="AAIJOOW0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A96-76E8-4351-A142-6380CC012FE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Normal Q Wav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rmal ECG waveform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5" name="Picture 4" descr="AAIJOOV0"/>
          <p:cNvPicPr/>
          <p:nvPr/>
        </p:nvPicPr>
        <p:blipFill>
          <a:blip r:embed="rId1"/>
          <a:stretch/>
        </p:blipFill>
        <p:spPr>
          <a:xfrm>
            <a:off x="2590920" y="1600200"/>
            <a:ext cx="39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4944-A066-4F36-AC77-D07E9E0C0FB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bnormal Q Wav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rmal and abnormal Q wave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9" name="Picture 4" descr="AAIJOOZ0"/>
          <p:cNvPicPr/>
          <p:nvPr/>
        </p:nvPicPr>
        <p:blipFill>
          <a:blip r:embed="rId1"/>
          <a:stretch/>
        </p:blipFill>
        <p:spPr>
          <a:xfrm>
            <a:off x="3200400" y="1600200"/>
            <a:ext cx="26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192B-704F-4FB5-903F-9B8E1DFFEFF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AD Is Leading Cause of </a:t>
            </a:r>
            <a:br>
              <a:rPr sz="4400"/>
            </a:b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Death in the U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uses one-fifth of all deaths in the US, making it the single largest kill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idence of CAD increases with 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D9AE-A823-4479-9E46-6EC00EA1B9CB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Types of Myocardial Infarctions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# according to muscle layer affected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Q wave 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Transmural: full thickness muscle wall necrosis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ften associated with a more prolonged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Non-Q wave 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artial-thickness muscle wall necrosis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ften associated with smaller, less complete occlusions. 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.e. Subendocardial- necrosis of the inner 1/3 to 1/2 of the muscle wal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222-C80E-4B46-96E5-6D0840F812D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Types of Myocardial Infarctions</a:t>
            </a:r>
            <a:r>
              <a:rPr b="0" lang="en-US" sz="46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# According to anatomical loc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8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Left Ventricl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nterior Wall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Left Anterior Descending (LAD) occlusion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Associated with left ventricular failure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rior Wal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ight Coronary Artery (RCA) occlusion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Associated with dysrhythmias &amp; conduction disturbances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Posterior Wal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CA or Circumflex Artery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8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Right Ventric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rtion of the RCA; R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D26-F4E1-4F7C-827A-B1B81816AD73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2d5b"/>
                </a:solidFill>
                <a:latin typeface="Tahoma"/>
              </a:rPr>
              <a:t>Different Types of Acute MI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892d5b"/>
                </a:solidFill>
                <a:latin typeface="Tahoma"/>
              </a:rPr>
              <a:t>and associated ECG changes</a:t>
            </a:r>
            <a:endParaRPr b="0" lang="en-US" sz="18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268" name="Picture 4" descr="leads2"/>
          <p:cNvPicPr/>
          <p:nvPr/>
        </p:nvPicPr>
        <p:blipFill>
          <a:blip r:embed="rId1"/>
          <a:stretch/>
        </p:blipFill>
        <p:spPr>
          <a:xfrm>
            <a:off x="2133720" y="2362320"/>
            <a:ext cx="478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0AFF-9004-4B2A-B507-284651766488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mplications: Post-Acute MI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ysrhythmias (Most Common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us Bradycard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ccurs in about 40% of clients after an acute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us Tachycard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ust be corrected !!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ria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AC’s or Atrial fibrillation common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ntricula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VC’s and ventricular tachycardia (VT)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V Heart Bloc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ost common with inferior wall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A87-4312-4E9A-9C42-4CD5F4E34507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ntricular Aneurys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n-contractile, thin ventricular wall = </a:t>
            </a:r>
            <a:r>
              <a:rPr b="0" lang="en-US" sz="2800" spc="-1" strike="noStrike">
                <a:solidFill>
                  <a:srgbClr val="545472"/>
                </a:solidFill>
                <a:latin typeface="Wingdings 3"/>
                <a:ea typeface="Wingdings 3"/>
              </a:rPr>
              <a:t>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SV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eads to acute heart failure, emboli and V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ntricular Septal Defec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upture of septum; shunting of bloo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/Sx: Severe CP, syncope, </a:t>
            </a:r>
            <a:r>
              <a:rPr b="0" lang="en-US" sz="2400" spc="-1" strike="noStrike">
                <a:solidFill>
                  <a:srgbClr val="545472"/>
                </a:solidFill>
                <a:latin typeface="Wingdings 3"/>
                <a:ea typeface="Wingdings 3"/>
              </a:rPr>
              <a:t>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P &amp;   murmur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edical emergency; high mortality; surgery to corre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 inflammation of the pericardial sa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9F6-031F-4FC1-B124-460A9487F05C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ronary Artery Disease (CAD)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essive disease resulting in coronary artery narrowing or total occlusi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Atherosclerosi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ost common cause of CAD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The abnormal accumulation of plaques on the vessel wall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uses narrowing then eventually blockages in the coronary arteries that reduces myocardial blood flow = CA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ymptomatic until 75% occlusion of coronary artery lume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199-9688-47AD-ADA8-592ABDFF137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AD: Risk Factors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difi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mok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ypertensio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yperlipidem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hysical inactiv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abetes Mellitu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bes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 / Anxie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e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n-Modifi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ing 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ales  &gt;45 years ol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emales &gt;55 years ol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n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ffects both men and women; #1 killer is U.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ne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trong genetic componen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thnic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n-whites increased incidences versus whit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C96-6C9C-4BB5-90A3-C9E2562E2B8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LEARNING OBJECTIVE 2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pathophysiology of CAD/ischemic heart disease and explain the interventions used when evaluating a patient with angina pectori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ADA9-1BF5-4EE3-AA31-10C1FD5C258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ngina Pectoris </a:t>
            </a: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As CAD progresses the atherosclerotic plagues become significant, reducing blood flow to portions of the myocardium = Ischemia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chemia clinically manifests most often as angina (chest pain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gina pectoris is =myocardial ischemia without cellular deat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8409-EA57-4291-AC01-C9929B4A775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59" descr="img026"/>
          <p:cNvPicPr/>
          <p:nvPr/>
        </p:nvPicPr>
        <p:blipFill>
          <a:blip r:embed="rId1"/>
          <a:stretch/>
        </p:blipFill>
        <p:spPr>
          <a:xfrm>
            <a:off x="1219320" y="914400"/>
            <a:ext cx="6902280" cy="5380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4" name="Text Box 61"/>
          <p:cNvSpPr/>
          <p:nvPr/>
        </p:nvSpPr>
        <p:spPr>
          <a:xfrm>
            <a:off x="2362320" y="350532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023200" y="938160"/>
            <a:ext cx="52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yocardial Oxyge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ly and Demand Bal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2971800" y="2209680"/>
            <a:ext cx="116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19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Text Box 65"/>
          <p:cNvSpPr/>
          <p:nvPr/>
        </p:nvSpPr>
        <p:spPr>
          <a:xfrm>
            <a:off x="5154120" y="22096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Text Box 66"/>
          <p:cNvSpPr/>
          <p:nvPr/>
        </p:nvSpPr>
        <p:spPr>
          <a:xfrm>
            <a:off x="6095880" y="350532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67"/>
          <p:cNvSpPr/>
          <p:nvPr/>
        </p:nvSpPr>
        <p:spPr>
          <a:xfrm>
            <a:off x="5068440" y="4343400"/>
            <a:ext cx="113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eri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Text Box 70"/>
          <p:cNvSpPr/>
          <p:nvPr/>
        </p:nvSpPr>
        <p:spPr>
          <a:xfrm>
            <a:off x="1329840" y="42670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Text Box 71"/>
          <p:cNvSpPr/>
          <p:nvPr/>
        </p:nvSpPr>
        <p:spPr>
          <a:xfrm>
            <a:off x="2926080" y="42670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6657840" y="4343400"/>
            <a:ext cx="14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ona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e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flow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Text Box 72"/>
          <p:cNvSpPr/>
          <p:nvPr/>
        </p:nvSpPr>
        <p:spPr>
          <a:xfrm>
            <a:off x="1167120" y="49528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Text Box 73"/>
          <p:cNvSpPr/>
          <p:nvPr/>
        </p:nvSpPr>
        <p:spPr>
          <a:xfrm>
            <a:off x="2800080" y="4800600"/>
            <a:ext cx="9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rt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Line 77"/>
          <p:cNvSpPr/>
          <p:nvPr/>
        </p:nvSpPr>
        <p:spPr>
          <a:xfrm>
            <a:off x="2438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Line 81"/>
          <p:cNvSpPr/>
          <p:nvPr/>
        </p:nvSpPr>
        <p:spPr>
          <a:xfrm>
            <a:off x="28954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174000" y="419112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Text Box 83"/>
          <p:cNvSpPr/>
          <p:nvPr/>
        </p:nvSpPr>
        <p:spPr>
          <a:xfrm>
            <a:off x="6554880" y="419112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1486-38AB-4885-B3DD-36C8186C9F90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Precipitating Factors of  Angina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y situation where oxygen demands are increased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Physical exertion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Tachycardia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Dysrhythmias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Cold weather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Eating a heavy meal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Stress or emotional states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17:34:17Z</dcterms:created>
  <dc:creator>Sherry Burrell</dc:creator>
  <dc:description/>
  <dc:language>en-US</dc:language>
  <cp:lastModifiedBy>ksu</cp:lastModifiedBy>
  <dcterms:modified xsi:type="dcterms:W3CDTF">2011-10-02T08:02:38Z</dcterms:modified>
  <cp:revision>792</cp:revision>
  <dc:subject/>
  <dc:title>The Client with Altered Cardiac Output </dc:title>
</cp:coreProperties>
</file>