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ar-SA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B0E010D-E8C4-4B95-9370-1782A19E1947}" type="slidenum">
              <a:rPr b="0" lang="ar-SA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9CC5A52-D9BC-46A9-8A46-38E1A4B0B171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DE2AFF3-E007-479E-BC57-22F95C3AE4D0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2155BEC-6215-458C-8E47-A31CFD2859D8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8960" y="4689360"/>
            <a:ext cx="59533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6B01D01-FBF6-4FAC-8C0E-EE279715B5F1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16B213D-0595-4925-A0DF-C3FF94330667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3DBA90D-7827-4A98-A200-634CF709F607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240840" y="4562640"/>
            <a:ext cx="6242040" cy="53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157A107-BDA4-40C8-9D85-27F74D242A7F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F565D06-2BA6-49E6-B9E1-AEADDB0AAFED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B27A8102-A6A1-43A4-869D-60136DCDAC14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775806C-376D-408A-891B-4EE855C691E6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40AB8EA-F068-4245-A955-C725FF06846F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9CFDEE1-AD45-4D5E-AF49-154221C270DD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17400" y="4711320"/>
            <a:ext cx="54374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AC96EB1-7793-4C42-8377-BAEC4D6E168E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DD140DD-1AD3-4DF9-B46D-6F97788F59CC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9991830-2371-4770-A60E-4A72DCDC39FB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31462DF-EBA8-4249-B3A0-EB6DB4F10979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04440" y="4689360"/>
            <a:ext cx="55134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C12A540-DF8C-4EEE-9740-8F9B0C9FDFBD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8449309-504C-40DA-9537-4D68C6205687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EB0FC3C6-0999-44A6-AFA2-0E81826D3EEC}" type="slidenum">
              <a:rPr b="0" lang="ar-SA" sz="1300" spc="-1" strike="noStrike">
                <a:solidFill>
                  <a:srgbClr val="545472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155-F85D-47D1-91C9-9DFBB792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9DA-69BB-46DF-AFC6-EDAF3A50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BA7-86A5-4905-8D7C-F37DC82F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0D1-98E0-496F-93BF-18EA59BF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67AE-65BD-4167-AC17-6E0CABBF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2DFD-56F3-44AC-912D-93F195AB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D55A-C3A6-41C3-B9AF-829C60CD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E03A-6EF1-4E2F-96EB-87B0EDDE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AC25-D033-4F67-8F24-FFEC36E1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573D-FB0F-4300-8810-7EBE5B94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86CE-174E-44CD-802E-165B7971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F20-9C0B-4472-A024-2A707CCB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EAB8-07CC-4420-BB23-863B289C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A874-F45C-4A29-85D3-5FCDDC1A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32AD-D97B-43DD-8DA8-F71B53D2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AA95-C607-4AD6-BA48-3634D14E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432E-0881-4F90-AB8C-4B26DC72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C04-8CF5-46CB-A8FD-D056C9F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D65-58E0-4281-8304-98ADC407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D1E-906B-4430-85A7-F76BE32D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E21-2338-4321-BE29-8D334A44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75F-718B-41AA-ACAB-7D2DF597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D1B-FF90-4E14-8BB1-F74F673B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A79-E4CA-47DE-84DF-5CA442A5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9560" cy="6615000"/>
            <a:chOff x="0" y="0"/>
            <a:chExt cx="9169560" cy="6615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56600" cy="757080"/>
              <a:chOff x="0" y="0"/>
              <a:chExt cx="9156600" cy="7570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7920" y="0"/>
                <a:ext cx="9148680" cy="757080"/>
              </a:xfrm>
              <a:custGeom>
                <a:avLst/>
                <a:gdLst>
                  <a:gd name="textAreaLeft" fmla="*/ 0 w 9148680"/>
                  <a:gd name="textAreaRight" fmla="*/ 9149040 w 9148680"/>
                  <a:gd name="textAreaTop" fmla="*/ 0 h 757080"/>
                  <a:gd name="textAreaBottom" fmla="*/ 757440 h 757080"/>
                </a:gdLst>
                <a:ahLst/>
                <a:rect l="textAreaLeft" t="textAreaTop" r="textAreaRight" b="textAreaBottom"/>
                <a:pathLst>
                  <a:path w="5763" h="477">
                    <a:moveTo>
                      <a:pt x="0" y="450"/>
                    </a:moveTo>
                    <a:lnTo>
                      <a:pt x="3" y="0"/>
                    </a:lnTo>
                    <a:lnTo>
                      <a:pt x="5763" y="0"/>
                    </a:lnTo>
                    <a:lnTo>
                      <a:pt x="5763" y="465"/>
                    </a:lnTo>
                    <a:lnTo>
                      <a:pt x="4821" y="477"/>
                    </a:lnTo>
                    <a:lnTo>
                      <a:pt x="4326" y="447"/>
                    </a:lnTo>
                    <a:lnTo>
                      <a:pt x="3783" y="465"/>
                    </a:lnTo>
                    <a:lnTo>
                      <a:pt x="3417" y="456"/>
                    </a:lnTo>
                    <a:lnTo>
                      <a:pt x="2973" y="459"/>
                    </a:lnTo>
                    <a:lnTo>
                      <a:pt x="2451" y="453"/>
                    </a:lnTo>
                    <a:lnTo>
                      <a:pt x="2289" y="441"/>
                    </a:lnTo>
                    <a:lnTo>
                      <a:pt x="2010" y="453"/>
                    </a:lnTo>
                    <a:lnTo>
                      <a:pt x="1827" y="450"/>
                    </a:lnTo>
                    <a:lnTo>
                      <a:pt x="1215" y="465"/>
                    </a:lnTo>
                    <a:lnTo>
                      <a:pt x="660" y="456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c7c7d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0" y="155520"/>
                <a:ext cx="406440" cy="40176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401760"/>
                  <a:gd name="textAreaBottom" fmla="*/ 402120 h 401760"/>
                </a:gdLst>
                <a:ahLst/>
                <a:rect l="textAreaLeft" t="textAreaTop" r="textAreaRight" b="textAreaBottom"/>
                <a:pathLst>
                  <a:path w="256" h="253">
                    <a:moveTo>
                      <a:pt x="8" y="190"/>
                    </a:moveTo>
                    <a:cubicBezTo>
                      <a:pt x="16" y="168"/>
                      <a:pt x="38" y="144"/>
                      <a:pt x="71" y="115"/>
                    </a:cubicBezTo>
                    <a:cubicBezTo>
                      <a:pt x="104" y="86"/>
                      <a:pt x="173" y="32"/>
                      <a:pt x="203" y="16"/>
                    </a:cubicBezTo>
                    <a:cubicBezTo>
                      <a:pt x="233" y="0"/>
                      <a:pt x="246" y="14"/>
                      <a:pt x="251" y="19"/>
                    </a:cubicBezTo>
                    <a:cubicBezTo>
                      <a:pt x="256" y="24"/>
                      <a:pt x="249" y="35"/>
                      <a:pt x="236" y="46"/>
                    </a:cubicBezTo>
                    <a:cubicBezTo>
                      <a:pt x="223" y="57"/>
                      <a:pt x="200" y="64"/>
                      <a:pt x="176" y="82"/>
                    </a:cubicBezTo>
                    <a:cubicBezTo>
                      <a:pt x="152" y="100"/>
                      <a:pt x="118" y="126"/>
                      <a:pt x="92" y="154"/>
                    </a:cubicBezTo>
                    <a:cubicBezTo>
                      <a:pt x="66" y="182"/>
                      <a:pt x="36" y="241"/>
                      <a:pt x="23" y="247"/>
                    </a:cubicBezTo>
                    <a:cubicBezTo>
                      <a:pt x="10" y="253"/>
                      <a:pt x="0" y="212"/>
                      <a:pt x="8" y="19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88920" y="0"/>
                <a:ext cx="1123920" cy="728640"/>
              </a:xfrm>
              <a:custGeom>
                <a:avLst/>
                <a:gdLst>
                  <a:gd name="textAreaLeft" fmla="*/ 0 w 1123920"/>
                  <a:gd name="textAreaRight" fmla="*/ 1124280 w 1123920"/>
                  <a:gd name="textAreaTop" fmla="*/ 0 h 728640"/>
                  <a:gd name="textAreaBottom" fmla="*/ 729000 h 728640"/>
                </a:gdLst>
                <a:ahLst/>
                <a:rect l="textAreaLeft" t="textAreaTop" r="textAreaRight" b="textAreaBottom"/>
                <a:pathLst>
                  <a:path w="708" h="459">
                    <a:moveTo>
                      <a:pt x="0" y="432"/>
                    </a:moveTo>
                    <a:lnTo>
                      <a:pt x="0" y="453"/>
                    </a:lnTo>
                    <a:cubicBezTo>
                      <a:pt x="12" y="435"/>
                      <a:pt x="39" y="366"/>
                      <a:pt x="72" y="324"/>
                    </a:cubicBezTo>
                    <a:cubicBezTo>
                      <a:pt x="105" y="282"/>
                      <a:pt x="149" y="238"/>
                      <a:pt x="198" y="201"/>
                    </a:cubicBezTo>
                    <a:cubicBezTo>
                      <a:pt x="247" y="164"/>
                      <a:pt x="311" y="129"/>
                      <a:pt x="366" y="102"/>
                    </a:cubicBezTo>
                    <a:cubicBezTo>
                      <a:pt x="421" y="75"/>
                      <a:pt x="490" y="53"/>
                      <a:pt x="531" y="36"/>
                    </a:cubicBezTo>
                    <a:cubicBezTo>
                      <a:pt x="572" y="19"/>
                      <a:pt x="580" y="5"/>
                      <a:pt x="609" y="0"/>
                    </a:cubicBezTo>
                    <a:lnTo>
                      <a:pt x="708" y="3"/>
                    </a:lnTo>
                    <a:cubicBezTo>
                      <a:pt x="705" y="14"/>
                      <a:pt x="640" y="45"/>
                      <a:pt x="591" y="66"/>
                    </a:cubicBezTo>
                    <a:cubicBezTo>
                      <a:pt x="542" y="87"/>
                      <a:pt x="476" y="98"/>
                      <a:pt x="417" y="126"/>
                    </a:cubicBezTo>
                    <a:cubicBezTo>
                      <a:pt x="358" y="154"/>
                      <a:pt x="287" y="195"/>
                      <a:pt x="237" y="231"/>
                    </a:cubicBezTo>
                    <a:cubicBezTo>
                      <a:pt x="187" y="267"/>
                      <a:pt x="148" y="307"/>
                      <a:pt x="117" y="345"/>
                    </a:cubicBezTo>
                    <a:cubicBezTo>
                      <a:pt x="86" y="383"/>
                      <a:pt x="70" y="441"/>
                      <a:pt x="51" y="459"/>
                    </a:cubicBezTo>
                    <a:lnTo>
                      <a:pt x="0" y="453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208080" y="426960"/>
                <a:ext cx="398520" cy="30816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51" h="194">
                    <a:moveTo>
                      <a:pt x="21" y="163"/>
                    </a:moveTo>
                    <a:cubicBezTo>
                      <a:pt x="10" y="178"/>
                      <a:pt x="0" y="194"/>
                      <a:pt x="9" y="184"/>
                    </a:cubicBezTo>
                    <a:cubicBezTo>
                      <a:pt x="18" y="174"/>
                      <a:pt x="49" y="129"/>
                      <a:pt x="75" y="103"/>
                    </a:cubicBezTo>
                    <a:cubicBezTo>
                      <a:pt x="101" y="77"/>
                      <a:pt x="143" y="44"/>
                      <a:pt x="165" y="28"/>
                    </a:cubicBezTo>
                    <a:cubicBezTo>
                      <a:pt x="187" y="12"/>
                      <a:pt x="194" y="11"/>
                      <a:pt x="207" y="7"/>
                    </a:cubicBezTo>
                    <a:cubicBezTo>
                      <a:pt x="220" y="3"/>
                      <a:pt x="241" y="0"/>
                      <a:pt x="246" y="4"/>
                    </a:cubicBezTo>
                    <a:cubicBezTo>
                      <a:pt x="251" y="8"/>
                      <a:pt x="247" y="25"/>
                      <a:pt x="237" y="34"/>
                    </a:cubicBezTo>
                    <a:cubicBezTo>
                      <a:pt x="227" y="43"/>
                      <a:pt x="204" y="46"/>
                      <a:pt x="183" y="61"/>
                    </a:cubicBezTo>
                    <a:cubicBezTo>
                      <a:pt x="162" y="76"/>
                      <a:pt x="129" y="103"/>
                      <a:pt x="108" y="124"/>
                    </a:cubicBezTo>
                    <a:cubicBezTo>
                      <a:pt x="87" y="145"/>
                      <a:pt x="71" y="180"/>
                      <a:pt x="54" y="190"/>
                    </a:cubicBezTo>
                    <a:lnTo>
                      <a:pt x="6" y="184"/>
                    </a:ln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41440" y="0"/>
                <a:ext cx="252360" cy="1144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59" h="72">
                    <a:moveTo>
                      <a:pt x="99" y="0"/>
                    </a:moveTo>
                    <a:cubicBezTo>
                      <a:pt x="75" y="6"/>
                      <a:pt x="30" y="26"/>
                      <a:pt x="15" y="36"/>
                    </a:cubicBezTo>
                    <a:cubicBezTo>
                      <a:pt x="0" y="46"/>
                      <a:pt x="3" y="55"/>
                      <a:pt x="6" y="60"/>
                    </a:cubicBezTo>
                    <a:cubicBezTo>
                      <a:pt x="9" y="65"/>
                      <a:pt x="23" y="72"/>
                      <a:pt x="36" y="69"/>
                    </a:cubicBezTo>
                    <a:cubicBezTo>
                      <a:pt x="49" y="66"/>
                      <a:pt x="67" y="53"/>
                      <a:pt x="87" y="42"/>
                    </a:cubicBezTo>
                    <a:cubicBezTo>
                      <a:pt x="107" y="31"/>
                      <a:pt x="158" y="6"/>
                      <a:pt x="159" y="0"/>
                    </a:cubicBezTo>
                    <a:lnTo>
                      <a:pt x="9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774720" y="0"/>
                <a:ext cx="722160" cy="343080"/>
              </a:xfrm>
              <a:custGeom>
                <a:avLst/>
                <a:gdLst>
                  <a:gd name="textAreaLeft" fmla="*/ 0 w 722160"/>
                  <a:gd name="textAreaRight" fmla="*/ 722520 w 7221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455" h="216">
                    <a:moveTo>
                      <a:pt x="395" y="0"/>
                    </a:moveTo>
                    <a:cubicBezTo>
                      <a:pt x="376" y="8"/>
                      <a:pt x="364" y="31"/>
                      <a:pt x="338" y="48"/>
                    </a:cubicBezTo>
                    <a:cubicBezTo>
                      <a:pt x="312" y="65"/>
                      <a:pt x="281" y="86"/>
                      <a:pt x="242" y="102"/>
                    </a:cubicBezTo>
                    <a:cubicBezTo>
                      <a:pt x="203" y="118"/>
                      <a:pt x="138" y="136"/>
                      <a:pt x="104" y="147"/>
                    </a:cubicBezTo>
                    <a:cubicBezTo>
                      <a:pt x="70" y="158"/>
                      <a:pt x="51" y="161"/>
                      <a:pt x="35" y="168"/>
                    </a:cubicBezTo>
                    <a:cubicBezTo>
                      <a:pt x="19" y="175"/>
                      <a:pt x="12" y="185"/>
                      <a:pt x="8" y="192"/>
                    </a:cubicBezTo>
                    <a:cubicBezTo>
                      <a:pt x="4" y="199"/>
                      <a:pt x="0" y="210"/>
                      <a:pt x="8" y="213"/>
                    </a:cubicBezTo>
                    <a:cubicBezTo>
                      <a:pt x="16" y="216"/>
                      <a:pt x="46" y="216"/>
                      <a:pt x="59" y="213"/>
                    </a:cubicBezTo>
                    <a:cubicBezTo>
                      <a:pt x="72" y="210"/>
                      <a:pt x="67" y="201"/>
                      <a:pt x="86" y="192"/>
                    </a:cubicBezTo>
                    <a:cubicBezTo>
                      <a:pt x="105" y="183"/>
                      <a:pt x="138" y="170"/>
                      <a:pt x="173" y="159"/>
                    </a:cubicBezTo>
                    <a:cubicBezTo>
                      <a:pt x="208" y="148"/>
                      <a:pt x="263" y="140"/>
                      <a:pt x="299" y="126"/>
                    </a:cubicBezTo>
                    <a:cubicBezTo>
                      <a:pt x="335" y="112"/>
                      <a:pt x="366" y="93"/>
                      <a:pt x="392" y="72"/>
                    </a:cubicBezTo>
                    <a:cubicBezTo>
                      <a:pt x="418" y="51"/>
                      <a:pt x="454" y="12"/>
                      <a:pt x="455" y="0"/>
                    </a:cubicBezTo>
                    <a:lnTo>
                      <a:pt x="39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2298600" y="58680"/>
                <a:ext cx="657360" cy="17136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414" h="108">
                    <a:moveTo>
                      <a:pt x="0" y="11"/>
                    </a:moveTo>
                    <a:lnTo>
                      <a:pt x="24" y="11"/>
                    </a:lnTo>
                    <a:cubicBezTo>
                      <a:pt x="50" y="9"/>
                      <a:pt x="112" y="0"/>
                      <a:pt x="156" y="2"/>
                    </a:cubicBezTo>
                    <a:cubicBezTo>
                      <a:pt x="200" y="4"/>
                      <a:pt x="250" y="15"/>
                      <a:pt x="288" y="23"/>
                    </a:cubicBezTo>
                    <a:cubicBezTo>
                      <a:pt x="326" y="31"/>
                      <a:pt x="363" y="44"/>
                      <a:pt x="384" y="53"/>
                    </a:cubicBezTo>
                    <a:cubicBezTo>
                      <a:pt x="405" y="62"/>
                      <a:pt x="408" y="66"/>
                      <a:pt x="411" y="74"/>
                    </a:cubicBezTo>
                    <a:cubicBezTo>
                      <a:pt x="414" y="82"/>
                      <a:pt x="413" y="100"/>
                      <a:pt x="405" y="104"/>
                    </a:cubicBezTo>
                    <a:cubicBezTo>
                      <a:pt x="397" y="108"/>
                      <a:pt x="381" y="105"/>
                      <a:pt x="363" y="101"/>
                    </a:cubicBezTo>
                    <a:cubicBezTo>
                      <a:pt x="345" y="97"/>
                      <a:pt x="325" y="85"/>
                      <a:pt x="294" y="77"/>
                    </a:cubicBezTo>
                    <a:cubicBezTo>
                      <a:pt x="263" y="69"/>
                      <a:pt x="211" y="53"/>
                      <a:pt x="174" y="50"/>
                    </a:cubicBezTo>
                    <a:cubicBezTo>
                      <a:pt x="137" y="47"/>
                      <a:pt x="95" y="61"/>
                      <a:pt x="72" y="62"/>
                    </a:cubicBezTo>
                    <a:cubicBezTo>
                      <a:pt x="49" y="63"/>
                      <a:pt x="48" y="66"/>
                      <a:pt x="36" y="59"/>
                    </a:cubicBezTo>
                    <a:cubicBezTo>
                      <a:pt x="24" y="52"/>
                      <a:pt x="13" y="36"/>
                      <a:pt x="0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2841480" y="0"/>
                <a:ext cx="825480" cy="35712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520" h="225">
                    <a:moveTo>
                      <a:pt x="42" y="0"/>
                    </a:moveTo>
                    <a:cubicBezTo>
                      <a:pt x="24" y="4"/>
                      <a:pt x="0" y="15"/>
                      <a:pt x="12" y="24"/>
                    </a:cubicBezTo>
                    <a:cubicBezTo>
                      <a:pt x="24" y="33"/>
                      <a:pt x="76" y="39"/>
                      <a:pt x="114" y="54"/>
                    </a:cubicBezTo>
                    <a:cubicBezTo>
                      <a:pt x="152" y="69"/>
                      <a:pt x="203" y="100"/>
                      <a:pt x="240" y="117"/>
                    </a:cubicBezTo>
                    <a:cubicBezTo>
                      <a:pt x="277" y="134"/>
                      <a:pt x="300" y="136"/>
                      <a:pt x="333" y="153"/>
                    </a:cubicBezTo>
                    <a:cubicBezTo>
                      <a:pt x="366" y="170"/>
                      <a:pt x="423" y="213"/>
                      <a:pt x="438" y="219"/>
                    </a:cubicBezTo>
                    <a:cubicBezTo>
                      <a:pt x="453" y="225"/>
                      <a:pt x="426" y="198"/>
                      <a:pt x="426" y="192"/>
                    </a:cubicBezTo>
                    <a:cubicBezTo>
                      <a:pt x="426" y="186"/>
                      <a:pt x="426" y="176"/>
                      <a:pt x="441" y="180"/>
                    </a:cubicBezTo>
                    <a:cubicBezTo>
                      <a:pt x="456" y="184"/>
                      <a:pt x="518" y="219"/>
                      <a:pt x="519" y="216"/>
                    </a:cubicBezTo>
                    <a:cubicBezTo>
                      <a:pt x="520" y="213"/>
                      <a:pt x="473" y="176"/>
                      <a:pt x="450" y="162"/>
                    </a:cubicBezTo>
                    <a:cubicBezTo>
                      <a:pt x="427" y="148"/>
                      <a:pt x="408" y="148"/>
                      <a:pt x="381" y="135"/>
                    </a:cubicBezTo>
                    <a:cubicBezTo>
                      <a:pt x="354" y="122"/>
                      <a:pt x="318" y="104"/>
                      <a:pt x="285" y="84"/>
                    </a:cubicBezTo>
                    <a:cubicBezTo>
                      <a:pt x="252" y="64"/>
                      <a:pt x="213" y="32"/>
                      <a:pt x="186" y="18"/>
                    </a:cubicBezTo>
                    <a:cubicBezTo>
                      <a:pt x="159" y="4"/>
                      <a:pt x="147" y="2"/>
                      <a:pt x="123" y="0"/>
                    </a:cubicBez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084480" y="244440"/>
                <a:ext cx="684360" cy="37008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w="431" h="233">
                    <a:moveTo>
                      <a:pt x="6" y="38"/>
                    </a:moveTo>
                    <a:cubicBezTo>
                      <a:pt x="0" y="26"/>
                      <a:pt x="3" y="26"/>
                      <a:pt x="9" y="20"/>
                    </a:cubicBezTo>
                    <a:cubicBezTo>
                      <a:pt x="15" y="14"/>
                      <a:pt x="29" y="0"/>
                      <a:pt x="42" y="2"/>
                    </a:cubicBezTo>
                    <a:cubicBezTo>
                      <a:pt x="55" y="4"/>
                      <a:pt x="66" y="21"/>
                      <a:pt x="90" y="35"/>
                    </a:cubicBezTo>
                    <a:cubicBezTo>
                      <a:pt x="114" y="49"/>
                      <a:pt x="156" y="72"/>
                      <a:pt x="189" y="89"/>
                    </a:cubicBezTo>
                    <a:cubicBezTo>
                      <a:pt x="222" y="106"/>
                      <a:pt x="257" y="126"/>
                      <a:pt x="288" y="140"/>
                    </a:cubicBezTo>
                    <a:cubicBezTo>
                      <a:pt x="319" y="154"/>
                      <a:pt x="357" y="170"/>
                      <a:pt x="375" y="176"/>
                    </a:cubicBezTo>
                    <a:cubicBezTo>
                      <a:pt x="393" y="182"/>
                      <a:pt x="387" y="170"/>
                      <a:pt x="396" y="176"/>
                    </a:cubicBezTo>
                    <a:cubicBezTo>
                      <a:pt x="405" y="182"/>
                      <a:pt x="427" y="203"/>
                      <a:pt x="429" y="212"/>
                    </a:cubicBezTo>
                    <a:cubicBezTo>
                      <a:pt x="431" y="221"/>
                      <a:pt x="424" y="233"/>
                      <a:pt x="408" y="233"/>
                    </a:cubicBezTo>
                    <a:cubicBezTo>
                      <a:pt x="392" y="233"/>
                      <a:pt x="370" y="227"/>
                      <a:pt x="333" y="212"/>
                    </a:cubicBezTo>
                    <a:cubicBezTo>
                      <a:pt x="296" y="197"/>
                      <a:pt x="234" y="167"/>
                      <a:pt x="186" y="143"/>
                    </a:cubicBezTo>
                    <a:cubicBezTo>
                      <a:pt x="138" y="119"/>
                      <a:pt x="78" y="86"/>
                      <a:pt x="48" y="68"/>
                    </a:cubicBezTo>
                    <a:cubicBezTo>
                      <a:pt x="18" y="50"/>
                      <a:pt x="12" y="50"/>
                      <a:pt x="6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591000" y="138240"/>
                <a:ext cx="628560" cy="36036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96" h="227">
                    <a:moveTo>
                      <a:pt x="2" y="9"/>
                    </a:moveTo>
                    <a:cubicBezTo>
                      <a:pt x="4" y="18"/>
                      <a:pt x="24" y="45"/>
                      <a:pt x="53" y="66"/>
                    </a:cubicBezTo>
                    <a:cubicBezTo>
                      <a:pt x="82" y="87"/>
                      <a:pt x="136" y="111"/>
                      <a:pt x="176" y="132"/>
                    </a:cubicBezTo>
                    <a:cubicBezTo>
                      <a:pt x="216" y="153"/>
                      <a:pt x="266" y="174"/>
                      <a:pt x="293" y="189"/>
                    </a:cubicBezTo>
                    <a:cubicBezTo>
                      <a:pt x="320" y="204"/>
                      <a:pt x="327" y="217"/>
                      <a:pt x="341" y="222"/>
                    </a:cubicBezTo>
                    <a:cubicBezTo>
                      <a:pt x="355" y="227"/>
                      <a:pt x="371" y="226"/>
                      <a:pt x="377" y="219"/>
                    </a:cubicBezTo>
                    <a:cubicBezTo>
                      <a:pt x="383" y="212"/>
                      <a:pt x="396" y="195"/>
                      <a:pt x="377" y="180"/>
                    </a:cubicBezTo>
                    <a:cubicBezTo>
                      <a:pt x="358" y="165"/>
                      <a:pt x="304" y="147"/>
                      <a:pt x="260" y="126"/>
                    </a:cubicBezTo>
                    <a:cubicBezTo>
                      <a:pt x="216" y="105"/>
                      <a:pt x="149" y="70"/>
                      <a:pt x="113" y="51"/>
                    </a:cubicBezTo>
                    <a:cubicBezTo>
                      <a:pt x="77" y="32"/>
                      <a:pt x="60" y="17"/>
                      <a:pt x="41" y="9"/>
                    </a:cubicBezTo>
                    <a:cubicBezTo>
                      <a:pt x="22" y="1"/>
                      <a:pt x="0" y="0"/>
                      <a:pt x="2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594240" y="380880"/>
                <a:ext cx="819000" cy="35424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354240"/>
                  <a:gd name="textAreaBottom" fmla="*/ 354240 h 354240"/>
                </a:gdLst>
                <a:ahLst/>
                <a:rect l="textAreaLeft" t="textAreaTop" r="textAreaRight" b="textAreaBottom"/>
                <a:pathLst>
                  <a:path w="516" h="223">
                    <a:moveTo>
                      <a:pt x="3" y="10"/>
                    </a:moveTo>
                    <a:cubicBezTo>
                      <a:pt x="0" y="20"/>
                      <a:pt x="65" y="69"/>
                      <a:pt x="105" y="97"/>
                    </a:cubicBezTo>
                    <a:cubicBezTo>
                      <a:pt x="145" y="125"/>
                      <a:pt x="201" y="158"/>
                      <a:pt x="243" y="178"/>
                    </a:cubicBezTo>
                    <a:cubicBezTo>
                      <a:pt x="285" y="198"/>
                      <a:pt x="315" y="211"/>
                      <a:pt x="357" y="217"/>
                    </a:cubicBezTo>
                    <a:cubicBezTo>
                      <a:pt x="399" y="223"/>
                      <a:pt x="480" y="219"/>
                      <a:pt x="498" y="214"/>
                    </a:cubicBezTo>
                    <a:cubicBezTo>
                      <a:pt x="516" y="209"/>
                      <a:pt x="499" y="200"/>
                      <a:pt x="468" y="187"/>
                    </a:cubicBezTo>
                    <a:cubicBezTo>
                      <a:pt x="437" y="174"/>
                      <a:pt x="366" y="161"/>
                      <a:pt x="309" y="136"/>
                    </a:cubicBezTo>
                    <a:cubicBezTo>
                      <a:pt x="252" y="111"/>
                      <a:pt x="172" y="54"/>
                      <a:pt x="123" y="34"/>
                    </a:cubicBezTo>
                    <a:cubicBezTo>
                      <a:pt x="74" y="14"/>
                      <a:pt x="6" y="0"/>
                      <a:pt x="3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322880" y="514440"/>
                <a:ext cx="657000" cy="158760"/>
              </a:xfrm>
              <a:custGeom>
                <a:avLst/>
                <a:gdLst>
                  <a:gd name="textAreaLeft" fmla="*/ 0 w 657000"/>
                  <a:gd name="textAreaRight" fmla="*/ 657360 w 657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414" h="100">
                    <a:moveTo>
                      <a:pt x="69" y="60"/>
                    </a:moveTo>
                    <a:cubicBezTo>
                      <a:pt x="39" y="52"/>
                      <a:pt x="23" y="49"/>
                      <a:pt x="12" y="42"/>
                    </a:cubicBezTo>
                    <a:cubicBezTo>
                      <a:pt x="1" y="35"/>
                      <a:pt x="0" y="22"/>
                      <a:pt x="3" y="15"/>
                    </a:cubicBezTo>
                    <a:cubicBezTo>
                      <a:pt x="6" y="8"/>
                      <a:pt x="11" y="0"/>
                      <a:pt x="30" y="0"/>
                    </a:cubicBezTo>
                    <a:cubicBezTo>
                      <a:pt x="49" y="0"/>
                      <a:pt x="82" y="10"/>
                      <a:pt x="117" y="18"/>
                    </a:cubicBezTo>
                    <a:cubicBezTo>
                      <a:pt x="152" y="26"/>
                      <a:pt x="198" y="43"/>
                      <a:pt x="243" y="48"/>
                    </a:cubicBezTo>
                    <a:cubicBezTo>
                      <a:pt x="288" y="53"/>
                      <a:pt x="360" y="47"/>
                      <a:pt x="387" y="48"/>
                    </a:cubicBezTo>
                    <a:cubicBezTo>
                      <a:pt x="414" y="49"/>
                      <a:pt x="409" y="48"/>
                      <a:pt x="408" y="54"/>
                    </a:cubicBezTo>
                    <a:cubicBezTo>
                      <a:pt x="407" y="60"/>
                      <a:pt x="396" y="80"/>
                      <a:pt x="381" y="87"/>
                    </a:cubicBezTo>
                    <a:cubicBezTo>
                      <a:pt x="366" y="94"/>
                      <a:pt x="349" y="98"/>
                      <a:pt x="318" y="99"/>
                    </a:cubicBezTo>
                    <a:cubicBezTo>
                      <a:pt x="287" y="100"/>
                      <a:pt x="237" y="99"/>
                      <a:pt x="195" y="93"/>
                    </a:cubicBezTo>
                    <a:cubicBezTo>
                      <a:pt x="153" y="87"/>
                      <a:pt x="99" y="68"/>
                      <a:pt x="69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5024520" y="595440"/>
                <a:ext cx="237960" cy="11412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50" h="72">
                    <a:moveTo>
                      <a:pt x="3" y="67"/>
                    </a:moveTo>
                    <a:cubicBezTo>
                      <a:pt x="16" y="59"/>
                      <a:pt x="64" y="30"/>
                      <a:pt x="84" y="19"/>
                    </a:cubicBezTo>
                    <a:cubicBezTo>
                      <a:pt x="104" y="8"/>
                      <a:pt x="112" y="0"/>
                      <a:pt x="123" y="1"/>
                    </a:cubicBezTo>
                    <a:cubicBezTo>
                      <a:pt x="134" y="2"/>
                      <a:pt x="150" y="13"/>
                      <a:pt x="150" y="22"/>
                    </a:cubicBezTo>
                    <a:cubicBezTo>
                      <a:pt x="150" y="31"/>
                      <a:pt x="133" y="47"/>
                      <a:pt x="123" y="55"/>
                    </a:cubicBezTo>
                    <a:cubicBezTo>
                      <a:pt x="113" y="63"/>
                      <a:pt x="110" y="68"/>
                      <a:pt x="90" y="70"/>
                    </a:cubicBezTo>
                    <a:cubicBezTo>
                      <a:pt x="70" y="72"/>
                      <a:pt x="35" y="69"/>
                      <a:pt x="0" y="67"/>
                    </a:cubicBez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5497560" y="423720"/>
                <a:ext cx="235080" cy="1447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48" h="91">
                    <a:moveTo>
                      <a:pt x="1" y="69"/>
                    </a:moveTo>
                    <a:cubicBezTo>
                      <a:pt x="2" y="63"/>
                      <a:pt x="9" y="61"/>
                      <a:pt x="25" y="51"/>
                    </a:cubicBezTo>
                    <a:cubicBezTo>
                      <a:pt x="41" y="41"/>
                      <a:pt x="82" y="17"/>
                      <a:pt x="100" y="9"/>
                    </a:cubicBezTo>
                    <a:cubicBezTo>
                      <a:pt x="118" y="1"/>
                      <a:pt x="127" y="0"/>
                      <a:pt x="133" y="3"/>
                    </a:cubicBezTo>
                    <a:cubicBezTo>
                      <a:pt x="139" y="6"/>
                      <a:pt x="148" y="15"/>
                      <a:pt x="136" y="27"/>
                    </a:cubicBezTo>
                    <a:cubicBezTo>
                      <a:pt x="124" y="39"/>
                      <a:pt x="80" y="65"/>
                      <a:pt x="61" y="75"/>
                    </a:cubicBezTo>
                    <a:cubicBezTo>
                      <a:pt x="42" y="85"/>
                      <a:pt x="29" y="91"/>
                      <a:pt x="19" y="90"/>
                    </a:cubicBezTo>
                    <a:cubicBezTo>
                      <a:pt x="9" y="89"/>
                      <a:pt x="0" y="75"/>
                      <a:pt x="1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683320" y="92160"/>
                <a:ext cx="1488960" cy="25092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938" h="158">
                    <a:moveTo>
                      <a:pt x="172" y="86"/>
                    </a:moveTo>
                    <a:cubicBezTo>
                      <a:pt x="142" y="99"/>
                      <a:pt x="87" y="126"/>
                      <a:pt x="61" y="137"/>
                    </a:cubicBezTo>
                    <a:cubicBezTo>
                      <a:pt x="35" y="148"/>
                      <a:pt x="25" y="158"/>
                      <a:pt x="16" y="155"/>
                    </a:cubicBezTo>
                    <a:cubicBezTo>
                      <a:pt x="7" y="152"/>
                      <a:pt x="0" y="134"/>
                      <a:pt x="7" y="122"/>
                    </a:cubicBezTo>
                    <a:cubicBezTo>
                      <a:pt x="14" y="110"/>
                      <a:pt x="31" y="94"/>
                      <a:pt x="58" y="80"/>
                    </a:cubicBezTo>
                    <a:cubicBezTo>
                      <a:pt x="85" y="66"/>
                      <a:pt x="131" y="49"/>
                      <a:pt x="172" y="38"/>
                    </a:cubicBezTo>
                    <a:cubicBezTo>
                      <a:pt x="213" y="27"/>
                      <a:pt x="256" y="17"/>
                      <a:pt x="304" y="11"/>
                    </a:cubicBezTo>
                    <a:cubicBezTo>
                      <a:pt x="352" y="5"/>
                      <a:pt x="409" y="0"/>
                      <a:pt x="463" y="2"/>
                    </a:cubicBezTo>
                    <a:cubicBezTo>
                      <a:pt x="517" y="4"/>
                      <a:pt x="576" y="15"/>
                      <a:pt x="631" y="23"/>
                    </a:cubicBezTo>
                    <a:cubicBezTo>
                      <a:pt x="686" y="31"/>
                      <a:pt x="761" y="49"/>
                      <a:pt x="796" y="53"/>
                    </a:cubicBezTo>
                    <a:cubicBezTo>
                      <a:pt x="831" y="57"/>
                      <a:pt x="823" y="44"/>
                      <a:pt x="841" y="47"/>
                    </a:cubicBezTo>
                    <a:cubicBezTo>
                      <a:pt x="859" y="50"/>
                      <a:pt x="894" y="62"/>
                      <a:pt x="907" y="71"/>
                    </a:cubicBezTo>
                    <a:cubicBezTo>
                      <a:pt x="920" y="80"/>
                      <a:pt x="938" y="97"/>
                      <a:pt x="919" y="101"/>
                    </a:cubicBezTo>
                    <a:cubicBezTo>
                      <a:pt x="900" y="105"/>
                      <a:pt x="840" y="104"/>
                      <a:pt x="793" y="98"/>
                    </a:cubicBezTo>
                    <a:cubicBezTo>
                      <a:pt x="746" y="92"/>
                      <a:pt x="693" y="72"/>
                      <a:pt x="634" y="62"/>
                    </a:cubicBezTo>
                    <a:cubicBezTo>
                      <a:pt x="575" y="52"/>
                      <a:pt x="505" y="38"/>
                      <a:pt x="439" y="38"/>
                    </a:cubicBezTo>
                    <a:cubicBezTo>
                      <a:pt x="373" y="38"/>
                      <a:pt x="284" y="51"/>
                      <a:pt x="238" y="59"/>
                    </a:cubicBezTo>
                    <a:cubicBezTo>
                      <a:pt x="192" y="67"/>
                      <a:pt x="202" y="73"/>
                      <a:pt x="172" y="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851440" y="230040"/>
                <a:ext cx="590760" cy="155880"/>
              </a:xfrm>
              <a:custGeom>
                <a:avLst/>
                <a:gdLst>
                  <a:gd name="textAreaLeft" fmla="*/ 0 w 590760"/>
                  <a:gd name="textAreaRight" fmla="*/ 591120 w 59076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372" h="98">
                    <a:moveTo>
                      <a:pt x="18" y="47"/>
                    </a:moveTo>
                    <a:cubicBezTo>
                      <a:pt x="60" y="36"/>
                      <a:pt x="103" y="25"/>
                      <a:pt x="141" y="17"/>
                    </a:cubicBezTo>
                    <a:cubicBezTo>
                      <a:pt x="179" y="9"/>
                      <a:pt x="211" y="4"/>
                      <a:pt x="246" y="2"/>
                    </a:cubicBezTo>
                    <a:cubicBezTo>
                      <a:pt x="281" y="0"/>
                      <a:pt x="330" y="1"/>
                      <a:pt x="351" y="5"/>
                    </a:cubicBezTo>
                    <a:cubicBezTo>
                      <a:pt x="372" y="9"/>
                      <a:pt x="372" y="17"/>
                      <a:pt x="372" y="23"/>
                    </a:cubicBezTo>
                    <a:cubicBezTo>
                      <a:pt x="372" y="29"/>
                      <a:pt x="372" y="40"/>
                      <a:pt x="354" y="44"/>
                    </a:cubicBezTo>
                    <a:cubicBezTo>
                      <a:pt x="336" y="48"/>
                      <a:pt x="295" y="49"/>
                      <a:pt x="264" y="50"/>
                    </a:cubicBezTo>
                    <a:cubicBezTo>
                      <a:pt x="233" y="51"/>
                      <a:pt x="200" y="49"/>
                      <a:pt x="168" y="53"/>
                    </a:cubicBezTo>
                    <a:cubicBezTo>
                      <a:pt x="136" y="57"/>
                      <a:pt x="98" y="70"/>
                      <a:pt x="72" y="77"/>
                    </a:cubicBezTo>
                    <a:cubicBezTo>
                      <a:pt x="46" y="84"/>
                      <a:pt x="27" y="98"/>
                      <a:pt x="15" y="95"/>
                    </a:cubicBezTo>
                    <a:cubicBezTo>
                      <a:pt x="3" y="92"/>
                      <a:pt x="1" y="74"/>
                      <a:pt x="0" y="56"/>
                    </a:cubicBez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743440" y="488880"/>
                <a:ext cx="505080" cy="25092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318" h="158">
                    <a:moveTo>
                      <a:pt x="0" y="158"/>
                    </a:moveTo>
                    <a:lnTo>
                      <a:pt x="12" y="137"/>
                    </a:lnTo>
                    <a:cubicBezTo>
                      <a:pt x="39" y="123"/>
                      <a:pt x="122" y="90"/>
                      <a:pt x="162" y="71"/>
                    </a:cubicBezTo>
                    <a:cubicBezTo>
                      <a:pt x="202" y="52"/>
                      <a:pt x="229" y="31"/>
                      <a:pt x="249" y="20"/>
                    </a:cubicBezTo>
                    <a:cubicBezTo>
                      <a:pt x="269" y="9"/>
                      <a:pt x="275" y="4"/>
                      <a:pt x="285" y="2"/>
                    </a:cubicBezTo>
                    <a:cubicBezTo>
                      <a:pt x="295" y="0"/>
                      <a:pt x="306" y="4"/>
                      <a:pt x="309" y="11"/>
                    </a:cubicBezTo>
                    <a:cubicBezTo>
                      <a:pt x="312" y="18"/>
                      <a:pt x="318" y="34"/>
                      <a:pt x="303" y="47"/>
                    </a:cubicBezTo>
                    <a:cubicBezTo>
                      <a:pt x="288" y="60"/>
                      <a:pt x="252" y="74"/>
                      <a:pt x="219" y="89"/>
                    </a:cubicBezTo>
                    <a:cubicBezTo>
                      <a:pt x="186" y="104"/>
                      <a:pt x="135" y="130"/>
                      <a:pt x="108" y="140"/>
                    </a:cubicBezTo>
                    <a:cubicBezTo>
                      <a:pt x="81" y="150"/>
                      <a:pt x="74" y="150"/>
                      <a:pt x="57" y="152"/>
                    </a:cubicBezTo>
                    <a:cubicBezTo>
                      <a:pt x="40" y="154"/>
                      <a:pt x="23" y="154"/>
                      <a:pt x="0" y="1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5418000" y="461880"/>
                <a:ext cx="603360" cy="27648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380" h="174">
                    <a:moveTo>
                      <a:pt x="3" y="165"/>
                    </a:moveTo>
                    <a:cubicBezTo>
                      <a:pt x="24" y="153"/>
                      <a:pt x="86" y="115"/>
                      <a:pt x="129" y="93"/>
                    </a:cubicBezTo>
                    <a:cubicBezTo>
                      <a:pt x="172" y="71"/>
                      <a:pt x="224" y="45"/>
                      <a:pt x="261" y="30"/>
                    </a:cubicBezTo>
                    <a:cubicBezTo>
                      <a:pt x="298" y="15"/>
                      <a:pt x="332" y="0"/>
                      <a:pt x="351" y="0"/>
                    </a:cubicBezTo>
                    <a:cubicBezTo>
                      <a:pt x="370" y="0"/>
                      <a:pt x="380" y="19"/>
                      <a:pt x="378" y="27"/>
                    </a:cubicBezTo>
                    <a:cubicBezTo>
                      <a:pt x="376" y="35"/>
                      <a:pt x="350" y="46"/>
                      <a:pt x="336" y="51"/>
                    </a:cubicBezTo>
                    <a:cubicBezTo>
                      <a:pt x="322" y="56"/>
                      <a:pt x="307" y="56"/>
                      <a:pt x="291" y="60"/>
                    </a:cubicBezTo>
                    <a:cubicBezTo>
                      <a:pt x="275" y="64"/>
                      <a:pt x="257" y="65"/>
                      <a:pt x="240" y="75"/>
                    </a:cubicBezTo>
                    <a:cubicBezTo>
                      <a:pt x="223" y="85"/>
                      <a:pt x="212" y="104"/>
                      <a:pt x="189" y="120"/>
                    </a:cubicBezTo>
                    <a:cubicBezTo>
                      <a:pt x="166" y="136"/>
                      <a:pt x="133" y="167"/>
                      <a:pt x="102" y="174"/>
                    </a:cubicBezTo>
                    <a:lnTo>
                      <a:pt x="0" y="162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6632640" y="297000"/>
                <a:ext cx="830160" cy="10944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523" h="69">
                    <a:moveTo>
                      <a:pt x="84" y="11"/>
                    </a:moveTo>
                    <a:cubicBezTo>
                      <a:pt x="65" y="9"/>
                      <a:pt x="40" y="1"/>
                      <a:pt x="27" y="5"/>
                    </a:cubicBezTo>
                    <a:cubicBezTo>
                      <a:pt x="14" y="9"/>
                      <a:pt x="0" y="27"/>
                      <a:pt x="9" y="35"/>
                    </a:cubicBezTo>
                    <a:cubicBezTo>
                      <a:pt x="18" y="43"/>
                      <a:pt x="40" y="51"/>
                      <a:pt x="81" y="56"/>
                    </a:cubicBezTo>
                    <a:cubicBezTo>
                      <a:pt x="122" y="61"/>
                      <a:pt x="197" y="69"/>
                      <a:pt x="255" y="68"/>
                    </a:cubicBezTo>
                    <a:cubicBezTo>
                      <a:pt x="313" y="67"/>
                      <a:pt x="389" y="60"/>
                      <a:pt x="432" y="50"/>
                    </a:cubicBezTo>
                    <a:cubicBezTo>
                      <a:pt x="475" y="40"/>
                      <a:pt x="523" y="10"/>
                      <a:pt x="513" y="5"/>
                    </a:cubicBezTo>
                    <a:cubicBezTo>
                      <a:pt x="503" y="0"/>
                      <a:pt x="434" y="19"/>
                      <a:pt x="372" y="20"/>
                    </a:cubicBezTo>
                    <a:cubicBezTo>
                      <a:pt x="310" y="21"/>
                      <a:pt x="189" y="15"/>
                      <a:pt x="141" y="14"/>
                    </a:cubicBezTo>
                    <a:cubicBezTo>
                      <a:pt x="93" y="13"/>
                      <a:pt x="103" y="13"/>
                      <a:pt x="84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7443720" y="295200"/>
                <a:ext cx="852480" cy="190440"/>
              </a:xfrm>
              <a:custGeom>
                <a:avLst/>
                <a:gdLst>
                  <a:gd name="textAreaLeft" fmla="*/ 0 w 852480"/>
                  <a:gd name="textAreaRight" fmla="*/ 852840 w 8524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537" h="120">
                    <a:moveTo>
                      <a:pt x="23" y="6"/>
                    </a:moveTo>
                    <a:cubicBezTo>
                      <a:pt x="46" y="0"/>
                      <a:pt x="138" y="0"/>
                      <a:pt x="188" y="3"/>
                    </a:cubicBezTo>
                    <a:cubicBezTo>
                      <a:pt x="238" y="6"/>
                      <a:pt x="277" y="16"/>
                      <a:pt x="323" y="27"/>
                    </a:cubicBezTo>
                    <a:cubicBezTo>
                      <a:pt x="369" y="38"/>
                      <a:pt x="431" y="59"/>
                      <a:pt x="464" y="69"/>
                    </a:cubicBezTo>
                    <a:cubicBezTo>
                      <a:pt x="497" y="79"/>
                      <a:pt x="509" y="84"/>
                      <a:pt x="521" y="90"/>
                    </a:cubicBezTo>
                    <a:cubicBezTo>
                      <a:pt x="533" y="96"/>
                      <a:pt x="537" y="100"/>
                      <a:pt x="533" y="105"/>
                    </a:cubicBezTo>
                    <a:cubicBezTo>
                      <a:pt x="529" y="110"/>
                      <a:pt x="510" y="120"/>
                      <a:pt x="497" y="120"/>
                    </a:cubicBezTo>
                    <a:cubicBezTo>
                      <a:pt x="484" y="120"/>
                      <a:pt x="476" y="116"/>
                      <a:pt x="452" y="108"/>
                    </a:cubicBezTo>
                    <a:cubicBezTo>
                      <a:pt x="428" y="100"/>
                      <a:pt x="399" y="84"/>
                      <a:pt x="350" y="72"/>
                    </a:cubicBezTo>
                    <a:cubicBezTo>
                      <a:pt x="301" y="60"/>
                      <a:pt x="208" y="45"/>
                      <a:pt x="158" y="39"/>
                    </a:cubicBezTo>
                    <a:cubicBezTo>
                      <a:pt x="108" y="33"/>
                      <a:pt x="72" y="43"/>
                      <a:pt x="50" y="39"/>
                    </a:cubicBezTo>
                    <a:cubicBezTo>
                      <a:pt x="28" y="35"/>
                      <a:pt x="0" y="12"/>
                      <a:pt x="23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7886880" y="495360"/>
                <a:ext cx="1269720" cy="226800"/>
              </a:xfrm>
              <a:custGeom>
                <a:avLst/>
                <a:gdLst>
                  <a:gd name="textAreaLeft" fmla="*/ 0 w 1269720"/>
                  <a:gd name="textAreaRight" fmla="*/ 1270080 w 1269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800" h="143">
                    <a:moveTo>
                      <a:pt x="800" y="24"/>
                    </a:moveTo>
                    <a:lnTo>
                      <a:pt x="782" y="15"/>
                    </a:lnTo>
                    <a:cubicBezTo>
                      <a:pt x="759" y="21"/>
                      <a:pt x="706" y="51"/>
                      <a:pt x="659" y="63"/>
                    </a:cubicBezTo>
                    <a:cubicBezTo>
                      <a:pt x="612" y="75"/>
                      <a:pt x="555" y="83"/>
                      <a:pt x="500" y="84"/>
                    </a:cubicBezTo>
                    <a:cubicBezTo>
                      <a:pt x="445" y="85"/>
                      <a:pt x="393" y="79"/>
                      <a:pt x="326" y="69"/>
                    </a:cubicBezTo>
                    <a:cubicBezTo>
                      <a:pt x="259" y="59"/>
                      <a:pt x="150" y="31"/>
                      <a:pt x="98" y="21"/>
                    </a:cubicBezTo>
                    <a:cubicBezTo>
                      <a:pt x="46" y="11"/>
                      <a:pt x="22" y="0"/>
                      <a:pt x="11" y="6"/>
                    </a:cubicBezTo>
                    <a:cubicBezTo>
                      <a:pt x="0" y="12"/>
                      <a:pt x="8" y="45"/>
                      <a:pt x="32" y="60"/>
                    </a:cubicBezTo>
                    <a:cubicBezTo>
                      <a:pt x="56" y="75"/>
                      <a:pt x="92" y="83"/>
                      <a:pt x="155" y="96"/>
                    </a:cubicBezTo>
                    <a:cubicBezTo>
                      <a:pt x="218" y="109"/>
                      <a:pt x="337" y="133"/>
                      <a:pt x="410" y="138"/>
                    </a:cubicBezTo>
                    <a:cubicBezTo>
                      <a:pt x="483" y="143"/>
                      <a:pt x="542" y="137"/>
                      <a:pt x="596" y="129"/>
                    </a:cubicBezTo>
                    <a:cubicBezTo>
                      <a:pt x="650" y="121"/>
                      <a:pt x="705" y="100"/>
                      <a:pt x="737" y="90"/>
                    </a:cubicBezTo>
                    <a:cubicBezTo>
                      <a:pt x="769" y="80"/>
                      <a:pt x="780" y="80"/>
                      <a:pt x="788" y="69"/>
                    </a:cubicBezTo>
                    <a:cubicBezTo>
                      <a:pt x="796" y="58"/>
                      <a:pt x="792" y="39"/>
                      <a:pt x="800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442360" y="380880"/>
                <a:ext cx="638280" cy="18252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402" h="115">
                    <a:moveTo>
                      <a:pt x="402" y="0"/>
                    </a:moveTo>
                    <a:lnTo>
                      <a:pt x="384" y="12"/>
                    </a:lnTo>
                    <a:cubicBezTo>
                      <a:pt x="363" y="20"/>
                      <a:pt x="312" y="42"/>
                      <a:pt x="276" y="51"/>
                    </a:cubicBezTo>
                    <a:cubicBezTo>
                      <a:pt x="240" y="60"/>
                      <a:pt x="202" y="65"/>
                      <a:pt x="165" y="66"/>
                    </a:cubicBezTo>
                    <a:cubicBezTo>
                      <a:pt x="128" y="67"/>
                      <a:pt x="76" y="59"/>
                      <a:pt x="51" y="57"/>
                    </a:cubicBezTo>
                    <a:cubicBezTo>
                      <a:pt x="26" y="55"/>
                      <a:pt x="23" y="52"/>
                      <a:pt x="15" y="54"/>
                    </a:cubicBezTo>
                    <a:cubicBezTo>
                      <a:pt x="7" y="56"/>
                      <a:pt x="4" y="63"/>
                      <a:pt x="3" y="69"/>
                    </a:cubicBezTo>
                    <a:cubicBezTo>
                      <a:pt x="2" y="75"/>
                      <a:pt x="0" y="88"/>
                      <a:pt x="9" y="93"/>
                    </a:cubicBezTo>
                    <a:cubicBezTo>
                      <a:pt x="18" y="98"/>
                      <a:pt x="22" y="99"/>
                      <a:pt x="54" y="102"/>
                    </a:cubicBezTo>
                    <a:cubicBezTo>
                      <a:pt x="86" y="105"/>
                      <a:pt x="151" y="115"/>
                      <a:pt x="198" y="111"/>
                    </a:cubicBezTo>
                    <a:cubicBezTo>
                      <a:pt x="245" y="107"/>
                      <a:pt x="307" y="84"/>
                      <a:pt x="336" y="75"/>
                    </a:cubicBezTo>
                    <a:cubicBezTo>
                      <a:pt x="365" y="66"/>
                      <a:pt x="365" y="65"/>
                      <a:pt x="375" y="54"/>
                    </a:cubicBezTo>
                    <a:cubicBezTo>
                      <a:pt x="385" y="43"/>
                      <a:pt x="392" y="26"/>
                      <a:pt x="40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0" y="6477120"/>
              <a:ext cx="9169560" cy="137880"/>
              <a:chOff x="0" y="6477120"/>
              <a:chExt cx="9169560" cy="137880"/>
            </a:xfrm>
          </p:grpSpPr>
          <p:sp>
            <p:nvSpPr>
              <p:cNvPr id="25" name="Freeform 27"/>
              <p:cNvSpPr/>
              <p:nvPr/>
            </p:nvSpPr>
            <p:spPr>
              <a:xfrm>
                <a:off x="6415200" y="6500880"/>
                <a:ext cx="2754360" cy="114120"/>
              </a:xfrm>
              <a:custGeom>
                <a:avLst/>
                <a:gdLst>
                  <a:gd name="textAreaLeft" fmla="*/ 0 w 2754360"/>
                  <a:gd name="textAreaRight" fmla="*/ 2754720 w 2754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735" h="72">
                    <a:moveTo>
                      <a:pt x="165" y="6"/>
                    </a:moveTo>
                    <a:cubicBezTo>
                      <a:pt x="236" y="1"/>
                      <a:pt x="359" y="2"/>
                      <a:pt x="450" y="3"/>
                    </a:cubicBezTo>
                    <a:cubicBezTo>
                      <a:pt x="541" y="4"/>
                      <a:pt x="630" y="9"/>
                      <a:pt x="714" y="12"/>
                    </a:cubicBezTo>
                    <a:cubicBezTo>
                      <a:pt x="798" y="15"/>
                      <a:pt x="881" y="22"/>
                      <a:pt x="957" y="24"/>
                    </a:cubicBezTo>
                    <a:cubicBezTo>
                      <a:pt x="1033" y="26"/>
                      <a:pt x="1087" y="25"/>
                      <a:pt x="1173" y="24"/>
                    </a:cubicBezTo>
                    <a:cubicBezTo>
                      <a:pt x="1259" y="23"/>
                      <a:pt x="1399" y="19"/>
                      <a:pt x="1473" y="15"/>
                    </a:cubicBezTo>
                    <a:cubicBezTo>
                      <a:pt x="1547" y="11"/>
                      <a:pt x="1576" y="0"/>
                      <a:pt x="1617" y="0"/>
                    </a:cubicBezTo>
                    <a:cubicBezTo>
                      <a:pt x="1658" y="0"/>
                      <a:pt x="1703" y="4"/>
                      <a:pt x="1719" y="15"/>
                    </a:cubicBezTo>
                    <a:cubicBezTo>
                      <a:pt x="1735" y="26"/>
                      <a:pt x="1730" y="60"/>
                      <a:pt x="1716" y="66"/>
                    </a:cubicBezTo>
                    <a:cubicBezTo>
                      <a:pt x="1702" y="72"/>
                      <a:pt x="1683" y="53"/>
                      <a:pt x="1632" y="51"/>
                    </a:cubicBezTo>
                    <a:cubicBezTo>
                      <a:pt x="1581" y="49"/>
                      <a:pt x="1480" y="51"/>
                      <a:pt x="1407" y="51"/>
                    </a:cubicBezTo>
                    <a:cubicBezTo>
                      <a:pt x="1334" y="51"/>
                      <a:pt x="1280" y="47"/>
                      <a:pt x="1191" y="48"/>
                    </a:cubicBezTo>
                    <a:cubicBezTo>
                      <a:pt x="1102" y="49"/>
                      <a:pt x="986" y="60"/>
                      <a:pt x="870" y="60"/>
                    </a:cubicBezTo>
                    <a:cubicBezTo>
                      <a:pt x="754" y="60"/>
                      <a:pt x="588" y="53"/>
                      <a:pt x="492" y="48"/>
                    </a:cubicBezTo>
                    <a:cubicBezTo>
                      <a:pt x="396" y="43"/>
                      <a:pt x="369" y="29"/>
                      <a:pt x="291" y="27"/>
                    </a:cubicBezTo>
                    <a:cubicBezTo>
                      <a:pt x="213" y="25"/>
                      <a:pt x="42" y="39"/>
                      <a:pt x="21" y="36"/>
                    </a:cubicBezTo>
                    <a:cubicBezTo>
                      <a:pt x="0" y="33"/>
                      <a:pt x="94" y="11"/>
                      <a:pt x="165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2741760" y="6486480"/>
                <a:ext cx="4214520" cy="95400"/>
              </a:xfrm>
              <a:custGeom>
                <a:avLst/>
                <a:gdLst>
                  <a:gd name="textAreaLeft" fmla="*/ 0 w 4214520"/>
                  <a:gd name="textAreaRight" fmla="*/ 4214880 w 42145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655" h="60">
                    <a:moveTo>
                      <a:pt x="2641" y="6"/>
                    </a:moveTo>
                    <a:lnTo>
                      <a:pt x="2620" y="30"/>
                    </a:lnTo>
                    <a:cubicBezTo>
                      <a:pt x="2575" y="36"/>
                      <a:pt x="2467" y="40"/>
                      <a:pt x="2368" y="45"/>
                    </a:cubicBezTo>
                    <a:cubicBezTo>
                      <a:pt x="2269" y="50"/>
                      <a:pt x="2120" y="60"/>
                      <a:pt x="2023" y="60"/>
                    </a:cubicBezTo>
                    <a:cubicBezTo>
                      <a:pt x="1926" y="60"/>
                      <a:pt x="1869" y="52"/>
                      <a:pt x="1786" y="48"/>
                    </a:cubicBezTo>
                    <a:cubicBezTo>
                      <a:pt x="1703" y="44"/>
                      <a:pt x="1623" y="36"/>
                      <a:pt x="1525" y="36"/>
                    </a:cubicBezTo>
                    <a:cubicBezTo>
                      <a:pt x="1427" y="36"/>
                      <a:pt x="1313" y="44"/>
                      <a:pt x="1195" y="45"/>
                    </a:cubicBezTo>
                    <a:cubicBezTo>
                      <a:pt x="1077" y="46"/>
                      <a:pt x="933" y="42"/>
                      <a:pt x="817" y="39"/>
                    </a:cubicBezTo>
                    <a:cubicBezTo>
                      <a:pt x="701" y="36"/>
                      <a:pt x="612" y="27"/>
                      <a:pt x="499" y="27"/>
                    </a:cubicBezTo>
                    <a:cubicBezTo>
                      <a:pt x="386" y="27"/>
                      <a:pt x="217" y="38"/>
                      <a:pt x="136" y="39"/>
                    </a:cubicBezTo>
                    <a:cubicBezTo>
                      <a:pt x="55" y="40"/>
                      <a:pt x="20" y="36"/>
                      <a:pt x="10" y="33"/>
                    </a:cubicBezTo>
                    <a:cubicBezTo>
                      <a:pt x="0" y="30"/>
                      <a:pt x="26" y="27"/>
                      <a:pt x="76" y="24"/>
                    </a:cubicBezTo>
                    <a:cubicBezTo>
                      <a:pt x="126" y="21"/>
                      <a:pt x="232" y="22"/>
                      <a:pt x="310" y="18"/>
                    </a:cubicBezTo>
                    <a:cubicBezTo>
                      <a:pt x="388" y="14"/>
                      <a:pt x="454" y="0"/>
                      <a:pt x="544" y="0"/>
                    </a:cubicBezTo>
                    <a:cubicBezTo>
                      <a:pt x="634" y="0"/>
                      <a:pt x="758" y="18"/>
                      <a:pt x="853" y="21"/>
                    </a:cubicBezTo>
                    <a:cubicBezTo>
                      <a:pt x="948" y="24"/>
                      <a:pt x="1023" y="24"/>
                      <a:pt x="1114" y="21"/>
                    </a:cubicBezTo>
                    <a:cubicBezTo>
                      <a:pt x="1205" y="18"/>
                      <a:pt x="1320" y="5"/>
                      <a:pt x="1399" y="3"/>
                    </a:cubicBezTo>
                    <a:cubicBezTo>
                      <a:pt x="1478" y="1"/>
                      <a:pt x="1520" y="6"/>
                      <a:pt x="1588" y="9"/>
                    </a:cubicBezTo>
                    <a:cubicBezTo>
                      <a:pt x="1656" y="12"/>
                      <a:pt x="1733" y="21"/>
                      <a:pt x="1807" y="21"/>
                    </a:cubicBezTo>
                    <a:cubicBezTo>
                      <a:pt x="1881" y="21"/>
                      <a:pt x="1955" y="12"/>
                      <a:pt x="2035" y="12"/>
                    </a:cubicBezTo>
                    <a:cubicBezTo>
                      <a:pt x="2115" y="12"/>
                      <a:pt x="2197" y="19"/>
                      <a:pt x="2290" y="18"/>
                    </a:cubicBezTo>
                    <a:cubicBezTo>
                      <a:pt x="2383" y="17"/>
                      <a:pt x="2537" y="5"/>
                      <a:pt x="2596" y="3"/>
                    </a:cubicBezTo>
                    <a:cubicBezTo>
                      <a:pt x="2655" y="1"/>
                      <a:pt x="2651" y="3"/>
                      <a:pt x="2641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6477120"/>
                <a:ext cx="3240000" cy="98280"/>
              </a:xfrm>
              <a:custGeom>
                <a:avLst/>
                <a:gdLst>
                  <a:gd name="textAreaLeft" fmla="*/ 0 w 3240000"/>
                  <a:gd name="textAreaRight" fmla="*/ 3240360 w 32400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041" h="62">
                    <a:moveTo>
                      <a:pt x="1893" y="39"/>
                    </a:moveTo>
                    <a:cubicBezTo>
                      <a:pt x="1817" y="41"/>
                      <a:pt x="1725" y="42"/>
                      <a:pt x="1578" y="45"/>
                    </a:cubicBezTo>
                    <a:cubicBezTo>
                      <a:pt x="1431" y="48"/>
                      <a:pt x="1201" y="58"/>
                      <a:pt x="1011" y="60"/>
                    </a:cubicBezTo>
                    <a:cubicBezTo>
                      <a:pt x="821" y="62"/>
                      <a:pt x="606" y="61"/>
                      <a:pt x="438" y="57"/>
                    </a:cubicBezTo>
                    <a:cubicBezTo>
                      <a:pt x="270" y="53"/>
                      <a:pt x="73" y="45"/>
                      <a:pt x="0" y="36"/>
                    </a:cubicBezTo>
                    <a:lnTo>
                      <a:pt x="0" y="3"/>
                    </a:lnTo>
                    <a:cubicBezTo>
                      <a:pt x="35" y="0"/>
                      <a:pt x="131" y="15"/>
                      <a:pt x="210" y="18"/>
                    </a:cubicBezTo>
                    <a:cubicBezTo>
                      <a:pt x="289" y="21"/>
                      <a:pt x="396" y="22"/>
                      <a:pt x="474" y="21"/>
                    </a:cubicBezTo>
                    <a:cubicBezTo>
                      <a:pt x="552" y="20"/>
                      <a:pt x="608" y="11"/>
                      <a:pt x="678" y="9"/>
                    </a:cubicBezTo>
                    <a:cubicBezTo>
                      <a:pt x="748" y="7"/>
                      <a:pt x="816" y="6"/>
                      <a:pt x="897" y="9"/>
                    </a:cubicBezTo>
                    <a:cubicBezTo>
                      <a:pt x="978" y="12"/>
                      <a:pt x="1067" y="28"/>
                      <a:pt x="1167" y="30"/>
                    </a:cubicBezTo>
                    <a:cubicBezTo>
                      <a:pt x="1267" y="32"/>
                      <a:pt x="1402" y="28"/>
                      <a:pt x="1500" y="24"/>
                    </a:cubicBezTo>
                    <a:cubicBezTo>
                      <a:pt x="1598" y="20"/>
                      <a:pt x="1685" y="4"/>
                      <a:pt x="1758" y="3"/>
                    </a:cubicBezTo>
                    <a:cubicBezTo>
                      <a:pt x="1831" y="2"/>
                      <a:pt x="1892" y="13"/>
                      <a:pt x="1938" y="18"/>
                    </a:cubicBezTo>
                    <a:cubicBezTo>
                      <a:pt x="1984" y="23"/>
                      <a:pt x="2041" y="30"/>
                      <a:pt x="2034" y="33"/>
                    </a:cubicBezTo>
                    <a:cubicBezTo>
                      <a:pt x="2027" y="36"/>
                      <a:pt x="1969" y="37"/>
                      <a:pt x="1893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0F01-C48B-4339-9047-B6E108CD78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imad thultheen critical care nursing  ks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F5F1-B518-4575-BF16-DB6254F18A8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0" y="1447920"/>
            <a:ext cx="9156600" cy="757080"/>
            <a:chOff x="0" y="1447920"/>
            <a:chExt cx="9156600" cy="757080"/>
          </a:xfrm>
        </p:grpSpPr>
        <p:sp>
          <p:nvSpPr>
            <p:cNvPr id="70" name="Freeform 3"/>
            <p:cNvSpPr/>
            <p:nvPr/>
          </p:nvSpPr>
          <p:spPr>
            <a:xfrm>
              <a:off x="7920" y="14479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16034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88920" y="14479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208080" y="18748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541440" y="14479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774720" y="14479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2298600" y="15066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2841480" y="14479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3084480" y="16923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>
              <a:off x="3591000" y="15861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3594240" y="18288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4"/>
            <p:cNvSpPr/>
            <p:nvPr/>
          </p:nvSpPr>
          <p:spPr>
            <a:xfrm>
              <a:off x="4322880" y="19623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5024520" y="20433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5497560" y="18716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683320" y="15400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5851440" y="16779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19"/>
            <p:cNvSpPr/>
            <p:nvPr/>
          </p:nvSpPr>
          <p:spPr>
            <a:xfrm>
              <a:off x="5743440" y="19368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5418000" y="19098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>
              <a:off x="6632640" y="17449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>
              <a:off x="7443720" y="17431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>
              <a:off x="7886880" y="19432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>
              <a:off x="8442360" y="18288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B30D-F196-4FEC-83B6-B9F4D97754FF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Tahoma"/>
              </a:rPr>
              <a:t>imad thultheen critical care nursing  ks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9C0D-6520-4BC8-A089-454F0A5AC488}" type="slidenum">
              <a:rPr b="0" lang="ar-SA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EEF7-1C3B-4390-8642-528B33054D92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Coronary Artery Disease (CAD)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B47D-0E3A-405F-B2AA-C2DA642D103F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Angina Pectoris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gns and Symptom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est Pai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an occur anywhere in chest; commonly retrosternal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Pain may radiate to the back, arms (left most common), shoulder, neck or jaw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Described as pressure, tightness or burning sensation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ften precipitated by physical exertion or stress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aybe associated with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SOB, weakness, anxiety, diaphoresis, N/V, dizziness or numbness in upper extremities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81FE-DBE4-4F25-8126-E35411967445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Types of Angina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1)Stable Angina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lnSpc>
                <a:spcPct val="95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dictable, consistent pain with physical exertion &amp; relieved with rest; “my usual chest pain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2)Unstable Angina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lnSpc>
                <a:spcPct val="95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ast longer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lnSpc>
                <a:spcPct val="95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creased frequency / intensity of sympto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lnSpc>
                <a:spcPct val="95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in at re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3) Preinfarction Angin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3" marL="1424160" indent="-203400">
              <a:lnSpc>
                <a:spcPct val="95000"/>
              </a:lnSpc>
              <a:spcBef>
                <a:spcPts val="414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Lasting longer than 15 minutes /unrelieved by NTG x3 is a medical emergency!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4" marL="1830960" indent="-203400">
              <a:lnSpc>
                <a:spcPct val="95000"/>
              </a:lnSpc>
              <a:spcBef>
                <a:spcPts val="414"/>
              </a:spcBef>
              <a:buClr>
                <a:srgbClr val="545472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Pt need  hospitalization for management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61DE-7EED-4D8C-9F99-2EF1A18F4762}" type="datetime">
              <a:rPr b="0" lang="en-US" sz="1400" spc="-1" strike="noStrike">
                <a:solidFill>
                  <a:srgbClr val="545472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  <a:ea typeface="Tahoma"/>
              </a:rPr>
              <a:t>imad thultheen critical care nursing  ksu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2A73-470E-4808-A326-2A6AA59AAF8C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1" name="Picture 2" descr="img027"/>
          <p:cNvPicPr/>
          <p:nvPr/>
        </p:nvPicPr>
        <p:blipFill>
          <a:blip r:embed="rId1"/>
          <a:srcRect l="-20546" t="-16075" r="-21096" b="-9748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152640" y="761760"/>
            <a:ext cx="9296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Tahoma"/>
              </a:rPr>
              <a:t>Management of Unstable Angina</a:t>
            </a:r>
            <a:endParaRPr b="0" lang="en-US" sz="36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93" name="Text Box 4"/>
          <p:cNvSpPr/>
          <p:nvPr/>
        </p:nvSpPr>
        <p:spPr>
          <a:xfrm rot="882600">
            <a:off x="2671200" y="1600560"/>
            <a:ext cx="14223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Wingdings 3"/>
                <a:ea typeface="Wingdings 3"/>
              </a:rPr>
              <a:t>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Deman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6311520" y="3886200"/>
            <a:ext cx="5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533520" y="4495680"/>
            <a:ext cx="1542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Beta Block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Ca Channe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Block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CE I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2390760" y="38862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loa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2423160" y="4343400"/>
            <a:ext cx="12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NTG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CE I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Morphi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8" name="Text Box 10"/>
          <p:cNvSpPr/>
          <p:nvPr/>
        </p:nvSpPr>
        <p:spPr>
          <a:xfrm rot="894000">
            <a:off x="5262480" y="2286360"/>
            <a:ext cx="11430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Wingdings 3"/>
                <a:ea typeface="Wingdings 3"/>
              </a:rPr>
              <a:t>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ppl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995360" y="48006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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lood Flow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876920" y="5181480"/>
            <a:ext cx="22302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TG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Ca Channel Block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ticoagulant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orphi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858000" y="4800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en Occlude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teri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892160" y="2514600"/>
            <a:ext cx="5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7691400" y="5562720"/>
            <a:ext cx="541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PCI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304920" y="3733920"/>
            <a:ext cx="1904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ractilit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 3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 3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 3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 3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 3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fterloa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AC06-B7E2-42E0-B703-3D8B59E190F7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anagement: Unstable Angina</a:t>
            </a: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oal is to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crease O2 supply &amp; decrease O2 demand to prevent myocardium death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C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aboratory Tes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lectrolyt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ardiac Enzyme Panel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14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Rule-out MI:  every 8 hours x 3 / 6 hours x4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36FC-18F0-479E-957F-2221FCA00F62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anagement: Unstable Angina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1752480"/>
            <a:ext cx="8153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7000"/>
              </a:lnSpc>
              <a:spcBef>
                <a:spcPts val="4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lief of Chest Pain: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“MONA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cc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rphine (drug of choic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cc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xy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cc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roglyceri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7000"/>
              </a:lnSpc>
              <a:spcBef>
                <a:spcPts val="4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crease Coronary Artery Blood Flow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7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tiplatelet medica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cc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lycoprotein (GP) IIb/IIIa Inhibito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7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epari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7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ercutaneous Coronary Intervention (PCI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DE2B-3933-4C47-908A-9171E4BF769E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Pharmacologic Therapies For Angina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itrate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late veins – decreases preloa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late arteries – decreases afterload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lates coronary arter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dminister- spray, sublingually, PO, IV, topical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de effects – hypotens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:  Nitrostat SL or Tridil (nitroglycerin),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eed a nitrate free interv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892-A9D6-4BCC-9C69-D3DBBAA379B2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Beta blockers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duce myocardial oxygen consumption by decreasing heart rate, contractility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de effects – hypotension, bradycardia, bronchial spasm,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:  Lopressor or Toprol (metoprolol),Inderal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7B7F-C367-4225-AC16-DB7982FB6A59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Calcium channel blockers</a:t>
            </a:r>
            <a:br>
              <a:rPr sz="4000"/>
            </a:b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late arteries – decreases vascular resistanc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crease heart rate and myocardial contractility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creases O2 consump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de effects - hypotension, bradycardia,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:  Adalat or Procardia (nifedipine), Cardene (nicardipine), Cardizem (diltiazem)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E534-9B3F-480C-BBD5-60AA72F6B275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2d5b"/>
                </a:solidFill>
                <a:latin typeface="Tahoma"/>
              </a:rPr>
              <a:t>Antiplatelet medications</a:t>
            </a:r>
            <a:br>
              <a:rPr sz="3600"/>
            </a:br>
            <a:endParaRPr b="0" lang="en-US" sz="36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vent platelet aggregation on atheroma or thrombus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SA ( Aspirin) – side effects:  GI irritation, bleeding, increased bruis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iclid (ticlopidine)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lavix (clopidogrel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DA7B-89D9-4763-8EE6-09452C8D6A6D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2d5b"/>
                </a:solidFill>
                <a:latin typeface="Tahoma"/>
              </a:rPr>
              <a:t>Anticoagulants</a:t>
            </a:r>
            <a:br>
              <a:rPr sz="3600"/>
            </a:br>
            <a:endParaRPr b="0" lang="en-US" sz="36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-336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Hepari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iven IV in acute situations or subcutaneous in non-acute situa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nitor partial thromboplastin time (PTT)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ntidote – Protamine Sulfat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bserve bleeding precau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nitor for signs and symptoms of bleed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lf-life of 1-2 h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6E61-576E-42FA-99AD-FBE0A25411BA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ahoma"/>
              </a:rPr>
              <a:t>LEARNING OBJECTIVE 1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scuss the epidemiological factors of coronary artery disease (CAD) and define the risk factor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C10D-F5A7-49C1-B3F7-9C5429E052A3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2d5b"/>
                </a:solidFill>
                <a:latin typeface="Tahoma"/>
              </a:rPr>
              <a:t>Anticoagulants</a:t>
            </a:r>
            <a:br>
              <a:rPr sz="3600"/>
            </a:br>
            <a:endParaRPr b="0" lang="en-US" sz="36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umadin (warfari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d long term; given P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ffects do not occur for 3-5 d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nitor Prothrombin time (PT) or International Normalized Ratio (INR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ntidote – Vitamin K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raindicated in pregnancy, clients with liver dysfunction or those at risk for bleed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FF6F-BF88-4E1C-AF57-7D715C01D994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Oxygen therapy</a:t>
            </a:r>
            <a:br>
              <a:rPr sz="4000"/>
            </a:b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xygen therap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dministered usually at 2 L/min per nasal cannul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creases amount of O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delivered to myocardiu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3B9D-974A-4635-86D9-840EB2AD8977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Acute Coronary Syndromes (ACS)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ronary artery diseases are two typ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) chronic unstable angin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) acute coronary syndrom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acute coronary syndrome is an Umbrella describes a wide range of CAD from unstable angina to acute myocardial infarction (MI)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DE97-A2FE-49A6-8DC8-56D01C0419DB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yocardial Infarction (MI)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I is defined as irreversible death of myocardial tissue, resulting from decrease or total lack of coronary blood supply and O2 to the myocardium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8000" indent="-31284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us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62720" indent="-2124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ronary artery thrombosis (most comm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62720" indent="-2124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ronary artery spas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62720" indent="-2124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um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62720" indent="-2124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vere and abrupt hypotens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5A9B-6288-4B02-A1FB-1DF84469828E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yocardial Infarction (MI) Cont.,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5000"/>
              </a:lnSpc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gns and Symptoms: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2160" indent="-306000">
              <a:lnSpc>
                <a:spcPct val="10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est Pain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vere and unrelenting substernal chest pain; often radiating to the back, left arm or jaw.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asting for 30 minutes or mo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nly relieved by opioids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ccurs without a know precipitating event; usually occurring in the mor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2160" indent="-30600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ociated Sympto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B, weakness, anxiety, diaphoresis, N/V, dizziness or numbness in upper extremities.</a:t>
            </a: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EF55-2841-432C-A6D0-6E94A2BC1525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Myocardial Infarction Cont.,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thophysiology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10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rreversible cell death within 20-40 minutes of cessation of blood flow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10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KG changes associated with an MI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Ischemi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T wave invers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Injur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ST segment elev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105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Infarctio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Pathological Q waves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44" name="Picture 4" descr="Interactive_15"/>
          <p:cNvPicPr/>
          <p:nvPr/>
        </p:nvPicPr>
        <p:blipFill>
          <a:blip r:embed="rId1">
            <a:grayscl/>
          </a:blip>
          <a:stretch/>
        </p:blipFill>
        <p:spPr>
          <a:xfrm>
            <a:off x="7056360" y="3962520"/>
            <a:ext cx="2087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7BF9-7857-4AF1-BAE1-566FD3E512EA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5840" y="380880"/>
            <a:ext cx="84978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Ischemic changes on the ECG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247" name="Picture 3" descr="F3551-028-005"/>
          <p:cNvPicPr/>
          <p:nvPr/>
        </p:nvPicPr>
        <p:blipFill>
          <a:blip r:embed="rId1"/>
          <a:stretch/>
        </p:blipFill>
        <p:spPr>
          <a:xfrm>
            <a:off x="30492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0F67-78B9-4CB7-B9A3-7B8BE56C36C3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ST Segment Elevation  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T segment elevation morphology difference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51" name="Picture 4" descr="AAIJOOW0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E113-A854-48B2-8106-1344C75ABE8B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Normal Q Wave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Normal ECG waveform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55" name="Picture 4" descr="AAIJOOV0"/>
          <p:cNvPicPr/>
          <p:nvPr/>
        </p:nvPicPr>
        <p:blipFill>
          <a:blip r:embed="rId1"/>
          <a:stretch/>
        </p:blipFill>
        <p:spPr>
          <a:xfrm>
            <a:off x="2590920" y="1600200"/>
            <a:ext cx="39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A8CF-CAE2-4FD3-8E5D-2093B3BC22A1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Abnormal Q Wave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Normal and abnormal Q wave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59" name="Picture 4" descr="AAIJOOZ0"/>
          <p:cNvPicPr/>
          <p:nvPr/>
        </p:nvPicPr>
        <p:blipFill>
          <a:blip r:embed="rId1"/>
          <a:stretch/>
        </p:blipFill>
        <p:spPr>
          <a:xfrm>
            <a:off x="3200400" y="1600200"/>
            <a:ext cx="269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77C8-D35B-4A4B-BC9E-CD9B5D5FDF18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AD Is Leading Cause of </a:t>
            </a:r>
            <a:br>
              <a:rPr sz="4400"/>
            </a:b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Death in the US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uses one-fifth of all deaths in the US, making it the single largest kill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cidence of CAD increases with a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67A7-02EE-48F1-84B5-DFDCA4A12B54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Types of Myocardial Infarctions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# according to muscle layer affected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Q wave M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17000" indent="-203400">
              <a:spcBef>
                <a:spcPts val="488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Transmural: full thickness muscle wall necrosis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2" marL="1017000" indent="-203400">
              <a:spcBef>
                <a:spcPts val="488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Often associated with a more prolonged M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06320" indent="-299520">
              <a:spcBef>
                <a:spcPts val="524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Non-Q wave M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017000" indent="-203400">
              <a:spcBef>
                <a:spcPts val="488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Partial-thickness muscle wall necrosis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2" marL="1017000" indent="-203400">
              <a:spcBef>
                <a:spcPts val="488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Often associated with smaller, less complete occlusions. 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.e. Subendocardial- necrosis of the inner 1/3 to 1/2 of the muscle wall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0F4C-8DEE-45F4-949F-BF40036780EF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Types of Myocardial Infarctions</a:t>
            </a:r>
            <a:r>
              <a:rPr b="0" lang="en-US" sz="4600" spc="-1" strike="noStrike">
                <a:solidFill>
                  <a:srgbClr val="892d5b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# According to anatomical loc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8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Left Ventricl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nterior Wall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lnSpc>
                <a:spcPct val="98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Left Anterior Descending (LAD) occlusion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lnSpc>
                <a:spcPct val="98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Associated with left ventricular failure.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8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erior Wall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lnSpc>
                <a:spcPct val="98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Right Coronary Artery (RCA) occlusion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lnSpc>
                <a:spcPct val="98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Associated with dysrhythmias &amp; conduction disturbances 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8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Posterior Wall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0">
              <a:lnSpc>
                <a:spcPct val="98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45472"/>
                </a:solidFill>
                <a:latin typeface="Tahoma"/>
              </a:rPr>
              <a:t>RCA or Circumflex Artery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8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Right Ventricl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8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rtion of the RCA; Ra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3D4E-7C13-4443-8E65-DCEAD51720A0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2d5b"/>
                </a:solidFill>
                <a:latin typeface="Tahoma"/>
              </a:rPr>
              <a:t>Different Types of Acute MI</a:t>
            </a: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892d5b"/>
                </a:solidFill>
                <a:latin typeface="Tahoma"/>
              </a:rPr>
              <a:t>and associated ECG changes</a:t>
            </a:r>
            <a:endParaRPr b="0" lang="en-US" sz="18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268" name="Picture 4" descr="leads2"/>
          <p:cNvPicPr/>
          <p:nvPr/>
        </p:nvPicPr>
        <p:blipFill>
          <a:blip r:embed="rId1"/>
          <a:stretch/>
        </p:blipFill>
        <p:spPr>
          <a:xfrm>
            <a:off x="2133720" y="2362320"/>
            <a:ext cx="478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F10C-268A-4D91-9827-CBE1766169E1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Complications: Post-Acute MI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ysrhythmias (Most Common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77600" indent="-329760">
              <a:lnSpc>
                <a:spcPct val="90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nus Bradycardi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26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Occurs in about 40% of clients after an acute M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77600" indent="-329760">
              <a:lnSpc>
                <a:spcPct val="90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nus Tachycardi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26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Must be corrected !!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77600" indent="-329760">
              <a:lnSpc>
                <a:spcPct val="90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trial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26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PAC’s or Atrial fibrillation common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77600" indent="-329760">
              <a:lnSpc>
                <a:spcPct val="90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entricula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26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PVC’s and ventricular tachycardia (VT) 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1" marL="777600" indent="-329760">
              <a:lnSpc>
                <a:spcPct val="90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V Heart Block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326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Most common with inferior wall MI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8E36-08B9-4615-A9B8-72F8A542B08A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entricular Aneurys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n-contractile, thin ventricular wall = </a:t>
            </a:r>
            <a:r>
              <a:rPr b="0" lang="en-US" sz="2800" spc="-1" strike="noStrike">
                <a:solidFill>
                  <a:srgbClr val="545472"/>
                </a:solidFill>
                <a:latin typeface="Wingdings 3"/>
                <a:ea typeface="Wingdings 3"/>
              </a:rPr>
              <a:t>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SV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eads to acute heart failure, emboli and V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entricular Septal Defec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upture of septum; shunting of blood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/Sx: Severe CP, syncope, </a:t>
            </a:r>
            <a:r>
              <a:rPr b="0" lang="en-US" sz="2400" spc="-1" strike="noStrike">
                <a:solidFill>
                  <a:srgbClr val="545472"/>
                </a:solidFill>
                <a:latin typeface="Wingdings 3"/>
                <a:ea typeface="Wingdings 3"/>
              </a:rPr>
              <a:t>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P &amp;   murmur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30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edical emergency; high mortality; surgery to correc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ericarditi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34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 inflammation of the pericardial sa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FF0B-2177-44A9-B130-BD684FA3E7DF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Coronary Artery Disease (CAD) 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gressive disease resulting in coronary artery narrowing or total occlusion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45472"/>
                </a:solidFill>
                <a:uFillTx/>
                <a:latin typeface="Tahoma"/>
              </a:rPr>
              <a:t>Atherosclerosis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Most common cause of CAD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The abnormal accumulation of plaques on the vessel wall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auses narrowing then eventually blockages in the coronary arteries that reduces myocardial blood flow = CA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545472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symptomatic until 75% occlusion of coronary artery lume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BB85-2B39-40E4-ABA7-7A3BB55D80A2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AD: Risk Factors 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difiab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mok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ypertension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yperlipidem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hysical inactiv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abetes Mellitu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bes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ss / Anxie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e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n-Modifiab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creasing 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ales  &gt;45 years old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Females &gt;55 years ol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end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Affects both men and women; #1 killer is U.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enetic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trong genetic componen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9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thnic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Non-whites increased incidences versus whit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80BA-FF74-4D45-A242-9DFF6F50AD97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LEARNING OBJECTIVE 2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fine pathophysiology of CAD/ischemic heart disease and explain the interventions used when evaluating a patient with angina pectori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016-B218-4EFF-A8C1-625708D35525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Angina Pectoris </a:t>
            </a:r>
            <a:r>
              <a:rPr b="0" lang="en-US" sz="4000" spc="-1" strike="noStrike">
                <a:solidFill>
                  <a:srgbClr val="892d5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As CAD progresses the atherosclerotic plagues become significant, reducing blood flow to portions of the myocardium = Ischemia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10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chemia clinically manifests most often as angina (chest pain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lnSpc>
                <a:spcPct val="105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gina pectoris is =myocardial ischemia without cellular death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7CD0-79D3-4EF0-9192-1158FFBEEE29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3" name="Picture 59" descr="img026"/>
          <p:cNvPicPr/>
          <p:nvPr/>
        </p:nvPicPr>
        <p:blipFill>
          <a:blip r:embed="rId1"/>
          <a:stretch/>
        </p:blipFill>
        <p:spPr>
          <a:xfrm>
            <a:off x="1219320" y="914400"/>
            <a:ext cx="6902280" cy="5380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4" name="Text Box 61"/>
          <p:cNvSpPr/>
          <p:nvPr/>
        </p:nvSpPr>
        <p:spPr>
          <a:xfrm>
            <a:off x="2362320" y="3505320"/>
            <a:ext cx="5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023200" y="938160"/>
            <a:ext cx="52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yocardial Oxygen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ly and Demand Bala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Text Box 64"/>
          <p:cNvSpPr/>
          <p:nvPr/>
        </p:nvSpPr>
        <p:spPr>
          <a:xfrm>
            <a:off x="2971800" y="2209680"/>
            <a:ext cx="116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Demand</a:t>
            </a:r>
            <a:endParaRPr b="0" lang="en-US" sz="19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7" name="Text Box 65"/>
          <p:cNvSpPr/>
          <p:nvPr/>
        </p:nvSpPr>
        <p:spPr>
          <a:xfrm>
            <a:off x="5154120" y="22096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l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Text Box 66"/>
          <p:cNvSpPr/>
          <p:nvPr/>
        </p:nvSpPr>
        <p:spPr>
          <a:xfrm>
            <a:off x="6095880" y="3505320"/>
            <a:ext cx="533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Text Box 67"/>
          <p:cNvSpPr/>
          <p:nvPr/>
        </p:nvSpPr>
        <p:spPr>
          <a:xfrm>
            <a:off x="5068440" y="4343400"/>
            <a:ext cx="113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eria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yge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0" name="Text Box 70"/>
          <p:cNvSpPr/>
          <p:nvPr/>
        </p:nvSpPr>
        <p:spPr>
          <a:xfrm>
            <a:off x="1329840" y="426708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loa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Text Box 71"/>
          <p:cNvSpPr/>
          <p:nvPr/>
        </p:nvSpPr>
        <p:spPr>
          <a:xfrm>
            <a:off x="2926080" y="426708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loa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Text Box 68"/>
          <p:cNvSpPr/>
          <p:nvPr/>
        </p:nvSpPr>
        <p:spPr>
          <a:xfrm>
            <a:off x="6657840" y="4343400"/>
            <a:ext cx="14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onar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er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flow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Text Box 72"/>
          <p:cNvSpPr/>
          <p:nvPr/>
        </p:nvSpPr>
        <p:spPr>
          <a:xfrm>
            <a:off x="1167120" y="49528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actilit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Text Box 73"/>
          <p:cNvSpPr/>
          <p:nvPr/>
        </p:nvSpPr>
        <p:spPr>
          <a:xfrm>
            <a:off x="2800080" y="4800600"/>
            <a:ext cx="91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rt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Line 77"/>
          <p:cNvSpPr/>
          <p:nvPr/>
        </p:nvSpPr>
        <p:spPr>
          <a:xfrm>
            <a:off x="2438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6" name="Line 81"/>
          <p:cNvSpPr/>
          <p:nvPr/>
        </p:nvSpPr>
        <p:spPr>
          <a:xfrm>
            <a:off x="28954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7" name="Text Box 82"/>
          <p:cNvSpPr/>
          <p:nvPr/>
        </p:nvSpPr>
        <p:spPr>
          <a:xfrm>
            <a:off x="6174000" y="4191120"/>
            <a:ext cx="180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Text Box 83"/>
          <p:cNvSpPr/>
          <p:nvPr/>
        </p:nvSpPr>
        <p:spPr>
          <a:xfrm>
            <a:off x="6554880" y="4191120"/>
            <a:ext cx="180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51C6-1EFD-45E5-A8F9-C9C21B53CABE}" type="slidenum">
              <a:rPr b="0" lang="ar-SA" sz="1400" spc="-1" strike="noStrike">
                <a:solidFill>
                  <a:srgbClr val="545472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Precipitating Factors of  Angina 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ny situation where oxygen demands are increased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Physical exertion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Tachycardia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Dysrhythmias 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Cold weather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Eating a heavy meal 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1" marL="793800" indent="-336600">
              <a:spcBef>
                <a:spcPts val="75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Tahoma"/>
              </a:rPr>
              <a:t>Stress or emotional states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17:34:17Z</dcterms:created>
  <dc:creator>Sherry Burrell</dc:creator>
  <dc:description/>
  <dc:language>en-US</dc:language>
  <cp:lastModifiedBy>ksu</cp:lastModifiedBy>
  <dcterms:modified xsi:type="dcterms:W3CDTF">2011-10-02T08:02:38Z</dcterms:modified>
  <cp:revision>792</cp:revision>
  <dc:subject/>
  <dc:title>The Client with Altered Cardiac Output </dc:title>
</cp:coreProperties>
</file>