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23F43-C176-4D78-A7D0-B06E12A6C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98EBC-3838-465E-B300-B1DBB81F1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AF4C6-EA1C-4F06-89F9-8F520984D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CE7B7-2183-4C7D-9B53-76448F71B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91B34-4E9D-481A-BA62-C052C66F4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0DAD9-7AD2-4D34-BF7C-8ADAE5686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1EC1D-3BD7-4795-82D6-9B18DFBBB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83EF5-918A-4376-A915-B4609582C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A784E-C96C-4F63-9C7E-53A01626B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EB673-4FC6-4DC3-A728-0BDE1A962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D95E7-8019-4013-819D-2DC39E8D8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C309B-9A8C-40EF-9AD5-F914A072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1047C-2F0C-4494-BE3A-12C5D88BC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CF589-5BC5-461F-B603-7F2DC73FC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E505A-DCD6-4700-B02C-3DB53DC25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1BAEF-5D1F-4EAD-943B-CA1859362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C1D54-BD6C-4893-846E-3BE131404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1BDC1-271F-45F1-A741-323EDAF59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C2164-9475-4BA6-90F7-7E493F36C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4EAC6-72E3-4D70-BD12-6369EE56B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2CD28-8FC0-4B7C-B22A-70714B226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E5F2B-B1AF-4115-890E-DBD43481F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B9DF-A557-451F-83E1-F55C0CBF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95FB5-60CD-4EAA-938B-6B1784FFD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54DB-7506-45B0-9EAD-7E1F99E3FB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56B3-B398-4A0C-868E-D46ED5D539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rbon Dioxide from Respiration</a:t>
            </a:r>
            <a:endParaRPr b="0" lang="en-US" sz="4400" spc="-1" strike="noStrike">
              <a:solidFill>
                <a:srgbClr val="ffcc66"/>
              </a:solidFill>
              <a:latin typeface="Arial"/>
            </a:endParaRPr>
          </a:p>
        </p:txBody>
      </p:sp>
      <p:sp>
        <p:nvSpPr>
          <p:cNvPr id="89" name="PlaceHolder 2"/>
          <p:cNvSpPr>
            <a:spLocks noGrp="1"/>
          </p:cNvSpPr>
          <p:nvPr>
            <p:ph type="subTitle"/>
          </p:nvPr>
        </p:nvSpPr>
        <p:spPr>
          <a:xfrm>
            <a:off x="1752480" y="27432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n dioxide from  respiration is demonstrated by two chemical rea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un Fact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n dioxide does not burn or support combustion.  Because of this property, it is used in some fire extinguis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91" name="PlaceHolder 2"/>
          <p:cNvSpPr>
            <a:spLocks noGrp="1"/>
          </p:cNvSpPr>
          <p:nvPr>
            <p:ph type="subTitle"/>
          </p:nvPr>
        </p:nvSpPr>
        <p:spPr>
          <a:xfrm>
            <a:off x="1752480" y="27432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monstrate that carbon dioxide is expelled from the lungs by seeing it react with limewater (calcium hydroxide) and bromothymol blue indicat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MONSTRATION:</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arbon dioxide is blown through a straw into a flask of limewater (calcium hydroxide) the carbon dioxide reacts with the solution to produce insoluble calcium carbonate.  When the same is done with bromothymol blue indicator, the carbon dioxide turns the solution from blue to yellow-gre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EPTS:</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iration</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bility</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dicato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PIRATION</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iration is the ventilation of the lungs (breathing) and the exchange of gases between blood and the atmosphere.  The exchange of gases occurs in the alveoli of the lungs in which oxygen is loading and carbon dioxide is unloading.  In this demonstration, the carbon dioxide used for chemical changes was produced by respi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LUBILITY</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olubility of a substance is the amount of that substance that can be dissolved in a given quantity of solvent.  In this demonstration the reaction of the carbon dioxide and limewater produced a fine, white precipitate of calcium carbonate.  The reason a precipitate formed is because calcium carbonate is insoluble in water. Calcium carbonate is limestone (chalk is a finely-grained calcium carbonate).</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g)  +  Ca(O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l)        CaCO</a:t>
            </a:r>
            <a:r>
              <a:rPr b="0" lang="en-US" sz="2800" spc="-1" strike="noStrike" baseline="-25000">
                <a:solidFill>
                  <a:srgbClr val="ffffff"/>
                </a:solidFill>
                <a:latin typeface="Times New Roman"/>
              </a:rPr>
              <a:t>3</a:t>
            </a:r>
            <a:r>
              <a:rPr b="0" lang="en-US" sz="2800" spc="-1" strike="noStrike">
                <a:solidFill>
                  <a:srgbClr val="ffffff"/>
                </a:solidFill>
                <a:latin typeface="Times New Roman"/>
              </a:rPr>
              <a:t>(s)  +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l)  </a:t>
            </a:r>
            <a:endParaRPr b="0" lang="en-US" sz="2800" spc="-1" strike="noStrike">
              <a:solidFill>
                <a:srgbClr val="ffffff"/>
              </a:solidFill>
              <a:latin typeface="Times New Roman"/>
            </a:endParaRPr>
          </a:p>
        </p:txBody>
      </p:sp>
      <p:sp>
        <p:nvSpPr>
          <p:cNvPr id="100" name=""/>
          <p:cNvSpPr/>
          <p:nvPr/>
        </p:nvSpPr>
        <p:spPr>
          <a:xfrm>
            <a:off x="4419720" y="58672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 and INDICATORS</a:t>
            </a:r>
            <a:endParaRPr b="0" lang="en-US" sz="4400" spc="-1" strike="noStrike">
              <a:solidFill>
                <a:srgbClr val="ffcc66"/>
              </a:solidFill>
              <a:latin typeface="Arial"/>
            </a:endParaRPr>
          </a:p>
        </p:txBody>
      </p:sp>
      <p:sp>
        <p:nvSpPr>
          <p:cNvPr id="102"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mothymol blue is an indicator that turns yellow-green in the presence of acidic substances.  When carbon dioxide is breathed into water it reacts with the water to form carbonic acid.  </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CO</a:t>
            </a:r>
            <a:r>
              <a:rPr b="0" lang="en-US" sz="2800" spc="-1" strike="noStrike" baseline="-25000">
                <a:solidFill>
                  <a:srgbClr val="ffffff"/>
                </a:solidFill>
                <a:latin typeface="Times New Roman"/>
              </a:rPr>
              <a:t>3</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ic acid itself is in equilibrium with water and carbon dioxide.</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more and more carbonic acid is produced, the pH of solution decreases causing the indicator to change color to yellow-green.  The color change of the indicator thus serves to demonstrate the presence of carbon dioxide by showing the change in pH.</a:t>
            </a:r>
            <a:endParaRPr b="0" lang="en-US" sz="2800" spc="-1" strike="noStrike">
              <a:solidFill>
                <a:srgbClr val="ffffff"/>
              </a:solidFill>
              <a:latin typeface="Times New Roman"/>
            </a:endParaRPr>
          </a:p>
        </p:txBody>
      </p:sp>
      <p:sp>
        <p:nvSpPr>
          <p:cNvPr id="103" name=""/>
          <p:cNvSpPr/>
          <p:nvPr/>
        </p:nvSpPr>
        <p:spPr>
          <a:xfrm>
            <a:off x="4495680" y="2895480"/>
            <a:ext cx="1219320" cy="0"/>
          </a:xfrm>
          <a:prstGeom prst="line">
            <a:avLst/>
          </a:prstGeom>
          <a:ln w="9360">
            <a:solidFill>
              <a:srgbClr val="ffffff"/>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4495320" y="3124080"/>
            <a:ext cx="1219320" cy="0"/>
          </a:xfrm>
          <a:prstGeom prst="line">
            <a:avLst/>
          </a:prstGeom>
          <a:ln w="9360">
            <a:solidFill>
              <a:srgbClr val="ffffff"/>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The carbon dioxide produced from respiration was used to do chemical reactions which demonstrated its presence.  The reaction of carbon dioxide and calcium hydroxide produced calcium carbonate which was insoluble in water and formed a white precipitate.</a:t>
            </a:r>
            <a:endParaRPr b="0" lang="en-US" sz="2400" spc="-1" strike="noStrike">
              <a:solidFill>
                <a:srgbClr val="ffffff"/>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s the carbon dioxide reacted with the water in the bromothymol blue indicator, the pH decreased (became more acidic) causing the blue color to change to yellow-green.</a:t>
            </a:r>
            <a:endParaRPr b="0" lang="en-US" sz="2400" spc="-1" strike="noStrike">
              <a:solidFill>
                <a:srgbClr val="ffffff"/>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MENT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can also use dry ice with the same effects for the source of carbon dioxide in this experi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4T23:07:07Z</dcterms:created>
  <dc:creator>Mike Pogany</dc:creator>
  <dc:description/>
  <dc:language>en-US</dc:language>
  <cp:lastModifiedBy>David Boyles</cp:lastModifiedBy>
  <dcterms:modified xsi:type="dcterms:W3CDTF">1999-12-16T17:41:09Z</dcterms:modified>
  <cp:revision>13</cp:revision>
  <dc:subject/>
  <dc:title>Carbon Dioxide from Respiration</dc:title>
</cp:coreProperties>
</file>