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7D63-F55F-45D5-806D-FB3BADF1C6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7A5A-371C-46D5-B077-4F7EC237B7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674F-D92D-44B0-8858-AE83319993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94CB-CAF6-46D9-8CD4-71F5FB1700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63F7-ECE5-49DA-B84D-AB73F338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191-B9DA-4A15-8812-FA790A3A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44EBB-53B4-4D5C-8285-9141F81E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BA51F-A6ED-421B-8DCD-EA641842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9D68D-3FB5-4368-BD3F-617DB626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6D267-733F-4833-9ABE-4A6D4793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D283A-06FA-4A03-857F-062D042B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E0E49-0FB9-4CB8-AE07-EA4BC06B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AF727-92BD-4E0C-A5FC-25B4EB9C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0E6E8-961E-49FE-A8AC-7FE86B32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12F01-2084-4C98-B395-ACAFD923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4CF-157E-4BB2-856C-9FEB363C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0EF-3A63-4DD0-91CE-8F100F12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2E2A-68B3-41BD-89D9-29D1F8DB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5F7A-9DAE-4B6D-AF6D-F065CC1C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4600-E35F-4F8C-A585-6C3EAE7C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0302-2083-4FAE-8907-F2CCD90F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A813-A9AE-44E0-8EEB-667C4356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ECBD-A774-4AD5-B312-4D9C6580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6F4F-0835-4833-B64E-46CC7494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F3C-C096-487E-9C02-E19F3A22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3B3B-8410-46C7-9009-5A317866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FB88-6542-4BFC-8266-F25C8580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D526-B12F-4813-9480-AB40511B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6FB8-9E07-417B-8932-A2AE97DC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FAE8-87D6-4DB0-A92A-12642144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89C2A-F022-4EA0-8457-C582A036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4E17A-AA17-49E3-A65A-36BB5652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AF12E-00C7-4DD7-958F-2B11EAAD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AEF11-235D-4406-903C-624E087D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EFCFC-C7C8-4F41-94E4-E3682191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4C4-77F2-4488-85D5-13A58D12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639F8-16E0-46AB-867C-CCD1513F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09E47-0768-4C1A-B7EB-BF7E7C12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D07C2-D1D2-408A-AEAD-31A8ECA6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302B8-987B-4F02-8782-1CE509E0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8A90A-C37F-44E8-87BC-A406CE8A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07F15-26E5-4B1F-8FDE-7872E0DD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024D4-3449-4EAF-8845-14BAAB93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75F1C-65E2-4BC9-ACC4-9DD31D6A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854C4-CC93-40C1-81FF-F404BC68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B738E-6F4E-48C7-9B71-A3AF5331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02A6-C313-48B7-A7B1-A56C7389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18521-2B68-4499-A034-4C1B0339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179B1-ECE3-45D7-9A13-594C88FE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B6397-C6E2-4608-A362-C525E0D6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9DBCD-5BE7-44E2-A95F-41BAFFE2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1DFA6-C4C8-4C46-A30E-FF1CD15F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A4EE7-E932-4A68-B2C4-5337773D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A2FC8-8933-42CE-874C-27EF09D6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7BF08-7011-4B17-B18D-DA4093D4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91B64-2AB5-43C0-8F16-62E6C16C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0B04C-8566-40C9-BD3A-7A9858ED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D5A-A62E-4AE9-9E19-8DAB5157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BEA7A-A816-4D76-820C-A0BA64B5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2274A-455E-433F-9C03-05142ADE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E5527-C4A7-4C08-8B96-E5ED0C29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E5407-19BD-4C8E-8A93-CF7AD4E4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A7498-8C1E-468C-88DE-7F7381D3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FB07C-7B33-4315-8F82-BEE9C3EB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D5894-62FC-4DCB-BE6C-41A985DC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B0FA0-0846-4994-B502-6FEC2FCC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1EF65-42D0-4BFC-9F71-8A5A85A5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21AFF-B472-44FD-BDBB-A7CCC1C7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A21-B155-4580-A191-E8F133B5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3B194-A348-4D8A-AE22-E03F3478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0E18B-DC49-4440-B7F0-127A76EF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D12D1-9950-4D42-9920-26EF6CF5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E95EF-D454-4266-9170-DD4E67D0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6349B-0704-4CC9-AF7F-73D10189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E7AF0-4AD0-4515-B417-943646C5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3F7FA-A718-4F6E-A214-594940A7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2B8DB-59FE-49A3-9763-455938C3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106D7-513B-4785-B1F0-6057049F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0F32F-8207-4D74-B206-63A3C54C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778F-F88F-4872-93D2-62DF7584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C98AC-A066-4CDD-B1A0-16CD53DB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8B700-A874-4EC2-A315-90E8A5C9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D06A2-CA3B-4721-9466-2C003C67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92A12-FBFB-4D7D-9F23-C7833ABD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A63AB-74AE-4DE2-AB7E-F59E639A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F0CE2-4D8F-4D2D-84E1-07EB3D77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840B2-500A-440E-B055-898A175D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C6839-1971-4B3F-ABC2-DBCE0837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FBA22-3B87-4238-8BAE-B5B366C3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33CBC-CB5E-4D0D-9935-554F6034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596-761C-4C79-BEE9-5E5D6C87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BACB6-A247-4376-B5F4-A37F0F16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E0FE3-697B-4589-B989-D7BF78ED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5A296-C1D7-45BF-B2F4-F9AB6D8F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F1CFC-F989-4BEF-BA6C-58EA5EB7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CA07A-99DC-4C1A-B12B-D03D7A1C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BF234-D57E-4147-B920-A7B84D80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125FF-947C-414C-A78D-7D209DAD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DC82F-D09E-41B7-B373-006850C7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43E97-B7D1-4307-9CCA-DDF3CDBF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08208-2E7F-468E-BA16-50432645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5BE9-0378-4FAE-86AD-1580320A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01606-6DBC-4B03-A04B-33541BAA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02A7E-ADF9-467A-B837-99E67678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811F3-0C9C-4E8E-ABED-471580A7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C3FA0-DEE6-4E90-8B7C-3CDB76D4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28BE6-B87F-4AC9-94EF-B51805BF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D5F80-6559-40EF-8263-1BF6970C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EE00F-647F-4147-8EF6-CD2433E5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61586-6D0D-4423-8312-9270090C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FA0E7-FA34-47D2-9CBE-14827125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FBB96-AF75-4140-AC18-B1796E60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A22C-DC34-4C64-915E-81DEB416F5CA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08C6-5757-467D-B8DF-AFDFA9200978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049E-207D-4C58-AF8D-AD5FE025F3E0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A7A5-921D-48EF-B7C5-894DDD91D320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BFB3-3D21-4042-AB88-383DC12D6810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F860-AFB7-4D73-A8D7-F3E38D7AEC9F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4C10-1CFB-4589-96BA-254BFB1142EE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4731-8E50-4D2D-808A-CD28B2745A2A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9560-F615-479E-AAA2-C862FD286EA2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781200" y="1841400"/>
            <a:ext cx="77832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285840" y="571680"/>
          <a:ext cx="8715240" cy="5786280"/>
        </p:xfrm>
        <a:graphic>
          <a:graphicData uri="http://schemas.openxmlformats.org/drawingml/2006/table">
            <a:tbl>
              <a:tblPr/>
              <a:tblGrid>
                <a:gridCol w="2179440"/>
                <a:gridCol w="3535560"/>
                <a:gridCol w="3000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ic ac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etic ac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473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871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800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408" name="Right Arrow 5"/>
          <p:cNvSpPr/>
          <p:nvPr/>
        </p:nvSpPr>
        <p:spPr>
          <a:xfrm>
            <a:off x="3571920" y="185724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ight Arrow 6"/>
          <p:cNvSpPr/>
          <p:nvPr/>
        </p:nvSpPr>
        <p:spPr>
          <a:xfrm>
            <a:off x="6643800" y="357192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ight Arrow 7"/>
          <p:cNvSpPr/>
          <p:nvPr/>
        </p:nvSpPr>
        <p:spPr>
          <a:xfrm>
            <a:off x="5000760" y="514368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214200" y="1454040"/>
            <a:ext cx="3571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gCl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ml HgCl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ml of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2428920" y="2363760"/>
            <a:ext cx="3571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bidity or white ppt of H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“merchrrous chlori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6863040" y="25002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214200" y="3214800"/>
            <a:ext cx="6858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Alkaline KMnO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ml acid + 1ml N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lution + 2-3 drops KMn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2"/>
          <p:cNvSpPr/>
          <p:nvPr/>
        </p:nvSpPr>
        <p:spPr>
          <a:xfrm>
            <a:off x="2257200" y="4143240"/>
            <a:ext cx="416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lorization + brown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(manganus 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6720120" y="42148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4"/>
          <p:cNvSpPr/>
          <p:nvPr/>
        </p:nvSpPr>
        <p:spPr>
          <a:xfrm>
            <a:off x="214200" y="4714920"/>
            <a:ext cx="89298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Esterficatio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ml ethanol + acid + 3-4 drops Conc.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in beaker containing 10ml H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5"/>
          <p:cNvSpPr/>
          <p:nvPr/>
        </p:nvSpPr>
        <p:spPr>
          <a:xfrm>
            <a:off x="3219840" y="57150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6"/>
          <p:cNvSpPr/>
          <p:nvPr/>
        </p:nvSpPr>
        <p:spPr>
          <a:xfrm>
            <a:off x="5966640" y="571500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uity odor of ethyl ace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Isosceles Triangle 19"/>
          <p:cNvSpPr/>
          <p:nvPr/>
        </p:nvSpPr>
        <p:spPr>
          <a:xfrm>
            <a:off x="3786120" y="1571760"/>
            <a:ext cx="285840" cy="285480"/>
          </a:xfrm>
          <a:prstGeom prst="triangle">
            <a:avLst>
              <a:gd name="adj" fmla="val 5143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Isosceles Triangle 20"/>
          <p:cNvSpPr/>
          <p:nvPr/>
        </p:nvSpPr>
        <p:spPr>
          <a:xfrm>
            <a:off x="5072040" y="500076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4316400" y="3357720"/>
            <a:ext cx="898560" cy="7855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4643280" y="1565280"/>
            <a:ext cx="8524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"/>
          <p:cNvGraphicFramePr/>
          <p:nvPr/>
        </p:nvGraphicFramePr>
        <p:xfrm>
          <a:off x="285840" y="571680"/>
          <a:ext cx="8715240" cy="4460760"/>
        </p:xfrm>
        <a:graphic>
          <a:graphicData uri="http://schemas.openxmlformats.org/drawingml/2006/table">
            <a:tbl>
              <a:tblPr/>
              <a:tblGrid>
                <a:gridCol w="2179440"/>
                <a:gridCol w="3606840"/>
                <a:gridCol w="292896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artaric ac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itric ac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473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285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425" name="Right Arrow 5"/>
          <p:cNvSpPr/>
          <p:nvPr/>
        </p:nvSpPr>
        <p:spPr>
          <a:xfrm>
            <a:off x="4214880" y="185724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ight Arrow 6"/>
          <p:cNvSpPr/>
          <p:nvPr/>
        </p:nvSpPr>
        <p:spPr>
          <a:xfrm>
            <a:off x="5143680" y="3643200"/>
            <a:ext cx="1000080" cy="21456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ight Arrow 7"/>
          <p:cNvSpPr/>
          <p:nvPr/>
        </p:nvSpPr>
        <p:spPr>
          <a:xfrm>
            <a:off x="7786800" y="364320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214200" y="1454040"/>
            <a:ext cx="4000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. H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 + 4 drops Conc.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2503440" y="231444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rvescence + heavy char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0"/>
          <p:cNvSpPr/>
          <p:nvPr/>
        </p:nvSpPr>
        <p:spPr>
          <a:xfrm>
            <a:off x="6143760" y="231444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rvescence + yellow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1"/>
          <p:cNvSpPr/>
          <p:nvPr/>
        </p:nvSpPr>
        <p:spPr>
          <a:xfrm>
            <a:off x="285840" y="3143160"/>
            <a:ext cx="84294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Dengi’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 +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 Dengi’s reagent 2 drops                    add KMn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boil   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[WHILE IT’S HOT]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3076920" y="450072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3"/>
          <p:cNvSpPr/>
          <p:nvPr/>
        </p:nvSpPr>
        <p:spPr>
          <a:xfrm>
            <a:off x="6071400" y="4443480"/>
            <a:ext cx="29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lorization + white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Isosceles Triangle 19"/>
          <p:cNvSpPr/>
          <p:nvPr/>
        </p:nvSpPr>
        <p:spPr>
          <a:xfrm>
            <a:off x="4429080" y="1571760"/>
            <a:ext cx="357120" cy="28548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Isosceles Triangle 20"/>
          <p:cNvSpPr/>
          <p:nvPr/>
        </p:nvSpPr>
        <p:spPr>
          <a:xfrm>
            <a:off x="5429160" y="3357720"/>
            <a:ext cx="357120" cy="28548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71280" y="571680"/>
          <a:ext cx="9001440" cy="5715000"/>
        </p:xfrm>
        <a:graphic>
          <a:graphicData uri="http://schemas.openxmlformats.org/drawingml/2006/table">
            <a:tbl>
              <a:tblPr/>
              <a:tblGrid>
                <a:gridCol w="2179800"/>
                <a:gridCol w="3606840"/>
                <a:gridCol w="321480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nzoic ac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thalic ac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473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57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437" name="Right Arrow 5"/>
          <p:cNvSpPr/>
          <p:nvPr/>
        </p:nvSpPr>
        <p:spPr>
          <a:xfrm>
            <a:off x="6072120" y="185724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ight Arrow 6"/>
          <p:cNvSpPr/>
          <p:nvPr/>
        </p:nvSpPr>
        <p:spPr>
          <a:xfrm>
            <a:off x="4714920" y="3786120"/>
            <a:ext cx="857160" cy="21456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214200" y="1428840"/>
            <a:ext cx="8715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thalei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ol + phthalic acid + 4 drops Conc.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c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in 10% NaOH in beaker                  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heat until fussio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3505680" y="264312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6858000" y="264312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k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114480" y="3286080"/>
            <a:ext cx="93866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lourescei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 + resercinol + 2-3 drops Conc.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l then pour in 10% NaOH in beake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heat until f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3505680" y="521496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6006960" y="4857840"/>
            <a:ext cx="29404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fluorescence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Isosceles Triangle 19"/>
          <p:cNvSpPr/>
          <p:nvPr/>
        </p:nvSpPr>
        <p:spPr>
          <a:xfrm>
            <a:off x="6286680" y="1571760"/>
            <a:ext cx="357120" cy="28548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Isosceles Triangle 20"/>
          <p:cNvSpPr/>
          <p:nvPr/>
        </p:nvSpPr>
        <p:spPr>
          <a:xfrm>
            <a:off x="4929120" y="3500280"/>
            <a:ext cx="357120" cy="28584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ight Arrow 14"/>
          <p:cNvSpPr/>
          <p:nvPr/>
        </p:nvSpPr>
        <p:spPr>
          <a:xfrm>
            <a:off x="7786800" y="185724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ight Arrow 15"/>
          <p:cNvSpPr/>
          <p:nvPr/>
        </p:nvSpPr>
        <p:spPr>
          <a:xfrm>
            <a:off x="4786200" y="2158920"/>
            <a:ext cx="978120" cy="2700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Curved Left Arrow 22"/>
          <p:cNvSpPr/>
          <p:nvPr/>
        </p:nvSpPr>
        <p:spPr>
          <a:xfrm>
            <a:off x="7286760" y="4071960"/>
            <a:ext cx="714240" cy="785880"/>
          </a:xfrm>
          <a:custGeom>
            <a:avLst/>
            <a:gdLst>
              <a:gd name="textAreaLeft" fmla="*/ 95400 w 714240"/>
              <a:gd name="textAreaRight" fmla="*/ 618840 w 714240"/>
              <a:gd name="textAreaTop" fmla="*/ 129240 h 785880"/>
              <a:gd name="textAreaBottom" fmla="*/ 5673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18" stAng="-5400000" swAng="5400000"/>
                <a:lnTo>
                  <a:pt x="21600" y="12028"/>
                </a:lnTo>
                <a:arcTo wR="21600" hR="7118" stAng="0" swAng="3115235"/>
                <a:lnTo>
                  <a:pt x="5400" y="21374"/>
                </a:lnTo>
                <a:lnTo>
                  <a:pt x="0" y="16691"/>
                </a:lnTo>
                <a:lnTo>
                  <a:pt x="5400" y="11556"/>
                </a:lnTo>
                <a:lnTo>
                  <a:pt x="5400" y="14010"/>
                </a:lnTo>
                <a:arcTo wR="21600" hR="7118" stAng="3115235" swAng="-2700984"/>
                <a:lnTo>
                  <a:pt x="20275" y="9573"/>
                </a:lnTo>
                <a:arcTo wR="21600" hR="7118" stAng="-414251" swAng="-4985749"/>
                <a:close/>
              </a:path>
              <a:path fill="darkenLess" w="21600" h="21600">
                <a:moveTo>
                  <a:pt x="0" y="0"/>
                </a:moveTo>
                <a:arcTo wR="21600" hR="7118" stAng="-5400000" swAng="5400000"/>
                <a:lnTo>
                  <a:pt x="21600" y="12028"/>
                </a:lnTo>
                <a:arcTo wR="21600" hR="7118" stAng="0" swAng="-414251"/>
                <a:lnTo>
                  <a:pt x="20275" y="9573"/>
                </a:lnTo>
                <a:arcTo wR="21600" hR="7118" stAng="-414251" swAng="-498574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own Arrow 26"/>
          <p:cNvSpPr/>
          <p:nvPr/>
        </p:nvSpPr>
        <p:spPr>
          <a:xfrm>
            <a:off x="8429760" y="5214960"/>
            <a:ext cx="14292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6143760" y="5270400"/>
            <a:ext cx="1152360" cy="9446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" descr=""/>
          <p:cNvPicPr/>
          <p:nvPr/>
        </p:nvPicPr>
        <p:blipFill>
          <a:blip r:embed="rId2"/>
          <a:stretch/>
        </p:blipFill>
        <p:spPr>
          <a:xfrm>
            <a:off x="8016840" y="2143080"/>
            <a:ext cx="11271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214200" y="71280"/>
          <a:ext cx="8715600" cy="5643720"/>
        </p:xfrm>
        <a:graphic>
          <a:graphicData uri="http://schemas.openxmlformats.org/drawingml/2006/table">
            <a:tbl>
              <a:tblPr/>
              <a:tblGrid>
                <a:gridCol w="871560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 of Salicylic acid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4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sp>
        <p:nvSpPr>
          <p:cNvPr id="454" name="Rectangle 6"/>
          <p:cNvSpPr/>
          <p:nvPr/>
        </p:nvSpPr>
        <p:spPr>
          <a:xfrm>
            <a:off x="3394800" y="150012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mson red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2786040" y="3429000"/>
            <a:ext cx="614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l of winter green </a:t>
            </a:r>
            <a:r>
              <a:rPr b="1" lang="en-US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“ Vicks odor due to methyl salicyl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ight Arrow 11"/>
          <p:cNvSpPr/>
          <p:nvPr/>
        </p:nvSpPr>
        <p:spPr>
          <a:xfrm>
            <a:off x="8143920" y="4286160"/>
            <a:ext cx="71424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2"/>
          <p:cNvSpPr/>
          <p:nvPr/>
        </p:nvSpPr>
        <p:spPr>
          <a:xfrm>
            <a:off x="3861360" y="521496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k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6"/>
          <p:cNvSpPr/>
          <p:nvPr/>
        </p:nvSpPr>
        <p:spPr>
          <a:xfrm>
            <a:off x="214200" y="642960"/>
            <a:ext cx="9001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Formaldehyd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ml formaldehyde + few gm salicylic acid + 4 drops Conc.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n the w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8"/>
          <p:cNvSpPr/>
          <p:nvPr/>
        </p:nvSpPr>
        <p:spPr>
          <a:xfrm>
            <a:off x="214200" y="1928880"/>
            <a:ext cx="8929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Esterficatio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ml ethanol + few gm salicylic acid + 3-4 drops Conc.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in b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ing 10ml H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ight Arrow 29"/>
          <p:cNvSpPr/>
          <p:nvPr/>
        </p:nvSpPr>
        <p:spPr>
          <a:xfrm>
            <a:off x="6729480" y="2400480"/>
            <a:ext cx="428400" cy="14256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Isosceles Triangle 30"/>
          <p:cNvSpPr/>
          <p:nvPr/>
        </p:nvSpPr>
        <p:spPr>
          <a:xfrm>
            <a:off x="6858000" y="2214720"/>
            <a:ext cx="142920" cy="14256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Down Arrow 31"/>
          <p:cNvSpPr/>
          <p:nvPr/>
        </p:nvSpPr>
        <p:spPr>
          <a:xfrm>
            <a:off x="7572240" y="2857680"/>
            <a:ext cx="214560" cy="42840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2"/>
          <p:cNvSpPr/>
          <p:nvPr/>
        </p:nvSpPr>
        <p:spPr>
          <a:xfrm>
            <a:off x="171360" y="3857760"/>
            <a:ext cx="8715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Phthalei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gm Salicylic acid + few gm phthalic anhydride + 4 drops Conc.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cool                pour in 10 ml 10% NaOH in beake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ight Arrow 34"/>
          <p:cNvSpPr/>
          <p:nvPr/>
        </p:nvSpPr>
        <p:spPr>
          <a:xfrm>
            <a:off x="1314360" y="4600440"/>
            <a:ext cx="71460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ight Arrow 35"/>
          <p:cNvSpPr/>
          <p:nvPr/>
        </p:nvSpPr>
        <p:spPr>
          <a:xfrm>
            <a:off x="6000840" y="4586400"/>
            <a:ext cx="1000080" cy="199800"/>
          </a:xfrm>
          <a:prstGeom prst="rightArrow">
            <a:avLst>
              <a:gd name="adj1" fmla="val 50000"/>
              <a:gd name="adj2" fmla="val 5005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Isosceles Triangle 36"/>
          <p:cNvSpPr/>
          <p:nvPr/>
        </p:nvSpPr>
        <p:spPr>
          <a:xfrm>
            <a:off x="8286840" y="4071960"/>
            <a:ext cx="214200" cy="21420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7" name=""/>
          <p:cNvGraphicFramePr/>
          <p:nvPr/>
        </p:nvGraphicFramePr>
        <p:xfrm>
          <a:off x="1500120" y="285840"/>
          <a:ext cx="7215120" cy="2174760"/>
        </p:xfrm>
        <a:graphic>
          <a:graphicData uri="http://schemas.openxmlformats.org/drawingml/2006/table">
            <a:tbl>
              <a:tblPr/>
              <a:tblGrid>
                <a:gridCol w="3048120"/>
                <a:gridCol w="416700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m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468" name="Rectangle 2"/>
          <p:cNvSpPr/>
          <p:nvPr/>
        </p:nvSpPr>
        <p:spPr>
          <a:xfrm>
            <a:off x="1799640" y="1500120"/>
            <a:ext cx="20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00 – 32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2232000" y="200016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1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655160" y="2028960"/>
            <a:ext cx="41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 streatching band of COOH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4568400" y="1571760"/>
            <a:ext cx="41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broad –OH peak strea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2" descr="https://encrypted-tbn3.gstatic.com/images?q=tbn:ANd9GcRIQohnAxYV4WNYbQ713-MOXOBb663bEVxfZSC4yCe0ob7BWbQNNg"/>
          <p:cNvPicPr/>
          <p:nvPr/>
        </p:nvPicPr>
        <p:blipFill>
          <a:blip r:embed="rId1"/>
          <a:stretch/>
        </p:blipFill>
        <p:spPr>
          <a:xfrm>
            <a:off x="2340000" y="2708280"/>
            <a:ext cx="4753080" cy="3633840"/>
          </a:xfrm>
          <a:prstGeom prst="rect">
            <a:avLst/>
          </a:prstGeom>
          <a:ln w="0">
            <a:noFill/>
          </a:ln>
        </p:spPr>
      </p:pic>
      <p:grpSp>
        <p:nvGrpSpPr>
          <p:cNvPr id="473" name="شكل بيضاوي 4"/>
          <p:cNvGrpSpPr/>
          <p:nvPr/>
        </p:nvGrpSpPr>
        <p:grpSpPr>
          <a:xfrm>
            <a:off x="3316320" y="4492800"/>
            <a:ext cx="762120" cy="633240"/>
            <a:chOff x="3316320" y="4492800"/>
            <a:chExt cx="762120" cy="633240"/>
          </a:xfrm>
        </p:grpSpPr>
        <p:pic>
          <p:nvPicPr>
            <p:cNvPr id="474" name="شكل بيضاوي 4" descr=""/>
            <p:cNvPicPr/>
            <p:nvPr/>
          </p:nvPicPr>
          <p:blipFill>
            <a:blip r:embed="rId2"/>
            <a:stretch/>
          </p:blipFill>
          <p:spPr>
            <a:xfrm>
              <a:off x="3316320" y="4492800"/>
              <a:ext cx="7621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3452760" y="4610160"/>
              <a:ext cx="509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شكل بيضاوي 5"/>
          <p:cNvGrpSpPr/>
          <p:nvPr/>
        </p:nvGrpSpPr>
        <p:grpSpPr>
          <a:xfrm>
            <a:off x="4475160" y="5261040"/>
            <a:ext cx="766800" cy="682560"/>
            <a:chOff x="4475160" y="5261040"/>
            <a:chExt cx="766800" cy="682560"/>
          </a:xfrm>
        </p:grpSpPr>
        <p:pic>
          <p:nvPicPr>
            <p:cNvPr id="477" name="شكل بيضاوي 5" descr=""/>
            <p:cNvPicPr/>
            <p:nvPr/>
          </p:nvPicPr>
          <p:blipFill>
            <a:blip r:embed="rId3"/>
            <a:stretch/>
          </p:blipFill>
          <p:spPr>
            <a:xfrm>
              <a:off x="4475160" y="5261040"/>
              <a:ext cx="766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4600440" y="5376960"/>
              <a:ext cx="509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7:14:37Z</dcterms:created>
  <dc:creator>admin</dc:creator>
  <dc:description/>
  <dc:language>en-US</dc:language>
  <cp:lastModifiedBy>reem</cp:lastModifiedBy>
  <dcterms:modified xsi:type="dcterms:W3CDTF">2014-11-02T09:29:41Z</dcterms:modified>
  <cp:revision>59</cp:revision>
  <dc:subject/>
  <dc:title>Slide 1</dc:title>
</cp:coreProperties>
</file>