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BB52-CB81-4A16-9E36-40EA3EAFC1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A102-D621-41BF-8B3D-3CAF05982A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8476-F6E6-4FE5-9486-91C38E9EFB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D5F8-F1B1-47A0-8AC4-6E8A7AF04B9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D27-7592-4A21-8337-2ECFB1F5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8FB-9C40-449D-9AF1-F1DEC136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8DC9D-3BBC-4DFB-82C9-EBDC6742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3E448-5402-4393-A3BE-3B230B31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A2DDE-702B-4981-8CD9-EC0D7F51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81DF2-E7CB-4429-835F-3284C0D5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62142-72F3-4E25-B1A9-FD2510E5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17403-EFAF-47AB-9232-9022AC36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C6D74-4361-43F2-972D-46471BB2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AF05B-C56A-4B91-BBD4-E790A4E4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696C2-F39A-435D-986E-E20F3452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993-6427-4681-8FD2-AF2E01DA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334-42F7-4306-81ED-9221C335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4BD9-0E4C-4F39-B4FC-88C7D0B4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4C8F-B29A-4BF2-8605-DCC98817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6E7A-4BB4-4371-96CC-6C6FC62B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807E-B3F6-4433-B650-4778F864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A560-8A5F-4D51-ADA1-5FD7AF39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C40B-1D98-437E-830B-6B19CCAD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2055-B831-4BC1-9096-3E63445C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1E16-ABC7-42B5-9F7E-23C7691C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B962-C6C9-415C-A9FD-68C78A2D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9BAD-43C6-4BDB-A37D-C6609A03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CB43-DA3D-43F2-AA28-3C4AD74E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2BD2-2305-418F-9810-92C33ABE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9FA6-4129-4F1F-BDEB-264C6D64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FB774-B56D-4293-85B9-03E4FB23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554C-B2C4-41CB-BEA0-B1F70244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8D962-620D-48C2-A9F2-BC965746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4EE8-B6A4-4F09-A9C5-1F24B96E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047E0-8F75-4D04-A846-21D89A2F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A95B-B23C-465F-A856-2B1A914B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780A2-6FDF-45DD-BB74-0C05F957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BA5E-FF1F-4BF9-B716-60168707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1F4F-3326-4E24-831F-0082BDDB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6D7A9-97D2-4E2C-B964-25939F9A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CF3D-78E8-4EAC-8DEE-B09A4F62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1AAE-B960-4049-8606-E6FD19FD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359ED-6E76-4011-BC8F-87CA44C9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03708-A3DD-419D-A6A1-EB8D680C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6EFD3-0D38-4FC5-902C-B313E31A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4C95E-0E7C-48C3-B10C-F8863F94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10A-9EC9-46CB-B525-9D264E48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F6B29-1F4A-469A-8F17-406AF87C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822EE-6712-46D8-BE9C-00157120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F30A-9075-4DCA-902F-2E8325B7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35B9D-3B86-4E3E-828F-D81E82A2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A8472-8BFE-4D1F-B503-C7DE6908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E1355-E453-4301-A397-811E403E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4A4C9-E162-4998-9F48-BA53D6B2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29344-90A3-4A26-B06B-0C1DF98B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4CE08-CD2B-4659-85ED-42C7152D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1D7E7-8614-4298-95A2-571CEB46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91A-FB50-494E-A358-93C7DE46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54DB7-4E78-410B-A064-4E7A93F8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84694-2790-49EA-9475-510B3CB4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5577D-5F39-4DD0-984E-4DAC4A1D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B4A90-E480-4B6C-AEAE-E7168A10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C2F16-BB74-464A-8110-D6B11F24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DA306-F63C-44E9-A106-1231F292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6D055-A9F9-4C3A-9985-B112FA4B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CA691-EC58-4B4F-9367-1EF61AB2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5861B-0768-4278-B767-60FBCD56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2F7CC-6C36-4C56-974E-76639B4E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856-2981-4FD2-B6A2-E7347003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60CCC-BD40-4317-8AF3-69735D27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67F39-088A-45A4-A932-1C8C3A9E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8D621-CBB6-4931-BB47-011C45AA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3CE64-4C24-4506-95A0-91BCD189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027C0-70F7-43FA-84A1-B292B9F9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DDEE3-D209-4862-9615-1BD466AA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FFB02-8479-4D44-A1F1-B7EDE193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70897-FA22-485F-A73E-780706DD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3BFFB-FDDF-4DA1-8776-357C48A3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251A4-FA0B-4347-AE99-380841AB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D77-92FA-4538-83D6-9CC882C2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76334-A320-41DF-90DA-5B6B1111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74F10-E973-4138-A3D4-34A47A29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EB2CF-F731-4AE9-B067-6F236B19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4F116-69F5-4DF8-AD78-65E2B13F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49D08-1FFA-46B0-81E4-520108AC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6B811-4FA4-47B3-94DC-E25B05B8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5BE20-C014-4A58-BCE3-9801189A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6465D-7838-4899-B16D-67B92CE5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4433D-9B58-4780-8A90-6F18F432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74DC1-7E78-4719-A6E6-D8589CCD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DC8-9ADC-4B23-8619-4EED7F66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0B0E4-CEFB-469E-B784-D05CCA09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CCA6C-42B6-48F0-8812-26E3E44B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A52C7-5BB1-4F6D-BA31-8497BF79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BC688-07A5-4887-B198-D49BC5DC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42441-F1BF-49AB-85A0-68A30148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1FBB2-E993-41FA-A126-F52FB4E2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66E95-2291-457E-9171-7F9EAC18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F9DBB-4F1B-4DA5-9077-4CC30BBC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C6234-58DD-4603-999A-FFB23AE4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5E97C-C2B2-4107-B87C-8475CC7D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41A-1B2F-4E3C-8FA8-F8C3F74C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76262-C1D2-45FC-B5C0-7F17E892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3DADB-F4A0-4542-A462-EF2B5CCA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9E4E3-C932-44C0-8510-67989472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5020F-84E9-4F29-8A64-C7B63D73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4560F-B56A-4F62-906F-E354F03B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8DEEE-16BC-45B3-80BD-ECD397A1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B8A05-999F-40FD-BAE7-3D8B7FE1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DE24F-A54A-4772-B51B-EEDA9C3A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85EB7-9040-40A5-94E7-376D973A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DE599-BE96-441C-BCEC-6DE7C61C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EABF-1F77-4A70-9AAF-C0C5D84AABB8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9873-7CC8-43BC-B713-15E83ADECCC6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7F1B-9581-4E18-A4FA-138EF76BD306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3AEA-8BB8-4618-AFF5-26C7B149979F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FCB3-3A55-4B7C-B36A-CE27F95897F2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5442-50AC-404F-95E8-6770F77239B8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EF00-8FF2-4E61-ACC9-0BF208FAC09D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AE1C-5A7A-40EC-938B-C9C21C631AE3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7C75-CEF3-40B5-81CD-A8CA7CFEE50D}" type="slidenum">
              <a:rPr b="0" lang="en-GB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781200" y="1841400"/>
            <a:ext cx="77832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285840" y="571680"/>
          <a:ext cx="8715240" cy="5786280"/>
        </p:xfrm>
        <a:graphic>
          <a:graphicData uri="http://schemas.openxmlformats.org/drawingml/2006/table">
            <a:tbl>
              <a:tblPr/>
              <a:tblGrid>
                <a:gridCol w="2179440"/>
                <a:gridCol w="3535560"/>
                <a:gridCol w="30002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orm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et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73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871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800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08" name="Right Arrow 5"/>
          <p:cNvSpPr/>
          <p:nvPr/>
        </p:nvSpPr>
        <p:spPr>
          <a:xfrm>
            <a:off x="3571920" y="185724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ight Arrow 6"/>
          <p:cNvSpPr/>
          <p:nvPr/>
        </p:nvSpPr>
        <p:spPr>
          <a:xfrm>
            <a:off x="6643800" y="357192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ight Arrow 7"/>
          <p:cNvSpPr/>
          <p:nvPr/>
        </p:nvSpPr>
        <p:spPr>
          <a:xfrm>
            <a:off x="5000760" y="514368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214200" y="1454040"/>
            <a:ext cx="3571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gCl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l HgC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ml of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9"/>
          <p:cNvSpPr/>
          <p:nvPr/>
        </p:nvSpPr>
        <p:spPr>
          <a:xfrm>
            <a:off x="2428920" y="2363760"/>
            <a:ext cx="3571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bidity or white ppt of H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“merchrrous chlori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6863040" y="25002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214200" y="3214800"/>
            <a:ext cx="6858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Alkaline KMnO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l acid + 1ml N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lution + 2-3 drops KMn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2"/>
          <p:cNvSpPr/>
          <p:nvPr/>
        </p:nvSpPr>
        <p:spPr>
          <a:xfrm>
            <a:off x="2257200" y="4143240"/>
            <a:ext cx="416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lorization + brown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(manganus 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3"/>
          <p:cNvSpPr/>
          <p:nvPr/>
        </p:nvSpPr>
        <p:spPr>
          <a:xfrm>
            <a:off x="6720120" y="42148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214200" y="4714920"/>
            <a:ext cx="89298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Esterfica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l ethanol + acid + 3-4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in beaker containing 10ml H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5"/>
          <p:cNvSpPr/>
          <p:nvPr/>
        </p:nvSpPr>
        <p:spPr>
          <a:xfrm>
            <a:off x="3219840" y="57150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6"/>
          <p:cNvSpPr/>
          <p:nvPr/>
        </p:nvSpPr>
        <p:spPr>
          <a:xfrm>
            <a:off x="5966640" y="571500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uity odor of ethyl ace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Isosceles Triangle 19"/>
          <p:cNvSpPr/>
          <p:nvPr/>
        </p:nvSpPr>
        <p:spPr>
          <a:xfrm>
            <a:off x="3786120" y="1571760"/>
            <a:ext cx="285840" cy="285480"/>
          </a:xfrm>
          <a:prstGeom prst="triangle">
            <a:avLst>
              <a:gd name="adj" fmla="val 5143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Isosceles Triangle 20"/>
          <p:cNvSpPr/>
          <p:nvPr/>
        </p:nvSpPr>
        <p:spPr>
          <a:xfrm>
            <a:off x="5072040" y="5000760"/>
            <a:ext cx="214200" cy="14292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4316400" y="3357720"/>
            <a:ext cx="898560" cy="7855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4643280" y="1565280"/>
            <a:ext cx="8524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"/>
          <p:cNvGraphicFramePr/>
          <p:nvPr/>
        </p:nvGraphicFramePr>
        <p:xfrm>
          <a:off x="285840" y="571680"/>
          <a:ext cx="8715240" cy="4460760"/>
        </p:xfrm>
        <a:graphic>
          <a:graphicData uri="http://schemas.openxmlformats.org/drawingml/2006/table">
            <a:tbl>
              <a:tblPr/>
              <a:tblGrid>
                <a:gridCol w="2179440"/>
                <a:gridCol w="3606840"/>
                <a:gridCol w="292896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artar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itr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73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9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2859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25" name="Right Arrow 5"/>
          <p:cNvSpPr/>
          <p:nvPr/>
        </p:nvSpPr>
        <p:spPr>
          <a:xfrm>
            <a:off x="4214880" y="185724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ight Arrow 6"/>
          <p:cNvSpPr/>
          <p:nvPr/>
        </p:nvSpPr>
        <p:spPr>
          <a:xfrm>
            <a:off x="5143680" y="3643200"/>
            <a:ext cx="1000080" cy="21456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ight Arrow 7"/>
          <p:cNvSpPr/>
          <p:nvPr/>
        </p:nvSpPr>
        <p:spPr>
          <a:xfrm>
            <a:off x="7786800" y="364320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214200" y="1454040"/>
            <a:ext cx="4000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. H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 + 4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2503440" y="231444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rvescence + heavy char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6143760" y="23144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rvescence + yellow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1"/>
          <p:cNvSpPr/>
          <p:nvPr/>
        </p:nvSpPr>
        <p:spPr>
          <a:xfrm>
            <a:off x="285840" y="3143160"/>
            <a:ext cx="84294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Dengi’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 +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Dengi’s reagent 2 drops                    add KMn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boil  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[WHILE IT’S HOT]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2"/>
          <p:cNvSpPr/>
          <p:nvPr/>
        </p:nvSpPr>
        <p:spPr>
          <a:xfrm>
            <a:off x="3076920" y="45007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6071400" y="444348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lorization + white 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Isosceles Triangle 19"/>
          <p:cNvSpPr/>
          <p:nvPr/>
        </p:nvSpPr>
        <p:spPr>
          <a:xfrm>
            <a:off x="4429080" y="1571760"/>
            <a:ext cx="357120" cy="28548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Isosceles Triangle 20"/>
          <p:cNvSpPr/>
          <p:nvPr/>
        </p:nvSpPr>
        <p:spPr>
          <a:xfrm>
            <a:off x="5429160" y="3357720"/>
            <a:ext cx="357120" cy="28548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71280" y="571680"/>
          <a:ext cx="9001440" cy="5715000"/>
        </p:xfrm>
        <a:graphic>
          <a:graphicData uri="http://schemas.openxmlformats.org/drawingml/2006/table">
            <a:tbl>
              <a:tblPr/>
              <a:tblGrid>
                <a:gridCol w="2179800"/>
                <a:gridCol w="3606840"/>
                <a:gridCol w="32148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nzo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thalic ac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473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571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37" name="Right Arrow 5"/>
          <p:cNvSpPr/>
          <p:nvPr/>
        </p:nvSpPr>
        <p:spPr>
          <a:xfrm>
            <a:off x="6072120" y="185724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ight Arrow 6"/>
          <p:cNvSpPr/>
          <p:nvPr/>
        </p:nvSpPr>
        <p:spPr>
          <a:xfrm>
            <a:off x="4714920" y="3786120"/>
            <a:ext cx="857160" cy="21456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214200" y="1428840"/>
            <a:ext cx="8715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thalei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l + phthalic acid + 4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c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in 10% NaOH in beaker                 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eat until fussio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3505680" y="26431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6858000" y="264312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k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114480" y="3286080"/>
            <a:ext cx="93866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lourescei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 + resercinol + 2-3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l then pour in 10% NaOH in beaker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heat until f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3505680" y="521496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6006960" y="4857840"/>
            <a:ext cx="29404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fluorescence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Isosceles Triangle 19"/>
          <p:cNvSpPr/>
          <p:nvPr/>
        </p:nvSpPr>
        <p:spPr>
          <a:xfrm>
            <a:off x="6286680" y="1571760"/>
            <a:ext cx="357120" cy="28548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Isosceles Triangle 20"/>
          <p:cNvSpPr/>
          <p:nvPr/>
        </p:nvSpPr>
        <p:spPr>
          <a:xfrm>
            <a:off x="4929120" y="3500280"/>
            <a:ext cx="357120" cy="28584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ight Arrow 14"/>
          <p:cNvSpPr/>
          <p:nvPr/>
        </p:nvSpPr>
        <p:spPr>
          <a:xfrm>
            <a:off x="7786800" y="185724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ight Arrow 15"/>
          <p:cNvSpPr/>
          <p:nvPr/>
        </p:nvSpPr>
        <p:spPr>
          <a:xfrm>
            <a:off x="4786200" y="2158920"/>
            <a:ext cx="978120" cy="2700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Curved Left Arrow 22"/>
          <p:cNvSpPr/>
          <p:nvPr/>
        </p:nvSpPr>
        <p:spPr>
          <a:xfrm>
            <a:off x="7286760" y="4071960"/>
            <a:ext cx="714240" cy="785880"/>
          </a:xfrm>
          <a:custGeom>
            <a:avLst/>
            <a:gdLst>
              <a:gd name="textAreaLeft" fmla="*/ 95400 w 714240"/>
              <a:gd name="textAreaRight" fmla="*/ 618840 w 714240"/>
              <a:gd name="textAreaTop" fmla="*/ 129240 h 785880"/>
              <a:gd name="textAreaBottom" fmla="*/ 5673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18" stAng="-5400000" swAng="5400000"/>
                <a:lnTo>
                  <a:pt x="21600" y="12028"/>
                </a:lnTo>
                <a:arcTo wR="21600" hR="7118" stAng="0" swAng="3115235"/>
                <a:lnTo>
                  <a:pt x="5400" y="21374"/>
                </a:lnTo>
                <a:lnTo>
                  <a:pt x="0" y="16691"/>
                </a:lnTo>
                <a:lnTo>
                  <a:pt x="5400" y="11556"/>
                </a:lnTo>
                <a:lnTo>
                  <a:pt x="5400" y="14010"/>
                </a:lnTo>
                <a:arcTo wR="21600" hR="7118" stAng="3115235" swAng="-2700984"/>
                <a:lnTo>
                  <a:pt x="20275" y="9573"/>
                </a:lnTo>
                <a:arcTo wR="21600" hR="7118" stAng="-414251" swAng="-4985749"/>
                <a:close/>
              </a:path>
              <a:path fill="darkenLess" w="21600" h="21600">
                <a:moveTo>
                  <a:pt x="0" y="0"/>
                </a:moveTo>
                <a:arcTo wR="21600" hR="7118" stAng="-5400000" swAng="5400000"/>
                <a:lnTo>
                  <a:pt x="21600" y="12028"/>
                </a:lnTo>
                <a:arcTo wR="21600" hR="7118" stAng="0" swAng="-414251"/>
                <a:lnTo>
                  <a:pt x="20275" y="9573"/>
                </a:lnTo>
                <a:arcTo wR="21600" hR="7118" stAng="-414251" swAng="-498574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own Arrow 26"/>
          <p:cNvSpPr/>
          <p:nvPr/>
        </p:nvSpPr>
        <p:spPr>
          <a:xfrm>
            <a:off x="8429760" y="5214960"/>
            <a:ext cx="14292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6143760" y="5270400"/>
            <a:ext cx="1152360" cy="9446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"/>
          <p:cNvPicPr/>
          <p:nvPr/>
        </p:nvPicPr>
        <p:blipFill>
          <a:blip r:embed="rId2"/>
          <a:stretch/>
        </p:blipFill>
        <p:spPr>
          <a:xfrm>
            <a:off x="8016840" y="2143080"/>
            <a:ext cx="112716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"/>
          <p:cNvGraphicFramePr/>
          <p:nvPr/>
        </p:nvGraphicFramePr>
        <p:xfrm>
          <a:off x="214200" y="71280"/>
          <a:ext cx="8715600" cy="5643720"/>
        </p:xfrm>
        <a:graphic>
          <a:graphicData uri="http://schemas.openxmlformats.org/drawingml/2006/table">
            <a:tbl>
              <a:tblPr/>
              <a:tblGrid>
                <a:gridCol w="871560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 of Salicylic acid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4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sp>
        <p:nvSpPr>
          <p:cNvPr id="454" name="Rectangle 6"/>
          <p:cNvSpPr/>
          <p:nvPr/>
        </p:nvSpPr>
        <p:spPr>
          <a:xfrm>
            <a:off x="3394800" y="150012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mson red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2786040" y="3429000"/>
            <a:ext cx="614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il of winter green </a:t>
            </a:r>
            <a:r>
              <a:rPr b="1" lang="en-US" sz="2000" spc="-1" strike="noStrike">
                <a:solidFill>
                  <a:srgbClr val="000000"/>
                </a:solidFill>
                <a:latin typeface="Agency FB"/>
                <a:ea typeface="Times New Roman"/>
              </a:rPr>
              <a:t>“ Vicks odor due to methyl salicyl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ight Arrow 11"/>
          <p:cNvSpPr/>
          <p:nvPr/>
        </p:nvSpPr>
        <p:spPr>
          <a:xfrm>
            <a:off x="8143920" y="4286160"/>
            <a:ext cx="71424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2"/>
          <p:cNvSpPr/>
          <p:nvPr/>
        </p:nvSpPr>
        <p:spPr>
          <a:xfrm>
            <a:off x="3861360" y="521496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nk 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6"/>
          <p:cNvSpPr/>
          <p:nvPr/>
        </p:nvSpPr>
        <p:spPr>
          <a:xfrm>
            <a:off x="214200" y="642960"/>
            <a:ext cx="9001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Formaldehyd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l formaldehyde + few gm salicylic acid + 4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n the w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8"/>
          <p:cNvSpPr/>
          <p:nvPr/>
        </p:nvSpPr>
        <p:spPr>
          <a:xfrm>
            <a:off x="214200" y="1928880"/>
            <a:ext cx="892980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Esterfica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ml ethanol + few gm salicylic acid + 3-4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in be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ing 10ml H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Arrow 29"/>
          <p:cNvSpPr/>
          <p:nvPr/>
        </p:nvSpPr>
        <p:spPr>
          <a:xfrm>
            <a:off x="6729480" y="2400480"/>
            <a:ext cx="428400" cy="14256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Isosceles Triangle 30"/>
          <p:cNvSpPr/>
          <p:nvPr/>
        </p:nvSpPr>
        <p:spPr>
          <a:xfrm>
            <a:off x="6858000" y="2214720"/>
            <a:ext cx="142920" cy="14256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Down Arrow 31"/>
          <p:cNvSpPr/>
          <p:nvPr/>
        </p:nvSpPr>
        <p:spPr>
          <a:xfrm>
            <a:off x="7572240" y="2857680"/>
            <a:ext cx="214560" cy="42840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2"/>
          <p:cNvSpPr/>
          <p:nvPr/>
        </p:nvSpPr>
        <p:spPr>
          <a:xfrm>
            <a:off x="171360" y="3857760"/>
            <a:ext cx="87156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Phthalei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gm Salicylic acid + few gm phthalic anhydride + 4 drops Conc. 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cool                pour in 10 ml 10% NaOH in beaker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ight Arrow 34"/>
          <p:cNvSpPr/>
          <p:nvPr/>
        </p:nvSpPr>
        <p:spPr>
          <a:xfrm>
            <a:off x="1314360" y="4600440"/>
            <a:ext cx="71460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ight Arrow 35"/>
          <p:cNvSpPr/>
          <p:nvPr/>
        </p:nvSpPr>
        <p:spPr>
          <a:xfrm>
            <a:off x="6000840" y="4586400"/>
            <a:ext cx="1000080" cy="199800"/>
          </a:xfrm>
          <a:prstGeom prst="rightArrow">
            <a:avLst>
              <a:gd name="adj1" fmla="val 50000"/>
              <a:gd name="adj2" fmla="val 5005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Isosceles Triangle 36"/>
          <p:cNvSpPr/>
          <p:nvPr/>
        </p:nvSpPr>
        <p:spPr>
          <a:xfrm>
            <a:off x="8286840" y="4071960"/>
            <a:ext cx="214200" cy="214200"/>
          </a:xfrm>
          <a:prstGeom prst="triangle">
            <a:avLst>
              <a:gd name="adj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7" name=""/>
          <p:cNvGraphicFramePr/>
          <p:nvPr/>
        </p:nvGraphicFramePr>
        <p:xfrm>
          <a:off x="1500120" y="285840"/>
          <a:ext cx="7215120" cy="2174760"/>
        </p:xfrm>
        <a:graphic>
          <a:graphicData uri="http://schemas.openxmlformats.org/drawingml/2006/table">
            <a:tbl>
              <a:tblPr/>
              <a:tblGrid>
                <a:gridCol w="3048120"/>
                <a:gridCol w="416700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o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468" name="Rectangle 2"/>
          <p:cNvSpPr/>
          <p:nvPr/>
        </p:nvSpPr>
        <p:spPr>
          <a:xfrm>
            <a:off x="1799640" y="1500120"/>
            <a:ext cx="20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00 – 320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2232000" y="200016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10 cm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655160" y="2028960"/>
            <a:ext cx="41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 streatching band of COOH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4568400" y="1571760"/>
            <a:ext cx="41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broad –OH peak streatching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2" descr="https://encrypted-tbn3.gstatic.com/images?q=tbn:ANd9GcRIQohnAxYV4WNYbQ713-MOXOBb663bEVxfZSC4yCe0ob7BWbQNNg"/>
          <p:cNvPicPr/>
          <p:nvPr/>
        </p:nvPicPr>
        <p:blipFill>
          <a:blip r:embed="rId1"/>
          <a:stretch/>
        </p:blipFill>
        <p:spPr>
          <a:xfrm>
            <a:off x="2340000" y="2708280"/>
            <a:ext cx="4753080" cy="3633840"/>
          </a:xfrm>
          <a:prstGeom prst="rect">
            <a:avLst/>
          </a:prstGeom>
          <a:ln w="0">
            <a:noFill/>
          </a:ln>
        </p:spPr>
      </p:pic>
      <p:grpSp>
        <p:nvGrpSpPr>
          <p:cNvPr id="473" name="شكل بيضاوي 4"/>
          <p:cNvGrpSpPr/>
          <p:nvPr/>
        </p:nvGrpSpPr>
        <p:grpSpPr>
          <a:xfrm>
            <a:off x="3316320" y="4492800"/>
            <a:ext cx="762120" cy="633240"/>
            <a:chOff x="3316320" y="4492800"/>
            <a:chExt cx="762120" cy="633240"/>
          </a:xfrm>
        </p:grpSpPr>
        <p:pic>
          <p:nvPicPr>
            <p:cNvPr id="474" name="شكل بيضاوي 4" descr=""/>
            <p:cNvPicPr/>
            <p:nvPr/>
          </p:nvPicPr>
          <p:blipFill>
            <a:blip r:embed="rId2"/>
            <a:stretch/>
          </p:blipFill>
          <p:spPr>
            <a:xfrm>
              <a:off x="3316320" y="4492800"/>
              <a:ext cx="7621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3452760" y="4610160"/>
              <a:ext cx="509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شكل بيضاوي 5"/>
          <p:cNvGrpSpPr/>
          <p:nvPr/>
        </p:nvGrpSpPr>
        <p:grpSpPr>
          <a:xfrm>
            <a:off x="4475160" y="5261040"/>
            <a:ext cx="766800" cy="682560"/>
            <a:chOff x="4475160" y="5261040"/>
            <a:chExt cx="766800" cy="682560"/>
          </a:xfrm>
        </p:grpSpPr>
        <p:pic>
          <p:nvPicPr>
            <p:cNvPr id="477" name="شكل بيضاوي 5" descr=""/>
            <p:cNvPicPr/>
            <p:nvPr/>
          </p:nvPicPr>
          <p:blipFill>
            <a:blip r:embed="rId3"/>
            <a:stretch/>
          </p:blipFill>
          <p:spPr>
            <a:xfrm>
              <a:off x="4475160" y="5261040"/>
              <a:ext cx="766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4600440" y="5376960"/>
              <a:ext cx="509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Franklin Gothic Book"/>
                </a:rPr>
                <a:t>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17:14:37Z</dcterms:created>
  <dc:creator>admin</dc:creator>
  <dc:description/>
  <dc:language>en-US</dc:language>
  <cp:lastModifiedBy>reem</cp:lastModifiedBy>
  <dcterms:modified xsi:type="dcterms:W3CDTF">2014-11-02T09:29:41Z</dcterms:modified>
  <cp:revision>59</cp:revision>
  <dc:subject/>
  <dc:title>Slide 1</dc:title>
</cp:coreProperties>
</file>