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6CD-2316-4419-8E8A-452D4E8A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BC7-F391-4E22-9780-959ECAE6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00B-9459-4746-B0A3-BBD88674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749-DEE8-435A-B5AF-AEB59706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A605-E9A6-46C0-8E1D-874D7925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ABFD-ACCC-46BA-A4C5-289A9743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0851-BDB8-4824-9E2E-5686C0B8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7ECF-87E2-4CAA-A01B-C92ECF4D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F90D-43E1-41A8-880E-75D52230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FC99-4932-44F3-8838-57166CFC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87BC-5EAA-41C3-8FC0-437F7FC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8AE-B8E8-46E4-891F-6846A983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5B4F-DA28-4653-97E1-80959065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0B38-0341-48B1-BF95-A2D17972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FD57-9550-4A6E-9D85-E3816E3F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BA40-02EA-4F0E-874B-D18F0DBA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5B31-03A0-44DD-8298-29CFE812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800-7B12-4A51-A35B-B86FFDF1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9D0-1121-4C5F-8618-C8573576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B23-984F-46ED-8371-C868B34A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03E-FCF6-43B9-8AE7-1EB0B3CC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CF2-9443-4459-8391-BC070560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428-C7CF-40D0-802E-3D83C2D9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783-A16F-478A-B70B-1BD6AB7C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F557-A627-4582-AD86-9ED062428C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3084-CE2E-433C-B708-B89C5486BB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ardiac Outpu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you want to be a marathoner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Extraction of Oxygen:  A-V 02 Differenc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At rest: about 75% of the blood’s original oxygen load is still bound to hemoglobin after it makes the complete tour through the body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After training:  up to 85% of the oxygen is removed from the hemoglobin during exercise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But only in the </a:t>
            </a:r>
            <a:r>
              <a:rPr b="0" lang="en-US" sz="3500" spc="-1" strike="noStrike" u="sng">
                <a:solidFill>
                  <a:srgbClr val="ffffff"/>
                </a:solidFill>
                <a:uFillTx/>
                <a:latin typeface="Tahoma"/>
              </a:rPr>
              <a:t>specific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muscle fibers used during exercise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s is due to increased capillaries, mitochondria and aerobic enzyme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ardiovascular Adjustments to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Upper Body Exercis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ximal oxygen uptake during exercise with the arms is generally 20-30% lower than exercise with the leg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ximal heart rate is also much lower with arm wor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is the reason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latively smaller muscle mass involv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5" dur="1" fill="hold"/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he Athlete’s Hear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rdiac hypertrophy results from individual myofibrils thickening and from an increased number of myofibril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s is viewed as a fundamental adaptation to an increased work loa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 endurance athletes the heart may be up to 25% larg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t sure if this is genetic endowment or training induced or bot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hot Putter vs Run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sometric” athletes like wrestler, lifters have larger muscle mass, especially the intraventricular septu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fters heart may weigh 330grams and have left ventricular volume of 110m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nners heart may weigh 308 grams and have left ventricular volume of 180m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n-athletic heart weighs 211 grams and has left ventricular volume of 101m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9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81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you have the blood for i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267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” In The Untrained Pers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average person, a 5-L cardiac output is usually sustained with a heart rate of approximately 70 beats a min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ke volume and cardiac output for women usually average approximately 25% below the values for 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“gender difference” is essentially due to the smaller body size of the average wo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ke volume is about 70ml at re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” In The Endurance Athle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urance training causes the sinus node in the heart to come under greater control from the parasympathetic nervous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the same time there is probably a reduction in the sympathetic activ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 heart slows due to the parasympathetic influence, this is called “vagal” t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ke volume may be 100ml at rest for the athl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art Rate During Exerci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rge stroke volume of an endurance athlete is accompanied by a heart rate reduction during submaximal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4767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Distribution of Cardiac Outpu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 rest:  approximately 1/5 of blood flow is directed toward muscle tiss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ajority of blood is directed to the digestive tract,liver,spleen,brain and kidne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uring exercise: the major portion of the cardiac output is diverted to working mus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me tissues can handle a temporary reduction in blood during heavy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ample:blood flow to skin increases with light/medium exercise but decreases with heavy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lood Flow to the Heart and Brai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tissues cannot compromise their blood fl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yocardium uses about 75% of the oxygen flowing through the coronary vessels at r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arge increase in heart rate during exercise, is accompanied by an increase in coronary circ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ncrease is up to 1 liter of blood per minu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rebral blood flow is also increased by up 30% compared to resting condi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7400" y="-228600"/>
            <a:ext cx="51814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23:41:02Z</dcterms:created>
  <dc:creator>John Troppman-105920</dc:creator>
  <dc:description/>
  <dc:language>en-US</dc:language>
  <cp:lastModifiedBy>ZonaNet</cp:lastModifiedBy>
  <dcterms:modified xsi:type="dcterms:W3CDTF">2008-05-03T03:03:28Z</dcterms:modified>
  <cp:revision>11</cp:revision>
  <dc:subject/>
  <dc:title>Cardiac Output</dc:title>
</cp:coreProperties>
</file>