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814-FF90-4F59-8399-6602CA50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8C0-7E9A-4DC2-9795-6A5499D4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596-B64D-4414-AA1C-1C570E8B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7C1-9D09-4226-9CF5-D34D3443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C373-A01F-4CE2-BE2F-2E34CE4C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FC37-003A-4C46-A85A-4514C20D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13AB-18EF-4FEE-888E-88F44193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BD29-296B-4008-B88B-BD0BA3E5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BA1F-2D43-4658-AA94-A0AD8B8D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CE61-EAE7-4D69-BA31-099CE61B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93DA-501D-4881-8375-6CEAFB3E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99D1-FD6C-4FDC-85BB-825CB80B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26F1-E549-49CB-9207-256231E2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811A-FA74-4562-9061-4C174198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3F9B-CBA8-4ED9-857F-18DE7578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AC02-9289-42B5-AB88-9119F4F6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1AD6-B4D0-44A5-8ACD-1B408B66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E79-6CD8-416A-8575-D0B82209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6D2-ACF0-40FF-B53B-A717F657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9BA-0E09-42EF-8A9C-CC98FD11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C0D-DC5E-4132-AA1B-9BF1843D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77A-BC43-4EA8-B242-D7AB051F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25B-824E-493E-AB8F-3B220404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08FF-DB83-432D-B02E-701AE959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3053-360D-4F39-989B-9B9CF1BB6A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58C4-7233-446F-B5F5-B1EC037B62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ardiac Outpu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you want to be a marathoner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Extraction of Oxygen:  A-V 02 Differenc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At rest: about 75% of the blood’s original oxygen load is still bound to hemoglobin after it makes the complete tour through the body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After training:  up to 85% of the oxygen is removed from the hemoglobin during exercise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But only in the </a:t>
            </a:r>
            <a:r>
              <a:rPr b="0" lang="en-US" sz="3500" spc="-1" strike="noStrike" u="sng">
                <a:solidFill>
                  <a:srgbClr val="ffffff"/>
                </a:solidFill>
                <a:uFillTx/>
                <a:latin typeface="Tahoma"/>
              </a:rPr>
              <a:t>specific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 muscle fibers used during exercise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s is due to increased capillaries, mitochondria and aerobic enzyme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ardiovascular Adjustments to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Upper Body Exercis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ximal oxygen uptake during exercise with the arms is generally 20-30% lower than exercise with the leg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ximal heart rate is also much lower with arm wor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is the reason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latively smaller muscle mass involv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5" dur="1" fill="hold"/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he Athlete’s Hear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rdiac hypertrophy results from individual myofibrils thickening and from an increased number of myofibril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is viewed as a fundamental adaptation to an increased work loa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 endurance athletes the heart may be up to 25% larg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t sure if this is genetic endowment or training induced or bot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7" dur="1" fill="hold"/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hot Putter vs Run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sometric” athletes like wrestler, lifters have larger muscle mass, especially the intraventricular septu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fters heart may weigh 330grams and have left ventricular volume of 110m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unners heart may weigh 308 grams and have left ventricular volume of 180m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n-athletic heart weighs 211 grams and has left ventricular volume of 101m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9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81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 you have the blood for i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267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” In The Untrained Pers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average person, a 5-L cardiac output is usually sustained with a heart rate of approximately 70 beats a minu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ke volume and cardiac output for women usually average approximately 25% below the values for 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“gender difference” is essentially due to the smaller body size of the average wo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ke volume is about 70ml at re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” In The Endurance Athle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urance training causes the sinus node in the heart to come under greater control from the parasympathetic nervous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the same time there is probably a reduction in the sympathetic activ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heart slows due to the parasympathetic influence, this is called “vagal” t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ke volume may be 100ml at rest for the athle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art Rate During Exerci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rge stroke volume of an endurance athlete is accompanied by a heart rate reduction during submaximal exerc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4767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Distribution of Cardiac Outpu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 rest:  approximately 1/5 of blood flow is directed toward muscle tiss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jority of blood is directed to the digestive tract,liver,spleen,brain and kidne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uring exercise: the major portion of the cardiac output is diverted to working musc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me tissues can handle a temporary reduction in blood during heavy exerc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ample:blood flow to skin increases with light/medium exercise but decreases with heavy exerc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lood Flow to the Heart and Brai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tissues cannot compromise their blood fl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yocardium uses about 75% of the oxygen flowing through the coronary vessels at r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large increase in heart rate during exercise, is accompanied by an increase in coronary circ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ncrease is up to 1 liter of blood per minu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rebral blood flow is also increased by up 30% compared to resting condi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9" dur="1" fill="hold"/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57400" y="-228600"/>
            <a:ext cx="51814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23:41:02Z</dcterms:created>
  <dc:creator>John Troppman-105920</dc:creator>
  <dc:description/>
  <dc:language>en-US</dc:language>
  <cp:lastModifiedBy>ZonaNet</cp:lastModifiedBy>
  <dcterms:modified xsi:type="dcterms:W3CDTF">2008-05-03T03:03:28Z</dcterms:modified>
  <cp:revision>11</cp:revision>
  <dc:subject/>
  <dc:title>Cardiac Output</dc:title>
</cp:coreProperties>
</file>