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e9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e9b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08240" y="5091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a41f"/>
                </a:solidFill>
                <a:latin typeface="Times New Roman"/>
              </a:rPr>
              <a:t>Cardiac Physiology</a:t>
            </a:r>
            <a:br>
              <a:rPr sz="4000"/>
            </a:br>
            <a:r>
              <a:rPr b="1" lang="tr-TR" sz="4000" spc="-1" strike="noStrike">
                <a:solidFill>
                  <a:srgbClr val="ffa41f"/>
                </a:solidFill>
                <a:latin typeface="Times New Roman"/>
              </a:rPr>
              <a:t>(III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a41f"/>
                </a:solidFill>
                <a:latin typeface="Times New Roman"/>
              </a:rPr>
              <a:t>A. </a:t>
            </a:r>
            <a:r>
              <a:rPr b="1" lang="en-GB" sz="3200" spc="-1" strike="noStrike">
                <a:solidFill>
                  <a:srgbClr val="ffa41f"/>
                </a:solidFill>
                <a:latin typeface="Times New Roman"/>
              </a:rPr>
              <a:t>R</a:t>
            </a:r>
            <a:r>
              <a:rPr b="1" lang="tr-TR" sz="3200" spc="-1" strike="noStrike">
                <a:solidFill>
                  <a:srgbClr val="ffa41f"/>
                </a:solidFill>
                <a:latin typeface="Times New Roman"/>
              </a:rPr>
              <a:t>üç</a:t>
            </a:r>
            <a:r>
              <a:rPr b="1" lang="en-GB" sz="3200" spc="-1" strike="noStrike">
                <a:solidFill>
                  <a:srgbClr val="ffa41f"/>
                </a:solidFill>
                <a:latin typeface="Times New Roman"/>
              </a:rPr>
              <a:t>han Akar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a41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cc66"/>
                </a:solidFill>
                <a:latin typeface="Times New Roman"/>
              </a:rPr>
              <a:t>Ankara University 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cc66"/>
                </a:solidFill>
                <a:latin typeface="Times New Roman"/>
              </a:rPr>
              <a:t>School of Medicine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8f8f8"/>
                </a:solidFill>
                <a:latin typeface="Times New Roman"/>
              </a:rPr>
              <a:t>December- 2003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18800" y="1219320"/>
            <a:ext cx="341316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007"/>
                </a:solidFill>
                <a:latin typeface="Times New Roman"/>
              </a:rPr>
              <a:t>The Fick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3000" y="2752560"/>
            <a:ext cx="843840" cy="581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007"/>
                </a:solidFill>
                <a:latin typeface="Arial MT Condensed Light"/>
              </a:rPr>
              <a:t>Q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82000" y="2438280"/>
            <a:ext cx="3525840" cy="15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VO</a:t>
            </a:r>
            <a:r>
              <a:rPr b="1" lang="en-US" sz="2800" spc="-1" strike="noStrike" baseline="-25000">
                <a:solidFill>
                  <a:srgbClr val="fd000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0007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aO</a:t>
            </a:r>
            <a:r>
              <a:rPr b="1" lang="en-US" sz="2800" spc="-1" strike="noStrike" baseline="-25000">
                <a:solidFill>
                  <a:srgbClr val="fd000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  –  </a:t>
            </a:r>
            <a:r>
              <a:rPr b="1" lang="en-US" sz="3200" spc="-1" strike="noStrike">
                <a:solidFill>
                  <a:srgbClr val="fd0007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vO</a:t>
            </a:r>
            <a:r>
              <a:rPr b="1" lang="en-US" sz="2800" spc="-1" strike="noStrike" baseline="-25000">
                <a:solidFill>
                  <a:srgbClr val="fd000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048120"/>
            <a:ext cx="3276360" cy="0"/>
          </a:xfrm>
          <a:prstGeom prst="line">
            <a:avLst/>
          </a:prstGeom>
          <a:ln w="28440">
            <a:solidFill>
              <a:srgbClr val="fd00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54680" y="220968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0007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3200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0007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56600" y="4724280"/>
            <a:ext cx="33292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 MT Condensed Light"/>
              </a:rPr>
              <a:t>Q: cardiac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VO</a:t>
            </a:r>
            <a:r>
              <a:rPr b="1" lang="en-US" sz="1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: O</a:t>
            </a:r>
            <a:r>
              <a:rPr b="1" lang="en-US" sz="1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aO</a:t>
            </a:r>
            <a:r>
              <a:rPr b="1" lang="en-US" sz="1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:arterial O</a:t>
            </a:r>
            <a:r>
              <a:rPr b="1" lang="en-US" sz="1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vO</a:t>
            </a:r>
            <a:r>
              <a:rPr b="1" lang="en-US" sz="1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: mixed venous O</a:t>
            </a:r>
            <a:r>
              <a:rPr b="1" lang="en-US" sz="18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ood Vess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Intima 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primarily the endothelial lining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Media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vascular smooth muscle, collagen, elastin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Adventitia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connective tissue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Vascular Endotheliu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sodilator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Vasoconstrictors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66688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89548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Arial MT Condensed Light"/>
              </a:rPr>
              <a:t>Nitric 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Arial MT Condensed Light"/>
              </a:rPr>
              <a:t>Prostacyc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Arial MT Condensed Light"/>
              </a:rPr>
              <a:t>Endothelium-derived        hyperpolariz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Arial MT Condensed Light"/>
              </a:rPr>
              <a:t>Bradykin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29718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Arial MT Condensed Light"/>
              </a:rPr>
              <a:t>Endothelin-1 Angiotensi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334120"/>
            <a:ext cx="7772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981080"/>
            <a:ext cx="0" cy="33530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458200" y="1981080"/>
            <a:ext cx="0" cy="33530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10000" y="5715000"/>
            <a:ext cx="577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66"/>
                </a:solidFill>
                <a:latin typeface="Arial MT Condensed Light"/>
              </a:rPr>
              <a:t>Wilson SH, Lerman 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66"/>
                </a:solidFill>
                <a:latin typeface="Arial MT Condensed Light"/>
              </a:rPr>
              <a:t>Heart Physiology and Pathophysiology, Academic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66"/>
                </a:solidFill>
                <a:latin typeface="Arial MT Condensed Light"/>
              </a:rPr>
              <a:t>(edited by Sperelakis N.) 473-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itric_Oxide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438880" cy="3803760"/>
          </a:xfrm>
          <a:prstGeom prst="rect">
            <a:avLst/>
          </a:prstGeom>
          <a:ln w="28440">
            <a:solidFill>
              <a:srgbClr val="00cc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828800" y="4952880"/>
            <a:ext cx="56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 MT Condensed Light"/>
              </a:rPr>
              <a:t>L-Arginine is converted to NO by the enzyme nitric oxide synthase (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Nitric Oxide (NO)</a:t>
            </a:r>
            <a:br>
              <a:rPr sz="3200"/>
            </a:b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Fun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Vasodilator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Inhibitor of vascular smooth muscle cell proliferation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Inhibitor of platelet adherence/aggregation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Inhibitor of leukocyte/endothelial interaction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334120"/>
            <a:ext cx="77724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Endothelin-1</a:t>
            </a:r>
            <a:br>
              <a:rPr sz="3200"/>
            </a:b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(ET-1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Peptide first sequenced in 1988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Most potent vasoconstrictor in human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a41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Maintenance of basal arterial vasomotor tone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a41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Strong chemoattractant for circulating monocytes and macrophage activation </a:t>
            </a: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“proatherogenic”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dothelial Dysfun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Imbalance of endothelium-derived relaxing and contracting factors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733920"/>
            <a:ext cx="43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 MT Condensed Light"/>
              </a:rPr>
              <a:t>Atherosclerotic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9568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64800" y="5105520"/>
            <a:ext cx="45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66"/>
                </a:solidFill>
                <a:latin typeface="Arial MT Condensed Light"/>
              </a:rPr>
              <a:t>Decreased NO bio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66"/>
                </a:solidFill>
                <a:latin typeface="Arial MT Condensed Light"/>
              </a:rPr>
              <a:t>Increased levels of ET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unctional Classification of Vessel Wal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858000" cy="2743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a41f"/>
                </a:solidFill>
                <a:latin typeface="Times New Roman"/>
              </a:rPr>
              <a:t>elastic arterie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a41f"/>
                </a:solidFill>
                <a:latin typeface="Times New Roman"/>
              </a:rPr>
              <a:t>muscular arterie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a41f"/>
                </a:solidFill>
                <a:latin typeface="Times New Roman"/>
              </a:rPr>
              <a:t>resistance vessel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a41f"/>
                </a:solidFill>
                <a:latin typeface="Times New Roman"/>
              </a:rPr>
              <a:t>capillaries (exchange vessels) 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a41f"/>
                </a:solidFill>
                <a:latin typeface="Times New Roman"/>
              </a:rPr>
              <a:t>venules (capacitance vessels</a:t>
            </a: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a41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GB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000" y="5486400"/>
            <a:ext cx="419796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JR Levick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An Introduction to Cardiovascular Phys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Times New Roman"/>
              </a:rPr>
              <a:t>Butterworth-Heine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astic Arte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aorta, pulmonary artery and major branches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diameter = 1-2 cm 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tunica media is rich in 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elastin </a:t>
            </a: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(extensible)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collagen (prevents overdistension)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orta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565440" cy="518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362320" y="2590920"/>
            <a:ext cx="1752480" cy="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438280" y="1981080"/>
            <a:ext cx="1067040" cy="7632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8240" y="68580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 MT Condensed Light"/>
              </a:rPr>
              <a:t>i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990720"/>
            <a:ext cx="228600" cy="3962160"/>
          </a:xfrm>
          <a:custGeom>
            <a:avLst/>
            <a:gdLst>
              <a:gd name="textAreaLeft" fmla="*/ 0 w 228600"/>
              <a:gd name="textAreaRight" fmla="*/ 82440 w 228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94920" y="26668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 MT Condensed Light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600" y="19051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 MT Condensed Light"/>
              </a:rPr>
              <a:t>Elastic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51460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 MT Condensed Light"/>
              </a:rPr>
              <a:t>Smooth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76212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5029200"/>
            <a:ext cx="152280" cy="38088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6680" y="4876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 MT Condensed Light"/>
              </a:rPr>
              <a:t>adventi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5160" y="71136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9b03"/>
                </a:solidFill>
                <a:uFillTx/>
                <a:latin typeface="Arial MT Condensed Light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638680"/>
            <a:ext cx="28386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MT Condensed Light"/>
              </a:rPr>
              <a:t>Bergman RA, Afifi AK, Heidger 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MT Condensed Light"/>
              </a:rPr>
              <a:t>Atlas of Microscopic Anatomy, 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Arial MT Condensed Light"/>
              </a:rPr>
              <a:t>W.B. Saunders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Coronary Circul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uit (Muscular) Arteri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25"/>
              </a:spcBef>
              <a:spcAft>
                <a:spcPts val="34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diameter = 1mm-1cm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34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popliteal, radial, cerebral, coronary arterie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34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tunica media is thicker, contains more smooth muscle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34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rich autonomic nerve supply (contraction and relaxation)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sistance Vesse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main resistance to blood flow resides in the;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41f"/>
                </a:solidFill>
                <a:latin typeface="Times New Roman"/>
              </a:rPr>
              <a:t>smallest, terminal arteries (diameter = 100-500</a:t>
            </a:r>
            <a:r>
              <a:rPr b="1" lang="en-US" sz="2000" spc="-1" strike="noStrike">
                <a:solidFill>
                  <a:srgbClr val="ffa41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a41f"/>
                </a:solidFill>
                <a:latin typeface="Times New Roman"/>
              </a:rPr>
              <a:t>m) </a:t>
            </a:r>
            <a:endParaRPr b="1" lang="en-US" sz="2000" spc="-1" strike="noStrike">
              <a:solidFill>
                <a:srgbClr val="ffa41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41f"/>
                </a:solidFill>
                <a:latin typeface="Times New Roman"/>
              </a:rPr>
              <a:t>arterioles (&lt; 100</a:t>
            </a:r>
            <a:r>
              <a:rPr b="1" lang="en-US" sz="2000" spc="-1" strike="noStrike">
                <a:solidFill>
                  <a:srgbClr val="ffa41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a41f"/>
                </a:solidFill>
                <a:latin typeface="Times New Roman"/>
              </a:rPr>
              <a:t>m) “single layer of muscle in the media”</a:t>
            </a:r>
            <a:endParaRPr b="1" lang="en-US" sz="20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richly innervated by vasoconstrictor nerve fibres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actively regulate local blood flow to match local demand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illaries (Exchange vessel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diameter: 4-7</a:t>
            </a:r>
            <a:r>
              <a:rPr b="1" lang="en-US" sz="2800" spc="-1" strike="noStrike">
                <a:solidFill>
                  <a:srgbClr val="ffa41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wall: single layer of endothelial cell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wall thickness = 0.5</a:t>
            </a:r>
            <a:r>
              <a:rPr b="1" lang="en-US" sz="2800" spc="-1" strike="noStrike">
                <a:solidFill>
                  <a:srgbClr val="ffa41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large cross-sectional area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slow blood velocity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red cell transit time = 1-2 sec 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teriovenous Anastomos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shunt vessels ( diameter = 20-135</a:t>
            </a:r>
            <a:r>
              <a:rPr b="1" lang="en-US" sz="2800" spc="-1" strike="noStrike">
                <a:solidFill>
                  <a:srgbClr val="ffa41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m)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connect arterioles to venules, bypassing the capillarie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skin, nasal mucosa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temperature regulation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Veins</a:t>
            </a:r>
            <a:br>
              <a:rPr sz="3200"/>
            </a:br>
            <a:r>
              <a:rPr b="1" i="1" lang="en-US" sz="3200" spc="-1" strike="noStrike">
                <a:solidFill>
                  <a:srgbClr val="00cc66"/>
                </a:solidFill>
                <a:latin typeface="Times New Roman"/>
              </a:rPr>
              <a:t>“Capacitance Vessels”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diameter 50-200</a:t>
            </a:r>
            <a:r>
              <a:rPr b="1" lang="en-US" sz="2800" spc="-1" strike="noStrike">
                <a:solidFill>
                  <a:srgbClr val="ffa41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thin wall  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in limb veins, intima possesses pairs of valves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low resistance to flow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41f"/>
                </a:solidFill>
                <a:latin typeface="Times New Roman"/>
              </a:rPr>
              <a:t>storing large volumes of blood under low pressure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~ 60-70% of the circulating blood volume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blood%20distribution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030560" cy="39672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590920" y="609480"/>
            <a:ext cx="374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MT Condensed Light"/>
              </a:rPr>
              <a:t>Distribution of blood volume in a resting man ( 5.5 lit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5080" y="5375160"/>
            <a:ext cx="40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66"/>
                </a:solidFill>
                <a:latin typeface="Arial MT Condensed Light"/>
              </a:rPr>
              <a:t>Folkow B, Neil E. 1971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66"/>
                </a:solidFill>
                <a:latin typeface="Arial MT Condensed Light"/>
              </a:rPr>
              <a:t>Oxford University Press, 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onary Blood Flo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coronary blood flow: 250 ml/min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5% of resting cardiac output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60-80 ml blood/100g tissue/min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entirely during diastole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~ aortic diastolic pressure minus LVDP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~ duration of diastole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pressure &lt; 150 mmHg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oxygenated by superb membrane oxygenator-”the lungs”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rebral Blood Flo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Cerebral</a:t>
            </a: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 blood flow: 750 ml/min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15% of resting cardiac output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Times New Roman"/>
              </a:rPr>
              <a:t>50-55 ml blood/100g tissue/min</a:t>
            </a: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ronarycirculation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4241520" cy="494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04320" y="4648320"/>
            <a:ext cx="305208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7"/>
                </a:solidFill>
                <a:latin typeface="Times New Roman"/>
              </a:rPr>
              <a:t>Right coronary bloo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05040" y="4038480"/>
            <a:ext cx="28951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7"/>
                </a:solidFill>
                <a:latin typeface="Times New Roman"/>
              </a:rPr>
              <a:t>Left coronary bloo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876920" y="4267080"/>
            <a:ext cx="533160" cy="76320"/>
          </a:xfrm>
          <a:prstGeom prst="line">
            <a:avLst/>
          </a:prstGeom>
          <a:ln w="38160">
            <a:solidFill>
              <a:srgbClr val="fd00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76920" y="4800600"/>
            <a:ext cx="533160" cy="76320"/>
          </a:xfrm>
          <a:prstGeom prst="line">
            <a:avLst/>
          </a:prstGeom>
          <a:ln w="38160">
            <a:solidFill>
              <a:srgbClr val="fd00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18280" y="117468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d0007"/>
                </a:solidFill>
                <a:latin typeface="Verdana"/>
              </a:rPr>
              <a:t>*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The peak left coronary flow occurs at the end of isovolumetric rel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6880" y="365760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0007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essation of Myocardial Blood Flo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a41f"/>
                </a:solidFill>
                <a:uFillTx/>
                <a:latin typeface="Times New Roman"/>
              </a:rPr>
              <a:t>mitochondria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cellular pO</a:t>
            </a:r>
            <a:r>
              <a:rPr b="1" lang="en-US" sz="2400" spc="-1" strike="noStrike" baseline="-25000">
                <a:solidFill>
                  <a:srgbClr val="ffa41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 &lt; 5mmHg within seconds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41f"/>
                </a:solidFill>
                <a:latin typeface="Times New Roman"/>
              </a:rPr>
              <a:t>oxidative phosporilation stops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a41f"/>
                </a:solidFill>
                <a:uFillTx/>
                <a:latin typeface="Times New Roman"/>
              </a:rPr>
              <a:t>cytosol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anaerobic glycolysis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glycogen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glucose-6-phosphate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pyruvate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lactate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cellular acidosis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a41f"/>
                </a:solidFill>
                <a:latin typeface="Times New Roman"/>
              </a:rPr>
              <a:t>depletion of ATP</a:t>
            </a: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a41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1920" y="3124080"/>
            <a:ext cx="203040" cy="381240"/>
          </a:xfrm>
          <a:custGeom>
            <a:avLst/>
            <a:gdLst>
              <a:gd name="textAreaLeft" fmla="*/ 27000 w 203040"/>
              <a:gd name="textAreaRight" fmla="*/ 176040 w 20304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1920" y="3581280"/>
            <a:ext cx="203040" cy="381240"/>
          </a:xfrm>
          <a:custGeom>
            <a:avLst/>
            <a:gdLst>
              <a:gd name="textAreaLeft" fmla="*/ 27000 w 203040"/>
              <a:gd name="textAreaRight" fmla="*/ 176040 w 20304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41920" y="4038480"/>
            <a:ext cx="203040" cy="381240"/>
          </a:xfrm>
          <a:custGeom>
            <a:avLst/>
            <a:gdLst>
              <a:gd name="textAreaLeft" fmla="*/ 27000 w 203040"/>
              <a:gd name="textAreaRight" fmla="*/ 176040 w 20304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pletion of ATP &lt; 50% of Normal Level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a41f"/>
                </a:solidFill>
                <a:uFillTx/>
                <a:latin typeface="Times New Roman"/>
              </a:rPr>
              <a:t>irreversible lethal cell injury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glycolysis is blocked 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increasing cellular acidity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protein denaturation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e9b03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structural, enzymatic, nuclear changes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Blood Vess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021"/>
            </a:gs>
            <a:gs pos="100000">
              <a:srgbClr val="05004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Measurement of Cardiac Outpu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41f"/>
                </a:solidFill>
                <a:latin typeface="Times New Roman"/>
              </a:rPr>
              <a:t>Fick Principle</a:t>
            </a:r>
            <a:endParaRPr b="1" lang="en-US" sz="3200" spc="-1" strike="noStrike">
              <a:solidFill>
                <a:srgbClr val="ffa41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21:41:05Z</dcterms:created>
  <dc:creator>Default</dc:creator>
  <dc:description/>
  <dc:language>en-US</dc:language>
  <cp:lastModifiedBy>ZonaNet</cp:lastModifiedBy>
  <dcterms:modified xsi:type="dcterms:W3CDTF">2008-05-02T23:32:01Z</dcterms:modified>
  <cp:revision>60</cp:revision>
  <dc:subject/>
  <dc:title>Cardiac physiology</dc:title>
</cp:coreProperties>
</file>