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D15-711E-4848-AD50-73CA57F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B83-4C63-4F7F-993A-AB021AE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4F1-9878-41F9-A36A-4CDE9A3A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090-E4F5-4718-B821-E57CC50A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CE0-4BA3-4103-A417-9F8D73E8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1D8-03CE-46CC-BBCC-F931CD6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15F-F605-4CE7-A227-A3C2DC7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568-CC26-4F75-B564-249E40A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81A-A4DE-41D0-906E-E54284F0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C2C-72BC-4EEA-B402-2DB43BFA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246-4B94-4A0F-AB2B-ECCB403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609-F02F-49AE-A355-8CF4D509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-</a:t>
            </a:r>
            <a:fld id="{8954628A-715F-45DC-A96A-BC401A4E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56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The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18040" y="17524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283-63ED-48FE-A856-FC3835404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onary Cir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AD9-DA04-48BE-986F-74674E901D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46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riovent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us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cuspid or mi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lu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r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blood from flowing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63868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F32-5039-42AC-A652-7D2AAF7E26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5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ADA-9235-4E6F-89BE-EAF595626B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of the 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C4E-9BB7-4322-8BDB-D422D6D69F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 Flow Through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4F1-17C7-46E1-81B0-EC8AFAD332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stemic and Pulmonary Circ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C29-715C-4F49-AA31-FBFEAAD23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plate of fibrous connective tissue between atria and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us rings around valves to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s as electrical insulation between atria and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ite for muscle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17524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925-524A-4643-8E06-5498D6C60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ongated, branching cells containing 1-2 centrally located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ctin and myosin myofila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ntercalated dis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pecialized cell-cell cont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mosomes hold cells together and gap junctions allow action pot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ly, cardiac muscle behaves as singl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60958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76B-AAD7-46D2-8449-C217EAD174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ucting System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571-6C27-424D-AB19-3685617313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ing membrane potential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potent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depolarization followed by rapid, partial early repolarization.  Prolonged period of slow repolarization which is plateau phase and a rapid final repolarizat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723-1303-4CB0-92B6-4F5B14F0F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separates pulmonary and systemic cir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ing one-way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valves ensure one-way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contraction rate and force match blood delivery to changing metabol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7CF-4A5D-46CE-9DC8-983D71BEF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s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and Cardiac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93760" y="1600200"/>
            <a:ext cx="673092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B32-974C-4956-A95E-044FCBD62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Node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FC-1DE8-419C-8D8E-9FC60668A3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ctory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rdiac muscle cell completely insensitive to further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ell exhibits reduced sensitivity to additional st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refractory period prevents tetanic con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90B-34A8-4A71-BE79-07B3D8CDF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potentials through myocardium during cardiac cycle produces electric currents than can be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 w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ia d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QRS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 d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ria r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 wa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ricle repola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91E-0EE8-43E5-969E-4A0224C3DE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8" dur="1" fill="hold"/>
                                  <p:tgtEl>
                                    <p:spTgt spid="9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Arrhythm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chycard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in excess of 100b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adycard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less than 60 b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nus arrhythm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eart rate varies 5% during respiratory cycle and up to 30% during deep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mature atrial contr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ccasional shortened intervals between one contraction and succeeding, frequently occurs in health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0AD-D283-47C3-9C4D-83935F3C54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ations in Electr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3AA-63C4-4BBA-9F51-80E5C164D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is two pumps that work together, right and left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titive contraction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relaxation (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heart cha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moves through circulatory system from areas of higher to lower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ion of heart produces the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6E1-EF20-4FDB-BA17-F89AC890F5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6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E97-2605-4740-867D-1E344FD3AD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 during Cardiac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F1C-B013-467F-902B-62CEC6FFAC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rst heart sound or “lubb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oventricular valves and surrounding fluid vibrations as valves close at beginning of ventricular sy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heart sound or “dup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rom closure of aortic and pulmonary semilunar valves at beginning of ventricular diastole, lasts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heart sound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occas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urbulent blood flow into ventricles and detected near end of first one-third of diast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933-7818-4191-B3AC-2DD3A5F566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, Shape, Lo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8112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a closed f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lunt rounded point of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t part at opposite of end of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thoracic cavity in mediasti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DCD-DC53-49F6-B11D-470228859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tion of Heart Va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582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C5E-3869-41A2-9BA1-6E672CE11A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 Arterial Pressure (M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blood pressure in ao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=CO x P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 is amount of blood pumped by heart per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=SV x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oke volume of blood pumped during each heart b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H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eart rate or number of times heart beats per min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ac reserve: Difference between CO at rest and maximum 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 is total resistance against which blood must be pum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E13-CEDF-4932-A286-52EB525460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s Affecting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7440" y="121932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972-DD0C-4898-854D-7EEFFDA6AB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rinsic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sults from normal functional characteristics, not on neural or hormonal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ling’s law of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trinsic reg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volves neural and horm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d by vagus nerve, decreases heart rate, acetylcholine sec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d by cardiac nerves, increases heart rate and force of contraction, epinephrine and norepinephrine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7C7-42C0-4DB1-B27E-7EEDC41B5B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0" dur="1" fill="hold"/>
                                  <p:tgtEl>
                                    <p:spTgt spid="1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Homeost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oreceptors monitor blood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pH, carbon dioxide,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oreceptors moni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extracellular ion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r decrease in extracellular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reases hear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ffect of body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rate increases when body temperature increases, heart rate decreases when body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E98-A72E-4969-887D-D8AF7E32C5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roreceptor and Chemoreceptor Reflex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76C-264D-4DFA-B78C-053F6AB7D3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oreceptor Ref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D4A-2790-406F-AD45-81ECAA11E6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oreceptor Reflex-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7440" y="1295280"/>
            <a:ext cx="6959880" cy="522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EF3-8E8C-472B-AFD3-B65C77DA10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Aging o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l changes in heart function, minor under resting condition, more significant during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rophy of left ventr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heart rate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tendency for valves to function abnormally and arrhythmias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oxygen consumption required to pump same amount of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8AE-48A2-40D1-B4E1-2E4F511059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1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Cross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C6C-C9F9-4372-B477-F630037BB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card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CEE-021C-4C87-8D3B-862DA68AA2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layers of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pi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is serous membrane of smooth outer surface of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yo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ddle layer composed of cardiac muscle cell and responsibility for heart con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docard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inner surface of heart cha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AB1-DBB7-40E3-86D9-2D8ADD54C7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3584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323-E170-498A-9561-D58E3F65B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86040" y="12952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 cha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a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vent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ur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ajor v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or vena 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 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ajor ar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monary tr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D80-DF31-476E-A91E-20FC07F51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5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445280" cy="33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2AD-B341-4F8A-8CEB-CC33DEFF9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4:03:20Z</dcterms:created>
  <dc:creator>Math/Science</dc:creator>
  <dc:description/>
  <dc:language>en-US</dc:language>
  <cp:lastModifiedBy>ZonaNet</cp:lastModifiedBy>
  <dcterms:modified xsi:type="dcterms:W3CDTF">2008-05-03T03:15:37Z</dcterms:modified>
  <cp:revision>20</cp:revision>
  <dc:subject/>
  <dc:title>Chapter 20</dc:title>
</cp:coreProperties>
</file>