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994-6AF8-4D22-BF4F-2BA47203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3E8-6ABA-4251-88A3-F448CE9B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07D-1E43-42A4-A750-952CA78E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F4A-39B1-416F-8C66-A91E23F8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07D-B6B9-4051-9ABA-93D37EEE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45C-9562-46A7-A9A0-AC45223B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F63-20AF-49FC-88AE-D54135C3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7A6-9E98-4A75-8FCD-DA870950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285-CE75-417B-A288-13E1A217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EF9-D87F-4F90-BAE7-6D373105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CFE-5288-446B-8482-46B51D33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893-895C-4B74-9806-F3D6BB68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3F9BF005-3CA3-469F-A8A1-C696DF1B3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560" y="7632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diovascular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The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18040" y="17524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E0E-000F-435B-A794-0083B9C885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onary Cir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83560" cy="516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EF8-9470-491B-9392-BD15C54073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46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riovent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us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cuspid or mi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lu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r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m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 blood from flowing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563868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237-86AE-46AF-98B6-CC1770A609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5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F50-3941-41AB-B126-F0A87B9C95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of the Heart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096-DF0C-4F88-B869-F7A3EE4016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od Flow Through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197-EC2F-48C3-A939-EF1B4D07C1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ystemic and Pulmonary Circ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27B-F4EE-4BE7-AEE0-A93D704F04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814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s of plate of fibrous connective tissue between atria and vent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ous rings around valves to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s as electrical insulation between atria and vent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ite for muscle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1752480"/>
            <a:ext cx="49784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2B3-3252-4B54-9CF9-1AF91C21B6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7" dur="1" fill="hold"/>
                                  <p:tgtEl>
                                    <p:spTgt spid="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Mus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4648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ongated, branching cells containing 1-2 centrally located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actin and myosin myofila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ntercalated dis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pecialized cell-cell cont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mosomes hold cells together and gap junctions allow action pot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ly, cardiac muscle behaves as singl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60958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EB9-D271-46BE-A880-FDBB43F6FF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ucting System of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EA2-6035-47D4-B069-46CE02F533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ing membrane potential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M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potent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depolarization followed by rapid, partial early repolarization.  Prolonged period of slow repolarization which is plateau phase and a rapid final repolarization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-gated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A16-F28D-4591-AB1A-4EA6C3D946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of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ng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g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t separates pulmonary and systemic cir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ing one-way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t valves ensure one-way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ing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contraction rate and force match blood delivery to changing metabolic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FDC-563A-4E52-82BF-2FF63783FA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4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otentials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and Cardiac Mus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93760" y="1600200"/>
            <a:ext cx="6730920" cy="50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75E-4E5D-46D2-B840-B66390C802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Node 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5FF-3671-41D0-BA07-16BB919694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ctory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ardiac muscle cell completely insensitive to further st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ell exhibits reduced sensitivity to additional st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refractory period prevents tetanic cont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1EA-227B-48F3-BB9F-E24DA761E2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0" dur="1" fill="hold"/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cardi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81480" y="13712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potentials through myocardium during cardiac cycle produces electric currents than can be measu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 wa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ria depol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QR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 depol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ria repol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 wav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 repol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090-25C4-455E-B5E6-1EA2276E79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8" dur="1" fill="hold"/>
                                  <p:tgtEl>
                                    <p:spTgt spid="9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Arrhythm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achycard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eart rate in excess of 100b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radycard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eart rate less than 60 b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nus arrhythm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eart rate varies 5% during respiratory cycle and up to 30% during deep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mature atrial contra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ccasional shortened intervals between one contraction and succeeding, frequently occurs in healthy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DA6-24B8-4676-BCC2-C214133852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ations in Electrocardi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0AA-8C5A-4420-A635-F5F96807C0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is two pumps that work together, right and left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titive contraction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yst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relaxation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ast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heart cha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moves through circulatory system from areas of higher to lower pres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ion of heart produces the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0AD-DD30-4472-A892-1AFF27CB14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6" dur="1" fill="hold"/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83C-F5F8-48E4-A204-F361BEF9B4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s during Cardiac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741-E607-4DC1-97D9-2CD834A6F6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S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rst heart sound or “lubb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oventricular valves and surrounding fluid vibrations as valves close at beginning of ventricular sy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heart sound or “dup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from closure of aortic and pulmonary semilunar valves at beginning of ventricular diastole, lasts l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heart sound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ccas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turbulent blood flow into ventricles and detected near end of first one-third of dia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796-FBDA-4CA7-BE8C-8010B0E842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, Shape, Loc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81120" y="19051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a closed f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lunt rounded point of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lat part at opposite of end of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in thoracic cavity in mediasti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52578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6BB-3A23-4354-9487-CC1A6479F5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tion of Heart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45820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E01-BEDE-493F-8275-B8432EFEA2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 Arterial Pressure (MA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lood pressure in ao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=CO x 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 is amount of blood pumped by heart per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=SV x 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troke volume of blood pumped during each heart b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H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Heart rate or number of times heart beat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ac reserve: Difference between CO at rest and maximum 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 is total resistance against which blood must be pum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AB6-5C3C-4EB0-9C14-049D8143FF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4" dur="1" fill="hold"/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s Affecting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7440" y="1219320"/>
            <a:ext cx="68835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04B-9ECC-43B9-ACBA-FD1FBFF79A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rinsic reg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sults from normal functional characteristics, not on neural or hormonal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ling’s law of the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xtrinsic reg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volves neural and hormon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rasympathetic st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d by vagus nerve, decreases heart rate, acetylcholine secr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ympathetic st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d by cardiac nerves, increases heart rate and force of contraction, epinephrine and norepinephrine rel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A86-66FD-4828-8C7C-AA41107BFE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0" dur="1" fill="hold"/>
                                  <p:tgtEl>
                                    <p:spTgt spid="1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Homeost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ffect of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oreceptors monitor blood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ffect of pH, carbon dioxide,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oreceptors moni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ffect of extracellular ion concen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or decrease in extracellular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reases hear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ffect of body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rate increases when body temperature increases, heart rate decreases when body temperatur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6BC-782B-4AF2-ADA1-C79D3291DF5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1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roreceptor and Chemoreceptor Refle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320-0C75-4B39-904B-53589B0449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oreceptor Ref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35840" cy="527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F00-0E35-43F1-B5EC-DB9C5639B9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oreceptor Reflex-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7440" y="1295280"/>
            <a:ext cx="6959880" cy="522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E69-F365-4C9F-9EA4-EAA9E76EB6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s of Aging o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l changes in heart function, minor under resting condition, more significant during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rophy of left ventr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heart rate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tendency for valves to function abnormally and arrhythmias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oxygen consumption required to pump same amount of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EB7-387C-417A-8093-2C2C3678DF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1" dur="1" fill="hold"/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Cross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8DF-FFB3-478E-8085-9791BBC288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card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8F0-8B2B-4259-9F94-CACB88E291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layers of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picard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is serous membrane of smooth outer surface of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yocard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ddle layer composed of cardiac muscle cell and responsibility for heart con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ndocard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mooth inner surface of heart cha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A04-2FAE-48C6-B96C-BC81BB9E36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35840" cy="527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A1E-3F4D-4423-8C75-4A0C0CD365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86040" y="1295280"/>
            <a:ext cx="3505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 cha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a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vent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ur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ajor v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ior vena c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monary 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ajor art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monary tru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CC8-0F53-492D-93AE-BA84A8EE3C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5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445280" cy="33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29B-E5BC-4943-A31B-EDF69CC2FE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4:03:20Z</dcterms:created>
  <dc:creator>Math/Science</dc:creator>
  <dc:description/>
  <dc:language>en-US</dc:language>
  <cp:lastModifiedBy>ZonaNet</cp:lastModifiedBy>
  <dcterms:modified xsi:type="dcterms:W3CDTF">2008-05-03T03:15:37Z</dcterms:modified>
  <cp:revision>20</cp:revision>
  <dc:subject/>
  <dc:title>Chapter 20</dc:title>
</cp:coreProperties>
</file>