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4FC1C-E70C-4BCE-86F8-4648638C2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1E5A-0F6E-4BE7-BBC3-B0644487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43AEF-3DB7-40F2-B6FA-DFC191368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19E00-FF36-425C-8BF7-36C01011B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A754-5C2F-4C30-B97D-6671EFB95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3EB6B-E4D4-4D1C-A1B4-DA15E946F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5527D-0B50-4FE6-AB50-16A865D1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6E1AB-4C3D-4998-9C99-01D5C5655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EC75-29FD-4C08-AF6D-FDFE02C05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BF62-7AF6-41B1-BBF3-4EB6CFC29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04E1-CCFB-4EE5-849C-D9F9C3B4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AA97-937D-4EB2-AF1B-292CC8E96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224B-C8CC-4F13-AA65-8DDE0503E2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RDIOVASCULAR SYSTEM</a:t>
            </a: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E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Muscle Fibers</a:t>
            </a:r>
            <a:endParaRPr b="0" lang="en-US" sz="44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ac muscle cells are branching, striated, generally uninucleate cells.  They contain myofibrils consisting of typical sarcomere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acent cardiac cells are connected by intercalated discs containing desmososmes and gap junctions, which convey the force of contraction from cell to cell and conduct action potential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ac muscle has abundant mitochondria and depends primarily on aerobic respiration to form AT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chanism and events of contraction</a:t>
            </a:r>
            <a:endParaRPr b="0" lang="en-US" sz="44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on-potential generation in the contractile cardiac muscle mimics that of skeletal muscle.  Membrane depolarization causes opening of sodium channels and sodium entry which is responsible for the rising phase of the action potential curv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larization also opens slow calcium channels.-creates the plateau.the actin potential is coupled to sliding of the myofilaments by ionic calcium released by the SR and entering from the extracellular spa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red to skeletal muscle, cardiac muscle has a longer refractory period that prevents tetanization.</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rt Physiology</a:t>
            </a:r>
            <a:endParaRPr b="0" lang="en-US" sz="4400" spc="-1" strike="noStrike">
              <a:solidFill>
                <a:srgbClr val="ffffff"/>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tain noncontractile cardiac muscle cells exhibit automaticity and rhythmicity and can independently initiate action potential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ch cells have an unstable resting potential called a pacemaker potential that gradually depolarizes drifting toward threshold for fir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cells comprise the intrinsic conduction system of the hear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ects in the intrinsic conduction system can cause arrhythmia, fibrillation ands heart bl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ctrical Events</a:t>
            </a: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rhythmicity:heart contracts without help of hormonal or neuronal stimul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duction or nodal system of the heart consists of the AV and SA nodes, the AV bundle and bundle branches and Purkinje fibe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system coordinates the depolarization and ensures the heart beats as 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A acts as the heart’s pacemaker and sets the sinus rhyth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ulse pathway</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 node sends stimulus-&gt;reaches AV node--&gt;internodal pathways-&gt;atrial contraction-&gt;IV septum-&gt;bundle branches, Purkinje fibers, papillary muscles-&gt;Purkinje relay to ventricular myocardium-&gt;ventricular contraction-&gt;blood pushed to aortic and pulmonary trunk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on deficit problems that happen when the conducting pathways are damaged.  The rhythm of heart will be disturbed.</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topic pacemaker:an abnormal cell generates action potential which overrides those of SA or AV nodes.  Disrupts timing of ventricular contraction. Heart efficiency is reduc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ctrical events</a:t>
            </a:r>
            <a:endParaRPr b="0" lang="en-US" sz="44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rt is innervated by the A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cardiac centers in the medulla include the cardioaccelaratory center, which projects to the T1-T5 region of the spinal cord, which in turn projects to the cervical and upper thoracic chain gangl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S cardioinhibitory center exerts its influence via the vagus nerve which project to the heart wall.  Most PS nerves serve the SA and AV no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CG</a:t>
            </a:r>
            <a:endParaRPr b="0" lang="en-US" sz="44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ording of electrical activities in the heart is an Electrocardiogram or ECG.</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t landmarks of an ECG include P wave, QRS complex and the T wave.</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 wave reflects atrial depolarization. </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RS complex indicates ventricular depolarization.</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 wave indicates ventricular repolarization.</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G analysis is especially useful in diagnosing cardiac arrhythmias, abnormal patterns of cardiac electrical activ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chanical Events: Cardiac Cycle</a:t>
            </a:r>
            <a:endParaRPr b="0" lang="en-US" sz="4400" spc="-1" strike="noStrike">
              <a:solidFill>
                <a:srgbClr val="ffffff"/>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ac cycle refers to events occurring during one heartbeat.  It contains periods of atrial and ventricular systole (contraction) and diastole (relax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heart beats the two ventricles eject equal volumes of bloo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losing of valves and rushing of blood through the heart causes characteristic heart sounds which can be heard during auscul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Cycle</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mid-to-late diastole, the ventricles fill and atria contract.</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tricular systole consists of the isovolumetric contraction phase and the ventricular ejection phase.</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early diastole, the ventricles are relaxed and are closed chambers until increasing atrial pressure forces the AV valves open and the cycle begins again.</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 normal heart rate of 75 beats/min, a cardiac cycle lasts 0.8 s.</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sure changes promote blood flow and valve opening and closing.</a:t>
            </a:r>
            <a:endParaRPr b="0" lang="en-US" sz="2400" spc="-1" strike="noStrike">
              <a:solidFill>
                <a:srgbClr val="ffffff"/>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OUTPUT</a:t>
            </a:r>
            <a:endParaRPr b="0" lang="en-US" sz="44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output which is typically 5L/min is the amount of blood pumped out by each ventricle in one minu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ke volume is the amount of blood pumped out by a ventricle with each contra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output=heart rate X stroke volum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RODUCTION</a:t>
            </a: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rdiovascular system is composed of blood, blood vessels and the heart.</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r heart beats nearly 100,000 times daily.</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d vessels are fractionated into a pulmonary circuit and systemic circuit.</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ery:vessels that carry blood away from the heart. Usually oxygenated</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in: vessels that carry blood towards the heart. Usually deoxygenated.</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llaries: a small blood vessel that allow diffusion of gases, nutrients and wastes between plasma and interstitial flu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OUTPUT</a:t>
            </a:r>
            <a:endParaRPr b="0" lang="en-US" sz="44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oke volume depends to a large extent on the degree of stretch of cardiac muscle by venous retur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pprox. 70 mL and is the difference between the EDV(end diastolic volume) and ESV (end systolic volume).  Anything that influences heart rate or blood volume influences venous return and hence stroke volum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ation of the SNS increases heart rate and contractility; parasympathetic activation decreases heart rate and contractilit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OUTPUT</a:t>
            </a: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mical regulation of the heart is effected by hormones-epinephrine and thyroxine- and ions (Na, K, Ca).  Imbalances in the ion severely impair heart activi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factors influencing heart rate are age, sex, exercise and body temperat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gestive heart failure occurs when the pumping of the heart is inadequate to provide normal circulation to meet body nee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heart failure leads to systemic edema and left to pulmonary ed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ctors Affecting Heart Rate</a:t>
            </a:r>
            <a:endParaRPr b="0" lang="en-US" sz="44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ardioaccelaratory center in the medulla oblongata activates sympathetic neurons;the cardioinhibitory center governs the activities of the parasympathetic neurons.  These in turn receive inputs from higher centers and from the baroreceptors and chemoreceptor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ic heart rate is established by pacemaker cells of the SA no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athetic activity produces more powerful contractions and parasympathetic stimulation slows the hea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RT ANATOMY</a:t>
            </a: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uman heart, which is about the size of a clenched fist, is located obliquely within the mediastanium of the thorax.</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is located within  a double sac made up of the outer fibrous pericardium and the inner serous pericardium (parietal and visceral layer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ricardial cavity contains the thymus, esophagus and trachea.  The pericardium may be divided into the visceral and parietal pericardium.  The cavity is space between the pericardium and epicardium.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vity contains a fluid called the pericardial flu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yers of the heart wall</a:t>
            </a: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yers of the heart wall, from the interior out are the endocardium, the myocardium and the epicardium.  Epi. Lines the heart surface, the myo. Makes up the largest portion of the heart and endo. The innermost layer of the heart’s wall.</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has four chambers- two superior atria and two inferior ventricles.  Functionally the heart is a double pump.</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ing the right atrium are the superior vena cava, the inferior vena cava, and the coronary sinus.  Four pulmonary veins enter the left atrium.</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ght ventricle discharges blood into the pulmonary trunk and the left ventricle pumps blood into the aorta.</a:t>
            </a:r>
            <a:endParaRPr b="0" lang="en-US" sz="2400" spc="-1" strike="noStrike">
              <a:solidFill>
                <a:srgbClr val="ffffff"/>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Heart</a:t>
            </a:r>
            <a:endParaRPr b="0" lang="en-US" sz="4400" spc="-1" strike="noStrike">
              <a:solidFill>
                <a:srgbClr val="ff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has four valves, two AV valves :bicuspid and tricuspid- and two semilunar valves-aortic and pulmon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ricuspid and bicuspid are located between the atria and ventricles and these valves are anchored by fibers called Chordae Tendina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erve as one way door to keep blood flowing in one direc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cannot pump unless an electrical stimulus occu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gt; AV--&gt; Purkinje fib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thway of blood through the heart</a:t>
            </a:r>
            <a:endParaRPr b="0" lang="en-US" sz="44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ght heart is the pulmonary circuit pump.  Oxygen-poor systemic blood enters the right atrium, passes into the right ventricle, through the pulmonary trunk to the lungs, and back to the left atrium via the pulmonary veins.</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eft heart is the systemic circuit pump.  Oxygen-laden blood entering the left atrium from the lungs flows into the left ventricle and then into the aorta, which provides  the functional supply of all body organs.  Systemic veins return the oxygen-depleted blood to the right atriu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nervation of the Heart</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ympathetic and parasympathetic divisions of the ANSS provide innervation to the heart through the cardiac plexus.</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gus nerve carries PS preganglionic fibers to small ganglia in the cardiac plexus. Both ANS divisions innervate the SA and AV nodes and atrial muscle cells.</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imulation of the cardioaccedlaratory center activates the necessary sympathetic neurons; the nearby cardioinhibitory center governs the activity of the PS neurons.</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roreceptors and chemoreceptors innervated by NIX and NX are monitored by cardiac cen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Coronary Circulation</a:t>
            </a:r>
            <a:endParaRPr b="0" lang="en-US" sz="4400" spc="-1" strike="noStrike">
              <a:solidFill>
                <a:srgbClr val="ffffff"/>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ronary circulation includes the right and left coronary arteries .  These ensure a continuous flow of blood to meet the demands of active cardiac muscle and cardiac vein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cornary artery supplies blood to the rt. Atrium, portion of both ventricles and portions of the SA and AV node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eft coronary artery-to the left ventricle, left atrium and IV septum.</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ous blood, collected by the cardiac veins (great, middle and small), is emptied into the coronary sinus.</a:t>
            </a:r>
            <a:endParaRPr b="0" lang="en-US" sz="2400" spc="-1" strike="noStrike">
              <a:solidFill>
                <a:srgbClr val="ffffff"/>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Veins</a:t>
            </a: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reat cardiac vein begins on the anterior surface of the ventricles.  Then it reaches the level of the atria and then curves around the left side of the heart within the coronary sulcu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ein empties into the coronary sinus which then communicates with the right atrium near the base of the inferior vena cav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cardiac veins are:posterior cardiac vein, the middle cardiac vein and small and anterior cardiac veins.  They all empty into the great cardiac vein or coronary sin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09:01:16Z</dcterms:created>
  <dc:creator>ROZENNA CARR</dc:creator>
  <dc:description/>
  <dc:language>en-US</dc:language>
  <cp:lastModifiedBy>ROZENNA CARR</cp:lastModifiedBy>
  <dcterms:modified xsi:type="dcterms:W3CDTF">2000-09-27T09:14:10Z</dcterms:modified>
  <cp:revision>12</cp:revision>
  <dc:subject/>
  <dc:title>THE CARDIOVASCULAR SYSTEM</dc:title>
</cp:coreProperties>
</file>