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F37-1469-4783-AFE0-C6AEBF32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80F-93A7-4727-8255-2EC10FCF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270E-ABDA-41D7-A682-B9729A4D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B358-07AD-4C89-A2A4-471D8475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9EB-3230-4D83-B8E9-15D07290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1C7C-3198-4247-AB5A-3DF36CD4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223F-89C6-476E-BC81-B1921F5B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317-4D94-4A8B-9640-478C2699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663-EC2F-4AFB-9CAC-4D2DFA55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7B8-725C-4D8D-862A-12E8A8B4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91E-DC81-4B12-9729-BD12C156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BD19-D381-4580-A49F-7F18B5F9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791C-BE13-4434-920B-B55604989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2280" y="457200"/>
            <a:ext cx="8001000" cy="1219320"/>
          </a:xfrm>
          <a:custGeom>
            <a:avLst/>
            <a:gdLst>
              <a:gd name="textAreaLeft" fmla="*/ 78840 w 8001000"/>
              <a:gd name="textAreaRight" fmla="*/ 7922160 w 80010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41701" h="21600">
                <a:moveTo>
                  <a:pt x="0" y="0"/>
                </a:moveTo>
                <a:lnTo>
                  <a:pt x="141701" y="0"/>
                </a:lnTo>
                <a:lnTo>
                  <a:pt x="141701" y="21600"/>
                </a:lnTo>
                <a:lnTo>
                  <a:pt x="0" y="21600"/>
                </a:lnTo>
                <a:close/>
              </a:path>
              <a:path fill="lightenLess" w="141701" h="21600">
                <a:moveTo>
                  <a:pt x="0" y="0"/>
                </a:moveTo>
                <a:lnTo>
                  <a:pt x="141701" y="0"/>
                </a:lnTo>
                <a:lnTo>
                  <a:pt x="140301" y="1400"/>
                </a:lnTo>
                <a:lnTo>
                  <a:pt x="1400" y="1400"/>
                </a:lnTo>
                <a:close/>
              </a:path>
              <a:path fill="darken" w="141701" h="21600">
                <a:moveTo>
                  <a:pt x="141701" y="0"/>
                </a:moveTo>
                <a:lnTo>
                  <a:pt x="141701" y="21600"/>
                </a:lnTo>
                <a:lnTo>
                  <a:pt x="140301" y="20200"/>
                </a:lnTo>
                <a:lnTo>
                  <a:pt x="140301" y="1400"/>
                </a:lnTo>
                <a:close/>
              </a:path>
              <a:path fill="darkenLess" w="141701" h="21600">
                <a:moveTo>
                  <a:pt x="14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301" y="20200"/>
                </a:lnTo>
                <a:close/>
              </a:path>
              <a:path fill="lighten" w="14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rotid Cir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regions suppl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14520"/>
            <a:ext cx="1143000" cy="909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13292400">
            <a:off x="4800240" y="358092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3292400">
            <a:off x="4876560" y="411444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690800">
            <a:off x="5289480" y="496728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4828800">
            <a:off x="4160880" y="414396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8217600">
            <a:off x="4450680" y="283320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26760" y="37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70d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90800">
            <a:off x="5181120" y="51814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90800">
            <a:off x="3809520" y="47242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90800">
            <a:off x="2819520" y="4800600"/>
            <a:ext cx="196560" cy="442800"/>
          </a:xfrm>
          <a:prstGeom prst="upArrow">
            <a:avLst>
              <a:gd name="adj1" fmla="val 50000"/>
              <a:gd name="adj2" fmla="val 563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90800">
            <a:off x="4495320" y="44956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90800">
            <a:off x="2286000" y="44197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90800">
            <a:off x="6629400" y="41911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3396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560" y="3421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9217400">
            <a:off x="4061880" y="219996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3809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581280"/>
            <a:ext cx="990720" cy="914400"/>
          </a:xfrm>
          <a:custGeom>
            <a:avLst/>
            <a:gdLst>
              <a:gd name="textAreaLeft" fmla="*/ 186480 w 990720"/>
              <a:gd name="textAreaRight" fmla="*/ 804240 w 990720"/>
              <a:gd name="textAreaTop" fmla="*/ 172080 h 914400"/>
              <a:gd name="textAreaBottom" fmla="*/ 742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74" y="14366"/>
                </a:lnTo>
                <a:lnTo>
                  <a:pt x="3163" y="18437"/>
                </a:lnTo>
                <a:lnTo>
                  <a:pt x="7081" y="19562"/>
                </a:lnTo>
                <a:lnTo>
                  <a:pt x="10800" y="21600"/>
                </a:lnTo>
                <a:lnTo>
                  <a:pt x="14366" y="19626"/>
                </a:lnTo>
                <a:lnTo>
                  <a:pt x="18437" y="18437"/>
                </a:lnTo>
                <a:lnTo>
                  <a:pt x="19562" y="14519"/>
                </a:lnTo>
                <a:lnTo>
                  <a:pt x="21600" y="10800"/>
                </a:lnTo>
                <a:lnTo>
                  <a:pt x="19626" y="7234"/>
                </a:lnTo>
                <a:lnTo>
                  <a:pt x="18437" y="3163"/>
                </a:lnTo>
                <a:lnTo>
                  <a:pt x="14519" y="2038"/>
                </a:lnTo>
                <a:lnTo>
                  <a:pt x="10800" y="0"/>
                </a:lnTo>
                <a:lnTo>
                  <a:pt x="7234" y="1974"/>
                </a:lnTo>
                <a:lnTo>
                  <a:pt x="3163" y="3163"/>
                </a:lnTo>
                <a:lnTo>
                  <a:pt x="2038" y="7081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733920"/>
            <a:ext cx="802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981080"/>
            <a:ext cx="8610480" cy="44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Optic nerves and re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ortex and deep white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rontal and parietal 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ateral parts of the temporal and occipital 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orpus callosum - except splenium (posteri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ost of the basal ganglia (including amygda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Internal caps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14800" y="20368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92280" y="457200"/>
            <a:ext cx="8001000" cy="833400"/>
          </a:xfrm>
          <a:custGeom>
            <a:avLst/>
            <a:gdLst>
              <a:gd name="textAreaLeft" fmla="*/ 54000 w 8001000"/>
              <a:gd name="textAreaRight" fmla="*/ 7947000 w 8001000"/>
              <a:gd name="textAreaTop" fmla="*/ 54000 h 833400"/>
              <a:gd name="textAreaBottom" fmla="*/ 779400 h 833400"/>
            </a:gdLst>
            <a:ahLst/>
            <a:rect l="textAreaLeft" t="textAreaTop" r="textAreaRight" b="textAreaBottom"/>
            <a:pathLst>
              <a:path w="207289" h="21600">
                <a:moveTo>
                  <a:pt x="0" y="0"/>
                </a:moveTo>
                <a:lnTo>
                  <a:pt x="207289" y="0"/>
                </a:lnTo>
                <a:lnTo>
                  <a:pt x="207289" y="21600"/>
                </a:lnTo>
                <a:lnTo>
                  <a:pt x="0" y="21600"/>
                </a:lnTo>
                <a:close/>
              </a:path>
              <a:path fill="lightenLess" w="207289" h="21600">
                <a:moveTo>
                  <a:pt x="0" y="0"/>
                </a:moveTo>
                <a:lnTo>
                  <a:pt x="207289" y="0"/>
                </a:lnTo>
                <a:lnTo>
                  <a:pt x="205889" y="1400"/>
                </a:lnTo>
                <a:lnTo>
                  <a:pt x="1400" y="1400"/>
                </a:lnTo>
                <a:close/>
              </a:path>
              <a:path fill="darken" w="207289" h="21600">
                <a:moveTo>
                  <a:pt x="207289" y="0"/>
                </a:moveTo>
                <a:lnTo>
                  <a:pt x="207289" y="21600"/>
                </a:lnTo>
                <a:lnTo>
                  <a:pt x="205889" y="20200"/>
                </a:lnTo>
                <a:lnTo>
                  <a:pt x="205889" y="1400"/>
                </a:lnTo>
                <a:close/>
              </a:path>
              <a:path fill="darkenLess" w="207289" h="21600">
                <a:moveTo>
                  <a:pt x="207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889" y="20200"/>
                </a:lnTo>
                <a:close/>
              </a:path>
              <a:path fill="lighten" w="207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T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62120" y="40644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3292400">
            <a:off x="4800240" y="358092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3292400">
            <a:off x="4876560" y="411444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90800">
            <a:off x="5289480" y="496728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4828800">
            <a:off x="4160880" y="414396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8217600">
            <a:off x="4450680" y="283320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26760" y="37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70d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90800">
            <a:off x="5181120" y="51814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90800">
            <a:off x="3809520" y="47242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90800">
            <a:off x="2819520" y="4800600"/>
            <a:ext cx="196560" cy="442800"/>
          </a:xfrm>
          <a:prstGeom prst="upArrow">
            <a:avLst>
              <a:gd name="adj1" fmla="val 50000"/>
              <a:gd name="adj2" fmla="val 563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90800">
            <a:off x="4495320" y="44956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690800">
            <a:off x="2286000" y="44197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690800">
            <a:off x="6629400" y="41911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3396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19560" y="3421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9217400">
            <a:off x="4061880" y="219996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3809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14600" y="3581280"/>
            <a:ext cx="990720" cy="914400"/>
          </a:xfrm>
          <a:custGeom>
            <a:avLst/>
            <a:gdLst>
              <a:gd name="textAreaLeft" fmla="*/ 186480 w 990720"/>
              <a:gd name="textAreaRight" fmla="*/ 804240 w 990720"/>
              <a:gd name="textAreaTop" fmla="*/ 172080 h 914400"/>
              <a:gd name="textAreaBottom" fmla="*/ 742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74" y="14366"/>
                </a:lnTo>
                <a:lnTo>
                  <a:pt x="3163" y="18437"/>
                </a:lnTo>
                <a:lnTo>
                  <a:pt x="7081" y="19562"/>
                </a:lnTo>
                <a:lnTo>
                  <a:pt x="10800" y="21600"/>
                </a:lnTo>
                <a:lnTo>
                  <a:pt x="14366" y="19626"/>
                </a:lnTo>
                <a:lnTo>
                  <a:pt x="18437" y="18437"/>
                </a:lnTo>
                <a:lnTo>
                  <a:pt x="19562" y="14519"/>
                </a:lnTo>
                <a:lnTo>
                  <a:pt x="21600" y="10800"/>
                </a:lnTo>
                <a:lnTo>
                  <a:pt x="19626" y="7234"/>
                </a:lnTo>
                <a:lnTo>
                  <a:pt x="18437" y="3163"/>
                </a:lnTo>
                <a:lnTo>
                  <a:pt x="14519" y="2038"/>
                </a:lnTo>
                <a:lnTo>
                  <a:pt x="10800" y="0"/>
                </a:lnTo>
                <a:lnTo>
                  <a:pt x="7234" y="1974"/>
                </a:lnTo>
                <a:lnTo>
                  <a:pt x="3163" y="3163"/>
                </a:lnTo>
                <a:lnTo>
                  <a:pt x="2038" y="7081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5520" y="1523880"/>
            <a:ext cx="86803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 Transient Ischemic Attack (TIA) is a brief episode in which neurologic deficits suddenly occur, but then disappear completely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1640" y="2946240"/>
            <a:ext cx="8610840" cy="46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Most TIAs last a few minutes to an ho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No neurologic deficits remain once a T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has ended, because little or no brain tissu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permanently dama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A TIA is an indicator that the stage is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for an ischemic stro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Treatment of patients with TIAs can significa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reduce their risk of having a stro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57200" y="2743200"/>
            <a:ext cx="8610480" cy="44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Patients commonly describe a gray or black f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or a mist clouding vision in all or part of one ey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Attacks are typically brief (1-5 minutes)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afterwards vision is fully restor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TMB often signals the presence of sev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ipsilateral carotid artery disease in older ad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TMB can also be caused by migra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7480" y="1617840"/>
            <a:ext cx="835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MB (also known as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maurosis fugax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occurs when the retina becomes temporarily ischemic.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2280" y="380880"/>
            <a:ext cx="8001000" cy="1067040"/>
          </a:xfrm>
          <a:custGeom>
            <a:avLst/>
            <a:gdLst>
              <a:gd name="textAreaLeft" fmla="*/ 69120 w 8001000"/>
              <a:gd name="textAreaRight" fmla="*/ 7931880 w 80010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161916" h="21600">
                <a:moveTo>
                  <a:pt x="0" y="0"/>
                </a:moveTo>
                <a:lnTo>
                  <a:pt x="161916" y="0"/>
                </a:lnTo>
                <a:lnTo>
                  <a:pt x="161916" y="21600"/>
                </a:lnTo>
                <a:lnTo>
                  <a:pt x="0" y="21600"/>
                </a:lnTo>
                <a:close/>
              </a:path>
              <a:path fill="lightenLess" w="161916" h="21600">
                <a:moveTo>
                  <a:pt x="0" y="0"/>
                </a:moveTo>
                <a:lnTo>
                  <a:pt x="161916" y="0"/>
                </a:lnTo>
                <a:lnTo>
                  <a:pt x="160516" y="1400"/>
                </a:lnTo>
                <a:lnTo>
                  <a:pt x="1400" y="1400"/>
                </a:lnTo>
                <a:close/>
              </a:path>
              <a:path fill="darken" w="161916" h="21600">
                <a:moveTo>
                  <a:pt x="161916" y="0"/>
                </a:moveTo>
                <a:lnTo>
                  <a:pt x="161916" y="21600"/>
                </a:lnTo>
                <a:lnTo>
                  <a:pt x="160516" y="20200"/>
                </a:lnTo>
                <a:lnTo>
                  <a:pt x="160516" y="1400"/>
                </a:lnTo>
                <a:close/>
              </a:path>
              <a:path fill="darkenLess" w="161916" h="21600">
                <a:moveTo>
                  <a:pt x="16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516" y="20200"/>
                </a:lnTo>
                <a:close/>
              </a:path>
              <a:path fill="lighten" w="16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As: Carotid Terri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ent monocular blin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021000" y="34210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12920" y="1523880"/>
            <a:ext cx="873108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Two Ide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. Thrombus from ulcerated atherosclerotic plaque at the origin of the internal carotid artery enters ophthalmic artery and plugs retinal vess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A small embolic particle can produce retinal isch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or block the central retinal art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If the embolus (often a platelet-fibrin aggregate) f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apart, blood flow is restored and and vision retur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. Low perfusion in the internal carotid artery, putting distal structures like the retina at r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This mechanism implies presence of severe carot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stenosis that significantly impairs blood f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3754440"/>
            <a:ext cx="8610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304920"/>
            <a:ext cx="8147160" cy="985680"/>
          </a:xfrm>
          <a:custGeom>
            <a:avLst/>
            <a:gdLst>
              <a:gd name="textAreaLeft" fmla="*/ 63720 w 8147160"/>
              <a:gd name="textAreaRight" fmla="*/ 8083440 w 8147160"/>
              <a:gd name="textAreaTop" fmla="*/ 63720 h 985680"/>
              <a:gd name="textAreaBottom" fmla="*/ 921960 h 985680"/>
            </a:gdLst>
            <a:ahLst/>
            <a:rect l="textAreaLeft" t="textAreaTop" r="textAreaRight" b="textAreaBottom"/>
            <a:pathLst>
              <a:path w="178478" h="21600">
                <a:moveTo>
                  <a:pt x="0" y="0"/>
                </a:moveTo>
                <a:lnTo>
                  <a:pt x="178478" y="0"/>
                </a:lnTo>
                <a:lnTo>
                  <a:pt x="178478" y="21600"/>
                </a:lnTo>
                <a:lnTo>
                  <a:pt x="0" y="21600"/>
                </a:lnTo>
                <a:close/>
              </a:path>
              <a:path fill="lightenLess" w="178478" h="21600">
                <a:moveTo>
                  <a:pt x="0" y="0"/>
                </a:moveTo>
                <a:lnTo>
                  <a:pt x="178478" y="0"/>
                </a:lnTo>
                <a:lnTo>
                  <a:pt x="177078" y="1400"/>
                </a:lnTo>
                <a:lnTo>
                  <a:pt x="1400" y="1400"/>
                </a:lnTo>
                <a:close/>
              </a:path>
              <a:path fill="darken" w="178478" h="21600">
                <a:moveTo>
                  <a:pt x="178478" y="0"/>
                </a:moveTo>
                <a:lnTo>
                  <a:pt x="178478" y="21600"/>
                </a:lnTo>
                <a:lnTo>
                  <a:pt x="177078" y="20200"/>
                </a:lnTo>
                <a:lnTo>
                  <a:pt x="177078" y="1400"/>
                </a:lnTo>
                <a:close/>
              </a:path>
              <a:path fill="darkenLess" w="178478" h="21600">
                <a:moveTo>
                  <a:pt x="178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078" y="20200"/>
                </a:lnTo>
                <a:close/>
              </a:path>
              <a:path fill="lighten" w="178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MB: What’s Mechanis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3520" y="30960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021000" y="34210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04920" y="2209680"/>
            <a:ext cx="86104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One-sided limb weakness, clumsiness or par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One-sided numbness, paresthesia, or sensory lo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Difficulty with language production 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Inability to articulate words clearly, of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described as ‘I slurred my words’ (dysarthr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Partial or complete homonymous visual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defects (patients seldom describe the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1617840"/>
            <a:ext cx="8350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roblems typically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2280" y="380880"/>
            <a:ext cx="8001000" cy="1067040"/>
          </a:xfrm>
          <a:custGeom>
            <a:avLst/>
            <a:gdLst>
              <a:gd name="textAreaLeft" fmla="*/ 69120 w 8001000"/>
              <a:gd name="textAreaRight" fmla="*/ 7931880 w 80010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161916" h="21600">
                <a:moveTo>
                  <a:pt x="0" y="0"/>
                </a:moveTo>
                <a:lnTo>
                  <a:pt x="161916" y="0"/>
                </a:lnTo>
                <a:lnTo>
                  <a:pt x="161916" y="21600"/>
                </a:lnTo>
                <a:lnTo>
                  <a:pt x="0" y="21600"/>
                </a:lnTo>
                <a:close/>
              </a:path>
              <a:path fill="lightenLess" w="161916" h="21600">
                <a:moveTo>
                  <a:pt x="0" y="0"/>
                </a:moveTo>
                <a:lnTo>
                  <a:pt x="161916" y="0"/>
                </a:lnTo>
                <a:lnTo>
                  <a:pt x="160516" y="1400"/>
                </a:lnTo>
                <a:lnTo>
                  <a:pt x="1400" y="1400"/>
                </a:lnTo>
                <a:close/>
              </a:path>
              <a:path fill="darken" w="161916" h="21600">
                <a:moveTo>
                  <a:pt x="161916" y="0"/>
                </a:moveTo>
                <a:lnTo>
                  <a:pt x="161916" y="21600"/>
                </a:lnTo>
                <a:lnTo>
                  <a:pt x="160516" y="20200"/>
                </a:lnTo>
                <a:lnTo>
                  <a:pt x="160516" y="1400"/>
                </a:lnTo>
                <a:close/>
              </a:path>
              <a:path fill="darkenLess" w="161916" h="21600">
                <a:moveTo>
                  <a:pt x="16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516" y="20200"/>
                </a:lnTo>
                <a:close/>
              </a:path>
              <a:path fill="lighten" w="16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As: Carotid Terri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ent hemispheric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021000" y="34210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14400" y="457200"/>
            <a:ext cx="7772400" cy="1066680"/>
          </a:xfrm>
          <a:custGeom>
            <a:avLst/>
            <a:gdLst>
              <a:gd name="textAreaLeft" fmla="*/ 69120 w 7772400"/>
              <a:gd name="textAreaRight" fmla="*/ 7703280 w 77724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57343" h="21600">
                <a:moveTo>
                  <a:pt x="0" y="0"/>
                </a:moveTo>
                <a:lnTo>
                  <a:pt x="157343" y="0"/>
                </a:lnTo>
                <a:lnTo>
                  <a:pt x="157343" y="21600"/>
                </a:lnTo>
                <a:lnTo>
                  <a:pt x="0" y="21600"/>
                </a:lnTo>
                <a:close/>
              </a:path>
              <a:path fill="lightenLess" w="157343" h="21600">
                <a:moveTo>
                  <a:pt x="0" y="0"/>
                </a:moveTo>
                <a:lnTo>
                  <a:pt x="157343" y="0"/>
                </a:lnTo>
                <a:lnTo>
                  <a:pt x="155943" y="1400"/>
                </a:lnTo>
                <a:lnTo>
                  <a:pt x="1400" y="1400"/>
                </a:lnTo>
                <a:close/>
              </a:path>
              <a:path fill="darken" w="157343" h="21600">
                <a:moveTo>
                  <a:pt x="157343" y="0"/>
                </a:moveTo>
                <a:lnTo>
                  <a:pt x="157343" y="21600"/>
                </a:lnTo>
                <a:lnTo>
                  <a:pt x="155943" y="20200"/>
                </a:lnTo>
                <a:lnTo>
                  <a:pt x="155943" y="1400"/>
                </a:lnTo>
                <a:close/>
              </a:path>
              <a:path fill="darkenLess" w="157343" h="21600">
                <a:moveTo>
                  <a:pt x="157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5943" y="20200"/>
                </a:lnTo>
                <a:close/>
              </a:path>
              <a:path fill="lighten" w="157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rotid Bifur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herosclerotic plaque and thro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143000" cy="909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303720" y="1600200"/>
            <a:ext cx="2881080" cy="56386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rot="14203200">
            <a:off x="3976560" y="4446000"/>
            <a:ext cx="180720" cy="685800"/>
          </a:xfrm>
          <a:prstGeom prst="downArrow">
            <a:avLst>
              <a:gd name="adj1" fmla="val 50000"/>
              <a:gd name="adj2" fmla="val 94871"/>
            </a:avLst>
          </a:prstGeom>
          <a:solidFill>
            <a:srgbClr val="ff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4203200">
            <a:off x="3757320" y="3036240"/>
            <a:ext cx="181080" cy="685800"/>
          </a:xfrm>
          <a:prstGeom prst="downArrow">
            <a:avLst>
              <a:gd name="adj1" fmla="val 50000"/>
              <a:gd name="adj2" fmla="val 94682"/>
            </a:avLst>
          </a:prstGeom>
          <a:solidFill>
            <a:srgbClr val="ff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09680" y="3276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la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00640" y="2927520"/>
            <a:ext cx="777960" cy="193680"/>
          </a:xfrm>
          <a:prstGeom prst="leftArrow">
            <a:avLst>
              <a:gd name="adj1" fmla="val 50000"/>
              <a:gd name="adj2" fmla="val 10041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0320" y="2616120"/>
            <a:ext cx="2242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rombu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laque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37480" y="4543560"/>
            <a:ext cx="2242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rombu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laque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11800" y="5702400"/>
            <a:ext cx="2844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laque reduce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iameter of ar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4203200">
            <a:off x="3909600" y="5461920"/>
            <a:ext cx="181080" cy="685800"/>
          </a:xfrm>
          <a:prstGeom prst="downArrow">
            <a:avLst>
              <a:gd name="adj1" fmla="val 50000"/>
              <a:gd name="adj2" fmla="val 94682"/>
            </a:avLst>
          </a:prstGeom>
          <a:solidFill>
            <a:srgbClr val="ff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0880" y="2209680"/>
            <a:ext cx="8382240" cy="53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Vertigo or dizz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Unilateral or bilateral weakness or clum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Unilateral or bilateral numbness or sensory lo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Limb ataxia or coarse tremor, staggering g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Dysarth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Visual field defect, blindness, or diplo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Nystagmus (‘it jumps around when I look at it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1679400"/>
            <a:ext cx="8350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roblems typically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2280" y="380880"/>
            <a:ext cx="8001000" cy="1067040"/>
          </a:xfrm>
          <a:custGeom>
            <a:avLst/>
            <a:gdLst>
              <a:gd name="textAreaLeft" fmla="*/ 69120 w 8001000"/>
              <a:gd name="textAreaRight" fmla="*/ 7931880 w 80010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161916" h="21600">
                <a:moveTo>
                  <a:pt x="0" y="0"/>
                </a:moveTo>
                <a:lnTo>
                  <a:pt x="161916" y="0"/>
                </a:lnTo>
                <a:lnTo>
                  <a:pt x="161916" y="21600"/>
                </a:lnTo>
                <a:lnTo>
                  <a:pt x="0" y="21600"/>
                </a:lnTo>
                <a:close/>
              </a:path>
              <a:path fill="lightenLess" w="161916" h="21600">
                <a:moveTo>
                  <a:pt x="0" y="0"/>
                </a:moveTo>
                <a:lnTo>
                  <a:pt x="161916" y="0"/>
                </a:lnTo>
                <a:lnTo>
                  <a:pt x="160516" y="1400"/>
                </a:lnTo>
                <a:lnTo>
                  <a:pt x="1400" y="1400"/>
                </a:lnTo>
                <a:close/>
              </a:path>
              <a:path fill="darken" w="161916" h="21600">
                <a:moveTo>
                  <a:pt x="161916" y="0"/>
                </a:moveTo>
                <a:lnTo>
                  <a:pt x="161916" y="21600"/>
                </a:lnTo>
                <a:lnTo>
                  <a:pt x="160516" y="20200"/>
                </a:lnTo>
                <a:lnTo>
                  <a:pt x="160516" y="1400"/>
                </a:lnTo>
                <a:close/>
              </a:path>
              <a:path fill="darkenLess" w="161916" h="21600">
                <a:moveTo>
                  <a:pt x="16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516" y="20200"/>
                </a:lnTo>
                <a:close/>
              </a:path>
              <a:path fill="lighten" w="16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As: Vertebral-Basi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combinations may be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021000" y="34210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12920" y="1371600"/>
            <a:ext cx="8350200" cy="53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cause the episode of impaired function is brief, patients may not tell you about it unless you 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niors with somewhat impaired memory may simply not recall such brief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TIAs in carotid territory predict severe atheroscler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in the proximal internal carotid art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Tests can determine actual blood flow in the caroti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The odds of stroke in the next 1-2 weeks are grea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If severe narrowing is present, surgical and med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treatments can help to reduce stroke 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304920"/>
            <a:ext cx="8159760" cy="909360"/>
          </a:xfrm>
          <a:custGeom>
            <a:avLst/>
            <a:gdLst>
              <a:gd name="textAreaLeft" fmla="*/ 58680 w 8159760"/>
              <a:gd name="textAreaRight" fmla="*/ 8101080 w 8159760"/>
              <a:gd name="textAreaTop" fmla="*/ 58680 h 909360"/>
              <a:gd name="textAreaBottom" fmla="*/ 850680 h 909360"/>
            </a:gdLst>
            <a:ahLst/>
            <a:rect l="textAreaLeft" t="textAreaTop" r="textAreaRight" b="textAreaBottom"/>
            <a:pathLst>
              <a:path w="193750" h="21600">
                <a:moveTo>
                  <a:pt x="0" y="0"/>
                </a:moveTo>
                <a:lnTo>
                  <a:pt x="193750" y="0"/>
                </a:lnTo>
                <a:lnTo>
                  <a:pt x="193750" y="21600"/>
                </a:lnTo>
                <a:lnTo>
                  <a:pt x="0" y="21600"/>
                </a:lnTo>
                <a:close/>
              </a:path>
              <a:path fill="lightenLess" w="193750" h="21600">
                <a:moveTo>
                  <a:pt x="0" y="0"/>
                </a:moveTo>
                <a:lnTo>
                  <a:pt x="193750" y="0"/>
                </a:lnTo>
                <a:lnTo>
                  <a:pt x="192350" y="1400"/>
                </a:lnTo>
                <a:lnTo>
                  <a:pt x="1400" y="1400"/>
                </a:lnTo>
                <a:close/>
              </a:path>
              <a:path fill="darken" w="193750" h="21600">
                <a:moveTo>
                  <a:pt x="193750" y="0"/>
                </a:moveTo>
                <a:lnTo>
                  <a:pt x="193750" y="21600"/>
                </a:lnTo>
                <a:lnTo>
                  <a:pt x="192350" y="20200"/>
                </a:lnTo>
                <a:lnTo>
                  <a:pt x="192350" y="1400"/>
                </a:lnTo>
                <a:close/>
              </a:path>
              <a:path fill="darkenLess" w="193750" h="21600">
                <a:moveTo>
                  <a:pt x="193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2350" y="20200"/>
                </a:lnTo>
                <a:close/>
              </a:path>
              <a:path fill="lighten" w="193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tients may ignore TIAs!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1143000" cy="909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021000" y="34210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92280" y="457200"/>
            <a:ext cx="8001000" cy="1219320"/>
          </a:xfrm>
          <a:custGeom>
            <a:avLst/>
            <a:gdLst>
              <a:gd name="textAreaLeft" fmla="*/ 78840 w 8001000"/>
              <a:gd name="textAreaRight" fmla="*/ 7922160 w 80010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41701" h="21600">
                <a:moveTo>
                  <a:pt x="0" y="0"/>
                </a:moveTo>
                <a:lnTo>
                  <a:pt x="141701" y="0"/>
                </a:lnTo>
                <a:lnTo>
                  <a:pt x="141701" y="21600"/>
                </a:lnTo>
                <a:lnTo>
                  <a:pt x="0" y="21600"/>
                </a:lnTo>
                <a:close/>
              </a:path>
              <a:path fill="lightenLess" w="141701" h="21600">
                <a:moveTo>
                  <a:pt x="0" y="0"/>
                </a:moveTo>
                <a:lnTo>
                  <a:pt x="141701" y="0"/>
                </a:lnTo>
                <a:lnTo>
                  <a:pt x="140301" y="1400"/>
                </a:lnTo>
                <a:lnTo>
                  <a:pt x="1400" y="1400"/>
                </a:lnTo>
                <a:close/>
              </a:path>
              <a:path fill="darken" w="141701" h="21600">
                <a:moveTo>
                  <a:pt x="141701" y="0"/>
                </a:moveTo>
                <a:lnTo>
                  <a:pt x="141701" y="21600"/>
                </a:lnTo>
                <a:lnTo>
                  <a:pt x="140301" y="20200"/>
                </a:lnTo>
                <a:lnTo>
                  <a:pt x="140301" y="1400"/>
                </a:lnTo>
                <a:close/>
              </a:path>
              <a:path fill="darkenLess" w="141701" h="21600">
                <a:moveTo>
                  <a:pt x="14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301" y="20200"/>
                </a:lnTo>
                <a:close/>
              </a:path>
              <a:path fill="lighten" w="14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unctional areas suppl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14520"/>
            <a:ext cx="1143000" cy="909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13292400">
            <a:off x="4800240" y="358092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3292400">
            <a:off x="4876560" y="411444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90800">
            <a:off x="5289480" y="496728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4828800">
            <a:off x="4160880" y="414396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8217600">
            <a:off x="4450680" y="283320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26760" y="37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70d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90800">
            <a:off x="5181120" y="51814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90800">
            <a:off x="3809520" y="47242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90800">
            <a:off x="2819520" y="4800600"/>
            <a:ext cx="196560" cy="442800"/>
          </a:xfrm>
          <a:prstGeom prst="upArrow">
            <a:avLst>
              <a:gd name="adj1" fmla="val 50000"/>
              <a:gd name="adj2" fmla="val 563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90800">
            <a:off x="4495320" y="44956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90800">
            <a:off x="2286000" y="44197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90800">
            <a:off x="6629400" y="41911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3396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560" y="3421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9217400">
            <a:off x="4061880" y="219996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3809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3581280"/>
            <a:ext cx="990720" cy="914400"/>
          </a:xfrm>
          <a:custGeom>
            <a:avLst/>
            <a:gdLst>
              <a:gd name="textAreaLeft" fmla="*/ 186480 w 990720"/>
              <a:gd name="textAreaRight" fmla="*/ 804240 w 990720"/>
              <a:gd name="textAreaTop" fmla="*/ 172080 h 914400"/>
              <a:gd name="textAreaBottom" fmla="*/ 742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74" y="14366"/>
                </a:lnTo>
                <a:lnTo>
                  <a:pt x="3163" y="18437"/>
                </a:lnTo>
                <a:lnTo>
                  <a:pt x="7081" y="19562"/>
                </a:lnTo>
                <a:lnTo>
                  <a:pt x="10800" y="21600"/>
                </a:lnTo>
                <a:lnTo>
                  <a:pt x="14366" y="19626"/>
                </a:lnTo>
                <a:lnTo>
                  <a:pt x="18437" y="18437"/>
                </a:lnTo>
                <a:lnTo>
                  <a:pt x="19562" y="14519"/>
                </a:lnTo>
                <a:lnTo>
                  <a:pt x="21600" y="10800"/>
                </a:lnTo>
                <a:lnTo>
                  <a:pt x="19626" y="7234"/>
                </a:lnTo>
                <a:lnTo>
                  <a:pt x="18437" y="3163"/>
                </a:lnTo>
                <a:lnTo>
                  <a:pt x="14519" y="2038"/>
                </a:lnTo>
                <a:lnTo>
                  <a:pt x="10800" y="0"/>
                </a:lnTo>
                <a:lnTo>
                  <a:pt x="7234" y="1974"/>
                </a:lnTo>
                <a:lnTo>
                  <a:pt x="3163" y="3163"/>
                </a:lnTo>
                <a:lnTo>
                  <a:pt x="2038" y="7081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3733920"/>
            <a:ext cx="802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981080"/>
            <a:ext cx="8610480" cy="44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Septa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rimary motor co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eg and foot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ea controlling urinary blad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otor planning areas in medial frontal lobe, anterior to the precentral gy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rimary somatosensory cortex for leg and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ost of corpus callosum except splen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14800" y="20368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2280" y="304920"/>
            <a:ext cx="8001000" cy="1218960"/>
          </a:xfrm>
          <a:custGeom>
            <a:avLst/>
            <a:gdLst>
              <a:gd name="textAreaLeft" fmla="*/ 78840 w 8001000"/>
              <a:gd name="textAreaRight" fmla="*/ 7922160 w 80010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141742" h="21600">
                <a:moveTo>
                  <a:pt x="0" y="0"/>
                </a:moveTo>
                <a:lnTo>
                  <a:pt x="141742" y="0"/>
                </a:lnTo>
                <a:lnTo>
                  <a:pt x="141742" y="21600"/>
                </a:lnTo>
                <a:lnTo>
                  <a:pt x="0" y="21600"/>
                </a:lnTo>
                <a:close/>
              </a:path>
              <a:path fill="lightenLess" w="141742" h="21600">
                <a:moveTo>
                  <a:pt x="0" y="0"/>
                </a:moveTo>
                <a:lnTo>
                  <a:pt x="141742" y="0"/>
                </a:lnTo>
                <a:lnTo>
                  <a:pt x="140342" y="1400"/>
                </a:lnTo>
                <a:lnTo>
                  <a:pt x="1400" y="1400"/>
                </a:lnTo>
                <a:close/>
              </a:path>
              <a:path fill="darken" w="141742" h="21600">
                <a:moveTo>
                  <a:pt x="141742" y="0"/>
                </a:moveTo>
                <a:lnTo>
                  <a:pt x="141742" y="21600"/>
                </a:lnTo>
                <a:lnTo>
                  <a:pt x="140342" y="20200"/>
                </a:lnTo>
                <a:lnTo>
                  <a:pt x="140342" y="1400"/>
                </a:lnTo>
                <a:close/>
              </a:path>
              <a:path fill="darkenLess" w="141742" h="21600">
                <a:moveTo>
                  <a:pt x="1417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342" y="20200"/>
                </a:lnTo>
                <a:close/>
              </a:path>
              <a:path fill="lighten" w="1417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CA-superior branch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unctional areas suppl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3292400">
            <a:off x="4800240" y="358092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3292400">
            <a:off x="4876560" y="411444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90800">
            <a:off x="5289480" y="496728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4828800">
            <a:off x="4160880" y="414396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8217600">
            <a:off x="4450680" y="283320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26760" y="37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70d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90800">
            <a:off x="5181120" y="51814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90800">
            <a:off x="3809520" y="47242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90800">
            <a:off x="2819520" y="4800600"/>
            <a:ext cx="196560" cy="442800"/>
          </a:xfrm>
          <a:prstGeom prst="upArrow">
            <a:avLst>
              <a:gd name="adj1" fmla="val 50000"/>
              <a:gd name="adj2" fmla="val 563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90800">
            <a:off x="4495320" y="44956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90800">
            <a:off x="2286000" y="44197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90800">
            <a:off x="6629400" y="41911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3396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560" y="3421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9217400">
            <a:off x="4061880" y="219996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3809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3581280"/>
            <a:ext cx="990720" cy="914400"/>
          </a:xfrm>
          <a:custGeom>
            <a:avLst/>
            <a:gdLst>
              <a:gd name="textAreaLeft" fmla="*/ 186480 w 990720"/>
              <a:gd name="textAreaRight" fmla="*/ 804240 w 990720"/>
              <a:gd name="textAreaTop" fmla="*/ 172080 h 914400"/>
              <a:gd name="textAreaBottom" fmla="*/ 742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74" y="14366"/>
                </a:lnTo>
                <a:lnTo>
                  <a:pt x="3163" y="18437"/>
                </a:lnTo>
                <a:lnTo>
                  <a:pt x="7081" y="19562"/>
                </a:lnTo>
                <a:lnTo>
                  <a:pt x="10800" y="21600"/>
                </a:lnTo>
                <a:lnTo>
                  <a:pt x="14366" y="19626"/>
                </a:lnTo>
                <a:lnTo>
                  <a:pt x="18437" y="18437"/>
                </a:lnTo>
                <a:lnTo>
                  <a:pt x="19562" y="14519"/>
                </a:lnTo>
                <a:lnTo>
                  <a:pt x="21600" y="10800"/>
                </a:lnTo>
                <a:lnTo>
                  <a:pt x="19626" y="7234"/>
                </a:lnTo>
                <a:lnTo>
                  <a:pt x="18437" y="3163"/>
                </a:lnTo>
                <a:lnTo>
                  <a:pt x="14519" y="2038"/>
                </a:lnTo>
                <a:lnTo>
                  <a:pt x="10800" y="0"/>
                </a:lnTo>
                <a:lnTo>
                  <a:pt x="7234" y="1974"/>
                </a:lnTo>
                <a:lnTo>
                  <a:pt x="3163" y="3163"/>
                </a:lnTo>
                <a:lnTo>
                  <a:pt x="2038" y="7081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733920"/>
            <a:ext cx="802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752480"/>
            <a:ext cx="8915400" cy="50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rimary motor cortex - face / arm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yramidal tract axons from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all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of the pri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otor co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rimary somatosensory cortex - face / arm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Frontal eye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Frontal/parietal - 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language-dominant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hemi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roca’s and other areas for language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Frontal/parietal -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nondominant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hemi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eas for 3-D visuospatial concepts of self and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eas for expressing emo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0368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92280" y="304920"/>
            <a:ext cx="8001000" cy="1218960"/>
          </a:xfrm>
          <a:custGeom>
            <a:avLst/>
            <a:gdLst>
              <a:gd name="textAreaLeft" fmla="*/ 78840 w 8001000"/>
              <a:gd name="textAreaRight" fmla="*/ 7922160 w 80010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141742" h="21600">
                <a:moveTo>
                  <a:pt x="0" y="0"/>
                </a:moveTo>
                <a:lnTo>
                  <a:pt x="141742" y="0"/>
                </a:lnTo>
                <a:lnTo>
                  <a:pt x="141742" y="21600"/>
                </a:lnTo>
                <a:lnTo>
                  <a:pt x="0" y="21600"/>
                </a:lnTo>
                <a:close/>
              </a:path>
              <a:path fill="lightenLess" w="141742" h="21600">
                <a:moveTo>
                  <a:pt x="0" y="0"/>
                </a:moveTo>
                <a:lnTo>
                  <a:pt x="141742" y="0"/>
                </a:lnTo>
                <a:lnTo>
                  <a:pt x="140342" y="1400"/>
                </a:lnTo>
                <a:lnTo>
                  <a:pt x="1400" y="1400"/>
                </a:lnTo>
                <a:close/>
              </a:path>
              <a:path fill="darken" w="141742" h="21600">
                <a:moveTo>
                  <a:pt x="141742" y="0"/>
                </a:moveTo>
                <a:lnTo>
                  <a:pt x="141742" y="21600"/>
                </a:lnTo>
                <a:lnTo>
                  <a:pt x="140342" y="20200"/>
                </a:lnTo>
                <a:lnTo>
                  <a:pt x="140342" y="1400"/>
                </a:lnTo>
                <a:close/>
              </a:path>
              <a:path fill="darkenLess" w="141742" h="21600">
                <a:moveTo>
                  <a:pt x="1417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342" y="20200"/>
                </a:lnTo>
                <a:close/>
              </a:path>
              <a:path fill="lighten" w="1417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CA-inferior branch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unctional areas suppl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13292400">
            <a:off x="4800240" y="358092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3292400">
            <a:off x="4876560" y="411444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90800">
            <a:off x="5289480" y="496728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4828800">
            <a:off x="4160880" y="414396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8217600">
            <a:off x="4450680" y="283320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26760" y="37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70d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90800">
            <a:off x="5181120" y="51814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90800">
            <a:off x="3809520" y="47242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90800">
            <a:off x="2819520" y="4800600"/>
            <a:ext cx="196560" cy="442800"/>
          </a:xfrm>
          <a:prstGeom prst="upArrow">
            <a:avLst>
              <a:gd name="adj1" fmla="val 50000"/>
              <a:gd name="adj2" fmla="val 563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90800">
            <a:off x="4495320" y="44956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90800">
            <a:off x="2286000" y="44197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90800">
            <a:off x="6629400" y="41911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3396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560" y="3421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9217400">
            <a:off x="4061880" y="219996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809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581280"/>
            <a:ext cx="990720" cy="914400"/>
          </a:xfrm>
          <a:custGeom>
            <a:avLst/>
            <a:gdLst>
              <a:gd name="textAreaLeft" fmla="*/ 186480 w 990720"/>
              <a:gd name="textAreaRight" fmla="*/ 804240 w 990720"/>
              <a:gd name="textAreaTop" fmla="*/ 172080 h 914400"/>
              <a:gd name="textAreaBottom" fmla="*/ 742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74" y="14366"/>
                </a:lnTo>
                <a:lnTo>
                  <a:pt x="3163" y="18437"/>
                </a:lnTo>
                <a:lnTo>
                  <a:pt x="7081" y="19562"/>
                </a:lnTo>
                <a:lnTo>
                  <a:pt x="10800" y="21600"/>
                </a:lnTo>
                <a:lnTo>
                  <a:pt x="14366" y="19626"/>
                </a:lnTo>
                <a:lnTo>
                  <a:pt x="18437" y="18437"/>
                </a:lnTo>
                <a:lnTo>
                  <a:pt x="19562" y="14519"/>
                </a:lnTo>
                <a:lnTo>
                  <a:pt x="21600" y="10800"/>
                </a:lnTo>
                <a:lnTo>
                  <a:pt x="19626" y="7234"/>
                </a:lnTo>
                <a:lnTo>
                  <a:pt x="18437" y="3163"/>
                </a:lnTo>
                <a:lnTo>
                  <a:pt x="14519" y="2038"/>
                </a:lnTo>
                <a:lnTo>
                  <a:pt x="10800" y="0"/>
                </a:lnTo>
                <a:lnTo>
                  <a:pt x="7234" y="1974"/>
                </a:lnTo>
                <a:lnTo>
                  <a:pt x="3163" y="3163"/>
                </a:lnTo>
                <a:lnTo>
                  <a:pt x="2038" y="7081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733920"/>
            <a:ext cx="802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863720"/>
            <a:ext cx="891540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Visual rad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ibers representing information from contra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uperior quadr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Temporal/parietal-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language-dominant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hemi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ernicke’s and other areas for language compreh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osterior parietal -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nondominant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hemi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eas for 3-D visuospatial perceptions of self and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eas for interpreting emo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14800" y="20368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457200"/>
            <a:ext cx="8610480" cy="1219320"/>
          </a:xfrm>
          <a:custGeom>
            <a:avLst/>
            <a:gdLst>
              <a:gd name="textAreaLeft" fmla="*/ 78840 w 8610480"/>
              <a:gd name="textAreaRight" fmla="*/ 8531640 w 86104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52494" h="21600">
                <a:moveTo>
                  <a:pt x="0" y="0"/>
                </a:moveTo>
                <a:lnTo>
                  <a:pt x="152494" y="0"/>
                </a:lnTo>
                <a:lnTo>
                  <a:pt x="152494" y="21600"/>
                </a:lnTo>
                <a:lnTo>
                  <a:pt x="0" y="21600"/>
                </a:lnTo>
                <a:close/>
              </a:path>
              <a:path fill="lightenLess" w="152494" h="21600">
                <a:moveTo>
                  <a:pt x="0" y="0"/>
                </a:moveTo>
                <a:lnTo>
                  <a:pt x="152494" y="0"/>
                </a:lnTo>
                <a:lnTo>
                  <a:pt x="151094" y="1400"/>
                </a:lnTo>
                <a:lnTo>
                  <a:pt x="1400" y="1400"/>
                </a:lnTo>
                <a:close/>
              </a:path>
              <a:path fill="darken" w="152494" h="21600">
                <a:moveTo>
                  <a:pt x="152494" y="0"/>
                </a:moveTo>
                <a:lnTo>
                  <a:pt x="152494" y="21600"/>
                </a:lnTo>
                <a:lnTo>
                  <a:pt x="151094" y="20200"/>
                </a:lnTo>
                <a:lnTo>
                  <a:pt x="151094" y="1400"/>
                </a:lnTo>
                <a:close/>
              </a:path>
              <a:path fill="darkenLess" w="152494" h="21600">
                <a:moveTo>
                  <a:pt x="152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094" y="20200"/>
                </a:lnTo>
                <a:close/>
              </a:path>
              <a:path fill="lighten" w="152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rtebral-Basilar Cir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regions suppl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69048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rot="13292400">
            <a:off x="4800240" y="358092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3292400">
            <a:off x="4876560" y="411444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90800">
            <a:off x="5289480" y="496728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4828800">
            <a:off x="4160880" y="414396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8217600">
            <a:off x="4450680" y="283320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26760" y="37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70d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90800">
            <a:off x="5181120" y="51814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90800">
            <a:off x="3809520" y="47242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90800">
            <a:off x="2819520" y="4800600"/>
            <a:ext cx="196560" cy="442800"/>
          </a:xfrm>
          <a:prstGeom prst="upArrow">
            <a:avLst>
              <a:gd name="adj1" fmla="val 50000"/>
              <a:gd name="adj2" fmla="val 563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90800">
            <a:off x="4495320" y="44956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90800">
            <a:off x="2286000" y="44197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90800">
            <a:off x="6629400" y="41911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3396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560" y="3421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9217400">
            <a:off x="4061880" y="219996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3809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3581280"/>
            <a:ext cx="990720" cy="914400"/>
          </a:xfrm>
          <a:custGeom>
            <a:avLst/>
            <a:gdLst>
              <a:gd name="textAreaLeft" fmla="*/ 186480 w 990720"/>
              <a:gd name="textAreaRight" fmla="*/ 804240 w 990720"/>
              <a:gd name="textAreaTop" fmla="*/ 172080 h 914400"/>
              <a:gd name="textAreaBottom" fmla="*/ 742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74" y="14366"/>
                </a:lnTo>
                <a:lnTo>
                  <a:pt x="3163" y="18437"/>
                </a:lnTo>
                <a:lnTo>
                  <a:pt x="7081" y="19562"/>
                </a:lnTo>
                <a:lnTo>
                  <a:pt x="10800" y="21600"/>
                </a:lnTo>
                <a:lnTo>
                  <a:pt x="14366" y="19626"/>
                </a:lnTo>
                <a:lnTo>
                  <a:pt x="18437" y="18437"/>
                </a:lnTo>
                <a:lnTo>
                  <a:pt x="19562" y="14519"/>
                </a:lnTo>
                <a:lnTo>
                  <a:pt x="21600" y="10800"/>
                </a:lnTo>
                <a:lnTo>
                  <a:pt x="19626" y="7234"/>
                </a:lnTo>
                <a:lnTo>
                  <a:pt x="18437" y="3163"/>
                </a:lnTo>
                <a:lnTo>
                  <a:pt x="14519" y="2038"/>
                </a:lnTo>
                <a:lnTo>
                  <a:pt x="10800" y="0"/>
                </a:lnTo>
                <a:lnTo>
                  <a:pt x="7234" y="1974"/>
                </a:lnTo>
                <a:lnTo>
                  <a:pt x="3163" y="3163"/>
                </a:lnTo>
                <a:lnTo>
                  <a:pt x="2038" y="7081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3733920"/>
            <a:ext cx="802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981080"/>
            <a:ext cx="8610480" cy="48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Upper cervical spin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Brainstem and cerebel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ost of thalamus and hypothal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ortex and deep white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osterior medial parietal 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edial and infrior temporal and occipital 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Splenium of corpus callos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2280" y="457200"/>
            <a:ext cx="8001000" cy="1219320"/>
          </a:xfrm>
          <a:custGeom>
            <a:avLst/>
            <a:gdLst>
              <a:gd name="textAreaLeft" fmla="*/ 78840 w 8001000"/>
              <a:gd name="textAreaRight" fmla="*/ 7922160 w 80010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41701" h="21600">
                <a:moveTo>
                  <a:pt x="0" y="0"/>
                </a:moveTo>
                <a:lnTo>
                  <a:pt x="141701" y="0"/>
                </a:lnTo>
                <a:lnTo>
                  <a:pt x="141701" y="21600"/>
                </a:lnTo>
                <a:lnTo>
                  <a:pt x="0" y="21600"/>
                </a:lnTo>
                <a:close/>
              </a:path>
              <a:path fill="lightenLess" w="141701" h="21600">
                <a:moveTo>
                  <a:pt x="0" y="0"/>
                </a:moveTo>
                <a:lnTo>
                  <a:pt x="141701" y="0"/>
                </a:lnTo>
                <a:lnTo>
                  <a:pt x="140301" y="1400"/>
                </a:lnTo>
                <a:lnTo>
                  <a:pt x="1400" y="1400"/>
                </a:lnTo>
                <a:close/>
              </a:path>
              <a:path fill="darken" w="141701" h="21600">
                <a:moveTo>
                  <a:pt x="141701" y="0"/>
                </a:moveTo>
                <a:lnTo>
                  <a:pt x="141701" y="21600"/>
                </a:lnTo>
                <a:lnTo>
                  <a:pt x="140301" y="20200"/>
                </a:lnTo>
                <a:lnTo>
                  <a:pt x="140301" y="1400"/>
                </a:lnTo>
                <a:close/>
              </a:path>
              <a:path fill="darkenLess" w="141701" h="21600">
                <a:moveTo>
                  <a:pt x="14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301" y="20200"/>
                </a:lnTo>
                <a:close/>
              </a:path>
              <a:path fill="lighten" w="14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unctional areas suppl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38080" y="614520"/>
            <a:ext cx="1143000" cy="909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rot="13292400">
            <a:off x="4800240" y="358092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3292400">
            <a:off x="4876560" y="411444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90800">
            <a:off x="5289480" y="496728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4828800">
            <a:off x="4160880" y="414396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8217600">
            <a:off x="4450680" y="283320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26760" y="37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70d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90800">
            <a:off x="5181120" y="51814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90800">
            <a:off x="3809520" y="47242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90800">
            <a:off x="2819520" y="4800600"/>
            <a:ext cx="196560" cy="442800"/>
          </a:xfrm>
          <a:prstGeom prst="upArrow">
            <a:avLst>
              <a:gd name="adj1" fmla="val 50000"/>
              <a:gd name="adj2" fmla="val 563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90800">
            <a:off x="4495320" y="44956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90800">
            <a:off x="2286000" y="44197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90800">
            <a:off x="6629400" y="41911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3396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560" y="3421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9217400">
            <a:off x="4061880" y="219996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3809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3581280"/>
            <a:ext cx="990720" cy="914400"/>
          </a:xfrm>
          <a:custGeom>
            <a:avLst/>
            <a:gdLst>
              <a:gd name="textAreaLeft" fmla="*/ 186480 w 990720"/>
              <a:gd name="textAreaRight" fmla="*/ 804240 w 990720"/>
              <a:gd name="textAreaTop" fmla="*/ 172080 h 914400"/>
              <a:gd name="textAreaBottom" fmla="*/ 742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74" y="14366"/>
                </a:lnTo>
                <a:lnTo>
                  <a:pt x="3163" y="18437"/>
                </a:lnTo>
                <a:lnTo>
                  <a:pt x="7081" y="19562"/>
                </a:lnTo>
                <a:lnTo>
                  <a:pt x="10800" y="21600"/>
                </a:lnTo>
                <a:lnTo>
                  <a:pt x="14366" y="19626"/>
                </a:lnTo>
                <a:lnTo>
                  <a:pt x="18437" y="18437"/>
                </a:lnTo>
                <a:lnTo>
                  <a:pt x="19562" y="14519"/>
                </a:lnTo>
                <a:lnTo>
                  <a:pt x="21600" y="10800"/>
                </a:lnTo>
                <a:lnTo>
                  <a:pt x="19626" y="7234"/>
                </a:lnTo>
                <a:lnTo>
                  <a:pt x="18437" y="3163"/>
                </a:lnTo>
                <a:lnTo>
                  <a:pt x="14519" y="2038"/>
                </a:lnTo>
                <a:lnTo>
                  <a:pt x="10800" y="0"/>
                </a:lnTo>
                <a:lnTo>
                  <a:pt x="7234" y="1974"/>
                </a:lnTo>
                <a:lnTo>
                  <a:pt x="3163" y="3163"/>
                </a:lnTo>
                <a:lnTo>
                  <a:pt x="2038" y="7081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3733920"/>
            <a:ext cx="802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981080"/>
            <a:ext cx="861048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By long penetrating bran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alamus, subthalamic nucleus, hypothal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idbr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By cortical branches - parietal and occipital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Visual radiations and primary visual corte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plenium of corpus callos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By cortical branches - medial temporal lo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ippocampal formation and posterior forni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14800" y="20368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457200"/>
            <a:ext cx="8610480" cy="1219320"/>
          </a:xfrm>
          <a:custGeom>
            <a:avLst/>
            <a:gdLst>
              <a:gd name="textAreaLeft" fmla="*/ 78840 w 8610480"/>
              <a:gd name="textAreaRight" fmla="*/ 8531640 w 86104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52494" h="21600">
                <a:moveTo>
                  <a:pt x="0" y="0"/>
                </a:moveTo>
                <a:lnTo>
                  <a:pt x="152494" y="0"/>
                </a:lnTo>
                <a:lnTo>
                  <a:pt x="152494" y="21600"/>
                </a:lnTo>
                <a:lnTo>
                  <a:pt x="0" y="21600"/>
                </a:lnTo>
                <a:close/>
              </a:path>
              <a:path fill="lightenLess" w="152494" h="21600">
                <a:moveTo>
                  <a:pt x="0" y="0"/>
                </a:moveTo>
                <a:lnTo>
                  <a:pt x="152494" y="0"/>
                </a:lnTo>
                <a:lnTo>
                  <a:pt x="151094" y="1400"/>
                </a:lnTo>
                <a:lnTo>
                  <a:pt x="1400" y="1400"/>
                </a:lnTo>
                <a:close/>
              </a:path>
              <a:path fill="darken" w="152494" h="21600">
                <a:moveTo>
                  <a:pt x="152494" y="0"/>
                </a:moveTo>
                <a:lnTo>
                  <a:pt x="152494" y="21600"/>
                </a:lnTo>
                <a:lnTo>
                  <a:pt x="151094" y="20200"/>
                </a:lnTo>
                <a:lnTo>
                  <a:pt x="151094" y="1400"/>
                </a:lnTo>
                <a:close/>
              </a:path>
              <a:path fill="darkenLess" w="152494" h="21600">
                <a:moveTo>
                  <a:pt x="152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094" y="20200"/>
                </a:lnTo>
                <a:close/>
              </a:path>
              <a:path fill="lighten" w="152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on Anastomo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teral circulation may prevent isch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rot="13292400">
            <a:off x="4800240" y="358092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3292400">
            <a:off x="4876560" y="411444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90800">
            <a:off x="5289480" y="496728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4828800">
            <a:off x="4160880" y="414396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8217600">
            <a:off x="4450680" y="283320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26760" y="37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70d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90800">
            <a:off x="5181120" y="51814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90800">
            <a:off x="3809520" y="47242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90800">
            <a:off x="2819520" y="4800600"/>
            <a:ext cx="196560" cy="442800"/>
          </a:xfrm>
          <a:prstGeom prst="upArrow">
            <a:avLst>
              <a:gd name="adj1" fmla="val 50000"/>
              <a:gd name="adj2" fmla="val 563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90800">
            <a:off x="4495320" y="44956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90800">
            <a:off x="2286000" y="44197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90800">
            <a:off x="6629400" y="41911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3396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19560" y="3421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9217400">
            <a:off x="4061880" y="219996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3809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3581280"/>
            <a:ext cx="990720" cy="914400"/>
          </a:xfrm>
          <a:custGeom>
            <a:avLst/>
            <a:gdLst>
              <a:gd name="textAreaLeft" fmla="*/ 186480 w 990720"/>
              <a:gd name="textAreaRight" fmla="*/ 804240 w 990720"/>
              <a:gd name="textAreaTop" fmla="*/ 172080 h 914400"/>
              <a:gd name="textAreaBottom" fmla="*/ 742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74" y="14366"/>
                </a:lnTo>
                <a:lnTo>
                  <a:pt x="3163" y="18437"/>
                </a:lnTo>
                <a:lnTo>
                  <a:pt x="7081" y="19562"/>
                </a:lnTo>
                <a:lnTo>
                  <a:pt x="10800" y="21600"/>
                </a:lnTo>
                <a:lnTo>
                  <a:pt x="14366" y="19626"/>
                </a:lnTo>
                <a:lnTo>
                  <a:pt x="18437" y="18437"/>
                </a:lnTo>
                <a:lnTo>
                  <a:pt x="19562" y="14519"/>
                </a:lnTo>
                <a:lnTo>
                  <a:pt x="21600" y="10800"/>
                </a:lnTo>
                <a:lnTo>
                  <a:pt x="19626" y="7234"/>
                </a:lnTo>
                <a:lnTo>
                  <a:pt x="18437" y="3163"/>
                </a:lnTo>
                <a:lnTo>
                  <a:pt x="14519" y="2038"/>
                </a:lnTo>
                <a:lnTo>
                  <a:pt x="10800" y="0"/>
                </a:lnTo>
                <a:lnTo>
                  <a:pt x="7234" y="1974"/>
                </a:lnTo>
                <a:lnTo>
                  <a:pt x="3163" y="3163"/>
                </a:lnTo>
                <a:lnTo>
                  <a:pt x="2038" y="7081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3733920"/>
            <a:ext cx="802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981080"/>
            <a:ext cx="861048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External-internal carotid via ophthalmic bran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ircle of Wil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uscular branches of cervical arteries-verteb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or external carotid art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Short cortical branches of ACA, MCA, P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Branches of the major cerebellar art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457200"/>
            <a:ext cx="8610480" cy="1219320"/>
          </a:xfrm>
          <a:custGeom>
            <a:avLst/>
            <a:gdLst>
              <a:gd name="textAreaLeft" fmla="*/ 78840 w 8610480"/>
              <a:gd name="textAreaRight" fmla="*/ 8531640 w 86104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52494" h="21600">
                <a:moveTo>
                  <a:pt x="0" y="0"/>
                </a:moveTo>
                <a:lnTo>
                  <a:pt x="152494" y="0"/>
                </a:lnTo>
                <a:lnTo>
                  <a:pt x="152494" y="21600"/>
                </a:lnTo>
                <a:lnTo>
                  <a:pt x="0" y="21600"/>
                </a:lnTo>
                <a:close/>
              </a:path>
              <a:path fill="lightenLess" w="152494" h="21600">
                <a:moveTo>
                  <a:pt x="0" y="0"/>
                </a:moveTo>
                <a:lnTo>
                  <a:pt x="152494" y="0"/>
                </a:lnTo>
                <a:lnTo>
                  <a:pt x="151094" y="1400"/>
                </a:lnTo>
                <a:lnTo>
                  <a:pt x="1400" y="1400"/>
                </a:lnTo>
                <a:close/>
              </a:path>
              <a:path fill="darken" w="152494" h="21600">
                <a:moveTo>
                  <a:pt x="152494" y="0"/>
                </a:moveTo>
                <a:lnTo>
                  <a:pt x="152494" y="21600"/>
                </a:lnTo>
                <a:lnTo>
                  <a:pt x="151094" y="20200"/>
                </a:lnTo>
                <a:lnTo>
                  <a:pt x="151094" y="1400"/>
                </a:lnTo>
                <a:close/>
              </a:path>
              <a:path fill="darkenLess" w="152494" h="21600">
                <a:moveTo>
                  <a:pt x="152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094" y="20200"/>
                </a:lnTo>
                <a:close/>
              </a:path>
              <a:path fill="lighten" w="152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A-MCA Border Z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unctional areas that may be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rot="13292400">
            <a:off x="4800240" y="358092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3292400">
            <a:off x="4876560" y="411444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90800">
            <a:off x="5289480" y="496728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4828800">
            <a:off x="4160880" y="414396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8217600">
            <a:off x="4450680" y="283320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26760" y="37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70d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90800">
            <a:off x="5181120" y="51814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90800">
            <a:off x="3809520" y="47242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90800">
            <a:off x="2819520" y="4800600"/>
            <a:ext cx="196560" cy="442800"/>
          </a:xfrm>
          <a:prstGeom prst="upArrow">
            <a:avLst>
              <a:gd name="adj1" fmla="val 50000"/>
              <a:gd name="adj2" fmla="val 563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90800">
            <a:off x="4495320" y="44956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90800">
            <a:off x="2286000" y="44197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90800">
            <a:off x="6629400" y="41911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3396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19560" y="3421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9217400">
            <a:off x="4061880" y="219996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3809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3581280"/>
            <a:ext cx="990720" cy="914400"/>
          </a:xfrm>
          <a:custGeom>
            <a:avLst/>
            <a:gdLst>
              <a:gd name="textAreaLeft" fmla="*/ 186480 w 990720"/>
              <a:gd name="textAreaRight" fmla="*/ 804240 w 990720"/>
              <a:gd name="textAreaTop" fmla="*/ 172080 h 914400"/>
              <a:gd name="textAreaBottom" fmla="*/ 742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74" y="14366"/>
                </a:lnTo>
                <a:lnTo>
                  <a:pt x="3163" y="18437"/>
                </a:lnTo>
                <a:lnTo>
                  <a:pt x="7081" y="19562"/>
                </a:lnTo>
                <a:lnTo>
                  <a:pt x="10800" y="21600"/>
                </a:lnTo>
                <a:lnTo>
                  <a:pt x="14366" y="19626"/>
                </a:lnTo>
                <a:lnTo>
                  <a:pt x="18437" y="18437"/>
                </a:lnTo>
                <a:lnTo>
                  <a:pt x="19562" y="14519"/>
                </a:lnTo>
                <a:lnTo>
                  <a:pt x="21600" y="10800"/>
                </a:lnTo>
                <a:lnTo>
                  <a:pt x="19626" y="7234"/>
                </a:lnTo>
                <a:lnTo>
                  <a:pt x="18437" y="3163"/>
                </a:lnTo>
                <a:lnTo>
                  <a:pt x="14519" y="2038"/>
                </a:lnTo>
                <a:lnTo>
                  <a:pt x="10800" y="0"/>
                </a:lnTo>
                <a:lnTo>
                  <a:pt x="7234" y="1974"/>
                </a:lnTo>
                <a:lnTo>
                  <a:pt x="3163" y="3163"/>
                </a:lnTo>
                <a:lnTo>
                  <a:pt x="2038" y="7081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733920"/>
            <a:ext cx="802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2119320"/>
            <a:ext cx="861084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Hip or shoulder (occasionally arm) regions of primary motor or somatosensory co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Regions involved in aspects of language production (in the dominant hemisp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Frontal Eye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otor planning areas in frontal lo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457200"/>
            <a:ext cx="8610480" cy="1219320"/>
          </a:xfrm>
          <a:custGeom>
            <a:avLst/>
            <a:gdLst>
              <a:gd name="textAreaLeft" fmla="*/ 78840 w 8610480"/>
              <a:gd name="textAreaRight" fmla="*/ 8531640 w 86104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52494" h="21600">
                <a:moveTo>
                  <a:pt x="0" y="0"/>
                </a:moveTo>
                <a:lnTo>
                  <a:pt x="152494" y="0"/>
                </a:lnTo>
                <a:lnTo>
                  <a:pt x="152494" y="21600"/>
                </a:lnTo>
                <a:lnTo>
                  <a:pt x="0" y="21600"/>
                </a:lnTo>
                <a:close/>
              </a:path>
              <a:path fill="lightenLess" w="152494" h="21600">
                <a:moveTo>
                  <a:pt x="0" y="0"/>
                </a:moveTo>
                <a:lnTo>
                  <a:pt x="152494" y="0"/>
                </a:lnTo>
                <a:lnTo>
                  <a:pt x="151094" y="1400"/>
                </a:lnTo>
                <a:lnTo>
                  <a:pt x="1400" y="1400"/>
                </a:lnTo>
                <a:close/>
              </a:path>
              <a:path fill="darken" w="152494" h="21600">
                <a:moveTo>
                  <a:pt x="152494" y="0"/>
                </a:moveTo>
                <a:lnTo>
                  <a:pt x="152494" y="21600"/>
                </a:lnTo>
                <a:lnTo>
                  <a:pt x="151094" y="20200"/>
                </a:lnTo>
                <a:lnTo>
                  <a:pt x="151094" y="1400"/>
                </a:lnTo>
                <a:close/>
              </a:path>
              <a:path fill="darkenLess" w="152494" h="21600">
                <a:moveTo>
                  <a:pt x="152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094" y="20200"/>
                </a:lnTo>
                <a:close/>
              </a:path>
              <a:path fill="lighten" w="152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A/MCA-PCA Border Z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unctional areas that may be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 rot="13292400">
            <a:off x="4800240" y="358092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3292400">
            <a:off x="4876560" y="411444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90800">
            <a:off x="5289480" y="496728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4828800">
            <a:off x="4160880" y="414396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8217600">
            <a:off x="4450680" y="283320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26760" y="37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70d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90800">
            <a:off x="5181120" y="51814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90800">
            <a:off x="3809520" y="47242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90800">
            <a:off x="2819520" y="4800600"/>
            <a:ext cx="196560" cy="442800"/>
          </a:xfrm>
          <a:prstGeom prst="upArrow">
            <a:avLst>
              <a:gd name="adj1" fmla="val 50000"/>
              <a:gd name="adj2" fmla="val 563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90800">
            <a:off x="4495320" y="44956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90800">
            <a:off x="2286000" y="44197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90800">
            <a:off x="6629400" y="41911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3396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9560" y="3421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9217400">
            <a:off x="4061880" y="219996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3809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3581280"/>
            <a:ext cx="990720" cy="914400"/>
          </a:xfrm>
          <a:custGeom>
            <a:avLst/>
            <a:gdLst>
              <a:gd name="textAreaLeft" fmla="*/ 186480 w 990720"/>
              <a:gd name="textAreaRight" fmla="*/ 804240 w 990720"/>
              <a:gd name="textAreaTop" fmla="*/ 172080 h 914400"/>
              <a:gd name="textAreaBottom" fmla="*/ 742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74" y="14366"/>
                </a:lnTo>
                <a:lnTo>
                  <a:pt x="3163" y="18437"/>
                </a:lnTo>
                <a:lnTo>
                  <a:pt x="7081" y="19562"/>
                </a:lnTo>
                <a:lnTo>
                  <a:pt x="10800" y="21600"/>
                </a:lnTo>
                <a:lnTo>
                  <a:pt x="14366" y="19626"/>
                </a:lnTo>
                <a:lnTo>
                  <a:pt x="18437" y="18437"/>
                </a:lnTo>
                <a:lnTo>
                  <a:pt x="19562" y="14519"/>
                </a:lnTo>
                <a:lnTo>
                  <a:pt x="21600" y="10800"/>
                </a:lnTo>
                <a:lnTo>
                  <a:pt x="19626" y="7234"/>
                </a:lnTo>
                <a:lnTo>
                  <a:pt x="18437" y="3163"/>
                </a:lnTo>
                <a:lnTo>
                  <a:pt x="14519" y="2038"/>
                </a:lnTo>
                <a:lnTo>
                  <a:pt x="10800" y="0"/>
                </a:lnTo>
                <a:lnTo>
                  <a:pt x="7234" y="1974"/>
                </a:lnTo>
                <a:lnTo>
                  <a:pt x="3163" y="3163"/>
                </a:lnTo>
                <a:lnTo>
                  <a:pt x="2038" y="7081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733920"/>
            <a:ext cx="802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2119320"/>
            <a:ext cx="8763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Visual rad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Foveal representation in the primary visual co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Inferior temporal lobe cortex for visual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Regions for language comprehension and word finding (possibly reading) in dominant hemi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Regions important for visuospatial perceptions in parietal lobe of nondominant hemi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9T14:00:38Z</dcterms:created>
  <dc:creator>Macintosh User</dc:creator>
  <dc:description/>
  <dc:language>en-US</dc:language>
  <cp:lastModifiedBy>Macintosh User</cp:lastModifiedBy>
  <dcterms:modified xsi:type="dcterms:W3CDTF">2000-12-15T13:04:14Z</dcterms:modified>
  <cp:revision>22</cp:revision>
  <dc:subject/>
  <dc:title>No Slide Title</dc:title>
</cp:coreProperties>
</file>