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87B-C3CB-44BD-BCBD-00788AAF9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DB2-3809-4BA9-8004-DA7EB4C4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8C1-0DB4-4092-B12B-39F84BE52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7C2-6746-4AF8-B987-2CCA5A3C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1F1-B9D6-40D1-B4F5-D50F5CF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EAC-5C40-49DE-8215-EB0F91FB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93F-54A7-4EF1-878C-7912859A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1DC6-3C07-4369-9429-DD926C64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2EBD-EC1F-4EF7-8D70-AE840FE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F7C2-7F26-41C3-B0E3-A4FC68B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F9DD-604E-40C5-B3CB-CE299DD9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B66-72EF-46DB-A6E2-133C1265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E29A-7F6C-4735-AA65-E4C46B3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90E5-4848-4C46-815D-F012291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1E7-1479-4BDB-93E5-D75C26A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FEB-371B-4938-9E7B-1A0B7D6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262-68A4-4099-8491-812F193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8EE-1BAB-4827-BD58-23DCC71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DD8-96C5-4D7A-9730-06894C1B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9C71-062D-4A85-A6F7-0B1034C5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958-511B-49B7-A8FE-D8BFFABD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F7C-0400-447C-A01B-75EAAEF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132-7144-4562-832E-833A5E9C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2B1-929E-4813-844F-BFB4C0E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5E8-D9AF-4ED0-ADFD-1390151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2CB-12BB-4E94-8915-2CB97D9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F11-35DB-4192-B258-CB77E48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882-32C5-4144-9126-81C6A6FB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0CF-5AB6-4AAD-B602-A4AEDE49C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2438280"/>
            <a:ext cx="5029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nj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Comic Sans MS"/>
              </a:rPr>
              <a:t>Conjunctions</a:t>
            </a:r>
            <a:br>
              <a:rPr sz="4400"/>
            </a:br>
            <a:br>
              <a:rPr sz="2000"/>
            </a:b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These conjunctions are very common words. They are very small, made up of three or fewer letters.</a:t>
            </a:r>
            <a:r>
              <a:rPr b="1" lang="en-US" sz="2400" spc="-1" strike="noStrike">
                <a:solidFill>
                  <a:srgbClr val="0099cc"/>
                </a:solidFill>
                <a:latin typeface="Antique-Oliv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Each Conj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914400" y="3657600"/>
            <a:ext cx="8001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additio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, or , n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contras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vers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, yet, although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cause   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us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o, thus,  henc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therefor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time sequenc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n, next, af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that, secondly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finall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2"/>
          <p:cNvSpPr/>
          <p:nvPr/>
        </p:nvSpPr>
        <p:spPr>
          <a:xfrm>
            <a:off x="1066680" y="228600"/>
            <a:ext cx="80773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3"/>
          <p:cNvSpPr/>
          <p:nvPr/>
        </p:nvSpPr>
        <p:spPr>
          <a:xfrm>
            <a:off x="1066680" y="1828800"/>
            <a:ext cx="7848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Almost all class showed up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ime for the mid-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was announced ear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ime for the mid-term exam was announced ear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, the second cl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be also moved to begin a sent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مستطيل 1"/>
          <p:cNvSpPr/>
          <p:nvPr/>
        </p:nvSpPr>
        <p:spPr>
          <a:xfrm>
            <a:off x="990720" y="22860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مستطيل 2"/>
          <p:cNvSpPr/>
          <p:nvPr/>
        </p:nvSpPr>
        <p:spPr>
          <a:xfrm>
            <a:off x="914400" y="1905120"/>
            <a:ext cx="81961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henc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مستطيل 1"/>
          <p:cNvSpPr/>
          <p:nvPr/>
        </p:nvSpPr>
        <p:spPr>
          <a:xfrm>
            <a:off x="1049400" y="15228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مستطيل 2"/>
          <p:cNvSpPr/>
          <p:nvPr/>
        </p:nvSpPr>
        <p:spPr>
          <a:xfrm>
            <a:off x="934920" y="2133720"/>
            <a:ext cx="819792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مستطيل 1"/>
          <p:cNvSpPr/>
          <p:nvPr/>
        </p:nvSpPr>
        <p:spPr>
          <a:xfrm>
            <a:off x="990720" y="30492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مستطيل 2"/>
          <p:cNvSpPr/>
          <p:nvPr/>
        </p:nvSpPr>
        <p:spPr>
          <a:xfrm>
            <a:off x="990720" y="1752480"/>
            <a:ext cx="8076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990720" y="0"/>
            <a:ext cx="727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66cc"/>
                </a:solidFill>
                <a:latin typeface="Comic Sans MS"/>
              </a:rPr>
              <a:t>More Conjunctions</a:t>
            </a:r>
            <a:r>
              <a:rPr b="1" lang="en-US" sz="4400" spc="-1" strike="noStrike">
                <a:solidFill>
                  <a:srgbClr val="3366cc"/>
                </a:solidFill>
                <a:latin typeface="Comic Sans MS"/>
              </a:rPr>
              <a:t>...</a:t>
            </a:r>
            <a:br>
              <a:rPr sz="2000"/>
            </a:b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These are likely used less often; however, they serve an important function.</a:t>
            </a:r>
            <a:r>
              <a:rPr b="1" lang="en-US" sz="2400" spc="-1" strike="noStrike">
                <a:solidFill>
                  <a:srgbClr val="0099cc"/>
                </a:solidFill>
                <a:latin typeface="Antique-Oliv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85800" y="2362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Each Conj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270320" y="2286000"/>
            <a:ext cx="4191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41320" y="3200400"/>
            <a:ext cx="830592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use 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s a result (of tha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n consequence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onsequentl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USER</cp:lastModifiedBy>
  <cp:lastPrinted>2005-06-10T16:41:19Z</cp:lastPrinted>
  <dcterms:modified xsi:type="dcterms:W3CDTF">2007-12-31T21:35:02Z</dcterms:modified>
  <cp:revision>97</cp:revision>
  <dc:subject/>
  <dc:title>No Slide Title</dc:title>
</cp:coreProperties>
</file>