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B412-9611-447B-9DF5-26359E0C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74E-275F-4C6F-8B00-30CEF558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0BC2-48E1-4043-B18F-8D6F17FD8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3B8-225C-4828-A862-001072B2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F7D-1D72-4679-9756-AE891B9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24C-8275-4173-B50F-B35010C1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208-6ECF-41D7-B10C-2246B4DF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3B4-E1D4-44E2-A0B8-8A0A0A13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A01-8B34-4E70-9F6A-9A9E3DEE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27F3-257B-4772-892C-8073A27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F7A6-F906-42B3-9305-CAE95946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524-78E2-4F24-937B-3D6FAA0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4D33-061F-464F-A81B-2412D42B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7965-4A26-41D5-999B-737B589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FE2-B9C8-4E15-9E32-1B8A597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11573-DA0D-4BDC-BCFF-A0BD49B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52D-EEA3-463C-A5F5-C6DDA6A3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AFDD-4E3F-4EED-8D8E-3B4940A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8E0-B18C-434A-8C39-368CCDF9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1B8-361D-4C0B-A58B-8162275A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439-70C2-4339-83CD-251FBF14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4C5-ECA7-4FA6-98B5-415C8F0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A02-A9D3-4CF2-B19B-B47C608A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992-1F18-47F8-B86E-D1949E08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3C8-EF1D-4BF4-8ADA-4A76087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C13-D540-41A2-8E31-D20FE1F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97B-D021-4645-8CA6-E8C281B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C02B-A013-4645-8EA4-34790C1AA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D92D-DE83-41B6-AA61-50E08D96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2438280"/>
            <a:ext cx="5029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nj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Comic Sans MS"/>
              </a:rPr>
              <a:t>Conjunctions</a:t>
            </a:r>
            <a:br>
              <a:rPr sz="4400"/>
            </a:br>
            <a:br>
              <a:rPr sz="2000"/>
            </a:b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These conjunctions are very common words. They are very small, made up of three or fewer letters.</a:t>
            </a:r>
            <a:r>
              <a:rPr b="1" lang="en-US" sz="2400" spc="-1" strike="noStrike">
                <a:solidFill>
                  <a:srgbClr val="0099cc"/>
                </a:solidFill>
                <a:latin typeface="Antique-Olive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819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Each Conj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2880" y="2514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914400" y="3657600"/>
            <a:ext cx="800100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additio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di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, or , n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contrast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dvers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, yet, although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cause   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us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so, thus,  henc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therefor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time sequenc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n, next, af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that, secondly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 finall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2"/>
          <p:cNvSpPr/>
          <p:nvPr/>
        </p:nvSpPr>
        <p:spPr>
          <a:xfrm>
            <a:off x="1066680" y="228600"/>
            <a:ext cx="807732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3"/>
          <p:cNvSpPr/>
          <p:nvPr/>
        </p:nvSpPr>
        <p:spPr>
          <a:xfrm>
            <a:off x="1066680" y="1828800"/>
            <a:ext cx="78487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Almost all class showed up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ime for the mid-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 was announced ear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ime for the mid-term exam was announced ear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, the second clau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be also moved to begin a sent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مستطيل 1"/>
          <p:cNvSpPr/>
          <p:nvPr/>
        </p:nvSpPr>
        <p:spPr>
          <a:xfrm>
            <a:off x="990720" y="22860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مستطيل 2"/>
          <p:cNvSpPr/>
          <p:nvPr/>
        </p:nvSpPr>
        <p:spPr>
          <a:xfrm>
            <a:off x="914400" y="1905120"/>
            <a:ext cx="81961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henc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Henc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مستطيل 1"/>
          <p:cNvSpPr/>
          <p:nvPr/>
        </p:nvSpPr>
        <p:spPr>
          <a:xfrm>
            <a:off x="1049400" y="15228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مستطيل 2"/>
          <p:cNvSpPr/>
          <p:nvPr/>
        </p:nvSpPr>
        <p:spPr>
          <a:xfrm>
            <a:off x="934920" y="2133720"/>
            <a:ext cx="819792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th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u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مستطيل 1"/>
          <p:cNvSpPr/>
          <p:nvPr/>
        </p:nvSpPr>
        <p:spPr>
          <a:xfrm>
            <a:off x="990720" y="304920"/>
            <a:ext cx="79246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njunctions con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conjunctions i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مستطيل 2"/>
          <p:cNvSpPr/>
          <p:nvPr/>
        </p:nvSpPr>
        <p:spPr>
          <a:xfrm>
            <a:off x="990720" y="1752480"/>
            <a:ext cx="8076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most all class showed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 initially begin the second claus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, (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initially begin the second clause aft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time for the mid-term exam was announced earl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class showed up,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refo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n also end the second clause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990720" y="0"/>
            <a:ext cx="727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66cc"/>
                </a:solidFill>
                <a:latin typeface="Comic Sans MS"/>
              </a:rPr>
              <a:t>More Conjunctions</a:t>
            </a:r>
            <a:r>
              <a:rPr b="1" lang="en-US" sz="4400" spc="-1" strike="noStrike">
                <a:solidFill>
                  <a:srgbClr val="3366cc"/>
                </a:solidFill>
                <a:latin typeface="Comic Sans MS"/>
              </a:rPr>
              <a:t>...</a:t>
            </a:r>
            <a:br>
              <a:rPr sz="2000"/>
            </a:br>
            <a:r>
              <a:rPr b="0" lang="en-US" sz="2400" spc="-1" strike="noStrike">
                <a:solidFill>
                  <a:srgbClr val="0099cc"/>
                </a:solidFill>
                <a:latin typeface="Comic Sans MS"/>
              </a:rPr>
              <a:t>These are likely used less often; however, they serve an important function.</a:t>
            </a:r>
            <a:r>
              <a:rPr b="1" lang="en-US" sz="2400" spc="-1" strike="noStrike">
                <a:solidFill>
                  <a:srgbClr val="0099cc"/>
                </a:solidFill>
                <a:latin typeface="Antique-Oliv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85800" y="2362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o Use Each Conj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270320" y="2286000"/>
            <a:ext cx="41911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841320" y="3200400"/>
            <a:ext cx="830592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Function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onj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munica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use 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s a result (of tha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esult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in consequence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onsequently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USER</cp:lastModifiedBy>
  <cp:lastPrinted>2005-06-10T16:41:19Z</cp:lastPrinted>
  <dcterms:modified xsi:type="dcterms:W3CDTF">2007-12-31T21:35:02Z</dcterms:modified>
  <cp:revision>97</cp:revision>
  <dc:subject/>
  <dc:title>No Slide Title</dc:title>
</cp:coreProperties>
</file>