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40.wmf" ContentType="image/x-wmf"/>
  <Override PartName="/ppt/media/image37.png" ContentType="image/png"/>
  <Override PartName="/ppt/media/image3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.wmf" ContentType="image/x-wmf"/>
  <Override PartName="/ppt/media/image28.png" ContentType="image/png"/>
  <Override PartName="/ppt/media/image7.jpeg" ContentType="image/jpeg"/>
  <Override PartName="/ppt/media/image38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5F18-AC8E-40C3-8CCF-7D27C5CE5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7A87-902B-4E38-99E4-27E053A12D4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is book is to help the student become computer lite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ent in computer–related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is to be valuable immediately to a potential emplo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one gives an overview of an inform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ystem consists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D32D-BAA4-467B-A368-C834286A4B9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types of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frame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compu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mpu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k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ptop or note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t 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held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m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digital assistants (P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CE16-089B-404A-9860-37578E77979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is an example of a Cray super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cooling apparatus is required because of the heat generated during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jor reason for its processing speed is short connection wires throughout the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ourse, shorter wires means faster byte transfe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computers are the most powerful type of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SA uses supercomputers to track and control space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1010-D88F-401E-973F-CC70854A694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6668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frames occupy specially wired, air-conditioned ro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s powerful as super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rance, financial and equity industries, as well as governments all process large amounts of information on mainfr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D455-6806-4AE3-9BD5-8C2A10EC38B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refrigerator-sized 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departments use minicomputers to monitor certain manufacturing processes and assembly lin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is most current desktops have capacity of many mini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6B0E-2F1A-4FEE-9444-A6862D520D2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powerful computers, but most widely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growing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mpu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k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ptop or note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t 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held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m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digital assistants (P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begin discussing the microcomputer and wireless 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0DDA-24A8-469B-9758-B405F284195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mpu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k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ptop or note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t 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held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m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digital assistants (P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2946-A4DF-4014-8A4A-6AD5B9D65D6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but not a lap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begin discussing the type(s) of desktop computer(s) they are using or familia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2170-B6A0-485A-81D5-F046CE53E80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book computers are also known as lap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begin discussing the type(s) of notebook or laptop computer(s) they are using or familia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78B9-CA68-49E5-B3EE-46CF486A9AB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s hand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if they are familiar with tablet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A166-B1B7-40E8-AC69-97564FC188D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digital assistants (PDA) are the most widely used handheld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if they are familiar with palm computers or P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5304-DFD3-47C2-8686-E6084F6B7EF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B89D-3171-4072-9AD6-8F5C5F168F1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s - Monitors include LCD panels and traditional CRTs. Current trends regarding monitors; sizes depending upon use of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p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ms - equipment that modifies telephone communications into a form that can be processed by a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A2F9-AE86-47C4-A85F-4EB9BE33ACC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facts about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d in files for documents, worksheets, and data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 files - usually created by word proces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files - electronic spread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 files - electronic database management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files - electronic slide sh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F48F-CAAE-46D1-A3B1-CE52DBF49A1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processors are used to prepare written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text-base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flexible and widely used software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to make entering, editing, and formatting documents ea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C4F0-8D3A-4723-8EF4-60463852ECE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spreadsheet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functions and formulas to analyze numeric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es numeric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include workbooks, worksheets, cells, ranges, text and numeric entries, formulas, functions, charts, recalculation, and what-i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9D65-3F82-4A77-AEDA-A41D0EBB66E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atabase management system (DBMS) or database manager is a program that sets up, or structures, a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s created by database management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es data for efficient retrie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electronic equivalent of a file cabi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lso provides tools to enter, edit, and retrieve data from the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B702-8B5E-46D7-BE6B-2430C70B96D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reate a variety of visual objects to create attractive, visually interesting pres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include slides, AutoContent wizard, color schemes, slide layouts, special effects, master slides, and design tem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files may contain audience handouts, speaker notes, and electronic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B8F2-433A-426F-A741-37BF270C5FF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vity is the capability of your microcomputer to share information with other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/mobile communication devices are more popular than e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twork is central to the concept of 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questions about the Internet. Here are some fa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owns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Internet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net is a network of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Wide Web (WWW) provides multimedia interface to resources on the Inte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00B0-0892-4414-977C-B397CFA6FAE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information technology means being computer compe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how technology is being used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cipate how technology will be used in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9BA8-99A5-47FC-BAF8-75D616BD054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net and the Web are the two most important technologies of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 can now do extraordinary t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mputers are more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must be careful about protecting their priv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ll organizations rely on inform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4A5B-B2A0-4CC6-9957-B9418C0AA29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1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0A17-3573-4709-A57F-2C2F48F59F7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B5CB-5BE1-49D9-ACDB-6F8651A24BE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1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1EFF-3C78-4BC2-9709-C4E3C5E1FEA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 inform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tudents may think of a system as pertaining to just the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 them that a microcomputer i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an inform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competent end user, one must understand the essentials of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IT stands f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ormatio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F851-463E-4763-874C-021CC3AD341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are the most important part of an inform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ives are touched everyday by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give examples of how they use computer applications throughout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t 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based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Web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 tuners and video cl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 pho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networ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y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 opportun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AA79-C5C9-487F-9541-81F28F1BD4A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differences between application and systems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ce d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soft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377F-1027-4E41-A7B1-DD14DA325B2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 is another name for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s are instructions that tell the computer how to process data into the form you w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kinds of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 single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llection of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 X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 OS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s tasks related to managing computer resour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ce driv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6F59-C66D-4885-9A7E-FF0D0F6973A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-user” software - people who use microcomputer or have access to larger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everyone in today’s workforce and general public have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eople enter commands and typically interact with applica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purpose - basic programs; off-the-sh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purpose - written for an organization’s or business type’s specific purpose; specially writ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8913-4E15-4BF6-88BA-A0677C47585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hardw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drive, keyboard, printer, and modem are different types of computer hard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571F-2217-4A8C-9926-37CD22100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01AE-E040-4CAB-88A1-A6654E3B3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6B3E-805A-4417-9F25-7F1D54B1E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8DA0-FD8C-4BA6-BF34-3519D12E3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3684-1F34-49BB-8956-3706C54F6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C34A-4F63-47FA-BA63-DF9100BD9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E45A-2D1C-4898-B8F4-33CEB7EB3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FD1B-45E8-4113-A9A0-96D836573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3799-899D-4AF4-8201-59BA83575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052E-39C6-4A50-B884-3ADC33C62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6CC3-3279-4F5E-8937-CAECDF05F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AD1C-1F20-4EA2-A3D1-91761CC0A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7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144D55DA-B9D6-47E8-99A0-8B13EBDD8C92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14" descr="Tech-EDlogo"/>
          <p:cNvPicPr/>
          <p:nvPr/>
        </p:nvPicPr>
        <p:blipFill>
          <a:blip r:embed="rId7"/>
          <a:stretch/>
        </p:blipFill>
        <p:spPr>
          <a:xfrm>
            <a:off x="7686720" y="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5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6"/>
          <p:cNvSpPr/>
          <p:nvPr/>
        </p:nvSpPr>
        <p:spPr>
          <a:xfrm>
            <a:off x="0" y="6556320"/>
            <a:ext cx="914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 Technology Education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© 2006 by the McGraw-Hill Companies, Inc.  All rights reserv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image" Target="../media/image2.png"/><Relationship Id="rId4" Type="http://schemas.openxmlformats.org/officeDocument/2006/relationships/slide" Target="slide12.xml"/><Relationship Id="rId5" Type="http://schemas.openxmlformats.org/officeDocument/2006/relationships/image" Target="../media/image2.png"/><Relationship Id="rId6" Type="http://schemas.openxmlformats.org/officeDocument/2006/relationships/slide" Target="slide13.xml"/><Relationship Id="rId7" Type="http://schemas.openxmlformats.org/officeDocument/2006/relationships/image" Target="../media/image2.png"/><Relationship Id="rId8" Type="http://schemas.openxmlformats.org/officeDocument/2006/relationships/slide" Target="slide14.xml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21.png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2.png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3.jpeg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15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6.xml"/><Relationship Id="rId3" Type="http://schemas.openxmlformats.org/officeDocument/2006/relationships/image" Target="../media/image2.png"/><Relationship Id="rId4" Type="http://schemas.openxmlformats.org/officeDocument/2006/relationships/slide" Target="slide17.xml"/><Relationship Id="rId5" Type="http://schemas.openxmlformats.org/officeDocument/2006/relationships/image" Target="../media/image2.png"/><Relationship Id="rId6" Type="http://schemas.openxmlformats.org/officeDocument/2006/relationships/slide" Target="slide18.xm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4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5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6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2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3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4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9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" Target="slide7.xml"/><Relationship Id="rId5" Type="http://schemas.openxmlformats.org/officeDocument/2006/relationships/image" Target="../media/image13.png"/><Relationship Id="rId6" Type="http://schemas.openxmlformats.org/officeDocument/2006/relationships/slide" Target="slide8.xm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jpe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" Target="slide6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7391520" y="380880"/>
            <a:ext cx="1447560" cy="246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551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5400a8"/>
                </a:solidFill>
                <a:latin typeface="Arial Narrow"/>
              </a:rPr>
              <a:t>1</a:t>
            </a:r>
            <a:endParaRPr b="0" lang="en-US" sz="15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 rot="16201200">
            <a:off x="6249240" y="1673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afff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1" name="Oval 6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Oval 7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Oval 8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Oval 9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Oval 12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Oval 13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Oval 16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Oval 17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Oval 19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Oval 20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Oval 21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Oval 22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Oval 23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Oval 24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Oval 25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Oval 26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Oval 27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Oval 28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Oval 30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Oval 31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Oval 32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Oval 33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2" name="Picture 37" descr="Tech-EDlogo"/>
          <p:cNvPicPr/>
          <p:nvPr/>
        </p:nvPicPr>
        <p:blipFill>
          <a:blip r:embed="rId1"/>
          <a:stretch/>
        </p:blipFill>
        <p:spPr>
          <a:xfrm>
            <a:off x="7391520" y="556272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8"/>
          <p:cNvSpPr/>
          <p:nvPr/>
        </p:nvSpPr>
        <p:spPr>
          <a:xfrm>
            <a:off x="5181480" y="3048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fafff"/>
                </a:solidFill>
                <a:latin typeface="Arial"/>
              </a:rPr>
              <a:t>INFORMATION TECHNOLOGY, THE INTERNET, AND YOU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9771120" y="173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Picture 42" descr="OLearybookcover"/>
          <p:cNvPicPr/>
          <p:nvPr/>
        </p:nvPicPr>
        <p:blipFill>
          <a:blip r:embed="rId2"/>
          <a:stretch/>
        </p:blipFill>
        <p:spPr>
          <a:xfrm>
            <a:off x="463680" y="263520"/>
            <a:ext cx="4608360" cy="585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751E7752-C9E1-4116-83D1-B0C45660F99B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ypes of Comput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Times New Roman"/>
                <a:hlinkClick r:id="rId2" action="ppaction://hlinksldjump"/>
              </a:rPr>
              <a:t>Supercomputer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Times New Roman"/>
                <a:hlinkClick r:id="rId4" action="ppaction://hlinksldjump"/>
              </a:rPr>
              <a:t>Mainframe computer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Times New Roman"/>
                <a:hlinkClick r:id="rId6" action="ppaction://hlinksldjump"/>
              </a:rPr>
              <a:t>Minicomputer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Times New Roman"/>
                <a:hlinkClick r:id="rId8" action="ppaction://hlinksldjump"/>
              </a:rPr>
              <a:t>Microcomputer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8" name="Group 11"/>
          <p:cNvGrpSpPr/>
          <p:nvPr/>
        </p:nvGrpSpPr>
        <p:grpSpPr>
          <a:xfrm>
            <a:off x="1752480" y="1908000"/>
            <a:ext cx="6105600" cy="4267440"/>
            <a:chOff x="1752480" y="1908000"/>
            <a:chExt cx="6105600" cy="4267440"/>
          </a:xfrm>
        </p:grpSpPr>
        <p:pic>
          <p:nvPicPr>
            <p:cNvPr id="179" name="Picture 4" descr="ole36075_cut0106"/>
            <p:cNvPicPr/>
            <p:nvPr/>
          </p:nvPicPr>
          <p:blipFill>
            <a:blip r:embed="rId9"/>
            <a:stretch/>
          </p:blipFill>
          <p:spPr>
            <a:xfrm>
              <a:off x="1752480" y="4419720"/>
              <a:ext cx="2822760" cy="175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7" descr=""/>
            <p:cNvPicPr/>
            <p:nvPr/>
          </p:nvPicPr>
          <p:blipFill>
            <a:blip r:embed="rId10"/>
            <a:srcRect l="1163" t="0" r="2326" b="3299"/>
            <a:stretch/>
          </p:blipFill>
          <p:spPr>
            <a:xfrm>
              <a:off x="5549760" y="1908000"/>
              <a:ext cx="2040120" cy="1905120"/>
            </a:xfrm>
            <a:prstGeom prst="rect">
              <a:avLst/>
            </a:prstGeom>
            <a:ln w="38160">
              <a:solidFill>
                <a:srgbClr val="886c7b"/>
              </a:solidFill>
              <a:miter/>
            </a:ln>
          </p:spPr>
        </p:pic>
        <p:pic>
          <p:nvPicPr>
            <p:cNvPr id="181" name="Picture 8" descr=""/>
            <p:cNvPicPr/>
            <p:nvPr/>
          </p:nvPicPr>
          <p:blipFill>
            <a:blip r:embed="rId11"/>
            <a:stretch/>
          </p:blipFill>
          <p:spPr>
            <a:xfrm>
              <a:off x="5307120" y="4465800"/>
              <a:ext cx="255096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Text Box 10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661F309B-B167-4F4B-9345-12E233F25E92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04920" y="160020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High capacit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Used by very large organization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cking spac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cking weath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6"/>
          <a:srcRect l="1163" t="0" r="2326" b="3299"/>
          <a:stretch/>
        </p:blipFill>
        <p:spPr>
          <a:xfrm>
            <a:off x="4654440" y="3321000"/>
            <a:ext cx="2352960" cy="1943280"/>
          </a:xfrm>
          <a:prstGeom prst="rect">
            <a:avLst/>
          </a:prstGeom>
          <a:ln w="38160">
            <a:solidFill>
              <a:srgbClr val="886c7b"/>
            </a:solidFill>
            <a:miter/>
          </a:ln>
        </p:spPr>
      </p:pic>
      <p:sp>
        <p:nvSpPr>
          <p:cNvPr id="186" name="Text Box 4"/>
          <p:cNvSpPr/>
          <p:nvPr/>
        </p:nvSpPr>
        <p:spPr>
          <a:xfrm>
            <a:off x="914400" y="5587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upercomputer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480F947A-9350-4D3E-990F-14BE4F36F395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ainframe Comput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ccupies specially wired, air-conditioned roo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apable of great processing speeds and data stor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Not as powerful as supercomput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4"/>
          <a:stretch/>
        </p:blipFill>
        <p:spPr>
          <a:xfrm>
            <a:off x="5992920" y="4505400"/>
            <a:ext cx="2550960" cy="15811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914400" y="5859360"/>
            <a:ext cx="48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197E10B3-7811-4065-9157-A6C141F56C58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inicomput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Known as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idrange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omput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Used by medium-size compan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Used by departments of large compan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8" name="Picture 4" descr="dz1w2mn3[1]"/>
          <p:cNvPicPr/>
          <p:nvPr/>
        </p:nvPicPr>
        <p:blipFill>
          <a:blip r:embed="rId4"/>
          <a:stretch/>
        </p:blipFill>
        <p:spPr>
          <a:xfrm>
            <a:off x="2666880" y="3581280"/>
            <a:ext cx="3519720" cy="23050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914400" y="594504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F0701AD9-F77F-48CF-922B-39CECCD4CB0F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icrocomput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east powerfu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idely use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4" action="ppaction://hlinksldjump"/>
              </a:rPr>
              <a:t>Four types of Microcomput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914400" y="5902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AC9F3AD9-2F06-4399-9FD4-34D6DF7156CE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Four Types of Microcomput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2" action="ppaction://hlinksldjump"/>
              </a:rPr>
              <a:t>Deskt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4" action="ppaction://hlinksldjump"/>
              </a:rPr>
              <a:t>Notebook or lapt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6" action="ppaction://hlinksldjump"/>
              </a:rPr>
              <a:t>Tablet P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Handheld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09" name="Group 14"/>
          <p:cNvGrpSpPr/>
          <p:nvPr/>
        </p:nvGrpSpPr>
        <p:grpSpPr>
          <a:xfrm>
            <a:off x="4329000" y="1752480"/>
            <a:ext cx="1586160" cy="1897200"/>
            <a:chOff x="4329000" y="1752480"/>
            <a:chExt cx="1586160" cy="1897200"/>
          </a:xfrm>
        </p:grpSpPr>
        <p:graphicFrame>
          <p:nvGraphicFramePr>
            <p:cNvPr id="210" name="Object 5"/>
            <p:cNvGraphicFramePr/>
            <p:nvPr/>
          </p:nvGraphicFramePr>
          <p:xfrm>
            <a:off x="4343400" y="2135160"/>
            <a:ext cx="1571760" cy="15145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11" name="Object 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343400" y="2135160"/>
                      <a:ext cx="1571760" cy="151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Text Box 8"/>
            <p:cNvSpPr/>
            <p:nvPr/>
          </p:nvSpPr>
          <p:spPr>
            <a:xfrm>
              <a:off x="4329000" y="1752480"/>
              <a:ext cx="14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sktop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3" name="Group 15"/>
          <p:cNvGrpSpPr/>
          <p:nvPr/>
        </p:nvGrpSpPr>
        <p:grpSpPr>
          <a:xfrm>
            <a:off x="6330960" y="1752480"/>
            <a:ext cx="1755720" cy="1668600"/>
            <a:chOff x="6330960" y="1752480"/>
            <a:chExt cx="1755720" cy="1668600"/>
          </a:xfrm>
        </p:grpSpPr>
        <p:graphicFrame>
          <p:nvGraphicFramePr>
            <p:cNvPr id="214" name="Object 6"/>
            <p:cNvGraphicFramePr/>
            <p:nvPr/>
          </p:nvGraphicFramePr>
          <p:xfrm>
            <a:off x="6330960" y="2252520"/>
            <a:ext cx="1755720" cy="11685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15" name="Object 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330960" y="2252520"/>
                      <a:ext cx="1755720" cy="11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Text Box 9"/>
            <p:cNvSpPr/>
            <p:nvPr/>
          </p:nvSpPr>
          <p:spPr>
            <a:xfrm>
              <a:off x="6508800" y="1752480"/>
              <a:ext cx="14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Notebook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6516720" y="3813120"/>
            <a:ext cx="1855800" cy="2109960"/>
            <a:chOff x="6516720" y="3813120"/>
            <a:chExt cx="1855800" cy="2109960"/>
          </a:xfrm>
        </p:grpSpPr>
        <p:graphicFrame>
          <p:nvGraphicFramePr>
            <p:cNvPr id="218" name="Object 7"/>
            <p:cNvGraphicFramePr/>
            <p:nvPr/>
          </p:nvGraphicFramePr>
          <p:xfrm>
            <a:off x="6516720" y="4489560"/>
            <a:ext cx="1855800" cy="14335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19" name="Object 7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516720" y="4489560"/>
                      <a:ext cx="1855800" cy="14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Text Box 10"/>
            <p:cNvSpPr/>
            <p:nvPr/>
          </p:nvSpPr>
          <p:spPr>
            <a:xfrm>
              <a:off x="6564240" y="3813120"/>
              <a:ext cx="14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Tablet P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21" name="Group 17"/>
          <p:cNvGrpSpPr/>
          <p:nvPr/>
        </p:nvGrpSpPr>
        <p:grpSpPr>
          <a:xfrm>
            <a:off x="4378320" y="3813120"/>
            <a:ext cx="1457280" cy="2246400"/>
            <a:chOff x="4378320" y="3813120"/>
            <a:chExt cx="1457280" cy="2246400"/>
          </a:xfrm>
        </p:grpSpPr>
        <p:graphicFrame>
          <p:nvGraphicFramePr>
            <p:cNvPr id="222" name="Object 4"/>
            <p:cNvGraphicFramePr/>
            <p:nvPr/>
          </p:nvGraphicFramePr>
          <p:xfrm>
            <a:off x="4483080" y="4206960"/>
            <a:ext cx="1262160" cy="1852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23" name="Object 4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483080" y="4206960"/>
                      <a:ext cx="1262160" cy="18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4" name="Text Box 11"/>
            <p:cNvSpPr/>
            <p:nvPr/>
          </p:nvSpPr>
          <p:spPr>
            <a:xfrm>
              <a:off x="4378320" y="3813120"/>
              <a:ext cx="14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Handhel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5" name="Text Box 13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4280A862-E88A-42E4-936F-CFFEA3886538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esktop Comput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re small enough to fit on top of or alongside a desk yet are too big to carry aroun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914400" y="5902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1" name="Picture 14" descr=""/>
          <p:cNvPicPr/>
          <p:nvPr/>
        </p:nvPicPr>
        <p:blipFill>
          <a:blip r:embed="rId2"/>
          <a:stretch/>
        </p:blipFill>
        <p:spPr>
          <a:xfrm>
            <a:off x="3351240" y="3328920"/>
            <a:ext cx="2459160" cy="23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473C875D-E255-46F5-87E9-0C7F2778F64E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Notebook or Laptop Comput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Notebook, also known as laptop computers, are portable, lightweight, and fit into most briefcas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914400" y="5902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7" name="Picture 14" descr=""/>
          <p:cNvPicPr/>
          <p:nvPr/>
        </p:nvPicPr>
        <p:blipFill>
          <a:blip r:embed="rId2"/>
          <a:stretch/>
        </p:blipFill>
        <p:spPr>
          <a:xfrm>
            <a:off x="3276720" y="3529080"/>
            <a:ext cx="294300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5CA010F9-30E1-4B8D-9FBD-4BF63BFCE703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ablet PC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s a type of notebook computer that accepts your handwriting. This input is digitized and converted to standard text that can be further processed by programs such as a word processo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914400" y="5902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3" name="Picture 14" descr=""/>
          <p:cNvPicPr/>
          <p:nvPr/>
        </p:nvPicPr>
        <p:blipFill>
          <a:blip r:embed="rId2"/>
          <a:stretch/>
        </p:blipFill>
        <p:spPr>
          <a:xfrm>
            <a:off x="5508720" y="3852720"/>
            <a:ext cx="2896920" cy="22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687CFAED-D832-4560-BE97-5E6A0D2329DA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Handheld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re the smallest and are also known as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palm computers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. These systems typically combine pen input, writing recognition, personal organizational tools, and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mmunications capabiliti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914400" y="5902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Picture 14" descr=""/>
          <p:cNvPicPr/>
          <p:nvPr/>
        </p:nvPicPr>
        <p:blipFill>
          <a:blip r:embed="rId2"/>
          <a:stretch/>
        </p:blipFill>
        <p:spPr>
          <a:xfrm>
            <a:off x="6478560" y="3297240"/>
            <a:ext cx="1900440" cy="27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5A9AB036-D25B-4C5E-B6FA-3E2A878AFA2C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spcAft>
                <a:spcPts val="374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Explain the five parts of an information system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spcAft>
                <a:spcPts val="374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Distinguish between system and application software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spcAft>
                <a:spcPts val="374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Discuss the three kinds of system software programs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spcAft>
                <a:spcPts val="374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Distinguish between basic and specialized application software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spcAft>
                <a:spcPts val="374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Identify the four types of computers and microcomputers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9A9E522E-2A7E-4ED9-83A2-A98D863F3709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icrocomputer Hardwar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System uni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Input/output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Secondary stor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ommunic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3" name="Picture 4" descr="ole36075_0111"/>
          <p:cNvPicPr/>
          <p:nvPr/>
        </p:nvPicPr>
        <p:blipFill>
          <a:blip r:embed="rId5"/>
          <a:stretch/>
        </p:blipFill>
        <p:spPr>
          <a:xfrm>
            <a:off x="4114800" y="3027240"/>
            <a:ext cx="4572000" cy="29894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FD855808-76FD-428E-AA19-D97DA66DBF59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ata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aw, unprocessed fac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rocessing creates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inform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tored electronically in fi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ocument fi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orksheet fi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atabase fi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resentation fi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58" name="Group 14"/>
          <p:cNvGrpSpPr/>
          <p:nvPr/>
        </p:nvGrpSpPr>
        <p:grpSpPr>
          <a:xfrm>
            <a:off x="4035600" y="3330720"/>
            <a:ext cx="4771440" cy="2968200"/>
            <a:chOff x="4035600" y="3330720"/>
            <a:chExt cx="4771440" cy="2968200"/>
          </a:xfrm>
        </p:grpSpPr>
        <p:graphicFrame>
          <p:nvGraphicFramePr>
            <p:cNvPr id="259" name="Object 5"/>
            <p:cNvGraphicFramePr/>
            <p:nvPr/>
          </p:nvGraphicFramePr>
          <p:xfrm>
            <a:off x="4035600" y="3330720"/>
            <a:ext cx="2212560" cy="1660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60" name="Object 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035600" y="3330720"/>
                      <a:ext cx="2212560" cy="166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" name="Object 7"/>
            <p:cNvGraphicFramePr/>
            <p:nvPr/>
          </p:nvGraphicFramePr>
          <p:xfrm>
            <a:off x="4584600" y="3852720"/>
            <a:ext cx="2217240" cy="1350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62" name="Object 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584600" y="3852720"/>
                      <a:ext cx="2217240" cy="13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3" name="Object 8"/>
            <p:cNvGraphicFramePr/>
            <p:nvPr/>
          </p:nvGraphicFramePr>
          <p:xfrm>
            <a:off x="5186160" y="4389480"/>
            <a:ext cx="2144520" cy="1161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64" name="Object 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186160" y="4389480"/>
                      <a:ext cx="2144520" cy="11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9"/>
            <p:cNvGraphicFramePr/>
            <p:nvPr/>
          </p:nvGraphicFramePr>
          <p:xfrm>
            <a:off x="5722920" y="4807080"/>
            <a:ext cx="2228400" cy="14918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66" name="Object 9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722920" y="4807080"/>
                      <a:ext cx="2228400" cy="149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7" name="Text Box 10"/>
            <p:cNvSpPr/>
            <p:nvPr/>
          </p:nvSpPr>
          <p:spPr>
            <a:xfrm>
              <a:off x="6198840" y="3375000"/>
              <a:ext cx="111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Presentat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6734160" y="3898800"/>
              <a:ext cx="119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Databas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Text Box 12"/>
            <p:cNvSpPr/>
            <p:nvPr/>
          </p:nvSpPr>
          <p:spPr>
            <a:xfrm>
              <a:off x="7286400" y="4363920"/>
              <a:ext cx="99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Worksheet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Text Box 13"/>
            <p:cNvSpPr/>
            <p:nvPr/>
          </p:nvSpPr>
          <p:spPr>
            <a:xfrm>
              <a:off x="7827840" y="497376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Document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71" name="Text Box 1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19323BAF-A7C6-4DC2-B8B4-046485E2546D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ocument Fil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reated by word processors to save documents such as memos, term papers,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nd lett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914400" y="5902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7" name="Picture 26" descr=""/>
          <p:cNvPicPr/>
          <p:nvPr/>
        </p:nvPicPr>
        <p:blipFill>
          <a:blip r:embed="rId2"/>
          <a:stretch/>
        </p:blipFill>
        <p:spPr>
          <a:xfrm>
            <a:off x="2822400" y="3390840"/>
            <a:ext cx="3708720" cy="24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0C102EAC-89CF-426C-9715-2BB251F1E32F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orksheet Fil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reated by electronic spreadsheets to analyze things like budgets and to predict s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914400" y="5902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3" name="Picture 15" descr=""/>
          <p:cNvPicPr/>
          <p:nvPr/>
        </p:nvPicPr>
        <p:blipFill>
          <a:blip r:embed="rId2"/>
          <a:stretch/>
        </p:blipFill>
        <p:spPr>
          <a:xfrm>
            <a:off x="2449440" y="3168720"/>
            <a:ext cx="4141800" cy="22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41C926A8-7BBA-4275-8768-C4CE98B112AD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atabase Fil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ypically created by database management programs to contain highly structured and organized da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914400" y="5902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9" name="Picture 15" descr=""/>
          <p:cNvPicPr/>
          <p:nvPr/>
        </p:nvPicPr>
        <p:blipFill>
          <a:blip r:embed="rId2"/>
          <a:stretch/>
        </p:blipFill>
        <p:spPr>
          <a:xfrm>
            <a:off x="2801880" y="3440160"/>
            <a:ext cx="371160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758BC728-3AD4-47DC-BF83-0278FACD6526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esentation Fil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reated by presentation graphics programs to save presentation materials. For example, a file might contain audience handouts, speaker notes, and electronic slid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914400" y="5902200"/>
            <a:ext cx="67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5" name="Picture 15" descr=""/>
          <p:cNvPicPr/>
          <p:nvPr/>
        </p:nvPicPr>
        <p:blipFill>
          <a:blip r:embed="rId2"/>
          <a:stretch/>
        </p:blipFill>
        <p:spPr>
          <a:xfrm>
            <a:off x="5402160" y="3587760"/>
            <a:ext cx="3210120" cy="24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C8C1DF53-7127-4259-95B3-CA52B459EA4B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nnectivity, the Wireless Revolution, and the Interne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onnectiv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haring of informatio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ireles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mmunication is becoming popula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omputer network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nnected communication system of comput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argest network is the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9" name="Picture 4" descr="ole36075_pcut0112L"/>
          <p:cNvPicPr/>
          <p:nvPr/>
        </p:nvPicPr>
        <p:blipFill>
          <a:blip r:embed="rId7"/>
          <a:stretch/>
        </p:blipFill>
        <p:spPr>
          <a:xfrm>
            <a:off x="380880" y="4876920"/>
            <a:ext cx="1987560" cy="13842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F7E1ADA3-DC0C-4A8B-AB4C-BF77B3F1B06D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Knowledge Foundation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05920" y="1599840"/>
            <a:ext cx="86979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596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eing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omputer Competent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means using and understanding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Information Technology (IT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5" name="Picture 91" descr=""/>
          <p:cNvPicPr/>
          <p:nvPr/>
        </p:nvPicPr>
        <p:blipFill>
          <a:blip r:embed="rId1"/>
          <a:stretch/>
        </p:blipFill>
        <p:spPr>
          <a:xfrm>
            <a:off x="3591000" y="3508200"/>
            <a:ext cx="2057400" cy="21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17134902-66E7-4A3B-8357-B833200D92D7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ome Important IT Development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05920" y="1599840"/>
            <a:ext cx="86979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e Internet &amp;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the Web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owerful software &amp; hard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rivacy &amp; secur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rganiz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hanging Tim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9" name="Picture 1028" descr="ole36075_cut0101"/>
          <p:cNvPicPr/>
          <p:nvPr/>
        </p:nvPicPr>
        <p:blipFill>
          <a:blip r:embed="rId6"/>
          <a:stretch/>
        </p:blipFill>
        <p:spPr>
          <a:xfrm>
            <a:off x="4889520" y="3657600"/>
            <a:ext cx="3120840" cy="20829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29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8136F559-C92C-4C38-A189-6455E507FF78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5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xplain the five parts of an information system. What part do people play in this system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at is system software? What kinds of programs are included in system softwar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fine and compare basic and specialized application software. Describe some different types of basic applications. Describe some types of specialized applica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4" name="Picture 4" descr="j2404a1q[1]"/>
          <p:cNvPicPr/>
          <p:nvPr/>
        </p:nvPicPr>
        <p:blipFill>
          <a:blip r:embed="rId4"/>
          <a:stretch/>
        </p:blipFill>
        <p:spPr>
          <a:xfrm>
            <a:off x="7380360" y="477720"/>
            <a:ext cx="1530360" cy="90036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2" dur="1" fill="hold"/>
                                  <p:tgtEl>
                                    <p:spTgt spid="3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A8BEAFE7-7FC3-496B-B1BB-C5638FEAE061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different types of hardwar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data and describe fil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xplain connectivity, the wireless revolution, and the Interne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3" name="Group 14"/>
          <p:cNvGrpSpPr/>
          <p:nvPr/>
        </p:nvGrpSpPr>
        <p:grpSpPr>
          <a:xfrm>
            <a:off x="1447920" y="3962520"/>
            <a:ext cx="6195960" cy="2133360"/>
            <a:chOff x="1447920" y="3962520"/>
            <a:chExt cx="6195960" cy="2133360"/>
          </a:xfrm>
        </p:grpSpPr>
        <p:pic>
          <p:nvPicPr>
            <p:cNvPr id="134" name="Picture 5" descr="ole36075_0102a"/>
            <p:cNvPicPr/>
            <p:nvPr/>
          </p:nvPicPr>
          <p:blipFill>
            <a:blip r:embed="rId4"/>
            <a:stretch/>
          </p:blipFill>
          <p:spPr>
            <a:xfrm>
              <a:off x="3200400" y="3962520"/>
              <a:ext cx="2514600" cy="16779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5" name="Object 9"/>
            <p:cNvGraphicFramePr/>
            <p:nvPr/>
          </p:nvGraphicFramePr>
          <p:xfrm>
            <a:off x="1447920" y="4343400"/>
            <a:ext cx="1342800" cy="1627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6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47920" y="4343400"/>
                      <a:ext cx="1342800" cy="16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Object 12"/>
            <p:cNvGraphicFramePr/>
            <p:nvPr/>
          </p:nvGraphicFramePr>
          <p:xfrm>
            <a:off x="6172200" y="4413240"/>
            <a:ext cx="1471680" cy="1682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8" name="Object 1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72200" y="4413240"/>
                      <a:ext cx="1471680" cy="168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9" name="Text Box 13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30C2219B-2F47-4DE4-8189-CBDC81251059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scribe the different types of computers. What is the most common type? What are the types of microcomputers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at is connectivity? How are the wireless revolution and connectivity related? What is a computer network? What is the Internet? What is the Web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Picture 4" descr="j2404a1q[1]"/>
          <p:cNvPicPr/>
          <p:nvPr/>
        </p:nvPicPr>
        <p:blipFill>
          <a:blip r:embed="rId3"/>
          <a:stretch/>
        </p:blipFill>
        <p:spPr>
          <a:xfrm>
            <a:off x="7429680" y="506520"/>
            <a:ext cx="1481040" cy="8715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155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3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63E1B7A5-62BE-4FA0-A998-14C0EED3F3EA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ve Parts of an Information </a:t>
            </a:r>
            <a:r>
              <a:rPr b="1" i="1" lang="en-US" sz="3600" spc="-1" strike="noStrike">
                <a:solidFill>
                  <a:srgbClr val="003366"/>
                </a:solidFill>
                <a:latin typeface="Times New Roman"/>
              </a:rPr>
              <a:t>System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4190760" cy="160020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190760" cy="160020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Picture 5" descr="ole36075_0101L"/>
          <p:cNvPicPr/>
          <p:nvPr/>
        </p:nvPicPr>
        <p:blipFill>
          <a:blip r:embed="rId1"/>
          <a:stretch/>
        </p:blipFill>
        <p:spPr>
          <a:xfrm>
            <a:off x="685800" y="3657600"/>
            <a:ext cx="7772400" cy="2440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A45B21AF-8D22-4CB5-A668-A2F74A3F0C00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eopl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ost important part of any syste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tact is 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irec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direc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mputer us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usiness &amp; Entertain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ducation &amp; Medici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4191120" y="2360520"/>
            <a:ext cx="4275000" cy="3506760"/>
            <a:chOff x="4191120" y="2360520"/>
            <a:chExt cx="4275000" cy="3506760"/>
          </a:xfrm>
        </p:grpSpPr>
        <p:pic>
          <p:nvPicPr>
            <p:cNvPr id="150" name="Picture 4" descr="ole36075_0102a"/>
            <p:cNvPicPr/>
            <p:nvPr/>
          </p:nvPicPr>
          <p:blipFill>
            <a:blip r:embed="rId8"/>
            <a:stretch/>
          </p:blipFill>
          <p:spPr>
            <a:xfrm>
              <a:off x="4191120" y="2360520"/>
              <a:ext cx="2514600" cy="16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6" descr="ole36075_0102c"/>
            <p:cNvPicPr/>
            <p:nvPr/>
          </p:nvPicPr>
          <p:blipFill>
            <a:blip r:embed="rId9"/>
            <a:stretch/>
          </p:blipFill>
          <p:spPr>
            <a:xfrm>
              <a:off x="5943600" y="4184640"/>
              <a:ext cx="2522520" cy="168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Text Box 7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958CAD67-4354-46B8-B9C5-705A62B7BD0F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oftwar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Programs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wo major kinds of soft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4" action="ppaction://hlinksldjump"/>
              </a:rPr>
              <a:t>System Softw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6" action="ppaction://hlinksldjump"/>
              </a:rPr>
              <a:t>Application Softw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Picture 4" descr="ole36075_cut0105L"/>
          <p:cNvPicPr/>
          <p:nvPr/>
        </p:nvPicPr>
        <p:blipFill>
          <a:blip r:embed="rId7"/>
          <a:stretch/>
        </p:blipFill>
        <p:spPr>
          <a:xfrm>
            <a:off x="5562720" y="3505320"/>
            <a:ext cx="2163600" cy="20113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EE6C5B53-83E3-49F9-B659-D93048C157A7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ystem Softwar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collection of progra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nables the application software to interact with the hard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ackground software that helps the computer manage its own resour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Picture 4" descr="ole36075_0106a"/>
          <p:cNvPicPr/>
          <p:nvPr/>
        </p:nvPicPr>
        <p:blipFill>
          <a:blip r:embed="rId4"/>
          <a:stretch/>
        </p:blipFill>
        <p:spPr>
          <a:xfrm>
            <a:off x="5410080" y="3962520"/>
            <a:ext cx="2895840" cy="2171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357120" y="5410080"/>
            <a:ext cx="49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DEBC4FAF-E3E8-4076-A1B5-9D6685205593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72000"/>
          </a:xfrm>
          <a:prstGeom prst="rect">
            <a:avLst/>
          </a:prstGeom>
          <a:noFill/>
          <a:ln w="324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End-user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” soft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wo major categor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General purpo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pecial purpo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pplication Softwar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79600" y="54100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9" name="Picture 10" descr=""/>
          <p:cNvPicPr/>
          <p:nvPr/>
        </p:nvPicPr>
        <p:blipFill>
          <a:blip r:embed="rId6"/>
          <a:stretch/>
        </p:blipFill>
        <p:spPr>
          <a:xfrm>
            <a:off x="4138560" y="3149640"/>
            <a:ext cx="4119480" cy="29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E38F37AE-16F1-4185-8010-DD5C33631225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Hardwar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quipment that processes the dat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ntrolled by softwa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hysical devic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Keyboa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ous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oni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ther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3" name="Picture 4" descr="ole36075_0110"/>
          <p:cNvPicPr/>
          <p:nvPr/>
        </p:nvPicPr>
        <p:blipFill>
          <a:blip r:embed="rId8"/>
          <a:stretch/>
        </p:blipFill>
        <p:spPr>
          <a:xfrm>
            <a:off x="4572000" y="2743200"/>
            <a:ext cx="3886200" cy="31766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6:08:26Z</dcterms:created>
  <dc:creator>McGraw-Hill Higher Education</dc:creator>
  <dc:description/>
  <dc:language>en-US</dc:language>
  <cp:lastModifiedBy>elmustafah</cp:lastModifiedBy>
  <dcterms:modified xsi:type="dcterms:W3CDTF">2014-09-02T10:28:11Z</dcterms:modified>
  <cp:revision>264</cp:revision>
  <dc:subject/>
  <dc:title>PowerPoint Presentation</dc:title>
</cp:coreProperties>
</file>