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40.wmf" ContentType="image/x-wmf"/>
  <Override PartName="/ppt/media/image37.png" ContentType="image/png"/>
  <Override PartName="/ppt/media/image3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.wmf" ContentType="image/x-wmf"/>
  <Override PartName="/ppt/media/image28.png" ContentType="image/png"/>
  <Override PartName="/ppt/media/image7.jpeg" ContentType="image/jpeg"/>
  <Override PartName="/ppt/media/image38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E9AB-D030-46D7-8F3E-C0BB457EB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50CC-1544-4DD9-B3D1-279C5136246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is book is to help the student become computer lite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ent in computer–related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is to be valuable immediately to a potential emplo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one gives an overview of an inform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ystem consists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EAEB-304E-4A9F-BA4B-30CC6C94E57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types of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frame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compu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mpu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ptop or note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t 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held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m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digital assistants (P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863E-814E-482C-B998-E173E50E72E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is an example of a Cray super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cooling apparatus is required because of the heat generated during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jor reason for its processing speed is short connection wires throughout the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ourse, shorter wires means faster byte transfe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computers are the most powerful type of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SA uses supercomputers to track and control space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2F43-A21D-452E-BAD1-9E19F1A685E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6668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frames occupy specially wired, air-conditioned r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s powerful as super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rance, financial and equity industries, as well as governments all process large amounts of information on mainfr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AA77-5170-4558-B337-6A8A39809C0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refrigerator-sized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departments use minicomputers to monitor certain manufacturing processes and assembly lin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is most current desktops have capacity of many mini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4242-FC08-4C6F-A71C-CB1AB4F819A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powerful computers, but most widely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growing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mpu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ptop or note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t 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held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m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digital assistants (P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begin discussing the microcomputer and wireless 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90FE-EB41-487F-B9A7-C4E1D516859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mpu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ptop or note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t 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held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m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digital assistants (P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6ECA-FE8E-41F3-8570-C716F8EFE15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but not a lap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begin discussing the type(s) of desktop computer(s) they are using or familia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26CE-AE3E-4BA3-9C83-C6A4B6E520C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book computers are also known as lap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begin discussing the type(s) of notebook or laptop computer(s) they are using or familia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607C-6A18-4253-BE69-E8F00177A11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s hand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if they are familiar with tablet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3FEA-36B4-49B1-9789-93B5BD7BF8B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digital assistants (PDA) are the most widely used handheld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if they are familiar with palm computers or P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D58C-27F2-47EF-AE53-DBE233524F5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B033-FF6F-44DE-AA95-F23B2991896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s - Monitors include LCD panels and traditional CRTs. Current trends regarding monitors; sizes depending upon use of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p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ms - equipment that modifies telephone communications into a form that can be processed by a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358E-CEE5-4F82-A34D-8235DCBA6ED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facts about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d in files for documents, worksheets, and data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 files - usually created by word proces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files - electronic spread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 files - electronic database management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files - electronic slide sh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3A4A-65FE-4BB4-BE27-5DC77356290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processors are used to prepare written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text-base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flexible and widely used software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to make entering, editing, and formatting documents ea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1F10-8398-4A5C-9F29-6C6C4BA4CEE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spreadsheet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functions and formulas to analyze numeric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es numeric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include workbooks, worksheets, cells, ranges, text and numeric entries, formulas, functions, charts, recalculation, and what-i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3813-6F41-47A8-A7BE-22991CF7C20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atabase management system (DBMS) or database manager is a program that sets up, or structures, a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s created by database management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es data for efficient retrie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electronic equivalent of a file cabi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lso provides tools to enter, edit, and retrieve data from the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6465-DCDB-43DA-842B-5C345D49B83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reate a variety of visual objects to create attractive, visually interesting pres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include slides, AutoContent wizard, color schemes, slide layouts, special effects, master slides, and design tem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files may contain audience handouts, speaker notes, and electronic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D159-3409-4228-8F6E-0C89141E107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vity is the capability of your microcomputer to share information with other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/mobile communication devices are more popular than e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twork is central to the concept of 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questions about the Internet. Here are some fa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owns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Internet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net is a network of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Wide Web (WWW) provides multimedia interface to resources on the Inte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2837-2A4F-4A11-BA76-BC296CF7764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information technology means being computer compe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how technology is being used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cipate how technology will be used in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C16B-EC5A-48C1-976E-DC2C4A572D9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net and the Web are the two most important technologies of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 can now do extraordinary t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mputers are more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must be careful about protecting their priv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ll organizations rely on inform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6EFC-9085-453E-9ACF-5367EA11CB2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1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62F1-228A-4BA3-84AD-75F1155D0D5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77E1-A80C-44BB-B9C6-DB8E6EF905E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urn to the end of Chapter 1 in their textbooks to view the same “Open-Ended” questions/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E320-2C27-43FA-A229-69BF9F20280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 inform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tudents may think of a system as pertaining to just the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 them that a microcomputer i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an inform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competent end user, one must understand the essentials of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IT stands f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ormatio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77B4-A84D-4523-B3B8-C71B052D6C5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are the most important part of an inform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ives are touched everyday by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give examples of how they use computer applications throughout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t 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based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Web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 tuners and video cl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 pho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networ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y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 opportun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EE4D-9E24-4D4D-B352-CEEEF46C700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differences between application and systems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ce d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soft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20F8-34C9-4A05-9430-2A459362E39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 is another name for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s are instructions that tell the computer how to process data into the form you w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kinds of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single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llection of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 X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 OS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s tasks related to managing computer resour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ce driv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7612-88DA-4905-AA6E-4A417BC91C2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-user” software - people who use microcomputer or have access to larger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everyone in today’s workforce and general public have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eople enter commands and typically interact with applica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purpose - basic programs; off-the-sh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purpose - written for an organization’s or business type’s specific purpose; specially writ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AABA-187A-407A-AAC1-ECC6863370D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hardw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drive, keyboard, printer, and modem are different types of computer hard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C8AF-36A1-49C9-BEAD-35CC9713E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45DE-3F5B-4C96-B947-62A26B898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3A93-F480-45DC-BAD1-0085287C4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312E-C8CD-4F3B-9E59-74D40E6F4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7934-9F86-443A-98CD-5B7C18CB7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40676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CFA7-CD2B-4025-87B2-8898A2CF9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E964-4E87-4787-8BE7-523F13DC3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A79F-9AAF-4230-862F-7DE5A229C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5ECD-04DC-4303-B383-15387A577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366E-7D5E-41BF-B7FD-9E5CC80EC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676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00EF-8276-4A9D-9C9C-583FB6807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676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DECC-287F-403A-8030-B309CDCAD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7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F2D411C0-5C45-4AF5-8564-98AC685072D8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14" descr="Tech-EDlogo"/>
          <p:cNvPicPr/>
          <p:nvPr/>
        </p:nvPicPr>
        <p:blipFill>
          <a:blip r:embed="rId7"/>
          <a:stretch/>
        </p:blipFill>
        <p:spPr>
          <a:xfrm>
            <a:off x="7686720" y="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7ecd5"/>
            </a:gs>
            <a:gs pos="100000">
              <a:srgbClr val="d9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5" descr=""/>
          <p:cNvPicPr/>
          <p:nvPr/>
        </p:nvPicPr>
        <p:blipFill>
          <a:blip r:embed="rId2"/>
          <a:srcRect l="0" t="0" r="96503" b="86773"/>
          <a:stretch/>
        </p:blipFill>
        <p:spPr>
          <a:xfrm flipH="1" rot="5400000">
            <a:off x="4419360" y="2133000"/>
            <a:ext cx="30492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6"/>
          <p:cNvSpPr/>
          <p:nvPr/>
        </p:nvSpPr>
        <p:spPr>
          <a:xfrm>
            <a:off x="0" y="6556320"/>
            <a:ext cx="914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 Technology Education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© 2006 by the McGraw-Hill Companies, Inc.  All rights reserv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image" Target="../media/image2.png"/><Relationship Id="rId4" Type="http://schemas.openxmlformats.org/officeDocument/2006/relationships/slide" Target="slide12.xml"/><Relationship Id="rId5" Type="http://schemas.openxmlformats.org/officeDocument/2006/relationships/image" Target="../media/image2.png"/><Relationship Id="rId6" Type="http://schemas.openxmlformats.org/officeDocument/2006/relationships/slide" Target="slide13.xml"/><Relationship Id="rId7" Type="http://schemas.openxmlformats.org/officeDocument/2006/relationships/image" Target="../media/image2.png"/><Relationship Id="rId8" Type="http://schemas.openxmlformats.org/officeDocument/2006/relationships/slide" Target="slide14.xml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21.png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2.png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jpeg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15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6.xml"/><Relationship Id="rId3" Type="http://schemas.openxmlformats.org/officeDocument/2006/relationships/image" Target="../media/image2.png"/><Relationship Id="rId4" Type="http://schemas.openxmlformats.org/officeDocument/2006/relationships/slide" Target="slide17.xml"/><Relationship Id="rId5" Type="http://schemas.openxmlformats.org/officeDocument/2006/relationships/image" Target="../media/image2.png"/><Relationship Id="rId6" Type="http://schemas.openxmlformats.org/officeDocument/2006/relationships/slide" Target="slide18.xm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4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5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6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2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3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4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9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" Target="slide7.xml"/><Relationship Id="rId5" Type="http://schemas.openxmlformats.org/officeDocument/2006/relationships/image" Target="../media/image13.png"/><Relationship Id="rId6" Type="http://schemas.openxmlformats.org/officeDocument/2006/relationships/slide" Target="slide8.xm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jpe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" Target="slide6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7391520" y="380880"/>
            <a:ext cx="1447560" cy="246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551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5400a8"/>
                </a:solidFill>
                <a:latin typeface="Arial Narrow"/>
              </a:rPr>
              <a:t>1</a:t>
            </a:r>
            <a:endParaRPr b="0" lang="en-US" sz="15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 rot="16201200">
            <a:off x="6249240" y="1673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afff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1" name="Oval 6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Oval 7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Oval 8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Oval 9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Oval 12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Oval 13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Oval 17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Oval 19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Oval 20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Oval 21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Oval 22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Oval 24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Oval 25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Oval 26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Oval 27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Oval 28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Oval 30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Oval 31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Oval 32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Oval 33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2" name="Picture 37" descr="Tech-EDlogo"/>
          <p:cNvPicPr/>
          <p:nvPr/>
        </p:nvPicPr>
        <p:blipFill>
          <a:blip r:embed="rId1"/>
          <a:stretch/>
        </p:blipFill>
        <p:spPr>
          <a:xfrm>
            <a:off x="7391520" y="5562720"/>
            <a:ext cx="1380960" cy="419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8"/>
          <p:cNvSpPr/>
          <p:nvPr/>
        </p:nvSpPr>
        <p:spPr>
          <a:xfrm>
            <a:off x="5181480" y="3048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fafff"/>
                </a:solidFill>
                <a:latin typeface="Arial"/>
              </a:rPr>
              <a:t>INFORMATION TECHNOLOGY, THE INTERNET, AND YOU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9771120" y="173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Picture 42" descr="OLearybookcover"/>
          <p:cNvPicPr/>
          <p:nvPr/>
        </p:nvPicPr>
        <p:blipFill>
          <a:blip r:embed="rId2"/>
          <a:stretch/>
        </p:blipFill>
        <p:spPr>
          <a:xfrm>
            <a:off x="463680" y="263520"/>
            <a:ext cx="4608360" cy="585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1C445C0C-DCC6-4D4B-8F46-678C118C2754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ypes of Comput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Times New Roman"/>
                <a:hlinkClick r:id="rId2" action="ppaction://hlinksldjump"/>
              </a:rPr>
              <a:t>Supercomputer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Times New Roman"/>
                <a:hlinkClick r:id="rId4" action="ppaction://hlinksldjump"/>
              </a:rPr>
              <a:t>Mainframe computer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Times New Roman"/>
                <a:hlinkClick r:id="rId6" action="ppaction://hlinksldjump"/>
              </a:rPr>
              <a:t>Minicomputer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Times New Roman"/>
                <a:hlinkClick r:id="rId8" action="ppaction://hlinksldjump"/>
              </a:rPr>
              <a:t>Microcomputer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8" name="Group 11"/>
          <p:cNvGrpSpPr/>
          <p:nvPr/>
        </p:nvGrpSpPr>
        <p:grpSpPr>
          <a:xfrm>
            <a:off x="1752480" y="1908000"/>
            <a:ext cx="6105600" cy="4267440"/>
            <a:chOff x="1752480" y="1908000"/>
            <a:chExt cx="6105600" cy="4267440"/>
          </a:xfrm>
        </p:grpSpPr>
        <p:pic>
          <p:nvPicPr>
            <p:cNvPr id="179" name="Picture 4" descr="ole36075_cut0106"/>
            <p:cNvPicPr/>
            <p:nvPr/>
          </p:nvPicPr>
          <p:blipFill>
            <a:blip r:embed="rId9"/>
            <a:stretch/>
          </p:blipFill>
          <p:spPr>
            <a:xfrm>
              <a:off x="1752480" y="4419720"/>
              <a:ext cx="2822760" cy="17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7" descr=""/>
            <p:cNvPicPr/>
            <p:nvPr/>
          </p:nvPicPr>
          <p:blipFill>
            <a:blip r:embed="rId10"/>
            <a:srcRect l="1163" t="0" r="2326" b="3299"/>
            <a:stretch/>
          </p:blipFill>
          <p:spPr>
            <a:xfrm>
              <a:off x="5549760" y="1908000"/>
              <a:ext cx="2040120" cy="1905120"/>
            </a:xfrm>
            <a:prstGeom prst="rect">
              <a:avLst/>
            </a:prstGeom>
            <a:ln w="38160">
              <a:solidFill>
                <a:srgbClr val="886c7b"/>
              </a:solidFill>
              <a:miter/>
            </a:ln>
          </p:spPr>
        </p:pic>
        <p:pic>
          <p:nvPicPr>
            <p:cNvPr id="181" name="Picture 8" descr=""/>
            <p:cNvPicPr/>
            <p:nvPr/>
          </p:nvPicPr>
          <p:blipFill>
            <a:blip r:embed="rId11"/>
            <a:stretch/>
          </p:blipFill>
          <p:spPr>
            <a:xfrm>
              <a:off x="5307120" y="4465800"/>
              <a:ext cx="255096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Text Box 10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4C0EBA8A-DD7B-478E-A269-13F9BC8B7144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04920" y="160020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High capacit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Used by very large organization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cking spac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cking weath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6"/>
          <a:srcRect l="1163" t="0" r="2326" b="3299"/>
          <a:stretch/>
        </p:blipFill>
        <p:spPr>
          <a:xfrm>
            <a:off x="4654440" y="3321000"/>
            <a:ext cx="2352960" cy="1943280"/>
          </a:xfrm>
          <a:prstGeom prst="rect">
            <a:avLst/>
          </a:prstGeom>
          <a:ln w="38160">
            <a:solidFill>
              <a:srgbClr val="886c7b"/>
            </a:solidFill>
            <a:miter/>
          </a:ln>
        </p:spPr>
      </p:pic>
      <p:sp>
        <p:nvSpPr>
          <p:cNvPr id="186" name="Text Box 4"/>
          <p:cNvSpPr/>
          <p:nvPr/>
        </p:nvSpPr>
        <p:spPr>
          <a:xfrm>
            <a:off x="914400" y="5587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upercomputer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1ACFF59A-8951-4470-BF23-4C128E0335D2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ainframe Comput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ccupies specially wired, air-conditioned roo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apable of great processing speeds and data stor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Not as powerful as supercomput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4"/>
          <a:stretch/>
        </p:blipFill>
        <p:spPr>
          <a:xfrm>
            <a:off x="5992920" y="4505400"/>
            <a:ext cx="2550960" cy="15811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914400" y="5859360"/>
            <a:ext cx="48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43F69284-0861-4950-BD0E-867C858DAC61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inicomput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Known as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idrange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omput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Used by medium-size compan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Used by departments of large compan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8" name="Picture 4" descr="dz1w2mn3[1]"/>
          <p:cNvPicPr/>
          <p:nvPr/>
        </p:nvPicPr>
        <p:blipFill>
          <a:blip r:embed="rId4"/>
          <a:stretch/>
        </p:blipFill>
        <p:spPr>
          <a:xfrm>
            <a:off x="2666880" y="3581280"/>
            <a:ext cx="3519720" cy="23050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914400" y="594504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538E1B72-E4DE-4FFF-894E-F9C8A8B75877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icrocomput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east powerfu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idely us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4" action="ppaction://hlinksldjump"/>
              </a:rPr>
              <a:t>Four types of Microcomput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914400" y="590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4391EB52-886E-43E8-8A18-F88DD74E9FD2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Four Types of Microcomput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2" action="ppaction://hlinksldjump"/>
              </a:rPr>
              <a:t>Deskt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4" action="ppaction://hlinksldjump"/>
              </a:rPr>
              <a:t>Notebook or lapt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6" action="ppaction://hlinksldjump"/>
              </a:rPr>
              <a:t>Tablet P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Handheld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09" name="Group 14"/>
          <p:cNvGrpSpPr/>
          <p:nvPr/>
        </p:nvGrpSpPr>
        <p:grpSpPr>
          <a:xfrm>
            <a:off x="4329000" y="1752480"/>
            <a:ext cx="1586160" cy="1897200"/>
            <a:chOff x="4329000" y="1752480"/>
            <a:chExt cx="1586160" cy="1897200"/>
          </a:xfrm>
        </p:grpSpPr>
        <p:graphicFrame>
          <p:nvGraphicFramePr>
            <p:cNvPr id="210" name="Object 5"/>
            <p:cNvGraphicFramePr/>
            <p:nvPr/>
          </p:nvGraphicFramePr>
          <p:xfrm>
            <a:off x="4343400" y="2135160"/>
            <a:ext cx="1571760" cy="1514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11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343400" y="2135160"/>
                      <a:ext cx="1571760" cy="151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Text Box 8"/>
            <p:cNvSpPr/>
            <p:nvPr/>
          </p:nvSpPr>
          <p:spPr>
            <a:xfrm>
              <a:off x="4329000" y="1752480"/>
              <a:ext cx="14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sktop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3" name="Group 15"/>
          <p:cNvGrpSpPr/>
          <p:nvPr/>
        </p:nvGrpSpPr>
        <p:grpSpPr>
          <a:xfrm>
            <a:off x="6330960" y="1752480"/>
            <a:ext cx="1755720" cy="1668600"/>
            <a:chOff x="6330960" y="1752480"/>
            <a:chExt cx="1755720" cy="1668600"/>
          </a:xfrm>
        </p:grpSpPr>
        <p:graphicFrame>
          <p:nvGraphicFramePr>
            <p:cNvPr id="214" name="Object 6"/>
            <p:cNvGraphicFramePr/>
            <p:nvPr/>
          </p:nvGraphicFramePr>
          <p:xfrm>
            <a:off x="6330960" y="2252520"/>
            <a:ext cx="1755720" cy="11685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15" name="Object 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330960" y="2252520"/>
                      <a:ext cx="1755720" cy="11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Text Box 9"/>
            <p:cNvSpPr/>
            <p:nvPr/>
          </p:nvSpPr>
          <p:spPr>
            <a:xfrm>
              <a:off x="6508800" y="1752480"/>
              <a:ext cx="14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Notebook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6516720" y="3813120"/>
            <a:ext cx="1855800" cy="2109960"/>
            <a:chOff x="6516720" y="3813120"/>
            <a:chExt cx="1855800" cy="2109960"/>
          </a:xfrm>
        </p:grpSpPr>
        <p:graphicFrame>
          <p:nvGraphicFramePr>
            <p:cNvPr id="218" name="Object 7"/>
            <p:cNvGraphicFramePr/>
            <p:nvPr/>
          </p:nvGraphicFramePr>
          <p:xfrm>
            <a:off x="6516720" y="4489560"/>
            <a:ext cx="1855800" cy="14335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19" name="Object 7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516720" y="4489560"/>
                      <a:ext cx="1855800" cy="14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Text Box 10"/>
            <p:cNvSpPr/>
            <p:nvPr/>
          </p:nvSpPr>
          <p:spPr>
            <a:xfrm>
              <a:off x="6564240" y="3813120"/>
              <a:ext cx="14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Tablet P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21" name="Group 17"/>
          <p:cNvGrpSpPr/>
          <p:nvPr/>
        </p:nvGrpSpPr>
        <p:grpSpPr>
          <a:xfrm>
            <a:off x="4378320" y="3813120"/>
            <a:ext cx="1457280" cy="2246400"/>
            <a:chOff x="4378320" y="3813120"/>
            <a:chExt cx="1457280" cy="2246400"/>
          </a:xfrm>
        </p:grpSpPr>
        <p:graphicFrame>
          <p:nvGraphicFramePr>
            <p:cNvPr id="222" name="Object 4"/>
            <p:cNvGraphicFramePr/>
            <p:nvPr/>
          </p:nvGraphicFramePr>
          <p:xfrm>
            <a:off x="4483080" y="4206960"/>
            <a:ext cx="1262160" cy="1852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23" name="Object 4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483080" y="4206960"/>
                      <a:ext cx="1262160" cy="18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Text Box 11"/>
            <p:cNvSpPr/>
            <p:nvPr/>
          </p:nvSpPr>
          <p:spPr>
            <a:xfrm>
              <a:off x="4378320" y="3813120"/>
              <a:ext cx="14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Handhel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5" name="Text Box 13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B98AC996-9AFA-4D85-A6DF-B94E023F464B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esktop Comput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re small enough to fit on top of or alongside a desk yet are too big to carry aroun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914400" y="590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1" name="Picture 14" descr=""/>
          <p:cNvPicPr/>
          <p:nvPr/>
        </p:nvPicPr>
        <p:blipFill>
          <a:blip r:embed="rId2"/>
          <a:stretch/>
        </p:blipFill>
        <p:spPr>
          <a:xfrm>
            <a:off x="3351240" y="3328920"/>
            <a:ext cx="2459160" cy="23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460F897B-1E35-4126-991A-615BB6D7FD47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Notebook or Laptop Computer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Notebook, also known as laptop computers, are portable, lightweight, and fit into most briefcas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914400" y="590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7" name="Picture 14" descr=""/>
          <p:cNvPicPr/>
          <p:nvPr/>
        </p:nvPicPr>
        <p:blipFill>
          <a:blip r:embed="rId2"/>
          <a:stretch/>
        </p:blipFill>
        <p:spPr>
          <a:xfrm>
            <a:off x="3276720" y="3529080"/>
            <a:ext cx="294300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CD51796F-F733-471B-A45D-E7C06A5D37D0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Tablet PC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s a type of notebook computer that accepts your handwriting. This input is digitized and converted to standard text that can be further processed by programs such as a word processo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914400" y="590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3" name="Picture 14" descr=""/>
          <p:cNvPicPr/>
          <p:nvPr/>
        </p:nvPicPr>
        <p:blipFill>
          <a:blip r:embed="rId2"/>
          <a:stretch/>
        </p:blipFill>
        <p:spPr>
          <a:xfrm>
            <a:off x="5508720" y="3852720"/>
            <a:ext cx="2896920" cy="22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E98FC72D-9749-4FCD-A097-E73F2F47EE46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Handheld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re the smallest and are also known as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palm computer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. These systems typically combine pen input, writing recognition, personal organizational tools, and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mmunications capabiliti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914400" y="590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Picture 14" descr=""/>
          <p:cNvPicPr/>
          <p:nvPr/>
        </p:nvPicPr>
        <p:blipFill>
          <a:blip r:embed="rId2"/>
          <a:stretch/>
        </p:blipFill>
        <p:spPr>
          <a:xfrm>
            <a:off x="6478560" y="3297240"/>
            <a:ext cx="1900440" cy="27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455A49D8-4A21-403D-A609-E2C527F82585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spcAft>
                <a:spcPts val="374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Explain the five parts of an information system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spcAft>
                <a:spcPts val="374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Distinguish between system and application software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spcAft>
                <a:spcPts val="374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Discuss the three kinds of system software programs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spcAft>
                <a:spcPts val="374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Distinguish between basic and specialized application software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spcAft>
                <a:spcPts val="374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Identify the four types of computers and microcomputers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A8750A16-14E7-496C-9197-99E2F231AAC9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icrocomputer Hardwar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System uni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Input/output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Secondary stor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ommunic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3" name="Picture 4" descr="ole36075_0111"/>
          <p:cNvPicPr/>
          <p:nvPr/>
        </p:nvPicPr>
        <p:blipFill>
          <a:blip r:embed="rId5"/>
          <a:stretch/>
        </p:blipFill>
        <p:spPr>
          <a:xfrm>
            <a:off x="4114800" y="3027240"/>
            <a:ext cx="4572000" cy="29894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397605F4-9B38-4C22-816C-E6CF1C3919FB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ata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aw, unprocessed fac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rocessing creates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inform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tored electronically in fi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ocument fi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orksheet fi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atabase fi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resentation fi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4035600" y="3330720"/>
            <a:ext cx="4771440" cy="2968200"/>
            <a:chOff x="4035600" y="3330720"/>
            <a:chExt cx="4771440" cy="2968200"/>
          </a:xfrm>
        </p:grpSpPr>
        <p:graphicFrame>
          <p:nvGraphicFramePr>
            <p:cNvPr id="259" name="Object 5"/>
            <p:cNvGraphicFramePr/>
            <p:nvPr/>
          </p:nvGraphicFramePr>
          <p:xfrm>
            <a:off x="4035600" y="3330720"/>
            <a:ext cx="2212560" cy="1660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60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035600" y="3330720"/>
                      <a:ext cx="2212560" cy="166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" name="Object 7"/>
            <p:cNvGraphicFramePr/>
            <p:nvPr/>
          </p:nvGraphicFramePr>
          <p:xfrm>
            <a:off x="4584600" y="3852720"/>
            <a:ext cx="2217240" cy="1350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62" name="Object 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584600" y="3852720"/>
                      <a:ext cx="2217240" cy="13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3" name="Object 8"/>
            <p:cNvGraphicFramePr/>
            <p:nvPr/>
          </p:nvGraphicFramePr>
          <p:xfrm>
            <a:off x="5186160" y="4389480"/>
            <a:ext cx="2144520" cy="1161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4" name="Object 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186160" y="4389480"/>
                      <a:ext cx="2144520" cy="11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9"/>
            <p:cNvGraphicFramePr/>
            <p:nvPr/>
          </p:nvGraphicFramePr>
          <p:xfrm>
            <a:off x="5722920" y="4807080"/>
            <a:ext cx="2228400" cy="14918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66" name="Object 9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722920" y="4807080"/>
                      <a:ext cx="2228400" cy="149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7" name="Text Box 10"/>
            <p:cNvSpPr/>
            <p:nvPr/>
          </p:nvSpPr>
          <p:spPr>
            <a:xfrm>
              <a:off x="6198840" y="3375000"/>
              <a:ext cx="111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Presentat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6734160" y="3898800"/>
              <a:ext cx="119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Databas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Text Box 12"/>
            <p:cNvSpPr/>
            <p:nvPr/>
          </p:nvSpPr>
          <p:spPr>
            <a:xfrm>
              <a:off x="7286400" y="4363920"/>
              <a:ext cx="99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Worksheet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Text Box 13"/>
            <p:cNvSpPr/>
            <p:nvPr/>
          </p:nvSpPr>
          <p:spPr>
            <a:xfrm>
              <a:off x="7827840" y="497376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Document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71" name="Text Box 1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A1B9863C-833E-469F-A639-2BD20D066559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ocument Fil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reated by word processors to save documents such as memos, term papers,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nd lett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914400" y="590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7" name="Picture 26" descr=""/>
          <p:cNvPicPr/>
          <p:nvPr/>
        </p:nvPicPr>
        <p:blipFill>
          <a:blip r:embed="rId2"/>
          <a:stretch/>
        </p:blipFill>
        <p:spPr>
          <a:xfrm>
            <a:off x="2822400" y="3390840"/>
            <a:ext cx="370872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164FE436-56EE-425B-B0FD-5181795900C6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orksheet Fil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reated by electronic spreadsheets to analyze things like budgets and to predict s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914400" y="590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3" name="Picture 15" descr=""/>
          <p:cNvPicPr/>
          <p:nvPr/>
        </p:nvPicPr>
        <p:blipFill>
          <a:blip r:embed="rId2"/>
          <a:stretch/>
        </p:blipFill>
        <p:spPr>
          <a:xfrm>
            <a:off x="2449440" y="3168720"/>
            <a:ext cx="4141800" cy="22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233534D7-79D3-41E4-9E06-B1EEEAA1631B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atabase Fil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ypically created by database management programs to contain highly structured and organized da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914400" y="590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9" name="Picture 15" descr=""/>
          <p:cNvPicPr/>
          <p:nvPr/>
        </p:nvPicPr>
        <p:blipFill>
          <a:blip r:embed="rId2"/>
          <a:stretch/>
        </p:blipFill>
        <p:spPr>
          <a:xfrm>
            <a:off x="2801880" y="3440160"/>
            <a:ext cx="371160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59FAB26F-8B5C-4443-83F5-0D08A9ECE733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esentation Fil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reated by presentation graphics programs to save presentation materials. For example, a file might contain audience handouts, speaker notes, and electronic slid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914400" y="5902200"/>
            <a:ext cx="67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5" name="Picture 15" descr=""/>
          <p:cNvPicPr/>
          <p:nvPr/>
        </p:nvPicPr>
        <p:blipFill>
          <a:blip r:embed="rId2"/>
          <a:stretch/>
        </p:blipFill>
        <p:spPr>
          <a:xfrm>
            <a:off x="5402160" y="3587760"/>
            <a:ext cx="3210120" cy="24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2882F14C-DEE5-4523-80FA-C0CB5967362D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nnectivity, the Wireless Revolution, and the Interne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onnectiv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haring of informatio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Wireles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mmunication is becoming popula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omputer network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nnected communication system of comput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argest network is the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Picture 4" descr="ole36075_pcut0112L"/>
          <p:cNvPicPr/>
          <p:nvPr/>
        </p:nvPicPr>
        <p:blipFill>
          <a:blip r:embed="rId7"/>
          <a:stretch/>
        </p:blipFill>
        <p:spPr>
          <a:xfrm>
            <a:off x="380880" y="4876920"/>
            <a:ext cx="1987560" cy="13842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93506B58-FAD2-4EFC-9A59-B23B2E68E6B1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Knowledge Foundation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05920" y="1599840"/>
            <a:ext cx="86979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596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eing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Computer Competent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means using and understanding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Information Technology (IT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5" name="Picture 91" descr=""/>
          <p:cNvPicPr/>
          <p:nvPr/>
        </p:nvPicPr>
        <p:blipFill>
          <a:blip r:embed="rId1"/>
          <a:stretch/>
        </p:blipFill>
        <p:spPr>
          <a:xfrm>
            <a:off x="3591000" y="3508200"/>
            <a:ext cx="2057400" cy="21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814546F3-1F4D-42CE-A932-47D5710EF7A3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ome Important IT Development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05920" y="1599840"/>
            <a:ext cx="86979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e Internet &amp;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the Web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owerful software &amp; hard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rivacy &amp; secur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rganiz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hanging Tim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9" name="Picture 1028" descr="ole36075_cut0101"/>
          <p:cNvPicPr/>
          <p:nvPr/>
        </p:nvPicPr>
        <p:blipFill>
          <a:blip r:embed="rId6"/>
          <a:stretch/>
        </p:blipFill>
        <p:spPr>
          <a:xfrm>
            <a:off x="4889520" y="3657600"/>
            <a:ext cx="3120840" cy="20829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29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C3BE099A-C3E4-4B72-9753-A482F88242CC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5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1 of 2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xplain the five parts of an information system. What part do people play in this system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at is system software? What kinds of programs are included in system softwar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fine and compare basic and specialized application software. Describe some different types of basic applications. Describe some types of specialized applica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4" name="Picture 4" descr="j2404a1q[1]"/>
          <p:cNvPicPr/>
          <p:nvPr/>
        </p:nvPicPr>
        <p:blipFill>
          <a:blip r:embed="rId4"/>
          <a:stretch/>
        </p:blipFill>
        <p:spPr>
          <a:xfrm>
            <a:off x="7380360" y="477720"/>
            <a:ext cx="1530360" cy="90036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2" dur="1" fill="hold"/>
                                  <p:tgtEl>
                                    <p:spTgt spid="3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48B94990-1995-4855-BF77-72AABD03538F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mpetencie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cribe the different types of hardwar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data and describe fil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xplain connectivity, the wireless revolution, and the Interne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3" name="Group 14"/>
          <p:cNvGrpSpPr/>
          <p:nvPr/>
        </p:nvGrpSpPr>
        <p:grpSpPr>
          <a:xfrm>
            <a:off x="1447920" y="3962520"/>
            <a:ext cx="6195960" cy="2133360"/>
            <a:chOff x="1447920" y="3962520"/>
            <a:chExt cx="6195960" cy="2133360"/>
          </a:xfrm>
        </p:grpSpPr>
        <p:pic>
          <p:nvPicPr>
            <p:cNvPr id="134" name="Picture 5" descr="ole36075_0102a"/>
            <p:cNvPicPr/>
            <p:nvPr/>
          </p:nvPicPr>
          <p:blipFill>
            <a:blip r:embed="rId4"/>
            <a:stretch/>
          </p:blipFill>
          <p:spPr>
            <a:xfrm>
              <a:off x="3200400" y="3962520"/>
              <a:ext cx="2514600" cy="16779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5" name="Object 9"/>
            <p:cNvGraphicFramePr/>
            <p:nvPr/>
          </p:nvGraphicFramePr>
          <p:xfrm>
            <a:off x="1447920" y="4343400"/>
            <a:ext cx="1342800" cy="1627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6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47920" y="4343400"/>
                      <a:ext cx="1342800" cy="16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Object 12"/>
            <p:cNvGraphicFramePr/>
            <p:nvPr/>
          </p:nvGraphicFramePr>
          <p:xfrm>
            <a:off x="6172200" y="4413240"/>
            <a:ext cx="1471680" cy="1682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8" name="Object 1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72200" y="4413240"/>
                      <a:ext cx="1471680" cy="168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9" name="Text Box 13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BCDB161E-992C-41E5-BE27-6B0C778A8EB2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scribe the different types of computers. What is the most common type? What are the types of microcomputers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at is connectivity? How are the wireless revolution and connectivity related? What is a computer network? What is the Internet? What is the Web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Picture 4" descr="j2404a1q[1]"/>
          <p:cNvPicPr/>
          <p:nvPr/>
        </p:nvPicPr>
        <p:blipFill>
          <a:blip r:embed="rId3"/>
          <a:stretch/>
        </p:blipFill>
        <p:spPr>
          <a:xfrm>
            <a:off x="7429680" y="506520"/>
            <a:ext cx="1481040" cy="8715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2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155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scussion Question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Page 2 of 2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3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a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4EC00639-3A66-414E-AC2F-1802118F4C9B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ve Parts of an Information </a:t>
            </a:r>
            <a:r>
              <a:rPr b="1" i="1" lang="en-US" sz="3600" spc="-1" strike="noStrike">
                <a:solidFill>
                  <a:srgbClr val="003366"/>
                </a:solidFill>
                <a:latin typeface="Times New Roman"/>
              </a:rPr>
              <a:t>System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4190760" cy="160020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190760" cy="160020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Picture 5" descr="ole36075_0101L"/>
          <p:cNvPicPr/>
          <p:nvPr/>
        </p:nvPicPr>
        <p:blipFill>
          <a:blip r:embed="rId1"/>
          <a:stretch/>
        </p:blipFill>
        <p:spPr>
          <a:xfrm>
            <a:off x="685800" y="3657600"/>
            <a:ext cx="7772400" cy="2440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5E0F2177-94BC-43E6-B7FA-E98A45A011F2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eopl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ost important part of any syste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tact is 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irec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direc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mputer us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usiness &amp; Entertain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ducation &amp; Medici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4191120" y="2360520"/>
            <a:ext cx="4275000" cy="3506760"/>
            <a:chOff x="4191120" y="2360520"/>
            <a:chExt cx="4275000" cy="3506760"/>
          </a:xfrm>
        </p:grpSpPr>
        <p:pic>
          <p:nvPicPr>
            <p:cNvPr id="150" name="Picture 4" descr="ole36075_0102a"/>
            <p:cNvPicPr/>
            <p:nvPr/>
          </p:nvPicPr>
          <p:blipFill>
            <a:blip r:embed="rId8"/>
            <a:stretch/>
          </p:blipFill>
          <p:spPr>
            <a:xfrm>
              <a:off x="4191120" y="2360520"/>
              <a:ext cx="2514600" cy="16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6" descr="ole36075_0102c"/>
            <p:cNvPicPr/>
            <p:nvPr/>
          </p:nvPicPr>
          <p:blipFill>
            <a:blip r:embed="rId9"/>
            <a:stretch/>
          </p:blipFill>
          <p:spPr>
            <a:xfrm>
              <a:off x="5943600" y="4184640"/>
              <a:ext cx="2522520" cy="168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Text Box 7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FB4EE309-C99C-4D26-8169-D4207DC6DB31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oftwar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Program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wo major kinds of soft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4" action="ppaction://hlinksldjump"/>
              </a:rPr>
              <a:t>System Soft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6" action="ppaction://hlinksldjump"/>
              </a:rPr>
              <a:t>Application Soft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Picture 4" descr="ole36075_cut0105L"/>
          <p:cNvPicPr/>
          <p:nvPr/>
        </p:nvPicPr>
        <p:blipFill>
          <a:blip r:embed="rId7"/>
          <a:stretch/>
        </p:blipFill>
        <p:spPr>
          <a:xfrm>
            <a:off x="5562720" y="3505320"/>
            <a:ext cx="2163600" cy="20113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18681FDD-1713-4973-8FEE-02D6E752CE94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System Softwar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collection of progra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nables the application software to interact with the hard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ackground software that helps the computer manage its own resour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Picture 4" descr="ole36075_0106a"/>
          <p:cNvPicPr/>
          <p:nvPr/>
        </p:nvPicPr>
        <p:blipFill>
          <a:blip r:embed="rId4"/>
          <a:stretch/>
        </p:blipFill>
        <p:spPr>
          <a:xfrm>
            <a:off x="5410080" y="3962520"/>
            <a:ext cx="2895840" cy="2171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357120" y="5410080"/>
            <a:ext cx="49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69D5575E-43CA-4B2C-B5C9-46FFB33DBCC0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324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End-user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” soft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wo major categor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General purpo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pecial purpo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pplication Softwar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79600" y="54100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9" name="Picture 10" descr=""/>
          <p:cNvPicPr/>
          <p:nvPr/>
        </p:nvPicPr>
        <p:blipFill>
          <a:blip r:embed="rId6"/>
          <a:stretch/>
        </p:blipFill>
        <p:spPr>
          <a:xfrm>
            <a:off x="4138560" y="3149640"/>
            <a:ext cx="4119480" cy="29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67520" y="6477120"/>
            <a:ext cx="20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CE06_PP01-</a:t>
            </a:r>
            <a:fld id="{730B9C46-856A-44C7-AF3B-0D9385D2F49E}" type="slidenum"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Hardware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324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quipment that processes the dat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ntrolled by softwa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hysical devic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Keyboa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ous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Moni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ther de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3" name="Picture 4" descr="ole36075_0110"/>
          <p:cNvPicPr/>
          <p:nvPr/>
        </p:nvPicPr>
        <p:blipFill>
          <a:blip r:embed="rId8"/>
          <a:stretch/>
        </p:blipFill>
        <p:spPr>
          <a:xfrm>
            <a:off x="4572000" y="2743200"/>
            <a:ext cx="3886200" cy="31766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0" y="6620040"/>
            <a:ext cx="801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i="1" lang="en-US" sz="1200" spc="-1" strike="noStrike">
                <a:solidFill>
                  <a:srgbClr val="f7ecd5"/>
                </a:solidFill>
                <a:latin typeface="Book Antiqua"/>
              </a:rPr>
              <a:t>Page 1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6:08:26Z</dcterms:created>
  <dc:creator>McGraw-Hill Higher Education</dc:creator>
  <dc:description/>
  <dc:language>en-US</dc:language>
  <cp:lastModifiedBy>elmustafah</cp:lastModifiedBy>
  <dcterms:modified xsi:type="dcterms:W3CDTF">2014-09-02T10:28:11Z</dcterms:modified>
  <cp:revision>264</cp:revision>
  <dc:subject/>
  <dc:title>PowerPoint Presentation</dc:title>
</cp:coreProperties>
</file>