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jpeg" ContentType="image/jpeg"/>
  <Override PartName="/ppt/media/image6.png" ContentType="image/png"/>
  <Override PartName="/ppt/media/image29.png" ContentType="image/png"/>
  <Override PartName="/ppt/media/image16.wmf" ContentType="image/x-wmf"/>
  <Override PartName="/ppt/media/image8.png" ContentType="image/png"/>
  <Override PartName="/ppt/media/image13.jpeg" ContentType="image/jpeg"/>
  <Override PartName="/ppt/media/image4.png" ContentType="image/png"/>
  <Override PartName="/ppt/media/image12.wmf" ContentType="image/x-wmf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5.png" ContentType="image/png"/>
  <Override PartName="/ppt/media/image10.png" ContentType="image/png"/>
  <Override PartName="/ppt/media/image33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25.png" ContentType="image/png"/>
  <Override PartName="/ppt/media/image19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7733-18AA-4B38-96DF-8B058B81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9253-4D45-472D-8F81-93D502B4F6D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the students why the Internet is often referred to as the Information Superhig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etent end users need to be aware of the resources available on the Internet and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list the resources they use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478C-B676-44E2-B651-AE4362DAB3F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8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uses the domain name system (DNS), which gives names and numbers to people an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 has three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name - identifies unique user or computer in the dom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name - references a specific organ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code - geographical location or organizational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com =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edu = education a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org = organizations (usually non-prof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net = major network centers (usually easier to access than commerc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gov =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1D2-6459-4245-AD51-6920950978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8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uses the domain name system (DNS), which gives names and numbers to people an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 has three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name - identifies unique user or computer in the dom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name - references a specific organ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code - geographical location or organizational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com =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edu = education a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org = organizations (usually non-prof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net = major network centers (usually easier to access than commerc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gov =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5B0-DEED-4C07-A289-DE7A688294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6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send e-mail to all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gn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sages 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sub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groups use the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popular discuss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ed on a special network called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t groups support live conver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C (Internet Relay Chat) favorite of many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ow “live” communication in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by typed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rking is good – Reading communications before contrib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s potential participants understand the culture of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s lists (instant messaging) to activate notification when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t join, then sign on to particip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are more private than Cha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5C8-5775-4B94-87D0-D5E6FCFB705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give examples of the each of the above discussion group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EE26-0531-4364-BD79-02D75D667D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alized programs that assist you in locating information on the Web and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 services ( providers) help you locate information; they maintain the database that helps you get where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al programs called agents, spiders, or bots, continually look for information and upd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 engines – assist you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a 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keyword search; know “rules” i.e. use + or quotes to look for phrases rather than individual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rectory search – list of categories or topics; also known as index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search engines – programs that automatically submit your search request to several search engine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212-5495-4CDB-9142-1E5EA9D81D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word search – enter a keyword or a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turns a number of 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hit includes a hyper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ory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n as an index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a category or topic that fits the information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: a recent study by the NEC Research Institute found that any one search engine includes only a fraction of the informational 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C2B-A01E-448F-ABE0-32AC48FB44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8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s that automatically submit your search request to several engines simultane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gine receives the results, eliminates duplicates, orders hits, and then provides the edited list to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11E-FB5B-45F6-A443-5F7190295A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commerce is buying and selling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basic types of electronic commerce: business to consumer; consumer to consumer; and business to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storefronts are virtual stores for B2C commerce; just like being in the store except you do it from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auctions growing in popularity; similar to traditional auctions – no one sees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tion house sites – merchandise presented for a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-person auction sites – more like flea markets; forum for buyers and sellers to g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payment -- easy, secure payment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s -- slowest and least conven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 cards -- easier to work with, somewhat vulnerable to 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cash or e-cash -- also known as cybercash and digital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chased from third party (usually a special bank); more secure than credit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595-3D84-4A89-9D40-859A9D6030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5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rtual stores for B2C electronic 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ppers visit stores on the Web to inspect merchandise and make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D15-9A16-4386-8F88-CB2B2820648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7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ilar to Web traditional a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yers and sellers seldom meet face-to-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the students if they have ever used E-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ABEB-A879-4B91-9083-E79AE3D304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071-67BC-4160-ACFA-37AD77CA45D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5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hallenge is the payment for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uld be reliable, secure, and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A08-9378-4E6C-8DD2-A2664B80956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lnet runs programs on remote computers; connect to another computer and run programs 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TP transfers files;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ile transfer protoco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; Internet service for file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loading - transmitting files to you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loading - transmitting files from your computer to anoth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-ins -- automatically loaded by and work with your browser; Acrobat Reader; Cosmos from Silicon Graphics (3-d displays); Media Player; QuickTime from Apple; RealPlayer; and Shockwave from Macro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er applications are independent programs executed from your browser designed to maximize your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-line browsers – Off-line search utilities – auto submit your search information to variety of engines and create an index for your review; auto save HTML documents to your 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on pushers – User selects topic areas or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 retrieves relevant information from the Web and stores it for viewing at the convenience of th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s – block access to specified sites; set tim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9D8-FC1A-45B2-B02F-04E7D72CC7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2 is a collaborative project between an assembly of universities, the government, and private resourc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ster downloads and less waiting time are some of the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1A1A-F6DD-406A-8062-A71DB8C5C5F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2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8E88-3A42-4DF2-B437-2BA36F4D708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2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5825-8D33-4D97-961A-5A4EDE446C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4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developed network system currently in use; connects people all over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ally started in 1969 when US funded a research project (ARPANET—Advanced Research Project Agency Networ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N – Center for European Nuclear Resear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Wide Web (Web) is a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Internet – not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nternet; introduced in 1992 by consortium in Switzer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ally started as research and text-based network to exchange research ideas from university to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ed into a network of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f the most powerful tools of the 2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7E1C-D2A8-4825-9CB4-748EF87D56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42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common Internet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ng - sending e-mail and discussion group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chat live with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what chat software they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pping – fastest-growing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ing - using virtual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ertainment – music downloads; integration of TV and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ducation or e-lear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take classes on almost any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BDE-C406-46E1-906B-F8205848AE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mon way to access the Internet is through a provider or host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- already connected to the Internet -- furnish a pathway for othe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ical provider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leges and universities – usually “f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service providers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 can be local (regional) or 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identify various ISPs used in their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 – like A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ional – smaller service 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telephone lin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connection through wireless mod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1E9-8E6E-484B-8056-8092AB9E23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3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s allow you to search or surf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vigate, search for information and communicate using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URL (uniform resource locator) to connect to other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parts to URL: protocol, rules for exchanging data between computers (usually http://); second is domain name or server where resource is located (www.cnn.c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CC7-48E7-4CB6-A219-CD0CBC4781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1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 is software that allows users to navigate the Web and read the multimedia formatted p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nect to Web sites using URL addresses (uniform resource loca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is sent to computer usually coded in HTML (Hypertext Markup Language) or some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the HTML codes displaying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on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links -- allow users to quickly connect to other pages or Web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914-3261-41A4-A1AB-A7B71C43B3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pages contain links to programs called app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special programs written in a programming language calle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programs can be quickly downloaded and run by most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A77B-A0BF-4746-ABE9-217C032F2F4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4920" y="4132440"/>
            <a:ext cx="5029200" cy="48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s is the most popular Interne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communic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-mail or electronic 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mission of electronic messages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s three basic parts: header, message, and 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ject – very important to include this in a mess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m – unsolicited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action, Nui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ion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e in forums and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mailing lists, newsgroups, chat groups, and instant messag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– message is sent to a list of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groups – uses a special network called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t - allows direct, live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C – Internet Relay Chat is a very popular cha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 – instant messaging, can send messages back and forth in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rking - this is a technique you can use before you participate in a discuss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observe and don't respond until you feel more comfortable with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FACD-C177-48B4-A89A-D50542513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2EEC-4B59-471E-893E-2B52CE18F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8BB0-2BFA-4B55-895B-8BAFFF3B5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A2E1-FD92-4BDC-963D-7E259950F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55DD-BBDF-4E79-ABE2-315CE198D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4752-F6CB-4C5E-97D3-A058AD0EC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2BD4-DF36-4DD0-9A33-F7BDBA9C1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569D-8CE0-4EFA-8138-7487D58F4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562C-3A76-4D23-AFF7-20CDCE4F8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A382-5C5F-4DD8-A2D5-AEAAF4F57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15AC-0CE9-42B8-AC35-91FCCDAE9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C1C-49FE-4641-9379-3D4D29E0E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0072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25A433D3-F484-493E-97B4-E6147699519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4" descr="Tech-EDlogo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6"/>
          <p:cNvSpPr/>
          <p:nvPr/>
        </p:nvSpPr>
        <p:spPr>
          <a:xfrm>
            <a:off x="0" y="657540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.png"/><Relationship Id="rId10" Type="http://schemas.openxmlformats.org/officeDocument/2006/relationships/image" Target="../media/image22.png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" Target="slide14.xm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hyperlink" Target="http://www.mamma.com/" TargetMode="External"/><Relationship Id="rId3" Type="http://schemas.openxmlformats.org/officeDocument/2006/relationships/hyperlink" Target="http://www.ixquick.com/" TargetMode="External"/><Relationship Id="rId4" Type="http://schemas.openxmlformats.org/officeDocument/2006/relationships/hyperlink" Target="http://www.dogpile.com/" TargetMode="Externa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wmf"/><Relationship Id="rId9" Type="http://schemas.openxmlformats.org/officeDocument/2006/relationships/image" Target="../media/image13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" Target="slide10.xml"/><Relationship Id="rId5" Type="http://schemas.openxmlformats.org/officeDocument/2006/relationships/image" Target="../media/image10.png"/><Relationship Id="rId6" Type="http://schemas.openxmlformats.org/officeDocument/2006/relationships/slide" Target="slide11.xml"/><Relationship Id="rId7" Type="http://schemas.openxmlformats.org/officeDocument/2006/relationships/image" Target="../media/image10.png"/><Relationship Id="rId8" Type="http://schemas.openxmlformats.org/officeDocument/2006/relationships/slide" Target="slide12.xml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2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 rot="16201200">
            <a:off x="6249240" y="1673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Oval 6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Oval 8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Picture 37" descr="Tech-EDlogo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8"/>
          <p:cNvSpPr/>
          <p:nvPr/>
        </p:nvSpPr>
        <p:spPr>
          <a:xfrm>
            <a:off x="5181480" y="3048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fafff"/>
                </a:solidFill>
                <a:latin typeface="Arial"/>
              </a:rPr>
              <a:t>THE INTERNET, THE WEB, AND ELECTRONIC COMMER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42" descr="OLearybookcover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6CDC1A39-9491-4F75-99F3-07E85EB231B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ransmission of electronic messages over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asic part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Header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Addres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Subject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Attachment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Messag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Signatur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nstant Messag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0"/>
          <a:stretch/>
        </p:blipFill>
        <p:spPr>
          <a:xfrm>
            <a:off x="4106880" y="2195640"/>
            <a:ext cx="463248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030">
            <a:hlinkClick r:id="rId11" action="ppaction://hlinksldjump"/>
          </p:cNvPr>
          <p:cNvSpPr/>
          <p:nvPr/>
        </p:nvSpPr>
        <p:spPr>
          <a:xfrm>
            <a:off x="3952800" y="5952960"/>
            <a:ext cx="48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2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2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AB6F05D4-99C3-47DC-8A8D-AC7C62BC058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-Mail Addres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165800" cy="1657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6">
            <a:hlinkClick r:id="" action="ppaction://hlinkshowjump?jump=previousslide"/>
          </p:cNvPr>
          <p:cNvSpPr/>
          <p:nvPr/>
        </p:nvSpPr>
        <p:spPr>
          <a:xfrm>
            <a:off x="914400" y="558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7F5ADF2B-2E0E-47DB-90B0-053D411DC48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Discussion Group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Mailing list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Newsgroup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Chat group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4"/>
          <a:stretch/>
        </p:blipFill>
        <p:spPr>
          <a:xfrm>
            <a:off x="4495680" y="1905120"/>
            <a:ext cx="4071960" cy="34257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6">
            <a:hlinkClick r:id="" action="ppaction://hlinkshowjump?jump=previousslide"/>
          </p:cNvPr>
          <p:cNvSpPr/>
          <p:nvPr/>
        </p:nvSpPr>
        <p:spPr>
          <a:xfrm>
            <a:off x="914400" y="567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EA7E497F-6166-4899-899B-06B912845BF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Discussion Group Ter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447920"/>
            <a:ext cx="8535960" cy="4871880"/>
            <a:chOff x="304920" y="1447920"/>
            <a:chExt cx="8535960" cy="4871880"/>
          </a:xfrm>
        </p:grpSpPr>
        <p:grpSp>
          <p:nvGrpSpPr>
            <p:cNvPr id="199" name="Group 4"/>
            <p:cNvGrpSpPr/>
            <p:nvPr/>
          </p:nvGrpSpPr>
          <p:grpSpPr>
            <a:xfrm>
              <a:off x="1981080" y="5497560"/>
              <a:ext cx="6858000" cy="820800"/>
              <a:chOff x="1981080" y="5497560"/>
              <a:chExt cx="6858000" cy="820800"/>
            </a:xfrm>
          </p:grpSpPr>
          <p:sp>
            <p:nvSpPr>
              <p:cNvPr id="200" name="AutoShape 5"/>
              <p:cNvSpPr/>
              <p:nvPr/>
            </p:nvSpPr>
            <p:spPr>
              <a:xfrm>
                <a:off x="1981080" y="5497560"/>
                <a:ext cx="6858000" cy="8208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Text Box 6"/>
              <p:cNvSpPr/>
              <p:nvPr/>
            </p:nvSpPr>
            <p:spPr>
              <a:xfrm>
                <a:off x="1981080" y="5497560"/>
                <a:ext cx="685800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Someone who has comprehensive knowledge about a subject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7"/>
            <p:cNvGrpSpPr/>
            <p:nvPr/>
          </p:nvGrpSpPr>
          <p:grpSpPr>
            <a:xfrm>
              <a:off x="304920" y="5497560"/>
              <a:ext cx="1674720" cy="819000"/>
              <a:chOff x="304920" y="5497560"/>
              <a:chExt cx="1674720" cy="819000"/>
            </a:xfrm>
          </p:grpSpPr>
          <p:sp>
            <p:nvSpPr>
              <p:cNvPr id="203" name="AutoShape 8"/>
              <p:cNvSpPr/>
              <p:nvPr/>
            </p:nvSpPr>
            <p:spPr>
              <a:xfrm>
                <a:off x="304920" y="5497560"/>
                <a:ext cx="1674720" cy="8190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Text Box 9"/>
              <p:cNvSpPr/>
              <p:nvPr/>
            </p:nvSpPr>
            <p:spPr>
              <a:xfrm>
                <a:off x="304920" y="549756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Wizar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0"/>
            <p:cNvGrpSpPr/>
            <p:nvPr/>
          </p:nvGrpSpPr>
          <p:grpSpPr>
            <a:xfrm>
              <a:off x="1981080" y="4822920"/>
              <a:ext cx="6858000" cy="674640"/>
              <a:chOff x="1981080" y="4822920"/>
              <a:chExt cx="6858000" cy="674640"/>
            </a:xfrm>
          </p:grpSpPr>
          <p:sp>
            <p:nvSpPr>
              <p:cNvPr id="206" name="AutoShape 11"/>
              <p:cNvSpPr/>
              <p:nvPr/>
            </p:nvSpPr>
            <p:spPr>
              <a:xfrm>
                <a:off x="1981080" y="482292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Text Box 12"/>
              <p:cNvSpPr/>
              <p:nvPr/>
            </p:nvSpPr>
            <p:spPr>
              <a:xfrm>
                <a:off x="1981080" y="482292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A sequence of ongoing messages on the same subject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13"/>
            <p:cNvGrpSpPr/>
            <p:nvPr/>
          </p:nvGrpSpPr>
          <p:grpSpPr>
            <a:xfrm>
              <a:off x="304920" y="4822920"/>
              <a:ext cx="1674720" cy="672840"/>
              <a:chOff x="304920" y="4822920"/>
              <a:chExt cx="1674720" cy="672840"/>
            </a:xfrm>
          </p:grpSpPr>
          <p:sp>
            <p:nvSpPr>
              <p:cNvPr id="209" name="AutoShape 14"/>
              <p:cNvSpPr/>
              <p:nvPr/>
            </p:nvSpPr>
            <p:spPr>
              <a:xfrm>
                <a:off x="304920" y="4822920"/>
                <a:ext cx="1674720" cy="6728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Text Box 15"/>
              <p:cNvSpPr/>
              <p:nvPr/>
            </p:nvSpPr>
            <p:spPr>
              <a:xfrm>
                <a:off x="304920" y="482292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Threa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1981080" y="4148280"/>
              <a:ext cx="6858000" cy="674640"/>
              <a:chOff x="1981080" y="4148280"/>
              <a:chExt cx="6858000" cy="674640"/>
            </a:xfrm>
          </p:grpSpPr>
          <p:sp>
            <p:nvSpPr>
              <p:cNvPr id="212" name="AutoShape 17"/>
              <p:cNvSpPr/>
              <p:nvPr/>
            </p:nvSpPr>
            <p:spPr>
              <a:xfrm>
                <a:off x="1981080" y="414828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Text Box 18"/>
              <p:cNvSpPr/>
              <p:nvPr/>
            </p:nvSpPr>
            <p:spPr>
              <a:xfrm>
                <a:off x="1981080" y="414828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Someone who aids new users by answering questions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9"/>
            <p:cNvGrpSpPr/>
            <p:nvPr/>
          </p:nvGrpSpPr>
          <p:grpSpPr>
            <a:xfrm>
              <a:off x="304920" y="4148280"/>
              <a:ext cx="1674720" cy="672840"/>
              <a:chOff x="304920" y="4148280"/>
              <a:chExt cx="1674720" cy="672840"/>
            </a:xfrm>
          </p:grpSpPr>
          <p:sp>
            <p:nvSpPr>
              <p:cNvPr id="215" name="AutoShape 20"/>
              <p:cNvSpPr/>
              <p:nvPr/>
            </p:nvSpPr>
            <p:spPr>
              <a:xfrm>
                <a:off x="304920" y="4148280"/>
                <a:ext cx="1674720" cy="6728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Text Box 21"/>
              <p:cNvSpPr/>
              <p:nvPr/>
            </p:nvSpPr>
            <p:spPr>
              <a:xfrm>
                <a:off x="304920" y="414828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Saint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2"/>
            <p:cNvGrpSpPr/>
            <p:nvPr/>
          </p:nvGrpSpPr>
          <p:grpSpPr>
            <a:xfrm>
              <a:off x="1981080" y="3471840"/>
              <a:ext cx="6858000" cy="676440"/>
              <a:chOff x="1981080" y="3471840"/>
              <a:chExt cx="6858000" cy="676440"/>
            </a:xfrm>
          </p:grpSpPr>
          <p:sp>
            <p:nvSpPr>
              <p:cNvPr id="218" name="AutoShape 23"/>
              <p:cNvSpPr/>
              <p:nvPr/>
            </p:nvSpPr>
            <p:spPr>
              <a:xfrm>
                <a:off x="1981080" y="3471840"/>
                <a:ext cx="6858000" cy="6764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Text Box 24"/>
              <p:cNvSpPr/>
              <p:nvPr/>
            </p:nvSpPr>
            <p:spPr>
              <a:xfrm>
                <a:off x="1981080" y="347184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Request for discussion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25"/>
            <p:cNvGrpSpPr/>
            <p:nvPr/>
          </p:nvGrpSpPr>
          <p:grpSpPr>
            <a:xfrm>
              <a:off x="304920" y="3471840"/>
              <a:ext cx="1674720" cy="674640"/>
              <a:chOff x="304920" y="3471840"/>
              <a:chExt cx="1674720" cy="674640"/>
            </a:xfrm>
          </p:grpSpPr>
          <p:sp>
            <p:nvSpPr>
              <p:cNvPr id="221" name="AutoShape 26"/>
              <p:cNvSpPr/>
              <p:nvPr/>
            </p:nvSpPr>
            <p:spPr>
              <a:xfrm>
                <a:off x="304920" y="3471840"/>
                <a:ext cx="167472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Text Box 27"/>
              <p:cNvSpPr/>
              <p:nvPr/>
            </p:nvSpPr>
            <p:spPr>
              <a:xfrm>
                <a:off x="304920" y="347184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RF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28"/>
            <p:cNvGrpSpPr/>
            <p:nvPr/>
          </p:nvGrpSpPr>
          <p:grpSpPr>
            <a:xfrm>
              <a:off x="1981080" y="2797200"/>
              <a:ext cx="6858000" cy="674640"/>
              <a:chOff x="1981080" y="2797200"/>
              <a:chExt cx="6858000" cy="674640"/>
            </a:xfrm>
          </p:grpSpPr>
          <p:sp>
            <p:nvSpPr>
              <p:cNvPr id="224" name="AutoShape 29"/>
              <p:cNvSpPr/>
              <p:nvPr/>
            </p:nvSpPr>
            <p:spPr>
              <a:xfrm>
                <a:off x="1981080" y="279720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Text Box 30"/>
              <p:cNvSpPr/>
              <p:nvPr/>
            </p:nvSpPr>
            <p:spPr>
              <a:xfrm>
                <a:off x="1981080" y="279720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Reading news but not joining in to contribute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31"/>
            <p:cNvGrpSpPr/>
            <p:nvPr/>
          </p:nvGrpSpPr>
          <p:grpSpPr>
            <a:xfrm>
              <a:off x="304920" y="2797200"/>
              <a:ext cx="1676160" cy="674640"/>
              <a:chOff x="304920" y="2797200"/>
              <a:chExt cx="1676160" cy="674640"/>
            </a:xfrm>
          </p:grpSpPr>
          <p:sp>
            <p:nvSpPr>
              <p:cNvPr id="227" name="AutoShape 32"/>
              <p:cNvSpPr/>
              <p:nvPr/>
            </p:nvSpPr>
            <p:spPr>
              <a:xfrm>
                <a:off x="304920" y="2797200"/>
                <a:ext cx="167616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Text Box 33"/>
              <p:cNvSpPr/>
              <p:nvPr/>
            </p:nvSpPr>
            <p:spPr>
              <a:xfrm>
                <a:off x="304920" y="2797200"/>
                <a:ext cx="167616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Lurking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34"/>
            <p:cNvGrpSpPr/>
            <p:nvPr/>
          </p:nvGrpSpPr>
          <p:grpSpPr>
            <a:xfrm>
              <a:off x="1981080" y="2122560"/>
              <a:ext cx="6858000" cy="674640"/>
              <a:chOff x="1981080" y="2122560"/>
              <a:chExt cx="6858000" cy="674640"/>
            </a:xfrm>
          </p:grpSpPr>
          <p:sp>
            <p:nvSpPr>
              <p:cNvPr id="230" name="AutoShape 35"/>
              <p:cNvSpPr/>
              <p:nvPr/>
            </p:nvSpPr>
            <p:spPr>
              <a:xfrm>
                <a:off x="1981080" y="212256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Text Box 36"/>
              <p:cNvSpPr/>
              <p:nvPr/>
            </p:nvSpPr>
            <p:spPr>
              <a:xfrm>
                <a:off x="1981080" y="212256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Insulting, putting down, or attacking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37"/>
            <p:cNvGrpSpPr/>
            <p:nvPr/>
          </p:nvGrpSpPr>
          <p:grpSpPr>
            <a:xfrm>
              <a:off x="304920" y="2122560"/>
              <a:ext cx="1674720" cy="673200"/>
              <a:chOff x="304920" y="2122560"/>
              <a:chExt cx="1674720" cy="67320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304920" y="2122560"/>
                <a:ext cx="1674720" cy="67320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Text Box 39"/>
              <p:cNvSpPr/>
              <p:nvPr/>
            </p:nvSpPr>
            <p:spPr>
              <a:xfrm>
                <a:off x="304920" y="212256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Flaming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0"/>
            <p:cNvGrpSpPr/>
            <p:nvPr/>
          </p:nvGrpSpPr>
          <p:grpSpPr>
            <a:xfrm>
              <a:off x="1981080" y="1447920"/>
              <a:ext cx="6858000" cy="674640"/>
              <a:chOff x="1981080" y="1447920"/>
              <a:chExt cx="6858000" cy="674640"/>
            </a:xfrm>
          </p:grpSpPr>
          <p:sp>
            <p:nvSpPr>
              <p:cNvPr id="236" name="AutoShape 41"/>
              <p:cNvSpPr/>
              <p:nvPr/>
            </p:nvSpPr>
            <p:spPr>
              <a:xfrm>
                <a:off x="1981080" y="144792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Text Box 42"/>
              <p:cNvSpPr/>
              <p:nvPr/>
            </p:nvSpPr>
            <p:spPr>
              <a:xfrm>
                <a:off x="1981080" y="1447920"/>
                <a:ext cx="685800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</a:rPr>
                  <a:t>Descriptio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43"/>
            <p:cNvGrpSpPr/>
            <p:nvPr/>
          </p:nvGrpSpPr>
          <p:grpSpPr>
            <a:xfrm>
              <a:off x="304920" y="1447920"/>
              <a:ext cx="1676160" cy="674640"/>
              <a:chOff x="304920" y="1447920"/>
              <a:chExt cx="1676160" cy="674640"/>
            </a:xfrm>
          </p:grpSpPr>
          <p:sp>
            <p:nvSpPr>
              <p:cNvPr id="239" name="AutoShape 44"/>
              <p:cNvSpPr/>
              <p:nvPr/>
            </p:nvSpPr>
            <p:spPr>
              <a:xfrm>
                <a:off x="304920" y="1447920"/>
                <a:ext cx="167616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Text Box 45"/>
              <p:cNvSpPr/>
              <p:nvPr/>
            </p:nvSpPr>
            <p:spPr>
              <a:xfrm>
                <a:off x="304920" y="1447920"/>
                <a:ext cx="167616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</a:rPr>
                  <a:t>Term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46"/>
            <p:cNvSpPr/>
            <p:nvPr/>
          </p:nvSpPr>
          <p:spPr>
            <a:xfrm>
              <a:off x="304920" y="144792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Line 47"/>
            <p:cNvSpPr/>
            <p:nvPr/>
          </p:nvSpPr>
          <p:spPr>
            <a:xfrm>
              <a:off x="304920" y="279720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Line 48"/>
            <p:cNvSpPr/>
            <p:nvPr/>
          </p:nvSpPr>
          <p:spPr>
            <a:xfrm>
              <a:off x="304920" y="347184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Line 49"/>
            <p:cNvSpPr/>
            <p:nvPr/>
          </p:nvSpPr>
          <p:spPr>
            <a:xfrm>
              <a:off x="304920" y="414828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Line 50"/>
            <p:cNvSpPr/>
            <p:nvPr/>
          </p:nvSpPr>
          <p:spPr>
            <a:xfrm>
              <a:off x="304920" y="482292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Line 51"/>
            <p:cNvSpPr/>
            <p:nvPr/>
          </p:nvSpPr>
          <p:spPr>
            <a:xfrm>
              <a:off x="304920" y="54975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Line 52"/>
            <p:cNvSpPr/>
            <p:nvPr/>
          </p:nvSpPr>
          <p:spPr>
            <a:xfrm>
              <a:off x="304920" y="63183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Line 53"/>
            <p:cNvSpPr/>
            <p:nvPr/>
          </p:nvSpPr>
          <p:spPr>
            <a:xfrm>
              <a:off x="304920" y="1447920"/>
              <a:ext cx="144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54"/>
            <p:cNvSpPr/>
            <p:nvPr/>
          </p:nvSpPr>
          <p:spPr>
            <a:xfrm>
              <a:off x="8839080" y="1447920"/>
              <a:ext cx="180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Line 55"/>
            <p:cNvSpPr/>
            <p:nvPr/>
          </p:nvSpPr>
          <p:spPr>
            <a:xfrm>
              <a:off x="1981080" y="1447920"/>
              <a:ext cx="180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56"/>
            <p:cNvSpPr/>
            <p:nvPr/>
          </p:nvSpPr>
          <p:spPr>
            <a:xfrm>
              <a:off x="304920" y="21225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2" name="Text Box 5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DDB9FCF2-FB2E-425D-90C3-C7A84C07141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arch Too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Search engin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Metasearch engin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Specialized search engin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6"/>
          <a:stretch/>
        </p:blipFill>
        <p:spPr>
          <a:xfrm>
            <a:off x="4851360" y="3322800"/>
            <a:ext cx="3832200" cy="28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D94B9197-41EA-4CE3-93DB-E1D32CA3603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arch Eng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pecialized programs to assist in locating information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 of search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Keyword search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Directory search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Text Box 8">
            <a:hlinkClick r:id="" action="ppaction://hlinkshowjump?jump=previousslide"/>
          </p:cNvPr>
          <p:cNvSpPr/>
          <p:nvPr/>
        </p:nvSpPr>
        <p:spPr>
          <a:xfrm>
            <a:off x="436680" y="57834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6"/>
          <a:stretch/>
        </p:blipFill>
        <p:spPr>
          <a:xfrm>
            <a:off x="4033800" y="2651040"/>
            <a:ext cx="4446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58A2EB70-8925-4D94-BBBA-4817F23E3EA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Metasearch Eng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1066680" y="1523880"/>
            <a:ext cx="7317000" cy="4557600"/>
            <a:chOff x="1066680" y="1523880"/>
            <a:chExt cx="7317000" cy="4557600"/>
          </a:xfrm>
        </p:grpSpPr>
        <p:grpSp>
          <p:nvGrpSpPr>
            <p:cNvPr id="267" name="Group 4"/>
            <p:cNvGrpSpPr/>
            <p:nvPr/>
          </p:nvGrpSpPr>
          <p:grpSpPr>
            <a:xfrm>
              <a:off x="4267080" y="5510520"/>
              <a:ext cx="4114800" cy="569520"/>
              <a:chOff x="4267080" y="5510520"/>
              <a:chExt cx="4114800" cy="569520"/>
            </a:xfrm>
          </p:grpSpPr>
          <p:sp>
            <p:nvSpPr>
              <p:cNvPr id="268" name="AutoShape 5"/>
              <p:cNvSpPr/>
              <p:nvPr/>
            </p:nvSpPr>
            <p:spPr>
              <a:xfrm>
                <a:off x="4267080" y="551052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Text Box 6"/>
              <p:cNvSpPr/>
              <p:nvPr/>
            </p:nvSpPr>
            <p:spPr>
              <a:xfrm>
                <a:off x="4267080" y="551052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vivisimo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"/>
            <p:cNvGrpSpPr/>
            <p:nvPr/>
          </p:nvGrpSpPr>
          <p:grpSpPr>
            <a:xfrm>
              <a:off x="1066680" y="5510520"/>
              <a:ext cx="3200400" cy="569520"/>
              <a:chOff x="1066680" y="5510520"/>
              <a:chExt cx="3200400" cy="569520"/>
            </a:xfrm>
          </p:grpSpPr>
          <p:sp>
            <p:nvSpPr>
              <p:cNvPr id="271" name="AutoShape 8"/>
              <p:cNvSpPr/>
              <p:nvPr/>
            </p:nvSpPr>
            <p:spPr>
              <a:xfrm>
                <a:off x="1066680" y="551052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Text Box 9"/>
              <p:cNvSpPr/>
              <p:nvPr/>
            </p:nvSpPr>
            <p:spPr>
              <a:xfrm>
                <a:off x="1066680" y="551052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Vivisimo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"/>
            <p:cNvGrpSpPr/>
            <p:nvPr/>
          </p:nvGrpSpPr>
          <p:grpSpPr>
            <a:xfrm>
              <a:off x="4267080" y="4941000"/>
              <a:ext cx="4114800" cy="569160"/>
              <a:chOff x="4267080" y="4941000"/>
              <a:chExt cx="4114800" cy="569160"/>
            </a:xfrm>
          </p:grpSpPr>
          <p:sp>
            <p:nvSpPr>
              <p:cNvPr id="274" name="AutoShape 11"/>
              <p:cNvSpPr/>
              <p:nvPr/>
            </p:nvSpPr>
            <p:spPr>
              <a:xfrm>
                <a:off x="4267080" y="494100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Text Box 12"/>
              <p:cNvSpPr/>
              <p:nvPr/>
            </p:nvSpPr>
            <p:spPr>
              <a:xfrm>
                <a:off x="4267080" y="494100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search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3"/>
            <p:cNvGrpSpPr/>
            <p:nvPr/>
          </p:nvGrpSpPr>
          <p:grpSpPr>
            <a:xfrm>
              <a:off x="1066680" y="4941000"/>
              <a:ext cx="3200400" cy="569160"/>
              <a:chOff x="1066680" y="4941000"/>
              <a:chExt cx="3200400" cy="569160"/>
            </a:xfrm>
          </p:grpSpPr>
          <p:sp>
            <p:nvSpPr>
              <p:cNvPr id="277" name="AutoShape 14"/>
              <p:cNvSpPr/>
              <p:nvPr/>
            </p:nvSpPr>
            <p:spPr>
              <a:xfrm>
                <a:off x="1066680" y="494100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Text Box 15"/>
              <p:cNvSpPr/>
              <p:nvPr/>
            </p:nvSpPr>
            <p:spPr>
              <a:xfrm>
                <a:off x="1066680" y="494100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Search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6"/>
            <p:cNvGrpSpPr/>
            <p:nvPr/>
          </p:nvGrpSpPr>
          <p:grpSpPr>
            <a:xfrm>
              <a:off x="4267080" y="4371480"/>
              <a:ext cx="4114800" cy="569520"/>
              <a:chOff x="4267080" y="4371480"/>
              <a:chExt cx="4114800" cy="569520"/>
            </a:xfrm>
          </p:grpSpPr>
          <p:sp>
            <p:nvSpPr>
              <p:cNvPr id="280" name="AutoShape 17"/>
              <p:cNvSpPr/>
              <p:nvPr/>
            </p:nvSpPr>
            <p:spPr>
              <a:xfrm>
                <a:off x="4267080" y="437148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4267080" y="437148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profusion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9"/>
            <p:cNvGrpSpPr/>
            <p:nvPr/>
          </p:nvGrpSpPr>
          <p:grpSpPr>
            <a:xfrm>
              <a:off x="1066680" y="4371480"/>
              <a:ext cx="3200400" cy="569520"/>
              <a:chOff x="1066680" y="4371480"/>
              <a:chExt cx="3200400" cy="569520"/>
            </a:xfrm>
          </p:grpSpPr>
          <p:sp>
            <p:nvSpPr>
              <p:cNvPr id="283" name="AutoShape 20"/>
              <p:cNvSpPr/>
              <p:nvPr/>
            </p:nvSpPr>
            <p:spPr>
              <a:xfrm>
                <a:off x="1066680" y="437148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Text Box 21"/>
              <p:cNvSpPr/>
              <p:nvPr/>
            </p:nvSpPr>
            <p:spPr>
              <a:xfrm>
                <a:off x="1066680" y="437148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ProFusion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22"/>
            <p:cNvGrpSpPr/>
            <p:nvPr/>
          </p:nvGrpSpPr>
          <p:grpSpPr>
            <a:xfrm>
              <a:off x="4267080" y="3801960"/>
              <a:ext cx="4114800" cy="569160"/>
              <a:chOff x="4267080" y="3801960"/>
              <a:chExt cx="4114800" cy="569160"/>
            </a:xfrm>
          </p:grpSpPr>
          <p:sp>
            <p:nvSpPr>
              <p:cNvPr id="286" name="AutoShape 23"/>
              <p:cNvSpPr/>
              <p:nvPr/>
            </p:nvSpPr>
            <p:spPr>
              <a:xfrm>
                <a:off x="4267080" y="380196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Text Box 24"/>
              <p:cNvSpPr/>
              <p:nvPr/>
            </p:nvSpPr>
            <p:spPr>
              <a:xfrm>
                <a:off x="4267080" y="380196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1"/>
                  </a:rPr>
                  <a:t>www.metacrawler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25"/>
            <p:cNvGrpSpPr/>
            <p:nvPr/>
          </p:nvGrpSpPr>
          <p:grpSpPr>
            <a:xfrm>
              <a:off x="1066680" y="3801960"/>
              <a:ext cx="3200400" cy="569160"/>
              <a:chOff x="1066680" y="3801960"/>
              <a:chExt cx="3200400" cy="569160"/>
            </a:xfrm>
          </p:grpSpPr>
          <p:sp>
            <p:nvSpPr>
              <p:cNvPr id="289" name="AutoShape 26"/>
              <p:cNvSpPr/>
              <p:nvPr/>
            </p:nvSpPr>
            <p:spPr>
              <a:xfrm>
                <a:off x="1066680" y="380196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Text Box 27"/>
              <p:cNvSpPr/>
              <p:nvPr/>
            </p:nvSpPr>
            <p:spPr>
              <a:xfrm>
                <a:off x="1066680" y="380196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MetaCrawler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4267080" y="3232440"/>
              <a:ext cx="4114800" cy="570600"/>
              <a:chOff x="4267080" y="3232440"/>
              <a:chExt cx="4114800" cy="570600"/>
            </a:xfrm>
          </p:grpSpPr>
          <p:sp>
            <p:nvSpPr>
              <p:cNvPr id="292" name="AutoShape 29"/>
              <p:cNvSpPr/>
              <p:nvPr/>
            </p:nvSpPr>
            <p:spPr>
              <a:xfrm>
                <a:off x="4267080" y="3232440"/>
                <a:ext cx="4114800" cy="57060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Text Box 30"/>
              <p:cNvSpPr/>
              <p:nvPr/>
            </p:nvSpPr>
            <p:spPr>
              <a:xfrm>
                <a:off x="4267080" y="323244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2"/>
                  </a:rPr>
                  <a:t>www.mamma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31"/>
            <p:cNvGrpSpPr/>
            <p:nvPr/>
          </p:nvGrpSpPr>
          <p:grpSpPr>
            <a:xfrm>
              <a:off x="1066680" y="3232440"/>
              <a:ext cx="3200400" cy="570600"/>
              <a:chOff x="1066680" y="3232440"/>
              <a:chExt cx="3200400" cy="570600"/>
            </a:xfrm>
          </p:grpSpPr>
          <p:sp>
            <p:nvSpPr>
              <p:cNvPr id="295" name="AutoShape 32"/>
              <p:cNvSpPr/>
              <p:nvPr/>
            </p:nvSpPr>
            <p:spPr>
              <a:xfrm>
                <a:off x="1066680" y="3232440"/>
                <a:ext cx="3200400" cy="57060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Text Box 33"/>
              <p:cNvSpPr/>
              <p:nvPr/>
            </p:nvSpPr>
            <p:spPr>
              <a:xfrm>
                <a:off x="1066680" y="323244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Mamma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34"/>
            <p:cNvGrpSpPr/>
            <p:nvPr/>
          </p:nvGrpSpPr>
          <p:grpSpPr>
            <a:xfrm>
              <a:off x="4267080" y="2662920"/>
              <a:ext cx="4114800" cy="569520"/>
              <a:chOff x="4267080" y="2662920"/>
              <a:chExt cx="4114800" cy="569520"/>
            </a:xfrm>
          </p:grpSpPr>
          <p:sp>
            <p:nvSpPr>
              <p:cNvPr id="298" name="AutoShape 35"/>
              <p:cNvSpPr/>
              <p:nvPr/>
            </p:nvSpPr>
            <p:spPr>
              <a:xfrm>
                <a:off x="4267080" y="266292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Text Box 36"/>
              <p:cNvSpPr/>
              <p:nvPr/>
            </p:nvSpPr>
            <p:spPr>
              <a:xfrm>
                <a:off x="4267080" y="266292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3"/>
                  </a:rPr>
                  <a:t>www.ixquick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37"/>
            <p:cNvGrpSpPr/>
            <p:nvPr/>
          </p:nvGrpSpPr>
          <p:grpSpPr>
            <a:xfrm>
              <a:off x="1066680" y="2662920"/>
              <a:ext cx="3200400" cy="569520"/>
              <a:chOff x="1066680" y="2662920"/>
              <a:chExt cx="3200400" cy="569520"/>
            </a:xfrm>
          </p:grpSpPr>
          <p:sp>
            <p:nvSpPr>
              <p:cNvPr id="301" name="AutoShape 38"/>
              <p:cNvSpPr/>
              <p:nvPr/>
            </p:nvSpPr>
            <p:spPr>
              <a:xfrm>
                <a:off x="1066680" y="266292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Text Box 39"/>
              <p:cNvSpPr/>
              <p:nvPr/>
            </p:nvSpPr>
            <p:spPr>
              <a:xfrm>
                <a:off x="1066680" y="266292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Ixquick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40"/>
            <p:cNvGrpSpPr/>
            <p:nvPr/>
          </p:nvGrpSpPr>
          <p:grpSpPr>
            <a:xfrm>
              <a:off x="4267080" y="2093400"/>
              <a:ext cx="4114800" cy="569160"/>
              <a:chOff x="4267080" y="2093400"/>
              <a:chExt cx="4114800" cy="569160"/>
            </a:xfrm>
          </p:grpSpPr>
          <p:sp>
            <p:nvSpPr>
              <p:cNvPr id="304" name="AutoShape 41"/>
              <p:cNvSpPr/>
              <p:nvPr/>
            </p:nvSpPr>
            <p:spPr>
              <a:xfrm>
                <a:off x="4267080" y="209340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Text Box 42"/>
              <p:cNvSpPr/>
              <p:nvPr/>
            </p:nvSpPr>
            <p:spPr>
              <a:xfrm>
                <a:off x="4267080" y="209340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4"/>
                  </a:rPr>
                  <a:t>www.dogpile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43"/>
            <p:cNvGrpSpPr/>
            <p:nvPr/>
          </p:nvGrpSpPr>
          <p:grpSpPr>
            <a:xfrm>
              <a:off x="1066680" y="2093400"/>
              <a:ext cx="3200400" cy="569160"/>
              <a:chOff x="1066680" y="2093400"/>
              <a:chExt cx="3200400" cy="569160"/>
            </a:xfrm>
          </p:grpSpPr>
          <p:sp>
            <p:nvSpPr>
              <p:cNvPr id="307" name="AutoShape 44"/>
              <p:cNvSpPr/>
              <p:nvPr/>
            </p:nvSpPr>
            <p:spPr>
              <a:xfrm>
                <a:off x="1066680" y="209340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Text Box 45"/>
              <p:cNvSpPr/>
              <p:nvPr/>
            </p:nvSpPr>
            <p:spPr>
              <a:xfrm>
                <a:off x="1066680" y="209340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Dogpile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46"/>
            <p:cNvGrpSpPr/>
            <p:nvPr/>
          </p:nvGrpSpPr>
          <p:grpSpPr>
            <a:xfrm>
              <a:off x="4267080" y="1523880"/>
              <a:ext cx="4114800" cy="569520"/>
              <a:chOff x="4267080" y="1523880"/>
              <a:chExt cx="4114800" cy="569520"/>
            </a:xfrm>
          </p:grpSpPr>
          <p:sp>
            <p:nvSpPr>
              <p:cNvPr id="310" name="AutoShape 47"/>
              <p:cNvSpPr/>
              <p:nvPr/>
            </p:nvSpPr>
            <p:spPr>
              <a:xfrm>
                <a:off x="4267080" y="152388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Text Box 48"/>
              <p:cNvSpPr/>
              <p:nvPr/>
            </p:nvSpPr>
            <p:spPr>
              <a:xfrm>
                <a:off x="4267080" y="1523880"/>
                <a:ext cx="4114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3366"/>
                    </a:solidFill>
                    <a:latin typeface="Times New Roman"/>
                  </a:rPr>
                  <a:t>Site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49"/>
            <p:cNvGrpSpPr/>
            <p:nvPr/>
          </p:nvGrpSpPr>
          <p:grpSpPr>
            <a:xfrm>
              <a:off x="1066680" y="1523880"/>
              <a:ext cx="3200400" cy="569520"/>
              <a:chOff x="1066680" y="1523880"/>
              <a:chExt cx="3200400" cy="569520"/>
            </a:xfrm>
          </p:grpSpPr>
          <p:sp>
            <p:nvSpPr>
              <p:cNvPr id="313" name="AutoShape 50"/>
              <p:cNvSpPr/>
              <p:nvPr/>
            </p:nvSpPr>
            <p:spPr>
              <a:xfrm>
                <a:off x="1066680" y="152388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Text Box 51"/>
              <p:cNvSpPr/>
              <p:nvPr/>
            </p:nvSpPr>
            <p:spPr>
              <a:xfrm>
                <a:off x="1066680" y="1523880"/>
                <a:ext cx="32004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3366"/>
                    </a:solidFill>
                    <a:latin typeface="Times New Roman"/>
                  </a:rPr>
                  <a:t>Metasearch Service 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52"/>
            <p:cNvSpPr/>
            <p:nvPr/>
          </p:nvSpPr>
          <p:spPr>
            <a:xfrm>
              <a:off x="1066680" y="152388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>
              <a:off x="1066680" y="20934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54"/>
            <p:cNvSpPr/>
            <p:nvPr/>
          </p:nvSpPr>
          <p:spPr>
            <a:xfrm>
              <a:off x="1066680" y="266292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Line 55"/>
            <p:cNvSpPr/>
            <p:nvPr/>
          </p:nvSpPr>
          <p:spPr>
            <a:xfrm>
              <a:off x="1066680" y="323244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Line 56"/>
            <p:cNvSpPr/>
            <p:nvPr/>
          </p:nvSpPr>
          <p:spPr>
            <a:xfrm>
              <a:off x="1066680" y="380196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Line 57"/>
            <p:cNvSpPr/>
            <p:nvPr/>
          </p:nvSpPr>
          <p:spPr>
            <a:xfrm>
              <a:off x="1066680" y="437148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Line 58"/>
            <p:cNvSpPr/>
            <p:nvPr/>
          </p:nvSpPr>
          <p:spPr>
            <a:xfrm>
              <a:off x="1066680" y="49410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Line 59"/>
            <p:cNvSpPr/>
            <p:nvPr/>
          </p:nvSpPr>
          <p:spPr>
            <a:xfrm>
              <a:off x="1066680" y="551052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Line 60"/>
            <p:cNvSpPr/>
            <p:nvPr/>
          </p:nvSpPr>
          <p:spPr>
            <a:xfrm>
              <a:off x="1066680" y="60804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Line 61"/>
            <p:cNvSpPr/>
            <p:nvPr/>
          </p:nvSpPr>
          <p:spPr>
            <a:xfrm>
              <a:off x="10666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Line 62"/>
            <p:cNvSpPr/>
            <p:nvPr/>
          </p:nvSpPr>
          <p:spPr>
            <a:xfrm>
              <a:off x="42670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Line 63"/>
            <p:cNvSpPr/>
            <p:nvPr/>
          </p:nvSpPr>
          <p:spPr>
            <a:xfrm>
              <a:off x="83818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7" name="Text Box 6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65">
            <a:hlinkClick r:id="" action="ppaction://hlinkshowjump?jump=previousslide"/>
          </p:cNvPr>
          <p:cNvSpPr/>
          <p:nvPr/>
        </p:nvSpPr>
        <p:spPr>
          <a:xfrm>
            <a:off x="576360" y="6107040"/>
            <a:ext cx="79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A4EB441E-B3FC-487C-84AC-A2F4395E5D7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lectronic Commerc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lso known as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e-commerc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uying and selling of goods over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usiness-to-consumer (B2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Consumer-to-consumer (C2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usiness-to-business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2B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6"/>
          <a:stretch/>
        </p:blipFill>
        <p:spPr>
          <a:xfrm>
            <a:off x="6248520" y="3124080"/>
            <a:ext cx="1873080" cy="26672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08EE57E2-329B-41CF-BFC0-67443C96234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Storefron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Virtual stor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eb storefront creation packag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so called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commerce servers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Help businesses create virtual stor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low visitors to register, 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browse, and make purchas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6"/>
          <a:stretch/>
        </p:blipFill>
        <p:spPr>
          <a:xfrm>
            <a:off x="5626080" y="3873600"/>
            <a:ext cx="305748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F157F9FE-66FB-4A28-A3B8-403078632BC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Au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nsumer-to-consumer e-commerce (C2C)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imilar to traditional auction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uction house sit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Person-to-person </a:t>
            </a:r>
            <a:br>
              <a:rPr sz="2800"/>
            </a:b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uction site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4568760" y="3098880"/>
            <a:ext cx="37940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7C2A1347-952A-4A27-9461-CE58769CD7D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the origins of the Internet and the We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escribe how to access the We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Internet communica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escribe Internet search too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electronic commerc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Web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5799240" y="3076560"/>
            <a:ext cx="2923920" cy="3095640"/>
            <a:chOff x="5799240" y="3076560"/>
            <a:chExt cx="2923920" cy="3095640"/>
          </a:xfrm>
        </p:grpSpPr>
        <p:graphicFrame>
          <p:nvGraphicFramePr>
            <p:cNvPr id="131" name="Object 10"/>
            <p:cNvGraphicFramePr/>
            <p:nvPr/>
          </p:nvGraphicFramePr>
          <p:xfrm>
            <a:off x="6585120" y="3076560"/>
            <a:ext cx="2138040" cy="1601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2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85120" y="3076560"/>
                      <a:ext cx="2138040" cy="16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1"/>
            <p:cNvGraphicFramePr/>
            <p:nvPr/>
          </p:nvGraphicFramePr>
          <p:xfrm>
            <a:off x="5799240" y="4478400"/>
            <a:ext cx="2114280" cy="169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99240" y="4478400"/>
                      <a:ext cx="2114280" cy="16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AB2AB2B3-8532-424D-8463-1079F0C7464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curity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Payment methods must be fast, reliable, and secu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hree basic op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heck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redit car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Electronic cash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E-cash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Cybercash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Digital cash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9"/>
          <a:stretch/>
        </p:blipFill>
        <p:spPr>
          <a:xfrm>
            <a:off x="4213080" y="2692440"/>
            <a:ext cx="4496040" cy="3490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36449558-8EF1-4B84-BAE8-DF125A410D7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520" y="1599840"/>
            <a:ext cx="83865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Tel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FT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Plug-i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Filt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927520" y="2251080"/>
          <a:ext cx="5649840" cy="3771720"/>
        </p:xfrm>
        <a:graphic>
          <a:graphicData uri="http://schemas.openxmlformats.org/drawingml/2006/table">
            <a:tbl>
              <a:tblPr/>
              <a:tblGrid>
                <a:gridCol w="2293920"/>
                <a:gridCol w="335592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lug-in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80b3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12240">
                      <a:solidFill>
                        <a:srgbClr val="80b3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crobat Read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d9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adobe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d98a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dia Play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2ff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microsoft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2ffb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uickTim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0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apple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0d2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alPlay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8f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real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8f0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hockwav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80b3ff"/>
                      </a:solidFill>
                    </a:lnB>
                    <a:solidFill>
                      <a:srgbClr val="ffd9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macromedia.com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80b3ff"/>
                      </a:solidFill>
                    </a:lnB>
                    <a:solidFill>
                      <a:srgbClr val="ffd98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90F7E12A-4A73-46B6-AC59-031AB78CF68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236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GB" sz="2800" spc="-1" strike="noStrike">
                <a:solidFill>
                  <a:srgbClr val="006699"/>
                </a:solidFill>
                <a:latin typeface="Times New Roman"/>
              </a:rPr>
              <a:t>Internet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 high bandwidth project for media-intensive fil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llaboration of universities, the government, and private industr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100 times faster than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Not a separate Inter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5"/>
          <a:stretch/>
        </p:blipFill>
        <p:spPr>
          <a:xfrm>
            <a:off x="5619600" y="4373640"/>
            <a:ext cx="2746440" cy="1801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162AE7E5-BD09-4C85-BDB3-071A1B4AD7C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Discuss the uses of the Internet. Which activities have you participated in? Which one do you think is the most popular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plain the differences between the three types of providers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hat are the basic elements of an e-mail message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Picture 3" descr="j2404a1q[1]"/>
          <p:cNvPicPr/>
          <p:nvPr/>
        </p:nvPicPr>
        <p:blipFill>
          <a:blip r:embed="rId4"/>
          <a:stretch/>
        </p:blipFill>
        <p:spPr>
          <a:xfrm>
            <a:off x="7454880" y="520560"/>
            <a:ext cx="1455840" cy="857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A637A664-F586-4388-8C9C-6382164EA5D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hat are the types of discussion groups? Describe any groups you participate in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Describe the different types of search engines. Give an example of the type of search each engine is best for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Picture 3" descr="j2404a1q[1]"/>
          <p:cNvPicPr/>
          <p:nvPr/>
        </p:nvPicPr>
        <p:blipFill>
          <a:blip r:embed="rId3"/>
          <a:stretch/>
        </p:blipFill>
        <p:spPr>
          <a:xfrm>
            <a:off x="7294680" y="426960"/>
            <a:ext cx="1616040" cy="9511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5420736A-4380-4A91-9698-BAEB00DEA00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The Internet and the Web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arge network that connects smaller networks globall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aunched in 1969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National computer network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US funded project called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RPANET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orld Wide Web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introduced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in 1992 at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CERN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6"/>
          <a:stretch/>
        </p:blipFill>
        <p:spPr>
          <a:xfrm>
            <a:off x="5916600" y="4317840"/>
            <a:ext cx="2773440" cy="1843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1ED93696-02C6-47DB-9B17-58A2C300CF7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Common Internet 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unicating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change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Discussion Group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hopp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earch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Entertainmen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Education or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e-learning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4533840" y="1886040"/>
            <a:ext cx="3848040" cy="4329000"/>
            <a:chOff x="4533840" y="1886040"/>
            <a:chExt cx="3848040" cy="4329000"/>
          </a:xfrm>
        </p:grpSpPr>
        <p:pic>
          <p:nvPicPr>
            <p:cNvPr id="145" name="Picture 5" descr=""/>
            <p:cNvPicPr/>
            <p:nvPr/>
          </p:nvPicPr>
          <p:blipFill>
            <a:blip r:embed="rId8"/>
            <a:stretch/>
          </p:blipFill>
          <p:spPr>
            <a:xfrm>
              <a:off x="6222960" y="2514600"/>
              <a:ext cx="13446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9"/>
            <a:stretch/>
          </p:blipFill>
          <p:spPr>
            <a:xfrm>
              <a:off x="5867280" y="4419720"/>
              <a:ext cx="2514600" cy="1795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Object 8"/>
            <p:cNvGraphicFramePr/>
            <p:nvPr/>
          </p:nvGraphicFramePr>
          <p:xfrm>
            <a:off x="4533840" y="1886040"/>
            <a:ext cx="1141560" cy="1284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8" name="Object 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33840" y="1886040"/>
                      <a:ext cx="114156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F6F746CE-9F0C-4972-81A7-F15724CAEA1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Access Provid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on way to access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ercial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nternet Service Providers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SP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Nationa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Regiona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ireless service</a:t>
            </a:r>
            <a:br>
              <a:rPr sz="3200"/>
            </a:b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provid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4705200" y="3157560"/>
            <a:ext cx="350208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835B282A-B2D3-4A53-9EFF-E50FE6E9D05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Browser Basic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2680" y="1600200"/>
            <a:ext cx="878868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Programs that provide access to Web resourc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llow you to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surf 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he Inter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wo well-known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brows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Netscape Navigato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Microsoft Internet Explor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Address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location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of the resource must be specified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UR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3733920" y="2519280"/>
            <a:ext cx="4844880" cy="3625920"/>
            <a:chOff x="3733920" y="2519280"/>
            <a:chExt cx="4844880" cy="3625920"/>
          </a:xfrm>
        </p:grpSpPr>
        <p:pic>
          <p:nvPicPr>
            <p:cNvPr id="159" name="Picture 5" descr=""/>
            <p:cNvPicPr/>
            <p:nvPr/>
          </p:nvPicPr>
          <p:blipFill>
            <a:blip r:embed="rId8"/>
            <a:stretch/>
          </p:blipFill>
          <p:spPr>
            <a:xfrm>
              <a:off x="3733920" y="5003640"/>
              <a:ext cx="1501560" cy="1141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0" name="Object 8"/>
            <p:cNvGraphicFramePr/>
            <p:nvPr/>
          </p:nvGraphicFramePr>
          <p:xfrm>
            <a:off x="6156360" y="2519280"/>
            <a:ext cx="2422440" cy="1811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1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56360" y="2519280"/>
                      <a:ext cx="2422440" cy="18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DCD90F44-A0F6-4A28-A53D-8FA8B97FF03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UR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Uniform Resource Locato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l URLs have at least two part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Protocol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Domain nam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ocates Web sit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18" descr=""/>
          <p:cNvPicPr/>
          <p:nvPr/>
        </p:nvPicPr>
        <p:blipFill>
          <a:blip r:embed="rId6"/>
          <a:stretch/>
        </p:blipFill>
        <p:spPr>
          <a:xfrm>
            <a:off x="797040" y="4289400"/>
            <a:ext cx="76086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2FC1068D-B8BD-4336-BCDB-A460A6F9A50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More on Brows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rowsers interpret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HTML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command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Hypertext Markup Language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ontained in a document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play document as a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eb pag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3081240" y="3817800"/>
            <a:ext cx="3224160" cy="24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6DCC16EF-EB33-406C-8A20-A7A57EEEAF7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Most popular Internet activit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 of communicat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E-Mai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E-Mail Addres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Discussion Group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3962520" y="2590920"/>
            <a:ext cx="4003560" cy="3348000"/>
            <a:chOff x="3962520" y="2590920"/>
            <a:chExt cx="4003560" cy="3348000"/>
          </a:xfrm>
        </p:grpSpPr>
        <p:pic>
          <p:nvPicPr>
            <p:cNvPr id="176" name="Picture 4" descr=""/>
            <p:cNvPicPr/>
            <p:nvPr/>
          </p:nvPicPr>
          <p:blipFill>
            <a:blip r:embed="rId9"/>
            <a:stretch/>
          </p:blipFill>
          <p:spPr>
            <a:xfrm>
              <a:off x="6095880" y="2590920"/>
              <a:ext cx="187020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"/>
            <p:cNvPicPr/>
            <p:nvPr/>
          </p:nvPicPr>
          <p:blipFill>
            <a:blip r:embed="rId10"/>
            <a:stretch/>
          </p:blipFill>
          <p:spPr>
            <a:xfrm>
              <a:off x="3962520" y="4114800"/>
              <a:ext cx="1469880" cy="182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elmustafah</cp:lastModifiedBy>
  <dcterms:modified xsi:type="dcterms:W3CDTF">2014-09-02T10:27:29Z</dcterms:modified>
  <cp:revision>349</cp:revision>
  <dc:subject/>
  <dc:title>PowerPoint Presentation</dc:title>
</cp:coreProperties>
</file>