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4.png" ContentType="image/png"/>
  <Override PartName="/ppt/media/image11.jpeg" ContentType="image/jpeg"/>
  <Override PartName="/ppt/media/image23.jpeg" ContentType="image/jpeg"/>
  <Override PartName="/ppt/media/image6.png" ContentType="image/png"/>
  <Override PartName="/ppt/media/image29.png" ContentType="image/png"/>
  <Override PartName="/ppt/media/image16.wmf" ContentType="image/x-wmf"/>
  <Override PartName="/ppt/media/image8.png" ContentType="image/png"/>
  <Override PartName="/ppt/media/image13.jpeg" ContentType="image/jpeg"/>
  <Override PartName="/ppt/media/image4.png" ContentType="image/png"/>
  <Override PartName="/ppt/media/image12.wmf" ContentType="image/x-wmf"/>
  <Override PartName="/ppt/media/image9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5.png" ContentType="image/png"/>
  <Override PartName="/ppt/media/image10.png" ContentType="image/png"/>
  <Override PartName="/ppt/media/image33.wmf" ContentType="image/x-wmf"/>
  <Override PartName="/ppt/media/image3.png" ContentType="image/png"/>
  <Override PartName="/ppt/media/image26.png" ContentType="image/png"/>
  <Override PartName="/ppt/media/image2.png" ContentType="image/png"/>
  <Override PartName="/ppt/media/image32.png" ContentType="image/png"/>
  <Override PartName="/ppt/media/image28.png" ContentType="image/png"/>
  <Override PartName="/ppt/media/image7.jpeg" ContentType="image/jpeg"/>
  <Override PartName="/ppt/media/image1.wmf" ContentType="image/x-wmf"/>
  <Override PartName="/ppt/media/image14.png" ContentType="image/png"/>
  <Override PartName="/ppt/media/image25.png" ContentType="image/png"/>
  <Override PartName="/ppt/media/image19.jpeg" ContentType="image/jpeg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1574-1E23-4888-901E-350DCCAEE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816A-73DC-4DDD-BAFC-E6953D195AC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k the students why the Internet is often referred to as the Information Superhigh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petent end users need to be aware of the resources available on the Internet and the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k students to list the resources they use on the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6229-84D2-48F0-8E7E-D7D97A70710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28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t uses the domain name system (DNS), which gives names and numbers to people and comp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dress has three p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ser name - identifies unique user or computer in the dom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main name - references a specific organ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main code - geographical location or organizational ident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main ident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 .com = commer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 .edu = education and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 .org = organizations (usually non-prof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 .net = major network centers (usually easier to access than commerci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 .gov = gover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7509-BD78-4D60-97E4-B6E1DBE94B1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28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t uses the domain name system (DNS), which gives names and numbers to people and comp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dress has three p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ser name - identifies unique user or computer in the dom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main name - references a specific organ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main code - geographical location or organizational ident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main ident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 .com = commer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 .edu = education and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 .org = organizations (usually non-prof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 .net = major network centers (usually easier to access than commerci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 .gov = gover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C516-FC7D-4E00-9191-C7CE4B93E53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6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iling lists send e-mail to all me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gn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ssages 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sub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wsgroups use the Use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st popular discussion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cated on a special network called Use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t groups support live convers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RC (Internet Relay Chat) favorite of many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ow “live” communication in real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unication by typed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rking is good – Reading communications before contribu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lps potential participants understand the culture of th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ses lists (instant messaging) to activate notification when 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st join, then sign on to particip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dividual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oup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iling lists are more private than Chat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4E14-680F-413F-953E-89FC4DC6636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k students to give examples of the each of the above discussion group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C709-7EC1-45E4-A8D6-7EB7F12E346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4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ecialized programs that assist you in locating information on the Web and the 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rch services ( providers) help you locate information; they maintain the database that helps you get where you w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ecial programs called agents, spiders, or bots, continually look for information and update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rch engines – assist you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ta V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o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aho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se keyword search; know “rules” i.e. use + or quotes to look for phrases rather than individual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se directory search – list of categories or topics; also known as index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tasearch engines – programs that automatically submit your search request to several search engines simultane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74A7-CFD1-4C83-9A76-F1F4CF6C415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eyword search – enter a keyword or a ph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turns a number of h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ch hit includes a hyper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rectory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nown as an index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lect a category or topic that fits the information you w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e: a recent study by the NEC Research Institute found that any one search engine includes only a fraction of the informational sources on the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D1EE-E1C6-41CD-ADFA-B5BD92B0AFE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8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grams that automatically submit your search request to several engines simultaneous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gine receives the results, eliminates duplicates, orders hits, and then provides the edited list to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CB91-D86E-49B3-8F87-8EFA194D561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6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ic commerce is buying and selling over the 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ree basic types of electronic commerce: business to consumer; consumer to consumer; and business to 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b storefronts are virtual stores for B2C commerce; just like being in the store except you do it from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b auctions growing in popularity; similar to traditional auctions – no one sees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ction house sites – merchandise presented for a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son-person auction sites – more like flea markets; forum for buyers and sellers to g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ic payment -- easy, secure payment meth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cks -- slowest and least conven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edit cards -- easier to work with, somewhat vulnerable to th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ic cash or e-cash -- also known as cybercash and digital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chased from third party (usually a special bank); more secure than credit c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282D-F843-4ACC-9B85-5B624A0F9B4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5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irtual stores for B2C electronic comme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oppers visit stores on the Web to inspect merchandise and make purc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EEF3-345D-4504-A481-0669ACCC84D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7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ilar to Web traditional a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yers and sellers seldom meet face-to-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k the students if they have ever used E-b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DE19-C5FF-4E03-BDBF-A5AD638E429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0848-2BAC-488A-A18E-4E8678A24E3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5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challenge is the payment for go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ould be reliable, secure, and f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BB9E-D8B1-4AAA-8B81-337637F4FF0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lnet runs programs on remote computers; connect to another computer and run programs on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TP transfers files;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ile transfer protocol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; Internet service for file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wnloading - transmitting files to your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ploading - transmitting files from your computer to another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g-ins -- automatically loaded by and work with your browser; Acrobat Reader; Cosmos from Silicon Graphics (3-d displays); Media Player; QuickTime from Apple; RealPlayer; and Shockwave from Macro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lper applications are independent programs executed from your browser designed to maximize your effici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-line browsers – Off-line search utilities – auto submit your search information to variety of engines and create an index for your review; auto save HTML documents to your hard dr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formation pushers – User selects topic areas or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channel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of inte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gram retrieves relevant information from the Web and stores it for viewing at the convenience of the 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ters – block access to specified sites; set time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AE58-AAF1-4633-9DC2-7D9F94455A5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9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t2 is a collaborative project between an assembly of universities, the government, and private resourc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ster downloads and less waiting time are some of the advan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68D5-2446-4FF2-9913-06BFE123ADB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tudents turn to the end of Chapter 2 in their textbooks to view the same “Open-Ended” questions/sta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A3FA-F7A4-4D93-BFA0-5A25999CE70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tudents turn to the end of Chapter 2 in their textbooks to view the same “Open-Ended” questions/sta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6BEF-7383-4DE2-B8BE-52F6661DA54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24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st developed network system currently in use; connects people all over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iginally started in 1969 when US funded a research project (ARPANET—Advanced Research Project Agency Network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RN – Center for European Nuclear Resear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rld Wide Web (Web) is a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of the Internet – not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Internet; introduced in 1992 by consortium in Switzer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iginally started as research and text-based network to exchange research ideas from university to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veloped into a network of networ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of the most powerful tools of the 21</a:t>
            </a:r>
            <a:r>
              <a:rPr b="0" lang="en-GB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cent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FCA5-109E-4424-84B2-6E119D1C418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242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st common Internet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1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unicating - sending e-mail and discussion group particip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ou can chat live with 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k students what chat software they u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1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opping – fastest-growing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1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rching - using virtual libr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1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tertainment – music downloads; integration of TV and 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1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ducation or e-learn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ou can take classes on almost any 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AF44-A95F-4B79-84DB-9D9D009C9F3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common way to access the Internet is through a provider or host compu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- already connected to the Internet -- furnish a pathway for othe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ical provider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lleges and universities – usually “fre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t service providers (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ISP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) can be local (regional) or na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k students to identify various ISPs used in their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s of 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 – like A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gional – smaller service are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re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 telephone lines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 connection through wireless mod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ED99-146D-4B9B-9B40-D940744AE44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13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owsers allow you to search or surf the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vigate, search for information and communicate using the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se URL (uniform resource locator) to connect to other resour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wo parts to URL: protocol, rules for exchanging data between computers (usually http://); second is domain name or server where resource is located (www.cnn.c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252B-B85F-48C9-B88C-B98084FB6A3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214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owser is software that allows users to navigate the Web and read the multimedia formatted pag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nect to Web sites using URL addresses (uniform resource loca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 is sent to computer usually coded in HTML (Hypertext Markup Language) or some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the HTML codes displaying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cont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links -- allow users to quickly connect to other pages or Web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ph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8E63-C066-4088-BD5A-F67793EF110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9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b pages contain links to programs called app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se are special programs written in a programming language called 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se programs can be quickly downloaded and run by most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7231-5252-4281-B728-474693E204D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34920" y="4132440"/>
            <a:ext cx="5029200" cy="48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unications is the most popular Internet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s of communic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-mail or electronic 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nsmission of electronic messages over the 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s three basic parts: header, message, and sign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ject – very important to include this in a mess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tach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m – unsolicited e-ma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action, Nuis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cussion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cipate in forums and deb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s mailing lists, newsgroups, chat groups, and instant messag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iling lists – message is sent to a list of addr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wsgroups – uses a special network called Use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t - allows direct, live commun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RC – Internet Relay Chat is a very popular chat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M – instant messaging, can send messages back and forth in real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rking - this is a technique you can use before you participate in a discussion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ou observe and don't respond until you feel more comfortable with th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EAEA5-1B55-45D3-AADB-B624D10E04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676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498AB-4F0D-436D-91AB-E0348A62CE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4983E-773F-4877-BBD8-587E13DD8A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86F08-BE63-43DE-B6BF-3705D96C2E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63376-9287-4C60-93C4-5B56D8D24B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676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CB825-646A-44F7-8C54-7ACB1A8816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E1188-AC59-4375-804A-634B34B7A2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456D3-5A3F-47EC-9987-3B58003176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94BEB-CF3D-4919-B245-45BE2AA744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45A5A-B3C1-45B0-BFB4-C511F650E4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779A5-98E1-42A0-AF51-14F9FA65DF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51460-647F-43C2-9D70-9FA2F90C2E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7" descr=""/>
          <p:cNvPicPr/>
          <p:nvPr/>
        </p:nvPicPr>
        <p:blipFill>
          <a:blip r:embed="rId2"/>
          <a:srcRect l="0" t="0" r="96503" b="86773"/>
          <a:stretch/>
        </p:blipFill>
        <p:spPr>
          <a:xfrm flipH="1" rot="5400000">
            <a:off x="4419360" y="2133000"/>
            <a:ext cx="304920" cy="9144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200720" y="6477120"/>
            <a:ext cx="1866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2-</a:t>
            </a:r>
            <a:fld id="{B7181CED-54E0-4CB3-9AC5-706E7D8B95D3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114" descr="Tech-EDlogo"/>
          <p:cNvPicPr/>
          <p:nvPr/>
        </p:nvPicPr>
        <p:blipFill>
          <a:blip r:embed="rId7"/>
          <a:stretch/>
        </p:blipFill>
        <p:spPr>
          <a:xfrm>
            <a:off x="7686720" y="0"/>
            <a:ext cx="1380960" cy="4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5" descr=""/>
          <p:cNvPicPr/>
          <p:nvPr/>
        </p:nvPicPr>
        <p:blipFill>
          <a:blip r:embed="rId2"/>
          <a:srcRect l="0" t="0" r="96503" b="86773"/>
          <a:stretch/>
        </p:blipFill>
        <p:spPr>
          <a:xfrm flipH="1" rot="5400000">
            <a:off x="4419360" y="2133000"/>
            <a:ext cx="30492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6"/>
          <p:cNvSpPr/>
          <p:nvPr/>
        </p:nvSpPr>
        <p:spPr>
          <a:xfrm>
            <a:off x="0" y="6575400"/>
            <a:ext cx="9144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 Technology Education</a:t>
            </a: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© 2006 by the McGraw-Hill Companies, Inc.  All rights reserved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2.png"/><Relationship Id="rId10" Type="http://schemas.openxmlformats.org/officeDocument/2006/relationships/image" Target="../media/image22.png"/><Relationship Id="rId11" Type="http://schemas.openxmlformats.org/officeDocument/2006/relationships/slide" Target="slide5.xml"/><Relationship Id="rId12" Type="http://schemas.openxmlformats.org/officeDocument/2006/relationships/slide" Target="slide9.xm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4.png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5.xml"/><Relationship Id="rId3" Type="http://schemas.openxmlformats.org/officeDocument/2006/relationships/image" Target="../media/image2.png"/><Relationship Id="rId4" Type="http://schemas.openxmlformats.org/officeDocument/2006/relationships/slide" Target="slide16.xml"/><Relationship Id="rId5" Type="http://schemas.openxmlformats.org/officeDocument/2006/relationships/image" Target="../media/image2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" Target="slide14.xml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metacrawler.com/" TargetMode="External"/><Relationship Id="rId2" Type="http://schemas.openxmlformats.org/officeDocument/2006/relationships/hyperlink" Target="http://www.mamma.com/" TargetMode="External"/><Relationship Id="rId3" Type="http://schemas.openxmlformats.org/officeDocument/2006/relationships/hyperlink" Target="http://www.ixquick.com/" TargetMode="External"/><Relationship Id="rId4" Type="http://schemas.openxmlformats.org/officeDocument/2006/relationships/hyperlink" Target="http://www.dogpile.com/" TargetMode="External"/><Relationship Id="rId5" Type="http://schemas.openxmlformats.org/officeDocument/2006/relationships/slide" Target="slide1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30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2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2.wmf"/><Relationship Id="rId9" Type="http://schemas.openxmlformats.org/officeDocument/2006/relationships/image" Target="../media/image13.jpe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2.png"/><Relationship Id="rId7" Type="http://schemas.openxmlformats.org/officeDocument/2006/relationships/image" Target="../media/image10.png"/><Relationship Id="rId8" Type="http://schemas.openxmlformats.org/officeDocument/2006/relationships/image" Target="../media/image16.wmf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2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" Target="slide10.xml"/><Relationship Id="rId5" Type="http://schemas.openxmlformats.org/officeDocument/2006/relationships/image" Target="../media/image10.png"/><Relationship Id="rId6" Type="http://schemas.openxmlformats.org/officeDocument/2006/relationships/slide" Target="slide11.xml"/><Relationship Id="rId7" Type="http://schemas.openxmlformats.org/officeDocument/2006/relationships/image" Target="../media/image10.png"/><Relationship Id="rId8" Type="http://schemas.openxmlformats.org/officeDocument/2006/relationships/slide" Target="slide12.xml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7391520" y="380880"/>
            <a:ext cx="1447560" cy="246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551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5400a8"/>
                </a:solidFill>
                <a:latin typeface="Arial Narrow"/>
              </a:rPr>
              <a:t>2</a:t>
            </a:r>
            <a:endParaRPr b="0" lang="en-US" sz="15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 rot="16201200">
            <a:off x="6249240" y="1673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fafff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90" name="Group 5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91" name="Oval 6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" name="Oval 7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" name="Oval 8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" name="Oval 9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" name="Oval 10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" name="Oval 11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" name="Oval 12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" name="Oval 13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" name="Oval 14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" name="Oval 15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" name="Oval 16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" name="Oval 17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" name="Oval 18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" name="Oval 19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" name="Oval 20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" name="Oval 21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" name="Oval 22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" name="Oval 23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" name="Oval 24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" name="Oval 25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Oval 26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" name="Oval 27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" name="Oval 28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" name="Oval 29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" name="Oval 30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Oval 31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" name="Oval 32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" name="Oval 33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" name="Oval 34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Oval 35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Oval 36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22" name="Picture 37" descr="Tech-EDlogo"/>
          <p:cNvPicPr/>
          <p:nvPr/>
        </p:nvPicPr>
        <p:blipFill>
          <a:blip r:embed="rId1"/>
          <a:stretch/>
        </p:blipFill>
        <p:spPr>
          <a:xfrm>
            <a:off x="7391520" y="5562720"/>
            <a:ext cx="1380960" cy="4190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8"/>
          <p:cNvSpPr/>
          <p:nvPr/>
        </p:nvSpPr>
        <p:spPr>
          <a:xfrm>
            <a:off x="5181480" y="3048120"/>
            <a:ext cx="365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fafff"/>
                </a:solidFill>
                <a:latin typeface="Arial"/>
              </a:rPr>
              <a:t>THE INTERNET, THE WEB, AND ELECTRONIC COMMERCE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Text Box 41"/>
          <p:cNvSpPr/>
          <p:nvPr/>
        </p:nvSpPr>
        <p:spPr>
          <a:xfrm>
            <a:off x="9771120" y="1733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5" name="Picture 42" descr="OLearybookcover"/>
          <p:cNvPicPr/>
          <p:nvPr/>
        </p:nvPicPr>
        <p:blipFill>
          <a:blip r:embed="rId2"/>
          <a:stretch/>
        </p:blipFill>
        <p:spPr>
          <a:xfrm>
            <a:off x="463680" y="263520"/>
            <a:ext cx="4608360" cy="585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7201080" y="6477120"/>
            <a:ext cx="186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2-</a:t>
            </a:r>
            <a:fld id="{83E29974-A7E6-42D6-994E-4DB59AA6A6C4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Times New Roman"/>
              </a:rPr>
              <a:t>E-Mail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535960" cy="47260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Transmission of electronic messages over the Internet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Basic part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3680" indent="-2811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Times New Roman"/>
              </a:rPr>
              <a:t>Header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Times New Roman"/>
              </a:rPr>
              <a:t>Address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Times New Roman"/>
              </a:rPr>
              <a:t>Subject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Times New Roman"/>
              </a:rPr>
              <a:t>Attachment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3680" indent="-2811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Times New Roman"/>
              </a:rPr>
              <a:t>Message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33680" indent="-2811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Times New Roman"/>
              </a:rPr>
              <a:t>Signature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Instant Messaging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2" name="Picture 1028" descr=""/>
          <p:cNvPicPr/>
          <p:nvPr/>
        </p:nvPicPr>
        <p:blipFill>
          <a:blip r:embed="rId10"/>
          <a:stretch/>
        </p:blipFill>
        <p:spPr>
          <a:xfrm>
            <a:off x="4106880" y="2195640"/>
            <a:ext cx="4632480" cy="38289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029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3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Text Box 1030">
            <a:hlinkClick r:id="rId11" action="ppaction://hlinksldjump"/>
          </p:cNvPr>
          <p:cNvSpPr/>
          <p:nvPr/>
        </p:nvSpPr>
        <p:spPr>
          <a:xfrm>
            <a:off x="3952800" y="5952960"/>
            <a:ext cx="48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  <a:hlinkClick r:id="rId12" action="ppaction://hlinksldjump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2"/>
          <p:cNvSpPr/>
          <p:nvPr/>
        </p:nvSpPr>
        <p:spPr>
          <a:xfrm>
            <a:off x="7201080" y="6477120"/>
            <a:ext cx="186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2-</a:t>
            </a:r>
            <a:fld id="{AEBAA23A-BBB3-4A7F-96AB-EC451C43BF80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Times New Roman"/>
              </a:rPr>
              <a:t>E-Mail Addres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165800" cy="16574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4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35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Text Box 6">
            <a:hlinkClick r:id="" action="ppaction://hlinkshowjump?jump=previousslide"/>
          </p:cNvPr>
          <p:cNvSpPr/>
          <p:nvPr/>
        </p:nvSpPr>
        <p:spPr>
          <a:xfrm>
            <a:off x="914400" y="55879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  <a:hlinkClick r:id="rId2" action="ppaction://hlinksldjump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7201080" y="6477120"/>
            <a:ext cx="186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2-</a:t>
            </a:r>
            <a:fld id="{BB219590-554C-40A7-8F0E-FA4FF637572A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Times New Roman"/>
              </a:rPr>
              <a:t>Discussion Group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535960" cy="47260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Mailing list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Newsgroup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Chat group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4"/>
          <a:stretch/>
        </p:blipFill>
        <p:spPr>
          <a:xfrm>
            <a:off x="4495680" y="1905120"/>
            <a:ext cx="4071960" cy="34257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3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Text Box 6">
            <a:hlinkClick r:id="" action="ppaction://hlinkshowjump?jump=previousslide"/>
          </p:cNvPr>
          <p:cNvSpPr/>
          <p:nvPr/>
        </p:nvSpPr>
        <p:spPr>
          <a:xfrm>
            <a:off x="914400" y="56736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  <a:hlinkClick r:id="rId5" action="ppaction://hlinksldjump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7201080" y="6477120"/>
            <a:ext cx="186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2-</a:t>
            </a:r>
            <a:fld id="{623CCD53-DD16-486B-8CEC-E8FE14BC1F4D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Times New Roman"/>
              </a:rPr>
              <a:t>Discussion Group Terms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304920" y="1447920"/>
            <a:ext cx="8535960" cy="4871880"/>
            <a:chOff x="304920" y="1447920"/>
            <a:chExt cx="8535960" cy="4871880"/>
          </a:xfrm>
        </p:grpSpPr>
        <p:grpSp>
          <p:nvGrpSpPr>
            <p:cNvPr id="199" name="Group 4"/>
            <p:cNvGrpSpPr/>
            <p:nvPr/>
          </p:nvGrpSpPr>
          <p:grpSpPr>
            <a:xfrm>
              <a:off x="1981080" y="5497560"/>
              <a:ext cx="6858000" cy="820800"/>
              <a:chOff x="1981080" y="5497560"/>
              <a:chExt cx="6858000" cy="820800"/>
            </a:xfrm>
          </p:grpSpPr>
          <p:sp>
            <p:nvSpPr>
              <p:cNvPr id="200" name="AutoShape 5"/>
              <p:cNvSpPr/>
              <p:nvPr/>
            </p:nvSpPr>
            <p:spPr>
              <a:xfrm>
                <a:off x="1981080" y="5497560"/>
                <a:ext cx="6858000" cy="820800"/>
              </a:xfrm>
              <a:prstGeom prst="roundRect">
                <a:avLst>
                  <a:gd name="adj" fmla="val 19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1" name="Text Box 6"/>
              <p:cNvSpPr/>
              <p:nvPr/>
            </p:nvSpPr>
            <p:spPr>
              <a:xfrm>
                <a:off x="1981080" y="5497560"/>
                <a:ext cx="6858000" cy="73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60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200" spc="-1" strike="noStrike">
                    <a:solidFill>
                      <a:srgbClr val="003366"/>
                    </a:solidFill>
                    <a:latin typeface="Times New Roman"/>
                  </a:rPr>
                  <a:t>Someone who has comprehensive knowledge about a subject </a:t>
                </a:r>
                <a:endParaRPr b="0" lang="en-US" sz="2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Group 7"/>
            <p:cNvGrpSpPr/>
            <p:nvPr/>
          </p:nvGrpSpPr>
          <p:grpSpPr>
            <a:xfrm>
              <a:off x="304920" y="5497560"/>
              <a:ext cx="1674720" cy="819000"/>
              <a:chOff x="304920" y="5497560"/>
              <a:chExt cx="1674720" cy="819000"/>
            </a:xfrm>
          </p:grpSpPr>
          <p:sp>
            <p:nvSpPr>
              <p:cNvPr id="203" name="AutoShape 8"/>
              <p:cNvSpPr/>
              <p:nvPr/>
            </p:nvSpPr>
            <p:spPr>
              <a:xfrm>
                <a:off x="304920" y="5497560"/>
                <a:ext cx="1674720" cy="819000"/>
              </a:xfrm>
              <a:prstGeom prst="roundRect">
                <a:avLst>
                  <a:gd name="adj" fmla="val 19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4" name="Text Box 9"/>
              <p:cNvSpPr/>
              <p:nvPr/>
            </p:nvSpPr>
            <p:spPr>
              <a:xfrm>
                <a:off x="304920" y="5497560"/>
                <a:ext cx="1674720" cy="44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60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3366"/>
                    </a:solidFill>
                    <a:latin typeface="Times New Roman"/>
                  </a:rPr>
                  <a:t>Wizard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Group 10"/>
            <p:cNvGrpSpPr/>
            <p:nvPr/>
          </p:nvGrpSpPr>
          <p:grpSpPr>
            <a:xfrm>
              <a:off x="1981080" y="4822920"/>
              <a:ext cx="6858000" cy="674640"/>
              <a:chOff x="1981080" y="4822920"/>
              <a:chExt cx="6858000" cy="674640"/>
            </a:xfrm>
          </p:grpSpPr>
          <p:sp>
            <p:nvSpPr>
              <p:cNvPr id="206" name="AutoShape 11"/>
              <p:cNvSpPr/>
              <p:nvPr/>
            </p:nvSpPr>
            <p:spPr>
              <a:xfrm>
                <a:off x="1981080" y="4822920"/>
                <a:ext cx="6858000" cy="674640"/>
              </a:xfrm>
              <a:prstGeom prst="roundRect">
                <a:avLst>
                  <a:gd name="adj" fmla="val 2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" name="Text Box 12"/>
              <p:cNvSpPr/>
              <p:nvPr/>
            </p:nvSpPr>
            <p:spPr>
              <a:xfrm>
                <a:off x="1981080" y="4822920"/>
                <a:ext cx="6858000" cy="41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60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200" spc="-1" strike="noStrike">
                    <a:solidFill>
                      <a:srgbClr val="003366"/>
                    </a:solidFill>
                    <a:latin typeface="Times New Roman"/>
                  </a:rPr>
                  <a:t>A sequence of ongoing messages on the same subject</a:t>
                </a:r>
                <a:endParaRPr b="0" lang="en-US" sz="2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Group 13"/>
            <p:cNvGrpSpPr/>
            <p:nvPr/>
          </p:nvGrpSpPr>
          <p:grpSpPr>
            <a:xfrm>
              <a:off x="304920" y="4822920"/>
              <a:ext cx="1674720" cy="672840"/>
              <a:chOff x="304920" y="4822920"/>
              <a:chExt cx="1674720" cy="672840"/>
            </a:xfrm>
          </p:grpSpPr>
          <p:sp>
            <p:nvSpPr>
              <p:cNvPr id="209" name="AutoShape 14"/>
              <p:cNvSpPr/>
              <p:nvPr/>
            </p:nvSpPr>
            <p:spPr>
              <a:xfrm>
                <a:off x="304920" y="4822920"/>
                <a:ext cx="1674720" cy="672840"/>
              </a:xfrm>
              <a:prstGeom prst="roundRect">
                <a:avLst>
                  <a:gd name="adj" fmla="val 2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" name="Text Box 15"/>
              <p:cNvSpPr/>
              <p:nvPr/>
            </p:nvSpPr>
            <p:spPr>
              <a:xfrm>
                <a:off x="304920" y="4822920"/>
                <a:ext cx="1674720" cy="44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60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3366"/>
                    </a:solidFill>
                    <a:latin typeface="Times New Roman"/>
                  </a:rPr>
                  <a:t>Thread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Group 16"/>
            <p:cNvGrpSpPr/>
            <p:nvPr/>
          </p:nvGrpSpPr>
          <p:grpSpPr>
            <a:xfrm>
              <a:off x="1981080" y="4148280"/>
              <a:ext cx="6858000" cy="674640"/>
              <a:chOff x="1981080" y="4148280"/>
              <a:chExt cx="6858000" cy="674640"/>
            </a:xfrm>
          </p:grpSpPr>
          <p:sp>
            <p:nvSpPr>
              <p:cNvPr id="212" name="AutoShape 17"/>
              <p:cNvSpPr/>
              <p:nvPr/>
            </p:nvSpPr>
            <p:spPr>
              <a:xfrm>
                <a:off x="1981080" y="4148280"/>
                <a:ext cx="6858000" cy="674640"/>
              </a:xfrm>
              <a:prstGeom prst="roundRect">
                <a:avLst>
                  <a:gd name="adj" fmla="val 2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" name="Text Box 18"/>
              <p:cNvSpPr/>
              <p:nvPr/>
            </p:nvSpPr>
            <p:spPr>
              <a:xfrm>
                <a:off x="1981080" y="4148280"/>
                <a:ext cx="6858000" cy="41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60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200" spc="-1" strike="noStrike">
                    <a:solidFill>
                      <a:srgbClr val="003366"/>
                    </a:solidFill>
                    <a:latin typeface="Times New Roman"/>
                  </a:rPr>
                  <a:t>Someone who aids new users by answering questions</a:t>
                </a:r>
                <a:endParaRPr b="0" lang="en-US" sz="2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Group 19"/>
            <p:cNvGrpSpPr/>
            <p:nvPr/>
          </p:nvGrpSpPr>
          <p:grpSpPr>
            <a:xfrm>
              <a:off x="304920" y="4148280"/>
              <a:ext cx="1674720" cy="672840"/>
              <a:chOff x="304920" y="4148280"/>
              <a:chExt cx="1674720" cy="672840"/>
            </a:xfrm>
          </p:grpSpPr>
          <p:sp>
            <p:nvSpPr>
              <p:cNvPr id="215" name="AutoShape 20"/>
              <p:cNvSpPr/>
              <p:nvPr/>
            </p:nvSpPr>
            <p:spPr>
              <a:xfrm>
                <a:off x="304920" y="4148280"/>
                <a:ext cx="1674720" cy="672840"/>
              </a:xfrm>
              <a:prstGeom prst="roundRect">
                <a:avLst>
                  <a:gd name="adj" fmla="val 2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" name="Text Box 21"/>
              <p:cNvSpPr/>
              <p:nvPr/>
            </p:nvSpPr>
            <p:spPr>
              <a:xfrm>
                <a:off x="304920" y="4148280"/>
                <a:ext cx="1674720" cy="44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60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3366"/>
                    </a:solidFill>
                    <a:latin typeface="Times New Roman"/>
                  </a:rPr>
                  <a:t>Saint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22"/>
            <p:cNvGrpSpPr/>
            <p:nvPr/>
          </p:nvGrpSpPr>
          <p:grpSpPr>
            <a:xfrm>
              <a:off x="1981080" y="3471840"/>
              <a:ext cx="6858000" cy="676440"/>
              <a:chOff x="1981080" y="3471840"/>
              <a:chExt cx="6858000" cy="676440"/>
            </a:xfrm>
          </p:grpSpPr>
          <p:sp>
            <p:nvSpPr>
              <p:cNvPr id="218" name="AutoShape 23"/>
              <p:cNvSpPr/>
              <p:nvPr/>
            </p:nvSpPr>
            <p:spPr>
              <a:xfrm>
                <a:off x="1981080" y="3471840"/>
                <a:ext cx="6858000" cy="676440"/>
              </a:xfrm>
              <a:prstGeom prst="roundRect">
                <a:avLst>
                  <a:gd name="adj" fmla="val 2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" name="Text Box 24"/>
              <p:cNvSpPr/>
              <p:nvPr/>
            </p:nvSpPr>
            <p:spPr>
              <a:xfrm>
                <a:off x="1981080" y="3471840"/>
                <a:ext cx="6858000" cy="41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60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200" spc="-1" strike="noStrike">
                    <a:solidFill>
                      <a:srgbClr val="003366"/>
                    </a:solidFill>
                    <a:latin typeface="Times New Roman"/>
                  </a:rPr>
                  <a:t>Request for discussion </a:t>
                </a:r>
                <a:endParaRPr b="0" lang="en-US" sz="2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Group 25"/>
            <p:cNvGrpSpPr/>
            <p:nvPr/>
          </p:nvGrpSpPr>
          <p:grpSpPr>
            <a:xfrm>
              <a:off x="304920" y="3471840"/>
              <a:ext cx="1674720" cy="674640"/>
              <a:chOff x="304920" y="3471840"/>
              <a:chExt cx="1674720" cy="674640"/>
            </a:xfrm>
          </p:grpSpPr>
          <p:sp>
            <p:nvSpPr>
              <p:cNvPr id="221" name="AutoShape 26"/>
              <p:cNvSpPr/>
              <p:nvPr/>
            </p:nvSpPr>
            <p:spPr>
              <a:xfrm>
                <a:off x="304920" y="3471840"/>
                <a:ext cx="1674720" cy="674640"/>
              </a:xfrm>
              <a:prstGeom prst="roundRect">
                <a:avLst>
                  <a:gd name="adj" fmla="val 2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" name="Text Box 27"/>
              <p:cNvSpPr/>
              <p:nvPr/>
            </p:nvSpPr>
            <p:spPr>
              <a:xfrm>
                <a:off x="304920" y="3471840"/>
                <a:ext cx="1674720" cy="44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60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3366"/>
                    </a:solidFill>
                    <a:latin typeface="Times New Roman"/>
                  </a:rPr>
                  <a:t>RFD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Group 28"/>
            <p:cNvGrpSpPr/>
            <p:nvPr/>
          </p:nvGrpSpPr>
          <p:grpSpPr>
            <a:xfrm>
              <a:off x="1981080" y="2797200"/>
              <a:ext cx="6858000" cy="674640"/>
              <a:chOff x="1981080" y="2797200"/>
              <a:chExt cx="6858000" cy="674640"/>
            </a:xfrm>
          </p:grpSpPr>
          <p:sp>
            <p:nvSpPr>
              <p:cNvPr id="224" name="AutoShape 29"/>
              <p:cNvSpPr/>
              <p:nvPr/>
            </p:nvSpPr>
            <p:spPr>
              <a:xfrm>
                <a:off x="1981080" y="2797200"/>
                <a:ext cx="6858000" cy="674640"/>
              </a:xfrm>
              <a:prstGeom prst="roundRect">
                <a:avLst>
                  <a:gd name="adj" fmla="val 2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" name="Text Box 30"/>
              <p:cNvSpPr/>
              <p:nvPr/>
            </p:nvSpPr>
            <p:spPr>
              <a:xfrm>
                <a:off x="1981080" y="2797200"/>
                <a:ext cx="6858000" cy="41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60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200" spc="-1" strike="noStrike">
                    <a:solidFill>
                      <a:srgbClr val="003366"/>
                    </a:solidFill>
                    <a:latin typeface="Times New Roman"/>
                  </a:rPr>
                  <a:t>Reading news but not joining in to contribute</a:t>
                </a:r>
                <a:endParaRPr b="0" lang="en-US" sz="2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Group 31"/>
            <p:cNvGrpSpPr/>
            <p:nvPr/>
          </p:nvGrpSpPr>
          <p:grpSpPr>
            <a:xfrm>
              <a:off x="304920" y="2797200"/>
              <a:ext cx="1676160" cy="674640"/>
              <a:chOff x="304920" y="2797200"/>
              <a:chExt cx="1676160" cy="674640"/>
            </a:xfrm>
          </p:grpSpPr>
          <p:sp>
            <p:nvSpPr>
              <p:cNvPr id="227" name="AutoShape 32"/>
              <p:cNvSpPr/>
              <p:nvPr/>
            </p:nvSpPr>
            <p:spPr>
              <a:xfrm>
                <a:off x="304920" y="2797200"/>
                <a:ext cx="1676160" cy="674640"/>
              </a:xfrm>
              <a:prstGeom prst="roundRect">
                <a:avLst>
                  <a:gd name="adj" fmla="val 2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" name="Text Box 33"/>
              <p:cNvSpPr/>
              <p:nvPr/>
            </p:nvSpPr>
            <p:spPr>
              <a:xfrm>
                <a:off x="304920" y="2797200"/>
                <a:ext cx="1676160" cy="44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60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003366"/>
                    </a:solidFill>
                    <a:latin typeface="Times New Roman"/>
                  </a:rPr>
                  <a:t>Lurking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Group 34"/>
            <p:cNvGrpSpPr/>
            <p:nvPr/>
          </p:nvGrpSpPr>
          <p:grpSpPr>
            <a:xfrm>
              <a:off x="1981080" y="2122560"/>
              <a:ext cx="6858000" cy="674640"/>
              <a:chOff x="1981080" y="2122560"/>
              <a:chExt cx="6858000" cy="674640"/>
            </a:xfrm>
          </p:grpSpPr>
          <p:sp>
            <p:nvSpPr>
              <p:cNvPr id="230" name="AutoShape 35"/>
              <p:cNvSpPr/>
              <p:nvPr/>
            </p:nvSpPr>
            <p:spPr>
              <a:xfrm>
                <a:off x="1981080" y="2122560"/>
                <a:ext cx="6858000" cy="674640"/>
              </a:xfrm>
              <a:prstGeom prst="roundRect">
                <a:avLst>
                  <a:gd name="adj" fmla="val 2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" name="Text Box 36"/>
              <p:cNvSpPr/>
              <p:nvPr/>
            </p:nvSpPr>
            <p:spPr>
              <a:xfrm>
                <a:off x="1981080" y="2122560"/>
                <a:ext cx="6858000" cy="41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60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200" spc="-1" strike="noStrike">
                    <a:solidFill>
                      <a:srgbClr val="003366"/>
                    </a:solidFill>
                    <a:latin typeface="Times New Roman"/>
                  </a:rPr>
                  <a:t>Insulting, putting down, or attacking </a:t>
                </a:r>
                <a:endParaRPr b="0" lang="en-US" sz="2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Group 37"/>
            <p:cNvGrpSpPr/>
            <p:nvPr/>
          </p:nvGrpSpPr>
          <p:grpSpPr>
            <a:xfrm>
              <a:off x="304920" y="2122560"/>
              <a:ext cx="1674720" cy="673200"/>
              <a:chOff x="304920" y="2122560"/>
              <a:chExt cx="1674720" cy="673200"/>
            </a:xfrm>
          </p:grpSpPr>
          <p:sp>
            <p:nvSpPr>
              <p:cNvPr id="233" name="AutoShape 38"/>
              <p:cNvSpPr/>
              <p:nvPr/>
            </p:nvSpPr>
            <p:spPr>
              <a:xfrm>
                <a:off x="304920" y="2122560"/>
                <a:ext cx="1674720" cy="673200"/>
              </a:xfrm>
              <a:prstGeom prst="roundRect">
                <a:avLst>
                  <a:gd name="adj" fmla="val 2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" name="Text Box 39"/>
              <p:cNvSpPr/>
              <p:nvPr/>
            </p:nvSpPr>
            <p:spPr>
              <a:xfrm>
                <a:off x="304920" y="2122560"/>
                <a:ext cx="1674720" cy="44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60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3366"/>
                    </a:solidFill>
                    <a:latin typeface="Times New Roman"/>
                  </a:rPr>
                  <a:t>Flaming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Group 40"/>
            <p:cNvGrpSpPr/>
            <p:nvPr/>
          </p:nvGrpSpPr>
          <p:grpSpPr>
            <a:xfrm>
              <a:off x="1981080" y="1447920"/>
              <a:ext cx="6858000" cy="674640"/>
              <a:chOff x="1981080" y="1447920"/>
              <a:chExt cx="6858000" cy="674640"/>
            </a:xfrm>
          </p:grpSpPr>
          <p:sp>
            <p:nvSpPr>
              <p:cNvPr id="236" name="AutoShape 41"/>
              <p:cNvSpPr/>
              <p:nvPr/>
            </p:nvSpPr>
            <p:spPr>
              <a:xfrm>
                <a:off x="1981080" y="1447920"/>
                <a:ext cx="6858000" cy="674640"/>
              </a:xfrm>
              <a:prstGeom prst="roundRect">
                <a:avLst>
                  <a:gd name="adj" fmla="val 2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" name="Text Box 42"/>
              <p:cNvSpPr/>
              <p:nvPr/>
            </p:nvSpPr>
            <p:spPr>
              <a:xfrm>
                <a:off x="1981080" y="1447920"/>
                <a:ext cx="6858000" cy="55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3366"/>
                    </a:solidFill>
                    <a:latin typeface="Times New Roman"/>
                  </a:rPr>
                  <a:t>Description</a:t>
                </a:r>
                <a:endParaRPr b="0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Group 43"/>
            <p:cNvGrpSpPr/>
            <p:nvPr/>
          </p:nvGrpSpPr>
          <p:grpSpPr>
            <a:xfrm>
              <a:off x="304920" y="1447920"/>
              <a:ext cx="1676160" cy="674640"/>
              <a:chOff x="304920" y="1447920"/>
              <a:chExt cx="1676160" cy="674640"/>
            </a:xfrm>
          </p:grpSpPr>
          <p:sp>
            <p:nvSpPr>
              <p:cNvPr id="239" name="AutoShape 44"/>
              <p:cNvSpPr/>
              <p:nvPr/>
            </p:nvSpPr>
            <p:spPr>
              <a:xfrm>
                <a:off x="304920" y="1447920"/>
                <a:ext cx="1676160" cy="674640"/>
              </a:xfrm>
              <a:prstGeom prst="roundRect">
                <a:avLst>
                  <a:gd name="adj" fmla="val 2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Text Box 45"/>
              <p:cNvSpPr/>
              <p:nvPr/>
            </p:nvSpPr>
            <p:spPr>
              <a:xfrm>
                <a:off x="304920" y="1447920"/>
                <a:ext cx="1676160" cy="55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3366"/>
                    </a:solidFill>
                    <a:latin typeface="Times New Roman"/>
                  </a:rPr>
                  <a:t>Term</a:t>
                </a:r>
                <a:endParaRPr b="0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41" name="Line 46"/>
            <p:cNvSpPr/>
            <p:nvPr/>
          </p:nvSpPr>
          <p:spPr>
            <a:xfrm>
              <a:off x="304920" y="1447920"/>
              <a:ext cx="853416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" name="Line 47"/>
            <p:cNvSpPr/>
            <p:nvPr/>
          </p:nvSpPr>
          <p:spPr>
            <a:xfrm>
              <a:off x="304920" y="2797200"/>
              <a:ext cx="853416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" name="Line 48"/>
            <p:cNvSpPr/>
            <p:nvPr/>
          </p:nvSpPr>
          <p:spPr>
            <a:xfrm>
              <a:off x="304920" y="3471840"/>
              <a:ext cx="853416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" name="Line 49"/>
            <p:cNvSpPr/>
            <p:nvPr/>
          </p:nvSpPr>
          <p:spPr>
            <a:xfrm>
              <a:off x="304920" y="4148280"/>
              <a:ext cx="853416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" name="Line 50"/>
            <p:cNvSpPr/>
            <p:nvPr/>
          </p:nvSpPr>
          <p:spPr>
            <a:xfrm>
              <a:off x="304920" y="4822920"/>
              <a:ext cx="853416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" name="Line 51"/>
            <p:cNvSpPr/>
            <p:nvPr/>
          </p:nvSpPr>
          <p:spPr>
            <a:xfrm>
              <a:off x="304920" y="5497560"/>
              <a:ext cx="853416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" name="Line 52"/>
            <p:cNvSpPr/>
            <p:nvPr/>
          </p:nvSpPr>
          <p:spPr>
            <a:xfrm>
              <a:off x="304920" y="6318360"/>
              <a:ext cx="853416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Line 53"/>
            <p:cNvSpPr/>
            <p:nvPr/>
          </p:nvSpPr>
          <p:spPr>
            <a:xfrm>
              <a:off x="304920" y="1447920"/>
              <a:ext cx="1440" cy="4870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Line 54"/>
            <p:cNvSpPr/>
            <p:nvPr/>
          </p:nvSpPr>
          <p:spPr>
            <a:xfrm>
              <a:off x="8839080" y="1447920"/>
              <a:ext cx="1800" cy="4870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" name="Line 55"/>
            <p:cNvSpPr/>
            <p:nvPr/>
          </p:nvSpPr>
          <p:spPr>
            <a:xfrm>
              <a:off x="1981080" y="1447920"/>
              <a:ext cx="1800" cy="4870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" name="Line 56"/>
            <p:cNvSpPr/>
            <p:nvPr/>
          </p:nvSpPr>
          <p:spPr>
            <a:xfrm>
              <a:off x="304920" y="2122560"/>
              <a:ext cx="853416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52" name="Text Box 57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37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3"/>
          <p:cNvSpPr/>
          <p:nvPr/>
        </p:nvSpPr>
        <p:spPr>
          <a:xfrm>
            <a:off x="7201080" y="6477120"/>
            <a:ext cx="186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2-</a:t>
            </a:r>
            <a:fld id="{2DD6C9FB-639E-442E-987A-34FBDA1EAA4D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Times New Roman"/>
              </a:rPr>
              <a:t>Search Tool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535960" cy="47260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 u="sng">
                <a:solidFill>
                  <a:srgbClr val="003366"/>
                </a:solidFill>
                <a:uFillTx/>
                <a:latin typeface="Times New Roman"/>
                <a:hlinkClick r:id="rId2" action="ppaction://hlinksldjump"/>
              </a:rPr>
              <a:t>Search engine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 u="sng">
                <a:solidFill>
                  <a:srgbClr val="003366"/>
                </a:solidFill>
                <a:uFillTx/>
                <a:latin typeface="Times New Roman"/>
                <a:hlinkClick r:id="rId4" action="ppaction://hlinksldjump"/>
              </a:rPr>
              <a:t>Metasearch engine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Specialized search engines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40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7" name="Picture 10" descr=""/>
          <p:cNvPicPr/>
          <p:nvPr/>
        </p:nvPicPr>
        <p:blipFill>
          <a:blip r:embed="rId6"/>
          <a:stretch/>
        </p:blipFill>
        <p:spPr>
          <a:xfrm>
            <a:off x="4851360" y="3322800"/>
            <a:ext cx="3832200" cy="288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3"/>
          <p:cNvSpPr/>
          <p:nvPr/>
        </p:nvSpPr>
        <p:spPr>
          <a:xfrm>
            <a:off x="7201080" y="6477120"/>
            <a:ext cx="186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2-</a:t>
            </a:r>
            <a:fld id="{61360565-EB8E-43B6-8EE4-1F1EA892AD2B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Times New Roman"/>
              </a:rPr>
              <a:t>Search Engin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535960" cy="47260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Specialized programs to assist in locating information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Types of searche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Times New Roman"/>
              </a:rPr>
              <a:t>Keyword search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Times New Roman"/>
              </a:rPr>
              <a:t>Directory search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40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Text Box 8">
            <a:hlinkClick r:id="" action="ppaction://hlinkshowjump?jump=previousslide"/>
          </p:cNvPr>
          <p:cNvSpPr/>
          <p:nvPr/>
        </p:nvSpPr>
        <p:spPr>
          <a:xfrm>
            <a:off x="436680" y="5783400"/>
            <a:ext cx="38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  <a:hlinkClick r:id="rId5" action="ppaction://hlinksldjump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63" name="Picture 9" descr=""/>
          <p:cNvPicPr/>
          <p:nvPr/>
        </p:nvPicPr>
        <p:blipFill>
          <a:blip r:embed="rId6"/>
          <a:stretch/>
        </p:blipFill>
        <p:spPr>
          <a:xfrm>
            <a:off x="4033800" y="2651040"/>
            <a:ext cx="4446720" cy="33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3"/>
          <p:cNvSpPr/>
          <p:nvPr/>
        </p:nvSpPr>
        <p:spPr>
          <a:xfrm>
            <a:off x="7201080" y="6477120"/>
            <a:ext cx="186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2-</a:t>
            </a:r>
            <a:fld id="{E06C4CF0-D781-4CEC-AC42-5ECFFC43EA1B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Times New Roman"/>
              </a:rPr>
              <a:t>Metasearch Engin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66" name="Group 3"/>
          <p:cNvGrpSpPr/>
          <p:nvPr/>
        </p:nvGrpSpPr>
        <p:grpSpPr>
          <a:xfrm>
            <a:off x="1066680" y="1523880"/>
            <a:ext cx="7317000" cy="4557600"/>
            <a:chOff x="1066680" y="1523880"/>
            <a:chExt cx="7317000" cy="4557600"/>
          </a:xfrm>
        </p:grpSpPr>
        <p:grpSp>
          <p:nvGrpSpPr>
            <p:cNvPr id="267" name="Group 4"/>
            <p:cNvGrpSpPr/>
            <p:nvPr/>
          </p:nvGrpSpPr>
          <p:grpSpPr>
            <a:xfrm>
              <a:off x="4267080" y="5510520"/>
              <a:ext cx="4114800" cy="569520"/>
              <a:chOff x="4267080" y="5510520"/>
              <a:chExt cx="4114800" cy="569520"/>
            </a:xfrm>
          </p:grpSpPr>
          <p:sp>
            <p:nvSpPr>
              <p:cNvPr id="268" name="AutoShape 5"/>
              <p:cNvSpPr/>
              <p:nvPr/>
            </p:nvSpPr>
            <p:spPr>
              <a:xfrm>
                <a:off x="4267080" y="5510520"/>
                <a:ext cx="4114800" cy="569520"/>
              </a:xfrm>
              <a:prstGeom prst="roundRect">
                <a:avLst>
                  <a:gd name="adj" fmla="val 2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9" name="Text Box 6"/>
              <p:cNvSpPr/>
              <p:nvPr/>
            </p:nvSpPr>
            <p:spPr>
              <a:xfrm>
                <a:off x="4267080" y="5510520"/>
                <a:ext cx="4114800" cy="47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600" spc="-1" strike="noStrike">
                    <a:solidFill>
                      <a:srgbClr val="deb54e"/>
                    </a:solidFill>
                    <a:latin typeface="Times New Roman"/>
                  </a:rPr>
                  <a:t>www.vivisimo.com</a:t>
                </a:r>
                <a:endParaRPr b="0" lang="en-US" sz="2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Group 7"/>
            <p:cNvGrpSpPr/>
            <p:nvPr/>
          </p:nvGrpSpPr>
          <p:grpSpPr>
            <a:xfrm>
              <a:off x="1066680" y="5510520"/>
              <a:ext cx="3200400" cy="569520"/>
              <a:chOff x="1066680" y="5510520"/>
              <a:chExt cx="3200400" cy="569520"/>
            </a:xfrm>
          </p:grpSpPr>
          <p:sp>
            <p:nvSpPr>
              <p:cNvPr id="271" name="AutoShape 8"/>
              <p:cNvSpPr/>
              <p:nvPr/>
            </p:nvSpPr>
            <p:spPr>
              <a:xfrm>
                <a:off x="1066680" y="5510520"/>
                <a:ext cx="3200400" cy="569520"/>
              </a:xfrm>
              <a:prstGeom prst="roundRect">
                <a:avLst>
                  <a:gd name="adj" fmla="val 2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2" name="Text Box 9"/>
              <p:cNvSpPr/>
              <p:nvPr/>
            </p:nvSpPr>
            <p:spPr>
              <a:xfrm>
                <a:off x="1066680" y="5510520"/>
                <a:ext cx="3200400" cy="47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600" spc="-1" strike="noStrike">
                    <a:solidFill>
                      <a:srgbClr val="003366"/>
                    </a:solidFill>
                    <a:latin typeface="Times New Roman"/>
                  </a:rPr>
                  <a:t>Vivisimo</a:t>
                </a:r>
                <a:endParaRPr b="0" lang="en-US" sz="2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10"/>
            <p:cNvGrpSpPr/>
            <p:nvPr/>
          </p:nvGrpSpPr>
          <p:grpSpPr>
            <a:xfrm>
              <a:off x="4267080" y="4941000"/>
              <a:ext cx="4114800" cy="569160"/>
              <a:chOff x="4267080" y="4941000"/>
              <a:chExt cx="4114800" cy="569160"/>
            </a:xfrm>
          </p:grpSpPr>
          <p:sp>
            <p:nvSpPr>
              <p:cNvPr id="274" name="AutoShape 11"/>
              <p:cNvSpPr/>
              <p:nvPr/>
            </p:nvSpPr>
            <p:spPr>
              <a:xfrm>
                <a:off x="4267080" y="4941000"/>
                <a:ext cx="4114800" cy="569160"/>
              </a:xfrm>
              <a:prstGeom prst="roundRect">
                <a:avLst>
                  <a:gd name="adj" fmla="val 2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" name="Text Box 12"/>
              <p:cNvSpPr/>
              <p:nvPr/>
            </p:nvSpPr>
            <p:spPr>
              <a:xfrm>
                <a:off x="4267080" y="4941000"/>
                <a:ext cx="4114800" cy="47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600" spc="-1" strike="noStrike">
                    <a:solidFill>
                      <a:srgbClr val="deb54e"/>
                    </a:solidFill>
                    <a:latin typeface="Times New Roman"/>
                  </a:rPr>
                  <a:t>www.search.com</a:t>
                </a:r>
                <a:endParaRPr b="0" lang="en-US" sz="2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Group 13"/>
            <p:cNvGrpSpPr/>
            <p:nvPr/>
          </p:nvGrpSpPr>
          <p:grpSpPr>
            <a:xfrm>
              <a:off x="1066680" y="4941000"/>
              <a:ext cx="3200400" cy="569160"/>
              <a:chOff x="1066680" y="4941000"/>
              <a:chExt cx="3200400" cy="569160"/>
            </a:xfrm>
          </p:grpSpPr>
          <p:sp>
            <p:nvSpPr>
              <p:cNvPr id="277" name="AutoShape 14"/>
              <p:cNvSpPr/>
              <p:nvPr/>
            </p:nvSpPr>
            <p:spPr>
              <a:xfrm>
                <a:off x="1066680" y="4941000"/>
                <a:ext cx="3200400" cy="569160"/>
              </a:xfrm>
              <a:prstGeom prst="roundRect">
                <a:avLst>
                  <a:gd name="adj" fmla="val 2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8" name="Text Box 15"/>
              <p:cNvSpPr/>
              <p:nvPr/>
            </p:nvSpPr>
            <p:spPr>
              <a:xfrm>
                <a:off x="1066680" y="4941000"/>
                <a:ext cx="3200400" cy="47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600" spc="-1" strike="noStrike">
                    <a:solidFill>
                      <a:srgbClr val="003366"/>
                    </a:solidFill>
                    <a:latin typeface="Times New Roman"/>
                  </a:rPr>
                  <a:t>Search</a:t>
                </a:r>
                <a:endParaRPr b="0" lang="en-US" sz="2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Group 16"/>
            <p:cNvGrpSpPr/>
            <p:nvPr/>
          </p:nvGrpSpPr>
          <p:grpSpPr>
            <a:xfrm>
              <a:off x="4267080" y="4371480"/>
              <a:ext cx="4114800" cy="569520"/>
              <a:chOff x="4267080" y="4371480"/>
              <a:chExt cx="4114800" cy="569520"/>
            </a:xfrm>
          </p:grpSpPr>
          <p:sp>
            <p:nvSpPr>
              <p:cNvPr id="280" name="AutoShape 17"/>
              <p:cNvSpPr/>
              <p:nvPr/>
            </p:nvSpPr>
            <p:spPr>
              <a:xfrm>
                <a:off x="4267080" y="4371480"/>
                <a:ext cx="4114800" cy="569520"/>
              </a:xfrm>
              <a:prstGeom prst="roundRect">
                <a:avLst>
                  <a:gd name="adj" fmla="val 2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1" name="Text Box 18"/>
              <p:cNvSpPr/>
              <p:nvPr/>
            </p:nvSpPr>
            <p:spPr>
              <a:xfrm>
                <a:off x="4267080" y="4371480"/>
                <a:ext cx="4114800" cy="47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600" spc="-1" strike="noStrike">
                    <a:solidFill>
                      <a:srgbClr val="deb54e"/>
                    </a:solidFill>
                    <a:latin typeface="Times New Roman"/>
                  </a:rPr>
                  <a:t>www.profusion.com</a:t>
                </a:r>
                <a:endParaRPr b="0" lang="en-US" sz="2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Group 19"/>
            <p:cNvGrpSpPr/>
            <p:nvPr/>
          </p:nvGrpSpPr>
          <p:grpSpPr>
            <a:xfrm>
              <a:off x="1066680" y="4371480"/>
              <a:ext cx="3200400" cy="569520"/>
              <a:chOff x="1066680" y="4371480"/>
              <a:chExt cx="3200400" cy="569520"/>
            </a:xfrm>
          </p:grpSpPr>
          <p:sp>
            <p:nvSpPr>
              <p:cNvPr id="283" name="AutoShape 20"/>
              <p:cNvSpPr/>
              <p:nvPr/>
            </p:nvSpPr>
            <p:spPr>
              <a:xfrm>
                <a:off x="1066680" y="4371480"/>
                <a:ext cx="3200400" cy="569520"/>
              </a:xfrm>
              <a:prstGeom prst="roundRect">
                <a:avLst>
                  <a:gd name="adj" fmla="val 2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4" name="Text Box 21"/>
              <p:cNvSpPr/>
              <p:nvPr/>
            </p:nvSpPr>
            <p:spPr>
              <a:xfrm>
                <a:off x="1066680" y="4371480"/>
                <a:ext cx="3200400" cy="47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600" spc="-1" strike="noStrike">
                    <a:solidFill>
                      <a:srgbClr val="003366"/>
                    </a:solidFill>
                    <a:latin typeface="Times New Roman"/>
                  </a:rPr>
                  <a:t>ProFusion</a:t>
                </a:r>
                <a:endParaRPr b="0" lang="en-US" sz="2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Group 22"/>
            <p:cNvGrpSpPr/>
            <p:nvPr/>
          </p:nvGrpSpPr>
          <p:grpSpPr>
            <a:xfrm>
              <a:off x="4267080" y="3801960"/>
              <a:ext cx="4114800" cy="569160"/>
              <a:chOff x="4267080" y="3801960"/>
              <a:chExt cx="4114800" cy="569160"/>
            </a:xfrm>
          </p:grpSpPr>
          <p:sp>
            <p:nvSpPr>
              <p:cNvPr id="286" name="AutoShape 23"/>
              <p:cNvSpPr/>
              <p:nvPr/>
            </p:nvSpPr>
            <p:spPr>
              <a:xfrm>
                <a:off x="4267080" y="3801960"/>
                <a:ext cx="4114800" cy="569160"/>
              </a:xfrm>
              <a:prstGeom prst="roundRect">
                <a:avLst>
                  <a:gd name="adj" fmla="val 2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7" name="Text Box 24"/>
              <p:cNvSpPr/>
              <p:nvPr/>
            </p:nvSpPr>
            <p:spPr>
              <a:xfrm>
                <a:off x="4267080" y="3801960"/>
                <a:ext cx="4114800" cy="47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600" spc="-1" strike="noStrike" u="sng">
                    <a:solidFill>
                      <a:srgbClr val="003366"/>
                    </a:solidFill>
                    <a:uFillTx/>
                    <a:latin typeface="Times New Roman"/>
                    <a:hlinkClick r:id="rId1"/>
                  </a:rPr>
                  <a:t>www.metacrawler.com</a:t>
                </a:r>
                <a:endParaRPr b="0" lang="en-US" sz="2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Group 25"/>
            <p:cNvGrpSpPr/>
            <p:nvPr/>
          </p:nvGrpSpPr>
          <p:grpSpPr>
            <a:xfrm>
              <a:off x="1066680" y="3801960"/>
              <a:ext cx="3200400" cy="569160"/>
              <a:chOff x="1066680" y="3801960"/>
              <a:chExt cx="3200400" cy="569160"/>
            </a:xfrm>
          </p:grpSpPr>
          <p:sp>
            <p:nvSpPr>
              <p:cNvPr id="289" name="AutoShape 26"/>
              <p:cNvSpPr/>
              <p:nvPr/>
            </p:nvSpPr>
            <p:spPr>
              <a:xfrm>
                <a:off x="1066680" y="3801960"/>
                <a:ext cx="3200400" cy="569160"/>
              </a:xfrm>
              <a:prstGeom prst="roundRect">
                <a:avLst>
                  <a:gd name="adj" fmla="val 2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0" name="Text Box 27"/>
              <p:cNvSpPr/>
              <p:nvPr/>
            </p:nvSpPr>
            <p:spPr>
              <a:xfrm>
                <a:off x="1066680" y="3801960"/>
                <a:ext cx="3200400" cy="47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600" spc="-1" strike="noStrike">
                    <a:solidFill>
                      <a:srgbClr val="003366"/>
                    </a:solidFill>
                    <a:latin typeface="Times New Roman"/>
                  </a:rPr>
                  <a:t>MetaCrawler</a:t>
                </a:r>
                <a:endParaRPr b="0" lang="en-US" sz="2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Group 28"/>
            <p:cNvGrpSpPr/>
            <p:nvPr/>
          </p:nvGrpSpPr>
          <p:grpSpPr>
            <a:xfrm>
              <a:off x="4267080" y="3232440"/>
              <a:ext cx="4114800" cy="570600"/>
              <a:chOff x="4267080" y="3232440"/>
              <a:chExt cx="4114800" cy="570600"/>
            </a:xfrm>
          </p:grpSpPr>
          <p:sp>
            <p:nvSpPr>
              <p:cNvPr id="292" name="AutoShape 29"/>
              <p:cNvSpPr/>
              <p:nvPr/>
            </p:nvSpPr>
            <p:spPr>
              <a:xfrm>
                <a:off x="4267080" y="3232440"/>
                <a:ext cx="4114800" cy="570600"/>
              </a:xfrm>
              <a:prstGeom prst="roundRect">
                <a:avLst>
                  <a:gd name="adj" fmla="val 2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3" name="Text Box 30"/>
              <p:cNvSpPr/>
              <p:nvPr/>
            </p:nvSpPr>
            <p:spPr>
              <a:xfrm>
                <a:off x="4267080" y="3232440"/>
                <a:ext cx="4114800" cy="47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600" spc="-1" strike="noStrike" u="sng">
                    <a:solidFill>
                      <a:srgbClr val="003366"/>
                    </a:solidFill>
                    <a:uFillTx/>
                    <a:latin typeface="Times New Roman"/>
                    <a:hlinkClick r:id="rId2"/>
                  </a:rPr>
                  <a:t>www.mamma.com</a:t>
                </a:r>
                <a:endParaRPr b="0" lang="en-US" sz="2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Group 31"/>
            <p:cNvGrpSpPr/>
            <p:nvPr/>
          </p:nvGrpSpPr>
          <p:grpSpPr>
            <a:xfrm>
              <a:off x="1066680" y="3232440"/>
              <a:ext cx="3200400" cy="570600"/>
              <a:chOff x="1066680" y="3232440"/>
              <a:chExt cx="3200400" cy="570600"/>
            </a:xfrm>
          </p:grpSpPr>
          <p:sp>
            <p:nvSpPr>
              <p:cNvPr id="295" name="AutoShape 32"/>
              <p:cNvSpPr/>
              <p:nvPr/>
            </p:nvSpPr>
            <p:spPr>
              <a:xfrm>
                <a:off x="1066680" y="3232440"/>
                <a:ext cx="3200400" cy="570600"/>
              </a:xfrm>
              <a:prstGeom prst="roundRect">
                <a:avLst>
                  <a:gd name="adj" fmla="val 2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6" name="Text Box 33"/>
              <p:cNvSpPr/>
              <p:nvPr/>
            </p:nvSpPr>
            <p:spPr>
              <a:xfrm>
                <a:off x="1066680" y="3232440"/>
                <a:ext cx="3200400" cy="47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600" spc="-1" strike="noStrike">
                    <a:solidFill>
                      <a:srgbClr val="003366"/>
                    </a:solidFill>
                    <a:latin typeface="Times New Roman"/>
                  </a:rPr>
                  <a:t>Mamma</a:t>
                </a:r>
                <a:endParaRPr b="0" lang="en-US" sz="2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Group 34"/>
            <p:cNvGrpSpPr/>
            <p:nvPr/>
          </p:nvGrpSpPr>
          <p:grpSpPr>
            <a:xfrm>
              <a:off x="4267080" y="2662920"/>
              <a:ext cx="4114800" cy="569520"/>
              <a:chOff x="4267080" y="2662920"/>
              <a:chExt cx="4114800" cy="569520"/>
            </a:xfrm>
          </p:grpSpPr>
          <p:sp>
            <p:nvSpPr>
              <p:cNvPr id="298" name="AutoShape 35"/>
              <p:cNvSpPr/>
              <p:nvPr/>
            </p:nvSpPr>
            <p:spPr>
              <a:xfrm>
                <a:off x="4267080" y="2662920"/>
                <a:ext cx="4114800" cy="569520"/>
              </a:xfrm>
              <a:prstGeom prst="roundRect">
                <a:avLst>
                  <a:gd name="adj" fmla="val 2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9" name="Text Box 36"/>
              <p:cNvSpPr/>
              <p:nvPr/>
            </p:nvSpPr>
            <p:spPr>
              <a:xfrm>
                <a:off x="4267080" y="2662920"/>
                <a:ext cx="4114800" cy="47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600" spc="-1" strike="noStrike" u="sng">
                    <a:solidFill>
                      <a:srgbClr val="003366"/>
                    </a:solidFill>
                    <a:uFillTx/>
                    <a:latin typeface="Times New Roman"/>
                    <a:hlinkClick r:id="rId3"/>
                  </a:rPr>
                  <a:t>www.ixquick.com</a:t>
                </a:r>
                <a:endParaRPr b="0" lang="en-US" sz="2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Group 37"/>
            <p:cNvGrpSpPr/>
            <p:nvPr/>
          </p:nvGrpSpPr>
          <p:grpSpPr>
            <a:xfrm>
              <a:off x="1066680" y="2662920"/>
              <a:ext cx="3200400" cy="569520"/>
              <a:chOff x="1066680" y="2662920"/>
              <a:chExt cx="3200400" cy="569520"/>
            </a:xfrm>
          </p:grpSpPr>
          <p:sp>
            <p:nvSpPr>
              <p:cNvPr id="301" name="AutoShape 38"/>
              <p:cNvSpPr/>
              <p:nvPr/>
            </p:nvSpPr>
            <p:spPr>
              <a:xfrm>
                <a:off x="1066680" y="2662920"/>
                <a:ext cx="3200400" cy="569520"/>
              </a:xfrm>
              <a:prstGeom prst="roundRect">
                <a:avLst>
                  <a:gd name="adj" fmla="val 2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2" name="Text Box 39"/>
              <p:cNvSpPr/>
              <p:nvPr/>
            </p:nvSpPr>
            <p:spPr>
              <a:xfrm>
                <a:off x="1066680" y="2662920"/>
                <a:ext cx="3200400" cy="47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600" spc="-1" strike="noStrike">
                    <a:solidFill>
                      <a:srgbClr val="003366"/>
                    </a:solidFill>
                    <a:latin typeface="Times New Roman"/>
                  </a:rPr>
                  <a:t>Ixquick</a:t>
                </a:r>
                <a:endParaRPr b="0" lang="en-US" sz="2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Group 40"/>
            <p:cNvGrpSpPr/>
            <p:nvPr/>
          </p:nvGrpSpPr>
          <p:grpSpPr>
            <a:xfrm>
              <a:off x="4267080" y="2093400"/>
              <a:ext cx="4114800" cy="569160"/>
              <a:chOff x="4267080" y="2093400"/>
              <a:chExt cx="4114800" cy="569160"/>
            </a:xfrm>
          </p:grpSpPr>
          <p:sp>
            <p:nvSpPr>
              <p:cNvPr id="304" name="AutoShape 41"/>
              <p:cNvSpPr/>
              <p:nvPr/>
            </p:nvSpPr>
            <p:spPr>
              <a:xfrm>
                <a:off x="4267080" y="2093400"/>
                <a:ext cx="4114800" cy="569160"/>
              </a:xfrm>
              <a:prstGeom prst="roundRect">
                <a:avLst>
                  <a:gd name="adj" fmla="val 2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5" name="Text Box 42"/>
              <p:cNvSpPr/>
              <p:nvPr/>
            </p:nvSpPr>
            <p:spPr>
              <a:xfrm>
                <a:off x="4267080" y="2093400"/>
                <a:ext cx="4114800" cy="47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600" spc="-1" strike="noStrike" u="sng">
                    <a:solidFill>
                      <a:srgbClr val="003366"/>
                    </a:solidFill>
                    <a:uFillTx/>
                    <a:latin typeface="Times New Roman"/>
                    <a:hlinkClick r:id="rId4"/>
                  </a:rPr>
                  <a:t>www.dogpile.com</a:t>
                </a:r>
                <a:endParaRPr b="0" lang="en-US" sz="2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Group 43"/>
            <p:cNvGrpSpPr/>
            <p:nvPr/>
          </p:nvGrpSpPr>
          <p:grpSpPr>
            <a:xfrm>
              <a:off x="1066680" y="2093400"/>
              <a:ext cx="3200400" cy="569160"/>
              <a:chOff x="1066680" y="2093400"/>
              <a:chExt cx="3200400" cy="569160"/>
            </a:xfrm>
          </p:grpSpPr>
          <p:sp>
            <p:nvSpPr>
              <p:cNvPr id="307" name="AutoShape 44"/>
              <p:cNvSpPr/>
              <p:nvPr/>
            </p:nvSpPr>
            <p:spPr>
              <a:xfrm>
                <a:off x="1066680" y="2093400"/>
                <a:ext cx="3200400" cy="569160"/>
              </a:xfrm>
              <a:prstGeom prst="roundRect">
                <a:avLst>
                  <a:gd name="adj" fmla="val 2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8" name="Text Box 45"/>
              <p:cNvSpPr/>
              <p:nvPr/>
            </p:nvSpPr>
            <p:spPr>
              <a:xfrm>
                <a:off x="1066680" y="2093400"/>
                <a:ext cx="3200400" cy="47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600" spc="-1" strike="noStrike">
                    <a:solidFill>
                      <a:srgbClr val="003366"/>
                    </a:solidFill>
                    <a:latin typeface="Times New Roman"/>
                  </a:rPr>
                  <a:t>Dogpile</a:t>
                </a:r>
                <a:endParaRPr b="0" lang="en-US" sz="2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Group 46"/>
            <p:cNvGrpSpPr/>
            <p:nvPr/>
          </p:nvGrpSpPr>
          <p:grpSpPr>
            <a:xfrm>
              <a:off x="4267080" y="1523880"/>
              <a:ext cx="4114800" cy="569520"/>
              <a:chOff x="4267080" y="1523880"/>
              <a:chExt cx="4114800" cy="569520"/>
            </a:xfrm>
          </p:grpSpPr>
          <p:sp>
            <p:nvSpPr>
              <p:cNvPr id="310" name="AutoShape 47"/>
              <p:cNvSpPr/>
              <p:nvPr/>
            </p:nvSpPr>
            <p:spPr>
              <a:xfrm>
                <a:off x="4267080" y="1523880"/>
                <a:ext cx="4114800" cy="569520"/>
              </a:xfrm>
              <a:prstGeom prst="roundRect">
                <a:avLst>
                  <a:gd name="adj" fmla="val 2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1" name="Text Box 48"/>
              <p:cNvSpPr/>
              <p:nvPr/>
            </p:nvSpPr>
            <p:spPr>
              <a:xfrm>
                <a:off x="4267080" y="1523880"/>
                <a:ext cx="4114800" cy="49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3366"/>
                    </a:solidFill>
                    <a:latin typeface="Times New Roman"/>
                  </a:rPr>
                  <a:t>Site</a:t>
                </a:r>
                <a:endParaRPr b="0" lang="en-US" sz="2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Group 49"/>
            <p:cNvGrpSpPr/>
            <p:nvPr/>
          </p:nvGrpSpPr>
          <p:grpSpPr>
            <a:xfrm>
              <a:off x="1066680" y="1523880"/>
              <a:ext cx="3200400" cy="569520"/>
              <a:chOff x="1066680" y="1523880"/>
              <a:chExt cx="3200400" cy="569520"/>
            </a:xfrm>
          </p:grpSpPr>
          <p:sp>
            <p:nvSpPr>
              <p:cNvPr id="313" name="AutoShape 50"/>
              <p:cNvSpPr/>
              <p:nvPr/>
            </p:nvSpPr>
            <p:spPr>
              <a:xfrm>
                <a:off x="1066680" y="1523880"/>
                <a:ext cx="3200400" cy="569520"/>
              </a:xfrm>
              <a:prstGeom prst="roundRect">
                <a:avLst>
                  <a:gd name="adj" fmla="val 2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4" name="Text Box 51"/>
              <p:cNvSpPr/>
              <p:nvPr/>
            </p:nvSpPr>
            <p:spPr>
              <a:xfrm>
                <a:off x="1066680" y="1523880"/>
                <a:ext cx="3200400" cy="49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3366"/>
                    </a:solidFill>
                    <a:latin typeface="Times New Roman"/>
                  </a:rPr>
                  <a:t>Metasearch Service </a:t>
                </a:r>
                <a:endParaRPr b="0" lang="en-US" sz="2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15" name="Line 52"/>
            <p:cNvSpPr/>
            <p:nvPr/>
          </p:nvSpPr>
          <p:spPr>
            <a:xfrm>
              <a:off x="1066680" y="1523880"/>
              <a:ext cx="731520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" name="Line 53"/>
            <p:cNvSpPr/>
            <p:nvPr/>
          </p:nvSpPr>
          <p:spPr>
            <a:xfrm>
              <a:off x="1066680" y="2093400"/>
              <a:ext cx="7315200" cy="10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" name="Line 54"/>
            <p:cNvSpPr/>
            <p:nvPr/>
          </p:nvSpPr>
          <p:spPr>
            <a:xfrm>
              <a:off x="1066680" y="2662920"/>
              <a:ext cx="731520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" name="Line 55"/>
            <p:cNvSpPr/>
            <p:nvPr/>
          </p:nvSpPr>
          <p:spPr>
            <a:xfrm>
              <a:off x="1066680" y="3232440"/>
              <a:ext cx="7315200" cy="10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" name="Line 56"/>
            <p:cNvSpPr/>
            <p:nvPr/>
          </p:nvSpPr>
          <p:spPr>
            <a:xfrm>
              <a:off x="1066680" y="3801960"/>
              <a:ext cx="7315200" cy="10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" name="Line 57"/>
            <p:cNvSpPr/>
            <p:nvPr/>
          </p:nvSpPr>
          <p:spPr>
            <a:xfrm>
              <a:off x="1066680" y="4371480"/>
              <a:ext cx="731520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" name="Line 58"/>
            <p:cNvSpPr/>
            <p:nvPr/>
          </p:nvSpPr>
          <p:spPr>
            <a:xfrm>
              <a:off x="1066680" y="4941000"/>
              <a:ext cx="7315200" cy="10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" name="Line 59"/>
            <p:cNvSpPr/>
            <p:nvPr/>
          </p:nvSpPr>
          <p:spPr>
            <a:xfrm>
              <a:off x="1066680" y="5510520"/>
              <a:ext cx="731520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" name="Line 60"/>
            <p:cNvSpPr/>
            <p:nvPr/>
          </p:nvSpPr>
          <p:spPr>
            <a:xfrm>
              <a:off x="1066680" y="6080400"/>
              <a:ext cx="7315200" cy="10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" name="Line 61"/>
            <p:cNvSpPr/>
            <p:nvPr/>
          </p:nvSpPr>
          <p:spPr>
            <a:xfrm>
              <a:off x="1066680" y="1523880"/>
              <a:ext cx="1800" cy="45565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" name="Line 62"/>
            <p:cNvSpPr/>
            <p:nvPr/>
          </p:nvSpPr>
          <p:spPr>
            <a:xfrm>
              <a:off x="4267080" y="1523880"/>
              <a:ext cx="1800" cy="45565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" name="Line 63"/>
            <p:cNvSpPr/>
            <p:nvPr/>
          </p:nvSpPr>
          <p:spPr>
            <a:xfrm>
              <a:off x="8381880" y="1523880"/>
              <a:ext cx="1800" cy="45565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27" name="Text Box 64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4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Text Box 65">
            <a:hlinkClick r:id="" action="ppaction://hlinkshowjump?jump=previousslide"/>
          </p:cNvPr>
          <p:cNvSpPr/>
          <p:nvPr/>
        </p:nvSpPr>
        <p:spPr>
          <a:xfrm>
            <a:off x="576360" y="6107040"/>
            <a:ext cx="79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  <a:hlinkClick r:id="rId5" action="ppaction://hlinksldjump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3"/>
          <p:cNvSpPr/>
          <p:nvPr/>
        </p:nvSpPr>
        <p:spPr>
          <a:xfrm>
            <a:off x="7201080" y="6477120"/>
            <a:ext cx="186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2-</a:t>
            </a:r>
            <a:fld id="{7025300C-6581-4A0F-9D55-CF50FB7D2AF2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Times New Roman"/>
              </a:rPr>
              <a:t>Electronic Commerce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535960" cy="47260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Also known as </a:t>
            </a: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e-commerce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Buying and selling of goods over the Internet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Times New Roman"/>
              </a:rPr>
              <a:t>Business-to-consumer (B2C)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Times New Roman"/>
              </a:rPr>
              <a:t>Consumer-to-consumer (C2C)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Times New Roman"/>
              </a:rPr>
              <a:t>Business-to-business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 (</a:t>
            </a:r>
            <a:r>
              <a:rPr b="1" i="1" lang="en-GB" sz="2800" spc="-1" strike="noStrike">
                <a:solidFill>
                  <a:srgbClr val="003366"/>
                </a:solidFill>
                <a:latin typeface="Times New Roman"/>
              </a:rPr>
              <a:t>B2B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2" name="Picture 4" descr=""/>
          <p:cNvPicPr/>
          <p:nvPr/>
        </p:nvPicPr>
        <p:blipFill>
          <a:blip r:embed="rId6"/>
          <a:stretch/>
        </p:blipFill>
        <p:spPr>
          <a:xfrm>
            <a:off x="6248520" y="3124080"/>
            <a:ext cx="1873080" cy="266724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5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42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lide Number Placeholder 3"/>
          <p:cNvSpPr/>
          <p:nvPr/>
        </p:nvSpPr>
        <p:spPr>
          <a:xfrm>
            <a:off x="7201080" y="6477120"/>
            <a:ext cx="186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2-</a:t>
            </a:r>
            <a:fld id="{1F0B80BD-E6F6-484F-A9DD-A5CA19791C83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Times New Roman"/>
              </a:rPr>
              <a:t>Web Storefront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535960" cy="47260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Virtual store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Web storefront creation package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Also called </a:t>
            </a:r>
            <a:r>
              <a:rPr b="1" i="1" lang="en-GB" sz="2800" spc="-1" strike="noStrike">
                <a:solidFill>
                  <a:srgbClr val="003366"/>
                </a:solidFill>
                <a:latin typeface="Times New Roman"/>
              </a:rPr>
              <a:t>commerce servers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Help businesses create virtual stores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Allow visitors to register, </a:t>
            </a:r>
            <a:br>
              <a:rPr sz="2800"/>
            </a:b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browse, and make purchase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43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8" name="Picture 7" descr=""/>
          <p:cNvPicPr/>
          <p:nvPr/>
        </p:nvPicPr>
        <p:blipFill>
          <a:blip r:embed="rId6"/>
          <a:stretch/>
        </p:blipFill>
        <p:spPr>
          <a:xfrm>
            <a:off x="5626080" y="3873600"/>
            <a:ext cx="3057480" cy="230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lide Number Placeholder 3"/>
          <p:cNvSpPr/>
          <p:nvPr/>
        </p:nvSpPr>
        <p:spPr>
          <a:xfrm>
            <a:off x="7201080" y="6477120"/>
            <a:ext cx="186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2-</a:t>
            </a:r>
            <a:fld id="{DDC80639-A04E-4CA9-9CD9-DF020004A90A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Times New Roman"/>
              </a:rPr>
              <a:t>Web Auction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535960" cy="47260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Consumer-to-consumer e-commerce (C2C)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Similar to traditional auctions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Type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Times New Roman"/>
              </a:rPr>
              <a:t>Auction house sites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Times New Roman"/>
              </a:rPr>
              <a:t>Person-to-person </a:t>
            </a:r>
            <a:br>
              <a:rPr sz="2800"/>
            </a:br>
            <a:r>
              <a:rPr b="1" i="1" lang="en-GB" sz="2800" spc="-1" strike="noStrike">
                <a:solidFill>
                  <a:srgbClr val="003366"/>
                </a:solidFill>
                <a:latin typeface="Times New Roman"/>
              </a:rPr>
              <a:t>auction sites 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43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3" name="Picture 7" descr=""/>
          <p:cNvPicPr/>
          <p:nvPr/>
        </p:nvPicPr>
        <p:blipFill>
          <a:blip r:embed="rId6"/>
          <a:stretch/>
        </p:blipFill>
        <p:spPr>
          <a:xfrm>
            <a:off x="4568760" y="3098880"/>
            <a:ext cx="379404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7201080" y="6477120"/>
            <a:ext cx="186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2-</a:t>
            </a:r>
            <a:fld id="{5567EF89-0B65-42F9-9160-58F48C14BDB9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ompetenci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535960" cy="47260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Discuss the origins of the Internet and the Web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Describe how to access the Web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Discuss Internet communication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Describe Internet search tool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Discuss electronic commerce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Discuss Web utilitie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8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0" name="Group 12"/>
          <p:cNvGrpSpPr/>
          <p:nvPr/>
        </p:nvGrpSpPr>
        <p:grpSpPr>
          <a:xfrm>
            <a:off x="5799240" y="3076560"/>
            <a:ext cx="2923920" cy="3095640"/>
            <a:chOff x="5799240" y="3076560"/>
            <a:chExt cx="2923920" cy="3095640"/>
          </a:xfrm>
        </p:grpSpPr>
        <p:graphicFrame>
          <p:nvGraphicFramePr>
            <p:cNvPr id="131" name="Object 10"/>
            <p:cNvGraphicFramePr/>
            <p:nvPr/>
          </p:nvGraphicFramePr>
          <p:xfrm>
            <a:off x="6585120" y="3076560"/>
            <a:ext cx="2138040" cy="1601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2" name="Object 1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585120" y="3076560"/>
                      <a:ext cx="2138040" cy="160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" name="Object 11"/>
            <p:cNvGraphicFramePr/>
            <p:nvPr/>
          </p:nvGraphicFramePr>
          <p:xfrm>
            <a:off x="5799240" y="4478400"/>
            <a:ext cx="2114280" cy="1693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4" name="Object 1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799240" y="4478400"/>
                      <a:ext cx="2114280" cy="169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lide Number Placeholder 3"/>
          <p:cNvSpPr/>
          <p:nvPr/>
        </p:nvSpPr>
        <p:spPr>
          <a:xfrm>
            <a:off x="7201080" y="6477120"/>
            <a:ext cx="186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2-</a:t>
            </a:r>
            <a:fld id="{2C8AB507-C1AC-4E07-B6B0-D72147D8759B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Times New Roman"/>
              </a:rPr>
              <a:t>Security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535960" cy="47260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Payment methods must be fast, reliable, and secure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Three basic option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Checks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Credit card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Times New Roman"/>
              </a:rPr>
              <a:t>Electronic cash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Times New Roman"/>
              </a:rPr>
              <a:t>E-cash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Times New Roman"/>
              </a:rPr>
              <a:t>Cybercash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Times New Roman"/>
              </a:rPr>
              <a:t>Digital cash 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9"/>
          <a:stretch/>
        </p:blipFill>
        <p:spPr>
          <a:xfrm>
            <a:off x="4213080" y="2692440"/>
            <a:ext cx="4496040" cy="349092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5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4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3"/>
          <p:cNvSpPr/>
          <p:nvPr/>
        </p:nvSpPr>
        <p:spPr>
          <a:xfrm>
            <a:off x="7201080" y="6477120"/>
            <a:ext cx="186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2-</a:t>
            </a:r>
            <a:fld id="{9F66BD2F-FBA3-4EC4-AC13-EE270503B851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Times New Roman"/>
              </a:rPr>
              <a:t>Web Utiliti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2520" y="1599840"/>
            <a:ext cx="83865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Telnet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FTP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Plug-in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Filters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Text Box 51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45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2927520" y="2251080"/>
          <a:ext cx="5649840" cy="3771720"/>
        </p:xfrm>
        <a:graphic>
          <a:graphicData uri="http://schemas.openxmlformats.org/drawingml/2006/table">
            <a:tbl>
              <a:tblPr/>
              <a:tblGrid>
                <a:gridCol w="2293920"/>
                <a:gridCol w="3355920"/>
              </a:tblGrid>
              <a:tr h="62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lug-in</a:t>
                      </a:r>
                      <a:r>
                        <a:rPr b="1" lang="en-US" sz="2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80b3ff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80b3ff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Source</a:t>
                      </a: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80b3ff"/>
                      </a:solidFill>
                    </a:lnR>
                    <a:lnT w="12240">
                      <a:solidFill>
                        <a:srgbClr val="80b3ff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Acrobat Reader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80b3ff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d9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www.adobe.com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80b3ff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d98a"/>
                    </a:solidFill>
                  </a:tcPr>
                </a:tc>
              </a:tr>
              <a:tr h="62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edia Player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80b3ff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2ff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www.microsoft.com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80b3ff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2ffb0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QuickTime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80b3ff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0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www.apple.com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80b3ff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0d2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RealPlayer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80b3ff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b8f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www.real.com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80b3ff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b8f0ff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Shockwave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80b3ff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80b3ff"/>
                      </a:solidFill>
                    </a:lnB>
                    <a:solidFill>
                      <a:srgbClr val="ffd9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www.macromedia.com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80b3ff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80b3ff"/>
                      </a:solidFill>
                    </a:lnB>
                    <a:solidFill>
                      <a:srgbClr val="ffd98a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Slide Number Placeholder 3"/>
          <p:cNvSpPr/>
          <p:nvPr/>
        </p:nvSpPr>
        <p:spPr>
          <a:xfrm>
            <a:off x="7201080" y="6477120"/>
            <a:ext cx="186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2-</a:t>
            </a:r>
            <a:fld id="{53242F7E-5983-48E7-97E2-3030365B39E0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52360"/>
            <a:ext cx="8229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Times New Roman"/>
              </a:rPr>
              <a:t>A Look to the Future</a:t>
            </a:r>
            <a:br>
              <a:rPr sz="4000"/>
            </a:br>
            <a:r>
              <a:rPr b="1" lang="en-GB" sz="2800" spc="-1" strike="noStrike">
                <a:solidFill>
                  <a:srgbClr val="006699"/>
                </a:solidFill>
                <a:latin typeface="Times New Roman"/>
              </a:rPr>
              <a:t>Internet2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535960" cy="47260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A high bandwidth project for media-intensive files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Collaboration of universities, the government, and private industry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100 times faster than the Internet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Not a separate Internet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5"/>
          <a:stretch/>
        </p:blipFill>
        <p:spPr>
          <a:xfrm>
            <a:off x="5619600" y="4373640"/>
            <a:ext cx="2746440" cy="180180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5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47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lide Number Placeholder 3"/>
          <p:cNvSpPr/>
          <p:nvPr/>
        </p:nvSpPr>
        <p:spPr>
          <a:xfrm>
            <a:off x="7201080" y="6477120"/>
            <a:ext cx="186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2-</a:t>
            </a:r>
            <a:fld id="{EDA4D385-8C54-47C1-BAC1-83EC7385D341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Discuss the uses of the Internet. Which activities have you participated in? Which one do you think is the most popular?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Explain the differences between the three types of providers.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What are the basic elements of an e-mail message?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1" name="Picture 3" descr="j2404a1q[1]"/>
          <p:cNvPicPr/>
          <p:nvPr/>
        </p:nvPicPr>
        <p:blipFill>
          <a:blip r:embed="rId4"/>
          <a:stretch/>
        </p:blipFill>
        <p:spPr>
          <a:xfrm>
            <a:off x="7454880" y="520560"/>
            <a:ext cx="1455840" cy="85752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4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5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title"/>
          </p:nvPr>
        </p:nvSpPr>
        <p:spPr>
          <a:xfrm>
            <a:off x="155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Discussion Question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1 of 2)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2" dur="1" fill="hold"/>
                                  <p:tgtEl>
                                    <p:spTgt spid="3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3"/>
          <p:cNvSpPr/>
          <p:nvPr/>
        </p:nvSpPr>
        <p:spPr>
          <a:xfrm>
            <a:off x="7201080" y="6477120"/>
            <a:ext cx="186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2-</a:t>
            </a:r>
            <a:fld id="{9FA529AF-7A3A-46BE-9F7F-A8D73B8EA5F6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What are the types of discussion groups? Describe any groups you participate in.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Describe the different types of search engines. Give an example of the type of search each engine is best for.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6" name="Picture 3" descr="j2404a1q[1]"/>
          <p:cNvPicPr/>
          <p:nvPr/>
        </p:nvPicPr>
        <p:blipFill>
          <a:blip r:embed="rId3"/>
          <a:stretch/>
        </p:blipFill>
        <p:spPr>
          <a:xfrm>
            <a:off x="7294680" y="426960"/>
            <a:ext cx="1616040" cy="95112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4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5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155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Discussion Question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2 of 2)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0" dur="1" fill="hold"/>
                                  <p:tgtEl>
                                    <p:spTgt spid="3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7201080" y="6477120"/>
            <a:ext cx="186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2-</a:t>
            </a:r>
            <a:fld id="{F251E915-7087-417C-A9CC-97534EEF636A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Times New Roman"/>
              </a:rPr>
              <a:t>The Internet and the Web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535960" cy="47260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Large network that connects smaller networks globally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Launched in 1969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National computer network 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US funded project called </a:t>
            </a:r>
            <a:r>
              <a:rPr b="1" i="1" lang="en-GB" sz="2800" spc="-1" strike="noStrike">
                <a:solidFill>
                  <a:srgbClr val="003366"/>
                </a:solidFill>
                <a:latin typeface="Times New Roman"/>
              </a:rPr>
              <a:t>ARPANET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World Wide Web</a:t>
            </a: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 introduced</a:t>
            </a:r>
            <a:br>
              <a:rPr sz="3200"/>
            </a:b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in 1992 at </a:t>
            </a: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CERN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6"/>
          <a:stretch/>
        </p:blipFill>
        <p:spPr>
          <a:xfrm>
            <a:off x="5916600" y="4317840"/>
            <a:ext cx="2773440" cy="18432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30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201080" y="6477120"/>
            <a:ext cx="186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2-</a:t>
            </a:r>
            <a:fld id="{FE03A4AB-BD82-43AD-9327-5EA197FA728B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Times New Roman"/>
              </a:rPr>
              <a:t>Common Internet Us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535960" cy="47260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Communicating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Exchange </a:t>
            </a:r>
            <a:r>
              <a:rPr b="1" i="1" lang="en-GB" sz="2800" spc="-1" strike="noStrike">
                <a:solidFill>
                  <a:srgbClr val="003366"/>
                </a:solidFill>
                <a:latin typeface="Times New Roman"/>
              </a:rPr>
              <a:t>e-mail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Times New Roman"/>
              </a:rPr>
              <a:t>Discussion Groups 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Shopping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Searching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Entertainment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Education or </a:t>
            </a: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e-learning</a:t>
            </a: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30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4" name="Group 9"/>
          <p:cNvGrpSpPr/>
          <p:nvPr/>
        </p:nvGrpSpPr>
        <p:grpSpPr>
          <a:xfrm>
            <a:off x="4533840" y="1886040"/>
            <a:ext cx="3848040" cy="4329000"/>
            <a:chOff x="4533840" y="1886040"/>
            <a:chExt cx="3848040" cy="4329000"/>
          </a:xfrm>
        </p:grpSpPr>
        <p:pic>
          <p:nvPicPr>
            <p:cNvPr id="145" name="Picture 5" descr=""/>
            <p:cNvPicPr/>
            <p:nvPr/>
          </p:nvPicPr>
          <p:blipFill>
            <a:blip r:embed="rId8"/>
            <a:stretch/>
          </p:blipFill>
          <p:spPr>
            <a:xfrm>
              <a:off x="6222960" y="2514600"/>
              <a:ext cx="134460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6" descr=""/>
            <p:cNvPicPr/>
            <p:nvPr/>
          </p:nvPicPr>
          <p:blipFill>
            <a:blip r:embed="rId9"/>
            <a:stretch/>
          </p:blipFill>
          <p:spPr>
            <a:xfrm>
              <a:off x="5867280" y="4419720"/>
              <a:ext cx="2514600" cy="17953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7" name="Object 8"/>
            <p:cNvGraphicFramePr/>
            <p:nvPr/>
          </p:nvGraphicFramePr>
          <p:xfrm>
            <a:off x="4533840" y="1886040"/>
            <a:ext cx="1141560" cy="12841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48" name="Object 8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533840" y="1886040"/>
                      <a:ext cx="114156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201080" y="6477120"/>
            <a:ext cx="186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2-</a:t>
            </a:r>
            <a:fld id="{F4A1437E-7E33-4B23-AE28-57BAF368B3E5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Times New Roman"/>
              </a:rPr>
              <a:t>Access Provider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535960" cy="47260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Common way to access the Internet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Commercial </a:t>
            </a: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Internet Service Providers</a:t>
            </a: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 (</a:t>
            </a: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ISP</a:t>
            </a: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National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Regional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Wireless service</a:t>
            </a:r>
            <a:br>
              <a:rPr sz="3200"/>
            </a:b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provider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3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3" name="Picture 8" descr=""/>
          <p:cNvPicPr/>
          <p:nvPr/>
        </p:nvPicPr>
        <p:blipFill>
          <a:blip r:embed="rId6"/>
          <a:stretch/>
        </p:blipFill>
        <p:spPr>
          <a:xfrm>
            <a:off x="4705200" y="3157560"/>
            <a:ext cx="3502080" cy="263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7201080" y="6477120"/>
            <a:ext cx="186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2-</a:t>
            </a:r>
            <a:fld id="{6BF90E12-9631-4FEC-88E6-146506A6D03A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Times New Roman"/>
              </a:rPr>
              <a:t>Browser Basic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02680" y="1600200"/>
            <a:ext cx="8788680" cy="47260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Programs that provide access to Web resource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Allow you to </a:t>
            </a: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surf </a:t>
            </a: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the Internet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Two well-known </a:t>
            </a: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browser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Netscape Navigator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Microsoft Internet Explorer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Address</a:t>
            </a: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 or </a:t>
            </a: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location</a:t>
            </a: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 of the resource must be specified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URL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32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58" name="Group 9"/>
          <p:cNvGrpSpPr/>
          <p:nvPr/>
        </p:nvGrpSpPr>
        <p:grpSpPr>
          <a:xfrm>
            <a:off x="3733920" y="2519280"/>
            <a:ext cx="4844880" cy="3625920"/>
            <a:chOff x="3733920" y="2519280"/>
            <a:chExt cx="4844880" cy="3625920"/>
          </a:xfrm>
        </p:grpSpPr>
        <p:pic>
          <p:nvPicPr>
            <p:cNvPr id="159" name="Picture 5" descr=""/>
            <p:cNvPicPr/>
            <p:nvPr/>
          </p:nvPicPr>
          <p:blipFill>
            <a:blip r:embed="rId8"/>
            <a:stretch/>
          </p:blipFill>
          <p:spPr>
            <a:xfrm>
              <a:off x="3733920" y="5003640"/>
              <a:ext cx="1501560" cy="11415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60" name="Object 8"/>
            <p:cNvGraphicFramePr/>
            <p:nvPr/>
          </p:nvGraphicFramePr>
          <p:xfrm>
            <a:off x="6156360" y="2519280"/>
            <a:ext cx="2422440" cy="18115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1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156360" y="2519280"/>
                      <a:ext cx="2422440" cy="181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7201080" y="6477120"/>
            <a:ext cx="186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2-</a:t>
            </a:r>
            <a:fld id="{DCD29CCD-7675-4910-963C-05F97A5ADD59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Times New Roman"/>
              </a:rPr>
              <a:t>URL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535960" cy="47260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Uniform Resource Locator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All URLs have at least two parts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Times New Roman"/>
              </a:rPr>
              <a:t>Protocol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Times New Roman"/>
              </a:rPr>
              <a:t>Domain name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Locates Web sites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33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6" name="Picture 18" descr=""/>
          <p:cNvPicPr/>
          <p:nvPr/>
        </p:nvPicPr>
        <p:blipFill>
          <a:blip r:embed="rId6"/>
          <a:stretch/>
        </p:blipFill>
        <p:spPr>
          <a:xfrm>
            <a:off x="797040" y="4289400"/>
            <a:ext cx="7608600" cy="187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7201080" y="6477120"/>
            <a:ext cx="186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2-</a:t>
            </a:r>
            <a:fld id="{1C252DD5-9E7C-4E1F-A8A1-5FF74A90E7C5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Times New Roman"/>
              </a:rPr>
              <a:t>More on Browser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535960" cy="47260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Browsers interpret </a:t>
            </a: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HTML</a:t>
            </a: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 commands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Times New Roman"/>
              </a:rPr>
              <a:t>Hypertext Markup Language 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Contained in a document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Display document as a </a:t>
            </a: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Web page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33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Picture 8" descr=""/>
          <p:cNvPicPr/>
          <p:nvPr/>
        </p:nvPicPr>
        <p:blipFill>
          <a:blip r:embed="rId5"/>
          <a:stretch/>
        </p:blipFill>
        <p:spPr>
          <a:xfrm>
            <a:off x="3081240" y="3817800"/>
            <a:ext cx="3224160" cy="242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7201080" y="6477120"/>
            <a:ext cx="186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2-</a:t>
            </a:r>
            <a:fld id="{4F52D6E0-C6AD-4AAE-9A2A-A22B9FFAA9D9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Times New Roman"/>
              </a:rPr>
              <a:t>Communication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535960" cy="47260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Most popular Internet activity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Types of communication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3366"/>
                </a:solidFill>
                <a:uFillTx/>
                <a:latin typeface="Times New Roman"/>
                <a:hlinkClick r:id="rId4" action="ppaction://hlinksldjump"/>
              </a:rPr>
              <a:t>E-Mail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003366"/>
                </a:solidFill>
                <a:uFillTx/>
                <a:latin typeface="Times New Roman"/>
                <a:hlinkClick r:id="rId6" action="ppaction://hlinksldjump"/>
              </a:rPr>
              <a:t>E-Mail Address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3366"/>
                </a:solidFill>
                <a:uFillTx/>
                <a:latin typeface="Times New Roman"/>
                <a:hlinkClick r:id="rId8" action="ppaction://hlinksldjump"/>
              </a:rPr>
              <a:t>Discussion Groups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75" name="Group 7"/>
          <p:cNvGrpSpPr/>
          <p:nvPr/>
        </p:nvGrpSpPr>
        <p:grpSpPr>
          <a:xfrm>
            <a:off x="3962520" y="2590920"/>
            <a:ext cx="4003560" cy="3348000"/>
            <a:chOff x="3962520" y="2590920"/>
            <a:chExt cx="4003560" cy="3348000"/>
          </a:xfrm>
        </p:grpSpPr>
        <p:pic>
          <p:nvPicPr>
            <p:cNvPr id="176" name="Picture 4" descr=""/>
            <p:cNvPicPr/>
            <p:nvPr/>
          </p:nvPicPr>
          <p:blipFill>
            <a:blip r:embed="rId9"/>
            <a:stretch/>
          </p:blipFill>
          <p:spPr>
            <a:xfrm>
              <a:off x="6095880" y="2590920"/>
              <a:ext cx="1870200" cy="173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5" descr=""/>
            <p:cNvPicPr/>
            <p:nvPr/>
          </p:nvPicPr>
          <p:blipFill>
            <a:blip r:embed="rId10"/>
            <a:stretch/>
          </p:blipFill>
          <p:spPr>
            <a:xfrm>
              <a:off x="3962520" y="4114800"/>
              <a:ext cx="1469880" cy="182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Text Box 6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3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1T16:08:26Z</dcterms:created>
  <dc:creator>McGraw-Hill Higher Education</dc:creator>
  <dc:description/>
  <dc:language>en-US</dc:language>
  <cp:lastModifiedBy>elmustafah</cp:lastModifiedBy>
  <dcterms:modified xsi:type="dcterms:W3CDTF">2014-09-02T10:27:29Z</dcterms:modified>
  <cp:revision>349</cp:revision>
  <dc:subject/>
  <dc:title>PowerPoint Presentation</dc:title>
</cp:coreProperties>
</file>