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30.wmf" ContentType="image/x-wmf"/>
  <Override PartName="/ppt/media/image29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media/image2.png" ContentType="image/png"/>
  <Override PartName="/ppt/media/image28.png" ContentType="image/png"/>
  <Override PartName="/ppt/media/image7.jpeg" ContentType="image/jpeg"/>
  <Override PartName="/ppt/media/image1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D942-E232-40D6-AB79-CE2727C88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software handles behind the scenes activities that we don't usually think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include tasks such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ing and running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rdinating networks that share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ing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ing computers from vir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introduced in 19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one of the first GU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ful and easy-to-use operating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 OS X provides photo-quality icons and easy-to-use m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by powerful microcomputers and by servers 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 large number of different versions of UN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most popular and powerful alternatives to the Windows operat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ilities – specialized programs designed to make computing eas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 disk cr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virus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 freeze-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 operation slow-do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utilities can be accessed from the System Tools men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up – makes a copy of all files or selected fi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Clean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improve system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s and eliminates unneeded files on the hard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Defragm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s and eliminates unnecessary frag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s files and unuse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s up file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ackup your files, you have a copy of your data in case of a disk fail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search the Web, a variety of programs and files are saved to your hard dr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disk cleanup to get rid of these unnecessary fi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Defragmenter should be run on your computer oft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nd-users run this utility program daily, while some run it once a 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on Ut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Sw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Clean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Keep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Back Personal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Af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ce drivers - programs that work with the operating system to allow communication between device(s) and the rest of the physical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s may be able to fix themselves in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nomic computing is a system that allows machines to run with little human inter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urn to the end of Chapter 5 in their textbooks to view the same “Open-Ended” questions/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urn to the end of Chapter 5 in their textbooks to view the same “Open-Ended” questions/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software is not a single program but is a collection of programs that handle hundreds of technical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-users focus on application programs more than the system software, but it is important to understand how system software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rdinate input and outputs such as keyboard, microphones, printers, mouse, storage devices, and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ily graphical user interface (GU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ic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ing multitas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 most popular opera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 95, Windows 98, Windows 2000, Windows ME, Windows X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 OS – designed to run Macintosh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x – used by powerful microcomputers, servers on the Web, and minicomputers in network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ux – non-proprietary operating systems that run cross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ting is the process of starting a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 boot – computer is already on and you restart it without turning off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boot – starting a computer that has been turned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ng system is sometimes called the software environment or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proprietary – owned and licensed by a corpo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proprietary – source code is available to the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open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ux is an open source progr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LINUX is easier to learn; easily transfer to UN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X originally designed as cross-platform to help “integrate”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 has over 90 percent of the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pplication programs are designed to run under Windows than any other operat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296C-CAC1-488C-B502-4BBCE3118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0A99-29A3-4480-BC16-78A156F44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A633-9BF0-46D5-8DC3-946D7163C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8A84-78DC-4A3C-BD81-7591CABF7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F135-BD5C-476F-A281-19F88A9F8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A788-DB59-4F49-A394-642D0F968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6FD1-C0AC-4B16-8775-A5C4BE774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2CBC-6BE3-49CA-91F1-4D0CE09AE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E899-93F4-40F8-ADC4-81D3A8D49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1B42-269F-4429-B899-327AD020C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330E-F2D6-44EB-9C3E-EB26685FF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39D5B-80E2-4FE2-9191-11F13A7DB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7"/>
          <a:stretch/>
        </p:blipFill>
        <p:spPr>
          <a:xfrm>
            <a:off x="7686720" y="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82000" y="6324480"/>
            <a:ext cx="1885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5-</a:t>
            </a:r>
            <a:fld id="{6EB44779-B73D-4296-A65D-7171C36DA760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551640"/>
            <a:ext cx="914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 Technology Education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© 2006 by the McGraw-Hill Companies, Inc.  All rights reserv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5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5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391520" y="380880"/>
            <a:ext cx="1447560" cy="246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551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5400a8"/>
                </a:solidFill>
                <a:latin typeface="Arial Narrow"/>
              </a:rPr>
              <a:t>5</a:t>
            </a:r>
            <a:endParaRPr b="0" lang="en-US" sz="15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1200">
            <a:off x="6219000" y="170496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afff"/>
                </a:solidFill>
                <a:latin typeface="Arial"/>
              </a:rPr>
              <a:t>CHAP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1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91520" y="556272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81480" y="3048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fafff"/>
                </a:solidFill>
                <a:latin typeface="Arial"/>
              </a:rPr>
              <a:t>SYSTEM SOFTWAR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771120" y="173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3680" y="263520"/>
            <a:ext cx="4608360" cy="585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ac O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n operating system designed to run on Apple computer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Not used as widely as Window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Mac OS X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is the latest version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425920" y="3909960"/>
            <a:ext cx="2998800" cy="225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2A2B-C36F-42AE-9699-1EC89B57E7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UNIX and Linux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Unix operating system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riginally designed to run on minicomputers on a network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Used by powerful microcomputer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inux is a version of UNIX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ot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roprietary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Open source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5599080" y="381312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897E-24B8-4A79-A85A-C00F0D2842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Utiliti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pecialized programs to make computing easier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Most essential utiliti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Troubleshooting (diagnostic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ntiviru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Uninstall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Backup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File compression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C001-269E-43E8-9FFE-4F4CAC0135C2}" type="slidenum">
              <a:t>12</a:t>
            </a:fld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Windows Utiliti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ackup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Disk CleanUp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Disk Defragmenter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206960" y="2962440"/>
            <a:ext cx="4494240" cy="3179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3763D-812B-4D6B-B08B-ECB76E6195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Backup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Utility program included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ith many Windows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version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513400" y="1839960"/>
            <a:ext cx="312408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DB46-E490-482B-98BF-DAAB454E70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k CleanUp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dentifies and eliminates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nonessential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fil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30080" y="1744560"/>
            <a:ext cx="7585200" cy="4408560"/>
            <a:chOff x="730080" y="1744560"/>
            <a:chExt cx="7585200" cy="440856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5711760" y="1744560"/>
              <a:ext cx="2603520" cy="440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3"/>
            <a:stretch/>
          </p:blipFill>
          <p:spPr>
            <a:xfrm>
              <a:off x="730080" y="3216240"/>
              <a:ext cx="3826080" cy="237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57A6-8617-4804-BDA4-EAB73BC98C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k Defragmenter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3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600200"/>
            <a:ext cx="8534160" cy="4724280"/>
          </a:xfrm>
          <a:prstGeom prst="rect">
            <a:avLst/>
          </a:prstGeom>
          <a:noFill/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dentifies and eliminates unnecessary frag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09960" y="2270160"/>
            <a:ext cx="3456000" cy="3909960"/>
            <a:chOff x="3009960" y="2270160"/>
            <a:chExt cx="3456000" cy="3909960"/>
          </a:xfrm>
        </p:grpSpPr>
        <p:graphicFrame>
          <p:nvGraphicFramePr>
            <p:cNvPr id="189" name=""/>
            <p:cNvGraphicFramePr/>
            <p:nvPr/>
          </p:nvGraphicFramePr>
          <p:xfrm>
            <a:off x="3009960" y="3692520"/>
            <a:ext cx="3456000" cy="2487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09960" y="3692520"/>
                      <a:ext cx="3456000" cy="248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91" name="" descr=""/>
            <p:cNvPicPr/>
            <p:nvPr/>
          </p:nvPicPr>
          <p:blipFill>
            <a:blip r:embed="rId4"/>
            <a:stretch/>
          </p:blipFill>
          <p:spPr>
            <a:xfrm>
              <a:off x="3009960" y="2270160"/>
              <a:ext cx="1486080" cy="126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0049-2B25-4C8E-A15F-110F107FBA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Utility Suit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group of several utility programs bundled for sale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uying the package is economical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opular suit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cAfee Office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orton System Works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 Communications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ystemSuite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3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4997520" y="3454560"/>
            <a:ext cx="3583080" cy="260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7D6B-98B7-4ABF-8499-8D0D0F9E4645}" type="slidenum">
              <a:t>17</a:t>
            </a:fld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evice Driv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pecialized programs that allow communication between a device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nd the computer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aded into memory each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ime a computer is started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hen a new device is added,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new device drivers must be installed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92840" y="1719360"/>
            <a:ext cx="1830240" cy="4306680"/>
            <a:chOff x="6792840" y="1719360"/>
            <a:chExt cx="1830240" cy="4306680"/>
          </a:xfrm>
        </p:grpSpPr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6798960" y="1719360"/>
              <a:ext cx="1820880" cy="153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5"/>
            <a:stretch/>
          </p:blipFill>
          <p:spPr>
            <a:xfrm>
              <a:off x="6870600" y="4495680"/>
              <a:ext cx="1676520" cy="15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6"/>
            <a:stretch/>
          </p:blipFill>
          <p:spPr>
            <a:xfrm>
              <a:off x="6792840" y="3352680"/>
              <a:ext cx="1830240" cy="9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3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5527-F9A5-4715-893B-AB40B74FFC34}" type="slidenum">
              <a:t>18</a:t>
            </a:fld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 Look to the Future</a:t>
            </a:r>
            <a:br>
              <a:rPr sz="4000"/>
            </a:b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IBM's Aware Supercomputer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BM concentrating research efforts on eLiza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andles time-consuming maintenance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utonomic computer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lf-maintaining servers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elf-repairing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elf-updating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elf-protecting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5248440" y="3303720"/>
            <a:ext cx="3170160" cy="2511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3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5B4B-DAA0-4631-BCE8-318DD994F974}" type="slidenum">
              <a:t>19</a:t>
            </a:fld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differences between system software and application software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iscuss the four types of system software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iscuss operating system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Windows, Mac, OS, UNIX, &amp; Linux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petencie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927080" y="4414680"/>
            <a:ext cx="5565960" cy="1830600"/>
            <a:chOff x="1927080" y="4414680"/>
            <a:chExt cx="5565960" cy="1830600"/>
          </a:xfrm>
        </p:grpSpPr>
        <p:pic>
          <p:nvPicPr>
            <p:cNvPr id="130" name="" descr=""/>
            <p:cNvPicPr/>
            <p:nvPr/>
          </p:nvPicPr>
          <p:blipFill>
            <a:blip r:embed="rId5"/>
            <a:stretch/>
          </p:blipFill>
          <p:spPr>
            <a:xfrm>
              <a:off x="1927080" y="4414680"/>
              <a:ext cx="2587680" cy="1830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1" name=""/>
            <p:cNvGraphicFramePr/>
            <p:nvPr/>
          </p:nvGraphicFramePr>
          <p:xfrm>
            <a:off x="5060880" y="4414680"/>
            <a:ext cx="2432160" cy="1830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60880" y="4414680"/>
                      <a:ext cx="2432160" cy="183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AB76-1F41-4053-8B70-6EB5C40AAF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scribe system software. What are the four types of system programs?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at are the basic functions of every operating system? What are the three basic operating system categories?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xplain the differences and similarities between Windows, Mac OS, and Linux.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238880" y="393840"/>
            <a:ext cx="1671840" cy="984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4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55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cussion Question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FA89-7166-4862-9E75-CDB00CF98A6B}" type="slidenum">
              <a:t>20</a:t>
            </a:fld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0" dur="1" fill="hold"/>
                                  <p:tgtEl>
                                    <p:spTgt spid="2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iscuss utilities. What are the five most essential utilities? What is a utility suite?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xplain the role of device drivers. Discuss the Add Printer Wizard and Windows Update.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373880" y="473040"/>
            <a:ext cx="1536840" cy="9050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4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55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cussion Question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E33D-5CB4-4F98-A901-ADE0F0B3DC80}" type="slidenum">
              <a:t>21</a:t>
            </a:fld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8" dur="1" fill="hold"/>
                                  <p:tgtEl>
                                    <p:spTgt spid="2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purpose of utilities and utility suit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dentify the five most essential utiliti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iscuss Windows utility program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device drivers,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ncluding printer drivers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172200" y="3768840"/>
            <a:ext cx="2203560" cy="26064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petencie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C709-B48F-45F3-B17A-3FFAB05A4F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ystem Softwar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andles technical detail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orks with end users, application software, and computer hardware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ur types of program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Operating system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Utilitie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Device driver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Language translator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4632480" y="3611520"/>
            <a:ext cx="3879720" cy="2476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B0B4F-DB83-4DD2-96D6-4FD206F4A1B7}" type="slidenum">
              <a:t>4</a:t>
            </a:fld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Operating System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collection of programs that handle technical task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very computer has an operating system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erforms three types of function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nages computer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esource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rovides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user interface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uns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pplication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6566040" y="3989520"/>
            <a:ext cx="1617480" cy="207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7297-1A7F-4E23-9664-27286C2AE4F0}" type="slidenum">
              <a:t>5</a:t>
            </a:fld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Features of an Operating System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Booting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eatures in common with application software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con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ointer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indow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Menus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Dialog boxe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Help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708360" y="2819520"/>
            <a:ext cx="436896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D4AB-2029-410F-B1A3-959FEA4AA4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ategories of Operating Systems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undreds of operating system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ree basic categori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mbedded – hand-held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Network OS – linked computer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tand-alone OS – desktop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5049720" y="3830760"/>
            <a:ext cx="3587760" cy="229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6933-44C4-444A-89CA-2402E8634C5B}" type="slidenum">
              <a:t>7</a:t>
            </a:fld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ore on Operating Systems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S often called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software environment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platform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perating systems commonly used by individual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indows – most widely used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Mac O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– powerful and easy to use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UNIX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– network; originally designed for Web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LINUX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– non proprietary; free from the Web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26C7-CBB0-4098-B5C1-B175E6CC788A}" type="slidenum">
              <a:t>8</a:t>
            </a:fld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Windows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e most popular microcomputer operating system – over 90 percent of the marke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mes in a variety of different version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Windows XP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is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e latest version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535640" y="3332160"/>
            <a:ext cx="3768480" cy="28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CEEF-C877-41D4-9D4D-510063349C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6:08:26Z</dcterms:created>
  <dc:creator>McGraw-Hill Higher Education</dc:creator>
  <dc:description/>
  <dc:language>en-US</dc:language>
  <cp:lastModifiedBy>MHE</cp:lastModifiedBy>
  <dcterms:modified xsi:type="dcterms:W3CDTF">2005-01-20T17:46:09Z</dcterms:modified>
  <cp:revision>393</cp:revision>
  <dc:subject/>
  <dc:title>PowerPoint Presentation</dc:title>
</cp:coreProperties>
</file>