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30.wmf" ContentType="image/x-wmf"/>
  <Override PartName="/ppt/media/image29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4E37-9909-4921-8557-1C1B06E10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software handles behind the scenes activities that we don't usually think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asks suc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ing and running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rdinating networks that shar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ing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ng computers from vir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ntroduced in 19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one of the first G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ful and easy-to-use operating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OS X provides photo-quality icons and easy-to-use m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powerful microcomputers and by server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 large number of different versions of U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popular and powerful alternatives to the Windows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ies – specialized programs designed to make computing eas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disk cr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viru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freeze-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 operation slow-d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utilities can be accessed from the System Tools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up – makes a copy of all files or selected fi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Clean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improve system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s and eliminates unneeded files on the hard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Defragm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s and eliminates unnecessary frag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s files and unuse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s up fil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ackup your files, you have a copy of your data in case of a disk fail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search the Web, a variety of programs and files are saved to your hard dr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sk cleanup to get rid of these unnecessary fi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Defragmenter should be run on your computer of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nd-users run this utility program daily, while some run it once a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on 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S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Clean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Keep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Back Personal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Af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drivers - programs that work with the operating system to allow communication between device(s) and the rest of the physical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may be able to fix themselves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nomic computing is a system that allows machines to run with little human inter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5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5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software is not a single program but is a collection of programs that handle hundreds of technical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-users focus on application programs more than the system software, but it is important to understand how system softwar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rdinate input and outputs such as keyboard, microphones, printers, mouse, storage devices, and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ily graphical user interface (G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i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ing multitas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most popular opera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95, Windows 98, Windows 2000, Windows ME, Windows 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OS – designed to run Macintosh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x – used by powerful microcomputers, servers on the Web, and minicomputers in network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 – non-proprietary operating systems that run cross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ting is the process of starting a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boot – computer is already on and you restart it without turning off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boot – starting a computer that has been turne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ng system is sometimes called the software environment or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proprietary – owned and licensed by a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proprietary – source code is available to the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ope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 is an open source progr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LINUX is easier to learn; easily transfer to U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X originally designed as cross-platform to help “integrate”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has over 90 percent of the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pplication programs are designed to run under Windows than any other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B45D-EAE4-4269-BBA3-C77B3F487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0E5B-FE46-4E31-BCE6-59536A999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8599-7B5A-40A8-8592-3D4EEB2C5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EF78-A621-4A18-8DB1-11B80B4C6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0D17-30D9-41FB-83FB-7BD66FF82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0B4B-BE88-4FDE-BCB0-C5EB60A99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AA52-5C62-46BE-A5CB-EA0024E49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12D1-6D14-4E21-8FC3-93634FCC3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6368-8D39-491A-BB38-F2D186A38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38E0-C2F2-4123-8517-8E4E02E3A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FA2A-7742-4696-A654-C9DEBCF97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8387-0EF6-4B98-ADA2-8841026E8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82000" y="6324480"/>
            <a:ext cx="188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5-</a:t>
            </a:r>
            <a:fld id="{2EA54D35-2856-4F11-834E-E62022241CBE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55164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5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5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1200">
            <a:off x="6219000" y="17049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81480" y="3048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SYSTEM SOFTWAR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71120" y="173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ac O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 operating system designed to run on Apple computer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 used as widely as Window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ac OS X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is the latest version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425920" y="3909960"/>
            <a:ext cx="2998800" cy="22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7105-5527-4456-8799-F3AAD50D25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UNIX and Linux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nix operating system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riginally designed to run on minicomputers on a network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d by powerful microcomput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inux is a version of UNIX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t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roprietary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en source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5599080" y="381312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A4EF-927B-4A6A-8B36-97B1BE958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Utilit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pecialized programs to make computing easier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ost essential utilit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roubleshooting (diagnostic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ntiviru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ninstall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ackup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File compression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A66C-C604-4F88-8451-B1E93CD281CD}" type="slidenum">
              <a:t>12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ndows Utiliti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ackup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sk CleanUp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Disk Defragmenter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206960" y="2962440"/>
            <a:ext cx="4494240" cy="3179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E456-A345-4C20-B04D-08DF0C77A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ackup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tility program included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ith many Window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ers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513400" y="1839960"/>
            <a:ext cx="312408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2860-915A-4C6B-9B32-D26A9F60A1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k CleanUp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ies and elimina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nessential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fil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30080" y="1744560"/>
            <a:ext cx="7585200" cy="4408560"/>
            <a:chOff x="730080" y="1744560"/>
            <a:chExt cx="7585200" cy="440856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5711760" y="1744560"/>
              <a:ext cx="2603520" cy="440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730080" y="3216240"/>
              <a:ext cx="3826080" cy="237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304E-2C8E-4626-9EF8-0699236A0C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k Defragmenter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600200"/>
            <a:ext cx="8534160" cy="472428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ies and eliminates unnecessary frag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09960" y="2270160"/>
            <a:ext cx="3456000" cy="3909960"/>
            <a:chOff x="3009960" y="2270160"/>
            <a:chExt cx="3456000" cy="3909960"/>
          </a:xfrm>
        </p:grpSpPr>
        <p:graphicFrame>
          <p:nvGraphicFramePr>
            <p:cNvPr id="189" name=""/>
            <p:cNvGraphicFramePr/>
            <p:nvPr/>
          </p:nvGraphicFramePr>
          <p:xfrm>
            <a:off x="3009960" y="3692520"/>
            <a:ext cx="3456000" cy="248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09960" y="3692520"/>
                      <a:ext cx="3456000" cy="248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3009960" y="2270160"/>
              <a:ext cx="1486080" cy="12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40C3-DD37-45F9-89EC-3C7FE7CD9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Utility Suit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group of several utility programs bundled for sal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uying the package is economical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opular suit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cAfee Offic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rton System Work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 Communications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ystemSuit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4997520" y="3454560"/>
            <a:ext cx="3583080" cy="26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CFD4-CDD7-4528-945E-6FACD8BD76CD}" type="slidenum">
              <a:t>17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evice Driv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pecialized programs that allow communication between a device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d the computer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aded into memory each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ime a computer is started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en a new device is added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ew device drivers must be installed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92840" y="1719360"/>
            <a:ext cx="1830240" cy="4306680"/>
            <a:chOff x="6792840" y="1719360"/>
            <a:chExt cx="1830240" cy="430668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6798960" y="1719360"/>
              <a:ext cx="1820880" cy="15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6870600" y="4495680"/>
              <a:ext cx="16765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6792840" y="3352680"/>
              <a:ext cx="183024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9ABC-C740-456C-BB73-9941B0E5BC79}" type="slidenum">
              <a:t>18</a:t>
            </a:fld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 Look to the Future</a:t>
            </a:r>
            <a:br>
              <a:rPr sz="40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IBM's Aware Supercompute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BM concentrating research efforts on eLiza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andles time-consuming maintenanc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utonomic computer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lf-maintaining server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f-repairing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f-updating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f-protecting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5248440" y="3303720"/>
            <a:ext cx="3170160" cy="2511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3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E51F-731D-4403-98A5-3955E32D8E51}" type="slidenum">
              <a:t>19</a:t>
            </a:fld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ifferences between system software and application soft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the four types of system soft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operating syste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Windows, Mac, OS, UNIX, &amp; Linux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927080" y="4414680"/>
            <a:ext cx="5565960" cy="1830600"/>
            <a:chOff x="1927080" y="4414680"/>
            <a:chExt cx="5565960" cy="1830600"/>
          </a:xfrm>
        </p:grpSpPr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1927080" y="4414680"/>
              <a:ext cx="2587680" cy="1830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1" name=""/>
            <p:cNvGraphicFramePr/>
            <p:nvPr/>
          </p:nvGraphicFramePr>
          <p:xfrm>
            <a:off x="5060880" y="4414680"/>
            <a:ext cx="2432160" cy="1830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60880" y="4414680"/>
                      <a:ext cx="2432160" cy="183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982F-927D-430E-AEAF-9F528428C1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scribe system software. What are the four types of system programs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at are the basic functions of every operating system? What are the three basic operating system categories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lain the differences and similarities between Windows, Mac OS, and Linux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238880" y="393840"/>
            <a:ext cx="1671840" cy="984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C29C-993E-4806-9D05-E90A9B3D56E6}" type="slidenum">
              <a:t>20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scuss utilities. What are the five most essential utilities? What is a utility suite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lain the role of device drivers. Discuss the Add Printer Wizard and Windows Update.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373880" y="473040"/>
            <a:ext cx="1536840" cy="905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C396-B4FB-4770-844F-4EB6C8F7517F}" type="slidenum">
              <a:t>21</a:t>
            </a:fld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8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purpose of utilities and utility suit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the five most essential utilit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scuss Windows utility progra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evice drivers,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cluding printer drivers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72200" y="3768840"/>
            <a:ext cx="2203560" cy="2606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BEEE-01BE-4486-ABF6-19E51FAC38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andles technical detail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orks with end users, application software, and computer hard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ur types of progra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Operating system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tiliti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evice driv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Language translato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632480" y="3611520"/>
            <a:ext cx="3879720" cy="2476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3443-F04E-4B7D-A683-2C13A7BB23AF}" type="slidenum">
              <a:t>4</a:t>
            </a:fld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perating System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collection of programs that handle technical task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very computer has an operating system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erforms three types of funct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nages computer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vide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ser interfac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un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pplication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566040" y="3989520"/>
            <a:ext cx="1617480" cy="207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9104-5165-452D-AD18-65339E3A14F4}" type="slidenum">
              <a:t>5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eatures of an Operating System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Booting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eatures in common with application software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con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oint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ndow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enus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ialog boxe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elp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708360" y="2819520"/>
            <a:ext cx="436896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7C0A-6B93-477D-8C0C-691AD4428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tegories of Operating System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undreds of operating system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ree basic categorie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mbedded – hand-held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etwork OS – linked computers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tand-alone OS – desktop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5049720" y="3830760"/>
            <a:ext cx="358776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BF3B-3E84-467D-981D-DA77C8731FB0}" type="slidenum">
              <a:t>7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ore on Operating System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S often called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oftware environm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latform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perating systems commonly used by individual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indows – most widely used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Mac O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powerful and easy to use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UNI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network; originally designed for Web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LINUX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– non proprietary; free from the Web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E55E-CDFA-406B-8681-C5EDFF76E121}" type="slidenum">
              <a:t>8</a:t>
            </a:fld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indows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most popular microcomputer operating system – over 90 percent of the market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es in a variety of different versions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Windows XP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is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latest version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2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35640" y="3332160"/>
            <a:ext cx="3768480" cy="28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FAD1-AC5C-4B75-926A-9D8CE439F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MHE</cp:lastModifiedBy>
  <dcterms:modified xsi:type="dcterms:W3CDTF">2005-01-20T17:46:09Z</dcterms:modified>
  <cp:revision>393</cp:revision>
  <dc:subject/>
  <dc:title>PowerPoint Presentation</dc:title>
</cp:coreProperties>
</file>